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9FC-1968-4AF1-A029-973C93C3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31B-1AC1-4E8F-A324-A96AFC53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C6F-ED6C-4638-B1E5-FCA1E4F6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046-1B88-4A2B-95A8-AEEA141E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8BB-EBE9-43D6-BC5A-D11F880B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8C0-5F5F-4C88-9888-54E2A495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428-371D-4654-ABEE-AD6E09C1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8C8-5E15-4D5C-91E9-D29AF973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864-5BBA-4047-9C6B-60D4B97F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023-AA86-4098-B935-37438452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A9C-FA42-4C43-859B-19D59994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573-816A-496E-BFBB-BCE91F8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ECB3-2EE7-49A2-9F2F-767AFFAEE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1"/>
                </a:solidFill>
                <a:latin typeface="Arial"/>
              </a:rPr>
              <a:t>NP-complete Problems and Physical Realit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5409720"/>
            <a:ext cx="3886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C Berkeley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961720" y="2259360"/>
            <a:ext cx="3349440" cy="2526840"/>
            <a:chOff x="2961720" y="2259360"/>
            <a:chExt cx="3349440" cy="2526840"/>
          </a:xfrm>
        </p:grpSpPr>
        <p:sp>
          <p:nvSpPr>
            <p:cNvPr id="45" name=""/>
            <p:cNvSpPr/>
            <p:nvPr/>
          </p:nvSpPr>
          <p:spPr>
            <a:xfrm flipH="1" flipV="1">
              <a:off x="4427280" y="3503880"/>
              <a:ext cx="1697760" cy="1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4421880" y="2394720"/>
              <a:ext cx="288360" cy="117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159720" y="3147840"/>
              <a:ext cx="38520" cy="119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581360" y="4470120"/>
              <a:ext cx="1589040" cy="17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98240" y="3147840"/>
              <a:ext cx="1383120" cy="150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581360" y="3521880"/>
              <a:ext cx="1543680" cy="112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197880" y="2462400"/>
              <a:ext cx="1568880" cy="68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10600" y="2394720"/>
              <a:ext cx="1471680" cy="1195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4960" y="3447000"/>
              <a:ext cx="1618200" cy="95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65120" y="3447000"/>
              <a:ext cx="1329480" cy="83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91600">
              <a:off x="4395960" y="4459680"/>
              <a:ext cx="31356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91600">
              <a:off x="4303800" y="3318480"/>
              <a:ext cx="31356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91600">
              <a:off x="5934600" y="3394080"/>
              <a:ext cx="31320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91600">
              <a:off x="3070080" y="3024720"/>
              <a:ext cx="31320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91600">
              <a:off x="4581720" y="2271960"/>
              <a:ext cx="31356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91600">
              <a:off x="5985000" y="4280040"/>
              <a:ext cx="31320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91600">
              <a:off x="2974320" y="4149720"/>
              <a:ext cx="313200" cy="313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ut maybe there’s some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hysical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system that solves an NP-complete problem just by reaching its lowest energy state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p two glass plates with pegs between them into soapy wa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447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 the soap bubbles form a minimum Steiner tree connecting the pe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8120" y="2819520"/>
            <a:ext cx="2841480" cy="3668760"/>
            <a:chOff x="3048120" y="2819520"/>
            <a:chExt cx="2841480" cy="3668760"/>
          </a:xfrm>
        </p:grpSpPr>
        <p:sp>
          <p:nvSpPr>
            <p:cNvPr id="132" name=""/>
            <p:cNvSpPr/>
            <p:nvPr/>
          </p:nvSpPr>
          <p:spPr>
            <a:xfrm flipV="1">
              <a:off x="3098880" y="5930640"/>
              <a:ext cx="20304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486400" y="4842000"/>
              <a:ext cx="34776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5113440" y="2883960"/>
              <a:ext cx="720720" cy="19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3103200" y="5627520"/>
              <a:ext cx="20628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5627520"/>
              <a:ext cx="33480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309840" y="5640120"/>
              <a:ext cx="218916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051520" y="2819520"/>
              <a:ext cx="1299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757840" y="478476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048120" y="635652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048120" y="557064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757840" y="5964120"/>
              <a:ext cx="131760" cy="130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9800" y="32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ther Physical Syst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828800"/>
            <a:ext cx="25905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Well-known to admit “metastable”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75248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in 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ing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51055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NA computer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ust highly parallel ordinary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1828800"/>
            <a:ext cx="761760" cy="2438280"/>
          </a:xfrm>
          <a:custGeom>
            <a:avLst/>
            <a:gdLst>
              <a:gd name="textAreaLeft" fmla="*/ 0 w 761760"/>
              <a:gd name="textAreaRight" fmla="*/ 275040 w 7617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160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nalog Compu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6640" y="1521000"/>
            <a:ext cx="76089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ch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ö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hage 1979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we could comp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,   x-y,   xy,   x/y,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real x,y in a single step, then we could solve NP-complete and even harder problem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2240" y="4995720"/>
            <a:ext cx="76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lanck sca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1520" y="1112760"/>
            <a:ext cx="692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r 199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tum computers can factor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15999"/>
          <a:stretch/>
        </p:blipFill>
        <p:spPr>
          <a:xfrm>
            <a:off x="7486560" y="1179360"/>
            <a:ext cx="797040" cy="1003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95280" y="2243160"/>
            <a:ext cx="81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can they solve NP-complet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06440" y="2989440"/>
            <a:ext cx="8331120" cy="2921400"/>
            <a:chOff x="406440" y="2989440"/>
            <a:chExt cx="8331120" cy="2921400"/>
          </a:xfrm>
        </p:grpSpPr>
        <p:sp>
          <p:nvSpPr>
            <p:cNvPr id="156" name=""/>
            <p:cNvSpPr/>
            <p:nvPr/>
          </p:nvSpPr>
          <p:spPr>
            <a:xfrm>
              <a:off x="406440" y="2989440"/>
              <a:ext cx="7904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Bennett, Bernstein, Brassard, Vazirani 1997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“Quantum magic” won’t be enoug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07960" y="4352760"/>
              <a:ext cx="8229600" cy="304920"/>
              <a:chOff x="507960" y="4352760"/>
              <a:chExt cx="8229600" cy="304920"/>
            </a:xfrm>
          </p:grpSpPr>
          <p:sp>
            <p:nvSpPr>
              <p:cNvPr id="158" name=""/>
              <p:cNvSpPr/>
              <p:nvPr/>
            </p:nvSpPr>
            <p:spPr>
              <a:xfrm>
                <a:off x="5079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25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174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223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269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318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367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413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462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511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55720" y="4352760"/>
                <a:ext cx="304920" cy="30492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606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655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701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7750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799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845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894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943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989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038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087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133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182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23160" y="435276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2772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32640" y="435276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06520" y="4842000"/>
              <a:ext cx="7904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~2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n/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queries are needed to search a list of size 2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for a single marked it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49360" y="6029280"/>
            <a:ext cx="83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. 200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ue even with “quantum ad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0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iabatic Algorithm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Farhi et al. 2000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25440" y="204480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3360" y="3193920"/>
            <a:ext cx="31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iltonian with easily-prepared grou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73760" y="211932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83200" y="3268800"/>
            <a:ext cx="37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state encodes solution to NP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39920" y="2135160"/>
            <a:ext cx="4572000" cy="890640"/>
          </a:xfrm>
          <a:custGeom>
            <a:avLst/>
            <a:gdLst/>
            <a:ahLst/>
            <a:rect l="l" t="t" r="r" b="b"/>
            <a:pathLst>
              <a:path w="2880" h="561">
                <a:moveTo>
                  <a:pt x="0" y="302"/>
                </a:moveTo>
                <a:cubicBezTo>
                  <a:pt x="214" y="139"/>
                  <a:pt x="425" y="0"/>
                  <a:pt x="633" y="42"/>
                </a:cubicBezTo>
                <a:cubicBezTo>
                  <a:pt x="841" y="84"/>
                  <a:pt x="1008" y="545"/>
                  <a:pt x="1249" y="553"/>
                </a:cubicBezTo>
                <a:cubicBezTo>
                  <a:pt x="1490" y="561"/>
                  <a:pt x="1805" y="122"/>
                  <a:pt x="2077" y="91"/>
                </a:cubicBezTo>
                <a:cubicBezTo>
                  <a:pt x="2349" y="60"/>
                  <a:pt x="2616" y="201"/>
                  <a:pt x="2880" y="367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8480" y="5302080"/>
            <a:ext cx="834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 (van Dam, Mosca, Vazirani 200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igenvalue gap can be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elativity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62120" y="2895480"/>
            <a:ext cx="1980720" cy="1866600"/>
            <a:chOff x="762120" y="2895480"/>
            <a:chExt cx="1980720" cy="1866600"/>
          </a:xfrm>
        </p:grpSpPr>
        <p:sp>
          <p:nvSpPr>
            <p:cNvPr id="198" name=""/>
            <p:cNvSpPr/>
            <p:nvPr/>
          </p:nvSpPr>
          <p:spPr>
            <a:xfrm>
              <a:off x="1075320" y="2940120"/>
              <a:ext cx="1087560" cy="1033200"/>
            </a:xfrm>
            <a:custGeom>
              <a:avLst/>
              <a:gdLst/>
              <a:ahLst/>
              <a:rect l="l" t="t" r="r" b="b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lnTo>
                    <a:pt x="227" y="1524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08520" y="3083760"/>
              <a:ext cx="756360" cy="729000"/>
            </a:xfrm>
            <a:custGeom>
              <a:avLst/>
              <a:gdLst/>
              <a:ahLst/>
              <a:rect l="l" t="t" r="r" b="b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lnTo>
                    <a:pt x="32" y="641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21560" y="4018320"/>
              <a:ext cx="668160" cy="120240"/>
            </a:xfrm>
            <a:custGeom>
              <a:avLst/>
              <a:gdLst/>
              <a:ahLst/>
              <a:rect l="l" t="t" r="r" b="b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88400" y="3486240"/>
              <a:ext cx="171720" cy="218160"/>
            </a:xfrm>
            <a:custGeom>
              <a:avLst/>
              <a:gdLst/>
              <a:ahLst/>
              <a:rect l="l" t="t" r="r" b="b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lnTo>
                    <a:pt x="192" y="44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23440" y="4367160"/>
              <a:ext cx="406800" cy="278280"/>
            </a:xfrm>
            <a:custGeom>
              <a:avLst/>
              <a:gdLst/>
              <a:ahLst/>
              <a:rect l="l" t="t" r="r" b="b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23440" y="4416840"/>
              <a:ext cx="415080" cy="244080"/>
            </a:xfrm>
            <a:custGeom>
              <a:avLst/>
              <a:gdLst/>
              <a:ahLst/>
              <a:rect l="l" t="t" r="r" b="b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29560" y="4528800"/>
              <a:ext cx="395640" cy="132120"/>
            </a:xfrm>
            <a:custGeom>
              <a:avLst/>
              <a:gdLst/>
              <a:ahLst/>
              <a:rect l="l" t="t" r="r" b="b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34240" y="4437000"/>
              <a:ext cx="97560" cy="5544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35920" y="4471200"/>
              <a:ext cx="106920" cy="181440"/>
            </a:xfrm>
            <a:custGeom>
              <a:avLst/>
              <a:gdLst/>
              <a:ahLst/>
              <a:rect l="l" t="t" r="r" b="b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08320" y="4365000"/>
              <a:ext cx="353520" cy="292320"/>
            </a:xfrm>
            <a:custGeom>
              <a:avLst/>
              <a:gdLst/>
              <a:ahLst/>
              <a:rect l="l" t="t" r="r" b="b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lnTo>
                    <a:pt x="504" y="114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53480" y="4500360"/>
              <a:ext cx="101520" cy="12744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37920" y="4404960"/>
              <a:ext cx="156600" cy="90720"/>
            </a:xfrm>
            <a:custGeom>
              <a:avLst/>
              <a:gdLst/>
              <a:ahLst/>
              <a:rect l="l" t="t" r="r" b="b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lnTo>
                    <a:pt x="222" y="1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89320" y="4387320"/>
              <a:ext cx="103680" cy="23400"/>
            </a:xfrm>
            <a:custGeom>
              <a:avLst/>
              <a:gdLst/>
              <a:ahLst/>
              <a:rect l="l" t="t" r="r" b="b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30560" y="4545360"/>
              <a:ext cx="488880" cy="216720"/>
            </a:xfrm>
            <a:custGeom>
              <a:avLst/>
              <a:gdLst/>
              <a:ahLst/>
              <a:rect l="l" t="t" r="r" b="b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9840" y="4285800"/>
              <a:ext cx="1465200" cy="302760"/>
            </a:xfrm>
            <a:custGeom>
              <a:avLst/>
              <a:gdLst/>
              <a:ahLst/>
              <a:rect l="l" t="t" r="r" b="b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78920" y="4110120"/>
              <a:ext cx="1122840" cy="295920"/>
            </a:xfrm>
            <a:custGeom>
              <a:avLst/>
              <a:gdLst/>
              <a:ahLst/>
              <a:rect l="l" t="t" r="r" b="b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1240" y="3972240"/>
              <a:ext cx="610560" cy="128160"/>
            </a:xfrm>
            <a:custGeom>
              <a:avLst/>
              <a:gdLst/>
              <a:ahLst/>
              <a:rect l="l" t="t" r="r" b="b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3280" y="3124080"/>
              <a:ext cx="285120" cy="872640"/>
            </a:xfrm>
            <a:custGeom>
              <a:avLst/>
              <a:gdLst/>
              <a:ahLst/>
              <a:rect l="l" t="t" r="r" b="b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lnTo>
                    <a:pt x="50" y="1260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24080" y="3834000"/>
              <a:ext cx="544320" cy="86040"/>
            </a:xfrm>
            <a:custGeom>
              <a:avLst/>
              <a:gdLst/>
              <a:ahLst/>
              <a:rect l="l" t="t" r="r" b="b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43720" y="3028680"/>
              <a:ext cx="840240" cy="754560"/>
            </a:xfrm>
            <a:custGeom>
              <a:avLst/>
              <a:gdLst/>
              <a:ahLst/>
              <a:rect l="l" t="t" r="r" b="b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lnTo>
                    <a:pt x="203" y="1143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95680" y="4159800"/>
              <a:ext cx="360360" cy="126000"/>
            </a:xfrm>
            <a:custGeom>
              <a:avLst/>
              <a:gdLst/>
              <a:ahLst/>
              <a:rect l="l" t="t" r="r" b="b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33560" y="4218480"/>
              <a:ext cx="175320" cy="7668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160" y="4501800"/>
              <a:ext cx="1461240" cy="89280"/>
            </a:xfrm>
            <a:custGeom>
              <a:avLst/>
              <a:gdLst/>
              <a:ahLst/>
              <a:rect l="l" t="t" r="r" b="b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2360" y="4066560"/>
              <a:ext cx="1157040" cy="90360"/>
            </a:xfrm>
            <a:custGeom>
              <a:avLst/>
              <a:gdLst/>
              <a:ahLst/>
              <a:rect l="l" t="t" r="r" b="b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58560" y="4077000"/>
              <a:ext cx="73080" cy="339480"/>
            </a:xfrm>
            <a:custGeom>
              <a:avLst/>
              <a:gdLst/>
              <a:ahLst/>
              <a:rect l="l" t="t" r="r" b="b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86320" y="4169160"/>
              <a:ext cx="32760" cy="113400"/>
            </a:xfrm>
            <a:custGeom>
              <a:avLst/>
              <a:gdLst/>
              <a:ahLst/>
              <a:rect l="l" t="t" r="r" b="b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98920" y="4152600"/>
              <a:ext cx="362880" cy="29160"/>
            </a:xfrm>
            <a:custGeom>
              <a:avLst/>
              <a:gdLst/>
              <a:ahLst/>
              <a:rect l="l" t="t" r="r" b="b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25280" y="4215240"/>
              <a:ext cx="204840" cy="56520"/>
            </a:xfrm>
            <a:custGeom>
              <a:avLst/>
              <a:gdLst/>
              <a:ahLst/>
              <a:rect l="l" t="t" r="r" b="b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0360" y="4249440"/>
              <a:ext cx="1106640" cy="74160"/>
            </a:xfrm>
            <a:custGeom>
              <a:avLst/>
              <a:gdLst/>
              <a:ahLst/>
              <a:rect l="l" t="t" r="r" b="b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5480" y="4475880"/>
              <a:ext cx="1008720" cy="5616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7960" y="4312080"/>
              <a:ext cx="133200" cy="19080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89160" y="4520520"/>
              <a:ext cx="77760" cy="7416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9560" y="4547880"/>
              <a:ext cx="1414080" cy="55080"/>
            </a:xfrm>
            <a:custGeom>
              <a:avLst/>
              <a:gdLst/>
              <a:ahLst/>
              <a:rect l="l" t="t" r="r" b="b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65960" y="4321440"/>
              <a:ext cx="753120" cy="76680"/>
            </a:xfrm>
            <a:custGeom>
              <a:avLst/>
              <a:gdLst/>
              <a:ahLst/>
              <a:rect l="l" t="t" r="r" b="b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28160" y="4389840"/>
              <a:ext cx="547920" cy="56520"/>
            </a:xfrm>
            <a:custGeom>
              <a:avLst/>
              <a:gdLst/>
              <a:ahLst/>
              <a:rect l="l" t="t" r="r" b="b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6360" y="4373280"/>
              <a:ext cx="164880" cy="30600"/>
            </a:xfrm>
            <a:custGeom>
              <a:avLst/>
              <a:gdLst/>
              <a:ahLst/>
              <a:rect l="l" t="t" r="r" b="b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64160" y="4414320"/>
              <a:ext cx="167040" cy="27000"/>
            </a:xfrm>
            <a:custGeom>
              <a:avLst/>
              <a:gdLst/>
              <a:ahLst/>
              <a:rect l="l" t="t" r="r" b="b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77120" y="4460400"/>
              <a:ext cx="194400" cy="33120"/>
            </a:xfrm>
            <a:custGeom>
              <a:avLst/>
              <a:gdLst/>
              <a:ahLst/>
              <a:rect l="l" t="t" r="r" b="b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38960" y="2895480"/>
              <a:ext cx="1028880" cy="270000"/>
            </a:xfrm>
            <a:custGeom>
              <a:avLst/>
              <a:gdLst/>
              <a:ahLst/>
              <a:rect l="l" t="t" r="r" b="b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4200" y="2916360"/>
              <a:ext cx="105840" cy="153000"/>
            </a:xfrm>
            <a:custGeom>
              <a:avLst/>
              <a:gdLst/>
              <a:ahLst/>
              <a:rect l="l" t="t" r="r" b="b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33640" y="3047400"/>
              <a:ext cx="178920" cy="897120"/>
            </a:xfrm>
            <a:custGeom>
              <a:avLst/>
              <a:gdLst/>
              <a:ahLst/>
              <a:rect l="l" t="t" r="r" b="b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lnTo>
                    <a:pt x="259" y="24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6480" y="2976480"/>
              <a:ext cx="114120" cy="812520"/>
            </a:xfrm>
            <a:custGeom>
              <a:avLst/>
              <a:gdLst/>
              <a:ahLst/>
              <a:rect l="l" t="t" r="r" b="b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lnTo>
                    <a:pt x="167" y="17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37520" y="3187800"/>
              <a:ext cx="199080" cy="756000"/>
            </a:xfrm>
            <a:custGeom>
              <a:avLst/>
              <a:gdLst/>
              <a:ahLst/>
              <a:rect l="l" t="t" r="r" b="b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55680" y="3949560"/>
              <a:ext cx="648360" cy="38880"/>
            </a:xfrm>
            <a:custGeom>
              <a:avLst/>
              <a:gdLst/>
              <a:ahLst/>
              <a:rect l="l" t="t" r="r" b="b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17000" y="3950640"/>
              <a:ext cx="123480" cy="42480"/>
            </a:xfrm>
            <a:custGeom>
              <a:avLst/>
              <a:gdLst/>
              <a:ahLst/>
              <a:rect l="l" t="t" r="r" b="b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21560" y="3958200"/>
              <a:ext cx="97560" cy="1285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65400" y="4077000"/>
              <a:ext cx="46800" cy="590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05040" y="3955680"/>
              <a:ext cx="143640" cy="84960"/>
            </a:xfrm>
            <a:custGeom>
              <a:avLst/>
              <a:gdLst/>
              <a:ahLst/>
              <a:rect l="l" t="t" r="r" b="b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68840" y="4018320"/>
              <a:ext cx="22320" cy="76320"/>
            </a:xfrm>
            <a:custGeom>
              <a:avLst/>
              <a:gdLst/>
              <a:ahLst/>
              <a:rect l="l" t="t" r="r" b="b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08960" y="3862440"/>
              <a:ext cx="30240" cy="6228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1120" y="3823560"/>
              <a:ext cx="572760" cy="54000"/>
            </a:xfrm>
            <a:custGeom>
              <a:avLst/>
              <a:gdLst/>
              <a:ahLst/>
              <a:rect l="l" t="t" r="r" b="b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67320" y="3825720"/>
              <a:ext cx="20880" cy="71640"/>
            </a:xfrm>
            <a:custGeom>
              <a:avLst/>
              <a:gdLst/>
              <a:ahLst/>
              <a:rect l="l" t="t" r="r" b="b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49600" y="3854160"/>
              <a:ext cx="20880" cy="55080"/>
            </a:xfrm>
            <a:custGeom>
              <a:avLst/>
              <a:gdLst/>
              <a:ahLst/>
              <a:rect l="l" t="t" r="r" b="b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42320" y="3853080"/>
              <a:ext cx="25920" cy="5544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18480" y="3849480"/>
              <a:ext cx="24480" cy="5760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1200" y="3855240"/>
              <a:ext cx="25920" cy="6228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24760" y="3083760"/>
              <a:ext cx="207360" cy="83520"/>
            </a:xfrm>
            <a:custGeom>
              <a:avLst/>
              <a:gdLst/>
              <a:ahLst/>
              <a:rect l="l" t="t" r="r" b="b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53080" y="3342240"/>
              <a:ext cx="165960" cy="449280"/>
            </a:xfrm>
            <a:custGeom>
              <a:avLst/>
              <a:gdLst/>
              <a:ahLst/>
              <a:rect l="l" t="t" r="r" b="b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15800" y="3727080"/>
              <a:ext cx="588240" cy="82080"/>
            </a:xfrm>
            <a:custGeom>
              <a:avLst/>
              <a:gdLst/>
              <a:ahLst/>
              <a:rect l="l" t="t" r="r" b="b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6240" y="3061800"/>
              <a:ext cx="122400" cy="699120"/>
            </a:xfrm>
            <a:custGeom>
              <a:avLst/>
              <a:gdLst/>
              <a:ahLst/>
              <a:rect l="l" t="t" r="r" b="b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lnTo>
                    <a:pt x="166" y="14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120" y="4488840"/>
              <a:ext cx="61200" cy="79920"/>
            </a:xfrm>
            <a:custGeom>
              <a:avLst/>
              <a:gdLst/>
              <a:ahLst/>
              <a:rect l="l" t="t" r="r" b="b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52000" y="3055680"/>
              <a:ext cx="804960" cy="210960"/>
            </a:xfrm>
            <a:custGeom>
              <a:avLst/>
              <a:gdLst/>
              <a:ahLst/>
              <a:rect l="l" t="t" r="r" b="b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05280" y="3116880"/>
              <a:ext cx="328680" cy="353880"/>
            </a:xfrm>
            <a:custGeom>
              <a:avLst/>
              <a:gdLst/>
              <a:ahLst/>
              <a:rect l="l" t="t" r="r" b="b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54080" y="4140720"/>
              <a:ext cx="29160" cy="119160"/>
            </a:xfrm>
            <a:custGeom>
              <a:avLst/>
              <a:gdLst/>
              <a:ahLst/>
              <a:rect l="l" t="t" r="r" b="b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438280" y="3124080"/>
            <a:ext cx="703440" cy="7621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6037E-006 C 0.00174 -0.06326 0.06129 -0.15666 0.1441 -0.18354 C 0.22691 -0.21043 0.41563 -0.20625 0.49671 -0.16106 C 0.57778 -0.11587 0.64462 0.0146 0.63056 0.0883 C 0.6165 0.162 0.4948 0.26258 0.41198 0.28065 C 0.32917 0.29873 0.20209 0.24427 0.13403 0.19676 C 0.06598 0.14925 -0.00815 0.06999 -4.72222E-006 -3.36037E-006 Z">
                                      <p:cBhvr>
                                        <p:cTn id="84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pological Quantum Field Theories (TQFT’s)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3240" y="2922480"/>
            <a:ext cx="787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reedman, Kitaev, Wang 200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ivalent to ordinary quantum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75760" y="380520"/>
            <a:ext cx="856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onlinear Quantum Mechanics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Weinberg 1989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7120" y="1852560"/>
            <a:ext cx="775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brams &amp; Lloyd 1998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ld use to solve NP-complete and even harder problem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-495360" y="5870520"/>
            <a:ext cx="4733280" cy="355320"/>
            <a:chOff x="-495360" y="5870520"/>
            <a:chExt cx="4733280" cy="355320"/>
          </a:xfrm>
        </p:grpSpPr>
        <p:sp>
          <p:nvSpPr>
            <p:cNvPr id="269" name=""/>
            <p:cNvSpPr/>
            <p:nvPr/>
          </p:nvSpPr>
          <p:spPr>
            <a:xfrm>
              <a:off x="1871280" y="5988960"/>
              <a:ext cx="2366640" cy="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495360" y="587052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-490320" y="5758560"/>
            <a:ext cx="4722480" cy="696240"/>
            <a:chOff x="-490320" y="5758560"/>
            <a:chExt cx="4722480" cy="696240"/>
          </a:xfrm>
        </p:grpSpPr>
        <p:sp>
          <p:nvSpPr>
            <p:cNvPr id="272" name=""/>
            <p:cNvSpPr/>
            <p:nvPr/>
          </p:nvSpPr>
          <p:spPr>
            <a:xfrm flipV="1">
              <a:off x="1876680" y="5758560"/>
              <a:ext cx="2355480" cy="22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263400">
              <a:off x="-478440" y="598464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224240" y="581976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08400" y="54957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olution to NP-complet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040000">
                                      <p:cBhvr>
                                        <p:cTn id="9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flipV="1">
            <a:off x="1816200" y="1933560"/>
            <a:ext cx="0" cy="4353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133880" y="2344680"/>
            <a:ext cx="0" cy="3246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ime Travel Computing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Bacon 2003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55520" y="4548240"/>
            <a:ext cx="1506600" cy="6426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97320" y="4557600"/>
            <a:ext cx="1506600" cy="6426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41400" y="3968640"/>
            <a:ext cx="22813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52640" y="2768760"/>
            <a:ext cx="1506240" cy="6426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511960" y="2128680"/>
            <a:ext cx="0" cy="37087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81480" y="2765520"/>
            <a:ext cx="1506600" cy="64260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33880" y="2114640"/>
            <a:ext cx="0" cy="642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30640" y="2125800"/>
            <a:ext cx="1378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4800" y="5845320"/>
            <a:ext cx="1403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130640" y="5203800"/>
            <a:ext cx="0" cy="64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-1757160" y="3688920"/>
            <a:ext cx="47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hronology-respecting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10120" y="1995480"/>
            <a:ext cx="30020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[x=1] = 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[y=1] =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nsistency requires p=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Pr[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1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(1-q) + q(1-p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p(1-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95720" y="3532320"/>
            <a:ext cx="145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Causal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800" y="1363680"/>
            <a:ext cx="8202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Given a graph, is it connect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icular graph is a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instance, n, is the number of bits needed to specif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orithm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olynomial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uses at most k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, for some constants k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lass of all problems that have polynomial-tim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er Science 101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9280" y="1166760"/>
            <a:ext cx="822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alentini 200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Subquantum” algorithm (violat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distinguish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5640" y="2622600"/>
            <a:ext cx="808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entini’s algorithm still requires exponentially-precise measurement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probab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ve Graph Isomorphism subquantu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9280" y="1695600"/>
          <a:ext cx="336564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695600"/>
                    <a:ext cx="33656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85640" y="4667400"/>
            <a:ext cx="807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. 200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pl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hidden variable is another way to solve Graph Isomorphism in polynomial time—but again, probably not NP-complete probl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Gravit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340760" y="2690640"/>
            <a:ext cx="11919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nthropic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714680"/>
            <a:ext cx="802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a solution to an NP-complete problem.  If it’s wrong, kill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6720" y="3232080"/>
            <a:ext cx="793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oomsday alternativ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lution is right, destroy human ra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rong, cause human race to survive into far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ranshuman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1160" y="1854360"/>
            <a:ext cx="75200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load yourself onto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he computer working on a 10,000-year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the computer to make 50 copies of you after it’s done, then tell those copies th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2480" y="140328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2480" y="146844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Superluminal Sign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2480" y="1224000"/>
            <a:ext cx="367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actability of NP-complet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603000">
            <a:off x="5949720" y="-257040"/>
            <a:ext cx="1904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c00cc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: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Nondeterministic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lynomial Tim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5146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752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5334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 prime factor ending in 7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P-hard: If you can solve it, you can solve everything in N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P-complete: NP-hard and in 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240" y="44956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14240" y="327672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434340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19520" y="56383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34340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19520" y="4495680"/>
            <a:ext cx="1752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990720" y="33526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2767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45720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066680" y="457200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57913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4197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34340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5410080"/>
            <a:ext cx="38124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5627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4000" y="315108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Hamilton cycle (tour that visits each vertex exactly once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90360" y="3336480"/>
            <a:ext cx="3780000" cy="2691360"/>
            <a:chOff x="990360" y="3336480"/>
            <a:chExt cx="3780000" cy="2691360"/>
          </a:xfrm>
        </p:grpSpPr>
        <p:sp>
          <p:nvSpPr>
            <p:cNvPr id="89" name=""/>
            <p:cNvSpPr/>
            <p:nvPr/>
          </p:nvSpPr>
          <p:spPr>
            <a:xfrm flipH="1" flipV="1">
              <a:off x="990360" y="4336920"/>
              <a:ext cx="68040" cy="1393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050840" y="4571640"/>
              <a:ext cx="1540080" cy="11574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0920" y="4578480"/>
              <a:ext cx="2179440" cy="1044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03320" y="5632560"/>
              <a:ext cx="1958760" cy="3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803680" y="4503600"/>
              <a:ext cx="1768320" cy="1524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827440" y="3336480"/>
              <a:ext cx="1744560" cy="1174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998640" y="3344760"/>
              <a:ext cx="1828800" cy="9986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22480" y="1295280"/>
            <a:ext cx="3005280" cy="5181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78320" y="5181480"/>
            <a:ext cx="1965240" cy="685800"/>
          </a:xfrm>
          <a:custGeom>
            <a:avLst/>
            <a:gdLst/>
            <a:ahLst/>
            <a:rect l="l" t="t" r="r" b="b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6120" y="0"/>
            <a:ext cx="5867640" cy="2819520"/>
          </a:xfrm>
          <a:custGeom>
            <a:avLst/>
            <a:gdLst/>
            <a:ahLst/>
            <a:rect l="l" t="t" r="r" b="b"/>
            <a:pathLst>
              <a:path w="4320" h="1632">
                <a:moveTo>
                  <a:pt x="0" y="0"/>
                </a:moveTo>
                <a:cubicBezTo>
                  <a:pt x="744" y="816"/>
                  <a:pt x="1488" y="1632"/>
                  <a:pt x="2208" y="1632"/>
                </a:cubicBezTo>
                <a:cubicBezTo>
                  <a:pt x="2928" y="1632"/>
                  <a:pt x="3624" y="816"/>
                  <a:pt x="43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7040" y="5410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44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N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1240" y="1295280"/>
            <a:ext cx="2209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Arial"/>
              </a:rPr>
              <a:t>NP-comple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264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NP-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8120" y="4573440"/>
            <a:ext cx="3811680" cy="1922760"/>
            <a:chOff x="168120" y="4573440"/>
            <a:chExt cx="3811680" cy="1922760"/>
          </a:xfrm>
        </p:grpSpPr>
        <p:sp>
          <p:nvSpPr>
            <p:cNvPr id="104" name=""/>
            <p:cNvSpPr/>
            <p:nvPr/>
          </p:nvSpPr>
          <p:spPr>
            <a:xfrm>
              <a:off x="2909880" y="5357880"/>
              <a:ext cx="10699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8120" y="4573440"/>
              <a:ext cx="2986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connectiv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mality tes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determina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ar programm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22800" y="860040"/>
            <a:ext cx="3121200" cy="1874160"/>
            <a:chOff x="6022800" y="860040"/>
            <a:chExt cx="3121200" cy="1874160"/>
          </a:xfrm>
        </p:grpSpPr>
        <p:sp>
          <p:nvSpPr>
            <p:cNvPr id="107" name=""/>
            <p:cNvSpPr/>
            <p:nvPr/>
          </p:nvSpPr>
          <p:spPr>
            <a:xfrm flipH="1" flipV="1">
              <a:off x="6022800" y="860040"/>
              <a:ext cx="100512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57800" y="154296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permane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ting proble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79280" y="1260360"/>
            <a:ext cx="3592800" cy="2288520"/>
            <a:chOff x="179280" y="1260360"/>
            <a:chExt cx="3592800" cy="2288520"/>
          </a:xfrm>
        </p:grpSpPr>
        <p:sp>
          <p:nvSpPr>
            <p:cNvPr id="110" name=""/>
            <p:cNvSpPr/>
            <p:nvPr/>
          </p:nvSpPr>
          <p:spPr>
            <a:xfrm flipV="1">
              <a:off x="2459160" y="1827360"/>
              <a:ext cx="13129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280" y="1260360"/>
              <a:ext cx="2870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milton cyc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iner tre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3-col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isfiabil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ximum cliqu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09920" y="3227400"/>
            <a:ext cx="3934080" cy="1557000"/>
            <a:chOff x="5209920" y="3227400"/>
            <a:chExt cx="3934080" cy="1557000"/>
          </a:xfrm>
        </p:grpSpPr>
        <p:sp>
          <p:nvSpPr>
            <p:cNvPr id="113" name=""/>
            <p:cNvSpPr/>
            <p:nvPr/>
          </p:nvSpPr>
          <p:spPr>
            <a:xfrm flipH="1">
              <a:off x="5209920" y="3693960"/>
              <a:ext cx="96516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57800" y="3227400"/>
              <a:ext cx="2986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isomorphis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nimum circuit siz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0" spc="-1" strike="noStrike">
                <a:solidFill>
                  <a:srgbClr val="333399"/>
                </a:solidFill>
                <a:latin typeface="Arial"/>
              </a:rPr>
              <a:t>Does P=NP?</a:t>
            </a:r>
            <a:endParaRPr b="1" lang="en-US" sz="17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486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(literally) $1,000,000 ques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87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ut what if P=NP, and the algorithm takes n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10000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steps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3400" y="319572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 will not be so cr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could we do if we could solve NP-complete problems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2500" t="0" r="7500" b="11043"/>
          <a:stretch/>
        </p:blipFill>
        <p:spPr>
          <a:xfrm>
            <a:off x="609480" y="1676520"/>
            <a:ext cx="1957680" cy="2463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179064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429000" y="1905120"/>
            <a:ext cx="2286000" cy="2274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2440" y="4456080"/>
            <a:ext cx="8591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there actually were a machine with [running time] ~Kn (or even only with ~Kn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, this would have consequences of the greatest magnitude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—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l to von Neumann, 195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49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n why is it so hard to prove P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1400" y="2097000"/>
            <a:ext cx="784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gorithms can be 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ver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le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316404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l/Turing-style self-reference arguments don’t seem powerful enoug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400" y="476424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binatorial arguments face the “Razborov-Rudich barrier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aaronson</cp:lastModifiedBy>
  <dcterms:modified xsi:type="dcterms:W3CDTF">2004-07-29T22:09:44Z</dcterms:modified>
  <cp:revision>21</cp:revision>
  <dc:subject/>
  <dc:title>Slide 1</dc:title>
</cp:coreProperties>
</file>