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989-4430-4B83-B94B-9D314947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2B3-E447-4B10-A5E2-86FA5E7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637-06CC-40D0-B01D-58D5EB03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683-AB98-4720-9830-18B6B9E3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8A5-AD0C-4476-981D-F2EA5733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F2D-B939-43B1-9EFE-49E0490D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B16-2AEB-4672-92C5-BB750F9D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264-8067-43F1-9DE8-1A5FA0EE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E6A-4006-4581-B091-A58234AB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FEF-02E7-47C4-9BC4-C281D85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247-8800-4421-8758-441E899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56B-24EC-4B67-A372-3F46A4F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C224-2963-4D54-B9FC-77DACDD8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NP-complete Problems and Physical Rea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5409720"/>
            <a:ext cx="388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C Berkeley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61720" y="2259360"/>
            <a:ext cx="3349440" cy="2526840"/>
            <a:chOff x="2961720" y="2259360"/>
            <a:chExt cx="3349440" cy="2526840"/>
          </a:xfrm>
        </p:grpSpPr>
        <p:sp>
          <p:nvSpPr>
            <p:cNvPr id="45" name=""/>
            <p:cNvSpPr/>
            <p:nvPr/>
          </p:nvSpPr>
          <p:spPr>
            <a:xfrm flipH="1" flipV="1">
              <a:off x="4427280" y="3503880"/>
              <a:ext cx="169776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421880" y="2394720"/>
              <a:ext cx="288360" cy="117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159720" y="3147840"/>
              <a:ext cx="38520" cy="119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581360" y="4470120"/>
              <a:ext cx="1589040" cy="1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8240" y="3147840"/>
              <a:ext cx="1383120" cy="150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581360" y="3521880"/>
              <a:ext cx="1543680" cy="112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197880" y="2462400"/>
              <a:ext cx="1568880" cy="68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10600" y="2394720"/>
              <a:ext cx="1471680" cy="119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4960" y="3447000"/>
              <a:ext cx="1618200" cy="95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65120" y="3447000"/>
              <a:ext cx="1329480" cy="83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91600">
              <a:off x="4395960" y="445968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91600">
              <a:off x="4303800" y="331848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91600">
              <a:off x="5934600" y="339408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91600">
              <a:off x="3070080" y="302472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91600">
              <a:off x="4581720" y="227196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91600">
              <a:off x="5985000" y="428004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91600">
              <a:off x="2974320" y="414972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maybe there’s 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hysical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system that solves an NP-complete problem just by reaching its lowest energy stat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 the soap bubbles form a minimum Steiner tree connecting the pe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2819520"/>
            <a:ext cx="2841480" cy="3668760"/>
            <a:chOff x="3048120" y="2819520"/>
            <a:chExt cx="2841480" cy="3668760"/>
          </a:xfrm>
        </p:grpSpPr>
        <p:sp>
          <p:nvSpPr>
            <p:cNvPr id="132" name=""/>
            <p:cNvSpPr/>
            <p:nvPr/>
          </p:nvSpPr>
          <p:spPr>
            <a:xfrm flipV="1">
              <a:off x="3098880" y="5930640"/>
              <a:ext cx="20304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486400" y="4842000"/>
              <a:ext cx="34776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113440" y="2883960"/>
              <a:ext cx="720720" cy="19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103200" y="5627520"/>
              <a:ext cx="206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627520"/>
              <a:ext cx="3348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309840" y="5640120"/>
              <a:ext cx="2189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51520" y="2819520"/>
              <a:ext cx="1299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757840" y="478476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048120" y="635652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48120" y="557064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757840" y="5964120"/>
              <a:ext cx="131760" cy="130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980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Physical Syst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828800"/>
            <a:ext cx="25905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Well-known to admit “metastable”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524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ing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5105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st highly parallel ordinary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1828800"/>
            <a:ext cx="761760" cy="2438280"/>
          </a:xfrm>
          <a:custGeom>
            <a:avLst/>
            <a:gdLst>
              <a:gd name="textAreaLeft" fmla="*/ 0 w 761760"/>
              <a:gd name="textAreaRight" fmla="*/ 275040 w 7617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160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alog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6640" y="1521000"/>
            <a:ext cx="7608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c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hage 1979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we could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,   x-y,   xy,   x/y,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real x,y in a single step, then we could solve NP-complete and even harder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99572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lanck sc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1520" y="1112760"/>
            <a:ext cx="692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um computers can factor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486560" y="1179360"/>
            <a:ext cx="79704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2243160"/>
            <a:ext cx="81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they solve NP-complet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6440" y="2989440"/>
            <a:ext cx="8331120" cy="2921400"/>
            <a:chOff x="406440" y="2989440"/>
            <a:chExt cx="8331120" cy="2921400"/>
          </a:xfrm>
        </p:grpSpPr>
        <p:sp>
          <p:nvSpPr>
            <p:cNvPr id="156" name=""/>
            <p:cNvSpPr/>
            <p:nvPr/>
          </p:nvSpPr>
          <p:spPr>
            <a:xfrm>
              <a:off x="406440" y="298944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Bennett, Bernstein, Brassard, Vazirani 1997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“Quantum magic” won’t be enoug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07960" y="4352760"/>
              <a:ext cx="8229600" cy="304920"/>
              <a:chOff x="507960" y="4352760"/>
              <a:chExt cx="8229600" cy="304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079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25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174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223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269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318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367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413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462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511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55720" y="4352760"/>
                <a:ext cx="304920" cy="30492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606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655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01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750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799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845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894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943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989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038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87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133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182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231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77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326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06520" y="484200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queries are needed to search a list of size 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for a single marked i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49360" y="6029280"/>
            <a:ext cx="83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. 200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ue even with “quantum ad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NP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9920" y="2135160"/>
            <a:ext cx="4572000" cy="890640"/>
          </a:xfrm>
          <a:custGeom>
            <a:avLst/>
            <a:gdLst/>
            <a:ahLst/>
            <a:rect l="l" t="t" r="r" b="b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8480" y="5302080"/>
            <a:ext cx="83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 (van Dam, Mosca, Vazirani 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198" name=""/>
            <p:cNvSpPr/>
            <p:nvPr/>
          </p:nvSpPr>
          <p:spPr>
            <a:xfrm>
              <a:off x="1075320" y="2940120"/>
              <a:ext cx="1087560" cy="103320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08520" y="3083760"/>
              <a:ext cx="756360" cy="72900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1560" y="4018320"/>
              <a:ext cx="668160" cy="12024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88400" y="3486240"/>
              <a:ext cx="171720" cy="2181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23440" y="4367160"/>
              <a:ext cx="406800" cy="27828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23440" y="4416840"/>
              <a:ext cx="415080" cy="2440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29560" y="4528800"/>
              <a:ext cx="395640" cy="13212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34240" y="4437000"/>
              <a:ext cx="97560" cy="5544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35920" y="4471200"/>
              <a:ext cx="106920" cy="181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08320" y="4365000"/>
              <a:ext cx="353520" cy="29232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3480" y="4500360"/>
              <a:ext cx="101520" cy="12744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7920" y="4404960"/>
              <a:ext cx="156600" cy="9072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9320" y="4387320"/>
              <a:ext cx="103680" cy="2340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0560" y="4545360"/>
              <a:ext cx="488880" cy="21672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9840" y="4285800"/>
              <a:ext cx="1465200" cy="30276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8920" y="4110120"/>
              <a:ext cx="1122840" cy="2959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240" y="3972240"/>
              <a:ext cx="610560" cy="12816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3280" y="3124080"/>
              <a:ext cx="285120" cy="87264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24080" y="3834000"/>
              <a:ext cx="544320" cy="8604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720" y="3028680"/>
              <a:ext cx="840240" cy="75456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5680" y="4159800"/>
              <a:ext cx="360360" cy="12600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33560" y="4218480"/>
              <a:ext cx="175320" cy="76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160" y="4501800"/>
              <a:ext cx="1461240" cy="8928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2360" y="4066560"/>
              <a:ext cx="1157040" cy="9036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58560" y="4077000"/>
              <a:ext cx="73080" cy="33948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6320" y="4169160"/>
              <a:ext cx="32760" cy="11340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920" y="4152600"/>
              <a:ext cx="362880" cy="2916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25280" y="4215240"/>
              <a:ext cx="204840" cy="565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360" y="4249440"/>
              <a:ext cx="1106640" cy="7416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480" y="4475880"/>
              <a:ext cx="1008720" cy="561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7960" y="4312080"/>
              <a:ext cx="133200" cy="19080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9160" y="4520520"/>
              <a:ext cx="77760" cy="7416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9560" y="4547880"/>
              <a:ext cx="1414080" cy="5508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5960" y="4321440"/>
              <a:ext cx="753120" cy="7668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28160" y="4389840"/>
              <a:ext cx="547920" cy="565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6360" y="4373280"/>
              <a:ext cx="164880" cy="306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64160" y="4414320"/>
              <a:ext cx="167040" cy="2700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7120" y="4460400"/>
              <a:ext cx="194400" cy="3312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38960" y="2895480"/>
              <a:ext cx="1028880" cy="2700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4200" y="2916360"/>
              <a:ext cx="105840" cy="15300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3640" y="3047400"/>
              <a:ext cx="178920" cy="89712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6480" y="2976480"/>
              <a:ext cx="114120" cy="81252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37520" y="3187800"/>
              <a:ext cx="199080" cy="75600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55680" y="3949560"/>
              <a:ext cx="648360" cy="3888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17000" y="3950640"/>
              <a:ext cx="123480" cy="4248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21560" y="3958200"/>
              <a:ext cx="97560" cy="1285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5400" y="4077000"/>
              <a:ext cx="46800" cy="590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05040" y="3955680"/>
              <a:ext cx="143640" cy="8496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8840" y="4018320"/>
              <a:ext cx="22320" cy="7632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08960" y="3862440"/>
              <a:ext cx="30240" cy="622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1120" y="3823560"/>
              <a:ext cx="572760" cy="5400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7320" y="3825720"/>
              <a:ext cx="20880" cy="716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49600" y="3854160"/>
              <a:ext cx="20880" cy="5508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42320" y="3853080"/>
              <a:ext cx="25920" cy="5544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18480" y="3849480"/>
              <a:ext cx="24480" cy="5760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1200" y="3855240"/>
              <a:ext cx="25920" cy="6228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24760" y="3083760"/>
              <a:ext cx="207360" cy="8352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53080" y="3342240"/>
              <a:ext cx="165960" cy="44928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15800" y="3727080"/>
              <a:ext cx="588240" cy="820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6240" y="3061800"/>
              <a:ext cx="122400" cy="69912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4488840"/>
              <a:ext cx="61200" cy="7992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2000" y="3055680"/>
              <a:ext cx="804960" cy="21096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5280" y="3116880"/>
              <a:ext cx="328680" cy="3538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4080" y="4140720"/>
              <a:ext cx="29160" cy="1191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84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pological Quantum Field Theories (TQFT’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" y="2922480"/>
            <a:ext cx="78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reedman, Kitaev, Wang 200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ivalent to ordinary quantum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5760" y="38052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onlinear Quantum Mechanics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Weinberg 1989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7120" y="1852560"/>
            <a:ext cx="775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ld use to solve NP-complete and even harder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495360" y="5870520"/>
            <a:ext cx="4733280" cy="355320"/>
            <a:chOff x="-495360" y="5870520"/>
            <a:chExt cx="4733280" cy="355320"/>
          </a:xfrm>
        </p:grpSpPr>
        <p:sp>
          <p:nvSpPr>
            <p:cNvPr id="269" name=""/>
            <p:cNvSpPr/>
            <p:nvPr/>
          </p:nvSpPr>
          <p:spPr>
            <a:xfrm>
              <a:off x="1871280" y="598896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495360" y="587052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490320" y="5758560"/>
            <a:ext cx="4722480" cy="696240"/>
            <a:chOff x="-490320" y="5758560"/>
            <a:chExt cx="4722480" cy="696240"/>
          </a:xfrm>
        </p:grpSpPr>
        <p:sp>
          <p:nvSpPr>
            <p:cNvPr id="272" name=""/>
            <p:cNvSpPr/>
            <p:nvPr/>
          </p:nvSpPr>
          <p:spPr>
            <a:xfrm flipV="1">
              <a:off x="1876680" y="575856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263400">
              <a:off x="-478440" y="598464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224240" y="581976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08400" y="5495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9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flipV="1">
            <a:off x="1816200" y="1933560"/>
            <a:ext cx="0" cy="4353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33880" y="2344680"/>
            <a:ext cx="0" cy="324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Travel Computing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Bacon 2003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55520" y="454824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97320" y="455760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41400" y="3968640"/>
            <a:ext cx="22813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2640" y="2768760"/>
            <a:ext cx="150624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511960" y="2128680"/>
            <a:ext cx="0" cy="3708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81480" y="276552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33880" y="2114640"/>
            <a:ext cx="0" cy="642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30640" y="2125800"/>
            <a:ext cx="1378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4800" y="5845320"/>
            <a:ext cx="1403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130640" y="5203800"/>
            <a:ext cx="0" cy="64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-1757160" y="3688920"/>
            <a:ext cx="47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hronology-respecting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10120" y="1995480"/>
            <a:ext cx="30020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[x=1] = 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[y=1] =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nsistency requires p=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r[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(1-q) + q(1-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p(1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95720" y="3532320"/>
            <a:ext cx="14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ausa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ce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280" y="1166760"/>
            <a:ext cx="822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alentini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Subquantum” algorithm (violat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distinguish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5640" y="2622600"/>
            <a:ext cx="808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entini’s algorithm still requires exponentially-precise measuremen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probab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e Graph Isomorphism subquantu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9280" y="1695600"/>
          <a:ext cx="33656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95600"/>
                    <a:ext cx="33656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640" y="4667400"/>
            <a:ext cx="807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hidden variable is another way to solve Graph Isomorphism in polynomial time—but again, probably not NP-complete probl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Grav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thropic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714680"/>
            <a:ext cx="802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 solution to an NP-complete problem.  If it’s wrong, kill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6720" y="3232080"/>
            <a:ext cx="793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oomsday alternativ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lution is right, destroy human ra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rong, cause human race to survive into fa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anshuman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1160" y="1854360"/>
            <a:ext cx="7520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 yourself on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he computer working on a 10,000-year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computer to make 50 copies of you after it’s done, then tell those copie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2480" y="140328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2480" y="1468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uperluminal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2480" y="1224000"/>
            <a:ext cx="367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ctability of NP-complet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603000">
            <a:off x="5949720" y="-257040"/>
            <a:ext cx="1904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ondeterministic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hard: If you can solve it, you can solve everything in 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complete: NP-hard and in 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89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04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07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10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9920" y="3227400"/>
            <a:ext cx="3934080" cy="1557000"/>
            <a:chOff x="5209920" y="3227400"/>
            <a:chExt cx="3934080" cy="1557000"/>
          </a:xfrm>
        </p:grpSpPr>
        <p:sp>
          <p:nvSpPr>
            <p:cNvPr id="113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7800" y="3227400"/>
              <a:ext cx="2986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imum circuit siz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333399"/>
                </a:solidFill>
                <a:latin typeface="Arial"/>
              </a:rPr>
              <a:t>Does P=NP?</a:t>
            </a:r>
            <a:endParaRPr b="1" lang="en-US" sz="1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486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87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what if P=NP, and the algorithm takes n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10000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step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3400" y="319572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will not be so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could we do if we could solve NP-complete problem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2500" t="0" r="7500" b="11043"/>
          <a:stretch/>
        </p:blipFill>
        <p:spPr>
          <a:xfrm>
            <a:off x="609480" y="1676520"/>
            <a:ext cx="1957680" cy="246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17906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2440" y="4456080"/>
            <a:ext cx="8591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n why is it so hard to prove 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1400" y="209700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s can be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l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31640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/Turing-style self-reference arguments don’t seem powerful en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400" y="47642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orial arguments face the “Razborov-Rudich barrier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aaronson</cp:lastModifiedBy>
  <dcterms:modified xsi:type="dcterms:W3CDTF">2004-07-29T22:09:44Z</dcterms:modified>
  <cp:revision>21</cp:revision>
  <dc:subject/>
  <dc:title>Slide 1</dc:title>
</cp:coreProperties>
</file>