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E86D-0423-402F-89B5-A33A5F0C6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64A2-B6B3-4A1F-AB96-55A10AE45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E4CF-C8F4-49AB-A260-5D9C53E63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203A-A1C4-40EE-94E1-7CAC9AC0C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9B78-0351-49D4-AB59-6F0F6C9E1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B16B-3DD5-4B98-8C5F-656C7A604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D670-9141-498A-8884-8FF71FD2D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AAF7-92C5-45A6-B5BD-0863C1FC8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D271-E516-42DA-B3CF-5202DC47F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E61C-9718-4007-B10E-5531BB9CB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5A32-ED08-486E-BD93-48816278B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5B6D-9B99-48BA-BF0E-8000DA766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BDE4-F682-4D22-9361-C0809BC10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47DF-CDBF-4FE1-BCE0-F5A5906C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D405-0384-46C7-BB56-9943167F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23F-DAC5-4701-A39D-CB8D8D301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A0D1-3806-4BD0-AEC2-F9E192D6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0B57-8ED1-4249-BEE3-E818B161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FC2F-E780-4442-9AB8-F6159884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137-BD4B-4E4E-AD8A-C86E6F08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878-CD07-494C-BE9F-B8CD3633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52F-5C63-4A95-B110-9AB96C7E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847-A12A-4170-A890-B91EC342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7A1-BB29-40CC-BC4E-2001C8C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2AA-0E2E-459F-933B-3FAC535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B54-3ADC-4B5C-9EA3-03D68EEA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915-D8E3-496A-8B05-2CE8C674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391-071F-457F-90D0-29FC2C21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401-CE35-48EE-A1F7-51B5A7DF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F4C-B37C-4D94-AD07-6465C92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ACD-9487-4EE4-B7E6-278D60A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2E93-DC8E-4A10-AB37-0AE4A6AAA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Quantum Copy-Protection and Quantum Money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44480" cy="857520"/>
          </a:xfrm>
          <a:prstGeom prst="rect">
            <a:avLst/>
          </a:prstGeom>
          <a:ln w="0">
            <a:noFill/>
          </a:ln>
        </p:spPr>
      </p:pic>
      <p:sp>
        <p:nvSpPr>
          <p:cNvPr id="51" name="Line 12"/>
          <p:cNvSpPr/>
          <p:nvPr/>
        </p:nvSpPr>
        <p:spPr>
          <a:xfrm>
            <a:off x="2666880" y="2895480"/>
            <a:ext cx="1492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3056040" y="2506680"/>
            <a:ext cx="519120" cy="714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H="1">
            <a:off x="2927520" y="2441520"/>
            <a:ext cx="777600" cy="843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152280" y="19810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|     </a:t>
            </a:r>
            <a:r>
              <a:rPr b="0" lang="en-US" sz="9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1644480" cy="85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9"/>
          <p:cNvSpPr/>
          <p:nvPr/>
        </p:nvSpPr>
        <p:spPr>
          <a:xfrm>
            <a:off x="4191120" y="2057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|     </a:t>
            </a:r>
            <a:r>
              <a:rPr b="0" lang="en-US" sz="9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6858000" y="2514600"/>
            <a:ext cx="1644480" cy="85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1"/>
          <p:cNvSpPr/>
          <p:nvPr/>
        </p:nvSpPr>
        <p:spPr>
          <a:xfrm>
            <a:off x="6477120" y="2057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|     </a:t>
            </a:r>
            <a:r>
              <a:rPr b="0" lang="en-US" sz="9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41911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humor in this talk is completely uninten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2860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omplexity-Theoretic No-Cloning Theore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3520" y="1066680"/>
            <a:ext cx="777240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an n-qubit pure state.  Suppose we’re given the initial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s well a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oracle U such that U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-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U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thogonal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 Then for all r&gt;k, to prepare r stat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2743200" y="2743200"/>
                <a:ext cx="37130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⟨</m:t>
                        </m:r>
                        <m:r>
                          <m:t xml:space="preserve">ψ</m:t>
                        </m:r>
                        <m:r>
                          <m:t xml:space="preserve">|</m:t>
                        </m:r>
                      </m:e>
                    </m:nary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≥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 Box 3"/>
          <p:cNvSpPr/>
          <p:nvPr/>
        </p:nvSpPr>
        <p:spPr>
          <a:xfrm>
            <a:off x="533520" y="4419720"/>
            <a:ext cx="464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need this many queries to 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5183280" y="3886200"/>
                <a:ext cx="311148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Text Box 3"/>
          <p:cNvSpPr/>
          <p:nvPr/>
        </p:nvSpPr>
        <p:spPr>
          <a:xfrm>
            <a:off x="533520" y="563868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This generalizes both the No-Cloning Theorem and the optimality of Grover’s algorith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295280" y="1981080"/>
            <a:ext cx="6858000" cy="1677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of requires generalizing Ambainis’s adversary method, to the case where the quantum algorithm’s initial state already encodes some information about the target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efinition of Quantum Copy-Protection Sche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1905120"/>
            <a:ext cx="845820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amily of Boolean functions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, together with poly-size “description”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each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V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-size quantum circuit (the “vendor”), which maps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a quantum progra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-size quantum circuit (the “customer”), which takes 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x) as input and tries to output f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304920" y="685800"/>
            <a:ext cx="845820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V,C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rrectness paramet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 and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V,C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ecur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gainst a distribution D over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if for all poly-size quantum circuits P (the “pirate”) mapp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r&gt;k output register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all poly-size quantum circuits L (the “freeloader”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457200" y="4267080"/>
                <a:ext cx="81532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D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puts  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nary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1676520" y="1295280"/>
                <a:ext cx="5638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puts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38088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andidate Scheme for Copy-Protecting Point Functions </a:t>
            </a:r>
            <a:r>
              <a:rPr b="1" lang="en-US" sz="2600" spc="-1" strike="noStrike">
                <a:solidFill>
                  <a:srgbClr val="333399"/>
                </a:solidFill>
                <a:latin typeface="Calibri"/>
              </a:rPr>
              <a:t>(thanks to Adam Smi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3520" y="1828800"/>
            <a:ext cx="80769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quantum program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can be used to recognize a password 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ut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create more quantum programs that efficiently recognize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sible Solu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a pseudorandom generator g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stretch s to g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pret g(s) as a description of a quantum circuit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g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:=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g(s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s’, can check whether s’=s by applying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g(s’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80880" y="990720"/>
            <a:ext cx="80773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’d like to give a quantum oracle U, relative to which quantum copy-protection is “generically possib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vious obstruc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earnab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that is, any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 can be identified using poly(n) oracle calls), then there’s no hope of copy-protecting F, using quantum mechanics or anything els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re exists a quantum oracle U, relative to which any family F of non-learnable, poly-time functions can be quantumly copy-protected, with secur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gainst all pirates mapping k programs to r with (1-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r &gt; 2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80880" y="1163520"/>
            <a:ext cx="8077320" cy="58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ic idea is the same as in the money case: for each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 the quantum program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ll be a Haar-random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’ll “offload all the work to the oracle”: U prepar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also computes f(x) giv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P be a poly-time algorithm P for pirat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possibly using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job: Construct a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imulat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which converts P into a poly-time algorithm for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 using oracle access to f (but not using 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imulator will mock up its own “random”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s well as an oracle U’ that computes f(x) giv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using oracle access to 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3049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andwaving Proof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rcRect l="0" t="0" r="0" b="36929"/>
          <a:stretch/>
        </p:blipFill>
        <p:spPr>
          <a:xfrm>
            <a:off x="6477120" y="0"/>
            <a:ext cx="26668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457200" y="380880"/>
            <a:ext cx="807732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imulator then runs the pirating algorithm P, but us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U’ instead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se the simulated pirate outputs (say)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mplexity-Theoretic No-Cloning Theorem implies tha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’t have significant overlap with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lso a good quantum program for f.  Indeed, one can show tha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ti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good quantum program, even if we replace U’ by the identity trans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we’ve succeeded at learning a quantum program for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 using oracle access to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5486400"/>
            <a:ext cx="7543800" cy="885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quantum polynomial time, how does one prepare a “random” pure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28600" y="15228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Solution: Explicit Quantum t-Designs</a:t>
            </a:r>
            <a:br>
              <a:rPr sz="40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(related to Ambainis-Emerson, CCC’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3581280"/>
            <a:ext cx="8534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early th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 can be prepared in poly(n,d)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52280" y="2666880"/>
            <a:ext cx="86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p is a degree-d univariate polynomial over GF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d we interpret p(x) as an integer in {0,…,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} when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676520" y="1219320"/>
                <a:ext cx="57229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5" name="Text Box 5"/>
          <p:cNvSpPr/>
          <p:nvPr/>
        </p:nvSpPr>
        <p:spPr>
          <a:xfrm>
            <a:off x="228600" y="4114800"/>
            <a:ext cx="8534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mma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E be a quantum algorithm that receiv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s input, and also makes q queries to a quantum oracle that recogniz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 Then provi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243000" y="5591160"/>
                <a:ext cx="86565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lim>
                            <m:r>
                              <m:t xml:space="preserve">p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ccepts 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⟩</m:t>
                            </m:r>
                          </m:e>
                        </m:d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lim>
                            <m:r>
                              <m:t xml:space="preserve">|</m:t>
                            </m:r>
                            <m:r>
                              <m:t xml:space="preserve">ψ</m:t>
                            </m:r>
                            <m:r>
                              <m:t xml:space="preserve">⟩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ccepts </m:t>
                            </m:r>
                            <m:r>
                              <m:t xml:space="preserve">|</m:t>
                            </m:r>
                            <m:r>
                              <m:t xml:space="preserve">ψ</m:t>
                            </m:r>
                            <m:r>
                              <m:t xml:space="preserve">⟩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4602240" y="4952880"/>
                <a:ext cx="38257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 Box 3"/>
          <p:cNvSpPr/>
          <p:nvPr/>
        </p:nvSpPr>
        <p:spPr>
          <a:xfrm>
            <a:off x="914400" y="2743200"/>
            <a:ext cx="7086600" cy="17326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nce, provided we choose the degree d to be sufficiently larger than the pirating algorithm’s running time, we can us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place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our simulation of the pirating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57200" y="1600200"/>
            <a:ext cx="8229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blicly-verifiable quantum money (and copy-protected software) secure under non-tautological assump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py-protect richer families than point func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ntum money and copy-protection relative to a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lassic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ac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splittable amplification”?  (To avoi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apt the [GGM] construction of PRFs from PRGs, to work in the presence of quantum adversar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ation-theoretically secure quantum copy-protection?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 regime where error probability is large enough to allow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6"/>
          <p:cNvGrpSpPr/>
          <p:nvPr/>
        </p:nvGrpSpPr>
        <p:grpSpPr>
          <a:xfrm>
            <a:off x="6858000" y="-175680"/>
            <a:ext cx="1630080" cy="2020320"/>
            <a:chOff x="6858000" y="-175680"/>
            <a:chExt cx="1630080" cy="2020320"/>
          </a:xfrm>
        </p:grpSpPr>
        <p:grpSp>
          <p:nvGrpSpPr>
            <p:cNvPr id="152" name="Group 14"/>
            <p:cNvGrpSpPr/>
            <p:nvPr/>
          </p:nvGrpSpPr>
          <p:grpSpPr>
            <a:xfrm>
              <a:off x="6858000" y="228600"/>
              <a:ext cx="914400" cy="1616040"/>
              <a:chOff x="6858000" y="228600"/>
              <a:chExt cx="914400" cy="1616040"/>
            </a:xfrm>
          </p:grpSpPr>
          <p:sp>
            <p:nvSpPr>
              <p:cNvPr id="153" name="AutoShape 13"/>
              <p:cNvSpPr/>
              <p:nvPr/>
            </p:nvSpPr>
            <p:spPr>
              <a:xfrm>
                <a:off x="68580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5"/>
              <p:cNvSpPr/>
              <p:nvPr/>
            </p:nvSpPr>
            <p:spPr>
              <a:xfrm>
                <a:off x="69926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9"/>
            <p:cNvSpPr/>
            <p:nvPr/>
          </p:nvSpPr>
          <p:spPr>
            <a:xfrm rot="2698800">
              <a:off x="74329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 rot="2698800">
              <a:off x="71211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 rot="2698800">
              <a:off x="72514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"/>
          <p:cNvGrpSpPr/>
          <p:nvPr/>
        </p:nvGrpSpPr>
        <p:grpSpPr>
          <a:xfrm>
            <a:off x="914400" y="-175680"/>
            <a:ext cx="1630080" cy="2020320"/>
            <a:chOff x="914400" y="-175680"/>
            <a:chExt cx="1630080" cy="2020320"/>
          </a:xfrm>
        </p:grpSpPr>
        <p:grpSp>
          <p:nvGrpSpPr>
            <p:cNvPr id="159" name="Group 18"/>
            <p:cNvGrpSpPr/>
            <p:nvPr/>
          </p:nvGrpSpPr>
          <p:grpSpPr>
            <a:xfrm>
              <a:off x="914400" y="228600"/>
              <a:ext cx="914400" cy="1616040"/>
              <a:chOff x="914400" y="228600"/>
              <a:chExt cx="914400" cy="1616040"/>
            </a:xfrm>
          </p:grpSpPr>
          <p:sp>
            <p:nvSpPr>
              <p:cNvPr id="160" name="AutoShape 19"/>
              <p:cNvSpPr/>
              <p:nvPr/>
            </p:nvSpPr>
            <p:spPr>
              <a:xfrm>
                <a:off x="9144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20"/>
              <p:cNvSpPr/>
              <p:nvPr/>
            </p:nvSpPr>
            <p:spPr>
              <a:xfrm>
                <a:off x="10490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AutoShape 21"/>
            <p:cNvSpPr/>
            <p:nvPr/>
          </p:nvSpPr>
          <p:spPr>
            <a:xfrm rot="2698800">
              <a:off x="14893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 rot="2698800">
              <a:off x="11775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 rot="2698800">
              <a:off x="13078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22860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First Idea in the History of Quantum In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04920" y="91440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iesner 1969 (!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oney that’s physically impossible to counterfeit, assuming only the truth of quantum mechan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04920" y="4419720"/>
            <a:ext cx="84582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ne Probl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nk has to maintain giant database with classical description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,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every bill x ever iss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olution (BBBW 1982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enerat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,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applying a pseudorandom function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the serial number x, where s is a seed known only to the 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380880" y="1828800"/>
            <a:ext cx="8458200" cy="2382840"/>
            <a:chOff x="380880" y="1828800"/>
            <a:chExt cx="8458200" cy="238284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267080" y="1828800"/>
              <a:ext cx="457200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3"/>
            <p:cNvSpPr/>
            <p:nvPr/>
          </p:nvSpPr>
          <p:spPr>
            <a:xfrm>
              <a:off x="4343400" y="2209680"/>
              <a:ext cx="4267080" cy="1432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SERIAL NUMBER: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POLARIZED QUBI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|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</a:t>
              </a:r>
              <a:r>
                <a:rPr b="1" lang="en-US" sz="2800" spc="-1" strike="noStrike" baseline="-25000">
                  <a:solidFill>
                    <a:srgbClr val="c00000"/>
                  </a:solidFill>
                  <a:latin typeface="Arial"/>
                </a:rPr>
                <a:t>x,1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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 |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</a:t>
              </a:r>
              <a:r>
                <a:rPr b="1" lang="en-US" sz="2800" spc="-1" strike="noStrike" baseline="-25000">
                  <a:solidFill>
                    <a:srgbClr val="c00000"/>
                  </a:solidFill>
                  <a:latin typeface="Arial"/>
                </a:rPr>
                <a:t>x,2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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 |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</a:t>
              </a:r>
              <a:r>
                <a:rPr b="1" lang="en-US" sz="2800" spc="-1" strike="noStrike" baseline="-25000">
                  <a:solidFill>
                    <a:srgbClr val="c00000"/>
                  </a:solidFill>
                  <a:latin typeface="Arial"/>
                </a:rPr>
                <a:t>x,3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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 |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</a:t>
              </a:r>
              <a:r>
                <a:rPr b="1" lang="en-US" sz="2800" spc="-1" strike="noStrike" baseline="-25000">
                  <a:solidFill>
                    <a:srgbClr val="c00000"/>
                  </a:solidFill>
                  <a:latin typeface="Arial"/>
                </a:rPr>
                <a:t>x,4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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11" descr=""/>
            <p:cNvPicPr/>
            <p:nvPr/>
          </p:nvPicPr>
          <p:blipFill>
            <a:blip r:embed="rId2"/>
            <a:stretch/>
          </p:blipFill>
          <p:spPr>
            <a:xfrm>
              <a:off x="380880" y="1904760"/>
              <a:ext cx="3048120" cy="2279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7" name="Straight Arrow Connector 16"/>
            <p:cNvCxnSpPr/>
            <p:nvPr/>
          </p:nvCxnSpPr>
          <p:spPr>
            <a:xfrm>
              <a:off x="3429000" y="2438280"/>
              <a:ext cx="838800" cy="21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19"/>
            <p:cNvCxnSpPr/>
            <p:nvPr/>
          </p:nvCxnSpPr>
          <p:spPr>
            <a:xfrm flipH="1" flipV="1">
              <a:off x="3428640" y="3428640"/>
              <a:ext cx="838800" cy="21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9" name="Text Box 3"/>
          <p:cNvSpPr/>
          <p:nvPr/>
        </p:nvSpPr>
        <p:spPr>
          <a:xfrm>
            <a:off x="228600" y="4419720"/>
            <a:ext cx="8458200" cy="1542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y the No-Cloning Theorem, a counterfeiter who doesn’t know how th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x,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ere prepared can’t duplicate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hieves something flat-out impossible in the classical worl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57200" y="304920"/>
            <a:ext cx="8153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So Have We Solved the Millennia-Old Problem of Minting Secure Money?</a:t>
            </a:r>
            <a:br>
              <a:rPr sz="4000"/>
            </a:b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(Modulo the engineering difficultie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4191120"/>
            <a:ext cx="86104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entral Drawback of Wiesner and BBBW Scheme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ly the bank can authenticate the mo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 (A. 2009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get uncloneable quantum money that anyone can authenticate, we need computational 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OK, why not?  (We’d still be doing something amaz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380880" y="2133720"/>
            <a:ext cx="8283600" cy="1923840"/>
            <a:chOff x="380880" y="2133720"/>
            <a:chExt cx="8283600" cy="1923840"/>
          </a:xfrm>
        </p:grpSpPr>
        <p:pic>
          <p:nvPicPr>
            <p:cNvPr id="73" name="Picture 2" descr=""/>
            <p:cNvPicPr/>
            <p:nvPr/>
          </p:nvPicPr>
          <p:blipFill>
            <a:blip r:embed="rId1"/>
            <a:stretch/>
          </p:blipFill>
          <p:spPr>
            <a:xfrm>
              <a:off x="380880" y="2133720"/>
              <a:ext cx="18126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"/>
            <p:cNvPicPr/>
            <p:nvPr/>
          </p:nvPicPr>
          <p:blipFill>
            <a:blip r:embed="rId2"/>
            <a:stretch/>
          </p:blipFill>
          <p:spPr>
            <a:xfrm>
              <a:off x="7239240" y="2133720"/>
              <a:ext cx="142524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"/>
            <p:cNvSpPr/>
            <p:nvPr/>
          </p:nvSpPr>
          <p:spPr>
            <a:xfrm>
              <a:off x="2286000" y="2209680"/>
              <a:ext cx="495324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Calibri"/>
                </a:rPr>
                <a:t>(Heisenberg’s Uncertainty Principle beating Newton not only in physics, but even in his later career as Master of the Mint?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Quantum Software Copy-Prot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57150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task closely related to quantum money—which like the latter, seems “just on the verge of being possib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127944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80880" y="29718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know copy-protection i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undamentally impossib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classical worl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not that that’s stopped people from trying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Callout 7"/>
          <p:cNvSpPr/>
          <p:nvPr/>
        </p:nvSpPr>
        <p:spPr>
          <a:xfrm>
            <a:off x="2362320" y="1143000"/>
            <a:ext cx="6553080" cy="1523880"/>
          </a:xfrm>
          <a:prstGeom prst="wedgeEllipseCallout">
            <a:avLst>
              <a:gd name="adj1" fmla="val -59361"/>
              <a:gd name="adj2" fmla="val 15439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590920" y="1676520"/>
            <a:ext cx="632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lly, a serious use for quantum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3962520"/>
            <a:ext cx="830592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you have a quantum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lets you efficiently compute an unknown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, 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an’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efficiently used to prepare more states that also let you efficiently compute f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1523880"/>
            <a:ext cx="8458200" cy="13366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serva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the customer is able to buy poly(n) copies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rom the software store, then we can only hope for computational security, not information-theore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80880" y="228600"/>
            <a:ext cx="8382240" cy="65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66"/>
                </a:solidFill>
                <a:latin typeface="Calibri"/>
              </a:rPr>
              <a:t>This paper initiates the study of quantum money and quantum copy-protection from the standpoint of modern theoretical computer sci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in result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truction of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quantum oracl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elative to which publicly-verifiable quantum money, and quantum copy-protection of “arbitrary” software, are indeed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ther words: there’s no relativizing obstruction to these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racleDefense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y security proof for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antum money or copy-protection scheme will need to include our black-box security proof as a special cas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racleDefense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The black-box security proof is already quite nontrivial!  Requires a “Complexity-Theoretic No-Cloning Theorem,” explicit quantum t-design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304920"/>
            <a:ext cx="8763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But what about the real world?</a:t>
            </a:r>
            <a:br>
              <a:rPr sz="4000"/>
            </a:b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Can I at least give </a:t>
            </a:r>
            <a:r>
              <a:rPr b="1" i="1" lang="en-US" sz="2500" spc="-1" strike="noStrike">
                <a:solidFill>
                  <a:srgbClr val="333399"/>
                </a:solidFill>
                <a:latin typeface="Calibri"/>
              </a:rPr>
              <a:t>candidate</a:t>
            </a: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 schemes that work with no oracl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1676520"/>
            <a:ext cx="8458200" cy="32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cheme for publicly-verifiable quantu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random stabiliz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continuous assault by Hassidim and Lutomirsk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 far, they’ve broken at least five of their own sche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chemes for copy-protecting point functions</a:t>
            </a: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unctions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0,1} such that f(x)=1 iff x=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447920" y="5410080"/>
            <a:ext cx="6629400" cy="885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se schemes are provably secure, under the assumption that they can’t be bro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152280"/>
            <a:ext cx="84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Definition of Quantum Money Sche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914400"/>
            <a:ext cx="807732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Key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(n)-size quantum circuit (the “bank”), which maps a secret key 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a public ke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(n)-size quantum circuit (the “authenticator”), which takes (e,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as input and either accepts or re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57200" y="3505320"/>
            <a:ext cx="8305920" cy="25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,A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mplete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every 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,A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ound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every poly(n)-size quantum circuit C (the “counterfeiter”) mapp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r&gt;k output register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3162240" y="5392800"/>
                <a:ext cx="56768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cepts</m:t>
                            </m:r>
                          </m:e>
                        </m:d>
                      </m:e>
                    </m:nary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2401920" y="3962520"/>
                <a:ext cx="5025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pts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Text Box 3"/>
          <p:cNvSpPr/>
          <p:nvPr/>
        </p:nvSpPr>
        <p:spPr>
          <a:xfrm>
            <a:off x="838080" y="1981080"/>
            <a:ext cx="7543800" cy="9406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 counterfeiter C also receive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the scheme is public-key; otherwise it’s private-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andidate Public-Key Money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990720"/>
            <a:ext cx="830592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bank generates L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andom stabilizer stat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on n qubits 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all: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abilizer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state obtainable from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CNOT, Hadamard, and             gates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7200" y="3276720"/>
            <a:ext cx="8305920" cy="20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, for each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 bank generates m random stabilizer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each of which has probabil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commuting with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is otherwise completely ran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lly, the bank distributes the following as a bankno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4419720" y="2438280"/>
                <a:ext cx="8125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8" name="Group 14"/>
          <p:cNvGrpSpPr/>
          <p:nvPr/>
        </p:nvGrpSpPr>
        <p:grpSpPr>
          <a:xfrm>
            <a:off x="1447920" y="5105520"/>
            <a:ext cx="7086600" cy="1752480"/>
            <a:chOff x="1447920" y="5105520"/>
            <a:chExt cx="7086600" cy="1752480"/>
          </a:xfrm>
        </p:grpSpPr>
        <p:pic>
          <p:nvPicPr>
            <p:cNvPr id="99" name="Picture 6" descr=""/>
            <p:cNvPicPr/>
            <p:nvPr/>
          </p:nvPicPr>
          <p:blipFill>
            <a:blip r:embed="rId1"/>
            <a:stretch/>
          </p:blipFill>
          <p:spPr>
            <a:xfrm>
              <a:off x="1447920" y="5105520"/>
              <a:ext cx="70866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12"/>
            <p:cNvSpPr/>
            <p:nvPr/>
          </p:nvSpPr>
          <p:spPr>
            <a:xfrm>
              <a:off x="2057400" y="5181480"/>
              <a:ext cx="5639040" cy="1523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2"/>
                <p:cNvSpPr txBox="1"/>
                <p:nvPr/>
              </p:nvSpPr>
              <p:spPr>
                <a:xfrm>
                  <a:off x="2274840" y="5181480"/>
                  <a:ext cx="528336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⟩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⟩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m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g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"/>
          <p:cNvSpPr/>
          <p:nvPr/>
        </p:nvSpPr>
        <p:spPr>
          <a:xfrm>
            <a:off x="838080" y="1981080"/>
            <a:ext cx="7543800" cy="1938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verify this banknote, first check that sig is a valid digital signature of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pply a random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each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check that at least (say) a 1/2+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4 fraction of them acc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Quantum Oracle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99072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’s now give a quantum oracle U, relative to which a public-key quantum money scheme exist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uncondition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1"/>
          <p:cNvGrpSpPr/>
          <p:nvPr/>
        </p:nvGrpSpPr>
        <p:grpSpPr>
          <a:xfrm>
            <a:off x="1904760" y="2057400"/>
            <a:ext cx="3733920" cy="1600200"/>
            <a:chOff x="1904760" y="2057400"/>
            <a:chExt cx="3733920" cy="1600200"/>
          </a:xfrm>
        </p:grpSpPr>
        <p:sp>
          <p:nvSpPr>
            <p:cNvPr id="106" name="Cube 3"/>
            <p:cNvSpPr/>
            <p:nvPr/>
          </p:nvSpPr>
          <p:spPr>
            <a:xfrm>
              <a:off x="3048120" y="2057400"/>
              <a:ext cx="1600200" cy="16002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4"/>
            <p:cNvSpPr/>
            <p:nvPr/>
          </p:nvSpPr>
          <p:spPr>
            <a:xfrm>
              <a:off x="3124080" y="2590560"/>
              <a:ext cx="990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6"/>
            <p:cNvCxnSpPr/>
            <p:nvPr/>
          </p:nvCxnSpPr>
          <p:spPr>
            <a:xfrm>
              <a:off x="1904760" y="2666880"/>
              <a:ext cx="1143720" cy="21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09" name="Straight Arrow Connector 7"/>
            <p:cNvCxnSpPr/>
            <p:nvPr/>
          </p:nvCxnSpPr>
          <p:spPr>
            <a:xfrm>
              <a:off x="4495320" y="2666880"/>
              <a:ext cx="1143720" cy="21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0" name="Text Box 3"/>
          <p:cNvSpPr/>
          <p:nvPr/>
        </p:nvSpPr>
        <p:spPr>
          <a:xfrm>
            <a:off x="762120" y="2362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638680" y="236232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2895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-bit secre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781680" y="2971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-qubit Haar random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105520" y="2971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n-bit public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380880" y="236232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638680" y="23623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|YE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-380880" y="236232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52280" y="2895480"/>
            <a:ext cx="259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thogonal to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638680" y="23623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|NO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3965400"/>
            <a:ext cx="87631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veryone (bank, customers, counterfeiters) has same access to 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ear that the bank can prepare banknotes |e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legitimate buyers and sellers can authenticate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Given e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ogether with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some k=poly(n), can a counterfeiter prepare additional copies of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y making poly(n) queries to U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7-17T08:05:18Z</dcterms:modified>
  <cp:revision>125</cp:revision>
  <dc:subject/>
  <dc:title>The Learnability of Quantum States</dc:title>
</cp:coreProperties>
</file>