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A83B-FDB7-4FF2-802B-14DA9726E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F0A0-C121-4F05-8E0E-C2EBC02FF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CC1B-D136-42EB-B396-0D654797E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562D-067C-4542-8E01-F65271559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9F07-3D1E-4236-B41A-DC50AEEC7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FD36-E918-456A-B6F2-AE97F81F3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29AD-CF5E-49A7-9330-588A3AE49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E95A-E559-4BFA-9348-4BF0484A4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F874-E87C-4257-A57E-4C5B0D801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1EB8-9133-49FB-B676-34E4D4096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59D5-E88C-4BDE-BD37-6C44CA618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A0DC-BD9D-4FA8-91B2-825D3FA7C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70E0-CE08-4851-AB29-9ABE06032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B43B-C24D-46F0-B90B-C272E93DF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7739-7388-4C58-AB0D-19D5AA362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6FCE-8A4B-4A2C-8622-A4BBB0333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8FC3-C92A-405D-B398-F8B17DEB4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D830-EF7F-4F09-A625-7A7530092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5BE3-7F47-4ED8-942E-A9321A06B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1A86-C6F3-471E-B135-9D4EF454C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74B3-9857-43CE-B74E-19A1C940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A383-518C-4202-8D5E-896DEE1AB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F68D-FDBA-4EBA-9422-291424635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AD72-E9C4-44CE-9D56-98B6769E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E0E6-9955-4B45-9294-335271CF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F3E8-28FC-4EFB-9AA3-5EBED052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1D06-1EEF-4D6B-A25D-2F03FDCA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634B-BC7F-45FC-8F92-A57703D2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37D6-6C8F-446B-9FF0-1284A41A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2873-78CC-4968-98B7-4C9CECC4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DFE4-7181-4BA7-BF0A-69167519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A1DA-0A5B-40EC-9A45-70A3D0511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alibri"/>
              </a:rPr>
              <a:t>Quantum Copy-Protection and Quantum Money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866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ott Aaronson (M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1644480" cy="857520"/>
          </a:xfrm>
          <a:prstGeom prst="rect">
            <a:avLst/>
          </a:prstGeom>
          <a:ln w="0">
            <a:noFill/>
          </a:ln>
        </p:spPr>
      </p:pic>
      <p:sp>
        <p:nvSpPr>
          <p:cNvPr id="51" name="Line 12"/>
          <p:cNvSpPr/>
          <p:nvPr/>
        </p:nvSpPr>
        <p:spPr>
          <a:xfrm>
            <a:off x="2666880" y="2895480"/>
            <a:ext cx="1492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3056040" y="2506680"/>
            <a:ext cx="519120" cy="714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6"/>
          <p:cNvSpPr/>
          <p:nvPr/>
        </p:nvSpPr>
        <p:spPr>
          <a:xfrm flipH="1">
            <a:off x="2927520" y="2441520"/>
            <a:ext cx="777600" cy="843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7"/>
          <p:cNvSpPr/>
          <p:nvPr/>
        </p:nvSpPr>
        <p:spPr>
          <a:xfrm>
            <a:off x="152280" y="198108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|     </a:t>
            </a:r>
            <a:r>
              <a:rPr b="0" lang="en-US" sz="9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4572000" y="2514600"/>
            <a:ext cx="1644480" cy="857160"/>
          </a:xfrm>
          <a:prstGeom prst="rect">
            <a:avLst/>
          </a:prstGeom>
          <a:ln w="0">
            <a:noFill/>
          </a:ln>
        </p:spPr>
      </p:pic>
      <p:sp>
        <p:nvSpPr>
          <p:cNvPr id="56" name="TextBox 19"/>
          <p:cNvSpPr/>
          <p:nvPr/>
        </p:nvSpPr>
        <p:spPr>
          <a:xfrm>
            <a:off x="4191120" y="205740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|     </a:t>
            </a:r>
            <a:r>
              <a:rPr b="0" lang="en-US" sz="9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6858000" y="2514600"/>
            <a:ext cx="1644480" cy="857160"/>
          </a:xfrm>
          <a:prstGeom prst="rect">
            <a:avLst/>
          </a:prstGeom>
          <a:ln w="0">
            <a:noFill/>
          </a:ln>
        </p:spPr>
      </p:pic>
      <p:sp>
        <p:nvSpPr>
          <p:cNvPr id="58" name="TextBox 21"/>
          <p:cNvSpPr/>
          <p:nvPr/>
        </p:nvSpPr>
        <p:spPr>
          <a:xfrm>
            <a:off x="6477120" y="205740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Arial"/>
              </a:rPr>
              <a:t>|     </a:t>
            </a:r>
            <a:r>
              <a:rPr b="0" lang="en-US" sz="9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04920" y="419112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y humor in this talk is completely uninten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228600" y="3049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“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Complexity-Theoretic No-Cloning Theorem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33520" y="1066680"/>
            <a:ext cx="7772400" cy="17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t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e an n-qubit pure state.  Suppose we’re given the initial stat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as well a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 oracle U such that U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=-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U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=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or all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rthogonal to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  Then for all r&gt;k, to prepare r state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uch th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2"/>
              <p:cNvSpPr txBox="1"/>
              <p:nvPr/>
            </p:nvSpPr>
            <p:spPr>
              <a:xfrm>
                <a:off x="2743200" y="2743200"/>
                <a:ext cx="371304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>
                          <m:t xml:space="preserve">⟨</m:t>
                        </m:r>
                        <m:r>
                          <m:t xml:space="preserve">ψ</m:t>
                        </m:r>
                        <m:r>
                          <m:t xml:space="preserve">|</m:t>
                        </m:r>
                      </m:e>
                    </m:nary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ψ</m:t>
                    </m:r>
                    <m:r>
                      <m:t xml:space="preserve">⟩</m:t>
                    </m:r>
                    <m:r>
                      <m:t xml:space="preserve">≥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δ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Text Box 3"/>
          <p:cNvSpPr/>
          <p:nvPr/>
        </p:nvSpPr>
        <p:spPr>
          <a:xfrm>
            <a:off x="533520" y="4419720"/>
            <a:ext cx="4647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need this many queries to U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2"/>
              <p:cNvSpPr txBox="1"/>
              <p:nvPr/>
            </p:nvSpPr>
            <p:spPr>
              <a:xfrm>
                <a:off x="5183280" y="3886200"/>
                <a:ext cx="3111480" cy="15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δ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e>
                            </m:rad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6" name="Text Box 3"/>
          <p:cNvSpPr/>
          <p:nvPr/>
        </p:nvSpPr>
        <p:spPr>
          <a:xfrm>
            <a:off x="533520" y="5638680"/>
            <a:ext cx="7772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alibri"/>
              </a:rPr>
              <a:t>This generalizes both the No-Cloning Theorem and the optimality of Grover’s algorithm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295280" y="1981080"/>
            <a:ext cx="6858000" cy="16779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of requires generalizing Ambainis’s adversary method, to the case where the quantum algorithm’s initial state already encodes some information about the target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28600" y="30492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Definition of Quantum Copy-Protection Sche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457200" y="1905120"/>
            <a:ext cx="8458200" cy="31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F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amily of Boolean functions f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}, together with poly-size “description” 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or each f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V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Poly-size quantum circuit (the “vendor”), which maps 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a quantum program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C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Poly-size quantum circuit (the “customer”), which takes 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x) as input and tries to output f(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304920" y="685800"/>
            <a:ext cx="8458200" cy="35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V,C) ha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correctness paramete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f for all f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 and 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V,C) ha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securit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gainst a distribution D over F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if for all poly-size quantum circuits P (the “pirate”) mapping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r&gt;k output register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nd all poly-size quantum circuits L (the “freeloader”)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2"/>
              <p:cNvSpPr txBox="1"/>
              <p:nvPr/>
            </p:nvSpPr>
            <p:spPr>
              <a:xfrm>
                <a:off x="457200" y="4267080"/>
                <a:ext cx="815328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li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D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L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bSup>
                                <m:r>
                                  <m:t xml:space="preserve">,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utputs  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</m:e>
                    </m:nary>
                    <m:r>
                      <m:t xml:space="preserve">≤</m:t>
                    </m:r>
                    <m:r>
                      <m:t xml:space="preserve">k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δ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2"/>
              <p:cNvSpPr txBox="1"/>
              <p:nvPr/>
            </p:nvSpPr>
            <p:spPr>
              <a:xfrm>
                <a:off x="1676520" y="1295280"/>
                <a:ext cx="56386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utputs 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04920" y="380880"/>
            <a:ext cx="85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Candidate Scheme for Copy-Protecting Point Functions </a:t>
            </a:r>
            <a:r>
              <a:rPr b="1" lang="en-US" sz="2600" spc="-1" strike="noStrike">
                <a:solidFill>
                  <a:srgbClr val="333399"/>
                </a:solidFill>
                <a:latin typeface="Calibri"/>
              </a:rPr>
              <a:t>(thanks to Adam Smi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533520" y="1828800"/>
            <a:ext cx="807696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Goal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 quantum program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at can be used to recognize a password s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but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create more quantum programs that efficiently recognize 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ossible Solu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 a pseudorandom generator g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stretch s to g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erpret g(s) as a description of a quantum circuit U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g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t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:= U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g(s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|0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iven s’, can check whether s’=s by applying U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g(s’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380880" y="990720"/>
            <a:ext cx="8077320" cy="44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’d like to give a quantum oracle U, relative to which quantum copy-protection is “generically possibl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Obvious obstruction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f F i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learnabl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(that is, any f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 can be identified using poly(n) oracle calls), then there’s no hope of copy-protecting F, using quantum mechanics or anything els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heor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ere exists a quantum oracle U, relative to which any family F of non-learnable, poly-time functions can be quantumly copy-protected, with security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gainst all pirates mapping k programs to r with (1-2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r &gt; 2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380880" y="1163520"/>
            <a:ext cx="8077320" cy="58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asic idea is the same as in the money case: for each f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, the quantum program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will be a Haar-random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’ll “offload all the work to the oracle”: U prepares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given 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nd also computes f(x) given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|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t P be a poly-time algorithm P for pirating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possibly using 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ur job: Construct a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simulato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which converts P into a poly-time algorithm for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learnin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 using oracle access to f (but not using U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simulator will mock up its own “random” stat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s well as an oracle U’ that computes f(x) given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|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(using oracle access to f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228600" y="30492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Handwaving Proof Id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rcRect l="0" t="0" r="0" b="36929"/>
          <a:stretch/>
        </p:blipFill>
        <p:spPr>
          <a:xfrm>
            <a:off x="6477120" y="0"/>
            <a:ext cx="266688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457200" y="380880"/>
            <a:ext cx="8077320" cy="49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simulator then runs the pirating algorithm P, but using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U’ instead of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ppose the simulated pirate outputs (say)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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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Complexity-Theoretic No-Cloning Theorem implies that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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an’t have significant overlap with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t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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s also a good quantum program for f.  Indeed, one can show that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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stil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 good quantum program, even if we replace U’ by the identity trans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 we’ve succeeded at learning a quantum program for f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, using oracle access to 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838080" y="5486400"/>
            <a:ext cx="7543800" cy="8859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n quantum polynomial time, how does one prepare a “random” pure stat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228600" y="152280"/>
            <a:ext cx="86868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Solution: Explicit Quantum t-Designs</a:t>
            </a:r>
            <a:br>
              <a:rPr sz="4000"/>
            </a:b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(related to Ambainis-Emerson, CCC’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" y="3581280"/>
            <a:ext cx="8534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early th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’s can be prepared in poly(n,d)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152280" y="2666880"/>
            <a:ext cx="86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re p is a degree-d univariate polynomial over GF(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26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nd we interpret p(x) as an integer in {0,…,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} when necess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1676520" y="1219320"/>
                <a:ext cx="572292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⟩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ra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G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sub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den>
                            </m:f>
                          </m:sup>
                        </m:sSup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5" name="Text Box 5"/>
          <p:cNvSpPr/>
          <p:nvPr/>
        </p:nvSpPr>
        <p:spPr>
          <a:xfrm>
            <a:off x="228600" y="4114800"/>
            <a:ext cx="85345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Lemma: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t E be a quantum algorithm that receives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s input, and also makes q queries to a quantum oracle that recognizes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  Then provi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243000" y="5591160"/>
                <a:ext cx="865656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</m:t>
                            </m:r>
                          </m:e>
                          <m:lim>
                            <m:r>
                              <m:t xml:space="preserve">p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ccepts 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⟩</m:t>
                            </m:r>
                          </m:e>
                        </m:d>
                        <m:r>
                          <m:t xml:space="preserve">−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</m:t>
                            </m:r>
                          </m:e>
                          <m:lim>
                            <m:r>
                              <m:t xml:space="preserve">|</m:t>
                            </m:r>
                            <m:r>
                              <m:t xml:space="preserve">ψ</m:t>
                            </m:r>
                            <m:r>
                              <m:t xml:space="preserve">⟩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ccepts </m:t>
                            </m:r>
                            <m:r>
                              <m:t xml:space="preserve">|</m:t>
                            </m:r>
                            <m:r>
                              <m:t xml:space="preserve">ψ</m:t>
                            </m:r>
                            <m:r>
                              <m:t xml:space="preserve">⟩</m:t>
                            </m:r>
                          </m:e>
                        </m:d>
                      </m:e>
                    </m:d>
                    <m:r>
                      <m:t xml:space="preserve">≤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q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2"/>
              <p:cNvSpPr txBox="1"/>
              <p:nvPr/>
            </p:nvSpPr>
            <p:spPr>
              <a:xfrm>
                <a:off x="4602240" y="4952880"/>
                <a:ext cx="382572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q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Text Box 3"/>
          <p:cNvSpPr/>
          <p:nvPr/>
        </p:nvSpPr>
        <p:spPr>
          <a:xfrm>
            <a:off x="914400" y="2743200"/>
            <a:ext cx="7086600" cy="173268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ence, provided we choose the degree d to be sufficiently larger than the pirating algorithm’s running time, we can us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n place of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n our simulation of the pirating algorith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457200" y="1600200"/>
            <a:ext cx="82296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ublicly-verifiable quantum money (and copy-protected software) secure under non-tautological assumption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py-protect richer families than point function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Quantum money and copy-protection relative to a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classica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racl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splittable amplification”?  (To avoid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k/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k/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dapt the [GGM] construction of PRFs from PRGs, to work in the presence of quantum adversari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formation-theoretically secure quantum copy-protection?</a:t>
            </a:r>
            <a:br>
              <a:rPr sz="26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In regime where error probability is large enough to allow 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228600" y="380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16"/>
          <p:cNvGrpSpPr/>
          <p:nvPr/>
        </p:nvGrpSpPr>
        <p:grpSpPr>
          <a:xfrm>
            <a:off x="6858000" y="-175680"/>
            <a:ext cx="1630080" cy="2020320"/>
            <a:chOff x="6858000" y="-175680"/>
            <a:chExt cx="1630080" cy="2020320"/>
          </a:xfrm>
        </p:grpSpPr>
        <p:grpSp>
          <p:nvGrpSpPr>
            <p:cNvPr id="152" name="Group 14"/>
            <p:cNvGrpSpPr/>
            <p:nvPr/>
          </p:nvGrpSpPr>
          <p:grpSpPr>
            <a:xfrm>
              <a:off x="6858000" y="228600"/>
              <a:ext cx="914400" cy="1616040"/>
              <a:chOff x="6858000" y="228600"/>
              <a:chExt cx="914400" cy="1616040"/>
            </a:xfrm>
          </p:grpSpPr>
          <p:sp>
            <p:nvSpPr>
              <p:cNvPr id="153" name="AutoShape 13"/>
              <p:cNvSpPr/>
              <p:nvPr/>
            </p:nvSpPr>
            <p:spPr>
              <a:xfrm>
                <a:off x="6858000" y="231840"/>
                <a:ext cx="914400" cy="161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15"/>
              <p:cNvSpPr/>
              <p:nvPr/>
            </p:nvSpPr>
            <p:spPr>
              <a:xfrm>
                <a:off x="6992640" y="228600"/>
                <a:ext cx="55836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AutoShape 9"/>
            <p:cNvSpPr/>
            <p:nvPr/>
          </p:nvSpPr>
          <p:spPr>
            <a:xfrm rot="2698800">
              <a:off x="7432920" y="0"/>
              <a:ext cx="866520" cy="89208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1"/>
            <p:cNvSpPr/>
            <p:nvPr/>
          </p:nvSpPr>
          <p:spPr>
            <a:xfrm rot="2698800">
              <a:off x="7121160" y="676440"/>
              <a:ext cx="824040" cy="1443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0"/>
            <p:cNvSpPr/>
            <p:nvPr/>
          </p:nvSpPr>
          <p:spPr>
            <a:xfrm rot="2698800">
              <a:off x="7251480" y="574200"/>
              <a:ext cx="750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66"/>
                  </a:solidFill>
                  <a:latin typeface="Arial Black"/>
                </a:rPr>
                <a:t>DU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17"/>
          <p:cNvGrpSpPr/>
          <p:nvPr/>
        </p:nvGrpSpPr>
        <p:grpSpPr>
          <a:xfrm>
            <a:off x="914400" y="-175680"/>
            <a:ext cx="1630080" cy="2020320"/>
            <a:chOff x="914400" y="-175680"/>
            <a:chExt cx="1630080" cy="2020320"/>
          </a:xfrm>
        </p:grpSpPr>
        <p:grpSp>
          <p:nvGrpSpPr>
            <p:cNvPr id="159" name="Group 18"/>
            <p:cNvGrpSpPr/>
            <p:nvPr/>
          </p:nvGrpSpPr>
          <p:grpSpPr>
            <a:xfrm>
              <a:off x="914400" y="228600"/>
              <a:ext cx="914400" cy="1616040"/>
              <a:chOff x="914400" y="228600"/>
              <a:chExt cx="914400" cy="1616040"/>
            </a:xfrm>
          </p:grpSpPr>
          <p:sp>
            <p:nvSpPr>
              <p:cNvPr id="160" name="AutoShape 19"/>
              <p:cNvSpPr/>
              <p:nvPr/>
            </p:nvSpPr>
            <p:spPr>
              <a:xfrm>
                <a:off x="914400" y="231840"/>
                <a:ext cx="914400" cy="161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20"/>
              <p:cNvSpPr/>
              <p:nvPr/>
            </p:nvSpPr>
            <p:spPr>
              <a:xfrm>
                <a:off x="1049040" y="228600"/>
                <a:ext cx="55836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AutoShape 21"/>
            <p:cNvSpPr/>
            <p:nvPr/>
          </p:nvSpPr>
          <p:spPr>
            <a:xfrm rot="2698800">
              <a:off x="1489320" y="0"/>
              <a:ext cx="866520" cy="89208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2"/>
            <p:cNvSpPr/>
            <p:nvPr/>
          </p:nvSpPr>
          <p:spPr>
            <a:xfrm rot="2698800">
              <a:off x="1177560" y="676440"/>
              <a:ext cx="824040" cy="1443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23"/>
            <p:cNvSpPr/>
            <p:nvPr/>
          </p:nvSpPr>
          <p:spPr>
            <a:xfrm rot="2698800">
              <a:off x="1307880" y="574200"/>
              <a:ext cx="750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66"/>
                  </a:solidFill>
                  <a:latin typeface="Arial Black"/>
                </a:rPr>
                <a:t>DU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04920" y="228600"/>
            <a:ext cx="8610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Calibri"/>
              </a:rPr>
              <a:t>First Idea in the History of Quantum Inf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304920" y="914400"/>
            <a:ext cx="8534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Wiesner 1969 (!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oney that’s physically impossible to counterfeit, assuming only the truth of quantum mechan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04920" y="4419720"/>
            <a:ext cx="84582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One Problem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ank has to maintain giant database with classical description of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,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or every bill x ever iss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Solution (BBBW 1982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Generate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,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y applying a pseudorandom function 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the serial number x, where s is a seed known only to the ba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22"/>
          <p:cNvGrpSpPr/>
          <p:nvPr/>
        </p:nvGrpSpPr>
        <p:grpSpPr>
          <a:xfrm>
            <a:off x="380880" y="1828800"/>
            <a:ext cx="8458200" cy="2382840"/>
            <a:chOff x="380880" y="1828800"/>
            <a:chExt cx="8458200" cy="2382840"/>
          </a:xfrm>
        </p:grpSpPr>
        <p:pic>
          <p:nvPicPr>
            <p:cNvPr id="64" name="Picture 6" descr=""/>
            <p:cNvPicPr/>
            <p:nvPr/>
          </p:nvPicPr>
          <p:blipFill>
            <a:blip r:embed="rId1"/>
            <a:stretch/>
          </p:blipFill>
          <p:spPr>
            <a:xfrm>
              <a:off x="4267080" y="1828800"/>
              <a:ext cx="4572000" cy="23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Box 13"/>
            <p:cNvSpPr/>
            <p:nvPr/>
          </p:nvSpPr>
          <p:spPr>
            <a:xfrm>
              <a:off x="4343400" y="2209680"/>
              <a:ext cx="4267080" cy="14328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</a:rPr>
                <a:t>SERIAL NUMBER: 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</a:rPr>
                <a:t>POLARIZED QUBITS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</a:rPr>
                <a:t>|</a:t>
              </a:r>
              <a:r>
                <a:rPr b="1" lang="en-US" sz="2800" spc="-1" strike="noStrike">
                  <a:solidFill>
                    <a:srgbClr val="c00000"/>
                  </a:solidFill>
                  <a:latin typeface="Symbol"/>
                  <a:ea typeface="Symbol"/>
                </a:rPr>
                <a:t></a:t>
              </a:r>
              <a:r>
                <a:rPr b="1" lang="en-US" sz="2800" spc="-1" strike="noStrike" baseline="-25000">
                  <a:solidFill>
                    <a:srgbClr val="c00000"/>
                  </a:solidFill>
                  <a:latin typeface="Arial"/>
                </a:rPr>
                <a:t>x,1</a:t>
              </a:r>
              <a:r>
                <a:rPr b="1" lang="en-US" sz="2800" spc="-1" strike="noStrike">
                  <a:solidFill>
                    <a:srgbClr val="c00000"/>
                  </a:solidFill>
                  <a:latin typeface="Symbol"/>
                  <a:ea typeface="Symbol"/>
                </a:rPr>
                <a:t>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</a:rPr>
                <a:t> |</a:t>
              </a:r>
              <a:r>
                <a:rPr b="1" lang="en-US" sz="2800" spc="-1" strike="noStrike">
                  <a:solidFill>
                    <a:srgbClr val="c00000"/>
                  </a:solidFill>
                  <a:latin typeface="Symbol"/>
                  <a:ea typeface="Symbol"/>
                </a:rPr>
                <a:t></a:t>
              </a:r>
              <a:r>
                <a:rPr b="1" lang="en-US" sz="2800" spc="-1" strike="noStrike" baseline="-25000">
                  <a:solidFill>
                    <a:srgbClr val="c00000"/>
                  </a:solidFill>
                  <a:latin typeface="Arial"/>
                </a:rPr>
                <a:t>x,2</a:t>
              </a:r>
              <a:r>
                <a:rPr b="1" lang="en-US" sz="2800" spc="-1" strike="noStrike">
                  <a:solidFill>
                    <a:srgbClr val="c00000"/>
                  </a:solidFill>
                  <a:latin typeface="Symbol"/>
                  <a:ea typeface="Symbol"/>
                </a:rPr>
                <a:t>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</a:rPr>
                <a:t> |</a:t>
              </a:r>
              <a:r>
                <a:rPr b="1" lang="en-US" sz="2800" spc="-1" strike="noStrike">
                  <a:solidFill>
                    <a:srgbClr val="c00000"/>
                  </a:solidFill>
                  <a:latin typeface="Symbol"/>
                  <a:ea typeface="Symbol"/>
                </a:rPr>
                <a:t></a:t>
              </a:r>
              <a:r>
                <a:rPr b="1" lang="en-US" sz="2800" spc="-1" strike="noStrike" baseline="-25000">
                  <a:solidFill>
                    <a:srgbClr val="c00000"/>
                  </a:solidFill>
                  <a:latin typeface="Arial"/>
                </a:rPr>
                <a:t>x,3</a:t>
              </a:r>
              <a:r>
                <a:rPr b="1" lang="en-US" sz="2800" spc="-1" strike="noStrike">
                  <a:solidFill>
                    <a:srgbClr val="c00000"/>
                  </a:solidFill>
                  <a:latin typeface="Symbol"/>
                  <a:ea typeface="Symbol"/>
                </a:rPr>
                <a:t>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</a:rPr>
                <a:t> |</a:t>
              </a:r>
              <a:r>
                <a:rPr b="1" lang="en-US" sz="2800" spc="-1" strike="noStrike">
                  <a:solidFill>
                    <a:srgbClr val="c00000"/>
                  </a:solidFill>
                  <a:latin typeface="Symbol"/>
                  <a:ea typeface="Symbol"/>
                </a:rPr>
                <a:t></a:t>
              </a:r>
              <a:r>
                <a:rPr b="1" lang="en-US" sz="2800" spc="-1" strike="noStrike" baseline="-25000">
                  <a:solidFill>
                    <a:srgbClr val="c00000"/>
                  </a:solidFill>
                  <a:latin typeface="Arial"/>
                </a:rPr>
                <a:t>x,4</a:t>
              </a:r>
              <a:r>
                <a:rPr b="1" lang="en-US" sz="2800" spc="-1" strike="noStrike">
                  <a:solidFill>
                    <a:srgbClr val="c00000"/>
                  </a:solidFill>
                  <a:latin typeface="Symbol"/>
                  <a:ea typeface="Symbol"/>
                </a:rPr>
                <a:t>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" name="Picture 11" descr=""/>
            <p:cNvPicPr/>
            <p:nvPr/>
          </p:nvPicPr>
          <p:blipFill>
            <a:blip r:embed="rId2"/>
            <a:stretch/>
          </p:blipFill>
          <p:spPr>
            <a:xfrm>
              <a:off x="380880" y="1904760"/>
              <a:ext cx="3048120" cy="22798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7" name="Straight Arrow Connector 16"/>
            <p:cNvCxnSpPr/>
            <p:nvPr/>
          </p:nvCxnSpPr>
          <p:spPr>
            <a:xfrm>
              <a:off x="3429000" y="2438280"/>
              <a:ext cx="838800" cy="216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8" name="Straight Arrow Connector 19"/>
            <p:cNvCxnSpPr/>
            <p:nvPr/>
          </p:nvCxnSpPr>
          <p:spPr>
            <a:xfrm flipH="1" flipV="1">
              <a:off x="3428640" y="3428640"/>
              <a:ext cx="838800" cy="216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69" name="Text Box 3"/>
          <p:cNvSpPr/>
          <p:nvPr/>
        </p:nvSpPr>
        <p:spPr>
          <a:xfrm>
            <a:off x="228600" y="4419720"/>
            <a:ext cx="8458200" cy="15429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y the No-Cloning Theorem, a counterfeiter who doesn’t know how th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x,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were prepared can’t duplicate th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chieves something flat-out impossible in the classical world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457200" y="304920"/>
            <a:ext cx="8153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So Have We Solved the Millennia-Old Problem of Minting Secure Money?</a:t>
            </a:r>
            <a:br>
              <a:rPr sz="4000"/>
            </a:b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(Modulo the engineering difficulties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304920" y="4191120"/>
            <a:ext cx="861048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Central Drawback of Wiesner and BBBW Schemes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ly the bank can authenticate the mon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heorem (A. 2009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get uncloneable quantum money that anyone can authenticate, we need computational assump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t OK, why not?  (We’d still be doing something amazi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7"/>
          <p:cNvGrpSpPr/>
          <p:nvPr/>
        </p:nvGrpSpPr>
        <p:grpSpPr>
          <a:xfrm>
            <a:off x="380880" y="2133720"/>
            <a:ext cx="8283600" cy="1923840"/>
            <a:chOff x="380880" y="2133720"/>
            <a:chExt cx="8283600" cy="1923840"/>
          </a:xfrm>
        </p:grpSpPr>
        <p:pic>
          <p:nvPicPr>
            <p:cNvPr id="73" name="Picture 2" descr=""/>
            <p:cNvPicPr/>
            <p:nvPr/>
          </p:nvPicPr>
          <p:blipFill>
            <a:blip r:embed="rId1"/>
            <a:stretch/>
          </p:blipFill>
          <p:spPr>
            <a:xfrm>
              <a:off x="380880" y="2133720"/>
              <a:ext cx="181260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3" descr=""/>
            <p:cNvPicPr/>
            <p:nvPr/>
          </p:nvPicPr>
          <p:blipFill>
            <a:blip r:embed="rId2"/>
            <a:stretch/>
          </p:blipFill>
          <p:spPr>
            <a:xfrm>
              <a:off x="7239240" y="2133720"/>
              <a:ext cx="1425240" cy="19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3"/>
            <p:cNvSpPr/>
            <p:nvPr/>
          </p:nvSpPr>
          <p:spPr>
            <a:xfrm>
              <a:off x="2286000" y="2209680"/>
              <a:ext cx="495324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8000"/>
                  </a:solidFill>
                  <a:latin typeface="Calibri"/>
                </a:rPr>
                <a:t>(Heisenberg’s Uncertainty Principle beating Newton not only in physics, but even in his later career as Master of the Mint?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457200" y="30492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Quantum Software Copy-Prot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380880" y="5715000"/>
            <a:ext cx="830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task closely related to quantum money—which like the latter, seems “just on the verge of being possibl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1279440" cy="16002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380880" y="2971800"/>
            <a:ext cx="830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know copy-protection is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fundamentally impossibl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n the classical world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not that that’s stopped people from trying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Callout 7"/>
          <p:cNvSpPr/>
          <p:nvPr/>
        </p:nvSpPr>
        <p:spPr>
          <a:xfrm>
            <a:off x="2362320" y="1143000"/>
            <a:ext cx="6553080" cy="1523880"/>
          </a:xfrm>
          <a:prstGeom prst="wedgeEllipseCallout">
            <a:avLst>
              <a:gd name="adj1" fmla="val -59361"/>
              <a:gd name="adj2" fmla="val 15439"/>
            </a:avLst>
          </a:prstGeom>
          <a:solidFill>
            <a:srgbClr val="e4f2f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590920" y="1676520"/>
            <a:ext cx="632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nally, a serious use for quantum compu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80880" y="3962520"/>
            <a:ext cx="8305920" cy="17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Question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an you have a quantum stat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at lets you efficiently compute an unknown Boolean function f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}, but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can’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e efficiently used to prepare more states that also let you efficiently compute f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80880" y="1523880"/>
            <a:ext cx="8458200" cy="133668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Observation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f the customer is able to buy poly(n) copies of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rom the software store, then we can only hope for computational security, not information-theoret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380880" y="228600"/>
            <a:ext cx="8382240" cy="65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66"/>
                </a:solidFill>
                <a:latin typeface="Calibri"/>
              </a:rPr>
              <a:t>This paper initiates the study of quantum money and quantum copy-protection from the standpoint of modern theoretical computer scie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Main result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struction of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quantum oracle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relative to which publicly-verifiable quantum money, and quantum copy-protection of “arbitrary” software, are indeed po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other words: there’s no relativizing obstruction to these th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OracleDefense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y security proof for a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rea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quantum money or copy-protection scheme will need to include our black-box security proof as a special cas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OracleDefense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The black-box security proof is already quite nontrivial!  Requires a “Complexity-Theoretic No-Cloning Theorem,” explicit quantum t-design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52280" y="304920"/>
            <a:ext cx="8763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But what about the real world?</a:t>
            </a:r>
            <a:br>
              <a:rPr sz="4000"/>
            </a:br>
            <a:r>
              <a:rPr b="1" lang="en-US" sz="2500" spc="-1" strike="noStrike">
                <a:solidFill>
                  <a:srgbClr val="333399"/>
                </a:solidFill>
                <a:latin typeface="Calibri"/>
              </a:rPr>
              <a:t>Can I at least give </a:t>
            </a:r>
            <a:r>
              <a:rPr b="1" i="1" lang="en-US" sz="2500" spc="-1" strike="noStrike">
                <a:solidFill>
                  <a:srgbClr val="333399"/>
                </a:solidFill>
                <a:latin typeface="Calibri"/>
              </a:rPr>
              <a:t>candidate</a:t>
            </a:r>
            <a:r>
              <a:rPr b="1" lang="en-US" sz="2500" spc="-1" strike="noStrike">
                <a:solidFill>
                  <a:srgbClr val="333399"/>
                </a:solidFill>
                <a:latin typeface="Calibri"/>
              </a:rPr>
              <a:t> schemes that work with no oracle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80880" y="1676520"/>
            <a:ext cx="8458200" cy="32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cheme for publicly-verifiable quantum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d on random stabilizer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 continuous assault by Hassidim and Lutomirsk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So far, they’ve broken at least five of their own sche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chemes for copy-protecting point functions</a:t>
            </a:r>
            <a:br>
              <a:rPr sz="2800"/>
            </a:b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Functions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{0,1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{0,1} such that f(x)=1 iff x=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447920" y="5410080"/>
            <a:ext cx="6629400" cy="8859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se schemes are provably secure, under the assumption that they can’t be bro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80880" y="152280"/>
            <a:ext cx="8458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Calibri"/>
              </a:rPr>
              <a:t>Definition of Quantum Money Schem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57200" y="914400"/>
            <a:ext cx="8077320" cy="25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n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Key si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B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Poly(n)-size quantum circuit (the “bank”), which maps a secret key s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a public key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mixed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A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Poly(n)-size quantum circuit (the “authenticator”), which takes (e,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 as input and either accepts or re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457200" y="3505320"/>
            <a:ext cx="8305920" cy="25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B,A) ha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completeness erro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f for every s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B,A) ha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soundness erro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f for every poly(n)-size quantum circuit C (the “counterfeiter”) mapping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r&gt;k output register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2"/>
              <p:cNvSpPr txBox="1"/>
              <p:nvPr/>
            </p:nvSpPr>
            <p:spPr>
              <a:xfrm>
                <a:off x="3162240" y="5392800"/>
                <a:ext cx="567684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cepts</m:t>
                            </m:r>
                          </m:e>
                        </m:d>
                      </m:e>
                    </m:nary>
                    <m:r>
                      <m:t xml:space="preserve">≤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2"/>
              <p:cNvSpPr txBox="1"/>
              <p:nvPr/>
            </p:nvSpPr>
            <p:spPr>
              <a:xfrm>
                <a:off x="2401920" y="3962520"/>
                <a:ext cx="502596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ccepts</m:t>
                        </m:r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Text Box 3"/>
          <p:cNvSpPr/>
          <p:nvPr/>
        </p:nvSpPr>
        <p:spPr>
          <a:xfrm>
            <a:off x="838080" y="1981080"/>
            <a:ext cx="7543800" cy="94068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the counterfeiter C also receives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then the scheme is public-key; otherwise it’s private-k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457200" y="2286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Candidate Public-Key Money Sch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990720"/>
            <a:ext cx="8305920" cy="19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bank generates L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random stabilizer state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|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|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on n qubits e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call: A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stabilizer stat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s a state obtainable from |0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y CNOT, Hadamard, and             gates on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457200" y="3276720"/>
            <a:ext cx="8305920" cy="20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n, for each |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the bank generates m random stabilizer measurements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each of which has probability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f commuting with |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is otherwise completely rand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nally, the bank distributes the following as a bankno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2"/>
              <p:cNvSpPr txBox="1"/>
              <p:nvPr/>
            </p:nvSpPr>
            <p:spPr>
              <a:xfrm>
                <a:off x="4419720" y="2438280"/>
                <a:ext cx="8125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i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8" name="Group 14"/>
          <p:cNvGrpSpPr/>
          <p:nvPr/>
        </p:nvGrpSpPr>
        <p:grpSpPr>
          <a:xfrm>
            <a:off x="1447920" y="5105520"/>
            <a:ext cx="7086600" cy="1752480"/>
            <a:chOff x="1447920" y="5105520"/>
            <a:chExt cx="7086600" cy="1752480"/>
          </a:xfrm>
        </p:grpSpPr>
        <p:pic>
          <p:nvPicPr>
            <p:cNvPr id="99" name="Picture 6" descr=""/>
            <p:cNvPicPr/>
            <p:nvPr/>
          </p:nvPicPr>
          <p:blipFill>
            <a:blip r:embed="rId1"/>
            <a:stretch/>
          </p:blipFill>
          <p:spPr>
            <a:xfrm>
              <a:off x="1447920" y="5105520"/>
              <a:ext cx="70866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Rectangle 12"/>
            <p:cNvSpPr/>
            <p:nvPr/>
          </p:nvSpPr>
          <p:spPr>
            <a:xfrm>
              <a:off x="2057400" y="5181480"/>
              <a:ext cx="5639040" cy="1523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Object 2"/>
                <p:cNvSpPr txBox="1"/>
                <p:nvPr/>
              </p:nvSpPr>
              <p:spPr>
                <a:xfrm>
                  <a:off x="2274840" y="5181480"/>
                  <a:ext cx="5283360" cy="15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⟩</m:t>
                      </m:r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⟩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E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⋯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⋮</m:t>
                                </m:r>
                              </m:e>
                              <m:e>
                                <m:r>
                                  <m:t xml:space="preserve">⋱</m:t>
                                </m:r>
                              </m:e>
                              <m:e>
                                <m:r>
                                  <m:t xml:space="preserve">⋮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m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⋯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m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sig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" name="Text Box 3"/>
          <p:cNvSpPr/>
          <p:nvPr/>
        </p:nvSpPr>
        <p:spPr>
          <a:xfrm>
            <a:off x="838080" y="1981080"/>
            <a:ext cx="7543800" cy="19389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verify this banknote, first check that sig is a valid digital signature of 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n apply a random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j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each |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nd check that at least (say) a 1/2+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/4 fraction of them accep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457200" y="2286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Quantum Oracle Constr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80880" y="990720"/>
            <a:ext cx="8077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t’s now give a quantum oracle U, relative to which a public-key quantum money scheme exist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uncondition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21"/>
          <p:cNvGrpSpPr/>
          <p:nvPr/>
        </p:nvGrpSpPr>
        <p:grpSpPr>
          <a:xfrm>
            <a:off x="1904760" y="2057400"/>
            <a:ext cx="3733920" cy="1600200"/>
            <a:chOff x="1904760" y="2057400"/>
            <a:chExt cx="3733920" cy="1600200"/>
          </a:xfrm>
        </p:grpSpPr>
        <p:sp>
          <p:nvSpPr>
            <p:cNvPr id="106" name="Cube 3"/>
            <p:cNvSpPr/>
            <p:nvPr/>
          </p:nvSpPr>
          <p:spPr>
            <a:xfrm>
              <a:off x="3048120" y="2057400"/>
              <a:ext cx="1600200" cy="16002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4"/>
            <p:cNvSpPr/>
            <p:nvPr/>
          </p:nvSpPr>
          <p:spPr>
            <a:xfrm>
              <a:off x="3124080" y="2590560"/>
              <a:ext cx="9903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8" name="Straight Arrow Connector 6"/>
            <p:cNvCxnSpPr/>
            <p:nvPr/>
          </p:nvCxnSpPr>
          <p:spPr>
            <a:xfrm>
              <a:off x="1904760" y="2666880"/>
              <a:ext cx="1143720" cy="216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09" name="Straight Arrow Connector 7"/>
            <p:cNvCxnSpPr/>
            <p:nvPr/>
          </p:nvCxnSpPr>
          <p:spPr>
            <a:xfrm>
              <a:off x="4495320" y="2666880"/>
              <a:ext cx="1143720" cy="216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110" name="Text Box 3"/>
          <p:cNvSpPr/>
          <p:nvPr/>
        </p:nvSpPr>
        <p:spPr>
          <a:xfrm>
            <a:off x="762120" y="2362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|s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5638680" y="2362320"/>
            <a:ext cx="228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|e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|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762120" y="28954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-bit secret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6781680" y="29718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-qubit Haar random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5105520" y="2971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n-bit public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-380880" y="2362320"/>
            <a:ext cx="228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|e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5638680" y="2362320"/>
            <a:ext cx="281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|e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|YES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-380880" y="2362320"/>
            <a:ext cx="228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|e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52280" y="2895480"/>
            <a:ext cx="2590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thogonal to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5638680" y="2362320"/>
            <a:ext cx="281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|e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|NO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28600" y="3965400"/>
            <a:ext cx="876312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veryone (bank, customers, counterfeiters) has same access to 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lear that the bank can prepare banknotes |e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and legitimate buyers and sellers can authenticate th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Calibri"/>
              </a:rPr>
              <a:t>Question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Given e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together with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5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for some k=poly(n), can a counterfeiter prepare additional copies of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by making poly(n) queries to U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 Aaronson</cp:lastModifiedBy>
  <dcterms:modified xsi:type="dcterms:W3CDTF">2009-07-17T08:05:18Z</dcterms:modified>
  <cp:revision>125</cp:revision>
  <dc:subject/>
  <dc:title>The Learnability of Quantum States</dc:title>
</cp:coreProperties>
</file>