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7F0-05A6-4699-B2C9-AFA9C4B85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E84-3798-421D-A888-27C4E5803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985-79F3-4C26-9192-7CB3302B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9B8F-6D75-46B0-B0CE-9FD6DF7F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082E-13FF-49B4-9A40-FC675538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4D9-5035-4EC9-B7DA-03505A95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350-E143-4299-8298-3E583F4D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DA58-464D-4CF7-A670-20FAB0FE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7B0A-1B45-465F-B63C-086C80EF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260-38B6-4607-8EAA-87C4388A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CF5-BC0F-4242-BE90-41C698728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8C4-CFF5-4D29-8FE3-D818EBBC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B18C-B38B-48C4-A2C1-19B7FBE9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3CE-1A2D-475E-833B-C2264F7D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3F6-840C-4949-BA3F-31D600AA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AF7-1318-4785-A0E3-50F10982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A934-ED4F-4690-A5FB-C1FF2C17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F018-5291-4EF5-98BD-8B236E39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D43A-1397-456E-9ACE-212860B5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6C4-46FB-43DD-AB78-8DD359F5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3A4-2F75-44C8-9B83-56EA67B3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3CC3-4AB1-4A00-BBD1-067939152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3233-ADCC-4D79-91FC-3FB73D21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C63-03E6-4319-88D5-172FEED2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5DB-C305-4871-9325-480D2B48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2FB-7E48-48A1-B5CA-B9397B47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D89-E56B-4DD9-AC73-C7558F9E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BF8-57C7-42CE-B6BA-E01DCD2E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556-38CC-4028-BF7B-9B670BF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4A6-5C84-4FA6-8B91-266D9744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029-94CD-4456-A411-CAECBB8B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148-AC1C-452D-B4CD-44B8B7CB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DF5-2144-41AC-8E3A-F2C2FFCD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435-ADB7-4655-9778-21E6F34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C12-A71B-472B-BE1A-88CDE4D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419-877B-45DD-B7BE-E20882E4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697-B62C-4DA4-BF93-5D6F954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CE9-9C47-416A-97C8-B6231BE8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40A-D631-4412-84CF-6C9FC8C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C4D-B43F-448D-9058-1EBA1D8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87A0-FFC0-48C8-948A-121FF7066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9047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3300"/>
                </a:solidFill>
                <a:latin typeface="Calibri"/>
              </a:rPr>
              <a:t>)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r>
              <a:rPr b="1" lang="he-IL" sz="3600" spc="-1" strike="noStrike">
                <a:solidFill>
                  <a:srgbClr val="cc3300"/>
                </a:solidFill>
                <a:latin typeface="Calibri"/>
              </a:rPr>
              <a:t>(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קוט אהרונסו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380880"/>
            <a:ext cx="8686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3300"/>
                </a:solidFill>
                <a:latin typeface="Calibri"/>
              </a:rPr>
              <a:t>עדויות חדשות שקשה לדמות את מכניקת הקוונטים עם מחשבים קלאסי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143000"/>
            <a:ext cx="84582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particular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Indeed, there’s only a ~1/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That just adds more layers to the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295280" y="37339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147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Straight Arrow Connector 15"/>
            <p:cNvCxnSpPr>
              <a:stCxn id="147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49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150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Straight Arrow Connector 18"/>
            <p:cNvCxnSpPr>
              <a:stCxn id="150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52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153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Straight Arrow Connector 22"/>
            <p:cNvCxnSpPr>
              <a:stCxn id="153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55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no polynomial number of f(x) and g(y) values should reveal much of any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5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176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Straight Arrow Connector 12"/>
            <p:cNvCxnSpPr>
              <a:stCxn id="177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181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Object 2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186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2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6"/>
          <p:cNvSpPr/>
          <p:nvPr/>
        </p:nvSpPr>
        <p:spPr>
          <a:xfrm>
            <a:off x="304920" y="152280"/>
            <a:ext cx="8534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ing back to our result for relational problems: what was surprising was that we showed hardness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ing problem, using a nondeterministic reduction from MAJORITY—a “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probl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raises a question: is something similar possible in the unrelativized (non-black-box) worl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04920" y="3048120"/>
            <a:ext cx="8305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ed it is.  Consider the following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QSAMPLING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 quantum circuit C, which acts on n qubits initialized to the all-0 state.  Sample from C’s output distribu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304920" y="5029200"/>
            <a:ext cx="8458200" cy="1600200"/>
            <a:chOff x="304920" y="5029200"/>
            <a:chExt cx="8458200" cy="1600200"/>
          </a:xfrm>
        </p:grpSpPr>
        <p:sp>
          <p:nvSpPr>
            <p:cNvPr id="196" name="AutoShape 9"/>
            <p:cNvSpPr/>
            <p:nvPr/>
          </p:nvSpPr>
          <p:spPr>
            <a:xfrm>
              <a:off x="304920" y="5029200"/>
              <a:ext cx="8458200" cy="16002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533520" y="5638680"/>
              <a:ext cx="8035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Suppose QSAMPLING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 Then 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#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N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(so in particular, </a:t>
              </a:r>
              <a:r>
                <a:rPr b="1" lang="en-US" sz="2200" spc="-1" strike="noStrike">
                  <a:solidFill>
                    <a:srgbClr val="990099"/>
                  </a:solidFill>
                  <a:latin typeface="Calibri"/>
                </a:rPr>
                <a:t>PH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 collapses to the third level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"/>
            <p:cNvSpPr/>
            <p:nvPr/>
          </p:nvSpPr>
          <p:spPr>
            <a:xfrm>
              <a:off x="304920" y="518148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Calibri"/>
                </a:rPr>
                <a:t>Result/Observ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y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SAMPLING Is 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Text Box 16"/>
          <p:cNvSpPr/>
          <p:nvPr/>
        </p:nvSpPr>
        <p:spPr>
          <a:xfrm>
            <a:off x="228600" y="1066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 be any efficiently computable function.  Suppose we apply the following quantum circui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2"/>
          <p:cNvGrpSpPr/>
          <p:nvPr/>
        </p:nvGrpSpPr>
        <p:grpSpPr>
          <a:xfrm>
            <a:off x="2438280" y="2133720"/>
            <a:ext cx="4354920" cy="2333160"/>
            <a:chOff x="2438280" y="2133720"/>
            <a:chExt cx="4354920" cy="2333160"/>
          </a:xfrm>
        </p:grpSpPr>
        <p:sp>
          <p:nvSpPr>
            <p:cNvPr id="203" name="Straight Connector 8"/>
            <p:cNvSpPr/>
            <p:nvPr/>
          </p:nvSpPr>
          <p:spPr>
            <a:xfrm>
              <a:off x="2971440" y="3276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9"/>
            <p:cNvSpPr/>
            <p:nvPr/>
          </p:nvSpPr>
          <p:spPr>
            <a:xfrm>
              <a:off x="2971440" y="3962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10"/>
            <p:cNvSpPr/>
            <p:nvPr/>
          </p:nvSpPr>
          <p:spPr>
            <a:xfrm>
              <a:off x="2971440" y="25909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"/>
            <p:cNvSpPr/>
            <p:nvPr/>
          </p:nvSpPr>
          <p:spPr>
            <a:xfrm>
              <a:off x="33526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"/>
            <p:cNvSpPr/>
            <p:nvPr/>
          </p:nvSpPr>
          <p:spPr>
            <a:xfrm>
              <a:off x="33526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7"/>
            <p:cNvSpPr/>
            <p:nvPr/>
          </p:nvSpPr>
          <p:spPr>
            <a:xfrm>
              <a:off x="33526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4267080" y="22860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9"/>
            <p:cNvSpPr/>
            <p:nvPr/>
          </p:nvSpPr>
          <p:spPr>
            <a:xfrm>
              <a:off x="51814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0"/>
            <p:cNvSpPr/>
            <p:nvPr/>
          </p:nvSpPr>
          <p:spPr>
            <a:xfrm>
              <a:off x="51814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1"/>
            <p:cNvSpPr/>
            <p:nvPr/>
          </p:nvSpPr>
          <p:spPr>
            <a:xfrm>
              <a:off x="51814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9"/>
            <p:cNvGrpSpPr/>
            <p:nvPr/>
          </p:nvGrpSpPr>
          <p:grpSpPr>
            <a:xfrm>
              <a:off x="5982840" y="2133720"/>
              <a:ext cx="810360" cy="961560"/>
              <a:chOff x="5982840" y="2133720"/>
              <a:chExt cx="810360" cy="961560"/>
            </a:xfrm>
          </p:grpSpPr>
          <p:sp>
            <p:nvSpPr>
              <p:cNvPr id="214" name="Chord 29"/>
              <p:cNvSpPr/>
              <p:nvPr/>
            </p:nvSpPr>
            <p:spPr>
              <a:xfrm rot="7220400">
                <a:off x="6084360" y="23940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" name="Straight Arrow Connector 30"/>
              <p:cNvCxnSpPr>
                <a:stCxn id="214" idx="2"/>
              </p:cNvCxnSpPr>
              <p:nvPr/>
            </p:nvCxnSpPr>
            <p:spPr>
              <a:xfrm flipV="1">
                <a:off x="6385680" y="2133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16" name="Group 50"/>
            <p:cNvGrpSpPr/>
            <p:nvPr/>
          </p:nvGrpSpPr>
          <p:grpSpPr>
            <a:xfrm>
              <a:off x="5982840" y="2819520"/>
              <a:ext cx="810360" cy="961560"/>
              <a:chOff x="5982840" y="2819520"/>
              <a:chExt cx="810360" cy="961560"/>
            </a:xfrm>
          </p:grpSpPr>
          <p:sp>
            <p:nvSpPr>
              <p:cNvPr id="217" name="Chord 27"/>
              <p:cNvSpPr/>
              <p:nvPr/>
            </p:nvSpPr>
            <p:spPr>
              <a:xfrm rot="7220400">
                <a:off x="6084360" y="30798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28"/>
              <p:cNvCxnSpPr>
                <a:stCxn id="217" idx="2"/>
              </p:cNvCxnSpPr>
              <p:nvPr/>
            </p:nvCxnSpPr>
            <p:spPr>
              <a:xfrm flipV="1">
                <a:off x="6385680" y="28195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19" name="Group 53"/>
            <p:cNvGrpSpPr/>
            <p:nvPr/>
          </p:nvGrpSpPr>
          <p:grpSpPr>
            <a:xfrm>
              <a:off x="5982840" y="3505320"/>
              <a:ext cx="810360" cy="961560"/>
              <a:chOff x="5982840" y="3505320"/>
              <a:chExt cx="810360" cy="961560"/>
            </a:xfrm>
          </p:grpSpPr>
          <p:sp>
            <p:nvSpPr>
              <p:cNvPr id="220" name="Chord 25"/>
              <p:cNvSpPr/>
              <p:nvPr/>
            </p:nvSpPr>
            <p:spPr>
              <a:xfrm rot="7220400">
                <a:off x="6084360" y="37656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26"/>
              <p:cNvCxnSpPr>
                <a:stCxn id="220" idx="2"/>
              </p:cNvCxnSpPr>
              <p:nvPr/>
            </p:nvCxnSpPr>
            <p:spPr>
              <a:xfrm flipV="1">
                <a:off x="6385680" y="35053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22" name="Text Box 3"/>
            <p:cNvSpPr/>
            <p:nvPr/>
          </p:nvSpPr>
          <p:spPr>
            <a:xfrm>
              <a:off x="426708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"/>
            <p:cNvSpPr/>
            <p:nvPr/>
          </p:nvSpPr>
          <p:spPr>
            <a:xfrm>
              <a:off x="2438280" y="2286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"/>
            <p:cNvSpPr/>
            <p:nvPr/>
          </p:nvSpPr>
          <p:spPr>
            <a:xfrm>
              <a:off x="2438280" y="2971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"/>
            <p:cNvSpPr/>
            <p:nvPr/>
          </p:nvSpPr>
          <p:spPr>
            <a:xfrm>
              <a:off x="2438280" y="3657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6"/>
          <p:cNvSpPr/>
          <p:nvPr/>
        </p:nvSpPr>
        <p:spPr>
          <a:xfrm>
            <a:off x="228600" y="4495680"/>
            <a:ext cx="853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the all-0 string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6"/>
          <p:cNvSpPr/>
          <p:nvPr/>
        </p:nvSpPr>
        <p:spPr>
          <a:xfrm>
            <a:off x="228600" y="1981080"/>
            <a:ext cx="426708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ated to my result that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we can estimate p, then we can also compu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(x) using binary search and pad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72000" y="1981080"/>
            <a:ext cx="4267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a classical algorithm for QSAMPLING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04920" y="601992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6019920" y="5105520"/>
                <a:ext cx="2871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Straight Connector 9"/>
          <p:cNvSpPr/>
          <p:nvPr/>
        </p:nvSpPr>
        <p:spPr>
          <a:xfrm>
            <a:off x="4495680" y="190512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382 -0.69398 E">
                                      <p:cBhvr>
                                        <p:cTn id="239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, explicit quantum system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457200" y="20574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believe this 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6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244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228600" y="152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,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basis state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ach.  Put each photon in a known mode, then apply a random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scattering matrix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3505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n efficient classical algorithm that samples any distribution even 1/poly(n)-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X of i.i.d. N(0,1) complex Gaussians, to additive error                 with high probability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2819520" y="563868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7"/>
          <p:cNvGrpSpPr/>
          <p:nvPr/>
        </p:nvGrpSpPr>
        <p:grpSpPr>
          <a:xfrm>
            <a:off x="4876920" y="1600200"/>
            <a:ext cx="3886200" cy="1981080"/>
            <a:chOff x="4876920" y="1600200"/>
            <a:chExt cx="3886200" cy="1981080"/>
          </a:xfrm>
        </p:grpSpPr>
        <p:sp>
          <p:nvSpPr>
            <p:cNvPr id="264" name="Oval 20"/>
            <p:cNvSpPr/>
            <p:nvPr/>
          </p:nvSpPr>
          <p:spPr>
            <a:xfrm>
              <a:off x="4876920" y="1600200"/>
              <a:ext cx="3886200" cy="1371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5029200" y="1752480"/>
              <a:ext cx="358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Conjecture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Straight Arrow Connector 22"/>
            <p:cNvCxnSpPr/>
            <p:nvPr/>
          </p:nvCxnSpPr>
          <p:spPr>
            <a:xfrm flipH="1">
              <a:off x="6095520" y="2971440"/>
              <a:ext cx="3052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8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1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52280" y="152280"/>
            <a:ext cx="883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he Permanent of Gaussians Conjecture (PGC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80880" y="762120"/>
            <a:ext cx="8001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matrix X of i.i.d, N(0,1) complex Gaussians, i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approximate Per(X) to within            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1-1/poly(n) probability over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6815160" y="1219320"/>
                <a:ext cx="1154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Text Box 16"/>
          <p:cNvSpPr/>
          <p:nvPr/>
        </p:nvSpPr>
        <p:spPr>
          <a:xfrm>
            <a:off x="380880" y="2133720"/>
            <a:ext cx="853452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isn’t the permanent easy to approximate, by Jerrum-Sinclair-Vigoda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Yes—for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matrices.  For general matrices, can get huge cancellations between positive and negative terms, and indeed even approximating the permanent is 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-complete in the wors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380880" y="4343400"/>
            <a:ext cx="85345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ntuition for PGC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e know computing the permanent of a random matrix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—over finite fields.  “Merely” need to extend that result to the reals or complex number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sic difficulty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hen doing LFKN-style interpolation, errors in the permanent estimates can blow up exponenti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PGC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Hardness of BOSON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28600" y="1066680"/>
            <a:ext cx="87631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X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 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123920" y="4572000"/>
                <a:ext cx="3094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Text Box 16"/>
          <p:cNvSpPr/>
          <p:nvPr/>
        </p:nvSpPr>
        <p:spPr>
          <a:xfrm>
            <a:off x="380880" y="6172200"/>
            <a:ext cx="85345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eat Fact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sum to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572000" y="4648320"/>
            <a:ext cx="40384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contain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(first n columns on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28600" y="2895480"/>
            <a:ext cx="8763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at initially, modes 1,…,n contain one boson each while modes n+1,…,m are unoccupied.  Then after applying U, we observe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nfigu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list of occupation numbers)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ith prob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configuration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bos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configuration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281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284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287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290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ox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04920" y="1066680"/>
            <a:ext cx="541008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 with photon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 Haar-random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105000" cy="2800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6"/>
          <p:cNvSpPr/>
          <p:nvPr/>
        </p:nvSpPr>
        <p:spPr>
          <a:xfrm>
            <a:off x="304920" y="54100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iz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04920" y="1219320"/>
            <a:ext cx="777240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302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305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9"/>
          <p:cNvGrpSpPr/>
          <p:nvPr/>
        </p:nvGrpSpPr>
        <p:grpSpPr>
          <a:xfrm>
            <a:off x="7467480" y="3124080"/>
            <a:ext cx="1524240" cy="1219320"/>
            <a:chOff x="7467480" y="3124080"/>
            <a:chExt cx="1524240" cy="1219320"/>
          </a:xfrm>
        </p:grpSpPr>
        <p:pic>
          <p:nvPicPr>
            <p:cNvPr id="308" name="Picture 6" descr="C:\Users\od user\AppData\Local\Microsoft\Windows\Temporary Internet Files\Content.IE5\N7YD4WXK\MCj04363050000[1].png"/>
            <p:cNvPicPr/>
            <p:nvPr/>
          </p:nvPicPr>
          <p:blipFill>
            <a:blip r:embed="rId3"/>
            <a:stretch/>
          </p:blipFill>
          <p:spPr>
            <a:xfrm>
              <a:off x="7619760" y="31240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5"/>
            <p:cNvSpPr/>
            <p:nvPr/>
          </p:nvSpPr>
          <p:spPr>
            <a:xfrm>
              <a:off x="7467480" y="3657600"/>
              <a:ext cx="152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NIS5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ore Open Problem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no pr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380880" y="1219320"/>
            <a:ext cx="853452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we use BOSONSAMPLING to solv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ecision problem outside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you convince a skeptic (who isn’t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) that your QC is indeed doing BOSONSAMPLING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we get unlikely classical complexity consequences from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romise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romise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80880" y="1143000"/>
            <a:ext cx="8534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like to say that we have three choices: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xtended Church-Turing Thesis is fals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Cs can be efficiently simulated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380880" y="3276720"/>
            <a:ext cx="6705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200400" y="3505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6"/>
          <p:cNvSpPr/>
          <p:nvPr/>
        </p:nvSpPr>
        <p:spPr>
          <a:xfrm>
            <a:off x="228600" y="1447920"/>
            <a:ext cx="46483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“generic” complexity assumptions, rather than the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C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testable before I’m dea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New kinds of hardness results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952880" y="1447920"/>
            <a:ext cx="41911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problems with many possible valid outputs), rather than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not “useful” (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"/>
          <p:cNvSpPr/>
          <p:nvPr/>
        </p:nvSpPr>
        <p:spPr>
          <a:xfrm>
            <a:off x="48769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6"/>
          <p:cNvSpPr/>
          <p:nvPr/>
        </p:nvSpPr>
        <p:spPr>
          <a:xfrm>
            <a:off x="380880" y="1295280"/>
            <a:ext cx="838224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black-box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are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“Generalized Linial-Nisan Conjecture,” there exists a black-box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t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Original Linial-Nisan Conjecture was recently proved by Braverman, after being open for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52280" y="3808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ult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from arXiv:0910.469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80880" y="4419720"/>
            <a:ext cx="8382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conditionally, there exists a black-box decision problem that requir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) queries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N</a:t>
            </a:r>
            <a:r>
              <a:rPr b="0" lang="en-US" sz="2200" spc="-1" strike="noStrike" baseline="30000">
                <a:solidFill>
                  <a:srgbClr val="008000"/>
                </a:solidFill>
                <a:latin typeface="Calibri"/>
              </a:rPr>
              <a:t>1/4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) even using postselectio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but only O(1) queries quantum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6"/>
          <p:cNvSpPr/>
          <p:nvPr/>
        </p:nvSpPr>
        <p:spPr>
          <a:xfrm>
            <a:off x="380880" y="1447920"/>
            <a:ext cx="83822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henc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, still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 can approximate the permanent of a matrix of independent N(0,1) Gaussi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onjecture: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 The above problem is 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-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52280" y="3808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ult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from recent joint work with Alex Arkhipo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96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07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" name="Straight Arrow Connector 46"/>
              <p:cNvCxnSpPr>
                <a:stCxn id="107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9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10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Straight Arrow Connector 52"/>
              <p:cNvCxnSpPr>
                <a:stCxn id="110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2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13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Straight Arrow Connector 55"/>
              <p:cNvCxnSpPr>
                <a:stCxn id="113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15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69"/>
          <p:cNvCxnSpPr>
            <a:stCxn id="121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1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12-30T15:27:39Z</dcterms:modified>
  <cp:revision>237</cp:revision>
  <dc:subject/>
  <dc:title>The Learnability of Quantum States</dc:title>
</cp:coreProperties>
</file>