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4D2D-FEF9-487F-BA8D-2E2115E16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3D6F-6B6C-4F99-8E6D-BB45AC2DD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59A3-A87E-4491-9A4C-09EB2C0ED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C267-6C30-4AD3-A58A-C6B815E86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E65F-0E6A-4A28-8BA7-DABF4DD76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C4E9-3737-49BB-890A-9DE6583C8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BD6A-1F29-42DA-B62C-01E146C3D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79C4-7827-46E4-BD87-9F73DF21C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4A1E-787C-4E3D-8F9F-78E055E79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4E59-08CA-4428-971A-114EB2F1F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BBD6-7850-4DE8-8770-58FFF568B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3C1A-81C3-4960-8EB4-BE70BB218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54D8-3F82-43DC-943E-59BBE0EE0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AA3D-4301-4E69-92B3-0A831D2BA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4CCA-8C8E-4071-A00A-958942A6F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0E06-2324-4365-B5AB-E8AECF558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BC15-5EE5-4D6D-9F4E-621C684AF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8F00-4459-4A95-97FC-47C74F75D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EA98-24A3-4FA0-AB3C-6DF35FB22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E3F0-F958-48F6-A7D4-B4EA7AD4A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5481-D446-459D-95A1-89A312588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2F55-CB4A-4450-90A6-DFDBFCE97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FC4A-E296-42A3-A7D4-7374E151C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FECE-6984-4CFA-8EFF-6D671F853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6922-8DA7-4E08-B7F1-33EA5502B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2E19-3750-4152-A12F-90370CD1B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EC46-CAEF-4F88-BBDC-65FA36060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B250-63C0-4768-AD77-FCFFC01F1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3D30-20ED-4BCE-B9DF-4B2E1CB8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838-9358-4C66-A8EF-E9BE6FAB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196-7619-45A6-8841-E07B783F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82B-CEAF-4D15-84C8-06983A14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07C-F184-4A88-AAB7-2D593D04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EBE6-2598-4FE4-860B-CB43A003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D576-60EE-4E0A-B18F-BB659997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C992-DB36-44A6-8C27-8179AB6E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0AFE-3B76-4A7D-B39F-ED16B9B2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BBDC-8547-4B4E-AE61-802BE6C2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73B-3D01-4541-AA12-7DFE2A8E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3F9-C213-482E-B005-3518E97D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0CE5-0CFF-4AE0-8909-CE3C8A2A3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9047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cc3300"/>
                </a:solidFill>
                <a:latin typeface="Calibri"/>
              </a:rPr>
              <a:t>)</a:t>
            </a:r>
            <a:r>
              <a:rPr b="1" lang="en-US" sz="3600" spc="-1" strike="noStrike">
                <a:solidFill>
                  <a:srgbClr val="cc3300"/>
                </a:solidFill>
                <a:latin typeface="Calibri"/>
              </a:rPr>
              <a:t>New Evidence That Quantum Mechanics Is Hard to Simulate on Classical Computers</a:t>
            </a:r>
            <a:r>
              <a:rPr b="1" lang="he-IL" sz="3600" spc="-1" strike="noStrike">
                <a:solidFill>
                  <a:srgbClr val="cc3300"/>
                </a:solidFill>
                <a:latin typeface="Calibri"/>
              </a:rPr>
              <a:t>(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800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סקוט אהרונסו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r>
              <a:rPr b="0" lang="he-IL" sz="3200" spc="-1" strike="noStrike">
                <a:solidFill>
                  <a:srgbClr val="000000"/>
                </a:solidFill>
                <a:latin typeface="Calibri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228600" y="380880"/>
            <a:ext cx="86868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cc3300"/>
                </a:solidFill>
                <a:latin typeface="Calibri"/>
              </a:rPr>
              <a:t>עדויות חדשות שקשה לדמות את מכניקת הקוונטים עם מחשבים קלאסיי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URIER SAMPLING Is Not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880" y="1143000"/>
            <a:ext cx="845820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Key Idea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how that, if we had a constant-depth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size circuit C for FOURIER SAMPLING, then we could violate a know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ower bound, by “sneaking a MAJORITY problem” into the estimation of some random Fourier coef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Obvious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ow do we know C will output the particular s we’re interested in, thereby revealing anything about          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don’t! 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(Indeed, there’s only a ~1/2</a:t>
            </a:r>
            <a:r>
              <a:rPr b="0" lang="en-US" sz="2200" spc="-1" strike="noStrike" baseline="30000">
                <a:solidFill>
                  <a:srgbClr val="00b050"/>
                </a:solidFill>
                <a:latin typeface="Calibri"/>
              </a:rPr>
              <a:t>n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 chance it wi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we have a long time to wait, since our reduction can be nondeterministic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That just adds more layers to the 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2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2"/>
              <p:cNvSpPr txBox="1"/>
              <p:nvPr/>
            </p:nvSpPr>
            <p:spPr>
              <a:xfrm>
                <a:off x="6781680" y="2362320"/>
                <a:ext cx="701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2"/>
              <p:cNvSpPr txBox="1"/>
              <p:nvPr/>
            </p:nvSpPr>
            <p:spPr>
              <a:xfrm>
                <a:off x="1295280" y="3733920"/>
                <a:ext cx="701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57200" y="304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Decision Version: FOURIER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80880" y="114300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n oracle access to two Boolean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2351160" y="1676520"/>
                <a:ext cx="4010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Text Box 3"/>
          <p:cNvSpPr/>
          <p:nvPr/>
        </p:nvSpPr>
        <p:spPr>
          <a:xfrm>
            <a:off x="380880" y="2590920"/>
            <a:ext cx="83059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drawn from the uniform distribution U, 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drawn from the following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“forrelated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istribution F: pick a random unit v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2"/>
              <p:cNvSpPr txBox="1"/>
              <p:nvPr/>
            </p:nvSpPr>
            <p:spPr>
              <a:xfrm>
                <a:off x="6477120" y="4038480"/>
                <a:ext cx="1684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Text Box 3"/>
          <p:cNvSpPr/>
          <p:nvPr/>
        </p:nvSpPr>
        <p:spPr>
          <a:xfrm>
            <a:off x="1066680" y="464832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"/>
              <p:cNvSpPr txBox="1"/>
              <p:nvPr/>
            </p:nvSpPr>
            <p:spPr>
              <a:xfrm>
                <a:off x="1600200" y="5257800"/>
                <a:ext cx="6094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URIER CHECKING Is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3"/>
          <p:cNvSpPr/>
          <p:nvPr/>
        </p:nvSpPr>
        <p:spPr>
          <a:xfrm>
            <a:off x="1981080" y="24382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4"/>
          <p:cNvSpPr/>
          <p:nvPr/>
        </p:nvSpPr>
        <p:spPr>
          <a:xfrm>
            <a:off x="1981080" y="31240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5"/>
          <p:cNvSpPr/>
          <p:nvPr/>
        </p:nvSpPr>
        <p:spPr>
          <a:xfrm>
            <a:off x="1981080" y="17524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23623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23623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23623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276720" y="1447920"/>
            <a:ext cx="53316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41911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41911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1911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6820920" y="1295280"/>
            <a:ext cx="810360" cy="961560"/>
            <a:chOff x="6820920" y="1295280"/>
            <a:chExt cx="810360" cy="961560"/>
          </a:xfrm>
        </p:grpSpPr>
        <p:sp>
          <p:nvSpPr>
            <p:cNvPr id="147" name="Chord 14"/>
            <p:cNvSpPr/>
            <p:nvPr/>
          </p:nvSpPr>
          <p:spPr>
            <a:xfrm rot="7220400">
              <a:off x="6922440" y="1555560"/>
              <a:ext cx="606600" cy="583920"/>
            </a:xfrm>
            <a:custGeom>
              <a:avLst/>
              <a:gdLst>
                <a:gd name="textAreaLeft" fmla="*/ 88560 w 606600"/>
                <a:gd name="textAreaRight" fmla="*/ 518040 w 606600"/>
                <a:gd name="textAreaTop" fmla="*/ 85320 h 583920"/>
                <a:gd name="textAreaBottom" fmla="*/ 498600 h 583920"/>
              </a:gdLst>
              <a:ahLst/>
              <a:rect l="textAreaLeft" t="textAreaTop" r="textAreaRight" b="textAreaBottom"/>
              <a:pathLst>
                <a:path w="606971" h="584538">
                  <a:moveTo>
                    <a:pt x="496030" y="518184"/>
                  </a:moveTo>
                  <a:lnTo>
                    <a:pt x="496030" y="518184"/>
                  </a:lnTo>
                  <a:arcTo wR="303486" hR="292269" stAng="2973572" swAng="11984197"/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" name="Straight Arrow Connector 15"/>
            <p:cNvCxnSpPr>
              <a:stCxn id="147" idx="2"/>
            </p:cNvCxnSpPr>
            <p:nvPr/>
          </p:nvCxnSpPr>
          <p:spPr>
            <a:xfrm flipV="1">
              <a:off x="7223760" y="12952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49" name="Group 16"/>
          <p:cNvGrpSpPr/>
          <p:nvPr/>
        </p:nvGrpSpPr>
        <p:grpSpPr>
          <a:xfrm>
            <a:off x="6820920" y="1981080"/>
            <a:ext cx="810360" cy="961560"/>
            <a:chOff x="6820920" y="1981080"/>
            <a:chExt cx="810360" cy="961560"/>
          </a:xfrm>
        </p:grpSpPr>
        <p:sp>
          <p:nvSpPr>
            <p:cNvPr id="150" name="Chord 17"/>
            <p:cNvSpPr/>
            <p:nvPr/>
          </p:nvSpPr>
          <p:spPr>
            <a:xfrm rot="7220400">
              <a:off x="6922440" y="2241360"/>
              <a:ext cx="606600" cy="583920"/>
            </a:xfrm>
            <a:custGeom>
              <a:avLst/>
              <a:gdLst>
                <a:gd name="textAreaLeft" fmla="*/ 88560 w 606600"/>
                <a:gd name="textAreaRight" fmla="*/ 518040 w 606600"/>
                <a:gd name="textAreaTop" fmla="*/ 85320 h 583920"/>
                <a:gd name="textAreaBottom" fmla="*/ 498600 h 583920"/>
              </a:gdLst>
              <a:ahLst/>
              <a:rect l="textAreaLeft" t="textAreaTop" r="textAreaRight" b="textAreaBottom"/>
              <a:pathLst>
                <a:path w="606971" h="584538">
                  <a:moveTo>
                    <a:pt x="496030" y="518184"/>
                  </a:moveTo>
                  <a:lnTo>
                    <a:pt x="496030" y="518184"/>
                  </a:lnTo>
                  <a:arcTo wR="303486" hR="292269" stAng="2973572" swAng="11984197"/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" name="Straight Arrow Connector 18"/>
            <p:cNvCxnSpPr>
              <a:stCxn id="150" idx="2"/>
            </p:cNvCxnSpPr>
            <p:nvPr/>
          </p:nvCxnSpPr>
          <p:spPr>
            <a:xfrm flipV="1">
              <a:off x="7223760" y="19810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52" name="Group 19"/>
          <p:cNvGrpSpPr/>
          <p:nvPr/>
        </p:nvGrpSpPr>
        <p:grpSpPr>
          <a:xfrm>
            <a:off x="6820920" y="2666880"/>
            <a:ext cx="810360" cy="961560"/>
            <a:chOff x="6820920" y="2666880"/>
            <a:chExt cx="810360" cy="961560"/>
          </a:xfrm>
        </p:grpSpPr>
        <p:sp>
          <p:nvSpPr>
            <p:cNvPr id="153" name="Chord 21"/>
            <p:cNvSpPr/>
            <p:nvPr/>
          </p:nvSpPr>
          <p:spPr>
            <a:xfrm rot="7220400">
              <a:off x="6922440" y="2927160"/>
              <a:ext cx="606600" cy="583920"/>
            </a:xfrm>
            <a:custGeom>
              <a:avLst/>
              <a:gdLst>
                <a:gd name="textAreaLeft" fmla="*/ 88560 w 606600"/>
                <a:gd name="textAreaRight" fmla="*/ 518040 w 606600"/>
                <a:gd name="textAreaTop" fmla="*/ 85320 h 583920"/>
                <a:gd name="textAreaBottom" fmla="*/ 498600 h 583920"/>
              </a:gdLst>
              <a:ahLst/>
              <a:rect l="textAreaLeft" t="textAreaTop" r="textAreaRight" b="textAreaBottom"/>
              <a:pathLst>
                <a:path w="606971" h="584538">
                  <a:moveTo>
                    <a:pt x="496030" y="518184"/>
                  </a:moveTo>
                  <a:lnTo>
                    <a:pt x="496030" y="518184"/>
                  </a:lnTo>
                  <a:arcTo wR="303486" hR="292269" stAng="2973572" swAng="11984197"/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" name="Straight Arrow Connector 22"/>
            <p:cNvCxnSpPr>
              <a:stCxn id="153" idx="2"/>
            </p:cNvCxnSpPr>
            <p:nvPr/>
          </p:nvCxnSpPr>
          <p:spPr>
            <a:xfrm flipV="1">
              <a:off x="7223760" y="26668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55" name="Text Box 3"/>
          <p:cNvSpPr/>
          <p:nvPr/>
        </p:nvSpPr>
        <p:spPr>
          <a:xfrm>
            <a:off x="32767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447920" y="1447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47920" y="2819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0"/>
          <p:cNvSpPr/>
          <p:nvPr/>
        </p:nvSpPr>
        <p:spPr>
          <a:xfrm>
            <a:off x="5105520" y="1447920"/>
            <a:ext cx="53316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1055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2"/>
          <p:cNvSpPr/>
          <p:nvPr/>
        </p:nvSpPr>
        <p:spPr>
          <a:xfrm>
            <a:off x="60199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3"/>
          <p:cNvSpPr/>
          <p:nvPr/>
        </p:nvSpPr>
        <p:spPr>
          <a:xfrm>
            <a:off x="60199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4"/>
          <p:cNvSpPr/>
          <p:nvPr/>
        </p:nvSpPr>
        <p:spPr>
          <a:xfrm>
            <a:off x="60199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57200" y="38862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ability of observing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347760" y="4518000"/>
                <a:ext cx="8523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x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y</m:t>
                                    </m:r>
                                  </m:sup>
                                </m:sSup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,g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are random</m:t>
                              </m:r>
                            </m:e>
                          </m:mr>
                          <m:mr>
                            <m:e>
                              <m:r>
                                <m:t xml:space="preserve">Ω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,g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are forrelate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457200" y="30492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Intuition: FOURIER CHECKING Shouldn’t Be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1752480"/>
            <a:ext cx="81532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n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dividu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, computing the Fourier coefficient           is a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mplet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 and g being forrelated is an extremely “global” property: no polynomial number of f(x) and g(y) values should reveal much of anything abou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how to formalize and prove t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2133720" y="2819520"/>
                <a:ext cx="701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1371600" y="3505320"/>
                <a:ext cx="33717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 Box 3"/>
          <p:cNvSpPr/>
          <p:nvPr/>
        </p:nvSpPr>
        <p:spPr>
          <a:xfrm>
            <a:off x="380880" y="2514600"/>
            <a:ext cx="815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Key Defini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distribution D is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-almost k-wise independe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all k-term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80880" y="4813200"/>
            <a:ext cx="777240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all k, the forrelated distribution F is O(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/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/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-almost k-wise indepen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few pages of Gaussian integrals, then a discretization ste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80880" y="228600"/>
            <a:ext cx="8458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-ter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a product of k literals of the form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 1-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80880" y="914400"/>
            <a:ext cx="8001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distribution D over 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-wise independe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all k-term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2514600" y="1371600"/>
                <a:ext cx="34369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5" name="Group 13"/>
          <p:cNvGrpSpPr/>
          <p:nvPr/>
        </p:nvGrpSpPr>
        <p:grpSpPr>
          <a:xfrm>
            <a:off x="4800240" y="3352680"/>
            <a:ext cx="4191480" cy="1447920"/>
            <a:chOff x="4800240" y="3352680"/>
            <a:chExt cx="4191480" cy="1447920"/>
          </a:xfrm>
        </p:grpSpPr>
        <p:sp>
          <p:nvSpPr>
            <p:cNvPr id="176" name="Oval 9"/>
            <p:cNvSpPr/>
            <p:nvPr/>
          </p:nvSpPr>
          <p:spPr>
            <a:xfrm>
              <a:off x="5715000" y="3352680"/>
              <a:ext cx="3276720" cy="144792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3"/>
            <p:cNvSpPr/>
            <p:nvPr/>
          </p:nvSpPr>
          <p:spPr>
            <a:xfrm>
              <a:off x="5715000" y="3504960"/>
              <a:ext cx="3276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Approximation is multiplicative, not additive … that’s important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Straight Arrow Connector 12"/>
            <p:cNvCxnSpPr>
              <a:stCxn id="177" idx="1"/>
            </p:cNvCxnSpPr>
            <p:nvPr/>
          </p:nvCxnSpPr>
          <p:spPr>
            <a:xfrm flipH="1" flipV="1">
              <a:off x="4800240" y="4038120"/>
              <a:ext cx="915120" cy="20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1143000" y="3200400"/>
            <a:ext cx="678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azzi’0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ved the depth-2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3"/>
          <p:cNvGrpSpPr/>
          <p:nvPr/>
        </p:nvGrpSpPr>
        <p:grpSpPr>
          <a:xfrm>
            <a:off x="152280" y="304920"/>
            <a:ext cx="8839440" cy="2590560"/>
            <a:chOff x="152280" y="304920"/>
            <a:chExt cx="8839440" cy="2590560"/>
          </a:xfrm>
        </p:grpSpPr>
        <p:sp>
          <p:nvSpPr>
            <p:cNvPr id="181" name="Rectangle 11"/>
            <p:cNvSpPr/>
            <p:nvPr/>
          </p:nvSpPr>
          <p:spPr>
            <a:xfrm>
              <a:off x="152280" y="304920"/>
              <a:ext cx="8839440" cy="2590560"/>
            </a:xfrm>
            <a:prstGeom prst="rect">
              <a:avLst/>
            </a:prstGeom>
            <a:solidFill>
              <a:srgbClr val="ffff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"/>
            <p:cNvSpPr/>
            <p:nvPr/>
          </p:nvSpPr>
          <p:spPr>
            <a:xfrm>
              <a:off x="228240" y="380880"/>
              <a:ext cx="8687160" cy="148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Linial-Nisan Conjecture (1990) </a:t>
              </a: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with weaker parameters that suffice for us</a:t>
              </a: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Let f:{0,1}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{0,1} be computed by a circuit of size           and depth O(1).  Then for all n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</a:rPr>
                <a:t>(1)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-wise independent distributions D,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Object 2"/>
                <p:cNvSpPr txBox="1"/>
                <p:nvPr/>
              </p:nvSpPr>
              <p:spPr>
                <a:xfrm>
                  <a:off x="2286000" y="1752480"/>
                  <a:ext cx="472788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D</m:t>
                              </m:r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  <m:r>
                            <m:t xml:space="preserve">−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t xml:space="preserve">∈</m:t>
                              </m:r>
                              <m:sSup>
                                <m:e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0,1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</m:e>
                      </m:d>
                      <m:r>
                        <m:t xml:space="preserve">=</m:t>
                      </m:r>
                      <m:r>
                        <m:t xml:space="preserve">o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4" name="Object 2"/>
                <p:cNvSpPr txBox="1"/>
                <p:nvPr/>
              </p:nvSpPr>
              <p:spPr>
                <a:xfrm>
                  <a:off x="7086600" y="838080"/>
                  <a:ext cx="7938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o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5" name="Group 14"/>
          <p:cNvGrpSpPr/>
          <p:nvPr/>
        </p:nvGrpSpPr>
        <p:grpSpPr>
          <a:xfrm>
            <a:off x="533520" y="3962520"/>
            <a:ext cx="8076960" cy="2286000"/>
            <a:chOff x="533520" y="3962520"/>
            <a:chExt cx="8076960" cy="2286000"/>
          </a:xfrm>
        </p:grpSpPr>
        <p:sp>
          <p:nvSpPr>
            <p:cNvPr id="186" name="Rectangle 12"/>
            <p:cNvSpPr/>
            <p:nvPr/>
          </p:nvSpPr>
          <p:spPr>
            <a:xfrm>
              <a:off x="533520" y="3962520"/>
              <a:ext cx="8076960" cy="2286000"/>
            </a:xfrm>
            <a:prstGeom prst="rect">
              <a:avLst/>
            </a:prstGeom>
            <a:solidFill>
              <a:srgbClr val="ffff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"/>
            <p:cNvSpPr/>
            <p:nvPr/>
          </p:nvSpPr>
          <p:spPr>
            <a:xfrm>
              <a:off x="533520" y="3962520"/>
              <a:ext cx="8001000" cy="18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“</a:t>
              </a: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Generalized Linial-Nisan Conjecture”: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 Let f be computed by a circuit of size           and depth O(1).  Then for all </a:t>
              </a:r>
              <a:r>
                <a:rPr b="1" lang="en-US" sz="2600" spc="-1" strike="noStrike">
                  <a:solidFill>
                    <a:srgbClr val="000000"/>
                  </a:solidFill>
                  <a:latin typeface="Calibri"/>
                </a:rPr>
                <a:t>1/n</a:t>
              </a:r>
              <a:r>
                <a:rPr b="1" lang="en-US" sz="2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1" lang="en-US" sz="2600" spc="-1" strike="noStrike" baseline="30000">
                  <a:solidFill>
                    <a:srgbClr val="000000"/>
                  </a:solidFill>
                  <a:latin typeface="Calibri"/>
                </a:rPr>
                <a:t>(1)</a:t>
              </a:r>
              <a:r>
                <a:rPr b="1" lang="en-US" sz="2600" spc="-1" strike="noStrike">
                  <a:solidFill>
                    <a:srgbClr val="000000"/>
                  </a:solidFill>
                  <a:latin typeface="Calibri"/>
                </a:rPr>
                <a:t>-almost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 n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</a:rPr>
                <a:t>(1)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-wise independent distributions D,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Object 2"/>
                <p:cNvSpPr txBox="1"/>
                <p:nvPr/>
              </p:nvSpPr>
              <p:spPr>
                <a:xfrm>
                  <a:off x="2590920" y="5105520"/>
                  <a:ext cx="472752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D</m:t>
                              </m:r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  <m:r>
                            <m:t xml:space="preserve">−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t xml:space="preserve">∈</m:t>
                              </m:r>
                              <m:sSup>
                                <m:e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0,1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</m:e>
                      </m:d>
                      <m:r>
                        <m:t xml:space="preserve">=</m:t>
                      </m:r>
                      <m:r>
                        <m:t xml:space="preserve">o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Object 2"/>
                <p:cNvSpPr txBox="1"/>
                <p:nvPr/>
              </p:nvSpPr>
              <p:spPr>
                <a:xfrm>
                  <a:off x="3048120" y="4267080"/>
                  <a:ext cx="79344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o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0" name="Text Box 3"/>
          <p:cNvSpPr/>
          <p:nvPr/>
        </p:nvSpPr>
        <p:spPr>
          <a:xfrm>
            <a:off x="533520" y="3200400"/>
            <a:ext cx="807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Razborov’08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dramatically simplified Bazzi’s pro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09480" y="3200400"/>
            <a:ext cx="792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nally,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raverman’09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ved the whole 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19320" y="3200400"/>
            <a:ext cx="678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as, we need th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6"/>
          <p:cNvSpPr/>
          <p:nvPr/>
        </p:nvSpPr>
        <p:spPr>
          <a:xfrm>
            <a:off x="304920" y="152280"/>
            <a:ext cx="853416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ing back to our result for relational problems: what was surprising was that we showed hardness of a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ampling problem, using a nondeterministic reduction from MAJORITY—a “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 problem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s raises a question: is something similar possible in the unrelativized (non-black-box) world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304920" y="3048120"/>
            <a:ext cx="83055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deed it is.  Consider the following problem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QSAMPLING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iven a quantum circuit C, which acts on n qubits initialized to the all-0 state.  Sample from C’s output distribu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8"/>
          <p:cNvGrpSpPr/>
          <p:nvPr/>
        </p:nvGrpSpPr>
        <p:grpSpPr>
          <a:xfrm>
            <a:off x="304920" y="5029200"/>
            <a:ext cx="8458200" cy="1600200"/>
            <a:chOff x="304920" y="5029200"/>
            <a:chExt cx="8458200" cy="1600200"/>
          </a:xfrm>
        </p:grpSpPr>
        <p:sp>
          <p:nvSpPr>
            <p:cNvPr id="196" name="AutoShape 9"/>
            <p:cNvSpPr/>
            <p:nvPr/>
          </p:nvSpPr>
          <p:spPr>
            <a:xfrm>
              <a:off x="304920" y="5029200"/>
              <a:ext cx="8458200" cy="1600200"/>
            </a:xfrm>
            <a:prstGeom prst="verticalScroll">
              <a:avLst>
                <a:gd name="adj" fmla="val 540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6"/>
            <p:cNvSpPr/>
            <p:nvPr/>
          </p:nvSpPr>
          <p:spPr>
            <a:xfrm>
              <a:off x="533520" y="5638680"/>
              <a:ext cx="8035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Suppose QSAMPLING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000" spc="-1" strike="noStrike">
                  <a:solidFill>
                    <a:srgbClr val="990099"/>
                  </a:solidFill>
                  <a:latin typeface="Calibri"/>
                </a:rPr>
                <a:t>BPP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.  Then </a:t>
              </a:r>
              <a:r>
                <a:rPr b="1" lang="en-US" sz="3000" spc="-1" strike="noStrike">
                  <a:solidFill>
                    <a:srgbClr val="990099"/>
                  </a:solidFill>
                  <a:latin typeface="Calibri"/>
                </a:rPr>
                <a:t>P</a:t>
              </a:r>
              <a:r>
                <a:rPr b="1" lang="en-US" sz="3000" spc="-1" strike="noStrike" baseline="30000">
                  <a:solidFill>
                    <a:srgbClr val="990099"/>
                  </a:solidFill>
                  <a:latin typeface="Calibri"/>
                </a:rPr>
                <a:t>#P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r>
                <a:rPr b="1" lang="en-US" sz="3000" spc="-1" strike="noStrike">
                  <a:solidFill>
                    <a:srgbClr val="990099"/>
                  </a:solidFill>
                  <a:latin typeface="Calibri"/>
                </a:rPr>
                <a:t>BPP</a:t>
              </a:r>
              <a:r>
                <a:rPr b="1" lang="en-US" sz="3000" spc="-1" strike="noStrike" baseline="30000">
                  <a:solidFill>
                    <a:srgbClr val="990099"/>
                  </a:solidFill>
                  <a:latin typeface="Calibri"/>
                </a:rPr>
                <a:t>NP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(so in particular, </a:t>
              </a:r>
              <a:r>
                <a:rPr b="1" lang="en-US" sz="2200" spc="-1" strike="noStrike">
                  <a:solidFill>
                    <a:srgbClr val="990099"/>
                  </a:solidFill>
                  <a:latin typeface="Calibri"/>
                </a:rPr>
                <a:t>PH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 collapses to the third level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"/>
            <p:cNvSpPr/>
            <p:nvPr/>
          </p:nvSpPr>
          <p:spPr>
            <a:xfrm>
              <a:off x="304920" y="5181480"/>
              <a:ext cx="845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Calibri"/>
                </a:rPr>
                <a:t>Result/Observation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Why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QSAMPLING Is H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2971800" y="5105520"/>
                <a:ext cx="342432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1" name="Text Box 16"/>
          <p:cNvSpPr/>
          <p:nvPr/>
        </p:nvSpPr>
        <p:spPr>
          <a:xfrm>
            <a:off x="228600" y="10666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f:{0,1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{-1,1} be any efficiently computable function.  Suppose we apply the following quantum circui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2"/>
          <p:cNvGrpSpPr/>
          <p:nvPr/>
        </p:nvGrpSpPr>
        <p:grpSpPr>
          <a:xfrm>
            <a:off x="2438280" y="2133720"/>
            <a:ext cx="4354920" cy="2333160"/>
            <a:chOff x="2438280" y="2133720"/>
            <a:chExt cx="4354920" cy="2333160"/>
          </a:xfrm>
        </p:grpSpPr>
        <p:sp>
          <p:nvSpPr>
            <p:cNvPr id="203" name="Straight Connector 8"/>
            <p:cNvSpPr/>
            <p:nvPr/>
          </p:nvSpPr>
          <p:spPr>
            <a:xfrm>
              <a:off x="2971440" y="32767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traight Connector 9"/>
            <p:cNvSpPr/>
            <p:nvPr/>
          </p:nvSpPr>
          <p:spPr>
            <a:xfrm>
              <a:off x="2971440" y="39625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Straight Connector 10"/>
            <p:cNvSpPr/>
            <p:nvPr/>
          </p:nvSpPr>
          <p:spPr>
            <a:xfrm>
              <a:off x="2971440" y="25909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4"/>
            <p:cNvSpPr/>
            <p:nvPr/>
          </p:nvSpPr>
          <p:spPr>
            <a:xfrm>
              <a:off x="3352680" y="22860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6"/>
            <p:cNvSpPr/>
            <p:nvPr/>
          </p:nvSpPr>
          <p:spPr>
            <a:xfrm>
              <a:off x="3352680" y="2971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7"/>
            <p:cNvSpPr/>
            <p:nvPr/>
          </p:nvSpPr>
          <p:spPr>
            <a:xfrm>
              <a:off x="3352680" y="365796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4"/>
            <p:cNvSpPr/>
            <p:nvPr/>
          </p:nvSpPr>
          <p:spPr>
            <a:xfrm>
              <a:off x="4267080" y="2286000"/>
              <a:ext cx="533160" cy="19051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9"/>
            <p:cNvSpPr/>
            <p:nvPr/>
          </p:nvSpPr>
          <p:spPr>
            <a:xfrm>
              <a:off x="5181480" y="22860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0"/>
            <p:cNvSpPr/>
            <p:nvPr/>
          </p:nvSpPr>
          <p:spPr>
            <a:xfrm>
              <a:off x="5181480" y="2971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11"/>
            <p:cNvSpPr/>
            <p:nvPr/>
          </p:nvSpPr>
          <p:spPr>
            <a:xfrm>
              <a:off x="5181480" y="365796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49"/>
            <p:cNvGrpSpPr/>
            <p:nvPr/>
          </p:nvGrpSpPr>
          <p:grpSpPr>
            <a:xfrm>
              <a:off x="5982840" y="2133720"/>
              <a:ext cx="810360" cy="961560"/>
              <a:chOff x="5982840" y="2133720"/>
              <a:chExt cx="810360" cy="961560"/>
            </a:xfrm>
          </p:grpSpPr>
          <p:sp>
            <p:nvSpPr>
              <p:cNvPr id="214" name="Chord 29"/>
              <p:cNvSpPr/>
              <p:nvPr/>
            </p:nvSpPr>
            <p:spPr>
              <a:xfrm rot="7220400">
                <a:off x="6084360" y="239400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5" name="Straight Arrow Connector 30"/>
              <p:cNvCxnSpPr>
                <a:stCxn id="214" idx="2"/>
              </p:cNvCxnSpPr>
              <p:nvPr/>
            </p:nvCxnSpPr>
            <p:spPr>
              <a:xfrm flipV="1">
                <a:off x="6385680" y="213372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216" name="Group 50"/>
            <p:cNvGrpSpPr/>
            <p:nvPr/>
          </p:nvGrpSpPr>
          <p:grpSpPr>
            <a:xfrm>
              <a:off x="5982840" y="2819520"/>
              <a:ext cx="810360" cy="961560"/>
              <a:chOff x="5982840" y="2819520"/>
              <a:chExt cx="810360" cy="961560"/>
            </a:xfrm>
          </p:grpSpPr>
          <p:sp>
            <p:nvSpPr>
              <p:cNvPr id="217" name="Chord 27"/>
              <p:cNvSpPr/>
              <p:nvPr/>
            </p:nvSpPr>
            <p:spPr>
              <a:xfrm rot="7220400">
                <a:off x="6084360" y="307980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8" name="Straight Arrow Connector 28"/>
              <p:cNvCxnSpPr>
                <a:stCxn id="217" idx="2"/>
              </p:cNvCxnSpPr>
              <p:nvPr/>
            </p:nvCxnSpPr>
            <p:spPr>
              <a:xfrm flipV="1">
                <a:off x="6385680" y="281952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219" name="Group 53"/>
            <p:cNvGrpSpPr/>
            <p:nvPr/>
          </p:nvGrpSpPr>
          <p:grpSpPr>
            <a:xfrm>
              <a:off x="5982840" y="3505320"/>
              <a:ext cx="810360" cy="961560"/>
              <a:chOff x="5982840" y="3505320"/>
              <a:chExt cx="810360" cy="961560"/>
            </a:xfrm>
          </p:grpSpPr>
          <p:sp>
            <p:nvSpPr>
              <p:cNvPr id="220" name="Chord 25"/>
              <p:cNvSpPr/>
              <p:nvPr/>
            </p:nvSpPr>
            <p:spPr>
              <a:xfrm rot="7220400">
                <a:off x="6084360" y="376560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1" name="Straight Arrow Connector 26"/>
              <p:cNvCxnSpPr>
                <a:stCxn id="220" idx="2"/>
              </p:cNvCxnSpPr>
              <p:nvPr/>
            </p:nvCxnSpPr>
            <p:spPr>
              <a:xfrm flipV="1">
                <a:off x="6385680" y="350532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222" name="Text Box 3"/>
            <p:cNvSpPr/>
            <p:nvPr/>
          </p:nvSpPr>
          <p:spPr>
            <a:xfrm>
              <a:off x="4267080" y="2971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"/>
            <p:cNvSpPr/>
            <p:nvPr/>
          </p:nvSpPr>
          <p:spPr>
            <a:xfrm>
              <a:off x="2438280" y="22860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"/>
            <p:cNvSpPr/>
            <p:nvPr/>
          </p:nvSpPr>
          <p:spPr>
            <a:xfrm>
              <a:off x="2438280" y="2971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3"/>
            <p:cNvSpPr/>
            <p:nvPr/>
          </p:nvSpPr>
          <p:spPr>
            <a:xfrm>
              <a:off x="2438280" y="365796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16"/>
          <p:cNvSpPr/>
          <p:nvPr/>
        </p:nvSpPr>
        <p:spPr>
          <a:xfrm>
            <a:off x="228600" y="4495680"/>
            <a:ext cx="853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the probability of observing the all-0 string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6"/>
          <p:cNvSpPr/>
          <p:nvPr/>
        </p:nvSpPr>
        <p:spPr>
          <a:xfrm>
            <a:off x="228600" y="1981080"/>
            <a:ext cx="4267080" cy="37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hard to estimat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up to a constant fact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lated to my result that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PostBQ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P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Proof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we can estimate p, then we can also compu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(x) using binary search and pad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4572000" y="1981080"/>
            <a:ext cx="426708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ppose QSAMPLING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Then we could estimate p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Proof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Let M be a classical algorithm for QSAMPLING, and let r be its randomness.  Use approximate counting to est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304920" y="6019920"/>
            <a:ext cx="8610480" cy="9774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Conclusion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Suppose QSAMPLING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.  Then 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6019920" y="5105520"/>
                <a:ext cx="28717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r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outputs 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7"/>
              <p:cNvSpPr txBox="1"/>
              <p:nvPr/>
            </p:nvSpPr>
            <p:spPr>
              <a:xfrm>
                <a:off x="2971800" y="5105520"/>
                <a:ext cx="342432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Straight Connector 9"/>
          <p:cNvSpPr/>
          <p:nvPr/>
        </p:nvSpPr>
        <p:spPr>
          <a:xfrm>
            <a:off x="4495680" y="1905120"/>
            <a:ext cx="0" cy="380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6296E-006 L -0.00382 -0.69398 E">
                                      <p:cBhvr>
                                        <p:cTn id="239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6"/>
          <p:cNvSpPr/>
          <p:nvPr/>
        </p:nvSpPr>
        <p:spPr>
          <a:xfrm>
            <a:off x="457200" y="2286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ally, we want a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mple, explicit quantum system Q, such that any classical algorithm that even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pproximate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imulates Q would have dramatic consequences for classical complexity theo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457200" y="20574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believe this is possible, using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on-interacting bos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304920" y="5334120"/>
                <a:ext cx="358128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6" name="Text Box 16"/>
          <p:cNvSpPr/>
          <p:nvPr/>
        </p:nvSpPr>
        <p:spPr>
          <a:xfrm>
            <a:off x="1295280" y="419112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BOS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1"/>
          <a:srcRect l="11708" t="0" r="23416" b="18373"/>
          <a:stretch/>
        </p:blipFill>
        <p:spPr>
          <a:xfrm>
            <a:off x="1523880" y="3200400"/>
            <a:ext cx="129564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4267080" y="5334120"/>
                <a:ext cx="4713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5562720" y="3200400"/>
            <a:ext cx="1689120" cy="9907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6"/>
          <p:cNvSpPr/>
          <p:nvPr/>
        </p:nvSpPr>
        <p:spPr>
          <a:xfrm>
            <a:off x="5410080" y="41911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FERM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990720" y="2666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There are two basic types of particle in the univer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990720" y="49528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Their transition amplitudes are given respectively b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3"/>
          <a:srcRect l="22399" t="3750" r="22399" b="0"/>
          <a:stretch/>
        </p:blipFill>
        <p:spPr>
          <a:xfrm>
            <a:off x="5715000" y="3048120"/>
            <a:ext cx="1577880" cy="2346120"/>
          </a:xfrm>
          <a:prstGeom prst="rect">
            <a:avLst/>
          </a:prstGeom>
          <a:ln w="0">
            <a:noFill/>
          </a:ln>
        </p:spPr>
      </p:pic>
      <p:sp>
        <p:nvSpPr>
          <p:cNvPr id="244" name="Oval Callout 22"/>
          <p:cNvSpPr/>
          <p:nvPr/>
        </p:nvSpPr>
        <p:spPr>
          <a:xfrm>
            <a:off x="1066680" y="2590920"/>
            <a:ext cx="4724640" cy="1143000"/>
          </a:xfrm>
          <a:prstGeom prst="wedgeEllipseCallout">
            <a:avLst>
              <a:gd name="adj1" fmla="val 55513"/>
              <a:gd name="adj2" fmla="val 71342"/>
            </a:avLst>
          </a:prstGeom>
          <a:solidFill>
            <a:srgbClr val="e4f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1371600" y="27432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I can say is, the bosons got the harder job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6019920" y="2819520"/>
            <a:ext cx="988920" cy="761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2133720" y="2819520"/>
            <a:ext cx="988920" cy="761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228600" y="152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 1994, something big happened in the foundations of computer science, whose meaning is still debated to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2895480" y="1752480"/>
            <a:ext cx="3295800" cy="2971800"/>
          </a:xfrm>
          <a:prstGeom prst="rect">
            <a:avLst/>
          </a:prstGeom>
          <a:ln w="0">
            <a:noFill/>
          </a:ln>
        </p:spPr>
      </p:pic>
      <p:sp>
        <p:nvSpPr>
          <p:cNvPr id="55" name="Freeform 8"/>
          <p:cNvSpPr/>
          <p:nvPr/>
        </p:nvSpPr>
        <p:spPr>
          <a:xfrm>
            <a:off x="2895480" y="28954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4178160" y="2289240"/>
            <a:ext cx="2000520" cy="1377720"/>
          </a:xfrm>
          <a:custGeom>
            <a:avLst/>
            <a:gdLst>
              <a:gd name="textAreaLeft" fmla="*/ 0 w 2000520"/>
              <a:gd name="textAreaRight" fmla="*/ 2000880 w 2000520"/>
              <a:gd name="textAreaTop" fmla="*/ 0 h 1377720"/>
              <a:gd name="textAreaBottom" fmla="*/ 1378080 h 137772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914400" y="4724280"/>
            <a:ext cx="76960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exactly was Shor’s algorithm importa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ooster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’ll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keptic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on’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reasons having nothing to do with building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" dur="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" dur="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" dur="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" dur="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88"/>
          <p:cNvSpPr/>
          <p:nvPr/>
        </p:nvSpPr>
        <p:spPr>
          <a:xfrm>
            <a:off x="2819520" y="1752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1d1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228600" y="1522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Our Result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ake a system of n identical photons, with m=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mod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basis states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each.  Put each photon in a known mode, then apply a random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 scattering matrix U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28600" y="350532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D be the distribution that results from measuring the photons.  Suppose there’s an efficient classical algorithm that samples any distribution even 1/poly(n)-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os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D in variation distance.  Then in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one can estimate the permanent of a matrix X of i.i.d. N(0,1) complex Gaussians, to additive error                 with high probability over X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2819520" y="5638680"/>
                <a:ext cx="9334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Rectangle 75"/>
          <p:cNvSpPr/>
          <p:nvPr/>
        </p:nvSpPr>
        <p:spPr>
          <a:xfrm>
            <a:off x="2743200" y="16002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6"/>
          <p:cNvSpPr/>
          <p:nvPr/>
        </p:nvSpPr>
        <p:spPr>
          <a:xfrm>
            <a:off x="2743200" y="19051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7"/>
          <p:cNvSpPr/>
          <p:nvPr/>
        </p:nvSpPr>
        <p:spPr>
          <a:xfrm>
            <a:off x="2743200" y="22096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8"/>
          <p:cNvSpPr/>
          <p:nvPr/>
        </p:nvSpPr>
        <p:spPr>
          <a:xfrm>
            <a:off x="2743200" y="25146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9"/>
          <p:cNvSpPr/>
          <p:nvPr/>
        </p:nvSpPr>
        <p:spPr>
          <a:xfrm>
            <a:off x="2743200" y="28195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0"/>
          <p:cNvSpPr/>
          <p:nvPr/>
        </p:nvSpPr>
        <p:spPr>
          <a:xfrm>
            <a:off x="3962520" y="160020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1"/>
          <p:cNvSpPr/>
          <p:nvPr/>
        </p:nvSpPr>
        <p:spPr>
          <a:xfrm>
            <a:off x="3962520" y="1905120"/>
            <a:ext cx="30456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2"/>
          <p:cNvSpPr/>
          <p:nvPr/>
        </p:nvSpPr>
        <p:spPr>
          <a:xfrm>
            <a:off x="3962520" y="220968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3"/>
          <p:cNvSpPr/>
          <p:nvPr/>
        </p:nvSpPr>
        <p:spPr>
          <a:xfrm>
            <a:off x="3962520" y="251460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4"/>
          <p:cNvSpPr/>
          <p:nvPr/>
        </p:nvSpPr>
        <p:spPr>
          <a:xfrm>
            <a:off x="3962520" y="2819520"/>
            <a:ext cx="30456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85"/>
          <p:cNvSpPr/>
          <p:nvPr/>
        </p:nvSpPr>
        <p:spPr>
          <a:xfrm>
            <a:off x="2743200" y="16002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86"/>
          <p:cNvSpPr/>
          <p:nvPr/>
        </p:nvSpPr>
        <p:spPr>
          <a:xfrm>
            <a:off x="2743200" y="19051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87"/>
          <p:cNvSpPr/>
          <p:nvPr/>
        </p:nvSpPr>
        <p:spPr>
          <a:xfrm>
            <a:off x="2743200" y="2209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27"/>
          <p:cNvGrpSpPr/>
          <p:nvPr/>
        </p:nvGrpSpPr>
        <p:grpSpPr>
          <a:xfrm>
            <a:off x="4876920" y="1600200"/>
            <a:ext cx="3886200" cy="1981080"/>
            <a:chOff x="4876920" y="1600200"/>
            <a:chExt cx="3886200" cy="1981080"/>
          </a:xfrm>
        </p:grpSpPr>
        <p:sp>
          <p:nvSpPr>
            <p:cNvPr id="264" name="Oval 20"/>
            <p:cNvSpPr/>
            <p:nvPr/>
          </p:nvSpPr>
          <p:spPr>
            <a:xfrm>
              <a:off x="4876920" y="1600200"/>
              <a:ext cx="3886200" cy="137160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8"/>
            <p:cNvSpPr/>
            <p:nvPr/>
          </p:nvSpPr>
          <p:spPr>
            <a:xfrm>
              <a:off x="5029200" y="1752480"/>
              <a:ext cx="358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Calibri"/>
                </a:rPr>
                <a:t>Conjecture:</a:t>
              </a:r>
              <a:r>
                <a:rPr b="0" lang="en-US" sz="2700" spc="-1" strike="noStrike">
                  <a:solidFill>
                    <a:srgbClr val="000000"/>
                  </a:solidFill>
                  <a:latin typeface="Calibri"/>
                </a:rPr>
                <a:t> This problem is </a:t>
              </a:r>
              <a:r>
                <a:rPr b="1" lang="en-US" sz="2700" spc="-1" strike="noStrike">
                  <a:solidFill>
                    <a:srgbClr val="7030a0"/>
                  </a:solidFill>
                  <a:latin typeface="Calibri"/>
                </a:rPr>
                <a:t>#P</a:t>
              </a:r>
              <a:r>
                <a:rPr b="0" lang="en-US" sz="2700" spc="-1" strike="noStrike">
                  <a:solidFill>
                    <a:srgbClr val="000000"/>
                  </a:solidFill>
                  <a:latin typeface="Calibri"/>
                </a:rPr>
                <a:t>-complet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Straight Arrow Connector 22"/>
            <p:cNvCxnSpPr/>
            <p:nvPr/>
          </p:nvCxnSpPr>
          <p:spPr>
            <a:xfrm flipH="1">
              <a:off x="6095520" y="2971440"/>
              <a:ext cx="305280" cy="610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23034E-006 L 0.14584 0.12766 E">
                                      <p:cBhvr>
                                        <p:cTn id="308" dur="1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56059E-006 L 0.1375 0.10546 E">
                                      <p:cBhvr>
                                        <p:cTn id="310" dur="1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0916E-006 L 0.1375 -0.03886 E">
                                      <p:cBhvr>
                                        <p:cTn id="312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52280" y="152280"/>
            <a:ext cx="8839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The Permanent of Gaussians Conjecture (PGC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380880" y="762120"/>
            <a:ext cx="8001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n a matrix X of i.i.d, N(0,1) complex Gaussians, it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 to approximate Per(X) to within                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th 1-1/poly(n) probability over 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6815160" y="1219320"/>
                <a:ext cx="11541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ol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Text Box 16"/>
          <p:cNvSpPr/>
          <p:nvPr/>
        </p:nvSpPr>
        <p:spPr>
          <a:xfrm>
            <a:off x="380880" y="2133720"/>
            <a:ext cx="8534520" cy="20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t isn’t the permanent easy to approximate, by Jerrum-Sinclair-Vigoda?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Yes—for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nonnegative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 matrices.  For general matrices, can get huge cancellations between positive and negative terms, and indeed even approximating the permanent is </a:t>
            </a:r>
            <a:r>
              <a:rPr b="1" lang="en-US" sz="22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-complete in the wors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380880" y="4343400"/>
            <a:ext cx="8534520" cy="31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ntuition for PGC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We know computing the permanent of a random matrix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—over finite fields.  “Merely” need to extend that result to the reals or complex number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Basic difficulty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When doing LFKN-style interpolation, errors in the permanent estimates can blow up exponential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PGC</a:t>
            </a:r>
            <a:r>
              <a:rPr b="1" lang="en-US" sz="4000" spc="-1" strike="noStrike">
                <a:solidFill>
                  <a:srgbClr val="0070c0"/>
                </a:solidFill>
                <a:latin typeface="Symbol"/>
                <a:ea typeface="Symbol"/>
              </a:rPr>
              <a:t>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Hardness of BOSONSAMP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228600" y="1066680"/>
            <a:ext cx="8763120" cy="18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n a Gaussian random matrix X, we’ll “smuggle”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X into the unitary transition matrix U for m=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bos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Useful fact we rely on: given a Haar-random m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m unitary matrix, an n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n  submatrix looks approximately Ga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123920" y="4572000"/>
                <a:ext cx="309420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Text Box 16"/>
          <p:cNvSpPr/>
          <p:nvPr/>
        </p:nvSpPr>
        <p:spPr>
          <a:xfrm>
            <a:off x="380880" y="6172200"/>
            <a:ext cx="853452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eat Fact: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’s sum to 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4572000" y="4648320"/>
            <a:ext cx="403848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ere 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an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 matrix containing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pies of the 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row of U (first n columns onl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228600" y="2895480"/>
            <a:ext cx="876312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hat initially, modes 1,…,n contain one boson each while modes n+1,…,m are unoccupied.  Then after applying U, we observe a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onfigura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list of occupation numbers)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with probabil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15228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roblem: Bosons like to pile on top of each ot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380880" y="838080"/>
            <a:ext cx="853452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ll a configuration S=(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goo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f every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0 or 1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i.e., there are no collisions between bosons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ba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therw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bad configurations dominated, then our sampling algorithm might “work,” without ever having to solve a hard PERMANENT insta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urthermore, the “bosonic birthday paradox” is even worse than the classical on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9"/>
          <p:cNvGrpSpPr/>
          <p:nvPr/>
        </p:nvGrpSpPr>
        <p:grpSpPr>
          <a:xfrm>
            <a:off x="914400" y="4724280"/>
            <a:ext cx="1066680" cy="533520"/>
            <a:chOff x="914400" y="4724280"/>
            <a:chExt cx="1066680" cy="533520"/>
          </a:xfrm>
        </p:grpSpPr>
        <p:sp>
          <p:nvSpPr>
            <p:cNvPr id="281" name="Rectangle 3"/>
            <p:cNvSpPr/>
            <p:nvPr/>
          </p:nvSpPr>
          <p:spPr>
            <a:xfrm>
              <a:off x="914400" y="4724280"/>
              <a:ext cx="533520" cy="5335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4"/>
            <p:cNvSpPr/>
            <p:nvPr/>
          </p:nvSpPr>
          <p:spPr>
            <a:xfrm>
              <a:off x="1447920" y="4724280"/>
              <a:ext cx="533160" cy="5335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0"/>
          <p:cNvGrpSpPr/>
          <p:nvPr/>
        </p:nvGrpSpPr>
        <p:grpSpPr>
          <a:xfrm>
            <a:off x="990720" y="4800600"/>
            <a:ext cx="914400" cy="380880"/>
            <a:chOff x="990720" y="4800600"/>
            <a:chExt cx="914400" cy="380880"/>
          </a:xfrm>
        </p:grpSpPr>
        <p:sp>
          <p:nvSpPr>
            <p:cNvPr id="284" name="Oval 5"/>
            <p:cNvSpPr/>
            <p:nvPr/>
          </p:nvSpPr>
          <p:spPr>
            <a:xfrm>
              <a:off x="990720" y="4800600"/>
              <a:ext cx="380880" cy="3808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6"/>
            <p:cNvSpPr/>
            <p:nvPr/>
          </p:nvSpPr>
          <p:spPr>
            <a:xfrm>
              <a:off x="1524240" y="4800600"/>
              <a:ext cx="380880" cy="3808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1"/>
          <p:cNvGrpSpPr/>
          <p:nvPr/>
        </p:nvGrpSpPr>
        <p:grpSpPr>
          <a:xfrm>
            <a:off x="914400" y="4724280"/>
            <a:ext cx="533520" cy="533520"/>
            <a:chOff x="914400" y="4724280"/>
            <a:chExt cx="533520" cy="533520"/>
          </a:xfrm>
        </p:grpSpPr>
        <p:sp>
          <p:nvSpPr>
            <p:cNvPr id="287" name="Oval 5"/>
            <p:cNvSpPr/>
            <p:nvPr/>
          </p:nvSpPr>
          <p:spPr>
            <a:xfrm>
              <a:off x="914400" y="4876560"/>
              <a:ext cx="38124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6"/>
            <p:cNvSpPr/>
            <p:nvPr/>
          </p:nvSpPr>
          <p:spPr>
            <a:xfrm>
              <a:off x="1066680" y="4724280"/>
              <a:ext cx="38124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2"/>
          <p:cNvGrpSpPr/>
          <p:nvPr/>
        </p:nvGrpSpPr>
        <p:grpSpPr>
          <a:xfrm>
            <a:off x="1447920" y="4724280"/>
            <a:ext cx="533160" cy="533520"/>
            <a:chOff x="1447920" y="4724280"/>
            <a:chExt cx="533160" cy="533520"/>
          </a:xfrm>
        </p:grpSpPr>
        <p:sp>
          <p:nvSpPr>
            <p:cNvPr id="290" name="Oval 5"/>
            <p:cNvSpPr/>
            <p:nvPr/>
          </p:nvSpPr>
          <p:spPr>
            <a:xfrm>
              <a:off x="1447920" y="4876560"/>
              <a:ext cx="38088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6"/>
            <p:cNvSpPr/>
            <p:nvPr/>
          </p:nvSpPr>
          <p:spPr>
            <a:xfrm>
              <a:off x="1600200" y="4724280"/>
              <a:ext cx="38088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2" name="Object 2"/>
              <p:cNvSpPr txBox="1"/>
              <p:nvPr/>
            </p:nvSpPr>
            <p:spPr>
              <a:xfrm>
                <a:off x="2590920" y="4267080"/>
                <a:ext cx="62532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oth particles land in the same bo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Rectangle 16"/>
          <p:cNvSpPr/>
          <p:nvPr/>
        </p:nvSpPr>
        <p:spPr>
          <a:xfrm>
            <a:off x="2590920" y="502920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ther than ½ as with classical partic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380880" y="57150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tunately, we show that with n bosons and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oxes, the probability of a collision is still at most (say) 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Experimental Prosp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304920" y="1066680"/>
            <a:ext cx="5410080" cy="41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would it take to implement the requisite experiment with photonic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phase-shifters and beamsplitters, to implement a Haar-random unitary on m photon mod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single-photon sour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photodetector array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t crucially, no nonlinear optics or postselected measurement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5791320" y="1447920"/>
            <a:ext cx="3105000" cy="28000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6"/>
          <p:cNvSpPr/>
          <p:nvPr/>
        </p:nvSpPr>
        <p:spPr>
          <a:xfrm>
            <a:off x="304920" y="54100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Our Proposal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ncentrate on (say) n=30 photons, so that classical simulation is 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difficult but not imposs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riz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04920" y="1219320"/>
            <a:ext cx="777240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the Generalized Linial-Nisan Conjecture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ields an oracle A such that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Generalized L-N even for the special case of DNF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ields an oracle A such that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A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the Permanent of Gaussians Conjecture!</a:t>
            </a: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imply that eve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pproxim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ical simulation of linear-optics circuits would collaps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9"/>
          <p:cNvGrpSpPr/>
          <p:nvPr/>
        </p:nvGrpSpPr>
        <p:grpSpPr>
          <a:xfrm>
            <a:off x="7924680" y="1905120"/>
            <a:ext cx="1219320" cy="1218960"/>
            <a:chOff x="7924680" y="1905120"/>
            <a:chExt cx="1219320" cy="1218960"/>
          </a:xfrm>
        </p:grpSpPr>
        <p:pic>
          <p:nvPicPr>
            <p:cNvPr id="302" name="Picture 6" descr="C:\Users\od user\AppData\Local\Microsoft\Windows\Temporary Internet Files\Content.IE5\N7YD4WXK\MCj04363050000[1].png"/>
            <p:cNvPicPr/>
            <p:nvPr/>
          </p:nvPicPr>
          <p:blipFill>
            <a:blip r:embed="rId1"/>
            <a:stretch/>
          </p:blipFill>
          <p:spPr>
            <a:xfrm>
              <a:off x="7924680" y="190512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Box 5"/>
            <p:cNvSpPr/>
            <p:nvPr/>
          </p:nvSpPr>
          <p:spPr>
            <a:xfrm>
              <a:off x="8000640" y="2438280"/>
              <a:ext cx="1067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b0f0"/>
                  </a:solidFill>
                  <a:latin typeface="Arial"/>
                </a:rPr>
                <a:t>$10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0"/>
          <p:cNvGrpSpPr/>
          <p:nvPr/>
        </p:nvGrpSpPr>
        <p:grpSpPr>
          <a:xfrm>
            <a:off x="6553080" y="990720"/>
            <a:ext cx="1219320" cy="1218960"/>
            <a:chOff x="6553080" y="990720"/>
            <a:chExt cx="1219320" cy="1218960"/>
          </a:xfrm>
        </p:grpSpPr>
        <p:pic>
          <p:nvPicPr>
            <p:cNvPr id="305" name="Picture 6" descr="C:\Users\od user\AppData\Local\Microsoft\Windows\Temporary Internet Files\Content.IE5\N7YD4WXK\MCj04363050000[1].png"/>
            <p:cNvPicPr/>
            <p:nvPr/>
          </p:nvPicPr>
          <p:blipFill>
            <a:blip r:embed="rId2"/>
            <a:stretch/>
          </p:blipFill>
          <p:spPr>
            <a:xfrm>
              <a:off x="6553080" y="99072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Box 12"/>
            <p:cNvSpPr/>
            <p:nvPr/>
          </p:nvSpPr>
          <p:spPr>
            <a:xfrm>
              <a:off x="6629040" y="1523880"/>
              <a:ext cx="1067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b0f0"/>
                  </a:solidFill>
                  <a:latin typeface="Arial"/>
                </a:rPr>
                <a:t>$20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9"/>
          <p:cNvGrpSpPr/>
          <p:nvPr/>
        </p:nvGrpSpPr>
        <p:grpSpPr>
          <a:xfrm>
            <a:off x="7467480" y="3124080"/>
            <a:ext cx="1524240" cy="1219320"/>
            <a:chOff x="7467480" y="3124080"/>
            <a:chExt cx="1524240" cy="1219320"/>
          </a:xfrm>
        </p:grpSpPr>
        <p:pic>
          <p:nvPicPr>
            <p:cNvPr id="308" name="Picture 6" descr="C:\Users\od user\AppData\Local\Microsoft\Windows\Temporary Internet Files\Content.IE5\N7YD4WXK\MCj04363050000[1].png"/>
            <p:cNvPicPr/>
            <p:nvPr/>
          </p:nvPicPr>
          <p:blipFill>
            <a:blip r:embed="rId3"/>
            <a:stretch/>
          </p:blipFill>
          <p:spPr>
            <a:xfrm>
              <a:off x="7619760" y="312408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Box 5"/>
            <p:cNvSpPr/>
            <p:nvPr/>
          </p:nvSpPr>
          <p:spPr>
            <a:xfrm>
              <a:off x="7467480" y="3657600"/>
              <a:ext cx="1524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b0f0"/>
                  </a:solidFill>
                  <a:latin typeface="Arial"/>
                </a:rPr>
                <a:t>NIS50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More Open Problems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(no priz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6"/>
          <p:cNvSpPr/>
          <p:nvPr/>
        </p:nvSpPr>
        <p:spPr>
          <a:xfrm>
            <a:off x="380880" y="1219320"/>
            <a:ext cx="8534520" cy="40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we “instantiate” FOURIER CHECKING by an explicit (unrelativized)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n we use BOSONSAMPLING to solv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an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decision problem outside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n you convince a skeptic (who isn’t a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achine) that your QC is indeed doing BOSONSAMPLING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n we get unlikely classical complexity consequences from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Promise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PromiseBQ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380880" y="1143000"/>
            <a:ext cx="8534520" cy="23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like to say that we have three choices: eith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Extended Church-Turing Thesis is false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xtbook quantum mechanics is false, 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QCs can be efficiently simulated classicall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4"/>
          <p:cNvSpPr/>
          <p:nvPr/>
        </p:nvSpPr>
        <p:spPr>
          <a:xfrm>
            <a:off x="380880" y="3276720"/>
            <a:ext cx="67057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3200400" y="350532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Bradley Hand ITC"/>
              </a:rPr>
              <a:t>For all intents and purpos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286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hor’s algorithm was a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hardness result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for one of the central computational problems of modern science: QUANTUM SI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4952880" y="3200400"/>
            <a:ext cx="3810240" cy="35298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ANTUM SIMULATION is not in probabilistic polynomial time, unless FACTORING i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304920" y="2057400"/>
            <a:ext cx="4724280" cy="4648320"/>
            <a:chOff x="304920" y="2057400"/>
            <a:chExt cx="4724280" cy="4648320"/>
          </a:xfrm>
        </p:grpSpPr>
        <p:pic>
          <p:nvPicPr>
            <p:cNvPr id="61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2743200"/>
              <a:ext cx="365760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6"/>
            <p:cNvSpPr/>
            <p:nvPr/>
          </p:nvSpPr>
          <p:spPr>
            <a:xfrm>
              <a:off x="304920" y="2057400"/>
              <a:ext cx="4724280" cy="64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Use of DoE supercomputers by area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from a talk by Alán Aspuru-Guzik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" name="Straight Arrow Connector 7"/>
            <p:cNvCxnSpPr/>
            <p:nvPr/>
          </p:nvCxnSpPr>
          <p:spPr>
            <a:xfrm flipH="1" flipV="1">
              <a:off x="3047400" y="31237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64" name="Straight Arrow Connector 9"/>
            <p:cNvCxnSpPr/>
            <p:nvPr/>
          </p:nvCxnSpPr>
          <p:spPr>
            <a:xfrm flipH="1" flipV="1">
              <a:off x="2971080" y="33523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65" name="Straight Arrow Connector 10"/>
            <p:cNvCxnSpPr/>
            <p:nvPr/>
          </p:nvCxnSpPr>
          <p:spPr>
            <a:xfrm flipH="1" flipV="1">
              <a:off x="1980360" y="434304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6"/>
          <p:cNvSpPr/>
          <p:nvPr/>
        </p:nvSpPr>
        <p:spPr>
          <a:xfrm>
            <a:off x="228600" y="1447920"/>
            <a:ext cx="464832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dvantages of the new result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ased on “generic” complexity assumptions, rather than the classical hardness of FACT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 evidence that QCs have capabilities outside the entire polynomial hierarc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 only extremely weak kinds of QC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e.g. nonadaptive linear optics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—testable before I’m dead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152280" y="152280"/>
            <a:ext cx="883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Today: New kinds of hardness results for simulating quantum mechanic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4952880" y="1447920"/>
            <a:ext cx="419112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Disadvantag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st apply to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amplin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s (or problems with many possible valid outputs), rather than decision probl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rder to convince a skeptic that your QC is indeed solving the relevant hard prob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blems not “useful” (?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6"/>
          <p:cNvSpPr/>
          <p:nvPr/>
        </p:nvSpPr>
        <p:spPr>
          <a:xfrm>
            <a:off x="4876920" y="1523880"/>
            <a:ext cx="0" cy="533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6"/>
          <p:cNvSpPr/>
          <p:nvPr/>
        </p:nvSpPr>
        <p:spPr>
          <a:xfrm>
            <a:off x="380880" y="1295280"/>
            <a:ext cx="8382240" cy="28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exist black-box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amplin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relation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s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at are not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suming the “Generalized Linial-Nisan Conjecture,” there exists a black-box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decis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ut not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Original Linial-Nisan Conjecture was recently proved by Braverman, after being open for 2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152280" y="38088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esults 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(from arXiv:0910.469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380880" y="4419720"/>
            <a:ext cx="8382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nconditionally, there exists a black-box decision problem that requires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) queries classically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008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N</a:t>
            </a:r>
            <a:r>
              <a:rPr b="0" lang="en-US" sz="2200" spc="-1" strike="noStrike" baseline="30000">
                <a:solidFill>
                  <a:srgbClr val="008000"/>
                </a:solidFill>
                <a:latin typeface="Calibri"/>
              </a:rPr>
              <a:t>1/4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) even using postselection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but only O(1) queries quantum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6"/>
          <p:cNvSpPr/>
          <p:nvPr/>
        </p:nvSpPr>
        <p:spPr>
          <a:xfrm>
            <a:off x="380880" y="1447920"/>
            <a:ext cx="838224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he output distribution of any linear-optics circuit can be efficiently sampled classically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e.g., by Monte Carlo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 The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hence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laps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Indeed, even if such a distribution can be sampled in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400" spc="-1" strike="noStrike" baseline="30000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, still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collap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he output distribution of any linear-optics circuit can even b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approximate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ampled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 Then a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achine can approximate the permanent of a matrix of independent N(0,1) Gaussian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Conjecture: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 The above problem is </a:t>
            </a:r>
            <a:r>
              <a:rPr b="1" lang="en-US" sz="22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-comple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152280" y="38088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esults 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(from recent joint work with Alex Arkhipov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57200" y="2286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vs.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: A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04920" y="2425680"/>
            <a:ext cx="7391160" cy="399456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rnstein and Vazirani defin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construct an oracle problem, RECURSIVE FOURIER SAMPLING, that has quantum query complexity n but classical query complexity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(log 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600"/>
            </a:b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First example where quantum is superpolynomially bett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simple extension yields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tural conjecture: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as, we can’t even prove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4"/>
          <p:cNvSpPr/>
          <p:nvPr/>
        </p:nvSpPr>
        <p:spPr>
          <a:xfrm>
            <a:off x="0" y="18921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 rot="19375200">
            <a:off x="5803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99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 rot="19375200">
            <a:off x="24091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 rot="19375200">
            <a:off x="42379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 rot="19375200">
            <a:off x="60667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 rot="19375200">
            <a:off x="78955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11"/>
          <p:cNvCxnSpPr/>
          <p:nvPr/>
        </p:nvCxnSpPr>
        <p:spPr>
          <a:xfrm flipV="1">
            <a:off x="2057400" y="1893240"/>
            <a:ext cx="2160" cy="53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Fourier Sampling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80880" y="114300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n oracle access to a random Boolean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2"/>
              <p:cNvSpPr txBox="1"/>
              <p:nvPr/>
            </p:nvSpPr>
            <p:spPr>
              <a:xfrm>
                <a:off x="2590920" y="1676520"/>
                <a:ext cx="3528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7" name="Text Box 3"/>
          <p:cNvSpPr/>
          <p:nvPr/>
        </p:nvSpPr>
        <p:spPr>
          <a:xfrm>
            <a:off x="380880" y="2590920"/>
            <a:ext cx="84582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 Tas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tput strings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t least 75% of which satis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at least 25% of which satis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2"/>
              <p:cNvSpPr txBox="1"/>
              <p:nvPr/>
            </p:nvSpPr>
            <p:spPr>
              <a:xfrm>
                <a:off x="1981080" y="4876920"/>
                <a:ext cx="537372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9" name="Text Box 3"/>
          <p:cNvSpPr/>
          <p:nvPr/>
        </p:nvSpPr>
        <p:spPr>
          <a:xfrm>
            <a:off x="457200" y="5257800"/>
            <a:ext cx="2438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2"/>
              <p:cNvSpPr txBox="1"/>
              <p:nvPr/>
            </p:nvSpPr>
            <p:spPr>
              <a:xfrm>
                <a:off x="7315200" y="3048120"/>
                <a:ext cx="1657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4900680" y="3733920"/>
                <a:ext cx="17636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URIER SAMPLING Is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28600" y="1981080"/>
            <a:ext cx="182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gorith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5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4362480" cy="29574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32"/>
          <p:cNvGrpSpPr/>
          <p:nvPr/>
        </p:nvGrpSpPr>
        <p:grpSpPr>
          <a:xfrm>
            <a:off x="2133720" y="1143000"/>
            <a:ext cx="4354560" cy="2333160"/>
            <a:chOff x="2133720" y="1143000"/>
            <a:chExt cx="4354560" cy="2333160"/>
          </a:xfrm>
        </p:grpSpPr>
        <p:sp>
          <p:nvSpPr>
            <p:cNvPr id="96" name="Straight Connector 65"/>
            <p:cNvSpPr/>
            <p:nvPr/>
          </p:nvSpPr>
          <p:spPr>
            <a:xfrm>
              <a:off x="2666880" y="22860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traight Connector 66"/>
            <p:cNvSpPr/>
            <p:nvPr/>
          </p:nvSpPr>
          <p:spPr>
            <a:xfrm>
              <a:off x="2666880" y="29718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traight Connector 64"/>
            <p:cNvSpPr/>
            <p:nvPr/>
          </p:nvSpPr>
          <p:spPr>
            <a:xfrm>
              <a:off x="2666880" y="16002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4"/>
            <p:cNvSpPr/>
            <p:nvPr/>
          </p:nvSpPr>
          <p:spPr>
            <a:xfrm>
              <a:off x="3048120" y="12952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6"/>
            <p:cNvSpPr/>
            <p:nvPr/>
          </p:nvSpPr>
          <p:spPr>
            <a:xfrm>
              <a:off x="3048120" y="19810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7"/>
            <p:cNvSpPr/>
            <p:nvPr/>
          </p:nvSpPr>
          <p:spPr>
            <a:xfrm>
              <a:off x="3048120" y="26672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3962520" y="1295280"/>
              <a:ext cx="533160" cy="19051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9"/>
            <p:cNvSpPr/>
            <p:nvPr/>
          </p:nvSpPr>
          <p:spPr>
            <a:xfrm>
              <a:off x="4876920" y="12952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0"/>
            <p:cNvSpPr/>
            <p:nvPr/>
          </p:nvSpPr>
          <p:spPr>
            <a:xfrm>
              <a:off x="4876920" y="19810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11"/>
            <p:cNvSpPr/>
            <p:nvPr/>
          </p:nvSpPr>
          <p:spPr>
            <a:xfrm>
              <a:off x="4876920" y="26672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49"/>
            <p:cNvGrpSpPr/>
            <p:nvPr/>
          </p:nvGrpSpPr>
          <p:grpSpPr>
            <a:xfrm>
              <a:off x="5677920" y="1143000"/>
              <a:ext cx="810360" cy="961560"/>
              <a:chOff x="5677920" y="1143000"/>
              <a:chExt cx="810360" cy="961560"/>
            </a:xfrm>
          </p:grpSpPr>
          <p:sp>
            <p:nvSpPr>
              <p:cNvPr id="107" name="Chord 44"/>
              <p:cNvSpPr/>
              <p:nvPr/>
            </p:nvSpPr>
            <p:spPr>
              <a:xfrm rot="7220400">
                <a:off x="5779440" y="14032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8" name="Straight Arrow Connector 46"/>
              <p:cNvCxnSpPr>
                <a:stCxn id="107" idx="2"/>
              </p:cNvCxnSpPr>
              <p:nvPr/>
            </p:nvCxnSpPr>
            <p:spPr>
              <a:xfrm flipV="1">
                <a:off x="6080760" y="11430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9" name="Group 50"/>
            <p:cNvGrpSpPr/>
            <p:nvPr/>
          </p:nvGrpSpPr>
          <p:grpSpPr>
            <a:xfrm>
              <a:off x="5677920" y="1828800"/>
              <a:ext cx="810360" cy="961560"/>
              <a:chOff x="5677920" y="1828800"/>
              <a:chExt cx="810360" cy="961560"/>
            </a:xfrm>
          </p:grpSpPr>
          <p:sp>
            <p:nvSpPr>
              <p:cNvPr id="110" name="Chord 51"/>
              <p:cNvSpPr/>
              <p:nvPr/>
            </p:nvSpPr>
            <p:spPr>
              <a:xfrm rot="7220400">
                <a:off x="5779440" y="20890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1" name="Straight Arrow Connector 52"/>
              <p:cNvCxnSpPr>
                <a:stCxn id="110" idx="2"/>
              </p:cNvCxnSpPr>
              <p:nvPr/>
            </p:nvCxnSpPr>
            <p:spPr>
              <a:xfrm flipV="1">
                <a:off x="6080760" y="18288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12" name="Group 53"/>
            <p:cNvGrpSpPr/>
            <p:nvPr/>
          </p:nvGrpSpPr>
          <p:grpSpPr>
            <a:xfrm>
              <a:off x="5677920" y="2514600"/>
              <a:ext cx="810360" cy="961560"/>
              <a:chOff x="5677920" y="2514600"/>
              <a:chExt cx="810360" cy="961560"/>
            </a:xfrm>
          </p:grpSpPr>
          <p:sp>
            <p:nvSpPr>
              <p:cNvPr id="113" name="Chord 54"/>
              <p:cNvSpPr/>
              <p:nvPr/>
            </p:nvSpPr>
            <p:spPr>
              <a:xfrm rot="7220400">
                <a:off x="5779440" y="27748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4" name="Straight Arrow Connector 55"/>
              <p:cNvCxnSpPr>
                <a:stCxn id="113" idx="2"/>
              </p:cNvCxnSpPr>
              <p:nvPr/>
            </p:nvCxnSpPr>
            <p:spPr>
              <a:xfrm flipV="1">
                <a:off x="6080760" y="25146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115" name="Text Box 3"/>
            <p:cNvSpPr/>
            <p:nvPr/>
          </p:nvSpPr>
          <p:spPr>
            <a:xfrm>
              <a:off x="3962520" y="1981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"/>
            <p:cNvSpPr/>
            <p:nvPr/>
          </p:nvSpPr>
          <p:spPr>
            <a:xfrm>
              <a:off x="2133720" y="12952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3"/>
            <p:cNvSpPr/>
            <p:nvPr/>
          </p:nvSpPr>
          <p:spPr>
            <a:xfrm>
              <a:off x="2133720" y="19810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3"/>
            <p:cNvSpPr/>
            <p:nvPr/>
          </p:nvSpPr>
          <p:spPr>
            <a:xfrm>
              <a:off x="2133720" y="26672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3"/>
          <p:cNvSpPr/>
          <p:nvPr/>
        </p:nvSpPr>
        <p:spPr>
          <a:xfrm>
            <a:off x="6553080" y="1676520"/>
            <a:ext cx="2438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Repeat n times; output whatever you s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69"/>
          <p:cNvCxnSpPr>
            <a:stCxn id="121" idx="1"/>
          </p:cNvCxnSpPr>
          <p:nvPr/>
        </p:nvCxnSpPr>
        <p:spPr>
          <a:xfrm flipH="1">
            <a:off x="1142640" y="4131360"/>
            <a:ext cx="1448640" cy="59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21" name="Text Box 3"/>
          <p:cNvSpPr/>
          <p:nvPr/>
        </p:nvSpPr>
        <p:spPr>
          <a:xfrm>
            <a:off x="2590920" y="3886200"/>
            <a:ext cx="518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ribution over Fourier coeffic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505320" y="4800600"/>
            <a:ext cx="5181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Distribution over Fourier coefficients output by quantum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76"/>
          <p:cNvCxnSpPr/>
          <p:nvPr/>
        </p:nvCxnSpPr>
        <p:spPr>
          <a:xfrm flipH="1">
            <a:off x="2437920" y="5104440"/>
            <a:ext cx="1067760" cy="59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9-12-30T15:27:39Z</dcterms:modified>
  <cp:revision>237</cp:revision>
  <dc:subject/>
  <dc:title>The Learnability of Quantum States</dc:title>
</cp:coreProperties>
</file>