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6133-5D31-43E2-B5E7-840B4150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182F-285A-4638-8F61-FF67A657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D47-5C43-4B1D-9941-3D13C3C74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7137-EEC8-4EA4-87CB-866363B4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77B-F697-42BE-BC62-8BED8CCC3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2B8-8F13-4469-8E6F-A307461D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502-5230-4F01-BC03-52192D74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6D2-B0D8-405E-A48B-B68C45D5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6AD-3144-4290-A3DB-C0347613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E0E-3793-498D-A560-97D3FBC0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6AC-7478-4D77-9A1E-C6B2ACBA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CA1-6152-404D-9D46-86BF00DC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56C-9DE9-4F84-997F-0548C83E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9972-5FBD-4194-ADDC-35D3C721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D08-D157-47CB-BC70-C3D09D52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1EB-E928-4302-86D0-672BB4E8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6D7-2F5E-402C-B333-F5512F0A4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384-2EB3-4BA6-99F0-04675ECAA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1D1-1A38-48C7-8BFB-DAC64139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B4B-1C5D-4B48-B5E5-3A7891A4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42C-69EA-4EA9-BCC6-B0284349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656-6DE4-4135-A6C7-9FB79D7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F99-AC21-48DE-9721-156CB4A9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B9E-CA59-4AF5-9A63-F725F8B0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786-07F5-435D-A191-57B7BDBB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106-12BE-4244-B0D0-B3480B9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407-2EA2-48B0-827F-7726C5CE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D5F-5442-4E81-9BC8-084E119E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5CF-0DBD-4B75-B9A0-5CE2E55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926-9F63-4567-A37A-C69FCA5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029-956C-420F-97EC-3C2A297C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1B8-AF76-4CA9-BC60-7B759F7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4EA3-FF89-4E2E-97C1-97A2A6D8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209680"/>
            <a:ext cx="137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initial state—say,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 you get to choose an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228600" y="8380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 = # of identical photons      m = # of modes       For us, m&gt;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2971800" y="4038480"/>
                <a:ext cx="520056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28600" y="5257800"/>
            <a:ext cx="8686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btained by tak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umn, for all i,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6"/>
          <p:cNvSpPr/>
          <p:nvPr/>
        </p:nvSpPr>
        <p:spPr>
          <a:xfrm>
            <a:off x="304920" y="762120"/>
            <a:ext cx="86104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Feynman 1982, Abrams-Lloyd 1996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compose the 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m unitary U into a product of O(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elementary “linear-optics gates” (beamsplitters and phaseshifters), then simulate each gate using polylog(n) standard qubit 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04920" y="487692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re exist classical algorithms to approxim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U)|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randomized poly(n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ime, and to compute the marginal distribution on photon numbers in k modes i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304920" y="3429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Bartlett-Sanders et al.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the inputs are Gaussian states and the measurements are homodyne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pper Bounds on the Power of 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y contrast, exactly sampling the distribution over all n photons is extremely hard!  Here’s wh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1905120" y="5562720"/>
                <a:ext cx="5068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5" name="Text Box 16"/>
          <p:cNvSpPr/>
          <p:nvPr/>
        </p:nvSpPr>
        <p:spPr>
          <a:xfrm>
            <a:off x="304920" y="15238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 (wher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304920" y="3962520"/>
            <a:ext cx="85341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one photon in each of the first n modes), app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, and measu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2971800" y="2514600"/>
                <a:ext cx="2776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known (classical) reductions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989680" y="5029200"/>
                <a:ext cx="29322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149560" y="5424480"/>
                <a:ext cx="5070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3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5634E-006 L -0.004 -0.70444 E">
                                      <p:cBhvr>
                                        <p:cTn id="209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6"/>
          <p:cNvSpPr/>
          <p:nvPr/>
        </p:nvSpPr>
        <p:spPr>
          <a:xfrm>
            <a:off x="380880" y="152280"/>
            <a:ext cx="85345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6"/>
          <p:cNvSpPr/>
          <p:nvPr/>
        </p:nvSpPr>
        <p:spPr>
          <a:xfrm flipH="1">
            <a:off x="0" y="449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04920" y="4572000"/>
            <a:ext cx="853416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ampled from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stributio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28600" y="1522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3505320"/>
            <a:ext cx="868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fast classical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A of i.i.d. N(0,1) complex Gaussians, to additive error                 with high probability over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4267080" y="556272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"/>
          <p:cNvGrpSpPr/>
          <p:nvPr/>
        </p:nvGrpSpPr>
        <p:grpSpPr>
          <a:xfrm>
            <a:off x="3505320" y="1447920"/>
            <a:ext cx="5105160" cy="3352680"/>
            <a:chOff x="3505320" y="1447920"/>
            <a:chExt cx="5105160" cy="3352680"/>
          </a:xfrm>
        </p:grpSpPr>
        <p:sp>
          <p:nvSpPr>
            <p:cNvPr id="375" name="Oval 20"/>
            <p:cNvSpPr/>
            <p:nvPr/>
          </p:nvSpPr>
          <p:spPr>
            <a:xfrm>
              <a:off x="3505320" y="1447920"/>
              <a:ext cx="5105160" cy="17524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8"/>
            <p:cNvSpPr/>
            <p:nvPr/>
          </p:nvSpPr>
          <p:spPr>
            <a:xfrm>
              <a:off x="4191120" y="1676520"/>
              <a:ext cx="38098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Permanent-of-Gaussians Conjecture (PGC)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Straight Arrow Connector 22"/>
            <p:cNvCxnSpPr/>
            <p:nvPr/>
          </p:nvCxnSpPr>
          <p:spPr>
            <a:xfrm>
              <a:off x="6247440" y="3200040"/>
              <a:ext cx="153000" cy="16009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262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264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26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PGC </a:t>
            </a:r>
            <a:r>
              <a:rPr b="1" lang="en-US" sz="36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Hardness of Linear-Optic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228600" y="8380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A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n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228600" y="32004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classical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228600" y="502920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reby solve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basis state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phot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basis state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385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388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391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394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d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228600" y="1066680"/>
            <a:ext cx="49528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k states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herent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0 phot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04920" y="228600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7620120" y="2286000"/>
            <a:ext cx="1523880" cy="1219320"/>
            <a:chOff x="7620120" y="2286000"/>
            <a:chExt cx="1523880" cy="1219320"/>
          </a:xfrm>
        </p:grpSpPr>
        <p:pic>
          <p:nvPicPr>
            <p:cNvPr id="406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772400" y="2286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5"/>
            <p:cNvSpPr/>
            <p:nvPr/>
          </p:nvSpPr>
          <p:spPr>
            <a:xfrm>
              <a:off x="7620120" y="2819520"/>
              <a:ext cx="152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140F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3"/>
          <p:cNvSpPr/>
          <p:nvPr/>
        </p:nvSpPr>
        <p:spPr>
          <a:xfrm>
            <a:off x="304920" y="487692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a linear-optics experiment that solves a classically-intractable sampling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7086600" y="4648320"/>
            <a:ext cx="1905120" cy="1312920"/>
            <a:chOff x="7086600" y="4648320"/>
            <a:chExt cx="1905120" cy="1312920"/>
          </a:xfrm>
        </p:grpSpPr>
        <p:pic>
          <p:nvPicPr>
            <p:cNvPr id="410" name="Picture 13" descr=""/>
            <p:cNvPicPr/>
            <p:nvPr/>
          </p:nvPicPr>
          <p:blipFill>
            <a:blip r:embed="rId2"/>
            <a:stretch/>
          </p:blipFill>
          <p:spPr>
            <a:xfrm>
              <a:off x="7086600" y="4876920"/>
              <a:ext cx="1447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14"/>
            <p:cNvSpPr/>
            <p:nvPr/>
          </p:nvSpPr>
          <p:spPr>
            <a:xfrm>
              <a:off x="8305920" y="464832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3"/>
          <p:cNvSpPr/>
          <p:nvPr/>
        </p:nvSpPr>
        <p:spPr>
          <a:xfrm>
            <a:off x="304920" y="114300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the exact resource requirements?  E.g., can our experiment be done using a log(n)-depth linear-optics circu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37339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re other quantum systems for which approximate classical simulation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9"/>
          <p:cNvSpPr/>
          <p:nvPr/>
        </p:nvSpPr>
        <p:spPr>
          <a:xfrm>
            <a:off x="152280" y="609480"/>
            <a:ext cx="8839440" cy="5334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28600" y="10666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85800" y="25909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tolerate these complexit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NP BPP BQP #P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403848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don’t inflict these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AM  AWPP  BQP/qpoly  MA  P/poly PSPACE  QCMA  QIP  QMA  SZK  Y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62120" y="4724280"/>
            <a:ext cx="7848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5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8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9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152280" y="1371600"/>
            <a:ext cx="44960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a more “generic” complexity assumption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volves linear optics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ith single-photon Fock state inputs, and nonadaptive multimode photon-detection measure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A new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valid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to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fore We Go Further, A Bestiary of Complexity Class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6"/>
          <p:cNvSpPr/>
          <p:nvPr/>
        </p:nvSpPr>
        <p:spPr>
          <a:xfrm>
            <a:off x="304920" y="914400"/>
            <a:ext cx="861048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the polynomial hierarchy collapses (indeed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.  Then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nontrivially approximate the permanent of a matrix of independent N(0,1) Gaussian entr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th high probability over the choice of matrix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ermanent-of-Gaussians Conjecture” (PGC):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The above problem is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-complete (i.e., as hard as worst-case PERMA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1371600" y="1295280"/>
            <a:ext cx="6400800" cy="30186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PGC is true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, unless the polynomial hierarchy colla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28600" y="990720"/>
            <a:ext cx="8686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nill, Laflamme, Milburn 200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 optic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daptive measuremen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ields universal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aliant 2002, Terhal-DiVincenzo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interacting fermions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computer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stsel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unlikely measurement outcomes can solve hard counting problems (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hepherd, Bremner 200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Instantaneous quantum computing” can solve sampling problems tha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hard classical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remner, Jozsa, Shepherd 2010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fficient simulation of instantaneous quantum computing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1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9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2-20T17:40:44Z</dcterms:modified>
  <cp:revision>326</cp:revision>
  <dc:subject/>
  <dc:title>The Learnability of Quantum States</dc:title>
</cp:coreProperties>
</file>