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1CCAC-A006-4BC5-A7BE-3413C5BBEE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B6003-2103-41C8-BE36-03B0BD0CA54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AE253-C440-41ED-AB56-C649C6566DC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7747C-5D59-419B-9B23-66CE637560E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9C1EC-0DD2-49AC-8C29-E44C79C64E6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182EC-08FE-43EA-90C9-E7F9F49ECA3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27591-C89C-4754-BA94-28A3B9012EB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E25F4-32FA-494F-91A4-90761D64359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FAD8E-B803-461C-8466-CC9DEBDF4BB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53A72-0972-42AE-A94A-1CE480BB526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72815-94A6-465B-814F-EE2637F64B9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8221C-2B49-47B4-B914-8EB8B10D249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21EB2-DD4C-45F6-8353-724657537F3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2893-A077-4185-82B5-52F60B760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8883-151C-4634-98D8-4827FFA3B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852A-1841-4356-BEFA-B46C5A3EA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CAD2-B092-4694-A799-5A21CC1DC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92EF-D582-4FC4-B43B-33E05DCD2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3625-C031-4161-BB11-1FB676C5B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0C6D-338E-462C-8F01-0E4537A4F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3FA1-BA32-4845-B8B2-763953ACA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69EF-820A-40C5-BB42-CCC6F7310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B339-D168-4D01-91F8-79125E3E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3782-CC68-452B-A888-C23AD0AC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504C-25B3-4FD9-BE4D-1E5E02FE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13D36-E42B-48A5-A706-2355C9F3BF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4C3D1-4425-4996-972B-6FB1849C36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33520" y="50209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cott Aaronson (University of Texas at Aust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shop on Complexity from QI to Black Hol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une 2, 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152280" y="304920"/>
            <a:ext cx="883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Arial"/>
              </a:rPr>
              <a:t>Schr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ö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Arial"/>
              </a:rPr>
              <a:t>dinger’s Cat and Quantum Necroma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Scientific Essay] Quantum mechanics, Economics, and Theory of ..."/>
          <p:cNvPicPr/>
          <p:nvPr/>
        </p:nvPicPr>
        <p:blipFill>
          <a:blip r:embed="rId1"/>
          <a:stretch/>
        </p:blipFill>
        <p:spPr>
          <a:xfrm>
            <a:off x="722160" y="2340000"/>
            <a:ext cx="7699680" cy="2666880"/>
          </a:xfrm>
          <a:prstGeom prst="rect">
            <a:avLst/>
          </a:prstGeom>
          <a:ln w="0">
            <a:noFill/>
          </a:ln>
        </p:spPr>
      </p:pic>
      <p:sp>
        <p:nvSpPr>
          <p:cNvPr id="51" name="Curved Down Arrow 4"/>
          <p:cNvSpPr/>
          <p:nvPr/>
        </p:nvSpPr>
        <p:spPr>
          <a:xfrm flipH="1">
            <a:off x="3276000" y="2019240"/>
            <a:ext cx="3886200" cy="838440"/>
          </a:xfrm>
          <a:custGeom>
            <a:avLst/>
            <a:gdLst>
              <a:gd name="textAreaLeft" fmla="*/ 892440 w 3886200"/>
              <a:gd name="textAreaRight" fmla="*/ 2888280 w 3886200"/>
              <a:gd name="textAreaTop" fmla="*/ 112320 h 838440"/>
              <a:gd name="textAreaBottom" fmla="*/ 7261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927" hR="21600" stAng="10800000" swAng="5400000"/>
                <a:lnTo>
                  <a:pt x="11092" y="0"/>
                </a:lnTo>
                <a:arcTo wR="9927" hR="21600" stAng="-5400000" swAng="3640261"/>
                <a:lnTo>
                  <a:pt x="21285" y="16200"/>
                </a:lnTo>
                <a:lnTo>
                  <a:pt x="20436" y="21600"/>
                </a:lnTo>
                <a:lnTo>
                  <a:pt x="18956" y="16200"/>
                </a:lnTo>
                <a:lnTo>
                  <a:pt x="19538" y="16200"/>
                </a:lnTo>
                <a:arcTo wR="9927" hR="21600" stAng="-1759739" swAng="-3547416"/>
                <a:lnTo>
                  <a:pt x="10509" y="37"/>
                </a:lnTo>
                <a:arcTo wR="9927" hR="21600" stAng="-5492845" swAng="-5307155"/>
                <a:close/>
              </a:path>
              <a:path fill="darkenLess" w="21600" h="21600">
                <a:moveTo>
                  <a:pt x="0" y="21600"/>
                </a:moveTo>
                <a:arcTo wR="9927" hR="21600" stAng="10800000" swAng="5400000"/>
                <a:lnTo>
                  <a:pt x="9927" y="0"/>
                </a:lnTo>
                <a:arcTo wR="9927" hR="21600" stAng="-5400000" swAng="92845"/>
                <a:lnTo>
                  <a:pt x="10509" y="37"/>
                </a:lnTo>
                <a:arcTo wR="9927" hR="21600" stAng="-5492845" swAng="-5307155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384120" y="21744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Quantum Gravity Im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384120" y="987480"/>
            <a:ext cx="8309160" cy="55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s Lenny wanted, we can treat a superposition over spacetimes as “effectively decohered”—so that, e.g., we have different operators in each spacetime—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unles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t’s feasible to map one spacetime to the other.  There’s no shortcut to interfering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Unconditionally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No polynomial-time experiment can observe interference between a state that’s exponentially complex and a state that isn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Assuming </a:t>
            </a:r>
            <a:r>
              <a:rPr b="1" lang="en-US" sz="2800" spc="-1" strike="noStrike">
                <a:solidFill>
                  <a:srgbClr val="cc00cc"/>
                </a:solidFill>
                <a:latin typeface="Calibri"/>
                <a:ea typeface="Arial"/>
              </a:rPr>
              <a:t>PSPACE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</a:t>
            </a:r>
            <a:r>
              <a:rPr b="1" lang="en-US" sz="2800" spc="-1" strike="noStrike">
                <a:solidFill>
                  <a:srgbClr val="cc00cc"/>
                </a:solidFill>
                <a:latin typeface="Calibri"/>
                <a:ea typeface="Arial"/>
              </a:rPr>
              <a:t>PP/poly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No polynomial-time experiment can observe interference between an early time and extremely late time CFT state</a:t>
            </a:r>
            <a:br>
              <a:rPr sz="2800"/>
            </a:br>
            <a:r>
              <a:rPr b="0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(By combining with an earlier result of A.-Susski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384120" y="21744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Foundational Im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417600" y="998640"/>
            <a:ext cx="8308800" cy="56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o some extent, our result just “formalizes the folklore”: interference between branches stops being detectable precisely when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irreversibilit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ets in, when it’s no longer feasible to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ma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ne branch to the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uppose we held that the Thermodynamic Arrow of Time, and our inability to reverse it, was essential to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n by our result, there would be no such thing as an “experience of a superposition.”  And thus, no way (even in principle) to “experience the Many Worlds for yourself” a la Deutsch’s proposal.  Arguments over the reality of the wavefunction could continue forev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384120" y="21744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Obj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417600" y="998640"/>
            <a:ext cx="8308800" cy="50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n complexity theory, we like to call anything polynomial-time “efficient.”  But even bringing the dead back to life is presumably “O(n) time” (n = # of atoms)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My response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Our results are extremely insensitive to the exact criterion of hardness.  E.g., if necromancy is “thermodynamics-hard” then so is observing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ren’t we reifying merely technological difficulties, giving them undeserved foundational import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My response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Once cosmology is brought into the picture, a “merely technological” difficulty sometimes looks much more fundamental 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  <a:ea typeface="Arial"/>
              </a:rPr>
              <a:t>(cf. Bousso-Susski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369720" y="228600"/>
            <a:ext cx="837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  <a:ea typeface="Arial"/>
              </a:rPr>
              <a:t>The Measurement Problem (1926-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338040" y="905040"/>
            <a:ext cx="8467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hen does the buck stop?  When, if ever, can we say that a unitarily evolving superposition has been “measured,” and that the measurement has produced a single, random “outcome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289080" y="3178080"/>
            <a:ext cx="860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  <a:ea typeface="Arial"/>
              </a:rPr>
              <a:t>The Quantum Complexity Problem (1993-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4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276120" y="3873600"/>
            <a:ext cx="8467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mong all possible unitary operations on n qubits, which ones can be implemented using “few” (for example, polynomial in n) elementary gat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 3"/>
          <p:cNvSpPr/>
          <p:nvPr/>
        </p:nvSpPr>
        <p:spPr>
          <a:xfrm>
            <a:off x="474840" y="5475240"/>
            <a:ext cx="8269200" cy="106884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Today’s talk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Are these two questions related?  What would a case look like that they w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228600" y="1522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Scott’s Interpretation Decision Tre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2540160" y="1109520"/>
            <a:ext cx="407664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s QM valid at all sca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"/>
          <p:cNvSpPr/>
          <p:nvPr/>
        </p:nvSpPr>
        <p:spPr>
          <a:xfrm>
            <a:off x="4251240" y="2444760"/>
            <a:ext cx="458784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hat’s the output of physic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"/>
          <p:cNvSpPr/>
          <p:nvPr/>
        </p:nvSpPr>
        <p:spPr>
          <a:xfrm>
            <a:off x="4251240" y="4367160"/>
            <a:ext cx="4508640" cy="9471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an we add a mathematical ingredient to get one worl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1565280" y="3603600"/>
            <a:ext cx="194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Experiences of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5867280" y="3193920"/>
            <a:ext cx="218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tate of the unive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"/>
          <p:cNvSpPr/>
          <p:nvPr/>
        </p:nvSpPr>
        <p:spPr>
          <a:xfrm>
            <a:off x="349200" y="2444760"/>
            <a:ext cx="3352680" cy="947160"/>
          </a:xfrm>
          <a:prstGeom prst="rect">
            <a:avLst/>
          </a:prstGeom>
          <a:solidFill>
            <a:srgbClr val="ffe1e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Dynamical Collaps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Penrose, GRW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942840" y="4838760"/>
            <a:ext cx="2165400" cy="9471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openhagen, QB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3030480" y="6089760"/>
            <a:ext cx="2239920" cy="5205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any-Wor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5699160" y="6100920"/>
            <a:ext cx="3244680" cy="5205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deBroglie-Bohm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2440080" y="177804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"/>
          <p:cNvSpPr/>
          <p:nvPr/>
        </p:nvSpPr>
        <p:spPr>
          <a:xfrm>
            <a:off x="5280120" y="179856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4103640" y="53863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6762600" y="536724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Straight Arrow Connector 2"/>
          <p:cNvCxnSpPr/>
          <p:nvPr/>
        </p:nvCxnSpPr>
        <p:spPr>
          <a:xfrm flipH="1">
            <a:off x="2895120" y="1633320"/>
            <a:ext cx="807120" cy="81180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lg" type="arrow" w="lg"/>
          </a:ln>
        </p:spPr>
      </p:cxnSp>
      <p:cxnSp>
        <p:nvCxnSpPr>
          <p:cNvPr id="73" name="Straight Arrow Connector 17"/>
          <p:cNvCxnSpPr/>
          <p:nvPr/>
        </p:nvCxnSpPr>
        <p:spPr>
          <a:xfrm>
            <a:off x="4861080" y="1633320"/>
            <a:ext cx="838800" cy="81180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lg" type="arrow" w="lg"/>
          </a:ln>
        </p:spPr>
      </p:cxnSp>
      <p:cxnSp>
        <p:nvCxnSpPr>
          <p:cNvPr id="74" name="Straight Arrow Connector 19"/>
          <p:cNvCxnSpPr/>
          <p:nvPr/>
        </p:nvCxnSpPr>
        <p:spPr>
          <a:xfrm flipH="1">
            <a:off x="2858760" y="2968200"/>
            <a:ext cx="1720080" cy="187092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lg" type="arrow" w="lg"/>
          </a:ln>
        </p:spPr>
      </p:cxnSp>
      <p:cxnSp>
        <p:nvCxnSpPr>
          <p:cNvPr id="75" name="Straight Arrow Connector 22"/>
          <p:cNvCxnSpPr/>
          <p:nvPr/>
        </p:nvCxnSpPr>
        <p:spPr>
          <a:xfrm>
            <a:off x="5821200" y="2974680"/>
            <a:ext cx="504000" cy="139284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lg" type="arrow" w="lg"/>
          </a:ln>
        </p:spPr>
      </p:cxnSp>
      <p:cxnSp>
        <p:nvCxnSpPr>
          <p:cNvPr id="76" name="Straight Arrow Connector 24"/>
          <p:cNvCxnSpPr/>
          <p:nvPr/>
        </p:nvCxnSpPr>
        <p:spPr>
          <a:xfrm flipH="1">
            <a:off x="4622040" y="5320800"/>
            <a:ext cx="578520" cy="78660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lg" type="arrow" w="lg"/>
          </a:ln>
        </p:spPr>
      </p:cxnSp>
      <p:cxnSp>
        <p:nvCxnSpPr>
          <p:cNvPr id="77" name="Straight Arrow Connector 26"/>
          <p:cNvCxnSpPr/>
          <p:nvPr/>
        </p:nvCxnSpPr>
        <p:spPr>
          <a:xfrm>
            <a:off x="6633720" y="5320800"/>
            <a:ext cx="516600" cy="78660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lg" type="arrow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401760" y="19224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Do interpretations even matt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341280" y="2398680"/>
            <a:ext cx="874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h, but what about Sch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ö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dinger’s Cat and Wigner’s frie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324000" y="961920"/>
            <a:ext cx="8373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hen people argue about interpretations (not counting dynamical collapse), 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do their beliefs ever “pay rent”?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 Are they arguing only about language, not the worl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An inconsistent friend | Nature Physics"/>
          <p:cNvPicPr/>
          <p:nvPr/>
        </p:nvPicPr>
        <p:blipFill>
          <a:blip r:embed="rId1"/>
          <a:stretch/>
        </p:blipFill>
        <p:spPr>
          <a:xfrm>
            <a:off x="3627360" y="2922480"/>
            <a:ext cx="4784760" cy="1687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The Other side of the wall: Schrodinger's cat Paradox explained ..."/>
          <p:cNvPicPr/>
          <p:nvPr/>
        </p:nvPicPr>
        <p:blipFill>
          <a:blip r:embed="rId2"/>
          <a:stretch/>
        </p:blipFill>
        <p:spPr>
          <a:xfrm>
            <a:off x="1036800" y="2994120"/>
            <a:ext cx="1981080" cy="161604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2"/>
          <p:cNvGrpSpPr/>
          <p:nvPr/>
        </p:nvGrpSpPr>
        <p:grpSpPr>
          <a:xfrm>
            <a:off x="301680" y="4829040"/>
            <a:ext cx="8650080" cy="1814760"/>
            <a:chOff x="301680" y="4829040"/>
            <a:chExt cx="8650080" cy="1814760"/>
          </a:xfrm>
        </p:grpSpPr>
        <p:sp>
          <p:nvSpPr>
            <p:cNvPr id="84" name="Rectangle 1"/>
            <p:cNvSpPr/>
            <p:nvPr/>
          </p:nvSpPr>
          <p:spPr>
            <a:xfrm>
              <a:off x="301680" y="4829040"/>
              <a:ext cx="8650080" cy="1814760"/>
            </a:xfrm>
            <a:prstGeom prst="rect">
              <a:avLst/>
            </a:prstGeom>
            <a:solidFill>
              <a:srgbClr val="ffff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" name="Picture 10" descr="David Deutsch (@DavidDeutschOxf) | Twitter"/>
            <p:cNvPicPr/>
            <p:nvPr/>
          </p:nvPicPr>
          <p:blipFill>
            <a:blip r:embed="rId3"/>
            <a:stretch/>
          </p:blipFill>
          <p:spPr>
            <a:xfrm>
              <a:off x="7275600" y="4967280"/>
              <a:ext cx="1539000" cy="15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2"/>
            <p:cNvSpPr/>
            <p:nvPr/>
          </p:nvSpPr>
          <p:spPr>
            <a:xfrm>
              <a:off x="362520" y="4829040"/>
              <a:ext cx="69127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Deutsch: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Yeah, what if we, like, uploaded your brain into a quantum computer and then interfered your mental states?  Surely </a:t>
              </a:r>
              <a:r>
                <a:rPr b="1" lang="en-US" sz="28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then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it would matter that the Many Worlds are real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 1"/>
          <p:cNvSpPr/>
          <p:nvPr/>
        </p:nvSpPr>
        <p:spPr>
          <a:xfrm>
            <a:off x="284040" y="304920"/>
            <a:ext cx="6351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Meanwhile, in Quantum Gravity Land…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Lenny Susskind cared about a different kind of “macroscopic” quantum state: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uperpositions of spacetime geomet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6977160" y="304920"/>
            <a:ext cx="1665360" cy="20732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2 2"/>
          <p:cNvSpPr/>
          <p:nvPr/>
        </p:nvSpPr>
        <p:spPr>
          <a:xfrm>
            <a:off x="330120" y="3508200"/>
            <a:ext cx="8344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e wondered whether computational complexity could provide the ultimate criterion for when two branches of a quantum state are “separated for goo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 3"/>
          <p:cNvSpPr/>
          <p:nvPr/>
        </p:nvSpPr>
        <p:spPr>
          <a:xfrm>
            <a:off x="314280" y="4892760"/>
            <a:ext cx="834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o a few years ago, he emailed me a conjec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" descr=""/>
          <p:cNvPicPr/>
          <p:nvPr/>
        </p:nvPicPr>
        <p:blipFill>
          <a:blip r:embed="rId2"/>
          <a:stretch/>
        </p:blipFill>
        <p:spPr>
          <a:xfrm>
            <a:off x="1563840" y="2517840"/>
            <a:ext cx="5875200" cy="8650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2 1"/>
          <p:cNvSpPr/>
          <p:nvPr/>
        </p:nvSpPr>
        <p:spPr>
          <a:xfrm>
            <a:off x="436680" y="2374920"/>
            <a:ext cx="101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E.g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 3"/>
          <p:cNvSpPr/>
          <p:nvPr/>
        </p:nvSpPr>
        <p:spPr>
          <a:xfrm>
            <a:off x="615960" y="5562720"/>
            <a:ext cx="8153280" cy="9471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omplexity( Seeing interference between |v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d |w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~ Complexity(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Mapp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|v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o |w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r vice versa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369720" y="152280"/>
            <a:ext cx="8374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Lenny’s Conjecture is 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(basically)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 True!</a:t>
            </a:r>
            <a:br>
              <a:rPr sz="4400"/>
            </a:b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[A., Atia, Susskind, on the arXiv any day now…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304920" y="1414440"/>
            <a:ext cx="8610480" cy="51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Calibri"/>
                <a:ea typeface="Arial"/>
              </a:rPr>
              <a:t>Theorem 1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Given two orthogonal states |Aliv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d |Dead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suppose there’s a quantum circuit with T gates to distinguish (say) |Aliv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+|Dead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from |Aliv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|Dead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.  Then there’s also a quantum circuit with O(T) gates to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swa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he |Aliv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d |Dead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t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Generalizes to: noisy distinguishing </a:t>
            </a:r>
            <a:r>
              <a:rPr b="1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 noisy sw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Calibri"/>
                <a:ea typeface="Arial"/>
              </a:rPr>
              <a:t>Theorem 2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onversely, suppose there’s a quantum circuit with T gates that maps |Dead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o |Aliv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with amplitude </a:t>
            </a:r>
            <a:r>
              <a:rPr b="1" lang="en-US" sz="2800" spc="-1" strike="noStrike">
                <a:solidFill>
                  <a:srgbClr val="984807"/>
                </a:solidFill>
                <a:latin typeface="Calibri"/>
                <a:ea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and |Aliv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o |Dead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with amplitude </a:t>
            </a:r>
            <a:r>
              <a:rPr b="1" lang="en-US" sz="2800" spc="-1" strike="noStrike">
                <a:solidFill>
                  <a:srgbClr val="984807"/>
                </a:solidFill>
                <a:latin typeface="Calibri"/>
                <a:ea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.  Then there’s also a circuit with O(T) gates to distinguish |Aliv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+|Dead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from |Aliv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|Dead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with fidelity </a:t>
            </a:r>
            <a:r>
              <a:rPr b="1" lang="en-US" sz="2800" spc="-1" strike="noStrike">
                <a:solidFill>
                  <a:srgbClr val="984807"/>
                </a:solidFill>
                <a:latin typeface="Calibri"/>
                <a:ea typeface="Arial"/>
              </a:rPr>
              <a:t>|a+b|/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 1"/>
          <p:cNvSpPr/>
          <p:nvPr/>
        </p:nvSpPr>
        <p:spPr>
          <a:xfrm>
            <a:off x="369720" y="228600"/>
            <a:ext cx="837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Proof Sketch for Theorem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 2"/>
          <p:cNvSpPr/>
          <p:nvPr/>
        </p:nvSpPr>
        <p:spPr>
          <a:xfrm>
            <a:off x="266760" y="104472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asically just an exercise in quantum inform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 3 1"/>
          <p:cNvSpPr/>
          <p:nvPr/>
        </p:nvSpPr>
        <p:spPr>
          <a:xfrm>
            <a:off x="184320" y="40384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uppose C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=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|…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d C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=|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|…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.  Then to swap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 4"/>
          <p:cNvSpPr/>
          <p:nvPr/>
        </p:nvSpPr>
        <p:spPr>
          <a:xfrm>
            <a:off x="3505320" y="716292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Do something analogous for converse, pu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’s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249120" y="1882800"/>
            <a:ext cx="4202280" cy="1631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2"/>
          <a:stretch/>
        </p:blipFill>
        <p:spPr>
          <a:xfrm>
            <a:off x="4894200" y="1805040"/>
            <a:ext cx="3987720" cy="1785960"/>
          </a:xfrm>
          <a:prstGeom prst="rect">
            <a:avLst/>
          </a:prstGeom>
          <a:ln w="0">
            <a:noFill/>
          </a:ln>
        </p:spPr>
      </p:pic>
      <p:sp>
        <p:nvSpPr>
          <p:cNvPr id="102" name="Straight Connector 33"/>
          <p:cNvSpPr/>
          <p:nvPr/>
        </p:nvSpPr>
        <p:spPr>
          <a:xfrm>
            <a:off x="4648320" y="1697040"/>
            <a:ext cx="0" cy="2003400"/>
          </a:xfrm>
          <a:prstGeom prst="line">
            <a:avLst/>
          </a:prstGeom>
          <a:ln w="284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48"/>
          <p:cNvGrpSpPr/>
          <p:nvPr/>
        </p:nvGrpSpPr>
        <p:grpSpPr>
          <a:xfrm>
            <a:off x="1092240" y="4716360"/>
            <a:ext cx="6716520" cy="1852560"/>
            <a:chOff x="1092240" y="4716360"/>
            <a:chExt cx="6716520" cy="1852560"/>
          </a:xfrm>
        </p:grpSpPr>
        <p:sp>
          <p:nvSpPr>
            <p:cNvPr id="104" name="Straight Connector 23"/>
            <p:cNvSpPr/>
            <p:nvPr/>
          </p:nvSpPr>
          <p:spPr>
            <a:xfrm>
              <a:off x="2411280" y="5664240"/>
              <a:ext cx="4114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Straight Connector 24"/>
            <p:cNvSpPr/>
            <p:nvPr/>
          </p:nvSpPr>
          <p:spPr>
            <a:xfrm>
              <a:off x="2411280" y="6416640"/>
              <a:ext cx="4114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>
              <a:off x="2411280" y="5068800"/>
              <a:ext cx="4114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9"/>
            <p:cNvSpPr/>
            <p:nvPr/>
          </p:nvSpPr>
          <p:spPr>
            <a:xfrm>
              <a:off x="2604960" y="4757400"/>
              <a:ext cx="1033200" cy="1811520"/>
            </a:xfrm>
            <a:prstGeom prst="rect">
              <a:avLst/>
            </a:prstGeom>
            <a:solidFill>
              <a:srgbClr val="dbeef4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Box 10"/>
            <p:cNvSpPr/>
            <p:nvPr/>
          </p:nvSpPr>
          <p:spPr>
            <a:xfrm>
              <a:off x="2687400" y="5049720"/>
              <a:ext cx="838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2"/>
            <p:cNvSpPr/>
            <p:nvPr/>
          </p:nvSpPr>
          <p:spPr>
            <a:xfrm>
              <a:off x="5218200" y="4776480"/>
              <a:ext cx="1033200" cy="1792440"/>
            </a:xfrm>
            <a:prstGeom prst="rect">
              <a:avLst/>
            </a:prstGeom>
            <a:solidFill>
              <a:srgbClr val="dbeef4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Box 13"/>
            <p:cNvSpPr/>
            <p:nvPr/>
          </p:nvSpPr>
          <p:spPr>
            <a:xfrm>
              <a:off x="5218200" y="5068800"/>
              <a:ext cx="1033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r>
                <a:rPr b="0" lang="en-US" sz="6000" spc="-1" strike="noStrike" baseline="30000">
                  <a:solidFill>
                    <a:srgbClr val="000000"/>
                  </a:solidFill>
                  <a:latin typeface="Calibri"/>
                </a:rPr>
                <a:t>-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4"/>
            <p:cNvSpPr/>
            <p:nvPr/>
          </p:nvSpPr>
          <p:spPr>
            <a:xfrm>
              <a:off x="4062240" y="4757400"/>
              <a:ext cx="779400" cy="685800"/>
            </a:xfrm>
            <a:prstGeom prst="rect">
              <a:avLst/>
            </a:prstGeom>
            <a:solidFill>
              <a:srgbClr val="dbeef4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Box 15"/>
            <p:cNvSpPr/>
            <p:nvPr/>
          </p:nvSpPr>
          <p:spPr>
            <a:xfrm>
              <a:off x="4032360" y="4716360"/>
              <a:ext cx="838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alibri"/>
                </a:rPr>
                <a:t>Z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2 3 2"/>
            <p:cNvSpPr/>
            <p:nvPr/>
          </p:nvSpPr>
          <p:spPr>
            <a:xfrm>
              <a:off x="1092240" y="4950720"/>
              <a:ext cx="12819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|Alive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or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|Dead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Picture 26" descr=""/>
            <p:cNvPicPr/>
            <p:nvPr/>
          </p:nvPicPr>
          <p:blipFill>
            <a:blip r:embed="rId3"/>
            <a:stretch/>
          </p:blipFill>
          <p:spPr>
            <a:xfrm>
              <a:off x="4441680" y="5763600"/>
              <a:ext cx="60120" cy="5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2 3 2"/>
            <p:cNvSpPr/>
            <p:nvPr/>
          </p:nvSpPr>
          <p:spPr>
            <a:xfrm>
              <a:off x="6526800" y="4970880"/>
              <a:ext cx="12819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|Dead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or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|Alive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36"/>
          <p:cNvGrpSpPr/>
          <p:nvPr/>
        </p:nvGrpSpPr>
        <p:grpSpPr>
          <a:xfrm>
            <a:off x="1073160" y="2022840"/>
            <a:ext cx="3482640" cy="2067480"/>
            <a:chOff x="1073160" y="2022840"/>
            <a:chExt cx="3482640" cy="2067480"/>
          </a:xfrm>
        </p:grpSpPr>
        <p:sp>
          <p:nvSpPr>
            <p:cNvPr id="117" name="Rectangle 34"/>
            <p:cNvSpPr/>
            <p:nvPr/>
          </p:nvSpPr>
          <p:spPr>
            <a:xfrm rot="20637000">
              <a:off x="1176120" y="2452320"/>
              <a:ext cx="3276360" cy="1208160"/>
            </a:xfrm>
            <a:prstGeom prst="rect">
              <a:avLst/>
            </a:prstGeom>
            <a:solidFill>
              <a:srgbClr val="ffff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Picture 18" descr=""/>
            <p:cNvPicPr/>
            <p:nvPr/>
          </p:nvPicPr>
          <p:blipFill>
            <a:blip r:embed="rId4"/>
            <a:stretch/>
          </p:blipFill>
          <p:spPr>
            <a:xfrm rot="20636400">
              <a:off x="1325520" y="2671560"/>
              <a:ext cx="2980800" cy="86652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19" name="Straight Arrow Connector 50"/>
          <p:cNvCxnSpPr/>
          <p:nvPr/>
        </p:nvCxnSpPr>
        <p:spPr>
          <a:xfrm>
            <a:off x="3429000" y="3514680"/>
            <a:ext cx="457920" cy="1262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traight Connector 28"/>
          <p:cNvSpPr/>
          <p:nvPr/>
        </p:nvSpPr>
        <p:spPr>
          <a:xfrm flipV="1">
            <a:off x="4133880" y="3141360"/>
            <a:ext cx="0" cy="133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 1"/>
          <p:cNvSpPr/>
          <p:nvPr/>
        </p:nvSpPr>
        <p:spPr>
          <a:xfrm>
            <a:off x="369720" y="228600"/>
            <a:ext cx="837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Proof Sketch for Theorem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 2"/>
          <p:cNvSpPr/>
          <p:nvPr/>
        </p:nvSpPr>
        <p:spPr>
          <a:xfrm>
            <a:off x="304920" y="13096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uppose U|Dead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=|Aliv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d U|Aliv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=|Dead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.  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-1295280" y="3809880"/>
            <a:ext cx="4201920" cy="1632240"/>
          </a:xfrm>
          <a:prstGeom prst="rect">
            <a:avLst/>
          </a:prstGeom>
          <a:ln w="0">
            <a:noFill/>
          </a:ln>
        </p:spPr>
      </p:pic>
      <p:sp>
        <p:nvSpPr>
          <p:cNvPr id="124" name="Straight Connector 24"/>
          <p:cNvSpPr/>
          <p:nvPr/>
        </p:nvSpPr>
        <p:spPr>
          <a:xfrm>
            <a:off x="3139920" y="4511520"/>
            <a:ext cx="4114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traight Connector 20"/>
          <p:cNvSpPr/>
          <p:nvPr/>
        </p:nvSpPr>
        <p:spPr>
          <a:xfrm>
            <a:off x="3139920" y="3164040"/>
            <a:ext cx="4114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4"/>
          <p:cNvGrpSpPr/>
          <p:nvPr/>
        </p:nvGrpSpPr>
        <p:grpSpPr>
          <a:xfrm>
            <a:off x="3618000" y="4003560"/>
            <a:ext cx="1033200" cy="1016280"/>
            <a:chOff x="3618000" y="4003560"/>
            <a:chExt cx="1033200" cy="1016280"/>
          </a:xfrm>
        </p:grpSpPr>
        <p:sp>
          <p:nvSpPr>
            <p:cNvPr id="127" name="Rectangle 9"/>
            <p:cNvSpPr/>
            <p:nvPr/>
          </p:nvSpPr>
          <p:spPr>
            <a:xfrm>
              <a:off x="3618000" y="4059000"/>
              <a:ext cx="1033200" cy="960840"/>
            </a:xfrm>
            <a:prstGeom prst="rect">
              <a:avLst/>
            </a:prstGeom>
            <a:solidFill>
              <a:srgbClr val="dbeef4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Box 10"/>
            <p:cNvSpPr/>
            <p:nvPr/>
          </p:nvSpPr>
          <p:spPr>
            <a:xfrm>
              <a:off x="3715560" y="4003560"/>
              <a:ext cx="838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alibri"/>
                </a:rPr>
                <a:t>U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1"/>
          <p:cNvGrpSpPr/>
          <p:nvPr/>
        </p:nvGrpSpPr>
        <p:grpSpPr>
          <a:xfrm>
            <a:off x="5522760" y="2757600"/>
            <a:ext cx="838440" cy="764280"/>
            <a:chOff x="5522760" y="2757600"/>
            <a:chExt cx="838440" cy="764280"/>
          </a:xfrm>
        </p:grpSpPr>
        <p:sp>
          <p:nvSpPr>
            <p:cNvPr id="130" name="Rectangle 14"/>
            <p:cNvSpPr/>
            <p:nvPr/>
          </p:nvSpPr>
          <p:spPr>
            <a:xfrm>
              <a:off x="5552640" y="2798640"/>
              <a:ext cx="779760" cy="685800"/>
            </a:xfrm>
            <a:prstGeom prst="rect">
              <a:avLst/>
            </a:prstGeom>
            <a:solidFill>
              <a:srgbClr val="dbeef4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Box 15"/>
            <p:cNvSpPr/>
            <p:nvPr/>
          </p:nvSpPr>
          <p:spPr>
            <a:xfrm>
              <a:off x="5522760" y="2757600"/>
              <a:ext cx="838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Text Box 2 2"/>
          <p:cNvSpPr/>
          <p:nvPr/>
        </p:nvSpPr>
        <p:spPr>
          <a:xfrm>
            <a:off x="2138400" y="2662200"/>
            <a:ext cx="100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|+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7"/>
          <p:cNvSpPr/>
          <p:nvPr/>
        </p:nvSpPr>
        <p:spPr>
          <a:xfrm>
            <a:off x="4032360" y="3057480"/>
            <a:ext cx="218880" cy="2192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hord 8"/>
          <p:cNvSpPr/>
          <p:nvPr/>
        </p:nvSpPr>
        <p:spPr>
          <a:xfrm rot="6703200">
            <a:off x="6940080" y="2706480"/>
            <a:ext cx="1047600" cy="1047960"/>
          </a:xfrm>
          <a:custGeom>
            <a:avLst/>
            <a:gdLst/>
            <a:ahLst/>
            <a:rect l="l" t="t" r="r" b="b"/>
            <a:pathLst>
              <a:path w="1048831" h="1048831">
                <a:moveTo>
                  <a:pt x="895233" y="895233"/>
                </a:moveTo>
                <a:cubicBezTo>
                  <a:pt x="727399" y="1063067"/>
                  <a:pt x="467761" y="1097249"/>
                  <a:pt x="262207" y="978572"/>
                </a:cubicBezTo>
                <a:cubicBezTo>
                  <a:pt x="56653" y="859895"/>
                  <a:pt x="-43564" y="617952"/>
                  <a:pt x="17868" y="388686"/>
                </a:cubicBezTo>
                <a:cubicBezTo>
                  <a:pt x="79300" y="159420"/>
                  <a:pt x="287061" y="-1"/>
                  <a:pt x="524415" y="-1"/>
                </a:cubicBezTo>
                <a:lnTo>
                  <a:pt x="895233" y="895233"/>
                </a:lnTo>
                <a:close/>
              </a:path>
            </a:pathLst>
          </a:custGeom>
          <a:solidFill>
            <a:srgbClr val="ffffd5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Straight Arrow Connector 16"/>
          <p:cNvCxnSpPr>
            <a:stCxn id="134" idx="2"/>
          </p:cNvCxnSpPr>
          <p:nvPr/>
        </p:nvCxnSpPr>
        <p:spPr>
          <a:xfrm flipV="1">
            <a:off x="7467480" y="2549160"/>
            <a:ext cx="310320" cy="88344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 1"/>
          <p:cNvSpPr/>
          <p:nvPr/>
        </p:nvSpPr>
        <p:spPr>
          <a:xfrm>
            <a:off x="369720" y="228600"/>
            <a:ext cx="837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Stuff to No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 2"/>
          <p:cNvSpPr/>
          <p:nvPr/>
        </p:nvSpPr>
        <p:spPr>
          <a:xfrm>
            <a:off x="304920" y="998640"/>
            <a:ext cx="8354880" cy="34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uppose C|Aliv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= |Dead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d C|Dead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= -|Aliv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.  Then </a:t>
            </a:r>
            <a:r>
              <a:rPr b="1" lang="en-US" sz="2800" spc="-1" strike="noStrike">
                <a:solidFill>
                  <a:srgbClr val="984807"/>
                </a:solidFill>
                <a:latin typeface="Calibri"/>
                <a:ea typeface="Arial"/>
              </a:rPr>
              <a:t>|a+b|=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so C provides no ability to distinguish |Aliv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+|Dead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from |Aliv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|Dead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We’ve shown that this is inherent—not just a proof artif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ore generally: our results are quantitatively tight, and we can prove it—unconditionally,  without assuming </a:t>
            </a:r>
            <a:r>
              <a:rPr b="1" lang="en-US" sz="2800" spc="-1" strike="noStrike">
                <a:solidFill>
                  <a:srgbClr val="cc00cc"/>
                </a:solidFill>
                <a:latin typeface="Calibri"/>
                <a:ea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800" spc="-1" strike="noStrike">
                <a:solidFill>
                  <a:srgbClr val="cc00cc"/>
                </a:solidFill>
                <a:latin typeface="Calibri"/>
                <a:ea typeface="Arial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r anything of that ki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 3"/>
          <p:cNvSpPr/>
          <p:nvPr/>
        </p:nvSpPr>
        <p:spPr>
          <a:xfrm>
            <a:off x="304920" y="4724280"/>
            <a:ext cx="8305560" cy="18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 ability to distinguish |Dead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from |Aliv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does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mply the ability to map |Dead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o |Aliv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or vice ver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E.g., suppose |Dead</a:t>
            </a:r>
            <a:r>
              <a:rPr b="1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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=|0…0</a:t>
            </a:r>
            <a:r>
              <a:rPr b="1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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, while |Alive</a:t>
            </a:r>
            <a:r>
              <a:rPr b="1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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 is orthogonal to |Dead</a:t>
            </a:r>
            <a:r>
              <a:rPr b="1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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 and exponentially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traight Connector 9"/>
          <p:cNvSpPr/>
          <p:nvPr/>
        </p:nvSpPr>
        <p:spPr>
          <a:xfrm flipH="1">
            <a:off x="0" y="4565520"/>
            <a:ext cx="914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0T05:28:27Z</dcterms:created>
  <dc:creator>Scott Aaronson</dc:creator>
  <dc:description/>
  <dc:language>en-US</dc:language>
  <cp:lastModifiedBy>Scott Aaronson</cp:lastModifiedBy>
  <dcterms:modified xsi:type="dcterms:W3CDTF">2020-06-02T13:17:14Z</dcterms:modified>
  <cp:revision>525</cp:revision>
  <dc:subject/>
  <dc:title>BQP and the Polynomial Hierarchy</dc:title>
</cp:coreProperties>
</file>