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6465-AA19-4881-8564-7BD23F12B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66F7-DA94-4BBD-80F5-C08D1ED25D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34DE-8B5C-4251-A889-1F1510FFD1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9526-4989-4637-8A04-781A772A1E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EF1-43C3-43FF-9EAA-5F3EB3F85DB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124F-25C0-47C3-AC83-8B3DF297C5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D43-9519-496C-B522-D263121B22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0087-AEBB-4E33-8181-A960B0EA89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A06-4C87-4443-AABF-108F82AED1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F6E-8FA1-4982-B90C-06A62DD55A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415A-1D8D-4C46-BA4D-4237F62F1A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D76-2A6A-40A5-862B-8BDF42BA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4058-26E0-4626-8DCA-57808BF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746-E015-4E75-A028-521DA3DC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94E-F385-4839-B300-5B1F4742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9D6-4750-4F44-AFA9-612CD26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177-8A6E-4193-BBD5-FB03B57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F53-65B5-4D40-89D2-C6E9ADD8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B51-9613-44DC-8867-16F0885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A40-2589-4E0A-9DDA-574363D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A7B-6DA2-40BD-8FAA-EB4E084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94A-1C7D-46F4-9CF0-8157510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2FA-3935-4A63-89E3-2EDCED28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3472-1B41-44AC-AB0E-C86383AAA3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4238-ADB5-4FA3-AC1F-2BA25092A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5020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teStarCodex Online Meet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10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Schr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ö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dinger’s Cat and Quantum Necrom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cientific Essay] Quantum mechanics, Economics, and Theory of ..."/>
          <p:cNvPicPr/>
          <p:nvPr/>
        </p:nvPicPr>
        <p:blipFill>
          <a:blip r:embed="rId1"/>
          <a:stretch/>
        </p:blipFill>
        <p:spPr>
          <a:xfrm>
            <a:off x="722160" y="2340000"/>
            <a:ext cx="769968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Curved Down Arrow 4"/>
          <p:cNvSpPr/>
          <p:nvPr/>
        </p:nvSpPr>
        <p:spPr>
          <a:xfrm flipH="1">
            <a:off x="3276000" y="2019240"/>
            <a:ext cx="3886200" cy="838440"/>
          </a:xfrm>
          <a:custGeom>
            <a:avLst/>
            <a:gdLst>
              <a:gd name="textAreaLeft" fmla="*/ 892440 w 3886200"/>
              <a:gd name="textAreaRight" fmla="*/ 2888280 w 38862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27" hR="21600" stAng="10800000" swAng="5400000"/>
                <a:lnTo>
                  <a:pt x="11092" y="0"/>
                </a:lnTo>
                <a:arcTo wR="9927" hR="21600" stAng="-5400000" swAng="3640261"/>
                <a:lnTo>
                  <a:pt x="21285" y="16200"/>
                </a:lnTo>
                <a:lnTo>
                  <a:pt x="20436" y="21600"/>
                </a:lnTo>
                <a:lnTo>
                  <a:pt x="18956" y="16200"/>
                </a:lnTo>
                <a:lnTo>
                  <a:pt x="19538" y="16200"/>
                </a:lnTo>
                <a:arcTo wR="9927" hR="21600" stAng="-1759739" swAng="-3547416"/>
                <a:lnTo>
                  <a:pt x="10509" y="37"/>
                </a:lnTo>
                <a:arcTo wR="9927" hR="21600" stAng="-5492845" swAng="-5307155"/>
                <a:close/>
              </a:path>
              <a:path fill="darkenLess" w="21600" h="21600">
                <a:moveTo>
                  <a:pt x="0" y="21600"/>
                </a:moveTo>
                <a:arcTo wR="9927" hR="21600" stAng="10800000" swAng="5400000"/>
                <a:lnTo>
                  <a:pt x="9927" y="0"/>
                </a:lnTo>
                <a:arcTo wR="9927" hR="21600" stAng="-5400000" swAng="92845"/>
                <a:lnTo>
                  <a:pt x="10509" y="37"/>
                </a:lnTo>
                <a:arcTo wR="9927" hR="21600" stAng="-5492845" swAng="-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tuff to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 2"/>
          <p:cNvSpPr/>
          <p:nvPr/>
        </p:nvSpPr>
        <p:spPr>
          <a:xfrm>
            <a:off x="304920" y="998640"/>
            <a:ext cx="83548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-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=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o C provides no ability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e’ve shown that this is inherent—not just a proof 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generally: our results are quantitatively tight, and we can prove it—unconditionally,  without 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nything of that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 3"/>
          <p:cNvSpPr/>
          <p:nvPr/>
        </p:nvSpPr>
        <p:spPr>
          <a:xfrm>
            <a:off x="304920" y="4724280"/>
            <a:ext cx="8305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ility to distinguish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o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mply the ability to map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r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E.g., suppose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=|0…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, while |Alive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is orthogonal to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and exponentially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9"/>
          <p:cNvSpPr/>
          <p:nvPr/>
        </p:nvSpPr>
        <p:spPr>
          <a:xfrm flipH="1">
            <a:off x="0" y="45655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17600" y="998640"/>
            <a:ext cx="83088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some extent, our result just “formalizes the folklore”: quantum interference between branches stops being detectable precisely wh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rreversi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s in, when it’s no longer feasib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e branch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 held that the Thermodynamic Arrow of Time, and our inability to reverse it, was essential to subjectiv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by our result, there would be no such thing as a subjective experience of a superposition state.  And thus, no way (even in principle) to “experience the Many Worlds for yourself” a la Deutsch’s proposal.  Arguments over interpretations could continu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8"/>
          <p:cNvGrpSpPr/>
          <p:nvPr/>
        </p:nvGrpSpPr>
        <p:grpSpPr>
          <a:xfrm>
            <a:off x="236520" y="4038480"/>
            <a:ext cx="4952880" cy="2394720"/>
            <a:chOff x="236520" y="4038480"/>
            <a:chExt cx="4952880" cy="2394720"/>
          </a:xfrm>
        </p:grpSpPr>
        <p:sp>
          <p:nvSpPr>
            <p:cNvPr id="53" name="Text Box 5"/>
            <p:cNvSpPr/>
            <p:nvPr/>
          </p:nvSpPr>
          <p:spPr>
            <a:xfrm>
              <a:off x="236520" y="4038480"/>
              <a:ext cx="4343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f we measure, we se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with probability |a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 |1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with probability |b|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236520" y="5486040"/>
              <a:ext cx="4952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lso, the object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collapses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to whichever outcome we sa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7"/>
          <p:cNvSpPr/>
          <p:nvPr/>
        </p:nvSpPr>
        <p:spPr>
          <a:xfrm>
            <a:off x="266760" y="838080"/>
            <a:ext cx="8610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an object can be in two distinguishable states, call them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n it can also be in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uperpo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4400" spc="-1" strike="noStrike">
                <a:solidFill>
                  <a:srgbClr val="009900"/>
                </a:solidFill>
                <a:latin typeface="Calibri"/>
                <a:ea typeface="Arial"/>
              </a:rPr>
              <a:t>a|0</a:t>
            </a:r>
            <a:r>
              <a:rPr b="1" lang="en-US" sz="44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r>
              <a:rPr b="1" lang="en-US" sz="4400" spc="-1" strike="noStrike">
                <a:solidFill>
                  <a:srgbClr val="009900"/>
                </a:solidFill>
                <a:latin typeface="Calibri"/>
                <a:ea typeface="Arial"/>
              </a:rPr>
              <a:t> + b|1</a:t>
            </a:r>
            <a:r>
              <a:rPr b="1" lang="en-US" sz="4400" spc="-1" strike="noStrike">
                <a:solidFill>
                  <a:srgbClr val="009900"/>
                </a:solidFill>
                <a:latin typeface="Symbol"/>
                <a:ea typeface="Symbol"/>
              </a:rPr>
              <a:t>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4884840" y="1725480"/>
            <a:ext cx="3595680" cy="3657600"/>
            <a:chOff x="4884840" y="1725480"/>
            <a:chExt cx="3595680" cy="3657600"/>
          </a:xfrm>
        </p:grpSpPr>
        <p:sp>
          <p:nvSpPr>
            <p:cNvPr id="57" name="Oval 8"/>
            <p:cNvSpPr/>
            <p:nvPr/>
          </p:nvSpPr>
          <p:spPr>
            <a:xfrm>
              <a:off x="4884840" y="23349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4884840" y="385884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409080" y="23349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Object 2"/>
            <p:cNvGraphicFramePr/>
            <p:nvPr/>
          </p:nvGraphicFramePr>
          <p:xfrm>
            <a:off x="7932960" y="34779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32960" y="34779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3"/>
            <p:cNvGraphicFramePr/>
            <p:nvPr/>
          </p:nvGraphicFramePr>
          <p:xfrm>
            <a:off x="6197760" y="172548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7760" y="172548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Line 14"/>
          <p:cNvSpPr/>
          <p:nvPr/>
        </p:nvSpPr>
        <p:spPr>
          <a:xfrm flipV="1">
            <a:off x="6402600" y="27882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36520" y="2590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re a and b are complex number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mplitu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atisfying |a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b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48320" y="5383080"/>
            <a:ext cx="457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sides measuring, can also rotate the amplitude vector while preserving its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69720" y="684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Mechanics in 1 Sli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6284880" y="2349000"/>
            <a:ext cx="234720" cy="3213720"/>
            <a:chOff x="6284880" y="2349000"/>
            <a:chExt cx="234720" cy="3213720"/>
          </a:xfrm>
        </p:grpSpPr>
        <p:sp>
          <p:nvSpPr>
            <p:cNvPr id="69" name="Line 20"/>
            <p:cNvSpPr/>
            <p:nvPr/>
          </p:nvSpPr>
          <p:spPr>
            <a:xfrm flipH="1" flipV="1">
              <a:off x="6407280" y="2349000"/>
              <a:ext cx="3960" cy="153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"/>
            <p:cNvSpPr/>
            <p:nvPr/>
          </p:nvSpPr>
          <p:spPr>
            <a:xfrm>
              <a:off x="6284880" y="3884760"/>
              <a:ext cx="2347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14"/>
          <p:cNvSpPr/>
          <p:nvPr/>
        </p:nvSpPr>
        <p:spPr>
          <a:xfrm>
            <a:off x="6402960" y="3843720"/>
            <a:ext cx="1076400" cy="107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7543800" y="4923000"/>
          <a:ext cx="86832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4923000"/>
                    <a:ext cx="868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7497720" y="2135160"/>
          <a:ext cx="868320" cy="76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7720" y="2135160"/>
                    <a:ext cx="8683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12"/>
          <p:cNvSpPr/>
          <p:nvPr/>
        </p:nvSpPr>
        <p:spPr>
          <a:xfrm flipV="1">
            <a:off x="1227240" y="3155760"/>
            <a:ext cx="2666880" cy="5331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1227240" y="3994200"/>
            <a:ext cx="266688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570640" y="2165400"/>
            <a:ext cx="0" cy="33526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970440" y="3133800"/>
            <a:ext cx="1600200" cy="5554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 flipV="1">
            <a:off x="3970440" y="3820680"/>
            <a:ext cx="1600200" cy="706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2"/>
          <p:cNvGrpSpPr/>
          <p:nvPr/>
        </p:nvGrpSpPr>
        <p:grpSpPr>
          <a:xfrm>
            <a:off x="3970440" y="2165400"/>
            <a:ext cx="0" cy="3352680"/>
            <a:chOff x="3970440" y="2165400"/>
            <a:chExt cx="0" cy="3352680"/>
          </a:xfrm>
        </p:grpSpPr>
        <p:sp>
          <p:nvSpPr>
            <p:cNvPr id="82" name="Line 9"/>
            <p:cNvSpPr/>
            <p:nvPr/>
          </p:nvSpPr>
          <p:spPr>
            <a:xfrm>
              <a:off x="3970440" y="3384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3970440" y="475632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3970440" y="2165400"/>
              <a:ext cx="0" cy="761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6"/>
          <p:cNvGrpSpPr/>
          <p:nvPr/>
        </p:nvGrpSpPr>
        <p:grpSpPr>
          <a:xfrm>
            <a:off x="541440" y="3537000"/>
            <a:ext cx="609480" cy="609480"/>
            <a:chOff x="541440" y="3537000"/>
            <a:chExt cx="609480" cy="609480"/>
          </a:xfrm>
        </p:grpSpPr>
        <p:pic>
          <p:nvPicPr>
            <p:cNvPr id="86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541440" y="35370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45"/>
            <p:cNvSpPr/>
            <p:nvPr/>
          </p:nvSpPr>
          <p:spPr>
            <a:xfrm rot="16200000">
              <a:off x="755640" y="379584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64"/>
            <p:cNvGrpSpPr/>
            <p:nvPr/>
          </p:nvGrpSpPr>
          <p:grpSpPr>
            <a:xfrm>
              <a:off x="599400" y="3693960"/>
              <a:ext cx="235800" cy="144000"/>
              <a:chOff x="599400" y="3693960"/>
              <a:chExt cx="235800" cy="144000"/>
            </a:xfrm>
          </p:grpSpPr>
          <p:sp>
            <p:nvSpPr>
              <p:cNvPr id="89" name="Freeform 47"/>
              <p:cNvSpPr/>
              <p:nvPr/>
            </p:nvSpPr>
            <p:spPr>
              <a:xfrm>
                <a:off x="599400" y="3693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8"/>
              <p:cNvSpPr/>
              <p:nvPr/>
            </p:nvSpPr>
            <p:spPr>
              <a:xfrm>
                <a:off x="617040" y="3709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9"/>
              <p:cNvSpPr/>
              <p:nvPr/>
            </p:nvSpPr>
            <p:spPr>
              <a:xfrm>
                <a:off x="667440" y="3718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0"/>
              <p:cNvSpPr/>
              <p:nvPr/>
            </p:nvSpPr>
            <p:spPr>
              <a:xfrm>
                <a:off x="722880" y="3746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5"/>
            <p:cNvGrpSpPr/>
            <p:nvPr/>
          </p:nvGrpSpPr>
          <p:grpSpPr>
            <a:xfrm>
              <a:off x="887040" y="3693960"/>
              <a:ext cx="235800" cy="144000"/>
              <a:chOff x="887040" y="3693960"/>
              <a:chExt cx="235800" cy="144000"/>
            </a:xfrm>
          </p:grpSpPr>
          <p:sp>
            <p:nvSpPr>
              <p:cNvPr id="94" name="Freeform 59"/>
              <p:cNvSpPr/>
              <p:nvPr/>
            </p:nvSpPr>
            <p:spPr>
              <a:xfrm>
                <a:off x="887040" y="369396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0"/>
              <p:cNvSpPr/>
              <p:nvPr/>
            </p:nvSpPr>
            <p:spPr>
              <a:xfrm>
                <a:off x="904680" y="370980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955080" y="371844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62"/>
              <p:cNvSpPr/>
              <p:nvPr/>
            </p:nvSpPr>
            <p:spPr>
              <a:xfrm>
                <a:off x="1010520" y="374688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Line 20"/>
          <p:cNvSpPr/>
          <p:nvPr/>
        </p:nvSpPr>
        <p:spPr>
          <a:xfrm>
            <a:off x="5568840" y="3529080"/>
            <a:ext cx="0" cy="431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122640" y="266076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122640" y="436392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211800" y="2036880"/>
            <a:ext cx="243864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Obviously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=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+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624640" y="343224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257880" y="3641760"/>
            <a:ext cx="280836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When you t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</a:t>
            </a:r>
            <a:r>
              <a:rPr b="1" lang="en-CA" sz="3600" spc="-1" strike="noStrike">
                <a:solidFill>
                  <a:srgbClr val="00b050"/>
                </a:solidFill>
                <a:latin typeface="Symbol"/>
                <a:ea typeface="Symbol"/>
              </a:rPr>
              <a:t>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+</a:t>
            </a:r>
            <a:r>
              <a:rPr b="1" i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3970440" y="4135320"/>
            <a:ext cx="0" cy="782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3970440" y="2754360"/>
            <a:ext cx="0" cy="782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V="1">
            <a:off x="1252440" y="3163680"/>
            <a:ext cx="2667240" cy="5331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987720" y="3133800"/>
            <a:ext cx="1600200" cy="5540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122640" y="2649600"/>
            <a:ext cx="533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p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728720" y="2868480"/>
            <a:ext cx="11905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762200" y="4179960"/>
            <a:ext cx="11793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CA" sz="3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951440" y="343224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9720" y="228600"/>
            <a:ext cx="837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terference of Amplitudes: The Signature of Quantum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50920" y="5867280"/>
            <a:ext cx="7593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  <a:ea typeface="Calibri"/>
              </a:rPr>
              <a:t>The true law:   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p = |a|</a:t>
            </a:r>
            <a:r>
              <a:rPr b="1" lang="en-CA" sz="36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= |a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1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 + a</a:t>
            </a:r>
            <a:r>
              <a:rPr b="1" lang="en-CA" sz="3600" spc="-1" strike="noStrike" baseline="-25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r>
              <a:rPr b="1" lang="en-CA" sz="3600" spc="-1" strike="noStrike">
                <a:solidFill>
                  <a:srgbClr val="00b050"/>
                </a:solidFill>
                <a:latin typeface="Calibri"/>
                <a:ea typeface="Calibri"/>
              </a:rPr>
              <a:t>|</a:t>
            </a:r>
            <a:r>
              <a:rPr b="1" lang="en-CA" sz="36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Measuremen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285840" y="979560"/>
            <a:ext cx="8467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could the universe possibly have two rules—a random, discontinuous, irreversible rule for “when you look,” and a deterministic, continuous, reversible rule for “when you don’t look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n’t we governed by the same laws as the particles we’re measuring?  But then where does the buck s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457200" y="4000680"/>
            <a:ext cx="8153280" cy="2666880"/>
            <a:chOff x="457200" y="4000680"/>
            <a:chExt cx="8153280" cy="2666880"/>
          </a:xfrm>
        </p:grpSpPr>
        <p:pic>
          <p:nvPicPr>
            <p:cNvPr id="117" name="Picture 6" descr="Eliezer Yudkowsky (@ESYudkowsky) | Twitter"/>
            <p:cNvPicPr/>
            <p:nvPr/>
          </p:nvPicPr>
          <p:blipFill>
            <a:blip r:embed="rId1"/>
            <a:stretch/>
          </p:blipFill>
          <p:spPr>
            <a:xfrm>
              <a:off x="5943600" y="4000680"/>
              <a:ext cx="2666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Oval Callout 1"/>
            <p:cNvSpPr/>
            <p:nvPr/>
          </p:nvSpPr>
          <p:spPr>
            <a:xfrm>
              <a:off x="457200" y="4222800"/>
              <a:ext cx="4952880" cy="1438200"/>
            </a:xfrm>
            <a:prstGeom prst="wedgeEllipseCallout">
              <a:avLst>
                <a:gd name="adj1" fmla="val 75782"/>
                <a:gd name="adj2" fmla="val 58986"/>
              </a:avLst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"/>
            <p:cNvSpPr/>
            <p:nvPr/>
          </p:nvSpPr>
          <p:spPr>
            <a:xfrm>
              <a:off x="838080" y="4518000"/>
              <a:ext cx="4233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’s obvious!  Many-Worlds solves everything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ott’s Interpretation Decisio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540160" y="1109520"/>
            <a:ext cx="40766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QM valid at all sc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251240" y="2444760"/>
            <a:ext cx="45878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output of phys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251240" y="4367160"/>
            <a:ext cx="450864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add a mathematical ingredient to get on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565280" y="3603600"/>
            <a:ext cx="19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eriences of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5867280" y="3193920"/>
            <a:ext cx="21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49200" y="2444760"/>
            <a:ext cx="3352680" cy="94716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ynamical Collap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enrose, GR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942840" y="4838760"/>
            <a:ext cx="2165400" cy="947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enhagen, Q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030480" y="6089760"/>
            <a:ext cx="223992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-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699160" y="6100920"/>
            <a:ext cx="324468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Broglie-Bohm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440080" y="1778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280120" y="1798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103640" y="5386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6762600" y="53672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2"/>
          <p:cNvCxnSpPr/>
          <p:nvPr/>
        </p:nvCxnSpPr>
        <p:spPr>
          <a:xfrm flipH="1">
            <a:off x="2895120" y="1633320"/>
            <a:ext cx="80712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5" name="Straight Arrow Connector 17"/>
          <p:cNvCxnSpPr/>
          <p:nvPr/>
        </p:nvCxnSpPr>
        <p:spPr>
          <a:xfrm>
            <a:off x="4861080" y="1633320"/>
            <a:ext cx="83880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6" name="Straight Arrow Connector 19"/>
          <p:cNvCxnSpPr/>
          <p:nvPr/>
        </p:nvCxnSpPr>
        <p:spPr>
          <a:xfrm flipH="1">
            <a:off x="2858760" y="2968200"/>
            <a:ext cx="1720080" cy="18709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7" name="Straight Arrow Connector 22"/>
          <p:cNvCxnSpPr/>
          <p:nvPr/>
        </p:nvCxnSpPr>
        <p:spPr>
          <a:xfrm>
            <a:off x="5821200" y="2974680"/>
            <a:ext cx="504000" cy="1392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8" name="Straight Arrow Connector 24"/>
          <p:cNvCxnSpPr/>
          <p:nvPr/>
        </p:nvCxnSpPr>
        <p:spPr>
          <a:xfrm flipH="1">
            <a:off x="4622040" y="5320800"/>
            <a:ext cx="57852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139" name="Straight Arrow Connector 26"/>
          <p:cNvCxnSpPr/>
          <p:nvPr/>
        </p:nvCxnSpPr>
        <p:spPr>
          <a:xfrm>
            <a:off x="6633720" y="5320800"/>
            <a:ext cx="51660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01760" y="1922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o interpretations even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41280" y="2398680"/>
            <a:ext cx="87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h, but what about Sc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nger’s Cat and Wigner’s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24000" y="96192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people argue about QM interpretations (not counting dynamical collapse),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do their beliefs pay rent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Are they arguing only about the map, not the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 inconsistent friend | Nature Physics"/>
          <p:cNvPicPr/>
          <p:nvPr/>
        </p:nvPicPr>
        <p:blipFill>
          <a:blip r:embed="rId1"/>
          <a:stretch/>
        </p:blipFill>
        <p:spPr>
          <a:xfrm>
            <a:off x="3627360" y="2922480"/>
            <a:ext cx="4784760" cy="168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The Other side of the wall: Schrodinger's cat Paradox explained ..."/>
          <p:cNvPicPr/>
          <p:nvPr/>
        </p:nvPicPr>
        <p:blipFill>
          <a:blip r:embed="rId2"/>
          <a:stretch/>
        </p:blipFill>
        <p:spPr>
          <a:xfrm>
            <a:off x="1036800" y="2994120"/>
            <a:ext cx="19810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2"/>
          <p:cNvGrpSpPr/>
          <p:nvPr/>
        </p:nvGrpSpPr>
        <p:grpSpPr>
          <a:xfrm>
            <a:off x="301680" y="4829040"/>
            <a:ext cx="8650080" cy="1814760"/>
            <a:chOff x="301680" y="4829040"/>
            <a:chExt cx="8650080" cy="1814760"/>
          </a:xfrm>
        </p:grpSpPr>
        <p:sp>
          <p:nvSpPr>
            <p:cNvPr id="146" name="Rectangle 1"/>
            <p:cNvSpPr/>
            <p:nvPr/>
          </p:nvSpPr>
          <p:spPr>
            <a:xfrm>
              <a:off x="301680" y="4829040"/>
              <a:ext cx="8650080" cy="18147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0" descr="David Deutsch (@DavidDeutschOxf) | Twitter"/>
            <p:cNvPicPr/>
            <p:nvPr/>
          </p:nvPicPr>
          <p:blipFill>
            <a:blip r:embed="rId3"/>
            <a:stretch/>
          </p:blipFill>
          <p:spPr>
            <a:xfrm>
              <a:off x="7275600" y="4967280"/>
              <a:ext cx="1539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"/>
            <p:cNvSpPr/>
            <p:nvPr/>
          </p:nvSpPr>
          <p:spPr>
            <a:xfrm>
              <a:off x="362520" y="4829040"/>
              <a:ext cx="691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utsch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Yeah, what if we, like, uploaded your brain into a quantum computer and then interfered your mental states?  Surely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e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t would matter that the Many Worlds are real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 1"/>
          <p:cNvSpPr/>
          <p:nvPr/>
        </p:nvSpPr>
        <p:spPr>
          <a:xfrm>
            <a:off x="284040" y="304920"/>
            <a:ext cx="63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Meanwhile, in Quantum Gravity Land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nny Susskind cared about a different kind of “macroscopic” quantum state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erpositions of spacetime geome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977160" y="304920"/>
            <a:ext cx="1665360" cy="2073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 2"/>
          <p:cNvSpPr/>
          <p:nvPr/>
        </p:nvSpPr>
        <p:spPr>
          <a:xfrm>
            <a:off x="330120" y="350820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 wondered whether computational complexity could provide the ultimate criterion for when two branches of a quantum state are “separated for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 3"/>
          <p:cNvSpPr/>
          <p:nvPr/>
        </p:nvSpPr>
        <p:spPr>
          <a:xfrm>
            <a:off x="314280" y="489276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a few years ago, he emailed me a conj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1563840" y="2517840"/>
            <a:ext cx="5875200" cy="865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 1"/>
          <p:cNvSpPr/>
          <p:nvPr/>
        </p:nvSpPr>
        <p:spPr>
          <a:xfrm>
            <a:off x="436680" y="237492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 3"/>
          <p:cNvSpPr/>
          <p:nvPr/>
        </p:nvSpPr>
        <p:spPr>
          <a:xfrm>
            <a:off x="615960" y="5562720"/>
            <a:ext cx="8153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( Seeing interference between 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 Complexity(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vice vers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69720" y="152280"/>
            <a:ext cx="8374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enny’s Conjecture i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basically)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True!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 and Yosi Atia, on the arXiv any day now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04920" y="1414440"/>
            <a:ext cx="861048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wo orthogonal states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ppose there’s a quantum circuit with T gates to distinguish (say)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quantum circuit with O(T) gate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eralizes to: noisy distinguishing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noisy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versely, suppose there’s a quantum circuit with T gates that maps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circuit with O(T) gates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fidelity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 2"/>
          <p:cNvSpPr/>
          <p:nvPr/>
        </p:nvSpPr>
        <p:spPr>
          <a:xfrm>
            <a:off x="266760" y="1044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quantum information folks, basically trivi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 3 1"/>
          <p:cNvSpPr/>
          <p:nvPr/>
        </p:nvSpPr>
        <p:spPr>
          <a:xfrm>
            <a:off x="1843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o sw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 4"/>
          <p:cNvSpPr/>
          <p:nvPr/>
        </p:nvSpPr>
        <p:spPr>
          <a:xfrm>
            <a:off x="3505320" y="7162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 something analogous for converse, 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49120" y="1882800"/>
            <a:ext cx="4202280" cy="163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894200" y="1805040"/>
            <a:ext cx="3987720" cy="1785960"/>
          </a:xfrm>
          <a:prstGeom prst="rect">
            <a:avLst/>
          </a:prstGeom>
          <a:ln w="0">
            <a:noFill/>
          </a:ln>
        </p:spPr>
      </p:pic>
      <p:sp>
        <p:nvSpPr>
          <p:cNvPr id="164" name="Straight Connector 33"/>
          <p:cNvSpPr/>
          <p:nvPr/>
        </p:nvSpPr>
        <p:spPr>
          <a:xfrm>
            <a:off x="4648320" y="1697040"/>
            <a:ext cx="0" cy="2003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8"/>
          <p:cNvGrpSpPr/>
          <p:nvPr/>
        </p:nvGrpSpPr>
        <p:grpSpPr>
          <a:xfrm>
            <a:off x="1092240" y="4716360"/>
            <a:ext cx="6716520" cy="1852560"/>
            <a:chOff x="1092240" y="4716360"/>
            <a:chExt cx="6716520" cy="1852560"/>
          </a:xfrm>
        </p:grpSpPr>
        <p:sp>
          <p:nvSpPr>
            <p:cNvPr id="166" name="Straight Connector 23"/>
            <p:cNvSpPr/>
            <p:nvPr/>
          </p:nvSpPr>
          <p:spPr>
            <a:xfrm>
              <a:off x="2411280" y="56642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24"/>
            <p:cNvSpPr/>
            <p:nvPr/>
          </p:nvSpPr>
          <p:spPr>
            <a:xfrm>
              <a:off x="2411280" y="64166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20"/>
            <p:cNvSpPr/>
            <p:nvPr/>
          </p:nvSpPr>
          <p:spPr>
            <a:xfrm>
              <a:off x="2411280" y="506880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2604960" y="4757400"/>
              <a:ext cx="1033200" cy="181152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2687400" y="50497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5218200" y="4776480"/>
              <a:ext cx="1033200" cy="17924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3"/>
            <p:cNvSpPr/>
            <p:nvPr/>
          </p:nvSpPr>
          <p:spPr>
            <a:xfrm>
              <a:off x="5218200" y="5068800"/>
              <a:ext cx="103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4062240" y="4757400"/>
              <a:ext cx="77940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5"/>
            <p:cNvSpPr/>
            <p:nvPr/>
          </p:nvSpPr>
          <p:spPr>
            <a:xfrm>
              <a:off x="4032360" y="47163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 3 2"/>
            <p:cNvSpPr/>
            <p:nvPr/>
          </p:nvSpPr>
          <p:spPr>
            <a:xfrm>
              <a:off x="1092240" y="495072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6" descr=""/>
            <p:cNvPicPr/>
            <p:nvPr/>
          </p:nvPicPr>
          <p:blipFill>
            <a:blip r:embed="rId3"/>
            <a:stretch/>
          </p:blipFill>
          <p:spPr>
            <a:xfrm>
              <a:off x="4441680" y="5763600"/>
              <a:ext cx="6012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2 3 2"/>
            <p:cNvSpPr/>
            <p:nvPr/>
          </p:nvSpPr>
          <p:spPr>
            <a:xfrm>
              <a:off x="6526800" y="497088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6"/>
          <p:cNvGrpSpPr/>
          <p:nvPr/>
        </p:nvGrpSpPr>
        <p:grpSpPr>
          <a:xfrm>
            <a:off x="1073160" y="2022840"/>
            <a:ext cx="3482640" cy="2067480"/>
            <a:chOff x="1073160" y="2022840"/>
            <a:chExt cx="3482640" cy="2067480"/>
          </a:xfrm>
        </p:grpSpPr>
        <p:sp>
          <p:nvSpPr>
            <p:cNvPr id="179" name="Rectangle 34"/>
            <p:cNvSpPr/>
            <p:nvPr/>
          </p:nvSpPr>
          <p:spPr>
            <a:xfrm rot="20637000">
              <a:off x="1176120" y="2452320"/>
              <a:ext cx="3276360" cy="12081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18" descr=""/>
            <p:cNvPicPr/>
            <p:nvPr/>
          </p:nvPicPr>
          <p:blipFill>
            <a:blip r:embed="rId4"/>
            <a:stretch/>
          </p:blipFill>
          <p:spPr>
            <a:xfrm rot="20636400">
              <a:off x="1325520" y="2671560"/>
              <a:ext cx="2980800" cy="866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81" name="Straight Arrow Connector 50"/>
          <p:cNvCxnSpPr/>
          <p:nvPr/>
        </p:nvCxnSpPr>
        <p:spPr>
          <a:xfrm>
            <a:off x="3429000" y="3514680"/>
            <a:ext cx="457920" cy="12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5-10T16:45:57Z</dcterms:modified>
  <cp:revision>510</cp:revision>
  <dc:subject/>
  <dc:title>BQP and the Polynomial Hierarchy</dc:title>
</cp:coreProperties>
</file>