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E33-0CBE-442F-AC7F-AAEAA0B0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919-CA0B-4610-BC5F-FB043FAE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6EA-1B93-45CE-B013-31CAF8E33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9E2A-9427-4023-A01B-753C465BE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6AAE-B16C-485F-B06E-89802088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E4E-33EC-47D9-AAE5-381612FF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7CDA-1CD6-4A1F-8D96-5C1D607A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1E37-4C30-4544-91B3-842C7BBB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82B-46DA-4A53-8710-EF719C1C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904-4293-4937-B279-2200303B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ECDD-F1E4-496A-B5A5-DD09B2E5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36F1-B733-4798-9C7A-FE6B5292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D75B-376A-4CFE-8673-BA11EAA1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A13-EA3A-41CC-859E-C772DFC17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69F-655E-47D0-9328-047B3F13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BC15-3370-4467-A9C3-E1C1FCB6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D5DA-A948-4E36-8281-EEF98510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E6AB-CF0E-4995-A424-6C20E4F7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641-D7E4-4519-8BBB-CDE51242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D55C-A057-462D-956A-F892A3ED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0CB-6375-4D15-9CA1-F77385702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A38B-F436-4C1B-BAE7-95C38959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783-74C1-4FF6-BA8C-2A9619AC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102-937C-4855-BBBB-23C67E5C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555-1729-4414-AECA-B8A68791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8C8-19E1-43EE-B3A2-B7969472A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CF3E-7582-46BE-9526-10D5ED05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4BB-B63C-4C34-9E55-20E3255E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E91-EE3B-4B4B-8971-0F82AEAE0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FA9-FBC8-4AF8-BC7D-9357ACF2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B52-9066-451C-91EA-C53793E0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561-8CD5-40E9-A106-D10879C1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EE2-81F7-4F2D-A17B-A1177AAE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34D-1A78-4B35-8D40-AC5DD23C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AB6-5EB3-48E8-A37F-729A40D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BA3-65D6-4AC0-90CA-3A597BC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05D-58D4-43AC-825C-98EFFAA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4AE-D51A-4179-95EE-C8CFE86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0C4-1F9D-41BA-809C-578CF3F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D4E-0773-41A0-9F82-4F5B686E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413-6A00-48F4-A7AC-8AFE105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C82B-38C9-4FA4-90BD-C49517E9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New Developments in Quantum Money and Copy-Protected Softwa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Paul Christ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3"/>
          <p:cNvSpPr/>
          <p:nvPr/>
        </p:nvSpPr>
        <p:spPr>
          <a:xfrm flipV="1">
            <a:off x="1724040" y="2374560"/>
            <a:ext cx="1552680" cy="3141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4" descr="MCDD01775_0000[1]"/>
          <p:cNvPicPr/>
          <p:nvPr/>
        </p:nvPicPr>
        <p:blipFill>
          <a:blip r:embed="rId1"/>
          <a:stretch/>
        </p:blipFill>
        <p:spPr>
          <a:xfrm>
            <a:off x="1219320" y="2666880"/>
            <a:ext cx="2284200" cy="228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029200" y="245124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029200" y="450864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 rot="16200000">
            <a:off x="4000320" y="347940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5029200" y="2603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7086600" y="45086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rcRect l="0" t="0" r="45581" b="49487"/>
          <a:stretch/>
        </p:blipFill>
        <p:spPr>
          <a:xfrm>
            <a:off x="1371600" y="2971800"/>
            <a:ext cx="196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asic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1219320"/>
            <a:ext cx="8458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obvious that public-key quantum money is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is, will certainly requi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ational 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 addition t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loss of generality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 is reusabl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If the completeness erro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it’s possible to verify banknotes in a way that damages the valid ones by at most             in trace distanc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reusable 1/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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371600" y="4191120"/>
                <a:ext cx="72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ε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revious Work on Public-Key Quantum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1143000"/>
            <a:ext cx="8229600" cy="22194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, CCC’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construction using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ntum oracl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but security proof never published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candidate scheme based on random stabilizer states—broken by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utomirski et al.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3520" y="3809880"/>
            <a:ext cx="8229600" cy="2644560"/>
          </a:xfrm>
          <a:prstGeom prst="rect">
            <a:avLst/>
          </a:prstGeom>
          <a:solidFill>
            <a:srgbClr val="e7ff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arhi et al., ITCS’2012: “Quantum money from kno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ant, original proposal, but little known about secur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even known which st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verifier accepts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utomirski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Abstract” version of knot scheme using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but proving its security still wide open; seems h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80880" y="15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Our work: A new public-key quantum money scheme, based on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idden sub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533520" y="1752480"/>
            <a:ext cx="2895480" cy="2895840"/>
            <a:chOff x="533520" y="1752480"/>
            <a:chExt cx="2895480" cy="2895840"/>
          </a:xfrm>
        </p:grpSpPr>
        <p:sp>
          <p:nvSpPr>
            <p:cNvPr id="166" name="Rectangle 10"/>
            <p:cNvSpPr/>
            <p:nvPr/>
          </p:nvSpPr>
          <p:spPr>
            <a:xfrm>
              <a:off x="533520" y="1752480"/>
              <a:ext cx="2895480" cy="289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533520" y="3810240"/>
              <a:ext cx="289548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 rot="16200000">
              <a:off x="-495000" y="2781360"/>
              <a:ext cx="289584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5"/>
            <p:cNvSpPr/>
            <p:nvPr/>
          </p:nvSpPr>
          <p:spPr>
            <a:xfrm>
              <a:off x="533520" y="19047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6"/>
            <p:cNvSpPr/>
            <p:nvPr/>
          </p:nvSpPr>
          <p:spPr>
            <a:xfrm>
              <a:off x="2590920" y="381024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10"/>
          <p:cNvSpPr/>
          <p:nvPr/>
        </p:nvSpPr>
        <p:spPr>
          <a:xfrm>
            <a:off x="1828800" y="1523880"/>
            <a:ext cx="6934320" cy="137376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simpler than previous schemes: verifier just projects onto valid money states, by measuring in two complementary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914400" y="3048120"/>
            <a:ext cx="7924680" cy="1373760"/>
          </a:xfrm>
          <a:prstGeom prst="rect">
            <a:avLst/>
          </a:prstGeom>
          <a:solidFill>
            <a:srgbClr val="ffe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first time, can base security on an assumption (about multivariate polynomial cryptography) that h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hing to do with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04920" y="4572000"/>
            <a:ext cx="8610480" cy="9471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for first time, can prove “abstract” version of scheme (involving a classical oracle)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ncondition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219320" y="5715000"/>
            <a:ext cx="6705360" cy="1373760"/>
          </a:xfrm>
          <a:prstGeom prst="rect">
            <a:avLst/>
          </a:prstGeom>
          <a:solidFill>
            <a:srgbClr val="e7f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construction yields the first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key scheme that’s provably “interactively sec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verview of Our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80880" y="2895480"/>
            <a:ext cx="4114800" cy="1332720"/>
          </a:xfrm>
          <a:prstGeom prst="rect">
            <a:avLst/>
          </a:prstGeom>
          <a:solidFill>
            <a:srgbClr val="e7ff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ini-Schem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nt prints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ng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banknote (s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 s.t. copy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s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257800" y="2590920"/>
            <a:ext cx="3581280" cy="1648080"/>
          </a:xfrm>
          <a:prstGeom prst="rect">
            <a:avLst/>
          </a:prstGeom>
          <a:solidFill>
            <a:srgbClr val="ffe7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ignature Schem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ure against nonadaptive quantum chosen-message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80880" y="1219320"/>
            <a:ext cx="8458200" cy="6426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ublic-Key Quantum Money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257800" y="5181480"/>
            <a:ext cx="3581280" cy="1282320"/>
          </a:xfrm>
          <a:prstGeom prst="rect">
            <a:avLst/>
          </a:prstGeom>
          <a:solidFill>
            <a:srgbClr val="ffe7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WF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ure against quantum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10"/>
          <p:cNvSpPr/>
          <p:nvPr/>
        </p:nvSpPr>
        <p:spPr>
          <a:xfrm flipV="1">
            <a:off x="380880" y="1904040"/>
            <a:ext cx="4114800" cy="99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13"/>
          <p:cNvSpPr/>
          <p:nvPr/>
        </p:nvSpPr>
        <p:spPr>
          <a:xfrm flipV="1">
            <a:off x="5257800" y="4267080"/>
            <a:ext cx="358128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4"/>
          <p:cNvSpPr/>
          <p:nvPr/>
        </p:nvSpPr>
        <p:spPr>
          <a:xfrm flipV="1">
            <a:off x="5257800" y="1904040"/>
            <a:ext cx="358128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4120" y="449568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rom Rompel 19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/>
          <p:nvPr/>
        </p:nvCxnSpPr>
        <p:spPr>
          <a:xfrm>
            <a:off x="4495320" y="4190760"/>
            <a:ext cx="762840" cy="991080"/>
          </a:xfrm>
          <a:prstGeom prst="straightConnector1">
            <a:avLst/>
          </a:prstGeom>
          <a:ln w="50760">
            <a:solidFill>
              <a:srgbClr val="000000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762120" y="1981080"/>
            <a:ext cx="7391160" cy="1447920"/>
          </a:xfrm>
          <a:prstGeom prst="rect">
            <a:avLst/>
          </a:prstGeom>
          <a:solidFill>
            <a:srgbClr val="ffffb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228600"/>
            <a:ext cx="815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tandard Construction” of Quantum Money from Mini-Schemes + Signatures</a:t>
            </a:r>
            <a:br>
              <a:rPr sz="3600"/>
            </a:b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(Introduced by Lutomirski et al.; analyzed by 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5638680"/>
            <a:ext cx="8458200" cy="1432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you can create counterfeit banknotes $, t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can c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, or else you can forge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838080" y="2209680"/>
                <a:ext cx="7223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vate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3"/>
          <p:cNvSpPr/>
          <p:nvPr/>
        </p:nvSpPr>
        <p:spPr>
          <a:xfrm>
            <a:off x="380880" y="3581280"/>
            <a:ext cx="8458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 verify the banknote $=(s,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at (s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at w is a valid digital signatur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57200" y="990720"/>
            <a:ext cx="4952880" cy="2743200"/>
          </a:xfrm>
          <a:prstGeom prst="rect">
            <a:avLst/>
          </a:prstGeom>
          <a:solidFill>
            <a:srgbClr val="e7f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Hidden Subspace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3520" y="1676520"/>
                <a:ext cx="47988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Text Box 3"/>
          <p:cNvSpPr/>
          <p:nvPr/>
        </p:nvSpPr>
        <p:spPr>
          <a:xfrm>
            <a:off x="685800" y="1143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antum money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5867280" y="1295280"/>
                <a:ext cx="26701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≤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3"/>
          <p:cNvSpPr/>
          <p:nvPr/>
        </p:nvSpPr>
        <p:spPr>
          <a:xfrm>
            <a:off x="457200" y="4952880"/>
            <a:ext cx="83059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rresponding “serial number” 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how describes how to check membership i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the dual subspace of A), yet doesn’t reveal A or 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40384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t can easily choose a random A and prepare |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28600" y="152280"/>
            <a:ext cx="861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ocedure to Verify Money State</a:t>
            </a:r>
            <a:br>
              <a:rPr sz="4400"/>
            </a:b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(assuming ability to decide membership in A and A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</a:t>
            </a: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62120" y="167652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62120" y="373392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 rot="16200000">
            <a:off x="-266400" y="270468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762120" y="18288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281952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4343400" y="1447920"/>
            <a:ext cx="4419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ject onto A elem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reject if this 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damard all n qubits to map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|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ject ont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lem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reject if this 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damard all n qubits to return state to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5410080"/>
            <a:ext cx="82296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just implements a projection onto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|—i.e., it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990720" y="3505320"/>
            <a:ext cx="1981080" cy="10666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990720" y="3733920"/>
            <a:ext cx="1981080" cy="8380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62120" y="1676520"/>
            <a:ext cx="1143000" cy="28954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762120" y="1676520"/>
            <a:ext cx="838080" cy="28954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762120" y="3733920"/>
            <a:ext cx="2895480" cy="8380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loud 42"/>
          <p:cNvSpPr/>
          <p:nvPr/>
        </p:nvSpPr>
        <p:spPr>
          <a:xfrm>
            <a:off x="5486400" y="1447920"/>
            <a:ext cx="3048120" cy="1981080"/>
          </a:xfrm>
          <a:custGeom>
            <a:avLst/>
            <a:gdLst>
              <a:gd name="textAreaLeft" fmla="*/ 420120 w 3048120"/>
              <a:gd name="textAreaRight" fmla="*/ 2411280 w 3048120"/>
              <a:gd name="textAreaTop" fmla="*/ 299160 h 1981080"/>
              <a:gd name="textAreaBottom" fmla="*/ 1590120 h 19810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4"/>
          <p:cNvGrpSpPr/>
          <p:nvPr/>
        </p:nvGrpSpPr>
        <p:grpSpPr>
          <a:xfrm>
            <a:off x="2590920" y="1600200"/>
            <a:ext cx="1752480" cy="838080"/>
            <a:chOff x="2590920" y="1600200"/>
            <a:chExt cx="1752480" cy="83808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590920" y="1600200"/>
              <a:ext cx="175248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33"/>
            <p:cNvSpPr/>
            <p:nvPr/>
          </p:nvSpPr>
          <p:spPr>
            <a:xfrm>
              <a:off x="2590920" y="1600200"/>
              <a:ext cx="1752480" cy="838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ecurity of the Black-Box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-609480" y="1066680"/>
            <a:ext cx="2846160" cy="2133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304920" y="3429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ly, what can the counterfeiter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6019920" y="1600200"/>
                <a:ext cx="1422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6553080" y="2362320"/>
                <a:ext cx="1463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2666880" y="1600200"/>
                <a:ext cx="1465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"/>
          <p:cNvSpPr/>
          <p:nvPr/>
        </p:nvSpPr>
        <p:spPr>
          <a:xfrm>
            <a:off x="533520" y="5638680"/>
            <a:ext cx="7619760" cy="1133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eed to show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antum queries to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eeded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ven just to map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|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to |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5"/>
          <p:cNvGrpSpPr/>
          <p:nvPr/>
        </p:nvGrpSpPr>
        <p:grpSpPr>
          <a:xfrm>
            <a:off x="2784600" y="2514600"/>
            <a:ext cx="1828800" cy="838080"/>
            <a:chOff x="2784600" y="2514600"/>
            <a:chExt cx="1828800" cy="838080"/>
          </a:xfrm>
        </p:grpSpPr>
        <p:pic>
          <p:nvPicPr>
            <p:cNvPr id="222" name="Picture 7" descr=""/>
            <p:cNvPicPr/>
            <p:nvPr/>
          </p:nvPicPr>
          <p:blipFill>
            <a:blip r:embed="rId3"/>
            <a:stretch/>
          </p:blipFill>
          <p:spPr>
            <a:xfrm>
              <a:off x="2784600" y="2514600"/>
              <a:ext cx="182880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7"/>
            <p:cNvSpPr/>
            <p:nvPr/>
          </p:nvSpPr>
          <p:spPr>
            <a:xfrm>
              <a:off x="2784600" y="2514600"/>
              <a:ext cx="1828800" cy="838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2895480" y="2514600"/>
                <a:ext cx="1549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3"/>
          <p:cNvSpPr/>
          <p:nvPr/>
        </p:nvSpPr>
        <p:spPr>
          <a:xfrm>
            <a:off x="2286000" y="9907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Valid Bank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952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,A</a:t>
            </a:r>
            <a:r>
              <a:rPr b="1" lang="en-US" sz="28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Membership Orac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838080" y="3962520"/>
            <a:ext cx="8305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st yields on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learn a basis fo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, b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BBV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optimality of Grover sear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0"/>
          <p:cNvSpPr/>
          <p:nvPr/>
        </p:nvSpPr>
        <p:spPr>
          <a:xfrm>
            <a:off x="4952880" y="10666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1"/>
          <p:cNvGrpSpPr/>
          <p:nvPr/>
        </p:nvGrpSpPr>
        <p:grpSpPr>
          <a:xfrm>
            <a:off x="2362320" y="457200"/>
            <a:ext cx="4468680" cy="6010200"/>
            <a:chOff x="2362320" y="457200"/>
            <a:chExt cx="4468680" cy="6010200"/>
          </a:xfrm>
        </p:grpSpPr>
        <p:pic>
          <p:nvPicPr>
            <p:cNvPr id="230" name="Picture 9" descr=""/>
            <p:cNvPicPr/>
            <p:nvPr/>
          </p:nvPicPr>
          <p:blipFill>
            <a:blip r:embed="rId1"/>
            <a:stretch/>
          </p:blipFill>
          <p:spPr>
            <a:xfrm>
              <a:off x="2362320" y="457200"/>
              <a:ext cx="446868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29"/>
            <p:cNvSpPr/>
            <p:nvPr/>
          </p:nvSpPr>
          <p:spPr>
            <a:xfrm>
              <a:off x="2819520" y="1895400"/>
              <a:ext cx="350532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on generalization of No-Cloning Theorem and BBBV Theore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0"/>
            <p:cNvSpPr/>
            <p:nvPr/>
          </p:nvSpPr>
          <p:spPr>
            <a:xfrm>
              <a:off x="3886200" y="54007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|$1,000,000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dea: Look at Inn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04920" y="4343400"/>
            <a:ext cx="838188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mbainis’s quantum adversary meth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how that the inner product between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|A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decrease by at most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result of a single query to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query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crease the inner product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|A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irs!  But we show that it can’t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4"/>
          <p:cNvCxnSpPr/>
          <p:nvPr/>
        </p:nvCxnSpPr>
        <p:spPr>
          <a:xfrm>
            <a:off x="304920" y="289512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36" name="Straight Arrow Connector 5"/>
          <p:cNvCxnSpPr/>
          <p:nvPr/>
        </p:nvCxnSpPr>
        <p:spPr>
          <a:xfrm flipV="1">
            <a:off x="303840" y="1599840"/>
            <a:ext cx="1294200" cy="1293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2209680" y="2438280"/>
                <a:ext cx="7956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76520" y="1219320"/>
                <a:ext cx="877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9" name="Straight Arrow Connector 9"/>
          <p:cNvCxnSpPr/>
          <p:nvPr/>
        </p:nvCxnSpPr>
        <p:spPr>
          <a:xfrm>
            <a:off x="6019920" y="289512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40" name="Straight Arrow Connector 10"/>
          <p:cNvCxnSpPr/>
          <p:nvPr/>
        </p:nvCxnSpPr>
        <p:spPr>
          <a:xfrm flipV="1">
            <a:off x="6019560" y="1296000"/>
            <a:ext cx="915480" cy="158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7924680" y="2438280"/>
                <a:ext cx="10670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7010280" y="990720"/>
                <a:ext cx="1141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228600" y="3200400"/>
                <a:ext cx="17524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sepChr m:val="|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248520" y="3276720"/>
                <a:ext cx="258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ight Arrow 15"/>
          <p:cNvSpPr/>
          <p:nvPr/>
        </p:nvSpPr>
        <p:spPr>
          <a:xfrm>
            <a:off x="3048120" y="2438280"/>
            <a:ext cx="2895480" cy="1600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124080" y="990720"/>
            <a:ext cx="2819520" cy="128196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,A’: “neighboring” n/2-dimensional subspaces in GF(2)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>
            <a:off x="3048120" y="39625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167652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evious work on the physics of mon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his capacity as Master of the Mint, Isaac Newton worked on making English coins harder to counterf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43000" y="5638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He also personally oversaw hangings of counterfei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Finishing the Securit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1143000"/>
            <a:ext cx="85345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“Inner-Product Adversary Method” shows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 are needed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most-per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 what about copying with 1/poly(n) fide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Key ide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nce our scheme is projective, can amplify fidelity to |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using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fixed-point quantum search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a recent variant of Grover’s algorithm due to Tulsi, Grover, and Pat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4038480"/>
            <a:ext cx="84582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bout counterfeiters that only copy some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nd no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Key ide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ounterfeiting problem is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random self-reducib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!  Before trying to copy |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hit it with a random invertible linear transformation on GF(2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04920" y="304920"/>
            <a:ext cx="8534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same construction immediately yields the first…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rivate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-Key Quantum Money 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(with no oracle)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 Secure Against Interactive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09680" y="4114800"/>
            <a:ext cx="66294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uld be copied using poly(n) verification requests to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ul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copied in our public-key scheme, using poly(n) oracle querie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5"/>
          <p:cNvGrpSpPr/>
          <p:nvPr/>
        </p:nvGrpSpPr>
        <p:grpSpPr>
          <a:xfrm>
            <a:off x="457200" y="2057400"/>
            <a:ext cx="8113680" cy="4191120"/>
            <a:chOff x="457200" y="2057400"/>
            <a:chExt cx="8113680" cy="4191120"/>
          </a:xfrm>
        </p:grpSpPr>
        <p:sp>
          <p:nvSpPr>
            <p:cNvPr id="253" name="Rectangle 34"/>
            <p:cNvSpPr/>
            <p:nvPr/>
          </p:nvSpPr>
          <p:spPr>
            <a:xfrm>
              <a:off x="457200" y="3962520"/>
              <a:ext cx="14475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2209680"/>
              <a:ext cx="23619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"/>
            <p:cNvPicPr/>
            <p:nvPr/>
          </p:nvPicPr>
          <p:blipFill>
            <a:blip r:embed="rId2"/>
            <a:stretch/>
          </p:blipFill>
          <p:spPr>
            <a:xfrm>
              <a:off x="6629400" y="2057400"/>
              <a:ext cx="1941480" cy="1828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56" name="Straight Arrow Connector 25"/>
            <p:cNvCxnSpPr/>
            <p:nvPr/>
          </p:nvCxnSpPr>
          <p:spPr>
            <a:xfrm>
              <a:off x="2742840" y="3123720"/>
              <a:ext cx="3886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57" name="Object 22"/>
                <p:cNvSpPr txBox="1"/>
                <p:nvPr/>
              </p:nvSpPr>
              <p:spPr>
                <a:xfrm>
                  <a:off x="2895480" y="2286000"/>
                  <a:ext cx="14652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23"/>
                <p:cNvSpPr txBox="1"/>
                <p:nvPr/>
              </p:nvSpPr>
              <p:spPr>
                <a:xfrm>
                  <a:off x="4800600" y="2286000"/>
                  <a:ext cx="154764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533160" y="3962520"/>
                  <a:ext cx="1255680" cy="21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cxnSp>
          <p:nvCxnSpPr>
            <p:cNvPr id="260" name="Straight Arrow Connector 31"/>
            <p:cNvCxnSpPr/>
            <p:nvPr/>
          </p:nvCxnSpPr>
          <p:spPr>
            <a:xfrm flipH="1">
              <a:off x="2742480" y="3352320"/>
              <a:ext cx="3963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261" name="Text Box 3"/>
            <p:cNvSpPr/>
            <p:nvPr/>
          </p:nvSpPr>
          <p:spPr>
            <a:xfrm>
              <a:off x="3200400" y="342900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Verification Reques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457200" y="1447920"/>
            <a:ext cx="8229600" cy="12668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bfuscation Challenge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Instantiate” the oracles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without reveal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914400" y="4191120"/>
                <a:ext cx="7427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GF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3"/>
          <p:cNvSpPr/>
          <p:nvPr/>
        </p:nvSpPr>
        <p:spPr>
          <a:xfrm>
            <a:off x="380880" y="50292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that 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vanish on A and all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vanish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80880" y="2819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r Proposal: Use Multivariate Polynomi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money state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int publishes (as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“serial number”) uniformly-random degree-d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95280" y="8305920"/>
            <a:ext cx="86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urely-classical “obfuscation” problem; seems interesting on its own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But if we wan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ublic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-key money, we still have to face an interesting, purely-classic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280" y="5715000"/>
            <a:ext cx="88394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The p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’s and q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’s can be generated in n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</a:rPr>
              <a:t>O(d)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 time: generate them assuming A=span(x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,…,x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n/2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; then apply a linear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erifying |A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is simple!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overwhelming probabil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1407960" y="990720"/>
                <a:ext cx="63788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Text Box 3"/>
          <p:cNvSpPr/>
          <p:nvPr/>
        </p:nvSpPr>
        <p:spPr>
          <a:xfrm>
            <a:off x="304920" y="2590920"/>
            <a:ext cx="85341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given only th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, not clear how to fi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nzero A or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s in poly-tim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even quantu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ly relat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ultivariate polynomial crypt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lynomial isomorphism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cheme is breakable when d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trivial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d=2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using theory of quadratic form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And there’s nontrivial structure when d=3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Bouillaguet et al. 201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So we recommend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ecurity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57200" y="990720"/>
            <a:ext cx="8305920" cy="13914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Direct Product Assump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the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no polynomial-time quantum algorithm can find a generating set for A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success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57200" y="24382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ssuming the DPA, our money scheme is sec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971800"/>
            <a:ext cx="8458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ppose there’s a counterfeiter C that maps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to violate the D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pare a uniform superposition ove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F(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onto A elements 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yields |A</a:t>
            </a:r>
            <a:r>
              <a:rPr b="0" i="1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 with probability 2</a:t>
            </a:r>
            <a:r>
              <a:rPr b="0" i="1" lang="en-US" sz="2600" spc="-1" strike="noStrike" baseline="30000">
                <a:solidFill>
                  <a:srgbClr val="008000"/>
                </a:solidFill>
                <a:latin typeface="Calibri"/>
              </a:rPr>
              <a:t>-n/2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tep 2 works, run C repeatedly to get ~n copies of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each copy of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standard basis </a:t>
            </a:r>
            <a:br>
              <a:rPr sz="2600"/>
            </a:b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with high probability, yields n/2 independent A elem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380880" y="1447920"/>
            <a:ext cx="83822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our scheme!  Or get stronger evidence for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ther ways of hiding (complementary) sub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secure public-key quantum money schemes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private-key quantum money requi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giant database or a cryptographic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279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280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286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287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8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3875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New Direction: Quantum Copy-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1020600" cy="1276560"/>
          </a:xfrm>
          <a:prstGeom prst="rect">
            <a:avLst/>
          </a:prstGeom>
          <a:ln w="0">
            <a:noFill/>
          </a:ln>
        </p:spPr>
      </p:pic>
      <p:sp>
        <p:nvSpPr>
          <p:cNvPr id="295" name="Oval Callout 7"/>
          <p:cNvSpPr/>
          <p:nvPr/>
        </p:nvSpPr>
        <p:spPr>
          <a:xfrm>
            <a:off x="2209680" y="838080"/>
            <a:ext cx="6553440" cy="99072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438280" y="1066680"/>
            <a:ext cx="632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" y="2133720"/>
            <a:ext cx="8001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lets you compute an unknown function f, b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t you efficiently create more states with which f can be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57200" y="3581280"/>
            <a:ext cx="8381880" cy="3097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Developments (A.-Christiano, not yet written)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y modifying our hidden-subspace money scheme, we give a quantum copy-protection scheme with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ssical orac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works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 f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ven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e have a candidate quantum copy-protection scheme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, but haven’t yet proved its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Quantum Copy-Protection Relative to a Classical 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57200" y="14479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progra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ame as for money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457200" y="3200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lassical oracle O, given a Boolean function 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and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\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then O(0,x,z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,y,z)=f(z).  Otherwise, O(b,x,z)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3657600" y="1295280"/>
                <a:ext cx="441972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3" name="Text Box 3"/>
          <p:cNvSpPr/>
          <p:nvPr/>
        </p:nvSpPr>
        <p:spPr>
          <a:xfrm>
            <a:off x="457200" y="4800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O, one can evaluate f.  But using the Inner-Product Adversary Method and random self-reducibility, we prove that given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O, 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nonzero elements of both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poly(n)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xplicit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Quantum Copy-Protectio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5720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poin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ao’s garbled circuit constru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-out-of-2 oblivious-trans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ets Alice send Bob a circuit C such that Bob can evaluate C on one input x, yet he learns nothing about C’s inter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57200" y="312408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hidden subspace states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 to implement the oblivious transfer “non-interactive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219320" y="5334120"/>
            <a:ext cx="7467480" cy="13366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y quantum algorithm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ries to find nonzero elements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, 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success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57200" y="4191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e security, an excellent starting point would be to prove the follow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direct product conjectu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33520" y="533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33526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52480" y="441972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ny printing technology the good guys can build, bad guys can in principle build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(x,x) is a polynomial-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009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a trusted third party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K, but sometimes you wa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at seems impossible to secure, at least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90920" y="34290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(BitCoin: “Trusted third party” is distributed over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914400" y="3048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7"/>
          <p:cNvGrpSpPr/>
          <p:nvPr/>
        </p:nvGrpSpPr>
        <p:grpSpPr>
          <a:xfrm>
            <a:off x="990720" y="1219320"/>
            <a:ext cx="7302240" cy="3528720"/>
            <a:chOff x="990720" y="1219320"/>
            <a:chExt cx="7302240" cy="3528720"/>
          </a:xfrm>
        </p:grpSpPr>
        <p:sp>
          <p:nvSpPr>
            <p:cNvPr id="76" name="Cube 20"/>
            <p:cNvSpPr/>
            <p:nvPr/>
          </p:nvSpPr>
          <p:spPr>
            <a:xfrm>
              <a:off x="3276720" y="2133360"/>
              <a:ext cx="1752480" cy="175212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23"/>
            <p:cNvCxnSpPr/>
            <p:nvPr/>
          </p:nvCxnSpPr>
          <p:spPr>
            <a:xfrm>
              <a:off x="2133360" y="304776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8" name="Object 2"/>
                <p:cNvSpPr txBox="1"/>
                <p:nvPr/>
              </p:nvSpPr>
              <p:spPr>
                <a:xfrm>
                  <a:off x="990720" y="2361960"/>
                  <a:ext cx="123372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9" name="Straight Arrow Connector 26"/>
            <p:cNvCxnSpPr/>
            <p:nvPr/>
          </p:nvCxnSpPr>
          <p:spPr>
            <a:xfrm>
              <a:off x="4952520" y="304776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80" name="Object 3"/>
                <p:cNvSpPr txBox="1"/>
                <p:nvPr/>
              </p:nvSpPr>
              <p:spPr>
                <a:xfrm>
                  <a:off x="6019920" y="2361960"/>
                  <a:ext cx="2273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81" name="Picture 5" descr="C:\Users\od user\AppData\Local\Microsoft\Windows\Temporary Internet Files\Content.IE5\N7YD4WXK\MCj04325380000[1].png"/>
            <p:cNvPicPr/>
            <p:nvPr/>
          </p:nvPicPr>
          <p:blipFill>
            <a:blip r:embed="rId1"/>
            <a:stretch/>
          </p:blipFill>
          <p:spPr>
            <a:xfrm>
              <a:off x="2286000" y="1219320"/>
              <a:ext cx="3581280" cy="35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Rectangle 41"/>
          <p:cNvSpPr/>
          <p:nvPr/>
        </p:nvSpPr>
        <p:spPr>
          <a:xfrm>
            <a:off x="838080" y="495288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hysical procedure can take an unknown quantum state and output two copies of i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or even a close approximation thereo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No-Cloning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298440" y="2054160"/>
            <a:ext cx="4664160" cy="1994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990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iesner 196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ney that’s information-theoretically impossible to counterfeit, assuming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13"/>
          <p:cNvCxnSpPr/>
          <p:nvPr/>
        </p:nvCxnSpPr>
        <p:spPr>
          <a:xfrm>
            <a:off x="380880" y="2743200"/>
            <a:ext cx="61056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8" name="Straight Arrow Connector 14"/>
          <p:cNvCxnSpPr/>
          <p:nvPr/>
        </p:nvCxnSpPr>
        <p:spPr>
          <a:xfrm flipV="1">
            <a:off x="1371600" y="243792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9" name="Straight Arrow Connector 15"/>
          <p:cNvCxnSpPr/>
          <p:nvPr/>
        </p:nvCxnSpPr>
        <p:spPr>
          <a:xfrm flipV="1">
            <a:off x="1676520" y="25142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0" name="Straight Arrow Connector 16"/>
          <p:cNvCxnSpPr/>
          <p:nvPr/>
        </p:nvCxnSpPr>
        <p:spPr>
          <a:xfrm flipH="1" flipV="1">
            <a:off x="2361960" y="25142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1" name="Straight Arrow Connector 25"/>
          <p:cNvCxnSpPr/>
          <p:nvPr/>
        </p:nvCxnSpPr>
        <p:spPr>
          <a:xfrm flipH="1" flipV="1">
            <a:off x="2971440" y="2437560"/>
            <a:ext cx="457920" cy="3819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2" name="Straight Arrow Connector 26"/>
          <p:cNvCxnSpPr/>
          <p:nvPr/>
        </p:nvCxnSpPr>
        <p:spPr>
          <a:xfrm flipV="1">
            <a:off x="3808800" y="2361600"/>
            <a:ext cx="252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3" name="Straight Arrow Connector 27"/>
          <p:cNvCxnSpPr/>
          <p:nvPr/>
        </p:nvCxnSpPr>
        <p:spPr>
          <a:xfrm>
            <a:off x="4114440" y="27432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4" name="Straight Arrow Connector 28"/>
          <p:cNvCxnSpPr/>
          <p:nvPr/>
        </p:nvCxnSpPr>
        <p:spPr>
          <a:xfrm>
            <a:off x="1599840" y="3352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5" name="Straight Arrow Connector 29"/>
          <p:cNvCxnSpPr/>
          <p:nvPr/>
        </p:nvCxnSpPr>
        <p:spPr>
          <a:xfrm flipV="1">
            <a:off x="2590920" y="3047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6" name="Straight Arrow Connector 30"/>
          <p:cNvCxnSpPr/>
          <p:nvPr/>
        </p:nvCxnSpPr>
        <p:spPr>
          <a:xfrm flipV="1">
            <a:off x="3276720" y="3047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7" name="Straight Arrow Connector 31"/>
          <p:cNvCxnSpPr/>
          <p:nvPr/>
        </p:nvCxnSpPr>
        <p:spPr>
          <a:xfrm>
            <a:off x="3581280" y="3352320"/>
            <a:ext cx="61056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8" name="Straight Arrow Connector 32"/>
          <p:cNvCxnSpPr/>
          <p:nvPr/>
        </p:nvCxnSpPr>
        <p:spPr>
          <a:xfrm flipH="1" flipV="1">
            <a:off x="4190760" y="3123360"/>
            <a:ext cx="457920" cy="3819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9" name="Straight Arrow Connector 33"/>
          <p:cNvCxnSpPr/>
          <p:nvPr/>
        </p:nvCxnSpPr>
        <p:spPr>
          <a:xfrm flipH="1" flipV="1">
            <a:off x="1066320" y="32000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0" name="Straight Arrow Connector 34"/>
          <p:cNvCxnSpPr/>
          <p:nvPr/>
        </p:nvCxnSpPr>
        <p:spPr>
          <a:xfrm flipV="1">
            <a:off x="457200" y="32000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1" name="Text Box 3"/>
          <p:cNvSpPr/>
          <p:nvPr/>
        </p:nvSpPr>
        <p:spPr>
          <a:xfrm>
            <a:off x="5105520" y="2057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anknote contains n qubits, secretly prepared in one of the 4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41911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giant database, the bank remembers how it prepared every qubit on every bank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51055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to verify a banknote?  Take it to the bank.  Bank uses its knowledge to measure each qubit in the right bas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4362480" y="3168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5" name="Group 44"/>
          <p:cNvGrpSpPr/>
          <p:nvPr/>
        </p:nvGrpSpPr>
        <p:grpSpPr>
          <a:xfrm>
            <a:off x="2971440" y="6019200"/>
            <a:ext cx="609840" cy="612000"/>
            <a:chOff x="2971440" y="6019200"/>
            <a:chExt cx="609840" cy="612000"/>
          </a:xfrm>
        </p:grpSpPr>
        <p:cxnSp>
          <p:nvCxnSpPr>
            <p:cNvPr id="106" name="Straight Arrow Connector 42"/>
            <p:cNvCxnSpPr/>
            <p:nvPr/>
          </p:nvCxnSpPr>
          <p:spPr>
            <a:xfrm>
              <a:off x="2971440" y="6629400"/>
              <a:ext cx="61020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7" name="Straight Arrow Connector 43"/>
            <p:cNvCxnSpPr/>
            <p:nvPr/>
          </p:nvCxnSpPr>
          <p:spPr>
            <a:xfrm flipV="1">
              <a:off x="2971800" y="6019200"/>
              <a:ext cx="2160" cy="610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8" name="Group 45"/>
          <p:cNvGrpSpPr/>
          <p:nvPr/>
        </p:nvGrpSpPr>
        <p:grpSpPr>
          <a:xfrm>
            <a:off x="4878000" y="6137640"/>
            <a:ext cx="862920" cy="438840"/>
            <a:chOff x="4878000" y="6137640"/>
            <a:chExt cx="862920" cy="438840"/>
          </a:xfrm>
        </p:grpSpPr>
        <p:cxnSp>
          <p:nvCxnSpPr>
            <p:cNvPr id="109" name="Straight Arrow Connector 46"/>
            <p:cNvCxnSpPr/>
            <p:nvPr/>
          </p:nvCxnSpPr>
          <p:spPr>
            <a:xfrm flipV="1">
              <a:off x="5301720" y="6152760"/>
              <a:ext cx="439560" cy="42408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10" name="Straight Arrow Connector 47"/>
            <p:cNvCxnSpPr/>
            <p:nvPr/>
          </p:nvCxnSpPr>
          <p:spPr>
            <a:xfrm flipH="1" flipV="1">
              <a:off x="4878000" y="6137640"/>
              <a:ext cx="424080" cy="439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sp>
        <p:nvSpPr>
          <p:cNvPr id="111" name="Text Box 3"/>
          <p:cNvSpPr/>
          <p:nvPr/>
        </p:nvSpPr>
        <p:spPr>
          <a:xfrm>
            <a:off x="3809880" y="601992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3880" y="2895480"/>
            <a:ext cx="5791320" cy="22266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olina, Vidick, Watrous 2012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unterfeiter who doesn’t know the state can copy it with probability at mos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3/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304920" y="3733920"/>
            <a:ext cx="8534160" cy="1295280"/>
          </a:xfrm>
          <a:prstGeom prst="rect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0880" y="914400"/>
            <a:ext cx="845820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notes could decohere in your wallet—the “Schrödinger’s money problem”!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The reason why quantum money isn’t yet practical, in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contrast to (say) quantum 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 needs a big database describing every bankn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i="1" lang="en-US" sz="2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Bennett et al. ‘82): Pseudorando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bank knows how to verify th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me can be broken by interacting with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Drawbacks of Wiesner’s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9"/>
          <p:cNvGrpSpPr/>
          <p:nvPr/>
        </p:nvGrpSpPr>
        <p:grpSpPr>
          <a:xfrm>
            <a:off x="2209680" y="5105520"/>
            <a:ext cx="4876920" cy="2133360"/>
            <a:chOff x="2209680" y="5105520"/>
            <a:chExt cx="4876920" cy="2133360"/>
          </a:xfrm>
        </p:grpSpPr>
        <p:pic>
          <p:nvPicPr>
            <p:cNvPr id="117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209680" y="5105520"/>
              <a:ext cx="4876920" cy="2133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8" name="Straight Arrow Connector 25"/>
            <p:cNvCxnSpPr/>
            <p:nvPr/>
          </p:nvCxnSpPr>
          <p:spPr>
            <a:xfrm flipV="1">
              <a:off x="3733560" y="56736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19" name="Straight Arrow Connector 26"/>
            <p:cNvCxnSpPr/>
            <p:nvPr/>
          </p:nvCxnSpPr>
          <p:spPr>
            <a:xfrm flipH="1" flipV="1">
              <a:off x="4419000" y="56736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27"/>
            <p:cNvCxnSpPr/>
            <p:nvPr/>
          </p:nvCxnSpPr>
          <p:spPr>
            <a:xfrm flipH="1" flipV="1">
              <a:off x="5028840" y="560232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1" name="Straight Arrow Connector 28"/>
            <p:cNvCxnSpPr/>
            <p:nvPr/>
          </p:nvCxnSpPr>
          <p:spPr>
            <a:xfrm flipV="1">
              <a:off x="5867280" y="553176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2" name="Straight Arrow Connector 29"/>
            <p:cNvCxnSpPr/>
            <p:nvPr/>
          </p:nvCxnSpPr>
          <p:spPr>
            <a:xfrm>
              <a:off x="6171840" y="58878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30"/>
            <p:cNvCxnSpPr/>
            <p:nvPr/>
          </p:nvCxnSpPr>
          <p:spPr>
            <a:xfrm>
              <a:off x="3657240" y="64566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31"/>
            <p:cNvCxnSpPr/>
            <p:nvPr/>
          </p:nvCxnSpPr>
          <p:spPr>
            <a:xfrm flipV="1">
              <a:off x="4648320" y="617184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5" name="Straight Arrow Connector 32"/>
            <p:cNvCxnSpPr/>
            <p:nvPr/>
          </p:nvCxnSpPr>
          <p:spPr>
            <a:xfrm flipV="1">
              <a:off x="5334120" y="617184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33"/>
            <p:cNvCxnSpPr/>
            <p:nvPr/>
          </p:nvCxnSpPr>
          <p:spPr>
            <a:xfrm>
              <a:off x="5638320" y="64566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7" name="Straight Arrow Connector 34"/>
            <p:cNvCxnSpPr/>
            <p:nvPr/>
          </p:nvCxnSpPr>
          <p:spPr>
            <a:xfrm flipH="1" flipV="1">
              <a:off x="6248160" y="62427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35"/>
            <p:cNvCxnSpPr/>
            <p:nvPr/>
          </p:nvCxnSpPr>
          <p:spPr>
            <a:xfrm flipH="1" flipV="1">
              <a:off x="3123720" y="63136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9" name="Straight Arrow Connector 36"/>
            <p:cNvCxnSpPr/>
            <p:nvPr/>
          </p:nvCxnSpPr>
          <p:spPr>
            <a:xfrm flipV="1">
              <a:off x="2514240" y="63136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cxnSp>
        <p:nvCxnSpPr>
          <p:cNvPr id="130" name="Straight Arrow Connector 25"/>
          <p:cNvCxnSpPr/>
          <p:nvPr/>
        </p:nvCxnSpPr>
        <p:spPr>
          <a:xfrm flipV="1">
            <a:off x="3429000" y="548604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1" name="Straight Arrow Connector 26"/>
          <p:cNvCxnSpPr/>
          <p:nvPr/>
        </p:nvCxnSpPr>
        <p:spPr>
          <a:xfrm>
            <a:off x="2361960" y="5638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2" name="Straight Arrow Connector 27"/>
          <p:cNvCxnSpPr/>
          <p:nvPr/>
        </p:nvCxnSpPr>
        <p:spPr>
          <a:xfrm>
            <a:off x="2971440" y="5638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3" name="Straight Arrow Connector 28"/>
          <p:cNvCxnSpPr/>
          <p:nvPr/>
        </p:nvCxnSpPr>
        <p:spPr>
          <a:xfrm>
            <a:off x="2514240" y="579132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 rot="12276000">
            <a:off x="2244240" y="265680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odern” Goal: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ublic-Ke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Quantum Money</a:t>
            </a:r>
            <a:br>
              <a:rPr sz="36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Easy to prepare, hard to copy, verifiable by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362320" cy="1689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-533520" y="4191120"/>
            <a:ext cx="3297240" cy="24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rcRect l="14768" t="0" r="0" b="8486"/>
          <a:stretch/>
        </p:blipFill>
        <p:spPr>
          <a:xfrm>
            <a:off x="3200400" y="501336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7010280" y="4648320"/>
            <a:ext cx="194148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590920" y="2437920"/>
            <a:ext cx="396288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2" name="Straight Arrow Connector 10"/>
          <p:cNvCxnSpPr/>
          <p:nvPr/>
        </p:nvCxnSpPr>
        <p:spPr>
          <a:xfrm>
            <a:off x="7696080" y="3504960"/>
            <a:ext cx="45792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3" name="Straight Arrow Connector 13"/>
          <p:cNvCxnSpPr/>
          <p:nvPr/>
        </p:nvCxnSpPr>
        <p:spPr>
          <a:xfrm flipH="1">
            <a:off x="5181120" y="5714640"/>
            <a:ext cx="198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4" name="Text Box 3"/>
          <p:cNvSpPr/>
          <p:nvPr/>
        </p:nvSpPr>
        <p:spPr>
          <a:xfrm>
            <a:off x="609480" y="2971800"/>
            <a:ext cx="167652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Ke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0" y="2971800"/>
            <a:ext cx="160020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581280" y="6019920"/>
            <a:ext cx="114300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581280" y="1752480"/>
            <a:ext cx="167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429000" y="3276720"/>
            <a:ext cx="1600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105520" y="426708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|$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,|$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28600" y="1522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Formally, a public-key quantum money scheme S consists of three polynomial-time quantum algorith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2971800"/>
            <a:ext cx="8305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valid $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762120" y="3505320"/>
                <a:ext cx="60195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ubli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$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Text Box 3"/>
          <p:cNvSpPr/>
          <p:nvPr/>
        </p:nvSpPr>
        <p:spPr>
          <a:xfrm>
            <a:off x="228600" y="4324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polynomial-time counterfeiters C mapping q banknotes to r&gt;q banknote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344520" y="5238720"/>
                <a:ext cx="8118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ubli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bli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"/>
          <p:cNvSpPr/>
          <p:nvPr/>
        </p:nvSpPr>
        <p:spPr>
          <a:xfrm>
            <a:off x="228600" y="5965920"/>
            <a:ext cx="83059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Count returns the number of C’s output registers 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Ver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14400" y="1143000"/>
            <a:ext cx="7467480" cy="18586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KeyGen(0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tes key pair (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Mint(k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private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tes quantum banknote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Ver(k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public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, ¢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epts or rejects claimed banknote 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600200" y="4038480"/>
            <a:ext cx="6248520" cy="1070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v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key quantum money schem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except that 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2-11-15T17:02:58Z</dcterms:modified>
  <cp:revision>1473</cp:revision>
  <dc:subject/>
  <dc:title>The Learnability of Quantum States</dc:title>
</cp:coreProperties>
</file>