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CFF-CB15-4E2E-B335-FA788D9E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2CD-EDAB-4479-BCB3-DE3CDDEA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A6D-D2B9-4020-95B5-B54FB068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29F-5EB5-41ED-886E-DECE58B6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6B2-48C7-4B95-B1DF-31AB7E59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026-3238-4F05-9F2A-D38A7168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3DA-C62B-4A4E-8679-7E36A630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166-9707-4653-B4A8-28A0040B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C79-73AD-47C0-83C1-254F3FD2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DE5-F0BB-4E71-84FE-A5A255E7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AC2-17B4-4963-86E3-9409D297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E2C-2866-45CA-BA65-DA9B24C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1401-222D-4C95-BD71-9D0B44A3E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in" descr=""/>
          <p:cNvPicPr/>
          <p:nvPr/>
        </p:nvPicPr>
        <p:blipFill>
          <a:blip r:embed="rId1"/>
          <a:stretch/>
        </p:blipFill>
        <p:spPr>
          <a:xfrm>
            <a:off x="739800" y="27432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22096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96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levin2" descr=""/>
          <p:cNvPicPr/>
          <p:nvPr/>
        </p:nvPicPr>
        <p:blipFill>
          <a:blip r:embed="rId4"/>
          <a:stretch/>
        </p:blipFill>
        <p:spPr>
          <a:xfrm>
            <a:off x="3906720" y="27432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5257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80880"/>
            <a:ext cx="83059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Significanc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set states underlie quantum error correction.  Our result gives a second reason to prepare them: refuting the hypothesis that “all states in Nature are tree state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Purely classical corollar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rst superpolynomial gap between general and multilinear formula size of functi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tens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 siz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eded even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set st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erandomize, to get a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er bound for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se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But what about states arising in Shor’s algorithm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90920" y="1698480"/>
          <a:ext cx="3962160" cy="13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98480"/>
                    <a:ext cx="396216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shor" descr=""/>
          <p:cNvPicPr/>
          <p:nvPr/>
        </p:nvPicPr>
        <p:blipFill>
          <a:blip r:embed="rId3"/>
          <a:stretch/>
        </p:blipFill>
        <p:spPr>
          <a:xfrm>
            <a:off x="1447920" y="1676520"/>
            <a:ext cx="965160" cy="1447560"/>
          </a:xfrm>
          <a:prstGeom prst="rect">
            <a:avLst/>
          </a:prstGeom>
          <a:ln w="0">
            <a:noFill/>
          </a:ln>
        </p:spPr>
      </p:pic>
      <p:pic>
        <p:nvPicPr>
          <p:cNvPr id="204" name="shor" descr=""/>
          <p:cNvPicPr/>
          <p:nvPr/>
        </p:nvPicPr>
        <p:blipFill>
          <a:blip r:embed="rId4"/>
          <a:stretch/>
        </p:blipFill>
        <p:spPr>
          <a:xfrm>
            <a:off x="6629400" y="1676520"/>
            <a:ext cx="965160" cy="1447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3352680"/>
            <a:ext cx="8382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A consist of 5+log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uniform random elements of {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.  Let S consist of all 32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ms of subsets of A.  If a prime p is drawn uniformly from [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1.1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, then |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4 with probability at least ¾, wher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mod p :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ing the conjecture, Shor states have tree siz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perimental Situ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2438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erpret experiments, would be nice to hav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ee size lower bounds for small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04920" y="914400"/>
            <a:ext cx="8305560" cy="1401840"/>
            <a:chOff x="304920" y="914400"/>
            <a:chExt cx="8305560" cy="1401840"/>
          </a:xfrm>
        </p:grpSpPr>
        <p:graphicFrame>
          <p:nvGraphicFramePr>
            <p:cNvPr id="209" name=""/>
            <p:cNvGraphicFramePr/>
            <p:nvPr/>
          </p:nvGraphicFramePr>
          <p:xfrm>
            <a:off x="380880" y="1447920"/>
            <a:ext cx="8202600" cy="86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447920"/>
                      <a:ext cx="820260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304920" y="914400"/>
              <a:ext cx="617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’s been done in liquid NM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9907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(Knill et al. 200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04920" y="3581280"/>
            <a:ext cx="8409960" cy="1828800"/>
            <a:chOff x="304920" y="3581280"/>
            <a:chExt cx="8409960" cy="1828800"/>
          </a:xfrm>
        </p:grpSpPr>
        <p:sp>
          <p:nvSpPr>
            <p:cNvPr id="214" name=""/>
            <p:cNvSpPr/>
            <p:nvPr/>
          </p:nvSpPr>
          <p:spPr>
            <a:xfrm>
              <a:off x="304920" y="3581280"/>
              <a:ext cx="655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n-tree states might already have been observed in solid state!  2D or 3D spin lattices with nearest-neighbor Hamiltonians—similar to “cluster states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933960" y="3581280"/>
              <a:ext cx="1780920" cy="1828800"/>
              <a:chOff x="6933960" y="3581280"/>
              <a:chExt cx="1780920" cy="1828800"/>
            </a:xfrm>
          </p:grpSpPr>
          <p:sp>
            <p:nvSpPr>
              <p:cNvPr id="216" name=""/>
              <p:cNvSpPr/>
              <p:nvPr/>
            </p:nvSpPr>
            <p:spPr>
              <a:xfrm>
                <a:off x="8358480" y="50443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02800" y="5044320"/>
                <a:ext cx="35568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46040" y="50443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90360" y="5044320"/>
                <a:ext cx="35532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33960" y="50443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8480" y="46789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02800" y="4678920"/>
                <a:ext cx="35568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6040" y="46789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290360" y="4678920"/>
                <a:ext cx="35532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33960" y="46789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58480" y="4312080"/>
                <a:ext cx="35640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02800" y="4312080"/>
                <a:ext cx="35568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46040" y="4312080"/>
                <a:ext cx="35640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290360" y="4312080"/>
                <a:ext cx="35532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33960" y="4312080"/>
                <a:ext cx="35640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58480" y="39466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02800" y="3946680"/>
                <a:ext cx="35568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46040" y="39466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90360" y="3946680"/>
                <a:ext cx="35532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33960" y="39466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58480" y="35812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02800" y="3581280"/>
                <a:ext cx="35568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46040" y="35812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90360" y="3581280"/>
                <a:ext cx="35532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33960" y="35812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33960" y="3581280"/>
                <a:ext cx="1780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933960" y="3946680"/>
                <a:ext cx="178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33960" y="4312080"/>
                <a:ext cx="178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33960" y="4678920"/>
                <a:ext cx="178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33960" y="5044320"/>
                <a:ext cx="178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33960" y="5410080"/>
                <a:ext cx="1780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33960" y="3581280"/>
                <a:ext cx="0" cy="1828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90360" y="35812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46040" y="35812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02800" y="35812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358480" y="35812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714880" y="3581280"/>
                <a:ext cx="0" cy="1828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527600" y="4124880"/>
                <a:ext cx="247320" cy="1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73920" y="4124880"/>
                <a:ext cx="246960" cy="1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220240" y="5212080"/>
                <a:ext cx="246960" cy="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73920" y="4470840"/>
                <a:ext cx="246960" cy="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31600" y="491580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824240" y="452016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21240" y="417420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24240" y="417420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24240" y="382824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269560" y="4470840"/>
                <a:ext cx="247320" cy="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304920" y="55627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kind of evidence is needed to prove a state’s exist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2193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show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xponenti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ree size lower bou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57200" y="2362320"/>
            <a:ext cx="8001000" cy="2023920"/>
            <a:chOff x="457200" y="2362320"/>
            <a:chExt cx="8001000" cy="2023920"/>
          </a:xfrm>
        </p:grpSpPr>
        <p:sp>
          <p:nvSpPr>
            <p:cNvPr id="267" name=""/>
            <p:cNvSpPr/>
            <p:nvPr/>
          </p:nvSpPr>
          <p:spPr>
            <a:xfrm>
              <a:off x="457200" y="2362320"/>
              <a:ext cx="80010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 a quantum computer is in a tree state at every time step, can it then be simulated classically?</a:t>
              </a:r>
              <a:br>
                <a:rPr sz="3000"/>
              </a:b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urrent result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Can be simulated i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8" name=""/>
            <p:cNvGraphicFramePr/>
            <p:nvPr/>
          </p:nvGraphicFramePr>
          <p:xfrm>
            <a:off x="6705720" y="3645000"/>
            <a:ext cx="1752480" cy="74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05720" y="3645000"/>
                      <a:ext cx="175248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0" name=""/>
          <p:cNvSpPr/>
          <p:nvPr/>
        </p:nvSpPr>
        <p:spPr>
          <a:xfrm>
            <a:off x="457200" y="44956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deword states have superpolynomial tree size?  Relationship between tree size and persistence of entanglemen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s Quantum Computi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undamentally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Impossible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523880"/>
            <a:ext cx="78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violates the extended Church-Turing the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096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ogy to analog computing and unit-cost arithmet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3429000"/>
            <a:ext cx="7543800" cy="1464480"/>
            <a:chOff x="838080" y="3429000"/>
            <a:chExt cx="7543800" cy="1464480"/>
          </a:xfrm>
        </p:grpSpPr>
        <p:pic>
          <p:nvPicPr>
            <p:cNvPr id="51" name="levin" descr=""/>
            <p:cNvPicPr/>
            <p:nvPr/>
          </p:nvPicPr>
          <p:blipFill>
            <a:blip r:embed="rId1"/>
            <a:srcRect l="0" t="0" r="0" b="4058"/>
            <a:stretch/>
          </p:blipFill>
          <p:spPr>
            <a:xfrm>
              <a:off x="838080" y="3504960"/>
              <a:ext cx="98136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905120" y="3429000"/>
              <a:ext cx="64767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e have never seen a physical law valid to over a dozen decimals”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Leonid Levin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38080" y="5105520"/>
            <a:ext cx="7696440" cy="1464480"/>
            <a:chOff x="838080" y="5105520"/>
            <a:chExt cx="7696440" cy="14644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38080" y="5257800"/>
              <a:ext cx="9716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05120" y="5105520"/>
              <a:ext cx="6629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ven if QM is right, maybe our complexity model is wrong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Oded Goldreich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492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quantum computing is impossible, then what criterion separates the quantum states that suffice for factoring from the states we’ve already see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66680" y="2514600"/>
            <a:ext cx="6934320" cy="3919320"/>
            <a:chOff x="1066680" y="2514600"/>
            <a:chExt cx="6934320" cy="3919320"/>
          </a:xfrm>
        </p:grpSpPr>
        <p:pic>
          <p:nvPicPr>
            <p:cNvPr id="58" name="science" descr=""/>
            <p:cNvPicPr/>
            <p:nvPr/>
          </p:nvPicPr>
          <p:blipFill>
            <a:blip r:embed="rId1"/>
            <a:stretch/>
          </p:blipFill>
          <p:spPr>
            <a:xfrm>
              <a:off x="1249200" y="3238560"/>
              <a:ext cx="1339920" cy="22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nature" descr=""/>
            <p:cNvPicPr/>
            <p:nvPr/>
          </p:nvPicPr>
          <p:blipFill>
            <a:blip r:embed="rId2"/>
            <a:stretch/>
          </p:blipFill>
          <p:spPr>
            <a:xfrm>
              <a:off x="2666880" y="2743200"/>
              <a:ext cx="118908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shor" descr=""/>
            <p:cNvPicPr/>
            <p:nvPr/>
          </p:nvPicPr>
          <p:blipFill>
            <a:blip r:embed="rId3"/>
            <a:stretch/>
          </p:blipFill>
          <p:spPr>
            <a:xfrm>
              <a:off x="5791320" y="2590920"/>
              <a:ext cx="198432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282920" y="2514600"/>
              <a:ext cx="497160" cy="3119400"/>
            </a:xfrm>
            <a:custGeom>
              <a:avLst/>
              <a:gdLst/>
              <a:ahLst/>
              <a:rect l="l" t="t" r="r" b="b"/>
              <a:pathLst>
                <a:path w="336" h="2400">
                  <a:moveTo>
                    <a:pt x="0" y="2400"/>
                  </a:moveTo>
                  <a:lnTo>
                    <a:pt x="240" y="2304"/>
                  </a:lnTo>
                  <a:lnTo>
                    <a:pt x="48" y="2160"/>
                  </a:lnTo>
                  <a:lnTo>
                    <a:pt x="240" y="2016"/>
                  </a:lnTo>
                  <a:lnTo>
                    <a:pt x="48" y="1920"/>
                  </a:lnTo>
                  <a:lnTo>
                    <a:pt x="288" y="1824"/>
                  </a:lnTo>
                  <a:lnTo>
                    <a:pt x="48" y="1680"/>
                  </a:lnTo>
                  <a:lnTo>
                    <a:pt x="288" y="1536"/>
                  </a:lnTo>
                  <a:lnTo>
                    <a:pt x="0" y="1440"/>
                  </a:lnTo>
                  <a:lnTo>
                    <a:pt x="240" y="1296"/>
                  </a:lnTo>
                  <a:lnTo>
                    <a:pt x="0" y="1200"/>
                  </a:lnTo>
                  <a:lnTo>
                    <a:pt x="336" y="1008"/>
                  </a:lnTo>
                  <a:lnTo>
                    <a:pt x="0" y="960"/>
                  </a:lnTo>
                  <a:lnTo>
                    <a:pt x="240" y="864"/>
                  </a:lnTo>
                  <a:lnTo>
                    <a:pt x="48" y="768"/>
                  </a:lnTo>
                  <a:lnTo>
                    <a:pt x="288" y="624"/>
                  </a:lnTo>
                  <a:lnTo>
                    <a:pt x="48" y="480"/>
                  </a:lnTo>
                  <a:lnTo>
                    <a:pt x="336" y="432"/>
                  </a:lnTo>
                  <a:lnTo>
                    <a:pt x="0" y="288"/>
                  </a:lnTo>
                  <a:lnTo>
                    <a:pt x="336" y="192"/>
                  </a:lnTo>
                  <a:lnTo>
                    <a:pt x="0" y="96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3383640" y="3853440"/>
              <a:ext cx="325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Arial"/>
                </a:rPr>
                <a:t>DIVIDING LI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66680" y="5791320"/>
              <a:ext cx="693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Arial"/>
                </a:rPr>
                <a:t>“</a:t>
              </a:r>
              <a:r>
                <a:rPr b="1" lang="en-US" sz="3600" spc="-1" strike="noStrike">
                  <a:solidFill>
                    <a:srgbClr val="cc00cc"/>
                  </a:solidFill>
                  <a:latin typeface="Arial"/>
                </a:rPr>
                <a:t>Sure/Shor Separator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5410080"/>
            <a:ext cx="7696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Goal of Pape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vide a formal framework for studying possible Sure/Shor separ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57200"/>
            <a:ext cx="784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implest candidates for such a criterion are nonstarters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209680"/>
            <a:ext cx="784836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onentially small amplitudes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ousands of coherent qubit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33520" y="1523880"/>
            <a:ext cx="7543800" cy="3492720"/>
            <a:chOff x="533520" y="1523880"/>
            <a:chExt cx="7543800" cy="3492720"/>
          </a:xfrm>
        </p:grpSpPr>
        <p:sp>
          <p:nvSpPr>
            <p:cNvPr id="68" name=""/>
            <p:cNvSpPr/>
            <p:nvPr/>
          </p:nvSpPr>
          <p:spPr>
            <a:xfrm>
              <a:off x="533520" y="1523880"/>
              <a:ext cx="7391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9900"/>
                  </a:solidFill>
                  <a:latin typeface="Arial Black"/>
                </a:rPr>
                <a:t>YAWN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914400" y="2666880"/>
            <a:ext cx="2895480" cy="154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666880"/>
                      <a:ext cx="2895480" cy="154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4419720" y="2666880"/>
            <a:ext cx="3643200" cy="148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19720" y="2666880"/>
                      <a:ext cx="3643200" cy="14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/>
            <p:nvPr/>
          </p:nvSpPr>
          <p:spPr>
            <a:xfrm>
              <a:off x="914400" y="41911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00 polarized ph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419112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ckyballs, superconducting coils,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3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304920"/>
            <a:ext cx="289548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Key Idea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xity classification of pure quantum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2743200"/>
          <a:ext cx="25146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25146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276720" y="228600"/>
            <a:ext cx="6019560" cy="6327000"/>
            <a:chOff x="3276720" y="228600"/>
            <a:chExt cx="6019560" cy="6327000"/>
          </a:xfrm>
        </p:grpSpPr>
        <p:sp>
          <p:nvSpPr>
            <p:cNvPr id="79" name=""/>
            <p:cNvSpPr/>
            <p:nvPr/>
          </p:nvSpPr>
          <p:spPr>
            <a:xfrm>
              <a:off x="63244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388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100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100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24480" y="2438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1523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24480" y="609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53280" y="1143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3886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56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53280" y="3352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32448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238880" y="34290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41008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59400" y="6858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50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7236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8640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86760" y="1219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30600" y="2133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500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7236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495680" y="39117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30600" y="3048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324480" y="117792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6324480" y="64764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495680" y="1600200"/>
              <a:ext cx="182880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95680" y="1600200"/>
              <a:ext cx="1828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495680" y="1562040"/>
              <a:ext cx="1905120" cy="5335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2000" y="3886200"/>
              <a:ext cx="2666880" cy="3808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410080" y="3390840"/>
              <a:ext cx="2819520" cy="9144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0320" y="32767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40320" y="312408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40320" y="297180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6172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2960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9600" y="990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5000" y="2286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29000" y="3733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29000" y="2819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15238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9000" y="1905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152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809200">
              <a:off x="5334120" y="1523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1563800">
              <a:off x="6400800" y="401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004000">
              <a:off x="6324840" y="3657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6720" y="5840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5638680"/>
              <a:ext cx="190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ict containmen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tainmen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n-contai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6720" y="6095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6720" y="63705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6720" y="6095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248520" y="1447920"/>
            <a:ext cx="990360" cy="533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1523880"/>
            <a:ext cx="78487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uitively, once we admi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to our set of possible states, we’re almost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forc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dmi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s well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hat if we take the closure under a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polynomial numb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ose operation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828800" y="533520"/>
            <a:ext cx="7010280" cy="3596760"/>
            <a:chOff x="1828800" y="533520"/>
            <a:chExt cx="7010280" cy="3596760"/>
          </a:xfrm>
        </p:grpSpPr>
        <p:sp>
          <p:nvSpPr>
            <p:cNvPr id="140" name=""/>
            <p:cNvSpPr/>
            <p:nvPr/>
          </p:nvSpPr>
          <p:spPr>
            <a:xfrm>
              <a:off x="5640480" y="5335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1655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259560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01000" y="259560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16556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05520" y="25509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25509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8800" y="35337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3533760"/>
              <a:ext cx="8384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5337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3533760"/>
              <a:ext cx="8384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299736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724280" y="299736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1800" y="299736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209680" y="299736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190760" y="985680"/>
              <a:ext cx="1523880" cy="804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9920" y="985680"/>
              <a:ext cx="1523880" cy="804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48720" y="2058840"/>
              <a:ext cx="457200" cy="6033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010280" y="2058840"/>
              <a:ext cx="457200" cy="6033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819160" y="2058840"/>
              <a:ext cx="106668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67080" y="2058840"/>
              <a:ext cx="106704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2057400" y="2795760"/>
            <a:ext cx="436680" cy="60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79576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3200400" y="2795760"/>
            <a:ext cx="436680" cy="60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279576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4572000" y="2795760"/>
            <a:ext cx="436680" cy="60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279576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5715000" y="2795760"/>
            <a:ext cx="436680" cy="60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279576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6705720" y="990720"/>
            <a:ext cx="609480" cy="438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705720" y="990720"/>
                      <a:ext cx="60948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724280" y="990720"/>
            <a:ext cx="304920" cy="438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24280" y="990720"/>
                      <a:ext cx="3049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304920" y="304920"/>
          <a:ext cx="4190760" cy="946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304920"/>
                    <a:ext cx="41907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295280" y="4343400"/>
            <a:ext cx="754380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ree size of |</a:t>
            </a:r>
            <a:r>
              <a:rPr b="1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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inimum number of vertices in such a tree representing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ree stat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finite families of states {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which TS(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0666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interesting states have polynomial 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spin chain, superposition over multiples of 3, 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Basic Facts About Tree Size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1337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rando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ate can’t even be approximated by states with subexponential 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57200" y="3276720"/>
            <a:ext cx="8305920" cy="1769400"/>
            <a:chOff x="457200" y="3276720"/>
            <a:chExt cx="8305920" cy="1769400"/>
          </a:xfrm>
        </p:grpSpPr>
        <p:graphicFrame>
          <p:nvGraphicFramePr>
            <p:cNvPr id="180" name=""/>
            <p:cNvGraphicFramePr/>
            <p:nvPr/>
          </p:nvGraphicFramePr>
          <p:xfrm>
            <a:off x="1143000" y="3276720"/>
            <a:ext cx="4343400" cy="874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3276720"/>
                      <a:ext cx="4343400" cy="87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>
              <a:off x="457200" y="335268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then TS(|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4038480"/>
              <a:ext cx="8305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quals the </a:t>
              </a: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multilinear formula size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of f to within a constant facto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09480" y="4571640"/>
            <a:ext cx="8305920" cy="2128320"/>
            <a:chOff x="609480" y="4571640"/>
            <a:chExt cx="8305920" cy="2128320"/>
          </a:xfrm>
        </p:grpSpPr>
        <p:sp>
          <p:nvSpPr>
            <p:cNvPr id="185" name=""/>
            <p:cNvSpPr/>
            <p:nvPr/>
          </p:nvSpPr>
          <p:spPr>
            <a:xfrm>
              <a:off x="609480" y="5257800"/>
              <a:ext cx="8305920" cy="1442160"/>
            </a:xfrm>
            <a:prstGeom prst="rect">
              <a:avLst/>
            </a:prstGeom>
            <a:solidFill>
              <a:srgbClr val="ffff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Minimum size of an arithmetic formula for f(x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,…,x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) involving +, </a:t>
              </a: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, and complex constants, every node of which computes a multilinear polynomial in x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,…,x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5410080" y="4571640"/>
              <a:ext cx="1526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10666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C = {x | A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(mod 2)}, where A is chosen uniformly at random fr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Main Result: Tree Size Lower Bound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705720" y="1981080"/>
          <a:ext cx="18288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981080"/>
                    <a:ext cx="18288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876920" y="1447920"/>
          <a:ext cx="127296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447920"/>
                    <a:ext cx="1272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" y="22860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w.h.p. over A,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set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8954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tree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52480" y="3581280"/>
            <a:ext cx="5943600" cy="3141360"/>
            <a:chOff x="1752480" y="3581280"/>
            <a:chExt cx="5943600" cy="3141360"/>
          </a:xfrm>
        </p:grpSpPr>
        <p:pic>
          <p:nvPicPr>
            <p:cNvPr id="196" name="raz" descr=""/>
            <p:cNvPicPr/>
            <p:nvPr/>
          </p:nvPicPr>
          <p:blipFill>
            <a:blip r:embed="rId5"/>
            <a:stretch/>
          </p:blipFill>
          <p:spPr>
            <a:xfrm>
              <a:off x="2114280" y="4190760"/>
              <a:ext cx="1486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429000" y="3581280"/>
              <a:ext cx="4267080" cy="1981080"/>
            </a:xfrm>
            <a:prstGeom prst="wedgeEllipseCallout">
              <a:avLst>
                <a:gd name="adj1" fmla="val -56138"/>
                <a:gd name="adj2" fmla="val 33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ant to know the proof technique? Go to my tal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2480" y="617184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9900"/>
                  </a:solidFill>
                  <a:latin typeface="Arial"/>
                </a:rPr>
                <a:t>RAN RA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7:21:42Z</dcterms:created>
  <dc:creator>aaronson</dc:creator>
  <dc:description/>
  <dc:language>en-US</dc:language>
  <cp:lastModifiedBy>Scott Aaronson</cp:lastModifiedBy>
  <dcterms:modified xsi:type="dcterms:W3CDTF">2004-06-13T05:13:46Z</dcterms:modified>
  <cp:revision>69</cp:revision>
  <dc:subject/>
  <dc:title>Multilinear Formulas and Skepticism of Quantum Computing</dc:title>
</cp:coreProperties>
</file>