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20.wmf" ContentType="image/x-wmf"/>
  <Override PartName="/ppt/media/image6.jpeg" ContentType="image/jpe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AD5-CB69-4187-A702-F1C54CB9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845-ACE6-4B6A-8B8F-92FBF75B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26A-3928-4A9C-8890-12E6037E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2C9-CA22-4741-82F7-7D61933B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A55-0CBD-4DF6-859F-CCA4F035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107-C470-4E88-A673-5627EC03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10F-48FC-436F-AC39-742A19E7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31A-DDBB-4F68-B9FD-A83C39DC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1A6-8600-47D7-A045-B1F44963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DE7-49B4-4EC4-8788-22B3E25F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FBE-FA32-455F-AEF3-75FA25C6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E3C-F86F-4922-BD71-43E551EE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4201-E0E8-4D78-B0BA-BE19D57A2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vin" descr=""/>
          <p:cNvPicPr/>
          <p:nvPr/>
        </p:nvPicPr>
        <p:blipFill>
          <a:blip r:embed="rId1"/>
          <a:stretch/>
        </p:blipFill>
        <p:spPr>
          <a:xfrm>
            <a:off x="739800" y="2743200"/>
            <a:ext cx="14731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0" y="2209680"/>
          <a:ext cx="8879040" cy="31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09680"/>
                    <a:ext cx="88790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levin2" descr=""/>
          <p:cNvPicPr/>
          <p:nvPr/>
        </p:nvPicPr>
        <p:blipFill>
          <a:blip r:embed="rId4"/>
          <a:stretch/>
        </p:blipFill>
        <p:spPr>
          <a:xfrm>
            <a:off x="3906720" y="2743200"/>
            <a:ext cx="1371600" cy="2057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ultilinear Formulas and Skepticism of Quantum Computing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5257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 Berkele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380880"/>
            <a:ext cx="83059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Significanc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set states underlie quantum error correction.  Our result gives a second reason to prepare them: refuting the hypothesis that “all states in Nature are tree states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Purely classical corollar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rst superpolynomial gap between general and multilinear formula size of function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tens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 siz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eded even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oxim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set st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derandomize, to get an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wer bound for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se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But what about states arising in Shor’s algorithm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90920" y="1698480"/>
          <a:ext cx="3962160" cy="13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98480"/>
                    <a:ext cx="396216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" name="shor" descr=""/>
          <p:cNvPicPr/>
          <p:nvPr/>
        </p:nvPicPr>
        <p:blipFill>
          <a:blip r:embed="rId3"/>
          <a:stretch/>
        </p:blipFill>
        <p:spPr>
          <a:xfrm>
            <a:off x="1447920" y="1676520"/>
            <a:ext cx="965160" cy="1447560"/>
          </a:xfrm>
          <a:prstGeom prst="rect">
            <a:avLst/>
          </a:prstGeom>
          <a:ln w="0">
            <a:noFill/>
          </a:ln>
        </p:spPr>
      </p:pic>
      <p:pic>
        <p:nvPicPr>
          <p:cNvPr id="204" name="shor" descr=""/>
          <p:cNvPicPr/>
          <p:nvPr/>
        </p:nvPicPr>
        <p:blipFill>
          <a:blip r:embed="rId4"/>
          <a:stretch/>
        </p:blipFill>
        <p:spPr>
          <a:xfrm>
            <a:off x="6629400" y="1676520"/>
            <a:ext cx="965160" cy="1447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0880" y="3352680"/>
            <a:ext cx="8382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t A consist of 5+log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uniform random elements of {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.  Let S consist of all 32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ms of subsets of A.  If a prime p is drawn uniformly from [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1.1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, then |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4 with probability at least ¾, where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{x mod p :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uming the conjecture, Shor states have tree siz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perimental Situ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24382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terpret experiments, would be nice to hav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ee size lower bounds for small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04920" y="914400"/>
            <a:ext cx="8305560" cy="1401840"/>
            <a:chOff x="304920" y="914400"/>
            <a:chExt cx="8305560" cy="1401840"/>
          </a:xfrm>
        </p:grpSpPr>
        <p:graphicFrame>
          <p:nvGraphicFramePr>
            <p:cNvPr id="209" name=""/>
            <p:cNvGraphicFramePr/>
            <p:nvPr/>
          </p:nvGraphicFramePr>
          <p:xfrm>
            <a:off x="380880" y="1447920"/>
            <a:ext cx="8202600" cy="86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447920"/>
                      <a:ext cx="8202600" cy="8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304920" y="914400"/>
              <a:ext cx="617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’s been done in liquid NM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5880" y="9907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cc"/>
                  </a:solidFill>
                  <a:latin typeface="Arial"/>
                </a:rPr>
                <a:t>(Knill et al. 200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04920" y="3581280"/>
            <a:ext cx="8409960" cy="1828800"/>
            <a:chOff x="304920" y="3581280"/>
            <a:chExt cx="8409960" cy="1828800"/>
          </a:xfrm>
        </p:grpSpPr>
        <p:sp>
          <p:nvSpPr>
            <p:cNvPr id="214" name=""/>
            <p:cNvSpPr/>
            <p:nvPr/>
          </p:nvSpPr>
          <p:spPr>
            <a:xfrm>
              <a:off x="304920" y="3581280"/>
              <a:ext cx="6552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on-tree states might already have been observed in solid state!  2D or 3D spin lattices with nearest-neighbor Hamiltonians—similar to “cluster states”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933960" y="3581280"/>
              <a:ext cx="1780920" cy="1828800"/>
              <a:chOff x="6933960" y="3581280"/>
              <a:chExt cx="1780920" cy="1828800"/>
            </a:xfrm>
          </p:grpSpPr>
          <p:sp>
            <p:nvSpPr>
              <p:cNvPr id="216" name=""/>
              <p:cNvSpPr/>
              <p:nvPr/>
            </p:nvSpPr>
            <p:spPr>
              <a:xfrm>
                <a:off x="8358480" y="504432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02800" y="5044320"/>
                <a:ext cx="35568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46040" y="504432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290360" y="5044320"/>
                <a:ext cx="35532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933960" y="504432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358480" y="467892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02800" y="4678920"/>
                <a:ext cx="35568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6040" y="467892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290360" y="4678920"/>
                <a:ext cx="35532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33960" y="467892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358480" y="4312080"/>
                <a:ext cx="356400" cy="3664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02800" y="4312080"/>
                <a:ext cx="355680" cy="3664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46040" y="4312080"/>
                <a:ext cx="356400" cy="3664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290360" y="4312080"/>
                <a:ext cx="355320" cy="3664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33960" y="4312080"/>
                <a:ext cx="356400" cy="3664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358480" y="394668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002800" y="3946680"/>
                <a:ext cx="35568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646040" y="394668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90360" y="3946680"/>
                <a:ext cx="35532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33960" y="394668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58480" y="358128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002800" y="3581280"/>
                <a:ext cx="35568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646040" y="358128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90360" y="3581280"/>
                <a:ext cx="35532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33960" y="3581280"/>
                <a:ext cx="356400" cy="3654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933960" y="3581280"/>
                <a:ext cx="1780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933960" y="3946680"/>
                <a:ext cx="178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33960" y="4312080"/>
                <a:ext cx="178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933960" y="4678920"/>
                <a:ext cx="178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933960" y="5044320"/>
                <a:ext cx="178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33960" y="5410080"/>
                <a:ext cx="1780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933960" y="3581280"/>
                <a:ext cx="0" cy="1828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290360" y="35812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46040" y="35812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02800" y="35812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358480" y="358128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714880" y="3581280"/>
                <a:ext cx="0" cy="1828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527600" y="4124880"/>
                <a:ext cx="247320" cy="1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73920" y="4124880"/>
                <a:ext cx="246960" cy="1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220240" y="5212080"/>
                <a:ext cx="246960" cy="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73920" y="4470840"/>
                <a:ext cx="246960" cy="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131600" y="4915800"/>
                <a:ext cx="0" cy="246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824240" y="4520160"/>
                <a:ext cx="0" cy="246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121240" y="4174200"/>
                <a:ext cx="0" cy="246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24240" y="4174200"/>
                <a:ext cx="0" cy="246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824240" y="3828240"/>
                <a:ext cx="0" cy="246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269560" y="4470840"/>
                <a:ext cx="247320" cy="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>
            <a:off x="304920" y="55627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que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kind of evidence is needed to prove a state’s exist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12193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we show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exponenti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ree size lower boun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57200" y="2362320"/>
            <a:ext cx="8001000" cy="2023920"/>
            <a:chOff x="457200" y="2362320"/>
            <a:chExt cx="8001000" cy="2023920"/>
          </a:xfrm>
        </p:grpSpPr>
        <p:sp>
          <p:nvSpPr>
            <p:cNvPr id="267" name=""/>
            <p:cNvSpPr/>
            <p:nvPr/>
          </p:nvSpPr>
          <p:spPr>
            <a:xfrm>
              <a:off x="457200" y="2362320"/>
              <a:ext cx="80010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 a quantum computer is in a tree state at every time step, can it then be simulated classically?</a:t>
              </a:r>
              <a:br>
                <a:rPr sz="3000"/>
              </a:b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Current result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Can be simulated i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8" name=""/>
            <p:cNvGraphicFramePr/>
            <p:nvPr/>
          </p:nvGraphicFramePr>
          <p:xfrm>
            <a:off x="6705720" y="3645000"/>
            <a:ext cx="1752480" cy="74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05720" y="3645000"/>
                      <a:ext cx="1752480" cy="74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0" name=""/>
          <p:cNvSpPr/>
          <p:nvPr/>
        </p:nvSpPr>
        <p:spPr>
          <a:xfrm>
            <a:off x="457200" y="449568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deword states have superpolynomial tree size?  Relationship between tree size and persistence of entanglemen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Is Quantum Computing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undamentally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Impossible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523880"/>
            <a:ext cx="78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violates the extended Church-Turing the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20968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logy to analog computing and unit-cost arithmet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38080" y="3429000"/>
            <a:ext cx="7543800" cy="1464480"/>
            <a:chOff x="838080" y="3429000"/>
            <a:chExt cx="7543800" cy="1464480"/>
          </a:xfrm>
        </p:grpSpPr>
        <p:pic>
          <p:nvPicPr>
            <p:cNvPr id="51" name="levin" descr=""/>
            <p:cNvPicPr/>
            <p:nvPr/>
          </p:nvPicPr>
          <p:blipFill>
            <a:blip r:embed="rId1"/>
            <a:srcRect l="0" t="0" r="0" b="4058"/>
            <a:stretch/>
          </p:blipFill>
          <p:spPr>
            <a:xfrm>
              <a:off x="838080" y="3504960"/>
              <a:ext cx="981360" cy="13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905120" y="3429000"/>
              <a:ext cx="647676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We have never seen a physical law valid to over a dozen decimals”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(Leonid Levin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838080" y="5105520"/>
            <a:ext cx="7696440" cy="1464480"/>
            <a:chOff x="838080" y="5105520"/>
            <a:chExt cx="7696440" cy="14644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838080" y="5257800"/>
              <a:ext cx="97164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905120" y="5105520"/>
              <a:ext cx="66294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ven if QM is right, maybe our complexity model is wrong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(Oded Goldreich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0492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Ques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quantum computing is impossible, then what criterion separates the quantum states that suffice for factoring from the states we’ve already see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66680" y="2514600"/>
            <a:ext cx="6934320" cy="3919320"/>
            <a:chOff x="1066680" y="2514600"/>
            <a:chExt cx="6934320" cy="3919320"/>
          </a:xfrm>
        </p:grpSpPr>
        <p:pic>
          <p:nvPicPr>
            <p:cNvPr id="58" name="science" descr=""/>
            <p:cNvPicPr/>
            <p:nvPr/>
          </p:nvPicPr>
          <p:blipFill>
            <a:blip r:embed="rId1"/>
            <a:stretch/>
          </p:blipFill>
          <p:spPr>
            <a:xfrm>
              <a:off x="1249200" y="3238560"/>
              <a:ext cx="1339920" cy="22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nature" descr=""/>
            <p:cNvPicPr/>
            <p:nvPr/>
          </p:nvPicPr>
          <p:blipFill>
            <a:blip r:embed="rId2"/>
            <a:stretch/>
          </p:blipFill>
          <p:spPr>
            <a:xfrm>
              <a:off x="2666880" y="2743200"/>
              <a:ext cx="1189080" cy="15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shor" descr=""/>
            <p:cNvPicPr/>
            <p:nvPr/>
          </p:nvPicPr>
          <p:blipFill>
            <a:blip r:embed="rId3"/>
            <a:stretch/>
          </p:blipFill>
          <p:spPr>
            <a:xfrm>
              <a:off x="5791320" y="2590920"/>
              <a:ext cx="1984320" cy="29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282920" y="2514600"/>
              <a:ext cx="497160" cy="3119400"/>
            </a:xfrm>
            <a:custGeom>
              <a:avLst/>
              <a:gdLst/>
              <a:ahLst/>
              <a:rect l="l" t="t" r="r" b="b"/>
              <a:pathLst>
                <a:path w="336" h="2400">
                  <a:moveTo>
                    <a:pt x="0" y="2400"/>
                  </a:moveTo>
                  <a:lnTo>
                    <a:pt x="240" y="2304"/>
                  </a:lnTo>
                  <a:lnTo>
                    <a:pt x="48" y="2160"/>
                  </a:lnTo>
                  <a:lnTo>
                    <a:pt x="240" y="2016"/>
                  </a:lnTo>
                  <a:lnTo>
                    <a:pt x="48" y="1920"/>
                  </a:lnTo>
                  <a:lnTo>
                    <a:pt x="288" y="1824"/>
                  </a:lnTo>
                  <a:lnTo>
                    <a:pt x="48" y="1680"/>
                  </a:lnTo>
                  <a:lnTo>
                    <a:pt x="288" y="1536"/>
                  </a:lnTo>
                  <a:lnTo>
                    <a:pt x="0" y="1440"/>
                  </a:lnTo>
                  <a:lnTo>
                    <a:pt x="240" y="1296"/>
                  </a:lnTo>
                  <a:lnTo>
                    <a:pt x="0" y="1200"/>
                  </a:lnTo>
                  <a:lnTo>
                    <a:pt x="336" y="1008"/>
                  </a:lnTo>
                  <a:lnTo>
                    <a:pt x="0" y="960"/>
                  </a:lnTo>
                  <a:lnTo>
                    <a:pt x="240" y="864"/>
                  </a:lnTo>
                  <a:lnTo>
                    <a:pt x="48" y="768"/>
                  </a:lnTo>
                  <a:lnTo>
                    <a:pt x="288" y="624"/>
                  </a:lnTo>
                  <a:lnTo>
                    <a:pt x="48" y="480"/>
                  </a:lnTo>
                  <a:lnTo>
                    <a:pt x="336" y="432"/>
                  </a:lnTo>
                  <a:lnTo>
                    <a:pt x="0" y="288"/>
                  </a:lnTo>
                  <a:lnTo>
                    <a:pt x="336" y="192"/>
                  </a:lnTo>
                  <a:lnTo>
                    <a:pt x="0" y="96"/>
                  </a:lnTo>
                  <a:lnTo>
                    <a:pt x="336" y="0"/>
                  </a:ln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3383640" y="3853440"/>
              <a:ext cx="325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Arial"/>
                </a:rPr>
                <a:t>DIVIDING LI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66680" y="5791320"/>
              <a:ext cx="693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Arial"/>
                </a:rPr>
                <a:t>“</a:t>
              </a:r>
              <a:r>
                <a:rPr b="1" lang="en-US" sz="3600" spc="-1" strike="noStrike">
                  <a:solidFill>
                    <a:srgbClr val="cc00cc"/>
                  </a:solidFill>
                  <a:latin typeface="Arial"/>
                </a:rPr>
                <a:t>Sure/Shor Separator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5410080"/>
            <a:ext cx="7696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Goal of Pape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ovide a formal framework for studying possible Sure/Shor separa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57200"/>
            <a:ext cx="784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implest candidates for such a criterion are nonstarters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209680"/>
            <a:ext cx="784836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ponentially small amplitudes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ousands of coherent qubit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33520" y="1523880"/>
            <a:ext cx="7543800" cy="3492720"/>
            <a:chOff x="533520" y="1523880"/>
            <a:chExt cx="7543800" cy="3492720"/>
          </a:xfrm>
        </p:grpSpPr>
        <p:sp>
          <p:nvSpPr>
            <p:cNvPr id="68" name=""/>
            <p:cNvSpPr/>
            <p:nvPr/>
          </p:nvSpPr>
          <p:spPr>
            <a:xfrm>
              <a:off x="533520" y="1523880"/>
              <a:ext cx="7391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9900"/>
                  </a:solidFill>
                  <a:latin typeface="Arial Black"/>
                </a:rPr>
                <a:t>YAWN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" name=""/>
            <p:cNvGraphicFramePr/>
            <p:nvPr/>
          </p:nvGraphicFramePr>
          <p:xfrm>
            <a:off x="914400" y="2666880"/>
            <a:ext cx="2895480" cy="1543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2666880"/>
                      <a:ext cx="2895480" cy="154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4419720" y="2666880"/>
            <a:ext cx="3643200" cy="148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19720" y="2666880"/>
                      <a:ext cx="3643200" cy="148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"/>
            <p:cNvSpPr/>
            <p:nvPr/>
          </p:nvSpPr>
          <p:spPr>
            <a:xfrm>
              <a:off x="914400" y="419112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00 polarized ph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4191120"/>
              <a:ext cx="365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uckyballs, superconducting coils,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3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304920"/>
            <a:ext cx="289548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Key Idea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xity classification of pure quantum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3520" y="2743200"/>
          <a:ext cx="251460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743200"/>
                    <a:ext cx="25146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"/>
          <p:cNvGrpSpPr/>
          <p:nvPr/>
        </p:nvGrpSpPr>
        <p:grpSpPr>
          <a:xfrm>
            <a:off x="3276720" y="228600"/>
            <a:ext cx="6019560" cy="6327000"/>
            <a:chOff x="3276720" y="228600"/>
            <a:chExt cx="6019560" cy="6327000"/>
          </a:xfrm>
        </p:grpSpPr>
        <p:sp>
          <p:nvSpPr>
            <p:cNvPr id="79" name=""/>
            <p:cNvSpPr/>
            <p:nvPr/>
          </p:nvSpPr>
          <p:spPr>
            <a:xfrm>
              <a:off x="6324480" y="6095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238880" y="5181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10080" y="5181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10080" y="4267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38880" y="4267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24480" y="2438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1523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24480" y="609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153280" y="1143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3886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568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95680" y="2057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53280" y="3352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6324480" y="52578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238880" y="34290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410080" y="434340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59400" y="6858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4500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7236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86400" y="52578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434340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86760" y="12193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30600" y="21337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45000" y="34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72360" y="34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495680" y="391176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30600" y="3048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6324480" y="1177920"/>
              <a:ext cx="1828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6324480" y="647640"/>
              <a:ext cx="182880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495680" y="1600200"/>
              <a:ext cx="182880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495680" y="1600200"/>
              <a:ext cx="18288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495680" y="1562040"/>
              <a:ext cx="1905120" cy="5335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572000" y="3886200"/>
              <a:ext cx="2666880" cy="3808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5410080" y="3390840"/>
              <a:ext cx="2819520" cy="9144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40320" y="327672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40320" y="312408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40320" y="297180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5000" y="6172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29600" y="3200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9600" y="990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5000" y="2286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p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29000" y="37339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29000" y="28195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22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15238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29000" y="19051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43400" y="502920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43400" y="42670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15200" y="502920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42670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809200">
              <a:off x="5334120" y="1523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1563800">
              <a:off x="6400800" y="401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004000">
              <a:off x="6324840" y="36572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6720" y="58402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33920" y="5638680"/>
              <a:ext cx="190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ict containmen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tainmen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n-contai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76720" y="60958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76720" y="63705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6720" y="6095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248520" y="1447920"/>
            <a:ext cx="990360" cy="533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480" y="1523880"/>
            <a:ext cx="78487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uitively, once we admit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to our set of possible states, we’re almost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forc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admit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s well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hat if we take the closure under a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polynomial numb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ose operation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828800" y="533520"/>
            <a:ext cx="7010280" cy="3596760"/>
            <a:chOff x="1828800" y="533520"/>
            <a:chExt cx="7010280" cy="3596760"/>
          </a:xfrm>
        </p:grpSpPr>
        <p:sp>
          <p:nvSpPr>
            <p:cNvPr id="140" name=""/>
            <p:cNvSpPr/>
            <p:nvPr/>
          </p:nvSpPr>
          <p:spPr>
            <a:xfrm>
              <a:off x="5640480" y="5335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1520" y="1655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29400" y="259560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01000" y="259560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9880" y="165564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05520" y="25509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920" y="25509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8800" y="353376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3533760"/>
              <a:ext cx="8384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353376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8680" y="3533760"/>
              <a:ext cx="8384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6400" y="299736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724280" y="299736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1800" y="299736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209680" y="299736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190760" y="985680"/>
              <a:ext cx="1523880" cy="804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19920" y="985680"/>
              <a:ext cx="1523880" cy="804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48720" y="2058840"/>
              <a:ext cx="457200" cy="6033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7010280" y="2058840"/>
              <a:ext cx="457200" cy="6033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819160" y="2058840"/>
              <a:ext cx="1066680" cy="6699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67080" y="2058840"/>
              <a:ext cx="1067040" cy="6699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2057400" y="2795760"/>
            <a:ext cx="436680" cy="60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2795760"/>
                      <a:ext cx="4366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"/>
            <p:cNvGraphicFramePr/>
            <p:nvPr/>
          </p:nvGraphicFramePr>
          <p:xfrm>
            <a:off x="3200400" y="2795760"/>
            <a:ext cx="436680" cy="60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0400" y="2795760"/>
                      <a:ext cx="4366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4572000" y="2795760"/>
            <a:ext cx="436680" cy="60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2795760"/>
                      <a:ext cx="4366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5715000" y="2795760"/>
            <a:ext cx="436680" cy="60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2795760"/>
                      <a:ext cx="4366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6705720" y="990720"/>
            <a:ext cx="609480" cy="438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705720" y="990720"/>
                      <a:ext cx="60948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4724280" y="990720"/>
            <a:ext cx="304920" cy="438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24280" y="990720"/>
                      <a:ext cx="3049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3" name=""/>
          <p:cNvGraphicFramePr/>
          <p:nvPr/>
        </p:nvGraphicFramePr>
        <p:xfrm>
          <a:off x="304920" y="304920"/>
          <a:ext cx="4190760" cy="946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920" y="304920"/>
                    <a:ext cx="419076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295280" y="4343400"/>
            <a:ext cx="754380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ree size of |</a:t>
            </a:r>
            <a:r>
              <a:rPr b="1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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inimum number of vertices in such a tree representing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ree state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finite families of states {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which TS(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=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(1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0666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interesting states have polynomial 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D spin chain, superposition over multiples of 3, 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Basic Facts About Tree Size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1337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rando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tate can’t even be approximated by states with subexponential 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57200" y="3276720"/>
            <a:ext cx="8305920" cy="1769400"/>
            <a:chOff x="457200" y="3276720"/>
            <a:chExt cx="8305920" cy="1769400"/>
          </a:xfrm>
        </p:grpSpPr>
        <p:graphicFrame>
          <p:nvGraphicFramePr>
            <p:cNvPr id="180" name=""/>
            <p:cNvGraphicFramePr/>
            <p:nvPr/>
          </p:nvGraphicFramePr>
          <p:xfrm>
            <a:off x="1143000" y="3276720"/>
            <a:ext cx="4343400" cy="874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3276720"/>
                      <a:ext cx="4343400" cy="87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"/>
            <p:cNvSpPr/>
            <p:nvPr/>
          </p:nvSpPr>
          <p:spPr>
            <a:xfrm>
              <a:off x="457200" y="3352680"/>
              <a:ext cx="8305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   then TS(|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" y="4038480"/>
              <a:ext cx="83059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quals the </a:t>
              </a:r>
              <a:r>
                <a:rPr b="1" lang="en-US" sz="3000" spc="-1" strike="noStrike">
                  <a:solidFill>
                    <a:srgbClr val="ff3300"/>
                  </a:solidFill>
                  <a:latin typeface="Arial"/>
                </a:rPr>
                <a:t>multilinear formula size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of f to within a constant facto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09480" y="4571640"/>
            <a:ext cx="8305920" cy="2128320"/>
            <a:chOff x="609480" y="4571640"/>
            <a:chExt cx="8305920" cy="2128320"/>
          </a:xfrm>
        </p:grpSpPr>
        <p:sp>
          <p:nvSpPr>
            <p:cNvPr id="185" name=""/>
            <p:cNvSpPr/>
            <p:nvPr/>
          </p:nvSpPr>
          <p:spPr>
            <a:xfrm>
              <a:off x="609480" y="5257800"/>
              <a:ext cx="8305920" cy="1442160"/>
            </a:xfrm>
            <a:prstGeom prst="rect">
              <a:avLst/>
            </a:prstGeom>
            <a:solidFill>
              <a:srgbClr val="ffff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Minimum size of an arithmetic formula for f(x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,…,x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) involving +, </a:t>
              </a: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, and complex constants, every node of which computes a multilinear polynomial in x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,…,x</a:t>
              </a:r>
              <a:r>
                <a:rPr b="0" lang="en-US" sz="27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5410080" y="4571640"/>
              <a:ext cx="1526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" y="106668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C = {x | A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 (mod 2)}, where A is chosen uniformly at random fr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Main Result: Tree Size Lower Bound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705720" y="1981080"/>
          <a:ext cx="18288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1981080"/>
                    <a:ext cx="18288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876920" y="1447920"/>
          <a:ext cx="1272960" cy="8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447920"/>
                    <a:ext cx="12729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57200" y="22860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w.h.p. over A, th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oset 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89548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s tree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52480" y="3581280"/>
            <a:ext cx="5943600" cy="3141360"/>
            <a:chOff x="1752480" y="3581280"/>
            <a:chExt cx="5943600" cy="3141360"/>
          </a:xfrm>
        </p:grpSpPr>
        <p:pic>
          <p:nvPicPr>
            <p:cNvPr id="196" name="raz" descr=""/>
            <p:cNvPicPr/>
            <p:nvPr/>
          </p:nvPicPr>
          <p:blipFill>
            <a:blip r:embed="rId5"/>
            <a:stretch/>
          </p:blipFill>
          <p:spPr>
            <a:xfrm>
              <a:off x="2114280" y="4190760"/>
              <a:ext cx="14860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429000" y="3581280"/>
              <a:ext cx="4267080" cy="1981080"/>
            </a:xfrm>
            <a:prstGeom prst="wedgeEllipseCallout">
              <a:avLst>
                <a:gd name="adj1" fmla="val -56138"/>
                <a:gd name="adj2" fmla="val 33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ant to know the proof technique? Go to my tal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52480" y="6171840"/>
              <a:ext cx="228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9900"/>
                  </a:solidFill>
                  <a:latin typeface="Arial"/>
                </a:rPr>
                <a:t>RAN RA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17:21:42Z</dcterms:created>
  <dc:creator>aaronson</dc:creator>
  <dc:description/>
  <dc:language>en-US</dc:language>
  <cp:lastModifiedBy>Scott Aaronson</cp:lastModifiedBy>
  <dcterms:modified xsi:type="dcterms:W3CDTF">2004-06-13T05:13:46Z</dcterms:modified>
  <cp:revision>69</cp:revision>
  <dc:subject/>
  <dc:title>Multilinear Formulas and Skepticism of Quantum Computing</dc:title>
</cp:coreProperties>
</file>