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3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9.jpeg" ContentType="image/jpeg"/>
  <Override PartName="/ppt/media/image11.png" ContentType="image/png"/>
  <Override PartName="/ppt/media/image29.wmf" ContentType="image/x-wmf"/>
  <Override PartName="/ppt/media/image5.png" ContentType="image/png"/>
  <Override PartName="/ppt/media/image35.png" ContentType="image/png"/>
  <Override PartName="/ppt/media/image34.wmf" ContentType="image/x-wmf"/>
  <Override PartName="/ppt/media/image36.wmf" ContentType="image/x-wmf"/>
  <Override PartName="/ppt/media/image39.wmf" ContentType="image/x-wmf"/>
  <Override PartName="/ppt/media/image40.wmf" ContentType="image/x-wmf"/>
  <Override PartName="/ppt/media/image31.wmf" ContentType="image/x-wmf"/>
  <Override PartName="/ppt/media/image7.jpeg" ContentType="image/jpeg"/>
  <Override PartName="/ppt/media/image38.jpeg" ContentType="image/jpe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138-CC79-4D11-82DD-46A8ECEC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EFD-FA42-4040-B1B6-6CF33B3A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680-4669-4A5A-B395-2C84F682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53A-B24D-476F-AD23-135EC51C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55B-71C7-499F-A59F-9C346E5D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C86-25F7-4518-A4E3-393DFCF0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A24-85A3-43D1-9773-36B6EBE9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DC2-98BD-47BA-8135-2640873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A84-8B43-42F4-A753-A48CD957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5E5-D544-4D7C-BFD9-2A68A1D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E67-1F4B-44A1-B88B-ED7622A3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A6A-91B7-418E-816F-CB5D3DFA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E6C9-D6C0-4F13-BF51-756376012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Good Is The Evidence for QM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99072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r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bility of 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s, double-sli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ntangl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l inequality, GHZ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ch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nger ca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uble-slit experiment, superconductivity, quantum Hall effec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uckyball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400800"/>
            <a:ext cx="0" cy="45720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71600" y="4419360"/>
            <a:ext cx="2286000" cy="53316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5257800"/>
            <a:ext cx="2286000" cy="5335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180504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400800" y="3352680"/>
            <a:ext cx="0" cy="350532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uckyball" descr=""/>
          <p:cNvPicPr/>
          <p:nvPr/>
        </p:nvPicPr>
        <p:blipFill>
          <a:blip r:embed="rId3"/>
          <a:stretch/>
        </p:blipFill>
        <p:spPr>
          <a:xfrm>
            <a:off x="533520" y="464832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95680" y="4419720"/>
            <a:ext cx="914400" cy="2286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648320"/>
            <a:ext cx="685800" cy="38088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4038480"/>
            <a:ext cx="838440" cy="76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19720" y="3580920"/>
            <a:ext cx="838080" cy="381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uckyball" descr=""/>
          <p:cNvPicPr/>
          <p:nvPr/>
        </p:nvPicPr>
        <p:blipFill>
          <a:blip r:embed="rId4"/>
          <a:stretch/>
        </p:blipFill>
        <p:spPr>
          <a:xfrm>
            <a:off x="3657600" y="541008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95680" y="5867280"/>
            <a:ext cx="914400" cy="2286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6095880"/>
            <a:ext cx="685800" cy="381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495680" y="5486400"/>
            <a:ext cx="838440" cy="76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5029200"/>
            <a:ext cx="838080" cy="38088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88620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5943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ndt et al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1:680-682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lternatives to Q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wolfram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86000" cy="3051000"/>
          </a:xfrm>
          <a:prstGeom prst="rect">
            <a:avLst/>
          </a:prstGeom>
          <a:ln w="0">
            <a:noFill/>
          </a:ln>
        </p:spPr>
      </p:pic>
      <p:pic>
        <p:nvPicPr>
          <p:cNvPr id="133" name="thooft-award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2112840" cy="3048120"/>
          </a:xfrm>
          <a:prstGeom prst="rect">
            <a:avLst/>
          </a:prstGeom>
          <a:ln w="0">
            <a:noFill/>
          </a:ln>
        </p:spPr>
      </p:pic>
      <p:pic>
        <p:nvPicPr>
          <p:cNvPr id="134" name="penrose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2903400" cy="2892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51055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ger Penro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5105520"/>
            <a:ext cx="2895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ard ‘t Hooft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 King of Swe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510552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Wolf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28600" y="228600"/>
            <a:ext cx="8610480" cy="6553080"/>
            <a:chOff x="228600" y="228600"/>
            <a:chExt cx="8610480" cy="6553080"/>
          </a:xfrm>
        </p:grpSpPr>
        <p:sp>
          <p:nvSpPr>
            <p:cNvPr id="139" name=""/>
            <p:cNvSpPr/>
            <p:nvPr/>
          </p:nvSpPr>
          <p:spPr>
            <a:xfrm>
              <a:off x="228600" y="22860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Exactly what property separates the </a:t>
              </a:r>
              <a:r>
                <a:rPr b="1" lang="en-US" sz="4200" spc="-1" strike="noStrike">
                  <a:solidFill>
                    <a:srgbClr val="3333cc"/>
                  </a:solidFill>
                  <a:latin typeface="Arial"/>
                </a:rPr>
                <a:t>Sure States</a:t>
              </a: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 we know we can create, from the </a:t>
              </a:r>
              <a:r>
                <a:rPr b="1" lang="en-US" sz="4200" spc="-1" strike="noStrike">
                  <a:solidFill>
                    <a:srgbClr val="3333cc"/>
                  </a:solidFill>
                  <a:latin typeface="Arial"/>
                </a:rPr>
                <a:t>Shor States</a:t>
              </a: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 that suffice for factoring?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science" descr=""/>
            <p:cNvPicPr/>
            <p:nvPr/>
          </p:nvPicPr>
          <p:blipFill>
            <a:blip r:embed="rId1"/>
            <a:stretch/>
          </p:blipFill>
          <p:spPr>
            <a:xfrm>
              <a:off x="609480" y="3962520"/>
              <a:ext cx="144000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nature" descr=""/>
            <p:cNvPicPr/>
            <p:nvPr/>
          </p:nvPicPr>
          <p:blipFill>
            <a:blip r:embed="rId2"/>
            <a:stretch/>
          </p:blipFill>
          <p:spPr>
            <a:xfrm>
              <a:off x="2133720" y="3429000"/>
              <a:ext cx="12776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shor" descr=""/>
            <p:cNvPicPr/>
            <p:nvPr/>
          </p:nvPicPr>
          <p:blipFill>
            <a:blip r:embed="rId3"/>
            <a:stretch/>
          </p:blipFill>
          <p:spPr>
            <a:xfrm>
              <a:off x="6477120" y="3200400"/>
              <a:ext cx="2133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191120" y="2971800"/>
              <a:ext cx="533160" cy="3809880"/>
            </a:xfrm>
            <a:custGeom>
              <a:avLst/>
              <a:gdLst/>
              <a:ahLst/>
              <a:rect l="l" t="t" r="r" b="b"/>
              <a:pathLst>
                <a:path w="336" h="2400">
                  <a:moveTo>
                    <a:pt x="0" y="2400"/>
                  </a:moveTo>
                  <a:lnTo>
                    <a:pt x="240" y="2304"/>
                  </a:lnTo>
                  <a:lnTo>
                    <a:pt x="48" y="2160"/>
                  </a:lnTo>
                  <a:lnTo>
                    <a:pt x="240" y="2016"/>
                  </a:lnTo>
                  <a:lnTo>
                    <a:pt x="48" y="1920"/>
                  </a:lnTo>
                  <a:lnTo>
                    <a:pt x="288" y="1824"/>
                  </a:lnTo>
                  <a:lnTo>
                    <a:pt x="48" y="1680"/>
                  </a:lnTo>
                  <a:lnTo>
                    <a:pt x="288" y="1536"/>
                  </a:lnTo>
                  <a:lnTo>
                    <a:pt x="0" y="1440"/>
                  </a:lnTo>
                  <a:lnTo>
                    <a:pt x="240" y="1296"/>
                  </a:lnTo>
                  <a:lnTo>
                    <a:pt x="0" y="1200"/>
                  </a:lnTo>
                  <a:lnTo>
                    <a:pt x="336" y="1008"/>
                  </a:lnTo>
                  <a:lnTo>
                    <a:pt x="0" y="960"/>
                  </a:lnTo>
                  <a:lnTo>
                    <a:pt x="240" y="864"/>
                  </a:lnTo>
                  <a:lnTo>
                    <a:pt x="48" y="768"/>
                  </a:lnTo>
                  <a:lnTo>
                    <a:pt x="288" y="624"/>
                  </a:lnTo>
                  <a:lnTo>
                    <a:pt x="48" y="480"/>
                  </a:lnTo>
                  <a:lnTo>
                    <a:pt x="336" y="432"/>
                  </a:lnTo>
                  <a:lnTo>
                    <a:pt x="0" y="288"/>
                  </a:lnTo>
                  <a:lnTo>
                    <a:pt x="336" y="192"/>
                  </a:lnTo>
                  <a:lnTo>
                    <a:pt x="0" y="96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215160" y="4555440"/>
              <a:ext cx="35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DIVIDING LI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3429000" cy="617220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685800"/>
            <a:ext cx="281916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uclid Fraktur"/>
              </a:rPr>
              <a:t>I hereby propose a complexity theory of pure quantum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uclid Fraktur"/>
              </a:rPr>
              <a:t>one of whose goals is to study possible Sure/Shor separato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3048120"/>
          <a:ext cx="205740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2057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3429000" y="228600"/>
            <a:ext cx="5867280" cy="6311880"/>
            <a:chOff x="3429000" y="228600"/>
            <a:chExt cx="5867280" cy="6311880"/>
          </a:xfrm>
        </p:grpSpPr>
        <p:sp>
          <p:nvSpPr>
            <p:cNvPr id="150" name=""/>
            <p:cNvSpPr/>
            <p:nvPr/>
          </p:nvSpPr>
          <p:spPr>
            <a:xfrm>
              <a:off x="63244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4480" y="243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24480" y="1523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4480" y="609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53280" y="1143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95680" y="3886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56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568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3352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32448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238880" y="34290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41008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59400" y="6858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450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7236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640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48640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86760" y="1219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3060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4500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7236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495680" y="39117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0600" y="3048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324480" y="117792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324480" y="64764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495680" y="1600200"/>
              <a:ext cx="182880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495680" y="1600200"/>
              <a:ext cx="1828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495680" y="1562040"/>
              <a:ext cx="1905120" cy="5335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572000" y="3886200"/>
              <a:ext cx="266688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410080" y="3390840"/>
              <a:ext cx="2819520" cy="9144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40320" y="32767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0320" y="31240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40320" y="297180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15000" y="6172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29600" y="32004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29600" y="990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228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3733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2819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22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15238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434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4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152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809200">
              <a:off x="5333760" y="1523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1563800">
              <a:off x="6400800" y="401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004000">
              <a:off x="6324840" y="365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76720" y="5840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5638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ct contain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con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6095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6370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1523880"/>
            <a:ext cx="8610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oring Bonus Feature: Relations Between Computational and Quantum State Complexity Ques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438280"/>
            <a:ext cx="79246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 =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p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p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/po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p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/po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228600"/>
            <a:ext cx="876312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ree siz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S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minimum number of unbounded-fanin +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ates,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, and |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needed in a tree represent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Constants are free.  Permutation order of qubits is irrelev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ree sta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states with polynomially-bounded 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905120" y="2514600"/>
          <a:ext cx="611352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61135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152280" y="3276720"/>
            <a:ext cx="7010280" cy="3478680"/>
            <a:chOff x="152280" y="3276720"/>
            <a:chExt cx="7010280" cy="3478680"/>
          </a:xfrm>
        </p:grpSpPr>
        <p:sp>
          <p:nvSpPr>
            <p:cNvPr id="215" name=""/>
            <p:cNvSpPr/>
            <p:nvPr/>
          </p:nvSpPr>
          <p:spPr>
            <a:xfrm>
              <a:off x="3962160" y="3276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4640" y="4282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52880" y="52203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24480" y="52203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360" y="4282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8640" y="52203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040" y="52203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280" y="6158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7560" y="6158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6880" y="6158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2160" y="6158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9880" y="562284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47760" y="562284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62284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33160" y="562284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3611520"/>
              <a:ext cx="1524240" cy="80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3611520"/>
              <a:ext cx="1524240" cy="80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1840" y="4684320"/>
              <a:ext cx="457200" cy="603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333760" y="4684320"/>
              <a:ext cx="457200" cy="603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142640" y="4684320"/>
              <a:ext cx="106704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0560" y="4684320"/>
              <a:ext cx="106668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380880" y="5421600"/>
            <a:ext cx="436320" cy="60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542160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1523880" y="5421600"/>
            <a:ext cx="436320" cy="60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542160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895480" y="5421600"/>
            <a:ext cx="436320" cy="60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542160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4038480" y="5421600"/>
            <a:ext cx="436320" cy="60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38480" y="542160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971440" y="3410640"/>
            <a:ext cx="436680" cy="60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71440" y="341064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4946400" y="3410640"/>
            <a:ext cx="601560" cy="603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46400" y="3410640"/>
                      <a:ext cx="60156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8" name=""/>
          <p:cNvGraphicFramePr/>
          <p:nvPr/>
        </p:nvGraphicFramePr>
        <p:xfrm>
          <a:off x="6248520" y="5943600"/>
          <a:ext cx="2673360" cy="73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5943600"/>
                    <a:ext cx="26733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4920" y="1066680"/>
            <a:ext cx="861048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es involving +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complex constants, such that every vertex computes a multilinear polynomial (no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ultiplied by itself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et MFS(f) be minimum number of vertices in multilinear formula for 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linear Formula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3733920"/>
            <a:ext cx="3962520" cy="2501280"/>
            <a:chOff x="0" y="3733920"/>
            <a:chExt cx="3962520" cy="2501280"/>
          </a:xfrm>
        </p:grpSpPr>
        <p:sp>
          <p:nvSpPr>
            <p:cNvPr id="253" name=""/>
            <p:cNvSpPr/>
            <p:nvPr/>
          </p:nvSpPr>
          <p:spPr>
            <a:xfrm>
              <a:off x="1676520" y="3733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67240" y="4571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1440" y="5638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3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440" y="56386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914040" y="4190760"/>
              <a:ext cx="838440" cy="609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4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386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9840" y="4571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5638680"/>
              <a:ext cx="838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0720" y="56386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70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812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7400" y="4190760"/>
              <a:ext cx="838440" cy="609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6" name=""/>
          <p:cNvGraphicFramePr/>
          <p:nvPr/>
        </p:nvGraphicFramePr>
        <p:xfrm>
          <a:off x="1523880" y="2514600"/>
          <a:ext cx="26672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14600"/>
                    <a:ext cx="26672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4114800" y="3733920"/>
            <a:ext cx="4876920" cy="2971800"/>
            <a:chOff x="4114800" y="3733920"/>
            <a:chExt cx="4876920" cy="2971800"/>
          </a:xfrm>
        </p:grpSpPr>
        <p:sp>
          <p:nvSpPr>
            <p:cNvPr id="269" name=""/>
            <p:cNvSpPr/>
            <p:nvPr/>
          </p:nvSpPr>
          <p:spPr>
            <a:xfrm>
              <a:off x="4114800" y="3809880"/>
              <a:ext cx="464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Theorem: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0" name=""/>
            <p:cNvGraphicFramePr/>
            <p:nvPr/>
          </p:nvGraphicFramePr>
          <p:xfrm>
            <a:off x="5030640" y="4495680"/>
            <a:ext cx="3498840" cy="104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0640" y="4495680"/>
                      <a:ext cx="349884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4789440" y="5867280"/>
            <a:ext cx="4105440" cy="80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89440" y="5867280"/>
                      <a:ext cx="410544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"/>
            <p:cNvSpPr/>
            <p:nvPr/>
          </p:nvSpPr>
          <p:spPr>
            <a:xfrm>
              <a:off x="4343400" y="525780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14800" y="3733920"/>
              <a:ext cx="4876920" cy="2971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280" y="990720"/>
            <a:ext cx="883944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tree state has a tree of polynomial siz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arithmic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orthogonal tree state (where all additions are of orthogonal states) can be prepared by a polynomial-size quantum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st quantum states can’t even be approximated by a state with subexponential tre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quantum computer whose state is always a tree state can be simulated in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 of the classical polynomial-time hierarchy.  Yields weak evidence that Tree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ab Bag of Theor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set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143000"/>
            <a:ext cx="838224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 be a coset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words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bilizer c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ottesman, Calderbank-Shor-Stea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following distribution over cosets: cho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niformly at random (where k=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05320" y="1066680"/>
          <a:ext cx="66024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066680"/>
                    <a:ext cx="6602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257800" y="990720"/>
          <a:ext cx="27734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990720"/>
                    <a:ext cx="277344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57200" y="3733920"/>
          <a:ext cx="28065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733920"/>
                    <a:ext cx="2806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048120" y="4191120"/>
          <a:ext cx="3657600" cy="7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191120"/>
                    <a:ext cx="36576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1905120" y="5715000"/>
          <a:ext cx="495936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5715000"/>
                    <a:ext cx="49593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609480" y="51055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Arial"/>
              </a:rPr>
              <a:t>Lower Bound To Be Prove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5105520"/>
            <a:ext cx="6324480" cy="152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z’s Breakthroug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3" name="raz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314720" cy="17524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8600" y="914400"/>
            <a:ext cx="8458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coset C,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lower-boun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ultilinear formula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FS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27480" y="838080"/>
          <a:ext cx="3481200" cy="12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7480" y="838080"/>
                    <a:ext cx="348120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 rot="20833200">
            <a:off x="1746360" y="2210040"/>
            <a:ext cx="4640400" cy="855720"/>
          </a:xfrm>
          <a:prstGeom prst="rect">
            <a:avLst/>
          </a:prstGeom>
          <a:noFill/>
          <a:ln w="572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900"/>
                </a:solidFill>
                <a:latin typeface="Arial"/>
              </a:rPr>
              <a:t>LOOKS H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3733920"/>
            <a:ext cx="86104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June, superpolynomial lower bounds on MFS didn’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az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FS lower bounds for Permanent and Determinant of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onential bounds conjectured, but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est Raz’s method can 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artoon of Raz’s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914400"/>
            <a:ext cx="883908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2k input bits u.a.r.  Label them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andomly restr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aining bits to 0 or 1 u.a.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a new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447920" y="838080"/>
          <a:ext cx="22860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22860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9880" y="2514600"/>
          <a:ext cx="43023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14600"/>
                    <a:ext cx="43023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52280" y="5334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3505320"/>
            <a:ext cx="205740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96252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2096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809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3123720" y="2286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9625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28600" y="5919840"/>
          <a:ext cx="8763120" cy="73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919840"/>
                    <a:ext cx="87631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715000" y="3429000"/>
            <a:ext cx="3048120" cy="1677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LL QUESTIONS WILL BE ANSWERED BY THE NEX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19520" y="114300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14300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 for Coset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324480" y="990720"/>
          <a:ext cx="165420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990720"/>
                    <a:ext cx="165420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79246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276720"/>
            <a:ext cx="525780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se two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matrices are invertible (which they are with probability &gt; 0.288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ermutation of the identity matrix, so rank(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209680" y="1143000"/>
          <a:ext cx="42116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143000"/>
                    <a:ext cx="42116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 flipV="1">
            <a:off x="3276720" y="2742840"/>
            <a:ext cx="15228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191120" y="2742840"/>
            <a:ext cx="76176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7150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Non-Quantum Corollar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rst superpolynomial gap between general and multilinear formula size of fun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Inapproximability of Coset States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273400" y="2057400"/>
          <a:ext cx="45957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3400" y="2057400"/>
                    <a:ext cx="45957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04920" y="1447920"/>
            <a:ext cx="84582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Fac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complex matrix M=(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llows from Hoffman-Wielandt inequa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Corolla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probability over coset C, no stat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TS(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(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s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C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28600" y="990720"/>
            <a:ext cx="85345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positions over binary integers in arithmetic progression: letting w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a-1)/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=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of Shor’s alg after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is measured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suming a number-theoretic conjecture, there exist p,a for which TS(|pZ+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hor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438280" y="1905120"/>
          <a:ext cx="41338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41338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shor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787320" cy="1181160"/>
          </a:xfrm>
          <a:prstGeom prst="rect">
            <a:avLst/>
          </a:prstGeom>
          <a:ln w="0">
            <a:noFill/>
          </a:ln>
        </p:spPr>
      </p:pic>
      <p:pic>
        <p:nvPicPr>
          <p:cNvPr id="343" name="shor" descr=""/>
          <p:cNvPicPr/>
          <p:nvPr/>
        </p:nvPicPr>
        <p:blipFill>
          <a:blip r:embed="rId4"/>
          <a:stretch/>
        </p:blipFill>
        <p:spPr>
          <a:xfrm>
            <a:off x="6934320" y="1905120"/>
            <a:ext cx="7873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533520" y="4952880"/>
            <a:ext cx="7569000" cy="1462320"/>
            <a:chOff x="533520" y="4952880"/>
            <a:chExt cx="7569000" cy="1462320"/>
          </a:xfrm>
        </p:grpSpPr>
        <p:sp>
          <p:nvSpPr>
            <p:cNvPr id="345" name=""/>
            <p:cNvSpPr/>
            <p:nvPr/>
          </p:nvSpPr>
          <p:spPr>
            <a:xfrm>
              <a:off x="533520" y="5257800"/>
              <a:ext cx="6400800" cy="885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Arial"/>
                </a:rPr>
                <a:t>Bonus Feature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y original conjecture has been falsified by Carl Pomer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5"/>
            <a:stretch/>
          </p:blipFill>
          <p:spPr>
            <a:xfrm>
              <a:off x="6553080" y="4952880"/>
              <a:ext cx="1549440" cy="14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vised Conjecture (Not Yet Falsified &amp; Obviously True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600200"/>
            <a:ext cx="861048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A consist of 5+log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bsets of {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chosen uniformly at random.  For all 32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ets B of A, let S contain the sum of the elements of B.  Let S mod p = {x mod p :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}.  If p is chosen uniformly at random from [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1.1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|S mod p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4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/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ing this conjecture, quantum states that arise in Shor’s algorithm have tree siz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results toward proving the revised conjecture by Don Copper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onus Feature: Cluster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1143000"/>
            <a:ext cx="8610480" cy="55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superposition over all settings of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attice, with phase=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m is the number of pairs of neighboring ‘1’ qu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uster states have superpolynomial tre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819520" y="2666880"/>
          <a:ext cx="2743200" cy="2819520"/>
        </p:xfrm>
        <a:graphic>
          <a:graphicData uri="http://schemas.openxmlformats.org/drawingml/2006/table">
            <a:tbl>
              <a:tblPr/>
              <a:tblGrid>
                <a:gridCol w="549000"/>
                <a:gridCol w="547920"/>
                <a:gridCol w="549360"/>
                <a:gridCol w="547560"/>
                <a:gridCol w="54936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352" name=""/>
          <p:cNvSpPr/>
          <p:nvPr/>
        </p:nvSpPr>
        <p:spPr>
          <a:xfrm>
            <a:off x="3733920" y="3505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7080" y="35053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67080" y="40384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47242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35812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35812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30481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0384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4920" y="1219320"/>
            <a:ext cx="8305560" cy="59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unitary matrix U and strin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amming weight k, let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submatrix of U formed by the first k rows and the columns corresponding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  Then a Terhal stat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ingly, these are always normaliz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hal states have superpolynomial tre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onus Feature: Terhal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133720" y="3276720"/>
          <a:ext cx="4572000" cy="14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457200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1676520" cy="1473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6629400" y="3276720"/>
            <a:ext cx="16765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cc"/>
                </a:solidFill>
                <a:latin typeface="Arial"/>
              </a:rPr>
              <a:t>Challenge for Experimenters</a:t>
            </a:r>
            <a:endParaRPr b="1" lang="en-US" sz="45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9" name="laflamme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579680" cy="205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8600" y="838080"/>
            <a:ext cx="66294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uniform superposition over a “generic” coset of     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 or even better,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fford group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thwhile even if you don’t demonstrate err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overlook that it’s 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048120" y="1219320"/>
          <a:ext cx="512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219320"/>
                    <a:ext cx="512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49528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-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I/512 +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3657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ew test of QM: are all states tree st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" y="4267080"/>
            <a:ext cx="8763120" cy="2775960"/>
            <a:chOff x="228600" y="4267080"/>
            <a:chExt cx="8763120" cy="2775960"/>
          </a:xfrm>
        </p:grpSpPr>
        <p:sp>
          <p:nvSpPr>
            <p:cNvPr id="376" name=""/>
            <p:cNvSpPr/>
            <p:nvPr/>
          </p:nvSpPr>
          <p:spPr>
            <a:xfrm>
              <a:off x="380880" y="4267080"/>
              <a:ext cx="8534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What’s been don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5-qubit codeword in liquid NMR</a:t>
              </a:r>
              <a:br>
                <a:rPr sz="30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Knill, Laflamme, Martinez, Negrevergne, quant-ph/0101034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7" name=""/>
            <p:cNvGraphicFramePr/>
            <p:nvPr/>
          </p:nvGraphicFramePr>
          <p:xfrm>
            <a:off x="228600" y="5181480"/>
            <a:ext cx="8763120" cy="868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5181480"/>
                      <a:ext cx="876312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9" name=""/>
            <p:cNvSpPr/>
            <p:nvPr/>
          </p:nvSpPr>
          <p:spPr>
            <a:xfrm>
              <a:off x="6477120" y="60958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S(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6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Tree Size Upper Bounds for Coset States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371600"/>
          <a:ext cx="8534520" cy="5157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15960"/>
                <a:gridCol w="60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2362320" y="83808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(# of nonzero amplitu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600200"/>
            <a:ext cx="380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f qubi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2133720"/>
            <a:ext cx="2895480" cy="167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Hardest” cases (to left, use naïve strategy; to right, Fourier strateg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495320" y="3733920"/>
            <a:ext cx="12193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For Clifford Group State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371600"/>
          <a:ext cx="8610480" cy="5138640"/>
        </p:xfrm>
        <a:graphic>
          <a:graphicData uri="http://schemas.openxmlformats.org/drawingml/2006/table">
            <a:tbl>
              <a:tblPr/>
              <a:tblGrid>
                <a:gridCol w="620640"/>
                <a:gridCol w="620640"/>
                <a:gridCol w="621000"/>
                <a:gridCol w="618840"/>
                <a:gridCol w="621000"/>
                <a:gridCol w="620640"/>
                <a:gridCol w="620640"/>
                <a:gridCol w="620640"/>
                <a:gridCol w="620640"/>
                <a:gridCol w="621000"/>
                <a:gridCol w="618840"/>
                <a:gridCol w="621000"/>
                <a:gridCol w="626760"/>
                <a:gridCol w="5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"/>
          <p:cNvSpPr/>
          <p:nvPr/>
        </p:nvSpPr>
        <p:spPr>
          <a:xfrm>
            <a:off x="2209680" y="838080"/>
            <a:ext cx="49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(# of nonzero amplitu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600200"/>
            <a:ext cx="380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f qubi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990720"/>
            <a:ext cx="853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tree-size lower 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for Shor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des (i.e. Reed-Solo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lower bounds for (say) n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to mix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ree states and orthogonal tre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-learn multilinear formulas?  TreeBQP=BP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ree states already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81680" y="27432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mportant for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477120" y="31240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ive Coverage of QIP’2004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8954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fortnow.com/lance/complo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our Objections to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00200"/>
          <a:ext cx="7924680" cy="49273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heore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ac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hys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: QC’s can’t be built for fundamental r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: QC’s can’t be built for engineering reas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lgorith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: Speedup is of limited theoretical inte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: Speedup is of limited practical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272880" y="1270080"/>
            <a:ext cx="28958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413080"/>
            <a:ext cx="2590920" cy="2057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A): QC’s can’t be built for fundamental reason—Levin’s arguments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3" name="levin" descr=""/>
          <p:cNvPicPr/>
          <p:nvPr/>
        </p:nvPicPr>
        <p:blipFill>
          <a:blip r:embed="rId1"/>
          <a:stretch/>
        </p:blipFill>
        <p:spPr>
          <a:xfrm>
            <a:off x="7467480" y="990720"/>
            <a:ext cx="147168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1447920"/>
            <a:ext cx="723888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Analogy to unit-cost arithmetic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Error-correction and fault-tolerance address only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rel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r in amplitudes, not absol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“We have never seen a physical law valid to over a dozen decimal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) If a quantum computer failed, we couldn’t measure its state to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breakdown of QM—so no Nobel pr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41008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The present attitude is analogous to, say, Maxwell selling the Daemon of his famous thought experiment as a path to cheaper electricity from hea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ponses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914400"/>
            <a:ext cx="861048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in amplitudes more benign than in measurable quantities—should we dismis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of order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-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QM’s successor won’t lift us to PSPACE, rather than knock us down to BP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lsify QM, would suffice to show QC is i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 far from 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i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E.g. Fitch &amp; Cronin won 1980 Physics Nobel “merely” for showing CP symmetry is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486400"/>
            <a:ext cx="8763120" cy="94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l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far should we extrapolate from today’s experiments to where QM hasn’t been t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21:42Z</dcterms:created>
  <dc:creator>aaronson</dc:creator>
  <dc:description/>
  <dc:language>en-US</dc:language>
  <cp:lastModifiedBy>Scott Aaronson</cp:lastModifiedBy>
  <dcterms:modified xsi:type="dcterms:W3CDTF">2004-01-15T16:56:10Z</dcterms:modified>
  <cp:revision>58</cp:revision>
  <dc:subject/>
  <dc:title>Multilinear Formulas and Skepticism of Quantum Computing</dc:title>
</cp:coreProperties>
</file>