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3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36.wmf" ContentType="image/x-wmf"/>
  <Override PartName="/ppt/media/image39.wmf" ContentType="image/x-wmf"/>
  <Override PartName="/ppt/media/image40.wmf" ContentType="image/x-wmf"/>
  <Override PartName="/ppt/media/image31.wmf" ContentType="image/x-wmf"/>
  <Override PartName="/ppt/media/image7.jpeg" ContentType="image/jpeg"/>
  <Override PartName="/ppt/media/image38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9DA-5F8B-4BB8-B252-FD73128E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FD7-EFF4-494F-9966-DFDAD112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E82-740A-48BA-AE40-08F3AB3E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067-275D-442F-8A2F-D55D1C49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226-74E4-4D18-80F9-738EAE0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C60-5624-4E55-938E-1709C90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E45-BF95-454B-8FB4-0E51C421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832-7F13-4E73-AB05-FDAC9653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F22-500A-4F32-A722-E4FAD3CF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B46-5C1F-491F-A880-425BB7B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747-4E23-4765-BC8D-55BE5A9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47B-50DF-4423-AB3A-B9D1EE1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3464-9B1E-482D-9A84-CCF92F099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Good Is The Evidence for Q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99072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bility of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s, double-sli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tangl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l inequality, GHZ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ch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nger ca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uble-slit experiment, superconductivity, quantum Hall effec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uckyball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400800"/>
            <a:ext cx="0" cy="45720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71600" y="4419360"/>
            <a:ext cx="2286000" cy="53316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5257800"/>
            <a:ext cx="2286000" cy="5335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180504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00800" y="3352680"/>
            <a:ext cx="0" cy="35053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uckyball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495680" y="441972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68580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403848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19720" y="3580920"/>
            <a:ext cx="83808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uckyball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95680" y="586728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6095880"/>
            <a:ext cx="68580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495680" y="548640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5029200"/>
            <a:ext cx="83808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88620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dt et al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1:680-682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ternatives to Q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wolfra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133" name="thooft-award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11284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penrose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903400" cy="2892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105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ger Penro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105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ard ‘t Hooft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 King of Swe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51055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Wolf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228600"/>
            <a:ext cx="8610480" cy="6553080"/>
            <a:chOff x="228600" y="228600"/>
            <a:chExt cx="8610480" cy="6553080"/>
          </a:xfrm>
        </p:grpSpPr>
        <p:sp>
          <p:nvSpPr>
            <p:cNvPr id="139" name=""/>
            <p:cNvSpPr/>
            <p:nvPr/>
          </p:nvSpPr>
          <p:spPr>
            <a:xfrm>
              <a:off x="228600" y="22860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Exactly what property separates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ure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we know we can create, from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hor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that suffice for factoring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science" descr=""/>
            <p:cNvPicPr/>
            <p:nvPr/>
          </p:nvPicPr>
          <p:blipFill>
            <a:blip r:embed="rId1"/>
            <a:stretch/>
          </p:blipFill>
          <p:spPr>
            <a:xfrm>
              <a:off x="609480" y="3962520"/>
              <a:ext cx="144000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nature" descr=""/>
            <p:cNvPicPr/>
            <p:nvPr/>
          </p:nvPicPr>
          <p:blipFill>
            <a:blip r:embed="rId2"/>
            <a:stretch/>
          </p:blipFill>
          <p:spPr>
            <a:xfrm>
              <a:off x="2133720" y="3429000"/>
              <a:ext cx="1277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hor" descr=""/>
            <p:cNvPicPr/>
            <p:nvPr/>
          </p:nvPicPr>
          <p:blipFill>
            <a:blip r:embed="rId3"/>
            <a:stretch/>
          </p:blipFill>
          <p:spPr>
            <a:xfrm>
              <a:off x="6477120" y="3200400"/>
              <a:ext cx="2133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191120" y="2971800"/>
              <a:ext cx="533160" cy="380988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215160" y="455544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3429000" cy="617220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685800"/>
            <a:ext cx="281916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uclid Fraktur"/>
              </a:rPr>
              <a:t>I hereby propose a complexity theory of pure quantum sta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uclid Fraktur"/>
              </a:rPr>
              <a:t>one of whose goals is to study possible Sure/Shor separato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3048120"/>
          <a:ext cx="20574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2057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"/>
          <p:cNvGrpSpPr/>
          <p:nvPr/>
        </p:nvGrpSpPr>
        <p:grpSpPr>
          <a:xfrm>
            <a:off x="3429000" y="228600"/>
            <a:ext cx="5867280" cy="6311880"/>
            <a:chOff x="3429000" y="228600"/>
            <a:chExt cx="5867280" cy="6311880"/>
          </a:xfrm>
        </p:grpSpPr>
        <p:sp>
          <p:nvSpPr>
            <p:cNvPr id="150" name=""/>
            <p:cNvSpPr/>
            <p:nvPr/>
          </p:nvSpPr>
          <p:spPr>
            <a:xfrm>
              <a:off x="63244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8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44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44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44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532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56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56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3244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2388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4100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594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450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723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864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4864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867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306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450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723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4956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306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3244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3244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956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4956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4956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5720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4100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403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03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403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15000" y="6172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29600" y="32004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296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228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2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1523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434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5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809200">
              <a:off x="5333760" y="1523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1563800">
              <a:off x="64008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004000">
              <a:off x="632484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76720" y="5840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638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ct contai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con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63705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1523880"/>
            <a:ext cx="8610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Boring Bonus Feature: Relations Between Computational and Quantum State Complexity Question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2438280"/>
            <a:ext cx="7924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=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po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p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l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/po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7631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ree siz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minimum number of unbounded-fanin +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ates,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, and 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needed in a tree represent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Constants are free.  Permutation order of qubits is irrelev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ree sta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states with polynomially-bounded 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905120" y="2514600"/>
          <a:ext cx="6113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6113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152280" y="3276720"/>
            <a:ext cx="7010280" cy="3478680"/>
            <a:chOff x="152280" y="3276720"/>
            <a:chExt cx="7010280" cy="3478680"/>
          </a:xfrm>
        </p:grpSpPr>
        <p:sp>
          <p:nvSpPr>
            <p:cNvPr id="215" name=""/>
            <p:cNvSpPr/>
            <p:nvPr/>
          </p:nvSpPr>
          <p:spPr>
            <a:xfrm>
              <a:off x="3962160" y="3276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4640" y="4282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52880" y="52203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24480" y="522036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360" y="4282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8640" y="52203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040" y="52203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756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160" y="6158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4776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33160" y="5622840"/>
              <a:ext cx="457200" cy="60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361152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040" y="3611520"/>
              <a:ext cx="1524240" cy="80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1840" y="468432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33760" y="4684320"/>
              <a:ext cx="457200" cy="6030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142640" y="4684320"/>
              <a:ext cx="106704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560" y="4684320"/>
              <a:ext cx="1066680" cy="6699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380880" y="5421600"/>
            <a:ext cx="436320" cy="60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1523880" y="5421600"/>
            <a:ext cx="436320" cy="60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895480" y="5421600"/>
            <a:ext cx="436320" cy="60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038480" y="5421600"/>
            <a:ext cx="436320" cy="60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38480" y="5421600"/>
                      <a:ext cx="43632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971440" y="3410640"/>
            <a:ext cx="436680" cy="60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3410640"/>
                      <a:ext cx="4366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4946400" y="3410640"/>
            <a:ext cx="601560" cy="603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46400" y="3410640"/>
                      <a:ext cx="60156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8" name=""/>
          <p:cNvGraphicFramePr/>
          <p:nvPr/>
        </p:nvGraphicFramePr>
        <p:xfrm>
          <a:off x="6248520" y="5943600"/>
          <a:ext cx="2673360" cy="73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5943600"/>
                    <a:ext cx="2673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1066680"/>
            <a:ext cx="861048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s involving +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complex constants, such that every vertex computes a multilinear polynomial (no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ultiplied by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et MFS(f) be minimum number of vertices in multilinear formula for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3733920"/>
            <a:ext cx="3962520" cy="2501280"/>
            <a:chOff x="0" y="3733920"/>
            <a:chExt cx="3962520" cy="2501280"/>
          </a:xfrm>
        </p:grpSpPr>
        <p:sp>
          <p:nvSpPr>
            <p:cNvPr id="253" name=""/>
            <p:cNvSpPr/>
            <p:nvPr/>
          </p:nvSpPr>
          <p:spPr>
            <a:xfrm>
              <a:off x="1676520" y="3733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72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440" y="5638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3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44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91404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4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386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8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563868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9072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70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812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740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6" name=""/>
          <p:cNvGraphicFramePr/>
          <p:nvPr/>
        </p:nvGraphicFramePr>
        <p:xfrm>
          <a:off x="1523880" y="2514600"/>
          <a:ext cx="26672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26672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4114800" y="3733920"/>
            <a:ext cx="4876920" cy="2971800"/>
            <a:chOff x="4114800" y="3733920"/>
            <a:chExt cx="4876920" cy="2971800"/>
          </a:xfrm>
        </p:grpSpPr>
        <p:sp>
          <p:nvSpPr>
            <p:cNvPr id="269" name=""/>
            <p:cNvSpPr/>
            <p:nvPr/>
          </p:nvSpPr>
          <p:spPr>
            <a:xfrm>
              <a:off x="4114800" y="38098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Theorem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0" name=""/>
            <p:cNvGraphicFramePr/>
            <p:nvPr/>
          </p:nvGraphicFramePr>
          <p:xfrm>
            <a:off x="5030640" y="4495680"/>
            <a:ext cx="3498840" cy="104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0640" y="4495680"/>
                      <a:ext cx="349884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4789440" y="5867280"/>
            <a:ext cx="4105440" cy="80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9440" y="5867280"/>
                      <a:ext cx="410544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4343400" y="525780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14800" y="3733920"/>
              <a:ext cx="4876920" cy="297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280" y="990720"/>
            <a:ext cx="88394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tree state has a tree of polynomial siz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arithmic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orthogonal tree state (where all additions are of orthogonal states) can be prepared by a polynomial-size quantum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quantum states can’t even be approximated by a state with subexponent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computer whose state is always a tree state can be simulated in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 of the classical polynomial-time hierarchy.  Yields weak evidence that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ab Bag of Theor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143000"/>
            <a:ext cx="838224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 be a coset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words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bilizer 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ottesman, Calderbank-Shor-Ste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following distribution over cosets: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niformly at random (where k=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05320" y="1066680"/>
          <a:ext cx="66024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6602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257800" y="990720"/>
          <a:ext cx="27734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990720"/>
                    <a:ext cx="27734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57200" y="3733920"/>
          <a:ext cx="28065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33920"/>
                    <a:ext cx="2806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048120" y="4191120"/>
          <a:ext cx="365760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191120"/>
                    <a:ext cx="36576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905120" y="5715000"/>
          <a:ext cx="49593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715000"/>
                    <a:ext cx="49593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09480" y="51055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Arial"/>
              </a:rPr>
              <a:t>Lower Bound To Be Prove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5105520"/>
            <a:ext cx="6324480" cy="15238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z’s Breakthroug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3" name="raz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14720" cy="1752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8600" y="914400"/>
            <a:ext cx="8458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coset C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lower-bou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ultilinear formula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27480" y="838080"/>
          <a:ext cx="3481200" cy="12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7480" y="838080"/>
                    <a:ext cx="34812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rot="20833200">
            <a:off x="1746360" y="2210040"/>
            <a:ext cx="4640400" cy="855720"/>
          </a:xfrm>
          <a:prstGeom prst="rect">
            <a:avLst/>
          </a:prstGeom>
          <a:noFill/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Arial"/>
              </a:rPr>
              <a:t>LOOKS H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37339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June, superpolynomial lower bounds on MFS didn’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z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 lower bounds for Permanent and Determinant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onential bounds conjectured, b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est Raz’s method can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artoon of Raz’s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914400"/>
            <a:ext cx="883908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2k input bits u.a.r.  Label them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ndomly re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ing bits to 0 or 1 u.a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 new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47920" y="838080"/>
          <a:ext cx="2286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286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9880" y="2514600"/>
          <a:ext cx="43023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14600"/>
                    <a:ext cx="4302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52280" y="5334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09680" y="3505320"/>
            <a:ext cx="205740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96252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2096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09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3123720" y="2286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39625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092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28600" y="5919840"/>
          <a:ext cx="8763120" cy="73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919840"/>
                    <a:ext cx="87631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715000" y="3429000"/>
            <a:ext cx="3048120" cy="1677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LL QUESTIONS WILL BE ANSWERED BY THE NEX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19520" y="114300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14300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for 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324480" y="990720"/>
          <a:ext cx="165420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990720"/>
                    <a:ext cx="16542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7924680" y="2438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0280" y="1066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276720"/>
            <a:ext cx="525780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se two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matrices are invertible (which they are with probability &gt; 0.288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ermutation of the identity matrix, so rank(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209680" y="1143000"/>
          <a:ext cx="42116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143000"/>
                    <a:ext cx="42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 flipV="1">
            <a:off x="3276720" y="2742840"/>
            <a:ext cx="15228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91120" y="2742840"/>
            <a:ext cx="76176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7150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Non-Quantum Corolla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rst superpolynomial gap between general and multilinear formula size of fun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Inapproximability of Coset States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273400" y="2057400"/>
          <a:ext cx="45957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2057400"/>
                    <a:ext cx="45957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04920" y="1447920"/>
            <a:ext cx="84582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ac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omplex matrix M=(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llows from Hoffman-Wielandt inequ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robability over coset C, no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s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28600" y="990720"/>
            <a:ext cx="85345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positions over binary integers in arithmetic progression: letting w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-1)/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=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of Shor’s alg after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is measured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suming a number-theoretic conjecture, there exist p,a for which TS(|pZ+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o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438280" y="1905120"/>
          <a:ext cx="41338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41338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shor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343" name="shor" descr=""/>
          <p:cNvPicPr/>
          <p:nvPr/>
        </p:nvPicPr>
        <p:blipFill>
          <a:blip r:embed="rId4"/>
          <a:stretch/>
        </p:blipFill>
        <p:spPr>
          <a:xfrm>
            <a:off x="6934320" y="1905120"/>
            <a:ext cx="7873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533520" y="4952880"/>
            <a:ext cx="7569000" cy="1462320"/>
            <a:chOff x="533520" y="4952880"/>
            <a:chExt cx="7569000" cy="1462320"/>
          </a:xfrm>
        </p:grpSpPr>
        <p:sp>
          <p:nvSpPr>
            <p:cNvPr id="345" name=""/>
            <p:cNvSpPr/>
            <p:nvPr/>
          </p:nvSpPr>
          <p:spPr>
            <a:xfrm>
              <a:off x="533520" y="5257800"/>
              <a:ext cx="6400800" cy="88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3300"/>
                  </a:solidFill>
                  <a:latin typeface="Arial"/>
                </a:rPr>
                <a:t>Bonus Feature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y original conjecture has been falsified by Carl Pomeran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5"/>
            <a:stretch/>
          </p:blipFill>
          <p:spPr>
            <a:xfrm>
              <a:off x="6553080" y="4952880"/>
              <a:ext cx="1549440" cy="14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ised Conjecture (Not Yet Falsified &amp; Obviously True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600200"/>
            <a:ext cx="861048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 consist of 5+log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bsets of {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chosen uniformly at random.  For all 32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ets B of A, let S contain the sum of the elements of B.  Let S mod p = {x mod p :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}.  If p is chosen uniformly at random from [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1.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|S mod p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/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this conjecture, quantum states that arise in Shor’s algorithm have tree siz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 results toward proving the revised conjecture by Don Coppersm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nus Feature: Cluste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143000"/>
            <a:ext cx="861048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superposition over all settings of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attice, with phase=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m is the number of pairs of neighboring ‘1’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uster states have superpolynom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819520" y="2666880"/>
          <a:ext cx="2743200" cy="2819520"/>
        </p:xfrm>
        <a:graphic>
          <a:graphicData uri="http://schemas.openxmlformats.org/drawingml/2006/table">
            <a:tbl>
              <a:tblPr/>
              <a:tblGrid>
                <a:gridCol w="549000"/>
                <a:gridCol w="547920"/>
                <a:gridCol w="549360"/>
                <a:gridCol w="547560"/>
                <a:gridCol w="5493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3733920" y="35053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350532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40384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4724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3581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3581280"/>
            <a:ext cx="0" cy="381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30481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038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1219320"/>
            <a:ext cx="8305560" cy="59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unitary matrix U and str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amming weight k, let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submatrix of U formed by the first k rows and the columns corresponding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  Then a Terhal stat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ingly, these are always normaliz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hal states have superpolynomial tre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nus Feature: Terhal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133720" y="3276720"/>
          <a:ext cx="4572000" cy="14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457200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1676520" cy="1473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6629400" y="3276720"/>
            <a:ext cx="16765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cc"/>
                </a:solidFill>
                <a:latin typeface="Arial"/>
              </a:rPr>
              <a:t>Challenge for Experimenters</a:t>
            </a:r>
            <a:endParaRPr b="1" lang="en-US" sz="45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69" name="laflamme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579680" cy="2057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28600" y="838080"/>
            <a:ext cx="66294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uniform superposition over a “generic” coset of     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or even better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fford group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while even if you don’t demonstrate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overlook that it’s 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048120" y="1219320"/>
          <a:ext cx="512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19320"/>
                    <a:ext cx="512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49528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/512 +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w test of QM: are all states tree st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4267080"/>
            <a:ext cx="8763120" cy="2775960"/>
            <a:chOff x="228600" y="4267080"/>
            <a:chExt cx="8763120" cy="2775960"/>
          </a:xfrm>
        </p:grpSpPr>
        <p:sp>
          <p:nvSpPr>
            <p:cNvPr id="376" name=""/>
            <p:cNvSpPr/>
            <p:nvPr/>
          </p:nvSpPr>
          <p:spPr>
            <a:xfrm>
              <a:off x="380880" y="4267080"/>
              <a:ext cx="8534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hat’s been don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5-qubit codeword in liquid NMR</a:t>
              </a:r>
              <a:br>
                <a:rPr sz="30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Knill, Laflamme, Martinez, Negrevergne, quant-ph/010103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228600" y="5181480"/>
            <a:ext cx="8763120" cy="868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5181480"/>
                      <a:ext cx="876312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9" name=""/>
            <p:cNvSpPr/>
            <p:nvPr/>
          </p:nvSpPr>
          <p:spPr>
            <a:xfrm>
              <a:off x="6477120" y="60958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S(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Tree Size Upper Bounds for Coset State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371600"/>
          <a:ext cx="8534520" cy="5157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15960"/>
                <a:gridCol w="6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362320" y="83808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2133720"/>
            <a:ext cx="2895480" cy="167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Hardest” cases (to left, use naïve strategy; to right, Fourier strateg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495320" y="3733920"/>
            <a:ext cx="12193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For Clifford Group Stat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371600"/>
          <a:ext cx="8610480" cy="51386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20640"/>
                <a:gridCol w="620640"/>
                <a:gridCol w="620640"/>
                <a:gridCol w="620640"/>
                <a:gridCol w="621000"/>
                <a:gridCol w="618840"/>
                <a:gridCol w="621000"/>
                <a:gridCol w="626760"/>
                <a:gridCol w="5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2209680" y="8380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ree-size low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for Shor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des (i.e. Reed-Solo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lower bounds for (say) n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to mix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ree states and orthogonal tre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-learn multilinear formulas?  TreeBQP=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ee states already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81680" y="2743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mportant fo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47712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ive Coverage of QIP’2004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8954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fortnow.com/lance/comp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evin" descr=""/>
          <p:cNvPicPr/>
          <p:nvPr/>
        </p:nvPicPr>
        <p:blipFill>
          <a:blip r:embed="rId1"/>
          <a:stretch/>
        </p:blipFill>
        <p:spPr>
          <a:xfrm>
            <a:off x="739800" y="1828800"/>
            <a:ext cx="14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0" y="1295280"/>
          <a:ext cx="88790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88790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levin2" descr=""/>
          <p:cNvPicPr/>
          <p:nvPr/>
        </p:nvPicPr>
        <p:blipFill>
          <a:blip r:embed="rId4"/>
          <a:stretch/>
        </p:blipFill>
        <p:spPr>
          <a:xfrm>
            <a:off x="3906720" y="1828800"/>
            <a:ext cx="13716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4267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791320"/>
            <a:ext cx="388620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lers for Future Tal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181480"/>
            <a:ext cx="51818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ving Of” Document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5181480"/>
            <a:ext cx="312444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nish Ve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791320"/>
            <a:ext cx="2666880" cy="489960"/>
          </a:xfrm>
          <a:prstGeom prst="rect">
            <a:avLst/>
          </a:prstGeom>
          <a:solidFill>
            <a:srgbClr val="e3e1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791320"/>
            <a:ext cx="1676520" cy="4899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Tal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Four Objections to Quantum Computing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00200"/>
          <a:ext cx="7924680" cy="49273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eore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hys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: QC’s can’t be built for fundamental 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: QC’s can’t be built for engineering 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lgorith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: Speedup is of limited theoretical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: Speedup is of limited practical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72880" y="1270080"/>
            <a:ext cx="28958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413080"/>
            <a:ext cx="2590920" cy="2057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A): QC’s can’t be built for fundamental reason—Levin’s arguments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3" name="levin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47168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1447920"/>
            <a:ext cx="72388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nalogy to unit-cost arithmetic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Error-correction and fault-tolerance address only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 in amplitudes, not absol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“We have never seen a physical law valid to over a dozen decimal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) If a quantum computer failed, we couldn’t measure its state to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breakdown of QM—so no Nobel pr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54100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he present attitude is analogous to, say, Maxwell selling the Daemon of his famous thought experiment as a path to cheaper electricity from hea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pons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914400"/>
            <a:ext cx="861048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in amplitudes more benign than in measurable quantities—should we dismis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of order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QM’s successor won’t lift us to PSPACE, rather than knock us down to 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lsify QM, would suffice to show QC is i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far from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i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.g. Fitch &amp; Cronin won 1980 Physics Nobel “merely” for showing CP symmetry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76312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far should we extrapolate from today’s experiments to where QM hasn’t been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4-01-15T16:56:10Z</dcterms:modified>
  <cp:revision>58</cp:revision>
  <dc:subject/>
  <dc:title>Multilinear Formulas and Skepticism of Quantum Computing</dc:title>
</cp:coreProperties>
</file>