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jpeg" ContentType="image/jpeg"/>
  <Override PartName="/ppt/media/image28.wmf" ContentType="image/x-wmf"/>
  <Override PartName="/ppt/media/image37.jpeg" ContentType="image/jpeg"/>
  <Override PartName="/ppt/media/image16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48.jpeg" ContentType="image/jpeg"/>
  <Override PartName="/ppt/media/image35.wmf" ContentType="image/x-wmf"/>
  <Override PartName="/ppt/media/image47.wmf" ContentType="image/x-wmf"/>
  <Override PartName="/ppt/media/image4.png" ContentType="image/png"/>
  <Override PartName="/ppt/media/image33.wmf" ContentType="image/x-wmf"/>
  <Override PartName="/ppt/media/image30.wmf" ContentType="image/x-wmf"/>
  <Override PartName="/ppt/media/image13.wmf" ContentType="image/x-wmf"/>
  <Override PartName="/ppt/media/image10.jpeg" ContentType="image/jpeg"/>
  <Override PartName="/ppt/media/image5.png" ContentType="image/png"/>
  <Override PartName="/ppt/media/image23.wmf" ContentType="image/x-wmf"/>
  <Override PartName="/ppt/media/image9.jpeg" ContentType="image/jpeg"/>
  <Override PartName="/ppt/media/image11.png" ContentType="image/png"/>
  <Override PartName="/ppt/media/image29.wmf" ContentType="image/x-wmf"/>
  <Override PartName="/ppt/media/image7.jpeg" ContentType="image/jpeg"/>
  <Override PartName="/ppt/media/image31.wmf" ContentType="image/x-wmf"/>
  <Override PartName="/ppt/media/image12.wmf" ContentType="image/x-wmf"/>
  <Override PartName="/ppt/media/image49.wmf" ContentType="image/x-wmf"/>
  <Override PartName="/ppt/media/image41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758-4B17-4BE8-909E-1C5F99C4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0B0-FE1A-40E4-9D9F-93309C35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97D-6042-412C-8FF5-E9F1444B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F03-8E82-4703-A589-DBC9D1BA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619-DC2E-4D0C-8EEC-C82358BC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A62-587D-4B76-AEAA-C73CEAFF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D82-4564-4C9C-B0A0-08093EDE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147-1683-43F1-8624-101C2DA7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FC2-2AB6-4D9A-8178-EDEB281C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E0B-52C2-4AA6-8475-F8CEDAC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113-B983-42B0-8CCE-7E7347BE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C31-211C-4297-BEEB-7D5F962B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0910-028A-4299-82F7-5F1F283FE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286000"/>
            <a:ext cx="8879040" cy="3103560"/>
            <a:chOff x="0" y="2286000"/>
            <a:chExt cx="8879040" cy="3103560"/>
          </a:xfrm>
        </p:grpSpPr>
        <p:pic>
          <p:nvPicPr>
            <p:cNvPr id="42" name="levin" descr=""/>
            <p:cNvPicPr/>
            <p:nvPr/>
          </p:nvPicPr>
          <p:blipFill>
            <a:blip r:embed="rId1"/>
            <a:stretch/>
          </p:blipFill>
          <p:spPr>
            <a:xfrm>
              <a:off x="739800" y="2819160"/>
              <a:ext cx="1473120" cy="2057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0" y="2286000"/>
            <a:ext cx="8879040" cy="3103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286000"/>
                      <a:ext cx="8879040" cy="310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5" name="levin2" descr=""/>
            <p:cNvPicPr/>
            <p:nvPr/>
          </p:nvPicPr>
          <p:blipFill>
            <a:blip r:embed="rId4"/>
            <a:stretch/>
          </p:blipFill>
          <p:spPr>
            <a:xfrm>
              <a:off x="3907080" y="2819160"/>
              <a:ext cx="137160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5486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s.berkeley.edu/~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asses of Pure States 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3520" y="2819520"/>
          <a:ext cx="205740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19520"/>
                    <a:ext cx="20574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2971800" y="228600"/>
            <a:ext cx="5867280" cy="6311880"/>
            <a:chOff x="2971800" y="228600"/>
            <a:chExt cx="5867280" cy="6311880"/>
          </a:xfrm>
        </p:grpSpPr>
        <p:sp>
          <p:nvSpPr>
            <p:cNvPr id="104" name=""/>
            <p:cNvSpPr/>
            <p:nvPr/>
          </p:nvSpPr>
          <p:spPr>
            <a:xfrm>
              <a:off x="5867280" y="6095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16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28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8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7280" y="2438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7280" y="1523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7280" y="609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96080" y="1143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3886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84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3848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6080" y="3352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86728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781680" y="34290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95288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02200" y="6858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878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1516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2920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502920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9560" y="12193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73400" y="2133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8780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1516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38480" y="39117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73400" y="3048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867280" y="117792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5867280" y="647640"/>
              <a:ext cx="182880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038480" y="1600200"/>
              <a:ext cx="182880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038480" y="1600200"/>
              <a:ext cx="18288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038480" y="1562040"/>
              <a:ext cx="1905120" cy="5335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14800" y="3886200"/>
              <a:ext cx="2666880" cy="3808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952880" y="3390840"/>
              <a:ext cx="2819520" cy="9144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83120" y="327672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83120" y="312408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83120" y="297180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7800" y="61722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72400" y="32004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72400" y="990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57800" y="228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3733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819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22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15238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1800" y="1905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862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809200">
              <a:off x="4876560" y="1523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1563800">
              <a:off x="5943600" y="401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04000">
              <a:off x="5867640" y="365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8610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ree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S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minimum number of unbounded-fanin +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tes,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and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needed in a tree represent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Constants are free.  Permutation order of qubits is ir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81080" y="2057400"/>
          <a:ext cx="611352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611352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152280" y="2819520"/>
            <a:ext cx="7010280" cy="3872880"/>
            <a:chOff x="152280" y="2819520"/>
            <a:chExt cx="7010280" cy="3872880"/>
          </a:xfrm>
        </p:grpSpPr>
        <p:sp>
          <p:nvSpPr>
            <p:cNvPr id="161" name=""/>
            <p:cNvSpPr/>
            <p:nvPr/>
          </p:nvSpPr>
          <p:spPr>
            <a:xfrm>
              <a:off x="3962160" y="28195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4640" y="39625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52880" y="502920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24480" y="502920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33360" y="39625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28640" y="50292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040" y="50292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6095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47560" y="6095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66880" y="6095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160" y="6095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9880" y="5486400"/>
              <a:ext cx="45720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047760" y="5486400"/>
              <a:ext cx="45720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5486400"/>
              <a:ext cx="45720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33160" y="5486400"/>
              <a:ext cx="45720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514240" y="3200400"/>
              <a:ext cx="1524240" cy="9144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040" y="3200400"/>
              <a:ext cx="1524240" cy="9144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71840" y="4419720"/>
              <a:ext cx="457200" cy="6858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333760" y="4419720"/>
              <a:ext cx="457200" cy="6858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142640" y="4419720"/>
              <a:ext cx="1067040" cy="7617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90560" y="4419720"/>
              <a:ext cx="1066680" cy="7617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380880" y="5257800"/>
            <a:ext cx="4363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5257800"/>
                      <a:ext cx="436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1523880" y="5257800"/>
            <a:ext cx="43632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5257800"/>
                      <a:ext cx="436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2895480" y="5257800"/>
            <a:ext cx="436320" cy="685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5257800"/>
                      <a:ext cx="436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"/>
            <p:cNvGraphicFramePr/>
            <p:nvPr/>
          </p:nvGraphicFramePr>
          <p:xfrm>
            <a:off x="4038480" y="5257800"/>
            <a:ext cx="436320" cy="685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38480" y="5257800"/>
                      <a:ext cx="436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"/>
            <p:cNvGraphicFramePr/>
            <p:nvPr/>
          </p:nvGraphicFramePr>
          <p:xfrm>
            <a:off x="2971440" y="2971800"/>
            <a:ext cx="436680" cy="68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71440" y="2971800"/>
                      <a:ext cx="4366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4946400" y="2971800"/>
            <a:ext cx="601560" cy="685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946400" y="2971800"/>
                      <a:ext cx="601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4" name=""/>
          <p:cNvGraphicFramePr/>
          <p:nvPr/>
        </p:nvGraphicFramePr>
        <p:xfrm>
          <a:off x="6248520" y="5943600"/>
          <a:ext cx="2673360" cy="735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5943600"/>
                    <a:ext cx="26733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3505320"/>
            <a:ext cx="86104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Motiva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we accept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e almost have to accept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But can only polynomially many “tensorings” and “summings” take place in the multiverse, because of decoherenc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600200"/>
            <a:ext cx="861048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ree Stat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h that TS(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n) for some polynomial p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abuse and refer to individu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191120" y="1447920"/>
          <a:ext cx="257328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447920"/>
                    <a:ext cx="25732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 Tree Stat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1219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qual superposition over n-bit strings of parity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990720"/>
          <a:ext cx="99072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907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4" name=""/>
          <p:cNvGrpSpPr/>
          <p:nvPr/>
        </p:nvGrpSpPr>
        <p:grpSpPr>
          <a:xfrm>
            <a:off x="152280" y="2362320"/>
            <a:ext cx="8839440" cy="1752480"/>
            <a:chOff x="152280" y="2362320"/>
            <a:chExt cx="8839440" cy="1752480"/>
          </a:xfrm>
        </p:grpSpPr>
        <p:graphicFrame>
          <p:nvGraphicFramePr>
            <p:cNvPr id="205" name=""/>
            <p:cNvGraphicFramePr/>
            <p:nvPr/>
          </p:nvGraphicFramePr>
          <p:xfrm>
            <a:off x="5486400" y="2819520"/>
            <a:ext cx="3467160" cy="728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2819520"/>
                      <a:ext cx="346716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228600" y="2362320"/>
            <a:ext cx="5410080" cy="1654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2362320"/>
                      <a:ext cx="54100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152280" y="2362320"/>
              <a:ext cx="8839440" cy="1752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52280" y="4572000"/>
            <a:ext cx="8839440" cy="1371600"/>
            <a:chOff x="152280" y="4572000"/>
            <a:chExt cx="8839440" cy="1371600"/>
          </a:xfrm>
        </p:grpSpPr>
        <p:graphicFrame>
          <p:nvGraphicFramePr>
            <p:cNvPr id="211" name=""/>
            <p:cNvGraphicFramePr/>
            <p:nvPr/>
          </p:nvGraphicFramePr>
          <p:xfrm>
            <a:off x="281160" y="4668840"/>
            <a:ext cx="8658000" cy="115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1160" y="4668840"/>
                      <a:ext cx="8658000" cy="11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"/>
            <p:cNvSpPr/>
            <p:nvPr/>
          </p:nvSpPr>
          <p:spPr>
            <a:xfrm>
              <a:off x="152280" y="4572000"/>
              <a:ext cx="8839440" cy="1371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1066680"/>
            <a:ext cx="861048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es involving +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complex constants, such that every vertex computes a multilinear polynomial (no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ultiplied by itself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let MFS(f) be minimum number of vertices in multilinear formula for 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ultilinear Formula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3733920"/>
            <a:ext cx="3962520" cy="2501280"/>
            <a:chOff x="0" y="3733920"/>
            <a:chExt cx="3962520" cy="2501280"/>
          </a:xfrm>
        </p:grpSpPr>
        <p:sp>
          <p:nvSpPr>
            <p:cNvPr id="217" name=""/>
            <p:cNvSpPr/>
            <p:nvPr/>
          </p:nvSpPr>
          <p:spPr>
            <a:xfrm>
              <a:off x="1676520" y="3733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67240" y="4571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440" y="5638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3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24440" y="56386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040" y="4190760"/>
              <a:ext cx="838440" cy="609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244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4386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840" y="4571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5638680"/>
              <a:ext cx="8384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0720" y="56386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70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812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7400" y="4190760"/>
              <a:ext cx="838440" cy="609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0" name=""/>
          <p:cNvGraphicFramePr/>
          <p:nvPr/>
        </p:nvGraphicFramePr>
        <p:xfrm>
          <a:off x="1523880" y="2514600"/>
          <a:ext cx="26672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14600"/>
                    <a:ext cx="26672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" name=""/>
          <p:cNvGrpSpPr/>
          <p:nvPr/>
        </p:nvGrpSpPr>
        <p:grpSpPr>
          <a:xfrm>
            <a:off x="4114800" y="3733920"/>
            <a:ext cx="4876920" cy="2971800"/>
            <a:chOff x="4114800" y="3733920"/>
            <a:chExt cx="4876920" cy="2971800"/>
          </a:xfrm>
        </p:grpSpPr>
        <p:sp>
          <p:nvSpPr>
            <p:cNvPr id="233" name=""/>
            <p:cNvSpPr/>
            <p:nvPr/>
          </p:nvSpPr>
          <p:spPr>
            <a:xfrm>
              <a:off x="4114800" y="3809880"/>
              <a:ext cx="4648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Arial"/>
                </a:rPr>
                <a:t>Theorem: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5030640" y="4495680"/>
            <a:ext cx="3498840" cy="1041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30640" y="4495680"/>
                      <a:ext cx="3498840" cy="10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4789440" y="5867280"/>
            <a:ext cx="4105440" cy="80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89440" y="5867280"/>
                      <a:ext cx="410544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>
              <a:off x="4343400" y="525780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4800" y="3733920"/>
              <a:ext cx="4876920" cy="2971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3276720"/>
            <a:ext cx="86104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y tree state has a tree of polynomial size and logarithmic dep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Proof Ide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llows Brent’s Theorem (1974), that any function with a poly-size arithmetic formula has a formula of polynomial size and logarithmic dep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pth Reduc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295280"/>
            <a:ext cx="2971800" cy="17528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16765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1219320"/>
            <a:ext cx="4190760" cy="8380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2280" y="457200"/>
            <a:ext cx="883944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n </a:t>
            </a: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orthogonal tree sta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it has a polynomial-size tree that only adds orthogonal st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y orthogonal tree state can be prepared by a poly-size quantum circu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Proof Ide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we can prepare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clearly can prepare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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prepar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0: let U|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V|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4572000"/>
          <a:ext cx="8134200" cy="12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0"/>
                    <a:ext cx="8134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55760" y="457200"/>
          <a:ext cx="1525320" cy="5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5760" y="457200"/>
                    <a:ext cx="15253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4419720" y="4952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5105520"/>
            <a:ext cx="4724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Add OR of 2</a:t>
            </a:r>
            <a:r>
              <a:rPr b="0" lang="en-US" sz="23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 register to 1</a:t>
            </a:r>
            <a:r>
              <a:rPr b="0" lang="en-US" sz="23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 regi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27432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y It’s Not Obvi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762120"/>
            <a:ext cx="86104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 chosen uniformly under the Haar measure, then with 1-o(1) probability, no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S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ies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585880" y="762120"/>
          <a:ext cx="145764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5880" y="762120"/>
                    <a:ext cx="1457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4419720" y="2895480"/>
            <a:ext cx="2971800" cy="17528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2971800"/>
            <a:ext cx="2590560" cy="1523880"/>
          </a:xfrm>
          <a:custGeom>
            <a:avLst/>
            <a:gdLst/>
            <a:ahLst/>
            <a:rect l="l" t="t" r="r" b="b"/>
            <a:pathLst>
              <a:path w="1541" h="870">
                <a:moveTo>
                  <a:pt x="0" y="645"/>
                </a:moveTo>
                <a:cubicBezTo>
                  <a:pt x="194" y="227"/>
                  <a:pt x="61" y="170"/>
                  <a:pt x="327" y="193"/>
                </a:cubicBezTo>
                <a:cubicBezTo>
                  <a:pt x="363" y="218"/>
                  <a:pt x="366" y="254"/>
                  <a:pt x="374" y="294"/>
                </a:cubicBezTo>
                <a:cubicBezTo>
                  <a:pt x="371" y="375"/>
                  <a:pt x="372" y="456"/>
                  <a:pt x="366" y="536"/>
                </a:cubicBezTo>
                <a:cubicBezTo>
                  <a:pt x="360" y="613"/>
                  <a:pt x="321" y="704"/>
                  <a:pt x="296" y="777"/>
                </a:cubicBezTo>
                <a:cubicBezTo>
                  <a:pt x="309" y="813"/>
                  <a:pt x="311" y="822"/>
                  <a:pt x="350" y="831"/>
                </a:cubicBezTo>
                <a:cubicBezTo>
                  <a:pt x="410" y="822"/>
                  <a:pt x="465" y="799"/>
                  <a:pt x="514" y="761"/>
                </a:cubicBezTo>
                <a:cubicBezTo>
                  <a:pt x="532" y="724"/>
                  <a:pt x="550" y="689"/>
                  <a:pt x="568" y="652"/>
                </a:cubicBezTo>
                <a:cubicBezTo>
                  <a:pt x="563" y="524"/>
                  <a:pt x="557" y="405"/>
                  <a:pt x="537" y="279"/>
                </a:cubicBezTo>
                <a:cubicBezTo>
                  <a:pt x="536" y="272"/>
                  <a:pt x="520" y="181"/>
                  <a:pt x="522" y="178"/>
                </a:cubicBezTo>
                <a:cubicBezTo>
                  <a:pt x="529" y="167"/>
                  <a:pt x="548" y="183"/>
                  <a:pt x="561" y="185"/>
                </a:cubicBezTo>
                <a:cubicBezTo>
                  <a:pt x="621" y="210"/>
                  <a:pt x="587" y="195"/>
                  <a:pt x="662" y="232"/>
                </a:cubicBezTo>
                <a:cubicBezTo>
                  <a:pt x="682" y="242"/>
                  <a:pt x="708" y="279"/>
                  <a:pt x="708" y="279"/>
                </a:cubicBezTo>
                <a:cubicBezTo>
                  <a:pt x="735" y="357"/>
                  <a:pt x="746" y="429"/>
                  <a:pt x="755" y="512"/>
                </a:cubicBezTo>
                <a:cubicBezTo>
                  <a:pt x="755" y="528"/>
                  <a:pt x="714" y="818"/>
                  <a:pt x="794" y="870"/>
                </a:cubicBezTo>
                <a:cubicBezTo>
                  <a:pt x="844" y="821"/>
                  <a:pt x="839" y="818"/>
                  <a:pt x="872" y="761"/>
                </a:cubicBezTo>
                <a:cubicBezTo>
                  <a:pt x="878" y="729"/>
                  <a:pt x="886" y="699"/>
                  <a:pt x="895" y="668"/>
                </a:cubicBezTo>
                <a:cubicBezTo>
                  <a:pt x="910" y="537"/>
                  <a:pt x="933" y="377"/>
                  <a:pt x="864" y="255"/>
                </a:cubicBezTo>
                <a:cubicBezTo>
                  <a:pt x="834" y="203"/>
                  <a:pt x="805" y="150"/>
                  <a:pt x="771" y="100"/>
                </a:cubicBezTo>
                <a:cubicBezTo>
                  <a:pt x="756" y="78"/>
                  <a:pt x="744" y="54"/>
                  <a:pt x="732" y="30"/>
                </a:cubicBezTo>
                <a:cubicBezTo>
                  <a:pt x="728" y="22"/>
                  <a:pt x="716" y="8"/>
                  <a:pt x="724" y="6"/>
                </a:cubicBezTo>
                <a:cubicBezTo>
                  <a:pt x="747" y="0"/>
                  <a:pt x="771" y="11"/>
                  <a:pt x="794" y="14"/>
                </a:cubicBezTo>
                <a:cubicBezTo>
                  <a:pt x="861" y="37"/>
                  <a:pt x="909" y="92"/>
                  <a:pt x="965" y="131"/>
                </a:cubicBezTo>
                <a:cubicBezTo>
                  <a:pt x="995" y="174"/>
                  <a:pt x="1020" y="221"/>
                  <a:pt x="1051" y="263"/>
                </a:cubicBezTo>
                <a:cubicBezTo>
                  <a:pt x="1061" y="293"/>
                  <a:pt x="1082" y="319"/>
                  <a:pt x="1090" y="349"/>
                </a:cubicBezTo>
                <a:cubicBezTo>
                  <a:pt x="1108" y="419"/>
                  <a:pt x="1128" y="491"/>
                  <a:pt x="1152" y="559"/>
                </a:cubicBezTo>
                <a:cubicBezTo>
                  <a:pt x="1144" y="647"/>
                  <a:pt x="1149" y="668"/>
                  <a:pt x="1082" y="715"/>
                </a:cubicBezTo>
                <a:cubicBezTo>
                  <a:pt x="1062" y="746"/>
                  <a:pt x="1062" y="757"/>
                  <a:pt x="1098" y="769"/>
                </a:cubicBezTo>
                <a:cubicBezTo>
                  <a:pt x="1168" y="757"/>
                  <a:pt x="1203" y="732"/>
                  <a:pt x="1246" y="676"/>
                </a:cubicBezTo>
                <a:cubicBezTo>
                  <a:pt x="1253" y="652"/>
                  <a:pt x="1269" y="606"/>
                  <a:pt x="1269" y="606"/>
                </a:cubicBezTo>
                <a:cubicBezTo>
                  <a:pt x="1258" y="530"/>
                  <a:pt x="1233" y="462"/>
                  <a:pt x="1214" y="388"/>
                </a:cubicBezTo>
                <a:cubicBezTo>
                  <a:pt x="1208" y="331"/>
                  <a:pt x="1209" y="330"/>
                  <a:pt x="1199" y="279"/>
                </a:cubicBezTo>
                <a:cubicBezTo>
                  <a:pt x="1194" y="253"/>
                  <a:pt x="1183" y="201"/>
                  <a:pt x="1183" y="201"/>
                </a:cubicBezTo>
                <a:cubicBezTo>
                  <a:pt x="1199" y="121"/>
                  <a:pt x="1232" y="157"/>
                  <a:pt x="1323" y="170"/>
                </a:cubicBezTo>
                <a:cubicBezTo>
                  <a:pt x="1373" y="241"/>
                  <a:pt x="1432" y="305"/>
                  <a:pt x="1487" y="372"/>
                </a:cubicBezTo>
                <a:cubicBezTo>
                  <a:pt x="1521" y="413"/>
                  <a:pt x="1541" y="428"/>
                  <a:pt x="1541" y="481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467480" y="3276720"/>
          <a:ext cx="99072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3276720"/>
                    <a:ext cx="99072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6440" y="3581280"/>
          <a:ext cx="361008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6440" y="3581280"/>
                    <a:ext cx="36100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 flipV="1">
            <a:off x="3733920" y="3657240"/>
            <a:ext cx="1066680" cy="304920"/>
          </a:xfrm>
          <a:prstGeom prst="line">
            <a:avLst/>
          </a:prstGeom>
          <a:ln w="5724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4876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of Idea: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arren’s Theorem from real algebraic ge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4920" y="3429000"/>
            <a:ext cx="86104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of Ide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 and verify trees; use Goldwasser-Sipser approximate 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that Tree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Q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762120"/>
            <a:ext cx="8610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of problems solvable by a quantum computer whose state at every time is a tree state.  (1-qubit intermediate measurements are allowe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ee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reeBQP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438280" y="3395520"/>
          <a:ext cx="3429000" cy="6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395520"/>
                    <a:ext cx="34290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ECC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143000"/>
            <a:ext cx="83822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C be a coset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words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bilizer c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ottesman, CSS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Later we’ll add phases to reduce codeword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following distribution over cosets: cho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u.a.r. (where k=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505320" y="1066680"/>
          <a:ext cx="660240" cy="6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066680"/>
                    <a:ext cx="6602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257800" y="990720"/>
          <a:ext cx="277344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990720"/>
                    <a:ext cx="277344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33520" y="3886200"/>
          <a:ext cx="280656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886200"/>
                    <a:ext cx="2806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114800" y="4419720"/>
          <a:ext cx="3657600" cy="77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419720"/>
                    <a:ext cx="36576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09480" y="5257800"/>
            <a:ext cx="7543800" cy="1219320"/>
            <a:chOff x="609480" y="5257800"/>
            <a:chExt cx="7543800" cy="1219320"/>
          </a:xfrm>
        </p:grpSpPr>
        <p:graphicFrame>
          <p:nvGraphicFramePr>
            <p:cNvPr id="280" name=""/>
            <p:cNvGraphicFramePr/>
            <p:nvPr/>
          </p:nvGraphicFramePr>
          <p:xfrm>
            <a:off x="2695680" y="5516640"/>
            <a:ext cx="4959360" cy="811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95680" y="5516640"/>
                      <a:ext cx="4959360" cy="81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762120" y="5562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9900"/>
                  </a:solidFill>
                  <a:latin typeface="Arial"/>
                </a:rPr>
                <a:t>Resul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480" y="5257800"/>
              <a:ext cx="7543800" cy="1219320"/>
            </a:xfrm>
            <a:prstGeom prst="rect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objections to quantum comp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e/Shor separ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e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: QECC states requir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dditions and tensor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mental (!) propos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s and open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z’s Breakthroug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5" name="raz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314720" cy="1752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28600" y="914400"/>
            <a:ext cx="8458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coset C, 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lower-bound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ultilinear formula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FS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327480" y="838080"/>
          <a:ext cx="3481200" cy="120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7480" y="838080"/>
                    <a:ext cx="348120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 rot="20833200">
            <a:off x="1746360" y="2210040"/>
            <a:ext cx="4640400" cy="855720"/>
          </a:xfrm>
          <a:prstGeom prst="rect">
            <a:avLst/>
          </a:prstGeom>
          <a:noFill/>
          <a:ln w="572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9900"/>
                </a:solidFill>
                <a:latin typeface="Arial"/>
              </a:rPr>
              <a:t>LOOKS HAR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3733920"/>
            <a:ext cx="86104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June, superpolynomial lower bounds on MFS didn’t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az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FS lower bounds for Permanent and Determinant of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onential bounds conjectured, but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best Raz’s method can sh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dea of Raz’s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914400"/>
            <a:ext cx="8839080" cy="29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2k input bits u.a.r.  Label them 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andomly restr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maining bits to 0 or 1 u.a.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 a new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447920" y="838080"/>
          <a:ext cx="228600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22860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809880" y="2514600"/>
          <a:ext cx="43023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14600"/>
                    <a:ext cx="43023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228600" y="5715000"/>
            <a:ext cx="82296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M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arge ran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probability over choice of f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36576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3657600"/>
            <a:ext cx="205740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411480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911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11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1240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7242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4038120" y="243828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4114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1992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457200"/>
            <a:ext cx="838224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ltilinear formulas can compute functions with huge rank, i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ce we restrict everything except 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high probability rank becomes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084400" y="1447920"/>
          <a:ext cx="5083200" cy="60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1447920"/>
                    <a:ext cx="50832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380880" y="3581280"/>
          <a:ext cx="822960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581280"/>
                    <a:ext cx="82296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668160" y="5622840"/>
          <a:ext cx="7850520" cy="66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8160" y="5622840"/>
                    <a:ext cx="78505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380880" y="4952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(Raz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819520" y="1523880"/>
            <a:ext cx="1447560" cy="16002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600200"/>
              <a:gd name="textAreaBottom" fmla="*/ 1529640 h 1600200"/>
            </a:gdLst>
            <a:ahLst/>
            <a:rect l="textAreaLeft" t="textAreaTop" r="textAreaRight" b="textAreaBottom"/>
            <a:pathLst>
              <a:path w="21600" h="23877">
                <a:moveTo>
                  <a:pt x="3600" y="0"/>
                </a:moveTo>
                <a:arcTo wR="3600" hR="3600" stAng="16200000" swAng="-5400000"/>
                <a:lnTo>
                  <a:pt x="0" y="20277"/>
                </a:lnTo>
                <a:arcTo wR="3600" hR="3600" stAng="10800000" swAng="-5400000"/>
                <a:lnTo>
                  <a:pt x="18000" y="23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1523880"/>
            <a:ext cx="1447560" cy="16002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600200"/>
              <a:gd name="textAreaBottom" fmla="*/ 1529640 h 1600200"/>
            </a:gdLst>
            <a:ahLst/>
            <a:rect l="textAreaLeft" t="textAreaTop" r="textAreaRight" b="textAreaBottom"/>
            <a:pathLst>
              <a:path w="21600" h="23877">
                <a:moveTo>
                  <a:pt x="3600" y="0"/>
                </a:moveTo>
                <a:arcTo wR="3600" hR="3600" stAng="16200000" swAng="-5400000"/>
                <a:lnTo>
                  <a:pt x="0" y="20277"/>
                </a:lnTo>
                <a:arcTo wR="3600" hR="3600" stAng="10800000" swAng="-5400000"/>
                <a:lnTo>
                  <a:pt x="18000" y="23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 for Coset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24480" y="1371600"/>
          <a:ext cx="165420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371600"/>
                    <a:ext cx="165420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792468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4038480"/>
            <a:ext cx="525780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se two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matrices are invertible (which they are with probability &gt; 0.288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M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ermutation of the identity matrix, so rank(M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209680" y="1523880"/>
          <a:ext cx="421164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523880"/>
                    <a:ext cx="42116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 flipV="1">
            <a:off x="3200400" y="3124080"/>
            <a:ext cx="2286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038480" y="3124080"/>
            <a:ext cx="9144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rollar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523880"/>
            <a:ext cx="8534160" cy="41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irst superpolynomial g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multilinear and general formula size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is trivially NC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just check whether Ax=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nt not known to be NC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best formulas known are n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open: Is there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a poly-size formula but no poly-size multilinear formu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Inapproximability of Coset States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273400" y="2057400"/>
          <a:ext cx="45957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3400" y="2057400"/>
                    <a:ext cx="45957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04920" y="1447920"/>
            <a:ext cx="8458200" cy="43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Fac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complex matrix M=(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llows from Hoffman-Wielandt inequa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Corollar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probability over coset C, no stat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TS(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=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(lo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s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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C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hor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762120"/>
            <a:ext cx="8534520" cy="59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positions over binary integers in arithmetic progression: letting w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a-1)/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=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gister of Shor’s alg after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gister is measure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Conjectur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t S be a set of integers with |S|=32t and |x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((log t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and some c&gt;0.  Let        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{x mod p :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}.  For sufficiently large t, if we choose a prime p uniformly at random from [t,5t/4], then |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t/4 with probability at least 3/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suming the conjecture, there exist p,a for which TS(|pZ+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438280" y="1676520"/>
          <a:ext cx="41338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1338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9" name="shor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787320" cy="1181160"/>
          </a:xfrm>
          <a:prstGeom prst="rect">
            <a:avLst/>
          </a:prstGeom>
          <a:ln w="0">
            <a:noFill/>
          </a:ln>
        </p:spPr>
      </p:pic>
      <p:pic>
        <p:nvPicPr>
          <p:cNvPr id="350" name="shor" descr=""/>
          <p:cNvPicPr/>
          <p:nvPr/>
        </p:nvPicPr>
        <p:blipFill>
          <a:blip r:embed="rId4"/>
          <a:stretch/>
        </p:blipFill>
        <p:spPr>
          <a:xfrm>
            <a:off x="6934320" y="1676520"/>
            <a:ext cx="78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Challenge for NMR Experimenters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52" name="laflamme" descr=""/>
          <p:cNvPicPr/>
          <p:nvPr/>
        </p:nvPicPr>
        <p:blipFill>
          <a:blip r:embed="rId1"/>
          <a:stretch/>
        </p:blipFill>
        <p:spPr>
          <a:xfrm>
            <a:off x="7086600" y="838080"/>
            <a:ext cx="1579680" cy="20574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28600" y="838080"/>
            <a:ext cx="66294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uniform superposition over a “generic” coset of     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 or even better,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fford group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thwhile even if you don’t demonstrate error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overlook that it’s re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048120" y="1219320"/>
          <a:ext cx="5126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219320"/>
                    <a:ext cx="512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49528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-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I/512 +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3657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ew test of QM: are all states tree st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8600" y="4267080"/>
            <a:ext cx="8763120" cy="2775960"/>
            <a:chOff x="228600" y="4267080"/>
            <a:chExt cx="8763120" cy="2775960"/>
          </a:xfrm>
        </p:grpSpPr>
        <p:sp>
          <p:nvSpPr>
            <p:cNvPr id="359" name=""/>
            <p:cNvSpPr/>
            <p:nvPr/>
          </p:nvSpPr>
          <p:spPr>
            <a:xfrm>
              <a:off x="380880" y="4267080"/>
              <a:ext cx="8534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What’s been don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5-qubit codeword in liquid NMR</a:t>
              </a:r>
              <a:br>
                <a:rPr sz="30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Knill, Laflamme, Martinez, Negrevergne, quant-ph/0101034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0" name=""/>
            <p:cNvGraphicFramePr/>
            <p:nvPr/>
          </p:nvGraphicFramePr>
          <p:xfrm>
            <a:off x="228600" y="5181480"/>
            <a:ext cx="8763120" cy="868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" y="5181480"/>
                      <a:ext cx="8763120" cy="8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6477120" y="609588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S(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6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Tree Size Upper Bounds for Coset States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1371600"/>
          <a:ext cx="8534520" cy="51577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15960"/>
                <a:gridCol w="60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2362320" y="838080"/>
            <a:ext cx="487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(# of nonzero amplitu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600200"/>
            <a:ext cx="380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f qubi 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15000" y="2133720"/>
            <a:ext cx="2895480" cy="167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Hardest” cases (to left, use naïve strategy; to right, Fourier strateg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495320" y="3733920"/>
            <a:ext cx="12193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For Clifford Group States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371600"/>
          <a:ext cx="8610480" cy="5138640"/>
        </p:xfrm>
        <a:graphic>
          <a:graphicData uri="http://schemas.openxmlformats.org/drawingml/2006/table">
            <a:tbl>
              <a:tblPr/>
              <a:tblGrid>
                <a:gridCol w="620640"/>
                <a:gridCol w="620640"/>
                <a:gridCol w="621000"/>
                <a:gridCol w="618840"/>
                <a:gridCol w="621000"/>
                <a:gridCol w="620640"/>
                <a:gridCol w="620640"/>
                <a:gridCol w="620640"/>
                <a:gridCol w="620640"/>
                <a:gridCol w="621000"/>
                <a:gridCol w="618840"/>
                <a:gridCol w="621000"/>
                <a:gridCol w="626760"/>
                <a:gridCol w="5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9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6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2209680" y="838080"/>
            <a:ext cx="49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(# of nonzero amplitu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1600200"/>
            <a:ext cx="380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f qubi 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our Objec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1397160"/>
          <a:ext cx="7924680" cy="49273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heore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ac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0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hys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: QC’s can’t be built for fundamental r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: QC’s can’t be built for engineering reas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lgorith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: Speedup is of limited theoretical inte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: Speedup is of limited practical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72880" y="1066680"/>
            <a:ext cx="28958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2209680"/>
            <a:ext cx="2590920" cy="20574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990720"/>
            <a:ext cx="8534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tree-size lower b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ound for Shor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des (i.e. Reed-Solo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lower bounds for (say) n=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to mix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tree states and orthogonal tre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-learn multilinear formulas?  TreeBQP=BP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ree states already created in solid st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27432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mportant for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477120" y="31240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1523880"/>
            <a:ext cx="86104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theory is relevant for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peri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uantum st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erves further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skeptics can strengthen their case (and help us) by proposing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ure/Shor sepa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experiments will test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quantum mechanics itsel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fundamentally new 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(A): QC’s can’t be built for fundamental reason—Levin’s arguments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levin" descr=""/>
          <p:cNvPicPr/>
          <p:nvPr/>
        </p:nvPicPr>
        <p:blipFill>
          <a:blip r:embed="rId1"/>
          <a:stretch/>
        </p:blipFill>
        <p:spPr>
          <a:xfrm>
            <a:off x="7467480" y="990720"/>
            <a:ext cx="147168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447920"/>
            <a:ext cx="723888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Analogy to unit-cost arithmetic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Error-correction and fault-tolerance address only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rel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r in amplitudes, not absol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3) “We have never seen a physical law valid to over a dozen decimal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4) If a quantum computer failed, we couldn’t measure its state to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pro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breakdown of QM—so no Nobel pr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41008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The present attitude is analogous to, say, Maxwell selling the Daemon of his famous thought experiment as a path to cheaper electricity from heat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ponses 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861048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ty in amplitudes more benign than in measurable quantities—should we dismis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ilities of order 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-1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QM’s successor won’t lift us to PSPACE, rather than knock us down to BP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lsify QM, would suffice to show QC is i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 far from 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i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E.g. Fitch &amp; Cronin won 1980 Physics Nobel “merely” for showing CP symmetry is vi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486400"/>
            <a:ext cx="8763120" cy="94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al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far should we extrapolate from today’s experiments to where QM hasn’t been te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Good Is The Evidence for QM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990720"/>
            <a:ext cx="8839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erfer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bility of 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bits, double-sli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ntangle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l inequality, GHZ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chr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nger ca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uble-slit experiment, superconductivity, quantum Hall effec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uckyball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14800" y="3352680"/>
            <a:ext cx="0" cy="53352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6400800"/>
            <a:ext cx="0" cy="45720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371600" y="4419360"/>
            <a:ext cx="2286000" cy="53316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5257800"/>
            <a:ext cx="2286000" cy="5335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1805040" cy="41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00800" y="3352680"/>
            <a:ext cx="0" cy="350532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uckyball" descr=""/>
          <p:cNvPicPr/>
          <p:nvPr/>
        </p:nvPicPr>
        <p:blipFill>
          <a:blip r:embed="rId3"/>
          <a:stretch/>
        </p:blipFill>
        <p:spPr>
          <a:xfrm>
            <a:off x="533520" y="464832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95680" y="4419720"/>
            <a:ext cx="914400" cy="22860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648320"/>
            <a:ext cx="685800" cy="38088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495680" y="4038480"/>
            <a:ext cx="838440" cy="763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19720" y="3580920"/>
            <a:ext cx="838080" cy="38124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uckyball" descr=""/>
          <p:cNvPicPr/>
          <p:nvPr/>
        </p:nvPicPr>
        <p:blipFill>
          <a:blip r:embed="rId4"/>
          <a:stretch/>
        </p:blipFill>
        <p:spPr>
          <a:xfrm>
            <a:off x="3657600" y="541008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95680" y="5867280"/>
            <a:ext cx="914400" cy="22860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6095880"/>
            <a:ext cx="685800" cy="38124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5486400"/>
            <a:ext cx="838440" cy="763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9720" y="5029200"/>
            <a:ext cx="838080" cy="38088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886200"/>
            <a:ext cx="106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99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943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ndt et al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1:680-682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lternatives to Q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4" name="wolfram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86000" cy="3051000"/>
          </a:xfrm>
          <a:prstGeom prst="rect">
            <a:avLst/>
          </a:prstGeom>
          <a:ln w="0">
            <a:noFill/>
          </a:ln>
        </p:spPr>
      </p:pic>
      <p:pic>
        <p:nvPicPr>
          <p:cNvPr id="85" name="thooft-award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2112840" cy="3048120"/>
          </a:xfrm>
          <a:prstGeom prst="rect">
            <a:avLst/>
          </a:prstGeom>
          <a:ln w="0">
            <a:noFill/>
          </a:ln>
        </p:spPr>
      </p:pic>
      <p:pic>
        <p:nvPicPr>
          <p:cNvPr id="86" name="penrose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2903400" cy="289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510552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ger Penro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5105520"/>
            <a:ext cx="2895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ard ‘t Hooft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 King of Swe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10552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Wolfr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228600" y="228600"/>
            <a:ext cx="8610480" cy="6553080"/>
            <a:chOff x="228600" y="228600"/>
            <a:chExt cx="8610480" cy="6553080"/>
          </a:xfrm>
        </p:grpSpPr>
        <p:sp>
          <p:nvSpPr>
            <p:cNvPr id="91" name=""/>
            <p:cNvSpPr/>
            <p:nvPr/>
          </p:nvSpPr>
          <p:spPr>
            <a:xfrm>
              <a:off x="228600" y="228600"/>
              <a:ext cx="8610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Exactly what property separates the </a:t>
              </a:r>
              <a:r>
                <a:rPr b="1" lang="en-US" sz="4200" spc="-1" strike="noStrike">
                  <a:solidFill>
                    <a:srgbClr val="3333cc"/>
                  </a:solidFill>
                  <a:latin typeface="Arial"/>
                </a:rPr>
                <a:t>Sure States</a:t>
              </a: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 we know we can create, from the </a:t>
              </a:r>
              <a:r>
                <a:rPr b="1" lang="en-US" sz="4200" spc="-1" strike="noStrike">
                  <a:solidFill>
                    <a:srgbClr val="3333cc"/>
                  </a:solidFill>
                  <a:latin typeface="Arial"/>
                </a:rPr>
                <a:t>Shor States</a:t>
              </a: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 that suffice for factoring?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science" descr=""/>
            <p:cNvPicPr/>
            <p:nvPr/>
          </p:nvPicPr>
          <p:blipFill>
            <a:blip r:embed="rId1"/>
            <a:stretch/>
          </p:blipFill>
          <p:spPr>
            <a:xfrm>
              <a:off x="609480" y="3962520"/>
              <a:ext cx="1440000" cy="24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nature" descr=""/>
            <p:cNvPicPr/>
            <p:nvPr/>
          </p:nvPicPr>
          <p:blipFill>
            <a:blip r:embed="rId2"/>
            <a:stretch/>
          </p:blipFill>
          <p:spPr>
            <a:xfrm>
              <a:off x="2133720" y="3429000"/>
              <a:ext cx="12776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shor" descr=""/>
            <p:cNvPicPr/>
            <p:nvPr/>
          </p:nvPicPr>
          <p:blipFill>
            <a:blip r:embed="rId3"/>
            <a:stretch/>
          </p:blipFill>
          <p:spPr>
            <a:xfrm>
              <a:off x="6477120" y="3200400"/>
              <a:ext cx="2133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191120" y="2971800"/>
              <a:ext cx="533160" cy="3809880"/>
            </a:xfrm>
            <a:custGeom>
              <a:avLst/>
              <a:gdLst/>
              <a:ahLst/>
              <a:rect l="l" t="t" r="r" b="b"/>
              <a:pathLst>
                <a:path w="336" h="2400">
                  <a:moveTo>
                    <a:pt x="0" y="2400"/>
                  </a:moveTo>
                  <a:lnTo>
                    <a:pt x="240" y="2304"/>
                  </a:lnTo>
                  <a:lnTo>
                    <a:pt x="48" y="2160"/>
                  </a:lnTo>
                  <a:lnTo>
                    <a:pt x="240" y="2016"/>
                  </a:lnTo>
                  <a:lnTo>
                    <a:pt x="48" y="1920"/>
                  </a:lnTo>
                  <a:lnTo>
                    <a:pt x="288" y="1824"/>
                  </a:lnTo>
                  <a:lnTo>
                    <a:pt x="48" y="1680"/>
                  </a:lnTo>
                  <a:lnTo>
                    <a:pt x="288" y="1536"/>
                  </a:lnTo>
                  <a:lnTo>
                    <a:pt x="0" y="1440"/>
                  </a:lnTo>
                  <a:lnTo>
                    <a:pt x="240" y="1296"/>
                  </a:lnTo>
                  <a:lnTo>
                    <a:pt x="0" y="1200"/>
                  </a:lnTo>
                  <a:lnTo>
                    <a:pt x="336" y="1008"/>
                  </a:lnTo>
                  <a:lnTo>
                    <a:pt x="0" y="960"/>
                  </a:lnTo>
                  <a:lnTo>
                    <a:pt x="240" y="864"/>
                  </a:lnTo>
                  <a:lnTo>
                    <a:pt x="48" y="768"/>
                  </a:lnTo>
                  <a:lnTo>
                    <a:pt x="288" y="624"/>
                  </a:lnTo>
                  <a:lnTo>
                    <a:pt x="48" y="480"/>
                  </a:lnTo>
                  <a:lnTo>
                    <a:pt x="336" y="432"/>
                  </a:lnTo>
                  <a:lnTo>
                    <a:pt x="0" y="288"/>
                  </a:lnTo>
                  <a:lnTo>
                    <a:pt x="336" y="192"/>
                  </a:lnTo>
                  <a:lnTo>
                    <a:pt x="0" y="96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400000">
              <a:off x="3215160" y="4555440"/>
              <a:ext cx="35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DIVIDING LI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2438280"/>
            <a:ext cx="8610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520"/>
            <a:ext cx="8305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My View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y good argument for why quantum computing is impossible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mu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swer this question—but I haven’t seen any that 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362320"/>
            <a:ext cx="861048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What I’ll 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te a complexity theory of (pure) quantum states, that studies possible Sure/Shor separa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e a superpolynomial lower bound on “tree size” of states arising in quantum error corre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 an NMR experiment to create states with large tree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17:21:42Z</dcterms:created>
  <dc:creator>aaronson</dc:creator>
  <dc:description/>
  <dc:language>en-US</dc:language>
  <cp:lastModifiedBy>Scott Aaronson</cp:lastModifiedBy>
  <dcterms:modified xsi:type="dcterms:W3CDTF">2003-11-03T21:03:03Z</dcterms:modified>
  <cp:revision>50</cp:revision>
  <dc:subject/>
  <dc:title>Multilinear Formulas and Skepticism of Quantum Computing</dc:title>
</cp:coreProperties>
</file>