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103E-1322-40B3-8928-9DC6B8A80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EF04-E5A8-43BF-8EE1-30FBBACE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B6C2-7FC6-4F36-A6FD-11BBDC219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17AB-C7E6-415B-8145-9C888E95E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6DD9-922C-4BE7-9D87-6227CC98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8660-1940-4A3F-8702-712B4031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CA59-70A8-466C-984E-270F3ABB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5947-CCD7-48A1-8F89-01211B6F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D3FC-D12A-4AC8-93A3-92CE5E88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7F22-7266-4E9A-998C-434B017B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48C4-5BE3-42C9-9A28-F920BC84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33EA-09F3-4175-AF87-FE883E2D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7997-20BF-452C-B391-EEF5DC255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7339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733920"/>
            <a:ext cx="9144000" cy="3124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558880" y="3733920"/>
            <a:ext cx="4800600" cy="3182760"/>
            <a:chOff x="2558880" y="3733920"/>
            <a:chExt cx="4800600" cy="3182760"/>
          </a:xfrm>
        </p:grpSpPr>
        <p:sp>
          <p:nvSpPr>
            <p:cNvPr id="44" name=""/>
            <p:cNvSpPr/>
            <p:nvPr/>
          </p:nvSpPr>
          <p:spPr>
            <a:xfrm flipV="1">
              <a:off x="2558880" y="3733920"/>
              <a:ext cx="4800600" cy="3124080"/>
            </a:xfrm>
            <a:custGeom>
              <a:avLst/>
              <a:gdLst>
                <a:gd name="textAreaLeft" fmla="*/ 1650960 w 4800600"/>
                <a:gd name="textAreaRight" fmla="*/ 3149640 w 4800600"/>
                <a:gd name="textAreaTop" fmla="*/ 1074240 h 3124080"/>
                <a:gd name="textAreaBottom" fmla="*/ 2049840 h 312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1379" y="21600"/>
                  </a:lnTo>
                  <a:lnTo>
                    <a:pt x="10221" y="2160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63680" y="3792600"/>
              <a:ext cx="0" cy="3124080"/>
            </a:xfrm>
            <a:prstGeom prst="line">
              <a:avLst/>
            </a:prstGeom>
            <a:ln w="7632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6172200" y="1447920"/>
            <a:ext cx="2514600" cy="4190760"/>
            <a:chOff x="6172200" y="1447920"/>
            <a:chExt cx="2514600" cy="4190760"/>
          </a:xfrm>
        </p:grpSpPr>
        <p:sp>
          <p:nvSpPr>
            <p:cNvPr id="47" name=""/>
            <p:cNvSpPr/>
            <p:nvPr/>
          </p:nvSpPr>
          <p:spPr>
            <a:xfrm>
              <a:off x="6172200" y="1447920"/>
              <a:ext cx="2514600" cy="2590560"/>
            </a:xfrm>
            <a:custGeom>
              <a:avLst/>
              <a:gdLst>
                <a:gd name="textAreaLeft" fmla="*/ 122760 w 2514600"/>
                <a:gd name="textAreaRight" fmla="*/ 2391840 w 2514600"/>
                <a:gd name="textAreaTop" fmla="*/ 122760 h 2590560"/>
                <a:gd name="textAreaBottom" fmla="*/ 2467800 h 2590560"/>
              </a:gdLst>
              <a:ahLst/>
              <a:rect l="textAreaLeft" t="textAreaTop" r="textAreaRight" b="textAreaBottom"/>
              <a:pathLst>
                <a:path w="21600" h="22252">
                  <a:moveTo>
                    <a:pt x="3600" y="0"/>
                  </a:moveTo>
                  <a:arcTo wR="3600" hR="3600" stAng="16200000" swAng="-5400000"/>
                  <a:lnTo>
                    <a:pt x="0" y="18652"/>
                  </a:lnTo>
                  <a:arcTo wR="3600" hR="3600" stAng="10800000" swAng="-5400000"/>
                  <a:lnTo>
                    <a:pt x="18000" y="2225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391520" y="4038480"/>
              <a:ext cx="0" cy="1600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324480" y="1676520"/>
              <a:ext cx="213372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"/>
                </a:rPr>
                <a:t>SPEED LIMIT </a:t>
              </a:r>
              <a:r>
                <a:rPr b="1" lang="en-US" sz="4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</a:t>
              </a:r>
              <a:r>
                <a:rPr b="1" lang="en-US" sz="45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Arial"/>
              </a:rPr>
              <a:t>Quantum Lower Bounds</a:t>
            </a:r>
            <a:br>
              <a:rPr sz="50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cott Aaronson (UC Berkeley)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ugust 29, 2002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Lower Bound Method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2952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1447920"/>
            <a:ext cx="7848720" cy="32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Hybrid Method</a:t>
            </a:r>
            <a:br>
              <a:rPr sz="3000"/>
            </a:b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nett, Bernstein, Brassard, Vazirani 19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Polynomial Method</a:t>
            </a:r>
            <a:br>
              <a:rPr sz="3000"/>
            </a:b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ls, Buhrman, Cleve, Mosca, de Wolf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Adversary Method</a:t>
            </a:r>
            <a:br>
              <a:rPr sz="3000"/>
            </a:b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bainis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5105520"/>
            <a:ext cx="7696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’ll skip (1), and prove search lower bound with (2) and again (3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Polynomial Method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1295280"/>
            <a:ext cx="2819520" cy="119124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um algorithm that computes f with few qu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114800" y="1295280"/>
            <a:ext cx="4495680" cy="1191240"/>
            <a:chOff x="4114800" y="1295280"/>
            <a:chExt cx="4495680" cy="1191240"/>
          </a:xfrm>
        </p:grpSpPr>
        <p:sp>
          <p:nvSpPr>
            <p:cNvPr id="89" name=""/>
            <p:cNvSpPr/>
            <p:nvPr/>
          </p:nvSpPr>
          <p:spPr>
            <a:xfrm>
              <a:off x="6248520" y="1295280"/>
              <a:ext cx="2361960" cy="11912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w-degree polynomial approximating 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14800" y="1828800"/>
              <a:ext cx="2133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6400800" y="2514600"/>
            <a:ext cx="2057400" cy="3065760"/>
            <a:chOff x="6400800" y="2514600"/>
            <a:chExt cx="2057400" cy="3065760"/>
          </a:xfrm>
        </p:grpSpPr>
        <p:sp>
          <p:nvSpPr>
            <p:cNvPr id="92" name=""/>
            <p:cNvSpPr/>
            <p:nvPr/>
          </p:nvSpPr>
          <p:spPr>
            <a:xfrm>
              <a:off x="6400800" y="3657600"/>
              <a:ext cx="2057400" cy="1922760"/>
            </a:xfrm>
            <a:prstGeom prst="rect">
              <a:avLst/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w-degre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univariat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polynomial with large deriva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391520" y="2514600"/>
              <a:ext cx="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762120" y="3124080"/>
            <a:ext cx="5632200" cy="3505320"/>
            <a:chOff x="762120" y="3124080"/>
            <a:chExt cx="5632200" cy="3505320"/>
          </a:xfrm>
        </p:grpSpPr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3962520" y="4191120"/>
              <a:ext cx="243180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762120" y="4876920"/>
              <a:ext cx="3124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Our Mathematician Frien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1218600" y="3124080"/>
              <a:ext cx="2819160" cy="1295640"/>
            </a:xfrm>
            <a:prstGeom prst="wedgeRoundRectCallout">
              <a:avLst>
                <a:gd name="adj1" fmla="val -44087"/>
                <a:gd name="adj2" fmla="val 70828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95280" y="3200400"/>
              <a:ext cx="27432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990000"/>
                  </a:solidFill>
                  <a:latin typeface="Arial"/>
                </a:rPr>
                <a:t>I can prove this can’t exist!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3520" y="457200"/>
            <a:ext cx="7924680" cy="21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variate polynomial p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roxim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 if for every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p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–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g(f) = minimum degree of polynomial th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imates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91440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33520" y="2057400"/>
            <a:ext cx="8229600" cy="4442760"/>
            <a:chOff x="533520" y="2057400"/>
            <a:chExt cx="8229600" cy="4442760"/>
          </a:xfrm>
        </p:grpSpPr>
        <p:sp>
          <p:nvSpPr>
            <p:cNvPr id="102" name=""/>
            <p:cNvSpPr/>
            <p:nvPr/>
          </p:nvSpPr>
          <p:spPr>
            <a:xfrm>
              <a:off x="533520" y="2743200"/>
              <a:ext cx="8229600" cy="37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Proposition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Q(f)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deg(f)/2 for all 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2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Proof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Initially, amplitude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i,z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of each |i,z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is a degree-0 multilinear polynomial in 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…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2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 query replaces each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i,z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by (1-2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i,z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 increasing its degree by 1.  The U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’s can’t increase degre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2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t the end, squaring amplitudes doubles degre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33920" y="2057400"/>
              <a:ext cx="6858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ymmetrization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1143000"/>
            <a:ext cx="8534160" cy="56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polynomial p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of degree d, 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position (Minsky-Papert 1968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(k) is a univariate polynomial in k, with degree at most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of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t X=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|X|=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…+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more, for some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is a polynomial in |X| of degree 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666880" y="5257800"/>
          <a:ext cx="426744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5257800"/>
                    <a:ext cx="426744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190600" y="4038480"/>
          <a:ext cx="5349960" cy="8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0600" y="4038480"/>
                    <a:ext cx="534996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940120" y="1676520"/>
          <a:ext cx="4178160" cy="75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40120" y="1676520"/>
                    <a:ext cx="417816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Markov’s Inequality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p be a polynomial bounded in [0,b] in the interval [0,a], that has derivative at least c somewhere in that interval. 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733920" y="2895480"/>
          <a:ext cx="3833640" cy="17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895480"/>
                    <a:ext cx="3833640" cy="17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533520" y="4876920"/>
            <a:ext cx="678168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4991040"/>
            <a:ext cx="6781680" cy="722520"/>
          </a:xfrm>
          <a:custGeom>
            <a:avLst/>
            <a:gdLst/>
            <a:ahLst/>
            <a:rect l="l" t="t" r="r" b="b"/>
            <a:pathLst>
              <a:path w="4272" h="455">
                <a:moveTo>
                  <a:pt x="0" y="384"/>
                </a:moveTo>
                <a:cubicBezTo>
                  <a:pt x="108" y="386"/>
                  <a:pt x="477" y="455"/>
                  <a:pt x="646" y="397"/>
                </a:cubicBezTo>
                <a:cubicBezTo>
                  <a:pt x="815" y="339"/>
                  <a:pt x="835" y="76"/>
                  <a:pt x="1014" y="38"/>
                </a:cubicBezTo>
                <a:cubicBezTo>
                  <a:pt x="1193" y="0"/>
                  <a:pt x="1480" y="173"/>
                  <a:pt x="1722" y="170"/>
                </a:cubicBezTo>
                <a:cubicBezTo>
                  <a:pt x="1964" y="167"/>
                  <a:pt x="2196" y="27"/>
                  <a:pt x="2468" y="19"/>
                </a:cubicBezTo>
                <a:cubicBezTo>
                  <a:pt x="2740" y="11"/>
                  <a:pt x="3055" y="126"/>
                  <a:pt x="3356" y="123"/>
                </a:cubicBezTo>
                <a:cubicBezTo>
                  <a:pt x="3657" y="120"/>
                  <a:pt x="4081" y="26"/>
                  <a:pt x="4272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35720" y="5867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93320" y="5029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33520" y="60958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60958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438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543800" y="4876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44760" y="4751280"/>
            <a:ext cx="269640" cy="585720"/>
          </a:xfrm>
          <a:custGeom>
            <a:avLst/>
            <a:gdLst/>
            <a:ahLst/>
            <a:rect l="l" t="t" r="r" b="b"/>
            <a:pathLst>
              <a:path w="170" h="369">
                <a:moveTo>
                  <a:pt x="0" y="0"/>
                </a:moveTo>
                <a:lnTo>
                  <a:pt x="170" y="36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Approximate Degree of OR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905120"/>
            <a:ext cx="80773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lynomial q(k) has q(0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3 and q(1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/3, so |q’(k)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3 for some 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0,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q represents acceptance probability, q(k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0,1] for integers 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0…n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non-integer k?  If q strays h away from [0,1], then |q’(k)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h some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by Markov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295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hlich-Zeller 1964 / Rivlin-Cheney 1966 / Nisan-Szegedy 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14760" y="3340080"/>
          <a:ext cx="11448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4008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971800" y="5257800"/>
          <a:ext cx="5738760" cy="117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5257800"/>
                    <a:ext cx="573876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2895480" y="5181480"/>
            <a:ext cx="5867640" cy="13716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What Else The Polynomial Method Gives U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1828800"/>
            <a:ext cx="777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7543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(Parit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nd Q(Majorit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n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oolean f, Q(f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(f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Q(f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(f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f f is monot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Adversary Method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324480" y="1066680"/>
            <a:ext cx="2225520" cy="2742840"/>
            <a:chOff x="6324480" y="1066680"/>
            <a:chExt cx="2225520" cy="2742840"/>
          </a:xfrm>
        </p:grpSpPr>
        <p:sp>
          <p:nvSpPr>
            <p:cNvPr id="139" name=""/>
            <p:cNvSpPr/>
            <p:nvPr/>
          </p:nvSpPr>
          <p:spPr>
            <a:xfrm>
              <a:off x="6787800" y="1139040"/>
              <a:ext cx="1609920" cy="165744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83280" y="1368720"/>
              <a:ext cx="1121040" cy="117144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50680" y="2870640"/>
              <a:ext cx="990000" cy="19332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069680" y="1557720"/>
              <a:ext cx="406440" cy="37080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94280" y="2014200"/>
              <a:ext cx="253800" cy="3517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63360" y="3299400"/>
              <a:ext cx="2171160" cy="48708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92120" y="3017520"/>
              <a:ext cx="1662840" cy="47520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24840" y="2793600"/>
              <a:ext cx="903240" cy="20916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38360" y="1434240"/>
              <a:ext cx="421560" cy="14011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56440" y="2574000"/>
              <a:ext cx="804240" cy="13788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88240" y="1281600"/>
              <a:ext cx="1244160" cy="121212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853040" y="3096000"/>
              <a:ext cx="534600" cy="2034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057160" y="3191760"/>
              <a:ext cx="262440" cy="12348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43560" y="3646800"/>
              <a:ext cx="2164680" cy="14508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66920" y="2949120"/>
              <a:ext cx="1714680" cy="143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392680" y="2963880"/>
              <a:ext cx="108360" cy="54648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39360" y="3110400"/>
              <a:ext cx="50040" cy="18324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60240" y="3085920"/>
              <a:ext cx="536400" cy="464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46000" y="3184560"/>
              <a:ext cx="302760" cy="9144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62160" y="3240000"/>
              <a:ext cx="1637640" cy="12060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17720" y="3603240"/>
              <a:ext cx="1492560" cy="928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345160" y="3341520"/>
              <a:ext cx="198000" cy="30672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435520" y="3677400"/>
              <a:ext cx="114480" cy="11628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78840" y="3720960"/>
              <a:ext cx="2094480" cy="88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72320" y="3355920"/>
              <a:ext cx="1117080" cy="12204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16520" y="3466440"/>
              <a:ext cx="812520" cy="9000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47440" y="3440520"/>
              <a:ext cx="245520" cy="4932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01800" y="3506040"/>
              <a:ext cx="248400" cy="4320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122680" y="3581640"/>
              <a:ext cx="286200" cy="5220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33440" y="1066680"/>
              <a:ext cx="1524600" cy="43308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09880" y="1101600"/>
              <a:ext cx="156240" cy="2455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206560" y="1312200"/>
              <a:ext cx="263520" cy="144036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37080" y="1195560"/>
              <a:ext cx="170280" cy="130536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732000" y="1534680"/>
              <a:ext cx="293040" cy="121680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54560" y="2758680"/>
              <a:ext cx="959040" cy="6228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033400" y="2761560"/>
              <a:ext cx="181440" cy="6804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50680" y="2774520"/>
              <a:ext cx="146520" cy="20664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67160" y="2963880"/>
              <a:ext cx="70920" cy="9396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867080" y="2770200"/>
              <a:ext cx="212400" cy="1350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08640" y="2870640"/>
              <a:ext cx="34920" cy="12060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132680" y="2619360"/>
              <a:ext cx="45720" cy="1015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137000" y="2556720"/>
              <a:ext cx="846000" cy="8712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59240" y="2561040"/>
              <a:ext cx="33480" cy="11628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784640" y="2606040"/>
              <a:ext cx="32040" cy="88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25880" y="2604600"/>
              <a:ext cx="39960" cy="88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42640" y="2598840"/>
              <a:ext cx="37440" cy="928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83520" y="2608920"/>
              <a:ext cx="40320" cy="9864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750080" y="1370520"/>
              <a:ext cx="304200" cy="1350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02280" y="1786320"/>
              <a:ext cx="244440" cy="72072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43840" y="2401200"/>
              <a:ext cx="871200" cy="13356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58160" y="1335600"/>
              <a:ext cx="180000" cy="11221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38160" y="3283560"/>
              <a:ext cx="307080" cy="36612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3625200"/>
              <a:ext cx="89280" cy="12924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00840" y="1324080"/>
              <a:ext cx="1190880" cy="33984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79320" y="1424160"/>
              <a:ext cx="485640" cy="56700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55760" y="3068280"/>
              <a:ext cx="43200" cy="19044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3733920" y="2209680"/>
            <a:ext cx="25905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733920" y="2819520"/>
            <a:ext cx="25905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04920" y="1371600"/>
            <a:ext cx="3276360" cy="4114800"/>
            <a:chOff x="304920" y="1371600"/>
            <a:chExt cx="3276360" cy="4114800"/>
          </a:xfrm>
        </p:grpSpPr>
        <p:graphicFrame>
          <p:nvGraphicFramePr>
            <p:cNvPr id="198" name=""/>
            <p:cNvGraphicFramePr/>
            <p:nvPr/>
          </p:nvGraphicFramePr>
          <p:xfrm>
            <a:off x="685440" y="1800360"/>
            <a:ext cx="2438280" cy="131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440" y="1800360"/>
                      <a:ext cx="2438280" cy="13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0" name=""/>
            <p:cNvSpPr/>
            <p:nvPr/>
          </p:nvSpPr>
          <p:spPr>
            <a:xfrm>
              <a:off x="304920" y="1371600"/>
              <a:ext cx="3276360" cy="2438280"/>
            </a:xfrm>
            <a:prstGeom prst="cloudCallout">
              <a:avLst>
                <a:gd name="adj1" fmla="val -36967"/>
                <a:gd name="adj2" fmla="val 93361"/>
              </a:avLst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0880" y="3809880"/>
              <a:ext cx="1218600" cy="167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228600" y="3962520"/>
            <a:ext cx="8686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algorithm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perposition of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bipartite state: (1) input and (2) algorithm work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ly, these systems ar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nentang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end, must b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ghly entang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e entanglement can’t increase much by one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28600" y="1219320"/>
            <a:ext cx="8686800" cy="25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input with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 1, all others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 algorith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as inp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track of density matri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p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Applying This To Search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081240" y="1828800"/>
          <a:ext cx="1762200" cy="109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81240" y="1828800"/>
                    <a:ext cx="176220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7" name=""/>
          <p:cNvGrpSpPr/>
          <p:nvPr/>
        </p:nvGrpSpPr>
        <p:grpSpPr>
          <a:xfrm>
            <a:off x="304920" y="3733920"/>
            <a:ext cx="2103480" cy="2895480"/>
            <a:chOff x="304920" y="3733920"/>
            <a:chExt cx="2103480" cy="2895480"/>
          </a:xfrm>
        </p:grpSpPr>
        <p:graphicFrame>
          <p:nvGraphicFramePr>
            <p:cNvPr id="208" name=""/>
            <p:cNvGraphicFramePr/>
            <p:nvPr/>
          </p:nvGraphicFramePr>
          <p:xfrm>
            <a:off x="609480" y="4267080"/>
            <a:ext cx="1798920" cy="2362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9480" y="4267080"/>
                      <a:ext cx="179892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0" name=""/>
            <p:cNvSpPr/>
            <p:nvPr/>
          </p:nvSpPr>
          <p:spPr>
            <a:xfrm>
              <a:off x="304920" y="373392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Initial </a:t>
              </a:r>
              <a:r>
                <a:rPr b="1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733920" y="3733920"/>
            <a:ext cx="2452680" cy="2895480"/>
            <a:chOff x="3733920" y="3733920"/>
            <a:chExt cx="2452680" cy="2895480"/>
          </a:xfrm>
        </p:grpSpPr>
        <p:graphicFrame>
          <p:nvGraphicFramePr>
            <p:cNvPr id="212" name=""/>
            <p:cNvGraphicFramePr/>
            <p:nvPr/>
          </p:nvGraphicFramePr>
          <p:xfrm>
            <a:off x="3994200" y="4267080"/>
            <a:ext cx="2192400" cy="2362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994200" y="4267080"/>
                      <a:ext cx="219240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4" name=""/>
            <p:cNvSpPr/>
            <p:nvPr/>
          </p:nvSpPr>
          <p:spPr>
            <a:xfrm>
              <a:off x="3733920" y="373392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Final </a:t>
              </a:r>
              <a:r>
                <a:rPr b="1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257800" y="4114800"/>
            <a:ext cx="3429000" cy="1800360"/>
            <a:chOff x="5257800" y="4114800"/>
            <a:chExt cx="3429000" cy="1800360"/>
          </a:xfrm>
        </p:grpSpPr>
        <p:sp>
          <p:nvSpPr>
            <p:cNvPr id="216" name=""/>
            <p:cNvSpPr/>
            <p:nvPr/>
          </p:nvSpPr>
          <p:spPr>
            <a:xfrm>
              <a:off x="5257800" y="4114800"/>
              <a:ext cx="990720" cy="129528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400800" y="4114800"/>
              <a:ext cx="22860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Arial"/>
                </a:rPr>
                <a:t>Off-diagonal entries must be smal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228600" y="304920"/>
            <a:ext cx="8686800" cy="3319920"/>
            <a:chOff x="228600" y="304920"/>
            <a:chExt cx="8686800" cy="3319920"/>
          </a:xfrm>
        </p:grpSpPr>
        <p:sp>
          <p:nvSpPr>
            <p:cNvPr id="219" name=""/>
            <p:cNvSpPr/>
            <p:nvPr/>
          </p:nvSpPr>
          <p:spPr>
            <a:xfrm>
              <a:off x="228600" y="304920"/>
              <a:ext cx="8686800" cy="331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Let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e sum of off-diagonal entri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 = n-1 initially.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y end, need (say) S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n/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laim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A query can decrease S by at most O(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Proof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Decompose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into pure states, one for each basis state |i,z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of algorithm par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0" name=""/>
            <p:cNvGraphicFramePr/>
            <p:nvPr/>
          </p:nvGraphicFramePr>
          <p:xfrm>
            <a:off x="1066680" y="304920"/>
            <a:ext cx="1662120" cy="930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304920"/>
                      <a:ext cx="1662120" cy="93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22" name=""/>
          <p:cNvGraphicFramePr/>
          <p:nvPr/>
        </p:nvGraphicFramePr>
        <p:xfrm>
          <a:off x="236520" y="3809880"/>
          <a:ext cx="4343400" cy="284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520" y="3809880"/>
                    <a:ext cx="4343400" cy="28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4" name=""/>
          <p:cNvGrpSpPr/>
          <p:nvPr/>
        </p:nvGrpSpPr>
        <p:grpSpPr>
          <a:xfrm>
            <a:off x="1981080" y="3886200"/>
            <a:ext cx="7010640" cy="2666880"/>
            <a:chOff x="1981080" y="3886200"/>
            <a:chExt cx="7010640" cy="2666880"/>
          </a:xfrm>
        </p:grpSpPr>
        <p:sp>
          <p:nvSpPr>
            <p:cNvPr id="225" name=""/>
            <p:cNvSpPr/>
            <p:nvPr/>
          </p:nvSpPr>
          <p:spPr>
            <a:xfrm>
              <a:off x="3279600" y="3886200"/>
              <a:ext cx="324000" cy="2666880"/>
            </a:xfrm>
            <a:custGeom>
              <a:avLst/>
              <a:gdLst>
                <a:gd name="textAreaLeft" fmla="*/ 47160 w 324000"/>
                <a:gd name="textAreaRight" fmla="*/ 276840 w 324000"/>
                <a:gd name="textAreaTop" fmla="*/ 47160 h 2666880"/>
                <a:gd name="textAreaBottom" fmla="*/ 2619720 h 2666880"/>
              </a:gdLst>
              <a:ahLst/>
              <a:rect l="textAreaLeft" t="textAreaTop" r="textAreaRight" b="textAreaBottom"/>
              <a:pathLst>
                <a:path w="21600" h="177619">
                  <a:moveTo>
                    <a:pt x="10800" y="0"/>
                  </a:moveTo>
                  <a:arcTo wR="10800" hR="10800" stAng="16200000" swAng="-5400000"/>
                  <a:lnTo>
                    <a:pt x="0" y="166819"/>
                  </a:lnTo>
                  <a:arcTo wR="10800" hR="10800" stAng="10800000" swAng="-5400000"/>
                  <a:lnTo>
                    <a:pt x="10800" y="17761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6200000">
              <a:off x="3076200" y="4244760"/>
              <a:ext cx="324000" cy="2514600"/>
            </a:xfrm>
            <a:custGeom>
              <a:avLst/>
              <a:gdLst>
                <a:gd name="textAreaLeft" fmla="*/ 47160 w 324000"/>
                <a:gd name="textAreaRight" fmla="*/ 276840 w 324000"/>
                <a:gd name="textAreaTop" fmla="*/ 47160 h 2514600"/>
                <a:gd name="textAreaBottom" fmla="*/ 2467440 h 2514600"/>
              </a:gdLst>
              <a:ahLst/>
              <a:rect l="textAreaLeft" t="textAreaTop" r="textAreaRight" b="textAreaBottom"/>
              <a:pathLst>
                <a:path w="21600" h="167478">
                  <a:moveTo>
                    <a:pt x="10800" y="0"/>
                  </a:moveTo>
                  <a:arcTo wR="10800" hR="10800" stAng="16200000" swAng="-5400000"/>
                  <a:lnTo>
                    <a:pt x="0" y="156678"/>
                  </a:lnTo>
                  <a:arcTo wR="10800" hR="10800" stAng="10800000" swAng="-5400000"/>
                  <a:lnTo>
                    <a:pt x="10800" y="16747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00600" y="3962520"/>
              <a:ext cx="419112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Arial"/>
                </a:rPr>
                <a:t>Querying x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Arial"/>
                </a:rPr>
                <a:t>i</a:t>
              </a:r>
              <a:r>
                <a:rPr b="1" lang="en-US" sz="2800" spc="-1" strike="noStrike">
                  <a:solidFill>
                    <a:srgbClr val="00cc99"/>
                  </a:solidFill>
                  <a:latin typeface="Arial"/>
                </a:rPr>
                <a:t> only affects i</a:t>
              </a:r>
              <a:r>
                <a:rPr b="1" lang="en-US" sz="2800" spc="-1" strike="noStrike" baseline="30000">
                  <a:solidFill>
                    <a:srgbClr val="00cc99"/>
                  </a:solidFill>
                  <a:latin typeface="Arial"/>
                </a:rPr>
                <a:t>th</a:t>
              </a:r>
              <a:r>
                <a:rPr b="1" lang="en-US" sz="2800" spc="-1" strike="noStrike">
                  <a:solidFill>
                    <a:srgbClr val="00cc99"/>
                  </a:solidFill>
                  <a:latin typeface="Arial"/>
                </a:rPr>
                <a:t> row and i</a:t>
              </a:r>
              <a:r>
                <a:rPr b="1" lang="en-US" sz="2800" spc="-1" strike="noStrike" baseline="30000">
                  <a:solidFill>
                    <a:srgbClr val="00cc99"/>
                  </a:solidFill>
                  <a:latin typeface="Arial"/>
                </a:rPr>
                <a:t>th</a:t>
              </a:r>
              <a:r>
                <a:rPr b="1" lang="en-US" sz="2800" spc="-1" strike="noStrike">
                  <a:solidFill>
                    <a:srgbClr val="00cc99"/>
                  </a:solidFill>
                  <a:latin typeface="Arial"/>
                </a:rPr>
                <a:t> colum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276720" y="3886200"/>
            <a:ext cx="5333760" cy="2666880"/>
            <a:chOff x="3276720" y="3886200"/>
            <a:chExt cx="5333760" cy="2666880"/>
          </a:xfrm>
        </p:grpSpPr>
        <p:sp>
          <p:nvSpPr>
            <p:cNvPr id="229" name=""/>
            <p:cNvSpPr/>
            <p:nvPr/>
          </p:nvSpPr>
          <p:spPr>
            <a:xfrm>
              <a:off x="3276720" y="3886200"/>
              <a:ext cx="323640" cy="2666880"/>
            </a:xfrm>
            <a:custGeom>
              <a:avLst/>
              <a:gdLst>
                <a:gd name="textAreaLeft" fmla="*/ 47160 w 323640"/>
                <a:gd name="textAreaRight" fmla="*/ 276480 w 323640"/>
                <a:gd name="textAreaTop" fmla="*/ 47160 h 2666880"/>
                <a:gd name="textAreaBottom" fmla="*/ 2619720 h 2666880"/>
              </a:gdLst>
              <a:ahLst/>
              <a:rect l="textAreaLeft" t="textAreaTop" r="textAreaRight" b="textAreaBottom"/>
              <a:pathLst>
                <a:path w="21600" h="177816">
                  <a:moveTo>
                    <a:pt x="10800" y="0"/>
                  </a:moveTo>
                  <a:arcTo wR="10800" hR="10800" stAng="16200000" swAng="-5400000"/>
                  <a:lnTo>
                    <a:pt x="0" y="167016"/>
                  </a:lnTo>
                  <a:arcTo wR="10800" hR="10800" stAng="10800000" swAng="-5400000"/>
                  <a:lnTo>
                    <a:pt x="10800" y="17781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00600" y="5105520"/>
              <a:ext cx="38098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00"/>
                  </a:solidFill>
                  <a:latin typeface="Arial"/>
                </a:rPr>
                <a:t>By Cauchy-Schwarz, each row or column sums to at most </a:t>
              </a:r>
              <a:r>
                <a:rPr b="1" lang="en-US" sz="28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</a:t>
              </a:r>
              <a:r>
                <a:rPr b="1" lang="en-US" sz="2800" spc="-1" strike="noStrike">
                  <a:solidFill>
                    <a:srgbClr val="990000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aay2" descr=""/>
          <p:cNvPicPr/>
          <p:nvPr/>
        </p:nvPicPr>
        <p:blipFill>
          <a:blip r:embed="rId1"/>
          <a:srcRect l="8502" t="6668" r="30999" b="0"/>
          <a:stretch/>
        </p:blipFill>
        <p:spPr>
          <a:xfrm>
            <a:off x="-76320" y="0"/>
            <a:ext cx="9220320" cy="10667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457200"/>
            <a:ext cx="396252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ris Ambain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1143000"/>
            <a:ext cx="30456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38680" y="1447920"/>
            <a:ext cx="2590920" cy="916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 Can’t Believe It’s Not Andri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34320" y="2362320"/>
            <a:ext cx="38088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Depth-2 Game-Tree Search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57200" y="4343400"/>
            <a:ext cx="8686800" cy="2276280"/>
            <a:chOff x="457200" y="4343400"/>
            <a:chExt cx="8686800" cy="2276280"/>
          </a:xfrm>
        </p:grpSpPr>
        <p:sp>
          <p:nvSpPr>
            <p:cNvPr id="233" name=""/>
            <p:cNvSpPr/>
            <p:nvPr/>
          </p:nvSpPr>
          <p:spPr>
            <a:xfrm>
              <a:off x="457200" y="4419720"/>
              <a:ext cx="8686800" cy="21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cursive Grover” gives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With polynomial method, only know how to get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Q(GameTree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) =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(n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Arial"/>
                </a:rPr>
                <a:t>1/4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Adversary method gives Q(GameTree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) =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n)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4" name=""/>
            <p:cNvGraphicFramePr/>
            <p:nvPr/>
          </p:nvGraphicFramePr>
          <p:xfrm>
            <a:off x="4419360" y="4343400"/>
            <a:ext cx="4038840" cy="650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19360" y="4343400"/>
                      <a:ext cx="4038840" cy="65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6" name=""/>
          <p:cNvSpPr/>
          <p:nvPr/>
        </p:nvSpPr>
        <p:spPr>
          <a:xfrm>
            <a:off x="3962520" y="12193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10080" y="22860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362320" y="2286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57600" y="2286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895120" y="1676520"/>
            <a:ext cx="2896200" cy="685800"/>
            <a:chOff x="2895120" y="1676520"/>
            <a:chExt cx="2896200" cy="685800"/>
          </a:xfrm>
        </p:grpSpPr>
        <p:sp>
          <p:nvSpPr>
            <p:cNvPr id="241" name=""/>
            <p:cNvSpPr/>
            <p:nvPr/>
          </p:nvSpPr>
          <p:spPr>
            <a:xfrm>
              <a:off x="4572000" y="1676520"/>
              <a:ext cx="121932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95120" y="1676520"/>
              <a:ext cx="11430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4114440" y="1676520"/>
              <a:ext cx="2286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419720" y="16765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419720" y="2743200"/>
            <a:ext cx="2895120" cy="685800"/>
            <a:chOff x="4419720" y="2743200"/>
            <a:chExt cx="2895120" cy="685800"/>
          </a:xfrm>
        </p:grpSpPr>
        <p:sp>
          <p:nvSpPr>
            <p:cNvPr id="246" name=""/>
            <p:cNvSpPr/>
            <p:nvPr/>
          </p:nvSpPr>
          <p:spPr>
            <a:xfrm>
              <a:off x="6095880" y="2743200"/>
              <a:ext cx="121896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4419720" y="2743200"/>
              <a:ext cx="114264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5638680" y="2743200"/>
              <a:ext cx="2282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43600" y="2743200"/>
              <a:ext cx="83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 flipV="1" rot="16200000">
            <a:off x="4152600" y="875520"/>
            <a:ext cx="381240" cy="3962160"/>
          </a:xfrm>
          <a:custGeom>
            <a:avLst/>
            <a:gdLst>
              <a:gd name="textAreaLeft" fmla="*/ 243720 w 381240"/>
              <a:gd name="textAreaRight" fmla="*/ 381600 w 381240"/>
              <a:gd name="textAreaTop" fmla="*/ 103320 h 3962160"/>
              <a:gd name="textAreaBottom" fmla="*/ 3858840 h 3962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676520" y="2743200"/>
          <a:ext cx="806400" cy="76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743200"/>
                    <a:ext cx="80640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 flipV="1" rot="16200000">
            <a:off x="5676840" y="2019240"/>
            <a:ext cx="380880" cy="3200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733920" y="3581280"/>
          <a:ext cx="806400" cy="76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3581280"/>
                    <a:ext cx="80640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Inverting A Permutation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90720" y="3657600"/>
            <a:ext cx="7086600" cy="19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this be easier than ordinary searc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ethod gives Q(Inver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sary method gives Q(Inver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47920" y="14479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7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6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1447920"/>
            <a:ext cx="762120" cy="761760"/>
          </a:xfrm>
          <a:prstGeom prst="ellipse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2286000"/>
            <a:ext cx="5334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Problem: Find the 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Collision Problem</a:t>
            </a:r>
            <a:endParaRPr b="1" lang="en-US" sz="4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2781360" y="1828800"/>
          <a:ext cx="525600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81360" y="1828800"/>
                    <a:ext cx="52560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228600" y="2514600"/>
            <a:ext cx="8077320" cy="19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1160" indent="-453960">
              <a:lnSpc>
                <a:spcPct val="100000"/>
              </a:lnSpc>
              <a:spcBef>
                <a:spcPts val="2001"/>
              </a:spcBef>
              <a:buClr>
                <a:srgbClr val="a50021"/>
              </a:buClr>
              <a:buFont typeface="Arial"/>
              <a:buChar char="•"/>
              <a:tabLst>
                <a:tab algn="l" pos="85716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romi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85716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1) X is one-to-one (permutation) 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85716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2) X is two-to-o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4572000"/>
            <a:ext cx="7772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20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roble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cide which using few queries to the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98040" y="5791320"/>
            <a:ext cx="4285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(Collisio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Brassard-H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  <a:ea typeface="Arial"/>
              </a:rPr>
              <a:t>øyer-Tapp (1997)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19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O(n</a:t>
            </a:r>
            <a:r>
              <a:rPr b="1" lang="en-US" sz="3200" spc="-1" strike="noStrike" baseline="30000">
                <a:solidFill>
                  <a:srgbClr val="a50021"/>
                </a:solidFill>
                <a:latin typeface="Times New Roman"/>
              </a:rPr>
              <a:t>1/3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) quantum alg for collis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609480" y="5715000"/>
          <a:ext cx="2667240" cy="593280"/>
        </p:xfrm>
        <a:graphic>
          <a:graphicData uri="http://schemas.openxmlformats.org/drawingml/2006/table">
            <a:tbl>
              <a:tblPr/>
              <a:tblGrid>
                <a:gridCol w="666720"/>
                <a:gridCol w="667080"/>
                <a:gridCol w="666720"/>
                <a:gridCol w="666720"/>
              </a:tblGrid>
              <a:tr h="59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271" name=""/>
          <p:cNvSpPr/>
          <p:nvPr/>
        </p:nvSpPr>
        <p:spPr>
          <a:xfrm>
            <a:off x="3505320" y="5410080"/>
            <a:ext cx="449568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, queried classicall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ted for fast look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657600" y="2590920"/>
          <a:ext cx="4648320" cy="583920"/>
        </p:xfrm>
        <a:graphic>
          <a:graphicData uri="http://schemas.openxmlformats.org/drawingml/2006/table">
            <a:tbl>
              <a:tblPr/>
              <a:tblGrid>
                <a:gridCol w="664560"/>
                <a:gridCol w="663120"/>
                <a:gridCol w="664920"/>
                <a:gridCol w="663120"/>
                <a:gridCol w="664560"/>
                <a:gridCol w="663480"/>
                <a:gridCol w="66456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73" name=""/>
          <p:cNvSpPr/>
          <p:nvPr/>
        </p:nvSpPr>
        <p:spPr>
          <a:xfrm>
            <a:off x="304920" y="2438280"/>
            <a:ext cx="3124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ver’s algorithm over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914400" y="3200400"/>
            <a:ext cx="373392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1599840" y="3200400"/>
            <a:ext cx="304812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286000" y="3200400"/>
            <a:ext cx="236232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971440" y="3200400"/>
            <a:ext cx="167652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572000" y="3581280"/>
            <a:ext cx="3809880" cy="1371600"/>
          </a:xfrm>
          <a:prstGeom prst="wedgeRoundRectCallout">
            <a:avLst>
              <a:gd name="adj1" fmla="val -42379"/>
              <a:gd name="adj2" fmla="val 7893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0" y="3733920"/>
            <a:ext cx="3733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I collide with any of the pink 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’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Resul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(Collisio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1/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(A 200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" y="3886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viously no lower bound better tha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" y="2362320"/>
            <a:ext cx="7391520" cy="13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i 2002 improved to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1/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952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when |range|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3n/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51814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 much harder than sear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artoon Version of Proof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e feeding algorithm g-to-1 functions, where g could be greater tha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P(g) = expected probability that algorithm outputs “2-to-1” when given random g-to-1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ucial Lemm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(g) is a polynomial in g, with deg(P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T (where T = number of quer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(g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0,1] for integers g, and P’(g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3 for some g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1,2].  So we can use Markov’s ine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vea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at does “g-to-1 function” mean if g doesn’t divide n?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lated to why argument breaks down for g&gt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371600" y="914400"/>
            <a:ext cx="5943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re are no good open problems left in quantum lower boun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838080" y="533160"/>
            <a:ext cx="7162920" cy="5656680"/>
            <a:chOff x="838080" y="533160"/>
            <a:chExt cx="7162920" cy="5656680"/>
          </a:xfrm>
        </p:grpSpPr>
        <p:sp>
          <p:nvSpPr>
            <p:cNvPr id="289" name=""/>
            <p:cNvSpPr/>
            <p:nvPr/>
          </p:nvSpPr>
          <p:spPr>
            <a:xfrm>
              <a:off x="914400" y="609480"/>
              <a:ext cx="6934320" cy="3886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838080" y="533160"/>
              <a:ext cx="7162920" cy="3809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914400" y="4572000"/>
              <a:ext cx="70102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0" spc="-1" strike="noStrike">
                  <a:solidFill>
                    <a:srgbClr val="ff0000"/>
                  </a:solidFill>
                  <a:latin typeface="Arial"/>
                </a:rPr>
                <a:t>BULL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990720" y="1371600"/>
            <a:ext cx="701028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the collision problem, suppose the function X:{0,1}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{0,1}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1-to-1 rather than 2-to-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n you give me a polynomial-size quantum certificate, by which I can verify that fact in polynomial tim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066680" y="914400"/>
            <a:ext cx="701064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know Q(f)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R(f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1/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for Boolean f defined on all 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nputs.  Can we show a similar bound for f defined on 1-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fraction of input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ould be large step tow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njecture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f BPP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BQP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for a random oracle A with probability 1, then BPP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BQ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762120" y="990720"/>
            <a:ext cx="7391160" cy="56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se that whenever our quantum computer makes a query—replacing |i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by |i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—the |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register is measured immediately.  Can still do period-finding in this model, but not Grover sear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 there any total function for which we get a speedup over classica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1549200">
            <a:off x="3519000" y="1755360"/>
            <a:ext cx="4572000" cy="1477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PHYSICALL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MOTIVATE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380880" y="228600"/>
            <a:ext cx="9144000" cy="2775960"/>
            <a:chOff x="380880" y="228600"/>
            <a:chExt cx="9144000" cy="2775960"/>
          </a:xfrm>
        </p:grpSpPr>
        <p:sp>
          <p:nvSpPr>
            <p:cNvPr id="57" name=""/>
            <p:cNvSpPr/>
            <p:nvPr/>
          </p:nvSpPr>
          <p:spPr>
            <a:xfrm>
              <a:off x="380880" y="228600"/>
              <a:ext cx="80010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Many of the deepest discoveries of science are </a:t>
              </a: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limitatio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23880" y="1295280"/>
              <a:ext cx="8001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No superluminal signalin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23880" y="1905120"/>
              <a:ext cx="8001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No perpetual-motion machine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523880" y="2514600"/>
              <a:ext cx="8001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No complete axiomitization for arithmetic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838080" y="3276720"/>
            <a:ext cx="7086600" cy="10688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What limitations on computing are imposed by the laws of physic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57200" y="4648320"/>
            <a:ext cx="8381880" cy="1998000"/>
            <a:chOff x="457200" y="4648320"/>
            <a:chExt cx="8381880" cy="1998000"/>
          </a:xfrm>
        </p:grpSpPr>
        <p:sp>
          <p:nvSpPr>
            <p:cNvPr id="63" name=""/>
            <p:cNvSpPr/>
            <p:nvPr/>
          </p:nvSpPr>
          <p:spPr>
            <a:xfrm>
              <a:off x="457200" y="4648320"/>
              <a:ext cx="80010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Quantum computing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lets us seriously address this questio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" y="5638680"/>
              <a:ext cx="83818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That’s why everyone should care about it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br>
                <a:rPr sz="3000"/>
              </a:b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ven if factoring machines are never buil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533520" y="3048120"/>
            <a:ext cx="80769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se inputs to Grover’s algorithm are arranged in a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-by-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 grid.  Our quantum computer has unbounded memory, but to move the ‘read’ head one square takes unit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n we search in less tha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) tim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3124080" y="304920"/>
          <a:ext cx="2514600" cy="2587680"/>
        </p:xfrm>
        <a:graphic>
          <a:graphicData uri="http://schemas.openxmlformats.org/drawingml/2006/table">
            <a:tbl>
              <a:tblPr/>
              <a:tblGrid>
                <a:gridCol w="503280"/>
                <a:gridCol w="503280"/>
                <a:gridCol w="50184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"/>
          <p:cNvSpPr/>
          <p:nvPr/>
        </p:nvSpPr>
        <p:spPr>
          <a:xfrm>
            <a:off x="5181480" y="190512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15000" y="1752480"/>
            <a:ext cx="266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Marked it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00400" y="380880"/>
            <a:ext cx="380880" cy="381240"/>
          </a:xfrm>
          <a:prstGeom prst="smileyFace">
            <a:avLst>
              <a:gd name="adj" fmla="val 928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33920" y="9144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191120" y="380880"/>
            <a:ext cx="380880" cy="381240"/>
          </a:xfrm>
          <a:prstGeom prst="smileyFace">
            <a:avLst>
              <a:gd name="adj" fmla="val 928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200400" y="1447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200400" y="9144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733920" y="380880"/>
            <a:ext cx="380880" cy="381240"/>
          </a:xfrm>
          <a:prstGeom prst="smileyFace">
            <a:avLst>
              <a:gd name="adj" fmla="val 928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304920"/>
            <a:ext cx="2666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Quantum comput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533520"/>
            <a:ext cx="8382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Conjecture 1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Quantum computers can’t solve NP-complete problems (solve = in polynomial tim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6002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Too hard—we don’t even know if classical ones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286000"/>
            <a:ext cx="7924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Conjecture 2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Quantum computers can’t solve NP-complete problems unless classical ones can als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33526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till too h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3962520"/>
            <a:ext cx="7467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Conjecture 3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Quantum computers can’t solve NP-complete problems using only ‘brute force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495288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Looks easier—but can we formalize the notion of ‘brute force’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Black-Box Model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1219320"/>
            <a:ext cx="7619760" cy="52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se we want to decide whether Boolean formul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as a satisfying assign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Brute for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ight mean we restrict ourselves to asking, i.e.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es assignment X satisfy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?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 we’re treating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s a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black bo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ossible ques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many must we ask to know whether any one has a “yes” answer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f we can ask in superposition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cc"/>
                </a:solidFill>
                <a:latin typeface="Arial"/>
              </a:rPr>
              <a:t>Quantum Query Model</a:t>
            </a:r>
            <a:endParaRPr b="1" lang="en-US" sz="3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600200"/>
            <a:ext cx="7696080" cy="48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there are n possible yes/no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0,1} be answer to question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quantum algorithm, each basis state has form |i,z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 = index to query     z = work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uery transfor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 maps each |i,z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-2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|i,z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.e. performs phase flip conditioned on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cc"/>
                </a:solidFill>
                <a:latin typeface="Arial"/>
              </a:rPr>
              <a:t>Quantum Query Model (con’t)</a:t>
            </a:r>
            <a:endParaRPr b="1" lang="en-US" sz="3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523880"/>
            <a:ext cx="8458200" cy="42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 consists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leaved queries and unitar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rbitrary unitary that doesn’t depend o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e don’t care how hard it is to imp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end we measure to obtain a basis state |i,z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n output (say) first bit of 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cc"/>
                </a:solidFill>
                <a:latin typeface="Arial"/>
              </a:rPr>
              <a:t>Quantum Query Complexity</a:t>
            </a:r>
            <a:endParaRPr b="1" lang="en-US" sz="3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295280"/>
            <a:ext cx="8458200" cy="47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f(X) be the function we’re trying to comp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u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 if it outputs f(X) with probability at least 2/3 for every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(f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minimum # of queries made by any algorithm that computes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mmediat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(f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(f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(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(f) = randomized query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(f) = deterministic query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Example: Search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2057400"/>
            <a:ext cx="8458200" cy="47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re any marked items in databa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if every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otherw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ic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(O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R(O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uantu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(O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), from Grover’s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ow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(O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)—i.e., Grover’s algorithm is opti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295280" y="1371600"/>
          <a:ext cx="6096240" cy="51768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4T21:52:18Z</dcterms:created>
  <dc:creator>aaronson</dc:creator>
  <dc:description/>
  <dc:language>en-US</dc:language>
  <cp:lastModifiedBy>aaronson</cp:lastModifiedBy>
  <dcterms:modified xsi:type="dcterms:W3CDTF">2004-04-27T02:50:53Z</dcterms:modified>
  <cp:revision>63</cp:revision>
  <dc:subject/>
  <dc:title>Quantum Lower Bounds The Polynomial and Adversary Methods</dc:title>
</cp:coreProperties>
</file>