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26E-25BD-469B-A2DD-9D693CC3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D9F-394F-4631-85E8-EA85A17F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37C-1D63-4053-B646-77F68993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0ED-4779-4753-B103-E8FF8A28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D4E-C4C7-440F-B397-7D7104C0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FC6-055A-4D04-9B48-000597F0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7DD-D2CB-4DEB-B609-FE9F5BB4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5F9-8463-408D-8690-FF0E896D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8DD-7B22-4DDF-9BA0-ED8FA56B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079-B81A-4FAD-B019-CCD6024D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C66-7B65-45DF-BF9C-625B01B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C99-8838-4997-BA31-685FEAA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7002-970E-4343-AA54-578856DF0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58880" y="3733920"/>
            <a:ext cx="4800600" cy="3182760"/>
            <a:chOff x="2558880" y="3733920"/>
            <a:chExt cx="4800600" cy="3182760"/>
          </a:xfrm>
        </p:grpSpPr>
        <p:sp>
          <p:nvSpPr>
            <p:cNvPr id="44" name=""/>
            <p:cNvSpPr/>
            <p:nvPr/>
          </p:nvSpPr>
          <p:spPr>
            <a:xfrm flipV="1">
              <a:off x="2558880" y="3733920"/>
              <a:ext cx="4800600" cy="3124080"/>
            </a:xfrm>
            <a:custGeom>
              <a:avLst/>
              <a:gdLst>
                <a:gd name="textAreaLeft" fmla="*/ 1650960 w 4800600"/>
                <a:gd name="textAreaRight" fmla="*/ 3149640 w 4800600"/>
                <a:gd name="textAreaTop" fmla="*/ 1074240 h 3124080"/>
                <a:gd name="textAreaBottom" fmla="*/ 2049840 h 312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79" y="21600"/>
                  </a:lnTo>
                  <a:lnTo>
                    <a:pt x="10221" y="2160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63680" y="3792600"/>
              <a:ext cx="0" cy="3124080"/>
            </a:xfrm>
            <a:prstGeom prst="line">
              <a:avLst/>
            </a:prstGeom>
            <a:ln w="7632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172200" y="1447920"/>
            <a:ext cx="2514600" cy="4190760"/>
            <a:chOff x="6172200" y="1447920"/>
            <a:chExt cx="2514600" cy="4190760"/>
          </a:xfrm>
        </p:grpSpPr>
        <p:sp>
          <p:nvSpPr>
            <p:cNvPr id="47" name=""/>
            <p:cNvSpPr/>
            <p:nvPr/>
          </p:nvSpPr>
          <p:spPr>
            <a:xfrm>
              <a:off x="6172200" y="1447920"/>
              <a:ext cx="2514600" cy="2590560"/>
            </a:xfrm>
            <a:custGeom>
              <a:avLst/>
              <a:gdLst>
                <a:gd name="textAreaLeft" fmla="*/ 122760 w 2514600"/>
                <a:gd name="textAreaRight" fmla="*/ 2391840 w 2514600"/>
                <a:gd name="textAreaTop" fmla="*/ 122760 h 2590560"/>
                <a:gd name="textAreaBottom" fmla="*/ 2467800 h 2590560"/>
              </a:gdLst>
              <a:ahLst/>
              <a:rect l="textAreaLeft" t="textAreaTop" r="textAreaRight" b="textAreaBottom"/>
              <a:pathLst>
                <a:path w="21600" h="22252">
                  <a:moveTo>
                    <a:pt x="3600" y="0"/>
                  </a:moveTo>
                  <a:arcTo wR="3600" hR="3600" stAng="16200000" swAng="-5400000"/>
                  <a:lnTo>
                    <a:pt x="0" y="18652"/>
                  </a:lnTo>
                  <a:arcTo wR="3600" hR="3600" stAng="10800000" swAng="-5400000"/>
                  <a:lnTo>
                    <a:pt x="18000" y="222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91520" y="403848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24480" y="1676520"/>
              <a:ext cx="213372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"/>
                </a:rPr>
                <a:t>SPEED LIMIT </a:t>
              </a:r>
              <a:r>
                <a:rPr b="1" lang="en-US" sz="45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</a:rPr>
              <a:t>Quantum Lower Bounds</a:t>
            </a:r>
            <a:br>
              <a:rPr sz="50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cott Aaronson (UC Berkeley)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ugust 29, 200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 Method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447920"/>
            <a:ext cx="7848720" cy="32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ybrid Method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nett, Bernstein, Brassard, Vazirani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olynomial Method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ls, Buhrman, Cleve, Mosca, de Wolf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dversary Method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aini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10552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’ll skip (1), and prove search lower bound with (2) and again (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olynomial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295280"/>
            <a:ext cx="2819520" cy="11912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algorithm that computes f with few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114800" y="1295280"/>
            <a:ext cx="4495680" cy="1191240"/>
            <a:chOff x="4114800" y="1295280"/>
            <a:chExt cx="4495680" cy="1191240"/>
          </a:xfrm>
        </p:grpSpPr>
        <p:sp>
          <p:nvSpPr>
            <p:cNvPr id="89" name=""/>
            <p:cNvSpPr/>
            <p:nvPr/>
          </p:nvSpPr>
          <p:spPr>
            <a:xfrm>
              <a:off x="6248520" y="1295280"/>
              <a:ext cx="236196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w-degree polynomial approximating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14800" y="1828800"/>
              <a:ext cx="2133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400800" y="2514600"/>
            <a:ext cx="2057400" cy="3065760"/>
            <a:chOff x="6400800" y="2514600"/>
            <a:chExt cx="2057400" cy="3065760"/>
          </a:xfrm>
        </p:grpSpPr>
        <p:sp>
          <p:nvSpPr>
            <p:cNvPr id="92" name=""/>
            <p:cNvSpPr/>
            <p:nvPr/>
          </p:nvSpPr>
          <p:spPr>
            <a:xfrm>
              <a:off x="6400800" y="3657600"/>
              <a:ext cx="2057400" cy="19227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w-degre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univariat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olynomial with large deri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9152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3124080"/>
            <a:ext cx="5632200" cy="3505320"/>
            <a:chOff x="762120" y="3124080"/>
            <a:chExt cx="5632200" cy="350532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3962520" y="4191120"/>
              <a:ext cx="243180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62120" y="4876920"/>
              <a:ext cx="3124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Our Mathematician Frien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218600" y="3124080"/>
              <a:ext cx="2819160" cy="1295640"/>
            </a:xfrm>
            <a:prstGeom prst="wedgeRoundRectCallout">
              <a:avLst>
                <a:gd name="adj1" fmla="val -44087"/>
                <a:gd name="adj2" fmla="val 7082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5280" y="3200400"/>
              <a:ext cx="2743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990000"/>
                  </a:solidFill>
                  <a:latin typeface="Arial"/>
                </a:rPr>
                <a:t>I can prove this can’t exist!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457200"/>
            <a:ext cx="792468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variate polynomial p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if for every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(f) = minimum degree of polynomial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s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9144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520" y="2057400"/>
            <a:ext cx="8229600" cy="4442760"/>
            <a:chOff x="533520" y="2057400"/>
            <a:chExt cx="8229600" cy="4442760"/>
          </a:xfrm>
        </p:grpSpPr>
        <p:sp>
          <p:nvSpPr>
            <p:cNvPr id="102" name=""/>
            <p:cNvSpPr/>
            <p:nvPr/>
          </p:nvSpPr>
          <p:spPr>
            <a:xfrm>
              <a:off x="533520" y="2743200"/>
              <a:ext cx="8229600" cy="37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roposi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Q(f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deg(f)/2 for all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roof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itially, amplitud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,z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of each |i,z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s a degree-0 multilinear polynomial in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query replaces each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,z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by (1-2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,z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increasing its degree by 1.  The U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’s can’t increase degre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t the end, squaring amplitudes doubles deg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2057400"/>
              <a:ext cx="68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ymmetriz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143000"/>
            <a:ext cx="853416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polynomial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degree d, 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position (Minsky-Papert 1968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k) is a univariate polynomial in k, with degree at most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|X|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…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more, for som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a polynomial in |X| of degree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666880" y="5257800"/>
          <a:ext cx="42674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5257800"/>
                    <a:ext cx="42674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190600" y="4038480"/>
          <a:ext cx="534996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0600" y="4038480"/>
                    <a:ext cx="53499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940120" y="1676520"/>
          <a:ext cx="4178160" cy="75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40120" y="1676520"/>
                    <a:ext cx="41781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rkov’s Inequal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 be a polynomial bounded in [0,b] in the interval [0,a], that has derivative at least c somewhere in that interval. 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733920" y="2895480"/>
          <a:ext cx="3833640" cy="17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895480"/>
                    <a:ext cx="383364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33520" y="4876920"/>
            <a:ext cx="6781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991040"/>
            <a:ext cx="6781680" cy="722520"/>
          </a:xfrm>
          <a:custGeom>
            <a:avLst/>
            <a:gdLst/>
            <a:ahLst/>
            <a:rect l="l" t="t" r="r" b="b"/>
            <a:pathLst>
              <a:path w="4272" h="455">
                <a:moveTo>
                  <a:pt x="0" y="384"/>
                </a:moveTo>
                <a:cubicBezTo>
                  <a:pt x="108" y="386"/>
                  <a:pt x="477" y="455"/>
                  <a:pt x="646" y="397"/>
                </a:cubicBezTo>
                <a:cubicBezTo>
                  <a:pt x="815" y="339"/>
                  <a:pt x="835" y="76"/>
                  <a:pt x="1014" y="38"/>
                </a:cubicBezTo>
                <a:cubicBezTo>
                  <a:pt x="1193" y="0"/>
                  <a:pt x="1480" y="173"/>
                  <a:pt x="1722" y="170"/>
                </a:cubicBezTo>
                <a:cubicBezTo>
                  <a:pt x="1964" y="167"/>
                  <a:pt x="2196" y="27"/>
                  <a:pt x="2468" y="19"/>
                </a:cubicBezTo>
                <a:cubicBezTo>
                  <a:pt x="2740" y="11"/>
                  <a:pt x="3055" y="126"/>
                  <a:pt x="3356" y="123"/>
                </a:cubicBezTo>
                <a:cubicBezTo>
                  <a:pt x="3657" y="120"/>
                  <a:pt x="4081" y="26"/>
                  <a:pt x="427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5720" y="5867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3320" y="5029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352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438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44760" y="4751280"/>
            <a:ext cx="269640" cy="585720"/>
          </a:xfrm>
          <a:custGeom>
            <a:avLst/>
            <a:gdLst/>
            <a:ahLst/>
            <a:rect l="l" t="t" r="r" b="b"/>
            <a:pathLst>
              <a:path w="170" h="369">
                <a:moveTo>
                  <a:pt x="0" y="0"/>
                </a:moveTo>
                <a:lnTo>
                  <a:pt x="170" y="36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roximate Degree of OR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905120"/>
            <a:ext cx="80773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ynomial q(k) has q(0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and q(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, so |q’(k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for some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q represents acceptance probability, q(k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 for integers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…n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non-integer k?  If q strays h away from [0,1], then |q’(k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 some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by Markov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95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hlich-Zeller 1964 / Rivlin-Cheney 1966 / Nisan-Szegedy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971800" y="5257800"/>
          <a:ext cx="573876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257800"/>
                    <a:ext cx="573876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895480" y="5181480"/>
            <a:ext cx="5867640" cy="13716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Else The Polynomial Method Gives U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8288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7543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Parit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Q(Majorit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olean f, Q(f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(f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f f is monot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dversary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4480" y="1066680"/>
            <a:ext cx="2225520" cy="2742840"/>
            <a:chOff x="6324480" y="1066680"/>
            <a:chExt cx="2225520" cy="2742840"/>
          </a:xfrm>
        </p:grpSpPr>
        <p:sp>
          <p:nvSpPr>
            <p:cNvPr id="139" name=""/>
            <p:cNvSpPr/>
            <p:nvPr/>
          </p:nvSpPr>
          <p:spPr>
            <a:xfrm>
              <a:off x="6787800" y="1139040"/>
              <a:ext cx="1609920" cy="16574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83280" y="1368720"/>
              <a:ext cx="1121040" cy="1171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50680" y="2870640"/>
              <a:ext cx="990000" cy="19332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69680" y="1557720"/>
              <a:ext cx="406440" cy="37080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94280" y="2014200"/>
              <a:ext cx="253800" cy="3517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63360" y="3299400"/>
              <a:ext cx="2171160" cy="487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92120" y="3017520"/>
              <a:ext cx="1662840" cy="4752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24840" y="2793600"/>
              <a:ext cx="903240" cy="20916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38360" y="1434240"/>
              <a:ext cx="421560" cy="14011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56440" y="2574000"/>
              <a:ext cx="804240" cy="1378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88240" y="1281600"/>
              <a:ext cx="1244160" cy="12121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53040" y="3096000"/>
              <a:ext cx="534600" cy="203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57160" y="3191760"/>
              <a:ext cx="262440" cy="12348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43560" y="3646800"/>
              <a:ext cx="2164680" cy="14508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66920" y="2949120"/>
              <a:ext cx="1714680" cy="143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92680" y="2963880"/>
              <a:ext cx="108360" cy="5464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39360" y="3110400"/>
              <a:ext cx="50040" cy="18324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60240" y="3085920"/>
              <a:ext cx="536400" cy="464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46000" y="3184560"/>
              <a:ext cx="302760" cy="9144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62160" y="3240000"/>
              <a:ext cx="1637640" cy="1206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17720" y="3603240"/>
              <a:ext cx="1492560" cy="928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45160" y="3341520"/>
              <a:ext cx="198000" cy="30672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35520" y="3677400"/>
              <a:ext cx="114480" cy="11628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78840" y="3720960"/>
              <a:ext cx="2094480" cy="88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72320" y="3355920"/>
              <a:ext cx="1117080" cy="12204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16520" y="3466440"/>
              <a:ext cx="812520" cy="900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47440" y="3440520"/>
              <a:ext cx="245520" cy="49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01800" y="3506040"/>
              <a:ext cx="248400" cy="432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22680" y="3581640"/>
              <a:ext cx="286200" cy="522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3440" y="1066680"/>
              <a:ext cx="1524600" cy="433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9880" y="1101600"/>
              <a:ext cx="156240" cy="2455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06560" y="1312200"/>
              <a:ext cx="263520" cy="14403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37080" y="1195560"/>
              <a:ext cx="170280" cy="13053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2000" y="1534680"/>
              <a:ext cx="293040" cy="12168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54560" y="2758680"/>
              <a:ext cx="959040" cy="622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33400" y="2761560"/>
              <a:ext cx="181440" cy="6804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50680" y="2774520"/>
              <a:ext cx="146520" cy="2066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67160" y="2963880"/>
              <a:ext cx="70920" cy="939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67080" y="2770200"/>
              <a:ext cx="212400" cy="1350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08640" y="2870640"/>
              <a:ext cx="34920" cy="1206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32680" y="2619360"/>
              <a:ext cx="45720" cy="1015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37000" y="2556720"/>
              <a:ext cx="846000" cy="8712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9240" y="2561040"/>
              <a:ext cx="33480" cy="11628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84640" y="2606040"/>
              <a:ext cx="32040" cy="88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5880" y="2604600"/>
              <a:ext cx="39960" cy="88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42640" y="2598840"/>
              <a:ext cx="37440" cy="928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83520" y="2608920"/>
              <a:ext cx="40320" cy="98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50080" y="1370520"/>
              <a:ext cx="304200" cy="1350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02280" y="1786320"/>
              <a:ext cx="244440" cy="72072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43840" y="2401200"/>
              <a:ext cx="871200" cy="13356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58160" y="1335600"/>
              <a:ext cx="180000" cy="1122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38160" y="3283560"/>
              <a:ext cx="307080" cy="3661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3625200"/>
              <a:ext cx="89280" cy="1292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00840" y="1324080"/>
              <a:ext cx="1190880" cy="33984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79320" y="1424160"/>
              <a:ext cx="485640" cy="567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55760" y="3068280"/>
              <a:ext cx="43200" cy="1904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733920" y="2209680"/>
            <a:ext cx="2590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733920" y="2819520"/>
            <a:ext cx="2590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04920" y="1371600"/>
            <a:ext cx="3276360" cy="4114800"/>
            <a:chOff x="304920" y="1371600"/>
            <a:chExt cx="3276360" cy="4114800"/>
          </a:xfrm>
        </p:grpSpPr>
        <p:graphicFrame>
          <p:nvGraphicFramePr>
            <p:cNvPr id="198" name=""/>
            <p:cNvGraphicFramePr/>
            <p:nvPr/>
          </p:nvGraphicFramePr>
          <p:xfrm>
            <a:off x="685440" y="1800360"/>
            <a:ext cx="2438280" cy="131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440" y="1800360"/>
                      <a:ext cx="243828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304920" y="1371600"/>
              <a:ext cx="3276360" cy="2438280"/>
            </a:xfrm>
            <a:prstGeom prst="cloudCallout">
              <a:avLst>
                <a:gd name="adj1" fmla="val -36967"/>
                <a:gd name="adj2" fmla="val 93361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0880" y="3809880"/>
              <a:ext cx="121860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28600" y="396252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lgorithm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erposition of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bipartite state: (1) input and (2) algorithm 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these system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en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nd, must b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ly en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e entanglement can’t increase much by on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1219320"/>
            <a:ext cx="8686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nput with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 1, all other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algorith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 in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density matri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lying This To Sear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081240" y="1828800"/>
          <a:ext cx="1762200" cy="109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1828800"/>
                    <a:ext cx="17622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304920" y="3733920"/>
            <a:ext cx="2103480" cy="2895480"/>
            <a:chOff x="304920" y="3733920"/>
            <a:chExt cx="2103480" cy="2895480"/>
          </a:xfrm>
        </p:grpSpPr>
        <p:graphicFrame>
          <p:nvGraphicFramePr>
            <p:cNvPr id="208" name=""/>
            <p:cNvGraphicFramePr/>
            <p:nvPr/>
          </p:nvGraphicFramePr>
          <p:xfrm>
            <a:off x="609480" y="4267080"/>
            <a:ext cx="1798920" cy="236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4267080"/>
                      <a:ext cx="179892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304920" y="37339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Initial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733920" y="3733920"/>
            <a:ext cx="2452680" cy="2895480"/>
            <a:chOff x="3733920" y="3733920"/>
            <a:chExt cx="2452680" cy="2895480"/>
          </a:xfrm>
        </p:grpSpPr>
        <p:graphicFrame>
          <p:nvGraphicFramePr>
            <p:cNvPr id="212" name=""/>
            <p:cNvGraphicFramePr/>
            <p:nvPr/>
          </p:nvGraphicFramePr>
          <p:xfrm>
            <a:off x="3994200" y="4267080"/>
            <a:ext cx="2192400" cy="236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94200" y="4267080"/>
                      <a:ext cx="21924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>
              <a:off x="3733920" y="3733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inal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257800" y="4114800"/>
            <a:ext cx="3429000" cy="1800360"/>
            <a:chOff x="5257800" y="4114800"/>
            <a:chExt cx="3429000" cy="1800360"/>
          </a:xfrm>
        </p:grpSpPr>
        <p:sp>
          <p:nvSpPr>
            <p:cNvPr id="216" name=""/>
            <p:cNvSpPr/>
            <p:nvPr/>
          </p:nvSpPr>
          <p:spPr>
            <a:xfrm>
              <a:off x="5257800" y="4114800"/>
              <a:ext cx="990720" cy="12952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800" y="4114800"/>
              <a:ext cx="2286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Off-diagonal entries must be sma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228600" y="304920"/>
            <a:ext cx="8686800" cy="3319920"/>
            <a:chOff x="228600" y="304920"/>
            <a:chExt cx="8686800" cy="3319920"/>
          </a:xfrm>
        </p:grpSpPr>
        <p:sp>
          <p:nvSpPr>
            <p:cNvPr id="219" name=""/>
            <p:cNvSpPr/>
            <p:nvPr/>
          </p:nvSpPr>
          <p:spPr>
            <a:xfrm>
              <a:off x="228600" y="304920"/>
              <a:ext cx="8686800" cy="331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 sum of off-diagonal entr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 = n-1 initially.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y end, need (say) S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n/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laim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 query can decrease S by at most O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roof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Decompos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to pure states, one for each basis state |i,z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of algorithm p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1066680" y="304920"/>
            <a:ext cx="1662120" cy="93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304920"/>
                      <a:ext cx="166212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2" name=""/>
          <p:cNvGraphicFramePr/>
          <p:nvPr/>
        </p:nvGraphicFramePr>
        <p:xfrm>
          <a:off x="236520" y="3809880"/>
          <a:ext cx="4343400" cy="28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520" y="3809880"/>
                    <a:ext cx="434340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1981080" y="3886200"/>
            <a:ext cx="7010640" cy="2666880"/>
            <a:chOff x="1981080" y="3886200"/>
            <a:chExt cx="7010640" cy="2666880"/>
          </a:xfrm>
        </p:grpSpPr>
        <p:sp>
          <p:nvSpPr>
            <p:cNvPr id="225" name=""/>
            <p:cNvSpPr/>
            <p:nvPr/>
          </p:nvSpPr>
          <p:spPr>
            <a:xfrm>
              <a:off x="3279600" y="3886200"/>
              <a:ext cx="324000" cy="2666880"/>
            </a:xfrm>
            <a:custGeom>
              <a:avLst/>
              <a:gdLst>
                <a:gd name="textAreaLeft" fmla="*/ 47160 w 324000"/>
                <a:gd name="textAreaRight" fmla="*/ 276840 w 324000"/>
                <a:gd name="textAreaTop" fmla="*/ 47160 h 2666880"/>
                <a:gd name="textAreaBottom" fmla="*/ 2619720 h 2666880"/>
              </a:gdLst>
              <a:ahLst/>
              <a:rect l="textAreaLeft" t="textAreaTop" r="textAreaRight" b="textAreaBottom"/>
              <a:pathLst>
                <a:path w="21600" h="177619">
                  <a:moveTo>
                    <a:pt x="10800" y="0"/>
                  </a:moveTo>
                  <a:arcTo wR="10800" hR="10800" stAng="16200000" swAng="-5400000"/>
                  <a:lnTo>
                    <a:pt x="0" y="166819"/>
                  </a:lnTo>
                  <a:arcTo wR="10800" hR="10800" stAng="10800000" swAng="-5400000"/>
                  <a:lnTo>
                    <a:pt x="10800" y="17761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3076200" y="4244760"/>
              <a:ext cx="324000" cy="2514600"/>
            </a:xfrm>
            <a:custGeom>
              <a:avLst/>
              <a:gdLst>
                <a:gd name="textAreaLeft" fmla="*/ 47160 w 324000"/>
                <a:gd name="textAreaRight" fmla="*/ 276840 w 324000"/>
                <a:gd name="textAreaTop" fmla="*/ 47160 h 2514600"/>
                <a:gd name="textAreaBottom" fmla="*/ 2467440 h 2514600"/>
              </a:gdLst>
              <a:ahLst/>
              <a:rect l="textAreaLeft" t="textAreaTop" r="textAreaRight" b="textAreaBottom"/>
              <a:pathLst>
                <a:path w="21600" h="167478">
                  <a:moveTo>
                    <a:pt x="10800" y="0"/>
                  </a:moveTo>
                  <a:arcTo wR="10800" hR="10800" stAng="16200000" swAng="-5400000"/>
                  <a:lnTo>
                    <a:pt x="0" y="156678"/>
                  </a:lnTo>
                  <a:arcTo wR="10800" hR="10800" stAng="10800000" swAng="-5400000"/>
                  <a:lnTo>
                    <a:pt x="10800" y="1674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600" y="3962520"/>
              <a:ext cx="41911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Querying x</a:t>
              </a:r>
              <a:r>
                <a:rPr b="1" lang="en-US" sz="2800" spc="-1" strike="noStrike" baseline="-25000">
                  <a:solidFill>
                    <a:srgbClr val="00cc99"/>
                  </a:solidFill>
                  <a:latin typeface="Arial"/>
                </a:rPr>
                <a:t>i</a:t>
              </a: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 only affects i</a:t>
              </a:r>
              <a:r>
                <a:rPr b="1" lang="en-US" sz="2800" spc="-1" strike="noStrike" baseline="30000">
                  <a:solidFill>
                    <a:srgbClr val="00cc99"/>
                  </a:solidFill>
                  <a:latin typeface="Arial"/>
                </a:rPr>
                <a:t>th</a:t>
              </a: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 row and i</a:t>
              </a:r>
              <a:r>
                <a:rPr b="1" lang="en-US" sz="2800" spc="-1" strike="noStrike" baseline="30000">
                  <a:solidFill>
                    <a:srgbClr val="00cc99"/>
                  </a:solidFill>
                  <a:latin typeface="Arial"/>
                </a:rPr>
                <a:t>th</a:t>
              </a:r>
              <a:r>
                <a:rPr b="1" lang="en-US" sz="2800" spc="-1" strike="noStrike">
                  <a:solidFill>
                    <a:srgbClr val="00cc99"/>
                  </a:solidFill>
                  <a:latin typeface="Arial"/>
                </a:rPr>
                <a:t> colum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276720" y="3886200"/>
            <a:ext cx="5333760" cy="2666880"/>
            <a:chOff x="3276720" y="3886200"/>
            <a:chExt cx="5333760" cy="2666880"/>
          </a:xfrm>
        </p:grpSpPr>
        <p:sp>
          <p:nvSpPr>
            <p:cNvPr id="229" name=""/>
            <p:cNvSpPr/>
            <p:nvPr/>
          </p:nvSpPr>
          <p:spPr>
            <a:xfrm>
              <a:off x="3276720" y="3886200"/>
              <a:ext cx="323640" cy="2666880"/>
            </a:xfrm>
            <a:custGeom>
              <a:avLst/>
              <a:gdLst>
                <a:gd name="textAreaLeft" fmla="*/ 47160 w 323640"/>
                <a:gd name="textAreaRight" fmla="*/ 276480 w 323640"/>
                <a:gd name="textAreaTop" fmla="*/ 47160 h 2666880"/>
                <a:gd name="textAreaBottom" fmla="*/ 2619720 h 2666880"/>
              </a:gdLst>
              <a:ahLst/>
              <a:rect l="textAreaLeft" t="textAreaTop" r="textAreaRight" b="textAreaBottom"/>
              <a:pathLst>
                <a:path w="21600" h="177816">
                  <a:moveTo>
                    <a:pt x="10800" y="0"/>
                  </a:moveTo>
                  <a:arcTo wR="10800" hR="10800" stAng="16200000" swAng="-5400000"/>
                  <a:lnTo>
                    <a:pt x="0" y="167016"/>
                  </a:lnTo>
                  <a:arcTo wR="10800" hR="10800" stAng="10800000" swAng="-5400000"/>
                  <a:lnTo>
                    <a:pt x="10800" y="1778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0600" y="5105520"/>
              <a:ext cx="3809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By Cauchy-Schwarz, each row or column sums to at most </a:t>
              </a:r>
              <a:r>
                <a:rPr b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99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ay2" descr=""/>
          <p:cNvPicPr/>
          <p:nvPr/>
        </p:nvPicPr>
        <p:blipFill>
          <a:blip r:embed="rId1"/>
          <a:srcRect l="8502" t="6668" r="30999" b="0"/>
          <a:stretch/>
        </p:blipFill>
        <p:spPr>
          <a:xfrm>
            <a:off x="-76320" y="0"/>
            <a:ext cx="9220320" cy="10667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57200"/>
            <a:ext cx="39625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ris Ambai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143000"/>
            <a:ext cx="30456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447920"/>
            <a:ext cx="2590920" cy="91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Can’t Believe It’s Not Andri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362320"/>
            <a:ext cx="380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pth-2 Game-Tree Sear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57200" y="4343400"/>
            <a:ext cx="8686800" cy="2276280"/>
            <a:chOff x="457200" y="4343400"/>
            <a:chExt cx="8686800" cy="2276280"/>
          </a:xfrm>
        </p:grpSpPr>
        <p:sp>
          <p:nvSpPr>
            <p:cNvPr id="233" name=""/>
            <p:cNvSpPr/>
            <p:nvPr/>
          </p:nvSpPr>
          <p:spPr>
            <a:xfrm>
              <a:off x="457200" y="4419720"/>
              <a:ext cx="8686800" cy="21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cursive Grover” give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With polynomial method, only know how to get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Q(GameTre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1/4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dversary method gives Q(GameTre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4419360" y="4343400"/>
            <a:ext cx="4038840" cy="65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19360" y="4343400"/>
                      <a:ext cx="403884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6" name=""/>
          <p:cNvSpPr/>
          <p:nvPr/>
        </p:nvSpPr>
        <p:spPr>
          <a:xfrm>
            <a:off x="3962520" y="12193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2286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95120" y="1676520"/>
            <a:ext cx="2896200" cy="685800"/>
            <a:chOff x="2895120" y="1676520"/>
            <a:chExt cx="2896200" cy="685800"/>
          </a:xfrm>
        </p:grpSpPr>
        <p:sp>
          <p:nvSpPr>
            <p:cNvPr id="241" name=""/>
            <p:cNvSpPr/>
            <p:nvPr/>
          </p:nvSpPr>
          <p:spPr>
            <a:xfrm>
              <a:off x="4572000" y="1676520"/>
              <a:ext cx="12193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95120" y="1676520"/>
              <a:ext cx="11430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114440" y="1676520"/>
              <a:ext cx="2286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19720" y="16765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419720" y="2743200"/>
            <a:ext cx="2895120" cy="685800"/>
            <a:chOff x="4419720" y="2743200"/>
            <a:chExt cx="2895120" cy="685800"/>
          </a:xfrm>
        </p:grpSpPr>
        <p:sp>
          <p:nvSpPr>
            <p:cNvPr id="246" name=""/>
            <p:cNvSpPr/>
            <p:nvPr/>
          </p:nvSpPr>
          <p:spPr>
            <a:xfrm>
              <a:off x="6095880" y="2743200"/>
              <a:ext cx="12189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419720" y="2743200"/>
              <a:ext cx="11426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638680" y="2743200"/>
              <a:ext cx="228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3600" y="274320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 rot="16200000">
            <a:off x="4152600" y="875520"/>
            <a:ext cx="381240" cy="3962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3320 h 3962160"/>
              <a:gd name="textAreaBottom" fmla="*/ 385884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676520" y="2743200"/>
          <a:ext cx="80640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743200"/>
                    <a:ext cx="8064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 flipV="1" rot="16200000">
            <a:off x="5676840" y="2019240"/>
            <a:ext cx="380880" cy="3200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733920" y="3581280"/>
          <a:ext cx="80640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581280"/>
                    <a:ext cx="8064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verting A Permut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3657600"/>
            <a:ext cx="70866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this be easier than ordinary sear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method gives Q(Inver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method gives Q(Inver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4479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7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1447920"/>
            <a:ext cx="762120" cy="761760"/>
          </a:xfrm>
          <a:prstGeom prst="ellipse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2286000"/>
            <a:ext cx="533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Problem: Find th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781360" y="1828800"/>
          <a:ext cx="52560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1360" y="1828800"/>
                    <a:ext cx="52560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228600" y="2514600"/>
            <a:ext cx="80773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1160" indent="-45396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X is one-to-one (permutation) 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X is two-to-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572000"/>
            <a:ext cx="77724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ide which using few queries to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8040" y="5791320"/>
            <a:ext cx="4285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Collisio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rassard-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øyer-Tapp (1997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(n</a:t>
            </a:r>
            <a:r>
              <a:rPr b="1" lang="en-US" sz="3200" spc="-1" strike="noStrike" baseline="30000">
                <a:solidFill>
                  <a:srgbClr val="a50021"/>
                </a:solidFill>
                <a:latin typeface="Times New Roman"/>
              </a:rPr>
              <a:t>1/3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) quantum alg for coll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09480" y="5715000"/>
          <a:ext cx="2667240" cy="59328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3505320" y="5410080"/>
            <a:ext cx="44956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queried classical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 for fast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590920"/>
          <a:ext cx="4648320" cy="583920"/>
        </p:xfrm>
        <a:graphic>
          <a:graphicData uri="http://schemas.openxmlformats.org/drawingml/2006/table">
            <a:tbl>
              <a:tblPr/>
              <a:tblGrid>
                <a:gridCol w="664560"/>
                <a:gridCol w="663120"/>
                <a:gridCol w="664920"/>
                <a:gridCol w="663120"/>
                <a:gridCol w="664560"/>
                <a:gridCol w="663480"/>
                <a:gridCol w="6645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304920" y="243828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14400" y="32004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599840" y="32004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286000" y="32004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971440" y="32004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72000" y="35812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3733920"/>
            <a:ext cx="3733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I collide with any of the pink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(Collisio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(A 200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886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iously no lower bound better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362320"/>
            <a:ext cx="73915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 2002 improved t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when |range|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n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181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 much harder than sear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artoon Version of Proof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feeding algorithm g-to-1 functions, where g could be greater tha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(g) = expected probability that algorithm outputs “2-to-1” when given random g-to-1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ucial Lem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g) is a polynomial in g, with deg(P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 (where T = number of que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g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 for integers g, and P’(g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for some 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1,2].  So we can use Markov’s ine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ve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oes “g-to-1 function” mean if g doesn’t divide n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lated to why argument breaks down for g&g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71600" y="91440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re are no good open problems left in quantum lower b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838080" y="533160"/>
            <a:ext cx="7162920" cy="5656680"/>
            <a:chOff x="838080" y="533160"/>
            <a:chExt cx="7162920" cy="5656680"/>
          </a:xfrm>
        </p:grpSpPr>
        <p:sp>
          <p:nvSpPr>
            <p:cNvPr id="289" name=""/>
            <p:cNvSpPr/>
            <p:nvPr/>
          </p:nvSpPr>
          <p:spPr>
            <a:xfrm>
              <a:off x="914400" y="609480"/>
              <a:ext cx="6934320" cy="3886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838080" y="533160"/>
              <a:ext cx="7162920" cy="3809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14400" y="4572000"/>
              <a:ext cx="7010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0" spc="-1" strike="noStrike">
                  <a:solidFill>
                    <a:srgbClr val="ff0000"/>
                  </a:solidFill>
                  <a:latin typeface="Arial"/>
                </a:rPr>
                <a:t>BULL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90720" y="1371600"/>
            <a:ext cx="7010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collision problem, suppose the function X:{0,1}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1-to-1 rather than 2-to-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give me a polynomial-size quantum certificate, by which I can verify that fact in polynomial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66680" y="914400"/>
            <a:ext cx="70106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know Q(f)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R(f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/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for Boolean f defined on all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puts.  Can we show a similar bound for f defined on 1-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raction of inpu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uld be large step to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njecture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BP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Q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a random oracle A with probability 1, then BPP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Q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990720"/>
            <a:ext cx="7391160" cy="56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se that whenever our quantum computer makes a query—replacing |i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y |i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the |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gister is measured immediately.  Can still do period-finding in this model, but not Grover 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re any total function for which we get a speedup over classic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549200">
            <a:off x="3519000" y="1755360"/>
            <a:ext cx="4572000" cy="147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PHYSICALL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MOTIVAT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228600"/>
            <a:ext cx="9144000" cy="2775960"/>
            <a:chOff x="380880" y="228600"/>
            <a:chExt cx="9144000" cy="2775960"/>
          </a:xfrm>
        </p:grpSpPr>
        <p:sp>
          <p:nvSpPr>
            <p:cNvPr id="57" name=""/>
            <p:cNvSpPr/>
            <p:nvPr/>
          </p:nvSpPr>
          <p:spPr>
            <a:xfrm>
              <a:off x="380880" y="228600"/>
              <a:ext cx="8001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Many of the deepest discoveries of science are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limit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3880" y="129528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o superluminal signal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3880" y="190512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o perpetual-motion machin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23880" y="2514600"/>
              <a:ext cx="8001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o complete axiomitization for arithmet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38080" y="3276720"/>
            <a:ext cx="7086600" cy="1068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hat limitations on computing are imposed by the laws of phys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" y="4648320"/>
            <a:ext cx="8381880" cy="1998000"/>
            <a:chOff x="457200" y="4648320"/>
            <a:chExt cx="8381880" cy="1998000"/>
          </a:xfrm>
        </p:grpSpPr>
        <p:sp>
          <p:nvSpPr>
            <p:cNvPr id="63" name=""/>
            <p:cNvSpPr/>
            <p:nvPr/>
          </p:nvSpPr>
          <p:spPr>
            <a:xfrm>
              <a:off x="457200" y="4648320"/>
              <a:ext cx="8001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Quantum computing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lets us seriously address this questio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5638680"/>
              <a:ext cx="8381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at’s why everyone should care about it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ven if factoring machines are never buil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048120"/>
            <a:ext cx="80769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se inputs to Grover’s algorithm are arranged in 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-by-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 grid.  Our quantum computer has unbounded memory, but to move the ‘read’ head one square takes uni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we search in less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n)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124080" y="304920"/>
          <a:ext cx="2514600" cy="2587680"/>
        </p:xfrm>
        <a:graphic>
          <a:graphicData uri="http://schemas.openxmlformats.org/drawingml/2006/table">
            <a:tbl>
              <a:tblPr/>
              <a:tblGrid>
                <a:gridCol w="503280"/>
                <a:gridCol w="503280"/>
                <a:gridCol w="50184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5181480" y="19051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rked i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380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914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380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447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914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380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304920"/>
            <a:ext cx="2666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Quantum compu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5335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onjecture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computers can’t solve NP-complete problems (solve = in polynomial ti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600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oo hard—we don’t even know if classical ones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86000"/>
            <a:ext cx="792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onjecture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computers can’t solve NP-complete problems unless classical ones can al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3352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till too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3962520"/>
            <a:ext cx="74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Conjecture 3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computers can’t solve NP-complete problems using only ‘brute force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9528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ooks easier—but can we formalize the notion of ‘brute force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lack-Box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219320"/>
            <a:ext cx="761976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decide whether Boolean formul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s a satisfying assign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rute for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ight mean we restrict ourselves to asking, i.e.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assignment X satisf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we’re treat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lack bo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ques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must we ask to know whether any one has a “yes” answ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f we can ask in superposi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Quantum Query Model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600200"/>
            <a:ext cx="769608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ere are n possible yes/no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 be answer to questio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antum algorithm, each basis state has form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= index to query     z = work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ry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maps each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-2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performs phase flip conditioned o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Quantum Query Model (con’t)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23880"/>
            <a:ext cx="845820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consists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leaved queries and unit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rbitrary unitary that doesn’t depend 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don’t care how hard it is to imp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we measure to obtain a basis state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output (say) first bit of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Quantum Query Complexity</a:t>
            </a:r>
            <a:endParaRPr b="1" lang="en-US" sz="39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295280"/>
            <a:ext cx="845820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f(X) be the function we’re trying to 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if it outputs f(X) with probability at least 2/3 for ever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(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# of queries made by any algorithm that computes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mmedi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f) = randomized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f) = deterministic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: Sear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057400"/>
            <a:ext cx="845820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y marked items in datab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if every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ic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R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antu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, from Grover’s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O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—i.e., Grover’s algorithm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95280" y="1371600"/>
          <a:ext cx="6096240" cy="51768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4T21:52:18Z</dcterms:created>
  <dc:creator>aaronson</dc:creator>
  <dc:description/>
  <dc:language>en-US</dc:language>
  <cp:lastModifiedBy>aaronson</cp:lastModifiedBy>
  <dcterms:modified xsi:type="dcterms:W3CDTF">2004-04-27T02:50:53Z</dcterms:modified>
  <cp:revision>63</cp:revision>
  <dc:subject/>
  <dc:title>Quantum Lower Bounds The Polynomial and Adversary Methods</dc:title>
</cp:coreProperties>
</file>