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BD6-696A-4C9A-AD82-10D5A5AA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B2B-2102-473A-A76D-485C8F8B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C6A3-AE51-45D0-A355-9E8968D88F7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0DA1-0981-4F70-8C4B-7FBEFBD8F16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35A5-AB6A-4B16-ACD1-79E006ED944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EEC-D8A7-4492-9DAA-C6A22FF898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8EB8-DFEB-4673-B58D-43CE6205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F79-B3B1-46D9-B681-D350F374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C074-22F8-4491-8271-AC6782CB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6021-546E-4DF3-80D6-B2D9D0E2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A49A-1E86-4B62-800D-5ABB171C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034-65B6-4A5B-BB40-8C59E9D2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BF37-51B4-4164-920E-693876FE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5717-6E24-4762-83AF-CDDD8AAD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39F2-2901-408C-A838-0F7382F9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062F-6788-4A29-BD3D-D7B652CC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5C1-DBD7-4888-B872-FB7F9C02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31F-68FB-420E-9224-6B065B61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E043-CCD9-43F4-A8D2-E0F8A4E0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6990-27AE-4D45-B412-ACA6A018E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86A-6254-4BCC-93A9-9F1A75C3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806-4322-4802-BE6E-FEFB43D0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772-126F-41D4-B17C-0E2A15F7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56D-67B6-4BF6-842F-FFF48E66F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49B4-646A-4D5A-B40D-347C0E84BC9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BD4E-9945-4385-BF5B-ACD36FF3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F42-58D2-4BB5-931C-C89CDAF2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053-58EC-451E-9B66-C5D1665B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95D-EF50-46D2-AB9D-43FE8F3D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084-329A-4BA9-AF66-69C80532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9E9-5CCB-4EC1-A8C5-4117BF7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AE0-1E84-445A-9AD9-D7EEC7B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008-AF9E-4016-837B-C455040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1F0-9BD9-4E32-8ED2-4DC285FA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9C4-F9C6-42C7-9793-AB7E30AE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039-4B99-42C7-B26B-0862534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D4B-933B-4CF8-A5FE-8C79AFDD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166-C8A0-4664-AA60-84286B1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DDA-6959-4A8C-8A9F-974FFD15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New Results on Learning and Reconstruction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511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eizmann Institute, November 6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253224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05320" y="230364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988320" y="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D430-F207-483E-94C9-F70127EB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53880" y="1828800"/>
            <a:ext cx="84582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for each i, eithe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decide which for every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301-F43C-4612-B58D-058C86E1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in contribution is to solv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96720" y="2666880"/>
            <a:ext cx="8458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problem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omise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the advice state are enough to reconstruct the whole truth table … even without knowing the prom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wise, in any 1-way communication protocol where Alice sends q qubits and Bob has an m-bit input, Õ(q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Alice’s message let Bob lear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-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quir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AF02-32B9-46F9-B156-FE979B1DE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Private-Key Quantum Money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My original motivation for shadow tomography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43080" y="1089000"/>
            <a:ext cx="845820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eme where a bank prepares states |$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it can verify, but no one else can feasibly 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Wiesner 1970 (!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ney scheme that’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condi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cure, but where the bank needs to store a separate set of measurement bases for every bill in cir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ennett et al. 198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an avoid that using pseudorandom functions, but then it’s no longer unconditionally sec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radeoff Theorem (A. 2016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very money scheme require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 computational assumption, or else a giant database maintained by the ban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ollow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immedi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rom the shadow tomography theorem!  (Why?)  Makes my earlier proof obso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270-07D7-4BCD-A0AB-CB589EC4F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8736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Proving the shadow tomography theorem involves combining several previous ingredients.  I’ll start with the problem of…</a:t>
            </a:r>
            <a:br>
              <a:rPr sz="26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60440" y="34527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hand all your grad students the sam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by measuring their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each student can learn the {0,1} answer to their n-bit thesis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460440" y="540396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task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000" y="1442880"/>
            <a:ext cx="1181160" cy="177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935840" y="1319040"/>
            <a:ext cx="1195560" cy="1863720"/>
          </a:xfrm>
          <a:prstGeom prst="rect">
            <a:avLst/>
          </a:prstGeom>
          <a:ln w="0">
            <a:noFill/>
          </a:ln>
        </p:spPr>
      </p:pic>
      <p:cxnSp>
        <p:nvCxnSpPr>
          <p:cNvPr id="172" name="Straight Arrow Connector 2"/>
          <p:cNvCxnSpPr/>
          <p:nvPr/>
        </p:nvCxnSpPr>
        <p:spPr>
          <a:xfrm>
            <a:off x="1235160" y="2447640"/>
            <a:ext cx="676656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Box 3"/>
          <p:cNvSpPr/>
          <p:nvPr/>
        </p:nvSpPr>
        <p:spPr>
          <a:xfrm>
            <a:off x="3672000" y="144288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ACF-2B62-4F38-B555-BBB4FA8D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1447920" y="117360"/>
            <a:ext cx="6019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urning the lemon into lemona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533520" y="3657600"/>
            <a:ext cx="8229600" cy="2921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stselected Learning 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  (trivial bounds: ~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~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457200" y="1620720"/>
            <a:ext cx="8305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for Bob to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of M two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nown to both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716-5E0C-403F-A10C-4AA223995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"/>
              <p:cNvSpPr txBox="1"/>
              <p:nvPr/>
            </p:nvSpPr>
            <p:spPr>
              <a:xfrm>
                <a:off x="2819520" y="4724280"/>
                <a:ext cx="3238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0" name="Picture 10" descr="C:\Users\Scott\AppData\Local\Microsoft\Windows\INetCache\IE\RHPK08JT\lemon-citrina[1].png"/>
          <p:cNvPicPr/>
          <p:nvPr/>
        </p:nvPicPr>
        <p:blipFill>
          <a:blip r:embed="rId1"/>
          <a:stretch/>
        </p:blipFill>
        <p:spPr>
          <a:xfrm>
            <a:off x="152280" y="0"/>
            <a:ext cx="1621080" cy="162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:\Users\Scott\AppData\Local\Microsoft\Windows\INetCache\IE\IVR9QIKH\uXOpy[1].jpg"/>
          <p:cNvPicPr/>
          <p:nvPr/>
        </p:nvPicPr>
        <p:blipFill>
          <a:blip r:embed="rId2"/>
          <a:stretch/>
        </p:blipFill>
        <p:spPr>
          <a:xfrm>
            <a:off x="7467480" y="100080"/>
            <a:ext cx="9144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A2C-17AE-4165-80B6-4F625E3B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"/>
              <p:cNvSpPr txBox="1"/>
              <p:nvPr/>
            </p:nvSpPr>
            <p:spPr>
              <a:xfrm>
                <a:off x="5486400" y="4191120"/>
                <a:ext cx="2309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oglog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700"/>
          <p:cNvSpPr/>
          <p:nvPr/>
        </p:nvSpPr>
        <p:spPr>
          <a:xfrm>
            <a:off x="152280" y="152280"/>
            <a:ext cx="8839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’s iterative learning procedure will “converge” on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 on all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fter at most T=O(log D*)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1285920" y="2143080"/>
                <a:ext cx="3066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95" name="Straight Arrow Connector 14"/>
          <p:cNvCxnSpPr/>
          <p:nvPr/>
        </p:nvCxnSpPr>
        <p:spPr>
          <a:xfrm flipH="1" flipV="1">
            <a:off x="2208960" y="338724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735200" y="3827520"/>
                <a:ext cx="44877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sSup>
                      <m:e>
                        <m:r>
                          <m:t xml:space="preserve">ρ</m:t>
                        </m:r>
                      </m:e>
                      <m:sup/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den>
                        </m:f>
                      </m:e>
                    </m: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7" name="Straight Arrow Connector 20"/>
          <p:cNvCxnSpPr/>
          <p:nvPr/>
        </p:nvCxnSpPr>
        <p:spPr>
          <a:xfrm flipH="1">
            <a:off x="4647600" y="293004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8" name="Text Box 700"/>
          <p:cNvSpPr/>
          <p:nvPr/>
        </p:nvSpPr>
        <p:spPr>
          <a:xfrm>
            <a:off x="5334120" y="216864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990720" y="1776240"/>
            <a:ext cx="7162560" cy="2365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ing, we find that t = O(log D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t’s enough for Alice to tell Bob about T=Õ(log D) measurem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sing log(M) bits pe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1012680" y="4562640"/>
            <a:ext cx="7162920" cy="1824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theory consequence: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ost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Open whether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47C-98FE-45E9-BAF5-EE69FD13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380880" y="283212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28600" y="304920"/>
            <a:ext cx="8763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for the shadow tomography theorem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classical description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given copies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.  So we’ll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CB73-79F1-45F7-993A-A10ED1C4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Object 12"/>
              <p:cNvSpPr txBox="1"/>
              <p:nvPr/>
            </p:nvSpPr>
            <p:spPr>
              <a:xfrm>
                <a:off x="4267080" y="2955960"/>
                <a:ext cx="1328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 Box 3"/>
          <p:cNvSpPr/>
          <p:nvPr/>
        </p:nvSpPr>
        <p:spPr>
          <a:xfrm>
            <a:off x="338040" y="365040"/>
            <a:ext cx="830592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imed a proof of the Quantum OR Bound, based on just applying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in a random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rrow-Lin-Montanaro, SODA’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covered an error in my proof—but also fixe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y give two procedures, one of which is to prepare a control qubit in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repeatedly apply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, while also periodically measuring the control qubit to see if it’s decohered (in which case we’re in case (i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mains open whether my original, simpler procedure is als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8A7-7158-41AC-B939-8EEFF8FB8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338040" y="89388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two-outcome measurements.  Suppose we’re promised that 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.  Then we can find a j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using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Gentle Search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901-2932-485C-B44D-17E4F8E2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2965320" y="3139920"/>
                <a:ext cx="3052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Text Box 3"/>
          <p:cNvSpPr/>
          <p:nvPr/>
        </p:nvSpPr>
        <p:spPr>
          <a:xfrm>
            <a:off x="371520" y="44514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Reduce search to decision using binary search (“oldest trick in the book!”).  As we recurse, promise degrades from c to 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c-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etc.  That, plus the need for fresh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t each level, is what produces the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.  I conjecture it’s not t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0D6C-460A-460D-B397-0FEA7BF09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38040" y="990720"/>
            <a:ext cx="8305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do shadow tomography, we run my postselected learning algorithm—but in each iteration, using the Gentle Search Procedure to find a measuremen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utting Everyth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956-31D8-46A7-AF39-C230A106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71520" y="3429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refully Chernoff-bounding, union-bounding, etc. etc., I end up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371600" y="2425680"/>
                <a:ext cx="43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2895480" y="4038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Text Box 3"/>
          <p:cNvSpPr/>
          <p:nvPr/>
        </p:nvSpPr>
        <p:spPr>
          <a:xfrm>
            <a:off x="37152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338040" y="888840"/>
            <a:ext cx="8467920" cy="28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n unknown distribu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n-bit strings, and known Boolean function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ne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samples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approxim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x)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i.e., shadow tomography requires at least that many samples, for reasons having nothing to do with Q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93760" y="968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Lower Bound for Shadow To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C648-0DAE-4DD8-862E-761AD65E6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71520" y="3781440"/>
            <a:ext cx="8467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 invite you to prove this yourself!  (my approach used distributions with a sing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sized Fourier coefficient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t argued that each sample has mutual information only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with s, but approximating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(mod 2)] for every r entails learning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80880" y="6192720"/>
            <a:ext cx="84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t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classical cas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(log D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is t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316080" y="1011240"/>
            <a:ext cx="846756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ur procedure uses Õ(L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log log 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a singl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our ideas with recent SDP algorithms, achieve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 strong assumptions on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: polylog(D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implicit representation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re’s no quantum 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al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52F0-749E-4244-9A6A-23947959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3080" y="1628640"/>
            <a:ext cx="84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.  Suppose we’re given 2-outcome measurem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… in sequence, each followed by the value of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/2.  Each time, we’re challenged to guess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8600" y="23976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line Learning of Quantum State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nother result,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.-Chen-Hazan-Nayak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3124080" y="3465360"/>
                <a:ext cx="36896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 Box 3"/>
          <p:cNvSpPr/>
          <p:nvPr/>
        </p:nvSpPr>
        <p:spPr>
          <a:xfrm>
            <a:off x="304920" y="4191120"/>
            <a:ext cx="830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do this so that we fail at most O((log D)/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i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82A3-E0AE-466C-9F46-96176652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07880" y="4876920"/>
            <a:ext cx="8485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Adapt my postselected learning theor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Upper-bound sequential fat-shattering dim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3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emidefinite programming blah bl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7"/>
          <p:cNvSpPr/>
          <p:nvPr/>
        </p:nvSpPr>
        <p:spPr>
          <a:xfrm>
            <a:off x="304920" y="239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Non-Realizabl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311040" y="2590920"/>
                <a:ext cx="8375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ρ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ρ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 Box 3"/>
          <p:cNvSpPr/>
          <p:nvPr/>
        </p:nvSpPr>
        <p:spPr>
          <a:xfrm>
            <a:off x="316080" y="4060800"/>
            <a:ext cx="852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hese results complement my earlie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Quantum Occam’s Razor Theor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  <a:ea typeface="Calibri"/>
              </a:rPr>
              <a:t>(A. 2006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which showed that for any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distribu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over two-outcome measurements, it takes only O(log D) sample measurements from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and their outcomes, before we can approximately predict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for most further E~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143000"/>
            <a:ext cx="8229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suppose there need not be any actual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Even then, for any sequenc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 we can ensure that our hypothesis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 satis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3CC5-EBB8-40A8-8285-699BCDD0C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82600" y="1219320"/>
            <a:ext cx="853452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dow tomography with fewer copi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Maybe even log(M), independent of the Hilbert space dimension D??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shadow tomography possible without using “collective” and “nondemolition” measurement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 computational complexity beyond Brandão et al.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better for subclasses of states and measure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PAC-learning stabilizer states: Rocchetto 20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more applications of these results, whether in complexity theory or experimental physi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817-583A-4E57-87F1-FFAD538B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71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75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80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86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90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2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Slide Number Placeholder 1"/>
          <p:cNvSpPr/>
          <p:nvPr/>
        </p:nvSpPr>
        <p:spPr>
          <a:xfrm>
            <a:off x="6994440" y="17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0E86-EDB1-4816-98A5-347C055A8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terlude: Mix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00"/>
          <p:cNvSpPr/>
          <p:nvPr/>
        </p:nvSpPr>
        <p:spPr>
          <a:xfrm>
            <a:off x="228600" y="2590920"/>
            <a:ext cx="87631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ositive semidefinite matrix with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general kind of state in QM: encodes (everything measurable about) a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yes-or-no measurement can be represent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E with all eigenvalues i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asurement “accep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“rejec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1-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2057400" y="1066680"/>
                <a:ext cx="4919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423-43AA-49C9-94BE-DF01A7B6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nsbruck group (2005).  8 particles, ~656,000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1"/>
          <p:cNvSpPr/>
          <p:nvPr/>
        </p:nvSpPr>
        <p:spPr>
          <a:xfrm>
            <a:off x="703260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4DA3-F47F-41F6-A026-4C7CA91BA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2280" y="228600"/>
            <a:ext cx="883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Computing Skepticis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levin"/>
          <p:cNvPicPr/>
          <p:nvPr/>
        </p:nvPicPr>
        <p:blipFill>
          <a:blip r:embed="rId1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1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2" descr=""/>
          <p:cNvPicPr/>
          <p:nvPr/>
        </p:nvPicPr>
        <p:blipFill>
          <a:blip r:embed="rId3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3" descr=""/>
          <p:cNvPicPr/>
          <p:nvPr/>
        </p:nvPicPr>
        <p:blipFill>
          <a:blip r:embed="rId4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n what senses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7010280" y="-25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E180-C967-4F93-8DAE-C4FF1A61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5"/>
          <a:stretch/>
        </p:blipFill>
        <p:spPr>
          <a:xfrm>
            <a:off x="7188120" y="1219320"/>
            <a:ext cx="1092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282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 we tame the exponential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0"/>
          <p:cNvSpPr/>
          <p:nvPr/>
        </p:nvSpPr>
        <p:spPr>
          <a:xfrm>
            <a:off x="762120" y="112068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asking what they’ll actually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00"/>
          <p:cNvSpPr/>
          <p:nvPr/>
        </p:nvSpPr>
        <p:spPr>
          <a:xfrm>
            <a:off x="255600" y="2209680"/>
            <a:ext cx="861048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sequence of works for 14 years, I’ve been trying to use tools from computational learning theory to do exactly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selected learning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4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Occam’s Razor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ll characterization of quantum advice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-Drucker 201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dow tomography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17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ine learning of quantum state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[A.-Chen-Hazan-Nayak 201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7010280" y="-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9168-F3CE-4DAF-BBD5-758DE9B67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0"/>
          <p:cNvSpPr/>
          <p:nvPr/>
        </p:nvSpPr>
        <p:spPr>
          <a:xfrm>
            <a:off x="277920" y="615960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’ll tell you about the last two, and the others where releva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A67-5F28-4FE8-A64B-F1AF920C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"/>
              <p:cNvSpPr txBox="1"/>
              <p:nvPr/>
            </p:nvSpPr>
            <p:spPr>
              <a:xfrm>
                <a:off x="2133720" y="5073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TextBox 3"/>
          <p:cNvSpPr/>
          <p:nvPr/>
        </p:nvSpPr>
        <p:spPr>
          <a:xfrm>
            <a:off x="1600200" y="62485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oesn’t this violate Holevo’s Theorem?  Nop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704E-EA8F-4929-A61C-8DDDC9A1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by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7-11-06T09:51:22Z</dcterms:modified>
  <cp:revision>129</cp:revision>
  <dc:subject/>
  <dc:title>The Learnability of Quantum States</dc:title>
</cp:coreProperties>
</file>