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FED-E6C3-4BA9-9CC2-9D218B08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EDE4-0424-43B6-95D9-13E241DD7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D4F5-F7A4-4546-AEBC-CC248F9C8A5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178-03A9-4501-9F21-7E9E291E3BA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9CE-03B7-4BC0-851F-C1A19C0B7B9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6570-00A2-4F50-A82F-78768024FB3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6EF9-CEBE-4E22-8C6B-DA87F049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107C-873F-4297-8ABE-2F8AC813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E7FA-6CE6-4C88-9F84-6B68CECC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AF4C-8B72-4B61-AC24-EEF30B37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C75F-2D32-4DB7-A200-87A199C6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1703-58E3-4271-B4FB-49F4F443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0368-8D35-4BF7-8F88-9A2FB0B0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869-21BB-4ACB-8D8B-2773441A0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A820-9CB7-42FF-9519-FA40DD21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07A-5644-4DEA-8457-D9270C9A4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3616-E1B3-48F0-AD0A-9F17F3185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1227-C22A-4515-BFC3-EC9152E1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8B79-0BA0-4CD4-ACD0-ABBB0CF4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07D-8F71-41F4-8A2D-34857E27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CD1F-3679-4924-9764-1AB0FB1A5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E55-8CDB-4A9D-96F9-E1155B416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8C99-4E0F-401B-80F3-DDFF11FB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49A1-7E3F-4EDD-A611-93FBE878A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2F9-839F-4981-83C2-273CB0B681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DD7C-B0DE-437F-A0E4-EEF284F4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EC3-7C8B-45B3-A40A-FB962EF7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238-F139-46CE-8883-C9159343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E6C-D45E-46A0-9334-3AF8DB6C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8C7-D2E6-4F56-A8C3-6E42ACA1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0E2-6867-43B0-855D-CFD1D146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A456-B41E-4CEE-891B-F71D8F9D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AD6-9F32-45F2-B029-0D36E494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EF0-92EA-4B03-88C4-13BC67F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938-94D3-4DEA-BAF4-A5426AA3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DA1-17BB-4B0A-BF26-A8C0D61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52D-8D17-4DAB-84C9-E714AF7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047-1B5A-4F38-952E-02397B0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949D-A590-4E90-A422-5911F754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New Results on Learning and Reconstruction of Quantum State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51196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eizmann Institute, November 6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j02909010000[1]"/>
          <p:cNvPicPr/>
          <p:nvPr/>
        </p:nvPicPr>
        <p:blipFill>
          <a:blip r:embed="rId1"/>
          <a:stretch/>
        </p:blipFill>
        <p:spPr>
          <a:xfrm>
            <a:off x="3809880" y="2532240"/>
            <a:ext cx="2165400" cy="1226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3505320" y="2303640"/>
            <a:ext cx="1981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988320" y="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3757-B257-427D-A257-09840C724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53880" y="1828800"/>
            <a:ext cx="8458200" cy="25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for each i, eithe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decide which for every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AA0-CEAB-4972-B6A2-D992850B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main contribution is to solve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96720" y="2666880"/>
            <a:ext cx="8458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problem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romise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the advice state are enough to reconstruct the whole truth table … even without knowing the promi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wise, in any 1-way communication protocol where Alice sends q qubits and Bob has an m-bit input, Õ(q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Alice’s message let Bob lear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-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quire computa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D33B-C1DE-42A8-8C41-3CC9761C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Private-Key Quantum Money</a:t>
            </a:r>
            <a:br>
              <a:rPr sz="4400"/>
            </a:b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My original motivation for shadow tomography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43080" y="1089000"/>
            <a:ext cx="845820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cheme where a bank prepares states |$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it can verify, but no one else can feasibly cop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Wiesner 1970 (!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ney scheme that’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condi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cure, but where the bank needs to store a separate set of measurement bases for every bill in circul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ennett et al. 198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an avoid that using pseudorandom functions, but then it’s no longer unconditionally sec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radeoff Theorem (A. 2016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very money scheme require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 computational assumption, or else a giant database maintained by the ban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ollows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immedi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rom the shadow tomography theorem!  (Why?)  Makes my earlier proof obso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21F-9B6F-4691-A354-3E1AE8DEA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8736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alibri"/>
              </a:rPr>
              <a:t>Proving the shadow tomography theorem involves combining several previous ingredients.  I’ll start with the problem of…</a:t>
            </a:r>
            <a:br>
              <a:rPr sz="26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60440" y="34527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hand all your grad students the sam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by measuring their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suitable basis, each student can learn the {0,1} answer to their n-bit thesis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460440" y="540396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[Ambainis, Nayak, Ta-Shma, Vazirani 199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task as 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000" y="1442880"/>
            <a:ext cx="1181160" cy="177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935840" y="1319040"/>
            <a:ext cx="1195560" cy="1863720"/>
          </a:xfrm>
          <a:prstGeom prst="rect">
            <a:avLst/>
          </a:prstGeom>
          <a:ln w="0">
            <a:noFill/>
          </a:ln>
        </p:spPr>
      </p:pic>
      <p:cxnSp>
        <p:nvCxnSpPr>
          <p:cNvPr id="172" name="Straight Arrow Connector 2"/>
          <p:cNvCxnSpPr/>
          <p:nvPr/>
        </p:nvCxnSpPr>
        <p:spPr>
          <a:xfrm>
            <a:off x="1235160" y="2447640"/>
            <a:ext cx="676656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Box 3"/>
          <p:cNvSpPr/>
          <p:nvPr/>
        </p:nvSpPr>
        <p:spPr>
          <a:xfrm>
            <a:off x="3672000" y="144288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634-4389-4A28-B8B8-12F4159C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1447920" y="117360"/>
            <a:ext cx="6019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urning the lemon into lemona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533520" y="3657600"/>
            <a:ext cx="8229600" cy="2921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stselected Learning 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  (trivial bounds: ~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~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457200" y="1620720"/>
            <a:ext cx="83059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, well enough for Bob to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of M two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nown to both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361-6A95-414D-B514-EBCDBD6D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"/>
              <p:cNvSpPr txBox="1"/>
              <p:nvPr/>
            </p:nvSpPr>
            <p:spPr>
              <a:xfrm>
                <a:off x="2819520" y="4724280"/>
                <a:ext cx="3238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0" name="Picture 10" descr="C:\Users\Scott\AppData\Local\Microsoft\Windows\INetCache\IE\RHPK08JT\lemon-citrina[1].png"/>
          <p:cNvPicPr/>
          <p:nvPr/>
        </p:nvPicPr>
        <p:blipFill>
          <a:blip r:embed="rId1"/>
          <a:stretch/>
        </p:blipFill>
        <p:spPr>
          <a:xfrm>
            <a:off x="152280" y="0"/>
            <a:ext cx="1621080" cy="1620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:\Users\Scott\AppData\Local\Microsoft\Windows\INetCache\IE\IVR9QIKH\uXOpy[1].jpg"/>
          <p:cNvPicPr/>
          <p:nvPr/>
        </p:nvPicPr>
        <p:blipFill>
          <a:blip r:embed="rId2"/>
          <a:stretch/>
        </p:blipFill>
        <p:spPr>
          <a:xfrm>
            <a:off x="7467480" y="100080"/>
            <a:ext cx="9144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D9E9-3DC7-4814-A213-6712DEA27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"/>
              <p:cNvSpPr txBox="1"/>
              <p:nvPr/>
            </p:nvSpPr>
            <p:spPr>
              <a:xfrm>
                <a:off x="5486400" y="4191120"/>
                <a:ext cx="2309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oglog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700"/>
          <p:cNvSpPr/>
          <p:nvPr/>
        </p:nvSpPr>
        <p:spPr>
          <a:xfrm>
            <a:off x="152280" y="152280"/>
            <a:ext cx="883944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rucial Clai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ob’s iterative learning procedure will “converge” on a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 on all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fter at most T=O(log D*) it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Pr[first t postselections all succeed]. 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1285920" y="2143080"/>
                <a:ext cx="3066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95" name="Straight Arrow Connector 14"/>
          <p:cNvCxnSpPr/>
          <p:nvPr/>
        </p:nvCxnSpPr>
        <p:spPr>
          <a:xfrm flipH="1" flipV="1">
            <a:off x="2208960" y="3387240"/>
            <a:ext cx="2293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1735200" y="3827520"/>
                <a:ext cx="44877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den>
                    </m:f>
                    <m:sSup>
                      <m:e>
                        <m:r>
                          <m:t xml:space="preserve">ρ</m:t>
                        </m:r>
                      </m:e>
                      <m:sup/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/>
                            </m:sSup>
                          </m:den>
                        </m:f>
                      </m:e>
                    </m:d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7" name="Straight Arrow Connector 20"/>
          <p:cNvCxnSpPr/>
          <p:nvPr/>
        </p:nvCxnSpPr>
        <p:spPr>
          <a:xfrm flipH="1">
            <a:off x="4647600" y="2930040"/>
            <a:ext cx="686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8" name="Text Box 700"/>
          <p:cNvSpPr/>
          <p:nvPr/>
        </p:nvSpPr>
        <p:spPr>
          <a:xfrm>
            <a:off x="5334120" y="2168640"/>
            <a:ext cx="3124080" cy="139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asn’t less than, say, (2/3)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learning would’ve en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990720" y="1776240"/>
            <a:ext cx="7162560" cy="23652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ing, we find that t = O(log D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t’s enough for Alice to tell Bob about T=Õ(log D) measurements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1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using log(M) bits pe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1012680" y="4562640"/>
            <a:ext cx="7162920" cy="1824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 theory consequence: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ostBQ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Open whether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7481-ECC5-457C-8EC5-42B9F774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380880" y="283212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28600" y="304920"/>
            <a:ext cx="8763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for the shadow tomography theorem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classical description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given copies of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.  So we’ll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4E6-62CF-499B-BA8F-3CBFA389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Object 12"/>
              <p:cNvSpPr txBox="1"/>
              <p:nvPr/>
            </p:nvSpPr>
            <p:spPr>
              <a:xfrm>
                <a:off x="4267080" y="2955960"/>
                <a:ext cx="1328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 Box 3"/>
          <p:cNvSpPr/>
          <p:nvPr/>
        </p:nvSpPr>
        <p:spPr>
          <a:xfrm>
            <a:off x="338040" y="365040"/>
            <a:ext cx="830592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imed a proof of the Quantum OR Bound, based on just applying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 in a random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Harrow-Lin-Montanaro, SODA’201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iscovered an error in my proof—but also fixe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y give two procedures, one of which is to prepare a control qubit in th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repeatedly apply amplifie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, while also periodically measuring the control qubit to see if it’s decohered (in which case we’re in case (i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t remains open whether my original, simpler procedure is also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F69-B73B-45C5-831A-54C45D75A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338040" y="89388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two-outcome measurements.  Suppose we’re promised that there exists an i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.  Then we can find a j such that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using this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Gentle Search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A63-716E-4324-8C14-55EEFF06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2965320" y="3139920"/>
                <a:ext cx="3052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Text Box 3"/>
          <p:cNvSpPr/>
          <p:nvPr/>
        </p:nvSpPr>
        <p:spPr>
          <a:xfrm>
            <a:off x="371520" y="445140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Reduce search to decision using binary search (“oldest trick in the book!”).  As we recurse, promise degrades from c to 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c-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etc.  That, plus the need for fresh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t each level, is what produces the lo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.  I conjecture it’s not t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632-703F-4CAA-B1AC-05909FF6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38040" y="990720"/>
            <a:ext cx="8305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do shadow tomography, we run my postselected learning algorithm—but in each iteration, using the Gentle Search Procedure to find a measuremen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04920" y="101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Putting Everything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FE35-1634-44B4-8300-2CC57868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71520" y="3429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refully Chernoff-bounding, union-bounding, etc. etc., I end up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371600" y="2425680"/>
                <a:ext cx="43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2895480" y="4038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Text Box 3"/>
          <p:cNvSpPr/>
          <p:nvPr/>
        </p:nvSpPr>
        <p:spPr>
          <a:xfrm>
            <a:off x="37152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338040" y="888840"/>
            <a:ext cx="8467920" cy="28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n unknown distribu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ver n-bit strings, and known Boolean function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ne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n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samples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approxim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x)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i.e., shadow tomography requires at least that many samples, for reasons having nothing to do with Q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93760" y="968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Lower Bound for Shadow Tom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573-575B-45DA-B421-B983AF91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71520" y="3781440"/>
            <a:ext cx="8467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 invite you to prove this yourself!  (my approach used distributions with a sing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sized Fourier coefficient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It argued that each sample has mutual information only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with s, but approximating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x~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(mod 2)] for every r entails learning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380880" y="6192720"/>
            <a:ext cx="84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t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classical cas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(log D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is t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316080" y="1011240"/>
            <a:ext cx="846756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ur procedure uses Õ(L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log log 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a singl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y combining our ideas with recent SDP algorithms, achieve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 strong assumptions on th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s: polylog(D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implicit representations a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here’s no quantum copy-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al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7010280" y="9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D802-5ED2-4857-8D40-6CB35625F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3080" y="1628640"/>
            <a:ext cx="848484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Le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D-dimensional state.  Suppose we’re given 2-outcome measurements 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… in sequence, each followed by the value of Tr(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o with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/2.  Each time, we’re challenged to guess a hypothesis sta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uch th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8600" y="23976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Online Learning of Quantum State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nother result, by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.-Chen-Hazan-Nayak 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(in prepa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3124080" y="3465360"/>
                <a:ext cx="36896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ρ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Text Box 3"/>
          <p:cNvSpPr/>
          <p:nvPr/>
        </p:nvSpPr>
        <p:spPr>
          <a:xfrm>
            <a:off x="304920" y="4191120"/>
            <a:ext cx="8305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We can do this so that we fail at most O((log D)/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ti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A3C6-22B3-4607-8558-81D23340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07880" y="4876920"/>
            <a:ext cx="84852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Adapt my postselected learning theor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Upper-bound sequential fat-shattering dimen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Proof #3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Semidefinite programming blah bla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7"/>
          <p:cNvSpPr/>
          <p:nvPr/>
        </p:nvSpPr>
        <p:spPr>
          <a:xfrm>
            <a:off x="304920" y="23976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Non-Realizable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311040" y="2590920"/>
                <a:ext cx="8375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</m:e>
                    </m:nary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ρ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ρ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 Box 3"/>
          <p:cNvSpPr/>
          <p:nvPr/>
        </p:nvSpPr>
        <p:spPr>
          <a:xfrm>
            <a:off x="316080" y="4060800"/>
            <a:ext cx="852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These results complement my earlie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Calibri"/>
              </a:rPr>
              <a:t>Quantum Occam’s Razor Theor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  <a:ea typeface="Calibri"/>
              </a:rPr>
              <a:t>(A. 2006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which showed that for any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distribu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over two-outcome measurements, it takes only O(log D) sample measurements from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 and their outcomes, before we can approximately predict Tr(E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) for most further E~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143000"/>
            <a:ext cx="82296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ow suppose there need not be any actual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Even then, for any sequenc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 we can ensure that our hypothesis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 satis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DEAA-A609-4AD8-BEAF-8F844B91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82600" y="1219320"/>
            <a:ext cx="853452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dow tomography with fewer copies of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?  Maybe even log(M), independent of the Hilbert space dimension D??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shadow tomography possible without using “collective” and “nondemolition” measurement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rove computational complexity beyond Brandão et al.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better for subclasses of states and measuremen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PAC-learning stabilizer states: Rocchetto 20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more applications of these results, whether in complexity theory or experimental physi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AD2-783E-4366-80E9-2140485AA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71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75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80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86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90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2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Slide Number Placeholder 1"/>
          <p:cNvSpPr/>
          <p:nvPr/>
        </p:nvSpPr>
        <p:spPr>
          <a:xfrm>
            <a:off x="6994440" y="17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AC0-367B-45EC-A59B-748D9858A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Interlude: Mixed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00"/>
          <p:cNvSpPr/>
          <p:nvPr/>
        </p:nvSpPr>
        <p:spPr>
          <a:xfrm>
            <a:off x="228600" y="2590920"/>
            <a:ext cx="876312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ositive semidefinite matrix with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general kind of state in QM: encodes (everything measurable about) a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yes-or-no measurement can be represent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Hermitian psd matrix E with all eigenvalues in [0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asurement “accep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nd “rejects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1-Tr(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"/>
              <p:cNvSpPr txBox="1"/>
              <p:nvPr/>
            </p:nvSpPr>
            <p:spPr>
              <a:xfrm>
                <a:off x="2057400" y="1066680"/>
                <a:ext cx="491976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62D-7E1F-490A-BF82-64B1A576A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roduce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nsbruck group (2005).  8 particles, ~656,000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1"/>
          <p:cNvSpPr/>
          <p:nvPr/>
        </p:nvSpPr>
        <p:spPr>
          <a:xfrm>
            <a:off x="703260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7FAB-FF57-44A1-8DC1-2989CBDB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2280" y="228600"/>
            <a:ext cx="883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Computing Skepticis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levin"/>
          <p:cNvPicPr/>
          <p:nvPr/>
        </p:nvPicPr>
        <p:blipFill>
          <a:blip r:embed="rId1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1" descr=""/>
          <p:cNvPicPr/>
          <p:nvPr/>
        </p:nvPicPr>
        <p:blipFill>
          <a:blip r:embed="rId2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2" descr=""/>
          <p:cNvPicPr/>
          <p:nvPr/>
        </p:nvPicPr>
        <p:blipFill>
          <a:blip r:embed="rId3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3" descr=""/>
          <p:cNvPicPr/>
          <p:nvPr/>
        </p:nvPicPr>
        <p:blipFill>
          <a:blip r:embed="rId4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n what senses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7010280" y="-25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EDC1-37A0-4C51-80DC-069BEFF8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5"/>
          <a:stretch/>
        </p:blipFill>
        <p:spPr>
          <a:xfrm>
            <a:off x="7188120" y="1219320"/>
            <a:ext cx="1092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28600" y="282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an we tame the exponential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00"/>
          <p:cNvSpPr/>
          <p:nvPr/>
        </p:nvSpPr>
        <p:spPr>
          <a:xfrm>
            <a:off x="762120" y="112068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asking what they’ll actually be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00"/>
          <p:cNvSpPr/>
          <p:nvPr/>
        </p:nvSpPr>
        <p:spPr>
          <a:xfrm>
            <a:off x="255600" y="2209680"/>
            <a:ext cx="861048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sequence of works for 14 years, I’ve been trying to use tools from computational learning theory to do exactly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selected learning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4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ntum Occam’s Razor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ll characterization of quantum advice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-Drucker 201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adow tomography theorem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17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ine learning of quantum state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[A.-Chen-Hazan-Nayak 201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7010280" y="-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6BC-6D12-41BE-8F88-5489B7A6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00"/>
          <p:cNvSpPr/>
          <p:nvPr/>
        </p:nvSpPr>
        <p:spPr>
          <a:xfrm>
            <a:off x="277920" y="615960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’ll tell you about the last two, and the others where relevan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in Resul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111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15B2-3DB1-4234-AC31-09E1D86C1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"/>
              <p:cNvSpPr txBox="1"/>
              <p:nvPr/>
            </p:nvSpPr>
            <p:spPr>
              <a:xfrm>
                <a:off x="2133720" y="5073480"/>
                <a:ext cx="4235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Õ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1/</m:t>
                            </m:r>
                            <m:r>
                              <m:t xml:space="preserve">δ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TextBox 3"/>
          <p:cNvSpPr/>
          <p:nvPr/>
        </p:nvSpPr>
        <p:spPr>
          <a:xfrm>
            <a:off x="1600200" y="624852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oesn’t this violate Holevo’s Theorem?  Nop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7FFB-BED0-4274-A91B-0EBAA068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by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17-11-06T09:51:22Z</dcterms:modified>
  <cp:revision>129</cp:revision>
  <dc:subject/>
  <dc:title>The Learnability of Quantum States</dc:title>
</cp:coreProperties>
</file>