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2768-F46F-4FA5-AA26-28FFD73BB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6A21-D857-4E99-A1E2-A43A6992D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5BDF-6F76-4457-8843-76EB4B6375C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7B16-EBBC-41B5-A3DC-3FAFC3048FD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31B0-4A93-4F71-9656-04990B92946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6B9A-42C3-4696-B23E-240CA4035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1438-81E4-481E-AE46-464BBC69B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B2F1-56E2-44C7-B450-4830AB989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AD09-1897-4A6D-88D4-939517E93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5830-CEAB-4AA9-9842-718475934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A3E2-A830-481B-B10C-108662223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EC18-6ABA-4030-9AE9-5AA5F5592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F403-AFC0-4D3F-A464-F63C6C365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387B-B262-42D6-9316-5B88E354F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338E-AEBB-4E5B-924A-1440E8EC2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A445-13FE-45C7-9B48-52E209254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588A-7412-4E34-8A65-CAE79E91B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25CB-5DB6-4444-8A8D-AD87C5242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57CC-466A-4EF9-8544-C806EEFA6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2282-3AE8-4A7B-A28F-FF215A672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9247-B0C0-4542-B6AE-44917D62A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F571-B279-4712-84A2-3729E42F8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8EB8-487E-4052-AB95-0087E7A9AFF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4ACB-133B-47E7-B9DF-3316ED11C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B568-EA4F-44C2-B896-1D46AB13C15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172E-0192-4905-987F-B1006EDE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3DD7-09D5-446E-843A-98B68697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B216-70A9-40C8-8472-8E0D3CF4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045B-BEA5-4D5C-94BD-78311963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0A54-74F2-4F56-9EFF-077B22F0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C12-D56A-44E2-8543-A52103BA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ABB-296D-4768-84D2-974A0C1A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A1E-4A8E-4832-8455-B30ED9B9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27F7-2383-44CF-97A2-105650FC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FEF8-E1B0-4506-9AD9-4287FC69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D3A-1906-4585-A682-C7F660B4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772-36D7-4B51-95B7-5BFF9DF5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DAD4-44BA-457A-93F4-EEBED8658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  <a:ea typeface="Calibri"/>
              </a:rPr>
              <a:t>New Results on Learning and Reconstruction of Quantum State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551196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ebrew University, November 8,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MCj02909010000[1]"/>
          <p:cNvPicPr/>
          <p:nvPr/>
        </p:nvPicPr>
        <p:blipFill>
          <a:blip r:embed="rId1"/>
          <a:stretch/>
        </p:blipFill>
        <p:spPr>
          <a:xfrm>
            <a:off x="3809880" y="2532240"/>
            <a:ext cx="2165400" cy="12268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"/>
          <p:cNvSpPr/>
          <p:nvPr/>
        </p:nvSpPr>
        <p:spPr>
          <a:xfrm>
            <a:off x="3505320" y="2303640"/>
            <a:ext cx="1981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988320" y="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7EB9-EE98-4C5F-B855-433A887EB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3440" y="97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Implica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96720" y="2666880"/>
            <a:ext cx="84582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y problem i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PromiseBQP/q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pies of the advice state are enough to reconstruct the whole truth table … even without knowing the promi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wise, in any 1-way communication protocol where Alice sends q qubits and Bob has an m-bit input, Õ(q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of Alice’s message let Bob learn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scheme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antum software copy-prote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require computational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3501-CEF8-4232-98DF-CD6713C83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304920" y="990720"/>
            <a:ext cx="8550000" cy="13737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 n-qubit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any fixed polynomial p, by measuring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pies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e can lear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behavior o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ccepting/rejecting circuit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n)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3440" y="97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Private-Key Quantum Money</a:t>
            </a:r>
            <a:br>
              <a:rPr sz="4400"/>
            </a:br>
            <a:r>
              <a:rPr b="1" lang="en-US" sz="2600" spc="-1" strike="noStrike">
                <a:solidFill>
                  <a:srgbClr val="333399"/>
                </a:solidFill>
                <a:latin typeface="Calibri"/>
              </a:rPr>
              <a:t>My original motivation for shadow tomography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343080" y="1089000"/>
            <a:ext cx="8458200" cy="56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heme where a bank prepares states |$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at it can verify, but no one else can feasibly cop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Wiesner 1970 (!)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oney scheme that’s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unconditional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ecure, but where the bank needs to store a separate set of measurement bases for every bill in circu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Bennett et al. 198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an avoid that using pseudorandom functions, but then it’s no longer unconditionally sec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Tradeoff Theorem (A. 2016)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Every money scheme requires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eithe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 computational assumption, or else a giant database maintained by the ban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s follows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immediate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rom the shadow tomography theorem!  (Why?)  Makes my earlier proof obsole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0562-FD72-41CB-B865-B75D079A4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38736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Calibri"/>
              </a:rPr>
              <a:t>Proving the shadow tomography theorem involves combining several previous ingredients.  I’ll start with the problem of…</a:t>
            </a:r>
            <a:br>
              <a:rPr sz="2600"/>
            </a:b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The Absent-Minded Advisor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460440" y="345276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hand all your grad students the sam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qubit quantum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o that by measuring their copy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a suitable basis, each student can learn the {0,1} answer to their n-bit thesis ques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460440" y="540396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O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[Ambainis, Nayak, Ta-Shma, Vazirani 199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ed, quantum communication is no better than classical for this task as 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4000" y="1442880"/>
            <a:ext cx="1181160" cy="1771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7935840" y="1319040"/>
            <a:ext cx="1195560" cy="1863720"/>
          </a:xfrm>
          <a:prstGeom prst="rect">
            <a:avLst/>
          </a:prstGeom>
          <a:ln w="0">
            <a:noFill/>
          </a:ln>
        </p:spPr>
      </p:pic>
      <p:cxnSp>
        <p:nvCxnSpPr>
          <p:cNvPr id="168" name="Straight Arrow Connector 2"/>
          <p:cNvCxnSpPr/>
          <p:nvPr/>
        </p:nvCxnSpPr>
        <p:spPr>
          <a:xfrm>
            <a:off x="1235160" y="2447640"/>
            <a:ext cx="676656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TextBox 3"/>
          <p:cNvSpPr/>
          <p:nvPr/>
        </p:nvSpPr>
        <p:spPr>
          <a:xfrm>
            <a:off x="3672000" y="1442880"/>
            <a:ext cx="16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5A62-9000-425A-A851-85D7B5890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5"/>
          <p:cNvSpPr/>
          <p:nvPr/>
        </p:nvSpPr>
        <p:spPr>
          <a:xfrm>
            <a:off x="1447920" y="117360"/>
            <a:ext cx="60195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Turning the lemon into lemonade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533520" y="3657600"/>
            <a:ext cx="8229600" cy="29217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ostselected Learning Theorem (A. 2004)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at case, it suffices for Alice to send Bob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cal bits  (trivial bounds: ~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~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457200" y="1620720"/>
            <a:ext cx="83059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Alice wants to describe a D-dimensional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Bob, well enough for Bob to estimate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to with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any of M two-outcome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known to both p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A06C-E2E3-4F77-974B-D05D2A479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"/>
              <p:cNvSpPr txBox="1"/>
              <p:nvPr/>
            </p:nvSpPr>
            <p:spPr>
              <a:xfrm>
                <a:off x="2819520" y="4724280"/>
                <a:ext cx="32385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Õ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M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D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6" name="Picture 10" descr="C:\Users\Scott\AppData\Local\Microsoft\Windows\INetCache\IE\RHPK08JT\lemon-citrina[1].png"/>
          <p:cNvPicPr/>
          <p:nvPr/>
        </p:nvPicPr>
        <p:blipFill>
          <a:blip r:embed="rId1"/>
          <a:stretch/>
        </p:blipFill>
        <p:spPr>
          <a:xfrm>
            <a:off x="152280" y="0"/>
            <a:ext cx="1621080" cy="162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C:\Users\Scott\AppData\Local\Microsoft\Windows\INetCache\IE\IVR9QIKH\uXOpy[1].jpg"/>
          <p:cNvPicPr/>
          <p:nvPr/>
        </p:nvPicPr>
        <p:blipFill>
          <a:blip r:embed="rId2"/>
          <a:stretch/>
        </p:blipFill>
        <p:spPr>
          <a:xfrm>
            <a:off x="7467480" y="100080"/>
            <a:ext cx="91440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How does the theorem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00"/>
          <p:cNvSpPr/>
          <p:nvPr/>
        </p:nvSpPr>
        <p:spPr>
          <a:xfrm>
            <a:off x="228600" y="3200400"/>
            <a:ext cx="87631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ice is trying to describ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Bob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ctually an amplified ver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itially, Bob knows nothing ab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o he guesses it’s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maximally mixed st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I  (actual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Alice helps Bob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mpro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y repeatedly telling him a measuremen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(t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which his current gues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dly f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b let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the state obtained by starting fro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performing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(t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getting the right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loud Callout 5"/>
          <p:cNvSpPr/>
          <p:nvPr/>
        </p:nvSpPr>
        <p:spPr>
          <a:xfrm>
            <a:off x="5410080" y="1143000"/>
            <a:ext cx="3429000" cy="1600200"/>
          </a:xfrm>
          <a:prstGeom prst="cloudCallout">
            <a:avLst>
              <a:gd name="adj1" fmla="val -74495"/>
              <a:gd name="adj2" fmla="val -25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1676160" cy="16542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2"/>
          <p:cNvSpPr/>
          <p:nvPr/>
        </p:nvSpPr>
        <p:spPr>
          <a:xfrm>
            <a:off x="6019920" y="106668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1562400" cy="1660680"/>
          </a:xfrm>
          <a:prstGeom prst="rect">
            <a:avLst/>
          </a:prstGeom>
          <a:ln w="0">
            <a:noFill/>
          </a:ln>
        </p:spPr>
      </p:pic>
      <p:sp>
        <p:nvSpPr>
          <p:cNvPr id="187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EBEF-8FDB-44EE-8033-FB4E4E815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1"/>
              <p:cNvSpPr txBox="1"/>
              <p:nvPr/>
            </p:nvSpPr>
            <p:spPr>
              <a:xfrm>
                <a:off x="5486400" y="4191120"/>
                <a:ext cx="2309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O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loglog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700"/>
          <p:cNvSpPr/>
          <p:nvPr/>
        </p:nvSpPr>
        <p:spPr>
          <a:xfrm>
            <a:off x="152280" y="152280"/>
            <a:ext cx="883944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Crucial Clai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ob’s iterative learning procedure will “converge” on a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behaves li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* on all measurements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fter at most T=O(log D*) it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et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Pr[first t postselections all succeed].  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1285920" y="2143080"/>
                <a:ext cx="306684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191" name="Straight Arrow Connector 14"/>
          <p:cNvCxnSpPr/>
          <p:nvPr/>
        </p:nvCxnSpPr>
        <p:spPr>
          <a:xfrm flipH="1" flipV="1">
            <a:off x="2208960" y="3387240"/>
            <a:ext cx="229320" cy="457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1735200" y="3827520"/>
                <a:ext cx="448776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</m:den>
                    </m:f>
                    <m:sSup>
                      <m:e>
                        <m:r>
                          <m:t xml:space="preserve">ρ</m:t>
                        </m:r>
                      </m:e>
                      <m:sup/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/>
                            </m:sSup>
                          </m:den>
                        </m:f>
                      </m:e>
                    </m:d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93" name="Straight Arrow Connector 20"/>
          <p:cNvCxnSpPr/>
          <p:nvPr/>
        </p:nvCxnSpPr>
        <p:spPr>
          <a:xfrm flipH="1">
            <a:off x="4647600" y="2930040"/>
            <a:ext cx="6865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4" name="Text Box 700"/>
          <p:cNvSpPr/>
          <p:nvPr/>
        </p:nvSpPr>
        <p:spPr>
          <a:xfrm>
            <a:off x="5334120" y="2168640"/>
            <a:ext cx="3124080" cy="139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asn’t less than, say, (2/3)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learning would’ve ende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4"/>
          <p:cNvSpPr/>
          <p:nvPr/>
        </p:nvSpPr>
        <p:spPr>
          <a:xfrm>
            <a:off x="990720" y="1776240"/>
            <a:ext cx="7162560" cy="23652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ing, we find that t = O(log D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it’s enough for Alice to tell Bob about T=Õ(log D) measurements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(1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(T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using log(M) bits pe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8"/>
          <p:cNvSpPr/>
          <p:nvPr/>
        </p:nvSpPr>
        <p:spPr>
          <a:xfrm>
            <a:off x="1012680" y="4562640"/>
            <a:ext cx="7162920" cy="18248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ity theory consequence:</a:t>
            </a:r>
            <a:br>
              <a:rPr sz="3200"/>
            </a:b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BQP/qpoly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 PostBQP/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Open whether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QP/po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47D6-91F6-4127-AE04-838BD3B73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380880" y="2832120"/>
            <a:ext cx="845820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an unknown mixed state, and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known 2-outcome measurements.  Suppose we’re promised that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re exists an i such that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, or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ll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M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we can decide which, with high probability, given only O((log M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28600" y="304920"/>
            <a:ext cx="87631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Alas, postselected learning doesn’t suffice for the shadow tomography theorem, because it gives us no idea how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find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 the classical description of 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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 given copies of 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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.  So we’ll need to combine with another result called the…</a:t>
            </a:r>
            <a:r>
              <a:rPr b="1" lang="en-US" sz="2600" spc="-1" strike="noStrike">
                <a:solidFill>
                  <a:srgbClr val="333399"/>
                </a:solidFill>
                <a:latin typeface="Calibri"/>
                <a:ea typeface="Calibri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Quantum OR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41D1-36DE-4143-90BE-E9423155A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1" name="Object 12"/>
              <p:cNvSpPr txBox="1"/>
              <p:nvPr/>
            </p:nvSpPr>
            <p:spPr>
              <a:xfrm>
                <a:off x="4135320" y="2862360"/>
                <a:ext cx="13305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Text Box 3"/>
          <p:cNvSpPr/>
          <p:nvPr/>
        </p:nvSpPr>
        <p:spPr>
          <a:xfrm>
            <a:off x="208080" y="271440"/>
            <a:ext cx="8727840" cy="64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A. 2006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laimed a proof of the Quantum OR Bound, based on just applying amplifie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 in a random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Harrow-Lin-Montanaro, SODA’2017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discovered an error in my proof—but also fixed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y give two procedures, one of which is to prepare a control qubit in th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repeatedly apply amplifie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 conditioned on the control qubit being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while also periodically measuring the control qubit to see if it’s decohered (in which case we’re in case (ii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mains open whether my simpler procedure is also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2475-30DB-4DD1-B502-71BD4BAA1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338040" y="893880"/>
            <a:ext cx="830592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an unknown mixed state, and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known two-outcome measurements.  Suppose we’re promised that there exists an i such that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.  Then we can find a j such that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using this many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04920" y="1015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Gentle Search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D81C-0BE7-4748-A9D2-88A270FE4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"/>
              <p:cNvSpPr txBox="1"/>
              <p:nvPr/>
            </p:nvSpPr>
            <p:spPr>
              <a:xfrm>
                <a:off x="2965320" y="3139920"/>
                <a:ext cx="305280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Õ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1/</m:t>
                            </m:r>
                            <m:r>
                              <m:t xml:space="preserve">δ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Text Box 3"/>
          <p:cNvSpPr/>
          <p:nvPr/>
        </p:nvSpPr>
        <p:spPr>
          <a:xfrm>
            <a:off x="371520" y="445140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Proof Sketch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Reduce search to decision using binary search (“oldest trick in the book!”).  As we recurse, promise degrades from c to c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c-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etc.  That, plus the need for fresh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t each level, is what produces the lo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.  I conjecture it’s not t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338040" y="990720"/>
            <a:ext cx="8305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o do shadow tomography, we run my postselected learning algorithm—but in each iteration, using the Gentle Search Procedure to find a measuremen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04920" y="1015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Putting Everything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1BD4-6B0D-4904-A9FD-C3E0BAE72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71520" y="34290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arefully Chernoff-bounding, union-bounding, etc. etc., I end up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1371600" y="2425680"/>
                <a:ext cx="43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ρ</m:t>
                            </m:r>
                          </m:e>
                        </m:d>
                      </m:e>
                    </m:d>
                    <m:r>
                      <m:t xml:space="preserve">&g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2895480" y="4038480"/>
                <a:ext cx="4235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Õ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1/</m:t>
                            </m:r>
                            <m:r>
                              <m:t xml:space="preserve">δ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Text Box 3"/>
          <p:cNvSpPr/>
          <p:nvPr/>
        </p:nvSpPr>
        <p:spPr>
          <a:xfrm>
            <a:off x="371520" y="5105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2280" y="304920"/>
            <a:ext cx="8839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99"/>
                </a:solidFill>
                <a:latin typeface="Calibri"/>
                <a:ea typeface="Calibri"/>
              </a:rPr>
              <a:t>Measurements in QM are Destructiv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4826160" y="1996920"/>
            <a:ext cx="3047760" cy="304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4826160" y="3521160"/>
            <a:ext cx="304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6350040" y="1996920"/>
            <a:ext cx="14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11"/>
          <p:cNvGraphicFramePr/>
          <p:nvPr/>
        </p:nvGraphicFramePr>
        <p:xfrm>
          <a:off x="7873920" y="3139920"/>
          <a:ext cx="5479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920" y="3139920"/>
                    <a:ext cx="5479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12"/>
          <p:cNvGraphicFramePr/>
          <p:nvPr/>
        </p:nvGraphicFramePr>
        <p:xfrm>
          <a:off x="6138720" y="1387440"/>
          <a:ext cx="5130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8720" y="1387440"/>
                    <a:ext cx="513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Line 14"/>
          <p:cNvSpPr/>
          <p:nvPr/>
        </p:nvSpPr>
        <p:spPr>
          <a:xfrm flipV="1">
            <a:off x="6343920" y="2450160"/>
            <a:ext cx="1078920" cy="1076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 flipV="1">
            <a:off x="6340680" y="2007360"/>
            <a:ext cx="20160" cy="1517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28600" y="51562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is destructiveness opens cryptographic possibilities, like quantum key distribution and quantum money—but it’s also a huge practical limit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6899400" y="1546200"/>
                <a:ext cx="19508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Text Box 3"/>
          <p:cNvSpPr/>
          <p:nvPr/>
        </p:nvSpPr>
        <p:spPr>
          <a:xfrm>
            <a:off x="326880" y="1295280"/>
            <a:ext cx="451008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One qubit has infinitely many bits in the amplitude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—but when you measure, the state “collapses” to just 1 bi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0 with probability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1 with probability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6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A28F-FC12-4F5B-8447-BCA53697F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338040" y="888840"/>
            <a:ext cx="8467920" cy="28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orem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Given an unknown distribu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ver n-bit strings, and known Boolean functions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we nee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n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samples 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approximat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~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x)] to with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ll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i.e., shadow tomography requires at least that many samples, for reasons having nothing to do with Q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93760" y="9684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Lower Bound for Shadow Tom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9651-C371-4F08-A15D-B878104F2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371520" y="3781440"/>
            <a:ext cx="84675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 invite you to prove this yourself!  (my approach used distributions with a singl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sized Fourier coefficient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 It argued that each sample has mutual information only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with s, but approximating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~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x(mod 2)] for every r entails learning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380880" y="6192720"/>
            <a:ext cx="84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ote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the classical cas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(log D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is t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316080" y="1011240"/>
            <a:ext cx="846756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ur procedure uses Õ(LM) +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O(log log 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ime, where L is the circuit complexity of implementing a singl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randão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et al. 2017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y combining our ideas with recent SDP algorithms, achieve shadow tomography with poly(log M, log D) copies and Õ(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) +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nder strong assumptions on th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: polylog(D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writing the input takes ~M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its, and output takes ~M bits, unless implicit representations ar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f “hyper-efficient” shadow tomography is possible, 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QP/q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QP/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there’s no quantum copy-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04920" y="2286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Computational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 Cost of Shadow Tom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CCA1-7415-4EC9-A128-C6766DD52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343080" y="1628640"/>
            <a:ext cx="848484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alibri"/>
              </a:rPr>
              <a:t>Theor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Le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be an unknown D-dimensional state.  Suppose we’re given 2-outcome measurements 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,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,… in sequence, each followed by the value of Tr(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) to within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/2.  Each time, we’re challenged to guess a hypothesis sta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such th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228600" y="239760"/>
            <a:ext cx="8686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Online Learning of Quantum States</a:t>
            </a:r>
            <a:br>
              <a:rPr sz="44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Another result, by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A.-Chen-Hazan-Nayak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(in prepa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2"/>
              <p:cNvSpPr txBox="1"/>
              <p:nvPr/>
            </p:nvSpPr>
            <p:spPr>
              <a:xfrm>
                <a:off x="3124080" y="3465360"/>
                <a:ext cx="368964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ρ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Text Box 3"/>
          <p:cNvSpPr/>
          <p:nvPr/>
        </p:nvSpPr>
        <p:spPr>
          <a:xfrm>
            <a:off x="304920" y="4191120"/>
            <a:ext cx="8305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We can do this so that we fail at most O((log D)/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) tim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4E2C-B528-46BD-9F6A-E1B32EB28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07880" y="4876920"/>
            <a:ext cx="848520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alibri"/>
              </a:rPr>
              <a:t>Proof #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Adapt my postselected learning theor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alibri"/>
              </a:rPr>
              <a:t>Proof #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Upper-bound sequential fat-shattering dimen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alibri"/>
              </a:rPr>
              <a:t>Proof #3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Semidefinite programming blah bla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7"/>
          <p:cNvSpPr/>
          <p:nvPr/>
        </p:nvSpPr>
        <p:spPr>
          <a:xfrm>
            <a:off x="304920" y="23976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The Non-Realizable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2"/>
              <p:cNvSpPr txBox="1"/>
              <p:nvPr/>
            </p:nvSpPr>
            <p:spPr>
              <a:xfrm>
                <a:off x="311040" y="2590920"/>
                <a:ext cx="83757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</m:e>
                    </m:nary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ρ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ρ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n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2" name="Text Box 3"/>
          <p:cNvSpPr/>
          <p:nvPr/>
        </p:nvSpPr>
        <p:spPr>
          <a:xfrm>
            <a:off x="316080" y="4060800"/>
            <a:ext cx="8523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These results complement my earlier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alibri"/>
              </a:rPr>
              <a:t>Quantum Occam’s Razor Theore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  <a:ea typeface="Calibri"/>
              </a:rPr>
              <a:t>(A. 2006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, which showed that for any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distribu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over two-outcome measurements, it takes only O(log D) sample measurements from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, and their outcomes, before we can approximately predict Tr(E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) for most further E~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457200" y="1143000"/>
            <a:ext cx="82296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ow suppose there need not be any actual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 Even then, for any sequence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 we can ensure that our hypothesis stat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 satis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363A-5425-4179-B545-9DE65956A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2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2d8a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282600" y="1219320"/>
            <a:ext cx="8534520" cy="46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adow tomography with fewer copies o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?  Maybe even log(M), independent of the Hilbert space dimension D??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shadow tomography possible without using “collective” and “nondemolition” measurement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rove computational complexity beyond Brandão et al.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o better for subclasses of states and measurement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(PAC-learning stabilizer states: Rocchetto 20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d more applications of these results, whether in complexity theory or experimental physic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9027-92C6-45C6-9823-5B29CB31E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1163520" y="247680"/>
            <a:ext cx="69930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re’s a lot to be destroyed!  An n-qubit pure state requires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2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lex numbers to specify, even approximat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2089080" y="1905120"/>
                <a:ext cx="5143680" cy="19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Text Box 3"/>
          <p:cNvSpPr/>
          <p:nvPr/>
        </p:nvSpPr>
        <p:spPr>
          <a:xfrm>
            <a:off x="304920" y="3962520"/>
            <a:ext cx="85341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t measuring yields at most n bits (Holevo’s Theor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should we say that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lex numbers are “really there” in a single copy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—or “just in our head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bability distribution over n-bit strings also involve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al numbers.  But probabilities don’t interf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8048160" y="547200"/>
            <a:ext cx="909720" cy="1142640"/>
            <a:chOff x="8048160" y="547200"/>
            <a:chExt cx="909720" cy="1142640"/>
          </a:xfrm>
        </p:grpSpPr>
        <p:sp>
          <p:nvSpPr>
            <p:cNvPr id="71" name="Line 5"/>
            <p:cNvSpPr/>
            <p:nvPr/>
          </p:nvSpPr>
          <p:spPr>
            <a:xfrm flipH="1" flipV="1">
              <a:off x="8282880" y="57204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6" descr="MCED00214_0000[1]"/>
            <p:cNvPicPr/>
            <p:nvPr/>
          </p:nvPicPr>
          <p:blipFill>
            <a:blip r:embed="rId1"/>
            <a:stretch/>
          </p:blipFill>
          <p:spPr>
            <a:xfrm flipH="1">
              <a:off x="8048160" y="57240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AutoShape 7"/>
            <p:cNvSpPr/>
            <p:nvPr/>
          </p:nvSpPr>
          <p:spPr>
            <a:xfrm flipH="1" flipV="1" rot="16200000">
              <a:off x="8416080" y="107136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8"/>
            <p:cNvGrpSpPr/>
            <p:nvPr/>
          </p:nvGrpSpPr>
          <p:grpSpPr>
            <a:xfrm>
              <a:off x="8525880" y="826560"/>
              <a:ext cx="345240" cy="213480"/>
              <a:chOff x="8525880" y="826560"/>
              <a:chExt cx="345240" cy="213480"/>
            </a:xfrm>
          </p:grpSpPr>
          <p:sp>
            <p:nvSpPr>
              <p:cNvPr id="75" name="Freeform 9"/>
              <p:cNvSpPr/>
              <p:nvPr/>
            </p:nvSpPr>
            <p:spPr>
              <a:xfrm flipH="1">
                <a:off x="8525520" y="82656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0"/>
              <p:cNvSpPr/>
              <p:nvPr/>
            </p:nvSpPr>
            <p:spPr>
              <a:xfrm flipH="1">
                <a:off x="8552520" y="85032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1"/>
              <p:cNvSpPr/>
              <p:nvPr/>
            </p:nvSpPr>
            <p:spPr>
              <a:xfrm flipH="1">
                <a:off x="8630640" y="86364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2"/>
              <p:cNvSpPr/>
              <p:nvPr/>
            </p:nvSpPr>
            <p:spPr>
              <a:xfrm flipH="1">
                <a:off x="8667360" y="90504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13"/>
            <p:cNvGrpSpPr/>
            <p:nvPr/>
          </p:nvGrpSpPr>
          <p:grpSpPr>
            <a:xfrm>
              <a:off x="8102520" y="826560"/>
              <a:ext cx="345240" cy="213480"/>
              <a:chOff x="8102520" y="826560"/>
              <a:chExt cx="345240" cy="213480"/>
            </a:xfrm>
          </p:grpSpPr>
          <p:sp>
            <p:nvSpPr>
              <p:cNvPr id="80" name="Freeform 14"/>
              <p:cNvSpPr/>
              <p:nvPr/>
            </p:nvSpPr>
            <p:spPr>
              <a:xfrm flipH="1">
                <a:off x="8102160" y="82656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5"/>
              <p:cNvSpPr/>
              <p:nvPr/>
            </p:nvSpPr>
            <p:spPr>
              <a:xfrm flipH="1">
                <a:off x="8129160" y="85032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6"/>
              <p:cNvSpPr/>
              <p:nvPr/>
            </p:nvSpPr>
            <p:spPr>
              <a:xfrm flipH="1">
                <a:off x="8207280" y="86364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7"/>
              <p:cNvSpPr/>
              <p:nvPr/>
            </p:nvSpPr>
            <p:spPr>
              <a:xfrm flipH="1">
                <a:off x="8244000" y="90504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18"/>
            <p:cNvSpPr/>
            <p:nvPr/>
          </p:nvSpPr>
          <p:spPr>
            <a:xfrm flipH="1" flipV="1">
              <a:off x="8261640" y="54720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9"/>
          <p:cNvGrpSpPr/>
          <p:nvPr/>
        </p:nvGrpSpPr>
        <p:grpSpPr>
          <a:xfrm>
            <a:off x="235080" y="579240"/>
            <a:ext cx="955440" cy="1218600"/>
            <a:chOff x="235080" y="579240"/>
            <a:chExt cx="955440" cy="1218600"/>
          </a:xfrm>
        </p:grpSpPr>
        <p:sp>
          <p:nvSpPr>
            <p:cNvPr id="86" name="Line 20"/>
            <p:cNvSpPr/>
            <p:nvPr/>
          </p:nvSpPr>
          <p:spPr>
            <a:xfrm flipV="1">
              <a:off x="446400" y="60588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21" descr="MCDD01775_0000[1]"/>
            <p:cNvPicPr/>
            <p:nvPr/>
          </p:nvPicPr>
          <p:blipFill>
            <a:blip r:embed="rId2"/>
            <a:stretch/>
          </p:blipFill>
          <p:spPr>
            <a:xfrm>
              <a:off x="235080" y="606240"/>
              <a:ext cx="95544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AutoShape 22"/>
            <p:cNvSpPr/>
            <p:nvPr/>
          </p:nvSpPr>
          <p:spPr>
            <a:xfrm flipV="1" rot="5400000">
              <a:off x="621000" y="114552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23"/>
            <p:cNvGrpSpPr/>
            <p:nvPr/>
          </p:nvGrpSpPr>
          <p:grpSpPr>
            <a:xfrm>
              <a:off x="313200" y="767520"/>
              <a:ext cx="399240" cy="310320"/>
              <a:chOff x="313200" y="767520"/>
              <a:chExt cx="399240" cy="310320"/>
            </a:xfrm>
          </p:grpSpPr>
          <p:sp>
            <p:nvSpPr>
              <p:cNvPr id="90" name="Freeform 24"/>
              <p:cNvSpPr/>
              <p:nvPr/>
            </p:nvSpPr>
            <p:spPr>
              <a:xfrm>
                <a:off x="325800" y="85248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5"/>
              <p:cNvSpPr/>
              <p:nvPr/>
            </p:nvSpPr>
            <p:spPr>
              <a:xfrm>
                <a:off x="353880" y="87732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6"/>
              <p:cNvSpPr/>
              <p:nvPr/>
            </p:nvSpPr>
            <p:spPr>
              <a:xfrm>
                <a:off x="432360" y="89100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7"/>
              <p:cNvSpPr/>
              <p:nvPr/>
            </p:nvSpPr>
            <p:spPr>
              <a:xfrm>
                <a:off x="519120" y="93564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8"/>
              <p:cNvSpPr/>
              <p:nvPr/>
            </p:nvSpPr>
            <p:spPr>
              <a:xfrm>
                <a:off x="313200" y="83808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9"/>
              <p:cNvSpPr/>
              <p:nvPr/>
            </p:nvSpPr>
            <p:spPr>
              <a:xfrm>
                <a:off x="371880" y="80064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0"/>
              <p:cNvSpPr/>
              <p:nvPr/>
            </p:nvSpPr>
            <p:spPr>
              <a:xfrm>
                <a:off x="436680" y="77724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1"/>
              <p:cNvSpPr/>
              <p:nvPr/>
            </p:nvSpPr>
            <p:spPr>
              <a:xfrm>
                <a:off x="659160" y="84348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2"/>
              <p:cNvSpPr/>
              <p:nvPr/>
            </p:nvSpPr>
            <p:spPr>
              <a:xfrm>
                <a:off x="614160" y="80388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3"/>
              <p:cNvSpPr/>
              <p:nvPr/>
            </p:nvSpPr>
            <p:spPr>
              <a:xfrm>
                <a:off x="562320" y="77904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4"/>
              <p:cNvSpPr/>
              <p:nvPr/>
            </p:nvSpPr>
            <p:spPr>
              <a:xfrm>
                <a:off x="499320" y="76752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35"/>
            <p:cNvGrpSpPr/>
            <p:nvPr/>
          </p:nvGrpSpPr>
          <p:grpSpPr>
            <a:xfrm>
              <a:off x="764280" y="767520"/>
              <a:ext cx="399240" cy="310320"/>
              <a:chOff x="764280" y="767520"/>
              <a:chExt cx="399240" cy="310320"/>
            </a:xfrm>
          </p:grpSpPr>
          <p:sp>
            <p:nvSpPr>
              <p:cNvPr id="102" name="Freeform 36"/>
              <p:cNvSpPr/>
              <p:nvPr/>
            </p:nvSpPr>
            <p:spPr>
              <a:xfrm>
                <a:off x="776880" y="85248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7"/>
              <p:cNvSpPr/>
              <p:nvPr/>
            </p:nvSpPr>
            <p:spPr>
              <a:xfrm>
                <a:off x="804960" y="87732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8"/>
              <p:cNvSpPr/>
              <p:nvPr/>
            </p:nvSpPr>
            <p:spPr>
              <a:xfrm>
                <a:off x="883440" y="89100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9"/>
              <p:cNvSpPr/>
              <p:nvPr/>
            </p:nvSpPr>
            <p:spPr>
              <a:xfrm>
                <a:off x="970200" y="93564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0"/>
              <p:cNvSpPr/>
              <p:nvPr/>
            </p:nvSpPr>
            <p:spPr>
              <a:xfrm>
                <a:off x="764280" y="83808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1"/>
              <p:cNvSpPr/>
              <p:nvPr/>
            </p:nvSpPr>
            <p:spPr>
              <a:xfrm>
                <a:off x="822960" y="80064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2"/>
              <p:cNvSpPr/>
              <p:nvPr/>
            </p:nvSpPr>
            <p:spPr>
              <a:xfrm>
                <a:off x="887760" y="77724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3"/>
              <p:cNvSpPr/>
              <p:nvPr/>
            </p:nvSpPr>
            <p:spPr>
              <a:xfrm>
                <a:off x="1110240" y="84348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4"/>
              <p:cNvSpPr/>
              <p:nvPr/>
            </p:nvSpPr>
            <p:spPr>
              <a:xfrm>
                <a:off x="1065240" y="80388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5"/>
              <p:cNvSpPr/>
              <p:nvPr/>
            </p:nvSpPr>
            <p:spPr>
              <a:xfrm>
                <a:off x="1013400" y="77904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6"/>
              <p:cNvSpPr/>
              <p:nvPr/>
            </p:nvSpPr>
            <p:spPr>
              <a:xfrm>
                <a:off x="950400" y="76752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Line 47"/>
            <p:cNvSpPr/>
            <p:nvPr/>
          </p:nvSpPr>
          <p:spPr>
            <a:xfrm flipV="1">
              <a:off x="711720" y="57924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Slide Number Placeholder 1"/>
          <p:cNvSpPr/>
          <p:nvPr/>
        </p:nvSpPr>
        <p:spPr>
          <a:xfrm>
            <a:off x="6994440" y="176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E6C9-EE3A-43A4-87DC-548406E6F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609480" y="609480"/>
            <a:ext cx="4724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Quantum State Tom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80880" y="2590920"/>
            <a:ext cx="83822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ask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lots of copies of an unknown D-dimensional quantum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produce an approximate classical description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’Donnell and Wright and Haah et al., STOC’2016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~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necessary and sufficient fo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perimental Record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nsbruck group (2005).  8 particles, ~656,000 measurement settings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Keep in mind: D = 2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61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514600" cy="2016000"/>
          </a:xfrm>
          <a:prstGeom prst="rect">
            <a:avLst/>
          </a:prstGeom>
          <a:ln w="0">
            <a:noFill/>
          </a:ln>
        </p:spPr>
      </p:pic>
      <p:sp>
        <p:nvSpPr>
          <p:cNvPr id="118" name="Slide Number Placeholder 1"/>
          <p:cNvSpPr/>
          <p:nvPr/>
        </p:nvSpPr>
        <p:spPr>
          <a:xfrm>
            <a:off x="703260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B6D5-A7B0-4442-82CD-5211B2E7F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52280" y="228600"/>
            <a:ext cx="8839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Quantum Computing Skepticis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57200" y="350532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physicists and computer scientists believe quantum computers will be impossible for a fundamental rea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8"/>
          <p:cNvSpPr/>
          <p:nvPr/>
        </p:nvSpPr>
        <p:spPr>
          <a:xfrm>
            <a:off x="457200" y="4495680"/>
            <a:ext cx="822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many of them, the problem is that a quantum computer would “manipulate an exponential amount of information” using only polynomial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levin"/>
          <p:cNvPicPr/>
          <p:nvPr/>
        </p:nvPicPr>
        <p:blipFill>
          <a:blip r:embed="rId1"/>
          <a:stretch/>
        </p:blipFill>
        <p:spPr>
          <a:xfrm>
            <a:off x="762120" y="1219320"/>
            <a:ext cx="1144440" cy="160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1" descr=""/>
          <p:cNvPicPr/>
          <p:nvPr/>
        </p:nvPicPr>
        <p:blipFill>
          <a:blip r:embed="rId2"/>
          <a:stretch/>
        </p:blipFill>
        <p:spPr>
          <a:xfrm>
            <a:off x="4038480" y="1219320"/>
            <a:ext cx="1225800" cy="1612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2" descr=""/>
          <p:cNvPicPr/>
          <p:nvPr/>
        </p:nvPicPr>
        <p:blipFill>
          <a:blip r:embed="rId3"/>
          <a:stretch/>
        </p:blipFill>
        <p:spPr>
          <a:xfrm>
            <a:off x="2362320" y="1219320"/>
            <a:ext cx="1199880" cy="1600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3" descr=""/>
          <p:cNvPicPr/>
          <p:nvPr/>
        </p:nvPicPr>
        <p:blipFill>
          <a:blip r:embed="rId4"/>
          <a:stretch/>
        </p:blipFill>
        <p:spPr>
          <a:xfrm>
            <a:off x="5638680" y="1219320"/>
            <a:ext cx="105120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762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2096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ld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8862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Ho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5627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0102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8"/>
          <p:cNvSpPr/>
          <p:nvPr/>
        </p:nvSpPr>
        <p:spPr>
          <a:xfrm>
            <a:off x="457200" y="594360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in what senses is i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al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 exponential amou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1"/>
          <p:cNvSpPr/>
          <p:nvPr/>
        </p:nvSpPr>
        <p:spPr>
          <a:xfrm>
            <a:off x="7010280" y="-25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5949-FAFE-4455-BA41-770BAB6A5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8" descr=""/>
          <p:cNvPicPr/>
          <p:nvPr/>
        </p:nvPicPr>
        <p:blipFill>
          <a:blip r:embed="rId5"/>
          <a:stretch/>
        </p:blipFill>
        <p:spPr>
          <a:xfrm>
            <a:off x="7188120" y="1219320"/>
            <a:ext cx="10922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28600" y="2826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an we tame the exponential b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00"/>
          <p:cNvSpPr/>
          <p:nvPr/>
        </p:nvSpPr>
        <p:spPr>
          <a:xfrm>
            <a:off x="762120" y="1120680"/>
            <a:ext cx="761976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: “Shrink quantum states down to reasonable size” by asking what they’ll actually be us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00"/>
          <p:cNvSpPr/>
          <p:nvPr/>
        </p:nvSpPr>
        <p:spPr>
          <a:xfrm>
            <a:off x="255600" y="2209680"/>
            <a:ext cx="861048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a sequence of works for 14 years, I’ve been trying to use tools from computational learning theory to do exactly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tselected learning theorem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[A. 2004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uantum Occam’s Razor Theorem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[A. 2006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ull characterization of quantum advice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[A.-Drucker 2010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adow tomography theorem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[A. 2017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line learning of quantum states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[A.-Chen-Hazan-Nayak 2017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010280" y="-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20C5-FCAC-424A-95EE-524D4774C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00"/>
          <p:cNvSpPr/>
          <p:nvPr/>
        </p:nvSpPr>
        <p:spPr>
          <a:xfrm>
            <a:off x="277920" y="615960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’ll tell you about the last two, and the others where relevant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Shadow Tomograph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343080" y="1066680"/>
            <a:ext cx="8458200" cy="45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known D-dimensional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known 2-outcome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stimate the acceptance probability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to within additive err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M], w.p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we measure?  Clearly Õ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suffice, and also Õ(M) copies.  But what about poly(log D, log 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ain Resul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’s possible to do Shadow Tomography using 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3032-C700-4460-8CD2-287E48D66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"/>
              <p:cNvSpPr txBox="1"/>
              <p:nvPr/>
            </p:nvSpPr>
            <p:spPr>
              <a:xfrm>
                <a:off x="2133720" y="5073480"/>
                <a:ext cx="4235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Õ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1/</m:t>
                            </m:r>
                            <m:r>
                              <m:t xml:space="preserve">δ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TextBox 3"/>
          <p:cNvSpPr/>
          <p:nvPr/>
        </p:nvSpPr>
        <p:spPr>
          <a:xfrm>
            <a:off x="1600200" y="624852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Doesn’t this violate Holevo’s Theorem?  Nop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3124080" y="1365120"/>
            <a:ext cx="556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a measurement of a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yields a certain outcome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after the measurement, we still have a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 that’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los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trace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511920" y="3818520"/>
            <a:ext cx="2405160" cy="73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 flipV="1">
            <a:off x="511560" y="1501920"/>
            <a:ext cx="1024920" cy="2316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 flipV="1">
            <a:off x="511560" y="1411560"/>
            <a:ext cx="732960" cy="2405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CD34-D79C-4F67-9FF4-BA716B4DB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2"/>
          <p:cNvSpPr/>
          <p:nvPr/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Interlude: Gent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Winter 1999, A.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43080" y="4673520"/>
            <a:ext cx="84200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reover, we can apply M such measurements in succession, and they’ll all accept w.p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-2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ften combined with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mplifi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 measure k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take a majority to push down error by 1/exp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Why Doesn’t Gentle Measurement Immediately Solve the Problem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353880" y="1828800"/>
            <a:ext cx="8458200" cy="25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ies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mise ga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rsion of shadow tomograp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real number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promised that for each i, either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e can decide which for every i using only O(log M /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A4DF-C9F9-488B-B203-465CAB0E2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376200" y="44197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re’s no promise, we can never rule out that we’re on the knife-edge between acceptance and rejection—in which case,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angero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376200" y="60325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main contribution is to solv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</cp:lastModifiedBy>
  <dcterms:modified xsi:type="dcterms:W3CDTF">2017-11-08T05:19:54Z</dcterms:modified>
  <cp:revision>130</cp:revision>
  <dc:subject/>
  <dc:title>The Learnability of Quantum States</dc:title>
</cp:coreProperties>
</file>