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3.png" ContentType="image/png"/>
  <Override PartName="/ppt/media/image5.wmf" ContentType="image/x-wmf"/>
  <Override PartName="/ppt/media/image22.png" ContentType="image/png"/>
  <Override PartName="/ppt/media/image4.wmf" ContentType="image/x-wmf"/>
  <Override PartName="/ppt/media/image21.png" ContentType="image/png"/>
  <Override PartName="/ppt/media/image17.png" ContentType="image/png"/>
  <Override PartName="/ppt/media/image16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5.jpeg" ContentType="image/jpeg"/>
  <Override PartName="/ppt/media/image6.png" ContentType="image/png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7887-1119-45DA-A304-A702E3E21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3C24-3E8C-48A2-9D3C-CD08D96BB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B864-EC76-40D4-A604-D8707C700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410B-18B0-4C54-AFFF-34FDB0A7C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06BD-8AB7-4BDA-9212-0E40CA3D3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E77B-9BCF-4E88-8BBE-C3978C081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961B-995B-4298-B857-B79D7F1DD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2253-2EDD-4FC1-8BD6-08E00EDFF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13FA-4EE1-47CB-A6BF-08076164F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15BA-BBED-4737-8C8E-8ECCA43F6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4749-CA04-4D6D-8CEF-A556F85C7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0C6F-87B7-459D-A0B7-F3F61D524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553C-0A8B-4D94-84E7-DC6B746C7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7F8B-7F8E-4688-B8F3-F3984863B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9416-B5CE-48D7-A727-43635D0D7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F42F-7B9E-4F96-A05C-F9718D036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DD94-8983-4EAD-AA5B-AE3E1FACE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02FD-F447-4126-8EDC-D1F0662B7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E7AE-4E71-4604-93C6-9C8E0055C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5E39-0BF1-408A-9CB8-68623CFF0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BC6E-0515-490D-BB6B-22C7281B5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96A4-B2F9-4238-BE3B-58F9E7D6E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CB89-5D0F-452B-A5FE-D07C4063D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48E6-A8EB-478C-B53E-0AADA0B8A4D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105C-A68A-4F1C-BBF8-D16B70E37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3EEB-AA8B-4FC3-A83B-834E2B47D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9D1F-5FE8-4E31-BFEC-A55F5DF9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F5FC-880E-4779-B3E5-FB781359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23B4-AC39-44F8-BC85-BAE0897F3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63B5-FD69-4575-9998-E3ED76C6A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2D21-DEB1-4B80-A91A-C89CFA29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9002-CE63-49C2-A328-F15A1BF7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82AE-D792-450A-BB95-D2DFE06C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2685-C51A-4DB0-9C37-DDF34CD7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178A-FC09-4C75-97A1-FE84C597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C2DA-6245-4072-BF68-2B4A98E6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6D6E-A526-4B0A-915E-66864046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C465-410F-4209-8715-ED3D370B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B48F-A730-401B-A1F0-DFDF90D84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alibri"/>
                <a:ea typeface="Calibri"/>
              </a:rPr>
              <a:t>PAC-Learning and Reconstruction of Quantum States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551196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cott Aaronson (University of Texas at Aust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OLT’2017, Amsterd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MCj02909010000[1]"/>
          <p:cNvPicPr/>
          <p:nvPr/>
        </p:nvPicPr>
        <p:blipFill>
          <a:blip r:embed="rId1"/>
          <a:stretch/>
        </p:blipFill>
        <p:spPr>
          <a:xfrm>
            <a:off x="3809880" y="2532240"/>
            <a:ext cx="2165400" cy="12268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2"/>
          <p:cNvSpPr/>
          <p:nvPr/>
        </p:nvSpPr>
        <p:spPr>
          <a:xfrm>
            <a:off x="3505320" y="2303640"/>
            <a:ext cx="19810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1"/>
          <p:cNvSpPr/>
          <p:nvPr/>
        </p:nvSpPr>
        <p:spPr>
          <a:xfrm>
            <a:off x="6988320" y="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CBB2-9421-46BA-B023-41FC3B021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228600" y="228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Interlude: Mixed St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00"/>
          <p:cNvSpPr/>
          <p:nvPr/>
        </p:nvSpPr>
        <p:spPr>
          <a:xfrm>
            <a:off x="228600" y="2590920"/>
            <a:ext cx="876312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 Hermitian psd matrix with trac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codes (everything measurable about) a probability distribution where each superposition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ccurs with probability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yes-or-no measurement can be represented by a 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 Hermitian psd matrix E with all eigenvalues in [0,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easurement “accepts”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probability Tr(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and “rejects”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probability 1-Tr(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1"/>
              <p:cNvSpPr txBox="1"/>
              <p:nvPr/>
            </p:nvSpPr>
            <p:spPr>
              <a:xfrm>
                <a:off x="2057400" y="1066680"/>
                <a:ext cx="491976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⟩</m:t>
                        </m:r>
                        <m:r>
                          <m:t xml:space="preserve">⟨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4" name="Slide Number Placeholder 2"/>
          <p:cNvSpPr/>
          <p:nvPr/>
        </p:nvSpPr>
        <p:spPr>
          <a:xfrm>
            <a:off x="7010280" y="-9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2171-0697-4795-858C-ABE08A745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228600" y="228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How does the theorem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00"/>
          <p:cNvSpPr/>
          <p:nvPr/>
        </p:nvSpPr>
        <p:spPr>
          <a:xfrm>
            <a:off x="228600" y="3200400"/>
            <a:ext cx="876312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ice is trying to describe the n-qubit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=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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| to Bo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the beginning, Bob knows nothing abou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so he guesses it’s th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maximally mixed stat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=I  (actually I/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= I/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n Alice helps Bob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improv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by repeatedly telling him a measurement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 on which his current gues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-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adly fai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b let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e the state obtained by starting from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-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then performing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ostselectin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getting the right outc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loud Callout 5"/>
          <p:cNvSpPr/>
          <p:nvPr/>
        </p:nvSpPr>
        <p:spPr>
          <a:xfrm>
            <a:off x="5410080" y="1143000"/>
            <a:ext cx="3429000" cy="1600200"/>
          </a:xfrm>
          <a:prstGeom prst="cloudCallout">
            <a:avLst>
              <a:gd name="adj1" fmla="val -74495"/>
              <a:gd name="adj2" fmla="val -251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1676160" cy="16542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2"/>
          <p:cNvSpPr/>
          <p:nvPr/>
        </p:nvSpPr>
        <p:spPr>
          <a:xfrm>
            <a:off x="6019920" y="106668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6172200" y="68580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6172200" y="68580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6172200" y="68580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2"/>
          <a:stretch/>
        </p:blipFill>
        <p:spPr>
          <a:xfrm>
            <a:off x="152280" y="1066680"/>
            <a:ext cx="1562400" cy="1660680"/>
          </a:xfrm>
          <a:prstGeom prst="rect">
            <a:avLst/>
          </a:prstGeom>
          <a:ln w="0">
            <a:noFill/>
          </a:ln>
        </p:spPr>
      </p:pic>
      <p:sp>
        <p:nvSpPr>
          <p:cNvPr id="174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1B2F-0E89-4A3D-98E2-1DC6C28C4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700"/>
          <p:cNvSpPr/>
          <p:nvPr/>
        </p:nvSpPr>
        <p:spPr>
          <a:xfrm>
            <a:off x="174600" y="457200"/>
            <a:ext cx="85885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Ques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y can Bob keep reusing the same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ensure that, we actually need to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“amplify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log(n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slightly increasing the number of qubits from n to n log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3124080" y="2695680"/>
            <a:ext cx="556272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Gentle Measurement / Almost As Good As New Lem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se a measurement of a mixed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yields a certain outcome with probabil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1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n after the measurement, we still have a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’ that’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lose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n trace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511920" y="5148720"/>
            <a:ext cx="2405160" cy="732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1"/>
          <p:cNvSpPr/>
          <p:nvPr/>
        </p:nvSpPr>
        <p:spPr>
          <a:xfrm flipV="1">
            <a:off x="511560" y="2832480"/>
            <a:ext cx="1024920" cy="2316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2"/>
          <p:cNvSpPr/>
          <p:nvPr/>
        </p:nvSpPr>
        <p:spPr>
          <a:xfrm flipV="1">
            <a:off x="511560" y="2742120"/>
            <a:ext cx="732960" cy="2405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1157-4EAB-470A-AE5B-7F6D3C543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700"/>
          <p:cNvSpPr/>
          <p:nvPr/>
        </p:nvSpPr>
        <p:spPr>
          <a:xfrm>
            <a:off x="152280" y="152280"/>
            <a:ext cx="883944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Crucial Clai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ob’s iterative learning procedure will “converge” on a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at behaves lik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log(n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all measurements in the set S, after at most T=O(n log(n)) it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Proof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Let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= Pr[first t postselections all succeed].  Th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3"/>
              <p:cNvSpPr txBox="1"/>
              <p:nvPr/>
            </p:nvSpPr>
            <p:spPr>
              <a:xfrm>
                <a:off x="1066680" y="2143080"/>
                <a:ext cx="350532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≤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≤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cxnSp>
        <p:nvCxnSpPr>
          <p:cNvPr id="183" name="Straight Arrow Connector 14"/>
          <p:cNvCxnSpPr/>
          <p:nvPr/>
        </p:nvCxnSpPr>
        <p:spPr>
          <a:xfrm flipH="1" flipV="1">
            <a:off x="2208960" y="3387240"/>
            <a:ext cx="229320" cy="4579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84" name="Object 3"/>
              <p:cNvSpPr txBox="1"/>
              <p:nvPr/>
            </p:nvSpPr>
            <p:spPr>
              <a:xfrm>
                <a:off x="687240" y="3844800"/>
                <a:ext cx="65818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⟩</m:t>
                        </m:r>
                      </m:e>
                    </m:nary>
                    <m:r>
                      <m:t xml:space="preserve">⟨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⟩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ψ</m:t>
                    </m:r>
                    <m:sSup>
                      <m:e>
                        <m:r>
                          <m:t xml:space="preserve">⟩</m:t>
                        </m:r>
                      </m:e>
                      <m:sup>
                        <m:r>
                          <m:t xml:space="preserve">⊗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cxnSp>
        <p:nvCxnSpPr>
          <p:cNvPr id="185" name="Straight Arrow Connector 20"/>
          <p:cNvCxnSpPr/>
          <p:nvPr/>
        </p:nvCxnSpPr>
        <p:spPr>
          <a:xfrm flipH="1">
            <a:off x="4647600" y="2930040"/>
            <a:ext cx="6865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86" name="Text Box 700"/>
          <p:cNvSpPr/>
          <p:nvPr/>
        </p:nvSpPr>
        <p:spPr>
          <a:xfrm>
            <a:off x="5334120" y="2168640"/>
            <a:ext cx="3124080" cy="1391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wasn’t less than, say, (2/3)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-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learning would’ve ended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4"/>
          <p:cNvSpPr/>
          <p:nvPr/>
        </p:nvSpPr>
        <p:spPr>
          <a:xfrm>
            <a:off x="1409760" y="1905120"/>
            <a:ext cx="7162920" cy="23652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ving, we find that t = O(n log(n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it’s enough for Alice to tell Bob about T=O(n log(n)) measurements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…,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using log|S| bits per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8"/>
          <p:cNvSpPr/>
          <p:nvPr/>
        </p:nvSpPr>
        <p:spPr>
          <a:xfrm>
            <a:off x="1432080" y="4691160"/>
            <a:ext cx="7162560" cy="182484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xity theory consequence:</a:t>
            </a:r>
            <a:br>
              <a:rPr sz="3200"/>
            </a:b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BQP/qpoly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 PostBQP/po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Open whether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BQP/po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42EE-9B2A-45F9-984A-B30560916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xplosion 2 7"/>
          <p:cNvSpPr/>
          <p:nvPr/>
        </p:nvSpPr>
        <p:spPr>
          <a:xfrm rot="698400">
            <a:off x="6178320" y="3773160"/>
            <a:ext cx="2232000" cy="11509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99"/>
          <p:cNvSpPr/>
          <p:nvPr/>
        </p:nvSpPr>
        <p:spPr>
          <a:xfrm>
            <a:off x="304920" y="1947960"/>
            <a:ext cx="8610480" cy="49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t 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be an unknown entangled state of n partic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ppose you just want to be able to estimate the acceptance probabilities of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mos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easurements E drawn from some probability distribu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n it suffices to do the following, for some m=O(n)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hoose m measurements independently from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Go into your lab and estimate acceptance probabilities of all of them on |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nd </a:t>
            </a:r>
            <a:r>
              <a:rPr b="1" lang="en-US" sz="2300" spc="-1" strike="noStrike">
                <a:solidFill>
                  <a:srgbClr val="ff0000"/>
                </a:solidFill>
                <a:latin typeface="Calibri"/>
              </a:rPr>
              <a:t>any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“hypothesis state” approximately consistent with all measurement outcom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28"/>
          <p:cNvSpPr/>
          <p:nvPr/>
        </p:nvSpPr>
        <p:spPr>
          <a:xfrm>
            <a:off x="1523880" y="457200"/>
            <a:ext cx="60199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99"/>
                </a:solidFill>
                <a:latin typeface="Calibri"/>
              </a:rPr>
              <a:t>Quantum Occam’s Razor Theorem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29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1038240" cy="1447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30" descr="razor"/>
          <p:cNvPicPr/>
          <p:nvPr/>
        </p:nvPicPr>
        <p:blipFill>
          <a:blip r:embed="rId2"/>
          <a:srcRect l="0" t="0" r="20000" b="40500"/>
          <a:stretch/>
        </p:blipFill>
        <p:spPr>
          <a:xfrm>
            <a:off x="7680240" y="380880"/>
            <a:ext cx="1463760" cy="13446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2"/>
          <p:cNvSpPr/>
          <p:nvPr/>
        </p:nvSpPr>
        <p:spPr>
          <a:xfrm>
            <a:off x="1905120" y="3986280"/>
            <a:ext cx="5029200" cy="131292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Quantum states are PAC-learnabl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DD1E-35B5-4B36-97D8-5CB352DE1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1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39" dur="1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40" dur="1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152280" y="762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  <a:ea typeface="Calibri"/>
              </a:rPr>
              <a:t>Fat-Shattering Dime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304920" y="1600200"/>
            <a:ext cx="8534160" cy="25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Let C be a class of functions from S to [0,1].  We say a set {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,…,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k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}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S is </a:t>
            </a:r>
            <a:r>
              <a:rPr b="1" lang="en-US" sz="2500" spc="-1" strike="noStrike">
                <a:solidFill>
                  <a:srgbClr val="cc3300"/>
                </a:solidFill>
                <a:latin typeface="Symbol"/>
                <a:ea typeface="Symbol"/>
              </a:rPr>
              <a:t></a:t>
            </a:r>
            <a:r>
              <a:rPr b="1" lang="en-US" sz="2500" spc="-1" strike="noStrike">
                <a:solidFill>
                  <a:srgbClr val="cc3300"/>
                </a:solidFill>
                <a:latin typeface="Calibri"/>
                <a:ea typeface="Calibri"/>
              </a:rPr>
              <a:t>-shattered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 by C if there exist reals a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,…,a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k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 such that, for all 2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k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 possible statements of the for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f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 f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 …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 f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k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k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there’s some f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C that satisfies the statem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rcRect l="6000" t="0" r="29999" b="12000"/>
          <a:stretch/>
        </p:blipFill>
        <p:spPr>
          <a:xfrm>
            <a:off x="8145360" y="0"/>
            <a:ext cx="998640" cy="13716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6"/>
          <p:cNvSpPr/>
          <p:nvPr/>
        </p:nvSpPr>
        <p:spPr>
          <a:xfrm>
            <a:off x="1600200" y="423720"/>
            <a:ext cx="6172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99"/>
                </a:solidFill>
                <a:latin typeface="Calibri"/>
                <a:ea typeface="Calibri"/>
              </a:rPr>
              <a:t>To prove the theorem, we use Kearns and Schapire’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380880" y="5791320"/>
            <a:ext cx="838224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Then fat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), the </a:t>
            </a:r>
            <a:r>
              <a:rPr b="1" lang="en-US" sz="2500" spc="-1" strike="noStrike">
                <a:solidFill>
                  <a:srgbClr val="cc3300"/>
                </a:solidFill>
                <a:latin typeface="Symbol"/>
                <a:ea typeface="Symbol"/>
              </a:rPr>
              <a:t></a:t>
            </a:r>
            <a:r>
              <a:rPr b="1" lang="en-US" sz="2500" spc="-1" strike="noStrike">
                <a:solidFill>
                  <a:srgbClr val="cc3300"/>
                </a:solidFill>
                <a:latin typeface="Calibri"/>
                <a:ea typeface="Calibri"/>
              </a:rPr>
              <a:t>-fat-shattering dimensio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 of C, is the size of the largest set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-shattered by C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9"/>
          <p:cNvGrpSpPr/>
          <p:nvPr/>
        </p:nvGrpSpPr>
        <p:grpSpPr>
          <a:xfrm>
            <a:off x="762120" y="4038480"/>
            <a:ext cx="7543440" cy="1523880"/>
            <a:chOff x="762120" y="4038480"/>
            <a:chExt cx="7543440" cy="1523880"/>
          </a:xfrm>
        </p:grpSpPr>
        <p:sp>
          <p:nvSpPr>
            <p:cNvPr id="203" name="Line 10"/>
            <p:cNvSpPr/>
            <p:nvPr/>
          </p:nvSpPr>
          <p:spPr>
            <a:xfrm>
              <a:off x="1475640" y="4725000"/>
              <a:ext cx="0" cy="50976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headEnd len="lg" type="oval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2"/>
            <p:cNvSpPr/>
            <p:nvPr/>
          </p:nvSpPr>
          <p:spPr>
            <a:xfrm flipV="1">
              <a:off x="2801160" y="4623120"/>
              <a:ext cx="0" cy="50976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headEnd len="lg" type="oval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3"/>
            <p:cNvSpPr/>
            <p:nvPr/>
          </p:nvSpPr>
          <p:spPr>
            <a:xfrm flipV="1">
              <a:off x="4125960" y="4419000"/>
              <a:ext cx="0" cy="50976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headEnd len="lg" type="oval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4"/>
            <p:cNvSpPr/>
            <p:nvPr/>
          </p:nvSpPr>
          <p:spPr>
            <a:xfrm>
              <a:off x="4839480" y="4316760"/>
              <a:ext cx="0" cy="50976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headEnd len="lg" type="oval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5"/>
            <p:cNvSpPr/>
            <p:nvPr/>
          </p:nvSpPr>
          <p:spPr>
            <a:xfrm>
              <a:off x="6470640" y="4623120"/>
              <a:ext cx="0" cy="50976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headEnd len="lg" type="oval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6"/>
            <p:cNvSpPr/>
            <p:nvPr/>
          </p:nvSpPr>
          <p:spPr>
            <a:xfrm flipV="1">
              <a:off x="7693920" y="4316760"/>
              <a:ext cx="0" cy="50976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headEnd len="lg" type="oval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8"/>
            <p:cNvSpPr/>
            <p:nvPr/>
          </p:nvSpPr>
          <p:spPr>
            <a:xfrm>
              <a:off x="762120" y="4038480"/>
              <a:ext cx="7543440" cy="1523880"/>
            </a:xfrm>
            <a:custGeom>
              <a:avLst/>
              <a:gdLst/>
              <a:ahLst/>
              <a:rect l="l" t="t" r="r" b="b"/>
              <a:pathLst>
                <a:path w="3552" h="717">
                  <a:moveTo>
                    <a:pt x="0" y="515"/>
                  </a:moveTo>
                  <a:cubicBezTo>
                    <a:pt x="68" y="538"/>
                    <a:pt x="272" y="717"/>
                    <a:pt x="406" y="656"/>
                  </a:cubicBezTo>
                  <a:cubicBezTo>
                    <a:pt x="540" y="595"/>
                    <a:pt x="597" y="239"/>
                    <a:pt x="803" y="150"/>
                  </a:cubicBezTo>
                  <a:cubicBezTo>
                    <a:pt x="1009" y="61"/>
                    <a:pt x="1451" y="45"/>
                    <a:pt x="1644" y="119"/>
                  </a:cubicBezTo>
                  <a:cubicBezTo>
                    <a:pt x="1837" y="193"/>
                    <a:pt x="1758" y="520"/>
                    <a:pt x="1963" y="594"/>
                  </a:cubicBezTo>
                  <a:cubicBezTo>
                    <a:pt x="2168" y="668"/>
                    <a:pt x="2666" y="649"/>
                    <a:pt x="2874" y="563"/>
                  </a:cubicBezTo>
                  <a:cubicBezTo>
                    <a:pt x="3082" y="477"/>
                    <a:pt x="3095" y="160"/>
                    <a:pt x="3208" y="80"/>
                  </a:cubicBezTo>
                  <a:cubicBezTo>
                    <a:pt x="3321" y="0"/>
                    <a:pt x="3480" y="83"/>
                    <a:pt x="3552" y="83"/>
                  </a:cubicBezTo>
                </a:path>
              </a:pathLst>
            </a:custGeom>
            <a:noFill/>
            <a:ln w="1908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0" name="Picture 20" descr=""/>
          <p:cNvPicPr/>
          <p:nvPr/>
        </p:nvPicPr>
        <p:blipFill>
          <a:blip r:embed="rId2"/>
          <a:srcRect l="26667" t="0" r="18667" b="20000"/>
          <a:stretch/>
        </p:blipFill>
        <p:spPr>
          <a:xfrm>
            <a:off x="0" y="0"/>
            <a:ext cx="129528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304920" y="1447920"/>
            <a:ext cx="8458200" cy="17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Let C be a class of functions from S to [0,1], and let f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C.  Suppose we draw m elements 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,…,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 independently from some distribution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, and then output a hypothesis h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C such that |h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)-f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)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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 for all i. Then provided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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/7 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304920" y="4114800"/>
            <a:ext cx="7924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we’ll ha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304920" y="5257800"/>
            <a:ext cx="79246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with probability at least 1-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 over 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,…,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228600" y="1522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  <a:ea typeface="Calibri"/>
              </a:rPr>
              <a:t>Small Fat-Shattering Dimension Implies Small Sample Complex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11"/>
              <p:cNvSpPr txBox="1"/>
              <p:nvPr/>
            </p:nvSpPr>
            <p:spPr>
              <a:xfrm>
                <a:off x="2149560" y="4494240"/>
                <a:ext cx="42336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μ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  <m:r>
                          <m:t xml:space="preserve">≤</m:t>
                        </m:r>
                        <m:r>
                          <m:t xml:space="preserve">γ</m:t>
                        </m:r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12"/>
              <p:cNvSpPr txBox="1"/>
              <p:nvPr/>
            </p:nvSpPr>
            <p:spPr>
              <a:xfrm>
                <a:off x="1523880" y="3124080"/>
                <a:ext cx="5791320" cy="10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Ω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γ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a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γε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5</m:t>
                                    </m:r>
                                  </m:den>
                                </m:f>
                              </m:e>
                            </m:d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γε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Rectangle 13"/>
          <p:cNvSpPr/>
          <p:nvPr/>
        </p:nvSpPr>
        <p:spPr>
          <a:xfrm>
            <a:off x="304920" y="5867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Bartlett-Long 1996, building on Alon et al. 1993, building on Blumer et al. 19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BAA2-1FFD-4485-AC1F-B6DB8B5DB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9" name="Object 12"/>
              <p:cNvSpPr txBox="1"/>
              <p:nvPr/>
            </p:nvSpPr>
            <p:spPr>
              <a:xfrm>
                <a:off x="3657600" y="4379760"/>
                <a:ext cx="292428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at</m:t>
                        </m:r>
                      </m:e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</m:e>
                    </m:d>
                    <m:r>
                      <m:t xml:space="preserve">=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γ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Text Box 3"/>
          <p:cNvSpPr/>
          <p:nvPr/>
        </p:nvSpPr>
        <p:spPr>
          <a:xfrm>
            <a:off x="316080" y="1530360"/>
            <a:ext cx="8305560" cy="29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alibri"/>
                <a:ea typeface="Calibri"/>
              </a:rPr>
              <a:t>Nayak 1999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f we want to encode k classical bits into n qubits, in such a way that any bit can be recovered with probability 1-p, then we need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1-H(p))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alibri"/>
                <a:ea typeface="Calibri"/>
              </a:rPr>
              <a:t>Corollary (“turning Nayak’s result on its head”)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et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the set of functions that map an n-qubit measurement E to Tr(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, for som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 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380880" y="571500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Quantum Occam’s Razor Theorem follows easi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304920" y="2286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  <a:ea typeface="Calibri"/>
              </a:rPr>
              <a:t>Upper-Bounding the Fat-Shattering Dimension of Quantum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15"/>
          <p:cNvGrpSpPr/>
          <p:nvPr/>
        </p:nvGrpSpPr>
        <p:grpSpPr>
          <a:xfrm>
            <a:off x="1440" y="3657600"/>
            <a:ext cx="4113360" cy="3200400"/>
            <a:chOff x="1440" y="3657600"/>
            <a:chExt cx="4113360" cy="3200400"/>
          </a:xfrm>
        </p:grpSpPr>
        <p:graphicFrame>
          <p:nvGraphicFramePr>
            <p:cNvPr id="224" name="Object 16"/>
            <p:cNvGraphicFramePr/>
            <p:nvPr/>
          </p:nvGraphicFramePr>
          <p:xfrm>
            <a:off x="1440" y="4876920"/>
            <a:ext cx="1522440" cy="1981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5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0" y="4876920"/>
                      <a:ext cx="152244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6" name="AutoShape 17"/>
            <p:cNvSpPr/>
            <p:nvPr/>
          </p:nvSpPr>
          <p:spPr>
            <a:xfrm>
              <a:off x="1066680" y="3657600"/>
              <a:ext cx="3048120" cy="1487520"/>
            </a:xfrm>
            <a:prstGeom prst="wedgeEllipseCallout">
              <a:avLst>
                <a:gd name="adj1" fmla="val -42032"/>
                <a:gd name="adj2" fmla="val 52560"/>
              </a:avLst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o need to thank me!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Slide Number Placeholder 1"/>
          <p:cNvSpPr/>
          <p:nvPr/>
        </p:nvSpPr>
        <p:spPr>
          <a:xfrm>
            <a:off x="6999120" y="111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50E9-A110-41C9-9B1D-90A7D116C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347760" y="304920"/>
            <a:ext cx="8567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Calibri"/>
              </a:rPr>
              <a:t>How do we </a:t>
            </a:r>
            <a:r>
              <a:rPr b="1" lang="en-US" sz="4200" spc="-1" strike="noStrike">
                <a:solidFill>
                  <a:srgbClr val="cc3300"/>
                </a:solidFill>
                <a:latin typeface="Calibri"/>
                <a:ea typeface="Calibri"/>
              </a:rPr>
              <a:t>find</a:t>
            </a: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Calibri"/>
              </a:rPr>
              <a:t> the hypothesis state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347760" y="4243320"/>
            <a:ext cx="84913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is is a convex programming problem, which can be solved in time polynomial in D=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(good enough in practice for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15 or s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ptimized,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linear-ti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terative method for this problem: 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[Hazan 2008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4"/>
          <p:cNvGrpSpPr/>
          <p:nvPr/>
        </p:nvGrpSpPr>
        <p:grpSpPr>
          <a:xfrm>
            <a:off x="347760" y="1189080"/>
            <a:ext cx="8305560" cy="2968560"/>
            <a:chOff x="347760" y="1189080"/>
            <a:chExt cx="8305560" cy="2968560"/>
          </a:xfrm>
        </p:grpSpPr>
        <p:sp>
          <p:nvSpPr>
            <p:cNvPr id="231" name="Text Box 5"/>
            <p:cNvSpPr/>
            <p:nvPr/>
          </p:nvSpPr>
          <p:spPr>
            <a:xfrm>
              <a:off x="347760" y="1189080"/>
              <a:ext cx="8305560" cy="17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Here’s one way: let b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  <a:ea typeface="Calibri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,…,b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  <a:ea typeface="Calibri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be the outcomes of measurements 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  <a:ea typeface="Calibri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,…,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  <a:ea typeface="Calibri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hen choose a hypothesis state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to minimiz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2" name="Object 6"/>
                <p:cNvSpPr txBox="1"/>
                <p:nvPr/>
              </p:nvSpPr>
              <p:spPr>
                <a:xfrm>
                  <a:off x="2938320" y="2789280"/>
                  <a:ext cx="3499920" cy="13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r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σ</m:t>
                                      </m:r>
                                    </m:e>
                                  </m:d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3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5452-7630-4DB8-99BA-895C762F7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304920" y="304920"/>
            <a:ext cx="853416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Numerical Simulation</a:t>
            </a:r>
            <a:br>
              <a:rPr sz="4200"/>
            </a:b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[A.-Dechter 2008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304920" y="1676520"/>
            <a:ext cx="853416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implemented Hazan’s algorithm in MATLAB, and tested it on simulated quantum stat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studied how the number of sample measurements m needed for accurate predictions scales with the number of qubits n, for n≤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esult of experimen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y theorem appears to be tr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1"/>
          <p:cNvSpPr/>
          <p:nvPr/>
        </p:nvSpPr>
        <p:spPr>
          <a:xfrm>
            <a:off x="7010280" y="111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7491-0918-44E2-866E-489C0FEC7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What </a:t>
            </a:r>
            <a:r>
              <a:rPr b="1" i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Is</a:t>
            </a: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 A Quantum (Pure) St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8"/>
          <p:cNvSpPr/>
          <p:nvPr/>
        </p:nvSpPr>
        <p:spPr>
          <a:xfrm>
            <a:off x="4826160" y="1996920"/>
            <a:ext cx="3047760" cy="3048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4826160" y="3521160"/>
            <a:ext cx="3047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6350040" y="1996920"/>
            <a:ext cx="144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11"/>
          <p:cNvGraphicFramePr/>
          <p:nvPr/>
        </p:nvGraphicFramePr>
        <p:xfrm>
          <a:off x="7873920" y="3139920"/>
          <a:ext cx="54792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920" y="3139920"/>
                    <a:ext cx="5479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12"/>
          <p:cNvGraphicFramePr/>
          <p:nvPr/>
        </p:nvGraphicFramePr>
        <p:xfrm>
          <a:off x="6138720" y="1387440"/>
          <a:ext cx="5130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8720" y="1387440"/>
                    <a:ext cx="5130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Line 14"/>
          <p:cNvSpPr/>
          <p:nvPr/>
        </p:nvSpPr>
        <p:spPr>
          <a:xfrm flipV="1">
            <a:off x="6343920" y="2450160"/>
            <a:ext cx="1078920" cy="1076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 flipV="1">
            <a:off x="6340680" y="2007360"/>
            <a:ext cx="20160" cy="1517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16080" y="1109520"/>
            <a:ext cx="547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A unit vector of complex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16080" y="5156280"/>
            <a:ext cx="8523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  <a:ea typeface="Calibri"/>
              </a:rPr>
              <a:t>Holevo’s Theorem (1973)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By sending n qubits, Alice can communicate at most n classical bits to Bob (or 2n if they pre-share entanglemen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3"/>
              <p:cNvSpPr txBox="1"/>
              <p:nvPr/>
            </p:nvSpPr>
            <p:spPr>
              <a:xfrm>
                <a:off x="6899400" y="1546200"/>
                <a:ext cx="19508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|</m:t>
                    </m:r>
                    <m:r>
                      <m:t xml:space="preserve">0</m:t>
                    </m:r>
                    <m:r>
                      <m:t xml:space="preserve">⟩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Text Box 3"/>
          <p:cNvSpPr/>
          <p:nvPr/>
        </p:nvSpPr>
        <p:spPr>
          <a:xfrm>
            <a:off x="316080" y="1803240"/>
            <a:ext cx="451008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Infinitely many bits in the amplitude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—but when you measure, the state “collapses” to just 1 bi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(0 with probability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1 with probability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6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560B-4F41-499D-B9B5-9236EFFFD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6" descr="n"/>
          <p:cNvPicPr/>
          <p:nvPr/>
        </p:nvPicPr>
        <p:blipFill>
          <a:blip r:embed="rId1"/>
          <a:stretch/>
        </p:blipFill>
        <p:spPr>
          <a:xfrm>
            <a:off x="314280" y="561960"/>
            <a:ext cx="8515440" cy="57340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"/>
          <p:cNvSpPr/>
          <p:nvPr/>
        </p:nvSpPr>
        <p:spPr>
          <a:xfrm>
            <a:off x="4572000" y="4971960"/>
            <a:ext cx="4191120" cy="13737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 tested on real lab data as well! 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[Rocchetto et al. 2017, in preparatio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E4F8-09E6-4F0C-BE70-8185BC39C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228600" y="15228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Combining My Postselection and Quantum Learning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282600" y="1598760"/>
            <a:ext cx="85345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8000"/>
                </a:solidFill>
                <a:latin typeface="Calibri"/>
              </a:rPr>
              <a:t>[A.-Drucker 2010]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Given an n-qubit stat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nd complexity bound T, there exists an efficient measurement V on poly(n,T) qubits, such that any state that “passes” V can be used to efficiently estimat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’s response to any yes-or-no measurement E that’s implementable by a circuit of size 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293760" y="3960720"/>
            <a:ext cx="8534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pplication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rusted quantum advice is equivalent to trusted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classica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dvice +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untrusted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quantum advi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complexity terms: </a:t>
            </a:r>
            <a:r>
              <a:rPr b="1" lang="en-US" sz="3600" spc="-1" strike="noStrike">
                <a:solidFill>
                  <a:srgbClr val="990099"/>
                </a:solidFill>
                <a:latin typeface="Calibri"/>
              </a:rPr>
              <a:t>BQP/qpoly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990099"/>
                </a:solidFill>
                <a:latin typeface="Calibri"/>
              </a:rPr>
              <a:t>QMA/po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6"/>
          <p:cNvSpPr/>
          <p:nvPr/>
        </p:nvSpPr>
        <p:spPr>
          <a:xfrm>
            <a:off x="282600" y="585468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of uses boosting-like techniques, together with results on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covers and fat-shattering dimen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1"/>
          <p:cNvSpPr/>
          <p:nvPr/>
        </p:nvSpPr>
        <p:spPr>
          <a:xfrm>
            <a:off x="702144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349A-B038-4819-9840-E6D901E32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5" name="Object 12"/>
              <p:cNvSpPr txBox="1"/>
              <p:nvPr/>
            </p:nvSpPr>
            <p:spPr>
              <a:xfrm>
                <a:off x="533520" y="3900600"/>
                <a:ext cx="534960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M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log</m:t>
                            </m:r>
                            <m:r>
                              <m:t xml:space="preserve">D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6" name="Text Box 3"/>
          <p:cNvSpPr/>
          <p:nvPr/>
        </p:nvSpPr>
        <p:spPr>
          <a:xfrm>
            <a:off x="380880" y="1752480"/>
            <a:ext cx="8305920" cy="21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Theorem: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Le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be an unknown D-dimensional state, and let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,…,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be known 2-outcome measurements.  Suppose we want to know Tr(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) to within additive error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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, for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al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[M].  We can achieve this, with high probability, given only k copies o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, w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304920" y="2286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  <a:ea typeface="Calibri"/>
              </a:rPr>
              <a:t>New Result </a:t>
            </a:r>
            <a:r>
              <a:rPr b="1" lang="en-US" sz="3600" spc="-1" strike="noStrike">
                <a:solidFill>
                  <a:srgbClr val="008000"/>
                </a:solidFill>
                <a:latin typeface="Calibri"/>
                <a:ea typeface="Calibri"/>
              </a:rPr>
              <a:t>[A. 2017, in preparation]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  <a:ea typeface="Calibri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Calibri"/>
                <a:ea typeface="Calibri"/>
              </a:rPr>
              <a:t>“Shadow Tomography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419040" y="5486400"/>
            <a:ext cx="8305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Challenge: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How to measure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,…,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without destroying our few copies o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in the proces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6095880" y="3822840"/>
            <a:ext cx="2743200" cy="12819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Open Problem: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Dependence on D removabl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3244-EF1A-4631-A483-5F51EC7DF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1" name="Object 12"/>
              <p:cNvSpPr txBox="1"/>
              <p:nvPr/>
            </p:nvSpPr>
            <p:spPr>
              <a:xfrm>
                <a:off x="3233880" y="3530520"/>
                <a:ext cx="242568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2" name="Text Box 3"/>
          <p:cNvSpPr/>
          <p:nvPr/>
        </p:nvSpPr>
        <p:spPr>
          <a:xfrm>
            <a:off x="338040" y="838080"/>
            <a:ext cx="8305920" cy="28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Theorem [A. 2006, fixed by Harrow-Montanaro-Lin 2016]: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Le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be an unknown D-dimensional state, and let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,…,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be known 2-outcome measurements.  Suppose we’re promised that either there exists an i such that Tr(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c, or else Tr(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c-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for all 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[M].  We can decide which, with high probability, given only k copies o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, w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304920" y="1015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Proof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490680" y="5675400"/>
            <a:ext cx="8305560" cy="10062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ow run my postselected learning algorithm 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[A. 2004]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but using the above to find the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’s to postselect 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93760" y="4651200"/>
            <a:ext cx="8305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Indeed, can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fin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an i with Tr(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c-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, if given O(log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M /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) copies o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1"/>
          <p:cNvSpPr/>
          <p:nvPr/>
        </p:nvSpPr>
        <p:spPr>
          <a:xfrm>
            <a:off x="7010280" y="9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590D-181B-4745-BB48-22B0073E6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7" name="Object 12"/>
              <p:cNvSpPr txBox="1"/>
              <p:nvPr/>
            </p:nvSpPr>
            <p:spPr>
              <a:xfrm>
                <a:off x="2317680" y="5086440"/>
                <a:ext cx="382104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log</m:t>
                            </m:r>
                            <m:r>
                              <m:t xml:space="preserve">D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8" name="Text Box 3"/>
          <p:cNvSpPr/>
          <p:nvPr/>
        </p:nvSpPr>
        <p:spPr>
          <a:xfrm>
            <a:off x="343080" y="1628640"/>
            <a:ext cx="8484840" cy="22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3300"/>
                </a:solidFill>
                <a:latin typeface="Calibri"/>
                <a:ea typeface="Calibri"/>
              </a:rPr>
              <a:t>Corollary of my Postselected Learning Algorithm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Let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be an unknown D-dimensional state.  Suppose we’re given 2-outcome measurements 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,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,… in sequence, each followed by the value of Tr(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) to within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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/2.  Each time, we’re challenged to guess a hypothesis stat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such th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304920" y="23976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Online Learning of Quantum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380880" y="1019160"/>
            <a:ext cx="8305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Answers a question of Elad Hazan (201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12"/>
              <p:cNvSpPr txBox="1"/>
              <p:nvPr/>
            </p:nvSpPr>
            <p:spPr>
              <a:xfrm>
                <a:off x="2857680" y="3733920"/>
                <a:ext cx="36892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ρ</m:t>
                            </m:r>
                          </m:e>
                        </m:d>
                      </m:e>
                    </m:d>
                    <m:r>
                      <m:t xml:space="preserve">≤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Text Box 3"/>
          <p:cNvSpPr/>
          <p:nvPr/>
        </p:nvSpPr>
        <p:spPr>
          <a:xfrm>
            <a:off x="304920" y="4572000"/>
            <a:ext cx="8305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We can do this so that we fail at most k times, whe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1611360" y="3657600"/>
            <a:ext cx="6999120" cy="21513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A.-Hazan-Nayak 2017: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Can also use general convex optimization tools, or an upper bound on “sequential fat-shattering dimension” of quantum states, to get a regret bound for the agnostic case, now involving a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t ter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CC95-C726-4F61-AF52-7B0512D74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6"/>
          <p:cNvSpPr/>
          <p:nvPr/>
        </p:nvSpPr>
        <p:spPr>
          <a:xfrm>
            <a:off x="282600" y="949320"/>
            <a:ext cx="85345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tools of COLT let us show that in many scenarios, the “exponentiality” of quantum states is more bark than bi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.e. there’s a short classical string that specifies how the quantum state behaves, on any 2-outcome measurement you could actually perfor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pplications from complexity theory to experimental quantum state tomography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as, these results don’t generalize to many-outcome measurements, or to learning quantum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processe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Biggest future challenge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Find subclasses of states and measurements for which these learning procedures are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computational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efficient  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</a:rPr>
              <a:t>(Stabilizer states: Rocchetto 201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3C78-2B26-4366-BDE8-A55775884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04920" y="533520"/>
            <a:ext cx="8610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The Problem for C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80880" y="1600200"/>
            <a:ext cx="8534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tate of n entangled qubits requires 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2</a:t>
            </a:r>
            <a:r>
              <a:rPr b="1" lang="en-US" sz="4000" spc="-1" strike="noStrike" baseline="30000">
                <a:solidFill>
                  <a:srgbClr val="008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mplex numbers to specify, even approximate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2"/>
              <p:cNvSpPr txBox="1"/>
              <p:nvPr/>
            </p:nvSpPr>
            <p:spPr>
              <a:xfrm>
                <a:off x="2438280" y="2971800"/>
                <a:ext cx="4341960" cy="16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r>
                      <m:t xml:space="preserve">⟩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1" name="Text Box 3"/>
          <p:cNvSpPr/>
          <p:nvPr/>
        </p:nvSpPr>
        <p:spPr>
          <a:xfrm>
            <a:off x="380880" y="4648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o a computer scientist, this is probably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th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central fact about quantum mecha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8088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should we worry about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7238520" y="304560"/>
            <a:ext cx="909720" cy="1142640"/>
            <a:chOff x="7238520" y="304560"/>
            <a:chExt cx="909720" cy="1142640"/>
          </a:xfrm>
        </p:grpSpPr>
        <p:sp>
          <p:nvSpPr>
            <p:cNvPr id="74" name="Line 5"/>
            <p:cNvSpPr/>
            <p:nvPr/>
          </p:nvSpPr>
          <p:spPr>
            <a:xfrm flipH="1" flipV="1">
              <a:off x="7473240" y="329400"/>
              <a:ext cx="476640" cy="111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Picture 6" descr="MCED00214_0000[1]"/>
            <p:cNvPicPr/>
            <p:nvPr/>
          </p:nvPicPr>
          <p:blipFill>
            <a:blip r:embed="rId1"/>
            <a:stretch/>
          </p:blipFill>
          <p:spPr>
            <a:xfrm flipH="1">
              <a:off x="7238520" y="329760"/>
              <a:ext cx="909720" cy="90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AutoShape 7"/>
            <p:cNvSpPr/>
            <p:nvPr/>
          </p:nvSpPr>
          <p:spPr>
            <a:xfrm flipH="1" flipV="1" rot="16200000">
              <a:off x="7606440" y="828720"/>
              <a:ext cx="15732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50" y="3068"/>
                    <a:pt x="17100" y="5080"/>
                    <a:pt x="17100" y="10800"/>
                  </a:cubicBezTo>
                  <a:cubicBezTo>
                    <a:pt x="17100" y="16520"/>
                    <a:pt x="19350" y="1853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8"/>
            <p:cNvGrpSpPr/>
            <p:nvPr/>
          </p:nvGrpSpPr>
          <p:grpSpPr>
            <a:xfrm>
              <a:off x="7716240" y="583920"/>
              <a:ext cx="345240" cy="213480"/>
              <a:chOff x="7716240" y="583920"/>
              <a:chExt cx="345240" cy="213480"/>
            </a:xfrm>
          </p:grpSpPr>
          <p:sp>
            <p:nvSpPr>
              <p:cNvPr id="78" name="Freeform 9"/>
              <p:cNvSpPr/>
              <p:nvPr/>
            </p:nvSpPr>
            <p:spPr>
              <a:xfrm flipH="1">
                <a:off x="7715880" y="583920"/>
                <a:ext cx="345240" cy="213480"/>
              </a:xfrm>
              <a:custGeom>
                <a:avLst/>
                <a:gdLst>
                  <a:gd name="textAreaLeft" fmla="*/ -360 w 345240"/>
                  <a:gd name="textAreaRight" fmla="*/ 345240 w 345240"/>
                  <a:gd name="textAreaTop" fmla="*/ 0 h 213480"/>
                  <a:gd name="textAreaBottom" fmla="*/ 213840 h 2134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0"/>
              <p:cNvSpPr/>
              <p:nvPr/>
            </p:nvSpPr>
            <p:spPr>
              <a:xfrm flipH="1">
                <a:off x="7742880" y="607680"/>
                <a:ext cx="292320" cy="166320"/>
              </a:xfrm>
              <a:custGeom>
                <a:avLst/>
                <a:gdLst>
                  <a:gd name="textAreaLeft" fmla="*/ 360 w 292320"/>
                  <a:gd name="textAreaRight" fmla="*/ 293040 w 292320"/>
                  <a:gd name="textAreaTop" fmla="*/ 0 h 166320"/>
                  <a:gd name="textAreaBottom" fmla="*/ 166320 h 16632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1"/>
              <p:cNvSpPr/>
              <p:nvPr/>
            </p:nvSpPr>
            <p:spPr>
              <a:xfrm flipH="1">
                <a:off x="7821000" y="621000"/>
                <a:ext cx="141120" cy="140760"/>
              </a:xfrm>
              <a:custGeom>
                <a:avLst/>
                <a:gdLst>
                  <a:gd name="textAreaLeft" fmla="*/ 360 w 141120"/>
                  <a:gd name="textAreaRight" fmla="*/ 141840 w 14112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2"/>
              <p:cNvSpPr/>
              <p:nvPr/>
            </p:nvSpPr>
            <p:spPr>
              <a:xfrm flipH="1">
                <a:off x="7857720" y="662400"/>
                <a:ext cx="23040" cy="23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13"/>
            <p:cNvGrpSpPr/>
            <p:nvPr/>
          </p:nvGrpSpPr>
          <p:grpSpPr>
            <a:xfrm>
              <a:off x="7292880" y="583920"/>
              <a:ext cx="345240" cy="213480"/>
              <a:chOff x="7292880" y="583920"/>
              <a:chExt cx="345240" cy="213480"/>
            </a:xfrm>
          </p:grpSpPr>
          <p:sp>
            <p:nvSpPr>
              <p:cNvPr id="83" name="Freeform 14"/>
              <p:cNvSpPr/>
              <p:nvPr/>
            </p:nvSpPr>
            <p:spPr>
              <a:xfrm flipH="1">
                <a:off x="7292520" y="583920"/>
                <a:ext cx="345240" cy="213480"/>
              </a:xfrm>
              <a:custGeom>
                <a:avLst/>
                <a:gdLst>
                  <a:gd name="textAreaLeft" fmla="*/ -360 w 345240"/>
                  <a:gd name="textAreaRight" fmla="*/ 345240 w 345240"/>
                  <a:gd name="textAreaTop" fmla="*/ 0 h 213480"/>
                  <a:gd name="textAreaBottom" fmla="*/ 213840 h 2134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5"/>
              <p:cNvSpPr/>
              <p:nvPr/>
            </p:nvSpPr>
            <p:spPr>
              <a:xfrm flipH="1">
                <a:off x="7319520" y="607680"/>
                <a:ext cx="292320" cy="166320"/>
              </a:xfrm>
              <a:custGeom>
                <a:avLst/>
                <a:gdLst>
                  <a:gd name="textAreaLeft" fmla="*/ 360 w 292320"/>
                  <a:gd name="textAreaRight" fmla="*/ 293040 w 292320"/>
                  <a:gd name="textAreaTop" fmla="*/ 0 h 166320"/>
                  <a:gd name="textAreaBottom" fmla="*/ 166320 h 16632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6"/>
              <p:cNvSpPr/>
              <p:nvPr/>
            </p:nvSpPr>
            <p:spPr>
              <a:xfrm flipH="1">
                <a:off x="7397640" y="621000"/>
                <a:ext cx="141120" cy="140760"/>
              </a:xfrm>
              <a:custGeom>
                <a:avLst/>
                <a:gdLst>
                  <a:gd name="textAreaLeft" fmla="*/ 360 w 141120"/>
                  <a:gd name="textAreaRight" fmla="*/ 141840 w 14112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17"/>
              <p:cNvSpPr/>
              <p:nvPr/>
            </p:nvSpPr>
            <p:spPr>
              <a:xfrm flipH="1">
                <a:off x="7434360" y="662400"/>
                <a:ext cx="23040" cy="23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Line 18"/>
            <p:cNvSpPr/>
            <p:nvPr/>
          </p:nvSpPr>
          <p:spPr>
            <a:xfrm flipH="1" flipV="1">
              <a:off x="7452000" y="304560"/>
              <a:ext cx="248760" cy="55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19"/>
          <p:cNvGrpSpPr/>
          <p:nvPr/>
        </p:nvGrpSpPr>
        <p:grpSpPr>
          <a:xfrm>
            <a:off x="990720" y="304560"/>
            <a:ext cx="955440" cy="1218600"/>
            <a:chOff x="990720" y="304560"/>
            <a:chExt cx="955440" cy="1218600"/>
          </a:xfrm>
        </p:grpSpPr>
        <p:sp>
          <p:nvSpPr>
            <p:cNvPr id="89" name="Line 20"/>
            <p:cNvSpPr/>
            <p:nvPr/>
          </p:nvSpPr>
          <p:spPr>
            <a:xfrm flipV="1">
              <a:off x="1202040" y="331200"/>
              <a:ext cx="508320" cy="119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21" descr="MCDD01775_0000[1]"/>
            <p:cNvPicPr/>
            <p:nvPr/>
          </p:nvPicPr>
          <p:blipFill>
            <a:blip r:embed="rId2"/>
            <a:stretch/>
          </p:blipFill>
          <p:spPr>
            <a:xfrm>
              <a:off x="990720" y="331560"/>
              <a:ext cx="95544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AutoShape 22"/>
            <p:cNvSpPr/>
            <p:nvPr/>
          </p:nvSpPr>
          <p:spPr>
            <a:xfrm flipV="1" rot="5400000">
              <a:off x="1376640" y="870840"/>
              <a:ext cx="181080" cy="39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95" y="3084"/>
                    <a:pt x="17189" y="5080"/>
                    <a:pt x="17189" y="10800"/>
                  </a:cubicBezTo>
                  <a:cubicBezTo>
                    <a:pt x="17189" y="16520"/>
                    <a:pt x="19395" y="1851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23"/>
            <p:cNvGrpSpPr/>
            <p:nvPr/>
          </p:nvGrpSpPr>
          <p:grpSpPr>
            <a:xfrm>
              <a:off x="1068840" y="492840"/>
              <a:ext cx="399240" cy="310320"/>
              <a:chOff x="1068840" y="492840"/>
              <a:chExt cx="399240" cy="310320"/>
            </a:xfrm>
          </p:grpSpPr>
          <p:sp>
            <p:nvSpPr>
              <p:cNvPr id="93" name="Freeform 24"/>
              <p:cNvSpPr/>
              <p:nvPr/>
            </p:nvSpPr>
            <p:spPr>
              <a:xfrm>
                <a:off x="1081440" y="577800"/>
                <a:ext cx="369360" cy="22536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25"/>
              <p:cNvSpPr/>
              <p:nvPr/>
            </p:nvSpPr>
            <p:spPr>
              <a:xfrm>
                <a:off x="1109520" y="602640"/>
                <a:ext cx="313200" cy="176040"/>
              </a:xfrm>
              <a:custGeom>
                <a:avLst/>
                <a:gdLst>
                  <a:gd name="textAreaLeft" fmla="*/ 0 w 313200"/>
                  <a:gd name="textAreaRight" fmla="*/ 313200 w 31320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26"/>
              <p:cNvSpPr/>
              <p:nvPr/>
            </p:nvSpPr>
            <p:spPr>
              <a:xfrm>
                <a:off x="1188000" y="616320"/>
                <a:ext cx="150840" cy="1490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27"/>
              <p:cNvSpPr/>
              <p:nvPr/>
            </p:nvSpPr>
            <p:spPr>
              <a:xfrm>
                <a:off x="1274760" y="660960"/>
                <a:ext cx="24120" cy="248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28"/>
              <p:cNvSpPr/>
              <p:nvPr/>
            </p:nvSpPr>
            <p:spPr>
              <a:xfrm>
                <a:off x="1068840" y="563400"/>
                <a:ext cx="52200" cy="5688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29"/>
              <p:cNvSpPr/>
              <p:nvPr/>
            </p:nvSpPr>
            <p:spPr>
              <a:xfrm>
                <a:off x="1127520" y="525960"/>
                <a:ext cx="40320" cy="6228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30"/>
              <p:cNvSpPr/>
              <p:nvPr/>
            </p:nvSpPr>
            <p:spPr>
              <a:xfrm>
                <a:off x="1192320" y="502560"/>
                <a:ext cx="25920" cy="63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31"/>
              <p:cNvSpPr/>
              <p:nvPr/>
            </p:nvSpPr>
            <p:spPr>
              <a:xfrm>
                <a:off x="1414800" y="568800"/>
                <a:ext cx="53280" cy="5616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32"/>
              <p:cNvSpPr/>
              <p:nvPr/>
            </p:nvSpPr>
            <p:spPr>
              <a:xfrm>
                <a:off x="1369800" y="529200"/>
                <a:ext cx="41400" cy="615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33"/>
              <p:cNvSpPr/>
              <p:nvPr/>
            </p:nvSpPr>
            <p:spPr>
              <a:xfrm>
                <a:off x="1317960" y="504360"/>
                <a:ext cx="27720" cy="6408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34"/>
              <p:cNvSpPr/>
              <p:nvPr/>
            </p:nvSpPr>
            <p:spPr>
              <a:xfrm>
                <a:off x="1254960" y="492840"/>
                <a:ext cx="22320" cy="644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35"/>
            <p:cNvGrpSpPr/>
            <p:nvPr/>
          </p:nvGrpSpPr>
          <p:grpSpPr>
            <a:xfrm>
              <a:off x="1519920" y="492840"/>
              <a:ext cx="399240" cy="310320"/>
              <a:chOff x="1519920" y="492840"/>
              <a:chExt cx="399240" cy="310320"/>
            </a:xfrm>
          </p:grpSpPr>
          <p:sp>
            <p:nvSpPr>
              <p:cNvPr id="105" name="Freeform 36"/>
              <p:cNvSpPr/>
              <p:nvPr/>
            </p:nvSpPr>
            <p:spPr>
              <a:xfrm>
                <a:off x="1532520" y="577800"/>
                <a:ext cx="369360" cy="22536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37"/>
              <p:cNvSpPr/>
              <p:nvPr/>
            </p:nvSpPr>
            <p:spPr>
              <a:xfrm>
                <a:off x="1560600" y="602640"/>
                <a:ext cx="313200" cy="176040"/>
              </a:xfrm>
              <a:custGeom>
                <a:avLst/>
                <a:gdLst>
                  <a:gd name="textAreaLeft" fmla="*/ 0 w 313200"/>
                  <a:gd name="textAreaRight" fmla="*/ 313200 w 31320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38"/>
              <p:cNvSpPr/>
              <p:nvPr/>
            </p:nvSpPr>
            <p:spPr>
              <a:xfrm>
                <a:off x="1639080" y="616320"/>
                <a:ext cx="150840" cy="1490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39"/>
              <p:cNvSpPr/>
              <p:nvPr/>
            </p:nvSpPr>
            <p:spPr>
              <a:xfrm>
                <a:off x="1725840" y="660960"/>
                <a:ext cx="24120" cy="248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40"/>
              <p:cNvSpPr/>
              <p:nvPr/>
            </p:nvSpPr>
            <p:spPr>
              <a:xfrm>
                <a:off x="1519920" y="563400"/>
                <a:ext cx="52200" cy="5688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41"/>
              <p:cNvSpPr/>
              <p:nvPr/>
            </p:nvSpPr>
            <p:spPr>
              <a:xfrm>
                <a:off x="1578600" y="525960"/>
                <a:ext cx="40320" cy="6228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42"/>
              <p:cNvSpPr/>
              <p:nvPr/>
            </p:nvSpPr>
            <p:spPr>
              <a:xfrm>
                <a:off x="1643400" y="502560"/>
                <a:ext cx="25920" cy="63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43"/>
              <p:cNvSpPr/>
              <p:nvPr/>
            </p:nvSpPr>
            <p:spPr>
              <a:xfrm>
                <a:off x="1865880" y="568800"/>
                <a:ext cx="53280" cy="5616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44"/>
              <p:cNvSpPr/>
              <p:nvPr/>
            </p:nvSpPr>
            <p:spPr>
              <a:xfrm>
                <a:off x="1820880" y="529200"/>
                <a:ext cx="41400" cy="615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45"/>
              <p:cNvSpPr/>
              <p:nvPr/>
            </p:nvSpPr>
            <p:spPr>
              <a:xfrm>
                <a:off x="1769040" y="504360"/>
                <a:ext cx="27720" cy="6408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46"/>
              <p:cNvSpPr/>
              <p:nvPr/>
            </p:nvSpPr>
            <p:spPr>
              <a:xfrm>
                <a:off x="1706040" y="492840"/>
                <a:ext cx="22320" cy="644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Line 47"/>
            <p:cNvSpPr/>
            <p:nvPr/>
          </p:nvSpPr>
          <p:spPr>
            <a:xfrm flipV="1">
              <a:off x="1467360" y="304560"/>
              <a:ext cx="264960" cy="59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Slide Number Placeholder 1"/>
          <p:cNvSpPr/>
          <p:nvPr/>
        </p:nvSpPr>
        <p:spPr>
          <a:xfrm>
            <a:off x="6994440" y="176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5FAE-2DAA-4D6C-9E8B-F6CA03309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609480" y="609480"/>
            <a:ext cx="47246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Answer 1: Quantum State Tomograph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80880" y="2590920"/>
            <a:ext cx="83822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ask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iven lots of copies of an unknown quantum state, produce an approximate classical description of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entral probl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do tomography on a general state of n particles, you clearly need ~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asurements</a:t>
            </a:r>
            <a:br>
              <a:rPr sz="2800"/>
            </a:br>
            <a:r>
              <a:rPr b="0" lang="en-US" sz="2800" spc="-1" strike="noStrike">
                <a:solidFill>
                  <a:srgbClr val="990099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990099"/>
                </a:solidFill>
                <a:latin typeface="Calibri"/>
              </a:rPr>
              <a:t>Innsbruck group (2005): 8 particles / ~656,000</a:t>
            </a:r>
            <a:br>
              <a:rPr sz="2800"/>
            </a:br>
            <a:r>
              <a:rPr b="0" lang="en-US" sz="2800" spc="-1" strike="noStrike">
                <a:solidFill>
                  <a:srgbClr val="990099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990099"/>
                </a:solidFill>
                <a:latin typeface="Calibri"/>
              </a:rPr>
              <a:t>experimen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61" descr=""/>
          <p:cNvPicPr/>
          <p:nvPr/>
        </p:nvPicPr>
        <p:blipFill>
          <a:blip r:embed="rId1"/>
          <a:stretch/>
        </p:blipFill>
        <p:spPr>
          <a:xfrm>
            <a:off x="5715000" y="304920"/>
            <a:ext cx="2514600" cy="2016000"/>
          </a:xfrm>
          <a:prstGeom prst="rect">
            <a:avLst/>
          </a:prstGeom>
          <a:ln w="0">
            <a:noFill/>
          </a:ln>
        </p:spPr>
      </p:pic>
      <p:sp>
        <p:nvSpPr>
          <p:cNvPr id="121" name="Slide Number Placeholder 1"/>
          <p:cNvSpPr/>
          <p:nvPr/>
        </p:nvSpPr>
        <p:spPr>
          <a:xfrm>
            <a:off x="7032600" y="111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3CCD-AABC-4F8A-81C0-61939E68A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52280" y="30492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Answer 2: Quantum Computing Skeptic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457200" y="350532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me physicists and computer scientists believe quantum computers will be impossible for a fundamental rea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8"/>
          <p:cNvSpPr/>
          <p:nvPr/>
        </p:nvSpPr>
        <p:spPr>
          <a:xfrm>
            <a:off x="457200" y="4495680"/>
            <a:ext cx="82296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many of them, the problem is that a quantum computer would “manipulate an exponential amount of information” using only polynomial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wolfram"/>
          <p:cNvPicPr/>
          <p:nvPr/>
        </p:nvPicPr>
        <p:blipFill>
          <a:blip r:embed="rId1"/>
          <a:stretch/>
        </p:blipFill>
        <p:spPr>
          <a:xfrm>
            <a:off x="7086600" y="1219320"/>
            <a:ext cx="1198440" cy="1600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levin"/>
          <p:cNvPicPr/>
          <p:nvPr/>
        </p:nvPicPr>
        <p:blipFill>
          <a:blip r:embed="rId2"/>
          <a:stretch/>
        </p:blipFill>
        <p:spPr>
          <a:xfrm>
            <a:off x="762120" y="1219320"/>
            <a:ext cx="1144440" cy="1600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1" descr=""/>
          <p:cNvPicPr/>
          <p:nvPr/>
        </p:nvPicPr>
        <p:blipFill>
          <a:blip r:embed="rId3"/>
          <a:stretch/>
        </p:blipFill>
        <p:spPr>
          <a:xfrm>
            <a:off x="4038480" y="1219320"/>
            <a:ext cx="1225800" cy="1612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2" descr=""/>
          <p:cNvPicPr/>
          <p:nvPr/>
        </p:nvPicPr>
        <p:blipFill>
          <a:blip r:embed="rId4"/>
          <a:stretch/>
        </p:blipFill>
        <p:spPr>
          <a:xfrm>
            <a:off x="2362320" y="1219320"/>
            <a:ext cx="1199880" cy="1600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3" descr=""/>
          <p:cNvPicPr/>
          <p:nvPr/>
        </p:nvPicPr>
        <p:blipFill>
          <a:blip r:embed="rId5"/>
          <a:stretch/>
        </p:blipFill>
        <p:spPr>
          <a:xfrm>
            <a:off x="5638680" y="1219320"/>
            <a:ext cx="1051200" cy="16002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762120" y="2895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209680" y="2895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ldre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886200" y="2895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 Ho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5562720" y="2895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v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7010280" y="2895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lf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8"/>
          <p:cNvSpPr/>
          <p:nvPr/>
        </p:nvSpPr>
        <p:spPr>
          <a:xfrm>
            <a:off x="457200" y="594360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t is it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reall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 exponential amoun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1"/>
          <p:cNvSpPr/>
          <p:nvPr/>
        </p:nvSpPr>
        <p:spPr>
          <a:xfrm>
            <a:off x="7010280" y="-25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5FDF-EE0E-465A-89C8-B8DB7302F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228600" y="3049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Can we tame the exponential be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00"/>
          <p:cNvSpPr/>
          <p:nvPr/>
        </p:nvSpPr>
        <p:spPr>
          <a:xfrm>
            <a:off x="762120" y="1143000"/>
            <a:ext cx="7619760" cy="9471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a: “Shrink quantum states down to reasonable size” by viewing them opera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00"/>
          <p:cNvSpPr/>
          <p:nvPr/>
        </p:nvSpPr>
        <p:spPr>
          <a:xfrm>
            <a:off x="228600" y="2286000"/>
            <a:ext cx="8610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Analogy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 probability distribution over n-bit string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also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akes ~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its to specify.  But seeing a sample only provides n b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00"/>
          <p:cNvSpPr/>
          <p:nvPr/>
        </p:nvSpPr>
        <p:spPr>
          <a:xfrm>
            <a:off x="228600" y="3429000"/>
            <a:ext cx="8610480" cy="17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this talk, I’ll survey 14 years of results showing how the standard tools from COLT can be used to upper-bound the “effective size” of quantum st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[A. 2004], [A. 2006], [A.-Drucker 2010], [A. 2017], [A.-Hazan-Nayak 2017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00"/>
          <p:cNvSpPr/>
          <p:nvPr/>
        </p:nvSpPr>
        <p:spPr>
          <a:xfrm>
            <a:off x="1143000" y="5551560"/>
            <a:ext cx="7315200" cy="106884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Calibri"/>
              </a:rPr>
              <a:t>Lesson: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“The linearity of QM helps tame the exponentiality of Q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1"/>
          <p:cNvSpPr/>
          <p:nvPr/>
        </p:nvSpPr>
        <p:spPr>
          <a:xfrm>
            <a:off x="7010280" y="111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4CAC-D953-4B5A-AC2A-8EA138510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The Absent-Minded Advisor Problem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446040" y="3114720"/>
            <a:ext cx="84582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n you hand all your grad students the same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O(1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qubit quantum state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so that by measuring their copy of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n a suitable basis, each student can learn the {0,1} answer to their n-bit thesis ques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495360" y="5151600"/>
            <a:ext cx="81532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NO </a:t>
            </a:r>
            <a:r>
              <a:rPr b="0" lang="en-US" sz="3000" spc="-1" strike="noStrike">
                <a:solidFill>
                  <a:srgbClr val="008000"/>
                </a:solidFill>
                <a:latin typeface="Calibri"/>
              </a:rPr>
              <a:t>[Nayak 1999, Ambainis et al. 1999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deed, quantum communication is no better than classical for this task as n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609480" y="1176480"/>
            <a:ext cx="1181160" cy="1771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7324560" y="1062000"/>
            <a:ext cx="1195560" cy="1863720"/>
          </a:xfrm>
          <a:prstGeom prst="rect">
            <a:avLst/>
          </a:prstGeom>
          <a:ln w="0">
            <a:noFill/>
          </a:ln>
        </p:spPr>
      </p:pic>
      <p:cxnSp>
        <p:nvCxnSpPr>
          <p:cNvPr id="148" name="Straight Arrow Connector 2"/>
          <p:cNvCxnSpPr/>
          <p:nvPr/>
        </p:nvCxnSpPr>
        <p:spPr>
          <a:xfrm>
            <a:off x="1905120" y="2195280"/>
            <a:ext cx="54201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49" name="TextBox 3"/>
          <p:cNvSpPr/>
          <p:nvPr/>
        </p:nvSpPr>
        <p:spPr>
          <a:xfrm>
            <a:off x="3657600" y="119052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7010280" y="111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5322-B273-4E02-9101-EE419243A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5"/>
          <p:cNvSpPr/>
          <p:nvPr/>
        </p:nvSpPr>
        <p:spPr>
          <a:xfrm>
            <a:off x="533520" y="457200"/>
            <a:ext cx="8076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On the Bright Side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914400" y="3657600"/>
            <a:ext cx="7162920" cy="273744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heorem (A. 2004)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that case, it suffices for Alice to send Bob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~n log n </a:t>
            </a:r>
            <a:r>
              <a:rPr b="1" lang="en-US" sz="4000" spc="-1" strike="noStrike">
                <a:solidFill>
                  <a:srgbClr val="008000"/>
                </a:solidFill>
                <a:latin typeface="Symbol"/>
                <a:ea typeface="Symbol"/>
              </a:rPr>
              <a:t>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 log|S|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ical bits  (trivial bounds: </a:t>
            </a:r>
            <a:r>
              <a:rPr b="1" lang="en-US" sz="3200" spc="-1" strike="noStrike">
                <a:solidFill>
                  <a:srgbClr val="008000"/>
                </a:solidFill>
                <a:latin typeface="Calibri"/>
              </a:rPr>
              <a:t>exp(n), |S|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6" descr="C:\Users\od user\AppData\Local\Microsoft\Windows\Temporary Internet Files\Content.IE5\N7YD4WXK\MCj04382050000[1].wmf"/>
          <p:cNvPicPr/>
          <p:nvPr/>
        </p:nvPicPr>
        <p:blipFill>
          <a:blip r:embed="rId1"/>
          <a:stretch/>
        </p:blipFill>
        <p:spPr>
          <a:xfrm>
            <a:off x="7238880" y="152280"/>
            <a:ext cx="1295640" cy="12970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4"/>
          <p:cNvSpPr/>
          <p:nvPr/>
        </p:nvSpPr>
        <p:spPr>
          <a:xfrm>
            <a:off x="457200" y="152388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se Alice wants to describe an n-qubit quantum stat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Bob, well enough that, for any 2-outcome measurement E in some finite set S, Bob can estimate Pr[E(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accepts] to constant additiv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CC18-A33F-42D3-806A-7CDA72E08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ubble2"/>
          <p:cNvPicPr/>
          <p:nvPr/>
        </p:nvPicPr>
        <p:blipFill>
          <a:blip r:embed="rId1"/>
          <a:srcRect l="9196" t="22074" r="25190" b="38068"/>
          <a:stretch/>
        </p:blipFill>
        <p:spPr>
          <a:xfrm>
            <a:off x="0" y="-90360"/>
            <a:ext cx="9148680" cy="6948360"/>
          </a:xfrm>
          <a:prstGeom prst="rect">
            <a:avLst/>
          </a:prstGeom>
          <a:ln w="0">
            <a:noFill/>
          </a:ln>
        </p:spPr>
      </p:pic>
      <p:sp>
        <p:nvSpPr>
          <p:cNvPr id="157" name="TextBox 5"/>
          <p:cNvSpPr/>
          <p:nvPr/>
        </p:nvSpPr>
        <p:spPr>
          <a:xfrm>
            <a:off x="-762120" y="-838080"/>
            <a:ext cx="990612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ffffff"/>
                </a:solidFill>
                <a:latin typeface="Calibri"/>
              </a:rPr>
              <a:t>|</a:t>
            </a:r>
            <a:r>
              <a:rPr b="0" lang="en-US" sz="40000" spc="-1" strike="noStrike">
                <a:solidFill>
                  <a:srgbClr val="ffffff"/>
                </a:solidFill>
                <a:latin typeface="Symbol"/>
                <a:ea typeface="Symbol"/>
              </a:rPr>
              <a:t>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1066680" y="548640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1d1"/>
                </a:solidFill>
                <a:latin typeface="Calibri"/>
              </a:rPr>
              <a:t>ALL YES/NO MEASU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7"/>
          <p:cNvSpPr/>
          <p:nvPr/>
        </p:nvSpPr>
        <p:spPr>
          <a:xfrm>
            <a:off x="565200" y="522936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1d1"/>
                </a:solidFill>
                <a:latin typeface="Calibri"/>
              </a:rPr>
              <a:t>ALL YES/NO MEASUREMENTS PERFORMABLE USING ≤n</a:t>
            </a:r>
            <a:r>
              <a:rPr b="1" lang="en-US" sz="4000" spc="-1" strike="noStrike" baseline="30000">
                <a:solidFill>
                  <a:srgbClr val="ffd1d1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ffd1d1"/>
                </a:solidFill>
                <a:latin typeface="Calibri"/>
              </a:rPr>
              <a:t> G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50F0-E41D-4662-9CBC-C60E01B8C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1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</cp:lastModifiedBy>
  <dcterms:modified xsi:type="dcterms:W3CDTF">2017-07-07T09:30:36Z</dcterms:modified>
  <cp:revision>97</cp:revision>
  <dc:subject/>
  <dc:title>The Learnability of Quantum States</dc:title>
</cp:coreProperties>
</file>