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21.png" ContentType="image/png"/>
  <Override PartName="/ppt/media/image17.png" ContentType="image/png"/>
  <Override PartName="/ppt/media/image16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5.jpeg" ContentType="image/jpeg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1A47-5A7D-4C19-830F-4388600B8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1B83-8F25-4830-9971-5E30393DD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C921-935A-4D8A-9EC1-09CAFF902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B38C-4B91-4BE6-AFE9-804620F75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B56C-F434-4502-B462-3EAAF10C9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30BE-FABD-4D81-B9EA-20A5A309E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C0B6-9353-43F7-ABA0-B50D36EDB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B48A-8BD7-4617-9B13-EE2D951BD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75E7-5506-4C84-9670-69F5EB1FD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EF2E-B1CF-46E2-98F9-916BACEF8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3B3A-5317-4449-86DB-C4B95F09C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5CE6-A828-4994-890C-6928A222B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9AD0-E0B6-4F34-A6FD-F173E8904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29B6-8AC9-4CF9-9B77-9F16D57ED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EC1E-C9E4-45F7-BC56-63B163A2E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2404-6A92-4191-82FC-23919F75B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5DCB-901A-4980-8C00-3DA9AE53C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52D1-0FB6-48F1-AB69-42EAB2434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7ECC-BF73-48D1-800B-9B1E45C80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DC30-DBF7-4256-9C72-B15DFBE50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43DB-0645-41F1-B98F-3138F2134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24AE-B88A-4B51-BB3F-5457F9862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0B67-F392-4A25-8FA6-6201B603C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35C0-5C9F-4BDF-B5C2-5B169317FCC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C541-6FC4-445D-B695-2AA37F356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FA35-F90B-4EA9-980F-9A094DE29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678-683B-4EF1-9761-1A611098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CC20-F139-4DB9-8934-9BE3DF95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0306-FE9B-41E8-BB9B-CB41442E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C701-2878-4926-ADDD-E606B2F3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35D-F1DA-4F74-BC62-CC3DC0D4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946-42E8-4435-A476-18C0FF92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3EDD-327C-46BB-BB4B-B385B0E9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6C3D-4FB7-4785-B6F2-DC9A9304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5AC-333D-4978-8235-73F82D71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16FE-D9C9-41F3-BCCA-98EBE8E0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5AB-05D5-42CB-BB1A-7FE523B4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4D78-3595-4D42-AFCB-F4C1CE9F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26C1-AC34-4F54-BD7A-AF7AD4E31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  <a:ea typeface="Calibri"/>
              </a:rPr>
              <a:t>PAC-Learning and Reconstruction of Quantum State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551196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OLT’2017, Amster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MCj02909010000[1]"/>
          <p:cNvPicPr/>
          <p:nvPr/>
        </p:nvPicPr>
        <p:blipFill>
          <a:blip r:embed="rId1"/>
          <a:stretch/>
        </p:blipFill>
        <p:spPr>
          <a:xfrm>
            <a:off x="3809880" y="2532240"/>
            <a:ext cx="2165400" cy="12268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"/>
          <p:cNvSpPr/>
          <p:nvPr/>
        </p:nvSpPr>
        <p:spPr>
          <a:xfrm>
            <a:off x="3505320" y="2303640"/>
            <a:ext cx="1981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988320" y="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AAE6-B980-4C97-B25A-C877C44E6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Interlude: Mixed St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00"/>
          <p:cNvSpPr/>
          <p:nvPr/>
        </p:nvSpPr>
        <p:spPr>
          <a:xfrm>
            <a:off x="228600" y="2590920"/>
            <a:ext cx="876312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 Hermitian psd matrix with trac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odes (everything measurable about) a probability distribution where each superpositio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ccurs with probability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yes-or-no measurement can be represented by a 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 Hermitian psd matrix E with all eigenvalues in [0,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asurement “accepts”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probability 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and “rejects”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probability 1-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"/>
              <p:cNvSpPr txBox="1"/>
              <p:nvPr/>
            </p:nvSpPr>
            <p:spPr>
              <a:xfrm>
                <a:off x="2057400" y="1066680"/>
                <a:ext cx="491976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⟨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4" name="Slide Number Placeholder 2"/>
          <p:cNvSpPr/>
          <p:nvPr/>
        </p:nvSpPr>
        <p:spPr>
          <a:xfrm>
            <a:off x="7010280" y="-9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B141-5F23-439C-98AA-FDF2D650A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How does the theorem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00"/>
          <p:cNvSpPr/>
          <p:nvPr/>
        </p:nvSpPr>
        <p:spPr>
          <a:xfrm>
            <a:off x="228600" y="3200400"/>
            <a:ext cx="87631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ice is trying to describe the n-qubit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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| to Bo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he beginning, Bob knows nothing ab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o he guesses it’s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maximally mixed st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I  (actually I/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I/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Alice helps Bob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mpro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y repeatedly telling him a measuremen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on which his current gues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dly f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b let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the state obtained by starting fro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performing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getting the right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loud Callout 5"/>
          <p:cNvSpPr/>
          <p:nvPr/>
        </p:nvSpPr>
        <p:spPr>
          <a:xfrm>
            <a:off x="5410080" y="1143000"/>
            <a:ext cx="3429000" cy="1600200"/>
          </a:xfrm>
          <a:prstGeom prst="cloudCallout">
            <a:avLst>
              <a:gd name="adj1" fmla="val -74495"/>
              <a:gd name="adj2" fmla="val -25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1676160" cy="16542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2"/>
          <p:cNvSpPr/>
          <p:nvPr/>
        </p:nvSpPr>
        <p:spPr>
          <a:xfrm>
            <a:off x="6019920" y="106668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1562400" cy="1660680"/>
          </a:xfrm>
          <a:prstGeom prst="rect">
            <a:avLst/>
          </a:prstGeom>
          <a:ln w="0">
            <a:noFill/>
          </a:ln>
        </p:spPr>
      </p:pic>
      <p:sp>
        <p:nvSpPr>
          <p:cNvPr id="174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2CD1-C380-4561-BCF2-4E9A6E8FF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700"/>
          <p:cNvSpPr/>
          <p:nvPr/>
        </p:nvSpPr>
        <p:spPr>
          <a:xfrm>
            <a:off x="174600" y="457200"/>
            <a:ext cx="85885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Ques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y can Bob keep reusing the same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ensure that, we actually need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“amplify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log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lightly increasing the number of qubits from n to n log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124080" y="2695680"/>
            <a:ext cx="5562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Gentle Measurement / Almost As Good As New Lem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a measurement of a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yields a certain outcome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after the measurement, we still have a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 that’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los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trace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511920" y="5148720"/>
            <a:ext cx="2405160" cy="73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 flipV="1">
            <a:off x="511560" y="2832480"/>
            <a:ext cx="1024920" cy="2316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 flipV="1">
            <a:off x="511560" y="2742120"/>
            <a:ext cx="732960" cy="2405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8FA4-2328-4391-9B33-D5ED07EF0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700"/>
          <p:cNvSpPr/>
          <p:nvPr/>
        </p:nvSpPr>
        <p:spPr>
          <a:xfrm>
            <a:off x="152280" y="152280"/>
            <a:ext cx="883944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Crucial Clai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ob’s iterative learning procedure will “converge” on a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behaves lik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log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all measurements in the set S, after at most T=O(n log(n)) it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et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Pr[first t postselections all succeed].  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1066680" y="2143080"/>
                <a:ext cx="350532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183" name="Straight Arrow Connector 14"/>
          <p:cNvCxnSpPr/>
          <p:nvPr/>
        </p:nvCxnSpPr>
        <p:spPr>
          <a:xfrm flipH="1" flipV="1">
            <a:off x="2208960" y="3387240"/>
            <a:ext cx="229320" cy="457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84" name="Object 3"/>
              <p:cNvSpPr txBox="1"/>
              <p:nvPr/>
            </p:nvSpPr>
            <p:spPr>
              <a:xfrm>
                <a:off x="687240" y="3844800"/>
                <a:ext cx="6581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⟩</m:t>
                        </m:r>
                      </m:e>
                    </m:nary>
                    <m:r>
                      <m:t xml:space="preserve">⟨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ψ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185" name="Straight Arrow Connector 20"/>
          <p:cNvCxnSpPr/>
          <p:nvPr/>
        </p:nvCxnSpPr>
        <p:spPr>
          <a:xfrm flipH="1">
            <a:off x="4647600" y="2930040"/>
            <a:ext cx="6865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6" name="Text Box 700"/>
          <p:cNvSpPr/>
          <p:nvPr/>
        </p:nvSpPr>
        <p:spPr>
          <a:xfrm>
            <a:off x="5334120" y="2168640"/>
            <a:ext cx="3124080" cy="139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asn’t less than, say, (2/3)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learning would’ve ende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1409760" y="1905120"/>
            <a:ext cx="7162920" cy="23652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ing, we find that t = O(n log(n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it’s enough for Alice to tell Bob about T=O(n log(n)) measurements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using log|S| bits pe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1432080" y="4691160"/>
            <a:ext cx="7162560" cy="18248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xity theory consequence:</a:t>
            </a:r>
            <a:br>
              <a:rPr sz="3200"/>
            </a:b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BQP/qpoly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 PostBQP/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Open whether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QP/po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3FDD-7C64-4F00-B318-FAF127515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xplosion 2 7"/>
          <p:cNvSpPr/>
          <p:nvPr/>
        </p:nvSpPr>
        <p:spPr>
          <a:xfrm rot="698400">
            <a:off x="6178320" y="3773160"/>
            <a:ext cx="2232000" cy="1150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99"/>
          <p:cNvSpPr/>
          <p:nvPr/>
        </p:nvSpPr>
        <p:spPr>
          <a:xfrm>
            <a:off x="304920" y="1947960"/>
            <a:ext cx="8610480" cy="49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e an unknown entangled state of n partic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you just want to be able to estimate the acceptance probabilities of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mos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easurements E drawn from some probability distrib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it suffices to do the following, for some m=O(n)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hoose m measurements independently from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Go into your lab and estimate acceptance probabilities of all of them on |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nd </a:t>
            </a: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“hypothesis state” approximately consistent with all measurement outcom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28"/>
          <p:cNvSpPr/>
          <p:nvPr/>
        </p:nvSpPr>
        <p:spPr>
          <a:xfrm>
            <a:off x="1523880" y="457200"/>
            <a:ext cx="60199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99"/>
                </a:solidFill>
                <a:latin typeface="Calibri"/>
              </a:rPr>
              <a:t>Quantum Occam’s Razor Theore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29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38240" cy="1447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30" descr="razor"/>
          <p:cNvPicPr/>
          <p:nvPr/>
        </p:nvPicPr>
        <p:blipFill>
          <a:blip r:embed="rId2"/>
          <a:srcRect l="0" t="0" r="20000" b="40500"/>
          <a:stretch/>
        </p:blipFill>
        <p:spPr>
          <a:xfrm>
            <a:off x="7680240" y="380880"/>
            <a:ext cx="1463760" cy="1344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2"/>
          <p:cNvSpPr/>
          <p:nvPr/>
        </p:nvSpPr>
        <p:spPr>
          <a:xfrm>
            <a:off x="1905120" y="3986280"/>
            <a:ext cx="5029200" cy="13129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Quantum states are PAC-learnabl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8655-FC86-4E11-8131-58928038D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40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52280" y="762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Fat-Shattering Dim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304920" y="1600200"/>
            <a:ext cx="853416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Let C be a class of functions from S to [0,1].  We say a set {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}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S is </a:t>
            </a:r>
            <a:r>
              <a:rPr b="1" lang="en-US" sz="2500" spc="-1" strike="noStrike">
                <a:solidFill>
                  <a:srgbClr val="cc3300"/>
                </a:solidFill>
                <a:latin typeface="Symbol"/>
                <a:ea typeface="Symbol"/>
              </a:rPr>
              <a:t></a:t>
            </a:r>
            <a:r>
              <a:rPr b="1" lang="en-US" sz="2500" spc="-1" strike="noStrike">
                <a:solidFill>
                  <a:srgbClr val="cc3300"/>
                </a:solidFill>
                <a:latin typeface="Calibri"/>
                <a:ea typeface="Calibri"/>
              </a:rPr>
              <a:t>-shattere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by C if there exist reals 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,…,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such that, for all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possible statements of the for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…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there’s some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C that satisfies the statem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rcRect l="6000" t="0" r="29999" b="12000"/>
          <a:stretch/>
        </p:blipFill>
        <p:spPr>
          <a:xfrm>
            <a:off x="8145360" y="0"/>
            <a:ext cx="998640" cy="1371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1600200" y="423720"/>
            <a:ext cx="6172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Calibri"/>
                <a:ea typeface="Calibri"/>
              </a:rPr>
              <a:t>To prove the theorem, we use Kearns and Schapire’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380880" y="5791320"/>
            <a:ext cx="838224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Then fat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), the </a:t>
            </a:r>
            <a:r>
              <a:rPr b="1" lang="en-US" sz="2500" spc="-1" strike="noStrike">
                <a:solidFill>
                  <a:srgbClr val="cc3300"/>
                </a:solidFill>
                <a:latin typeface="Symbol"/>
                <a:ea typeface="Symbol"/>
              </a:rPr>
              <a:t></a:t>
            </a:r>
            <a:r>
              <a:rPr b="1" lang="en-US" sz="2500" spc="-1" strike="noStrike">
                <a:solidFill>
                  <a:srgbClr val="cc3300"/>
                </a:solidFill>
                <a:latin typeface="Calibri"/>
                <a:ea typeface="Calibri"/>
              </a:rPr>
              <a:t>-fat-shattering dimensio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of C, is the size of the largest set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-shattered by 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9"/>
          <p:cNvGrpSpPr/>
          <p:nvPr/>
        </p:nvGrpSpPr>
        <p:grpSpPr>
          <a:xfrm>
            <a:off x="762120" y="4038480"/>
            <a:ext cx="7543440" cy="1523880"/>
            <a:chOff x="762120" y="4038480"/>
            <a:chExt cx="7543440" cy="1523880"/>
          </a:xfrm>
        </p:grpSpPr>
        <p:sp>
          <p:nvSpPr>
            <p:cNvPr id="203" name="Line 10"/>
            <p:cNvSpPr/>
            <p:nvPr/>
          </p:nvSpPr>
          <p:spPr>
            <a:xfrm>
              <a:off x="1475640" y="472500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2"/>
            <p:cNvSpPr/>
            <p:nvPr/>
          </p:nvSpPr>
          <p:spPr>
            <a:xfrm flipV="1">
              <a:off x="2801160" y="462312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3"/>
            <p:cNvSpPr/>
            <p:nvPr/>
          </p:nvSpPr>
          <p:spPr>
            <a:xfrm flipV="1">
              <a:off x="4125960" y="441900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4"/>
            <p:cNvSpPr/>
            <p:nvPr/>
          </p:nvSpPr>
          <p:spPr>
            <a:xfrm>
              <a:off x="4839480" y="431676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>
              <a:off x="6470640" y="462312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 flipV="1">
              <a:off x="7693920" y="431676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8"/>
            <p:cNvSpPr/>
            <p:nvPr/>
          </p:nvSpPr>
          <p:spPr>
            <a:xfrm>
              <a:off x="762120" y="4038480"/>
              <a:ext cx="7543440" cy="1523880"/>
            </a:xfrm>
            <a:custGeom>
              <a:avLst/>
              <a:gdLst/>
              <a:ahLst/>
              <a:rect l="l" t="t" r="r" b="b"/>
              <a:pathLst>
                <a:path w="3552" h="717">
                  <a:moveTo>
                    <a:pt x="0" y="515"/>
                  </a:moveTo>
                  <a:cubicBezTo>
                    <a:pt x="68" y="538"/>
                    <a:pt x="272" y="717"/>
                    <a:pt x="406" y="656"/>
                  </a:cubicBezTo>
                  <a:cubicBezTo>
                    <a:pt x="540" y="595"/>
                    <a:pt x="597" y="239"/>
                    <a:pt x="803" y="150"/>
                  </a:cubicBezTo>
                  <a:cubicBezTo>
                    <a:pt x="1009" y="61"/>
                    <a:pt x="1451" y="45"/>
                    <a:pt x="1644" y="119"/>
                  </a:cubicBezTo>
                  <a:cubicBezTo>
                    <a:pt x="1837" y="193"/>
                    <a:pt x="1758" y="520"/>
                    <a:pt x="1963" y="594"/>
                  </a:cubicBezTo>
                  <a:cubicBezTo>
                    <a:pt x="2168" y="668"/>
                    <a:pt x="2666" y="649"/>
                    <a:pt x="2874" y="563"/>
                  </a:cubicBezTo>
                  <a:cubicBezTo>
                    <a:pt x="3082" y="477"/>
                    <a:pt x="3095" y="160"/>
                    <a:pt x="3208" y="80"/>
                  </a:cubicBezTo>
                  <a:cubicBezTo>
                    <a:pt x="3321" y="0"/>
                    <a:pt x="3480" y="83"/>
                    <a:pt x="3552" y="83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Picture 20" descr=""/>
          <p:cNvPicPr/>
          <p:nvPr/>
        </p:nvPicPr>
        <p:blipFill>
          <a:blip r:embed="rId2"/>
          <a:srcRect l="26667" t="0" r="18667" b="20000"/>
          <a:stretch/>
        </p:blipFill>
        <p:spPr>
          <a:xfrm>
            <a:off x="0" y="0"/>
            <a:ext cx="12952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04920" y="1447920"/>
            <a:ext cx="84582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Let C be a class of functions from S to [0,1], and let f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C.  Suppose we draw m elements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independently from some distribution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, and then output a hypothesis h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C such that |h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)-f(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)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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for all i. Then provided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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/7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04920" y="4114800"/>
            <a:ext cx="7924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we’ll ha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304920" y="5257800"/>
            <a:ext cx="79246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with probability at least 1-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over 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,…,x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228600" y="152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Small Fat-Shattering Dimension Implies Small Sample Complex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1"/>
              <p:cNvSpPr txBox="1"/>
              <p:nvPr/>
            </p:nvSpPr>
            <p:spPr>
              <a:xfrm>
                <a:off x="2149560" y="4494240"/>
                <a:ext cx="42336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μ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γ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2"/>
              <p:cNvSpPr txBox="1"/>
              <p:nvPr/>
            </p:nvSpPr>
            <p:spPr>
              <a:xfrm>
                <a:off x="1523880" y="3124080"/>
                <a:ext cx="579132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γ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a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γε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5</m:t>
                                    </m:r>
                                  </m:den>
                                </m:f>
                              </m:e>
                            </m:d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γε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13"/>
          <p:cNvSpPr/>
          <p:nvPr/>
        </p:nvSpPr>
        <p:spPr>
          <a:xfrm>
            <a:off x="304920" y="5867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Bartlett-Long 1996, building on Alon et al. 1993, building on Blumer et al. 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EC9D-0736-41A5-A343-A36C47953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9" name="Object 12"/>
              <p:cNvSpPr txBox="1"/>
              <p:nvPr/>
            </p:nvSpPr>
            <p:spPr>
              <a:xfrm>
                <a:off x="3657600" y="4379760"/>
                <a:ext cx="292428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at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</m:e>
                    </m:d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γ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Text Box 3"/>
          <p:cNvSpPr/>
          <p:nvPr/>
        </p:nvSpPr>
        <p:spPr>
          <a:xfrm>
            <a:off x="316080" y="1530360"/>
            <a:ext cx="830556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libri"/>
                <a:ea typeface="Calibri"/>
              </a:rPr>
              <a:t>Nayak 1999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f we want to encode k classical bits into n qubits, in such a way that any bit can be recovered with probability 1-p, then we need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1-H(p))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libri"/>
                <a:ea typeface="Calibri"/>
              </a:rPr>
              <a:t>Corollary (“turning Nayak’s result on its head”)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the set of functions that map an n-qubit measurement E to 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, for som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380880" y="57150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Quantum Occam’s Razor Theorem follows easi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04920" y="2286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Upper-Bounding the Fat-Shattering Dimension of Quantum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5"/>
          <p:cNvGrpSpPr/>
          <p:nvPr/>
        </p:nvGrpSpPr>
        <p:grpSpPr>
          <a:xfrm>
            <a:off x="1440" y="3657600"/>
            <a:ext cx="4113360" cy="3200400"/>
            <a:chOff x="1440" y="3657600"/>
            <a:chExt cx="4113360" cy="3200400"/>
          </a:xfrm>
        </p:grpSpPr>
        <p:graphicFrame>
          <p:nvGraphicFramePr>
            <p:cNvPr id="224" name="Object 16"/>
            <p:cNvGraphicFramePr/>
            <p:nvPr/>
          </p:nvGraphicFramePr>
          <p:xfrm>
            <a:off x="1440" y="4876920"/>
            <a:ext cx="1522440" cy="198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0" y="4876920"/>
                      <a:ext cx="152244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6" name="AutoShape 17"/>
            <p:cNvSpPr/>
            <p:nvPr/>
          </p:nvSpPr>
          <p:spPr>
            <a:xfrm>
              <a:off x="1066680" y="3657600"/>
              <a:ext cx="3048120" cy="1487520"/>
            </a:xfrm>
            <a:prstGeom prst="wedgeEllipseCallout">
              <a:avLst>
                <a:gd name="adj1" fmla="val -42032"/>
                <a:gd name="adj2" fmla="val 52560"/>
              </a:avLst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o need to thank me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Slide Number Placeholder 1"/>
          <p:cNvSpPr/>
          <p:nvPr/>
        </p:nvSpPr>
        <p:spPr>
          <a:xfrm>
            <a:off x="699912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9E93-E05C-4040-BD07-82FB9AABC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347760" y="304920"/>
            <a:ext cx="8567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How do we </a:t>
            </a:r>
            <a:r>
              <a:rPr b="1" lang="en-US" sz="4200" spc="-1" strike="noStrike">
                <a:solidFill>
                  <a:srgbClr val="cc3300"/>
                </a:solidFill>
                <a:latin typeface="Calibri"/>
                <a:ea typeface="Calibri"/>
              </a:rPr>
              <a:t>find</a:t>
            </a: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Calibri"/>
              </a:rPr>
              <a:t> the hypothesis stat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347760" y="4243320"/>
            <a:ext cx="84913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is is a convex programming problem, which can be solved in time polynomial in D=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(good enough in practice for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5 or 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ptimized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linear-ti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terative method for this problem: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Hazan 200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347760" y="1189080"/>
            <a:ext cx="8305560" cy="2968560"/>
            <a:chOff x="347760" y="1189080"/>
            <a:chExt cx="8305560" cy="2968560"/>
          </a:xfrm>
        </p:grpSpPr>
        <p:sp>
          <p:nvSpPr>
            <p:cNvPr id="231" name="Text Box 5"/>
            <p:cNvSpPr/>
            <p:nvPr/>
          </p:nvSpPr>
          <p:spPr>
            <a:xfrm>
              <a:off x="347760" y="1189080"/>
              <a:ext cx="8305560" cy="17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Here’s one way: let b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,…,b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be the outcomes of measurements 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,…,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hen choose a hypothesis state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to minimiz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Object 6"/>
                <p:cNvSpPr txBox="1"/>
                <p:nvPr/>
              </p:nvSpPr>
              <p:spPr>
                <a:xfrm>
                  <a:off x="2938320" y="2789280"/>
                  <a:ext cx="3499920" cy="13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r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σ</m:t>
                                      </m:r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3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2FB2-BB05-48BA-862A-CEF82B9F2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304920" y="304920"/>
            <a:ext cx="853416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Numerical Simulation</a:t>
            </a:r>
            <a:br>
              <a:rPr sz="42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[A.-Dechter 200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04920" y="1676520"/>
            <a:ext cx="85341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implemented Hazan’s algorithm in MATLAB, and tested it on simulated quantum st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studied how the number of sample measurements m needed for accurate predictions scales with the number of qubits n, for n≤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sult of experimen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y theorem appears to be tr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1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72C0-7E8D-4B88-81B7-AC9CE9CCB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What </a:t>
            </a:r>
            <a:r>
              <a:rPr b="1" i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Is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 A Quantum (Pure) St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4826160" y="1996920"/>
            <a:ext cx="3047760" cy="304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4826160" y="3521160"/>
            <a:ext cx="304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6350040" y="1996920"/>
            <a:ext cx="14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11"/>
          <p:cNvGraphicFramePr/>
          <p:nvPr/>
        </p:nvGraphicFramePr>
        <p:xfrm>
          <a:off x="7873920" y="3139920"/>
          <a:ext cx="5479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920" y="3139920"/>
                    <a:ext cx="5479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12"/>
          <p:cNvGraphicFramePr/>
          <p:nvPr/>
        </p:nvGraphicFramePr>
        <p:xfrm>
          <a:off x="6138720" y="1387440"/>
          <a:ext cx="5130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8720" y="1387440"/>
                    <a:ext cx="513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Line 14"/>
          <p:cNvSpPr/>
          <p:nvPr/>
        </p:nvSpPr>
        <p:spPr>
          <a:xfrm flipV="1">
            <a:off x="6343920" y="2450160"/>
            <a:ext cx="1078920" cy="1076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 flipV="1">
            <a:off x="6340680" y="2007360"/>
            <a:ext cx="20160" cy="1517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16080" y="1109520"/>
            <a:ext cx="547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 unit vector of complex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16080" y="5156280"/>
            <a:ext cx="8523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  <a:ea typeface="Calibri"/>
              </a:rPr>
              <a:t>Holevo’s Theorem (1973)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By sending n qubits, Alice can communicate at most n classical bits to Bob (or 2n if they pre-share entangleme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6899400" y="1546200"/>
                <a:ext cx="19508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Text Box 3"/>
          <p:cNvSpPr/>
          <p:nvPr/>
        </p:nvSpPr>
        <p:spPr>
          <a:xfrm>
            <a:off x="316080" y="1803240"/>
            <a:ext cx="4510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Infinitely many bits in the amplitude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—but when you measure, the state “collapses” to just 1 bi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0 with probability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1 with probability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6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FE5A-D5DA-4A1C-8F6C-BE35C9488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6" descr="n"/>
          <p:cNvPicPr/>
          <p:nvPr/>
        </p:nvPicPr>
        <p:blipFill>
          <a:blip r:embed="rId1"/>
          <a:stretch/>
        </p:blipFill>
        <p:spPr>
          <a:xfrm>
            <a:off x="314280" y="561960"/>
            <a:ext cx="8515440" cy="57340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4572000" y="4971960"/>
            <a:ext cx="4191120" cy="13737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tested on real lab data as well!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[Rocchetto et al. 2017, in prepar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07D0-14D9-4256-80BC-2A78D4810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28600" y="152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ombining My Postselection and Quantum Learning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282600" y="1598760"/>
            <a:ext cx="85345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[A.-Drucker 2010]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iven an n-qubit sta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nd complexity bound T, there exists an efficient measurement V on poly(n,T) qubits, such that any state that “passes” V can be used to efficiently estima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’s response to any yes-or-no measurement E that’s implementable by a circuit of size 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293760" y="3960720"/>
            <a:ext cx="8534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pplication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rusted quantum advice is equivalent to trusted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classic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dvice +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untruste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quantum adv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complexity terms: </a:t>
            </a:r>
            <a:r>
              <a:rPr b="1" lang="en-US" sz="3600" spc="-1" strike="noStrike">
                <a:solidFill>
                  <a:srgbClr val="990099"/>
                </a:solidFill>
                <a:latin typeface="Calibri"/>
              </a:rPr>
              <a:t>BQP/qpol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990099"/>
                </a:solidFill>
                <a:latin typeface="Calibri"/>
              </a:rPr>
              <a:t>QMA/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282600" y="58546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of uses boosting-like techniques, together with results on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vers and fat-shattering dimen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1"/>
          <p:cNvSpPr/>
          <p:nvPr/>
        </p:nvSpPr>
        <p:spPr>
          <a:xfrm>
            <a:off x="702144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2F4F-CA3B-4FFC-B946-D37B598D4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5" name="Object 12"/>
              <p:cNvSpPr txBox="1"/>
              <p:nvPr/>
            </p:nvSpPr>
            <p:spPr>
              <a:xfrm>
                <a:off x="533520" y="3900600"/>
                <a:ext cx="53496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M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log</m:t>
                            </m:r>
                            <m:r>
                              <m:t xml:space="preserve">D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6" name="Text Box 3"/>
          <p:cNvSpPr/>
          <p:nvPr/>
        </p:nvSpPr>
        <p:spPr>
          <a:xfrm>
            <a:off x="380880" y="1752480"/>
            <a:ext cx="8305920" cy="21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: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an unknown D-dimensional state, and le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known 2-outcome measurements.  Suppose we want to know Tr(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 to within additive error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for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al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[M].  We can achieve this, with high probability, given only k copies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304920" y="2286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New Result 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  <a:ea typeface="Calibri"/>
              </a:rPr>
              <a:t>[A. 2017, in preparation]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“Shadow Tomograph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419040" y="5486400"/>
            <a:ext cx="8305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Challenge: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ow to measure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without destroying our few copies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in the proces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6095880" y="3822840"/>
            <a:ext cx="2743200" cy="12819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Open Problem: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Dependence on D remova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D362-4EDD-4C4F-AE21-CC8692553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1" name="Object 12"/>
              <p:cNvSpPr txBox="1"/>
              <p:nvPr/>
            </p:nvSpPr>
            <p:spPr>
              <a:xfrm>
                <a:off x="3233880" y="3530520"/>
                <a:ext cx="242568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2" name="Text Box 3"/>
          <p:cNvSpPr/>
          <p:nvPr/>
        </p:nvSpPr>
        <p:spPr>
          <a:xfrm>
            <a:off x="338040" y="838080"/>
            <a:ext cx="8305920" cy="28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[A. 2006, fixed by Harrow-Montanaro-Lin 2016]: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an unknown D-dimensional state, and le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known 2-outcome measurements.  Suppose we’re promised that either there exists an i such that Tr(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, or else Tr(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for all 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[M].  We can decide which, with high probability, given only k copies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304920" y="1015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Proof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490680" y="5675400"/>
            <a:ext cx="8305560" cy="10062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ow run my postselected learning algorithm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A. 2004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but using the above to find th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 to postselect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93760" y="4651200"/>
            <a:ext cx="8305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ndeed, can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fin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n i with Tr(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if given O(log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M /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 copies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BDCF-F143-4556-AC6C-0985CE685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7" name="Object 12"/>
              <p:cNvSpPr txBox="1"/>
              <p:nvPr/>
            </p:nvSpPr>
            <p:spPr>
              <a:xfrm>
                <a:off x="2317680" y="5086440"/>
                <a:ext cx="382104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log</m:t>
                            </m:r>
                            <m:r>
                              <m:t xml:space="preserve">D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3"/>
          <p:cNvSpPr/>
          <p:nvPr/>
        </p:nvSpPr>
        <p:spPr>
          <a:xfrm>
            <a:off x="343080" y="1628640"/>
            <a:ext cx="848484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3300"/>
                </a:solidFill>
                <a:latin typeface="Calibri"/>
                <a:ea typeface="Calibri"/>
              </a:rPr>
              <a:t>Corollary of my Postselected Learning Algorith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Le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be an unknown D-dimensional state.  Suppose we’re given 2-outcome measurements 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,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,… in sequence, each followed by the value of Tr(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) to within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/2.  Each time, we’re challenged to guess a hypothesis sta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such th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04920" y="23976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Online Learning of Quantum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380880" y="1019160"/>
            <a:ext cx="8305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Answers a question of Elad Hazan (20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2"/>
              <p:cNvSpPr txBox="1"/>
              <p:nvPr/>
            </p:nvSpPr>
            <p:spPr>
              <a:xfrm>
                <a:off x="2857680" y="3733920"/>
                <a:ext cx="36892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ρ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Text Box 3"/>
          <p:cNvSpPr/>
          <p:nvPr/>
        </p:nvSpPr>
        <p:spPr>
          <a:xfrm>
            <a:off x="304920" y="4572000"/>
            <a:ext cx="8305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We can do this so that we fail at most k times, whe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611360" y="3657600"/>
            <a:ext cx="6999120" cy="21513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A.-Hazan-Nayak 2017: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Can also use general convex optimization tools, or an upper bound on “sequential fat-shattering dimension” of quantum states, to get a regret bound for the agnostic case, now involving a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t ter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3D04-FD7B-4556-BC9A-C39E28209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282600" y="94932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tools of COLT let us show that in many scenarios, the “exponentiality” of quantum states is more bark than bi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.e. there’s a short classical string that specifies how the quantum state behaves, on any 2-outcome measurement you could actually perfor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pplications from complexity theory to experimental quantum state tomography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as, these results don’t generalize to many-outcome measurements, or to learning quantum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processe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Biggest future challenge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Find subclasses of states and measurements for which these learning procedures ar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computational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efficient  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(Stabilizer states: Rocchetto 20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A621-E54B-40F9-B6F4-02B5E9AF1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04920" y="533520"/>
            <a:ext cx="8610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The Problem for C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80880" y="1600200"/>
            <a:ext cx="8534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ate of n entangled qubits requires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2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lex numbers to specify, even approximat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2438280" y="2971800"/>
                <a:ext cx="434196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" name="Text Box 3"/>
          <p:cNvSpPr/>
          <p:nvPr/>
        </p:nvSpPr>
        <p:spPr>
          <a:xfrm>
            <a:off x="380880" y="4648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 a computer scientist, this is probably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h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central fact about quantum 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8088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should we worry about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7238520" y="304560"/>
            <a:ext cx="909720" cy="1142640"/>
            <a:chOff x="7238520" y="304560"/>
            <a:chExt cx="909720" cy="1142640"/>
          </a:xfrm>
        </p:grpSpPr>
        <p:sp>
          <p:nvSpPr>
            <p:cNvPr id="74" name="Line 5"/>
            <p:cNvSpPr/>
            <p:nvPr/>
          </p:nvSpPr>
          <p:spPr>
            <a:xfrm flipH="1" flipV="1">
              <a:off x="7473240" y="32940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6" descr="MCED00214_0000[1]"/>
            <p:cNvPicPr/>
            <p:nvPr/>
          </p:nvPicPr>
          <p:blipFill>
            <a:blip r:embed="rId1"/>
            <a:stretch/>
          </p:blipFill>
          <p:spPr>
            <a:xfrm flipH="1">
              <a:off x="7238520" y="32976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AutoShape 7"/>
            <p:cNvSpPr/>
            <p:nvPr/>
          </p:nvSpPr>
          <p:spPr>
            <a:xfrm flipH="1" flipV="1" rot="16200000">
              <a:off x="7606440" y="82872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8"/>
            <p:cNvGrpSpPr/>
            <p:nvPr/>
          </p:nvGrpSpPr>
          <p:grpSpPr>
            <a:xfrm>
              <a:off x="7716240" y="583920"/>
              <a:ext cx="345240" cy="213480"/>
              <a:chOff x="7716240" y="583920"/>
              <a:chExt cx="345240" cy="213480"/>
            </a:xfrm>
          </p:grpSpPr>
          <p:sp>
            <p:nvSpPr>
              <p:cNvPr id="78" name="Freeform 9"/>
              <p:cNvSpPr/>
              <p:nvPr/>
            </p:nvSpPr>
            <p:spPr>
              <a:xfrm flipH="1">
                <a:off x="7715880" y="58392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0"/>
              <p:cNvSpPr/>
              <p:nvPr/>
            </p:nvSpPr>
            <p:spPr>
              <a:xfrm flipH="1">
                <a:off x="7742880" y="60768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1"/>
              <p:cNvSpPr/>
              <p:nvPr/>
            </p:nvSpPr>
            <p:spPr>
              <a:xfrm flipH="1">
                <a:off x="7821000" y="62100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2"/>
              <p:cNvSpPr/>
              <p:nvPr/>
            </p:nvSpPr>
            <p:spPr>
              <a:xfrm flipH="1">
                <a:off x="7857720" y="66240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3"/>
            <p:cNvGrpSpPr/>
            <p:nvPr/>
          </p:nvGrpSpPr>
          <p:grpSpPr>
            <a:xfrm>
              <a:off x="7292880" y="583920"/>
              <a:ext cx="345240" cy="213480"/>
              <a:chOff x="7292880" y="583920"/>
              <a:chExt cx="345240" cy="213480"/>
            </a:xfrm>
          </p:grpSpPr>
          <p:sp>
            <p:nvSpPr>
              <p:cNvPr id="83" name="Freeform 14"/>
              <p:cNvSpPr/>
              <p:nvPr/>
            </p:nvSpPr>
            <p:spPr>
              <a:xfrm flipH="1">
                <a:off x="7292520" y="58392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5"/>
              <p:cNvSpPr/>
              <p:nvPr/>
            </p:nvSpPr>
            <p:spPr>
              <a:xfrm flipH="1">
                <a:off x="7319520" y="60768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6"/>
              <p:cNvSpPr/>
              <p:nvPr/>
            </p:nvSpPr>
            <p:spPr>
              <a:xfrm flipH="1">
                <a:off x="7397640" y="62100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7"/>
              <p:cNvSpPr/>
              <p:nvPr/>
            </p:nvSpPr>
            <p:spPr>
              <a:xfrm flipH="1">
                <a:off x="7434360" y="66240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Line 18"/>
            <p:cNvSpPr/>
            <p:nvPr/>
          </p:nvSpPr>
          <p:spPr>
            <a:xfrm flipH="1" flipV="1">
              <a:off x="7452000" y="30456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9"/>
          <p:cNvGrpSpPr/>
          <p:nvPr/>
        </p:nvGrpSpPr>
        <p:grpSpPr>
          <a:xfrm>
            <a:off x="990720" y="304560"/>
            <a:ext cx="955440" cy="1218600"/>
            <a:chOff x="990720" y="304560"/>
            <a:chExt cx="955440" cy="1218600"/>
          </a:xfrm>
        </p:grpSpPr>
        <p:sp>
          <p:nvSpPr>
            <p:cNvPr id="89" name="Line 20"/>
            <p:cNvSpPr/>
            <p:nvPr/>
          </p:nvSpPr>
          <p:spPr>
            <a:xfrm flipV="1">
              <a:off x="1202040" y="33120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21" descr="MCDD01775_0000[1]"/>
            <p:cNvPicPr/>
            <p:nvPr/>
          </p:nvPicPr>
          <p:blipFill>
            <a:blip r:embed="rId2"/>
            <a:stretch/>
          </p:blipFill>
          <p:spPr>
            <a:xfrm>
              <a:off x="990720" y="331560"/>
              <a:ext cx="95544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AutoShape 22"/>
            <p:cNvSpPr/>
            <p:nvPr/>
          </p:nvSpPr>
          <p:spPr>
            <a:xfrm flipV="1" rot="5400000">
              <a:off x="1376640" y="87084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23"/>
            <p:cNvGrpSpPr/>
            <p:nvPr/>
          </p:nvGrpSpPr>
          <p:grpSpPr>
            <a:xfrm>
              <a:off x="1068840" y="492840"/>
              <a:ext cx="399240" cy="310320"/>
              <a:chOff x="1068840" y="492840"/>
              <a:chExt cx="399240" cy="310320"/>
            </a:xfrm>
          </p:grpSpPr>
          <p:sp>
            <p:nvSpPr>
              <p:cNvPr id="93" name="Freeform 24"/>
              <p:cNvSpPr/>
              <p:nvPr/>
            </p:nvSpPr>
            <p:spPr>
              <a:xfrm>
                <a:off x="1081440" y="57780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5"/>
              <p:cNvSpPr/>
              <p:nvPr/>
            </p:nvSpPr>
            <p:spPr>
              <a:xfrm>
                <a:off x="1109520" y="60264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6"/>
              <p:cNvSpPr/>
              <p:nvPr/>
            </p:nvSpPr>
            <p:spPr>
              <a:xfrm>
                <a:off x="1188000" y="61632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27"/>
              <p:cNvSpPr/>
              <p:nvPr/>
            </p:nvSpPr>
            <p:spPr>
              <a:xfrm>
                <a:off x="1274760" y="66096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28"/>
              <p:cNvSpPr/>
              <p:nvPr/>
            </p:nvSpPr>
            <p:spPr>
              <a:xfrm>
                <a:off x="1068840" y="56340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29"/>
              <p:cNvSpPr/>
              <p:nvPr/>
            </p:nvSpPr>
            <p:spPr>
              <a:xfrm>
                <a:off x="1127520" y="52596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0"/>
              <p:cNvSpPr/>
              <p:nvPr/>
            </p:nvSpPr>
            <p:spPr>
              <a:xfrm>
                <a:off x="1192320" y="50256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1"/>
              <p:cNvSpPr/>
              <p:nvPr/>
            </p:nvSpPr>
            <p:spPr>
              <a:xfrm>
                <a:off x="1414800" y="56880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2"/>
              <p:cNvSpPr/>
              <p:nvPr/>
            </p:nvSpPr>
            <p:spPr>
              <a:xfrm>
                <a:off x="1369800" y="52920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3"/>
              <p:cNvSpPr/>
              <p:nvPr/>
            </p:nvSpPr>
            <p:spPr>
              <a:xfrm>
                <a:off x="1317960" y="50436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4"/>
              <p:cNvSpPr/>
              <p:nvPr/>
            </p:nvSpPr>
            <p:spPr>
              <a:xfrm>
                <a:off x="1254960" y="49284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35"/>
            <p:cNvGrpSpPr/>
            <p:nvPr/>
          </p:nvGrpSpPr>
          <p:grpSpPr>
            <a:xfrm>
              <a:off x="1519920" y="492840"/>
              <a:ext cx="399240" cy="310320"/>
              <a:chOff x="1519920" y="492840"/>
              <a:chExt cx="399240" cy="310320"/>
            </a:xfrm>
          </p:grpSpPr>
          <p:sp>
            <p:nvSpPr>
              <p:cNvPr id="105" name="Freeform 36"/>
              <p:cNvSpPr/>
              <p:nvPr/>
            </p:nvSpPr>
            <p:spPr>
              <a:xfrm>
                <a:off x="1532520" y="57780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37"/>
              <p:cNvSpPr/>
              <p:nvPr/>
            </p:nvSpPr>
            <p:spPr>
              <a:xfrm>
                <a:off x="1560600" y="60264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38"/>
              <p:cNvSpPr/>
              <p:nvPr/>
            </p:nvSpPr>
            <p:spPr>
              <a:xfrm>
                <a:off x="1639080" y="61632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39"/>
              <p:cNvSpPr/>
              <p:nvPr/>
            </p:nvSpPr>
            <p:spPr>
              <a:xfrm>
                <a:off x="1725840" y="66096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0"/>
              <p:cNvSpPr/>
              <p:nvPr/>
            </p:nvSpPr>
            <p:spPr>
              <a:xfrm>
                <a:off x="1519920" y="56340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1"/>
              <p:cNvSpPr/>
              <p:nvPr/>
            </p:nvSpPr>
            <p:spPr>
              <a:xfrm>
                <a:off x="1578600" y="52596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2"/>
              <p:cNvSpPr/>
              <p:nvPr/>
            </p:nvSpPr>
            <p:spPr>
              <a:xfrm>
                <a:off x="1643400" y="50256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3"/>
              <p:cNvSpPr/>
              <p:nvPr/>
            </p:nvSpPr>
            <p:spPr>
              <a:xfrm>
                <a:off x="1865880" y="56880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4"/>
              <p:cNvSpPr/>
              <p:nvPr/>
            </p:nvSpPr>
            <p:spPr>
              <a:xfrm>
                <a:off x="1820880" y="52920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45"/>
              <p:cNvSpPr/>
              <p:nvPr/>
            </p:nvSpPr>
            <p:spPr>
              <a:xfrm>
                <a:off x="1769040" y="50436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46"/>
              <p:cNvSpPr/>
              <p:nvPr/>
            </p:nvSpPr>
            <p:spPr>
              <a:xfrm>
                <a:off x="1706040" y="49284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Line 47"/>
            <p:cNvSpPr/>
            <p:nvPr/>
          </p:nvSpPr>
          <p:spPr>
            <a:xfrm flipV="1">
              <a:off x="1467360" y="30456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Slide Number Placeholder 1"/>
          <p:cNvSpPr/>
          <p:nvPr/>
        </p:nvSpPr>
        <p:spPr>
          <a:xfrm>
            <a:off x="6994440" y="176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9BD9-DE85-447A-8879-7C6A43F7D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609480" y="609480"/>
            <a:ext cx="4724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Answer 1: Quantum State Tom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80880" y="2590920"/>
            <a:ext cx="83822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ask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n lots of copies of an unknown quantum state, produce an approximate classical description of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entral 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do tomography on a general state of n particles, you clearly need ~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asurements</a:t>
            </a:r>
            <a:br>
              <a:rPr sz="2800"/>
            </a:br>
            <a:r>
              <a:rPr b="0" lang="en-US" sz="2800" spc="-1" strike="noStrike">
                <a:solidFill>
                  <a:srgbClr val="990099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990099"/>
                </a:solidFill>
                <a:latin typeface="Calibri"/>
              </a:rPr>
              <a:t>Innsbruck group (2005): 8 particles / ~656,000</a:t>
            </a:r>
            <a:br>
              <a:rPr sz="2800"/>
            </a:br>
            <a:r>
              <a:rPr b="0" lang="en-US" sz="2800" spc="-1" strike="noStrike">
                <a:solidFill>
                  <a:srgbClr val="990099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990099"/>
                </a:solidFill>
                <a:latin typeface="Calibri"/>
              </a:rPr>
              <a:t>experime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61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514600" cy="201600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1"/>
          <p:cNvSpPr/>
          <p:nvPr/>
        </p:nvSpPr>
        <p:spPr>
          <a:xfrm>
            <a:off x="703260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EAC1-4A26-4AD2-AFA8-C7059B9BE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52280" y="3049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Answer 2: Quantum Computing Skeptic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457200" y="350532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physicists and computer scientists believe quantum computers will be impossible for a fundamental rea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8"/>
          <p:cNvSpPr/>
          <p:nvPr/>
        </p:nvSpPr>
        <p:spPr>
          <a:xfrm>
            <a:off x="457200" y="4495680"/>
            <a:ext cx="8229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many of them, the problem is that a quantum computer would “manipulate an exponential amount of information” using only polynomial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wolfram"/>
          <p:cNvPicPr/>
          <p:nvPr/>
        </p:nvPicPr>
        <p:blipFill>
          <a:blip r:embed="rId1"/>
          <a:stretch/>
        </p:blipFill>
        <p:spPr>
          <a:xfrm>
            <a:off x="7086600" y="1219320"/>
            <a:ext cx="1198440" cy="1600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levin"/>
          <p:cNvPicPr/>
          <p:nvPr/>
        </p:nvPicPr>
        <p:blipFill>
          <a:blip r:embed="rId2"/>
          <a:stretch/>
        </p:blipFill>
        <p:spPr>
          <a:xfrm>
            <a:off x="762120" y="1219320"/>
            <a:ext cx="1144440" cy="1600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1" descr=""/>
          <p:cNvPicPr/>
          <p:nvPr/>
        </p:nvPicPr>
        <p:blipFill>
          <a:blip r:embed="rId3"/>
          <a:stretch/>
        </p:blipFill>
        <p:spPr>
          <a:xfrm>
            <a:off x="4038480" y="1219320"/>
            <a:ext cx="1225800" cy="1612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2" descr=""/>
          <p:cNvPicPr/>
          <p:nvPr/>
        </p:nvPicPr>
        <p:blipFill>
          <a:blip r:embed="rId4"/>
          <a:stretch/>
        </p:blipFill>
        <p:spPr>
          <a:xfrm>
            <a:off x="2362320" y="1219320"/>
            <a:ext cx="119988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3" descr=""/>
          <p:cNvPicPr/>
          <p:nvPr/>
        </p:nvPicPr>
        <p:blipFill>
          <a:blip r:embed="rId5"/>
          <a:stretch/>
        </p:blipFill>
        <p:spPr>
          <a:xfrm>
            <a:off x="5638680" y="1219320"/>
            <a:ext cx="1051200" cy="16002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762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2096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ld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8862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Ho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5627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70102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lf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8"/>
          <p:cNvSpPr/>
          <p:nvPr/>
        </p:nvSpPr>
        <p:spPr>
          <a:xfrm>
            <a:off x="457200" y="594360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is i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eal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 exponential amou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1"/>
          <p:cNvSpPr/>
          <p:nvPr/>
        </p:nvSpPr>
        <p:spPr>
          <a:xfrm>
            <a:off x="7010280" y="-25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2DF9-8A49-475D-B575-16875A94E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2860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an we tame the exponential b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00"/>
          <p:cNvSpPr/>
          <p:nvPr/>
        </p:nvSpPr>
        <p:spPr>
          <a:xfrm>
            <a:off x="762120" y="1143000"/>
            <a:ext cx="761976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: “Shrink quantum states down to reasonable size” by viewing them oper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00"/>
          <p:cNvSpPr/>
          <p:nvPr/>
        </p:nvSpPr>
        <p:spPr>
          <a:xfrm>
            <a:off x="228600" y="228600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nalogy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probability distribution over n-bit string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ls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akes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its to specify.  But seeing a sample only provides n 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00"/>
          <p:cNvSpPr/>
          <p:nvPr/>
        </p:nvSpPr>
        <p:spPr>
          <a:xfrm>
            <a:off x="228600" y="3429000"/>
            <a:ext cx="8610480" cy="17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his talk, I’ll survey 14 years of results showing how the standard tools from COLT can be used to upper-bound the “effective size” of quantum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[A. 2004], [A. 2006], [A.-Drucker 2010], [A. 2017], [A.-Hazan-Nayak 2017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00"/>
          <p:cNvSpPr/>
          <p:nvPr/>
        </p:nvSpPr>
        <p:spPr>
          <a:xfrm>
            <a:off x="1143000" y="5551560"/>
            <a:ext cx="7315200" cy="10688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Calibri"/>
              </a:rPr>
              <a:t>Lesson: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“The linearity of QM helps tame the exponentiality of Q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1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0E65-A736-4384-BA1A-72FD2E258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The Absent-Minded Advisor Problem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446040" y="3114720"/>
            <a:ext cx="8458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ou hand all your grad students the sam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qubit quantum state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so that by measuring their copy of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a suitable basis, each student can learn the {0,1} answer to their n-bit thesis ques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495360" y="5151600"/>
            <a:ext cx="8153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NO </a:t>
            </a: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[Nayak 1999, Ambainis et al. 1999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deed, quantum communication is no better than classical for this task as n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09480" y="1176480"/>
            <a:ext cx="1181160" cy="1771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7324560" y="1062000"/>
            <a:ext cx="1195560" cy="1863720"/>
          </a:xfrm>
          <a:prstGeom prst="rect">
            <a:avLst/>
          </a:prstGeom>
          <a:ln w="0">
            <a:noFill/>
          </a:ln>
        </p:spPr>
      </p:pic>
      <p:cxnSp>
        <p:nvCxnSpPr>
          <p:cNvPr id="148" name="Straight Arrow Connector 2"/>
          <p:cNvCxnSpPr/>
          <p:nvPr/>
        </p:nvCxnSpPr>
        <p:spPr>
          <a:xfrm>
            <a:off x="1905120" y="2195280"/>
            <a:ext cx="54201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49" name="TextBox 3"/>
          <p:cNvSpPr/>
          <p:nvPr/>
        </p:nvSpPr>
        <p:spPr>
          <a:xfrm>
            <a:off x="3657600" y="11905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745A-4394-4496-B9AA-D91B9D405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5"/>
          <p:cNvSpPr/>
          <p:nvPr/>
        </p:nvSpPr>
        <p:spPr>
          <a:xfrm>
            <a:off x="533520" y="457200"/>
            <a:ext cx="8076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On the Bright Side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914400" y="3657600"/>
            <a:ext cx="7162920" cy="27374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orem (A. 2004)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at case, it suffices for Alice to send Bob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~n log n </a:t>
            </a:r>
            <a:r>
              <a:rPr b="1" lang="en-US" sz="4000" spc="-1" strike="noStrike">
                <a:solidFill>
                  <a:srgbClr val="008000"/>
                </a:solidFill>
                <a:latin typeface="Symbol"/>
                <a:ea typeface="Symbol"/>
              </a:rPr>
              <a:t>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 log|S|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cal bits  (trivial bounds: </a:t>
            </a:r>
            <a:r>
              <a:rPr b="1" lang="en-US" sz="3200" spc="-1" strike="noStrike">
                <a:solidFill>
                  <a:srgbClr val="008000"/>
                </a:solidFill>
                <a:latin typeface="Calibri"/>
              </a:rPr>
              <a:t>exp(n), |S|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6" descr="C:\Users\od user\AppData\Local\Microsoft\Windows\Temporary Internet Files\Content.IE5\N7YD4WXK\MCj04382050000[1].wmf"/>
          <p:cNvPicPr/>
          <p:nvPr/>
        </p:nvPicPr>
        <p:blipFill>
          <a:blip r:embed="rId1"/>
          <a:stretch/>
        </p:blipFill>
        <p:spPr>
          <a:xfrm>
            <a:off x="7238880" y="152280"/>
            <a:ext cx="1295640" cy="12970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4"/>
          <p:cNvSpPr/>
          <p:nvPr/>
        </p:nvSpPr>
        <p:spPr>
          <a:xfrm>
            <a:off x="457200" y="152388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Alice wants to describe an n-qubit quantum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Bob, well enough that, for any 2-outcome measurement E in some finite set S, Bob can estimate Pr[E(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ccepts] to constant additiv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DD74-A848-4125-9C1D-08F1EE1F7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ubble2"/>
          <p:cNvPicPr/>
          <p:nvPr/>
        </p:nvPicPr>
        <p:blipFill>
          <a:blip r:embed="rId1"/>
          <a:srcRect l="9196" t="22074" r="25190" b="38068"/>
          <a:stretch/>
        </p:blipFill>
        <p:spPr>
          <a:xfrm>
            <a:off x="0" y="-90360"/>
            <a:ext cx="9148680" cy="69483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5"/>
          <p:cNvSpPr/>
          <p:nvPr/>
        </p:nvSpPr>
        <p:spPr>
          <a:xfrm>
            <a:off x="-762120" y="-838080"/>
            <a:ext cx="99061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ffffff"/>
                </a:solidFill>
                <a:latin typeface="Calibri"/>
              </a:rPr>
              <a:t>|</a:t>
            </a:r>
            <a:r>
              <a:rPr b="0" lang="en-US" sz="40000" spc="-1" strike="noStrike">
                <a:solidFill>
                  <a:srgbClr val="ffffff"/>
                </a:solidFill>
                <a:latin typeface="Symbol"/>
                <a:ea typeface="Symbol"/>
              </a:rPr>
              <a:t>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1066680" y="54864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ALL YES/NO MEASU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565200" y="522936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ALL YES/NO MEASUREMENTS PERFORMABLE USING ≤n</a:t>
            </a:r>
            <a:r>
              <a:rPr b="1" lang="en-US" sz="4000" spc="-1" strike="noStrike" baseline="30000">
                <a:solidFill>
                  <a:srgbClr val="ffd1d1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 G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E21B-70CD-4152-A21A-8A89CD658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1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</cp:lastModifiedBy>
  <dcterms:modified xsi:type="dcterms:W3CDTF">2017-07-07T09:30:36Z</dcterms:modified>
  <cp:revision>97</cp:revision>
  <dc:subject/>
  <dc:title>The Learnability of Quantum States</dc:title>
</cp:coreProperties>
</file>