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A069-1E4C-447A-A2D3-E2408441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9270-4EBD-4EDA-9C52-D83C8F9F6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8C20-ACD8-439F-B43A-932D1A4B733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4DB-52DE-417B-9235-613D974C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1AD7-038D-4170-8DE6-665324E9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uld order a hamantash at a restaur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5F39-331B-49C9-818D-95D53F9D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DFD-8E49-476C-B481-CA3AE8DD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06B4-55D6-4ECF-94BE-F720B9747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5F5A-03AE-443F-8608-1A0B5346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6D66-E1A4-4D2D-A245-9774E35E65C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implifying only slightly, one could say that a preference for latke over hamantash is built into the structure of physic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1E2-33F1-4673-96E3-5E02A12E3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20E6-EF73-4ACB-8286-B131667FAE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AA96-895B-4F0D-8E73-FA5F33EDFC4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4F9-2069-4731-B576-94EF7874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F7B-9C7E-44C4-85F5-C1C8B91E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C85-ABF5-4EAE-8D6D-C2601337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E19-9DC3-4BF0-BC09-DC1D411C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003-D6C1-472A-B637-EA681236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528-7441-40F4-A1CD-149C5E90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587-2847-400A-8372-92EDB7C0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8C5-88C7-47BF-AFBE-AD75409E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57C-9086-402D-8B10-28EE854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A31-B831-4F0A-A644-E645513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20F-4F1A-409F-ABBD-F8BABA4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CB8-7BE9-4B0B-9729-3B593C0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6150-35A7-47B4-A8B1-D4D761C1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http://www.vectorfree.com/media/vectors/vibrant-sun-background.jpg"/>
          <p:cNvPicPr/>
          <p:nvPr/>
        </p:nvPicPr>
        <p:blipFill>
          <a:blip r:embed="rId1"/>
          <a:stretch/>
        </p:blipFill>
        <p:spPr>
          <a:xfrm>
            <a:off x="-762120" y="0"/>
            <a:ext cx="10709280" cy="8001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Superiority of the Latke:</a:t>
            </a:r>
            <a:br>
              <a:rPr sz="4000"/>
            </a:br>
            <a:r>
              <a:rPr b="1" lang="en-US" sz="3500" spc="-1" strike="noStrike">
                <a:solidFill>
                  <a:srgbClr val="c00000"/>
                </a:solidFill>
                <a:latin typeface="Calibri"/>
              </a:rPr>
              <a:t>The Unexpected Convergence of Quantum Mechanics and Common Sense</a:t>
            </a:r>
            <a:endParaRPr b="1" lang="en-US" sz="3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6095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EE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mensetmanus.net/mit-motto/motto_files/seal.gif"/>
          <p:cNvPicPr/>
          <p:nvPr/>
        </p:nvPicPr>
        <p:blipFill>
          <a:blip r:embed="rId2"/>
          <a:stretch/>
        </p:blipFill>
        <p:spPr>
          <a:xfrm>
            <a:off x="2971800" y="2743200"/>
            <a:ext cx="3048120" cy="30258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9"/>
          <p:cNvGrpSpPr/>
          <p:nvPr/>
        </p:nvGrpSpPr>
        <p:grpSpPr>
          <a:xfrm>
            <a:off x="7315200" y="1905120"/>
            <a:ext cx="1228680" cy="4565520"/>
            <a:chOff x="7315200" y="1905120"/>
            <a:chExt cx="1228680" cy="4565520"/>
          </a:xfrm>
        </p:grpSpPr>
        <p:pic>
          <p:nvPicPr>
            <p:cNvPr id="53" name="Picture 5" descr="cletus"/>
            <p:cNvPicPr/>
            <p:nvPr/>
          </p:nvPicPr>
          <p:blipFill>
            <a:blip r:embed="rId3"/>
            <a:stretch/>
          </p:blipFill>
          <p:spPr>
            <a:xfrm>
              <a:off x="7340400" y="2690640"/>
              <a:ext cx="1192320" cy="37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http://us.123rf.com/400wm/400/400/odelia/odelia0705/odelia070500201/915467-hamentashen--traditional-jewish-pastry-for-purim.jpg"/>
            <p:cNvPicPr/>
            <p:nvPr/>
          </p:nvPicPr>
          <p:blipFill>
            <a:blip r:embed="rId4"/>
            <a:srcRect l="24001" t="10787" r="24001" b="25170"/>
            <a:stretch/>
          </p:blipFill>
          <p:spPr>
            <a:xfrm>
              <a:off x="7315200" y="1905120"/>
              <a:ext cx="122868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3"/>
          <p:cNvGrpSpPr/>
          <p:nvPr/>
        </p:nvGrpSpPr>
        <p:grpSpPr>
          <a:xfrm>
            <a:off x="2438280" y="2128680"/>
            <a:ext cx="4138560" cy="3657600"/>
            <a:chOff x="2438280" y="2128680"/>
            <a:chExt cx="4138560" cy="3657600"/>
          </a:xfrm>
        </p:grpSpPr>
        <p:sp>
          <p:nvSpPr>
            <p:cNvPr id="56" name="Oval 4"/>
            <p:cNvSpPr/>
            <p:nvPr/>
          </p:nvSpPr>
          <p:spPr>
            <a:xfrm>
              <a:off x="2981160" y="273816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2981160" y="426240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>
              <a:off x="4505040" y="27381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Object 7"/>
            <p:cNvGraphicFramePr/>
            <p:nvPr/>
          </p:nvGraphicFramePr>
          <p:xfrm>
            <a:off x="6028920" y="3881160"/>
            <a:ext cx="54792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28920" y="388116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Object 8"/>
            <p:cNvGraphicFramePr/>
            <p:nvPr/>
          </p:nvGraphicFramePr>
          <p:xfrm>
            <a:off x="4294080" y="2128680"/>
            <a:ext cx="512640" cy="68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94080" y="212868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Object 9"/>
            <p:cNvGraphicFramePr/>
            <p:nvPr/>
          </p:nvGraphicFramePr>
          <p:xfrm>
            <a:off x="5419440" y="2585880"/>
            <a:ext cx="868320" cy="73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9440" y="258588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Object 10"/>
            <p:cNvGraphicFramePr/>
            <p:nvPr/>
          </p:nvGraphicFramePr>
          <p:xfrm>
            <a:off x="2438280" y="2574720"/>
            <a:ext cx="1041120" cy="762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38280" y="257472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7" name="Picture 8" descr="http://toastiterecipes.files.wordpress.com/2010/12/latke2.jpg"/>
          <p:cNvPicPr/>
          <p:nvPr/>
        </p:nvPicPr>
        <p:blipFill>
          <a:blip r:embed="rId13"/>
          <a:srcRect l="24750" t="17045" r="36000" b="34089"/>
          <a:stretch/>
        </p:blipFill>
        <p:spPr>
          <a:xfrm>
            <a:off x="3608280" y="3581280"/>
            <a:ext cx="1785960" cy="14684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4"/>
          <p:cNvGrpSpPr/>
          <p:nvPr/>
        </p:nvGrpSpPr>
        <p:grpSpPr>
          <a:xfrm>
            <a:off x="3305520" y="4829760"/>
            <a:ext cx="1249920" cy="538920"/>
            <a:chOff x="3305520" y="4829760"/>
            <a:chExt cx="1249920" cy="538920"/>
          </a:xfrm>
        </p:grpSpPr>
        <p:sp>
          <p:nvSpPr>
            <p:cNvPr id="69" name="Rectangle 21"/>
            <p:cNvSpPr/>
            <p:nvPr/>
          </p:nvSpPr>
          <p:spPr>
            <a:xfrm rot="765000">
              <a:off x="3393720" y="5036040"/>
              <a:ext cx="10670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0"/>
            <p:cNvSpPr/>
            <p:nvPr/>
          </p:nvSpPr>
          <p:spPr>
            <a:xfrm rot="765000">
              <a:off x="3320640" y="49608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 CR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4450680" y="4801680"/>
            <a:ext cx="1249200" cy="578880"/>
            <a:chOff x="4450680" y="4801680"/>
            <a:chExt cx="1249200" cy="578880"/>
          </a:xfrm>
        </p:grpSpPr>
        <p:sp>
          <p:nvSpPr>
            <p:cNvPr id="72" name="Rectangle 22"/>
            <p:cNvSpPr/>
            <p:nvPr/>
          </p:nvSpPr>
          <p:spPr>
            <a:xfrm rot="20712000">
              <a:off x="4545000" y="5028120"/>
              <a:ext cx="10666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3"/>
            <p:cNvSpPr/>
            <p:nvPr/>
          </p:nvSpPr>
          <p:spPr>
            <a:xfrm rot="20712000">
              <a:off x="4465440" y="49525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ESAU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brainpickings.org/wp-content/uploads/2012/09/feynman1.jpg"/>
          <p:cNvPicPr/>
          <p:nvPr/>
        </p:nvPicPr>
        <p:blipFill>
          <a:blip r:embed="rId1"/>
          <a:stretch/>
        </p:blipFill>
        <p:spPr>
          <a:xfrm>
            <a:off x="469800" y="784080"/>
            <a:ext cx="4162680" cy="5715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826160" y="984240"/>
            <a:ext cx="3987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on’t trust authority!  Tast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Restaurants Serving Lat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http://www.cambridge.com/wp-content/themes/directorypress/thumbs/ssrestaurant.jpg"/>
          <p:cNvPicPr/>
          <p:nvPr/>
        </p:nvPicPr>
        <p:blipFill>
          <a:blip r:embed="rId1"/>
          <a:stretch/>
        </p:blipFill>
        <p:spPr>
          <a:xfrm>
            <a:off x="932040" y="13050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www.jaunted.com/files/15271/Zaftigs.jpg"/>
          <p:cNvPicPr/>
          <p:nvPr/>
        </p:nvPicPr>
        <p:blipFill>
          <a:blip r:embed="rId2"/>
          <a:stretch/>
        </p:blipFill>
        <p:spPr>
          <a:xfrm>
            <a:off x="1177920" y="4168800"/>
            <a:ext cx="3124080" cy="23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5021280" y="1236600"/>
            <a:ext cx="2919240" cy="2405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764240" y="4057560"/>
            <a:ext cx="34239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Restaurants Serving Hamentas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658960" y="2460600"/>
            <a:ext cx="398808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1"/>
          <p:cNvSpPr/>
          <p:nvPr/>
        </p:nvSpPr>
        <p:spPr>
          <a:xfrm>
            <a:off x="824040" y="2222640"/>
            <a:ext cx="7643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WHAT I </a:t>
            </a:r>
            <a:r>
              <a:rPr b="1" lang="en-US" sz="5000" spc="-1" strike="noStrike">
                <a:solidFill>
                  <a:srgbClr val="c00000"/>
                </a:solidFill>
                <a:latin typeface="Calibri"/>
              </a:rPr>
              <a:t>WON’T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 DO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NSULT YOUR INTELLIG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jewishexponent.com/sites/default/files/Abrams%20Hebrew%20Academy%20Rectangle.jpg"/>
          <p:cNvPicPr/>
          <p:nvPr/>
        </p:nvPicPr>
        <p:blipFill>
          <a:blip r:embed="rId1"/>
          <a:stretch/>
        </p:blipFill>
        <p:spPr>
          <a:xfrm>
            <a:off x="317520" y="1359000"/>
            <a:ext cx="3562200" cy="230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4095720" y="525600"/>
            <a:ext cx="4848120" cy="5391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82600" y="3835440"/>
            <a:ext cx="362916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brams Hebrew Academy (Yardley, 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328680"/>
            <a:ext cx="86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35240" y="1459080"/>
            <a:ext cx="645480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Mechanics in 1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7"/>
          <p:cNvGrpSpPr/>
          <p:nvPr/>
        </p:nvGrpSpPr>
        <p:grpSpPr>
          <a:xfrm>
            <a:off x="4778280" y="1200240"/>
            <a:ext cx="4043520" cy="5229360"/>
            <a:chOff x="4778280" y="1200240"/>
            <a:chExt cx="4043520" cy="5229360"/>
          </a:xfrm>
        </p:grpSpPr>
        <mc:AlternateContent>
          <mc:Choice xmlns:a14="http://schemas.microsoft.com/office/drawing/2010/main" Requires="a14">
            <p:sp>
              <p:nvSpPr>
                <p:cNvPr id="82" name="Object 13"/>
                <p:cNvSpPr txBox="1"/>
                <p:nvPr/>
              </p:nvSpPr>
              <p:spPr>
                <a:xfrm>
                  <a:off x="6988320" y="188604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Object 14"/>
                <p:cNvSpPr txBox="1"/>
                <p:nvPr/>
              </p:nvSpPr>
              <p:spPr>
                <a:xfrm>
                  <a:off x="4902120" y="1886040"/>
                  <a:ext cx="21700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Object 15"/>
                <p:cNvSpPr txBox="1"/>
                <p:nvPr/>
              </p:nvSpPr>
              <p:spPr>
                <a:xfrm>
                  <a:off x="7750440" y="1886040"/>
                  <a:ext cx="107136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Object 1"/>
                <p:cNvSpPr txBox="1"/>
                <p:nvPr/>
              </p:nvSpPr>
              <p:spPr>
                <a:xfrm>
                  <a:off x="5574960" y="3562560"/>
                  <a:ext cx="283536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41"/>
            <p:cNvSpPr/>
            <p:nvPr/>
          </p:nvSpPr>
          <p:spPr>
            <a:xfrm>
              <a:off x="4930560" y="1200240"/>
              <a:ext cx="388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Quantum Mechanics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41"/>
            <p:cNvSpPr/>
            <p:nvPr/>
          </p:nvSpPr>
          <p:spPr>
            <a:xfrm>
              <a:off x="4778280" y="4629240"/>
              <a:ext cx="3962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an apply linear transformations that conserve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2-nor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mplitude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vect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8"/>
          <p:cNvGrpSpPr/>
          <p:nvPr/>
        </p:nvGrpSpPr>
        <p:grpSpPr>
          <a:xfrm>
            <a:off x="387360" y="1200240"/>
            <a:ext cx="3984480" cy="5229360"/>
            <a:chOff x="387360" y="1200240"/>
            <a:chExt cx="3984480" cy="5229360"/>
          </a:xfrm>
        </p:grpSpPr>
        <mc:AlternateContent>
          <mc:Choice xmlns:a14="http://schemas.microsoft.com/office/drawing/2010/main" Requires="a14">
            <p:sp>
              <p:nvSpPr>
                <p:cNvPr id="89" name="Object 1"/>
                <p:cNvSpPr txBox="1"/>
                <p:nvPr/>
              </p:nvSpPr>
              <p:spPr>
                <a:xfrm>
                  <a:off x="2597040" y="188604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Object 11"/>
                <p:cNvSpPr txBox="1"/>
                <p:nvPr/>
              </p:nvSpPr>
              <p:spPr>
                <a:xfrm>
                  <a:off x="539640" y="1886040"/>
                  <a:ext cx="211140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Object 12"/>
                <p:cNvSpPr txBox="1"/>
                <p:nvPr/>
              </p:nvSpPr>
              <p:spPr>
                <a:xfrm>
                  <a:off x="3359160" y="1886040"/>
                  <a:ext cx="10126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Object 1"/>
                <p:cNvSpPr txBox="1"/>
                <p:nvPr/>
              </p:nvSpPr>
              <p:spPr>
                <a:xfrm>
                  <a:off x="1530360" y="3562560"/>
                  <a:ext cx="257472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41"/>
            <p:cNvSpPr/>
            <p:nvPr/>
          </p:nvSpPr>
          <p:spPr>
            <a:xfrm>
              <a:off x="691920" y="120024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Classical Probability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1"/>
            <p:cNvSpPr/>
            <p:nvPr/>
          </p:nvSpPr>
          <p:spPr>
            <a:xfrm>
              <a:off x="387360" y="462924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an apply linear transformations that conserve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1-nor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probability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vecto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16"/>
          <p:cNvSpPr/>
          <p:nvPr/>
        </p:nvSpPr>
        <p:spPr>
          <a:xfrm>
            <a:off x="4664160" y="1208160"/>
            <a:ext cx="7920" cy="564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10160" y="608040"/>
            <a:ext cx="4165560" cy="5842080"/>
          </a:xfrm>
          <a:prstGeom prst="rect">
            <a:avLst/>
          </a:prstGeom>
          <a:ln w="0">
            <a:noFill/>
          </a:ln>
        </p:spPr>
      </p:pic>
      <p:sp>
        <p:nvSpPr>
          <p:cNvPr id="97" name="Oval Callout 16"/>
          <p:cNvSpPr/>
          <p:nvPr/>
        </p:nvSpPr>
        <p:spPr>
          <a:xfrm>
            <a:off x="184320" y="392040"/>
            <a:ext cx="3911400" cy="3795840"/>
          </a:xfrm>
          <a:prstGeom prst="wedgeEllipseCallout">
            <a:avLst>
              <a:gd name="adj1" fmla="val 83379"/>
              <a:gd name="adj2" fmla="val 23180"/>
            </a:avLst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291960" y="1214280"/>
            <a:ext cx="37116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o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2-nor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n situations where you would’ve thought only the 1-norm would make sen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16"/>
          <p:cNvSpPr/>
          <p:nvPr/>
        </p:nvSpPr>
        <p:spPr>
          <a:xfrm>
            <a:off x="4633920" y="0"/>
            <a:ext cx="14400" cy="6858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5"/>
          <p:cNvGrpSpPr/>
          <p:nvPr/>
        </p:nvGrpSpPr>
        <p:grpSpPr>
          <a:xfrm>
            <a:off x="539280" y="1819440"/>
            <a:ext cx="3796560" cy="4327200"/>
            <a:chOff x="539280" y="1819440"/>
            <a:chExt cx="3796560" cy="4327200"/>
          </a:xfrm>
        </p:grpSpPr>
        <p:sp>
          <p:nvSpPr>
            <p:cNvPr id="101" name="Right Triangle 29"/>
            <p:cNvSpPr/>
            <p:nvPr/>
          </p:nvSpPr>
          <p:spPr>
            <a:xfrm>
              <a:off x="738720" y="2343240"/>
              <a:ext cx="3200760" cy="3200400"/>
            </a:xfrm>
            <a:prstGeom prst="rtTriangl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8"/>
            <p:cNvSpPr/>
            <p:nvPr/>
          </p:nvSpPr>
          <p:spPr>
            <a:xfrm>
              <a:off x="3929400" y="5171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9"/>
            <p:cNvSpPr/>
            <p:nvPr/>
          </p:nvSpPr>
          <p:spPr>
            <a:xfrm>
              <a:off x="53928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Object 10"/>
            <p:cNvGraphicFramePr/>
            <p:nvPr/>
          </p:nvGraphicFramePr>
          <p:xfrm>
            <a:off x="2710800" y="5783400"/>
            <a:ext cx="1459440" cy="36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0800" y="5783400"/>
                      <a:ext cx="1459440" cy="36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" name="Rectangle 41"/>
          <p:cNvSpPr/>
          <p:nvPr/>
        </p:nvSpPr>
        <p:spPr>
          <a:xfrm>
            <a:off x="453960" y="623880"/>
            <a:ext cx="392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Probability Simplex (states of unit 1-norm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4884840" y="631800"/>
            <a:ext cx="397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Quantum Hilbert Space (states of unit 2-norm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6"/>
          <p:cNvGrpSpPr/>
          <p:nvPr/>
        </p:nvGrpSpPr>
        <p:grpSpPr>
          <a:xfrm>
            <a:off x="4846680" y="1990800"/>
            <a:ext cx="4138560" cy="4241880"/>
            <a:chOff x="4846680" y="1990800"/>
            <a:chExt cx="4138560" cy="4241880"/>
          </a:xfrm>
        </p:grpSpPr>
        <p:sp>
          <p:nvSpPr>
            <p:cNvPr id="109" name="Oval 4"/>
            <p:cNvSpPr/>
            <p:nvPr/>
          </p:nvSpPr>
          <p:spPr>
            <a:xfrm>
              <a:off x="5389560" y="2600280"/>
              <a:ext cx="3048120" cy="3048840"/>
            </a:xfrm>
            <a:prstGeom prst="ellips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5389560" y="4124880"/>
              <a:ext cx="30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6913440" y="2600280"/>
              <a:ext cx="1440" cy="304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Object 7"/>
            <p:cNvGraphicFramePr/>
            <p:nvPr/>
          </p:nvGraphicFramePr>
          <p:xfrm>
            <a:off x="8437680" y="3743640"/>
            <a:ext cx="54756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37680" y="374364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Object 8"/>
            <p:cNvGraphicFramePr/>
            <p:nvPr/>
          </p:nvGraphicFramePr>
          <p:xfrm>
            <a:off x="6702480" y="199080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2480" y="199080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Object 9"/>
            <p:cNvGraphicFramePr/>
            <p:nvPr/>
          </p:nvGraphicFramePr>
          <p:xfrm>
            <a:off x="7828200" y="244800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828200" y="244800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Object 10"/>
            <p:cNvGraphicFramePr/>
            <p:nvPr/>
          </p:nvGraphicFramePr>
          <p:xfrm>
            <a:off x="4846680" y="243684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9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46680" y="243684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Rectangle 13"/>
            <p:cNvSpPr/>
            <p:nvPr/>
          </p:nvSpPr>
          <p:spPr>
            <a:xfrm rot="19264800">
              <a:off x="5589360" y="451944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Object 10"/>
            <p:cNvGraphicFramePr/>
            <p:nvPr/>
          </p:nvGraphicFramePr>
          <p:xfrm>
            <a:off x="6662520" y="5742360"/>
            <a:ext cx="2208240" cy="490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2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662520" y="5742360"/>
                      <a:ext cx="220824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4040" y="294840"/>
            <a:ext cx="862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Calibri"/>
              </a:rPr>
              <a:t>So much for quantum mechanics.  What’s the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  <a:ea typeface="Calibri"/>
              </a:rPr>
              <a:t>commonsense</a:t>
            </a: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Calibri"/>
              </a:rPr>
              <a:t> case for latke superiority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392040" y="2192400"/>
            <a:ext cx="833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ATKES ACTUALLY TASTE B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4"/>
          <p:cNvGrpSpPr/>
          <p:nvPr/>
        </p:nvGrpSpPr>
        <p:grpSpPr>
          <a:xfrm>
            <a:off x="268200" y="3398760"/>
            <a:ext cx="4049640" cy="3105360"/>
            <a:chOff x="268200" y="3398760"/>
            <a:chExt cx="4049640" cy="3105360"/>
          </a:xfrm>
        </p:grpSpPr>
        <p:pic>
          <p:nvPicPr>
            <p:cNvPr id="126" name="Picture 6" descr="http://cdn.aarp.net/content/dam/aarp/food/entertainment/2010_11/420_Hanukkah.imgcache.rev1289511490608.jpg"/>
            <p:cNvPicPr/>
            <p:nvPr/>
          </p:nvPicPr>
          <p:blipFill>
            <a:blip r:embed="rId1"/>
            <a:srcRect l="2286" t="0" r="11428" b="8067"/>
            <a:stretch/>
          </p:blipFill>
          <p:spPr>
            <a:xfrm>
              <a:off x="676440" y="3398760"/>
              <a:ext cx="3452040" cy="2084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7" name="Rectangle 2"/>
            <p:cNvSpPr/>
            <p:nvPr/>
          </p:nvSpPr>
          <p:spPr>
            <a:xfrm>
              <a:off x="268200" y="5742000"/>
              <a:ext cx="4049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ot, fried, covered in sour cream or applesau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5"/>
          <p:cNvGrpSpPr/>
          <p:nvPr/>
        </p:nvGrpSpPr>
        <p:grpSpPr>
          <a:xfrm>
            <a:off x="4154400" y="2986200"/>
            <a:ext cx="4657680" cy="3590640"/>
            <a:chOff x="4154400" y="2986200"/>
            <a:chExt cx="4657680" cy="3590640"/>
          </a:xfrm>
        </p:grpSpPr>
        <p:pic>
          <p:nvPicPr>
            <p:cNvPr id="129" name="Picture 8" descr="http://forward.com/image/2/290/0/5/assets/images/articles/b-hamentashen-3912.jpg"/>
            <p:cNvPicPr/>
            <p:nvPr/>
          </p:nvPicPr>
          <p:blipFill>
            <a:blip r:embed="rId2"/>
            <a:stretch/>
          </p:blipFill>
          <p:spPr>
            <a:xfrm>
              <a:off x="5219280" y="2986200"/>
              <a:ext cx="2762280" cy="2914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Straight Arrow Connector 8"/>
            <p:cNvCxnSpPr/>
            <p:nvPr/>
          </p:nvCxnSpPr>
          <p:spPr>
            <a:xfrm>
              <a:off x="5424480" y="3549600"/>
              <a:ext cx="1130040" cy="8917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31" name="Rectangle 2"/>
            <p:cNvSpPr/>
            <p:nvPr/>
          </p:nvSpPr>
          <p:spPr>
            <a:xfrm>
              <a:off x="4154400" y="3097080"/>
              <a:ext cx="2130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Sort of O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Straight Arrow Connector 11"/>
            <p:cNvCxnSpPr/>
            <p:nvPr/>
          </p:nvCxnSpPr>
          <p:spPr>
            <a:xfrm flipH="1" flipV="1">
              <a:off x="5778000" y="5370480"/>
              <a:ext cx="1921680" cy="699840"/>
            </a:xfrm>
            <a:prstGeom prst="straightConnector1">
              <a:avLst/>
            </a:prstGeom>
            <a:ln w="442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33" name="Straight Arrow Connector 15"/>
            <p:cNvCxnSpPr/>
            <p:nvPr/>
          </p:nvCxnSpPr>
          <p:spPr>
            <a:xfrm flipH="1" flipV="1">
              <a:off x="7614000" y="5186160"/>
              <a:ext cx="215640" cy="714960"/>
            </a:xfrm>
            <a:prstGeom prst="straightConnector1">
              <a:avLst/>
            </a:prstGeom>
            <a:ln w="442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34" name="Straight Arrow Connector 18"/>
            <p:cNvCxnSpPr/>
            <p:nvPr/>
          </p:nvCxnSpPr>
          <p:spPr>
            <a:xfrm flipH="1" flipV="1">
              <a:off x="6715440" y="3649320"/>
              <a:ext cx="1007280" cy="2335680"/>
            </a:xfrm>
            <a:prstGeom prst="straightConnector1">
              <a:avLst/>
            </a:prstGeom>
            <a:ln w="442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35" name="Rectangle 2"/>
            <p:cNvSpPr/>
            <p:nvPr/>
          </p:nvSpPr>
          <p:spPr>
            <a:xfrm>
              <a:off x="6681600" y="6091200"/>
              <a:ext cx="21304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Calibri"/>
                </a:rPr>
                <a:t>Edible??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"/>
          <p:cNvSpPr/>
          <p:nvPr/>
        </p:nvSpPr>
        <p:spPr>
          <a:xfrm>
            <a:off x="406440" y="1346040"/>
            <a:ext cx="833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re you ready for an argument that’s probably never been made in the 60-year history of latke-hamentash deb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3880" y="703440"/>
            <a:ext cx="851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Here—extremely unusually—quantum mechanics and common sense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Calibri"/>
              </a:rPr>
              <a:t>converge</a:t>
            </a: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!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98480" y="2290680"/>
            <a:ext cx="77691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ck of quantum 2-norm symmetry favored by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rd, dry, “classical” 1-norm co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land, barely-edible hamentas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3-02-06T21:58:31Z</dcterms:modified>
  <cp:revision>2459</cp:revision>
  <dc:subject/>
  <dc:title>The Learnability of Quantum States</dc:title>
</cp:coreProperties>
</file>