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29C0-0093-44C5-A059-8429E06A0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6203-4F70-4BD1-8F51-727A64573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CEDD-0A73-441A-A180-EDF0CA1ABB5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7870-CAAF-4D64-A29E-1128CE3B3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3E38-6F47-4275-9EB4-B474E685A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uld order a hamantash at a restaur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C56F-A242-4056-98BE-C97931E47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889B-CFB0-436A-ACC9-557752E3B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B93C-F467-475B-82EC-8E532DFE4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D6E4-9036-4C30-A0B0-71C1B900C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626F-FC15-4A9D-B670-B9F85F1C0CF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simplifying only slightly, one could say that a preference for latke over hamantash is built into the structure of physical l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AC2C-46F9-4ADA-91C7-468B5C1F5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770B-7959-4EA7-8EAB-D6AC17E15BD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E6AE-8234-4CA6-9749-49058CED155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BA7-98AB-41C8-9B6C-C515D890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B6DD-80E2-45AA-BB4A-F45D2B51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EDC-6A84-42DE-A6A3-DAFB1C7B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5E9-06E3-4C69-8D28-04E684AD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9CCE-F116-44CF-93E8-CB722B81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710-D1F5-47C2-A186-ECC11AC6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061-5806-4208-84B2-625A1BF4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1B6-B585-4D32-924E-2FB8C8BA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14B-3DE4-4D0C-BD3A-AA64D28C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5AF-4CBC-43F8-9E74-E219E999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079-3C9E-4E7F-85F1-1F5DDC37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952-CFCC-407A-B6E7-980F8871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28F1-4F0A-4C6C-87C1-855998F97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4" descr="http://www.vectorfree.com/media/vectors/vibrant-sun-background.jpg"/>
          <p:cNvPicPr/>
          <p:nvPr/>
        </p:nvPicPr>
        <p:blipFill>
          <a:blip r:embed="rId1"/>
          <a:stretch/>
        </p:blipFill>
        <p:spPr>
          <a:xfrm>
            <a:off x="-762120" y="0"/>
            <a:ext cx="10709280" cy="8001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alibri"/>
              </a:rPr>
              <a:t>Superiority of the Latke:</a:t>
            </a:r>
            <a:br>
              <a:rPr sz="4000"/>
            </a:br>
            <a:r>
              <a:rPr b="1" lang="en-US" sz="3500" spc="-1" strike="noStrike">
                <a:solidFill>
                  <a:srgbClr val="c00000"/>
                </a:solidFill>
                <a:latin typeface="Calibri"/>
              </a:rPr>
              <a:t>The Unexpected Convergence of Quantum Mechanics and Common Sense</a:t>
            </a:r>
            <a:endParaRPr b="1" lang="en-US" sz="3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04920" y="60958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EE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mensetmanus.net/mit-motto/motto_files/seal.gif"/>
          <p:cNvPicPr/>
          <p:nvPr/>
        </p:nvPicPr>
        <p:blipFill>
          <a:blip r:embed="rId2"/>
          <a:stretch/>
        </p:blipFill>
        <p:spPr>
          <a:xfrm>
            <a:off x="2971800" y="2743200"/>
            <a:ext cx="3048120" cy="30258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9"/>
          <p:cNvGrpSpPr/>
          <p:nvPr/>
        </p:nvGrpSpPr>
        <p:grpSpPr>
          <a:xfrm>
            <a:off x="7315200" y="1905120"/>
            <a:ext cx="1228680" cy="4565520"/>
            <a:chOff x="7315200" y="1905120"/>
            <a:chExt cx="1228680" cy="4565520"/>
          </a:xfrm>
        </p:grpSpPr>
        <p:pic>
          <p:nvPicPr>
            <p:cNvPr id="53" name="Picture 5" descr="cletus"/>
            <p:cNvPicPr/>
            <p:nvPr/>
          </p:nvPicPr>
          <p:blipFill>
            <a:blip r:embed="rId3"/>
            <a:stretch/>
          </p:blipFill>
          <p:spPr>
            <a:xfrm>
              <a:off x="7340400" y="2690640"/>
              <a:ext cx="1192320" cy="37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http://us.123rf.com/400wm/400/400/odelia/odelia0705/odelia070500201/915467-hamentashen--traditional-jewish-pastry-for-purim.jpg"/>
            <p:cNvPicPr/>
            <p:nvPr/>
          </p:nvPicPr>
          <p:blipFill>
            <a:blip r:embed="rId4"/>
            <a:srcRect l="24001" t="10787" r="24001" b="25170"/>
            <a:stretch/>
          </p:blipFill>
          <p:spPr>
            <a:xfrm>
              <a:off x="7315200" y="1905120"/>
              <a:ext cx="122868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3"/>
          <p:cNvGrpSpPr/>
          <p:nvPr/>
        </p:nvGrpSpPr>
        <p:grpSpPr>
          <a:xfrm>
            <a:off x="2438280" y="2128680"/>
            <a:ext cx="4138560" cy="3657600"/>
            <a:chOff x="2438280" y="2128680"/>
            <a:chExt cx="4138560" cy="3657600"/>
          </a:xfrm>
        </p:grpSpPr>
        <p:sp>
          <p:nvSpPr>
            <p:cNvPr id="56" name="Oval 4"/>
            <p:cNvSpPr/>
            <p:nvPr/>
          </p:nvSpPr>
          <p:spPr>
            <a:xfrm>
              <a:off x="2981160" y="2738160"/>
              <a:ext cx="304776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"/>
            <p:cNvSpPr/>
            <p:nvPr/>
          </p:nvSpPr>
          <p:spPr>
            <a:xfrm>
              <a:off x="2981160" y="4262400"/>
              <a:ext cx="304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>
              <a:off x="4505040" y="273816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" name="Object 7"/>
            <p:cNvGraphicFramePr/>
            <p:nvPr/>
          </p:nvGraphicFramePr>
          <p:xfrm>
            <a:off x="6028920" y="3881160"/>
            <a:ext cx="54792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28920" y="3881160"/>
                      <a:ext cx="5479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Object 8"/>
            <p:cNvGraphicFramePr/>
            <p:nvPr/>
          </p:nvGraphicFramePr>
          <p:xfrm>
            <a:off x="4294080" y="2128680"/>
            <a:ext cx="512640" cy="685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94080" y="212868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Object 9"/>
            <p:cNvGraphicFramePr/>
            <p:nvPr/>
          </p:nvGraphicFramePr>
          <p:xfrm>
            <a:off x="5419440" y="2585880"/>
            <a:ext cx="868320" cy="739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19440" y="258588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Object 10"/>
            <p:cNvGraphicFramePr/>
            <p:nvPr/>
          </p:nvGraphicFramePr>
          <p:xfrm>
            <a:off x="2438280" y="2574720"/>
            <a:ext cx="1041120" cy="762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438280" y="2574720"/>
                      <a:ext cx="10411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7" name="Picture 8" descr="http://toastiterecipes.files.wordpress.com/2010/12/latke2.jpg"/>
          <p:cNvPicPr/>
          <p:nvPr/>
        </p:nvPicPr>
        <p:blipFill>
          <a:blip r:embed="rId13"/>
          <a:srcRect l="24750" t="17045" r="36000" b="34089"/>
          <a:stretch/>
        </p:blipFill>
        <p:spPr>
          <a:xfrm>
            <a:off x="3608280" y="3581280"/>
            <a:ext cx="1785960" cy="146844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4"/>
          <p:cNvGrpSpPr/>
          <p:nvPr/>
        </p:nvGrpSpPr>
        <p:grpSpPr>
          <a:xfrm>
            <a:off x="3305520" y="4829760"/>
            <a:ext cx="1249920" cy="538920"/>
            <a:chOff x="3305520" y="4829760"/>
            <a:chExt cx="1249920" cy="538920"/>
          </a:xfrm>
        </p:grpSpPr>
        <p:sp>
          <p:nvSpPr>
            <p:cNvPr id="69" name="Rectangle 21"/>
            <p:cNvSpPr/>
            <p:nvPr/>
          </p:nvSpPr>
          <p:spPr>
            <a:xfrm rot="765000">
              <a:off x="3393720" y="5036040"/>
              <a:ext cx="10670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20"/>
            <p:cNvSpPr/>
            <p:nvPr/>
          </p:nvSpPr>
          <p:spPr>
            <a:xfrm rot="765000">
              <a:off x="3320640" y="49608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 CRE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4450680" y="4801680"/>
            <a:ext cx="1249200" cy="578880"/>
            <a:chOff x="4450680" y="4801680"/>
            <a:chExt cx="1249200" cy="578880"/>
          </a:xfrm>
        </p:grpSpPr>
        <p:sp>
          <p:nvSpPr>
            <p:cNvPr id="72" name="Rectangle 22"/>
            <p:cNvSpPr/>
            <p:nvPr/>
          </p:nvSpPr>
          <p:spPr>
            <a:xfrm rot="20712000">
              <a:off x="4545000" y="5028120"/>
              <a:ext cx="10666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23"/>
            <p:cNvSpPr/>
            <p:nvPr/>
          </p:nvSpPr>
          <p:spPr>
            <a:xfrm rot="20712000">
              <a:off x="4465440" y="495252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ESAU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www.brainpickings.org/wp-content/uploads/2012/09/feynman1.jpg"/>
          <p:cNvPicPr/>
          <p:nvPr/>
        </p:nvPicPr>
        <p:blipFill>
          <a:blip r:embed="rId1"/>
          <a:stretch/>
        </p:blipFill>
        <p:spPr>
          <a:xfrm>
            <a:off x="469800" y="784080"/>
            <a:ext cx="4162680" cy="5715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4826160" y="984240"/>
            <a:ext cx="3987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on’t trust authority!  Taste for yoursel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Restaurants Serving Lat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http://www.cambridge.com/wp-content/themes/directorypress/thumbs/ssrestaurant.jpg"/>
          <p:cNvPicPr/>
          <p:nvPr/>
        </p:nvPicPr>
        <p:blipFill>
          <a:blip r:embed="rId1"/>
          <a:stretch/>
        </p:blipFill>
        <p:spPr>
          <a:xfrm>
            <a:off x="932040" y="13050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http://www.jaunted.com/files/15271/Zaftigs.jpg"/>
          <p:cNvPicPr/>
          <p:nvPr/>
        </p:nvPicPr>
        <p:blipFill>
          <a:blip r:embed="rId2"/>
          <a:stretch/>
        </p:blipFill>
        <p:spPr>
          <a:xfrm>
            <a:off x="1177920" y="4168800"/>
            <a:ext cx="3124080" cy="2328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5021280" y="1236600"/>
            <a:ext cx="2919240" cy="2405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4"/>
          <a:stretch/>
        </p:blipFill>
        <p:spPr>
          <a:xfrm>
            <a:off x="4764240" y="4057560"/>
            <a:ext cx="34239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Restaurants Serving Hamentas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2658960" y="2460600"/>
            <a:ext cx="398808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1"/>
          <p:cNvSpPr/>
          <p:nvPr/>
        </p:nvSpPr>
        <p:spPr>
          <a:xfrm>
            <a:off x="824040" y="2222640"/>
            <a:ext cx="7643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WHAT I </a:t>
            </a:r>
            <a:r>
              <a:rPr b="1" lang="en-US" sz="5000" spc="-1" strike="noStrike">
                <a:solidFill>
                  <a:srgbClr val="c00000"/>
                </a:solidFill>
                <a:latin typeface="Calibri"/>
              </a:rPr>
              <a:t>WON’T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 DO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NSULT YOUR INTELLIG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jewishexponent.com/sites/default/files/Abrams%20Hebrew%20Academy%20Rectangle.jpg"/>
          <p:cNvPicPr/>
          <p:nvPr/>
        </p:nvPicPr>
        <p:blipFill>
          <a:blip r:embed="rId1"/>
          <a:stretch/>
        </p:blipFill>
        <p:spPr>
          <a:xfrm>
            <a:off x="317520" y="1359000"/>
            <a:ext cx="3562200" cy="230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4095720" y="525600"/>
            <a:ext cx="4848120" cy="5391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82600" y="3835440"/>
            <a:ext cx="36291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brams Hebrew Academy (Yardley, 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" y="328680"/>
            <a:ext cx="860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335240" y="1459080"/>
            <a:ext cx="6454800" cy="47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Quantum Mechanics in 1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7"/>
          <p:cNvGrpSpPr/>
          <p:nvPr/>
        </p:nvGrpSpPr>
        <p:grpSpPr>
          <a:xfrm>
            <a:off x="4778280" y="1200240"/>
            <a:ext cx="4043520" cy="5229360"/>
            <a:chOff x="4778280" y="1200240"/>
            <a:chExt cx="4043520" cy="5229360"/>
          </a:xfrm>
        </p:grpSpPr>
        <mc:AlternateContent>
          <mc:Choice xmlns:a14="http://schemas.microsoft.com/office/drawing/2010/main" Requires="a14">
            <p:sp>
              <p:nvSpPr>
                <p:cNvPr id="82" name="Object 13"/>
                <p:cNvSpPr txBox="1"/>
                <p:nvPr/>
              </p:nvSpPr>
              <p:spPr>
                <a:xfrm>
                  <a:off x="6988320" y="1886040"/>
                  <a:ext cx="78084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Object 14"/>
                <p:cNvSpPr txBox="1"/>
                <p:nvPr/>
              </p:nvSpPr>
              <p:spPr>
                <a:xfrm>
                  <a:off x="4902120" y="1886040"/>
                  <a:ext cx="217008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⋱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Object 15"/>
                <p:cNvSpPr txBox="1"/>
                <p:nvPr/>
              </p:nvSpPr>
              <p:spPr>
                <a:xfrm>
                  <a:off x="7750440" y="1886040"/>
                  <a:ext cx="107136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Object 1"/>
                <p:cNvSpPr txBox="1"/>
                <p:nvPr/>
              </p:nvSpPr>
              <p:spPr>
                <a:xfrm>
                  <a:off x="5574960" y="3562560"/>
                  <a:ext cx="283536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" name="Rectangle 41"/>
            <p:cNvSpPr/>
            <p:nvPr/>
          </p:nvSpPr>
          <p:spPr>
            <a:xfrm>
              <a:off x="4930560" y="1200240"/>
              <a:ext cx="388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00000"/>
                  </a:solidFill>
                  <a:latin typeface="Calibri"/>
                </a:rPr>
                <a:t>Quantum Mechanics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41"/>
            <p:cNvSpPr/>
            <p:nvPr/>
          </p:nvSpPr>
          <p:spPr>
            <a:xfrm>
              <a:off x="4778280" y="4629240"/>
              <a:ext cx="3962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an apply linear transformations that conserve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2-norm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mplitude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vecto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8"/>
          <p:cNvGrpSpPr/>
          <p:nvPr/>
        </p:nvGrpSpPr>
        <p:grpSpPr>
          <a:xfrm>
            <a:off x="387360" y="1200240"/>
            <a:ext cx="3984480" cy="5229360"/>
            <a:chOff x="387360" y="1200240"/>
            <a:chExt cx="3984480" cy="5229360"/>
          </a:xfrm>
        </p:grpSpPr>
        <mc:AlternateContent>
          <mc:Choice xmlns:a14="http://schemas.microsoft.com/office/drawing/2010/main" Requires="a14">
            <p:sp>
              <p:nvSpPr>
                <p:cNvPr id="89" name="Object 1"/>
                <p:cNvSpPr txBox="1"/>
                <p:nvPr/>
              </p:nvSpPr>
              <p:spPr>
                <a:xfrm>
                  <a:off x="2597040" y="1886040"/>
                  <a:ext cx="78084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Object 11"/>
                <p:cNvSpPr txBox="1"/>
                <p:nvPr/>
              </p:nvSpPr>
              <p:spPr>
                <a:xfrm>
                  <a:off x="539640" y="1886040"/>
                  <a:ext cx="211140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⋱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" name="Object 12"/>
                <p:cNvSpPr txBox="1"/>
                <p:nvPr/>
              </p:nvSpPr>
              <p:spPr>
                <a:xfrm>
                  <a:off x="3359160" y="1886040"/>
                  <a:ext cx="101268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Object 1"/>
                <p:cNvSpPr txBox="1"/>
                <p:nvPr/>
              </p:nvSpPr>
              <p:spPr>
                <a:xfrm>
                  <a:off x="1530360" y="3562560"/>
                  <a:ext cx="257472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Rectangle 41"/>
            <p:cNvSpPr/>
            <p:nvPr/>
          </p:nvSpPr>
          <p:spPr>
            <a:xfrm>
              <a:off x="691920" y="1200240"/>
              <a:ext cx="350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00000"/>
                  </a:solidFill>
                  <a:latin typeface="Calibri"/>
                </a:rPr>
                <a:t>Classical Probability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1"/>
            <p:cNvSpPr/>
            <p:nvPr/>
          </p:nvSpPr>
          <p:spPr>
            <a:xfrm>
              <a:off x="387360" y="4629240"/>
              <a:ext cx="3886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an apply linear transformations that conserve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1-norm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probability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vecto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16"/>
          <p:cNvSpPr/>
          <p:nvPr/>
        </p:nvSpPr>
        <p:spPr>
          <a:xfrm>
            <a:off x="4664160" y="1208160"/>
            <a:ext cx="7920" cy="564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610160" y="608040"/>
            <a:ext cx="4165560" cy="5842080"/>
          </a:xfrm>
          <a:prstGeom prst="rect">
            <a:avLst/>
          </a:prstGeom>
          <a:ln w="0">
            <a:noFill/>
          </a:ln>
        </p:spPr>
      </p:pic>
      <p:sp>
        <p:nvSpPr>
          <p:cNvPr id="97" name="Oval Callout 16"/>
          <p:cNvSpPr/>
          <p:nvPr/>
        </p:nvSpPr>
        <p:spPr>
          <a:xfrm>
            <a:off x="184320" y="392040"/>
            <a:ext cx="3911400" cy="3795840"/>
          </a:xfrm>
          <a:prstGeom prst="wedgeEllipseCallout">
            <a:avLst>
              <a:gd name="adj1" fmla="val 83379"/>
              <a:gd name="adj2" fmla="val 23180"/>
            </a:avLst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291960" y="1214280"/>
            <a:ext cx="37116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2-nor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in situations where you would’ve thought only the 1-norm would make sen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16"/>
          <p:cNvSpPr/>
          <p:nvPr/>
        </p:nvSpPr>
        <p:spPr>
          <a:xfrm>
            <a:off x="4633920" y="0"/>
            <a:ext cx="14400" cy="6858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5"/>
          <p:cNvGrpSpPr/>
          <p:nvPr/>
        </p:nvGrpSpPr>
        <p:grpSpPr>
          <a:xfrm>
            <a:off x="539280" y="1819440"/>
            <a:ext cx="3796560" cy="4327200"/>
            <a:chOff x="539280" y="1819440"/>
            <a:chExt cx="3796560" cy="4327200"/>
          </a:xfrm>
        </p:grpSpPr>
        <p:sp>
          <p:nvSpPr>
            <p:cNvPr id="101" name="Right Triangle 29"/>
            <p:cNvSpPr/>
            <p:nvPr/>
          </p:nvSpPr>
          <p:spPr>
            <a:xfrm>
              <a:off x="738720" y="2343240"/>
              <a:ext cx="3200760" cy="3200400"/>
            </a:xfrm>
            <a:prstGeom prst="rtTriangle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8"/>
            <p:cNvSpPr/>
            <p:nvPr/>
          </p:nvSpPr>
          <p:spPr>
            <a:xfrm>
              <a:off x="3929400" y="5171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9"/>
            <p:cNvSpPr/>
            <p:nvPr/>
          </p:nvSpPr>
          <p:spPr>
            <a:xfrm>
              <a:off x="539280" y="18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4" name="Object 10"/>
            <p:cNvGraphicFramePr/>
            <p:nvPr/>
          </p:nvGraphicFramePr>
          <p:xfrm>
            <a:off x="2710800" y="5783400"/>
            <a:ext cx="1459440" cy="36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0800" y="5783400"/>
                      <a:ext cx="1459440" cy="36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6" name="Rectangle 41"/>
          <p:cNvSpPr/>
          <p:nvPr/>
        </p:nvSpPr>
        <p:spPr>
          <a:xfrm>
            <a:off x="453960" y="623880"/>
            <a:ext cx="3921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Probability Simplex (states of unit 1-norm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4884840" y="631800"/>
            <a:ext cx="3975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Quantum Hilbert Space (states of unit 2-norm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6"/>
          <p:cNvGrpSpPr/>
          <p:nvPr/>
        </p:nvGrpSpPr>
        <p:grpSpPr>
          <a:xfrm>
            <a:off x="4846680" y="1990800"/>
            <a:ext cx="4138560" cy="4241880"/>
            <a:chOff x="4846680" y="1990800"/>
            <a:chExt cx="4138560" cy="4241880"/>
          </a:xfrm>
        </p:grpSpPr>
        <p:sp>
          <p:nvSpPr>
            <p:cNvPr id="109" name="Oval 4"/>
            <p:cNvSpPr/>
            <p:nvPr/>
          </p:nvSpPr>
          <p:spPr>
            <a:xfrm>
              <a:off x="5389560" y="2600280"/>
              <a:ext cx="3048120" cy="3048840"/>
            </a:xfrm>
            <a:prstGeom prst="ellipse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>
              <a:off x="5389560" y="4124880"/>
              <a:ext cx="304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>
              <a:off x="6913440" y="2600280"/>
              <a:ext cx="1440" cy="304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2" name="Object 7"/>
            <p:cNvGraphicFramePr/>
            <p:nvPr/>
          </p:nvGraphicFramePr>
          <p:xfrm>
            <a:off x="8437680" y="3743640"/>
            <a:ext cx="54756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437680" y="374364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Object 8"/>
            <p:cNvGraphicFramePr/>
            <p:nvPr/>
          </p:nvGraphicFramePr>
          <p:xfrm>
            <a:off x="6702480" y="1990800"/>
            <a:ext cx="51264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5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02480" y="199080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Object 9"/>
            <p:cNvGraphicFramePr/>
            <p:nvPr/>
          </p:nvGraphicFramePr>
          <p:xfrm>
            <a:off x="7828200" y="2448000"/>
            <a:ext cx="868320" cy="73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828200" y="244800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Object 10"/>
            <p:cNvGraphicFramePr/>
            <p:nvPr/>
          </p:nvGraphicFramePr>
          <p:xfrm>
            <a:off x="4846680" y="2436840"/>
            <a:ext cx="1041120" cy="762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9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46680" y="2436840"/>
                      <a:ext cx="10411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Rectangle 13"/>
            <p:cNvSpPr/>
            <p:nvPr/>
          </p:nvSpPr>
          <p:spPr>
            <a:xfrm rot="19264800">
              <a:off x="5589360" y="4519440"/>
              <a:ext cx="152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Object 10"/>
            <p:cNvGraphicFramePr/>
            <p:nvPr/>
          </p:nvGraphicFramePr>
          <p:xfrm>
            <a:off x="6662520" y="5742360"/>
            <a:ext cx="2208240" cy="490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2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662520" y="5742360"/>
                      <a:ext cx="2208240" cy="49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4040" y="294840"/>
            <a:ext cx="862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Calibri"/>
              </a:rPr>
              <a:t>So much for quantum mechanics.  What’s the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  <a:ea typeface="Calibri"/>
              </a:rPr>
              <a:t>commonsense</a:t>
            </a: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Calibri"/>
              </a:rPr>
              <a:t> case for latke superiority?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392040" y="2192400"/>
            <a:ext cx="8331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ATKES ACTUALLY TASTE BE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4"/>
          <p:cNvGrpSpPr/>
          <p:nvPr/>
        </p:nvGrpSpPr>
        <p:grpSpPr>
          <a:xfrm>
            <a:off x="268200" y="3398760"/>
            <a:ext cx="4049640" cy="3105360"/>
            <a:chOff x="268200" y="3398760"/>
            <a:chExt cx="4049640" cy="3105360"/>
          </a:xfrm>
        </p:grpSpPr>
        <p:pic>
          <p:nvPicPr>
            <p:cNvPr id="126" name="Picture 6" descr="http://cdn.aarp.net/content/dam/aarp/food/entertainment/2010_11/420_Hanukkah.imgcache.rev1289511490608.jpg"/>
            <p:cNvPicPr/>
            <p:nvPr/>
          </p:nvPicPr>
          <p:blipFill>
            <a:blip r:embed="rId1"/>
            <a:srcRect l="2286" t="0" r="11428" b="8067"/>
            <a:stretch/>
          </p:blipFill>
          <p:spPr>
            <a:xfrm>
              <a:off x="676440" y="3398760"/>
              <a:ext cx="3452040" cy="2084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27" name="Rectangle 2"/>
            <p:cNvSpPr/>
            <p:nvPr/>
          </p:nvSpPr>
          <p:spPr>
            <a:xfrm>
              <a:off x="268200" y="5742000"/>
              <a:ext cx="4049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Hot, fried, covered in sour cream or applesau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35"/>
          <p:cNvGrpSpPr/>
          <p:nvPr/>
        </p:nvGrpSpPr>
        <p:grpSpPr>
          <a:xfrm>
            <a:off x="4154400" y="2986200"/>
            <a:ext cx="4657680" cy="3590640"/>
            <a:chOff x="4154400" y="2986200"/>
            <a:chExt cx="4657680" cy="3590640"/>
          </a:xfrm>
        </p:grpSpPr>
        <p:pic>
          <p:nvPicPr>
            <p:cNvPr id="129" name="Picture 8" descr="http://forward.com/image/2/290/0/5/assets/images/articles/b-hamentashen-3912.jpg"/>
            <p:cNvPicPr/>
            <p:nvPr/>
          </p:nvPicPr>
          <p:blipFill>
            <a:blip r:embed="rId2"/>
            <a:stretch/>
          </p:blipFill>
          <p:spPr>
            <a:xfrm>
              <a:off x="5219280" y="2986200"/>
              <a:ext cx="2762280" cy="29142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Straight Arrow Connector 8"/>
            <p:cNvCxnSpPr/>
            <p:nvPr/>
          </p:nvCxnSpPr>
          <p:spPr>
            <a:xfrm>
              <a:off x="5424480" y="3549600"/>
              <a:ext cx="1130040" cy="891720"/>
            </a:xfrm>
            <a:prstGeom prst="straightConnector1">
              <a:avLst/>
            </a:prstGeom>
            <a:ln w="442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31" name="Rectangle 2"/>
            <p:cNvSpPr/>
            <p:nvPr/>
          </p:nvSpPr>
          <p:spPr>
            <a:xfrm>
              <a:off x="4154400" y="3097080"/>
              <a:ext cx="21304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Sort of O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Straight Arrow Connector 11"/>
            <p:cNvCxnSpPr/>
            <p:nvPr/>
          </p:nvCxnSpPr>
          <p:spPr>
            <a:xfrm flipH="1" flipV="1">
              <a:off x="5778000" y="5370480"/>
              <a:ext cx="1921680" cy="699840"/>
            </a:xfrm>
            <a:prstGeom prst="straightConnector1">
              <a:avLst/>
            </a:prstGeom>
            <a:ln w="442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33" name="Straight Arrow Connector 15"/>
            <p:cNvCxnSpPr/>
            <p:nvPr/>
          </p:nvCxnSpPr>
          <p:spPr>
            <a:xfrm flipH="1" flipV="1">
              <a:off x="7614000" y="5186160"/>
              <a:ext cx="215640" cy="714960"/>
            </a:xfrm>
            <a:prstGeom prst="straightConnector1">
              <a:avLst/>
            </a:prstGeom>
            <a:ln w="442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34" name="Straight Arrow Connector 18"/>
            <p:cNvCxnSpPr/>
            <p:nvPr/>
          </p:nvCxnSpPr>
          <p:spPr>
            <a:xfrm flipH="1" flipV="1">
              <a:off x="6715440" y="3649320"/>
              <a:ext cx="1007280" cy="2335680"/>
            </a:xfrm>
            <a:prstGeom prst="straightConnector1">
              <a:avLst/>
            </a:prstGeom>
            <a:ln w="442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35" name="Rectangle 2"/>
            <p:cNvSpPr/>
            <p:nvPr/>
          </p:nvSpPr>
          <p:spPr>
            <a:xfrm>
              <a:off x="6681600" y="6091200"/>
              <a:ext cx="21304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Calibri"/>
                  <a:ea typeface="Calibri"/>
                </a:rPr>
                <a:t>Edible??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"/>
          <p:cNvSpPr/>
          <p:nvPr/>
        </p:nvSpPr>
        <p:spPr>
          <a:xfrm>
            <a:off x="406440" y="1346040"/>
            <a:ext cx="833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re you ready for an argument that’s probably never been made in the 60-year history of latke-hamentash deb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3880" y="703440"/>
            <a:ext cx="851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  <a:ea typeface="Calibri"/>
              </a:rPr>
              <a:t>Here—extremely unusually—quantum mechanics and common sense </a:t>
            </a:r>
            <a:r>
              <a:rPr b="1" lang="en-US" sz="3800" spc="-1" strike="noStrike">
                <a:solidFill>
                  <a:srgbClr val="ff0000"/>
                </a:solidFill>
                <a:latin typeface="Calibri"/>
                <a:ea typeface="Calibri"/>
              </a:rPr>
              <a:t>converge</a:t>
            </a:r>
            <a:r>
              <a:rPr b="1" lang="en-US" sz="3800" spc="-1" strike="noStrike">
                <a:solidFill>
                  <a:srgbClr val="333399"/>
                </a:solidFill>
                <a:latin typeface="Calibri"/>
                <a:ea typeface="Calibri"/>
              </a:rPr>
              <a:t>!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798480" y="2290680"/>
            <a:ext cx="77691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ck of quantum 2-norm symmetry favored by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rd, dry, “classical” 1-norm co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land, barely-edible hamentas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13-02-06T21:58:31Z</dcterms:modified>
  <cp:revision>2459</cp:revision>
  <dc:subject/>
  <dc:title>The Learnability of Quantum States</dc:title>
</cp:coreProperties>
</file>