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096B7-C845-4179-8935-7831EEBF64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39BD5-0CB5-43FF-88B2-80D94AB13748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6A8BF-589C-4CD1-A1A5-96C7046BABB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79533-47A0-45CA-9492-01D6A13FB3D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96BAB-8979-4CB6-BF8B-52FB7708E5A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9C346-4679-4500-AC81-62E439038E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E8C48-3C59-4ECB-9710-7C1D156698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AE902-3DA8-4116-AFC8-035F833489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E816-F51D-4DAA-9F64-D16ED85F59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F6966-41A0-4BE9-8FF3-0B6E4AFAE8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3F79F-ABD9-4F69-A0A3-C37F2CA919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C15FB-10F7-4D5B-939D-008A15C7CC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666D7-69EB-49A2-92EC-9FFF3B0AB9A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75C14-B950-43AF-952E-3FDCFB25C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6B904-6AEB-4A4D-965C-AA8522B66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1BCEC-7508-46EE-869D-E0CFEFC1D9D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3DCC1-B6DA-42DD-BD4E-D77AFF48E0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BD5EC-F7D7-4693-95FB-3806306D4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1162A-0C88-4D03-9F6E-8A2FFB0F7DA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493AD-1DB3-49D9-8FC0-D308098B79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DB6B-77E4-4D42-8047-080037EF8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7689-00EF-4C02-92A3-B4D4E17B5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0B11-7628-4F80-A37F-AB1B86FC2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874E-C497-4ABF-8A84-7D7CF272E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78BE8-1ED3-4531-A3F9-70DF539CC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F7F9B-6BB0-498A-884B-01FF15F3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C6D8F-018B-4115-A646-413D3BAD9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DA0DF-36CD-4911-A5B9-65DFD721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D6987-B8A3-4AF3-8976-A6DEA2FFC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CAA19-643E-45C8-B6FB-81E9D8970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B3803-C7E5-40DE-B9BB-23D37D04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757B-DD67-43C4-8D59-B7469BC0B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09A79-3DF8-43E7-999E-B753764B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B8BEA-5E4D-465D-A152-6A8A0302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11569-CF39-41DF-AE9A-3ACB08DFF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B031F-AE3B-498A-A563-161782F42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D0261-F047-482B-BBA3-CBA20A737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E3BAE-43E9-428C-BE0F-8337A22B3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14F64-6CCD-4F47-9932-173264E9C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4AF4A-B841-4366-B6C2-D921ABD85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D9656-57CF-4298-AEE6-888EFB8BD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B8B0A-BC4B-49E4-ACB1-E91473430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E5C7-1CCA-41AB-9B0C-1635874C9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710A2-E49B-4C45-8B41-5D7B794E4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43002-2C5A-432C-BCCF-216A19AF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B8C30-F486-44A4-9178-C1CD88A3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50A40-EF92-46B8-A32B-B689F8AF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53C02-CFB1-4FED-88B0-1E99ACDE5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FF66B-9F8D-41E8-8316-C3C0E1381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50236-C39A-4DEE-8D4D-05B6A2F40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E498-4895-4FEF-B563-8CDB0FFEC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5D67-3147-4A9C-B4DA-919D099B5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38F4-6A86-4675-A433-B48321DFB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E3B8-09C9-42EA-9A32-54410843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81D3-C39C-4F78-989F-2B1BFAAE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1A9F-EA03-496B-9DB4-02F581CC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86951-34A4-419C-9449-56F9A72B4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70813-0C98-4A14-BC87-94F7C845D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25B7A-941E-4583-8526-998403DEDA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0440" y="228240"/>
            <a:ext cx="87631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Calibri"/>
                <a:ea typeface="Calibri"/>
              </a:rPr>
              <a:t>Black Holes, Firewalls, and the Complexity of States and Unitaries</a:t>
            </a:r>
            <a:endParaRPr b="1" lang="en-US" sz="45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52280" y="5409720"/>
            <a:ext cx="883944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Scott Aaronson (M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Papers and slides at www.scottaaronso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612720" y="2322360"/>
            <a:ext cx="3657600" cy="26892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http://www.physics.ntua.gr/~lpapa/images/black_hole.jpg"/>
          <p:cNvPicPr/>
          <p:nvPr/>
        </p:nvPicPr>
        <p:blipFill>
          <a:blip r:embed="rId2"/>
          <a:stretch/>
        </p:blipFill>
        <p:spPr>
          <a:xfrm>
            <a:off x="4876920" y="2268360"/>
            <a:ext cx="38224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41"/>
          <p:cNvSpPr/>
          <p:nvPr/>
        </p:nvSpPr>
        <p:spPr>
          <a:xfrm>
            <a:off x="533520" y="2362320"/>
            <a:ext cx="8305560" cy="40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Problem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hat would require waiting until the black hole was fully evaporated 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  <a:ea typeface="Arial"/>
              </a:rPr>
              <a:t>(</a:t>
            </a:r>
            <a:r>
              <a:rPr b="0" lang="en-US" sz="2400" spc="-1" strike="noStrike">
                <a:solidFill>
                  <a:srgbClr val="00b05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  <a:ea typeface="Arial"/>
              </a:rPr>
              <a:t> no more firewall probl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hen the BH is “merely” &gt;50% evaporated, we know from a dimension-counting argument that “generically,” there will exist a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hat distills an EPR pair between R and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ut interestingly, this argument doesn’t suggest any </a:t>
            </a:r>
            <a:r>
              <a:rPr b="1" lang="en-US" sz="2800" spc="-1" strike="noStrike">
                <a:solidFill>
                  <a:srgbClr val="00b050"/>
                </a:solidFill>
                <a:latin typeface="Calibri"/>
                <a:ea typeface="Arial"/>
              </a:rPr>
              <a:t>efficient procedur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o find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r apply i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316080" y="3808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Isn’t the Decoding Task Trivi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1"/>
          <p:cNvSpPr/>
          <p:nvPr/>
        </p:nvSpPr>
        <p:spPr>
          <a:xfrm>
            <a:off x="533520" y="13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Just invert C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41"/>
          <p:cNvSpPr/>
          <p:nvPr/>
        </p:nvSpPr>
        <p:spPr>
          <a:xfrm>
            <a:off x="380880" y="1295280"/>
            <a:ext cx="8534520" cy="52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Set Equality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two efficiently-computable injective functions f,g: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p(n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.  Promised that Range(f) and Range(g) are either equal or disjoint.  Decide whi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n the “black-box” setting, this problem take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/7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 time even with a quantum computer </a:t>
            </a:r>
            <a:r>
              <a:rPr b="1" lang="en-US" sz="2400" spc="-1" strike="noStrike">
                <a:solidFill>
                  <a:srgbClr val="008000"/>
                </a:solidFill>
                <a:latin typeface="Calibri"/>
                <a:ea typeface="Arial"/>
              </a:rPr>
              <a:t>(slight variant of the “collision lower bound” I proved in 2002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.  Even in non-black-box setting, would let us solve e.g. Graph Isomorph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Theorem (Harlow-Hayden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uppose there’s a polynomial-time quantum algorithm for HH decoding.  Then there’s also a polynomial-time quantum algorithm for Set Equalit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"/>
          <p:cNvSpPr/>
          <p:nvPr/>
        </p:nvSpPr>
        <p:spPr>
          <a:xfrm>
            <a:off x="316080" y="3808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The HH Hardness 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41"/>
          <p:cNvSpPr/>
          <p:nvPr/>
        </p:nvSpPr>
        <p:spPr>
          <a:xfrm>
            <a:off x="325440" y="2514600"/>
            <a:ext cx="858996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Intuition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f Range(f) and Range(g) are disjoint, then the H register decoheres all entanglement between R and B, leaving only classical corre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f, on the other hand, Range(f)=Range(g), then there’s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som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permutation of the |x,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tates that puts the last qubit of R into an EPR pair with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us, if we had a reliable way to distill EPR pairs whenever possible, then we could also decide Set E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"/>
          <p:cNvSpPr/>
          <p:nvPr/>
        </p:nvSpPr>
        <p:spPr>
          <a:xfrm>
            <a:off x="330120" y="22860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The HH Co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1"/>
              <p:cNvSpPr txBox="1"/>
              <p:nvPr/>
            </p:nvSpPr>
            <p:spPr>
              <a:xfrm>
                <a:off x="325440" y="1030320"/>
                <a:ext cx="854388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ψ</m:t>
                    </m:r>
                    <m:sSub>
                      <m:e>
                        <m:r>
                          <m:t xml:space="preserve">⟩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B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rad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0</m:t>
                            </m:r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1</m:t>
                            </m:r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g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2" name="Subtitle 4"/>
          <p:cNvSpPr/>
          <p:nvPr/>
        </p:nvSpPr>
        <p:spPr>
          <a:xfrm>
            <a:off x="2720880" y="1905120"/>
            <a:ext cx="6172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alibri"/>
                <a:ea typeface="Calibri"/>
              </a:rPr>
              <a:t>(easy to prepare in poly(n) time given f,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0" y="228600"/>
            <a:ext cx="91440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Calibri"/>
                <a:ea typeface="Arial"/>
              </a:rPr>
              <a:t>My strengthening: Harlow-Hayden decoding is as hard as inverting an arbitrary one-way fun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1"/>
              <p:cNvSpPr txBox="1"/>
              <p:nvPr/>
            </p:nvSpPr>
            <p:spPr>
              <a:xfrm>
                <a:off x="174600" y="1366920"/>
                <a:ext cx="879480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ψ</m:t>
                    </m:r>
                    <m:sSub>
                      <m:e>
                        <m:r>
                          <m:t xml:space="preserve">⟩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B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rad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sub>
                      <m:sup/>
                      <m:e>
                        <m:r>
                          <m:t xml:space="preserve">|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sSub>
                          <m:e>
                            <m:r>
                              <m:t xml:space="preserve">⟩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|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t xml:space="preserve">s</m:t>
                            </m:r>
                          </m:e>
                        </m:d>
                        <m:r>
                          <m:t xml:space="preserve">⊕</m:t>
                        </m:r>
                        <m:r>
                          <m:t xml:space="preserve">a</m:t>
                        </m:r>
                        <m:sSub>
                          <m:e>
                            <m:r>
                              <m:t xml:space="preserve">⟩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sSub>
                          <m:e>
                            <m:r>
                              <m:t xml:space="preserve">⟩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5" name="Rectangle 41"/>
          <p:cNvSpPr/>
          <p:nvPr/>
        </p:nvSpPr>
        <p:spPr>
          <a:xfrm>
            <a:off x="295200" y="3276720"/>
            <a:ext cx="8589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 is maximally entangled with R.  But in order to see that B and R are even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classically correlat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one would need to learn 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 (a “hardcore bit” of f), and therefore invert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"/>
          <p:cNvSpPr/>
          <p:nvPr/>
        </p:nvSpPr>
        <p:spPr>
          <a:xfrm>
            <a:off x="2590920" y="5105520"/>
            <a:ext cx="5867280" cy="1373760"/>
          </a:xfrm>
          <a:prstGeom prst="rect">
            <a:avLst/>
          </a:prstGeom>
          <a:solidFill>
            <a:srgbClr val="ffe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s computational intractability the only “armor” protecting the geometry of spacetime inside the black ho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1"/>
          <p:cNvSpPr/>
          <p:nvPr/>
        </p:nvSpPr>
        <p:spPr>
          <a:xfrm>
            <a:off x="316080" y="2631960"/>
            <a:ext cx="85899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Arial"/>
              </a:rPr>
              <a:t>R: “old” Hawking photons / B: photons just coming out / H: still in black ho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0" y="76320"/>
            <a:ext cx="9144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alibri"/>
                <a:ea typeface="Arial"/>
              </a:rPr>
              <a:t>Quantum Circuit Complexity and Wormholes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Calibri"/>
                <a:ea typeface="Arial"/>
              </a:rPr>
              <a:t>[A.-Susskind, in progress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1"/>
          <p:cNvSpPr/>
          <p:nvPr/>
        </p:nvSpPr>
        <p:spPr>
          <a:xfrm>
            <a:off x="285840" y="1162080"/>
            <a:ext cx="6038640" cy="22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The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AdS/CFT correspondenc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relates anti-deSitter quantum gravity in D spacetime dimensions to conformal field theories (without gravity) in D-1 dimen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But the mapping is extremely nonlocal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http://www.askamathematician.com/wp-content/uploads/2011/12/wormhole.jpg"/>
          <p:cNvPicPr/>
          <p:nvPr/>
        </p:nvPicPr>
        <p:blipFill>
          <a:blip r:embed="rId1"/>
          <a:stretch/>
        </p:blipFill>
        <p:spPr>
          <a:xfrm>
            <a:off x="6553080" y="1293840"/>
            <a:ext cx="2162160" cy="185904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41"/>
          <p:cNvSpPr/>
          <p:nvPr/>
        </p:nvSpPr>
        <p:spPr>
          <a:xfrm>
            <a:off x="255600" y="3581280"/>
            <a:ext cx="82771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It was recently found that an expanding wormhole, on the AdS side, maps to a collection of qubits on the CFT side that just seems to get more and more “complex”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1"/>
              <p:cNvSpPr txBox="1"/>
              <p:nvPr/>
            </p:nvSpPr>
            <p:spPr>
              <a:xfrm>
                <a:off x="1687680" y="4873680"/>
                <a:ext cx="5413320" cy="15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⟩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⊗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|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</m:t>
                                </m:r>
                                <m:r>
                                  <m:t xml:space="preserve">⟩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|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  <m:r>
                                  <m:t xml:space="preserve">⟩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⊗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1"/>
          <p:cNvSpPr/>
          <p:nvPr/>
        </p:nvSpPr>
        <p:spPr>
          <a:xfrm>
            <a:off x="393840" y="5791320"/>
            <a:ext cx="8288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But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doe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C(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) actually increase like this, for natural scrambling dynamics U?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"/>
          <p:cNvSpPr/>
          <p:nvPr/>
        </p:nvSpPr>
        <p:spPr>
          <a:xfrm>
            <a:off x="423720" y="1531800"/>
            <a:ext cx="8574120" cy="17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Susskind’s Proposal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The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quantum circuit complexit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C(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)—that is, the number of gates in the smallest circuit that prepares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from |0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2200" spc="-1" strike="noStrike">
                <a:solidFill>
                  <a:srgbClr val="ff00ff"/>
                </a:solidFill>
                <a:latin typeface="Calibri"/>
                <a:ea typeface="Arial"/>
              </a:rPr>
              <a:t>(Not clear if it’s right, but has survived some nontrivial tes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"/>
          <p:cNvSpPr/>
          <p:nvPr/>
        </p:nvSpPr>
        <p:spPr>
          <a:xfrm>
            <a:off x="423720" y="468360"/>
            <a:ext cx="83059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Question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What function of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can we point to on the CFT side, that’s “dual” to wormhole length on the AdS sid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18"/>
          <p:cNvGrpSpPr/>
          <p:nvPr/>
        </p:nvGrpSpPr>
        <p:grpSpPr>
          <a:xfrm>
            <a:off x="1447920" y="3449520"/>
            <a:ext cx="5586120" cy="2309040"/>
            <a:chOff x="1447920" y="3449520"/>
            <a:chExt cx="5586120" cy="2309040"/>
          </a:xfrm>
        </p:grpSpPr>
        <p:sp>
          <p:nvSpPr>
            <p:cNvPr id="207" name="Straight Connector 2"/>
            <p:cNvSpPr/>
            <p:nvPr/>
          </p:nvSpPr>
          <p:spPr>
            <a:xfrm>
              <a:off x="2575800" y="3668400"/>
              <a:ext cx="0" cy="1600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Straight Connector 12"/>
            <p:cNvSpPr/>
            <p:nvPr/>
          </p:nvSpPr>
          <p:spPr>
            <a:xfrm flipH="1">
              <a:off x="2575440" y="5268600"/>
              <a:ext cx="4419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41"/>
            <p:cNvSpPr/>
            <p:nvPr/>
          </p:nvSpPr>
          <p:spPr>
            <a:xfrm>
              <a:off x="3261600" y="5268600"/>
              <a:ext cx="1295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ime t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41"/>
            <p:cNvSpPr/>
            <p:nvPr/>
          </p:nvSpPr>
          <p:spPr>
            <a:xfrm>
              <a:off x="1447920" y="4125600"/>
              <a:ext cx="122652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C(|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Calibri"/>
                  <a:ea typeface="Arial"/>
                </a:rPr>
                <a:t>t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2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Straight Connector 17"/>
            <p:cNvSpPr/>
            <p:nvPr/>
          </p:nvSpPr>
          <p:spPr>
            <a:xfrm flipH="1">
              <a:off x="2575800" y="3806640"/>
              <a:ext cx="2437920" cy="146196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41"/>
            <p:cNvSpPr/>
            <p:nvPr/>
          </p:nvSpPr>
          <p:spPr>
            <a:xfrm>
              <a:off x="4723200" y="5268600"/>
              <a:ext cx="514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2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Calibri"/>
                  <a:ea typeface="Arial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41"/>
            <p:cNvSpPr/>
            <p:nvPr/>
          </p:nvSpPr>
          <p:spPr>
            <a:xfrm>
              <a:off x="2423520" y="5268600"/>
              <a:ext cx="514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0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41"/>
            <p:cNvSpPr/>
            <p:nvPr/>
          </p:nvSpPr>
          <p:spPr>
            <a:xfrm>
              <a:off x="2166120" y="4925160"/>
              <a:ext cx="514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0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41"/>
            <p:cNvSpPr/>
            <p:nvPr/>
          </p:nvSpPr>
          <p:spPr>
            <a:xfrm>
              <a:off x="2061000" y="3449520"/>
              <a:ext cx="514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2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Calibri"/>
                  <a:ea typeface="Arial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3"/>
            <p:cNvSpPr/>
            <p:nvPr/>
          </p:nvSpPr>
          <p:spPr>
            <a:xfrm>
              <a:off x="4984200" y="3695760"/>
              <a:ext cx="2049840" cy="271080"/>
            </a:xfrm>
            <a:custGeom>
              <a:avLst/>
              <a:gdLst/>
              <a:ahLst/>
              <a:rect l="l" t="t" r="r" b="b"/>
              <a:pathLst>
                <a:path w="2049864" h="271306">
                  <a:moveTo>
                    <a:pt x="0" y="110532"/>
                  </a:moveTo>
                  <a:cubicBezTo>
                    <a:pt x="36844" y="107183"/>
                    <a:pt x="73861" y="105373"/>
                    <a:pt x="110532" y="100484"/>
                  </a:cubicBezTo>
                  <a:cubicBezTo>
                    <a:pt x="124221" y="98659"/>
                    <a:pt x="136984" y="89062"/>
                    <a:pt x="150725" y="90436"/>
                  </a:cubicBezTo>
                  <a:cubicBezTo>
                    <a:pt x="171804" y="92544"/>
                    <a:pt x="190918" y="103833"/>
                    <a:pt x="211015" y="110532"/>
                  </a:cubicBezTo>
                  <a:cubicBezTo>
                    <a:pt x="212153" y="113945"/>
                    <a:pt x="229703" y="175405"/>
                    <a:pt x="241160" y="170822"/>
                  </a:cubicBezTo>
                  <a:cubicBezTo>
                    <a:pt x="259293" y="163569"/>
                    <a:pt x="262571" y="138049"/>
                    <a:pt x="271305" y="120581"/>
                  </a:cubicBezTo>
                  <a:cubicBezTo>
                    <a:pt x="320469" y="22254"/>
                    <a:pt x="264938" y="110034"/>
                    <a:pt x="311499" y="40194"/>
                  </a:cubicBezTo>
                  <a:cubicBezTo>
                    <a:pt x="338295" y="60291"/>
                    <a:pt x="368202" y="76800"/>
                    <a:pt x="391886" y="100484"/>
                  </a:cubicBezTo>
                  <a:lnTo>
                    <a:pt x="452176" y="160774"/>
                  </a:lnTo>
                  <a:cubicBezTo>
                    <a:pt x="462224" y="170822"/>
                    <a:pt x="470953" y="182393"/>
                    <a:pt x="482321" y="190919"/>
                  </a:cubicBezTo>
                  <a:cubicBezTo>
                    <a:pt x="495719" y="200967"/>
                    <a:pt x="509799" y="210165"/>
                    <a:pt x="522514" y="221064"/>
                  </a:cubicBezTo>
                  <a:cubicBezTo>
                    <a:pt x="590212" y="279091"/>
                    <a:pt x="516178" y="226888"/>
                    <a:pt x="582804" y="271306"/>
                  </a:cubicBezTo>
                  <a:cubicBezTo>
                    <a:pt x="586154" y="251209"/>
                    <a:pt x="579224" y="226160"/>
                    <a:pt x="592853" y="211016"/>
                  </a:cubicBezTo>
                  <a:cubicBezTo>
                    <a:pt x="699634" y="92371"/>
                    <a:pt x="644451" y="241980"/>
                    <a:pt x="733530" y="130629"/>
                  </a:cubicBezTo>
                  <a:cubicBezTo>
                    <a:pt x="822793" y="19048"/>
                    <a:pt x="783585" y="60476"/>
                    <a:pt x="844061" y="0"/>
                  </a:cubicBezTo>
                  <a:cubicBezTo>
                    <a:pt x="857459" y="16747"/>
                    <a:pt x="873839" y="31494"/>
                    <a:pt x="884255" y="50242"/>
                  </a:cubicBezTo>
                  <a:cubicBezTo>
                    <a:pt x="890962" y="62314"/>
                    <a:pt x="888863" y="77742"/>
                    <a:pt x="894303" y="90436"/>
                  </a:cubicBezTo>
                  <a:cubicBezTo>
                    <a:pt x="901717" y="107736"/>
                    <a:pt x="930060" y="141069"/>
                    <a:pt x="944545" y="150726"/>
                  </a:cubicBezTo>
                  <a:cubicBezTo>
                    <a:pt x="953358" y="156601"/>
                    <a:pt x="964642" y="157425"/>
                    <a:pt x="974690" y="160774"/>
                  </a:cubicBezTo>
                  <a:cubicBezTo>
                    <a:pt x="1014463" y="187290"/>
                    <a:pt x="1014749" y="198540"/>
                    <a:pt x="1075174" y="160774"/>
                  </a:cubicBezTo>
                  <a:cubicBezTo>
                    <a:pt x="1084156" y="155160"/>
                    <a:pt x="1079967" y="139825"/>
                    <a:pt x="1085222" y="130629"/>
                  </a:cubicBezTo>
                  <a:cubicBezTo>
                    <a:pt x="1093531" y="116088"/>
                    <a:pt x="1105633" y="104064"/>
                    <a:pt x="1115367" y="90436"/>
                  </a:cubicBezTo>
                  <a:cubicBezTo>
                    <a:pt x="1122387" y="80609"/>
                    <a:pt x="1126924" y="68830"/>
                    <a:pt x="1135464" y="60290"/>
                  </a:cubicBezTo>
                  <a:cubicBezTo>
                    <a:pt x="1144003" y="51751"/>
                    <a:pt x="1155561" y="46893"/>
                    <a:pt x="1165609" y="40194"/>
                  </a:cubicBezTo>
                  <a:cubicBezTo>
                    <a:pt x="1185706" y="43543"/>
                    <a:pt x="1207281" y="41967"/>
                    <a:pt x="1225899" y="50242"/>
                  </a:cubicBezTo>
                  <a:cubicBezTo>
                    <a:pt x="1277693" y="73261"/>
                    <a:pt x="1241049" y="83016"/>
                    <a:pt x="1266092" y="120581"/>
                  </a:cubicBezTo>
                  <a:cubicBezTo>
                    <a:pt x="1272791" y="130629"/>
                    <a:pt x="1286189" y="133978"/>
                    <a:pt x="1296237" y="140677"/>
                  </a:cubicBezTo>
                  <a:cubicBezTo>
                    <a:pt x="1299587" y="150725"/>
                    <a:pt x="1295776" y="169508"/>
                    <a:pt x="1306286" y="170822"/>
                  </a:cubicBezTo>
                  <a:cubicBezTo>
                    <a:pt x="1314657" y="171868"/>
                    <a:pt x="1384832" y="147990"/>
                    <a:pt x="1406769" y="140677"/>
                  </a:cubicBezTo>
                  <a:cubicBezTo>
                    <a:pt x="1420167" y="130629"/>
                    <a:pt x="1431984" y="118022"/>
                    <a:pt x="1446963" y="110532"/>
                  </a:cubicBezTo>
                  <a:cubicBezTo>
                    <a:pt x="1465910" y="101059"/>
                    <a:pt x="1487156" y="97135"/>
                    <a:pt x="1507253" y="90436"/>
                  </a:cubicBezTo>
                  <a:lnTo>
                    <a:pt x="1567543" y="70339"/>
                  </a:lnTo>
                  <a:cubicBezTo>
                    <a:pt x="1577591" y="66989"/>
                    <a:pt x="1587412" y="62859"/>
                    <a:pt x="1597688" y="60290"/>
                  </a:cubicBezTo>
                  <a:lnTo>
                    <a:pt x="1637881" y="50242"/>
                  </a:lnTo>
                  <a:cubicBezTo>
                    <a:pt x="1671844" y="58732"/>
                    <a:pt x="1688908" y="55674"/>
                    <a:pt x="1708220" y="90436"/>
                  </a:cubicBezTo>
                  <a:cubicBezTo>
                    <a:pt x="1718508" y="108954"/>
                    <a:pt x="1721617" y="130629"/>
                    <a:pt x="1728316" y="150726"/>
                  </a:cubicBezTo>
                  <a:cubicBezTo>
                    <a:pt x="1731665" y="160774"/>
                    <a:pt x="1729552" y="174996"/>
                    <a:pt x="1738365" y="180871"/>
                  </a:cubicBezTo>
                  <a:lnTo>
                    <a:pt x="1768510" y="200967"/>
                  </a:lnTo>
                  <a:cubicBezTo>
                    <a:pt x="1788607" y="187569"/>
                    <a:pt x="1805886" y="168412"/>
                    <a:pt x="1828800" y="160774"/>
                  </a:cubicBezTo>
                  <a:cubicBezTo>
                    <a:pt x="1838848" y="157425"/>
                    <a:pt x="1849210" y="154898"/>
                    <a:pt x="1858945" y="150726"/>
                  </a:cubicBezTo>
                  <a:cubicBezTo>
                    <a:pt x="1872713" y="144825"/>
                    <a:pt x="1885113" y="135889"/>
                    <a:pt x="1899138" y="130629"/>
                  </a:cubicBezTo>
                  <a:cubicBezTo>
                    <a:pt x="1912069" y="125780"/>
                    <a:pt x="1925934" y="123930"/>
                    <a:pt x="1939332" y="120581"/>
                  </a:cubicBezTo>
                  <a:cubicBezTo>
                    <a:pt x="1959429" y="127280"/>
                    <a:pt x="1979071" y="135539"/>
                    <a:pt x="1999622" y="140677"/>
                  </a:cubicBezTo>
                  <a:cubicBezTo>
                    <a:pt x="2013020" y="144027"/>
                    <a:pt x="2027973" y="143621"/>
                    <a:pt x="2039815" y="150726"/>
                  </a:cubicBezTo>
                  <a:cubicBezTo>
                    <a:pt x="2046237" y="154579"/>
                    <a:pt x="2046514" y="164123"/>
                    <a:pt x="2049864" y="170822"/>
                  </a:cubicBezTo>
                </a:path>
              </a:pathLst>
            </a:custGeom>
            <a:noFill/>
            <a:ln w="1908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1"/>
          <p:cNvSpPr/>
          <p:nvPr/>
        </p:nvSpPr>
        <p:spPr>
          <a:xfrm>
            <a:off x="330120" y="304920"/>
            <a:ext cx="8286840" cy="21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Theore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Suppose U implements (say) a computationally-universal, reversible cellular automaton.  Then after t=exp(n) iterations, C(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) is superpolynomial in n, unless something very unlikely happens with complexity classes (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Arial"/>
              </a:rPr>
              <a:t>PSPACE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Arial"/>
              </a:rPr>
              <a:t>PP/pol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1"/>
          <p:cNvSpPr/>
          <p:nvPr/>
        </p:nvSpPr>
        <p:spPr>
          <a:xfrm>
            <a:off x="343080" y="2577960"/>
            <a:ext cx="8288280" cy="19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Proof Sketch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I proved in 2004 that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Arial"/>
              </a:rPr>
              <a:t>P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=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Arial"/>
              </a:rPr>
              <a:t>PostBQ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Suppose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C(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)=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O(1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.  Then we could give a description of C as advice to a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Arial"/>
              </a:rPr>
              <a:t>PostBQ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machine, and the machine could efficiently prep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1"/>
              <p:cNvSpPr txBox="1"/>
              <p:nvPr/>
            </p:nvSpPr>
            <p:spPr>
              <a:xfrm>
                <a:off x="3200400" y="4038480"/>
                <a:ext cx="5097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⟩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  <m:sup/>
                      <m:e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⟩</m:t>
                        </m:r>
                      </m:e>
                    </m:nary>
                    <m:r>
                      <m:t xml:space="preserve">⊗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0" name="Rectangle 41"/>
          <p:cNvSpPr/>
          <p:nvPr/>
        </p:nvSpPr>
        <p:spPr>
          <a:xfrm>
            <a:off x="343080" y="5410080"/>
            <a:ext cx="8496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The machine could then measure the first register, postselect on some |x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of interest, then measure the second register to learn U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|x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—thereby solving a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Arial"/>
              </a:rPr>
              <a:t>PSPAC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-complete problem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1"/>
          <p:cNvSpPr/>
          <p:nvPr/>
        </p:nvSpPr>
        <p:spPr>
          <a:xfrm>
            <a:off x="1219320" y="3733920"/>
            <a:ext cx="6172200" cy="206784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Also have results for approximate circuit complexity, C(|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exp(n), and mo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Note that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some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complexity assumption must be made to lower-bound C(|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920" y="3589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Calibri"/>
              </a:rPr>
              <a:t>Public-Key Quantum Money</a:t>
            </a:r>
            <a:br>
              <a:rPr sz="4800"/>
            </a:b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Another area where one needs to argue certain quantum states are hard to prepare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3" name="Rectangle 10"/>
          <p:cNvSpPr/>
          <p:nvPr/>
        </p:nvSpPr>
        <p:spPr>
          <a:xfrm>
            <a:off x="5791320" y="1270080"/>
            <a:ext cx="289548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1"/>
          <p:cNvSpPr/>
          <p:nvPr/>
        </p:nvSpPr>
        <p:spPr>
          <a:xfrm>
            <a:off x="5791320" y="3327480"/>
            <a:ext cx="2895480" cy="83808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3"/>
          <p:cNvSpPr/>
          <p:nvPr/>
        </p:nvSpPr>
        <p:spPr>
          <a:xfrm rot="16200000">
            <a:off x="4762440" y="2298240"/>
            <a:ext cx="2895480" cy="83808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5"/>
          <p:cNvSpPr/>
          <p:nvPr/>
        </p:nvSpPr>
        <p:spPr>
          <a:xfrm>
            <a:off x="5791320" y="142236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r>
              <a:rPr b="1" lang="en-US" sz="44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6"/>
          <p:cNvSpPr/>
          <p:nvPr/>
        </p:nvSpPr>
        <p:spPr>
          <a:xfrm>
            <a:off x="7848720" y="33274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39"/>
          <p:cNvGrpSpPr/>
          <p:nvPr/>
        </p:nvGrpSpPr>
        <p:grpSpPr>
          <a:xfrm>
            <a:off x="457200" y="2600280"/>
            <a:ext cx="4876920" cy="2133720"/>
            <a:chOff x="457200" y="2600280"/>
            <a:chExt cx="4876920" cy="2133720"/>
          </a:xfrm>
        </p:grpSpPr>
        <p:pic>
          <p:nvPicPr>
            <p:cNvPr id="229" name="Picture 2" descr=""/>
            <p:cNvPicPr/>
            <p:nvPr/>
          </p:nvPicPr>
          <p:blipFill>
            <a:blip r:embed="rId1">
              <a:lum bright="30000"/>
            </a:blip>
            <a:stretch/>
          </p:blipFill>
          <p:spPr>
            <a:xfrm>
              <a:off x="457200" y="2600280"/>
              <a:ext cx="4876920" cy="21337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30" name="Straight Arrow Connector 25"/>
            <p:cNvCxnSpPr/>
            <p:nvPr/>
          </p:nvCxnSpPr>
          <p:spPr>
            <a:xfrm flipV="1">
              <a:off x="1981080" y="3168360"/>
              <a:ext cx="457920" cy="35604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arrow" w="med"/>
            </a:ln>
          </p:spPr>
        </p:cxnSp>
        <p:cxnSp>
          <p:nvCxnSpPr>
            <p:cNvPr id="231" name="Straight Arrow Connector 26"/>
            <p:cNvCxnSpPr/>
            <p:nvPr/>
          </p:nvCxnSpPr>
          <p:spPr>
            <a:xfrm flipH="1" flipV="1">
              <a:off x="2666520" y="3168360"/>
              <a:ext cx="457920" cy="35604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arrow" w="med"/>
            </a:ln>
          </p:spPr>
        </p:cxnSp>
        <p:cxnSp>
          <p:nvCxnSpPr>
            <p:cNvPr id="232" name="Straight Arrow Connector 27"/>
            <p:cNvCxnSpPr/>
            <p:nvPr/>
          </p:nvCxnSpPr>
          <p:spPr>
            <a:xfrm flipH="1" flipV="1">
              <a:off x="3276360" y="3097440"/>
              <a:ext cx="457920" cy="35604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arrow" w="med"/>
            </a:ln>
          </p:spPr>
        </p:cxnSp>
        <p:cxnSp>
          <p:nvCxnSpPr>
            <p:cNvPr id="233" name="Straight Arrow Connector 28"/>
            <p:cNvCxnSpPr/>
            <p:nvPr/>
          </p:nvCxnSpPr>
          <p:spPr>
            <a:xfrm flipV="1">
              <a:off x="4114800" y="3026160"/>
              <a:ext cx="2160" cy="49860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arrow" w="med"/>
            </a:ln>
          </p:spPr>
        </p:cxnSp>
        <p:cxnSp>
          <p:nvCxnSpPr>
            <p:cNvPr id="234" name="Straight Arrow Connector 29"/>
            <p:cNvCxnSpPr/>
            <p:nvPr/>
          </p:nvCxnSpPr>
          <p:spPr>
            <a:xfrm>
              <a:off x="4419360" y="3382560"/>
              <a:ext cx="610200" cy="216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arrow" w="med"/>
            </a:ln>
          </p:spPr>
        </p:cxnSp>
        <p:cxnSp>
          <p:nvCxnSpPr>
            <p:cNvPr id="235" name="Straight Arrow Connector 30"/>
            <p:cNvCxnSpPr/>
            <p:nvPr/>
          </p:nvCxnSpPr>
          <p:spPr>
            <a:xfrm>
              <a:off x="1904760" y="3951720"/>
              <a:ext cx="610200" cy="216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arrow" w="med"/>
            </a:ln>
          </p:spPr>
        </p:cxnSp>
        <p:cxnSp>
          <p:nvCxnSpPr>
            <p:cNvPr id="236" name="Straight Arrow Connector 31"/>
            <p:cNvCxnSpPr/>
            <p:nvPr/>
          </p:nvCxnSpPr>
          <p:spPr>
            <a:xfrm flipV="1">
              <a:off x="2895840" y="3666600"/>
              <a:ext cx="2160" cy="49860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arrow" w="med"/>
            </a:ln>
          </p:spPr>
        </p:cxnSp>
        <p:cxnSp>
          <p:nvCxnSpPr>
            <p:cNvPr id="237" name="Straight Arrow Connector 32"/>
            <p:cNvCxnSpPr/>
            <p:nvPr/>
          </p:nvCxnSpPr>
          <p:spPr>
            <a:xfrm flipV="1">
              <a:off x="3581640" y="3666600"/>
              <a:ext cx="2160" cy="49860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arrow" w="med"/>
            </a:ln>
          </p:spPr>
        </p:cxnSp>
        <p:cxnSp>
          <p:nvCxnSpPr>
            <p:cNvPr id="238" name="Straight Arrow Connector 33"/>
            <p:cNvCxnSpPr/>
            <p:nvPr/>
          </p:nvCxnSpPr>
          <p:spPr>
            <a:xfrm>
              <a:off x="3885840" y="3951720"/>
              <a:ext cx="610200" cy="216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arrow" w="med"/>
            </a:ln>
          </p:spPr>
        </p:cxnSp>
        <p:cxnSp>
          <p:nvCxnSpPr>
            <p:cNvPr id="239" name="Straight Arrow Connector 34"/>
            <p:cNvCxnSpPr/>
            <p:nvPr/>
          </p:nvCxnSpPr>
          <p:spPr>
            <a:xfrm flipH="1" flipV="1">
              <a:off x="4495680" y="3737880"/>
              <a:ext cx="457920" cy="35640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arrow" w="med"/>
            </a:ln>
          </p:spPr>
        </p:cxnSp>
        <p:cxnSp>
          <p:nvCxnSpPr>
            <p:cNvPr id="240" name="Straight Arrow Connector 35"/>
            <p:cNvCxnSpPr/>
            <p:nvPr/>
          </p:nvCxnSpPr>
          <p:spPr>
            <a:xfrm flipH="1" flipV="1">
              <a:off x="1371240" y="3808800"/>
              <a:ext cx="457920" cy="35604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arrow" w="med"/>
            </a:ln>
          </p:spPr>
        </p:cxnSp>
        <p:cxnSp>
          <p:nvCxnSpPr>
            <p:cNvPr id="241" name="Straight Arrow Connector 36"/>
            <p:cNvCxnSpPr/>
            <p:nvPr/>
          </p:nvCxnSpPr>
          <p:spPr>
            <a:xfrm flipV="1">
              <a:off x="761760" y="3808800"/>
              <a:ext cx="457920" cy="35604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arrow" w="med"/>
            </a:ln>
          </p:spPr>
        </p:cxnSp>
      </p:grpSp>
      <p:cxnSp>
        <p:nvCxnSpPr>
          <p:cNvPr id="242" name="Straight Arrow Connector 27"/>
          <p:cNvCxnSpPr/>
          <p:nvPr/>
        </p:nvCxnSpPr>
        <p:spPr>
          <a:xfrm flipV="1">
            <a:off x="1676520" y="2980800"/>
            <a:ext cx="2160" cy="534240"/>
          </a:xfrm>
          <a:prstGeom prst="straightConnector1">
            <a:avLst/>
          </a:prstGeom>
          <a:ln w="63360">
            <a:solidFill>
              <a:srgbClr val="ff3300"/>
            </a:solidFill>
            <a:miter/>
            <a:tailEnd len="med" type="arrow" w="med"/>
          </a:ln>
        </p:spPr>
      </p:cxnSp>
      <p:cxnSp>
        <p:nvCxnSpPr>
          <p:cNvPr id="243" name="Straight Arrow Connector 28"/>
          <p:cNvCxnSpPr/>
          <p:nvPr/>
        </p:nvCxnSpPr>
        <p:spPr>
          <a:xfrm>
            <a:off x="761760" y="3285720"/>
            <a:ext cx="610200" cy="2520"/>
          </a:xfrm>
          <a:prstGeom prst="straightConnector1">
            <a:avLst/>
          </a:prstGeom>
          <a:ln w="63360">
            <a:solidFill>
              <a:srgbClr val="ff3300"/>
            </a:solidFill>
            <a:miter/>
            <a:tailEnd len="med" type="arrow" w="med"/>
          </a:ln>
        </p:spPr>
      </p:cxnSp>
      <p:grpSp>
        <p:nvGrpSpPr>
          <p:cNvPr id="244" name="Group 47"/>
          <p:cNvGrpSpPr/>
          <p:nvPr/>
        </p:nvGrpSpPr>
        <p:grpSpPr>
          <a:xfrm>
            <a:off x="1468440" y="1143000"/>
            <a:ext cx="2819520" cy="1362240"/>
            <a:chOff x="1468440" y="1143000"/>
            <a:chExt cx="2819520" cy="1362240"/>
          </a:xfrm>
        </p:grpSpPr>
        <p:sp>
          <p:nvSpPr>
            <p:cNvPr id="245" name="Cube 20"/>
            <p:cNvSpPr/>
            <p:nvPr/>
          </p:nvSpPr>
          <p:spPr>
            <a:xfrm>
              <a:off x="2351160" y="1495800"/>
              <a:ext cx="676440" cy="676440"/>
            </a:xfrm>
            <a:prstGeom prst="cube">
              <a:avLst>
                <a:gd name="adj" fmla="val 25000"/>
              </a:avLst>
            </a:prstGeom>
            <a:solidFill>
              <a:srgbClr val="99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6" name="Straight Arrow Connector 23"/>
            <p:cNvCxnSpPr/>
            <p:nvPr/>
          </p:nvCxnSpPr>
          <p:spPr>
            <a:xfrm>
              <a:off x="1909800" y="1848600"/>
              <a:ext cx="4420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arrow" w="lg"/>
            </a:ln>
          </p:spPr>
        </p:cxnSp>
        <mc:AlternateContent>
          <mc:Choice xmlns:a14="http://schemas.microsoft.com/office/drawing/2010/main" Requires="a14">
            <p:sp>
              <p:nvSpPr>
                <p:cNvPr id="247" name="Object 2"/>
                <p:cNvSpPr txBox="1"/>
                <p:nvPr/>
              </p:nvSpPr>
              <p:spPr>
                <a:xfrm>
                  <a:off x="1468440" y="1584000"/>
                  <a:ext cx="476280" cy="50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r>
                        <m:t xml:space="preserve">ψ</m:t>
                      </m:r>
                      <m:r>
                        <m:t xml:space="preserve">⟩</m:t>
                      </m:r>
                    </m:oMath>
                  </a14:m>
                </a:p>
              </p:txBody>
            </p:sp>
          </mc:Choice>
          <mc:Fallback/>
        </mc:AlternateContent>
        <p:cxnSp>
          <p:nvCxnSpPr>
            <p:cNvPr id="248" name="Straight Arrow Connector 26"/>
            <p:cNvCxnSpPr/>
            <p:nvPr/>
          </p:nvCxnSpPr>
          <p:spPr>
            <a:xfrm>
              <a:off x="2998440" y="1848600"/>
              <a:ext cx="4420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arrow" w="lg"/>
            </a:ln>
          </p:spPr>
        </p:cxnSp>
        <mc:AlternateContent>
          <mc:Choice xmlns:a14="http://schemas.microsoft.com/office/drawing/2010/main" Requires="a14">
            <p:sp>
              <p:nvSpPr>
                <p:cNvPr id="249" name="Object 3"/>
                <p:cNvSpPr txBox="1"/>
                <p:nvPr/>
              </p:nvSpPr>
              <p:spPr>
                <a:xfrm>
                  <a:off x="3410280" y="1584000"/>
                  <a:ext cx="877680" cy="50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r>
                        <m:t xml:space="preserve">ψ</m:t>
                      </m:r>
                      <m:r>
                        <m:t xml:space="preserve">⟩</m:t>
                      </m:r>
                      <m:r>
                        <m:t xml:space="preserve">|</m:t>
                      </m:r>
                      <m:r>
                        <m:t xml:space="preserve">ψ</m:t>
                      </m:r>
                      <m:r>
                        <m:t xml:space="preserve">⟩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250" name="Picture 5" descr="C:\Users\od user\AppData\Local\Microsoft\Windows\Temporary Internet Files\Content.IE5\N7YD4WXK\MCj04325380000[1].png"/>
            <p:cNvPicPr/>
            <p:nvPr/>
          </p:nvPicPr>
          <p:blipFill>
            <a:blip r:embed="rId2"/>
            <a:stretch/>
          </p:blipFill>
          <p:spPr>
            <a:xfrm>
              <a:off x="1968480" y="1143000"/>
              <a:ext cx="1382760" cy="1362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1" name="Rectangle 3"/>
          <p:cNvSpPr/>
          <p:nvPr/>
        </p:nvSpPr>
        <p:spPr>
          <a:xfrm>
            <a:off x="5214960" y="4178160"/>
            <a:ext cx="3809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 a scheme proposed by A.-Christiano 2012, each bill contains an equal superposition over a “hidden subspace,” which anyone can measure in two complementary bases to check the bill’s verac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152280" y="4862520"/>
            <a:ext cx="4876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ecause of the No-Cloning Theorem, in principle it’s possible to have “quantum money,” where each bill includes qubits that are physically impossible to counterfeit.  But how to verify a bill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"/>
          <p:cNvSpPr/>
          <p:nvPr/>
        </p:nvSpPr>
        <p:spPr>
          <a:xfrm>
            <a:off x="1562040" y="2260440"/>
            <a:ext cx="6019920" cy="22269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izarre strengthening of my result on Harlow-Hayden decoding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H decoding is hard if there exists a secure quantum money scheme (even private-ke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2"/>
          <p:cNvSpPr/>
          <p:nvPr/>
        </p:nvSpPr>
        <p:spPr>
          <a:xfrm>
            <a:off x="0" y="155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A Favorite Research 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41"/>
          <p:cNvSpPr/>
          <p:nvPr/>
        </p:nvSpPr>
        <p:spPr>
          <a:xfrm>
            <a:off x="380880" y="838080"/>
            <a:ext cx="8589960" cy="32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Understand, more systematically, the quantum circuit complexity of preparing n-qubit states and applying unitary transformations  </a:t>
            </a:r>
            <a:r>
              <a:rPr b="1" lang="en-US" sz="2400" spc="-1" strike="noStrike">
                <a:solidFill>
                  <a:srgbClr val="008000"/>
                </a:solidFill>
                <a:latin typeface="Calibri"/>
                <a:ea typeface="Arial"/>
              </a:rPr>
              <a:t>(“not just for quantum gravity!  also for quantum algorithms, quantum money, and so much more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Example question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or every n-qubit unitary U, is there a Boolean function f such that U can be realized by a polynomial-time quantum algorithm with an oracle for f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41"/>
          <p:cNvSpPr/>
          <p:nvPr/>
        </p:nvSpPr>
        <p:spPr>
          <a:xfrm>
            <a:off x="2066760" y="410364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(I’m giving you any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computation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capability f you could possibly want—but it’s still far from obvious how to get the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physic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capability U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41"/>
          <p:cNvSpPr/>
          <p:nvPr/>
        </p:nvSpPr>
        <p:spPr>
          <a:xfrm>
            <a:off x="361800" y="5338800"/>
            <a:ext cx="8420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Easy to show: For every n-qubit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stat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there’s a Boolean function f such that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an be prepared by a polynomial-time quantum algorithm with an oracle for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2"/>
          <p:cNvSpPr/>
          <p:nvPr/>
        </p:nvSpPr>
        <p:spPr>
          <a:xfrm>
            <a:off x="0" y="11124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  <a:ea typeface="Arial"/>
              </a:rPr>
              <a:t>Summar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41"/>
          <p:cNvSpPr/>
          <p:nvPr/>
        </p:nvSpPr>
        <p:spPr>
          <a:xfrm>
            <a:off x="228600" y="871560"/>
            <a:ext cx="86104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 major challenge is to understand which quantum states can be efficiently prepared, and which unitaries can be efficiently appl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pplications range from quantum money to quantum gravit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C:\Users\Scott\AppData\Local\Microsoft\Windows\Temporary Internet Files\Content.IE5\EKKBWV0B\bridges[1].gif"/>
          <p:cNvPicPr/>
          <p:nvPr/>
        </p:nvPicPr>
        <p:blipFill>
          <a:blip r:embed="rId1"/>
          <a:stretch/>
        </p:blipFill>
        <p:spPr>
          <a:xfrm>
            <a:off x="-152280" y="577800"/>
            <a:ext cx="9372600" cy="70293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2"/>
          <p:cNvSpPr/>
          <p:nvPr/>
        </p:nvSpPr>
        <p:spPr>
          <a:xfrm>
            <a:off x="380880" y="30492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My Starting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"/>
          <p:cNvSpPr/>
          <p:nvPr/>
        </p:nvSpPr>
        <p:spPr>
          <a:xfrm>
            <a:off x="193680" y="1301760"/>
            <a:ext cx="2030400" cy="7034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  <a:ea typeface="Arial"/>
              </a:rPr>
              <a:t>PHYS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6"/>
          <p:cNvSpPr/>
          <p:nvPr/>
        </p:nvSpPr>
        <p:spPr>
          <a:xfrm>
            <a:off x="6705720" y="3429000"/>
            <a:ext cx="2305080" cy="10688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COMPUTER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3060720" y="3030480"/>
            <a:ext cx="2946240" cy="13129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QUANTUM COMPU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4952880" y="1808280"/>
            <a:ext cx="3895920" cy="91656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BOSONS &amp; FERMIONS</a:t>
            </a:r>
            <a:br>
              <a:rPr sz="30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(E.g., BosonSampl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9"/>
          <p:cNvSpPr/>
          <p:nvPr/>
        </p:nvSpPr>
        <p:spPr>
          <a:xfrm>
            <a:off x="357120" y="2523960"/>
            <a:ext cx="2422440" cy="137340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BLACK HOLES, AdS/CFT</a:t>
            </a:r>
            <a:br>
              <a:rPr sz="30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(Today’s tal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0"/>
          <p:cNvSpPr/>
          <p:nvPr/>
        </p:nvSpPr>
        <p:spPr>
          <a:xfrm>
            <a:off x="2768760" y="1486080"/>
            <a:ext cx="1592280" cy="100764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AND MOR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316080" y="380880"/>
            <a:ext cx="8381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Black Holes and Computational Complexity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ubtitle 4"/>
          <p:cNvSpPr/>
          <p:nvPr/>
        </p:nvSpPr>
        <p:spPr>
          <a:xfrm>
            <a:off x="228600" y="4800600"/>
            <a:ext cx="8663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YE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mazing connection made in 2013 by Harlow &amp; Hay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But first, let’s review 40 years of black hole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7" descr="http://www.physics.ntua.gr/~lpapa/images/black_hole.jpg"/>
          <p:cNvPicPr/>
          <p:nvPr/>
        </p:nvPicPr>
        <p:blipFill>
          <a:blip r:embed="rId1"/>
          <a:stretch/>
        </p:blipFill>
        <p:spPr>
          <a:xfrm>
            <a:off x="743040" y="1981080"/>
            <a:ext cx="3506760" cy="2514600"/>
          </a:xfrm>
          <a:prstGeom prst="rect">
            <a:avLst/>
          </a:prstGeom>
          <a:ln w="0">
            <a:noFill/>
          </a:ln>
        </p:spPr>
      </p:pic>
      <p:sp>
        <p:nvSpPr>
          <p:cNvPr id="146" name="Subtitle 4"/>
          <p:cNvSpPr/>
          <p:nvPr/>
        </p:nvSpPr>
        <p:spPr>
          <a:xfrm>
            <a:off x="5489640" y="3149640"/>
            <a:ext cx="105876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Calibri"/>
              </a:rPr>
              <a:t>SZ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ubtitle 4"/>
          <p:cNvSpPr/>
          <p:nvPr/>
        </p:nvSpPr>
        <p:spPr>
          <a:xfrm>
            <a:off x="6686640" y="2560680"/>
            <a:ext cx="105876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Calibri"/>
              </a:rPr>
              <a:t>QSZ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ubtitle 4"/>
          <p:cNvSpPr/>
          <p:nvPr/>
        </p:nvSpPr>
        <p:spPr>
          <a:xfrm>
            <a:off x="5477040" y="4014720"/>
            <a:ext cx="105696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Calibri"/>
              </a:rPr>
              <a:t>B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ubtitle 4"/>
          <p:cNvSpPr/>
          <p:nvPr/>
        </p:nvSpPr>
        <p:spPr>
          <a:xfrm>
            <a:off x="6686640" y="3498840"/>
            <a:ext cx="105876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Calibri"/>
              </a:rPr>
              <a:t>BQ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ubtitle 4"/>
          <p:cNvSpPr/>
          <p:nvPr/>
        </p:nvSpPr>
        <p:spPr>
          <a:xfrm>
            <a:off x="5489640" y="2120760"/>
            <a:ext cx="105876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Calibri"/>
              </a:rPr>
              <a:t>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traight Connector 2"/>
          <p:cNvSpPr/>
          <p:nvPr/>
        </p:nvSpPr>
        <p:spPr>
          <a:xfrm>
            <a:off x="6019920" y="2560680"/>
            <a:ext cx="0" cy="588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traight Connector 13"/>
          <p:cNvSpPr/>
          <p:nvPr/>
        </p:nvSpPr>
        <p:spPr>
          <a:xfrm>
            <a:off x="6005520" y="3597120"/>
            <a:ext cx="0" cy="560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traight Connector 18"/>
          <p:cNvSpPr/>
          <p:nvPr/>
        </p:nvSpPr>
        <p:spPr>
          <a:xfrm>
            <a:off x="7216920" y="3038400"/>
            <a:ext cx="0" cy="558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traight Connector 19"/>
          <p:cNvSpPr/>
          <p:nvPr/>
        </p:nvSpPr>
        <p:spPr>
          <a:xfrm flipH="1">
            <a:off x="6275160" y="2960640"/>
            <a:ext cx="533160" cy="27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21"/>
          <p:cNvSpPr/>
          <p:nvPr/>
        </p:nvSpPr>
        <p:spPr>
          <a:xfrm flipH="1">
            <a:off x="6281640" y="3881520"/>
            <a:ext cx="533520" cy="27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ubtitle 4"/>
          <p:cNvSpPr/>
          <p:nvPr/>
        </p:nvSpPr>
        <p:spPr>
          <a:xfrm>
            <a:off x="6686640" y="1623960"/>
            <a:ext cx="105876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Calibri"/>
              </a:rPr>
              <a:t>Q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7216920" y="2065320"/>
            <a:ext cx="0" cy="587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4"/>
          <p:cNvSpPr/>
          <p:nvPr/>
        </p:nvSpPr>
        <p:spPr>
          <a:xfrm flipH="1">
            <a:off x="6294240" y="1981080"/>
            <a:ext cx="533160" cy="27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ubtitle 4"/>
          <p:cNvSpPr/>
          <p:nvPr/>
        </p:nvSpPr>
        <p:spPr>
          <a:xfrm>
            <a:off x="328680" y="304920"/>
            <a:ext cx="85104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  <a:ea typeface="Calibri"/>
              </a:rPr>
              <a:t>Bekenstein, Hawking 1970s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Black holes have entropy and temperature!  They emit radi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  <a:ea typeface="Calibri"/>
              </a:rPr>
              <a:t>The Information Loss Proble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 Calculations suggest that Hawking radiation is thermal—uncorrelated with whatever fell in.  So, is infalling information lost forever?  Would seem to violate the unitarity / reversibility of Q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OK then, assume the information somehow gets out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  <a:ea typeface="Calibri"/>
              </a:rPr>
              <a:t>The Xeroxing Proble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How could the same qubit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 fall inexorably toward the singularity,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emerge in Hawking radiation?  Would violate the No-Cloning Theor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  <a:ea typeface="Calibri"/>
              </a:rPr>
              <a:t>Black Hole Complementarity (Susskind, ‘t Hooft)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An external observer can describe everything unitarily without including the interior at all!  Interior should be seen as “just a scrambled re-encoding” of the exterior degrees of freed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http://www.spacetelescope.org/static/archives/images/screen/heic0211h.jpg"/>
          <p:cNvPicPr/>
          <p:nvPr/>
        </p:nvPicPr>
        <p:blipFill>
          <a:blip r:embed="rId1"/>
          <a:stretch/>
        </p:blipFill>
        <p:spPr>
          <a:xfrm>
            <a:off x="0" y="-461880"/>
            <a:ext cx="9144000" cy="731988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41"/>
          <p:cNvSpPr/>
          <p:nvPr/>
        </p:nvSpPr>
        <p:spPr>
          <a:xfrm>
            <a:off x="380880" y="5562720"/>
            <a:ext cx="8305920" cy="1007640"/>
          </a:xfrm>
          <a:prstGeom prst="rect">
            <a:avLst/>
          </a:prstGeom>
          <a:solidFill>
            <a:srgbClr val="ffffbb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Violates monogamy of entanglement!  The same qubit can’t be maximally entangled with 2 thin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"/>
          <p:cNvSpPr/>
          <p:nvPr/>
        </p:nvSpPr>
        <p:spPr>
          <a:xfrm>
            <a:off x="228600" y="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Arial"/>
              </a:rPr>
              <a:t>The Firewall Paradox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(AMPS 20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"/>
          <p:cNvSpPr/>
          <p:nvPr/>
        </p:nvSpPr>
        <p:spPr>
          <a:xfrm>
            <a:off x="3352680" y="1981080"/>
            <a:ext cx="2514600" cy="2514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5"/>
          <p:cNvSpPr/>
          <p:nvPr/>
        </p:nvSpPr>
        <p:spPr>
          <a:xfrm>
            <a:off x="2666880" y="1295280"/>
            <a:ext cx="3886200" cy="3886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1"/>
          <p:cNvSpPr/>
          <p:nvPr/>
        </p:nvSpPr>
        <p:spPr>
          <a:xfrm>
            <a:off x="3733920" y="2590920"/>
            <a:ext cx="17524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  <a:ea typeface="Arial"/>
              </a:rPr>
              <a:t>H = Interior of “Old” Black H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1"/>
          <p:cNvSpPr/>
          <p:nvPr/>
        </p:nvSpPr>
        <p:spPr>
          <a:xfrm>
            <a:off x="228600" y="838080"/>
            <a:ext cx="4800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  <a:ea typeface="Arial"/>
              </a:rPr>
              <a:t>R = Faraway Hawking Radi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1"/>
          <p:cNvSpPr/>
          <p:nvPr/>
        </p:nvSpPr>
        <p:spPr>
          <a:xfrm>
            <a:off x="2057400" y="1523880"/>
            <a:ext cx="5334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  <a:ea typeface="Arial"/>
              </a:rPr>
              <a:t>B = Just-Emitted Hawking Radi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16"/>
          <p:cNvSpPr/>
          <p:nvPr/>
        </p:nvSpPr>
        <p:spPr>
          <a:xfrm flipH="1" rot="4500000">
            <a:off x="3800880" y="3408480"/>
            <a:ext cx="304920" cy="1477800"/>
          </a:xfrm>
          <a:custGeom>
            <a:avLst/>
            <a:gdLst>
              <a:gd name="textAreaLeft" fmla="*/ -360 w 304920"/>
              <a:gd name="textAreaRight" fmla="*/ 304920 w 304920"/>
              <a:gd name="textAreaTop" fmla="*/ 0 h 1477800"/>
              <a:gd name="textAreaBottom" fmla="*/ 1478160 h 1477800"/>
            </a:gdLst>
            <a:ahLst/>
            <a:rect l="textAreaLeft" t="textAreaTop" r="textAreaRight" b="textAreaBottom"/>
            <a:pathLst>
              <a:path w="420" h="5644">
                <a:moveTo>
                  <a:pt x="210" y="5631"/>
                </a:moveTo>
                <a:lnTo>
                  <a:pt x="210" y="5644"/>
                </a:lnTo>
                <a:lnTo>
                  <a:pt x="300" y="5612"/>
                </a:lnTo>
                <a:lnTo>
                  <a:pt x="367" y="5533"/>
                </a:lnTo>
                <a:lnTo>
                  <a:pt x="406" y="5419"/>
                </a:lnTo>
                <a:lnTo>
                  <a:pt x="420" y="5292"/>
                </a:lnTo>
                <a:lnTo>
                  <a:pt x="406" y="5162"/>
                </a:lnTo>
                <a:lnTo>
                  <a:pt x="367" y="5050"/>
                </a:lnTo>
                <a:lnTo>
                  <a:pt x="300" y="4970"/>
                </a:lnTo>
                <a:lnTo>
                  <a:pt x="210" y="4941"/>
                </a:lnTo>
                <a:lnTo>
                  <a:pt x="118" y="4909"/>
                </a:lnTo>
                <a:lnTo>
                  <a:pt x="52" y="4830"/>
                </a:lnTo>
                <a:lnTo>
                  <a:pt x="13" y="4716"/>
                </a:lnTo>
                <a:lnTo>
                  <a:pt x="0" y="4588"/>
                </a:lnTo>
                <a:lnTo>
                  <a:pt x="13" y="4458"/>
                </a:lnTo>
                <a:lnTo>
                  <a:pt x="52" y="4344"/>
                </a:lnTo>
                <a:lnTo>
                  <a:pt x="118" y="4264"/>
                </a:lnTo>
                <a:lnTo>
                  <a:pt x="210" y="4235"/>
                </a:lnTo>
                <a:lnTo>
                  <a:pt x="300" y="4203"/>
                </a:lnTo>
                <a:lnTo>
                  <a:pt x="367" y="4124"/>
                </a:lnTo>
                <a:lnTo>
                  <a:pt x="406" y="4010"/>
                </a:lnTo>
                <a:lnTo>
                  <a:pt x="420" y="3883"/>
                </a:lnTo>
                <a:lnTo>
                  <a:pt x="406" y="3753"/>
                </a:lnTo>
                <a:lnTo>
                  <a:pt x="367" y="3641"/>
                </a:lnTo>
                <a:lnTo>
                  <a:pt x="300" y="3561"/>
                </a:lnTo>
                <a:lnTo>
                  <a:pt x="210" y="3532"/>
                </a:lnTo>
                <a:lnTo>
                  <a:pt x="118" y="3500"/>
                </a:lnTo>
                <a:lnTo>
                  <a:pt x="52" y="3421"/>
                </a:lnTo>
                <a:lnTo>
                  <a:pt x="13" y="3307"/>
                </a:lnTo>
                <a:lnTo>
                  <a:pt x="0" y="3180"/>
                </a:lnTo>
                <a:lnTo>
                  <a:pt x="13" y="3050"/>
                </a:lnTo>
                <a:lnTo>
                  <a:pt x="52" y="2938"/>
                </a:lnTo>
                <a:lnTo>
                  <a:pt x="118" y="2857"/>
                </a:lnTo>
                <a:lnTo>
                  <a:pt x="210" y="2829"/>
                </a:lnTo>
                <a:lnTo>
                  <a:pt x="300" y="2796"/>
                </a:lnTo>
                <a:lnTo>
                  <a:pt x="367" y="2718"/>
                </a:lnTo>
                <a:lnTo>
                  <a:pt x="406" y="2604"/>
                </a:lnTo>
                <a:lnTo>
                  <a:pt x="420" y="2475"/>
                </a:lnTo>
                <a:lnTo>
                  <a:pt x="406" y="2345"/>
                </a:lnTo>
                <a:lnTo>
                  <a:pt x="367" y="2233"/>
                </a:lnTo>
                <a:lnTo>
                  <a:pt x="300" y="2153"/>
                </a:lnTo>
                <a:lnTo>
                  <a:pt x="210" y="2124"/>
                </a:lnTo>
                <a:lnTo>
                  <a:pt x="118" y="2092"/>
                </a:lnTo>
                <a:lnTo>
                  <a:pt x="52" y="2013"/>
                </a:lnTo>
                <a:lnTo>
                  <a:pt x="13" y="1899"/>
                </a:lnTo>
                <a:lnTo>
                  <a:pt x="0" y="1772"/>
                </a:lnTo>
                <a:lnTo>
                  <a:pt x="13" y="1642"/>
                </a:lnTo>
                <a:lnTo>
                  <a:pt x="52" y="1530"/>
                </a:lnTo>
                <a:lnTo>
                  <a:pt x="118" y="1450"/>
                </a:lnTo>
                <a:lnTo>
                  <a:pt x="210" y="1421"/>
                </a:lnTo>
                <a:lnTo>
                  <a:pt x="300" y="1389"/>
                </a:lnTo>
                <a:lnTo>
                  <a:pt x="367" y="1310"/>
                </a:lnTo>
                <a:lnTo>
                  <a:pt x="406" y="1196"/>
                </a:lnTo>
                <a:lnTo>
                  <a:pt x="420" y="1069"/>
                </a:lnTo>
                <a:lnTo>
                  <a:pt x="406" y="939"/>
                </a:lnTo>
                <a:lnTo>
                  <a:pt x="367" y="827"/>
                </a:lnTo>
                <a:lnTo>
                  <a:pt x="300" y="747"/>
                </a:lnTo>
                <a:lnTo>
                  <a:pt x="210" y="718"/>
                </a:lnTo>
                <a:lnTo>
                  <a:pt x="118" y="686"/>
                </a:lnTo>
                <a:lnTo>
                  <a:pt x="52" y="607"/>
                </a:lnTo>
                <a:lnTo>
                  <a:pt x="13" y="493"/>
                </a:lnTo>
                <a:lnTo>
                  <a:pt x="0" y="365"/>
                </a:lnTo>
                <a:lnTo>
                  <a:pt x="13" y="235"/>
                </a:lnTo>
                <a:lnTo>
                  <a:pt x="52" y="121"/>
                </a:lnTo>
                <a:lnTo>
                  <a:pt x="118" y="40"/>
                </a:lnTo>
                <a:lnTo>
                  <a:pt x="210" y="12"/>
                </a:lnTo>
                <a:lnTo>
                  <a:pt x="210" y="0"/>
                </a:lnTo>
                <a:lnTo>
                  <a:pt x="118" y="29"/>
                </a:lnTo>
                <a:lnTo>
                  <a:pt x="52" y="110"/>
                </a:lnTo>
                <a:lnTo>
                  <a:pt x="13" y="222"/>
                </a:lnTo>
                <a:lnTo>
                  <a:pt x="0" y="352"/>
                </a:lnTo>
                <a:lnTo>
                  <a:pt x="13" y="479"/>
                </a:lnTo>
                <a:lnTo>
                  <a:pt x="52" y="593"/>
                </a:lnTo>
                <a:lnTo>
                  <a:pt x="118" y="671"/>
                </a:lnTo>
                <a:lnTo>
                  <a:pt x="210" y="703"/>
                </a:lnTo>
                <a:lnTo>
                  <a:pt x="300" y="732"/>
                </a:lnTo>
                <a:lnTo>
                  <a:pt x="367" y="813"/>
                </a:lnTo>
                <a:lnTo>
                  <a:pt x="406" y="925"/>
                </a:lnTo>
                <a:lnTo>
                  <a:pt x="420" y="1055"/>
                </a:lnTo>
                <a:lnTo>
                  <a:pt x="406" y="1183"/>
                </a:lnTo>
                <a:lnTo>
                  <a:pt x="367" y="1297"/>
                </a:lnTo>
                <a:lnTo>
                  <a:pt x="300" y="1376"/>
                </a:lnTo>
                <a:lnTo>
                  <a:pt x="210" y="1408"/>
                </a:lnTo>
                <a:lnTo>
                  <a:pt x="118" y="1437"/>
                </a:lnTo>
                <a:lnTo>
                  <a:pt x="52" y="1517"/>
                </a:lnTo>
                <a:lnTo>
                  <a:pt x="13" y="1630"/>
                </a:lnTo>
                <a:lnTo>
                  <a:pt x="0" y="1760"/>
                </a:lnTo>
                <a:lnTo>
                  <a:pt x="13" y="1886"/>
                </a:lnTo>
                <a:lnTo>
                  <a:pt x="52" y="2000"/>
                </a:lnTo>
                <a:lnTo>
                  <a:pt x="118" y="2079"/>
                </a:lnTo>
                <a:lnTo>
                  <a:pt x="210" y="2111"/>
                </a:lnTo>
                <a:lnTo>
                  <a:pt x="300" y="2140"/>
                </a:lnTo>
                <a:lnTo>
                  <a:pt x="367" y="2220"/>
                </a:lnTo>
                <a:lnTo>
                  <a:pt x="406" y="2333"/>
                </a:lnTo>
                <a:lnTo>
                  <a:pt x="420" y="2463"/>
                </a:lnTo>
                <a:lnTo>
                  <a:pt x="406" y="2591"/>
                </a:lnTo>
                <a:lnTo>
                  <a:pt x="367" y="2705"/>
                </a:lnTo>
                <a:lnTo>
                  <a:pt x="300" y="2784"/>
                </a:lnTo>
                <a:lnTo>
                  <a:pt x="210" y="2816"/>
                </a:lnTo>
                <a:lnTo>
                  <a:pt x="118" y="2845"/>
                </a:lnTo>
                <a:lnTo>
                  <a:pt x="52" y="2925"/>
                </a:lnTo>
                <a:lnTo>
                  <a:pt x="13" y="3037"/>
                </a:lnTo>
                <a:lnTo>
                  <a:pt x="0" y="3167"/>
                </a:lnTo>
                <a:lnTo>
                  <a:pt x="13" y="3296"/>
                </a:lnTo>
                <a:lnTo>
                  <a:pt x="52" y="3410"/>
                </a:lnTo>
                <a:lnTo>
                  <a:pt x="118" y="3488"/>
                </a:lnTo>
                <a:lnTo>
                  <a:pt x="210" y="3520"/>
                </a:lnTo>
                <a:lnTo>
                  <a:pt x="300" y="3549"/>
                </a:lnTo>
                <a:lnTo>
                  <a:pt x="367" y="3630"/>
                </a:lnTo>
                <a:lnTo>
                  <a:pt x="406" y="3742"/>
                </a:lnTo>
                <a:lnTo>
                  <a:pt x="420" y="3872"/>
                </a:lnTo>
                <a:lnTo>
                  <a:pt x="406" y="3999"/>
                </a:lnTo>
                <a:lnTo>
                  <a:pt x="367" y="4113"/>
                </a:lnTo>
                <a:lnTo>
                  <a:pt x="300" y="4191"/>
                </a:lnTo>
                <a:lnTo>
                  <a:pt x="210" y="4223"/>
                </a:lnTo>
                <a:lnTo>
                  <a:pt x="118" y="4252"/>
                </a:lnTo>
                <a:lnTo>
                  <a:pt x="52" y="4333"/>
                </a:lnTo>
                <a:lnTo>
                  <a:pt x="13" y="4445"/>
                </a:lnTo>
                <a:lnTo>
                  <a:pt x="0" y="4575"/>
                </a:lnTo>
                <a:lnTo>
                  <a:pt x="13" y="4703"/>
                </a:lnTo>
                <a:lnTo>
                  <a:pt x="52" y="4817"/>
                </a:lnTo>
                <a:lnTo>
                  <a:pt x="118" y="4896"/>
                </a:lnTo>
                <a:lnTo>
                  <a:pt x="210" y="4928"/>
                </a:lnTo>
                <a:lnTo>
                  <a:pt x="300" y="4957"/>
                </a:lnTo>
                <a:lnTo>
                  <a:pt x="367" y="5037"/>
                </a:lnTo>
                <a:lnTo>
                  <a:pt x="406" y="5150"/>
                </a:lnTo>
                <a:lnTo>
                  <a:pt x="420" y="5280"/>
                </a:lnTo>
                <a:lnTo>
                  <a:pt x="406" y="5406"/>
                </a:lnTo>
                <a:lnTo>
                  <a:pt x="367" y="5520"/>
                </a:lnTo>
                <a:lnTo>
                  <a:pt x="300" y="5599"/>
                </a:lnTo>
                <a:lnTo>
                  <a:pt x="210" y="5631"/>
                </a:lnTo>
                <a:close/>
              </a:path>
            </a:pathLst>
          </a:custGeom>
          <a:solidFill>
            <a:srgbClr val="fff5cf"/>
          </a:solidFill>
          <a:ln w="38160">
            <a:solidFill>
              <a:srgbClr val="ffd4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16"/>
          <p:cNvSpPr/>
          <p:nvPr/>
        </p:nvSpPr>
        <p:spPr>
          <a:xfrm flipH="1" rot="5400000">
            <a:off x="2262240" y="2613600"/>
            <a:ext cx="304920" cy="1477800"/>
          </a:xfrm>
          <a:custGeom>
            <a:avLst/>
            <a:gdLst>
              <a:gd name="textAreaLeft" fmla="*/ -360 w 304920"/>
              <a:gd name="textAreaRight" fmla="*/ 304920 w 304920"/>
              <a:gd name="textAreaTop" fmla="*/ 0 h 1477800"/>
              <a:gd name="textAreaBottom" fmla="*/ 1478160 h 1477800"/>
            </a:gdLst>
            <a:ahLst/>
            <a:rect l="textAreaLeft" t="textAreaTop" r="textAreaRight" b="textAreaBottom"/>
            <a:pathLst>
              <a:path w="420" h="5644">
                <a:moveTo>
                  <a:pt x="210" y="5631"/>
                </a:moveTo>
                <a:lnTo>
                  <a:pt x="210" y="5644"/>
                </a:lnTo>
                <a:lnTo>
                  <a:pt x="300" y="5612"/>
                </a:lnTo>
                <a:lnTo>
                  <a:pt x="367" y="5533"/>
                </a:lnTo>
                <a:lnTo>
                  <a:pt x="406" y="5419"/>
                </a:lnTo>
                <a:lnTo>
                  <a:pt x="420" y="5292"/>
                </a:lnTo>
                <a:lnTo>
                  <a:pt x="406" y="5162"/>
                </a:lnTo>
                <a:lnTo>
                  <a:pt x="367" y="5050"/>
                </a:lnTo>
                <a:lnTo>
                  <a:pt x="300" y="4970"/>
                </a:lnTo>
                <a:lnTo>
                  <a:pt x="210" y="4941"/>
                </a:lnTo>
                <a:lnTo>
                  <a:pt x="118" y="4909"/>
                </a:lnTo>
                <a:lnTo>
                  <a:pt x="52" y="4830"/>
                </a:lnTo>
                <a:lnTo>
                  <a:pt x="13" y="4716"/>
                </a:lnTo>
                <a:lnTo>
                  <a:pt x="0" y="4588"/>
                </a:lnTo>
                <a:lnTo>
                  <a:pt x="13" y="4458"/>
                </a:lnTo>
                <a:lnTo>
                  <a:pt x="52" y="4344"/>
                </a:lnTo>
                <a:lnTo>
                  <a:pt x="118" y="4264"/>
                </a:lnTo>
                <a:lnTo>
                  <a:pt x="210" y="4235"/>
                </a:lnTo>
                <a:lnTo>
                  <a:pt x="300" y="4203"/>
                </a:lnTo>
                <a:lnTo>
                  <a:pt x="367" y="4124"/>
                </a:lnTo>
                <a:lnTo>
                  <a:pt x="406" y="4010"/>
                </a:lnTo>
                <a:lnTo>
                  <a:pt x="420" y="3883"/>
                </a:lnTo>
                <a:lnTo>
                  <a:pt x="406" y="3753"/>
                </a:lnTo>
                <a:lnTo>
                  <a:pt x="367" y="3641"/>
                </a:lnTo>
                <a:lnTo>
                  <a:pt x="300" y="3561"/>
                </a:lnTo>
                <a:lnTo>
                  <a:pt x="210" y="3532"/>
                </a:lnTo>
                <a:lnTo>
                  <a:pt x="118" y="3500"/>
                </a:lnTo>
                <a:lnTo>
                  <a:pt x="52" y="3421"/>
                </a:lnTo>
                <a:lnTo>
                  <a:pt x="13" y="3307"/>
                </a:lnTo>
                <a:lnTo>
                  <a:pt x="0" y="3180"/>
                </a:lnTo>
                <a:lnTo>
                  <a:pt x="13" y="3050"/>
                </a:lnTo>
                <a:lnTo>
                  <a:pt x="52" y="2938"/>
                </a:lnTo>
                <a:lnTo>
                  <a:pt x="118" y="2857"/>
                </a:lnTo>
                <a:lnTo>
                  <a:pt x="210" y="2829"/>
                </a:lnTo>
                <a:lnTo>
                  <a:pt x="300" y="2796"/>
                </a:lnTo>
                <a:lnTo>
                  <a:pt x="367" y="2718"/>
                </a:lnTo>
                <a:lnTo>
                  <a:pt x="406" y="2604"/>
                </a:lnTo>
                <a:lnTo>
                  <a:pt x="420" y="2475"/>
                </a:lnTo>
                <a:lnTo>
                  <a:pt x="406" y="2345"/>
                </a:lnTo>
                <a:lnTo>
                  <a:pt x="367" y="2233"/>
                </a:lnTo>
                <a:lnTo>
                  <a:pt x="300" y="2153"/>
                </a:lnTo>
                <a:lnTo>
                  <a:pt x="210" y="2124"/>
                </a:lnTo>
                <a:lnTo>
                  <a:pt x="118" y="2092"/>
                </a:lnTo>
                <a:lnTo>
                  <a:pt x="52" y="2013"/>
                </a:lnTo>
                <a:lnTo>
                  <a:pt x="13" y="1899"/>
                </a:lnTo>
                <a:lnTo>
                  <a:pt x="0" y="1772"/>
                </a:lnTo>
                <a:lnTo>
                  <a:pt x="13" y="1642"/>
                </a:lnTo>
                <a:lnTo>
                  <a:pt x="52" y="1530"/>
                </a:lnTo>
                <a:lnTo>
                  <a:pt x="118" y="1450"/>
                </a:lnTo>
                <a:lnTo>
                  <a:pt x="210" y="1421"/>
                </a:lnTo>
                <a:lnTo>
                  <a:pt x="300" y="1389"/>
                </a:lnTo>
                <a:lnTo>
                  <a:pt x="367" y="1310"/>
                </a:lnTo>
                <a:lnTo>
                  <a:pt x="406" y="1196"/>
                </a:lnTo>
                <a:lnTo>
                  <a:pt x="420" y="1069"/>
                </a:lnTo>
                <a:lnTo>
                  <a:pt x="406" y="939"/>
                </a:lnTo>
                <a:lnTo>
                  <a:pt x="367" y="827"/>
                </a:lnTo>
                <a:lnTo>
                  <a:pt x="300" y="747"/>
                </a:lnTo>
                <a:lnTo>
                  <a:pt x="210" y="718"/>
                </a:lnTo>
                <a:lnTo>
                  <a:pt x="118" y="686"/>
                </a:lnTo>
                <a:lnTo>
                  <a:pt x="52" y="607"/>
                </a:lnTo>
                <a:lnTo>
                  <a:pt x="13" y="493"/>
                </a:lnTo>
                <a:lnTo>
                  <a:pt x="0" y="365"/>
                </a:lnTo>
                <a:lnTo>
                  <a:pt x="13" y="235"/>
                </a:lnTo>
                <a:lnTo>
                  <a:pt x="52" y="121"/>
                </a:lnTo>
                <a:lnTo>
                  <a:pt x="118" y="40"/>
                </a:lnTo>
                <a:lnTo>
                  <a:pt x="210" y="12"/>
                </a:lnTo>
                <a:lnTo>
                  <a:pt x="210" y="0"/>
                </a:lnTo>
                <a:lnTo>
                  <a:pt x="118" y="29"/>
                </a:lnTo>
                <a:lnTo>
                  <a:pt x="52" y="110"/>
                </a:lnTo>
                <a:lnTo>
                  <a:pt x="13" y="222"/>
                </a:lnTo>
                <a:lnTo>
                  <a:pt x="0" y="352"/>
                </a:lnTo>
                <a:lnTo>
                  <a:pt x="13" y="479"/>
                </a:lnTo>
                <a:lnTo>
                  <a:pt x="52" y="593"/>
                </a:lnTo>
                <a:lnTo>
                  <a:pt x="118" y="671"/>
                </a:lnTo>
                <a:lnTo>
                  <a:pt x="210" y="703"/>
                </a:lnTo>
                <a:lnTo>
                  <a:pt x="300" y="732"/>
                </a:lnTo>
                <a:lnTo>
                  <a:pt x="367" y="813"/>
                </a:lnTo>
                <a:lnTo>
                  <a:pt x="406" y="925"/>
                </a:lnTo>
                <a:lnTo>
                  <a:pt x="420" y="1055"/>
                </a:lnTo>
                <a:lnTo>
                  <a:pt x="406" y="1183"/>
                </a:lnTo>
                <a:lnTo>
                  <a:pt x="367" y="1297"/>
                </a:lnTo>
                <a:lnTo>
                  <a:pt x="300" y="1376"/>
                </a:lnTo>
                <a:lnTo>
                  <a:pt x="210" y="1408"/>
                </a:lnTo>
                <a:lnTo>
                  <a:pt x="118" y="1437"/>
                </a:lnTo>
                <a:lnTo>
                  <a:pt x="52" y="1517"/>
                </a:lnTo>
                <a:lnTo>
                  <a:pt x="13" y="1630"/>
                </a:lnTo>
                <a:lnTo>
                  <a:pt x="0" y="1760"/>
                </a:lnTo>
                <a:lnTo>
                  <a:pt x="13" y="1886"/>
                </a:lnTo>
                <a:lnTo>
                  <a:pt x="52" y="2000"/>
                </a:lnTo>
                <a:lnTo>
                  <a:pt x="118" y="2079"/>
                </a:lnTo>
                <a:lnTo>
                  <a:pt x="210" y="2111"/>
                </a:lnTo>
                <a:lnTo>
                  <a:pt x="300" y="2140"/>
                </a:lnTo>
                <a:lnTo>
                  <a:pt x="367" y="2220"/>
                </a:lnTo>
                <a:lnTo>
                  <a:pt x="406" y="2333"/>
                </a:lnTo>
                <a:lnTo>
                  <a:pt x="420" y="2463"/>
                </a:lnTo>
                <a:lnTo>
                  <a:pt x="406" y="2591"/>
                </a:lnTo>
                <a:lnTo>
                  <a:pt x="367" y="2705"/>
                </a:lnTo>
                <a:lnTo>
                  <a:pt x="300" y="2784"/>
                </a:lnTo>
                <a:lnTo>
                  <a:pt x="210" y="2816"/>
                </a:lnTo>
                <a:lnTo>
                  <a:pt x="118" y="2845"/>
                </a:lnTo>
                <a:lnTo>
                  <a:pt x="52" y="2925"/>
                </a:lnTo>
                <a:lnTo>
                  <a:pt x="13" y="3037"/>
                </a:lnTo>
                <a:lnTo>
                  <a:pt x="0" y="3167"/>
                </a:lnTo>
                <a:lnTo>
                  <a:pt x="13" y="3296"/>
                </a:lnTo>
                <a:lnTo>
                  <a:pt x="52" y="3410"/>
                </a:lnTo>
                <a:lnTo>
                  <a:pt x="118" y="3488"/>
                </a:lnTo>
                <a:lnTo>
                  <a:pt x="210" y="3520"/>
                </a:lnTo>
                <a:lnTo>
                  <a:pt x="300" y="3549"/>
                </a:lnTo>
                <a:lnTo>
                  <a:pt x="367" y="3630"/>
                </a:lnTo>
                <a:lnTo>
                  <a:pt x="406" y="3742"/>
                </a:lnTo>
                <a:lnTo>
                  <a:pt x="420" y="3872"/>
                </a:lnTo>
                <a:lnTo>
                  <a:pt x="406" y="3999"/>
                </a:lnTo>
                <a:lnTo>
                  <a:pt x="367" y="4113"/>
                </a:lnTo>
                <a:lnTo>
                  <a:pt x="300" y="4191"/>
                </a:lnTo>
                <a:lnTo>
                  <a:pt x="210" y="4223"/>
                </a:lnTo>
                <a:lnTo>
                  <a:pt x="118" y="4252"/>
                </a:lnTo>
                <a:lnTo>
                  <a:pt x="52" y="4333"/>
                </a:lnTo>
                <a:lnTo>
                  <a:pt x="13" y="4445"/>
                </a:lnTo>
                <a:lnTo>
                  <a:pt x="0" y="4575"/>
                </a:lnTo>
                <a:lnTo>
                  <a:pt x="13" y="4703"/>
                </a:lnTo>
                <a:lnTo>
                  <a:pt x="52" y="4817"/>
                </a:lnTo>
                <a:lnTo>
                  <a:pt x="118" y="4896"/>
                </a:lnTo>
                <a:lnTo>
                  <a:pt x="210" y="4928"/>
                </a:lnTo>
                <a:lnTo>
                  <a:pt x="300" y="4957"/>
                </a:lnTo>
                <a:lnTo>
                  <a:pt x="367" y="5037"/>
                </a:lnTo>
                <a:lnTo>
                  <a:pt x="406" y="5150"/>
                </a:lnTo>
                <a:lnTo>
                  <a:pt x="420" y="5280"/>
                </a:lnTo>
                <a:lnTo>
                  <a:pt x="406" y="5406"/>
                </a:lnTo>
                <a:lnTo>
                  <a:pt x="367" y="5520"/>
                </a:lnTo>
                <a:lnTo>
                  <a:pt x="300" y="5599"/>
                </a:lnTo>
                <a:lnTo>
                  <a:pt x="210" y="5631"/>
                </a:lnTo>
                <a:close/>
              </a:path>
            </a:pathLst>
          </a:custGeom>
          <a:solidFill>
            <a:srgbClr val="fff5cf"/>
          </a:solidFill>
          <a:ln w="38160">
            <a:solidFill>
              <a:srgbClr val="ffd4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8" descr="alice"/>
          <p:cNvPicPr/>
          <p:nvPr/>
        </p:nvPicPr>
        <p:blipFill>
          <a:blip r:embed="rId2"/>
          <a:stretch/>
        </p:blipFill>
        <p:spPr>
          <a:xfrm>
            <a:off x="609480" y="1523880"/>
            <a:ext cx="1076400" cy="124776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41"/>
          <p:cNvSpPr/>
          <p:nvPr/>
        </p:nvSpPr>
        <p:spPr>
          <a:xfrm>
            <a:off x="380880" y="3505320"/>
            <a:ext cx="2362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  <a:ea typeface="Arial"/>
              </a:rPr>
              <a:t>Near-maximal entangl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1"/>
          <p:cNvSpPr/>
          <p:nvPr/>
        </p:nvSpPr>
        <p:spPr>
          <a:xfrm>
            <a:off x="3048120" y="4343400"/>
            <a:ext cx="3124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  <a:ea typeface="Arial"/>
              </a:rPr>
              <a:t>Also near-maximal entangl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3" descr="C:\Users\owner\AppData\Local\Microsoft\Windows\Temporary Internet Files\Content.IE5\V550YIX2\MP900438774[1].jpg"/>
          <p:cNvPicPr/>
          <p:nvPr/>
        </p:nvPicPr>
        <p:blipFill>
          <a:blip r:embed="rId3"/>
          <a:stretch/>
        </p:blipFill>
        <p:spPr>
          <a:xfrm>
            <a:off x="2895480" y="2425680"/>
            <a:ext cx="127800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4.44444E-006 L 0.19948 0.0757 E">
                                      <p:cBhvr>
                                        <p:cTn id="70" dur="1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948 0.0757 L 0.32448 0.12014 E">
                                      <p:cBhvr>
                                        <p:cTn id="78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4.44444E-006 L 0.27448 0.13125 E">
                                      <p:cBhvr>
                                        <p:cTn id="90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41"/>
          <p:cNvSpPr/>
          <p:nvPr/>
        </p:nvSpPr>
        <p:spPr>
          <a:xfrm>
            <a:off x="304920" y="380880"/>
            <a:ext cx="8534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Harlow-Hayden 2013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  <a:ea typeface="Arial"/>
              </a:rPr>
              <a:t>(arXiv:1301.4504):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triking argument that Alice’s first task, decoding the entanglement between R and B, would take exponential time—by which point, the black hole would’ve long ago evaporated anyway</a:t>
            </a:r>
            <a:br>
              <a:rPr sz="2800"/>
            </a:b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Arial"/>
              </a:rPr>
              <a:t>Complexity theory to the rescue of quantum field the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1"/>
          <p:cNvSpPr/>
          <p:nvPr/>
        </p:nvSpPr>
        <p:spPr>
          <a:xfrm>
            <a:off x="314280" y="3809880"/>
            <a:ext cx="85345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re we saying that an inconsistency in the laws of physics is OK, as long as it takes exponential time to discover it?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nconsistency” is only in low-energy effective field theories; question is in what regimes they break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316080" y="3808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Caveats of Complexity Arg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ubtitle 4"/>
          <p:cNvSpPr/>
          <p:nvPr/>
        </p:nvSpPr>
        <p:spPr>
          <a:xfrm>
            <a:off x="480960" y="1295280"/>
            <a:ext cx="79772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 marL="236520" indent="-23652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Calibri"/>
              </a:rPr>
              <a:t>Asympt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10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E.g., 8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8 chess takes O(1) time!  Only for 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n chess can we give evidence of hardness.  But for black holes, 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7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Calibri"/>
              </a:rPr>
              <a:t>(Usually) Conject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10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Right now, we can’t even prove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  <a:ea typeface="Calibri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≠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  <a:ea typeface="Calibri"/>
              </a:rPr>
              <a:t>N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!  To get where we want, we almost always need to make assumptions.  Question is,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whi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assump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Calibri"/>
              </a:rPr>
              <a:t>Worst-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10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We can argue that a natural formalization of Alice’s decoding task is “generically” hard.  We can’t rule out that a future quantum gravity theory would make her task easy, for deep reasons not captured by our formaliz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316080" y="3808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Quantum Circ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http://ej.iop.org/images/1367-2630/14/10/103017/Full/nj432858f1_online.jpg"/>
          <p:cNvPicPr/>
          <p:nvPr/>
        </p:nvPicPr>
        <p:blipFill>
          <a:blip r:embed="rId1"/>
          <a:stretch/>
        </p:blipFill>
        <p:spPr>
          <a:xfrm>
            <a:off x="533520" y="1447920"/>
            <a:ext cx="8047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1"/>
          <p:cNvSpPr/>
          <p:nvPr/>
        </p:nvSpPr>
        <p:spPr>
          <a:xfrm>
            <a:off x="609480" y="1295280"/>
            <a:ext cx="8305920" cy="51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a description of a quantum circuit C, such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romised that, by acting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on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n R (the “Hawking radiation part”), it’s possible to distill an EPR pa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etween R and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Problem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Distill such an EPR pair, by applying a unitary transformation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o the qubits in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"/>
          <p:cNvSpPr/>
          <p:nvPr/>
        </p:nvSpPr>
        <p:spPr>
          <a:xfrm>
            <a:off x="316080" y="3808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The HH Decoding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1"/>
              <p:cNvSpPr txBox="1"/>
              <p:nvPr/>
            </p:nvSpPr>
            <p:spPr>
              <a:xfrm>
                <a:off x="3537000" y="3581280"/>
                <a:ext cx="194004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|</m:t>
                        </m:r>
                        <m:r>
                          <m:t xml:space="preserve">0</m:t>
                        </m:r>
                        <m:r>
                          <m:t xml:space="preserve">⟩</m:t>
                        </m:r>
                        <m:r>
                          <m:t xml:space="preserve">|</m:t>
                        </m:r>
                        <m:r>
                          <m:t xml:space="preserve">0</m:t>
                        </m:r>
                        <m:r>
                          <m:t xml:space="preserve">⟩</m:t>
                        </m:r>
                        <m:r>
                          <m:t xml:space="preserve">+</m:t>
                        </m:r>
                        <m:r>
                          <m:t xml:space="preserve">|</m:t>
                        </m:r>
                        <m:r>
                          <m:t xml:space="preserve">1</m:t>
                        </m:r>
                        <m:r>
                          <m:t xml:space="preserve">⟩</m:t>
                        </m:r>
                        <m:r>
                          <m:t xml:space="preserve">|</m:t>
                        </m:r>
                        <m:r>
                          <m:t xml:space="preserve">1</m:t>
                        </m:r>
                        <m:r>
                          <m:t xml:space="preserve">⟩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5"/>
              <p:cNvSpPr txBox="1"/>
              <p:nvPr/>
            </p:nvSpPr>
            <p:spPr>
              <a:xfrm>
                <a:off x="3414600" y="1828800"/>
                <a:ext cx="24242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0</m:t>
                    </m:r>
                    <m:sSup>
                      <m:e>
                        <m:r>
                          <m:t xml:space="preserve">⟩</m:t>
                        </m:r>
                      </m:e>
                      <m:sup>
                        <m:r>
                          <m:t xml:space="preserve">⊗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ψ</m:t>
                    </m:r>
                    <m:sSub>
                      <m:e>
                        <m:r>
                          <m:t xml:space="preserve">⟩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B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19:35:08Z</dcterms:created>
  <dc:creator>Scott Aaronson</dc:creator>
  <dc:description/>
  <dc:language>en-US</dc:language>
  <cp:lastModifiedBy>Scott</cp:lastModifiedBy>
  <dcterms:modified xsi:type="dcterms:W3CDTF">2015-08-25T05:12:16Z</dcterms:modified>
  <cp:revision>447</cp:revision>
  <dc:subject/>
  <dc:title>The Future of Computer Science</dc:title>
</cp:coreProperties>
</file>