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941-1B0E-4A75-9D6B-C963234D2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79D-7B8E-43B7-B2C6-AF8D1F1C665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823E-1145-4F70-A6DD-53A0DCC10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22F-42D0-41E7-8AB4-34B95BFC4D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7BBC-6884-437A-B619-777DCB813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B721-1BD5-4F6A-9B72-C5C26F82C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405-F65D-4FB4-A59C-C4264B811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8356-1261-4900-A88E-3B4698207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B8F-4563-4A21-8EDB-9EAAE390E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F59E-5E00-49D8-BAEE-114935DB4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28E-9BD3-4768-97C4-D2FD8D1AA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D320-7EEC-4A09-B8C1-D47DCAA08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057E-94FD-4E84-BDD0-4F7D52CC2A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940D-0773-4637-BCDA-8A9526B8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1DAA-D591-47CA-BD66-DEA97ED6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A64-DC44-4A99-A4FD-926FE1255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521-B64A-4910-ACCD-C14DF7ABE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B0B-F182-45DD-ACB6-888185BE6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636-D4DB-4623-8E21-337923EA4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933-EA6D-4561-89B9-4A1976F3B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FD6-1FAD-499B-89F0-FE7ACA0B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D6D-C710-4B94-B717-913B74FA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0FE-F22B-45EC-ADDE-02C1ED1F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522-094A-4A17-A61A-2ABAC22D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BFC2-FD9B-4A18-A4B4-FB621FC7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CF77-68FA-4DE9-BBEB-8C8DB77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FCD9-E62D-4527-B641-4264DA0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EA5-EE20-47F2-BC0E-640C03DC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946E-AB26-4A95-95EE-FF5971BC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191-6862-4723-AA2E-D72F179C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F76B-ED78-4499-9260-BB86787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D39-687F-4EFB-829F-3AC81E0D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E8B9-E8C5-4EC0-ACC6-F98DDEA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BAC9-F1DD-4E9C-8409-717A9EF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7727-3910-40FD-AAFB-D737386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CF4A-B931-4D54-8DAB-35A13E75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8860-4755-4FC6-B1CB-15115E4E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2870-92B1-4EDA-AEA7-5BBBEC2D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DB37-27D0-4D9B-992C-47B3CA52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4E21-32D6-4F48-869D-5B05A0F9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4A9D-9C0B-4A0F-AD20-9D9314C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EB4F-C6DA-4C5D-B1A6-6FD990A4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A61-6399-46A6-A1F0-5D9CEE49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95C3-DF47-417C-BACF-5036D09F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35B3-068D-4D45-AF90-5783F7C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50D7-F92C-4A04-B8C7-7C0E5DD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1672-3E0C-45F3-A4A6-CE278CE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048A-B327-4B02-ACAF-CF08358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3B89-0FD4-4742-AB1C-9A6A708A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CB58-BAA6-42DE-9CA2-20B3983E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4DA-F702-4174-89A3-379B4605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CA4-8DEC-497A-8525-E393E1E4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243-DF1C-4D52-8FC3-9A08EBC1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14C-6697-4C85-8B1A-E3A104F0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501-032A-4E5A-8E43-6C18738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67E-FB07-4C08-A76B-90919EC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212-9F30-4130-8455-7C8C37DB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2CDD-8D54-4B2B-9A6C-10744FA3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F66A-11FD-4624-AFB6-80105BFA3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Black Holes, Firewalls, and the Complexity of States and Unitarie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32236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26836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slight variant of the “collision lower bound” I proved in 200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Rectangle 41"/>
          <p:cNvSpPr/>
          <p:nvPr/>
        </p:nvSpPr>
        <p:spPr>
          <a:xfrm>
            <a:off x="295200" y="32767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recently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207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58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Public-Key Quantum Money</a:t>
            </a:r>
            <a:br>
              <a:rPr sz="4800"/>
            </a:b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nother area where one needs to argue certain quantum states are hard to prepar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791320" y="1270080"/>
            <a:ext cx="2895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5791320" y="332748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 rot="16200000">
            <a:off x="4762440" y="229824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5"/>
          <p:cNvSpPr/>
          <p:nvPr/>
        </p:nvSpPr>
        <p:spPr>
          <a:xfrm>
            <a:off x="5791320" y="142236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7848720" y="3327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9"/>
          <p:cNvGrpSpPr/>
          <p:nvPr/>
        </p:nvGrpSpPr>
        <p:grpSpPr>
          <a:xfrm>
            <a:off x="457200" y="2600280"/>
            <a:ext cx="4876920" cy="2133720"/>
            <a:chOff x="457200" y="2600280"/>
            <a:chExt cx="4876920" cy="2133720"/>
          </a:xfrm>
        </p:grpSpPr>
        <p:pic>
          <p:nvPicPr>
            <p:cNvPr id="229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457200" y="2600280"/>
              <a:ext cx="4876920" cy="213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0" name="Straight Arrow Connector 25"/>
            <p:cNvCxnSpPr/>
            <p:nvPr/>
          </p:nvCxnSpPr>
          <p:spPr>
            <a:xfrm flipV="1">
              <a:off x="1981080" y="316836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1" name="Straight Arrow Connector 26"/>
            <p:cNvCxnSpPr/>
            <p:nvPr/>
          </p:nvCxnSpPr>
          <p:spPr>
            <a:xfrm flipH="1" flipV="1">
              <a:off x="2666520" y="316836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2" name="Straight Arrow Connector 27"/>
            <p:cNvCxnSpPr/>
            <p:nvPr/>
          </p:nvCxnSpPr>
          <p:spPr>
            <a:xfrm flipH="1" flipV="1">
              <a:off x="3276360" y="309744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3" name="Straight Arrow Connector 28"/>
            <p:cNvCxnSpPr/>
            <p:nvPr/>
          </p:nvCxnSpPr>
          <p:spPr>
            <a:xfrm flipV="1">
              <a:off x="4114800" y="302616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4" name="Straight Arrow Connector 29"/>
            <p:cNvCxnSpPr/>
            <p:nvPr/>
          </p:nvCxnSpPr>
          <p:spPr>
            <a:xfrm>
              <a:off x="4419360" y="33825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5" name="Straight Arrow Connector 30"/>
            <p:cNvCxnSpPr/>
            <p:nvPr/>
          </p:nvCxnSpPr>
          <p:spPr>
            <a:xfrm>
              <a:off x="1904760" y="39517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6" name="Straight Arrow Connector 31"/>
            <p:cNvCxnSpPr/>
            <p:nvPr/>
          </p:nvCxnSpPr>
          <p:spPr>
            <a:xfrm flipV="1">
              <a:off x="2895840" y="366660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7" name="Straight Arrow Connector 32"/>
            <p:cNvCxnSpPr/>
            <p:nvPr/>
          </p:nvCxnSpPr>
          <p:spPr>
            <a:xfrm flipV="1">
              <a:off x="3581640" y="366660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8" name="Straight Arrow Connector 33"/>
            <p:cNvCxnSpPr/>
            <p:nvPr/>
          </p:nvCxnSpPr>
          <p:spPr>
            <a:xfrm>
              <a:off x="3885840" y="395172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39" name="Straight Arrow Connector 34"/>
            <p:cNvCxnSpPr/>
            <p:nvPr/>
          </p:nvCxnSpPr>
          <p:spPr>
            <a:xfrm flipH="1" flipV="1">
              <a:off x="4495680" y="3737880"/>
              <a:ext cx="457920" cy="3564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40" name="Straight Arrow Connector 35"/>
            <p:cNvCxnSpPr/>
            <p:nvPr/>
          </p:nvCxnSpPr>
          <p:spPr>
            <a:xfrm flipH="1" flipV="1">
              <a:off x="1371240" y="38088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241" name="Straight Arrow Connector 36"/>
            <p:cNvCxnSpPr/>
            <p:nvPr/>
          </p:nvCxnSpPr>
          <p:spPr>
            <a:xfrm flipV="1">
              <a:off x="761760" y="38088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</p:grpSp>
      <p:cxnSp>
        <p:nvCxnSpPr>
          <p:cNvPr id="242" name="Straight Arrow Connector 27"/>
          <p:cNvCxnSpPr/>
          <p:nvPr/>
        </p:nvCxnSpPr>
        <p:spPr>
          <a:xfrm flipV="1">
            <a:off x="1676520" y="298080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43" name="Straight Arrow Connector 28"/>
          <p:cNvCxnSpPr/>
          <p:nvPr/>
        </p:nvCxnSpPr>
        <p:spPr>
          <a:xfrm>
            <a:off x="761760" y="32857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grpSp>
        <p:nvGrpSpPr>
          <p:cNvPr id="244" name="Group 47"/>
          <p:cNvGrpSpPr/>
          <p:nvPr/>
        </p:nvGrpSpPr>
        <p:grpSpPr>
          <a:xfrm>
            <a:off x="1468440" y="1143000"/>
            <a:ext cx="2819520" cy="1362240"/>
            <a:chOff x="1468440" y="1143000"/>
            <a:chExt cx="2819520" cy="1362240"/>
          </a:xfrm>
        </p:grpSpPr>
        <p:sp>
          <p:nvSpPr>
            <p:cNvPr id="245" name="Cube 20"/>
            <p:cNvSpPr/>
            <p:nvPr/>
          </p:nvSpPr>
          <p:spPr>
            <a:xfrm>
              <a:off x="2351160" y="1495800"/>
              <a:ext cx="676440" cy="67644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Straight Arrow Connector 23"/>
            <p:cNvCxnSpPr/>
            <p:nvPr/>
          </p:nvCxnSpPr>
          <p:spPr>
            <a:xfrm>
              <a:off x="1909800" y="1848600"/>
              <a:ext cx="442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247" name="Object 2"/>
                <p:cNvSpPr txBox="1"/>
                <p:nvPr/>
              </p:nvSpPr>
              <p:spPr>
                <a:xfrm>
                  <a:off x="1468440" y="1584000"/>
                  <a:ext cx="4762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48" name="Straight Arrow Connector 26"/>
            <p:cNvCxnSpPr/>
            <p:nvPr/>
          </p:nvCxnSpPr>
          <p:spPr>
            <a:xfrm>
              <a:off x="2998440" y="1848600"/>
              <a:ext cx="442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249" name="Object 3"/>
                <p:cNvSpPr txBox="1"/>
                <p:nvPr/>
              </p:nvSpPr>
              <p:spPr>
                <a:xfrm>
                  <a:off x="3410280" y="1584000"/>
                  <a:ext cx="8776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250" name="Picture 5" descr="C:\Users\od user\AppData\Local\Microsoft\Windows\Temporary Internet Files\Content.IE5\N7YD4WXK\MCj04325380000[1].png"/>
            <p:cNvPicPr/>
            <p:nvPr/>
          </p:nvPicPr>
          <p:blipFill>
            <a:blip r:embed="rId2"/>
            <a:stretch/>
          </p:blipFill>
          <p:spPr>
            <a:xfrm>
              <a:off x="1968480" y="1143000"/>
              <a:ext cx="1382760" cy="136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Rectangle 3"/>
          <p:cNvSpPr/>
          <p:nvPr/>
        </p:nvSpPr>
        <p:spPr>
          <a:xfrm>
            <a:off x="5214960" y="417816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a scheme proposed by A.-Christiano 2012, each bill contains an equal superposition over a “hidden subspace,” which anyone can measure in two complementary bases to check the bill’s ver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52280" y="4862520"/>
            <a:ext cx="487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ause of the No-Cloning Theorem, in principle it’s possible to have “quantum money,” where each bill includes qubits that are physically impossible to counterfeit.  But how to verify a bi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1562040" y="2260440"/>
            <a:ext cx="6019920" cy="2226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zarre strengthening of my result on Harlow-Hayden decod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decoding is hard if there exists a secure quantum money scheme (even private-k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15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Favorite Researc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380880" y="838080"/>
            <a:ext cx="85899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derstand, more systematically, the quantum circuit complexity of preparing n-qubit states and applying unitary transformations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“not just for quantum gravity!  also for quantum algorithms, quantum money, and so much m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 ques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1"/>
          <p:cNvSpPr/>
          <p:nvPr/>
        </p:nvSpPr>
        <p:spPr>
          <a:xfrm>
            <a:off x="2066760" y="4103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1"/>
          <p:cNvSpPr/>
          <p:nvPr/>
        </p:nvSpPr>
        <p:spPr>
          <a:xfrm>
            <a:off x="361800" y="53388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to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0" y="111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1"/>
          <p:cNvSpPr/>
          <p:nvPr/>
        </p:nvSpPr>
        <p:spPr>
          <a:xfrm>
            <a:off x="228600" y="871560"/>
            <a:ext cx="8610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major challenge is to understand which quantum states can be efficiently prepared, and which unitaries can be efficiently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ications range from quantum money to quantum grav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:\Users\Scott\AppData\Local\Microsoft\Windows\Temporary Internet Files\Content.IE5\EKKBWV0B\bridges[1].gif"/>
          <p:cNvPicPr/>
          <p:nvPr/>
        </p:nvPicPr>
        <p:blipFill>
          <a:blip r:embed="rId1"/>
          <a:stretch/>
        </p:blipFill>
        <p:spPr>
          <a:xfrm>
            <a:off x="-152280" y="57780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93680" y="1301760"/>
            <a:ext cx="2030400" cy="703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705720" y="3429000"/>
            <a:ext cx="2305080" cy="10688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3060720" y="3030480"/>
            <a:ext cx="2946240" cy="1312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952880" y="1808280"/>
            <a:ext cx="3895920" cy="9165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OSONS &amp; FERMIONS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E.g., BosonSamp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57120" y="2523960"/>
            <a:ext cx="2422440" cy="1373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LACK HOLES, AdS/CFT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Today’s 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2768760" y="1486080"/>
            <a:ext cx="1592280" cy="10076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in 2013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7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9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8-25T05:12:16Z</dcterms:modified>
  <cp:revision>447</cp:revision>
  <dc:subject/>
  <dc:title>The Future of Computer Science</dc:title>
</cp:coreProperties>
</file>