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2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11.png" ContentType="image/png"/>
  <Override PartName="/ppt/media/image38.wmf" ContentType="image/x-wmf"/>
  <Override PartName="/ppt/media/image40.png" ContentType="image/png"/>
  <Override PartName="/ppt/media/image39.gif" ContentType="image/gif"/>
  <Override PartName="/ppt/media/image4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3.wmf" ContentType="image/x-wmf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256-07AB-4FDD-A37D-921101B7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7F5-FC96-475A-854A-61B036FD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4E3-ECE5-4020-AB35-B512AF31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576-F90F-442B-9C53-C986053D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430-A66C-4526-8AC8-B13842C8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B6B-9424-42FA-856C-38EF7658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525-1B2D-4BD6-A4B1-0B66A1DB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317-0DB8-46A1-9046-8E3F29E8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D9D-2813-49DA-A7E4-E24CD18E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54A-00C5-400E-80BF-750EF722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88B-5057-4FC0-BE9E-D1295FF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6DF-98DB-462E-A860-4E362E69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EDA2-F532-457A-8B0F-4B8B778CE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13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Limits of Quantum Computers</a:t>
            </a:r>
            <a:br>
              <a:rPr sz="4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or: What We Can’t Do With Computers We Don’t Have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68320" y="1752120"/>
            <a:ext cx="57470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ity of Waterlo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500120" y="1424160"/>
            <a:ext cx="12361680" cy="6343560"/>
          </a:xfrm>
          <a:custGeom>
            <a:avLst/>
            <a:gdLst/>
            <a:ahLst/>
            <a:rect l="l" t="t" r="r" b="b"/>
            <a:pathLst>
              <a:path w="7787" h="3996">
                <a:moveTo>
                  <a:pt x="834" y="3479"/>
                </a:moveTo>
                <a:cubicBezTo>
                  <a:pt x="0" y="3278"/>
                  <a:pt x="1458" y="2383"/>
                  <a:pt x="1828" y="2299"/>
                </a:cubicBezTo>
                <a:cubicBezTo>
                  <a:pt x="2198" y="2215"/>
                  <a:pt x="2644" y="2879"/>
                  <a:pt x="3054" y="2977"/>
                </a:cubicBezTo>
                <a:cubicBezTo>
                  <a:pt x="3464" y="3075"/>
                  <a:pt x="3987" y="3101"/>
                  <a:pt x="4286" y="2887"/>
                </a:cubicBezTo>
                <a:cubicBezTo>
                  <a:pt x="4585" y="2673"/>
                  <a:pt x="4689" y="1926"/>
                  <a:pt x="4847" y="1695"/>
                </a:cubicBezTo>
                <a:cubicBezTo>
                  <a:pt x="5005" y="1464"/>
                  <a:pt x="5067" y="1745"/>
                  <a:pt x="5237" y="1500"/>
                </a:cubicBezTo>
                <a:cubicBezTo>
                  <a:pt x="5407" y="1255"/>
                  <a:pt x="5651" y="386"/>
                  <a:pt x="5869" y="227"/>
                </a:cubicBezTo>
                <a:cubicBezTo>
                  <a:pt x="6087" y="68"/>
                  <a:pt x="6384" y="0"/>
                  <a:pt x="6545" y="547"/>
                </a:cubicBezTo>
                <a:cubicBezTo>
                  <a:pt x="6706" y="1094"/>
                  <a:pt x="7787" y="3018"/>
                  <a:pt x="6835" y="3507"/>
                </a:cubicBezTo>
                <a:cubicBezTo>
                  <a:pt x="5883" y="3996"/>
                  <a:pt x="1661" y="3739"/>
                  <a:pt x="834" y="347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39840" y="4076640"/>
            <a:ext cx="955800" cy="1218600"/>
            <a:chOff x="1239840" y="4076640"/>
            <a:chExt cx="955800" cy="1218600"/>
          </a:xfrm>
        </p:grpSpPr>
        <p:sp>
          <p:nvSpPr>
            <p:cNvPr id="46" name=""/>
            <p:cNvSpPr/>
            <p:nvPr/>
          </p:nvSpPr>
          <p:spPr>
            <a:xfrm flipV="1">
              <a:off x="1450800" y="41032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239840" y="4103640"/>
              <a:ext cx="95580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flipV="1" rot="5400000">
              <a:off x="1626120" y="4642560"/>
              <a:ext cx="181080" cy="39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32000" y="4375080"/>
              <a:ext cx="368280" cy="226800"/>
            </a:xfrm>
            <a:custGeom>
              <a:avLst/>
              <a:gdLst/>
              <a:ahLst/>
              <a:rect l="l" t="t" r="r" b="b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0440" y="4400280"/>
              <a:ext cx="312840" cy="177840"/>
            </a:xfrm>
            <a:custGeom>
              <a:avLst/>
              <a:gdLst/>
              <a:ahLst/>
              <a:rect l="l" t="t" r="r" b="b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76360" y="4408200"/>
              <a:ext cx="150840" cy="150840"/>
            </a:xfrm>
            <a:custGeom>
              <a:avLst/>
              <a:gdLst/>
              <a:ahLst/>
              <a:rect l="l" t="t" r="r" b="b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66720" y="4449600"/>
              <a:ext cx="25560" cy="252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19040" y="4360680"/>
              <a:ext cx="52560" cy="57240"/>
            </a:xfrm>
            <a:custGeom>
              <a:avLst/>
              <a:gdLst/>
              <a:ahLst/>
              <a:rect l="l" t="t" r="r" b="b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8080" y="4322520"/>
              <a:ext cx="39600" cy="637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2880" y="4298760"/>
              <a:ext cx="25560" cy="65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3560" y="4365360"/>
              <a:ext cx="54000" cy="5724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19280" y="4325760"/>
              <a:ext cx="41400" cy="6192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68520" y="4300200"/>
              <a:ext cx="27000" cy="6516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04800" y="4289400"/>
              <a:ext cx="22320" cy="64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2720" y="4375080"/>
              <a:ext cx="368280" cy="226800"/>
            </a:xfrm>
            <a:custGeom>
              <a:avLst/>
              <a:gdLst/>
              <a:ahLst/>
              <a:rect l="l" t="t" r="r" b="b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1160" y="4400280"/>
              <a:ext cx="312840" cy="177840"/>
            </a:xfrm>
            <a:custGeom>
              <a:avLst/>
              <a:gdLst/>
              <a:ahLst/>
              <a:rect l="l" t="t" r="r" b="b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27080" y="4413240"/>
              <a:ext cx="150840" cy="150480"/>
            </a:xfrm>
            <a:custGeom>
              <a:avLst/>
              <a:gdLst/>
              <a:ahLst/>
              <a:rect l="l" t="t" r="r" b="b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17800" y="4454280"/>
              <a:ext cx="25200" cy="25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70120" y="4360680"/>
              <a:ext cx="52200" cy="57240"/>
            </a:xfrm>
            <a:custGeom>
              <a:avLst/>
              <a:gdLst/>
              <a:ahLst/>
              <a:rect l="l" t="t" r="r" b="b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8800" y="4322520"/>
              <a:ext cx="39600" cy="637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3960" y="4298760"/>
              <a:ext cx="25200" cy="65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14640" y="4365360"/>
              <a:ext cx="54000" cy="5724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70000" y="4325760"/>
              <a:ext cx="41400" cy="6192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19240" y="4300200"/>
              <a:ext cx="27000" cy="6516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55880" y="4289400"/>
              <a:ext cx="21960" cy="64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716120" y="4076640"/>
              <a:ext cx="264960" cy="59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92280" y="5294160"/>
            <a:ext cx="15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BQ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8840" y="2112840"/>
            <a:ext cx="235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P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70440" y="4044960"/>
            <a:ext cx="156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S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2.22222E-006 L -3.05556E-006 -2.22222E-006 E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4562640" y="990720"/>
            <a:ext cx="4138560" cy="3657600"/>
            <a:chOff x="4562640" y="990720"/>
            <a:chExt cx="4138560" cy="3657600"/>
          </a:xfrm>
        </p:grpSpPr>
        <p:sp>
          <p:nvSpPr>
            <p:cNvPr id="146" name=""/>
            <p:cNvSpPr/>
            <p:nvPr/>
          </p:nvSpPr>
          <p:spPr>
            <a:xfrm>
              <a:off x="5105520" y="160020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05520" y="312444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1600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8153280" y="274320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53280" y="274320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6418440" y="99072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8440" y="99072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7543800" y="144792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1447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4562640" y="143676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62640" y="143676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7" name=""/>
          <p:cNvGrpSpPr/>
          <p:nvPr/>
        </p:nvGrpSpPr>
        <p:grpSpPr>
          <a:xfrm>
            <a:off x="5105520" y="3048120"/>
            <a:ext cx="3047760" cy="228600"/>
            <a:chOff x="5105520" y="3048120"/>
            <a:chExt cx="3047760" cy="228600"/>
          </a:xfrm>
        </p:grpSpPr>
        <p:sp>
          <p:nvSpPr>
            <p:cNvPr id="158" name=""/>
            <p:cNvSpPr/>
            <p:nvPr/>
          </p:nvSpPr>
          <p:spPr>
            <a:xfrm>
              <a:off x="6629400" y="312444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304812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" y="5105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see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mplitudes—the source of all “quantum weir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47840" y="13352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ntum state of n “qubits” tak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 numbers to describ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886120" y="2325600"/>
          <a:ext cx="259092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6120" y="2325600"/>
                    <a:ext cx="25909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324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7840" y="3763800"/>
            <a:ext cx="803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quantum computing is to exploit this exponentiality in our description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5120" y="485316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Get paths leading to incorrect answers t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rfere destru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2549520" y="977760"/>
            <a:ext cx="4189320" cy="933480"/>
            <a:chOff x="2549520" y="977760"/>
            <a:chExt cx="4189320" cy="933480"/>
          </a:xfrm>
        </p:grpSpPr>
        <p:sp>
          <p:nvSpPr>
            <p:cNvPr id="172" name=""/>
            <p:cNvSpPr/>
            <p:nvPr/>
          </p:nvSpPr>
          <p:spPr>
            <a:xfrm>
              <a:off x="3997440" y="977760"/>
              <a:ext cx="907920" cy="90792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24280" y="1135080"/>
              <a:ext cx="1044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49520" y="126504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7280" y="1541160"/>
              <a:ext cx="103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64040" y="1504800"/>
              <a:ext cx="103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96160" y="1228680"/>
              <a:ext cx="74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15880" y="1962000"/>
            <a:ext cx="7331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alk, I’ll only care about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ack 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t any other computational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n a function f: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, suppose we want to decide if there’s an x such that f(x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ly, ~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ries to f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ver gave a quantum algorithm that uses only ~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[BBBV 1997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rover’s algorithm is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“black-box evidence” that quantum computers can’t solve NP-complete problem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Quantum Black-Box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261200" y="4417920"/>
            <a:ext cx="720720" cy="871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3040" y="2475000"/>
            <a:ext cx="4694400" cy="2388960"/>
          </a:xfrm>
          <a:prstGeom prst="wedgeEllipseCallout">
            <a:avLst>
              <a:gd name="adj1" fmla="val -54060"/>
              <a:gd name="adj2" fmla="val 71194"/>
            </a:avLst>
          </a:prstGeom>
          <a:solidFill>
            <a:srgbClr val="d3e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t why do black-box results tell us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nything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bout the real world?  Remember </a:t>
            </a:r>
            <a:r>
              <a:rPr b="1" lang="en-CA" sz="2400" spc="-1" strike="noStrike">
                <a:solidFill>
                  <a:srgbClr val="cc00cc"/>
                </a:solidFill>
                <a:latin typeface="Arial"/>
              </a:rPr>
              <a:t>I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CA" sz="2400" spc="-1" strike="noStrike">
                <a:solidFill>
                  <a:srgbClr val="cc00cc"/>
                </a:solidFill>
                <a:latin typeface="Arial"/>
              </a:rPr>
              <a:t>PSPAC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78360" y="974880"/>
            <a:ext cx="3365640" cy="1144440"/>
          </a:xfrm>
          <a:prstGeom prst="wedgeEllipseCallout">
            <a:avLst>
              <a:gd name="adj1" fmla="val 50472"/>
              <a:gd name="adj2" fmla="val 60958"/>
            </a:avLst>
          </a:prstGeom>
          <a:solidFill>
            <a:srgbClr val="ff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gotta start som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37160" y="2625840"/>
            <a:ext cx="4049640" cy="2290680"/>
          </a:xfrm>
          <a:prstGeom prst="wedgeEllipseCallout">
            <a:avLst>
              <a:gd name="adj1" fmla="val 62111"/>
              <a:gd name="adj2" fmla="val 13407"/>
            </a:avLst>
          </a:prstGeom>
          <a:solidFill>
            <a:srgbClr val="e5f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most all known quantum algorithms are black-box</a:t>
            </a:r>
            <a:br>
              <a:rPr sz="24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no quantum </a:t>
            </a:r>
            <a:r>
              <a:rPr b="1" lang="en-CA" sz="2000" spc="-1" strike="noStrike">
                <a:solidFill>
                  <a:srgbClr val="cc00cc"/>
                </a:solidFill>
                <a:latin typeface="Arial"/>
              </a:rPr>
              <a:t>IP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CA" sz="2000" spc="-1" strike="noStrike">
                <a:solidFill>
                  <a:srgbClr val="cc00cc"/>
                </a:solidFill>
                <a:latin typeface="Arial"/>
              </a:rPr>
              <a:t>PSPA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1680" y="5113440"/>
            <a:ext cx="3524400" cy="1485720"/>
          </a:xfrm>
          <a:prstGeom prst="wedgeEllipseCallout">
            <a:avLst>
              <a:gd name="adj1" fmla="val 75000"/>
              <a:gd name="adj2" fmla="val 12500"/>
            </a:avLst>
          </a:prstGeom>
          <a:solidFill>
            <a:srgbClr val="ffe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roof of the pudding is in the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152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gorithm’s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4720" y="685800"/>
          <a:ext cx="2176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685800"/>
                    <a:ext cx="21762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495680" y="53352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 location to que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“workspace”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fter a query trans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74600" y="2362320"/>
          <a:ext cx="364176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4600" y="2362320"/>
                    <a:ext cx="36417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3429000"/>
            <a:ext cx="8305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wo queries, we can apply an arbitrary unitary matrix that doesn’t depend on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number of queries needed to ach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36680" y="4876920"/>
          <a:ext cx="3449880" cy="17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6680" y="4876920"/>
                    <a:ext cx="3449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019920" y="5181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oracles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Arial"/>
              </a:rPr>
              <a:t>Problem: Find 2 numbers that are the same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ach number appears twice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67652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69696"/>
                </a:solidFill>
                <a:latin typeface="Arial"/>
              </a:rPr>
              <a:t>28  12  18  76  96  82  94  99  21  78  88  93  39  44  64  32  99  70  18  94  66  92  64  95  46  53  16  35  42  72  31  66  75  33  93  32  47  17  70  37  78  79  36  63  40  69  92  71  28  85  41  80  10  73  63  95  57  43  84  67  57  31  62  39  65  74  24  90  26  83  60  91  27  96  35  20  26  52  88  89  38  97  54  30  62  79  71  84  50  38  49  20  47  24  54  48  98  23  41  16  40  75  82  13  58  56  81  34  14  61  52  21  44  22  34  14  51  74  76  83  37  90  58  13  10  25  29  11  56  68  12  61  51  23  77  68  72  43  69  46  87  97  45  59  73  30  19  81  86  49  60  85  80  50  11  59  65  67  89  29  86  48  22  15  17  55  36  27  42  55  77  19  45  15  53  98  91  87  25  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765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104920"/>
            <a:ext cx="5257800" cy="1373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rthday paradox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randomized algorithm must exam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of the 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3786120"/>
            <a:ext cx="411480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[Brassard-H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ø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yer-Tapp 1997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based on Grover that uses onl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3809880"/>
            <a:ext cx="327672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optimal?  Proving a lower bound better than constant was open for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Motivation for the Collision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733920" y="914400"/>
            <a:ext cx="5029200" cy="3048120"/>
            <a:chOff x="3733920" y="914400"/>
            <a:chExt cx="5029200" cy="3048120"/>
          </a:xfrm>
        </p:grpSpPr>
        <p:sp>
          <p:nvSpPr>
            <p:cNvPr id="206" name=""/>
            <p:cNvSpPr/>
            <p:nvPr/>
          </p:nvSpPr>
          <p:spPr>
            <a:xfrm>
              <a:off x="3962520" y="259092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raph Isomorphism: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d a collision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267080" y="1295280"/>
              <a:ext cx="1371600" cy="1219320"/>
              <a:chOff x="4267080" y="1295280"/>
              <a:chExt cx="1371600" cy="121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4343040" y="137160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495252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5288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4952520" y="1371600"/>
                <a:ext cx="60948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952880" y="19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4952520" y="1905120"/>
                <a:ext cx="6094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43040" y="1905120"/>
                <a:ext cx="6098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6708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7656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76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86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86040" y="1828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560" y="23623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6708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781680" y="1295280"/>
              <a:ext cx="1447560" cy="1143000"/>
              <a:chOff x="6781680" y="1295280"/>
              <a:chExt cx="1447560" cy="114300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7314840" y="1371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238880" y="1828800"/>
                <a:ext cx="3045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6857280" y="1371600"/>
                <a:ext cx="3812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48360" y="137160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543440" y="18288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38880" y="1371600"/>
                <a:ext cx="30456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54308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784800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857640" y="1828800"/>
                <a:ext cx="3812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674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62560" y="2286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816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162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72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72040" y="22860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7696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943600" y="137160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3809880" y="3429000"/>
            <a:ext cx="487044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3429000"/>
                      <a:ext cx="487044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4" name=""/>
            <p:cNvSpPr/>
            <p:nvPr/>
          </p:nvSpPr>
          <p:spPr>
            <a:xfrm>
              <a:off x="3733920" y="914400"/>
              <a:ext cx="502920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85840" y="4237200"/>
            <a:ext cx="8472240" cy="2354040"/>
            <a:chOff x="285840" y="4237200"/>
            <a:chExt cx="8472240" cy="2354040"/>
          </a:xfrm>
        </p:grpSpPr>
        <p:sp>
          <p:nvSpPr>
            <p:cNvPr id="246" name=""/>
            <p:cNvSpPr/>
            <p:nvPr/>
          </p:nvSpPr>
          <p:spPr>
            <a:xfrm>
              <a:off x="358920" y="5942160"/>
              <a:ext cx="796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tatistical Zero Knowledge (SZK) protoco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840" y="4237200"/>
              <a:ext cx="8472240" cy="235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257560" y="4897440"/>
              <a:ext cx="4212720" cy="617400"/>
              <a:chOff x="2257560" y="4897440"/>
              <a:chExt cx="4212720" cy="617400"/>
            </a:xfrm>
          </p:grpSpPr>
          <p:sp>
            <p:nvSpPr>
              <p:cNvPr id="249" name=""/>
              <p:cNvSpPr/>
              <p:nvPr/>
            </p:nvSpPr>
            <p:spPr>
              <a:xfrm>
                <a:off x="2327400" y="5514840"/>
                <a:ext cx="414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257560" y="4897440"/>
                <a:ext cx="414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rot="1049400">
              <a:off x="7681320" y="4478400"/>
              <a:ext cx="62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ff9933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647640" y="4424400"/>
              <a:ext cx="1562040" cy="1488960"/>
              <a:chOff x="647640" y="4424400"/>
              <a:chExt cx="1562040" cy="1488960"/>
            </a:xfrm>
          </p:grpSpPr>
          <p:sp>
            <p:nvSpPr>
              <p:cNvPr id="253" name=""/>
              <p:cNvSpPr/>
              <p:nvPr/>
            </p:nvSpPr>
            <p:spPr>
              <a:xfrm>
                <a:off x="652320" y="5122800"/>
                <a:ext cx="1555920" cy="790560"/>
              </a:xfrm>
              <a:custGeom>
                <a:avLst/>
                <a:gdLst/>
                <a:ahLst/>
                <a:rect l="l" t="t" r="r" b="b"/>
                <a:pathLst>
                  <a:path w="2942" h="1493">
                    <a:moveTo>
                      <a:pt x="537" y="69"/>
                    </a:moveTo>
                    <a:lnTo>
                      <a:pt x="332" y="457"/>
                    </a:lnTo>
                    <a:lnTo>
                      <a:pt x="288" y="591"/>
                    </a:lnTo>
                    <a:lnTo>
                      <a:pt x="279" y="641"/>
                    </a:lnTo>
                    <a:lnTo>
                      <a:pt x="174" y="710"/>
                    </a:lnTo>
                    <a:lnTo>
                      <a:pt x="174" y="829"/>
                    </a:lnTo>
                    <a:lnTo>
                      <a:pt x="121" y="829"/>
                    </a:lnTo>
                    <a:lnTo>
                      <a:pt x="106" y="911"/>
                    </a:lnTo>
                    <a:lnTo>
                      <a:pt x="61" y="970"/>
                    </a:lnTo>
                    <a:lnTo>
                      <a:pt x="0" y="1015"/>
                    </a:lnTo>
                    <a:lnTo>
                      <a:pt x="54" y="1140"/>
                    </a:lnTo>
                    <a:lnTo>
                      <a:pt x="54" y="1186"/>
                    </a:lnTo>
                    <a:lnTo>
                      <a:pt x="22" y="1232"/>
                    </a:lnTo>
                    <a:lnTo>
                      <a:pt x="99" y="1314"/>
                    </a:lnTo>
                    <a:lnTo>
                      <a:pt x="106" y="1493"/>
                    </a:lnTo>
                    <a:lnTo>
                      <a:pt x="2942" y="1493"/>
                    </a:lnTo>
                    <a:lnTo>
                      <a:pt x="2925" y="1186"/>
                    </a:lnTo>
                    <a:lnTo>
                      <a:pt x="2888" y="1105"/>
                    </a:lnTo>
                    <a:lnTo>
                      <a:pt x="2864" y="970"/>
                    </a:lnTo>
                    <a:lnTo>
                      <a:pt x="2789" y="768"/>
                    </a:lnTo>
                    <a:lnTo>
                      <a:pt x="2578" y="546"/>
                    </a:lnTo>
                    <a:lnTo>
                      <a:pt x="552" y="0"/>
                    </a:lnTo>
                    <a:lnTo>
                      <a:pt x="537" y="69"/>
                    </a:lnTo>
                    <a:lnTo>
                      <a:pt x="537" y="69"/>
                    </a:lnTo>
                    <a:lnTo>
                      <a:pt x="537" y="69"/>
                    </a:lnTo>
                    <a:close/>
                  </a:path>
                </a:pathLst>
              </a:custGeom>
              <a:solidFill>
                <a:srgbClr val="99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0280" y="5613480"/>
                <a:ext cx="487440" cy="255600"/>
              </a:xfrm>
              <a:custGeom>
                <a:avLst/>
                <a:gdLst/>
                <a:ahLst/>
                <a:rect l="l" t="t" r="r" b="b"/>
                <a:pathLst>
                  <a:path w="923" h="484">
                    <a:moveTo>
                      <a:pt x="160" y="0"/>
                    </a:moveTo>
                    <a:lnTo>
                      <a:pt x="32" y="335"/>
                    </a:lnTo>
                    <a:lnTo>
                      <a:pt x="0" y="484"/>
                    </a:lnTo>
                    <a:lnTo>
                      <a:pt x="137" y="484"/>
                    </a:lnTo>
                    <a:lnTo>
                      <a:pt x="923" y="469"/>
                    </a:lnTo>
                    <a:lnTo>
                      <a:pt x="801" y="82"/>
                    </a:lnTo>
                    <a:lnTo>
                      <a:pt x="719" y="306"/>
                    </a:lnTo>
                    <a:lnTo>
                      <a:pt x="665" y="119"/>
                    </a:lnTo>
                    <a:lnTo>
                      <a:pt x="507" y="365"/>
                    </a:lnTo>
                    <a:lnTo>
                      <a:pt x="552" y="66"/>
                    </a:lnTo>
                    <a:lnTo>
                      <a:pt x="431" y="253"/>
                    </a:lnTo>
                    <a:lnTo>
                      <a:pt x="439" y="8"/>
                    </a:lnTo>
                    <a:lnTo>
                      <a:pt x="257" y="395"/>
                    </a:lnTo>
                    <a:lnTo>
                      <a:pt x="220" y="214"/>
                    </a:lnTo>
                    <a:lnTo>
                      <a:pt x="113" y="291"/>
                    </a:lnTo>
                    <a:lnTo>
                      <a:pt x="175" y="38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0320" y="5499000"/>
                <a:ext cx="558720" cy="374760"/>
              </a:xfrm>
              <a:custGeom>
                <a:avLst/>
                <a:gdLst/>
                <a:ahLst/>
                <a:rect l="l" t="t" r="r" b="b"/>
                <a:pathLst>
                  <a:path w="1057" h="708">
                    <a:moveTo>
                      <a:pt x="89" y="311"/>
                    </a:moveTo>
                    <a:lnTo>
                      <a:pt x="29" y="403"/>
                    </a:lnTo>
                    <a:lnTo>
                      <a:pt x="0" y="551"/>
                    </a:lnTo>
                    <a:lnTo>
                      <a:pt x="0" y="708"/>
                    </a:lnTo>
                    <a:lnTo>
                      <a:pt x="1057" y="700"/>
                    </a:lnTo>
                    <a:lnTo>
                      <a:pt x="1020" y="626"/>
                    </a:lnTo>
                    <a:lnTo>
                      <a:pt x="861" y="551"/>
                    </a:lnTo>
                    <a:lnTo>
                      <a:pt x="794" y="492"/>
                    </a:lnTo>
                    <a:lnTo>
                      <a:pt x="747" y="349"/>
                    </a:lnTo>
                    <a:lnTo>
                      <a:pt x="710" y="37"/>
                    </a:lnTo>
                    <a:lnTo>
                      <a:pt x="702" y="358"/>
                    </a:lnTo>
                    <a:lnTo>
                      <a:pt x="696" y="492"/>
                    </a:lnTo>
                    <a:lnTo>
                      <a:pt x="627" y="469"/>
                    </a:lnTo>
                    <a:lnTo>
                      <a:pt x="597" y="320"/>
                    </a:lnTo>
                    <a:lnTo>
                      <a:pt x="520" y="447"/>
                    </a:lnTo>
                    <a:lnTo>
                      <a:pt x="490" y="380"/>
                    </a:lnTo>
                    <a:lnTo>
                      <a:pt x="536" y="0"/>
                    </a:lnTo>
                    <a:lnTo>
                      <a:pt x="431" y="290"/>
                    </a:lnTo>
                    <a:lnTo>
                      <a:pt x="384" y="320"/>
                    </a:lnTo>
                    <a:lnTo>
                      <a:pt x="415" y="74"/>
                    </a:lnTo>
                    <a:lnTo>
                      <a:pt x="369" y="67"/>
                    </a:lnTo>
                    <a:lnTo>
                      <a:pt x="226" y="207"/>
                    </a:lnTo>
                    <a:lnTo>
                      <a:pt x="113" y="418"/>
                    </a:lnTo>
                    <a:lnTo>
                      <a:pt x="89" y="311"/>
                    </a:lnTo>
                    <a:lnTo>
                      <a:pt x="89" y="311"/>
                    </a:lnTo>
                    <a:lnTo>
                      <a:pt x="89" y="311"/>
                    </a:lnTo>
                    <a:close/>
                  </a:path>
                </a:pathLst>
              </a:cu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9040" y="5186520"/>
                <a:ext cx="282600" cy="607680"/>
              </a:xfrm>
              <a:custGeom>
                <a:avLst/>
                <a:gdLst/>
                <a:ahLst/>
                <a:rect l="l" t="t" r="r" b="b"/>
                <a:pathLst>
                  <a:path w="536" h="1149">
                    <a:moveTo>
                      <a:pt x="445" y="83"/>
                    </a:moveTo>
                    <a:lnTo>
                      <a:pt x="317" y="329"/>
                    </a:lnTo>
                    <a:lnTo>
                      <a:pt x="302" y="412"/>
                    </a:lnTo>
                    <a:lnTo>
                      <a:pt x="325" y="442"/>
                    </a:lnTo>
                    <a:lnTo>
                      <a:pt x="219" y="561"/>
                    </a:lnTo>
                    <a:lnTo>
                      <a:pt x="158" y="599"/>
                    </a:lnTo>
                    <a:lnTo>
                      <a:pt x="188" y="643"/>
                    </a:lnTo>
                    <a:lnTo>
                      <a:pt x="105" y="733"/>
                    </a:lnTo>
                    <a:lnTo>
                      <a:pt x="67" y="762"/>
                    </a:lnTo>
                    <a:lnTo>
                      <a:pt x="97" y="798"/>
                    </a:lnTo>
                    <a:lnTo>
                      <a:pt x="0" y="889"/>
                    </a:lnTo>
                    <a:lnTo>
                      <a:pt x="37" y="949"/>
                    </a:lnTo>
                    <a:lnTo>
                      <a:pt x="37" y="1053"/>
                    </a:lnTo>
                    <a:lnTo>
                      <a:pt x="43" y="1149"/>
                    </a:lnTo>
                    <a:lnTo>
                      <a:pt x="90" y="919"/>
                    </a:lnTo>
                    <a:lnTo>
                      <a:pt x="225" y="762"/>
                    </a:lnTo>
                    <a:lnTo>
                      <a:pt x="355" y="643"/>
                    </a:lnTo>
                    <a:lnTo>
                      <a:pt x="520" y="561"/>
                    </a:lnTo>
                    <a:lnTo>
                      <a:pt x="536" y="345"/>
                    </a:lnTo>
                    <a:lnTo>
                      <a:pt x="513" y="174"/>
                    </a:lnTo>
                    <a:lnTo>
                      <a:pt x="513" y="0"/>
                    </a:lnTo>
                    <a:lnTo>
                      <a:pt x="445" y="83"/>
                    </a:lnTo>
                    <a:lnTo>
                      <a:pt x="445" y="83"/>
                    </a:lnTo>
                    <a:lnTo>
                      <a:pt x="445" y="83"/>
                    </a:lnTo>
                    <a:close/>
                  </a:path>
                </a:pathLst>
              </a:cu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44800" y="5695920"/>
                <a:ext cx="114120" cy="1144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144" y="0"/>
                    </a:moveTo>
                    <a:lnTo>
                      <a:pt x="93" y="54"/>
                    </a:lnTo>
                    <a:lnTo>
                      <a:pt x="29" y="44"/>
                    </a:lnTo>
                    <a:lnTo>
                      <a:pt x="43" y="94"/>
                    </a:lnTo>
                    <a:lnTo>
                      <a:pt x="0" y="149"/>
                    </a:lnTo>
                    <a:lnTo>
                      <a:pt x="55" y="153"/>
                    </a:lnTo>
                    <a:lnTo>
                      <a:pt x="91" y="216"/>
                    </a:lnTo>
                    <a:lnTo>
                      <a:pt x="125" y="153"/>
                    </a:lnTo>
                    <a:lnTo>
                      <a:pt x="215" y="128"/>
                    </a:lnTo>
                    <a:lnTo>
                      <a:pt x="152" y="88"/>
                    </a:lnTo>
                    <a:lnTo>
                      <a:pt x="149" y="11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71640" y="561024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170" h="175">
                    <a:moveTo>
                      <a:pt x="76" y="6"/>
                    </a:moveTo>
                    <a:lnTo>
                      <a:pt x="69" y="69"/>
                    </a:lnTo>
                    <a:lnTo>
                      <a:pt x="0" y="110"/>
                    </a:lnTo>
                    <a:lnTo>
                      <a:pt x="48" y="119"/>
                    </a:lnTo>
                    <a:lnTo>
                      <a:pt x="54" y="175"/>
                    </a:lnTo>
                    <a:lnTo>
                      <a:pt x="93" y="130"/>
                    </a:lnTo>
                    <a:lnTo>
                      <a:pt x="158" y="139"/>
                    </a:lnTo>
                    <a:lnTo>
                      <a:pt x="132" y="71"/>
                    </a:lnTo>
                    <a:lnTo>
                      <a:pt x="170" y="24"/>
                    </a:lnTo>
                    <a:lnTo>
                      <a:pt x="108" y="32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954000" y="5734080"/>
                <a:ext cx="76320" cy="73080"/>
              </a:xfrm>
              <a:custGeom>
                <a:avLst/>
                <a:gdLst/>
                <a:ahLst/>
                <a:rect l="l" t="t" r="r" b="b"/>
                <a:pathLst>
                  <a:path w="143" h="138">
                    <a:moveTo>
                      <a:pt x="78" y="0"/>
                    </a:moveTo>
                    <a:lnTo>
                      <a:pt x="53" y="32"/>
                    </a:lnTo>
                    <a:lnTo>
                      <a:pt x="0" y="38"/>
                    </a:lnTo>
                    <a:lnTo>
                      <a:pt x="21" y="65"/>
                    </a:lnTo>
                    <a:lnTo>
                      <a:pt x="5" y="126"/>
                    </a:lnTo>
                    <a:lnTo>
                      <a:pt x="49" y="112"/>
                    </a:lnTo>
                    <a:lnTo>
                      <a:pt x="102" y="138"/>
                    </a:lnTo>
                    <a:lnTo>
                      <a:pt x="102" y="83"/>
                    </a:lnTo>
                    <a:lnTo>
                      <a:pt x="143" y="45"/>
                    </a:lnTo>
                    <a:lnTo>
                      <a:pt x="94" y="28"/>
                    </a:lnTo>
                    <a:lnTo>
                      <a:pt x="84" y="2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8120" y="575316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175" h="163">
                    <a:moveTo>
                      <a:pt x="41" y="11"/>
                    </a:moveTo>
                    <a:lnTo>
                      <a:pt x="42" y="65"/>
                    </a:lnTo>
                    <a:lnTo>
                      <a:pt x="0" y="113"/>
                    </a:lnTo>
                    <a:lnTo>
                      <a:pt x="46" y="119"/>
                    </a:lnTo>
                    <a:lnTo>
                      <a:pt x="66" y="163"/>
                    </a:lnTo>
                    <a:lnTo>
                      <a:pt x="102" y="115"/>
                    </a:lnTo>
                    <a:lnTo>
                      <a:pt x="175" y="119"/>
                    </a:lnTo>
                    <a:lnTo>
                      <a:pt x="129" y="66"/>
                    </a:lnTo>
                    <a:lnTo>
                      <a:pt x="150" y="0"/>
                    </a:lnTo>
                    <a:lnTo>
                      <a:pt x="100" y="30"/>
                    </a:lnTo>
                    <a:lnTo>
                      <a:pt x="57" y="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14320" y="5618160"/>
                <a:ext cx="127080" cy="117360"/>
              </a:xfrm>
              <a:custGeom>
                <a:avLst/>
                <a:gdLst/>
                <a:ahLst/>
                <a:rect l="l" t="t" r="r" b="b"/>
                <a:pathLst>
                  <a:path w="241" h="223">
                    <a:moveTo>
                      <a:pt x="145" y="0"/>
                    </a:moveTo>
                    <a:lnTo>
                      <a:pt x="91" y="66"/>
                    </a:lnTo>
                    <a:lnTo>
                      <a:pt x="0" y="79"/>
                    </a:lnTo>
                    <a:lnTo>
                      <a:pt x="47" y="135"/>
                    </a:lnTo>
                    <a:lnTo>
                      <a:pt x="27" y="202"/>
                    </a:lnTo>
                    <a:lnTo>
                      <a:pt x="100" y="166"/>
                    </a:lnTo>
                    <a:lnTo>
                      <a:pt x="158" y="223"/>
                    </a:lnTo>
                    <a:lnTo>
                      <a:pt x="176" y="143"/>
                    </a:lnTo>
                    <a:lnTo>
                      <a:pt x="241" y="85"/>
                    </a:lnTo>
                    <a:lnTo>
                      <a:pt x="157" y="64"/>
                    </a:lnTo>
                    <a:lnTo>
                      <a:pt x="150" y="1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905040" y="5398920"/>
                <a:ext cx="68040" cy="57240"/>
              </a:xfrm>
              <a:custGeom>
                <a:avLst/>
                <a:gdLst/>
                <a:ahLst/>
                <a:rect l="l" t="t" r="r" b="b"/>
                <a:pathLst>
                  <a:path w="127" h="109">
                    <a:moveTo>
                      <a:pt x="48" y="0"/>
                    </a:moveTo>
                    <a:lnTo>
                      <a:pt x="36" y="40"/>
                    </a:lnTo>
                    <a:lnTo>
                      <a:pt x="0" y="73"/>
                    </a:lnTo>
                    <a:lnTo>
                      <a:pt x="24" y="109"/>
                    </a:lnTo>
                    <a:lnTo>
                      <a:pt x="58" y="80"/>
                    </a:lnTo>
                    <a:lnTo>
                      <a:pt x="97" y="98"/>
                    </a:lnTo>
                    <a:lnTo>
                      <a:pt x="97" y="49"/>
                    </a:lnTo>
                    <a:lnTo>
                      <a:pt x="127" y="20"/>
                    </a:lnTo>
                    <a:lnTo>
                      <a:pt x="70" y="14"/>
                    </a:lnTo>
                    <a:lnTo>
                      <a:pt x="62" y="5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8080" y="525132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169" h="215">
                    <a:moveTo>
                      <a:pt x="73" y="30"/>
                    </a:moveTo>
                    <a:lnTo>
                      <a:pt x="120" y="0"/>
                    </a:lnTo>
                    <a:lnTo>
                      <a:pt x="117" y="79"/>
                    </a:lnTo>
                    <a:lnTo>
                      <a:pt x="169" y="102"/>
                    </a:lnTo>
                    <a:lnTo>
                      <a:pt x="111" y="138"/>
                    </a:lnTo>
                    <a:lnTo>
                      <a:pt x="108" y="215"/>
                    </a:lnTo>
                    <a:lnTo>
                      <a:pt x="49" y="163"/>
                    </a:lnTo>
                    <a:lnTo>
                      <a:pt x="3" y="206"/>
                    </a:lnTo>
                    <a:lnTo>
                      <a:pt x="0" y="162"/>
                    </a:lnTo>
                    <a:lnTo>
                      <a:pt x="68" y="44"/>
                    </a:lnTo>
                    <a:lnTo>
                      <a:pt x="73" y="30"/>
                    </a:lnTo>
                    <a:lnTo>
                      <a:pt x="73" y="30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95520" y="4984920"/>
                <a:ext cx="541080" cy="498240"/>
              </a:xfrm>
              <a:custGeom>
                <a:avLst/>
                <a:gdLst/>
                <a:ahLst/>
                <a:rect l="l" t="t" r="r" b="b"/>
                <a:pathLst>
                  <a:path w="1024" h="943">
                    <a:moveTo>
                      <a:pt x="606" y="0"/>
                    </a:moveTo>
                    <a:lnTo>
                      <a:pt x="497" y="3"/>
                    </a:lnTo>
                    <a:lnTo>
                      <a:pt x="388" y="25"/>
                    </a:lnTo>
                    <a:lnTo>
                      <a:pt x="200" y="79"/>
                    </a:lnTo>
                    <a:lnTo>
                      <a:pt x="60" y="223"/>
                    </a:lnTo>
                    <a:lnTo>
                      <a:pt x="0" y="537"/>
                    </a:lnTo>
                    <a:lnTo>
                      <a:pt x="93" y="817"/>
                    </a:lnTo>
                    <a:lnTo>
                      <a:pt x="353" y="943"/>
                    </a:lnTo>
                    <a:lnTo>
                      <a:pt x="711" y="892"/>
                    </a:lnTo>
                    <a:lnTo>
                      <a:pt x="847" y="805"/>
                    </a:lnTo>
                    <a:lnTo>
                      <a:pt x="1002" y="611"/>
                    </a:lnTo>
                    <a:lnTo>
                      <a:pt x="1024" y="386"/>
                    </a:lnTo>
                    <a:lnTo>
                      <a:pt x="978" y="235"/>
                    </a:lnTo>
                    <a:lnTo>
                      <a:pt x="943" y="168"/>
                    </a:lnTo>
                    <a:lnTo>
                      <a:pt x="869" y="93"/>
                    </a:lnTo>
                    <a:lnTo>
                      <a:pt x="746" y="28"/>
                    </a:lnTo>
                    <a:lnTo>
                      <a:pt x="664" y="9"/>
                    </a:lnTo>
                    <a:lnTo>
                      <a:pt x="662" y="9"/>
                    </a:lnTo>
                    <a:lnTo>
                      <a:pt x="606" y="0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38360" y="5002200"/>
                <a:ext cx="395280" cy="379440"/>
              </a:xfrm>
              <a:custGeom>
                <a:avLst/>
                <a:gdLst/>
                <a:ahLst/>
                <a:rect l="l" t="t" r="r" b="b"/>
                <a:pathLst>
                  <a:path w="747" h="717">
                    <a:moveTo>
                      <a:pt x="548" y="1"/>
                    </a:moveTo>
                    <a:lnTo>
                      <a:pt x="501" y="0"/>
                    </a:lnTo>
                    <a:lnTo>
                      <a:pt x="385" y="13"/>
                    </a:lnTo>
                    <a:lnTo>
                      <a:pt x="248" y="56"/>
                    </a:lnTo>
                    <a:lnTo>
                      <a:pt x="134" y="109"/>
                    </a:lnTo>
                    <a:lnTo>
                      <a:pt x="57" y="203"/>
                    </a:lnTo>
                    <a:lnTo>
                      <a:pt x="8" y="327"/>
                    </a:lnTo>
                    <a:lnTo>
                      <a:pt x="0" y="439"/>
                    </a:lnTo>
                    <a:lnTo>
                      <a:pt x="25" y="519"/>
                    </a:lnTo>
                    <a:lnTo>
                      <a:pt x="81" y="577"/>
                    </a:lnTo>
                    <a:lnTo>
                      <a:pt x="175" y="632"/>
                    </a:lnTo>
                    <a:lnTo>
                      <a:pt x="316" y="685"/>
                    </a:lnTo>
                    <a:lnTo>
                      <a:pt x="439" y="715"/>
                    </a:lnTo>
                    <a:lnTo>
                      <a:pt x="524" y="717"/>
                    </a:lnTo>
                    <a:lnTo>
                      <a:pt x="538" y="679"/>
                    </a:lnTo>
                    <a:lnTo>
                      <a:pt x="560" y="618"/>
                    </a:lnTo>
                    <a:lnTo>
                      <a:pt x="598" y="593"/>
                    </a:lnTo>
                    <a:lnTo>
                      <a:pt x="660" y="588"/>
                    </a:lnTo>
                    <a:lnTo>
                      <a:pt x="664" y="549"/>
                    </a:lnTo>
                    <a:lnTo>
                      <a:pt x="664" y="479"/>
                    </a:lnTo>
                    <a:lnTo>
                      <a:pt x="688" y="401"/>
                    </a:lnTo>
                    <a:lnTo>
                      <a:pt x="743" y="374"/>
                    </a:lnTo>
                    <a:lnTo>
                      <a:pt x="747" y="296"/>
                    </a:lnTo>
                    <a:lnTo>
                      <a:pt x="721" y="196"/>
                    </a:lnTo>
                    <a:lnTo>
                      <a:pt x="670" y="90"/>
                    </a:lnTo>
                    <a:lnTo>
                      <a:pt x="585" y="15"/>
                    </a:lnTo>
                    <a:lnTo>
                      <a:pt x="548" y="1"/>
                    </a:lnTo>
                    <a:lnTo>
                      <a:pt x="548" y="1"/>
                    </a:lnTo>
                    <a:lnTo>
                      <a:pt x="548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0200" y="4427640"/>
                <a:ext cx="1135080" cy="1482480"/>
              </a:xfrm>
              <a:custGeom>
                <a:avLst/>
                <a:gdLst/>
                <a:ahLst/>
                <a:rect l="l" t="t" r="r" b="b"/>
                <a:pathLst>
                  <a:path w="2144" h="2803">
                    <a:moveTo>
                      <a:pt x="957" y="53"/>
                    </a:moveTo>
                    <a:lnTo>
                      <a:pt x="859" y="65"/>
                    </a:lnTo>
                    <a:lnTo>
                      <a:pt x="760" y="104"/>
                    </a:lnTo>
                    <a:lnTo>
                      <a:pt x="642" y="188"/>
                    </a:lnTo>
                    <a:lnTo>
                      <a:pt x="570" y="264"/>
                    </a:lnTo>
                    <a:lnTo>
                      <a:pt x="537" y="337"/>
                    </a:lnTo>
                    <a:lnTo>
                      <a:pt x="497" y="460"/>
                    </a:lnTo>
                    <a:lnTo>
                      <a:pt x="485" y="564"/>
                    </a:lnTo>
                    <a:lnTo>
                      <a:pt x="471" y="589"/>
                    </a:lnTo>
                    <a:lnTo>
                      <a:pt x="419" y="634"/>
                    </a:lnTo>
                    <a:lnTo>
                      <a:pt x="419" y="739"/>
                    </a:lnTo>
                    <a:lnTo>
                      <a:pt x="413" y="776"/>
                    </a:lnTo>
                    <a:lnTo>
                      <a:pt x="439" y="746"/>
                    </a:lnTo>
                    <a:lnTo>
                      <a:pt x="458" y="660"/>
                    </a:lnTo>
                    <a:lnTo>
                      <a:pt x="524" y="627"/>
                    </a:lnTo>
                    <a:lnTo>
                      <a:pt x="485" y="686"/>
                    </a:lnTo>
                    <a:lnTo>
                      <a:pt x="485" y="739"/>
                    </a:lnTo>
                    <a:lnTo>
                      <a:pt x="446" y="809"/>
                    </a:lnTo>
                    <a:lnTo>
                      <a:pt x="426" y="862"/>
                    </a:lnTo>
                    <a:lnTo>
                      <a:pt x="413" y="984"/>
                    </a:lnTo>
                    <a:lnTo>
                      <a:pt x="354" y="1081"/>
                    </a:lnTo>
                    <a:lnTo>
                      <a:pt x="241" y="1171"/>
                    </a:lnTo>
                    <a:lnTo>
                      <a:pt x="111" y="1269"/>
                    </a:lnTo>
                    <a:lnTo>
                      <a:pt x="58" y="1327"/>
                    </a:lnTo>
                    <a:lnTo>
                      <a:pt x="45" y="1366"/>
                    </a:lnTo>
                    <a:lnTo>
                      <a:pt x="52" y="1464"/>
                    </a:lnTo>
                    <a:lnTo>
                      <a:pt x="98" y="1366"/>
                    </a:lnTo>
                    <a:lnTo>
                      <a:pt x="150" y="1288"/>
                    </a:lnTo>
                    <a:lnTo>
                      <a:pt x="281" y="1210"/>
                    </a:lnTo>
                    <a:lnTo>
                      <a:pt x="439" y="1101"/>
                    </a:lnTo>
                    <a:lnTo>
                      <a:pt x="334" y="1210"/>
                    </a:lnTo>
                    <a:lnTo>
                      <a:pt x="188" y="1341"/>
                    </a:lnTo>
                    <a:lnTo>
                      <a:pt x="156" y="1437"/>
                    </a:lnTo>
                    <a:lnTo>
                      <a:pt x="163" y="1566"/>
                    </a:lnTo>
                    <a:lnTo>
                      <a:pt x="176" y="1619"/>
                    </a:lnTo>
                    <a:lnTo>
                      <a:pt x="137" y="1663"/>
                    </a:lnTo>
                    <a:lnTo>
                      <a:pt x="45" y="1702"/>
                    </a:lnTo>
                    <a:lnTo>
                      <a:pt x="6" y="1755"/>
                    </a:lnTo>
                    <a:lnTo>
                      <a:pt x="0" y="1845"/>
                    </a:lnTo>
                    <a:lnTo>
                      <a:pt x="58" y="1954"/>
                    </a:lnTo>
                    <a:lnTo>
                      <a:pt x="72" y="1904"/>
                    </a:lnTo>
                    <a:lnTo>
                      <a:pt x="45" y="1845"/>
                    </a:lnTo>
                    <a:lnTo>
                      <a:pt x="52" y="1768"/>
                    </a:lnTo>
                    <a:lnTo>
                      <a:pt x="137" y="1728"/>
                    </a:lnTo>
                    <a:lnTo>
                      <a:pt x="183" y="1722"/>
                    </a:lnTo>
                    <a:lnTo>
                      <a:pt x="229" y="1652"/>
                    </a:lnTo>
                    <a:lnTo>
                      <a:pt x="268" y="1722"/>
                    </a:lnTo>
                    <a:lnTo>
                      <a:pt x="321" y="1599"/>
                    </a:lnTo>
                    <a:lnTo>
                      <a:pt x="485" y="1321"/>
                    </a:lnTo>
                    <a:lnTo>
                      <a:pt x="595" y="1341"/>
                    </a:lnTo>
                    <a:lnTo>
                      <a:pt x="564" y="1573"/>
                    </a:lnTo>
                    <a:lnTo>
                      <a:pt x="550" y="1652"/>
                    </a:lnTo>
                    <a:lnTo>
                      <a:pt x="576" y="1742"/>
                    </a:lnTo>
                    <a:lnTo>
                      <a:pt x="544" y="1865"/>
                    </a:lnTo>
                    <a:lnTo>
                      <a:pt x="564" y="1982"/>
                    </a:lnTo>
                    <a:lnTo>
                      <a:pt x="615" y="1982"/>
                    </a:lnTo>
                    <a:lnTo>
                      <a:pt x="629" y="1962"/>
                    </a:lnTo>
                    <a:lnTo>
                      <a:pt x="623" y="1877"/>
                    </a:lnTo>
                    <a:lnTo>
                      <a:pt x="682" y="1755"/>
                    </a:lnTo>
                    <a:lnTo>
                      <a:pt x="701" y="1890"/>
                    </a:lnTo>
                    <a:lnTo>
                      <a:pt x="741" y="1728"/>
                    </a:lnTo>
                    <a:lnTo>
                      <a:pt x="819" y="1831"/>
                    </a:lnTo>
                    <a:lnTo>
                      <a:pt x="911" y="1831"/>
                    </a:lnTo>
                    <a:lnTo>
                      <a:pt x="989" y="1831"/>
                    </a:lnTo>
                    <a:lnTo>
                      <a:pt x="1011" y="2103"/>
                    </a:lnTo>
                    <a:lnTo>
                      <a:pt x="1017" y="2136"/>
                    </a:lnTo>
                    <a:lnTo>
                      <a:pt x="1056" y="2187"/>
                    </a:lnTo>
                    <a:lnTo>
                      <a:pt x="1174" y="2279"/>
                    </a:lnTo>
                    <a:lnTo>
                      <a:pt x="1225" y="2298"/>
                    </a:lnTo>
                    <a:lnTo>
                      <a:pt x="1278" y="2375"/>
                    </a:lnTo>
                    <a:lnTo>
                      <a:pt x="1318" y="2434"/>
                    </a:lnTo>
                    <a:lnTo>
                      <a:pt x="1318" y="2564"/>
                    </a:lnTo>
                    <a:lnTo>
                      <a:pt x="1357" y="2641"/>
                    </a:lnTo>
                    <a:lnTo>
                      <a:pt x="1436" y="2712"/>
                    </a:lnTo>
                    <a:lnTo>
                      <a:pt x="1528" y="2771"/>
                    </a:lnTo>
                    <a:lnTo>
                      <a:pt x="1554" y="2803"/>
                    </a:lnTo>
                    <a:lnTo>
                      <a:pt x="1672" y="2783"/>
                    </a:lnTo>
                    <a:lnTo>
                      <a:pt x="1751" y="2771"/>
                    </a:lnTo>
                    <a:lnTo>
                      <a:pt x="1757" y="2668"/>
                    </a:lnTo>
                    <a:lnTo>
                      <a:pt x="1706" y="2629"/>
                    </a:lnTo>
                    <a:lnTo>
                      <a:pt x="1698" y="2551"/>
                    </a:lnTo>
                    <a:lnTo>
                      <a:pt x="1751" y="2506"/>
                    </a:lnTo>
                    <a:lnTo>
                      <a:pt x="1757" y="2576"/>
                    </a:lnTo>
                    <a:lnTo>
                      <a:pt x="1804" y="2635"/>
                    </a:lnTo>
                    <a:lnTo>
                      <a:pt x="1796" y="2486"/>
                    </a:lnTo>
                    <a:lnTo>
                      <a:pt x="1843" y="2473"/>
                    </a:lnTo>
                    <a:lnTo>
                      <a:pt x="1902" y="2389"/>
                    </a:lnTo>
                    <a:lnTo>
                      <a:pt x="1934" y="2402"/>
                    </a:lnTo>
                    <a:lnTo>
                      <a:pt x="1980" y="2266"/>
                    </a:lnTo>
                    <a:lnTo>
                      <a:pt x="1987" y="2064"/>
                    </a:lnTo>
                    <a:lnTo>
                      <a:pt x="1916" y="1974"/>
                    </a:lnTo>
                    <a:lnTo>
                      <a:pt x="1804" y="1793"/>
                    </a:lnTo>
                    <a:lnTo>
                      <a:pt x="1744" y="1669"/>
                    </a:lnTo>
                    <a:lnTo>
                      <a:pt x="1725" y="1573"/>
                    </a:lnTo>
                    <a:lnTo>
                      <a:pt x="1725" y="1398"/>
                    </a:lnTo>
                    <a:lnTo>
                      <a:pt x="1777" y="1282"/>
                    </a:lnTo>
                    <a:lnTo>
                      <a:pt x="1843" y="1204"/>
                    </a:lnTo>
                    <a:lnTo>
                      <a:pt x="1928" y="1134"/>
                    </a:lnTo>
                    <a:lnTo>
                      <a:pt x="2085" y="1081"/>
                    </a:lnTo>
                    <a:lnTo>
                      <a:pt x="2144" y="1062"/>
                    </a:lnTo>
                    <a:lnTo>
                      <a:pt x="2138" y="971"/>
                    </a:lnTo>
                    <a:lnTo>
                      <a:pt x="2072" y="893"/>
                    </a:lnTo>
                    <a:lnTo>
                      <a:pt x="1909" y="759"/>
                    </a:lnTo>
                    <a:lnTo>
                      <a:pt x="1777" y="504"/>
                    </a:lnTo>
                    <a:lnTo>
                      <a:pt x="1790" y="473"/>
                    </a:lnTo>
                    <a:lnTo>
                      <a:pt x="1830" y="473"/>
                    </a:lnTo>
                    <a:lnTo>
                      <a:pt x="1889" y="421"/>
                    </a:lnTo>
                    <a:lnTo>
                      <a:pt x="1928" y="331"/>
                    </a:lnTo>
                    <a:lnTo>
                      <a:pt x="1875" y="344"/>
                    </a:lnTo>
                    <a:lnTo>
                      <a:pt x="1824" y="331"/>
                    </a:lnTo>
                    <a:lnTo>
                      <a:pt x="1790" y="311"/>
                    </a:lnTo>
                    <a:lnTo>
                      <a:pt x="1757" y="311"/>
                    </a:lnTo>
                    <a:lnTo>
                      <a:pt x="1810" y="253"/>
                    </a:lnTo>
                    <a:lnTo>
                      <a:pt x="1796" y="182"/>
                    </a:lnTo>
                    <a:lnTo>
                      <a:pt x="1770" y="137"/>
                    </a:lnTo>
                    <a:lnTo>
                      <a:pt x="1725" y="227"/>
                    </a:lnTo>
                    <a:lnTo>
                      <a:pt x="1659" y="264"/>
                    </a:lnTo>
                    <a:lnTo>
                      <a:pt x="1594" y="272"/>
                    </a:lnTo>
                    <a:lnTo>
                      <a:pt x="1548" y="169"/>
                    </a:lnTo>
                    <a:lnTo>
                      <a:pt x="1422" y="26"/>
                    </a:lnTo>
                    <a:lnTo>
                      <a:pt x="1331" y="0"/>
                    </a:lnTo>
                    <a:lnTo>
                      <a:pt x="1188" y="6"/>
                    </a:lnTo>
                    <a:lnTo>
                      <a:pt x="1088" y="40"/>
                    </a:lnTo>
                    <a:lnTo>
                      <a:pt x="1029" y="45"/>
                    </a:lnTo>
                    <a:lnTo>
                      <a:pt x="997" y="45"/>
                    </a:lnTo>
                    <a:lnTo>
                      <a:pt x="957" y="53"/>
                    </a:lnTo>
                    <a:lnTo>
                      <a:pt x="957" y="53"/>
                    </a:lnTo>
                    <a:lnTo>
                      <a:pt x="957" y="53"/>
                    </a:lnTo>
                    <a:close/>
                  </a:path>
                </a:pathLst>
              </a:cu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51000" y="5221440"/>
                <a:ext cx="444600" cy="645840"/>
              </a:xfrm>
              <a:custGeom>
                <a:avLst/>
                <a:gdLst/>
                <a:ahLst/>
                <a:rect l="l" t="t" r="r" b="b"/>
                <a:pathLst>
                  <a:path w="838" h="1221">
                    <a:moveTo>
                      <a:pt x="0" y="609"/>
                    </a:moveTo>
                    <a:lnTo>
                      <a:pt x="39" y="662"/>
                    </a:lnTo>
                    <a:lnTo>
                      <a:pt x="50" y="601"/>
                    </a:lnTo>
                    <a:lnTo>
                      <a:pt x="218" y="767"/>
                    </a:lnTo>
                    <a:lnTo>
                      <a:pt x="211" y="701"/>
                    </a:lnTo>
                    <a:lnTo>
                      <a:pt x="314" y="824"/>
                    </a:lnTo>
                    <a:lnTo>
                      <a:pt x="291" y="674"/>
                    </a:lnTo>
                    <a:lnTo>
                      <a:pt x="412" y="969"/>
                    </a:lnTo>
                    <a:lnTo>
                      <a:pt x="397" y="637"/>
                    </a:lnTo>
                    <a:lnTo>
                      <a:pt x="449" y="738"/>
                    </a:lnTo>
                    <a:lnTo>
                      <a:pt x="466" y="834"/>
                    </a:lnTo>
                    <a:lnTo>
                      <a:pt x="477" y="1030"/>
                    </a:lnTo>
                    <a:lnTo>
                      <a:pt x="536" y="1115"/>
                    </a:lnTo>
                    <a:lnTo>
                      <a:pt x="494" y="997"/>
                    </a:lnTo>
                    <a:lnTo>
                      <a:pt x="500" y="817"/>
                    </a:lnTo>
                    <a:lnTo>
                      <a:pt x="500" y="738"/>
                    </a:lnTo>
                    <a:lnTo>
                      <a:pt x="525" y="838"/>
                    </a:lnTo>
                    <a:lnTo>
                      <a:pt x="532" y="1022"/>
                    </a:lnTo>
                    <a:lnTo>
                      <a:pt x="590" y="1149"/>
                    </a:lnTo>
                    <a:lnTo>
                      <a:pt x="574" y="1041"/>
                    </a:lnTo>
                    <a:lnTo>
                      <a:pt x="580" y="922"/>
                    </a:lnTo>
                    <a:lnTo>
                      <a:pt x="609" y="834"/>
                    </a:lnTo>
                    <a:lnTo>
                      <a:pt x="605" y="1022"/>
                    </a:lnTo>
                    <a:lnTo>
                      <a:pt x="635" y="1155"/>
                    </a:lnTo>
                    <a:lnTo>
                      <a:pt x="656" y="1221"/>
                    </a:lnTo>
                    <a:lnTo>
                      <a:pt x="653" y="1138"/>
                    </a:lnTo>
                    <a:lnTo>
                      <a:pt x="635" y="1019"/>
                    </a:lnTo>
                    <a:lnTo>
                      <a:pt x="682" y="922"/>
                    </a:lnTo>
                    <a:lnTo>
                      <a:pt x="712" y="853"/>
                    </a:lnTo>
                    <a:lnTo>
                      <a:pt x="729" y="918"/>
                    </a:lnTo>
                    <a:lnTo>
                      <a:pt x="766" y="782"/>
                    </a:lnTo>
                    <a:lnTo>
                      <a:pt x="796" y="694"/>
                    </a:lnTo>
                    <a:lnTo>
                      <a:pt x="838" y="778"/>
                    </a:lnTo>
                    <a:lnTo>
                      <a:pt x="827" y="649"/>
                    </a:lnTo>
                    <a:lnTo>
                      <a:pt x="769" y="511"/>
                    </a:lnTo>
                    <a:lnTo>
                      <a:pt x="699" y="334"/>
                    </a:lnTo>
                    <a:lnTo>
                      <a:pt x="645" y="89"/>
                    </a:lnTo>
                    <a:lnTo>
                      <a:pt x="638" y="0"/>
                    </a:lnTo>
                    <a:lnTo>
                      <a:pt x="576" y="29"/>
                    </a:lnTo>
                    <a:lnTo>
                      <a:pt x="543" y="143"/>
                    </a:lnTo>
                    <a:lnTo>
                      <a:pt x="532" y="297"/>
                    </a:lnTo>
                    <a:lnTo>
                      <a:pt x="466" y="341"/>
                    </a:lnTo>
                    <a:lnTo>
                      <a:pt x="427" y="430"/>
                    </a:lnTo>
                    <a:lnTo>
                      <a:pt x="211" y="511"/>
                    </a:lnTo>
                    <a:lnTo>
                      <a:pt x="222" y="611"/>
                    </a:lnTo>
                    <a:lnTo>
                      <a:pt x="159" y="537"/>
                    </a:lnTo>
                    <a:lnTo>
                      <a:pt x="181" y="615"/>
                    </a:lnTo>
                    <a:lnTo>
                      <a:pt x="87" y="578"/>
                    </a:lnTo>
                    <a:lnTo>
                      <a:pt x="28" y="593"/>
                    </a:lnTo>
                    <a:lnTo>
                      <a:pt x="0" y="609"/>
                    </a:lnTo>
                    <a:lnTo>
                      <a:pt x="0" y="609"/>
                    </a:lnTo>
                    <a:lnTo>
                      <a:pt x="0" y="6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587600" y="4681440"/>
                <a:ext cx="218880" cy="300240"/>
              </a:xfrm>
              <a:custGeom>
                <a:avLst/>
                <a:gdLst/>
                <a:ahLst/>
                <a:rect l="l" t="t" r="r" b="b"/>
                <a:pathLst>
                  <a:path w="414" h="565">
                    <a:moveTo>
                      <a:pt x="51" y="328"/>
                    </a:moveTo>
                    <a:lnTo>
                      <a:pt x="96" y="520"/>
                    </a:lnTo>
                    <a:lnTo>
                      <a:pt x="88" y="286"/>
                    </a:lnTo>
                    <a:lnTo>
                      <a:pt x="171" y="525"/>
                    </a:lnTo>
                    <a:lnTo>
                      <a:pt x="143" y="265"/>
                    </a:lnTo>
                    <a:lnTo>
                      <a:pt x="226" y="506"/>
                    </a:lnTo>
                    <a:lnTo>
                      <a:pt x="198" y="324"/>
                    </a:lnTo>
                    <a:lnTo>
                      <a:pt x="291" y="565"/>
                    </a:lnTo>
                    <a:lnTo>
                      <a:pt x="281" y="383"/>
                    </a:lnTo>
                    <a:lnTo>
                      <a:pt x="414" y="473"/>
                    </a:lnTo>
                    <a:lnTo>
                      <a:pt x="258" y="338"/>
                    </a:lnTo>
                    <a:lnTo>
                      <a:pt x="184" y="219"/>
                    </a:lnTo>
                    <a:lnTo>
                      <a:pt x="153" y="92"/>
                    </a:lnTo>
                    <a:lnTo>
                      <a:pt x="81" y="0"/>
                    </a:lnTo>
                    <a:lnTo>
                      <a:pt x="0" y="54"/>
                    </a:lnTo>
                    <a:lnTo>
                      <a:pt x="14" y="132"/>
                    </a:lnTo>
                    <a:lnTo>
                      <a:pt x="22" y="305"/>
                    </a:lnTo>
                    <a:lnTo>
                      <a:pt x="51" y="328"/>
                    </a:lnTo>
                    <a:lnTo>
                      <a:pt x="51" y="328"/>
                    </a:lnTo>
                    <a:lnTo>
                      <a:pt x="51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511280" y="4983120"/>
                <a:ext cx="163440" cy="136440"/>
              </a:xfrm>
              <a:custGeom>
                <a:avLst/>
                <a:gdLst/>
                <a:ahLst/>
                <a:rect l="l" t="t" r="r" b="b"/>
                <a:pathLst>
                  <a:path w="310" h="259">
                    <a:moveTo>
                      <a:pt x="60" y="10"/>
                    </a:moveTo>
                    <a:lnTo>
                      <a:pt x="115" y="0"/>
                    </a:lnTo>
                    <a:lnTo>
                      <a:pt x="74" y="27"/>
                    </a:lnTo>
                    <a:lnTo>
                      <a:pt x="239" y="41"/>
                    </a:lnTo>
                    <a:lnTo>
                      <a:pt x="212" y="60"/>
                    </a:lnTo>
                    <a:lnTo>
                      <a:pt x="310" y="104"/>
                    </a:lnTo>
                    <a:lnTo>
                      <a:pt x="258" y="150"/>
                    </a:lnTo>
                    <a:lnTo>
                      <a:pt x="217" y="219"/>
                    </a:lnTo>
                    <a:lnTo>
                      <a:pt x="202" y="259"/>
                    </a:lnTo>
                    <a:lnTo>
                      <a:pt x="157" y="232"/>
                    </a:lnTo>
                    <a:lnTo>
                      <a:pt x="27" y="155"/>
                    </a:lnTo>
                    <a:lnTo>
                      <a:pt x="36" y="210"/>
                    </a:lnTo>
                    <a:lnTo>
                      <a:pt x="0" y="169"/>
                    </a:lnTo>
                    <a:lnTo>
                      <a:pt x="19" y="136"/>
                    </a:lnTo>
                    <a:lnTo>
                      <a:pt x="55" y="118"/>
                    </a:lnTo>
                    <a:lnTo>
                      <a:pt x="55" y="27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54160" y="5065560"/>
                <a:ext cx="217440" cy="238320"/>
              </a:xfrm>
              <a:custGeom>
                <a:avLst/>
                <a:gdLst/>
                <a:ahLst/>
                <a:rect l="l" t="t" r="r" b="b"/>
                <a:pathLst>
                  <a:path w="411" h="452">
                    <a:moveTo>
                      <a:pt x="291" y="0"/>
                    </a:moveTo>
                    <a:lnTo>
                      <a:pt x="231" y="19"/>
                    </a:lnTo>
                    <a:lnTo>
                      <a:pt x="143" y="55"/>
                    </a:lnTo>
                    <a:lnTo>
                      <a:pt x="69" y="137"/>
                    </a:lnTo>
                    <a:lnTo>
                      <a:pt x="101" y="132"/>
                    </a:lnTo>
                    <a:lnTo>
                      <a:pt x="46" y="208"/>
                    </a:lnTo>
                    <a:lnTo>
                      <a:pt x="86" y="205"/>
                    </a:lnTo>
                    <a:lnTo>
                      <a:pt x="27" y="277"/>
                    </a:lnTo>
                    <a:lnTo>
                      <a:pt x="69" y="277"/>
                    </a:lnTo>
                    <a:lnTo>
                      <a:pt x="27" y="345"/>
                    </a:lnTo>
                    <a:lnTo>
                      <a:pt x="0" y="402"/>
                    </a:lnTo>
                    <a:lnTo>
                      <a:pt x="46" y="369"/>
                    </a:lnTo>
                    <a:lnTo>
                      <a:pt x="46" y="452"/>
                    </a:lnTo>
                    <a:lnTo>
                      <a:pt x="91" y="291"/>
                    </a:lnTo>
                    <a:lnTo>
                      <a:pt x="157" y="201"/>
                    </a:lnTo>
                    <a:lnTo>
                      <a:pt x="217" y="173"/>
                    </a:lnTo>
                    <a:lnTo>
                      <a:pt x="175" y="245"/>
                    </a:lnTo>
                    <a:lnTo>
                      <a:pt x="212" y="237"/>
                    </a:lnTo>
                    <a:lnTo>
                      <a:pt x="193" y="336"/>
                    </a:lnTo>
                    <a:lnTo>
                      <a:pt x="234" y="287"/>
                    </a:lnTo>
                    <a:lnTo>
                      <a:pt x="272" y="173"/>
                    </a:lnTo>
                    <a:lnTo>
                      <a:pt x="308" y="156"/>
                    </a:lnTo>
                    <a:lnTo>
                      <a:pt x="360" y="137"/>
                    </a:lnTo>
                    <a:lnTo>
                      <a:pt x="411" y="85"/>
                    </a:lnTo>
                    <a:lnTo>
                      <a:pt x="384" y="37"/>
                    </a:lnTo>
                    <a:lnTo>
                      <a:pt x="308" y="0"/>
                    </a:lnTo>
                    <a:lnTo>
                      <a:pt x="291" y="0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11080" y="4780080"/>
                <a:ext cx="338400" cy="477720"/>
              </a:xfrm>
              <a:custGeom>
                <a:avLst/>
                <a:gdLst/>
                <a:ahLst/>
                <a:rect l="l" t="t" r="r" b="b"/>
                <a:pathLst>
                  <a:path w="640" h="902">
                    <a:moveTo>
                      <a:pt x="244" y="197"/>
                    </a:moveTo>
                    <a:lnTo>
                      <a:pt x="220" y="320"/>
                    </a:lnTo>
                    <a:lnTo>
                      <a:pt x="179" y="420"/>
                    </a:lnTo>
                    <a:lnTo>
                      <a:pt x="0" y="552"/>
                    </a:lnTo>
                    <a:lnTo>
                      <a:pt x="215" y="424"/>
                    </a:lnTo>
                    <a:lnTo>
                      <a:pt x="230" y="452"/>
                    </a:lnTo>
                    <a:lnTo>
                      <a:pt x="72" y="639"/>
                    </a:lnTo>
                    <a:lnTo>
                      <a:pt x="27" y="734"/>
                    </a:lnTo>
                    <a:lnTo>
                      <a:pt x="0" y="867"/>
                    </a:lnTo>
                    <a:lnTo>
                      <a:pt x="72" y="711"/>
                    </a:lnTo>
                    <a:lnTo>
                      <a:pt x="179" y="611"/>
                    </a:lnTo>
                    <a:lnTo>
                      <a:pt x="110" y="783"/>
                    </a:lnTo>
                    <a:lnTo>
                      <a:pt x="100" y="902"/>
                    </a:lnTo>
                    <a:lnTo>
                      <a:pt x="183" y="734"/>
                    </a:lnTo>
                    <a:lnTo>
                      <a:pt x="266" y="602"/>
                    </a:lnTo>
                    <a:lnTo>
                      <a:pt x="341" y="492"/>
                    </a:lnTo>
                    <a:lnTo>
                      <a:pt x="341" y="320"/>
                    </a:lnTo>
                    <a:lnTo>
                      <a:pt x="369" y="183"/>
                    </a:lnTo>
                    <a:lnTo>
                      <a:pt x="390" y="351"/>
                    </a:lnTo>
                    <a:lnTo>
                      <a:pt x="405" y="279"/>
                    </a:lnTo>
                    <a:lnTo>
                      <a:pt x="414" y="506"/>
                    </a:lnTo>
                    <a:lnTo>
                      <a:pt x="433" y="383"/>
                    </a:lnTo>
                    <a:lnTo>
                      <a:pt x="446" y="661"/>
                    </a:lnTo>
                    <a:lnTo>
                      <a:pt x="502" y="320"/>
                    </a:lnTo>
                    <a:lnTo>
                      <a:pt x="520" y="519"/>
                    </a:lnTo>
                    <a:lnTo>
                      <a:pt x="548" y="284"/>
                    </a:lnTo>
                    <a:lnTo>
                      <a:pt x="576" y="420"/>
                    </a:lnTo>
                    <a:lnTo>
                      <a:pt x="607" y="223"/>
                    </a:lnTo>
                    <a:lnTo>
                      <a:pt x="640" y="100"/>
                    </a:lnTo>
                    <a:lnTo>
                      <a:pt x="621" y="60"/>
                    </a:lnTo>
                    <a:lnTo>
                      <a:pt x="510" y="52"/>
                    </a:lnTo>
                    <a:lnTo>
                      <a:pt x="409" y="14"/>
                    </a:lnTo>
                    <a:lnTo>
                      <a:pt x="364" y="0"/>
                    </a:lnTo>
                    <a:lnTo>
                      <a:pt x="317" y="24"/>
                    </a:lnTo>
                    <a:lnTo>
                      <a:pt x="293" y="100"/>
                    </a:lnTo>
                    <a:lnTo>
                      <a:pt x="253" y="178"/>
                    </a:lnTo>
                    <a:lnTo>
                      <a:pt x="244" y="197"/>
                    </a:lnTo>
                    <a:lnTo>
                      <a:pt x="244" y="197"/>
                    </a:lnTo>
                    <a:lnTo>
                      <a:pt x="244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09800" y="4435560"/>
                <a:ext cx="495000" cy="231840"/>
              </a:xfrm>
              <a:custGeom>
                <a:avLst/>
                <a:gdLst/>
                <a:ahLst/>
                <a:rect l="l" t="t" r="r" b="b"/>
                <a:pathLst>
                  <a:path w="936" h="439">
                    <a:moveTo>
                      <a:pt x="401" y="58"/>
                    </a:moveTo>
                    <a:lnTo>
                      <a:pt x="283" y="84"/>
                    </a:lnTo>
                    <a:lnTo>
                      <a:pt x="149" y="142"/>
                    </a:lnTo>
                    <a:lnTo>
                      <a:pt x="44" y="242"/>
                    </a:lnTo>
                    <a:lnTo>
                      <a:pt x="0" y="399"/>
                    </a:lnTo>
                    <a:lnTo>
                      <a:pt x="75" y="261"/>
                    </a:lnTo>
                    <a:lnTo>
                      <a:pt x="218" y="169"/>
                    </a:lnTo>
                    <a:lnTo>
                      <a:pt x="124" y="292"/>
                    </a:lnTo>
                    <a:lnTo>
                      <a:pt x="113" y="396"/>
                    </a:lnTo>
                    <a:lnTo>
                      <a:pt x="124" y="439"/>
                    </a:lnTo>
                    <a:lnTo>
                      <a:pt x="178" y="288"/>
                    </a:lnTo>
                    <a:lnTo>
                      <a:pt x="248" y="206"/>
                    </a:lnTo>
                    <a:lnTo>
                      <a:pt x="321" y="193"/>
                    </a:lnTo>
                    <a:lnTo>
                      <a:pt x="242" y="292"/>
                    </a:lnTo>
                    <a:lnTo>
                      <a:pt x="231" y="389"/>
                    </a:lnTo>
                    <a:lnTo>
                      <a:pt x="252" y="409"/>
                    </a:lnTo>
                    <a:lnTo>
                      <a:pt x="277" y="326"/>
                    </a:lnTo>
                    <a:lnTo>
                      <a:pt x="368" y="255"/>
                    </a:lnTo>
                    <a:lnTo>
                      <a:pt x="452" y="186"/>
                    </a:lnTo>
                    <a:lnTo>
                      <a:pt x="501" y="104"/>
                    </a:lnTo>
                    <a:lnTo>
                      <a:pt x="546" y="93"/>
                    </a:lnTo>
                    <a:lnTo>
                      <a:pt x="620" y="153"/>
                    </a:lnTo>
                    <a:lnTo>
                      <a:pt x="797" y="188"/>
                    </a:lnTo>
                    <a:lnTo>
                      <a:pt x="936" y="236"/>
                    </a:lnTo>
                    <a:lnTo>
                      <a:pt x="763" y="144"/>
                    </a:lnTo>
                    <a:lnTo>
                      <a:pt x="893" y="175"/>
                    </a:lnTo>
                    <a:lnTo>
                      <a:pt x="740" y="88"/>
                    </a:lnTo>
                    <a:lnTo>
                      <a:pt x="824" y="55"/>
                    </a:lnTo>
                    <a:lnTo>
                      <a:pt x="696" y="34"/>
                    </a:lnTo>
                    <a:lnTo>
                      <a:pt x="763" y="19"/>
                    </a:lnTo>
                    <a:lnTo>
                      <a:pt x="679" y="0"/>
                    </a:lnTo>
                    <a:lnTo>
                      <a:pt x="558" y="30"/>
                    </a:lnTo>
                    <a:lnTo>
                      <a:pt x="473" y="49"/>
                    </a:lnTo>
                    <a:lnTo>
                      <a:pt x="470" y="49"/>
                    </a:lnTo>
                    <a:lnTo>
                      <a:pt x="401" y="58"/>
                    </a:lnTo>
                    <a:lnTo>
                      <a:pt x="401" y="58"/>
                    </a:lnTo>
                    <a:lnTo>
                      <a:pt x="401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387440" y="4570560"/>
                <a:ext cx="290520" cy="134640"/>
              </a:xfrm>
              <a:custGeom>
                <a:avLst/>
                <a:gdLst/>
                <a:ahLst/>
                <a:rect l="l" t="t" r="r" b="b"/>
                <a:pathLst>
                  <a:path w="550" h="254">
                    <a:moveTo>
                      <a:pt x="10" y="144"/>
                    </a:moveTo>
                    <a:lnTo>
                      <a:pt x="69" y="92"/>
                    </a:lnTo>
                    <a:lnTo>
                      <a:pt x="119" y="74"/>
                    </a:lnTo>
                    <a:lnTo>
                      <a:pt x="166" y="71"/>
                    </a:lnTo>
                    <a:lnTo>
                      <a:pt x="263" y="84"/>
                    </a:lnTo>
                    <a:lnTo>
                      <a:pt x="265" y="68"/>
                    </a:lnTo>
                    <a:lnTo>
                      <a:pt x="265" y="37"/>
                    </a:lnTo>
                    <a:lnTo>
                      <a:pt x="323" y="25"/>
                    </a:lnTo>
                    <a:lnTo>
                      <a:pt x="389" y="0"/>
                    </a:lnTo>
                    <a:lnTo>
                      <a:pt x="393" y="46"/>
                    </a:lnTo>
                    <a:lnTo>
                      <a:pt x="427" y="15"/>
                    </a:lnTo>
                    <a:lnTo>
                      <a:pt x="422" y="74"/>
                    </a:lnTo>
                    <a:lnTo>
                      <a:pt x="550" y="86"/>
                    </a:lnTo>
                    <a:lnTo>
                      <a:pt x="492" y="106"/>
                    </a:lnTo>
                    <a:lnTo>
                      <a:pt x="409" y="122"/>
                    </a:lnTo>
                    <a:lnTo>
                      <a:pt x="409" y="137"/>
                    </a:lnTo>
                    <a:lnTo>
                      <a:pt x="511" y="178"/>
                    </a:lnTo>
                    <a:lnTo>
                      <a:pt x="427" y="175"/>
                    </a:lnTo>
                    <a:lnTo>
                      <a:pt x="358" y="163"/>
                    </a:lnTo>
                    <a:lnTo>
                      <a:pt x="319" y="166"/>
                    </a:lnTo>
                    <a:lnTo>
                      <a:pt x="339" y="203"/>
                    </a:lnTo>
                    <a:lnTo>
                      <a:pt x="265" y="150"/>
                    </a:lnTo>
                    <a:lnTo>
                      <a:pt x="269" y="194"/>
                    </a:lnTo>
                    <a:lnTo>
                      <a:pt x="237" y="196"/>
                    </a:lnTo>
                    <a:lnTo>
                      <a:pt x="230" y="218"/>
                    </a:lnTo>
                    <a:lnTo>
                      <a:pt x="163" y="200"/>
                    </a:lnTo>
                    <a:lnTo>
                      <a:pt x="151" y="224"/>
                    </a:lnTo>
                    <a:lnTo>
                      <a:pt x="76" y="254"/>
                    </a:lnTo>
                    <a:lnTo>
                      <a:pt x="32" y="254"/>
                    </a:lnTo>
                    <a:lnTo>
                      <a:pt x="10" y="224"/>
                    </a:lnTo>
                    <a:lnTo>
                      <a:pt x="0" y="166"/>
                    </a:lnTo>
                    <a:lnTo>
                      <a:pt x="10" y="144"/>
                    </a:lnTo>
                    <a:lnTo>
                      <a:pt x="10" y="144"/>
                    </a:lnTo>
                    <a:lnTo>
                      <a:pt x="10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85680" y="4659480"/>
                <a:ext cx="352440" cy="131760"/>
              </a:xfrm>
              <a:custGeom>
                <a:avLst/>
                <a:gdLst/>
                <a:ahLst/>
                <a:rect l="l" t="t" r="r" b="b"/>
                <a:pathLst>
                  <a:path w="665" h="248">
                    <a:moveTo>
                      <a:pt x="585" y="4"/>
                    </a:moveTo>
                    <a:lnTo>
                      <a:pt x="541" y="0"/>
                    </a:lnTo>
                    <a:lnTo>
                      <a:pt x="473" y="25"/>
                    </a:lnTo>
                    <a:lnTo>
                      <a:pt x="407" y="40"/>
                    </a:lnTo>
                    <a:lnTo>
                      <a:pt x="352" y="49"/>
                    </a:lnTo>
                    <a:lnTo>
                      <a:pt x="370" y="70"/>
                    </a:lnTo>
                    <a:lnTo>
                      <a:pt x="295" y="88"/>
                    </a:lnTo>
                    <a:lnTo>
                      <a:pt x="208" y="88"/>
                    </a:lnTo>
                    <a:lnTo>
                      <a:pt x="186" y="88"/>
                    </a:lnTo>
                    <a:lnTo>
                      <a:pt x="227" y="128"/>
                    </a:lnTo>
                    <a:lnTo>
                      <a:pt x="183" y="125"/>
                    </a:lnTo>
                    <a:lnTo>
                      <a:pt x="137" y="123"/>
                    </a:lnTo>
                    <a:lnTo>
                      <a:pt x="181" y="147"/>
                    </a:lnTo>
                    <a:lnTo>
                      <a:pt x="181" y="167"/>
                    </a:lnTo>
                    <a:lnTo>
                      <a:pt x="118" y="159"/>
                    </a:lnTo>
                    <a:lnTo>
                      <a:pt x="32" y="159"/>
                    </a:lnTo>
                    <a:lnTo>
                      <a:pt x="0" y="167"/>
                    </a:lnTo>
                    <a:lnTo>
                      <a:pt x="89" y="179"/>
                    </a:lnTo>
                    <a:lnTo>
                      <a:pt x="43" y="202"/>
                    </a:lnTo>
                    <a:lnTo>
                      <a:pt x="118" y="221"/>
                    </a:lnTo>
                    <a:lnTo>
                      <a:pt x="177" y="242"/>
                    </a:lnTo>
                    <a:lnTo>
                      <a:pt x="252" y="248"/>
                    </a:lnTo>
                    <a:lnTo>
                      <a:pt x="323" y="242"/>
                    </a:lnTo>
                    <a:lnTo>
                      <a:pt x="401" y="202"/>
                    </a:lnTo>
                    <a:lnTo>
                      <a:pt x="476" y="187"/>
                    </a:lnTo>
                    <a:lnTo>
                      <a:pt x="436" y="226"/>
                    </a:lnTo>
                    <a:lnTo>
                      <a:pt x="513" y="179"/>
                    </a:lnTo>
                    <a:lnTo>
                      <a:pt x="572" y="134"/>
                    </a:lnTo>
                    <a:lnTo>
                      <a:pt x="583" y="179"/>
                    </a:lnTo>
                    <a:lnTo>
                      <a:pt x="628" y="101"/>
                    </a:lnTo>
                    <a:lnTo>
                      <a:pt x="649" y="110"/>
                    </a:lnTo>
                    <a:lnTo>
                      <a:pt x="665" y="88"/>
                    </a:lnTo>
                    <a:lnTo>
                      <a:pt x="659" y="37"/>
                    </a:lnTo>
                    <a:lnTo>
                      <a:pt x="604" y="6"/>
                    </a:lnTo>
                    <a:lnTo>
                      <a:pt x="585" y="4"/>
                    </a:lnTo>
                    <a:lnTo>
                      <a:pt x="585" y="4"/>
                    </a:lnTo>
                    <a:lnTo>
                      <a:pt x="585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4160" y="4513320"/>
                <a:ext cx="333360" cy="162000"/>
              </a:xfrm>
              <a:custGeom>
                <a:avLst/>
                <a:gdLst/>
                <a:ahLst/>
                <a:rect l="l" t="t" r="r" b="b"/>
                <a:pathLst>
                  <a:path w="630" h="306">
                    <a:moveTo>
                      <a:pt x="268" y="6"/>
                    </a:moveTo>
                    <a:lnTo>
                      <a:pt x="260" y="60"/>
                    </a:lnTo>
                    <a:lnTo>
                      <a:pt x="178" y="112"/>
                    </a:lnTo>
                    <a:lnTo>
                      <a:pt x="86" y="162"/>
                    </a:lnTo>
                    <a:lnTo>
                      <a:pt x="29" y="227"/>
                    </a:lnTo>
                    <a:lnTo>
                      <a:pt x="10" y="261"/>
                    </a:lnTo>
                    <a:lnTo>
                      <a:pt x="0" y="301"/>
                    </a:lnTo>
                    <a:lnTo>
                      <a:pt x="64" y="306"/>
                    </a:lnTo>
                    <a:lnTo>
                      <a:pt x="167" y="246"/>
                    </a:lnTo>
                    <a:lnTo>
                      <a:pt x="252" y="236"/>
                    </a:lnTo>
                    <a:lnTo>
                      <a:pt x="319" y="257"/>
                    </a:lnTo>
                    <a:lnTo>
                      <a:pt x="341" y="246"/>
                    </a:lnTo>
                    <a:lnTo>
                      <a:pt x="391" y="301"/>
                    </a:lnTo>
                    <a:lnTo>
                      <a:pt x="414" y="253"/>
                    </a:lnTo>
                    <a:lnTo>
                      <a:pt x="465" y="198"/>
                    </a:lnTo>
                    <a:lnTo>
                      <a:pt x="518" y="160"/>
                    </a:lnTo>
                    <a:lnTo>
                      <a:pt x="610" y="154"/>
                    </a:lnTo>
                    <a:lnTo>
                      <a:pt x="627" y="127"/>
                    </a:lnTo>
                    <a:lnTo>
                      <a:pt x="630" y="120"/>
                    </a:lnTo>
                    <a:lnTo>
                      <a:pt x="588" y="101"/>
                    </a:lnTo>
                    <a:lnTo>
                      <a:pt x="473" y="70"/>
                    </a:lnTo>
                    <a:lnTo>
                      <a:pt x="367" y="46"/>
                    </a:lnTo>
                    <a:lnTo>
                      <a:pt x="283" y="0"/>
                    </a:lnTo>
                    <a:lnTo>
                      <a:pt x="268" y="6"/>
                    </a:lnTo>
                    <a:lnTo>
                      <a:pt x="268" y="6"/>
                    </a:lnTo>
                    <a:lnTo>
                      <a:pt x="268" y="6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52480" y="5330880"/>
                <a:ext cx="233640" cy="220680"/>
              </a:xfrm>
              <a:custGeom>
                <a:avLst/>
                <a:gdLst/>
                <a:ahLst/>
                <a:rect l="l" t="t" r="r" b="b"/>
                <a:pathLst>
                  <a:path w="440" h="417">
                    <a:moveTo>
                      <a:pt x="416" y="0"/>
                    </a:moveTo>
                    <a:lnTo>
                      <a:pt x="370" y="35"/>
                    </a:lnTo>
                    <a:lnTo>
                      <a:pt x="350" y="65"/>
                    </a:lnTo>
                    <a:lnTo>
                      <a:pt x="350" y="185"/>
                    </a:lnTo>
                    <a:lnTo>
                      <a:pt x="261" y="243"/>
                    </a:lnTo>
                    <a:lnTo>
                      <a:pt x="128" y="275"/>
                    </a:lnTo>
                    <a:lnTo>
                      <a:pt x="99" y="261"/>
                    </a:lnTo>
                    <a:lnTo>
                      <a:pt x="8" y="246"/>
                    </a:lnTo>
                    <a:lnTo>
                      <a:pt x="0" y="296"/>
                    </a:lnTo>
                    <a:lnTo>
                      <a:pt x="94" y="403"/>
                    </a:lnTo>
                    <a:lnTo>
                      <a:pt x="156" y="417"/>
                    </a:lnTo>
                    <a:lnTo>
                      <a:pt x="364" y="297"/>
                    </a:lnTo>
                    <a:lnTo>
                      <a:pt x="440" y="215"/>
                    </a:lnTo>
                    <a:lnTo>
                      <a:pt x="430" y="16"/>
                    </a:lnTo>
                    <a:lnTo>
                      <a:pt x="416" y="0"/>
                    </a:lnTo>
                    <a:lnTo>
                      <a:pt x="416" y="0"/>
                    </a:lnTo>
                    <a:lnTo>
                      <a:pt x="416" y="0"/>
                    </a:lnTo>
                    <a:close/>
                  </a:path>
                </a:pathLst>
              </a:custGeom>
              <a:solidFill>
                <a:srgbClr val="f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71560" y="5345280"/>
                <a:ext cx="192240" cy="180720"/>
              </a:xfrm>
              <a:custGeom>
                <a:avLst/>
                <a:gdLst/>
                <a:ahLst/>
                <a:rect l="l" t="t" r="r" b="b"/>
                <a:pathLst>
                  <a:path w="361" h="342">
                    <a:moveTo>
                      <a:pt x="334" y="3"/>
                    </a:moveTo>
                    <a:lnTo>
                      <a:pt x="351" y="0"/>
                    </a:lnTo>
                    <a:lnTo>
                      <a:pt x="361" y="28"/>
                    </a:lnTo>
                    <a:lnTo>
                      <a:pt x="358" y="158"/>
                    </a:lnTo>
                    <a:lnTo>
                      <a:pt x="340" y="200"/>
                    </a:lnTo>
                    <a:lnTo>
                      <a:pt x="281" y="252"/>
                    </a:lnTo>
                    <a:lnTo>
                      <a:pt x="127" y="332"/>
                    </a:lnTo>
                    <a:lnTo>
                      <a:pt x="78" y="342"/>
                    </a:lnTo>
                    <a:lnTo>
                      <a:pt x="44" y="302"/>
                    </a:lnTo>
                    <a:lnTo>
                      <a:pt x="1" y="263"/>
                    </a:lnTo>
                    <a:lnTo>
                      <a:pt x="0" y="223"/>
                    </a:lnTo>
                    <a:lnTo>
                      <a:pt x="74" y="234"/>
                    </a:lnTo>
                    <a:lnTo>
                      <a:pt x="185" y="223"/>
                    </a:lnTo>
                    <a:lnTo>
                      <a:pt x="305" y="166"/>
                    </a:lnTo>
                    <a:lnTo>
                      <a:pt x="314" y="141"/>
                    </a:lnTo>
                    <a:lnTo>
                      <a:pt x="309" y="37"/>
                    </a:lnTo>
                    <a:lnTo>
                      <a:pt x="334" y="3"/>
                    </a:lnTo>
                    <a:lnTo>
                      <a:pt x="334" y="3"/>
                    </a:lnTo>
                    <a:lnTo>
                      <a:pt x="334" y="3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996920" y="5181480"/>
                <a:ext cx="127080" cy="258840"/>
              </a:xfrm>
              <a:custGeom>
                <a:avLst/>
                <a:gdLst/>
                <a:ahLst/>
                <a:rect l="l" t="t" r="r" b="b"/>
                <a:pathLst>
                  <a:path w="239" h="490">
                    <a:moveTo>
                      <a:pt x="189" y="3"/>
                    </a:moveTo>
                    <a:lnTo>
                      <a:pt x="194" y="108"/>
                    </a:lnTo>
                    <a:lnTo>
                      <a:pt x="239" y="312"/>
                    </a:lnTo>
                    <a:lnTo>
                      <a:pt x="216" y="338"/>
                    </a:lnTo>
                    <a:lnTo>
                      <a:pt x="166" y="366"/>
                    </a:lnTo>
                    <a:lnTo>
                      <a:pt x="97" y="440"/>
                    </a:lnTo>
                    <a:lnTo>
                      <a:pt x="22" y="489"/>
                    </a:lnTo>
                    <a:lnTo>
                      <a:pt x="0" y="490"/>
                    </a:lnTo>
                    <a:lnTo>
                      <a:pt x="0" y="451"/>
                    </a:lnTo>
                    <a:lnTo>
                      <a:pt x="41" y="415"/>
                    </a:lnTo>
                    <a:lnTo>
                      <a:pt x="53" y="351"/>
                    </a:lnTo>
                    <a:lnTo>
                      <a:pt x="51" y="228"/>
                    </a:lnTo>
                    <a:lnTo>
                      <a:pt x="24" y="161"/>
                    </a:lnTo>
                    <a:lnTo>
                      <a:pt x="31" y="99"/>
                    </a:lnTo>
                    <a:lnTo>
                      <a:pt x="82" y="72"/>
                    </a:lnTo>
                    <a:lnTo>
                      <a:pt x="88" y="89"/>
                    </a:lnTo>
                    <a:lnTo>
                      <a:pt x="126" y="168"/>
                    </a:lnTo>
                    <a:lnTo>
                      <a:pt x="135" y="51"/>
                    </a:lnTo>
                    <a:lnTo>
                      <a:pt x="149" y="13"/>
                    </a:lnTo>
                    <a:lnTo>
                      <a:pt x="174" y="0"/>
                    </a:lnTo>
                    <a:lnTo>
                      <a:pt x="189" y="3"/>
                    </a:lnTo>
                    <a:lnTo>
                      <a:pt x="189" y="3"/>
                    </a:lnTo>
                    <a:lnTo>
                      <a:pt x="189" y="3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55600" y="5118120"/>
                <a:ext cx="436680" cy="474480"/>
              </a:xfrm>
              <a:custGeom>
                <a:avLst/>
                <a:gdLst/>
                <a:ahLst/>
                <a:rect l="l" t="t" r="r" b="b"/>
                <a:pathLst>
                  <a:path w="825" h="896">
                    <a:moveTo>
                      <a:pt x="586" y="0"/>
                    </a:moveTo>
                    <a:lnTo>
                      <a:pt x="433" y="72"/>
                    </a:lnTo>
                    <a:lnTo>
                      <a:pt x="319" y="104"/>
                    </a:lnTo>
                    <a:lnTo>
                      <a:pt x="270" y="168"/>
                    </a:lnTo>
                    <a:lnTo>
                      <a:pt x="266" y="222"/>
                    </a:lnTo>
                    <a:lnTo>
                      <a:pt x="141" y="361"/>
                    </a:lnTo>
                    <a:lnTo>
                      <a:pt x="56" y="533"/>
                    </a:lnTo>
                    <a:lnTo>
                      <a:pt x="12" y="602"/>
                    </a:lnTo>
                    <a:lnTo>
                      <a:pt x="0" y="673"/>
                    </a:lnTo>
                    <a:lnTo>
                      <a:pt x="21" y="845"/>
                    </a:lnTo>
                    <a:lnTo>
                      <a:pt x="61" y="896"/>
                    </a:lnTo>
                    <a:lnTo>
                      <a:pt x="109" y="778"/>
                    </a:lnTo>
                    <a:lnTo>
                      <a:pt x="203" y="742"/>
                    </a:lnTo>
                    <a:lnTo>
                      <a:pt x="269" y="624"/>
                    </a:lnTo>
                    <a:lnTo>
                      <a:pt x="418" y="599"/>
                    </a:lnTo>
                    <a:lnTo>
                      <a:pt x="581" y="497"/>
                    </a:lnTo>
                    <a:lnTo>
                      <a:pt x="648" y="417"/>
                    </a:lnTo>
                    <a:lnTo>
                      <a:pt x="692" y="279"/>
                    </a:lnTo>
                    <a:lnTo>
                      <a:pt x="678" y="209"/>
                    </a:lnTo>
                    <a:lnTo>
                      <a:pt x="574" y="196"/>
                    </a:lnTo>
                    <a:lnTo>
                      <a:pt x="645" y="125"/>
                    </a:lnTo>
                    <a:lnTo>
                      <a:pt x="803" y="135"/>
                    </a:lnTo>
                    <a:lnTo>
                      <a:pt x="825" y="107"/>
                    </a:lnTo>
                    <a:lnTo>
                      <a:pt x="782" y="37"/>
                    </a:lnTo>
                    <a:lnTo>
                      <a:pt x="660" y="0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19240" y="4700520"/>
                <a:ext cx="487440" cy="503280"/>
              </a:xfrm>
              <a:custGeom>
                <a:avLst/>
                <a:gdLst/>
                <a:ahLst/>
                <a:rect l="l" t="t" r="r" b="b"/>
                <a:pathLst>
                  <a:path w="919" h="949">
                    <a:moveTo>
                      <a:pt x="469" y="31"/>
                    </a:moveTo>
                    <a:lnTo>
                      <a:pt x="382" y="115"/>
                    </a:lnTo>
                    <a:lnTo>
                      <a:pt x="299" y="188"/>
                    </a:lnTo>
                    <a:lnTo>
                      <a:pt x="246" y="207"/>
                    </a:lnTo>
                    <a:lnTo>
                      <a:pt x="169" y="195"/>
                    </a:lnTo>
                    <a:lnTo>
                      <a:pt x="141" y="222"/>
                    </a:lnTo>
                    <a:lnTo>
                      <a:pt x="41" y="277"/>
                    </a:lnTo>
                    <a:lnTo>
                      <a:pt x="0" y="378"/>
                    </a:lnTo>
                    <a:lnTo>
                      <a:pt x="7" y="574"/>
                    </a:lnTo>
                    <a:lnTo>
                      <a:pt x="14" y="911"/>
                    </a:lnTo>
                    <a:lnTo>
                      <a:pt x="21" y="949"/>
                    </a:lnTo>
                    <a:lnTo>
                      <a:pt x="46" y="933"/>
                    </a:lnTo>
                    <a:lnTo>
                      <a:pt x="64" y="906"/>
                    </a:lnTo>
                    <a:lnTo>
                      <a:pt x="74" y="851"/>
                    </a:lnTo>
                    <a:lnTo>
                      <a:pt x="152" y="733"/>
                    </a:lnTo>
                    <a:lnTo>
                      <a:pt x="233" y="686"/>
                    </a:lnTo>
                    <a:lnTo>
                      <a:pt x="357" y="641"/>
                    </a:lnTo>
                    <a:lnTo>
                      <a:pt x="570" y="707"/>
                    </a:lnTo>
                    <a:lnTo>
                      <a:pt x="691" y="672"/>
                    </a:lnTo>
                    <a:lnTo>
                      <a:pt x="786" y="528"/>
                    </a:lnTo>
                    <a:lnTo>
                      <a:pt x="895" y="516"/>
                    </a:lnTo>
                    <a:lnTo>
                      <a:pt x="919" y="516"/>
                    </a:lnTo>
                    <a:lnTo>
                      <a:pt x="904" y="421"/>
                    </a:lnTo>
                    <a:lnTo>
                      <a:pt x="904" y="282"/>
                    </a:lnTo>
                    <a:lnTo>
                      <a:pt x="912" y="161"/>
                    </a:lnTo>
                    <a:lnTo>
                      <a:pt x="907" y="92"/>
                    </a:lnTo>
                    <a:lnTo>
                      <a:pt x="858" y="47"/>
                    </a:lnTo>
                    <a:lnTo>
                      <a:pt x="561" y="56"/>
                    </a:lnTo>
                    <a:lnTo>
                      <a:pt x="529" y="26"/>
                    </a:lnTo>
                    <a:lnTo>
                      <a:pt x="489" y="0"/>
                    </a:lnTo>
                    <a:lnTo>
                      <a:pt x="469" y="31"/>
                    </a:lnTo>
                    <a:lnTo>
                      <a:pt x="469" y="31"/>
                    </a:lnTo>
                    <a:lnTo>
                      <a:pt x="469" y="31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03360" y="4824360"/>
                <a:ext cx="85680" cy="144360"/>
              </a:xfrm>
              <a:custGeom>
                <a:avLst/>
                <a:gdLst/>
                <a:ahLst/>
                <a:rect l="l" t="t" r="r" b="b"/>
                <a:pathLst>
                  <a:path w="163" h="273">
                    <a:moveTo>
                      <a:pt x="7" y="116"/>
                    </a:moveTo>
                    <a:lnTo>
                      <a:pt x="70" y="100"/>
                    </a:lnTo>
                    <a:lnTo>
                      <a:pt x="100" y="71"/>
                    </a:lnTo>
                    <a:lnTo>
                      <a:pt x="138" y="0"/>
                    </a:lnTo>
                    <a:lnTo>
                      <a:pt x="147" y="17"/>
                    </a:lnTo>
                    <a:lnTo>
                      <a:pt x="147" y="21"/>
                    </a:lnTo>
                    <a:lnTo>
                      <a:pt x="144" y="69"/>
                    </a:lnTo>
                    <a:lnTo>
                      <a:pt x="130" y="111"/>
                    </a:lnTo>
                    <a:lnTo>
                      <a:pt x="124" y="133"/>
                    </a:lnTo>
                    <a:lnTo>
                      <a:pt x="124" y="163"/>
                    </a:lnTo>
                    <a:lnTo>
                      <a:pt x="128" y="189"/>
                    </a:lnTo>
                    <a:lnTo>
                      <a:pt x="144" y="232"/>
                    </a:lnTo>
                    <a:lnTo>
                      <a:pt x="163" y="264"/>
                    </a:lnTo>
                    <a:lnTo>
                      <a:pt x="138" y="273"/>
                    </a:lnTo>
                    <a:lnTo>
                      <a:pt x="109" y="258"/>
                    </a:lnTo>
                    <a:lnTo>
                      <a:pt x="100" y="200"/>
                    </a:lnTo>
                    <a:lnTo>
                      <a:pt x="77" y="163"/>
                    </a:lnTo>
                    <a:lnTo>
                      <a:pt x="26" y="141"/>
                    </a:lnTo>
                    <a:lnTo>
                      <a:pt x="0" y="130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44440" y="4924440"/>
                <a:ext cx="169920" cy="122400"/>
              </a:xfrm>
              <a:custGeom>
                <a:avLst/>
                <a:gdLst/>
                <a:ahLst/>
                <a:rect l="l" t="t" r="r" b="b"/>
                <a:pathLst>
                  <a:path w="321" h="232">
                    <a:moveTo>
                      <a:pt x="65" y="46"/>
                    </a:moveTo>
                    <a:lnTo>
                      <a:pt x="156" y="41"/>
                    </a:lnTo>
                    <a:lnTo>
                      <a:pt x="225" y="21"/>
                    </a:lnTo>
                    <a:lnTo>
                      <a:pt x="279" y="0"/>
                    </a:lnTo>
                    <a:lnTo>
                      <a:pt x="314" y="11"/>
                    </a:lnTo>
                    <a:lnTo>
                      <a:pt x="321" y="38"/>
                    </a:lnTo>
                    <a:lnTo>
                      <a:pt x="295" y="69"/>
                    </a:lnTo>
                    <a:lnTo>
                      <a:pt x="260" y="107"/>
                    </a:lnTo>
                    <a:lnTo>
                      <a:pt x="235" y="202"/>
                    </a:lnTo>
                    <a:lnTo>
                      <a:pt x="222" y="222"/>
                    </a:lnTo>
                    <a:lnTo>
                      <a:pt x="156" y="232"/>
                    </a:lnTo>
                    <a:lnTo>
                      <a:pt x="142" y="188"/>
                    </a:lnTo>
                    <a:lnTo>
                      <a:pt x="113" y="100"/>
                    </a:lnTo>
                    <a:lnTo>
                      <a:pt x="52" y="82"/>
                    </a:lnTo>
                    <a:lnTo>
                      <a:pt x="0" y="41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339920" y="4759200"/>
                <a:ext cx="187200" cy="285840"/>
              </a:xfrm>
              <a:custGeom>
                <a:avLst/>
                <a:gdLst/>
                <a:ahLst/>
                <a:rect l="l" t="t" r="r" b="b"/>
                <a:pathLst>
                  <a:path w="353" h="541">
                    <a:moveTo>
                      <a:pt x="123" y="7"/>
                    </a:moveTo>
                    <a:lnTo>
                      <a:pt x="166" y="54"/>
                    </a:lnTo>
                    <a:lnTo>
                      <a:pt x="219" y="184"/>
                    </a:lnTo>
                    <a:lnTo>
                      <a:pt x="246" y="288"/>
                    </a:lnTo>
                    <a:lnTo>
                      <a:pt x="262" y="344"/>
                    </a:lnTo>
                    <a:lnTo>
                      <a:pt x="291" y="344"/>
                    </a:lnTo>
                    <a:lnTo>
                      <a:pt x="326" y="322"/>
                    </a:lnTo>
                    <a:lnTo>
                      <a:pt x="343" y="332"/>
                    </a:lnTo>
                    <a:lnTo>
                      <a:pt x="353" y="365"/>
                    </a:lnTo>
                    <a:lnTo>
                      <a:pt x="345" y="395"/>
                    </a:lnTo>
                    <a:lnTo>
                      <a:pt x="313" y="414"/>
                    </a:lnTo>
                    <a:lnTo>
                      <a:pt x="284" y="475"/>
                    </a:lnTo>
                    <a:lnTo>
                      <a:pt x="249" y="527"/>
                    </a:lnTo>
                    <a:lnTo>
                      <a:pt x="216" y="541"/>
                    </a:lnTo>
                    <a:lnTo>
                      <a:pt x="181" y="538"/>
                    </a:lnTo>
                    <a:lnTo>
                      <a:pt x="114" y="519"/>
                    </a:lnTo>
                    <a:lnTo>
                      <a:pt x="91" y="504"/>
                    </a:lnTo>
                    <a:lnTo>
                      <a:pt x="52" y="502"/>
                    </a:lnTo>
                    <a:lnTo>
                      <a:pt x="16" y="499"/>
                    </a:lnTo>
                    <a:lnTo>
                      <a:pt x="38" y="468"/>
                    </a:lnTo>
                    <a:lnTo>
                      <a:pt x="9" y="464"/>
                    </a:lnTo>
                    <a:lnTo>
                      <a:pt x="21" y="430"/>
                    </a:lnTo>
                    <a:lnTo>
                      <a:pt x="0" y="430"/>
                    </a:lnTo>
                    <a:lnTo>
                      <a:pt x="0" y="414"/>
                    </a:lnTo>
                    <a:lnTo>
                      <a:pt x="11" y="399"/>
                    </a:lnTo>
                    <a:lnTo>
                      <a:pt x="60" y="391"/>
                    </a:lnTo>
                    <a:lnTo>
                      <a:pt x="91" y="370"/>
                    </a:lnTo>
                    <a:lnTo>
                      <a:pt x="166" y="365"/>
                    </a:lnTo>
                    <a:lnTo>
                      <a:pt x="172" y="341"/>
                    </a:lnTo>
                    <a:lnTo>
                      <a:pt x="153" y="179"/>
                    </a:lnTo>
                    <a:lnTo>
                      <a:pt x="123" y="61"/>
                    </a:lnTo>
                    <a:lnTo>
                      <a:pt x="102" y="0"/>
                    </a:lnTo>
                    <a:lnTo>
                      <a:pt x="102" y="4"/>
                    </a:lnTo>
                    <a:lnTo>
                      <a:pt x="123" y="7"/>
                    </a:lnTo>
                    <a:lnTo>
                      <a:pt x="123" y="7"/>
                    </a:lnTo>
                    <a:lnTo>
                      <a:pt x="123" y="7"/>
                    </a:lnTo>
                    <a:close/>
                  </a:path>
                </a:pathLst>
              </a:cu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79480" y="4630680"/>
                <a:ext cx="449280" cy="198360"/>
              </a:xfrm>
              <a:custGeom>
                <a:avLst/>
                <a:gdLst/>
                <a:ahLst/>
                <a:rect l="l" t="t" r="r" b="b"/>
                <a:pathLst>
                  <a:path w="848" h="375">
                    <a:moveTo>
                      <a:pt x="836" y="43"/>
                    </a:moveTo>
                    <a:lnTo>
                      <a:pt x="802" y="30"/>
                    </a:lnTo>
                    <a:lnTo>
                      <a:pt x="760" y="26"/>
                    </a:lnTo>
                    <a:lnTo>
                      <a:pt x="720" y="29"/>
                    </a:lnTo>
                    <a:lnTo>
                      <a:pt x="669" y="45"/>
                    </a:lnTo>
                    <a:lnTo>
                      <a:pt x="604" y="85"/>
                    </a:lnTo>
                    <a:lnTo>
                      <a:pt x="571" y="94"/>
                    </a:lnTo>
                    <a:lnTo>
                      <a:pt x="545" y="91"/>
                    </a:lnTo>
                    <a:lnTo>
                      <a:pt x="506" y="85"/>
                    </a:lnTo>
                    <a:lnTo>
                      <a:pt x="474" y="73"/>
                    </a:lnTo>
                    <a:lnTo>
                      <a:pt x="495" y="93"/>
                    </a:lnTo>
                    <a:lnTo>
                      <a:pt x="538" y="103"/>
                    </a:lnTo>
                    <a:lnTo>
                      <a:pt x="538" y="113"/>
                    </a:lnTo>
                    <a:lnTo>
                      <a:pt x="511" y="118"/>
                    </a:lnTo>
                    <a:lnTo>
                      <a:pt x="471" y="124"/>
                    </a:lnTo>
                    <a:lnTo>
                      <a:pt x="437" y="128"/>
                    </a:lnTo>
                    <a:lnTo>
                      <a:pt x="393" y="127"/>
                    </a:lnTo>
                    <a:lnTo>
                      <a:pt x="371" y="118"/>
                    </a:lnTo>
                    <a:lnTo>
                      <a:pt x="334" y="96"/>
                    </a:lnTo>
                    <a:lnTo>
                      <a:pt x="309" y="83"/>
                    </a:lnTo>
                    <a:lnTo>
                      <a:pt x="356" y="142"/>
                    </a:lnTo>
                    <a:lnTo>
                      <a:pt x="391" y="168"/>
                    </a:lnTo>
                    <a:lnTo>
                      <a:pt x="353" y="164"/>
                    </a:lnTo>
                    <a:lnTo>
                      <a:pt x="313" y="158"/>
                    </a:lnTo>
                    <a:lnTo>
                      <a:pt x="256" y="127"/>
                    </a:lnTo>
                    <a:lnTo>
                      <a:pt x="227" y="93"/>
                    </a:lnTo>
                    <a:lnTo>
                      <a:pt x="210" y="44"/>
                    </a:lnTo>
                    <a:lnTo>
                      <a:pt x="210" y="75"/>
                    </a:lnTo>
                    <a:lnTo>
                      <a:pt x="216" y="104"/>
                    </a:lnTo>
                    <a:lnTo>
                      <a:pt x="233" y="135"/>
                    </a:lnTo>
                    <a:lnTo>
                      <a:pt x="286" y="169"/>
                    </a:lnTo>
                    <a:lnTo>
                      <a:pt x="345" y="191"/>
                    </a:lnTo>
                    <a:lnTo>
                      <a:pt x="343" y="204"/>
                    </a:lnTo>
                    <a:lnTo>
                      <a:pt x="288" y="199"/>
                    </a:lnTo>
                    <a:lnTo>
                      <a:pt x="181" y="206"/>
                    </a:lnTo>
                    <a:lnTo>
                      <a:pt x="128" y="221"/>
                    </a:lnTo>
                    <a:lnTo>
                      <a:pt x="89" y="260"/>
                    </a:lnTo>
                    <a:lnTo>
                      <a:pt x="86" y="293"/>
                    </a:lnTo>
                    <a:lnTo>
                      <a:pt x="86" y="335"/>
                    </a:lnTo>
                    <a:lnTo>
                      <a:pt x="82" y="359"/>
                    </a:lnTo>
                    <a:lnTo>
                      <a:pt x="59" y="372"/>
                    </a:lnTo>
                    <a:lnTo>
                      <a:pt x="35" y="375"/>
                    </a:lnTo>
                    <a:lnTo>
                      <a:pt x="0" y="367"/>
                    </a:lnTo>
                    <a:lnTo>
                      <a:pt x="29" y="369"/>
                    </a:lnTo>
                    <a:lnTo>
                      <a:pt x="53" y="361"/>
                    </a:lnTo>
                    <a:lnTo>
                      <a:pt x="71" y="347"/>
                    </a:lnTo>
                    <a:lnTo>
                      <a:pt x="71" y="326"/>
                    </a:lnTo>
                    <a:lnTo>
                      <a:pt x="69" y="293"/>
                    </a:lnTo>
                    <a:lnTo>
                      <a:pt x="76" y="255"/>
                    </a:lnTo>
                    <a:lnTo>
                      <a:pt x="107" y="212"/>
                    </a:lnTo>
                    <a:lnTo>
                      <a:pt x="143" y="197"/>
                    </a:lnTo>
                    <a:lnTo>
                      <a:pt x="192" y="189"/>
                    </a:lnTo>
                    <a:lnTo>
                      <a:pt x="210" y="122"/>
                    </a:lnTo>
                    <a:lnTo>
                      <a:pt x="195" y="85"/>
                    </a:lnTo>
                    <a:lnTo>
                      <a:pt x="195" y="40"/>
                    </a:lnTo>
                    <a:lnTo>
                      <a:pt x="206" y="10"/>
                    </a:lnTo>
                    <a:lnTo>
                      <a:pt x="220" y="0"/>
                    </a:lnTo>
                    <a:lnTo>
                      <a:pt x="216" y="30"/>
                    </a:lnTo>
                    <a:lnTo>
                      <a:pt x="233" y="65"/>
                    </a:lnTo>
                    <a:lnTo>
                      <a:pt x="244" y="86"/>
                    </a:lnTo>
                    <a:lnTo>
                      <a:pt x="263" y="105"/>
                    </a:lnTo>
                    <a:lnTo>
                      <a:pt x="288" y="43"/>
                    </a:lnTo>
                    <a:lnTo>
                      <a:pt x="298" y="22"/>
                    </a:lnTo>
                    <a:lnTo>
                      <a:pt x="309" y="64"/>
                    </a:lnTo>
                    <a:lnTo>
                      <a:pt x="340" y="84"/>
                    </a:lnTo>
                    <a:lnTo>
                      <a:pt x="382" y="109"/>
                    </a:lnTo>
                    <a:lnTo>
                      <a:pt x="415" y="114"/>
                    </a:lnTo>
                    <a:lnTo>
                      <a:pt x="466" y="109"/>
                    </a:lnTo>
                    <a:lnTo>
                      <a:pt x="482" y="107"/>
                    </a:lnTo>
                    <a:lnTo>
                      <a:pt x="456" y="61"/>
                    </a:lnTo>
                    <a:lnTo>
                      <a:pt x="490" y="65"/>
                    </a:lnTo>
                    <a:lnTo>
                      <a:pt x="541" y="74"/>
                    </a:lnTo>
                    <a:lnTo>
                      <a:pt x="569" y="74"/>
                    </a:lnTo>
                    <a:lnTo>
                      <a:pt x="598" y="61"/>
                    </a:lnTo>
                    <a:lnTo>
                      <a:pt x="647" y="34"/>
                    </a:lnTo>
                    <a:lnTo>
                      <a:pt x="696" y="14"/>
                    </a:lnTo>
                    <a:lnTo>
                      <a:pt x="746" y="2"/>
                    </a:lnTo>
                    <a:lnTo>
                      <a:pt x="799" y="4"/>
                    </a:lnTo>
                    <a:lnTo>
                      <a:pt x="835" y="21"/>
                    </a:lnTo>
                    <a:lnTo>
                      <a:pt x="848" y="46"/>
                    </a:lnTo>
                    <a:lnTo>
                      <a:pt x="836" y="43"/>
                    </a:lnTo>
                    <a:lnTo>
                      <a:pt x="836" y="43"/>
                    </a:lnTo>
                    <a:lnTo>
                      <a:pt x="836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88840" y="4754520"/>
                <a:ext cx="119160" cy="87480"/>
              </a:xfrm>
              <a:custGeom>
                <a:avLst/>
                <a:gdLst/>
                <a:ahLst/>
                <a:rect l="l" t="t" r="r" b="b"/>
                <a:pathLst>
                  <a:path w="225" h="166">
                    <a:moveTo>
                      <a:pt x="16" y="160"/>
                    </a:moveTo>
                    <a:lnTo>
                      <a:pt x="49" y="154"/>
                    </a:lnTo>
                    <a:lnTo>
                      <a:pt x="73" y="135"/>
                    </a:lnTo>
                    <a:lnTo>
                      <a:pt x="84" y="109"/>
                    </a:lnTo>
                    <a:lnTo>
                      <a:pt x="85" y="69"/>
                    </a:lnTo>
                    <a:lnTo>
                      <a:pt x="92" y="45"/>
                    </a:lnTo>
                    <a:lnTo>
                      <a:pt x="112" y="21"/>
                    </a:lnTo>
                    <a:lnTo>
                      <a:pt x="157" y="4"/>
                    </a:lnTo>
                    <a:lnTo>
                      <a:pt x="225" y="0"/>
                    </a:lnTo>
                    <a:lnTo>
                      <a:pt x="220" y="11"/>
                    </a:lnTo>
                    <a:lnTo>
                      <a:pt x="176" y="28"/>
                    </a:lnTo>
                    <a:lnTo>
                      <a:pt x="149" y="54"/>
                    </a:lnTo>
                    <a:lnTo>
                      <a:pt x="133" y="79"/>
                    </a:lnTo>
                    <a:lnTo>
                      <a:pt x="128" y="100"/>
                    </a:lnTo>
                    <a:lnTo>
                      <a:pt x="129" y="138"/>
                    </a:lnTo>
                    <a:lnTo>
                      <a:pt x="118" y="105"/>
                    </a:lnTo>
                    <a:lnTo>
                      <a:pt x="118" y="74"/>
                    </a:lnTo>
                    <a:lnTo>
                      <a:pt x="137" y="38"/>
                    </a:lnTo>
                    <a:lnTo>
                      <a:pt x="112" y="48"/>
                    </a:lnTo>
                    <a:lnTo>
                      <a:pt x="105" y="61"/>
                    </a:lnTo>
                    <a:lnTo>
                      <a:pt x="102" y="81"/>
                    </a:lnTo>
                    <a:lnTo>
                      <a:pt x="98" y="117"/>
                    </a:lnTo>
                    <a:lnTo>
                      <a:pt x="86" y="140"/>
                    </a:lnTo>
                    <a:lnTo>
                      <a:pt x="69" y="158"/>
                    </a:lnTo>
                    <a:lnTo>
                      <a:pt x="53" y="164"/>
                    </a:lnTo>
                    <a:lnTo>
                      <a:pt x="0" y="166"/>
                    </a:lnTo>
                    <a:lnTo>
                      <a:pt x="16" y="160"/>
                    </a:lnTo>
                    <a:lnTo>
                      <a:pt x="16" y="160"/>
                    </a:lnTo>
                    <a:lnTo>
                      <a:pt x="16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42840" y="4595760"/>
                <a:ext cx="446400" cy="335160"/>
              </a:xfrm>
              <a:custGeom>
                <a:avLst/>
                <a:gdLst/>
                <a:ahLst/>
                <a:rect l="l" t="t" r="r" b="b"/>
                <a:pathLst>
                  <a:path w="843" h="633">
                    <a:moveTo>
                      <a:pt x="0" y="633"/>
                    </a:moveTo>
                    <a:lnTo>
                      <a:pt x="3" y="585"/>
                    </a:lnTo>
                    <a:lnTo>
                      <a:pt x="12" y="536"/>
                    </a:lnTo>
                    <a:lnTo>
                      <a:pt x="32" y="476"/>
                    </a:lnTo>
                    <a:lnTo>
                      <a:pt x="44" y="434"/>
                    </a:lnTo>
                    <a:lnTo>
                      <a:pt x="43" y="414"/>
                    </a:lnTo>
                    <a:lnTo>
                      <a:pt x="51" y="393"/>
                    </a:lnTo>
                    <a:lnTo>
                      <a:pt x="69" y="364"/>
                    </a:lnTo>
                    <a:lnTo>
                      <a:pt x="91" y="350"/>
                    </a:lnTo>
                    <a:lnTo>
                      <a:pt x="126" y="340"/>
                    </a:lnTo>
                    <a:lnTo>
                      <a:pt x="166" y="347"/>
                    </a:lnTo>
                    <a:lnTo>
                      <a:pt x="194" y="363"/>
                    </a:lnTo>
                    <a:lnTo>
                      <a:pt x="222" y="378"/>
                    </a:lnTo>
                    <a:lnTo>
                      <a:pt x="278" y="385"/>
                    </a:lnTo>
                    <a:lnTo>
                      <a:pt x="363" y="388"/>
                    </a:lnTo>
                    <a:lnTo>
                      <a:pt x="411" y="379"/>
                    </a:lnTo>
                    <a:lnTo>
                      <a:pt x="475" y="354"/>
                    </a:lnTo>
                    <a:lnTo>
                      <a:pt x="502" y="343"/>
                    </a:lnTo>
                    <a:lnTo>
                      <a:pt x="482" y="370"/>
                    </a:lnTo>
                    <a:lnTo>
                      <a:pt x="445" y="399"/>
                    </a:lnTo>
                    <a:lnTo>
                      <a:pt x="411" y="413"/>
                    </a:lnTo>
                    <a:lnTo>
                      <a:pt x="367" y="423"/>
                    </a:lnTo>
                    <a:lnTo>
                      <a:pt x="358" y="427"/>
                    </a:lnTo>
                    <a:lnTo>
                      <a:pt x="361" y="433"/>
                    </a:lnTo>
                    <a:lnTo>
                      <a:pt x="418" y="429"/>
                    </a:lnTo>
                    <a:lnTo>
                      <a:pt x="479" y="399"/>
                    </a:lnTo>
                    <a:lnTo>
                      <a:pt x="584" y="328"/>
                    </a:lnTo>
                    <a:lnTo>
                      <a:pt x="638" y="289"/>
                    </a:lnTo>
                    <a:lnTo>
                      <a:pt x="633" y="309"/>
                    </a:lnTo>
                    <a:lnTo>
                      <a:pt x="618" y="337"/>
                    </a:lnTo>
                    <a:lnTo>
                      <a:pt x="581" y="394"/>
                    </a:lnTo>
                    <a:lnTo>
                      <a:pt x="634" y="359"/>
                    </a:lnTo>
                    <a:lnTo>
                      <a:pt x="676" y="313"/>
                    </a:lnTo>
                    <a:lnTo>
                      <a:pt x="693" y="286"/>
                    </a:lnTo>
                    <a:lnTo>
                      <a:pt x="718" y="240"/>
                    </a:lnTo>
                    <a:lnTo>
                      <a:pt x="730" y="276"/>
                    </a:lnTo>
                    <a:lnTo>
                      <a:pt x="743" y="269"/>
                    </a:lnTo>
                    <a:lnTo>
                      <a:pt x="750" y="234"/>
                    </a:lnTo>
                    <a:lnTo>
                      <a:pt x="777" y="217"/>
                    </a:lnTo>
                    <a:lnTo>
                      <a:pt x="772" y="158"/>
                    </a:lnTo>
                    <a:lnTo>
                      <a:pt x="745" y="101"/>
                    </a:lnTo>
                    <a:lnTo>
                      <a:pt x="668" y="33"/>
                    </a:lnTo>
                    <a:lnTo>
                      <a:pt x="735" y="74"/>
                    </a:lnTo>
                    <a:lnTo>
                      <a:pt x="679" y="0"/>
                    </a:lnTo>
                    <a:lnTo>
                      <a:pt x="735" y="49"/>
                    </a:lnTo>
                    <a:lnTo>
                      <a:pt x="757" y="81"/>
                    </a:lnTo>
                    <a:lnTo>
                      <a:pt x="786" y="128"/>
                    </a:lnTo>
                    <a:lnTo>
                      <a:pt x="795" y="54"/>
                    </a:lnTo>
                    <a:lnTo>
                      <a:pt x="824" y="96"/>
                    </a:lnTo>
                    <a:lnTo>
                      <a:pt x="843" y="224"/>
                    </a:lnTo>
                    <a:lnTo>
                      <a:pt x="834" y="234"/>
                    </a:lnTo>
                    <a:lnTo>
                      <a:pt x="777" y="281"/>
                    </a:lnTo>
                    <a:lnTo>
                      <a:pt x="681" y="365"/>
                    </a:lnTo>
                    <a:lnTo>
                      <a:pt x="627" y="404"/>
                    </a:lnTo>
                    <a:lnTo>
                      <a:pt x="600" y="412"/>
                    </a:lnTo>
                    <a:lnTo>
                      <a:pt x="555" y="416"/>
                    </a:lnTo>
                    <a:lnTo>
                      <a:pt x="526" y="406"/>
                    </a:lnTo>
                    <a:lnTo>
                      <a:pt x="504" y="404"/>
                    </a:lnTo>
                    <a:lnTo>
                      <a:pt x="487" y="422"/>
                    </a:lnTo>
                    <a:lnTo>
                      <a:pt x="482" y="441"/>
                    </a:lnTo>
                    <a:lnTo>
                      <a:pt x="486" y="458"/>
                    </a:lnTo>
                    <a:lnTo>
                      <a:pt x="514" y="480"/>
                    </a:lnTo>
                    <a:lnTo>
                      <a:pt x="530" y="481"/>
                    </a:lnTo>
                    <a:lnTo>
                      <a:pt x="536" y="451"/>
                    </a:lnTo>
                    <a:lnTo>
                      <a:pt x="573" y="451"/>
                    </a:lnTo>
                    <a:lnTo>
                      <a:pt x="629" y="439"/>
                    </a:lnTo>
                    <a:lnTo>
                      <a:pt x="669" y="412"/>
                    </a:lnTo>
                    <a:lnTo>
                      <a:pt x="720" y="370"/>
                    </a:lnTo>
                    <a:lnTo>
                      <a:pt x="782" y="300"/>
                    </a:lnTo>
                    <a:lnTo>
                      <a:pt x="760" y="339"/>
                    </a:lnTo>
                    <a:lnTo>
                      <a:pt x="731" y="396"/>
                    </a:lnTo>
                    <a:lnTo>
                      <a:pt x="698" y="451"/>
                    </a:lnTo>
                    <a:lnTo>
                      <a:pt x="671" y="480"/>
                    </a:lnTo>
                    <a:lnTo>
                      <a:pt x="642" y="488"/>
                    </a:lnTo>
                    <a:lnTo>
                      <a:pt x="588" y="500"/>
                    </a:lnTo>
                    <a:lnTo>
                      <a:pt x="568" y="508"/>
                    </a:lnTo>
                    <a:lnTo>
                      <a:pt x="566" y="523"/>
                    </a:lnTo>
                    <a:lnTo>
                      <a:pt x="604" y="528"/>
                    </a:lnTo>
                    <a:lnTo>
                      <a:pt x="643" y="517"/>
                    </a:lnTo>
                    <a:lnTo>
                      <a:pt x="727" y="458"/>
                    </a:lnTo>
                    <a:lnTo>
                      <a:pt x="661" y="523"/>
                    </a:lnTo>
                    <a:lnTo>
                      <a:pt x="627" y="537"/>
                    </a:lnTo>
                    <a:lnTo>
                      <a:pt x="600" y="542"/>
                    </a:lnTo>
                    <a:lnTo>
                      <a:pt x="570" y="546"/>
                    </a:lnTo>
                    <a:lnTo>
                      <a:pt x="539" y="535"/>
                    </a:lnTo>
                    <a:lnTo>
                      <a:pt x="453" y="459"/>
                    </a:lnTo>
                    <a:lnTo>
                      <a:pt x="437" y="462"/>
                    </a:lnTo>
                    <a:lnTo>
                      <a:pt x="413" y="473"/>
                    </a:lnTo>
                    <a:lnTo>
                      <a:pt x="396" y="500"/>
                    </a:lnTo>
                    <a:lnTo>
                      <a:pt x="393" y="517"/>
                    </a:lnTo>
                    <a:lnTo>
                      <a:pt x="404" y="540"/>
                    </a:lnTo>
                    <a:lnTo>
                      <a:pt x="428" y="556"/>
                    </a:lnTo>
                    <a:lnTo>
                      <a:pt x="470" y="582"/>
                    </a:lnTo>
                    <a:lnTo>
                      <a:pt x="512" y="597"/>
                    </a:lnTo>
                    <a:lnTo>
                      <a:pt x="564" y="620"/>
                    </a:lnTo>
                    <a:lnTo>
                      <a:pt x="516" y="624"/>
                    </a:lnTo>
                    <a:lnTo>
                      <a:pt x="460" y="629"/>
                    </a:lnTo>
                    <a:lnTo>
                      <a:pt x="418" y="630"/>
                    </a:lnTo>
                    <a:lnTo>
                      <a:pt x="393" y="625"/>
                    </a:lnTo>
                    <a:lnTo>
                      <a:pt x="353" y="607"/>
                    </a:lnTo>
                    <a:lnTo>
                      <a:pt x="328" y="569"/>
                    </a:lnTo>
                    <a:lnTo>
                      <a:pt x="322" y="541"/>
                    </a:lnTo>
                    <a:lnTo>
                      <a:pt x="334" y="407"/>
                    </a:lnTo>
                    <a:lnTo>
                      <a:pt x="275" y="404"/>
                    </a:lnTo>
                    <a:lnTo>
                      <a:pt x="202" y="393"/>
                    </a:lnTo>
                    <a:lnTo>
                      <a:pt x="170" y="372"/>
                    </a:lnTo>
                    <a:lnTo>
                      <a:pt x="146" y="360"/>
                    </a:lnTo>
                    <a:lnTo>
                      <a:pt x="104" y="364"/>
                    </a:lnTo>
                    <a:lnTo>
                      <a:pt x="82" y="399"/>
                    </a:lnTo>
                    <a:lnTo>
                      <a:pt x="43" y="490"/>
                    </a:lnTo>
                    <a:lnTo>
                      <a:pt x="14" y="580"/>
                    </a:lnTo>
                    <a:lnTo>
                      <a:pt x="0" y="633"/>
                    </a:lnTo>
                    <a:lnTo>
                      <a:pt x="0" y="633"/>
                    </a:lnTo>
                    <a:lnTo>
                      <a:pt x="0" y="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359000" y="4764240"/>
                <a:ext cx="65160" cy="180720"/>
              </a:xfrm>
              <a:custGeom>
                <a:avLst/>
                <a:gdLst/>
                <a:ahLst/>
                <a:rect l="l" t="t" r="r" b="b"/>
                <a:pathLst>
                  <a:path w="122" h="342">
                    <a:moveTo>
                      <a:pt x="25" y="0"/>
                    </a:moveTo>
                    <a:lnTo>
                      <a:pt x="14" y="5"/>
                    </a:lnTo>
                    <a:lnTo>
                      <a:pt x="4" y="19"/>
                    </a:lnTo>
                    <a:lnTo>
                      <a:pt x="0" y="44"/>
                    </a:lnTo>
                    <a:lnTo>
                      <a:pt x="2" y="70"/>
                    </a:lnTo>
                    <a:lnTo>
                      <a:pt x="3" y="109"/>
                    </a:lnTo>
                    <a:lnTo>
                      <a:pt x="15" y="159"/>
                    </a:lnTo>
                    <a:lnTo>
                      <a:pt x="32" y="208"/>
                    </a:lnTo>
                    <a:lnTo>
                      <a:pt x="68" y="263"/>
                    </a:lnTo>
                    <a:lnTo>
                      <a:pt x="116" y="342"/>
                    </a:lnTo>
                    <a:lnTo>
                      <a:pt x="122" y="334"/>
                    </a:lnTo>
                    <a:lnTo>
                      <a:pt x="117" y="290"/>
                    </a:lnTo>
                    <a:lnTo>
                      <a:pt x="99" y="196"/>
                    </a:lnTo>
                    <a:lnTo>
                      <a:pt x="83" y="124"/>
                    </a:lnTo>
                    <a:lnTo>
                      <a:pt x="68" y="64"/>
                    </a:lnTo>
                    <a:lnTo>
                      <a:pt x="59" y="28"/>
                    </a:lnTo>
                    <a:lnTo>
                      <a:pt x="39" y="6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73040" y="4591080"/>
                <a:ext cx="211320" cy="60120"/>
              </a:xfrm>
              <a:custGeom>
                <a:avLst/>
                <a:gdLst/>
                <a:ahLst/>
                <a:rect l="l" t="t" r="r" b="b"/>
                <a:pathLst>
                  <a:path w="397" h="114">
                    <a:moveTo>
                      <a:pt x="0" y="94"/>
                    </a:moveTo>
                    <a:lnTo>
                      <a:pt x="36" y="51"/>
                    </a:lnTo>
                    <a:lnTo>
                      <a:pt x="84" y="15"/>
                    </a:lnTo>
                    <a:lnTo>
                      <a:pt x="124" y="1"/>
                    </a:lnTo>
                    <a:lnTo>
                      <a:pt x="174" y="0"/>
                    </a:lnTo>
                    <a:lnTo>
                      <a:pt x="237" y="2"/>
                    </a:lnTo>
                    <a:lnTo>
                      <a:pt x="295" y="13"/>
                    </a:lnTo>
                    <a:lnTo>
                      <a:pt x="356" y="35"/>
                    </a:lnTo>
                    <a:lnTo>
                      <a:pt x="397" y="70"/>
                    </a:lnTo>
                    <a:lnTo>
                      <a:pt x="343" y="44"/>
                    </a:lnTo>
                    <a:lnTo>
                      <a:pt x="285" y="30"/>
                    </a:lnTo>
                    <a:lnTo>
                      <a:pt x="228" y="18"/>
                    </a:lnTo>
                    <a:lnTo>
                      <a:pt x="174" y="16"/>
                    </a:lnTo>
                    <a:lnTo>
                      <a:pt x="125" y="20"/>
                    </a:lnTo>
                    <a:lnTo>
                      <a:pt x="90" y="35"/>
                    </a:lnTo>
                    <a:lnTo>
                      <a:pt x="49" y="62"/>
                    </a:lnTo>
                    <a:lnTo>
                      <a:pt x="4" y="11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84200" y="4618080"/>
                <a:ext cx="297000" cy="314280"/>
              </a:xfrm>
              <a:custGeom>
                <a:avLst/>
                <a:gdLst/>
                <a:ahLst/>
                <a:rect l="l" t="t" r="r" b="b"/>
                <a:pathLst>
                  <a:path w="561" h="593">
                    <a:moveTo>
                      <a:pt x="6" y="171"/>
                    </a:moveTo>
                    <a:lnTo>
                      <a:pt x="26" y="193"/>
                    </a:lnTo>
                    <a:lnTo>
                      <a:pt x="26" y="212"/>
                    </a:lnTo>
                    <a:lnTo>
                      <a:pt x="27" y="230"/>
                    </a:lnTo>
                    <a:lnTo>
                      <a:pt x="54" y="256"/>
                    </a:lnTo>
                    <a:lnTo>
                      <a:pt x="90" y="302"/>
                    </a:lnTo>
                    <a:lnTo>
                      <a:pt x="121" y="363"/>
                    </a:lnTo>
                    <a:lnTo>
                      <a:pt x="147" y="424"/>
                    </a:lnTo>
                    <a:lnTo>
                      <a:pt x="167" y="492"/>
                    </a:lnTo>
                    <a:lnTo>
                      <a:pt x="183" y="568"/>
                    </a:lnTo>
                    <a:lnTo>
                      <a:pt x="197" y="593"/>
                    </a:lnTo>
                    <a:lnTo>
                      <a:pt x="218" y="587"/>
                    </a:lnTo>
                    <a:lnTo>
                      <a:pt x="223" y="566"/>
                    </a:lnTo>
                    <a:lnTo>
                      <a:pt x="207" y="538"/>
                    </a:lnTo>
                    <a:lnTo>
                      <a:pt x="187" y="522"/>
                    </a:lnTo>
                    <a:lnTo>
                      <a:pt x="175" y="485"/>
                    </a:lnTo>
                    <a:lnTo>
                      <a:pt x="158" y="424"/>
                    </a:lnTo>
                    <a:lnTo>
                      <a:pt x="134" y="353"/>
                    </a:lnTo>
                    <a:lnTo>
                      <a:pt x="108" y="300"/>
                    </a:lnTo>
                    <a:lnTo>
                      <a:pt x="93" y="275"/>
                    </a:lnTo>
                    <a:lnTo>
                      <a:pt x="89" y="253"/>
                    </a:lnTo>
                    <a:lnTo>
                      <a:pt x="93" y="237"/>
                    </a:lnTo>
                    <a:lnTo>
                      <a:pt x="126" y="246"/>
                    </a:lnTo>
                    <a:lnTo>
                      <a:pt x="155" y="250"/>
                    </a:lnTo>
                    <a:lnTo>
                      <a:pt x="244" y="250"/>
                    </a:lnTo>
                    <a:lnTo>
                      <a:pt x="263" y="247"/>
                    </a:lnTo>
                    <a:lnTo>
                      <a:pt x="256" y="263"/>
                    </a:lnTo>
                    <a:lnTo>
                      <a:pt x="229" y="290"/>
                    </a:lnTo>
                    <a:lnTo>
                      <a:pt x="188" y="304"/>
                    </a:lnTo>
                    <a:lnTo>
                      <a:pt x="159" y="310"/>
                    </a:lnTo>
                    <a:lnTo>
                      <a:pt x="147" y="310"/>
                    </a:lnTo>
                    <a:lnTo>
                      <a:pt x="150" y="325"/>
                    </a:lnTo>
                    <a:lnTo>
                      <a:pt x="182" y="337"/>
                    </a:lnTo>
                    <a:lnTo>
                      <a:pt x="212" y="325"/>
                    </a:lnTo>
                    <a:lnTo>
                      <a:pt x="257" y="310"/>
                    </a:lnTo>
                    <a:lnTo>
                      <a:pt x="288" y="279"/>
                    </a:lnTo>
                    <a:lnTo>
                      <a:pt x="301" y="248"/>
                    </a:lnTo>
                    <a:lnTo>
                      <a:pt x="306" y="226"/>
                    </a:lnTo>
                    <a:lnTo>
                      <a:pt x="366" y="228"/>
                    </a:lnTo>
                    <a:lnTo>
                      <a:pt x="398" y="198"/>
                    </a:lnTo>
                    <a:lnTo>
                      <a:pt x="398" y="174"/>
                    </a:lnTo>
                    <a:lnTo>
                      <a:pt x="506" y="156"/>
                    </a:lnTo>
                    <a:lnTo>
                      <a:pt x="513" y="134"/>
                    </a:lnTo>
                    <a:lnTo>
                      <a:pt x="536" y="123"/>
                    </a:lnTo>
                    <a:lnTo>
                      <a:pt x="561" y="92"/>
                    </a:lnTo>
                    <a:lnTo>
                      <a:pt x="533" y="104"/>
                    </a:lnTo>
                    <a:lnTo>
                      <a:pt x="478" y="108"/>
                    </a:lnTo>
                    <a:lnTo>
                      <a:pt x="449" y="109"/>
                    </a:lnTo>
                    <a:lnTo>
                      <a:pt x="410" y="102"/>
                    </a:lnTo>
                    <a:lnTo>
                      <a:pt x="373" y="80"/>
                    </a:lnTo>
                    <a:lnTo>
                      <a:pt x="316" y="26"/>
                    </a:lnTo>
                    <a:lnTo>
                      <a:pt x="285" y="6"/>
                    </a:lnTo>
                    <a:lnTo>
                      <a:pt x="204" y="0"/>
                    </a:lnTo>
                    <a:lnTo>
                      <a:pt x="277" y="13"/>
                    </a:lnTo>
                    <a:lnTo>
                      <a:pt x="305" y="34"/>
                    </a:lnTo>
                    <a:lnTo>
                      <a:pt x="324" y="62"/>
                    </a:lnTo>
                    <a:lnTo>
                      <a:pt x="286" y="50"/>
                    </a:lnTo>
                    <a:lnTo>
                      <a:pt x="335" y="79"/>
                    </a:lnTo>
                    <a:lnTo>
                      <a:pt x="386" y="115"/>
                    </a:lnTo>
                    <a:lnTo>
                      <a:pt x="395" y="131"/>
                    </a:lnTo>
                    <a:lnTo>
                      <a:pt x="395" y="149"/>
                    </a:lnTo>
                    <a:lnTo>
                      <a:pt x="388" y="157"/>
                    </a:lnTo>
                    <a:lnTo>
                      <a:pt x="361" y="152"/>
                    </a:lnTo>
                    <a:lnTo>
                      <a:pt x="316" y="115"/>
                    </a:lnTo>
                    <a:lnTo>
                      <a:pt x="285" y="77"/>
                    </a:lnTo>
                    <a:lnTo>
                      <a:pt x="305" y="118"/>
                    </a:lnTo>
                    <a:lnTo>
                      <a:pt x="330" y="152"/>
                    </a:lnTo>
                    <a:lnTo>
                      <a:pt x="258" y="119"/>
                    </a:lnTo>
                    <a:lnTo>
                      <a:pt x="278" y="166"/>
                    </a:lnTo>
                    <a:lnTo>
                      <a:pt x="180" y="128"/>
                    </a:lnTo>
                    <a:lnTo>
                      <a:pt x="185" y="148"/>
                    </a:lnTo>
                    <a:lnTo>
                      <a:pt x="152" y="168"/>
                    </a:lnTo>
                    <a:lnTo>
                      <a:pt x="111" y="182"/>
                    </a:lnTo>
                    <a:lnTo>
                      <a:pt x="74" y="183"/>
                    </a:lnTo>
                    <a:lnTo>
                      <a:pt x="36" y="176"/>
                    </a:lnTo>
                    <a:lnTo>
                      <a:pt x="0" y="154"/>
                    </a:lnTo>
                    <a:lnTo>
                      <a:pt x="6" y="171"/>
                    </a:lnTo>
                    <a:lnTo>
                      <a:pt x="6" y="171"/>
                    </a:lnTo>
                    <a:lnTo>
                      <a:pt x="6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77800" y="4748040"/>
                <a:ext cx="79560" cy="92160"/>
              </a:xfrm>
              <a:custGeom>
                <a:avLst/>
                <a:gdLst/>
                <a:ahLst/>
                <a:rect l="l" t="t" r="r" b="b"/>
                <a:pathLst>
                  <a:path w="149" h="174">
                    <a:moveTo>
                      <a:pt x="138" y="9"/>
                    </a:moveTo>
                    <a:lnTo>
                      <a:pt x="133" y="36"/>
                    </a:lnTo>
                    <a:lnTo>
                      <a:pt x="107" y="74"/>
                    </a:lnTo>
                    <a:lnTo>
                      <a:pt x="66" y="117"/>
                    </a:lnTo>
                    <a:lnTo>
                      <a:pt x="31" y="135"/>
                    </a:lnTo>
                    <a:lnTo>
                      <a:pt x="4" y="138"/>
                    </a:lnTo>
                    <a:lnTo>
                      <a:pt x="0" y="150"/>
                    </a:lnTo>
                    <a:lnTo>
                      <a:pt x="16" y="174"/>
                    </a:lnTo>
                    <a:lnTo>
                      <a:pt x="41" y="170"/>
                    </a:lnTo>
                    <a:lnTo>
                      <a:pt x="77" y="154"/>
                    </a:lnTo>
                    <a:lnTo>
                      <a:pt x="105" y="125"/>
                    </a:lnTo>
                    <a:lnTo>
                      <a:pt x="125" y="100"/>
                    </a:lnTo>
                    <a:lnTo>
                      <a:pt x="141" y="51"/>
                    </a:lnTo>
                    <a:lnTo>
                      <a:pt x="149" y="0"/>
                    </a:lnTo>
                    <a:lnTo>
                      <a:pt x="138" y="9"/>
                    </a:lnTo>
                    <a:lnTo>
                      <a:pt x="138" y="9"/>
                    </a:lnTo>
                    <a:lnTo>
                      <a:pt x="1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469880" y="4506840"/>
                <a:ext cx="162000" cy="92160"/>
              </a:xfrm>
              <a:custGeom>
                <a:avLst/>
                <a:gdLst/>
                <a:ahLst/>
                <a:rect l="l" t="t" r="r" b="b"/>
                <a:pathLst>
                  <a:path w="305" h="173">
                    <a:moveTo>
                      <a:pt x="0" y="166"/>
                    </a:moveTo>
                    <a:lnTo>
                      <a:pt x="11" y="145"/>
                    </a:lnTo>
                    <a:lnTo>
                      <a:pt x="28" y="133"/>
                    </a:lnTo>
                    <a:lnTo>
                      <a:pt x="75" y="126"/>
                    </a:lnTo>
                    <a:lnTo>
                      <a:pt x="151" y="120"/>
                    </a:lnTo>
                    <a:lnTo>
                      <a:pt x="187" y="113"/>
                    </a:lnTo>
                    <a:lnTo>
                      <a:pt x="232" y="89"/>
                    </a:lnTo>
                    <a:lnTo>
                      <a:pt x="268" y="63"/>
                    </a:lnTo>
                    <a:lnTo>
                      <a:pt x="305" y="0"/>
                    </a:lnTo>
                    <a:lnTo>
                      <a:pt x="281" y="62"/>
                    </a:lnTo>
                    <a:lnTo>
                      <a:pt x="271" y="77"/>
                    </a:lnTo>
                    <a:lnTo>
                      <a:pt x="240" y="102"/>
                    </a:lnTo>
                    <a:lnTo>
                      <a:pt x="197" y="121"/>
                    </a:lnTo>
                    <a:lnTo>
                      <a:pt x="163" y="131"/>
                    </a:lnTo>
                    <a:lnTo>
                      <a:pt x="124" y="136"/>
                    </a:lnTo>
                    <a:lnTo>
                      <a:pt x="69" y="141"/>
                    </a:lnTo>
                    <a:lnTo>
                      <a:pt x="64" y="173"/>
                    </a:lnTo>
                    <a:lnTo>
                      <a:pt x="49" y="166"/>
                    </a:lnTo>
                    <a:lnTo>
                      <a:pt x="45" y="146"/>
                    </a:lnTo>
                    <a:lnTo>
                      <a:pt x="34" y="147"/>
                    </a:lnTo>
                    <a:lnTo>
                      <a:pt x="14" y="167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96960" y="451800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86" h="113">
                    <a:moveTo>
                      <a:pt x="76" y="8"/>
                    </a:moveTo>
                    <a:lnTo>
                      <a:pt x="65" y="29"/>
                    </a:lnTo>
                    <a:lnTo>
                      <a:pt x="47" y="59"/>
                    </a:lnTo>
                    <a:lnTo>
                      <a:pt x="32" y="78"/>
                    </a:lnTo>
                    <a:lnTo>
                      <a:pt x="0" y="107"/>
                    </a:lnTo>
                    <a:lnTo>
                      <a:pt x="2" y="113"/>
                    </a:lnTo>
                    <a:lnTo>
                      <a:pt x="12" y="111"/>
                    </a:lnTo>
                    <a:lnTo>
                      <a:pt x="44" y="84"/>
                    </a:lnTo>
                    <a:lnTo>
                      <a:pt x="60" y="63"/>
                    </a:lnTo>
                    <a:lnTo>
                      <a:pt x="86" y="0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14600" y="4527720"/>
                <a:ext cx="123840" cy="96840"/>
              </a:xfrm>
              <a:custGeom>
                <a:avLst/>
                <a:gdLst/>
                <a:ahLst/>
                <a:rect l="l" t="t" r="r" b="b"/>
                <a:pathLst>
                  <a:path w="235" h="184">
                    <a:moveTo>
                      <a:pt x="81" y="14"/>
                    </a:moveTo>
                    <a:lnTo>
                      <a:pt x="77" y="35"/>
                    </a:lnTo>
                    <a:lnTo>
                      <a:pt x="68" y="56"/>
                    </a:lnTo>
                    <a:lnTo>
                      <a:pt x="48" y="80"/>
                    </a:lnTo>
                    <a:lnTo>
                      <a:pt x="3" y="122"/>
                    </a:lnTo>
                    <a:lnTo>
                      <a:pt x="0" y="128"/>
                    </a:lnTo>
                    <a:lnTo>
                      <a:pt x="9" y="133"/>
                    </a:lnTo>
                    <a:lnTo>
                      <a:pt x="40" y="129"/>
                    </a:lnTo>
                    <a:lnTo>
                      <a:pt x="63" y="137"/>
                    </a:lnTo>
                    <a:lnTo>
                      <a:pt x="98" y="157"/>
                    </a:lnTo>
                    <a:lnTo>
                      <a:pt x="137" y="161"/>
                    </a:lnTo>
                    <a:lnTo>
                      <a:pt x="163" y="161"/>
                    </a:lnTo>
                    <a:lnTo>
                      <a:pt x="122" y="184"/>
                    </a:lnTo>
                    <a:lnTo>
                      <a:pt x="155" y="176"/>
                    </a:lnTo>
                    <a:lnTo>
                      <a:pt x="199" y="148"/>
                    </a:lnTo>
                    <a:lnTo>
                      <a:pt x="221" y="122"/>
                    </a:lnTo>
                    <a:lnTo>
                      <a:pt x="235" y="80"/>
                    </a:lnTo>
                    <a:lnTo>
                      <a:pt x="209" y="120"/>
                    </a:lnTo>
                    <a:lnTo>
                      <a:pt x="195" y="132"/>
                    </a:lnTo>
                    <a:lnTo>
                      <a:pt x="171" y="143"/>
                    </a:lnTo>
                    <a:lnTo>
                      <a:pt x="146" y="144"/>
                    </a:lnTo>
                    <a:lnTo>
                      <a:pt x="128" y="144"/>
                    </a:lnTo>
                    <a:lnTo>
                      <a:pt x="102" y="137"/>
                    </a:lnTo>
                    <a:lnTo>
                      <a:pt x="74" y="125"/>
                    </a:lnTo>
                    <a:lnTo>
                      <a:pt x="45" y="109"/>
                    </a:lnTo>
                    <a:lnTo>
                      <a:pt x="72" y="89"/>
                    </a:lnTo>
                    <a:lnTo>
                      <a:pt x="88" y="64"/>
                    </a:lnTo>
                    <a:lnTo>
                      <a:pt x="91" y="38"/>
                    </a:lnTo>
                    <a:lnTo>
                      <a:pt x="86" y="0"/>
                    </a:lnTo>
                    <a:lnTo>
                      <a:pt x="81" y="14"/>
                    </a:lnTo>
                    <a:lnTo>
                      <a:pt x="81" y="14"/>
                    </a:lnTo>
                    <a:lnTo>
                      <a:pt x="8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16040" y="4621320"/>
                <a:ext cx="93600" cy="27000"/>
              </a:xfrm>
              <a:custGeom>
                <a:avLst/>
                <a:gdLst/>
                <a:ahLst/>
                <a:rect l="l" t="t" r="r" b="b"/>
                <a:pathLst>
                  <a:path w="178" h="50">
                    <a:moveTo>
                      <a:pt x="14" y="28"/>
                    </a:moveTo>
                    <a:lnTo>
                      <a:pt x="35" y="33"/>
                    </a:lnTo>
                    <a:lnTo>
                      <a:pt x="74" y="35"/>
                    </a:lnTo>
                    <a:lnTo>
                      <a:pt x="94" y="33"/>
                    </a:lnTo>
                    <a:lnTo>
                      <a:pt x="93" y="18"/>
                    </a:lnTo>
                    <a:lnTo>
                      <a:pt x="110" y="25"/>
                    </a:lnTo>
                    <a:lnTo>
                      <a:pt x="134" y="25"/>
                    </a:lnTo>
                    <a:lnTo>
                      <a:pt x="164" y="14"/>
                    </a:lnTo>
                    <a:lnTo>
                      <a:pt x="178" y="0"/>
                    </a:lnTo>
                    <a:lnTo>
                      <a:pt x="174" y="14"/>
                    </a:lnTo>
                    <a:lnTo>
                      <a:pt x="162" y="26"/>
                    </a:lnTo>
                    <a:lnTo>
                      <a:pt x="137" y="34"/>
                    </a:lnTo>
                    <a:lnTo>
                      <a:pt x="123" y="38"/>
                    </a:lnTo>
                    <a:lnTo>
                      <a:pt x="115" y="44"/>
                    </a:lnTo>
                    <a:lnTo>
                      <a:pt x="90" y="49"/>
                    </a:lnTo>
                    <a:lnTo>
                      <a:pt x="59" y="50"/>
                    </a:lnTo>
                    <a:lnTo>
                      <a:pt x="34" y="46"/>
                    </a:lnTo>
                    <a:lnTo>
                      <a:pt x="0" y="25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54160" y="4498920"/>
                <a:ext cx="338040" cy="162000"/>
              </a:xfrm>
              <a:custGeom>
                <a:avLst/>
                <a:gdLst/>
                <a:ahLst/>
                <a:rect l="l" t="t" r="r" b="b"/>
                <a:pathLst>
                  <a:path w="639" h="305">
                    <a:moveTo>
                      <a:pt x="0" y="301"/>
                    </a:moveTo>
                    <a:lnTo>
                      <a:pt x="8" y="274"/>
                    </a:lnTo>
                    <a:lnTo>
                      <a:pt x="22" y="251"/>
                    </a:lnTo>
                    <a:lnTo>
                      <a:pt x="71" y="203"/>
                    </a:lnTo>
                    <a:lnTo>
                      <a:pt x="120" y="166"/>
                    </a:lnTo>
                    <a:lnTo>
                      <a:pt x="195" y="117"/>
                    </a:lnTo>
                    <a:lnTo>
                      <a:pt x="250" y="69"/>
                    </a:lnTo>
                    <a:lnTo>
                      <a:pt x="268" y="24"/>
                    </a:lnTo>
                    <a:lnTo>
                      <a:pt x="267" y="0"/>
                    </a:lnTo>
                    <a:lnTo>
                      <a:pt x="295" y="25"/>
                    </a:lnTo>
                    <a:lnTo>
                      <a:pt x="322" y="47"/>
                    </a:lnTo>
                    <a:lnTo>
                      <a:pt x="363" y="64"/>
                    </a:lnTo>
                    <a:lnTo>
                      <a:pt x="403" y="79"/>
                    </a:lnTo>
                    <a:lnTo>
                      <a:pt x="480" y="92"/>
                    </a:lnTo>
                    <a:lnTo>
                      <a:pt x="550" y="106"/>
                    </a:lnTo>
                    <a:lnTo>
                      <a:pt x="607" y="128"/>
                    </a:lnTo>
                    <a:lnTo>
                      <a:pt x="639" y="148"/>
                    </a:lnTo>
                    <a:lnTo>
                      <a:pt x="627" y="148"/>
                    </a:lnTo>
                    <a:lnTo>
                      <a:pt x="594" y="137"/>
                    </a:lnTo>
                    <a:lnTo>
                      <a:pt x="551" y="127"/>
                    </a:lnTo>
                    <a:lnTo>
                      <a:pt x="523" y="127"/>
                    </a:lnTo>
                    <a:lnTo>
                      <a:pt x="494" y="131"/>
                    </a:lnTo>
                    <a:lnTo>
                      <a:pt x="460" y="146"/>
                    </a:lnTo>
                    <a:lnTo>
                      <a:pt x="437" y="162"/>
                    </a:lnTo>
                    <a:lnTo>
                      <a:pt x="405" y="185"/>
                    </a:lnTo>
                    <a:lnTo>
                      <a:pt x="422" y="151"/>
                    </a:lnTo>
                    <a:lnTo>
                      <a:pt x="444" y="133"/>
                    </a:lnTo>
                    <a:lnTo>
                      <a:pt x="479" y="113"/>
                    </a:lnTo>
                    <a:lnTo>
                      <a:pt x="479" y="106"/>
                    </a:lnTo>
                    <a:lnTo>
                      <a:pt x="456" y="103"/>
                    </a:lnTo>
                    <a:lnTo>
                      <a:pt x="423" y="104"/>
                    </a:lnTo>
                    <a:lnTo>
                      <a:pt x="387" y="122"/>
                    </a:lnTo>
                    <a:lnTo>
                      <a:pt x="341" y="153"/>
                    </a:lnTo>
                    <a:lnTo>
                      <a:pt x="391" y="102"/>
                    </a:lnTo>
                    <a:lnTo>
                      <a:pt x="392" y="94"/>
                    </a:lnTo>
                    <a:lnTo>
                      <a:pt x="356" y="83"/>
                    </a:lnTo>
                    <a:lnTo>
                      <a:pt x="304" y="62"/>
                    </a:lnTo>
                    <a:lnTo>
                      <a:pt x="284" y="43"/>
                    </a:lnTo>
                    <a:lnTo>
                      <a:pt x="272" y="74"/>
                    </a:lnTo>
                    <a:lnTo>
                      <a:pt x="256" y="91"/>
                    </a:lnTo>
                    <a:lnTo>
                      <a:pt x="210" y="129"/>
                    </a:lnTo>
                    <a:lnTo>
                      <a:pt x="128" y="175"/>
                    </a:lnTo>
                    <a:lnTo>
                      <a:pt x="78" y="211"/>
                    </a:lnTo>
                    <a:lnTo>
                      <a:pt x="36" y="260"/>
                    </a:lnTo>
                    <a:lnTo>
                      <a:pt x="22" y="275"/>
                    </a:lnTo>
                    <a:lnTo>
                      <a:pt x="12" y="305"/>
                    </a:lnTo>
                    <a:lnTo>
                      <a:pt x="0" y="301"/>
                    </a:lnTo>
                    <a:lnTo>
                      <a:pt x="0" y="301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85840" y="4618080"/>
                <a:ext cx="66600" cy="23760"/>
              </a:xfrm>
              <a:custGeom>
                <a:avLst/>
                <a:gdLst/>
                <a:ahLst/>
                <a:rect l="l" t="t" r="r" b="b"/>
                <a:pathLst>
                  <a:path w="125" h="43">
                    <a:moveTo>
                      <a:pt x="0" y="40"/>
                    </a:moveTo>
                    <a:lnTo>
                      <a:pt x="10" y="24"/>
                    </a:lnTo>
                    <a:lnTo>
                      <a:pt x="29" y="10"/>
                    </a:lnTo>
                    <a:lnTo>
                      <a:pt x="55" y="1"/>
                    </a:lnTo>
                    <a:lnTo>
                      <a:pt x="108" y="0"/>
                    </a:lnTo>
                    <a:lnTo>
                      <a:pt x="125" y="4"/>
                    </a:lnTo>
                    <a:lnTo>
                      <a:pt x="125" y="10"/>
                    </a:lnTo>
                    <a:lnTo>
                      <a:pt x="108" y="10"/>
                    </a:lnTo>
                    <a:lnTo>
                      <a:pt x="55" y="13"/>
                    </a:lnTo>
                    <a:lnTo>
                      <a:pt x="30" y="24"/>
                    </a:lnTo>
                    <a:lnTo>
                      <a:pt x="19" y="33"/>
                    </a:lnTo>
                    <a:lnTo>
                      <a:pt x="13" y="43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244520" y="4591080"/>
                <a:ext cx="93600" cy="11160"/>
              </a:xfrm>
              <a:custGeom>
                <a:avLst/>
                <a:gdLst/>
                <a:ahLst/>
                <a:rect l="l" t="t" r="r" b="b"/>
                <a:pathLst>
                  <a:path w="177" h="22">
                    <a:moveTo>
                      <a:pt x="4" y="8"/>
                    </a:moveTo>
                    <a:lnTo>
                      <a:pt x="87" y="9"/>
                    </a:lnTo>
                    <a:lnTo>
                      <a:pt x="124" y="10"/>
                    </a:lnTo>
                    <a:lnTo>
                      <a:pt x="177" y="0"/>
                    </a:lnTo>
                    <a:lnTo>
                      <a:pt x="176" y="9"/>
                    </a:lnTo>
                    <a:lnTo>
                      <a:pt x="160" y="15"/>
                    </a:lnTo>
                    <a:lnTo>
                      <a:pt x="106" y="22"/>
                    </a:lnTo>
                    <a:lnTo>
                      <a:pt x="70" y="19"/>
                    </a:lnTo>
                    <a:lnTo>
                      <a:pt x="0" y="1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15920" y="4519440"/>
                <a:ext cx="135000" cy="171720"/>
              </a:xfrm>
              <a:custGeom>
                <a:avLst/>
                <a:gdLst/>
                <a:ahLst/>
                <a:rect l="l" t="t" r="r" b="b"/>
                <a:pathLst>
                  <a:path w="256" h="326">
                    <a:moveTo>
                      <a:pt x="0" y="317"/>
                    </a:moveTo>
                    <a:lnTo>
                      <a:pt x="32" y="231"/>
                    </a:lnTo>
                    <a:lnTo>
                      <a:pt x="64" y="171"/>
                    </a:lnTo>
                    <a:lnTo>
                      <a:pt x="121" y="107"/>
                    </a:lnTo>
                    <a:lnTo>
                      <a:pt x="179" y="53"/>
                    </a:lnTo>
                    <a:lnTo>
                      <a:pt x="256" y="0"/>
                    </a:lnTo>
                    <a:lnTo>
                      <a:pt x="194" y="59"/>
                    </a:lnTo>
                    <a:lnTo>
                      <a:pt x="137" y="115"/>
                    </a:lnTo>
                    <a:lnTo>
                      <a:pt x="86" y="177"/>
                    </a:lnTo>
                    <a:lnTo>
                      <a:pt x="61" y="219"/>
                    </a:lnTo>
                    <a:lnTo>
                      <a:pt x="43" y="262"/>
                    </a:lnTo>
                    <a:lnTo>
                      <a:pt x="18" y="326"/>
                    </a:lnTo>
                    <a:lnTo>
                      <a:pt x="0" y="317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42920" y="4505400"/>
                <a:ext cx="174600" cy="166680"/>
              </a:xfrm>
              <a:custGeom>
                <a:avLst/>
                <a:gdLst/>
                <a:ahLst/>
                <a:rect l="l" t="t" r="r" b="b"/>
                <a:pathLst>
                  <a:path w="329" h="314">
                    <a:moveTo>
                      <a:pt x="0" y="302"/>
                    </a:moveTo>
                    <a:lnTo>
                      <a:pt x="25" y="260"/>
                    </a:lnTo>
                    <a:lnTo>
                      <a:pt x="73" y="189"/>
                    </a:lnTo>
                    <a:lnTo>
                      <a:pt x="124" y="131"/>
                    </a:lnTo>
                    <a:lnTo>
                      <a:pt x="170" y="91"/>
                    </a:lnTo>
                    <a:lnTo>
                      <a:pt x="231" y="50"/>
                    </a:lnTo>
                    <a:lnTo>
                      <a:pt x="329" y="0"/>
                    </a:lnTo>
                    <a:lnTo>
                      <a:pt x="240" y="59"/>
                    </a:lnTo>
                    <a:lnTo>
                      <a:pt x="182" y="101"/>
                    </a:lnTo>
                    <a:lnTo>
                      <a:pt x="139" y="140"/>
                    </a:lnTo>
                    <a:lnTo>
                      <a:pt x="87" y="198"/>
                    </a:lnTo>
                    <a:lnTo>
                      <a:pt x="36" y="273"/>
                    </a:lnTo>
                    <a:lnTo>
                      <a:pt x="11" y="314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65240" y="4521240"/>
                <a:ext cx="147600" cy="152280"/>
              </a:xfrm>
              <a:custGeom>
                <a:avLst/>
                <a:gdLst/>
                <a:ahLst/>
                <a:rect l="l" t="t" r="r" b="b"/>
                <a:pathLst>
                  <a:path w="281" h="287">
                    <a:moveTo>
                      <a:pt x="0" y="280"/>
                    </a:moveTo>
                    <a:lnTo>
                      <a:pt x="37" y="213"/>
                    </a:lnTo>
                    <a:lnTo>
                      <a:pt x="72" y="167"/>
                    </a:lnTo>
                    <a:lnTo>
                      <a:pt x="126" y="112"/>
                    </a:lnTo>
                    <a:lnTo>
                      <a:pt x="186" y="65"/>
                    </a:lnTo>
                    <a:lnTo>
                      <a:pt x="281" y="0"/>
                    </a:lnTo>
                    <a:lnTo>
                      <a:pt x="196" y="73"/>
                    </a:lnTo>
                    <a:lnTo>
                      <a:pt x="131" y="127"/>
                    </a:lnTo>
                    <a:lnTo>
                      <a:pt x="86" y="176"/>
                    </a:lnTo>
                    <a:lnTo>
                      <a:pt x="52" y="219"/>
                    </a:lnTo>
                    <a:lnTo>
                      <a:pt x="10" y="287"/>
                    </a:lnTo>
                    <a:lnTo>
                      <a:pt x="0" y="280"/>
                    </a:lnTo>
                    <a:lnTo>
                      <a:pt x="0" y="280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968400" y="4676760"/>
                <a:ext cx="19080" cy="58680"/>
              </a:xfrm>
              <a:custGeom>
                <a:avLst/>
                <a:gdLst/>
                <a:ahLst/>
                <a:rect l="l" t="t" r="r" b="b"/>
                <a:pathLst>
                  <a:path w="38" h="111">
                    <a:moveTo>
                      <a:pt x="29" y="0"/>
                    </a:moveTo>
                    <a:lnTo>
                      <a:pt x="15" y="25"/>
                    </a:lnTo>
                    <a:lnTo>
                      <a:pt x="6" y="65"/>
                    </a:lnTo>
                    <a:lnTo>
                      <a:pt x="0" y="111"/>
                    </a:lnTo>
                    <a:lnTo>
                      <a:pt x="14" y="108"/>
                    </a:lnTo>
                    <a:lnTo>
                      <a:pt x="18" y="63"/>
                    </a:lnTo>
                    <a:lnTo>
                      <a:pt x="28" y="33"/>
                    </a:lnTo>
                    <a:lnTo>
                      <a:pt x="38" y="13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946080" y="4451400"/>
                <a:ext cx="290520" cy="288720"/>
              </a:xfrm>
              <a:custGeom>
                <a:avLst/>
                <a:gdLst/>
                <a:ahLst/>
                <a:rect l="l" t="t" r="r" b="b"/>
                <a:pathLst>
                  <a:path w="548" h="546">
                    <a:moveTo>
                      <a:pt x="0" y="546"/>
                    </a:moveTo>
                    <a:lnTo>
                      <a:pt x="9" y="489"/>
                    </a:lnTo>
                    <a:lnTo>
                      <a:pt x="29" y="384"/>
                    </a:lnTo>
                    <a:lnTo>
                      <a:pt x="61" y="285"/>
                    </a:lnTo>
                    <a:lnTo>
                      <a:pt x="93" y="222"/>
                    </a:lnTo>
                    <a:lnTo>
                      <a:pt x="143" y="157"/>
                    </a:lnTo>
                    <a:lnTo>
                      <a:pt x="208" y="102"/>
                    </a:lnTo>
                    <a:lnTo>
                      <a:pt x="295" y="49"/>
                    </a:lnTo>
                    <a:lnTo>
                      <a:pt x="375" y="18"/>
                    </a:lnTo>
                    <a:lnTo>
                      <a:pt x="467" y="0"/>
                    </a:lnTo>
                    <a:lnTo>
                      <a:pt x="548" y="2"/>
                    </a:lnTo>
                    <a:lnTo>
                      <a:pt x="476" y="11"/>
                    </a:lnTo>
                    <a:lnTo>
                      <a:pt x="388" y="33"/>
                    </a:lnTo>
                    <a:lnTo>
                      <a:pt x="305" y="63"/>
                    </a:lnTo>
                    <a:lnTo>
                      <a:pt x="221" y="115"/>
                    </a:lnTo>
                    <a:lnTo>
                      <a:pt x="159" y="174"/>
                    </a:lnTo>
                    <a:lnTo>
                      <a:pt x="112" y="238"/>
                    </a:lnTo>
                    <a:lnTo>
                      <a:pt x="80" y="300"/>
                    </a:lnTo>
                    <a:lnTo>
                      <a:pt x="50" y="389"/>
                    </a:lnTo>
                    <a:lnTo>
                      <a:pt x="24" y="497"/>
                    </a:lnTo>
                    <a:lnTo>
                      <a:pt x="17" y="537"/>
                    </a:lnTo>
                    <a:lnTo>
                      <a:pt x="0" y="546"/>
                    </a:lnTo>
                    <a:lnTo>
                      <a:pt x="0" y="546"/>
                    </a:lnTo>
                    <a:lnTo>
                      <a:pt x="0" y="5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263600" y="4424400"/>
                <a:ext cx="295200" cy="149040"/>
              </a:xfrm>
              <a:custGeom>
                <a:avLst/>
                <a:gdLst/>
                <a:ahLst/>
                <a:rect l="l" t="t" r="r" b="b"/>
                <a:pathLst>
                  <a:path w="557" h="282">
                    <a:moveTo>
                      <a:pt x="0" y="50"/>
                    </a:moveTo>
                    <a:lnTo>
                      <a:pt x="42" y="27"/>
                    </a:lnTo>
                    <a:lnTo>
                      <a:pt x="99" y="9"/>
                    </a:lnTo>
                    <a:lnTo>
                      <a:pt x="170" y="0"/>
                    </a:lnTo>
                    <a:lnTo>
                      <a:pt x="238" y="0"/>
                    </a:lnTo>
                    <a:lnTo>
                      <a:pt x="288" y="6"/>
                    </a:lnTo>
                    <a:lnTo>
                      <a:pt x="356" y="27"/>
                    </a:lnTo>
                    <a:lnTo>
                      <a:pt x="430" y="78"/>
                    </a:lnTo>
                    <a:lnTo>
                      <a:pt x="502" y="153"/>
                    </a:lnTo>
                    <a:lnTo>
                      <a:pt x="557" y="277"/>
                    </a:lnTo>
                    <a:lnTo>
                      <a:pt x="507" y="282"/>
                    </a:lnTo>
                    <a:lnTo>
                      <a:pt x="500" y="251"/>
                    </a:lnTo>
                    <a:lnTo>
                      <a:pt x="458" y="198"/>
                    </a:lnTo>
                    <a:lnTo>
                      <a:pt x="415" y="170"/>
                    </a:lnTo>
                    <a:lnTo>
                      <a:pt x="342" y="153"/>
                    </a:lnTo>
                    <a:lnTo>
                      <a:pt x="412" y="188"/>
                    </a:lnTo>
                    <a:lnTo>
                      <a:pt x="448" y="216"/>
                    </a:lnTo>
                    <a:lnTo>
                      <a:pt x="477" y="249"/>
                    </a:lnTo>
                    <a:lnTo>
                      <a:pt x="479" y="259"/>
                    </a:lnTo>
                    <a:lnTo>
                      <a:pt x="471" y="264"/>
                    </a:lnTo>
                    <a:lnTo>
                      <a:pt x="465" y="253"/>
                    </a:lnTo>
                    <a:lnTo>
                      <a:pt x="430" y="221"/>
                    </a:lnTo>
                    <a:lnTo>
                      <a:pt x="397" y="192"/>
                    </a:lnTo>
                    <a:lnTo>
                      <a:pt x="332" y="165"/>
                    </a:lnTo>
                    <a:lnTo>
                      <a:pt x="282" y="155"/>
                    </a:lnTo>
                    <a:lnTo>
                      <a:pt x="193" y="155"/>
                    </a:lnTo>
                    <a:lnTo>
                      <a:pt x="141" y="154"/>
                    </a:lnTo>
                    <a:lnTo>
                      <a:pt x="110" y="152"/>
                    </a:lnTo>
                    <a:lnTo>
                      <a:pt x="66" y="134"/>
                    </a:lnTo>
                    <a:lnTo>
                      <a:pt x="38" y="108"/>
                    </a:lnTo>
                    <a:lnTo>
                      <a:pt x="70" y="120"/>
                    </a:lnTo>
                    <a:lnTo>
                      <a:pt x="100" y="133"/>
                    </a:lnTo>
                    <a:lnTo>
                      <a:pt x="154" y="139"/>
                    </a:lnTo>
                    <a:lnTo>
                      <a:pt x="140" y="126"/>
                    </a:lnTo>
                    <a:lnTo>
                      <a:pt x="192" y="126"/>
                    </a:lnTo>
                    <a:lnTo>
                      <a:pt x="248" y="125"/>
                    </a:lnTo>
                    <a:lnTo>
                      <a:pt x="307" y="129"/>
                    </a:lnTo>
                    <a:lnTo>
                      <a:pt x="409" y="148"/>
                    </a:lnTo>
                    <a:lnTo>
                      <a:pt x="353" y="126"/>
                    </a:lnTo>
                    <a:lnTo>
                      <a:pt x="288" y="109"/>
                    </a:lnTo>
                    <a:lnTo>
                      <a:pt x="193" y="91"/>
                    </a:lnTo>
                    <a:lnTo>
                      <a:pt x="298" y="101"/>
                    </a:lnTo>
                    <a:lnTo>
                      <a:pt x="367" y="105"/>
                    </a:lnTo>
                    <a:lnTo>
                      <a:pt x="300" y="88"/>
                    </a:lnTo>
                    <a:lnTo>
                      <a:pt x="164" y="71"/>
                    </a:lnTo>
                    <a:lnTo>
                      <a:pt x="296" y="73"/>
                    </a:lnTo>
                    <a:lnTo>
                      <a:pt x="374" y="80"/>
                    </a:lnTo>
                    <a:lnTo>
                      <a:pt x="282" y="50"/>
                    </a:lnTo>
                    <a:lnTo>
                      <a:pt x="188" y="31"/>
                    </a:lnTo>
                    <a:lnTo>
                      <a:pt x="281" y="40"/>
                    </a:lnTo>
                    <a:lnTo>
                      <a:pt x="372" y="60"/>
                    </a:lnTo>
                    <a:lnTo>
                      <a:pt x="347" y="39"/>
                    </a:lnTo>
                    <a:lnTo>
                      <a:pt x="283" y="21"/>
                    </a:lnTo>
                    <a:lnTo>
                      <a:pt x="238" y="15"/>
                    </a:lnTo>
                    <a:lnTo>
                      <a:pt x="164" y="17"/>
                    </a:lnTo>
                    <a:lnTo>
                      <a:pt x="106" y="21"/>
                    </a:lnTo>
                    <a:lnTo>
                      <a:pt x="60" y="35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73200" y="4707000"/>
                <a:ext cx="100080" cy="282600"/>
              </a:xfrm>
              <a:custGeom>
                <a:avLst/>
                <a:gdLst/>
                <a:ahLst/>
                <a:rect l="l" t="t" r="r" b="b"/>
                <a:pathLst>
                  <a:path w="189" h="532">
                    <a:moveTo>
                      <a:pt x="0" y="59"/>
                    </a:moveTo>
                    <a:lnTo>
                      <a:pt x="38" y="82"/>
                    </a:lnTo>
                    <a:lnTo>
                      <a:pt x="47" y="111"/>
                    </a:lnTo>
                    <a:lnTo>
                      <a:pt x="13" y="98"/>
                    </a:lnTo>
                    <a:lnTo>
                      <a:pt x="32" y="171"/>
                    </a:lnTo>
                    <a:lnTo>
                      <a:pt x="33" y="232"/>
                    </a:lnTo>
                    <a:lnTo>
                      <a:pt x="28" y="279"/>
                    </a:lnTo>
                    <a:lnTo>
                      <a:pt x="13" y="338"/>
                    </a:lnTo>
                    <a:lnTo>
                      <a:pt x="4" y="358"/>
                    </a:lnTo>
                    <a:lnTo>
                      <a:pt x="7" y="391"/>
                    </a:lnTo>
                    <a:lnTo>
                      <a:pt x="18" y="429"/>
                    </a:lnTo>
                    <a:lnTo>
                      <a:pt x="41" y="470"/>
                    </a:lnTo>
                    <a:lnTo>
                      <a:pt x="43" y="508"/>
                    </a:lnTo>
                    <a:lnTo>
                      <a:pt x="106" y="512"/>
                    </a:lnTo>
                    <a:lnTo>
                      <a:pt x="107" y="430"/>
                    </a:lnTo>
                    <a:lnTo>
                      <a:pt x="86" y="350"/>
                    </a:lnTo>
                    <a:lnTo>
                      <a:pt x="69" y="301"/>
                    </a:lnTo>
                    <a:lnTo>
                      <a:pt x="59" y="255"/>
                    </a:lnTo>
                    <a:lnTo>
                      <a:pt x="69" y="193"/>
                    </a:lnTo>
                    <a:lnTo>
                      <a:pt x="76" y="259"/>
                    </a:lnTo>
                    <a:lnTo>
                      <a:pt x="95" y="307"/>
                    </a:lnTo>
                    <a:lnTo>
                      <a:pt x="112" y="375"/>
                    </a:lnTo>
                    <a:lnTo>
                      <a:pt x="126" y="424"/>
                    </a:lnTo>
                    <a:lnTo>
                      <a:pt x="133" y="489"/>
                    </a:lnTo>
                    <a:lnTo>
                      <a:pt x="130" y="519"/>
                    </a:lnTo>
                    <a:lnTo>
                      <a:pt x="189" y="532"/>
                    </a:lnTo>
                    <a:lnTo>
                      <a:pt x="181" y="482"/>
                    </a:lnTo>
                    <a:lnTo>
                      <a:pt x="176" y="438"/>
                    </a:lnTo>
                    <a:lnTo>
                      <a:pt x="162" y="388"/>
                    </a:lnTo>
                    <a:lnTo>
                      <a:pt x="130" y="299"/>
                    </a:lnTo>
                    <a:lnTo>
                      <a:pt x="80" y="123"/>
                    </a:lnTo>
                    <a:lnTo>
                      <a:pt x="33" y="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01640" y="4683240"/>
                <a:ext cx="103320" cy="336600"/>
              </a:xfrm>
              <a:custGeom>
                <a:avLst/>
                <a:gdLst/>
                <a:ahLst/>
                <a:rect l="l" t="t" r="r" b="b"/>
                <a:pathLst>
                  <a:path w="195" h="635">
                    <a:moveTo>
                      <a:pt x="0" y="45"/>
                    </a:moveTo>
                    <a:lnTo>
                      <a:pt x="59" y="211"/>
                    </a:lnTo>
                    <a:lnTo>
                      <a:pt x="103" y="355"/>
                    </a:lnTo>
                    <a:lnTo>
                      <a:pt x="125" y="410"/>
                    </a:lnTo>
                    <a:lnTo>
                      <a:pt x="155" y="478"/>
                    </a:lnTo>
                    <a:lnTo>
                      <a:pt x="159" y="552"/>
                    </a:lnTo>
                    <a:lnTo>
                      <a:pt x="158" y="617"/>
                    </a:lnTo>
                    <a:lnTo>
                      <a:pt x="195" y="635"/>
                    </a:lnTo>
                    <a:lnTo>
                      <a:pt x="189" y="502"/>
                    </a:lnTo>
                    <a:lnTo>
                      <a:pt x="174" y="464"/>
                    </a:lnTo>
                    <a:lnTo>
                      <a:pt x="144" y="403"/>
                    </a:lnTo>
                    <a:lnTo>
                      <a:pt x="121" y="355"/>
                    </a:lnTo>
                    <a:lnTo>
                      <a:pt x="90" y="225"/>
                    </a:lnTo>
                    <a:lnTo>
                      <a:pt x="98" y="211"/>
                    </a:lnTo>
                    <a:lnTo>
                      <a:pt x="77" y="73"/>
                    </a:lnTo>
                    <a:lnTo>
                      <a:pt x="131" y="204"/>
                    </a:lnTo>
                    <a:lnTo>
                      <a:pt x="131" y="138"/>
                    </a:lnTo>
                    <a:lnTo>
                      <a:pt x="159" y="133"/>
                    </a:lnTo>
                    <a:lnTo>
                      <a:pt x="142" y="73"/>
                    </a:lnTo>
                    <a:lnTo>
                      <a:pt x="101" y="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77960" y="4754520"/>
                <a:ext cx="163440" cy="231840"/>
              </a:xfrm>
              <a:custGeom>
                <a:avLst/>
                <a:gdLst/>
                <a:ahLst/>
                <a:rect l="l" t="t" r="r" b="b"/>
                <a:pathLst>
                  <a:path w="308" h="440">
                    <a:moveTo>
                      <a:pt x="0" y="2"/>
                    </a:moveTo>
                    <a:lnTo>
                      <a:pt x="21" y="89"/>
                    </a:lnTo>
                    <a:lnTo>
                      <a:pt x="48" y="172"/>
                    </a:lnTo>
                    <a:lnTo>
                      <a:pt x="77" y="227"/>
                    </a:lnTo>
                    <a:lnTo>
                      <a:pt x="108" y="268"/>
                    </a:lnTo>
                    <a:lnTo>
                      <a:pt x="128" y="288"/>
                    </a:lnTo>
                    <a:lnTo>
                      <a:pt x="178" y="315"/>
                    </a:lnTo>
                    <a:lnTo>
                      <a:pt x="220" y="356"/>
                    </a:lnTo>
                    <a:lnTo>
                      <a:pt x="264" y="431"/>
                    </a:lnTo>
                    <a:lnTo>
                      <a:pt x="235" y="352"/>
                    </a:lnTo>
                    <a:lnTo>
                      <a:pt x="196" y="310"/>
                    </a:lnTo>
                    <a:lnTo>
                      <a:pt x="138" y="280"/>
                    </a:lnTo>
                    <a:lnTo>
                      <a:pt x="119" y="253"/>
                    </a:lnTo>
                    <a:lnTo>
                      <a:pt x="97" y="219"/>
                    </a:lnTo>
                    <a:lnTo>
                      <a:pt x="75" y="164"/>
                    </a:lnTo>
                    <a:lnTo>
                      <a:pt x="166" y="242"/>
                    </a:lnTo>
                    <a:lnTo>
                      <a:pt x="230" y="296"/>
                    </a:lnTo>
                    <a:lnTo>
                      <a:pt x="277" y="355"/>
                    </a:lnTo>
                    <a:lnTo>
                      <a:pt x="289" y="440"/>
                    </a:lnTo>
                    <a:lnTo>
                      <a:pt x="308" y="438"/>
                    </a:lnTo>
                    <a:lnTo>
                      <a:pt x="295" y="352"/>
                    </a:lnTo>
                    <a:lnTo>
                      <a:pt x="242" y="286"/>
                    </a:lnTo>
                    <a:lnTo>
                      <a:pt x="166" y="224"/>
                    </a:lnTo>
                    <a:lnTo>
                      <a:pt x="77" y="134"/>
                    </a:lnTo>
                    <a:lnTo>
                      <a:pt x="55" y="98"/>
                    </a:lnTo>
                    <a:lnTo>
                      <a:pt x="30" y="48"/>
                    </a:lnTo>
                    <a:lnTo>
                      <a:pt x="15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58960" y="4925880"/>
                <a:ext cx="46080" cy="76320"/>
              </a:xfrm>
              <a:custGeom>
                <a:avLst/>
                <a:gdLst/>
                <a:ahLst/>
                <a:rect l="l" t="t" r="r" b="b"/>
                <a:pathLst>
                  <a:path w="87" h="145">
                    <a:moveTo>
                      <a:pt x="48" y="145"/>
                    </a:moveTo>
                    <a:lnTo>
                      <a:pt x="48" y="116"/>
                    </a:lnTo>
                    <a:lnTo>
                      <a:pt x="13" y="67"/>
                    </a:lnTo>
                    <a:lnTo>
                      <a:pt x="57" y="91"/>
                    </a:lnTo>
                    <a:lnTo>
                      <a:pt x="0" y="0"/>
                    </a:lnTo>
                    <a:lnTo>
                      <a:pt x="73" y="74"/>
                    </a:lnTo>
                    <a:lnTo>
                      <a:pt x="84" y="100"/>
                    </a:lnTo>
                    <a:lnTo>
                      <a:pt x="87" y="136"/>
                    </a:lnTo>
                    <a:lnTo>
                      <a:pt x="48" y="145"/>
                    </a:lnTo>
                    <a:lnTo>
                      <a:pt x="48" y="145"/>
                    </a:lnTo>
                    <a:lnTo>
                      <a:pt x="48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539720" y="4971960"/>
                <a:ext cx="113040" cy="12960"/>
              </a:xfrm>
              <a:custGeom>
                <a:avLst/>
                <a:gdLst/>
                <a:ahLst/>
                <a:rect l="l" t="t" r="r" b="b"/>
                <a:pathLst>
                  <a:path w="212" h="24">
                    <a:moveTo>
                      <a:pt x="12" y="8"/>
                    </a:moveTo>
                    <a:lnTo>
                      <a:pt x="79" y="0"/>
                    </a:lnTo>
                    <a:lnTo>
                      <a:pt x="212" y="13"/>
                    </a:lnTo>
                    <a:lnTo>
                      <a:pt x="192" y="20"/>
                    </a:lnTo>
                    <a:lnTo>
                      <a:pt x="105" y="9"/>
                    </a:lnTo>
                    <a:lnTo>
                      <a:pt x="0" y="24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58800" y="4986360"/>
                <a:ext cx="147600" cy="33480"/>
              </a:xfrm>
              <a:custGeom>
                <a:avLst/>
                <a:gdLst/>
                <a:ahLst/>
                <a:rect l="l" t="t" r="r" b="b"/>
                <a:pathLst>
                  <a:path w="278" h="62">
                    <a:moveTo>
                      <a:pt x="0" y="6"/>
                    </a:moveTo>
                    <a:lnTo>
                      <a:pt x="66" y="0"/>
                    </a:lnTo>
                    <a:lnTo>
                      <a:pt x="131" y="3"/>
                    </a:lnTo>
                    <a:lnTo>
                      <a:pt x="182" y="13"/>
                    </a:lnTo>
                    <a:lnTo>
                      <a:pt x="278" y="52"/>
                    </a:lnTo>
                    <a:lnTo>
                      <a:pt x="276" y="62"/>
                    </a:lnTo>
                    <a:lnTo>
                      <a:pt x="186" y="30"/>
                    </a:lnTo>
                    <a:lnTo>
                      <a:pt x="152" y="19"/>
                    </a:lnTo>
                    <a:lnTo>
                      <a:pt x="108" y="15"/>
                    </a:lnTo>
                    <a:lnTo>
                      <a:pt x="54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36560" y="5006880"/>
                <a:ext cx="68400" cy="34920"/>
              </a:xfrm>
              <a:custGeom>
                <a:avLst/>
                <a:gdLst/>
                <a:ahLst/>
                <a:rect l="l" t="t" r="r" b="b"/>
                <a:pathLst>
                  <a:path w="127" h="65">
                    <a:moveTo>
                      <a:pt x="111" y="65"/>
                    </a:moveTo>
                    <a:lnTo>
                      <a:pt x="87" y="40"/>
                    </a:lnTo>
                    <a:lnTo>
                      <a:pt x="0" y="0"/>
                    </a:lnTo>
                    <a:lnTo>
                      <a:pt x="92" y="30"/>
                    </a:lnTo>
                    <a:lnTo>
                      <a:pt x="114" y="45"/>
                    </a:lnTo>
                    <a:lnTo>
                      <a:pt x="127" y="60"/>
                    </a:lnTo>
                    <a:lnTo>
                      <a:pt x="111" y="65"/>
                    </a:lnTo>
                    <a:lnTo>
                      <a:pt x="111" y="65"/>
                    </a:lnTo>
                    <a:lnTo>
                      <a:pt x="111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95280" y="4903920"/>
                <a:ext cx="335160" cy="264960"/>
              </a:xfrm>
              <a:custGeom>
                <a:avLst/>
                <a:gdLst/>
                <a:ahLst/>
                <a:rect l="l" t="t" r="r" b="b"/>
                <a:pathLst>
                  <a:path w="631" h="500">
                    <a:moveTo>
                      <a:pt x="80" y="13"/>
                    </a:moveTo>
                    <a:lnTo>
                      <a:pt x="72" y="92"/>
                    </a:lnTo>
                    <a:lnTo>
                      <a:pt x="36" y="120"/>
                    </a:lnTo>
                    <a:lnTo>
                      <a:pt x="11" y="155"/>
                    </a:lnTo>
                    <a:lnTo>
                      <a:pt x="0" y="192"/>
                    </a:lnTo>
                    <a:lnTo>
                      <a:pt x="0" y="230"/>
                    </a:lnTo>
                    <a:lnTo>
                      <a:pt x="1" y="260"/>
                    </a:lnTo>
                    <a:lnTo>
                      <a:pt x="33" y="269"/>
                    </a:lnTo>
                    <a:lnTo>
                      <a:pt x="104" y="308"/>
                    </a:lnTo>
                    <a:lnTo>
                      <a:pt x="175" y="380"/>
                    </a:lnTo>
                    <a:lnTo>
                      <a:pt x="161" y="408"/>
                    </a:lnTo>
                    <a:lnTo>
                      <a:pt x="121" y="476"/>
                    </a:lnTo>
                    <a:lnTo>
                      <a:pt x="134" y="477"/>
                    </a:lnTo>
                    <a:lnTo>
                      <a:pt x="197" y="390"/>
                    </a:lnTo>
                    <a:lnTo>
                      <a:pt x="157" y="476"/>
                    </a:lnTo>
                    <a:lnTo>
                      <a:pt x="195" y="480"/>
                    </a:lnTo>
                    <a:lnTo>
                      <a:pt x="338" y="416"/>
                    </a:lnTo>
                    <a:lnTo>
                      <a:pt x="457" y="448"/>
                    </a:lnTo>
                    <a:lnTo>
                      <a:pt x="496" y="452"/>
                    </a:lnTo>
                    <a:lnTo>
                      <a:pt x="520" y="483"/>
                    </a:lnTo>
                    <a:lnTo>
                      <a:pt x="587" y="498"/>
                    </a:lnTo>
                    <a:lnTo>
                      <a:pt x="618" y="500"/>
                    </a:lnTo>
                    <a:lnTo>
                      <a:pt x="631" y="447"/>
                    </a:lnTo>
                    <a:lnTo>
                      <a:pt x="582" y="421"/>
                    </a:lnTo>
                    <a:lnTo>
                      <a:pt x="527" y="390"/>
                    </a:lnTo>
                    <a:lnTo>
                      <a:pt x="441" y="329"/>
                    </a:lnTo>
                    <a:lnTo>
                      <a:pt x="513" y="397"/>
                    </a:lnTo>
                    <a:lnTo>
                      <a:pt x="555" y="428"/>
                    </a:lnTo>
                    <a:lnTo>
                      <a:pt x="476" y="404"/>
                    </a:lnTo>
                    <a:lnTo>
                      <a:pt x="398" y="347"/>
                    </a:lnTo>
                    <a:lnTo>
                      <a:pt x="453" y="411"/>
                    </a:lnTo>
                    <a:lnTo>
                      <a:pt x="414" y="404"/>
                    </a:lnTo>
                    <a:lnTo>
                      <a:pt x="383" y="377"/>
                    </a:lnTo>
                    <a:lnTo>
                      <a:pt x="375" y="390"/>
                    </a:lnTo>
                    <a:lnTo>
                      <a:pt x="360" y="389"/>
                    </a:lnTo>
                    <a:lnTo>
                      <a:pt x="362" y="348"/>
                    </a:lnTo>
                    <a:lnTo>
                      <a:pt x="375" y="323"/>
                    </a:lnTo>
                    <a:lnTo>
                      <a:pt x="392" y="296"/>
                    </a:lnTo>
                    <a:lnTo>
                      <a:pt x="444" y="265"/>
                    </a:lnTo>
                    <a:lnTo>
                      <a:pt x="452" y="207"/>
                    </a:lnTo>
                    <a:lnTo>
                      <a:pt x="452" y="168"/>
                    </a:lnTo>
                    <a:lnTo>
                      <a:pt x="468" y="146"/>
                    </a:lnTo>
                    <a:lnTo>
                      <a:pt x="480" y="115"/>
                    </a:lnTo>
                    <a:lnTo>
                      <a:pt x="482" y="79"/>
                    </a:lnTo>
                    <a:lnTo>
                      <a:pt x="476" y="39"/>
                    </a:lnTo>
                    <a:lnTo>
                      <a:pt x="416" y="0"/>
                    </a:lnTo>
                    <a:lnTo>
                      <a:pt x="449" y="33"/>
                    </a:lnTo>
                    <a:lnTo>
                      <a:pt x="459" y="63"/>
                    </a:lnTo>
                    <a:lnTo>
                      <a:pt x="456" y="99"/>
                    </a:lnTo>
                    <a:lnTo>
                      <a:pt x="437" y="137"/>
                    </a:lnTo>
                    <a:lnTo>
                      <a:pt x="403" y="161"/>
                    </a:lnTo>
                    <a:lnTo>
                      <a:pt x="375" y="227"/>
                    </a:lnTo>
                    <a:lnTo>
                      <a:pt x="344" y="269"/>
                    </a:lnTo>
                    <a:lnTo>
                      <a:pt x="318" y="288"/>
                    </a:lnTo>
                    <a:lnTo>
                      <a:pt x="266" y="288"/>
                    </a:lnTo>
                    <a:lnTo>
                      <a:pt x="208" y="266"/>
                    </a:lnTo>
                    <a:lnTo>
                      <a:pt x="177" y="253"/>
                    </a:lnTo>
                    <a:lnTo>
                      <a:pt x="141" y="242"/>
                    </a:lnTo>
                    <a:lnTo>
                      <a:pt x="50" y="242"/>
                    </a:lnTo>
                    <a:lnTo>
                      <a:pt x="97" y="197"/>
                    </a:lnTo>
                    <a:lnTo>
                      <a:pt x="48" y="222"/>
                    </a:lnTo>
                    <a:lnTo>
                      <a:pt x="88" y="166"/>
                    </a:lnTo>
                    <a:lnTo>
                      <a:pt x="29" y="197"/>
                    </a:lnTo>
                    <a:lnTo>
                      <a:pt x="74" y="146"/>
                    </a:lnTo>
                    <a:lnTo>
                      <a:pt x="54" y="150"/>
                    </a:lnTo>
                    <a:lnTo>
                      <a:pt x="63" y="126"/>
                    </a:lnTo>
                    <a:lnTo>
                      <a:pt x="85" y="107"/>
                    </a:lnTo>
                    <a:lnTo>
                      <a:pt x="127" y="102"/>
                    </a:lnTo>
                    <a:lnTo>
                      <a:pt x="127" y="58"/>
                    </a:lnTo>
                    <a:lnTo>
                      <a:pt x="109" y="15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022400" y="4795920"/>
                <a:ext cx="93600" cy="172800"/>
              </a:xfrm>
              <a:custGeom>
                <a:avLst/>
                <a:gdLst/>
                <a:ahLst/>
                <a:rect l="l" t="t" r="r" b="b"/>
                <a:pathLst>
                  <a:path w="175" h="326">
                    <a:moveTo>
                      <a:pt x="32" y="0"/>
                    </a:moveTo>
                    <a:lnTo>
                      <a:pt x="0" y="179"/>
                    </a:lnTo>
                    <a:lnTo>
                      <a:pt x="50" y="15"/>
                    </a:lnTo>
                    <a:lnTo>
                      <a:pt x="19" y="243"/>
                    </a:lnTo>
                    <a:lnTo>
                      <a:pt x="79" y="23"/>
                    </a:lnTo>
                    <a:lnTo>
                      <a:pt x="53" y="326"/>
                    </a:lnTo>
                    <a:lnTo>
                      <a:pt x="109" y="39"/>
                    </a:lnTo>
                    <a:lnTo>
                      <a:pt x="102" y="209"/>
                    </a:lnTo>
                    <a:lnTo>
                      <a:pt x="141" y="43"/>
                    </a:lnTo>
                    <a:lnTo>
                      <a:pt x="126" y="268"/>
                    </a:lnTo>
                    <a:lnTo>
                      <a:pt x="175" y="2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16000" y="4894200"/>
                <a:ext cx="96840" cy="297000"/>
              </a:xfrm>
              <a:custGeom>
                <a:avLst/>
                <a:gdLst/>
                <a:ahLst/>
                <a:rect l="l" t="t" r="r" b="b"/>
                <a:pathLst>
                  <a:path w="183" h="562">
                    <a:moveTo>
                      <a:pt x="0" y="0"/>
                    </a:moveTo>
                    <a:lnTo>
                      <a:pt x="14" y="562"/>
                    </a:lnTo>
                    <a:lnTo>
                      <a:pt x="37" y="525"/>
                    </a:lnTo>
                    <a:lnTo>
                      <a:pt x="39" y="358"/>
                    </a:lnTo>
                    <a:lnTo>
                      <a:pt x="131" y="353"/>
                    </a:lnTo>
                    <a:lnTo>
                      <a:pt x="40" y="207"/>
                    </a:lnTo>
                    <a:lnTo>
                      <a:pt x="89" y="213"/>
                    </a:lnTo>
                    <a:lnTo>
                      <a:pt x="108" y="225"/>
                    </a:lnTo>
                    <a:lnTo>
                      <a:pt x="142" y="248"/>
                    </a:lnTo>
                    <a:lnTo>
                      <a:pt x="160" y="274"/>
                    </a:lnTo>
                    <a:lnTo>
                      <a:pt x="178" y="288"/>
                    </a:lnTo>
                    <a:lnTo>
                      <a:pt x="183" y="276"/>
                    </a:lnTo>
                    <a:lnTo>
                      <a:pt x="176" y="238"/>
                    </a:lnTo>
                    <a:lnTo>
                      <a:pt x="161" y="194"/>
                    </a:lnTo>
                    <a:lnTo>
                      <a:pt x="146" y="174"/>
                    </a:lnTo>
                    <a:lnTo>
                      <a:pt x="106" y="151"/>
                    </a:lnTo>
                    <a:lnTo>
                      <a:pt x="62" y="133"/>
                    </a:lnTo>
                    <a:lnTo>
                      <a:pt x="47" y="124"/>
                    </a:lnTo>
                    <a:lnTo>
                      <a:pt x="18" y="91"/>
                    </a:lnTo>
                    <a:lnTo>
                      <a:pt x="14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6040" y="4838760"/>
                <a:ext cx="228600" cy="374760"/>
              </a:xfrm>
              <a:custGeom>
                <a:avLst/>
                <a:gdLst/>
                <a:ahLst/>
                <a:rect l="l" t="t" r="r" b="b"/>
                <a:pathLst>
                  <a:path w="434" h="708">
                    <a:moveTo>
                      <a:pt x="434" y="0"/>
                    </a:moveTo>
                    <a:lnTo>
                      <a:pt x="409" y="36"/>
                    </a:lnTo>
                    <a:lnTo>
                      <a:pt x="395" y="62"/>
                    </a:lnTo>
                    <a:lnTo>
                      <a:pt x="388" y="98"/>
                    </a:lnTo>
                    <a:lnTo>
                      <a:pt x="380" y="164"/>
                    </a:lnTo>
                    <a:lnTo>
                      <a:pt x="360" y="225"/>
                    </a:lnTo>
                    <a:lnTo>
                      <a:pt x="340" y="278"/>
                    </a:lnTo>
                    <a:lnTo>
                      <a:pt x="299" y="327"/>
                    </a:lnTo>
                    <a:lnTo>
                      <a:pt x="251" y="362"/>
                    </a:lnTo>
                    <a:lnTo>
                      <a:pt x="168" y="416"/>
                    </a:lnTo>
                    <a:lnTo>
                      <a:pt x="97" y="463"/>
                    </a:lnTo>
                    <a:lnTo>
                      <a:pt x="36" y="512"/>
                    </a:lnTo>
                    <a:lnTo>
                      <a:pt x="9" y="552"/>
                    </a:lnTo>
                    <a:lnTo>
                      <a:pt x="0" y="610"/>
                    </a:lnTo>
                    <a:lnTo>
                      <a:pt x="3" y="674"/>
                    </a:lnTo>
                    <a:lnTo>
                      <a:pt x="14" y="703"/>
                    </a:lnTo>
                    <a:lnTo>
                      <a:pt x="36" y="708"/>
                    </a:lnTo>
                    <a:lnTo>
                      <a:pt x="43" y="687"/>
                    </a:lnTo>
                    <a:lnTo>
                      <a:pt x="53" y="633"/>
                    </a:lnTo>
                    <a:lnTo>
                      <a:pt x="70" y="590"/>
                    </a:lnTo>
                    <a:lnTo>
                      <a:pt x="102" y="546"/>
                    </a:lnTo>
                    <a:lnTo>
                      <a:pt x="152" y="502"/>
                    </a:lnTo>
                    <a:lnTo>
                      <a:pt x="192" y="475"/>
                    </a:lnTo>
                    <a:lnTo>
                      <a:pt x="289" y="416"/>
                    </a:lnTo>
                    <a:lnTo>
                      <a:pt x="393" y="334"/>
                    </a:lnTo>
                    <a:lnTo>
                      <a:pt x="383" y="320"/>
                    </a:lnTo>
                    <a:lnTo>
                      <a:pt x="286" y="406"/>
                    </a:lnTo>
                    <a:lnTo>
                      <a:pt x="183" y="463"/>
                    </a:lnTo>
                    <a:lnTo>
                      <a:pt x="141" y="492"/>
                    </a:lnTo>
                    <a:lnTo>
                      <a:pt x="89" y="536"/>
                    </a:lnTo>
                    <a:lnTo>
                      <a:pt x="57" y="584"/>
                    </a:lnTo>
                    <a:lnTo>
                      <a:pt x="30" y="630"/>
                    </a:lnTo>
                    <a:lnTo>
                      <a:pt x="34" y="577"/>
                    </a:lnTo>
                    <a:lnTo>
                      <a:pt x="60" y="527"/>
                    </a:lnTo>
                    <a:lnTo>
                      <a:pt x="110" y="471"/>
                    </a:lnTo>
                    <a:lnTo>
                      <a:pt x="182" y="428"/>
                    </a:lnTo>
                    <a:lnTo>
                      <a:pt x="262" y="376"/>
                    </a:lnTo>
                    <a:lnTo>
                      <a:pt x="319" y="332"/>
                    </a:lnTo>
                    <a:lnTo>
                      <a:pt x="355" y="286"/>
                    </a:lnTo>
                    <a:lnTo>
                      <a:pt x="383" y="225"/>
                    </a:lnTo>
                    <a:lnTo>
                      <a:pt x="397" y="164"/>
                    </a:lnTo>
                    <a:lnTo>
                      <a:pt x="407" y="98"/>
                    </a:lnTo>
                    <a:lnTo>
                      <a:pt x="414" y="62"/>
                    </a:lnTo>
                    <a:lnTo>
                      <a:pt x="427" y="34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3200" y="4781520"/>
                <a:ext cx="366480" cy="712800"/>
              </a:xfrm>
              <a:custGeom>
                <a:avLst/>
                <a:gdLst/>
                <a:ahLst/>
                <a:rect l="l" t="t" r="r" b="b"/>
                <a:pathLst>
                  <a:path w="693" h="1349">
                    <a:moveTo>
                      <a:pt x="630" y="14"/>
                    </a:moveTo>
                    <a:lnTo>
                      <a:pt x="600" y="71"/>
                    </a:lnTo>
                    <a:lnTo>
                      <a:pt x="536" y="247"/>
                    </a:lnTo>
                    <a:lnTo>
                      <a:pt x="509" y="339"/>
                    </a:lnTo>
                    <a:lnTo>
                      <a:pt x="473" y="418"/>
                    </a:lnTo>
                    <a:lnTo>
                      <a:pt x="463" y="429"/>
                    </a:lnTo>
                    <a:lnTo>
                      <a:pt x="473" y="443"/>
                    </a:lnTo>
                    <a:lnTo>
                      <a:pt x="426" y="490"/>
                    </a:lnTo>
                    <a:lnTo>
                      <a:pt x="369" y="555"/>
                    </a:lnTo>
                    <a:lnTo>
                      <a:pt x="290" y="612"/>
                    </a:lnTo>
                    <a:lnTo>
                      <a:pt x="258" y="645"/>
                    </a:lnTo>
                    <a:lnTo>
                      <a:pt x="229" y="684"/>
                    </a:lnTo>
                    <a:lnTo>
                      <a:pt x="206" y="739"/>
                    </a:lnTo>
                    <a:lnTo>
                      <a:pt x="190" y="797"/>
                    </a:lnTo>
                    <a:lnTo>
                      <a:pt x="193" y="848"/>
                    </a:lnTo>
                    <a:lnTo>
                      <a:pt x="197" y="888"/>
                    </a:lnTo>
                    <a:lnTo>
                      <a:pt x="202" y="920"/>
                    </a:lnTo>
                    <a:lnTo>
                      <a:pt x="207" y="949"/>
                    </a:lnTo>
                    <a:lnTo>
                      <a:pt x="193" y="979"/>
                    </a:lnTo>
                    <a:lnTo>
                      <a:pt x="149" y="999"/>
                    </a:lnTo>
                    <a:lnTo>
                      <a:pt x="108" y="1011"/>
                    </a:lnTo>
                    <a:lnTo>
                      <a:pt x="69" y="1043"/>
                    </a:lnTo>
                    <a:lnTo>
                      <a:pt x="54" y="1069"/>
                    </a:lnTo>
                    <a:lnTo>
                      <a:pt x="40" y="1117"/>
                    </a:lnTo>
                    <a:lnTo>
                      <a:pt x="41" y="1169"/>
                    </a:lnTo>
                    <a:lnTo>
                      <a:pt x="57" y="1212"/>
                    </a:lnTo>
                    <a:lnTo>
                      <a:pt x="78" y="1261"/>
                    </a:lnTo>
                    <a:lnTo>
                      <a:pt x="72" y="1299"/>
                    </a:lnTo>
                    <a:lnTo>
                      <a:pt x="0" y="1349"/>
                    </a:lnTo>
                    <a:lnTo>
                      <a:pt x="69" y="1320"/>
                    </a:lnTo>
                    <a:lnTo>
                      <a:pt x="99" y="1292"/>
                    </a:lnTo>
                    <a:lnTo>
                      <a:pt x="106" y="1255"/>
                    </a:lnTo>
                    <a:lnTo>
                      <a:pt x="99" y="1235"/>
                    </a:lnTo>
                    <a:lnTo>
                      <a:pt x="76" y="1197"/>
                    </a:lnTo>
                    <a:lnTo>
                      <a:pt x="64" y="1158"/>
                    </a:lnTo>
                    <a:lnTo>
                      <a:pt x="60" y="1120"/>
                    </a:lnTo>
                    <a:lnTo>
                      <a:pt x="74" y="1075"/>
                    </a:lnTo>
                    <a:lnTo>
                      <a:pt x="94" y="1053"/>
                    </a:lnTo>
                    <a:lnTo>
                      <a:pt x="119" y="1030"/>
                    </a:lnTo>
                    <a:lnTo>
                      <a:pt x="155" y="1014"/>
                    </a:lnTo>
                    <a:lnTo>
                      <a:pt x="201" y="995"/>
                    </a:lnTo>
                    <a:lnTo>
                      <a:pt x="229" y="965"/>
                    </a:lnTo>
                    <a:lnTo>
                      <a:pt x="239" y="942"/>
                    </a:lnTo>
                    <a:lnTo>
                      <a:pt x="236" y="892"/>
                    </a:lnTo>
                    <a:lnTo>
                      <a:pt x="223" y="862"/>
                    </a:lnTo>
                    <a:lnTo>
                      <a:pt x="217" y="809"/>
                    </a:lnTo>
                    <a:lnTo>
                      <a:pt x="229" y="749"/>
                    </a:lnTo>
                    <a:lnTo>
                      <a:pt x="247" y="691"/>
                    </a:lnTo>
                    <a:lnTo>
                      <a:pt x="278" y="655"/>
                    </a:lnTo>
                    <a:lnTo>
                      <a:pt x="302" y="622"/>
                    </a:lnTo>
                    <a:lnTo>
                      <a:pt x="385" y="557"/>
                    </a:lnTo>
                    <a:lnTo>
                      <a:pt x="445" y="496"/>
                    </a:lnTo>
                    <a:lnTo>
                      <a:pt x="570" y="326"/>
                    </a:lnTo>
                    <a:lnTo>
                      <a:pt x="455" y="537"/>
                    </a:lnTo>
                    <a:lnTo>
                      <a:pt x="587" y="369"/>
                    </a:lnTo>
                    <a:lnTo>
                      <a:pt x="473" y="602"/>
                    </a:lnTo>
                    <a:lnTo>
                      <a:pt x="597" y="441"/>
                    </a:lnTo>
                    <a:lnTo>
                      <a:pt x="630" y="439"/>
                    </a:lnTo>
                    <a:lnTo>
                      <a:pt x="630" y="191"/>
                    </a:lnTo>
                    <a:lnTo>
                      <a:pt x="635" y="137"/>
                    </a:lnTo>
                    <a:lnTo>
                      <a:pt x="650" y="89"/>
                    </a:lnTo>
                    <a:lnTo>
                      <a:pt x="676" y="41"/>
                    </a:lnTo>
                    <a:lnTo>
                      <a:pt x="693" y="15"/>
                    </a:lnTo>
                    <a:lnTo>
                      <a:pt x="641" y="0"/>
                    </a:lnTo>
                    <a:lnTo>
                      <a:pt x="630" y="14"/>
                    </a:lnTo>
                    <a:lnTo>
                      <a:pt x="630" y="14"/>
                    </a:lnTo>
                    <a:lnTo>
                      <a:pt x="63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8800" y="5208480"/>
                <a:ext cx="187200" cy="303480"/>
              </a:xfrm>
              <a:custGeom>
                <a:avLst/>
                <a:gdLst/>
                <a:ahLst/>
                <a:rect l="l" t="t" r="r" b="b"/>
                <a:pathLst>
                  <a:path w="353" h="571">
                    <a:moveTo>
                      <a:pt x="0" y="571"/>
                    </a:moveTo>
                    <a:lnTo>
                      <a:pt x="64" y="540"/>
                    </a:lnTo>
                    <a:lnTo>
                      <a:pt x="96" y="511"/>
                    </a:lnTo>
                    <a:lnTo>
                      <a:pt x="126" y="468"/>
                    </a:lnTo>
                    <a:lnTo>
                      <a:pt x="141" y="418"/>
                    </a:lnTo>
                    <a:lnTo>
                      <a:pt x="126" y="379"/>
                    </a:lnTo>
                    <a:lnTo>
                      <a:pt x="118" y="340"/>
                    </a:lnTo>
                    <a:lnTo>
                      <a:pt x="118" y="305"/>
                    </a:lnTo>
                    <a:lnTo>
                      <a:pt x="131" y="283"/>
                    </a:lnTo>
                    <a:lnTo>
                      <a:pt x="185" y="255"/>
                    </a:lnTo>
                    <a:lnTo>
                      <a:pt x="233" y="237"/>
                    </a:lnTo>
                    <a:lnTo>
                      <a:pt x="270" y="209"/>
                    </a:lnTo>
                    <a:lnTo>
                      <a:pt x="297" y="173"/>
                    </a:lnTo>
                    <a:lnTo>
                      <a:pt x="304" y="0"/>
                    </a:lnTo>
                    <a:lnTo>
                      <a:pt x="314" y="155"/>
                    </a:lnTo>
                    <a:lnTo>
                      <a:pt x="330" y="209"/>
                    </a:lnTo>
                    <a:lnTo>
                      <a:pt x="353" y="240"/>
                    </a:lnTo>
                    <a:lnTo>
                      <a:pt x="312" y="352"/>
                    </a:lnTo>
                    <a:lnTo>
                      <a:pt x="273" y="340"/>
                    </a:lnTo>
                    <a:lnTo>
                      <a:pt x="276" y="290"/>
                    </a:lnTo>
                    <a:lnTo>
                      <a:pt x="241" y="310"/>
                    </a:lnTo>
                    <a:lnTo>
                      <a:pt x="220" y="314"/>
                    </a:lnTo>
                    <a:lnTo>
                      <a:pt x="196" y="324"/>
                    </a:lnTo>
                    <a:lnTo>
                      <a:pt x="182" y="345"/>
                    </a:lnTo>
                    <a:lnTo>
                      <a:pt x="172" y="383"/>
                    </a:lnTo>
                    <a:lnTo>
                      <a:pt x="158" y="375"/>
                    </a:lnTo>
                    <a:lnTo>
                      <a:pt x="167" y="338"/>
                    </a:lnTo>
                    <a:lnTo>
                      <a:pt x="191" y="311"/>
                    </a:lnTo>
                    <a:lnTo>
                      <a:pt x="256" y="286"/>
                    </a:lnTo>
                    <a:lnTo>
                      <a:pt x="297" y="260"/>
                    </a:lnTo>
                    <a:lnTo>
                      <a:pt x="317" y="225"/>
                    </a:lnTo>
                    <a:lnTo>
                      <a:pt x="304" y="192"/>
                    </a:lnTo>
                    <a:lnTo>
                      <a:pt x="279" y="225"/>
                    </a:lnTo>
                    <a:lnTo>
                      <a:pt x="236" y="252"/>
                    </a:lnTo>
                    <a:lnTo>
                      <a:pt x="185" y="271"/>
                    </a:lnTo>
                    <a:lnTo>
                      <a:pt x="143" y="295"/>
                    </a:lnTo>
                    <a:lnTo>
                      <a:pt x="135" y="320"/>
                    </a:lnTo>
                    <a:lnTo>
                      <a:pt x="137" y="349"/>
                    </a:lnTo>
                    <a:lnTo>
                      <a:pt x="145" y="387"/>
                    </a:lnTo>
                    <a:lnTo>
                      <a:pt x="161" y="419"/>
                    </a:lnTo>
                    <a:lnTo>
                      <a:pt x="146" y="478"/>
                    </a:lnTo>
                    <a:lnTo>
                      <a:pt x="126" y="512"/>
                    </a:lnTo>
                    <a:lnTo>
                      <a:pt x="86" y="543"/>
                    </a:lnTo>
                    <a:lnTo>
                      <a:pt x="0" y="571"/>
                    </a:lnTo>
                    <a:lnTo>
                      <a:pt x="0" y="571"/>
                    </a:lnTo>
                    <a:lnTo>
                      <a:pt x="0" y="5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3400" y="5013360"/>
                <a:ext cx="187200" cy="358920"/>
              </a:xfrm>
              <a:custGeom>
                <a:avLst/>
                <a:gdLst/>
                <a:ahLst/>
                <a:rect l="l" t="t" r="r" b="b"/>
                <a:pathLst>
                  <a:path w="354" h="678">
                    <a:moveTo>
                      <a:pt x="295" y="2"/>
                    </a:moveTo>
                    <a:lnTo>
                      <a:pt x="274" y="93"/>
                    </a:lnTo>
                    <a:lnTo>
                      <a:pt x="260" y="140"/>
                    </a:lnTo>
                    <a:lnTo>
                      <a:pt x="221" y="210"/>
                    </a:lnTo>
                    <a:lnTo>
                      <a:pt x="32" y="566"/>
                    </a:lnTo>
                    <a:lnTo>
                      <a:pt x="13" y="528"/>
                    </a:lnTo>
                    <a:lnTo>
                      <a:pt x="5" y="353"/>
                    </a:lnTo>
                    <a:lnTo>
                      <a:pt x="0" y="528"/>
                    </a:lnTo>
                    <a:lnTo>
                      <a:pt x="5" y="560"/>
                    </a:lnTo>
                    <a:lnTo>
                      <a:pt x="20" y="590"/>
                    </a:lnTo>
                    <a:lnTo>
                      <a:pt x="5" y="610"/>
                    </a:lnTo>
                    <a:lnTo>
                      <a:pt x="24" y="610"/>
                    </a:lnTo>
                    <a:lnTo>
                      <a:pt x="180" y="326"/>
                    </a:lnTo>
                    <a:lnTo>
                      <a:pt x="211" y="276"/>
                    </a:lnTo>
                    <a:lnTo>
                      <a:pt x="260" y="293"/>
                    </a:lnTo>
                    <a:lnTo>
                      <a:pt x="170" y="501"/>
                    </a:lnTo>
                    <a:lnTo>
                      <a:pt x="310" y="273"/>
                    </a:lnTo>
                    <a:lnTo>
                      <a:pt x="311" y="338"/>
                    </a:lnTo>
                    <a:lnTo>
                      <a:pt x="295" y="432"/>
                    </a:lnTo>
                    <a:lnTo>
                      <a:pt x="284" y="466"/>
                    </a:lnTo>
                    <a:lnTo>
                      <a:pt x="279" y="521"/>
                    </a:lnTo>
                    <a:lnTo>
                      <a:pt x="219" y="678"/>
                    </a:lnTo>
                    <a:lnTo>
                      <a:pt x="288" y="546"/>
                    </a:lnTo>
                    <a:lnTo>
                      <a:pt x="305" y="587"/>
                    </a:lnTo>
                    <a:lnTo>
                      <a:pt x="310" y="517"/>
                    </a:lnTo>
                    <a:lnTo>
                      <a:pt x="343" y="428"/>
                    </a:lnTo>
                    <a:lnTo>
                      <a:pt x="354" y="363"/>
                    </a:lnTo>
                    <a:lnTo>
                      <a:pt x="352" y="261"/>
                    </a:lnTo>
                    <a:lnTo>
                      <a:pt x="328" y="0"/>
                    </a:lnTo>
                    <a:lnTo>
                      <a:pt x="295" y="2"/>
                    </a:lnTo>
                    <a:lnTo>
                      <a:pt x="295" y="2"/>
                    </a:lnTo>
                    <a:lnTo>
                      <a:pt x="29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0560" y="5388120"/>
                <a:ext cx="33480" cy="77760"/>
              </a:xfrm>
              <a:custGeom>
                <a:avLst/>
                <a:gdLst/>
                <a:ahLst/>
                <a:rect l="l" t="t" r="r" b="b"/>
                <a:pathLst>
                  <a:path w="62" h="148">
                    <a:moveTo>
                      <a:pt x="40" y="0"/>
                    </a:moveTo>
                    <a:lnTo>
                      <a:pt x="13" y="65"/>
                    </a:lnTo>
                    <a:lnTo>
                      <a:pt x="6" y="90"/>
                    </a:lnTo>
                    <a:lnTo>
                      <a:pt x="0" y="130"/>
                    </a:lnTo>
                    <a:lnTo>
                      <a:pt x="5" y="148"/>
                    </a:lnTo>
                    <a:lnTo>
                      <a:pt x="26" y="134"/>
                    </a:lnTo>
                    <a:lnTo>
                      <a:pt x="29" y="111"/>
                    </a:lnTo>
                    <a:lnTo>
                      <a:pt x="35" y="78"/>
                    </a:lnTo>
                    <a:lnTo>
                      <a:pt x="62" y="1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0560" y="5286240"/>
                <a:ext cx="166680" cy="203400"/>
              </a:xfrm>
              <a:custGeom>
                <a:avLst/>
                <a:gdLst/>
                <a:ahLst/>
                <a:rect l="l" t="t" r="r" b="b"/>
                <a:pathLst>
                  <a:path w="313" h="384">
                    <a:moveTo>
                      <a:pt x="313" y="0"/>
                    </a:moveTo>
                    <a:lnTo>
                      <a:pt x="236" y="139"/>
                    </a:lnTo>
                    <a:lnTo>
                      <a:pt x="182" y="210"/>
                    </a:lnTo>
                    <a:lnTo>
                      <a:pt x="132" y="250"/>
                    </a:lnTo>
                    <a:lnTo>
                      <a:pt x="44" y="305"/>
                    </a:lnTo>
                    <a:lnTo>
                      <a:pt x="0" y="321"/>
                    </a:lnTo>
                    <a:lnTo>
                      <a:pt x="5" y="339"/>
                    </a:lnTo>
                    <a:lnTo>
                      <a:pt x="26" y="361"/>
                    </a:lnTo>
                    <a:lnTo>
                      <a:pt x="74" y="364"/>
                    </a:lnTo>
                    <a:lnTo>
                      <a:pt x="121" y="336"/>
                    </a:lnTo>
                    <a:lnTo>
                      <a:pt x="89" y="384"/>
                    </a:lnTo>
                    <a:lnTo>
                      <a:pt x="151" y="327"/>
                    </a:lnTo>
                    <a:lnTo>
                      <a:pt x="208" y="260"/>
                    </a:lnTo>
                    <a:lnTo>
                      <a:pt x="260" y="153"/>
                    </a:lnTo>
                    <a:lnTo>
                      <a:pt x="313" y="0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35200" y="5245200"/>
                <a:ext cx="102960" cy="123840"/>
              </a:xfrm>
              <a:custGeom>
                <a:avLst/>
                <a:gdLst/>
                <a:ahLst/>
                <a:rect l="l" t="t" r="r" b="b"/>
                <a:pathLst>
                  <a:path w="195" h="234">
                    <a:moveTo>
                      <a:pt x="77" y="58"/>
                    </a:moveTo>
                    <a:lnTo>
                      <a:pt x="122" y="22"/>
                    </a:lnTo>
                    <a:lnTo>
                      <a:pt x="113" y="92"/>
                    </a:lnTo>
                    <a:lnTo>
                      <a:pt x="161" y="112"/>
                    </a:lnTo>
                    <a:lnTo>
                      <a:pt x="103" y="140"/>
                    </a:lnTo>
                    <a:lnTo>
                      <a:pt x="103" y="214"/>
                    </a:lnTo>
                    <a:lnTo>
                      <a:pt x="64" y="163"/>
                    </a:lnTo>
                    <a:lnTo>
                      <a:pt x="15" y="207"/>
                    </a:lnTo>
                    <a:lnTo>
                      <a:pt x="19" y="171"/>
                    </a:lnTo>
                    <a:lnTo>
                      <a:pt x="0" y="195"/>
                    </a:lnTo>
                    <a:lnTo>
                      <a:pt x="5" y="230"/>
                    </a:lnTo>
                    <a:lnTo>
                      <a:pt x="62" y="186"/>
                    </a:lnTo>
                    <a:lnTo>
                      <a:pt x="108" y="234"/>
                    </a:lnTo>
                    <a:lnTo>
                      <a:pt x="122" y="230"/>
                    </a:lnTo>
                    <a:lnTo>
                      <a:pt x="119" y="151"/>
                    </a:lnTo>
                    <a:lnTo>
                      <a:pt x="195" y="112"/>
                    </a:lnTo>
                    <a:lnTo>
                      <a:pt x="129" y="83"/>
                    </a:lnTo>
                    <a:lnTo>
                      <a:pt x="132" y="0"/>
                    </a:lnTo>
                    <a:lnTo>
                      <a:pt x="88" y="30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00200" y="5467320"/>
                <a:ext cx="187200" cy="138240"/>
              </a:xfrm>
              <a:custGeom>
                <a:avLst/>
                <a:gdLst/>
                <a:ahLst/>
                <a:rect l="l" t="t" r="r" b="b"/>
                <a:pathLst>
                  <a:path w="354" h="260">
                    <a:moveTo>
                      <a:pt x="148" y="17"/>
                    </a:moveTo>
                    <a:lnTo>
                      <a:pt x="99" y="47"/>
                    </a:lnTo>
                    <a:lnTo>
                      <a:pt x="105" y="89"/>
                    </a:lnTo>
                    <a:lnTo>
                      <a:pt x="178" y="83"/>
                    </a:lnTo>
                    <a:lnTo>
                      <a:pt x="267" y="64"/>
                    </a:lnTo>
                    <a:lnTo>
                      <a:pt x="354" y="53"/>
                    </a:lnTo>
                    <a:lnTo>
                      <a:pt x="294" y="86"/>
                    </a:lnTo>
                    <a:lnTo>
                      <a:pt x="238" y="108"/>
                    </a:lnTo>
                    <a:lnTo>
                      <a:pt x="143" y="160"/>
                    </a:lnTo>
                    <a:lnTo>
                      <a:pt x="90" y="152"/>
                    </a:lnTo>
                    <a:lnTo>
                      <a:pt x="90" y="180"/>
                    </a:lnTo>
                    <a:lnTo>
                      <a:pt x="41" y="183"/>
                    </a:lnTo>
                    <a:lnTo>
                      <a:pt x="33" y="192"/>
                    </a:lnTo>
                    <a:lnTo>
                      <a:pt x="30" y="260"/>
                    </a:lnTo>
                    <a:lnTo>
                      <a:pt x="4" y="255"/>
                    </a:lnTo>
                    <a:lnTo>
                      <a:pt x="0" y="195"/>
                    </a:lnTo>
                    <a:lnTo>
                      <a:pt x="14" y="175"/>
                    </a:lnTo>
                    <a:lnTo>
                      <a:pt x="68" y="163"/>
                    </a:lnTo>
                    <a:lnTo>
                      <a:pt x="79" y="40"/>
                    </a:lnTo>
                    <a:lnTo>
                      <a:pt x="157" y="0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4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0720" y="5521320"/>
                <a:ext cx="173160" cy="100080"/>
              </a:xfrm>
              <a:custGeom>
                <a:avLst/>
                <a:gdLst/>
                <a:ahLst/>
                <a:rect l="l" t="t" r="r" b="b"/>
                <a:pathLst>
                  <a:path w="327" h="188">
                    <a:moveTo>
                      <a:pt x="20" y="127"/>
                    </a:moveTo>
                    <a:lnTo>
                      <a:pt x="3" y="152"/>
                    </a:lnTo>
                    <a:lnTo>
                      <a:pt x="0" y="175"/>
                    </a:lnTo>
                    <a:lnTo>
                      <a:pt x="20" y="188"/>
                    </a:lnTo>
                    <a:lnTo>
                      <a:pt x="46" y="188"/>
                    </a:lnTo>
                    <a:lnTo>
                      <a:pt x="91" y="152"/>
                    </a:lnTo>
                    <a:lnTo>
                      <a:pt x="158" y="96"/>
                    </a:lnTo>
                    <a:lnTo>
                      <a:pt x="327" y="0"/>
                    </a:lnTo>
                    <a:lnTo>
                      <a:pt x="113" y="88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93680" y="5443560"/>
                <a:ext cx="31680" cy="272880"/>
              </a:xfrm>
              <a:custGeom>
                <a:avLst/>
                <a:gdLst/>
                <a:ahLst/>
                <a:rect l="l" t="t" r="r" b="b"/>
                <a:pathLst>
                  <a:path w="60" h="518">
                    <a:moveTo>
                      <a:pt x="27" y="15"/>
                    </a:moveTo>
                    <a:lnTo>
                      <a:pt x="8" y="113"/>
                    </a:lnTo>
                    <a:lnTo>
                      <a:pt x="0" y="271"/>
                    </a:lnTo>
                    <a:lnTo>
                      <a:pt x="0" y="460"/>
                    </a:lnTo>
                    <a:lnTo>
                      <a:pt x="14" y="507"/>
                    </a:lnTo>
                    <a:lnTo>
                      <a:pt x="45" y="518"/>
                    </a:lnTo>
                    <a:lnTo>
                      <a:pt x="60" y="488"/>
                    </a:lnTo>
                    <a:lnTo>
                      <a:pt x="38" y="252"/>
                    </a:lnTo>
                    <a:lnTo>
                      <a:pt x="32" y="99"/>
                    </a:lnTo>
                    <a:lnTo>
                      <a:pt x="39" y="0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88920" y="5502240"/>
                <a:ext cx="31680" cy="109440"/>
              </a:xfrm>
              <a:custGeom>
                <a:avLst/>
                <a:gdLst/>
                <a:ahLst/>
                <a:rect l="l" t="t" r="r" b="b"/>
                <a:pathLst>
                  <a:path w="59" h="207">
                    <a:moveTo>
                      <a:pt x="59" y="6"/>
                    </a:moveTo>
                    <a:lnTo>
                      <a:pt x="34" y="81"/>
                    </a:lnTo>
                    <a:lnTo>
                      <a:pt x="0" y="207"/>
                    </a:lnTo>
                    <a:lnTo>
                      <a:pt x="23" y="76"/>
                    </a:lnTo>
                    <a:lnTo>
                      <a:pt x="43" y="0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087560" y="4881600"/>
                <a:ext cx="99720" cy="347760"/>
              </a:xfrm>
              <a:custGeom>
                <a:avLst/>
                <a:gdLst/>
                <a:ahLst/>
                <a:rect l="l" t="t" r="r" b="b"/>
                <a:pathLst>
                  <a:path w="187" h="656">
                    <a:moveTo>
                      <a:pt x="47" y="0"/>
                    </a:moveTo>
                    <a:lnTo>
                      <a:pt x="19" y="167"/>
                    </a:lnTo>
                    <a:lnTo>
                      <a:pt x="10" y="405"/>
                    </a:lnTo>
                    <a:lnTo>
                      <a:pt x="0" y="653"/>
                    </a:lnTo>
                    <a:lnTo>
                      <a:pt x="25" y="656"/>
                    </a:lnTo>
                    <a:lnTo>
                      <a:pt x="39" y="647"/>
                    </a:lnTo>
                    <a:lnTo>
                      <a:pt x="114" y="596"/>
                    </a:lnTo>
                    <a:lnTo>
                      <a:pt x="187" y="508"/>
                    </a:lnTo>
                    <a:lnTo>
                      <a:pt x="96" y="587"/>
                    </a:lnTo>
                    <a:lnTo>
                      <a:pt x="42" y="613"/>
                    </a:lnTo>
                    <a:lnTo>
                      <a:pt x="42" y="167"/>
                    </a:lnTo>
                    <a:lnTo>
                      <a:pt x="59" y="3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52360" y="5037120"/>
                <a:ext cx="163800" cy="123840"/>
              </a:xfrm>
              <a:custGeom>
                <a:avLst/>
                <a:gdLst/>
                <a:ahLst/>
                <a:rect l="l" t="t" r="r" b="b"/>
                <a:pathLst>
                  <a:path w="309" h="236">
                    <a:moveTo>
                      <a:pt x="274" y="0"/>
                    </a:moveTo>
                    <a:lnTo>
                      <a:pt x="181" y="35"/>
                    </a:lnTo>
                    <a:lnTo>
                      <a:pt x="113" y="71"/>
                    </a:lnTo>
                    <a:lnTo>
                      <a:pt x="78" y="99"/>
                    </a:lnTo>
                    <a:lnTo>
                      <a:pt x="39" y="157"/>
                    </a:lnTo>
                    <a:lnTo>
                      <a:pt x="0" y="236"/>
                    </a:lnTo>
                    <a:lnTo>
                      <a:pt x="54" y="170"/>
                    </a:lnTo>
                    <a:lnTo>
                      <a:pt x="96" y="117"/>
                    </a:lnTo>
                    <a:lnTo>
                      <a:pt x="129" y="91"/>
                    </a:lnTo>
                    <a:lnTo>
                      <a:pt x="196" y="52"/>
                    </a:lnTo>
                    <a:lnTo>
                      <a:pt x="309" y="15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969840" y="5275440"/>
                <a:ext cx="59040" cy="193320"/>
              </a:xfrm>
              <a:custGeom>
                <a:avLst/>
                <a:gdLst/>
                <a:ahLst/>
                <a:rect l="l" t="t" r="r" b="b"/>
                <a:pathLst>
                  <a:path w="109" h="364">
                    <a:moveTo>
                      <a:pt x="18" y="364"/>
                    </a:moveTo>
                    <a:lnTo>
                      <a:pt x="0" y="291"/>
                    </a:lnTo>
                    <a:lnTo>
                      <a:pt x="8" y="237"/>
                    </a:lnTo>
                    <a:lnTo>
                      <a:pt x="95" y="0"/>
                    </a:lnTo>
                    <a:lnTo>
                      <a:pt x="63" y="125"/>
                    </a:lnTo>
                    <a:lnTo>
                      <a:pt x="109" y="94"/>
                    </a:lnTo>
                    <a:lnTo>
                      <a:pt x="72" y="168"/>
                    </a:lnTo>
                    <a:lnTo>
                      <a:pt x="51" y="227"/>
                    </a:lnTo>
                    <a:lnTo>
                      <a:pt x="54" y="321"/>
                    </a:lnTo>
                    <a:lnTo>
                      <a:pt x="62" y="364"/>
                    </a:lnTo>
                    <a:lnTo>
                      <a:pt x="18" y="364"/>
                    </a:lnTo>
                    <a:lnTo>
                      <a:pt x="18" y="364"/>
                    </a:lnTo>
                    <a:lnTo>
                      <a:pt x="18" y="3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09800" y="5041800"/>
                <a:ext cx="164880" cy="426960"/>
              </a:xfrm>
              <a:custGeom>
                <a:avLst/>
                <a:gdLst/>
                <a:ahLst/>
                <a:rect l="l" t="t" r="r" b="b"/>
                <a:pathLst>
                  <a:path w="312" h="807">
                    <a:moveTo>
                      <a:pt x="95" y="0"/>
                    </a:moveTo>
                    <a:lnTo>
                      <a:pt x="108" y="60"/>
                    </a:lnTo>
                    <a:lnTo>
                      <a:pt x="115" y="172"/>
                    </a:lnTo>
                    <a:lnTo>
                      <a:pt x="113" y="306"/>
                    </a:lnTo>
                    <a:lnTo>
                      <a:pt x="93" y="391"/>
                    </a:lnTo>
                    <a:lnTo>
                      <a:pt x="61" y="519"/>
                    </a:lnTo>
                    <a:lnTo>
                      <a:pt x="22" y="608"/>
                    </a:lnTo>
                    <a:lnTo>
                      <a:pt x="0" y="711"/>
                    </a:lnTo>
                    <a:lnTo>
                      <a:pt x="5" y="807"/>
                    </a:lnTo>
                    <a:lnTo>
                      <a:pt x="14" y="714"/>
                    </a:lnTo>
                    <a:lnTo>
                      <a:pt x="40" y="608"/>
                    </a:lnTo>
                    <a:lnTo>
                      <a:pt x="74" y="533"/>
                    </a:lnTo>
                    <a:lnTo>
                      <a:pt x="105" y="478"/>
                    </a:lnTo>
                    <a:lnTo>
                      <a:pt x="165" y="411"/>
                    </a:lnTo>
                    <a:lnTo>
                      <a:pt x="252" y="350"/>
                    </a:lnTo>
                    <a:lnTo>
                      <a:pt x="312" y="271"/>
                    </a:lnTo>
                    <a:lnTo>
                      <a:pt x="232" y="341"/>
                    </a:lnTo>
                    <a:lnTo>
                      <a:pt x="154" y="398"/>
                    </a:lnTo>
                    <a:lnTo>
                      <a:pt x="99" y="454"/>
                    </a:lnTo>
                    <a:lnTo>
                      <a:pt x="110" y="398"/>
                    </a:lnTo>
                    <a:lnTo>
                      <a:pt x="132" y="309"/>
                    </a:lnTo>
                    <a:lnTo>
                      <a:pt x="129" y="176"/>
                    </a:lnTo>
                    <a:lnTo>
                      <a:pt x="125" y="58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25640" y="5232240"/>
                <a:ext cx="142920" cy="239760"/>
              </a:xfrm>
              <a:custGeom>
                <a:avLst/>
                <a:gdLst/>
                <a:ahLst/>
                <a:rect l="l" t="t" r="r" b="b"/>
                <a:pathLst>
                  <a:path w="271" h="452">
                    <a:moveTo>
                      <a:pt x="271" y="0"/>
                    </a:moveTo>
                    <a:lnTo>
                      <a:pt x="174" y="50"/>
                    </a:lnTo>
                    <a:lnTo>
                      <a:pt x="108" y="106"/>
                    </a:lnTo>
                    <a:lnTo>
                      <a:pt x="75" y="176"/>
                    </a:lnTo>
                    <a:lnTo>
                      <a:pt x="122" y="119"/>
                    </a:lnTo>
                    <a:lnTo>
                      <a:pt x="225" y="42"/>
                    </a:lnTo>
                    <a:lnTo>
                      <a:pt x="147" y="170"/>
                    </a:lnTo>
                    <a:lnTo>
                      <a:pt x="161" y="111"/>
                    </a:lnTo>
                    <a:lnTo>
                      <a:pt x="113" y="198"/>
                    </a:lnTo>
                    <a:lnTo>
                      <a:pt x="80" y="318"/>
                    </a:lnTo>
                    <a:lnTo>
                      <a:pt x="78" y="210"/>
                    </a:lnTo>
                    <a:lnTo>
                      <a:pt x="35" y="270"/>
                    </a:lnTo>
                    <a:lnTo>
                      <a:pt x="4" y="356"/>
                    </a:lnTo>
                    <a:lnTo>
                      <a:pt x="0" y="452"/>
                    </a:lnTo>
                    <a:lnTo>
                      <a:pt x="18" y="436"/>
                    </a:lnTo>
                    <a:lnTo>
                      <a:pt x="20" y="367"/>
                    </a:lnTo>
                    <a:lnTo>
                      <a:pt x="58" y="267"/>
                    </a:lnTo>
                    <a:lnTo>
                      <a:pt x="55" y="341"/>
                    </a:lnTo>
                    <a:lnTo>
                      <a:pt x="78" y="420"/>
                    </a:lnTo>
                    <a:lnTo>
                      <a:pt x="104" y="409"/>
                    </a:lnTo>
                    <a:lnTo>
                      <a:pt x="99" y="368"/>
                    </a:lnTo>
                    <a:lnTo>
                      <a:pt x="117" y="262"/>
                    </a:lnTo>
                    <a:lnTo>
                      <a:pt x="135" y="339"/>
                    </a:lnTo>
                    <a:lnTo>
                      <a:pt x="187" y="373"/>
                    </a:lnTo>
                    <a:lnTo>
                      <a:pt x="196" y="339"/>
                    </a:lnTo>
                    <a:lnTo>
                      <a:pt x="220" y="313"/>
                    </a:lnTo>
                    <a:lnTo>
                      <a:pt x="203" y="280"/>
                    </a:lnTo>
                    <a:lnTo>
                      <a:pt x="203" y="188"/>
                    </a:lnTo>
                    <a:lnTo>
                      <a:pt x="215" y="150"/>
                    </a:lnTo>
                    <a:lnTo>
                      <a:pt x="231" y="106"/>
                    </a:lnTo>
                    <a:lnTo>
                      <a:pt x="242" y="71"/>
                    </a:lnTo>
                    <a:lnTo>
                      <a:pt x="203" y="112"/>
                    </a:lnTo>
                    <a:lnTo>
                      <a:pt x="240" y="50"/>
                    </a:lnTo>
                    <a:lnTo>
                      <a:pt x="271" y="0"/>
                    </a:lnTo>
                    <a:lnTo>
                      <a:pt x="271" y="0"/>
                    </a:lnTo>
                    <a:lnTo>
                      <a:pt x="2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47680" y="5288040"/>
                <a:ext cx="31680" cy="102960"/>
              </a:xfrm>
              <a:custGeom>
                <a:avLst/>
                <a:gdLst/>
                <a:ahLst/>
                <a:rect l="l" t="t" r="r" b="b"/>
                <a:pathLst>
                  <a:path w="61" h="196">
                    <a:moveTo>
                      <a:pt x="27" y="0"/>
                    </a:moveTo>
                    <a:lnTo>
                      <a:pt x="12" y="36"/>
                    </a:lnTo>
                    <a:lnTo>
                      <a:pt x="0" y="117"/>
                    </a:lnTo>
                    <a:lnTo>
                      <a:pt x="5" y="166"/>
                    </a:lnTo>
                    <a:lnTo>
                      <a:pt x="17" y="196"/>
                    </a:lnTo>
                    <a:lnTo>
                      <a:pt x="61" y="177"/>
                    </a:lnTo>
                    <a:lnTo>
                      <a:pt x="56" y="152"/>
                    </a:lnTo>
                    <a:lnTo>
                      <a:pt x="50" y="94"/>
                    </a:lnTo>
                    <a:lnTo>
                      <a:pt x="29" y="152"/>
                    </a:lnTo>
                    <a:lnTo>
                      <a:pt x="25" y="103"/>
                    </a:lnTo>
                    <a:lnTo>
                      <a:pt x="27" y="4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81160" y="5151600"/>
                <a:ext cx="217440" cy="258480"/>
              </a:xfrm>
              <a:custGeom>
                <a:avLst/>
                <a:gdLst/>
                <a:ahLst/>
                <a:rect l="l" t="t" r="r" b="b"/>
                <a:pathLst>
                  <a:path w="411" h="489">
                    <a:moveTo>
                      <a:pt x="411" y="13"/>
                    </a:moveTo>
                    <a:lnTo>
                      <a:pt x="337" y="35"/>
                    </a:lnTo>
                    <a:lnTo>
                      <a:pt x="298" y="48"/>
                    </a:lnTo>
                    <a:lnTo>
                      <a:pt x="244" y="99"/>
                    </a:lnTo>
                    <a:lnTo>
                      <a:pt x="220" y="154"/>
                    </a:lnTo>
                    <a:lnTo>
                      <a:pt x="175" y="209"/>
                    </a:lnTo>
                    <a:lnTo>
                      <a:pt x="101" y="315"/>
                    </a:lnTo>
                    <a:lnTo>
                      <a:pt x="44" y="415"/>
                    </a:lnTo>
                    <a:lnTo>
                      <a:pt x="0" y="489"/>
                    </a:lnTo>
                    <a:lnTo>
                      <a:pt x="18" y="404"/>
                    </a:lnTo>
                    <a:lnTo>
                      <a:pt x="13" y="356"/>
                    </a:lnTo>
                    <a:lnTo>
                      <a:pt x="21" y="258"/>
                    </a:lnTo>
                    <a:lnTo>
                      <a:pt x="50" y="162"/>
                    </a:lnTo>
                    <a:lnTo>
                      <a:pt x="109" y="68"/>
                    </a:lnTo>
                    <a:lnTo>
                      <a:pt x="68" y="163"/>
                    </a:lnTo>
                    <a:lnTo>
                      <a:pt x="42" y="256"/>
                    </a:lnTo>
                    <a:lnTo>
                      <a:pt x="45" y="364"/>
                    </a:lnTo>
                    <a:lnTo>
                      <a:pt x="62" y="251"/>
                    </a:lnTo>
                    <a:lnTo>
                      <a:pt x="87" y="173"/>
                    </a:lnTo>
                    <a:lnTo>
                      <a:pt x="124" y="115"/>
                    </a:lnTo>
                    <a:lnTo>
                      <a:pt x="98" y="213"/>
                    </a:lnTo>
                    <a:lnTo>
                      <a:pt x="102" y="273"/>
                    </a:lnTo>
                    <a:lnTo>
                      <a:pt x="157" y="193"/>
                    </a:lnTo>
                    <a:lnTo>
                      <a:pt x="196" y="151"/>
                    </a:lnTo>
                    <a:lnTo>
                      <a:pt x="216" y="94"/>
                    </a:lnTo>
                    <a:lnTo>
                      <a:pt x="250" y="45"/>
                    </a:lnTo>
                    <a:lnTo>
                      <a:pt x="284" y="29"/>
                    </a:lnTo>
                    <a:lnTo>
                      <a:pt x="337" y="9"/>
                    </a:lnTo>
                    <a:lnTo>
                      <a:pt x="396" y="0"/>
                    </a:lnTo>
                    <a:lnTo>
                      <a:pt x="411" y="13"/>
                    </a:lnTo>
                    <a:lnTo>
                      <a:pt x="411" y="13"/>
                    </a:lnTo>
                    <a:lnTo>
                      <a:pt x="41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31920" y="535788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182" h="179">
                    <a:moveTo>
                      <a:pt x="182" y="0"/>
                    </a:moveTo>
                    <a:lnTo>
                      <a:pt x="131" y="53"/>
                    </a:lnTo>
                    <a:lnTo>
                      <a:pt x="67" y="109"/>
                    </a:lnTo>
                    <a:lnTo>
                      <a:pt x="13" y="146"/>
                    </a:lnTo>
                    <a:lnTo>
                      <a:pt x="0" y="162"/>
                    </a:lnTo>
                    <a:lnTo>
                      <a:pt x="0" y="178"/>
                    </a:lnTo>
                    <a:lnTo>
                      <a:pt x="28" y="179"/>
                    </a:lnTo>
                    <a:lnTo>
                      <a:pt x="90" y="128"/>
                    </a:lnTo>
                    <a:lnTo>
                      <a:pt x="149" y="64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4240" y="5418000"/>
                <a:ext cx="409680" cy="301680"/>
              </a:xfrm>
              <a:custGeom>
                <a:avLst/>
                <a:gdLst/>
                <a:ahLst/>
                <a:rect l="l" t="t" r="r" b="b"/>
                <a:pathLst>
                  <a:path w="773" h="572">
                    <a:moveTo>
                      <a:pt x="5" y="562"/>
                    </a:moveTo>
                    <a:lnTo>
                      <a:pt x="0" y="518"/>
                    </a:lnTo>
                    <a:lnTo>
                      <a:pt x="5" y="478"/>
                    </a:lnTo>
                    <a:lnTo>
                      <a:pt x="65" y="428"/>
                    </a:lnTo>
                    <a:lnTo>
                      <a:pt x="170" y="350"/>
                    </a:lnTo>
                    <a:lnTo>
                      <a:pt x="229" y="315"/>
                    </a:lnTo>
                    <a:lnTo>
                      <a:pt x="283" y="291"/>
                    </a:lnTo>
                    <a:lnTo>
                      <a:pt x="301" y="256"/>
                    </a:lnTo>
                    <a:lnTo>
                      <a:pt x="494" y="124"/>
                    </a:lnTo>
                    <a:lnTo>
                      <a:pt x="562" y="124"/>
                    </a:lnTo>
                    <a:lnTo>
                      <a:pt x="581" y="92"/>
                    </a:lnTo>
                    <a:lnTo>
                      <a:pt x="627" y="62"/>
                    </a:lnTo>
                    <a:lnTo>
                      <a:pt x="676" y="48"/>
                    </a:lnTo>
                    <a:lnTo>
                      <a:pt x="705" y="14"/>
                    </a:lnTo>
                    <a:lnTo>
                      <a:pt x="770" y="0"/>
                    </a:lnTo>
                    <a:lnTo>
                      <a:pt x="773" y="23"/>
                    </a:lnTo>
                    <a:lnTo>
                      <a:pt x="724" y="37"/>
                    </a:lnTo>
                    <a:lnTo>
                      <a:pt x="683" y="192"/>
                    </a:lnTo>
                    <a:lnTo>
                      <a:pt x="661" y="403"/>
                    </a:lnTo>
                    <a:lnTo>
                      <a:pt x="654" y="502"/>
                    </a:lnTo>
                    <a:lnTo>
                      <a:pt x="630" y="509"/>
                    </a:lnTo>
                    <a:lnTo>
                      <a:pt x="615" y="489"/>
                    </a:lnTo>
                    <a:lnTo>
                      <a:pt x="615" y="397"/>
                    </a:lnTo>
                    <a:lnTo>
                      <a:pt x="641" y="205"/>
                    </a:lnTo>
                    <a:lnTo>
                      <a:pt x="661" y="198"/>
                    </a:lnTo>
                    <a:lnTo>
                      <a:pt x="693" y="75"/>
                    </a:lnTo>
                    <a:lnTo>
                      <a:pt x="649" y="82"/>
                    </a:lnTo>
                    <a:lnTo>
                      <a:pt x="610" y="99"/>
                    </a:lnTo>
                    <a:lnTo>
                      <a:pt x="578" y="143"/>
                    </a:lnTo>
                    <a:lnTo>
                      <a:pt x="509" y="148"/>
                    </a:lnTo>
                    <a:lnTo>
                      <a:pt x="330" y="267"/>
                    </a:lnTo>
                    <a:lnTo>
                      <a:pt x="232" y="430"/>
                    </a:lnTo>
                    <a:lnTo>
                      <a:pt x="255" y="328"/>
                    </a:lnTo>
                    <a:lnTo>
                      <a:pt x="186" y="385"/>
                    </a:lnTo>
                    <a:lnTo>
                      <a:pt x="93" y="487"/>
                    </a:lnTo>
                    <a:lnTo>
                      <a:pt x="30" y="572"/>
                    </a:lnTo>
                    <a:lnTo>
                      <a:pt x="5" y="562"/>
                    </a:lnTo>
                    <a:lnTo>
                      <a:pt x="5" y="562"/>
                    </a:lnTo>
                    <a:lnTo>
                      <a:pt x="5" y="5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7640" y="5616720"/>
                <a:ext cx="66600" cy="244440"/>
              </a:xfrm>
              <a:custGeom>
                <a:avLst/>
                <a:gdLst/>
                <a:ahLst/>
                <a:rect l="l" t="t" r="r" b="b"/>
                <a:pathLst>
                  <a:path w="126" h="462">
                    <a:moveTo>
                      <a:pt x="82" y="8"/>
                    </a:moveTo>
                    <a:lnTo>
                      <a:pt x="0" y="79"/>
                    </a:lnTo>
                    <a:lnTo>
                      <a:pt x="48" y="200"/>
                    </a:lnTo>
                    <a:lnTo>
                      <a:pt x="45" y="240"/>
                    </a:lnTo>
                    <a:lnTo>
                      <a:pt x="9" y="298"/>
                    </a:lnTo>
                    <a:lnTo>
                      <a:pt x="88" y="372"/>
                    </a:lnTo>
                    <a:lnTo>
                      <a:pt x="84" y="428"/>
                    </a:lnTo>
                    <a:lnTo>
                      <a:pt x="97" y="462"/>
                    </a:lnTo>
                    <a:lnTo>
                      <a:pt x="126" y="459"/>
                    </a:lnTo>
                    <a:lnTo>
                      <a:pt x="114" y="422"/>
                    </a:lnTo>
                    <a:lnTo>
                      <a:pt x="120" y="369"/>
                    </a:lnTo>
                    <a:lnTo>
                      <a:pt x="45" y="295"/>
                    </a:lnTo>
                    <a:lnTo>
                      <a:pt x="75" y="231"/>
                    </a:lnTo>
                    <a:lnTo>
                      <a:pt x="77" y="191"/>
                    </a:lnTo>
                    <a:lnTo>
                      <a:pt x="31" y="89"/>
                    </a:lnTo>
                    <a:lnTo>
                      <a:pt x="105" y="0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50920" y="5419800"/>
                <a:ext cx="177840" cy="415800"/>
              </a:xfrm>
              <a:custGeom>
                <a:avLst/>
                <a:gdLst/>
                <a:ahLst/>
                <a:rect l="l" t="t" r="r" b="b"/>
                <a:pathLst>
                  <a:path w="338" h="785">
                    <a:moveTo>
                      <a:pt x="34" y="0"/>
                    </a:moveTo>
                    <a:lnTo>
                      <a:pt x="14" y="23"/>
                    </a:lnTo>
                    <a:lnTo>
                      <a:pt x="3" y="65"/>
                    </a:lnTo>
                    <a:lnTo>
                      <a:pt x="0" y="146"/>
                    </a:lnTo>
                    <a:lnTo>
                      <a:pt x="5" y="226"/>
                    </a:lnTo>
                    <a:lnTo>
                      <a:pt x="65" y="508"/>
                    </a:lnTo>
                    <a:lnTo>
                      <a:pt x="109" y="619"/>
                    </a:lnTo>
                    <a:lnTo>
                      <a:pt x="163" y="657"/>
                    </a:lnTo>
                    <a:lnTo>
                      <a:pt x="227" y="668"/>
                    </a:lnTo>
                    <a:lnTo>
                      <a:pt x="259" y="674"/>
                    </a:lnTo>
                    <a:lnTo>
                      <a:pt x="298" y="719"/>
                    </a:lnTo>
                    <a:lnTo>
                      <a:pt x="338" y="785"/>
                    </a:lnTo>
                    <a:lnTo>
                      <a:pt x="311" y="690"/>
                    </a:lnTo>
                    <a:lnTo>
                      <a:pt x="219" y="464"/>
                    </a:lnTo>
                    <a:lnTo>
                      <a:pt x="126" y="188"/>
                    </a:lnTo>
                    <a:lnTo>
                      <a:pt x="57" y="296"/>
                    </a:lnTo>
                    <a:lnTo>
                      <a:pt x="44" y="269"/>
                    </a:lnTo>
                    <a:lnTo>
                      <a:pt x="34" y="222"/>
                    </a:lnTo>
                    <a:lnTo>
                      <a:pt x="28" y="146"/>
                    </a:lnTo>
                    <a:lnTo>
                      <a:pt x="25" y="68"/>
                    </a:lnTo>
                    <a:lnTo>
                      <a:pt x="30" y="35"/>
                    </a:lnTo>
                    <a:lnTo>
                      <a:pt x="50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217520" y="5184720"/>
                <a:ext cx="309600" cy="390600"/>
              </a:xfrm>
              <a:custGeom>
                <a:avLst/>
                <a:gdLst/>
                <a:ahLst/>
                <a:rect l="l" t="t" r="r" b="b"/>
                <a:pathLst>
                  <a:path w="586" h="739">
                    <a:moveTo>
                      <a:pt x="0" y="633"/>
                    </a:moveTo>
                    <a:lnTo>
                      <a:pt x="54" y="601"/>
                    </a:lnTo>
                    <a:lnTo>
                      <a:pt x="60" y="526"/>
                    </a:lnTo>
                    <a:lnTo>
                      <a:pt x="147" y="469"/>
                    </a:lnTo>
                    <a:lnTo>
                      <a:pt x="177" y="454"/>
                    </a:lnTo>
                    <a:lnTo>
                      <a:pt x="212" y="383"/>
                    </a:lnTo>
                    <a:lnTo>
                      <a:pt x="234" y="352"/>
                    </a:lnTo>
                    <a:lnTo>
                      <a:pt x="262" y="331"/>
                    </a:lnTo>
                    <a:lnTo>
                      <a:pt x="303" y="321"/>
                    </a:lnTo>
                    <a:lnTo>
                      <a:pt x="331" y="329"/>
                    </a:lnTo>
                    <a:lnTo>
                      <a:pt x="337" y="344"/>
                    </a:lnTo>
                    <a:lnTo>
                      <a:pt x="335" y="360"/>
                    </a:lnTo>
                    <a:lnTo>
                      <a:pt x="317" y="352"/>
                    </a:lnTo>
                    <a:lnTo>
                      <a:pt x="288" y="355"/>
                    </a:lnTo>
                    <a:lnTo>
                      <a:pt x="267" y="364"/>
                    </a:lnTo>
                    <a:lnTo>
                      <a:pt x="248" y="383"/>
                    </a:lnTo>
                    <a:lnTo>
                      <a:pt x="231" y="400"/>
                    </a:lnTo>
                    <a:lnTo>
                      <a:pt x="214" y="419"/>
                    </a:lnTo>
                    <a:lnTo>
                      <a:pt x="219" y="449"/>
                    </a:lnTo>
                    <a:lnTo>
                      <a:pt x="242" y="454"/>
                    </a:lnTo>
                    <a:lnTo>
                      <a:pt x="287" y="434"/>
                    </a:lnTo>
                    <a:lnTo>
                      <a:pt x="345" y="419"/>
                    </a:lnTo>
                    <a:lnTo>
                      <a:pt x="376" y="403"/>
                    </a:lnTo>
                    <a:lnTo>
                      <a:pt x="411" y="374"/>
                    </a:lnTo>
                    <a:lnTo>
                      <a:pt x="433" y="329"/>
                    </a:lnTo>
                    <a:lnTo>
                      <a:pt x="400" y="277"/>
                    </a:lnTo>
                    <a:lnTo>
                      <a:pt x="389" y="240"/>
                    </a:lnTo>
                    <a:lnTo>
                      <a:pt x="380" y="189"/>
                    </a:lnTo>
                    <a:lnTo>
                      <a:pt x="362" y="174"/>
                    </a:lnTo>
                    <a:lnTo>
                      <a:pt x="369" y="157"/>
                    </a:lnTo>
                    <a:lnTo>
                      <a:pt x="389" y="167"/>
                    </a:lnTo>
                    <a:lnTo>
                      <a:pt x="400" y="189"/>
                    </a:lnTo>
                    <a:lnTo>
                      <a:pt x="410" y="240"/>
                    </a:lnTo>
                    <a:lnTo>
                      <a:pt x="444" y="266"/>
                    </a:lnTo>
                    <a:lnTo>
                      <a:pt x="424" y="283"/>
                    </a:lnTo>
                    <a:lnTo>
                      <a:pt x="455" y="329"/>
                    </a:lnTo>
                    <a:lnTo>
                      <a:pt x="478" y="311"/>
                    </a:lnTo>
                    <a:lnTo>
                      <a:pt x="503" y="306"/>
                    </a:lnTo>
                    <a:lnTo>
                      <a:pt x="516" y="248"/>
                    </a:lnTo>
                    <a:lnTo>
                      <a:pt x="514" y="221"/>
                    </a:lnTo>
                    <a:lnTo>
                      <a:pt x="405" y="137"/>
                    </a:lnTo>
                    <a:lnTo>
                      <a:pt x="444" y="145"/>
                    </a:lnTo>
                    <a:lnTo>
                      <a:pt x="528" y="143"/>
                    </a:lnTo>
                    <a:lnTo>
                      <a:pt x="490" y="174"/>
                    </a:lnTo>
                    <a:lnTo>
                      <a:pt x="506" y="198"/>
                    </a:lnTo>
                    <a:lnTo>
                      <a:pt x="527" y="192"/>
                    </a:lnTo>
                    <a:lnTo>
                      <a:pt x="562" y="167"/>
                    </a:lnTo>
                    <a:lnTo>
                      <a:pt x="551" y="95"/>
                    </a:lnTo>
                    <a:lnTo>
                      <a:pt x="531" y="89"/>
                    </a:lnTo>
                    <a:lnTo>
                      <a:pt x="424" y="64"/>
                    </a:lnTo>
                    <a:lnTo>
                      <a:pt x="346" y="30"/>
                    </a:lnTo>
                    <a:lnTo>
                      <a:pt x="317" y="19"/>
                    </a:lnTo>
                    <a:lnTo>
                      <a:pt x="270" y="29"/>
                    </a:lnTo>
                    <a:lnTo>
                      <a:pt x="251" y="44"/>
                    </a:lnTo>
                    <a:lnTo>
                      <a:pt x="237" y="35"/>
                    </a:lnTo>
                    <a:lnTo>
                      <a:pt x="242" y="19"/>
                    </a:lnTo>
                    <a:lnTo>
                      <a:pt x="288" y="0"/>
                    </a:lnTo>
                    <a:lnTo>
                      <a:pt x="331" y="6"/>
                    </a:lnTo>
                    <a:lnTo>
                      <a:pt x="371" y="26"/>
                    </a:lnTo>
                    <a:lnTo>
                      <a:pt x="433" y="53"/>
                    </a:lnTo>
                    <a:lnTo>
                      <a:pt x="557" y="81"/>
                    </a:lnTo>
                    <a:lnTo>
                      <a:pt x="573" y="95"/>
                    </a:lnTo>
                    <a:lnTo>
                      <a:pt x="586" y="132"/>
                    </a:lnTo>
                    <a:lnTo>
                      <a:pt x="585" y="172"/>
                    </a:lnTo>
                    <a:lnTo>
                      <a:pt x="559" y="233"/>
                    </a:lnTo>
                    <a:lnTo>
                      <a:pt x="556" y="331"/>
                    </a:lnTo>
                    <a:lnTo>
                      <a:pt x="489" y="376"/>
                    </a:lnTo>
                    <a:lnTo>
                      <a:pt x="479" y="445"/>
                    </a:lnTo>
                    <a:lnTo>
                      <a:pt x="403" y="468"/>
                    </a:lnTo>
                    <a:lnTo>
                      <a:pt x="329" y="505"/>
                    </a:lnTo>
                    <a:lnTo>
                      <a:pt x="242" y="543"/>
                    </a:lnTo>
                    <a:lnTo>
                      <a:pt x="296" y="682"/>
                    </a:lnTo>
                    <a:lnTo>
                      <a:pt x="189" y="510"/>
                    </a:lnTo>
                    <a:lnTo>
                      <a:pt x="179" y="548"/>
                    </a:lnTo>
                    <a:lnTo>
                      <a:pt x="270" y="739"/>
                    </a:lnTo>
                    <a:lnTo>
                      <a:pt x="183" y="623"/>
                    </a:lnTo>
                    <a:lnTo>
                      <a:pt x="54" y="662"/>
                    </a:lnTo>
                    <a:lnTo>
                      <a:pt x="3" y="658"/>
                    </a:lnTo>
                    <a:lnTo>
                      <a:pt x="0" y="633"/>
                    </a:lnTo>
                    <a:lnTo>
                      <a:pt x="0" y="633"/>
                    </a:lnTo>
                    <a:lnTo>
                      <a:pt x="0" y="6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66920" y="5310360"/>
                <a:ext cx="36360" cy="18720"/>
              </a:xfrm>
              <a:custGeom>
                <a:avLst/>
                <a:gdLst/>
                <a:ahLst/>
                <a:rect l="l" t="t" r="r" b="b"/>
                <a:pathLst>
                  <a:path w="69" h="37">
                    <a:moveTo>
                      <a:pt x="60" y="0"/>
                    </a:moveTo>
                    <a:lnTo>
                      <a:pt x="33" y="6"/>
                    </a:lnTo>
                    <a:lnTo>
                      <a:pt x="3" y="17"/>
                    </a:lnTo>
                    <a:lnTo>
                      <a:pt x="0" y="35"/>
                    </a:lnTo>
                    <a:lnTo>
                      <a:pt x="24" y="37"/>
                    </a:lnTo>
                    <a:lnTo>
                      <a:pt x="55" y="26"/>
                    </a:lnTo>
                    <a:lnTo>
                      <a:pt x="69" y="19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53960" y="5265720"/>
                <a:ext cx="43200" cy="205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0" y="18"/>
                    </a:moveTo>
                    <a:lnTo>
                      <a:pt x="17" y="38"/>
                    </a:lnTo>
                    <a:lnTo>
                      <a:pt x="43" y="18"/>
                    </a:lnTo>
                    <a:lnTo>
                      <a:pt x="81" y="3"/>
                    </a:lnTo>
                    <a:lnTo>
                      <a:pt x="41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8120" y="52196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36" h="63">
                    <a:moveTo>
                      <a:pt x="0" y="63"/>
                    </a:moveTo>
                    <a:lnTo>
                      <a:pt x="34" y="24"/>
                    </a:lnTo>
                    <a:lnTo>
                      <a:pt x="65" y="15"/>
                    </a:lnTo>
                    <a:lnTo>
                      <a:pt x="93" y="21"/>
                    </a:lnTo>
                    <a:lnTo>
                      <a:pt x="136" y="36"/>
                    </a:lnTo>
                    <a:lnTo>
                      <a:pt x="103" y="7"/>
                    </a:lnTo>
                    <a:lnTo>
                      <a:pt x="59" y="0"/>
                    </a:lnTo>
                    <a:lnTo>
                      <a:pt x="30" y="1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13000" y="5159520"/>
                <a:ext cx="209520" cy="191880"/>
              </a:xfrm>
              <a:custGeom>
                <a:avLst/>
                <a:gdLst/>
                <a:ahLst/>
                <a:rect l="l" t="t" r="r" b="b"/>
                <a:pathLst>
                  <a:path w="396" h="363">
                    <a:moveTo>
                      <a:pt x="0" y="74"/>
                    </a:moveTo>
                    <a:lnTo>
                      <a:pt x="45" y="61"/>
                    </a:lnTo>
                    <a:lnTo>
                      <a:pt x="104" y="37"/>
                    </a:lnTo>
                    <a:lnTo>
                      <a:pt x="165" y="27"/>
                    </a:lnTo>
                    <a:lnTo>
                      <a:pt x="217" y="32"/>
                    </a:lnTo>
                    <a:lnTo>
                      <a:pt x="268" y="40"/>
                    </a:lnTo>
                    <a:lnTo>
                      <a:pt x="294" y="49"/>
                    </a:lnTo>
                    <a:lnTo>
                      <a:pt x="309" y="45"/>
                    </a:lnTo>
                    <a:lnTo>
                      <a:pt x="320" y="32"/>
                    </a:lnTo>
                    <a:lnTo>
                      <a:pt x="298" y="0"/>
                    </a:lnTo>
                    <a:lnTo>
                      <a:pt x="396" y="17"/>
                    </a:lnTo>
                    <a:lnTo>
                      <a:pt x="386" y="69"/>
                    </a:lnTo>
                    <a:lnTo>
                      <a:pt x="378" y="97"/>
                    </a:lnTo>
                    <a:lnTo>
                      <a:pt x="347" y="27"/>
                    </a:lnTo>
                    <a:lnTo>
                      <a:pt x="340" y="94"/>
                    </a:lnTo>
                    <a:lnTo>
                      <a:pt x="311" y="69"/>
                    </a:lnTo>
                    <a:lnTo>
                      <a:pt x="289" y="112"/>
                    </a:lnTo>
                    <a:lnTo>
                      <a:pt x="259" y="74"/>
                    </a:lnTo>
                    <a:lnTo>
                      <a:pt x="247" y="108"/>
                    </a:lnTo>
                    <a:lnTo>
                      <a:pt x="313" y="363"/>
                    </a:lnTo>
                    <a:lnTo>
                      <a:pt x="214" y="94"/>
                    </a:lnTo>
                    <a:lnTo>
                      <a:pt x="196" y="116"/>
                    </a:lnTo>
                    <a:lnTo>
                      <a:pt x="160" y="92"/>
                    </a:lnTo>
                    <a:lnTo>
                      <a:pt x="138" y="126"/>
                    </a:lnTo>
                    <a:lnTo>
                      <a:pt x="37" y="101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527120" y="525456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56" h="264">
                    <a:moveTo>
                      <a:pt x="0" y="40"/>
                    </a:moveTo>
                    <a:lnTo>
                      <a:pt x="17" y="89"/>
                    </a:lnTo>
                    <a:lnTo>
                      <a:pt x="35" y="163"/>
                    </a:lnTo>
                    <a:lnTo>
                      <a:pt x="56" y="264"/>
                    </a:lnTo>
                    <a:lnTo>
                      <a:pt x="49" y="163"/>
                    </a:lnTo>
                    <a:lnTo>
                      <a:pt x="31" y="80"/>
                    </a:lnTo>
                    <a:lnTo>
                      <a:pt x="1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225440" y="5524560"/>
                <a:ext cx="115920" cy="172800"/>
              </a:xfrm>
              <a:custGeom>
                <a:avLst/>
                <a:gdLst/>
                <a:ahLst/>
                <a:rect l="l" t="t" r="r" b="b"/>
                <a:pathLst>
                  <a:path w="220" h="325">
                    <a:moveTo>
                      <a:pt x="0" y="12"/>
                    </a:moveTo>
                    <a:lnTo>
                      <a:pt x="8" y="46"/>
                    </a:lnTo>
                    <a:lnTo>
                      <a:pt x="33" y="89"/>
                    </a:lnTo>
                    <a:lnTo>
                      <a:pt x="85" y="145"/>
                    </a:lnTo>
                    <a:lnTo>
                      <a:pt x="147" y="199"/>
                    </a:lnTo>
                    <a:lnTo>
                      <a:pt x="162" y="216"/>
                    </a:lnTo>
                    <a:lnTo>
                      <a:pt x="188" y="325"/>
                    </a:lnTo>
                    <a:lnTo>
                      <a:pt x="191" y="253"/>
                    </a:lnTo>
                    <a:lnTo>
                      <a:pt x="220" y="314"/>
                    </a:lnTo>
                    <a:lnTo>
                      <a:pt x="216" y="253"/>
                    </a:lnTo>
                    <a:lnTo>
                      <a:pt x="179" y="185"/>
                    </a:lnTo>
                    <a:lnTo>
                      <a:pt x="85" y="69"/>
                    </a:lnTo>
                    <a:lnTo>
                      <a:pt x="151" y="180"/>
                    </a:lnTo>
                    <a:lnTo>
                      <a:pt x="92" y="126"/>
                    </a:lnTo>
                    <a:lnTo>
                      <a:pt x="46" y="74"/>
                    </a:lnTo>
                    <a:lnTo>
                      <a:pt x="30" y="41"/>
                    </a:lnTo>
                    <a:lnTo>
                      <a:pt x="28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82680" y="555156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382" h="606">
                    <a:moveTo>
                      <a:pt x="0" y="14"/>
                    </a:moveTo>
                    <a:lnTo>
                      <a:pt x="50" y="79"/>
                    </a:lnTo>
                    <a:lnTo>
                      <a:pt x="108" y="158"/>
                    </a:lnTo>
                    <a:lnTo>
                      <a:pt x="171" y="231"/>
                    </a:lnTo>
                    <a:lnTo>
                      <a:pt x="197" y="283"/>
                    </a:lnTo>
                    <a:lnTo>
                      <a:pt x="206" y="321"/>
                    </a:lnTo>
                    <a:lnTo>
                      <a:pt x="208" y="409"/>
                    </a:lnTo>
                    <a:lnTo>
                      <a:pt x="213" y="447"/>
                    </a:lnTo>
                    <a:lnTo>
                      <a:pt x="228" y="491"/>
                    </a:lnTo>
                    <a:lnTo>
                      <a:pt x="253" y="531"/>
                    </a:lnTo>
                    <a:lnTo>
                      <a:pt x="296" y="570"/>
                    </a:lnTo>
                    <a:lnTo>
                      <a:pt x="382" y="606"/>
                    </a:lnTo>
                    <a:lnTo>
                      <a:pt x="311" y="557"/>
                    </a:lnTo>
                    <a:lnTo>
                      <a:pt x="265" y="522"/>
                    </a:lnTo>
                    <a:lnTo>
                      <a:pt x="242" y="479"/>
                    </a:lnTo>
                    <a:lnTo>
                      <a:pt x="228" y="441"/>
                    </a:lnTo>
                    <a:lnTo>
                      <a:pt x="227" y="390"/>
                    </a:lnTo>
                    <a:lnTo>
                      <a:pt x="225" y="314"/>
                    </a:lnTo>
                    <a:lnTo>
                      <a:pt x="213" y="271"/>
                    </a:lnTo>
                    <a:lnTo>
                      <a:pt x="183" y="211"/>
                    </a:lnTo>
                    <a:lnTo>
                      <a:pt x="122" y="142"/>
                    </a:lnTo>
                    <a:lnTo>
                      <a:pt x="60" y="73"/>
                    </a:lnTo>
                    <a:lnTo>
                      <a:pt x="6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71600" y="5613480"/>
                <a:ext cx="88920" cy="218880"/>
              </a:xfrm>
              <a:custGeom>
                <a:avLst/>
                <a:gdLst/>
                <a:ahLst/>
                <a:rect l="l" t="t" r="r" b="b"/>
                <a:pathLst>
                  <a:path w="167" h="414">
                    <a:moveTo>
                      <a:pt x="0" y="14"/>
                    </a:moveTo>
                    <a:lnTo>
                      <a:pt x="53" y="96"/>
                    </a:lnTo>
                    <a:lnTo>
                      <a:pt x="73" y="143"/>
                    </a:lnTo>
                    <a:lnTo>
                      <a:pt x="78" y="186"/>
                    </a:lnTo>
                    <a:lnTo>
                      <a:pt x="83" y="248"/>
                    </a:lnTo>
                    <a:lnTo>
                      <a:pt x="87" y="324"/>
                    </a:lnTo>
                    <a:lnTo>
                      <a:pt x="101" y="360"/>
                    </a:lnTo>
                    <a:lnTo>
                      <a:pt x="167" y="414"/>
                    </a:lnTo>
                    <a:lnTo>
                      <a:pt x="115" y="352"/>
                    </a:lnTo>
                    <a:lnTo>
                      <a:pt x="103" y="312"/>
                    </a:lnTo>
                    <a:lnTo>
                      <a:pt x="98" y="241"/>
                    </a:lnTo>
                    <a:lnTo>
                      <a:pt x="101" y="172"/>
                    </a:lnTo>
                    <a:lnTo>
                      <a:pt x="93" y="137"/>
                    </a:lnTo>
                    <a:lnTo>
                      <a:pt x="78" y="90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97160" y="5616720"/>
                <a:ext cx="133200" cy="293400"/>
              </a:xfrm>
              <a:custGeom>
                <a:avLst/>
                <a:gdLst/>
                <a:ahLst/>
                <a:rect l="l" t="t" r="r" b="b"/>
                <a:pathLst>
                  <a:path w="252" h="553">
                    <a:moveTo>
                      <a:pt x="0" y="11"/>
                    </a:moveTo>
                    <a:lnTo>
                      <a:pt x="36" y="58"/>
                    </a:lnTo>
                    <a:lnTo>
                      <a:pt x="64" y="115"/>
                    </a:lnTo>
                    <a:lnTo>
                      <a:pt x="72" y="149"/>
                    </a:lnTo>
                    <a:lnTo>
                      <a:pt x="79" y="211"/>
                    </a:lnTo>
                    <a:lnTo>
                      <a:pt x="77" y="258"/>
                    </a:lnTo>
                    <a:lnTo>
                      <a:pt x="85" y="302"/>
                    </a:lnTo>
                    <a:lnTo>
                      <a:pt x="124" y="352"/>
                    </a:lnTo>
                    <a:lnTo>
                      <a:pt x="149" y="382"/>
                    </a:lnTo>
                    <a:lnTo>
                      <a:pt x="196" y="422"/>
                    </a:lnTo>
                    <a:lnTo>
                      <a:pt x="225" y="450"/>
                    </a:lnTo>
                    <a:lnTo>
                      <a:pt x="234" y="484"/>
                    </a:lnTo>
                    <a:lnTo>
                      <a:pt x="236" y="521"/>
                    </a:lnTo>
                    <a:lnTo>
                      <a:pt x="227" y="553"/>
                    </a:lnTo>
                    <a:lnTo>
                      <a:pt x="250" y="528"/>
                    </a:lnTo>
                    <a:lnTo>
                      <a:pt x="252" y="490"/>
                    </a:lnTo>
                    <a:lnTo>
                      <a:pt x="242" y="446"/>
                    </a:lnTo>
                    <a:lnTo>
                      <a:pt x="208" y="408"/>
                    </a:lnTo>
                    <a:lnTo>
                      <a:pt x="161" y="367"/>
                    </a:lnTo>
                    <a:lnTo>
                      <a:pt x="138" y="342"/>
                    </a:lnTo>
                    <a:lnTo>
                      <a:pt x="108" y="298"/>
                    </a:lnTo>
                    <a:lnTo>
                      <a:pt x="97" y="262"/>
                    </a:lnTo>
                    <a:lnTo>
                      <a:pt x="97" y="210"/>
                    </a:lnTo>
                    <a:lnTo>
                      <a:pt x="94" y="144"/>
                    </a:lnTo>
                    <a:lnTo>
                      <a:pt x="80" y="95"/>
                    </a:lnTo>
                    <a:lnTo>
                      <a:pt x="57" y="46"/>
                    </a:lnTo>
                    <a:lnTo>
                      <a:pt x="14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59080" y="5573880"/>
                <a:ext cx="98280" cy="315720"/>
              </a:xfrm>
              <a:custGeom>
                <a:avLst/>
                <a:gdLst/>
                <a:ahLst/>
                <a:rect l="l" t="t" r="r" b="b"/>
                <a:pathLst>
                  <a:path w="184" h="598">
                    <a:moveTo>
                      <a:pt x="0" y="11"/>
                    </a:moveTo>
                    <a:lnTo>
                      <a:pt x="34" y="120"/>
                    </a:lnTo>
                    <a:lnTo>
                      <a:pt x="39" y="181"/>
                    </a:lnTo>
                    <a:lnTo>
                      <a:pt x="41" y="248"/>
                    </a:lnTo>
                    <a:lnTo>
                      <a:pt x="32" y="306"/>
                    </a:lnTo>
                    <a:lnTo>
                      <a:pt x="25" y="341"/>
                    </a:lnTo>
                    <a:lnTo>
                      <a:pt x="39" y="372"/>
                    </a:lnTo>
                    <a:lnTo>
                      <a:pt x="74" y="431"/>
                    </a:lnTo>
                    <a:lnTo>
                      <a:pt x="133" y="494"/>
                    </a:lnTo>
                    <a:lnTo>
                      <a:pt x="169" y="536"/>
                    </a:lnTo>
                    <a:lnTo>
                      <a:pt x="184" y="598"/>
                    </a:lnTo>
                    <a:lnTo>
                      <a:pt x="184" y="533"/>
                    </a:lnTo>
                    <a:lnTo>
                      <a:pt x="150" y="482"/>
                    </a:lnTo>
                    <a:lnTo>
                      <a:pt x="99" y="420"/>
                    </a:lnTo>
                    <a:lnTo>
                      <a:pt x="64" y="367"/>
                    </a:lnTo>
                    <a:lnTo>
                      <a:pt x="53" y="334"/>
                    </a:lnTo>
                    <a:lnTo>
                      <a:pt x="50" y="297"/>
                    </a:lnTo>
                    <a:lnTo>
                      <a:pt x="61" y="248"/>
                    </a:lnTo>
                    <a:lnTo>
                      <a:pt x="61" y="179"/>
                    </a:lnTo>
                    <a:lnTo>
                      <a:pt x="53" y="113"/>
                    </a:lnTo>
                    <a:lnTo>
                      <a:pt x="15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77800" y="5546880"/>
                <a:ext cx="44640" cy="223560"/>
              </a:xfrm>
              <a:custGeom>
                <a:avLst/>
                <a:gdLst/>
                <a:ahLst/>
                <a:rect l="l" t="t" r="r" b="b"/>
                <a:pathLst>
                  <a:path w="83" h="422">
                    <a:moveTo>
                      <a:pt x="0" y="24"/>
                    </a:moveTo>
                    <a:lnTo>
                      <a:pt x="34" y="86"/>
                    </a:lnTo>
                    <a:lnTo>
                      <a:pt x="55" y="163"/>
                    </a:lnTo>
                    <a:lnTo>
                      <a:pt x="60" y="190"/>
                    </a:lnTo>
                    <a:lnTo>
                      <a:pt x="63" y="236"/>
                    </a:lnTo>
                    <a:lnTo>
                      <a:pt x="65" y="422"/>
                    </a:lnTo>
                    <a:lnTo>
                      <a:pt x="83" y="231"/>
                    </a:lnTo>
                    <a:lnTo>
                      <a:pt x="79" y="188"/>
                    </a:lnTo>
                    <a:lnTo>
                      <a:pt x="74" y="152"/>
                    </a:lnTo>
                    <a:lnTo>
                      <a:pt x="52" y="78"/>
                    </a:lnTo>
                    <a:lnTo>
                      <a:pt x="17" y="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06600" y="5553000"/>
                <a:ext cx="85680" cy="292320"/>
              </a:xfrm>
              <a:custGeom>
                <a:avLst/>
                <a:gdLst/>
                <a:ahLst/>
                <a:rect l="l" t="t" r="r" b="b"/>
                <a:pathLst>
                  <a:path w="162" h="553">
                    <a:moveTo>
                      <a:pt x="0" y="13"/>
                    </a:moveTo>
                    <a:lnTo>
                      <a:pt x="29" y="87"/>
                    </a:lnTo>
                    <a:lnTo>
                      <a:pt x="47" y="167"/>
                    </a:lnTo>
                    <a:lnTo>
                      <a:pt x="51" y="236"/>
                    </a:lnTo>
                    <a:lnTo>
                      <a:pt x="51" y="322"/>
                    </a:lnTo>
                    <a:lnTo>
                      <a:pt x="56" y="389"/>
                    </a:lnTo>
                    <a:lnTo>
                      <a:pt x="62" y="429"/>
                    </a:lnTo>
                    <a:lnTo>
                      <a:pt x="79" y="483"/>
                    </a:lnTo>
                    <a:lnTo>
                      <a:pt x="162" y="553"/>
                    </a:lnTo>
                    <a:lnTo>
                      <a:pt x="95" y="470"/>
                    </a:lnTo>
                    <a:lnTo>
                      <a:pt x="84" y="420"/>
                    </a:lnTo>
                    <a:lnTo>
                      <a:pt x="74" y="371"/>
                    </a:lnTo>
                    <a:lnTo>
                      <a:pt x="74" y="322"/>
                    </a:lnTo>
                    <a:lnTo>
                      <a:pt x="70" y="231"/>
                    </a:lnTo>
                    <a:lnTo>
                      <a:pt x="70" y="166"/>
                    </a:lnTo>
                    <a:lnTo>
                      <a:pt x="51" y="75"/>
                    </a:lnTo>
                    <a:lnTo>
                      <a:pt x="25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92280" y="585792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37" h="79">
                    <a:moveTo>
                      <a:pt x="11" y="14"/>
                    </a:moveTo>
                    <a:lnTo>
                      <a:pt x="20" y="28"/>
                    </a:lnTo>
                    <a:lnTo>
                      <a:pt x="25" y="49"/>
                    </a:lnTo>
                    <a:lnTo>
                      <a:pt x="16" y="63"/>
                    </a:lnTo>
                    <a:lnTo>
                      <a:pt x="0" y="79"/>
                    </a:lnTo>
                    <a:lnTo>
                      <a:pt x="31" y="63"/>
                    </a:lnTo>
                    <a:lnTo>
                      <a:pt x="37" y="34"/>
                    </a:lnTo>
                    <a:lnTo>
                      <a:pt x="31" y="0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92280" y="5618160"/>
                <a:ext cx="87120" cy="274680"/>
              </a:xfrm>
              <a:custGeom>
                <a:avLst/>
                <a:gdLst/>
                <a:ahLst/>
                <a:rect l="l" t="t" r="r" b="b"/>
                <a:pathLst>
                  <a:path w="165" h="519">
                    <a:moveTo>
                      <a:pt x="61" y="519"/>
                    </a:moveTo>
                    <a:lnTo>
                      <a:pt x="60" y="448"/>
                    </a:lnTo>
                    <a:lnTo>
                      <a:pt x="45" y="409"/>
                    </a:lnTo>
                    <a:lnTo>
                      <a:pt x="8" y="368"/>
                    </a:lnTo>
                    <a:lnTo>
                      <a:pt x="0" y="344"/>
                    </a:lnTo>
                    <a:lnTo>
                      <a:pt x="3" y="321"/>
                    </a:lnTo>
                    <a:lnTo>
                      <a:pt x="11" y="294"/>
                    </a:lnTo>
                    <a:lnTo>
                      <a:pt x="49" y="246"/>
                    </a:lnTo>
                    <a:lnTo>
                      <a:pt x="69" y="181"/>
                    </a:lnTo>
                    <a:lnTo>
                      <a:pt x="77" y="214"/>
                    </a:lnTo>
                    <a:lnTo>
                      <a:pt x="77" y="250"/>
                    </a:lnTo>
                    <a:lnTo>
                      <a:pt x="80" y="309"/>
                    </a:lnTo>
                    <a:lnTo>
                      <a:pt x="109" y="365"/>
                    </a:lnTo>
                    <a:lnTo>
                      <a:pt x="94" y="297"/>
                    </a:lnTo>
                    <a:lnTo>
                      <a:pt x="96" y="242"/>
                    </a:lnTo>
                    <a:lnTo>
                      <a:pt x="118" y="192"/>
                    </a:lnTo>
                    <a:lnTo>
                      <a:pt x="141" y="139"/>
                    </a:lnTo>
                    <a:lnTo>
                      <a:pt x="153" y="75"/>
                    </a:lnTo>
                    <a:lnTo>
                      <a:pt x="162" y="0"/>
                    </a:lnTo>
                    <a:lnTo>
                      <a:pt x="165" y="77"/>
                    </a:lnTo>
                    <a:lnTo>
                      <a:pt x="156" y="151"/>
                    </a:lnTo>
                    <a:lnTo>
                      <a:pt x="136" y="199"/>
                    </a:lnTo>
                    <a:lnTo>
                      <a:pt x="125" y="220"/>
                    </a:lnTo>
                    <a:lnTo>
                      <a:pt x="120" y="248"/>
                    </a:lnTo>
                    <a:lnTo>
                      <a:pt x="116" y="302"/>
                    </a:lnTo>
                    <a:lnTo>
                      <a:pt x="134" y="415"/>
                    </a:lnTo>
                    <a:lnTo>
                      <a:pt x="86" y="376"/>
                    </a:lnTo>
                    <a:lnTo>
                      <a:pt x="69" y="340"/>
                    </a:lnTo>
                    <a:lnTo>
                      <a:pt x="60" y="280"/>
                    </a:lnTo>
                    <a:lnTo>
                      <a:pt x="36" y="302"/>
                    </a:lnTo>
                    <a:lnTo>
                      <a:pt x="25" y="330"/>
                    </a:lnTo>
                    <a:lnTo>
                      <a:pt x="33" y="364"/>
                    </a:lnTo>
                    <a:lnTo>
                      <a:pt x="71" y="413"/>
                    </a:lnTo>
                    <a:lnTo>
                      <a:pt x="80" y="435"/>
                    </a:lnTo>
                    <a:lnTo>
                      <a:pt x="61" y="519"/>
                    </a:lnTo>
                    <a:lnTo>
                      <a:pt x="61" y="519"/>
                    </a:lnTo>
                    <a:lnTo>
                      <a:pt x="61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06680" y="5445000"/>
                <a:ext cx="31680" cy="9684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0" y="5"/>
                    </a:moveTo>
                    <a:lnTo>
                      <a:pt x="4" y="36"/>
                    </a:lnTo>
                    <a:lnTo>
                      <a:pt x="20" y="101"/>
                    </a:lnTo>
                    <a:lnTo>
                      <a:pt x="62" y="183"/>
                    </a:lnTo>
                    <a:lnTo>
                      <a:pt x="33" y="94"/>
                    </a:lnTo>
                    <a:lnTo>
                      <a:pt x="20" y="34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17840" y="5419800"/>
                <a:ext cx="48960" cy="145800"/>
              </a:xfrm>
              <a:custGeom>
                <a:avLst/>
                <a:gdLst/>
                <a:ahLst/>
                <a:rect l="l" t="t" r="r" b="b"/>
                <a:pathLst>
                  <a:path w="93" h="277">
                    <a:moveTo>
                      <a:pt x="0" y="2"/>
                    </a:moveTo>
                    <a:lnTo>
                      <a:pt x="10" y="66"/>
                    </a:lnTo>
                    <a:lnTo>
                      <a:pt x="32" y="153"/>
                    </a:lnTo>
                    <a:lnTo>
                      <a:pt x="93" y="277"/>
                    </a:lnTo>
                    <a:lnTo>
                      <a:pt x="47" y="149"/>
                    </a:lnTo>
                    <a:lnTo>
                      <a:pt x="25" y="64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23960" y="5380200"/>
                <a:ext cx="60480" cy="177480"/>
              </a:xfrm>
              <a:custGeom>
                <a:avLst/>
                <a:gdLst/>
                <a:ahLst/>
                <a:rect l="l" t="t" r="r" b="b"/>
                <a:pathLst>
                  <a:path w="113" h="334">
                    <a:moveTo>
                      <a:pt x="16" y="0"/>
                    </a:moveTo>
                    <a:lnTo>
                      <a:pt x="0" y="2"/>
                    </a:lnTo>
                    <a:lnTo>
                      <a:pt x="14" y="58"/>
                    </a:lnTo>
                    <a:lnTo>
                      <a:pt x="36" y="158"/>
                    </a:lnTo>
                    <a:lnTo>
                      <a:pt x="62" y="235"/>
                    </a:lnTo>
                    <a:lnTo>
                      <a:pt x="113" y="334"/>
                    </a:lnTo>
                    <a:lnTo>
                      <a:pt x="75" y="230"/>
                    </a:lnTo>
                    <a:lnTo>
                      <a:pt x="53" y="156"/>
                    </a:lnTo>
                    <a:lnTo>
                      <a:pt x="30" y="6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47720" y="5375160"/>
                <a:ext cx="279360" cy="390600"/>
              </a:xfrm>
              <a:custGeom>
                <a:avLst/>
                <a:gdLst/>
                <a:ahLst/>
                <a:rect l="l" t="t" r="r" b="b"/>
                <a:pathLst>
                  <a:path w="527" h="739">
                    <a:moveTo>
                      <a:pt x="0" y="0"/>
                    </a:moveTo>
                    <a:lnTo>
                      <a:pt x="0" y="41"/>
                    </a:lnTo>
                    <a:lnTo>
                      <a:pt x="10" y="98"/>
                    </a:lnTo>
                    <a:lnTo>
                      <a:pt x="22" y="160"/>
                    </a:lnTo>
                    <a:lnTo>
                      <a:pt x="47" y="223"/>
                    </a:lnTo>
                    <a:lnTo>
                      <a:pt x="88" y="263"/>
                    </a:lnTo>
                    <a:lnTo>
                      <a:pt x="102" y="315"/>
                    </a:lnTo>
                    <a:lnTo>
                      <a:pt x="108" y="423"/>
                    </a:lnTo>
                    <a:lnTo>
                      <a:pt x="118" y="310"/>
                    </a:lnTo>
                    <a:lnTo>
                      <a:pt x="104" y="213"/>
                    </a:lnTo>
                    <a:lnTo>
                      <a:pt x="125" y="217"/>
                    </a:lnTo>
                    <a:lnTo>
                      <a:pt x="140" y="256"/>
                    </a:lnTo>
                    <a:lnTo>
                      <a:pt x="150" y="370"/>
                    </a:lnTo>
                    <a:lnTo>
                      <a:pt x="138" y="499"/>
                    </a:lnTo>
                    <a:lnTo>
                      <a:pt x="106" y="583"/>
                    </a:lnTo>
                    <a:lnTo>
                      <a:pt x="69" y="651"/>
                    </a:lnTo>
                    <a:lnTo>
                      <a:pt x="44" y="695"/>
                    </a:lnTo>
                    <a:lnTo>
                      <a:pt x="83" y="656"/>
                    </a:lnTo>
                    <a:lnTo>
                      <a:pt x="127" y="592"/>
                    </a:lnTo>
                    <a:lnTo>
                      <a:pt x="156" y="499"/>
                    </a:lnTo>
                    <a:lnTo>
                      <a:pt x="165" y="370"/>
                    </a:lnTo>
                    <a:lnTo>
                      <a:pt x="165" y="257"/>
                    </a:lnTo>
                    <a:lnTo>
                      <a:pt x="177" y="297"/>
                    </a:lnTo>
                    <a:lnTo>
                      <a:pt x="185" y="377"/>
                    </a:lnTo>
                    <a:lnTo>
                      <a:pt x="182" y="459"/>
                    </a:lnTo>
                    <a:lnTo>
                      <a:pt x="163" y="527"/>
                    </a:lnTo>
                    <a:lnTo>
                      <a:pt x="138" y="621"/>
                    </a:lnTo>
                    <a:lnTo>
                      <a:pt x="182" y="534"/>
                    </a:lnTo>
                    <a:lnTo>
                      <a:pt x="200" y="459"/>
                    </a:lnTo>
                    <a:lnTo>
                      <a:pt x="209" y="384"/>
                    </a:lnTo>
                    <a:lnTo>
                      <a:pt x="209" y="281"/>
                    </a:lnTo>
                    <a:lnTo>
                      <a:pt x="364" y="365"/>
                    </a:lnTo>
                    <a:lnTo>
                      <a:pt x="333" y="439"/>
                    </a:lnTo>
                    <a:lnTo>
                      <a:pt x="281" y="615"/>
                    </a:lnTo>
                    <a:lnTo>
                      <a:pt x="358" y="450"/>
                    </a:lnTo>
                    <a:lnTo>
                      <a:pt x="383" y="463"/>
                    </a:lnTo>
                    <a:lnTo>
                      <a:pt x="358" y="739"/>
                    </a:lnTo>
                    <a:lnTo>
                      <a:pt x="397" y="583"/>
                    </a:lnTo>
                    <a:lnTo>
                      <a:pt x="452" y="420"/>
                    </a:lnTo>
                    <a:lnTo>
                      <a:pt x="527" y="312"/>
                    </a:lnTo>
                    <a:lnTo>
                      <a:pt x="447" y="321"/>
                    </a:lnTo>
                    <a:lnTo>
                      <a:pt x="367" y="300"/>
                    </a:lnTo>
                    <a:lnTo>
                      <a:pt x="324" y="315"/>
                    </a:lnTo>
                    <a:lnTo>
                      <a:pt x="302" y="312"/>
                    </a:lnTo>
                    <a:lnTo>
                      <a:pt x="293" y="297"/>
                    </a:lnTo>
                    <a:lnTo>
                      <a:pt x="261" y="256"/>
                    </a:lnTo>
                    <a:lnTo>
                      <a:pt x="216" y="208"/>
                    </a:lnTo>
                    <a:lnTo>
                      <a:pt x="219" y="166"/>
                    </a:lnTo>
                    <a:lnTo>
                      <a:pt x="163" y="145"/>
                    </a:lnTo>
                    <a:lnTo>
                      <a:pt x="91" y="95"/>
                    </a:lnTo>
                    <a:lnTo>
                      <a:pt x="24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3400" y="5346720"/>
                <a:ext cx="216000" cy="142920"/>
              </a:xfrm>
              <a:custGeom>
                <a:avLst/>
                <a:gdLst/>
                <a:ahLst/>
                <a:rect l="l" t="t" r="r" b="b"/>
                <a:pathLst>
                  <a:path w="407" h="271">
                    <a:moveTo>
                      <a:pt x="0" y="199"/>
                    </a:moveTo>
                    <a:lnTo>
                      <a:pt x="116" y="217"/>
                    </a:lnTo>
                    <a:lnTo>
                      <a:pt x="171" y="222"/>
                    </a:lnTo>
                    <a:lnTo>
                      <a:pt x="240" y="214"/>
                    </a:lnTo>
                    <a:lnTo>
                      <a:pt x="302" y="197"/>
                    </a:lnTo>
                    <a:lnTo>
                      <a:pt x="376" y="153"/>
                    </a:lnTo>
                    <a:lnTo>
                      <a:pt x="373" y="38"/>
                    </a:lnTo>
                    <a:lnTo>
                      <a:pt x="407" y="0"/>
                    </a:lnTo>
                    <a:lnTo>
                      <a:pt x="390" y="40"/>
                    </a:lnTo>
                    <a:lnTo>
                      <a:pt x="397" y="161"/>
                    </a:lnTo>
                    <a:lnTo>
                      <a:pt x="371" y="178"/>
                    </a:lnTo>
                    <a:lnTo>
                      <a:pt x="307" y="217"/>
                    </a:lnTo>
                    <a:lnTo>
                      <a:pt x="248" y="231"/>
                    </a:lnTo>
                    <a:lnTo>
                      <a:pt x="142" y="271"/>
                    </a:lnTo>
                    <a:lnTo>
                      <a:pt x="131" y="237"/>
                    </a:lnTo>
                    <a:lnTo>
                      <a:pt x="107" y="233"/>
                    </a:lnTo>
                    <a:lnTo>
                      <a:pt x="39" y="225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835280" y="5326200"/>
                <a:ext cx="374400" cy="444240"/>
              </a:xfrm>
              <a:custGeom>
                <a:avLst/>
                <a:gdLst/>
                <a:ahLst/>
                <a:rect l="l" t="t" r="r" b="b"/>
                <a:pathLst>
                  <a:path w="706" h="840">
                    <a:moveTo>
                      <a:pt x="257" y="4"/>
                    </a:moveTo>
                    <a:lnTo>
                      <a:pt x="262" y="50"/>
                    </a:lnTo>
                    <a:lnTo>
                      <a:pt x="257" y="90"/>
                    </a:lnTo>
                    <a:lnTo>
                      <a:pt x="257" y="166"/>
                    </a:lnTo>
                    <a:lnTo>
                      <a:pt x="252" y="220"/>
                    </a:lnTo>
                    <a:lnTo>
                      <a:pt x="231" y="253"/>
                    </a:lnTo>
                    <a:lnTo>
                      <a:pt x="195" y="290"/>
                    </a:lnTo>
                    <a:lnTo>
                      <a:pt x="92" y="349"/>
                    </a:lnTo>
                    <a:lnTo>
                      <a:pt x="0" y="393"/>
                    </a:lnTo>
                    <a:lnTo>
                      <a:pt x="117" y="434"/>
                    </a:lnTo>
                    <a:lnTo>
                      <a:pt x="172" y="405"/>
                    </a:lnTo>
                    <a:lnTo>
                      <a:pt x="316" y="261"/>
                    </a:lnTo>
                    <a:lnTo>
                      <a:pt x="337" y="243"/>
                    </a:lnTo>
                    <a:lnTo>
                      <a:pt x="323" y="489"/>
                    </a:lnTo>
                    <a:lnTo>
                      <a:pt x="314" y="608"/>
                    </a:lnTo>
                    <a:lnTo>
                      <a:pt x="309" y="721"/>
                    </a:lnTo>
                    <a:lnTo>
                      <a:pt x="307" y="749"/>
                    </a:lnTo>
                    <a:lnTo>
                      <a:pt x="334" y="708"/>
                    </a:lnTo>
                    <a:lnTo>
                      <a:pt x="357" y="634"/>
                    </a:lnTo>
                    <a:lnTo>
                      <a:pt x="376" y="533"/>
                    </a:lnTo>
                    <a:lnTo>
                      <a:pt x="393" y="368"/>
                    </a:lnTo>
                    <a:lnTo>
                      <a:pt x="415" y="378"/>
                    </a:lnTo>
                    <a:lnTo>
                      <a:pt x="421" y="394"/>
                    </a:lnTo>
                    <a:lnTo>
                      <a:pt x="435" y="470"/>
                    </a:lnTo>
                    <a:lnTo>
                      <a:pt x="462" y="691"/>
                    </a:lnTo>
                    <a:lnTo>
                      <a:pt x="482" y="616"/>
                    </a:lnTo>
                    <a:lnTo>
                      <a:pt x="494" y="501"/>
                    </a:lnTo>
                    <a:lnTo>
                      <a:pt x="501" y="378"/>
                    </a:lnTo>
                    <a:lnTo>
                      <a:pt x="531" y="448"/>
                    </a:lnTo>
                    <a:lnTo>
                      <a:pt x="560" y="536"/>
                    </a:lnTo>
                    <a:lnTo>
                      <a:pt x="594" y="640"/>
                    </a:lnTo>
                    <a:lnTo>
                      <a:pt x="628" y="685"/>
                    </a:lnTo>
                    <a:lnTo>
                      <a:pt x="629" y="739"/>
                    </a:lnTo>
                    <a:lnTo>
                      <a:pt x="646" y="783"/>
                    </a:lnTo>
                    <a:lnTo>
                      <a:pt x="677" y="809"/>
                    </a:lnTo>
                    <a:lnTo>
                      <a:pt x="673" y="840"/>
                    </a:lnTo>
                    <a:lnTo>
                      <a:pt x="698" y="809"/>
                    </a:lnTo>
                    <a:lnTo>
                      <a:pt x="706" y="774"/>
                    </a:lnTo>
                    <a:lnTo>
                      <a:pt x="682" y="714"/>
                    </a:lnTo>
                    <a:lnTo>
                      <a:pt x="673" y="676"/>
                    </a:lnTo>
                    <a:lnTo>
                      <a:pt x="683" y="567"/>
                    </a:lnTo>
                    <a:lnTo>
                      <a:pt x="646" y="492"/>
                    </a:lnTo>
                    <a:lnTo>
                      <a:pt x="648" y="394"/>
                    </a:lnTo>
                    <a:lnTo>
                      <a:pt x="541" y="281"/>
                    </a:lnTo>
                    <a:lnTo>
                      <a:pt x="440" y="169"/>
                    </a:lnTo>
                    <a:lnTo>
                      <a:pt x="395" y="166"/>
                    </a:lnTo>
                    <a:lnTo>
                      <a:pt x="312" y="206"/>
                    </a:lnTo>
                    <a:lnTo>
                      <a:pt x="314" y="151"/>
                    </a:lnTo>
                    <a:lnTo>
                      <a:pt x="299" y="74"/>
                    </a:lnTo>
                    <a:lnTo>
                      <a:pt x="270" y="0"/>
                    </a:lnTo>
                    <a:lnTo>
                      <a:pt x="257" y="4"/>
                    </a:lnTo>
                    <a:lnTo>
                      <a:pt x="257" y="4"/>
                    </a:lnTo>
                    <a:lnTo>
                      <a:pt x="25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94040" y="521496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200" h="397">
                    <a:moveTo>
                      <a:pt x="1" y="370"/>
                    </a:moveTo>
                    <a:lnTo>
                      <a:pt x="43" y="330"/>
                    </a:lnTo>
                    <a:lnTo>
                      <a:pt x="52" y="299"/>
                    </a:lnTo>
                    <a:lnTo>
                      <a:pt x="43" y="257"/>
                    </a:lnTo>
                    <a:lnTo>
                      <a:pt x="47" y="169"/>
                    </a:lnTo>
                    <a:lnTo>
                      <a:pt x="17" y="95"/>
                    </a:lnTo>
                    <a:lnTo>
                      <a:pt x="24" y="59"/>
                    </a:lnTo>
                    <a:lnTo>
                      <a:pt x="33" y="23"/>
                    </a:lnTo>
                    <a:lnTo>
                      <a:pt x="63" y="6"/>
                    </a:lnTo>
                    <a:lnTo>
                      <a:pt x="86" y="0"/>
                    </a:lnTo>
                    <a:lnTo>
                      <a:pt x="104" y="8"/>
                    </a:lnTo>
                    <a:lnTo>
                      <a:pt x="141" y="81"/>
                    </a:lnTo>
                    <a:lnTo>
                      <a:pt x="161" y="158"/>
                    </a:lnTo>
                    <a:lnTo>
                      <a:pt x="188" y="253"/>
                    </a:lnTo>
                    <a:lnTo>
                      <a:pt x="200" y="283"/>
                    </a:lnTo>
                    <a:lnTo>
                      <a:pt x="192" y="340"/>
                    </a:lnTo>
                    <a:lnTo>
                      <a:pt x="175" y="360"/>
                    </a:lnTo>
                    <a:lnTo>
                      <a:pt x="113" y="388"/>
                    </a:lnTo>
                    <a:lnTo>
                      <a:pt x="86" y="383"/>
                    </a:lnTo>
                    <a:lnTo>
                      <a:pt x="91" y="350"/>
                    </a:lnTo>
                    <a:lnTo>
                      <a:pt x="118" y="323"/>
                    </a:lnTo>
                    <a:lnTo>
                      <a:pt x="141" y="291"/>
                    </a:lnTo>
                    <a:lnTo>
                      <a:pt x="96" y="254"/>
                    </a:lnTo>
                    <a:lnTo>
                      <a:pt x="103" y="166"/>
                    </a:lnTo>
                    <a:lnTo>
                      <a:pt x="83" y="130"/>
                    </a:lnTo>
                    <a:lnTo>
                      <a:pt x="72" y="84"/>
                    </a:lnTo>
                    <a:lnTo>
                      <a:pt x="86" y="20"/>
                    </a:lnTo>
                    <a:lnTo>
                      <a:pt x="63" y="34"/>
                    </a:lnTo>
                    <a:lnTo>
                      <a:pt x="44" y="55"/>
                    </a:lnTo>
                    <a:lnTo>
                      <a:pt x="40" y="77"/>
                    </a:lnTo>
                    <a:lnTo>
                      <a:pt x="43" y="95"/>
                    </a:lnTo>
                    <a:lnTo>
                      <a:pt x="69" y="169"/>
                    </a:lnTo>
                    <a:lnTo>
                      <a:pt x="65" y="261"/>
                    </a:lnTo>
                    <a:lnTo>
                      <a:pt x="72" y="314"/>
                    </a:lnTo>
                    <a:lnTo>
                      <a:pt x="60" y="356"/>
                    </a:lnTo>
                    <a:lnTo>
                      <a:pt x="22" y="386"/>
                    </a:lnTo>
                    <a:lnTo>
                      <a:pt x="0" y="397"/>
                    </a:lnTo>
                    <a:lnTo>
                      <a:pt x="1" y="370"/>
                    </a:lnTo>
                    <a:lnTo>
                      <a:pt x="1" y="370"/>
                    </a:lnTo>
                    <a:lnTo>
                      <a:pt x="1" y="3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74960" y="5487840"/>
                <a:ext cx="23760" cy="147960"/>
              </a:xfrm>
              <a:custGeom>
                <a:avLst/>
                <a:gdLst/>
                <a:ahLst/>
                <a:rect l="l" t="t" r="r" b="b"/>
                <a:pathLst>
                  <a:path w="47" h="278">
                    <a:moveTo>
                      <a:pt x="22" y="0"/>
                    </a:moveTo>
                    <a:lnTo>
                      <a:pt x="27" y="64"/>
                    </a:lnTo>
                    <a:lnTo>
                      <a:pt x="18" y="138"/>
                    </a:lnTo>
                    <a:lnTo>
                      <a:pt x="0" y="278"/>
                    </a:lnTo>
                    <a:lnTo>
                      <a:pt x="32" y="147"/>
                    </a:lnTo>
                    <a:lnTo>
                      <a:pt x="47" y="67"/>
                    </a:lnTo>
                    <a:lnTo>
                      <a:pt x="38" y="3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0640" y="5168880"/>
                <a:ext cx="128520" cy="204840"/>
              </a:xfrm>
              <a:custGeom>
                <a:avLst/>
                <a:gdLst/>
                <a:ahLst/>
                <a:rect l="l" t="t" r="r" b="b"/>
                <a:pathLst>
                  <a:path w="242" h="386">
                    <a:moveTo>
                      <a:pt x="0" y="154"/>
                    </a:moveTo>
                    <a:lnTo>
                      <a:pt x="0" y="78"/>
                    </a:lnTo>
                    <a:lnTo>
                      <a:pt x="16" y="42"/>
                    </a:lnTo>
                    <a:lnTo>
                      <a:pt x="44" y="13"/>
                    </a:lnTo>
                    <a:lnTo>
                      <a:pt x="68" y="15"/>
                    </a:lnTo>
                    <a:lnTo>
                      <a:pt x="84" y="35"/>
                    </a:lnTo>
                    <a:lnTo>
                      <a:pt x="94" y="93"/>
                    </a:lnTo>
                    <a:lnTo>
                      <a:pt x="126" y="121"/>
                    </a:lnTo>
                    <a:lnTo>
                      <a:pt x="137" y="4"/>
                    </a:lnTo>
                    <a:lnTo>
                      <a:pt x="151" y="0"/>
                    </a:lnTo>
                    <a:lnTo>
                      <a:pt x="181" y="5"/>
                    </a:lnTo>
                    <a:lnTo>
                      <a:pt x="200" y="33"/>
                    </a:lnTo>
                    <a:lnTo>
                      <a:pt x="242" y="154"/>
                    </a:lnTo>
                    <a:lnTo>
                      <a:pt x="233" y="184"/>
                    </a:lnTo>
                    <a:lnTo>
                      <a:pt x="164" y="265"/>
                    </a:lnTo>
                    <a:lnTo>
                      <a:pt x="161" y="355"/>
                    </a:lnTo>
                    <a:lnTo>
                      <a:pt x="134" y="373"/>
                    </a:lnTo>
                    <a:lnTo>
                      <a:pt x="94" y="384"/>
                    </a:lnTo>
                    <a:lnTo>
                      <a:pt x="56" y="386"/>
                    </a:lnTo>
                    <a:lnTo>
                      <a:pt x="73" y="370"/>
                    </a:lnTo>
                    <a:lnTo>
                      <a:pt x="94" y="358"/>
                    </a:lnTo>
                    <a:lnTo>
                      <a:pt x="103" y="335"/>
                    </a:lnTo>
                    <a:lnTo>
                      <a:pt x="87" y="321"/>
                    </a:lnTo>
                    <a:lnTo>
                      <a:pt x="61" y="174"/>
                    </a:lnTo>
                    <a:lnTo>
                      <a:pt x="50" y="118"/>
                    </a:lnTo>
                    <a:lnTo>
                      <a:pt x="45" y="98"/>
                    </a:lnTo>
                    <a:lnTo>
                      <a:pt x="53" y="62"/>
                    </a:lnTo>
                    <a:lnTo>
                      <a:pt x="59" y="42"/>
                    </a:lnTo>
                    <a:lnTo>
                      <a:pt x="48" y="35"/>
                    </a:lnTo>
                    <a:lnTo>
                      <a:pt x="29" y="59"/>
                    </a:lnTo>
                    <a:lnTo>
                      <a:pt x="23" y="73"/>
                    </a:lnTo>
                    <a:lnTo>
                      <a:pt x="16" y="202"/>
                    </a:lnTo>
                    <a:lnTo>
                      <a:pt x="0" y="154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46280" y="5299200"/>
                <a:ext cx="264960" cy="133200"/>
              </a:xfrm>
              <a:custGeom>
                <a:avLst/>
                <a:gdLst/>
                <a:ahLst/>
                <a:rect l="l" t="t" r="r" b="b"/>
                <a:pathLst>
                  <a:path w="502" h="252">
                    <a:moveTo>
                      <a:pt x="0" y="15"/>
                    </a:moveTo>
                    <a:lnTo>
                      <a:pt x="8" y="45"/>
                    </a:lnTo>
                    <a:lnTo>
                      <a:pt x="31" y="88"/>
                    </a:lnTo>
                    <a:lnTo>
                      <a:pt x="77" y="144"/>
                    </a:lnTo>
                    <a:lnTo>
                      <a:pt x="133" y="194"/>
                    </a:lnTo>
                    <a:lnTo>
                      <a:pt x="197" y="228"/>
                    </a:lnTo>
                    <a:lnTo>
                      <a:pt x="267" y="251"/>
                    </a:lnTo>
                    <a:lnTo>
                      <a:pt x="362" y="252"/>
                    </a:lnTo>
                    <a:lnTo>
                      <a:pt x="476" y="243"/>
                    </a:lnTo>
                    <a:lnTo>
                      <a:pt x="502" y="228"/>
                    </a:lnTo>
                    <a:lnTo>
                      <a:pt x="498" y="209"/>
                    </a:lnTo>
                    <a:lnTo>
                      <a:pt x="424" y="194"/>
                    </a:lnTo>
                    <a:lnTo>
                      <a:pt x="311" y="165"/>
                    </a:lnTo>
                    <a:lnTo>
                      <a:pt x="214" y="135"/>
                    </a:lnTo>
                    <a:lnTo>
                      <a:pt x="134" y="91"/>
                    </a:lnTo>
                    <a:lnTo>
                      <a:pt x="77" y="56"/>
                    </a:lnTo>
                    <a:lnTo>
                      <a:pt x="22" y="11"/>
                    </a:lnTo>
                    <a:lnTo>
                      <a:pt x="8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03400" y="5040360"/>
                <a:ext cx="92160" cy="128520"/>
              </a:xfrm>
              <a:custGeom>
                <a:avLst/>
                <a:gdLst/>
                <a:ahLst/>
                <a:rect l="l" t="t" r="r" b="b"/>
                <a:pathLst>
                  <a:path w="175" h="243">
                    <a:moveTo>
                      <a:pt x="0" y="7"/>
                    </a:moveTo>
                    <a:lnTo>
                      <a:pt x="26" y="49"/>
                    </a:lnTo>
                    <a:lnTo>
                      <a:pt x="48" y="110"/>
                    </a:lnTo>
                    <a:lnTo>
                      <a:pt x="60" y="167"/>
                    </a:lnTo>
                    <a:lnTo>
                      <a:pt x="74" y="217"/>
                    </a:lnTo>
                    <a:lnTo>
                      <a:pt x="94" y="241"/>
                    </a:lnTo>
                    <a:lnTo>
                      <a:pt x="107" y="243"/>
                    </a:lnTo>
                    <a:lnTo>
                      <a:pt x="143" y="243"/>
                    </a:lnTo>
                    <a:lnTo>
                      <a:pt x="174" y="227"/>
                    </a:lnTo>
                    <a:lnTo>
                      <a:pt x="175" y="178"/>
                    </a:lnTo>
                    <a:lnTo>
                      <a:pt x="149" y="105"/>
                    </a:lnTo>
                    <a:lnTo>
                      <a:pt x="119" y="66"/>
                    </a:lnTo>
                    <a:lnTo>
                      <a:pt x="64" y="25"/>
                    </a:lnTo>
                    <a:lnTo>
                      <a:pt x="38" y="2"/>
                    </a:lnTo>
                    <a:lnTo>
                      <a:pt x="2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04880" y="4979880"/>
                <a:ext cx="536760" cy="476280"/>
              </a:xfrm>
              <a:custGeom>
                <a:avLst/>
                <a:gdLst/>
                <a:ahLst/>
                <a:rect l="l" t="t" r="r" b="b"/>
                <a:pathLst>
                  <a:path w="1013" h="900">
                    <a:moveTo>
                      <a:pt x="993" y="383"/>
                    </a:moveTo>
                    <a:lnTo>
                      <a:pt x="967" y="297"/>
                    </a:lnTo>
                    <a:lnTo>
                      <a:pt x="923" y="193"/>
                    </a:lnTo>
                    <a:lnTo>
                      <a:pt x="851" y="113"/>
                    </a:lnTo>
                    <a:lnTo>
                      <a:pt x="730" y="44"/>
                    </a:lnTo>
                    <a:lnTo>
                      <a:pt x="593" y="12"/>
                    </a:lnTo>
                    <a:lnTo>
                      <a:pt x="487" y="17"/>
                    </a:lnTo>
                    <a:lnTo>
                      <a:pt x="339" y="55"/>
                    </a:lnTo>
                    <a:lnTo>
                      <a:pt x="244" y="91"/>
                    </a:lnTo>
                    <a:lnTo>
                      <a:pt x="162" y="139"/>
                    </a:lnTo>
                    <a:lnTo>
                      <a:pt x="91" y="218"/>
                    </a:lnTo>
                    <a:lnTo>
                      <a:pt x="46" y="323"/>
                    </a:lnTo>
                    <a:lnTo>
                      <a:pt x="20" y="455"/>
                    </a:lnTo>
                    <a:lnTo>
                      <a:pt x="27" y="565"/>
                    </a:lnTo>
                    <a:lnTo>
                      <a:pt x="64" y="678"/>
                    </a:lnTo>
                    <a:lnTo>
                      <a:pt x="116" y="758"/>
                    </a:lnTo>
                    <a:lnTo>
                      <a:pt x="167" y="827"/>
                    </a:lnTo>
                    <a:lnTo>
                      <a:pt x="201" y="853"/>
                    </a:lnTo>
                    <a:lnTo>
                      <a:pt x="270" y="900"/>
                    </a:lnTo>
                    <a:lnTo>
                      <a:pt x="226" y="900"/>
                    </a:lnTo>
                    <a:lnTo>
                      <a:pt x="81" y="746"/>
                    </a:lnTo>
                    <a:lnTo>
                      <a:pt x="47" y="683"/>
                    </a:lnTo>
                    <a:lnTo>
                      <a:pt x="11" y="572"/>
                    </a:lnTo>
                    <a:lnTo>
                      <a:pt x="0" y="461"/>
                    </a:lnTo>
                    <a:lnTo>
                      <a:pt x="8" y="383"/>
                    </a:lnTo>
                    <a:lnTo>
                      <a:pt x="47" y="257"/>
                    </a:lnTo>
                    <a:lnTo>
                      <a:pt x="80" y="207"/>
                    </a:lnTo>
                    <a:lnTo>
                      <a:pt x="144" y="125"/>
                    </a:lnTo>
                    <a:lnTo>
                      <a:pt x="237" y="72"/>
                    </a:lnTo>
                    <a:lnTo>
                      <a:pt x="331" y="37"/>
                    </a:lnTo>
                    <a:lnTo>
                      <a:pt x="478" y="1"/>
                    </a:lnTo>
                    <a:lnTo>
                      <a:pt x="596" y="0"/>
                    </a:lnTo>
                    <a:lnTo>
                      <a:pt x="736" y="32"/>
                    </a:lnTo>
                    <a:lnTo>
                      <a:pt x="865" y="100"/>
                    </a:lnTo>
                    <a:lnTo>
                      <a:pt x="944" y="182"/>
                    </a:lnTo>
                    <a:lnTo>
                      <a:pt x="990" y="286"/>
                    </a:lnTo>
                    <a:lnTo>
                      <a:pt x="1013" y="365"/>
                    </a:lnTo>
                    <a:lnTo>
                      <a:pt x="993" y="383"/>
                    </a:lnTo>
                    <a:lnTo>
                      <a:pt x="993" y="383"/>
                    </a:lnTo>
                    <a:lnTo>
                      <a:pt x="993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77960" y="5064120"/>
                <a:ext cx="95400" cy="101520"/>
              </a:xfrm>
              <a:custGeom>
                <a:avLst/>
                <a:gdLst/>
                <a:ahLst/>
                <a:rect l="l" t="t" r="r" b="b"/>
                <a:pathLst>
                  <a:path w="180" h="193">
                    <a:moveTo>
                      <a:pt x="163" y="7"/>
                    </a:moveTo>
                    <a:lnTo>
                      <a:pt x="99" y="0"/>
                    </a:lnTo>
                    <a:lnTo>
                      <a:pt x="50" y="55"/>
                    </a:lnTo>
                    <a:lnTo>
                      <a:pt x="7" y="134"/>
                    </a:lnTo>
                    <a:lnTo>
                      <a:pt x="0" y="193"/>
                    </a:lnTo>
                    <a:lnTo>
                      <a:pt x="23" y="141"/>
                    </a:lnTo>
                    <a:lnTo>
                      <a:pt x="64" y="64"/>
                    </a:lnTo>
                    <a:lnTo>
                      <a:pt x="105" y="22"/>
                    </a:lnTo>
                    <a:lnTo>
                      <a:pt x="149" y="29"/>
                    </a:lnTo>
                    <a:lnTo>
                      <a:pt x="86" y="143"/>
                    </a:lnTo>
                    <a:lnTo>
                      <a:pt x="180" y="12"/>
                    </a:lnTo>
                    <a:lnTo>
                      <a:pt x="163" y="7"/>
                    </a:lnTo>
                    <a:lnTo>
                      <a:pt x="163" y="7"/>
                    </a:lnTo>
                    <a:lnTo>
                      <a:pt x="16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87680" y="515952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0" y="0"/>
                    </a:moveTo>
                    <a:lnTo>
                      <a:pt x="48" y="0"/>
                    </a:lnTo>
                    <a:lnTo>
                      <a:pt x="44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4880" y="574668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200" h="198">
                    <a:moveTo>
                      <a:pt x="40" y="15"/>
                    </a:moveTo>
                    <a:lnTo>
                      <a:pt x="40" y="74"/>
                    </a:lnTo>
                    <a:lnTo>
                      <a:pt x="0" y="112"/>
                    </a:lnTo>
                    <a:lnTo>
                      <a:pt x="3" y="133"/>
                    </a:lnTo>
                    <a:lnTo>
                      <a:pt x="48" y="137"/>
                    </a:lnTo>
                    <a:lnTo>
                      <a:pt x="65" y="198"/>
                    </a:lnTo>
                    <a:lnTo>
                      <a:pt x="106" y="138"/>
                    </a:lnTo>
                    <a:lnTo>
                      <a:pt x="200" y="139"/>
                    </a:lnTo>
                    <a:lnTo>
                      <a:pt x="143" y="77"/>
                    </a:lnTo>
                    <a:lnTo>
                      <a:pt x="176" y="0"/>
                    </a:lnTo>
                    <a:lnTo>
                      <a:pt x="98" y="39"/>
                    </a:lnTo>
                    <a:lnTo>
                      <a:pt x="106" y="50"/>
                    </a:lnTo>
                    <a:lnTo>
                      <a:pt x="146" y="28"/>
                    </a:lnTo>
                    <a:lnTo>
                      <a:pt x="123" y="74"/>
                    </a:lnTo>
                    <a:lnTo>
                      <a:pt x="167" y="124"/>
                    </a:lnTo>
                    <a:lnTo>
                      <a:pt x="106" y="121"/>
                    </a:lnTo>
                    <a:lnTo>
                      <a:pt x="72" y="162"/>
                    </a:lnTo>
                    <a:lnTo>
                      <a:pt x="59" y="127"/>
                    </a:lnTo>
                    <a:lnTo>
                      <a:pt x="18" y="122"/>
                    </a:lnTo>
                    <a:lnTo>
                      <a:pt x="53" y="80"/>
                    </a:lnTo>
                    <a:lnTo>
                      <a:pt x="55" y="11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4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27200" y="57499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69" h="44">
                    <a:moveTo>
                      <a:pt x="0" y="9"/>
                    </a:moveTo>
                    <a:lnTo>
                      <a:pt x="20" y="0"/>
                    </a:lnTo>
                    <a:lnTo>
                      <a:pt x="69" y="34"/>
                    </a:lnTo>
                    <a:lnTo>
                      <a:pt x="66" y="44"/>
                    </a:lnTo>
                    <a:lnTo>
                      <a:pt x="18" y="13"/>
                    </a:lnTo>
                    <a:lnTo>
                      <a:pt x="9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06400" y="5611680"/>
                <a:ext cx="142920" cy="136800"/>
              </a:xfrm>
              <a:custGeom>
                <a:avLst/>
                <a:gdLst/>
                <a:ahLst/>
                <a:rect l="l" t="t" r="r" b="b"/>
                <a:pathLst>
                  <a:path w="272" h="259">
                    <a:moveTo>
                      <a:pt x="165" y="0"/>
                    </a:moveTo>
                    <a:lnTo>
                      <a:pt x="95" y="77"/>
                    </a:lnTo>
                    <a:lnTo>
                      <a:pt x="0" y="88"/>
                    </a:lnTo>
                    <a:lnTo>
                      <a:pt x="54" y="147"/>
                    </a:lnTo>
                    <a:lnTo>
                      <a:pt x="24" y="231"/>
                    </a:lnTo>
                    <a:lnTo>
                      <a:pt x="111" y="189"/>
                    </a:lnTo>
                    <a:lnTo>
                      <a:pt x="175" y="259"/>
                    </a:lnTo>
                    <a:lnTo>
                      <a:pt x="198" y="162"/>
                    </a:lnTo>
                    <a:lnTo>
                      <a:pt x="272" y="98"/>
                    </a:lnTo>
                    <a:lnTo>
                      <a:pt x="180" y="74"/>
                    </a:lnTo>
                    <a:lnTo>
                      <a:pt x="170" y="83"/>
                    </a:lnTo>
                    <a:lnTo>
                      <a:pt x="243" y="103"/>
                    </a:lnTo>
                    <a:lnTo>
                      <a:pt x="182" y="147"/>
                    </a:lnTo>
                    <a:lnTo>
                      <a:pt x="169" y="227"/>
                    </a:lnTo>
                    <a:lnTo>
                      <a:pt x="120" y="167"/>
                    </a:lnTo>
                    <a:lnTo>
                      <a:pt x="50" y="199"/>
                    </a:lnTo>
                    <a:lnTo>
                      <a:pt x="69" y="147"/>
                    </a:lnTo>
                    <a:lnTo>
                      <a:pt x="26" y="98"/>
                    </a:lnTo>
                    <a:lnTo>
                      <a:pt x="111" y="90"/>
                    </a:lnTo>
                    <a:lnTo>
                      <a:pt x="162" y="18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92080" y="561168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18" h="83">
                    <a:moveTo>
                      <a:pt x="3" y="0"/>
                    </a:moveTo>
                    <a:lnTo>
                      <a:pt x="18" y="74"/>
                    </a:lnTo>
                    <a:lnTo>
                      <a:pt x="8" y="83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42840" y="5724360"/>
                <a:ext cx="96840" cy="90720"/>
              </a:xfrm>
              <a:custGeom>
                <a:avLst/>
                <a:gdLst/>
                <a:ahLst/>
                <a:rect l="l" t="t" r="r" b="b"/>
                <a:pathLst>
                  <a:path w="185" h="169">
                    <a:moveTo>
                      <a:pt x="97" y="1"/>
                    </a:moveTo>
                    <a:lnTo>
                      <a:pt x="67" y="43"/>
                    </a:lnTo>
                    <a:lnTo>
                      <a:pt x="0" y="48"/>
                    </a:lnTo>
                    <a:lnTo>
                      <a:pt x="35" y="84"/>
                    </a:lnTo>
                    <a:lnTo>
                      <a:pt x="14" y="155"/>
                    </a:lnTo>
                    <a:lnTo>
                      <a:pt x="68" y="134"/>
                    </a:lnTo>
                    <a:lnTo>
                      <a:pt x="130" y="169"/>
                    </a:lnTo>
                    <a:lnTo>
                      <a:pt x="130" y="103"/>
                    </a:lnTo>
                    <a:lnTo>
                      <a:pt x="185" y="61"/>
                    </a:lnTo>
                    <a:lnTo>
                      <a:pt x="126" y="44"/>
                    </a:lnTo>
                    <a:lnTo>
                      <a:pt x="111" y="50"/>
                    </a:lnTo>
                    <a:lnTo>
                      <a:pt x="156" y="61"/>
                    </a:lnTo>
                    <a:lnTo>
                      <a:pt x="117" y="92"/>
                    </a:lnTo>
                    <a:lnTo>
                      <a:pt x="120" y="143"/>
                    </a:lnTo>
                    <a:lnTo>
                      <a:pt x="76" y="119"/>
                    </a:lnTo>
                    <a:lnTo>
                      <a:pt x="38" y="132"/>
                    </a:lnTo>
                    <a:lnTo>
                      <a:pt x="59" y="83"/>
                    </a:lnTo>
                    <a:lnTo>
                      <a:pt x="35" y="59"/>
                    </a:lnTo>
                    <a:lnTo>
                      <a:pt x="82" y="55"/>
                    </a:lnTo>
                    <a:lnTo>
                      <a:pt x="107" y="16"/>
                    </a:lnTo>
                    <a:lnTo>
                      <a:pt x="107" y="0"/>
                    </a:lnTo>
                    <a:lnTo>
                      <a:pt x="97" y="1"/>
                    </a:lnTo>
                    <a:lnTo>
                      <a:pt x="97" y="1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5400" y="57243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6" y="0"/>
                    </a:moveTo>
                    <a:lnTo>
                      <a:pt x="25" y="44"/>
                    </a:lnTo>
                    <a:lnTo>
                      <a:pt x="10" y="50"/>
                    </a:lnTo>
                    <a:lnTo>
                      <a:pt x="0" y="1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00000" y="5391000"/>
                <a:ext cx="77760" cy="66960"/>
              </a:xfrm>
              <a:custGeom>
                <a:avLst/>
                <a:gdLst/>
                <a:ahLst/>
                <a:rect l="l" t="t" r="r" b="b"/>
                <a:pathLst>
                  <a:path w="145" h="125">
                    <a:moveTo>
                      <a:pt x="62" y="28"/>
                    </a:moveTo>
                    <a:lnTo>
                      <a:pt x="50" y="55"/>
                    </a:lnTo>
                    <a:lnTo>
                      <a:pt x="15" y="84"/>
                    </a:lnTo>
                    <a:lnTo>
                      <a:pt x="35" y="115"/>
                    </a:lnTo>
                    <a:lnTo>
                      <a:pt x="62" y="85"/>
                    </a:lnTo>
                    <a:lnTo>
                      <a:pt x="101" y="105"/>
                    </a:lnTo>
                    <a:lnTo>
                      <a:pt x="96" y="60"/>
                    </a:lnTo>
                    <a:lnTo>
                      <a:pt x="141" y="33"/>
                    </a:lnTo>
                    <a:lnTo>
                      <a:pt x="145" y="44"/>
                    </a:lnTo>
                    <a:lnTo>
                      <a:pt x="113" y="68"/>
                    </a:lnTo>
                    <a:lnTo>
                      <a:pt x="116" y="122"/>
                    </a:lnTo>
                    <a:lnTo>
                      <a:pt x="96" y="117"/>
                    </a:lnTo>
                    <a:lnTo>
                      <a:pt x="68" y="100"/>
                    </a:lnTo>
                    <a:lnTo>
                      <a:pt x="42" y="125"/>
                    </a:lnTo>
                    <a:lnTo>
                      <a:pt x="23" y="124"/>
                    </a:lnTo>
                    <a:lnTo>
                      <a:pt x="0" y="88"/>
                    </a:lnTo>
                    <a:lnTo>
                      <a:pt x="35" y="53"/>
                    </a:lnTo>
                    <a:lnTo>
                      <a:pt x="62" y="0"/>
                    </a:lnTo>
                    <a:lnTo>
                      <a:pt x="82" y="24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36720" y="5403960"/>
                <a:ext cx="41040" cy="1116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13" y="1"/>
                    </a:moveTo>
                    <a:lnTo>
                      <a:pt x="48" y="6"/>
                    </a:lnTo>
                    <a:lnTo>
                      <a:pt x="72" y="10"/>
                    </a:lnTo>
                    <a:lnTo>
                      <a:pt x="76" y="21"/>
                    </a:lnTo>
                    <a:lnTo>
                      <a:pt x="9" y="11"/>
                    </a:lnTo>
                    <a:lnTo>
                      <a:pt x="0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88840" y="5456160"/>
                <a:ext cx="68400" cy="25560"/>
              </a:xfrm>
              <a:custGeom>
                <a:avLst/>
                <a:gdLst/>
                <a:ahLst/>
                <a:rect l="l" t="t" r="r" b="b"/>
                <a:pathLst>
                  <a:path w="129" h="49">
                    <a:moveTo>
                      <a:pt x="0" y="0"/>
                    </a:moveTo>
                    <a:lnTo>
                      <a:pt x="63" y="2"/>
                    </a:lnTo>
                    <a:lnTo>
                      <a:pt x="107" y="16"/>
                    </a:lnTo>
                    <a:lnTo>
                      <a:pt x="127" y="26"/>
                    </a:lnTo>
                    <a:lnTo>
                      <a:pt x="129" y="43"/>
                    </a:lnTo>
                    <a:lnTo>
                      <a:pt x="107" y="49"/>
                    </a:lnTo>
                    <a:lnTo>
                      <a:pt x="68" y="43"/>
                    </a:lnTo>
                    <a:lnTo>
                      <a:pt x="38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68400" y="5600880"/>
                <a:ext cx="100080" cy="106200"/>
              </a:xfrm>
              <a:custGeom>
                <a:avLst/>
                <a:gdLst/>
                <a:ahLst/>
                <a:rect l="l" t="t" r="r" b="b"/>
                <a:pathLst>
                  <a:path w="189" h="203">
                    <a:moveTo>
                      <a:pt x="74" y="16"/>
                    </a:moveTo>
                    <a:lnTo>
                      <a:pt x="66" y="79"/>
                    </a:lnTo>
                    <a:lnTo>
                      <a:pt x="7" y="117"/>
                    </a:lnTo>
                    <a:lnTo>
                      <a:pt x="0" y="128"/>
                    </a:lnTo>
                    <a:lnTo>
                      <a:pt x="45" y="143"/>
                    </a:lnTo>
                    <a:lnTo>
                      <a:pt x="55" y="203"/>
                    </a:lnTo>
                    <a:lnTo>
                      <a:pt x="98" y="157"/>
                    </a:lnTo>
                    <a:lnTo>
                      <a:pt x="173" y="167"/>
                    </a:lnTo>
                    <a:lnTo>
                      <a:pt x="142" y="93"/>
                    </a:lnTo>
                    <a:lnTo>
                      <a:pt x="189" y="34"/>
                    </a:lnTo>
                    <a:lnTo>
                      <a:pt x="113" y="45"/>
                    </a:lnTo>
                    <a:lnTo>
                      <a:pt x="109" y="55"/>
                    </a:lnTo>
                    <a:lnTo>
                      <a:pt x="163" y="48"/>
                    </a:lnTo>
                    <a:lnTo>
                      <a:pt x="126" y="89"/>
                    </a:lnTo>
                    <a:lnTo>
                      <a:pt x="153" y="148"/>
                    </a:lnTo>
                    <a:lnTo>
                      <a:pt x="98" y="139"/>
                    </a:lnTo>
                    <a:lnTo>
                      <a:pt x="71" y="166"/>
                    </a:lnTo>
                    <a:lnTo>
                      <a:pt x="60" y="182"/>
                    </a:lnTo>
                    <a:lnTo>
                      <a:pt x="60" y="134"/>
                    </a:lnTo>
                    <a:lnTo>
                      <a:pt x="20" y="122"/>
                    </a:lnTo>
                    <a:lnTo>
                      <a:pt x="81" y="90"/>
                    </a:lnTo>
                    <a:lnTo>
                      <a:pt x="86" y="30"/>
                    </a:lnTo>
                    <a:lnTo>
                      <a:pt x="81" y="0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11240" y="560088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0" y="0"/>
                    </a:moveTo>
                    <a:lnTo>
                      <a:pt x="32" y="45"/>
                    </a:lnTo>
                    <a:lnTo>
                      <a:pt x="28" y="55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31840" y="5689440"/>
                <a:ext cx="133560" cy="128880"/>
              </a:xfrm>
              <a:custGeom>
                <a:avLst/>
                <a:gdLst/>
                <a:ahLst/>
                <a:rect l="l" t="t" r="r" b="b"/>
                <a:pathLst>
                  <a:path w="251" h="245">
                    <a:moveTo>
                      <a:pt x="168" y="10"/>
                    </a:moveTo>
                    <a:lnTo>
                      <a:pt x="113" y="59"/>
                    </a:lnTo>
                    <a:lnTo>
                      <a:pt x="39" y="50"/>
                    </a:lnTo>
                    <a:lnTo>
                      <a:pt x="59" y="108"/>
                    </a:lnTo>
                    <a:lnTo>
                      <a:pt x="0" y="170"/>
                    </a:lnTo>
                    <a:lnTo>
                      <a:pt x="77" y="173"/>
                    </a:lnTo>
                    <a:lnTo>
                      <a:pt x="113" y="245"/>
                    </a:lnTo>
                    <a:lnTo>
                      <a:pt x="157" y="171"/>
                    </a:lnTo>
                    <a:lnTo>
                      <a:pt x="251" y="148"/>
                    </a:lnTo>
                    <a:lnTo>
                      <a:pt x="180" y="96"/>
                    </a:lnTo>
                    <a:lnTo>
                      <a:pt x="164" y="99"/>
                    </a:lnTo>
                    <a:lnTo>
                      <a:pt x="220" y="138"/>
                    </a:lnTo>
                    <a:lnTo>
                      <a:pt x="139" y="163"/>
                    </a:lnTo>
                    <a:lnTo>
                      <a:pt x="117" y="216"/>
                    </a:lnTo>
                    <a:lnTo>
                      <a:pt x="83" y="157"/>
                    </a:lnTo>
                    <a:lnTo>
                      <a:pt x="31" y="161"/>
                    </a:lnTo>
                    <a:lnTo>
                      <a:pt x="74" y="114"/>
                    </a:lnTo>
                    <a:lnTo>
                      <a:pt x="58" y="64"/>
                    </a:lnTo>
                    <a:lnTo>
                      <a:pt x="119" y="72"/>
                    </a:lnTo>
                    <a:lnTo>
                      <a:pt x="161" y="34"/>
                    </a:lnTo>
                    <a:lnTo>
                      <a:pt x="181" y="0"/>
                    </a:lnTo>
                    <a:lnTo>
                      <a:pt x="168" y="10"/>
                    </a:lnTo>
                    <a:lnTo>
                      <a:pt x="168" y="10"/>
                    </a:lnTo>
                    <a:lnTo>
                      <a:pt x="16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19320" y="5689440"/>
                <a:ext cx="9360" cy="525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7" y="0"/>
                    </a:moveTo>
                    <a:lnTo>
                      <a:pt x="16" y="96"/>
                    </a:lnTo>
                    <a:lnTo>
                      <a:pt x="0" y="99"/>
                    </a:lnTo>
                    <a:lnTo>
                      <a:pt x="3" y="19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" descr=""/>
            <p:cNvPicPr/>
            <p:nvPr/>
          </p:nvPicPr>
          <p:blipFill>
            <a:blip r:embed="rId3"/>
            <a:srcRect l="0" t="0" r="0" b="62524"/>
            <a:stretch/>
          </p:blipFill>
          <p:spPr>
            <a:xfrm>
              <a:off x="6535800" y="4387680"/>
              <a:ext cx="1274760" cy="15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304920" y="914400"/>
            <a:ext cx="3047760" cy="3048120"/>
            <a:chOff x="304920" y="914400"/>
            <a:chExt cx="3047760" cy="3048120"/>
          </a:xfrm>
        </p:grpSpPr>
        <p:sp>
          <p:nvSpPr>
            <p:cNvPr id="380" name=""/>
            <p:cNvSpPr/>
            <p:nvPr/>
          </p:nvSpPr>
          <p:spPr>
            <a:xfrm>
              <a:off x="304920" y="297180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ryptographic Hash Func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920" y="914400"/>
              <a:ext cx="304776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4"/>
            <a:stretch/>
          </p:blipFill>
          <p:spPr>
            <a:xfrm>
              <a:off x="1020600" y="1101600"/>
              <a:ext cx="1738440" cy="18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7400" y="15192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What makes the problem so hard?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097680" y="2165400"/>
                <a:ext cx="14349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814320" y="2185920"/>
                <a:ext cx="26622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277920" y="117936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ally, that a quantum computer can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al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nd a collision after one quer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565440" y="2708280"/>
            <a:ext cx="2373480" cy="825480"/>
            <a:chOff x="3565440" y="2708280"/>
            <a:chExt cx="2373480" cy="825480"/>
          </a:xfrm>
        </p:grpSpPr>
        <p:sp>
          <p:nvSpPr>
            <p:cNvPr id="388" name=""/>
            <p:cNvSpPr/>
            <p:nvPr/>
          </p:nvSpPr>
          <p:spPr>
            <a:xfrm>
              <a:off x="3565440" y="2708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76600" y="273204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61800" y="4254480"/>
            <a:ext cx="8406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r: if only we could see the whole trajectory of a “hidden variable” coursing through the quantum system!</a:t>
            </a:r>
            <a:br>
              <a:rPr sz="2600"/>
            </a:b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[A., </a:t>
            </a:r>
            <a:r>
              <a:rPr b="0" i="1" lang="en-CA" sz="2400" spc="-1" strike="noStrike">
                <a:solidFill>
                  <a:srgbClr val="008000"/>
                </a:solidFill>
                <a:latin typeface="Arial"/>
              </a:rPr>
              <a:t>Phys. Rev. A</a:t>
            </a: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7464600" y="2360520"/>
                <a:ext cx="1085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3797280" y="2111400"/>
            <a:ext cx="465120" cy="465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51040" y="3594240"/>
            <a:ext cx="58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f only we could now measure twice!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3880" y="5638680"/>
            <a:ext cx="840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evious techniques weren’t sensitive to the fact that quantum mechanics doesn’t allow these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autoRev="1" nodeType="withEffect" fill="remove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509 L 0.02761 -0.02197 C 0.03334 -0.0259 0.04219 -0.02775 0.05122 -0.02775 C 0.06164 -0.02775 0.06997 -0.0259 0.0757 -0.02197 L 0.10382 -0.00509 E">
                                      <p:cBhvr>
                                        <p:cTn id="330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444600" y="420840"/>
          <a:ext cx="8229600" cy="5941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., STOC’02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wer bound on quantum query complexity of the collision 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Shi, FOCS’02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.-Shi, </a:t>
                      </a:r>
                      <a:r>
                        <a:rPr b="0" i="1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. ACM</a:t>
                      </a: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2004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to 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also 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wer bound for element distinctne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Kutin 2003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mbainis 2003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Midrijanis 2003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ications and generaliza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10987" r="0" b="0"/>
          <a:stretch/>
        </p:blipFill>
        <p:spPr>
          <a:xfrm rot="20834400">
            <a:off x="258840" y="818640"/>
            <a:ext cx="4368600" cy="1552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262200">
            <a:off x="237600" y="3160800"/>
            <a:ext cx="4486320" cy="1123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1190800">
            <a:off x="674640" y="3919320"/>
            <a:ext cx="4086360" cy="165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62080" y="4832280"/>
            <a:ext cx="2576520" cy="65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248400">
            <a:off x="4206960" y="2055600"/>
            <a:ext cx="3882960" cy="368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 rot="21034800">
            <a:off x="5264280" y="728280"/>
            <a:ext cx="2941560" cy="147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rot="472200">
            <a:off x="1802880" y="2336760"/>
            <a:ext cx="3614760" cy="787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 rot="21196200">
            <a:off x="5275440" y="4971600"/>
            <a:ext cx="3568680" cy="64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 rot="721200">
            <a:off x="3501720" y="5195520"/>
            <a:ext cx="5181480" cy="852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 rot="190200">
            <a:off x="259920" y="1323720"/>
            <a:ext cx="8586720" cy="90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11"/>
          <a:srcRect l="0" t="0" r="3357" b="0"/>
          <a:stretch/>
        </p:blipFill>
        <p:spPr>
          <a:xfrm rot="21475800">
            <a:off x="290160" y="2914560"/>
            <a:ext cx="8624880" cy="9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12"/>
          <a:srcRect l="0" t="0" r="0" b="11813"/>
          <a:stretch/>
        </p:blipFill>
        <p:spPr>
          <a:xfrm rot="361800">
            <a:off x="284040" y="4610160"/>
            <a:ext cx="8444160" cy="9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13"/>
          <a:srcRect l="9717" t="7186" r="9717" b="7186"/>
          <a:stretch/>
        </p:blipFill>
        <p:spPr>
          <a:xfrm>
            <a:off x="3282840" y="1685880"/>
            <a:ext cx="2460600" cy="3537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1280" y="2500200"/>
            <a:ext cx="8339040" cy="3986280"/>
          </a:xfrm>
          <a:prstGeom prst="cloudCallout">
            <a:avLst>
              <a:gd name="adj1" fmla="val -47009"/>
              <a:gd name="adj2" fmla="val 49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So then why can’t we just ignore quantum computing, and get back to real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toon Version of Proof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8040" y="1015920"/>
            <a:ext cx="5159520" cy="885960"/>
          </a:xfrm>
          <a:prstGeom prst="rect">
            <a:avLst/>
          </a:prstGeom>
          <a:solidFill>
            <a:srgbClr val="e3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finds collisions in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3080" y="2313000"/>
            <a:ext cx="6230880" cy="885960"/>
          </a:xfrm>
          <a:prstGeom prst="rect">
            <a:avLst/>
          </a:prstGeom>
          <a:solidFill>
            <a:srgbClr val="ffdd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distinguishes 1-to-1 from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5040" y="3691080"/>
            <a:ext cx="406584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p(f) = probability algorithm says f is 2-to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7360" y="5187960"/>
            <a:ext cx="4245120" cy="885960"/>
          </a:xfrm>
          <a:prstGeom prst="rect">
            <a:avLst/>
          </a:prstGeom>
          <a:solidFill>
            <a:srgbClr val="d1ff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q(k) = average of p(f) over all k-to-1 functions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52680" y="193680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95760" y="3390840"/>
            <a:ext cx="433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[Beals et al. 1998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(f) is a multilinear polynomial, of degree at most 2T, in Boolean indicator variable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(x)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75400" y="982800"/>
            <a:ext cx="32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ose it exists by way of contradi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51440" y="5022720"/>
            <a:ext cx="40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rivial yet crucial facts: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k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[0,1] for all k=1,2,3,…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1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1/3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2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36840" y="3225960"/>
            <a:ext cx="0" cy="45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451240" y="4633920"/>
            <a:ext cx="0" cy="54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530360" y="1397160"/>
            <a:ext cx="7346880" cy="4394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962520" y="5973840"/>
            <a:ext cx="25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at’s w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3440" y="334800"/>
            <a:ext cx="743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The magic step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q(k) itself is a univariate polynomial in k, of degree at most 2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2760" y="1601640"/>
            <a:ext cx="119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30120" y="14144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73120" y="1262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472760" y="22525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68560" y="202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68560" y="110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780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115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447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782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449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784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119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451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786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121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453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788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25760" y="225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58920" y="225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92440" y="225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97360" y="21765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49440" y="2441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1440" y="2176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873920" y="2252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5760" y="1300320"/>
            <a:ext cx="6689520" cy="723600"/>
          </a:xfrm>
          <a:custGeom>
            <a:avLst/>
            <a:gdLst/>
            <a:ahLst/>
            <a:rect l="l" t="t" r="r" b="b"/>
            <a:pathLst>
              <a:path w="4214" h="456">
                <a:moveTo>
                  <a:pt x="0" y="456"/>
                </a:moveTo>
                <a:cubicBezTo>
                  <a:pt x="152" y="252"/>
                  <a:pt x="304" y="48"/>
                  <a:pt x="480" y="24"/>
                </a:cubicBezTo>
                <a:cubicBezTo>
                  <a:pt x="656" y="0"/>
                  <a:pt x="768" y="280"/>
                  <a:pt x="1056" y="312"/>
                </a:cubicBezTo>
                <a:cubicBezTo>
                  <a:pt x="1344" y="344"/>
                  <a:pt x="1848" y="200"/>
                  <a:pt x="2208" y="216"/>
                </a:cubicBezTo>
                <a:cubicBezTo>
                  <a:pt x="2568" y="232"/>
                  <a:pt x="2882" y="429"/>
                  <a:pt x="3216" y="408"/>
                </a:cubicBezTo>
                <a:cubicBezTo>
                  <a:pt x="3550" y="387"/>
                  <a:pt x="4006" y="156"/>
                  <a:pt x="4214" y="8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06640" y="1643040"/>
            <a:ext cx="2743200" cy="596520"/>
            <a:chOff x="2006640" y="1643040"/>
            <a:chExt cx="2743200" cy="596520"/>
          </a:xfrm>
        </p:grpSpPr>
        <p:sp>
          <p:nvSpPr>
            <p:cNvPr id="438" name=""/>
            <p:cNvSpPr/>
            <p:nvPr/>
          </p:nvSpPr>
          <p:spPr>
            <a:xfrm flipH="1" flipV="1">
              <a:off x="2006640" y="164304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63840" y="1795320"/>
              <a:ext cx="2286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Large derivativ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298680" y="1081080"/>
            <a:ext cx="4508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unded in [0,1] at integer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5520" y="3233880"/>
            <a:ext cx="35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[A. A. Markov, 1889]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960480" y="3886200"/>
                <a:ext cx="40575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sup>
                            </m:sSup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5</m:t>
                                        </m:r>
                                      </m:den>
                                    </m:f>
                                  </m:sup>
                                </m:sSup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5</m:t>
                                        </m:r>
                                      </m:den>
                                    </m:f>
                                  </m:sup>
                                </m:sSup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q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450720" y="5376960"/>
            <a:ext cx="795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ence the original quantum algorithm must have made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)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65680" y="5999040"/>
            <a:ext cx="266760" cy="266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38560" y="4100400"/>
                <a:ext cx="1633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222640" y="1866960"/>
            <a:ext cx="6680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uld there be a quantum state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left over from the Big Bang, such that given any 3SAT instance of size 1,000,000, we could quickly solve it by just measuring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 an appropriate basi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52360" y="196200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947880" y="4802040"/>
            <a:ext cx="7145280" cy="1281960"/>
          </a:xfrm>
          <a:prstGeom prst="rect">
            <a:avLst/>
          </a:prstGeom>
          <a:solidFill>
            <a:srgbClr val="ffe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[A., CCC 2004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 the black-box model, no: there cannot exist any “golden state” for solving NP-complete problems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488520"/>
            <a:ext cx="75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Hunt for the Golden Stat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7550280" y="507960"/>
            <a:ext cx="1593720" cy="6271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434" dur="3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3000" fill="hold"/>
                                        <p:tgtEl>
                                          <p:spTgt spid="453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38040" y="320760"/>
            <a:ext cx="5710320" cy="885960"/>
          </a:xfrm>
          <a:prstGeom prst="rect">
            <a:avLst/>
          </a:prstGeom>
          <a:solidFill>
            <a:srgbClr val="e3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icient quantum algorithm to solve SAT using an m-qubit golde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3080" y="1617840"/>
            <a:ext cx="6986520" cy="885960"/>
          </a:xfrm>
          <a:prstGeom prst="rect">
            <a:avLst/>
          </a:prstGeom>
          <a:solidFill>
            <a:srgbClr val="ffdd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icient quantum algorithm to solve (say) 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AT instances, reusing the same golden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5040" y="2995560"/>
            <a:ext cx="480852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 to solve 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AT instances with probability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52680" y="1241280"/>
            <a:ext cx="0" cy="34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97480" y="273384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uess the golden state!  Replace it by the maximally mixed state, i.e. a random m-bit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95960" y="20016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ose it exists by way of contradi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22440" y="2516040"/>
            <a:ext cx="0" cy="45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960" y="4522680"/>
            <a:ext cx="8278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get a contradiction, I now need to prove a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direct-product theorem for quantum searc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f a quantum algorithm doesn’t even have time to solv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search problem w.h.p., then the probability of its solving k search problems decreases exponentially with 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93760" y="434880"/>
            <a:ext cx="852624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ow do I prove the direct-product theor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Again using the polynomial meth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But this time I need a generalization of A. A. Markov’s inequality due to </a:t>
            </a:r>
            <a:r>
              <a:rPr b="0" lang="en-US" sz="2500" spc="-1" strike="noStrike">
                <a:solidFill>
                  <a:srgbClr val="008000"/>
                </a:solidFill>
                <a:latin typeface="Arial"/>
              </a:rPr>
              <a:t>[V. A. Markov 1892]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, which takes into account not just the first derivative but all higher deriva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3840" y="5149800"/>
            <a:ext cx="8362800" cy="1281960"/>
          </a:xfrm>
          <a:prstGeom prst="rect">
            <a:avLst/>
          </a:prstGeom>
          <a:solidFill>
            <a:srgbClr val="ff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[Klauck-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  <a:ea typeface="Arial"/>
              </a:rPr>
              <a:t>Špalek-deWolf, FOCS’04</a:t>
            </a: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]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ightened my direct product theorem, and also used it to prove the first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quantum time-space tradeoff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816120" y="3186000"/>
            <a:ext cx="7315200" cy="1602720"/>
            <a:chOff x="816120" y="3186000"/>
            <a:chExt cx="7315200" cy="1602720"/>
          </a:xfrm>
        </p:grpSpPr>
        <p:sp>
          <p:nvSpPr>
            <p:cNvPr id="465" name=""/>
            <p:cNvSpPr/>
            <p:nvPr/>
          </p:nvSpPr>
          <p:spPr>
            <a:xfrm>
              <a:off x="1120680" y="333864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120320" y="4329000"/>
              <a:ext cx="678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6120" y="40100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6120" y="31860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382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7172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0524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384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192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9248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260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952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9268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262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5972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9288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826400" y="4253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97000" y="43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30520" y="43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63680" y="4329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4920" y="4253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425304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.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21480" y="4329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11600" y="43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19240" y="3259080"/>
              <a:ext cx="6935760" cy="1308240"/>
            </a:xfrm>
            <a:custGeom>
              <a:avLst/>
              <a:gdLst/>
              <a:ahLst/>
              <a:rect l="l" t="t" r="r" b="b"/>
              <a:pathLst>
                <a:path w="4369" h="824">
                  <a:moveTo>
                    <a:pt x="0" y="668"/>
                  </a:moveTo>
                  <a:cubicBezTo>
                    <a:pt x="18" y="674"/>
                    <a:pt x="42" y="721"/>
                    <a:pt x="109" y="704"/>
                  </a:cubicBezTo>
                  <a:cubicBezTo>
                    <a:pt x="176" y="687"/>
                    <a:pt x="328" y="567"/>
                    <a:pt x="401" y="566"/>
                  </a:cubicBezTo>
                  <a:cubicBezTo>
                    <a:pt x="474" y="565"/>
                    <a:pt x="500" y="656"/>
                    <a:pt x="547" y="696"/>
                  </a:cubicBezTo>
                  <a:cubicBezTo>
                    <a:pt x="594" y="736"/>
                    <a:pt x="602" y="824"/>
                    <a:pt x="685" y="804"/>
                  </a:cubicBezTo>
                  <a:cubicBezTo>
                    <a:pt x="768" y="784"/>
                    <a:pt x="927" y="575"/>
                    <a:pt x="1046" y="574"/>
                  </a:cubicBezTo>
                  <a:cubicBezTo>
                    <a:pt x="1165" y="573"/>
                    <a:pt x="1293" y="804"/>
                    <a:pt x="1399" y="796"/>
                  </a:cubicBezTo>
                  <a:cubicBezTo>
                    <a:pt x="1505" y="788"/>
                    <a:pt x="1603" y="561"/>
                    <a:pt x="1683" y="527"/>
                  </a:cubicBezTo>
                  <a:cubicBezTo>
                    <a:pt x="1763" y="493"/>
                    <a:pt x="1780" y="637"/>
                    <a:pt x="1876" y="590"/>
                  </a:cubicBezTo>
                  <a:cubicBezTo>
                    <a:pt x="1972" y="543"/>
                    <a:pt x="2121" y="223"/>
                    <a:pt x="2257" y="242"/>
                  </a:cubicBezTo>
                  <a:cubicBezTo>
                    <a:pt x="2393" y="261"/>
                    <a:pt x="2513" y="741"/>
                    <a:pt x="2693" y="706"/>
                  </a:cubicBezTo>
                  <a:cubicBezTo>
                    <a:pt x="2873" y="671"/>
                    <a:pt x="3164" y="58"/>
                    <a:pt x="3339" y="29"/>
                  </a:cubicBezTo>
                  <a:cubicBezTo>
                    <a:pt x="3514" y="0"/>
                    <a:pt x="3573" y="526"/>
                    <a:pt x="3745" y="530"/>
                  </a:cubicBezTo>
                  <a:cubicBezTo>
                    <a:pt x="3917" y="534"/>
                    <a:pt x="4153" y="282"/>
                    <a:pt x="4369" y="5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3880" y="4024440"/>
              <a:ext cx="381240" cy="3808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78080" y="4267080"/>
              <a:ext cx="98280" cy="98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08000" y="4273560"/>
              <a:ext cx="98640" cy="98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51240" y="4280040"/>
              <a:ext cx="98280" cy="98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94120" y="4286160"/>
              <a:ext cx="98280" cy="98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24400" y="4292640"/>
              <a:ext cx="98280" cy="98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2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000" fill="hold"/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31840" y="673200"/>
            <a:ext cx="58118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’re given black-box access to a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msbm10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ant to find a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local minimu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f, evaluating f as few times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080040" y="257040"/>
            <a:ext cx="2743200" cy="2590920"/>
            <a:chOff x="6080040" y="257040"/>
            <a:chExt cx="2743200" cy="2590920"/>
          </a:xfrm>
        </p:grpSpPr>
        <p:sp>
          <p:nvSpPr>
            <p:cNvPr id="500" name=""/>
            <p:cNvSpPr/>
            <p:nvPr/>
          </p:nvSpPr>
          <p:spPr>
            <a:xfrm flipV="1">
              <a:off x="6537240" y="208548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985160" y="208548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985160" y="71388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537240" y="71388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832520" y="117144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384960" y="117144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84960" y="254304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84960" y="117144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80040" y="223812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27960" y="223812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80040" y="86652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27960" y="86652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518320" y="56196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070760" y="56196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70760" y="19335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70760" y="5619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65840" y="162864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13760" y="162864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765840" y="25704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13760" y="25704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527960" y="2238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65840" y="16286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80040" y="8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80040" y="2238480"/>
            <a:ext cx="60984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80040" y="22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213760" y="1628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120" y="3124080"/>
            <a:ext cx="894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ldous 1983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ndomized algorithm making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queries</a:t>
            </a:r>
            <a:br>
              <a:rPr sz="2600"/>
            </a:b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., STOC’04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algorithm making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120" y="4240080"/>
            <a:ext cx="894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ldous 1983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y randomized alg need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-o(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ries</a:t>
            </a:r>
            <a:br>
              <a:rPr sz="2600"/>
            </a:b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., STOC’04]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y quantum alg need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n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7520" y="537696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y lower-bound proof uses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mbainis’s quantum adversary metho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hich upper-bounds how much the entanglement between algorithm and oracle can increase via a single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58760" y="3200400"/>
            <a:ext cx="8839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onotype Corsiva"/>
              </a:rPr>
              <a:t>Quantum Generosity … Giving back because we car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Monotype Corsiva"/>
              </a:rPr>
              <a:t>T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2640" y="496800"/>
            <a:ext cx="7937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Surprising par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“Quantum-inspired” argument also yields a better classical lower bound: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yields the first randomized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quantum lower bounds for local search on constant-dimensional grid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19440" y="4398840"/>
            <a:ext cx="5668920" cy="1800360"/>
          </a:xfrm>
          <a:prstGeom prst="rect">
            <a:avLst/>
          </a:prstGeom>
          <a:solidFill>
            <a:srgbClr val="fff2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bsequent improvements: </a:t>
            </a:r>
            <a:r>
              <a:rPr b="0" lang="en-CA" sz="2800" spc="-1" strike="noStrike">
                <a:solidFill>
                  <a:srgbClr val="008000"/>
                </a:solidFill>
                <a:latin typeface="Arial"/>
              </a:rPr>
              <a:t>[Santha-Szegedy, STOC’04] [Zhang, STOC’06] [Verhoeven, 2006] [Sun-Yao, FOC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239400"/>
            <a:ext cx="86806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Because the universe isn’t classical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9720" y="1197000"/>
            <a:ext cx="7696440" cy="3561840"/>
            <a:chOff x="369720" y="1197000"/>
            <a:chExt cx="7696440" cy="3561840"/>
          </a:xfrm>
        </p:grpSpPr>
        <p:sp>
          <p:nvSpPr>
            <p:cNvPr id="91" name=""/>
            <p:cNvSpPr/>
            <p:nvPr/>
          </p:nvSpPr>
          <p:spPr>
            <a:xfrm>
              <a:off x="369720" y="1197000"/>
              <a:ext cx="769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y picture of reality, as an eleven-year-old messing around with QBASIC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76240" y="2206440"/>
              <a:ext cx="6949800" cy="2552400"/>
              <a:chOff x="876240" y="2206440"/>
              <a:chExt cx="6949800" cy="25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6090480" y="3039840"/>
                <a:ext cx="173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 detail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76240" y="2206440"/>
                <a:ext cx="5067720" cy="25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"/>
          <p:cNvSpPr/>
          <p:nvPr/>
        </p:nvSpPr>
        <p:spPr>
          <a:xfrm>
            <a:off x="2284560" y="719280"/>
            <a:ext cx="327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600" y="605808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ncier version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xtended Church-Turing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6080" y="4946760"/>
            <a:ext cx="8475480" cy="1036440"/>
            <a:chOff x="316080" y="4946760"/>
            <a:chExt cx="8475480" cy="1036440"/>
          </a:xfrm>
        </p:grpSpPr>
        <p:sp>
          <p:nvSpPr>
            <p:cNvPr id="98" name=""/>
            <p:cNvSpPr/>
            <p:nvPr/>
          </p:nvSpPr>
          <p:spPr>
            <a:xfrm>
              <a:off x="1258920" y="5135400"/>
              <a:ext cx="753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Also Stephen Wolfram’s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picture of realit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316080" y="4946760"/>
              <a:ext cx="914400" cy="103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2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2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2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31920" y="411156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NTV 1999]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ust hav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) qubits—no asymptotic savings over clas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6880" y="526428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urprisingly, an n-qubit quantum state has no more “independently accessible degrees of freedom” than an n-bit classical str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79360" y="298440"/>
            <a:ext cx="678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 Lem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6181560" y="189000"/>
            <a:ext cx="736920" cy="651960"/>
            <a:chOff x="6181560" y="189000"/>
            <a:chExt cx="736920" cy="651960"/>
          </a:xfrm>
        </p:grpSpPr>
        <p:sp>
          <p:nvSpPr>
            <p:cNvPr id="538" name=""/>
            <p:cNvSpPr/>
            <p:nvPr/>
          </p:nvSpPr>
          <p:spPr>
            <a:xfrm>
              <a:off x="6194880" y="198360"/>
              <a:ext cx="598320" cy="581040"/>
            </a:xfrm>
            <a:custGeom>
              <a:avLst/>
              <a:gdLst/>
              <a:ahLst/>
              <a:rect l="l" t="t" r="r" b="b"/>
              <a:pathLst>
                <a:path w="1260" h="1226">
                  <a:moveTo>
                    <a:pt x="9" y="733"/>
                  </a:moveTo>
                  <a:lnTo>
                    <a:pt x="7" y="733"/>
                  </a:lnTo>
                  <a:lnTo>
                    <a:pt x="7" y="737"/>
                  </a:lnTo>
                  <a:lnTo>
                    <a:pt x="7" y="743"/>
                  </a:lnTo>
                  <a:lnTo>
                    <a:pt x="6" y="751"/>
                  </a:lnTo>
                  <a:lnTo>
                    <a:pt x="4" y="758"/>
                  </a:lnTo>
                  <a:lnTo>
                    <a:pt x="4" y="770"/>
                  </a:lnTo>
                  <a:lnTo>
                    <a:pt x="2" y="775"/>
                  </a:lnTo>
                  <a:lnTo>
                    <a:pt x="2" y="781"/>
                  </a:lnTo>
                  <a:lnTo>
                    <a:pt x="2" y="789"/>
                  </a:lnTo>
                  <a:lnTo>
                    <a:pt x="2" y="796"/>
                  </a:lnTo>
                  <a:lnTo>
                    <a:pt x="0" y="802"/>
                  </a:lnTo>
                  <a:lnTo>
                    <a:pt x="0" y="810"/>
                  </a:lnTo>
                  <a:lnTo>
                    <a:pt x="0" y="819"/>
                  </a:lnTo>
                  <a:lnTo>
                    <a:pt x="0" y="827"/>
                  </a:lnTo>
                  <a:lnTo>
                    <a:pt x="0" y="834"/>
                  </a:lnTo>
                  <a:lnTo>
                    <a:pt x="0" y="844"/>
                  </a:lnTo>
                  <a:lnTo>
                    <a:pt x="0" y="853"/>
                  </a:lnTo>
                  <a:lnTo>
                    <a:pt x="0" y="863"/>
                  </a:lnTo>
                  <a:lnTo>
                    <a:pt x="0" y="870"/>
                  </a:lnTo>
                  <a:lnTo>
                    <a:pt x="0" y="882"/>
                  </a:lnTo>
                  <a:lnTo>
                    <a:pt x="0" y="889"/>
                  </a:lnTo>
                  <a:lnTo>
                    <a:pt x="2" y="901"/>
                  </a:lnTo>
                  <a:lnTo>
                    <a:pt x="2" y="910"/>
                  </a:lnTo>
                  <a:lnTo>
                    <a:pt x="4" y="920"/>
                  </a:lnTo>
                  <a:lnTo>
                    <a:pt x="4" y="929"/>
                  </a:lnTo>
                  <a:lnTo>
                    <a:pt x="7" y="941"/>
                  </a:lnTo>
                  <a:lnTo>
                    <a:pt x="7" y="950"/>
                  </a:lnTo>
                  <a:lnTo>
                    <a:pt x="9" y="962"/>
                  </a:lnTo>
                  <a:lnTo>
                    <a:pt x="9" y="971"/>
                  </a:lnTo>
                  <a:lnTo>
                    <a:pt x="13" y="981"/>
                  </a:lnTo>
                  <a:lnTo>
                    <a:pt x="13" y="992"/>
                  </a:lnTo>
                  <a:lnTo>
                    <a:pt x="17" y="1001"/>
                  </a:lnTo>
                  <a:lnTo>
                    <a:pt x="21" y="1011"/>
                  </a:lnTo>
                  <a:lnTo>
                    <a:pt x="25" y="1022"/>
                  </a:lnTo>
                  <a:lnTo>
                    <a:pt x="26" y="1030"/>
                  </a:lnTo>
                  <a:lnTo>
                    <a:pt x="28" y="1041"/>
                  </a:lnTo>
                  <a:lnTo>
                    <a:pt x="32" y="1049"/>
                  </a:lnTo>
                  <a:lnTo>
                    <a:pt x="38" y="1060"/>
                  </a:lnTo>
                  <a:lnTo>
                    <a:pt x="40" y="1070"/>
                  </a:lnTo>
                  <a:lnTo>
                    <a:pt x="45" y="1079"/>
                  </a:lnTo>
                  <a:lnTo>
                    <a:pt x="51" y="1087"/>
                  </a:lnTo>
                  <a:lnTo>
                    <a:pt x="57" y="1098"/>
                  </a:lnTo>
                  <a:lnTo>
                    <a:pt x="61" y="1104"/>
                  </a:lnTo>
                  <a:lnTo>
                    <a:pt x="66" y="1114"/>
                  </a:lnTo>
                  <a:lnTo>
                    <a:pt x="72" y="1121"/>
                  </a:lnTo>
                  <a:lnTo>
                    <a:pt x="80" y="1131"/>
                  </a:lnTo>
                  <a:lnTo>
                    <a:pt x="85" y="1138"/>
                  </a:lnTo>
                  <a:lnTo>
                    <a:pt x="93" y="1146"/>
                  </a:lnTo>
                  <a:lnTo>
                    <a:pt x="101" y="1153"/>
                  </a:lnTo>
                  <a:lnTo>
                    <a:pt x="110" y="1159"/>
                  </a:lnTo>
                  <a:lnTo>
                    <a:pt x="116" y="1165"/>
                  </a:lnTo>
                  <a:lnTo>
                    <a:pt x="127" y="1171"/>
                  </a:lnTo>
                  <a:lnTo>
                    <a:pt x="135" y="1176"/>
                  </a:lnTo>
                  <a:lnTo>
                    <a:pt x="144" y="1184"/>
                  </a:lnTo>
                  <a:lnTo>
                    <a:pt x="154" y="1188"/>
                  </a:lnTo>
                  <a:lnTo>
                    <a:pt x="165" y="1191"/>
                  </a:lnTo>
                  <a:lnTo>
                    <a:pt x="177" y="1195"/>
                  </a:lnTo>
                  <a:lnTo>
                    <a:pt x="188" y="1201"/>
                  </a:lnTo>
                  <a:lnTo>
                    <a:pt x="199" y="1201"/>
                  </a:lnTo>
                  <a:lnTo>
                    <a:pt x="211" y="1205"/>
                  </a:lnTo>
                  <a:lnTo>
                    <a:pt x="222" y="1207"/>
                  </a:lnTo>
                  <a:lnTo>
                    <a:pt x="234" y="1211"/>
                  </a:lnTo>
                  <a:lnTo>
                    <a:pt x="245" y="1211"/>
                  </a:lnTo>
                  <a:lnTo>
                    <a:pt x="256" y="1214"/>
                  </a:lnTo>
                  <a:lnTo>
                    <a:pt x="266" y="1214"/>
                  </a:lnTo>
                  <a:lnTo>
                    <a:pt x="279" y="1218"/>
                  </a:lnTo>
                  <a:lnTo>
                    <a:pt x="291" y="1218"/>
                  </a:lnTo>
                  <a:lnTo>
                    <a:pt x="300" y="1218"/>
                  </a:lnTo>
                  <a:lnTo>
                    <a:pt x="312" y="1220"/>
                  </a:lnTo>
                  <a:lnTo>
                    <a:pt x="325" y="1222"/>
                  </a:lnTo>
                  <a:lnTo>
                    <a:pt x="334" y="1222"/>
                  </a:lnTo>
                  <a:lnTo>
                    <a:pt x="346" y="1222"/>
                  </a:lnTo>
                  <a:lnTo>
                    <a:pt x="357" y="1224"/>
                  </a:lnTo>
                  <a:lnTo>
                    <a:pt x="369" y="1226"/>
                  </a:lnTo>
                  <a:lnTo>
                    <a:pt x="380" y="1224"/>
                  </a:lnTo>
                  <a:lnTo>
                    <a:pt x="389" y="1224"/>
                  </a:lnTo>
                  <a:lnTo>
                    <a:pt x="401" y="1224"/>
                  </a:lnTo>
                  <a:lnTo>
                    <a:pt x="412" y="1224"/>
                  </a:lnTo>
                  <a:lnTo>
                    <a:pt x="422" y="1222"/>
                  </a:lnTo>
                  <a:lnTo>
                    <a:pt x="433" y="1222"/>
                  </a:lnTo>
                  <a:lnTo>
                    <a:pt x="445" y="1222"/>
                  </a:lnTo>
                  <a:lnTo>
                    <a:pt x="454" y="1222"/>
                  </a:lnTo>
                  <a:lnTo>
                    <a:pt x="466" y="1222"/>
                  </a:lnTo>
                  <a:lnTo>
                    <a:pt x="475" y="1220"/>
                  </a:lnTo>
                  <a:lnTo>
                    <a:pt x="485" y="1218"/>
                  </a:lnTo>
                  <a:lnTo>
                    <a:pt x="494" y="1218"/>
                  </a:lnTo>
                  <a:lnTo>
                    <a:pt x="504" y="1216"/>
                  </a:lnTo>
                  <a:lnTo>
                    <a:pt x="513" y="1214"/>
                  </a:lnTo>
                  <a:lnTo>
                    <a:pt x="523" y="1214"/>
                  </a:lnTo>
                  <a:lnTo>
                    <a:pt x="534" y="1214"/>
                  </a:lnTo>
                  <a:lnTo>
                    <a:pt x="540" y="1211"/>
                  </a:lnTo>
                  <a:lnTo>
                    <a:pt x="549" y="1211"/>
                  </a:lnTo>
                  <a:lnTo>
                    <a:pt x="557" y="1209"/>
                  </a:lnTo>
                  <a:lnTo>
                    <a:pt x="566" y="1209"/>
                  </a:lnTo>
                  <a:lnTo>
                    <a:pt x="574" y="1205"/>
                  </a:lnTo>
                  <a:lnTo>
                    <a:pt x="581" y="1205"/>
                  </a:lnTo>
                  <a:lnTo>
                    <a:pt x="589" y="1201"/>
                  </a:lnTo>
                  <a:lnTo>
                    <a:pt x="599" y="1201"/>
                  </a:lnTo>
                  <a:lnTo>
                    <a:pt x="604" y="1199"/>
                  </a:lnTo>
                  <a:lnTo>
                    <a:pt x="612" y="1197"/>
                  </a:lnTo>
                  <a:lnTo>
                    <a:pt x="619" y="1197"/>
                  </a:lnTo>
                  <a:lnTo>
                    <a:pt x="625" y="1195"/>
                  </a:lnTo>
                  <a:lnTo>
                    <a:pt x="638" y="1193"/>
                  </a:lnTo>
                  <a:lnTo>
                    <a:pt x="650" y="1191"/>
                  </a:lnTo>
                  <a:lnTo>
                    <a:pt x="659" y="1188"/>
                  </a:lnTo>
                  <a:lnTo>
                    <a:pt x="669" y="1184"/>
                  </a:lnTo>
                  <a:lnTo>
                    <a:pt x="676" y="1182"/>
                  </a:lnTo>
                  <a:lnTo>
                    <a:pt x="684" y="1180"/>
                  </a:lnTo>
                  <a:lnTo>
                    <a:pt x="692" y="1178"/>
                  </a:lnTo>
                  <a:lnTo>
                    <a:pt x="696" y="1178"/>
                  </a:lnTo>
                  <a:lnTo>
                    <a:pt x="696" y="1176"/>
                  </a:lnTo>
                  <a:lnTo>
                    <a:pt x="701" y="1174"/>
                  </a:lnTo>
                  <a:lnTo>
                    <a:pt x="707" y="1171"/>
                  </a:lnTo>
                  <a:lnTo>
                    <a:pt x="718" y="1167"/>
                  </a:lnTo>
                  <a:lnTo>
                    <a:pt x="722" y="1163"/>
                  </a:lnTo>
                  <a:lnTo>
                    <a:pt x="728" y="1159"/>
                  </a:lnTo>
                  <a:lnTo>
                    <a:pt x="735" y="1155"/>
                  </a:lnTo>
                  <a:lnTo>
                    <a:pt x="743" y="1152"/>
                  </a:lnTo>
                  <a:lnTo>
                    <a:pt x="749" y="1146"/>
                  </a:lnTo>
                  <a:lnTo>
                    <a:pt x="758" y="1142"/>
                  </a:lnTo>
                  <a:lnTo>
                    <a:pt x="766" y="1136"/>
                  </a:lnTo>
                  <a:lnTo>
                    <a:pt x="777" y="1133"/>
                  </a:lnTo>
                  <a:lnTo>
                    <a:pt x="785" y="1125"/>
                  </a:lnTo>
                  <a:lnTo>
                    <a:pt x="794" y="1119"/>
                  </a:lnTo>
                  <a:lnTo>
                    <a:pt x="804" y="1112"/>
                  </a:lnTo>
                  <a:lnTo>
                    <a:pt x="815" y="1106"/>
                  </a:lnTo>
                  <a:lnTo>
                    <a:pt x="825" y="1098"/>
                  </a:lnTo>
                  <a:lnTo>
                    <a:pt x="836" y="1091"/>
                  </a:lnTo>
                  <a:lnTo>
                    <a:pt x="848" y="1085"/>
                  </a:lnTo>
                  <a:lnTo>
                    <a:pt x="859" y="1077"/>
                  </a:lnTo>
                  <a:lnTo>
                    <a:pt x="870" y="1066"/>
                  </a:lnTo>
                  <a:lnTo>
                    <a:pt x="882" y="1058"/>
                  </a:lnTo>
                  <a:lnTo>
                    <a:pt x="893" y="1049"/>
                  </a:lnTo>
                  <a:lnTo>
                    <a:pt x="907" y="1041"/>
                  </a:lnTo>
                  <a:lnTo>
                    <a:pt x="918" y="1032"/>
                  </a:lnTo>
                  <a:lnTo>
                    <a:pt x="931" y="1022"/>
                  </a:lnTo>
                  <a:lnTo>
                    <a:pt x="945" y="1013"/>
                  </a:lnTo>
                  <a:lnTo>
                    <a:pt x="958" y="1003"/>
                  </a:lnTo>
                  <a:lnTo>
                    <a:pt x="969" y="992"/>
                  </a:lnTo>
                  <a:lnTo>
                    <a:pt x="983" y="981"/>
                  </a:lnTo>
                  <a:lnTo>
                    <a:pt x="992" y="969"/>
                  </a:lnTo>
                  <a:lnTo>
                    <a:pt x="1005" y="958"/>
                  </a:lnTo>
                  <a:lnTo>
                    <a:pt x="1019" y="946"/>
                  </a:lnTo>
                  <a:lnTo>
                    <a:pt x="1030" y="933"/>
                  </a:lnTo>
                  <a:lnTo>
                    <a:pt x="1043" y="922"/>
                  </a:lnTo>
                  <a:lnTo>
                    <a:pt x="1057" y="908"/>
                  </a:lnTo>
                  <a:lnTo>
                    <a:pt x="1068" y="895"/>
                  </a:lnTo>
                  <a:lnTo>
                    <a:pt x="1079" y="882"/>
                  </a:lnTo>
                  <a:lnTo>
                    <a:pt x="1091" y="868"/>
                  </a:lnTo>
                  <a:lnTo>
                    <a:pt x="1102" y="855"/>
                  </a:lnTo>
                  <a:lnTo>
                    <a:pt x="1114" y="840"/>
                  </a:lnTo>
                  <a:lnTo>
                    <a:pt x="1125" y="827"/>
                  </a:lnTo>
                  <a:lnTo>
                    <a:pt x="1137" y="813"/>
                  </a:lnTo>
                  <a:lnTo>
                    <a:pt x="1146" y="798"/>
                  </a:lnTo>
                  <a:lnTo>
                    <a:pt x="1156" y="783"/>
                  </a:lnTo>
                  <a:lnTo>
                    <a:pt x="1165" y="768"/>
                  </a:lnTo>
                  <a:lnTo>
                    <a:pt x="1175" y="752"/>
                  </a:lnTo>
                  <a:lnTo>
                    <a:pt x="1184" y="737"/>
                  </a:lnTo>
                  <a:lnTo>
                    <a:pt x="1192" y="720"/>
                  </a:lnTo>
                  <a:lnTo>
                    <a:pt x="1201" y="705"/>
                  </a:lnTo>
                  <a:lnTo>
                    <a:pt x="1209" y="690"/>
                  </a:lnTo>
                  <a:lnTo>
                    <a:pt x="1216" y="673"/>
                  </a:lnTo>
                  <a:lnTo>
                    <a:pt x="1222" y="656"/>
                  </a:lnTo>
                  <a:lnTo>
                    <a:pt x="1228" y="638"/>
                  </a:lnTo>
                  <a:lnTo>
                    <a:pt x="1233" y="621"/>
                  </a:lnTo>
                  <a:lnTo>
                    <a:pt x="1239" y="604"/>
                  </a:lnTo>
                  <a:lnTo>
                    <a:pt x="1243" y="585"/>
                  </a:lnTo>
                  <a:lnTo>
                    <a:pt x="1247" y="568"/>
                  </a:lnTo>
                  <a:lnTo>
                    <a:pt x="1251" y="551"/>
                  </a:lnTo>
                  <a:lnTo>
                    <a:pt x="1254" y="534"/>
                  </a:lnTo>
                  <a:lnTo>
                    <a:pt x="1256" y="515"/>
                  </a:lnTo>
                  <a:lnTo>
                    <a:pt x="1256" y="496"/>
                  </a:lnTo>
                  <a:lnTo>
                    <a:pt x="1258" y="479"/>
                  </a:lnTo>
                  <a:lnTo>
                    <a:pt x="1260" y="462"/>
                  </a:lnTo>
                  <a:lnTo>
                    <a:pt x="1260" y="443"/>
                  </a:lnTo>
                  <a:lnTo>
                    <a:pt x="1260" y="428"/>
                  </a:lnTo>
                  <a:lnTo>
                    <a:pt x="1260" y="410"/>
                  </a:lnTo>
                  <a:lnTo>
                    <a:pt x="1260" y="397"/>
                  </a:lnTo>
                  <a:lnTo>
                    <a:pt x="1260" y="380"/>
                  </a:lnTo>
                  <a:lnTo>
                    <a:pt x="1258" y="365"/>
                  </a:lnTo>
                  <a:lnTo>
                    <a:pt x="1256" y="350"/>
                  </a:lnTo>
                  <a:lnTo>
                    <a:pt x="1256" y="336"/>
                  </a:lnTo>
                  <a:lnTo>
                    <a:pt x="1254" y="321"/>
                  </a:lnTo>
                  <a:lnTo>
                    <a:pt x="1252" y="308"/>
                  </a:lnTo>
                  <a:lnTo>
                    <a:pt x="1251" y="294"/>
                  </a:lnTo>
                  <a:lnTo>
                    <a:pt x="1249" y="283"/>
                  </a:lnTo>
                  <a:lnTo>
                    <a:pt x="1245" y="270"/>
                  </a:lnTo>
                  <a:lnTo>
                    <a:pt x="1241" y="256"/>
                  </a:lnTo>
                  <a:lnTo>
                    <a:pt x="1239" y="245"/>
                  </a:lnTo>
                  <a:lnTo>
                    <a:pt x="1235" y="234"/>
                  </a:lnTo>
                  <a:lnTo>
                    <a:pt x="1232" y="222"/>
                  </a:lnTo>
                  <a:lnTo>
                    <a:pt x="1228" y="211"/>
                  </a:lnTo>
                  <a:lnTo>
                    <a:pt x="1224" y="201"/>
                  </a:lnTo>
                  <a:lnTo>
                    <a:pt x="1220" y="192"/>
                  </a:lnTo>
                  <a:lnTo>
                    <a:pt x="1214" y="180"/>
                  </a:lnTo>
                  <a:lnTo>
                    <a:pt x="1211" y="171"/>
                  </a:lnTo>
                  <a:lnTo>
                    <a:pt x="1205" y="160"/>
                  </a:lnTo>
                  <a:lnTo>
                    <a:pt x="1201" y="154"/>
                  </a:lnTo>
                  <a:lnTo>
                    <a:pt x="1194" y="142"/>
                  </a:lnTo>
                  <a:lnTo>
                    <a:pt x="1188" y="135"/>
                  </a:lnTo>
                  <a:lnTo>
                    <a:pt x="1182" y="127"/>
                  </a:lnTo>
                  <a:lnTo>
                    <a:pt x="1176" y="120"/>
                  </a:lnTo>
                  <a:lnTo>
                    <a:pt x="1171" y="112"/>
                  </a:lnTo>
                  <a:lnTo>
                    <a:pt x="1163" y="104"/>
                  </a:lnTo>
                  <a:lnTo>
                    <a:pt x="1156" y="97"/>
                  </a:lnTo>
                  <a:lnTo>
                    <a:pt x="1148" y="91"/>
                  </a:lnTo>
                  <a:lnTo>
                    <a:pt x="1138" y="84"/>
                  </a:lnTo>
                  <a:lnTo>
                    <a:pt x="1133" y="78"/>
                  </a:lnTo>
                  <a:lnTo>
                    <a:pt x="1125" y="70"/>
                  </a:lnTo>
                  <a:lnTo>
                    <a:pt x="1117" y="66"/>
                  </a:lnTo>
                  <a:lnTo>
                    <a:pt x="1108" y="61"/>
                  </a:lnTo>
                  <a:lnTo>
                    <a:pt x="1100" y="55"/>
                  </a:lnTo>
                  <a:lnTo>
                    <a:pt x="1091" y="49"/>
                  </a:lnTo>
                  <a:lnTo>
                    <a:pt x="1083" y="46"/>
                  </a:lnTo>
                  <a:lnTo>
                    <a:pt x="1074" y="40"/>
                  </a:lnTo>
                  <a:lnTo>
                    <a:pt x="1064" y="36"/>
                  </a:lnTo>
                  <a:lnTo>
                    <a:pt x="1055" y="34"/>
                  </a:lnTo>
                  <a:lnTo>
                    <a:pt x="1047" y="30"/>
                  </a:lnTo>
                  <a:lnTo>
                    <a:pt x="1036" y="27"/>
                  </a:lnTo>
                  <a:lnTo>
                    <a:pt x="1026" y="23"/>
                  </a:lnTo>
                  <a:lnTo>
                    <a:pt x="1017" y="19"/>
                  </a:lnTo>
                  <a:lnTo>
                    <a:pt x="1005" y="17"/>
                  </a:lnTo>
                  <a:lnTo>
                    <a:pt x="996" y="13"/>
                  </a:lnTo>
                  <a:lnTo>
                    <a:pt x="984" y="11"/>
                  </a:lnTo>
                  <a:lnTo>
                    <a:pt x="973" y="9"/>
                  </a:lnTo>
                  <a:lnTo>
                    <a:pt x="964" y="8"/>
                  </a:lnTo>
                  <a:lnTo>
                    <a:pt x="950" y="6"/>
                  </a:lnTo>
                  <a:lnTo>
                    <a:pt x="941" y="4"/>
                  </a:lnTo>
                  <a:lnTo>
                    <a:pt x="929" y="2"/>
                  </a:lnTo>
                  <a:lnTo>
                    <a:pt x="918" y="2"/>
                  </a:lnTo>
                  <a:lnTo>
                    <a:pt x="907" y="0"/>
                  </a:lnTo>
                  <a:lnTo>
                    <a:pt x="895" y="0"/>
                  </a:lnTo>
                  <a:lnTo>
                    <a:pt x="884" y="0"/>
                  </a:lnTo>
                  <a:lnTo>
                    <a:pt x="872" y="0"/>
                  </a:lnTo>
                  <a:lnTo>
                    <a:pt x="859" y="0"/>
                  </a:lnTo>
                  <a:lnTo>
                    <a:pt x="846" y="0"/>
                  </a:lnTo>
                  <a:lnTo>
                    <a:pt x="834" y="0"/>
                  </a:lnTo>
                  <a:lnTo>
                    <a:pt x="823" y="0"/>
                  </a:lnTo>
                  <a:lnTo>
                    <a:pt x="810" y="0"/>
                  </a:lnTo>
                  <a:lnTo>
                    <a:pt x="798" y="2"/>
                  </a:lnTo>
                  <a:lnTo>
                    <a:pt x="785" y="2"/>
                  </a:lnTo>
                  <a:lnTo>
                    <a:pt x="773" y="6"/>
                  </a:lnTo>
                  <a:lnTo>
                    <a:pt x="762" y="6"/>
                  </a:lnTo>
                  <a:lnTo>
                    <a:pt x="749" y="8"/>
                  </a:lnTo>
                  <a:lnTo>
                    <a:pt x="737" y="9"/>
                  </a:lnTo>
                  <a:lnTo>
                    <a:pt x="726" y="13"/>
                  </a:lnTo>
                  <a:lnTo>
                    <a:pt x="715" y="15"/>
                  </a:lnTo>
                  <a:lnTo>
                    <a:pt x="703" y="19"/>
                  </a:lnTo>
                  <a:lnTo>
                    <a:pt x="692" y="23"/>
                  </a:lnTo>
                  <a:lnTo>
                    <a:pt x="680" y="27"/>
                  </a:lnTo>
                  <a:lnTo>
                    <a:pt x="669" y="28"/>
                  </a:lnTo>
                  <a:lnTo>
                    <a:pt x="657" y="32"/>
                  </a:lnTo>
                  <a:lnTo>
                    <a:pt x="644" y="36"/>
                  </a:lnTo>
                  <a:lnTo>
                    <a:pt x="633" y="40"/>
                  </a:lnTo>
                  <a:lnTo>
                    <a:pt x="623" y="44"/>
                  </a:lnTo>
                  <a:lnTo>
                    <a:pt x="612" y="47"/>
                  </a:lnTo>
                  <a:lnTo>
                    <a:pt x="600" y="53"/>
                  </a:lnTo>
                  <a:lnTo>
                    <a:pt x="589" y="59"/>
                  </a:lnTo>
                  <a:lnTo>
                    <a:pt x="578" y="63"/>
                  </a:lnTo>
                  <a:lnTo>
                    <a:pt x="566" y="68"/>
                  </a:lnTo>
                  <a:lnTo>
                    <a:pt x="555" y="74"/>
                  </a:lnTo>
                  <a:lnTo>
                    <a:pt x="543" y="80"/>
                  </a:lnTo>
                  <a:lnTo>
                    <a:pt x="534" y="85"/>
                  </a:lnTo>
                  <a:lnTo>
                    <a:pt x="523" y="91"/>
                  </a:lnTo>
                  <a:lnTo>
                    <a:pt x="513" y="95"/>
                  </a:lnTo>
                  <a:lnTo>
                    <a:pt x="504" y="103"/>
                  </a:lnTo>
                  <a:lnTo>
                    <a:pt x="492" y="108"/>
                  </a:lnTo>
                  <a:lnTo>
                    <a:pt x="481" y="114"/>
                  </a:lnTo>
                  <a:lnTo>
                    <a:pt x="469" y="120"/>
                  </a:lnTo>
                  <a:lnTo>
                    <a:pt x="458" y="127"/>
                  </a:lnTo>
                  <a:lnTo>
                    <a:pt x="448" y="133"/>
                  </a:lnTo>
                  <a:lnTo>
                    <a:pt x="437" y="141"/>
                  </a:lnTo>
                  <a:lnTo>
                    <a:pt x="427" y="146"/>
                  </a:lnTo>
                  <a:lnTo>
                    <a:pt x="418" y="154"/>
                  </a:lnTo>
                  <a:lnTo>
                    <a:pt x="407" y="160"/>
                  </a:lnTo>
                  <a:lnTo>
                    <a:pt x="399" y="167"/>
                  </a:lnTo>
                  <a:lnTo>
                    <a:pt x="388" y="175"/>
                  </a:lnTo>
                  <a:lnTo>
                    <a:pt x="380" y="180"/>
                  </a:lnTo>
                  <a:lnTo>
                    <a:pt x="369" y="188"/>
                  </a:lnTo>
                  <a:lnTo>
                    <a:pt x="361" y="196"/>
                  </a:lnTo>
                  <a:lnTo>
                    <a:pt x="351" y="203"/>
                  </a:lnTo>
                  <a:lnTo>
                    <a:pt x="342" y="211"/>
                  </a:lnTo>
                  <a:lnTo>
                    <a:pt x="332" y="218"/>
                  </a:lnTo>
                  <a:lnTo>
                    <a:pt x="325" y="226"/>
                  </a:lnTo>
                  <a:lnTo>
                    <a:pt x="315" y="234"/>
                  </a:lnTo>
                  <a:lnTo>
                    <a:pt x="306" y="241"/>
                  </a:lnTo>
                  <a:lnTo>
                    <a:pt x="298" y="249"/>
                  </a:lnTo>
                  <a:lnTo>
                    <a:pt x="289" y="256"/>
                  </a:lnTo>
                  <a:lnTo>
                    <a:pt x="281" y="264"/>
                  </a:lnTo>
                  <a:lnTo>
                    <a:pt x="274" y="272"/>
                  </a:lnTo>
                  <a:lnTo>
                    <a:pt x="264" y="279"/>
                  </a:lnTo>
                  <a:lnTo>
                    <a:pt x="256" y="287"/>
                  </a:lnTo>
                  <a:lnTo>
                    <a:pt x="247" y="294"/>
                  </a:lnTo>
                  <a:lnTo>
                    <a:pt x="239" y="304"/>
                  </a:lnTo>
                  <a:lnTo>
                    <a:pt x="232" y="312"/>
                  </a:lnTo>
                  <a:lnTo>
                    <a:pt x="226" y="317"/>
                  </a:lnTo>
                  <a:lnTo>
                    <a:pt x="218" y="327"/>
                  </a:lnTo>
                  <a:lnTo>
                    <a:pt x="213" y="334"/>
                  </a:lnTo>
                  <a:lnTo>
                    <a:pt x="205" y="342"/>
                  </a:lnTo>
                  <a:lnTo>
                    <a:pt x="197" y="350"/>
                  </a:lnTo>
                  <a:lnTo>
                    <a:pt x="190" y="357"/>
                  </a:lnTo>
                  <a:lnTo>
                    <a:pt x="182" y="367"/>
                  </a:lnTo>
                  <a:lnTo>
                    <a:pt x="175" y="374"/>
                  </a:lnTo>
                  <a:lnTo>
                    <a:pt x="169" y="382"/>
                  </a:lnTo>
                  <a:lnTo>
                    <a:pt x="163" y="391"/>
                  </a:lnTo>
                  <a:lnTo>
                    <a:pt x="158" y="399"/>
                  </a:lnTo>
                  <a:lnTo>
                    <a:pt x="150" y="407"/>
                  </a:lnTo>
                  <a:lnTo>
                    <a:pt x="144" y="414"/>
                  </a:lnTo>
                  <a:lnTo>
                    <a:pt x="139" y="424"/>
                  </a:lnTo>
                  <a:lnTo>
                    <a:pt x="133" y="431"/>
                  </a:lnTo>
                  <a:lnTo>
                    <a:pt x="127" y="439"/>
                  </a:lnTo>
                  <a:lnTo>
                    <a:pt x="123" y="448"/>
                  </a:lnTo>
                  <a:lnTo>
                    <a:pt x="118" y="456"/>
                  </a:lnTo>
                  <a:lnTo>
                    <a:pt x="114" y="466"/>
                  </a:lnTo>
                  <a:lnTo>
                    <a:pt x="108" y="473"/>
                  </a:lnTo>
                  <a:lnTo>
                    <a:pt x="102" y="483"/>
                  </a:lnTo>
                  <a:lnTo>
                    <a:pt x="99" y="490"/>
                  </a:lnTo>
                  <a:lnTo>
                    <a:pt x="95" y="500"/>
                  </a:lnTo>
                  <a:lnTo>
                    <a:pt x="89" y="507"/>
                  </a:lnTo>
                  <a:lnTo>
                    <a:pt x="85" y="515"/>
                  </a:lnTo>
                  <a:lnTo>
                    <a:pt x="82" y="524"/>
                  </a:lnTo>
                  <a:lnTo>
                    <a:pt x="78" y="532"/>
                  </a:lnTo>
                  <a:lnTo>
                    <a:pt x="74" y="540"/>
                  </a:lnTo>
                  <a:lnTo>
                    <a:pt x="70" y="549"/>
                  </a:lnTo>
                  <a:lnTo>
                    <a:pt x="66" y="555"/>
                  </a:lnTo>
                  <a:lnTo>
                    <a:pt x="63" y="564"/>
                  </a:lnTo>
                  <a:lnTo>
                    <a:pt x="59" y="572"/>
                  </a:lnTo>
                  <a:lnTo>
                    <a:pt x="57" y="580"/>
                  </a:lnTo>
                  <a:lnTo>
                    <a:pt x="55" y="587"/>
                  </a:lnTo>
                  <a:lnTo>
                    <a:pt x="51" y="597"/>
                  </a:lnTo>
                  <a:lnTo>
                    <a:pt x="47" y="602"/>
                  </a:lnTo>
                  <a:lnTo>
                    <a:pt x="44" y="610"/>
                  </a:lnTo>
                  <a:lnTo>
                    <a:pt x="42" y="618"/>
                  </a:lnTo>
                  <a:lnTo>
                    <a:pt x="40" y="623"/>
                  </a:lnTo>
                  <a:lnTo>
                    <a:pt x="34" y="637"/>
                  </a:lnTo>
                  <a:lnTo>
                    <a:pt x="30" y="650"/>
                  </a:lnTo>
                  <a:lnTo>
                    <a:pt x="26" y="661"/>
                  </a:lnTo>
                  <a:lnTo>
                    <a:pt x="23" y="673"/>
                  </a:lnTo>
                  <a:lnTo>
                    <a:pt x="21" y="682"/>
                  </a:lnTo>
                  <a:lnTo>
                    <a:pt x="17" y="694"/>
                  </a:lnTo>
                  <a:lnTo>
                    <a:pt x="13" y="701"/>
                  </a:lnTo>
                  <a:lnTo>
                    <a:pt x="13" y="711"/>
                  </a:lnTo>
                  <a:lnTo>
                    <a:pt x="9" y="716"/>
                  </a:lnTo>
                  <a:lnTo>
                    <a:pt x="9" y="724"/>
                  </a:lnTo>
                  <a:lnTo>
                    <a:pt x="9" y="730"/>
                  </a:lnTo>
                  <a:lnTo>
                    <a:pt x="9" y="733"/>
                  </a:lnTo>
                  <a:lnTo>
                    <a:pt x="9" y="73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13320" y="334800"/>
              <a:ext cx="592560" cy="492120"/>
            </a:xfrm>
            <a:custGeom>
              <a:avLst/>
              <a:gdLst/>
              <a:ahLst/>
              <a:rect l="l" t="t" r="r" b="b"/>
              <a:pathLst>
                <a:path w="1251" h="1038">
                  <a:moveTo>
                    <a:pt x="0" y="941"/>
                  </a:moveTo>
                  <a:lnTo>
                    <a:pt x="2" y="941"/>
                  </a:lnTo>
                  <a:lnTo>
                    <a:pt x="11" y="941"/>
                  </a:lnTo>
                  <a:lnTo>
                    <a:pt x="15" y="941"/>
                  </a:lnTo>
                  <a:lnTo>
                    <a:pt x="25" y="943"/>
                  </a:lnTo>
                  <a:lnTo>
                    <a:pt x="32" y="943"/>
                  </a:lnTo>
                  <a:lnTo>
                    <a:pt x="42" y="944"/>
                  </a:lnTo>
                  <a:lnTo>
                    <a:pt x="51" y="944"/>
                  </a:lnTo>
                  <a:lnTo>
                    <a:pt x="63" y="944"/>
                  </a:lnTo>
                  <a:lnTo>
                    <a:pt x="76" y="944"/>
                  </a:lnTo>
                  <a:lnTo>
                    <a:pt x="89" y="944"/>
                  </a:lnTo>
                  <a:lnTo>
                    <a:pt x="95" y="944"/>
                  </a:lnTo>
                  <a:lnTo>
                    <a:pt x="102" y="944"/>
                  </a:lnTo>
                  <a:lnTo>
                    <a:pt x="110" y="944"/>
                  </a:lnTo>
                  <a:lnTo>
                    <a:pt x="118" y="946"/>
                  </a:lnTo>
                  <a:lnTo>
                    <a:pt x="123" y="946"/>
                  </a:lnTo>
                  <a:lnTo>
                    <a:pt x="131" y="946"/>
                  </a:lnTo>
                  <a:lnTo>
                    <a:pt x="140" y="946"/>
                  </a:lnTo>
                  <a:lnTo>
                    <a:pt x="148" y="948"/>
                  </a:lnTo>
                  <a:lnTo>
                    <a:pt x="156" y="946"/>
                  </a:lnTo>
                  <a:lnTo>
                    <a:pt x="163" y="946"/>
                  </a:lnTo>
                  <a:lnTo>
                    <a:pt x="171" y="946"/>
                  </a:lnTo>
                  <a:lnTo>
                    <a:pt x="180" y="946"/>
                  </a:lnTo>
                  <a:lnTo>
                    <a:pt x="188" y="944"/>
                  </a:lnTo>
                  <a:lnTo>
                    <a:pt x="196" y="944"/>
                  </a:lnTo>
                  <a:lnTo>
                    <a:pt x="205" y="944"/>
                  </a:lnTo>
                  <a:lnTo>
                    <a:pt x="213" y="944"/>
                  </a:lnTo>
                  <a:lnTo>
                    <a:pt x="220" y="944"/>
                  </a:lnTo>
                  <a:lnTo>
                    <a:pt x="230" y="943"/>
                  </a:lnTo>
                  <a:lnTo>
                    <a:pt x="237" y="941"/>
                  </a:lnTo>
                  <a:lnTo>
                    <a:pt x="247" y="941"/>
                  </a:lnTo>
                  <a:lnTo>
                    <a:pt x="255" y="941"/>
                  </a:lnTo>
                  <a:lnTo>
                    <a:pt x="264" y="941"/>
                  </a:lnTo>
                  <a:lnTo>
                    <a:pt x="272" y="939"/>
                  </a:lnTo>
                  <a:lnTo>
                    <a:pt x="281" y="939"/>
                  </a:lnTo>
                  <a:lnTo>
                    <a:pt x="289" y="937"/>
                  </a:lnTo>
                  <a:lnTo>
                    <a:pt x="298" y="935"/>
                  </a:lnTo>
                  <a:lnTo>
                    <a:pt x="306" y="935"/>
                  </a:lnTo>
                  <a:lnTo>
                    <a:pt x="315" y="933"/>
                  </a:lnTo>
                  <a:lnTo>
                    <a:pt x="323" y="931"/>
                  </a:lnTo>
                  <a:lnTo>
                    <a:pt x="331" y="929"/>
                  </a:lnTo>
                  <a:lnTo>
                    <a:pt x="340" y="927"/>
                  </a:lnTo>
                  <a:lnTo>
                    <a:pt x="348" y="927"/>
                  </a:lnTo>
                  <a:lnTo>
                    <a:pt x="355" y="924"/>
                  </a:lnTo>
                  <a:lnTo>
                    <a:pt x="363" y="922"/>
                  </a:lnTo>
                  <a:lnTo>
                    <a:pt x="370" y="920"/>
                  </a:lnTo>
                  <a:lnTo>
                    <a:pt x="378" y="918"/>
                  </a:lnTo>
                  <a:lnTo>
                    <a:pt x="386" y="916"/>
                  </a:lnTo>
                  <a:lnTo>
                    <a:pt x="393" y="914"/>
                  </a:lnTo>
                  <a:lnTo>
                    <a:pt x="401" y="910"/>
                  </a:lnTo>
                  <a:lnTo>
                    <a:pt x="408" y="910"/>
                  </a:lnTo>
                  <a:lnTo>
                    <a:pt x="420" y="904"/>
                  </a:lnTo>
                  <a:lnTo>
                    <a:pt x="433" y="897"/>
                  </a:lnTo>
                  <a:lnTo>
                    <a:pt x="439" y="893"/>
                  </a:lnTo>
                  <a:lnTo>
                    <a:pt x="447" y="891"/>
                  </a:lnTo>
                  <a:lnTo>
                    <a:pt x="454" y="887"/>
                  </a:lnTo>
                  <a:lnTo>
                    <a:pt x="462" y="885"/>
                  </a:lnTo>
                  <a:lnTo>
                    <a:pt x="473" y="878"/>
                  </a:lnTo>
                  <a:lnTo>
                    <a:pt x="486" y="870"/>
                  </a:lnTo>
                  <a:lnTo>
                    <a:pt x="494" y="866"/>
                  </a:lnTo>
                  <a:lnTo>
                    <a:pt x="500" y="863"/>
                  </a:lnTo>
                  <a:lnTo>
                    <a:pt x="507" y="859"/>
                  </a:lnTo>
                  <a:lnTo>
                    <a:pt x="515" y="857"/>
                  </a:lnTo>
                  <a:lnTo>
                    <a:pt x="528" y="849"/>
                  </a:lnTo>
                  <a:lnTo>
                    <a:pt x="542" y="840"/>
                  </a:lnTo>
                  <a:lnTo>
                    <a:pt x="547" y="834"/>
                  </a:lnTo>
                  <a:lnTo>
                    <a:pt x="555" y="832"/>
                  </a:lnTo>
                  <a:lnTo>
                    <a:pt x="561" y="828"/>
                  </a:lnTo>
                  <a:lnTo>
                    <a:pt x="568" y="825"/>
                  </a:lnTo>
                  <a:lnTo>
                    <a:pt x="580" y="815"/>
                  </a:lnTo>
                  <a:lnTo>
                    <a:pt x="593" y="808"/>
                  </a:lnTo>
                  <a:lnTo>
                    <a:pt x="606" y="798"/>
                  </a:lnTo>
                  <a:lnTo>
                    <a:pt x="619" y="790"/>
                  </a:lnTo>
                  <a:lnTo>
                    <a:pt x="631" y="781"/>
                  </a:lnTo>
                  <a:lnTo>
                    <a:pt x="640" y="773"/>
                  </a:lnTo>
                  <a:lnTo>
                    <a:pt x="652" y="762"/>
                  </a:lnTo>
                  <a:lnTo>
                    <a:pt x="665" y="754"/>
                  </a:lnTo>
                  <a:lnTo>
                    <a:pt x="675" y="745"/>
                  </a:lnTo>
                  <a:lnTo>
                    <a:pt x="686" y="735"/>
                  </a:lnTo>
                  <a:lnTo>
                    <a:pt x="696" y="728"/>
                  </a:lnTo>
                  <a:lnTo>
                    <a:pt x="707" y="718"/>
                  </a:lnTo>
                  <a:lnTo>
                    <a:pt x="716" y="709"/>
                  </a:lnTo>
                  <a:lnTo>
                    <a:pt x="726" y="701"/>
                  </a:lnTo>
                  <a:lnTo>
                    <a:pt x="734" y="692"/>
                  </a:lnTo>
                  <a:lnTo>
                    <a:pt x="743" y="682"/>
                  </a:lnTo>
                  <a:lnTo>
                    <a:pt x="751" y="673"/>
                  </a:lnTo>
                  <a:lnTo>
                    <a:pt x="758" y="665"/>
                  </a:lnTo>
                  <a:lnTo>
                    <a:pt x="766" y="656"/>
                  </a:lnTo>
                  <a:lnTo>
                    <a:pt x="773" y="648"/>
                  </a:lnTo>
                  <a:lnTo>
                    <a:pt x="777" y="637"/>
                  </a:lnTo>
                  <a:lnTo>
                    <a:pt x="785" y="627"/>
                  </a:lnTo>
                  <a:lnTo>
                    <a:pt x="794" y="616"/>
                  </a:lnTo>
                  <a:lnTo>
                    <a:pt x="802" y="606"/>
                  </a:lnTo>
                  <a:lnTo>
                    <a:pt x="811" y="593"/>
                  </a:lnTo>
                  <a:lnTo>
                    <a:pt x="823" y="581"/>
                  </a:lnTo>
                  <a:lnTo>
                    <a:pt x="827" y="574"/>
                  </a:lnTo>
                  <a:lnTo>
                    <a:pt x="832" y="568"/>
                  </a:lnTo>
                  <a:lnTo>
                    <a:pt x="838" y="561"/>
                  </a:lnTo>
                  <a:lnTo>
                    <a:pt x="844" y="553"/>
                  </a:lnTo>
                  <a:lnTo>
                    <a:pt x="849" y="545"/>
                  </a:lnTo>
                  <a:lnTo>
                    <a:pt x="855" y="538"/>
                  </a:lnTo>
                  <a:lnTo>
                    <a:pt x="859" y="528"/>
                  </a:lnTo>
                  <a:lnTo>
                    <a:pt x="867" y="523"/>
                  </a:lnTo>
                  <a:lnTo>
                    <a:pt x="870" y="513"/>
                  </a:lnTo>
                  <a:lnTo>
                    <a:pt x="876" y="505"/>
                  </a:lnTo>
                  <a:lnTo>
                    <a:pt x="882" y="498"/>
                  </a:lnTo>
                  <a:lnTo>
                    <a:pt x="889" y="490"/>
                  </a:lnTo>
                  <a:lnTo>
                    <a:pt x="893" y="481"/>
                  </a:lnTo>
                  <a:lnTo>
                    <a:pt x="901" y="471"/>
                  </a:lnTo>
                  <a:lnTo>
                    <a:pt x="905" y="462"/>
                  </a:lnTo>
                  <a:lnTo>
                    <a:pt x="910" y="454"/>
                  </a:lnTo>
                  <a:lnTo>
                    <a:pt x="916" y="443"/>
                  </a:lnTo>
                  <a:lnTo>
                    <a:pt x="922" y="433"/>
                  </a:lnTo>
                  <a:lnTo>
                    <a:pt x="927" y="424"/>
                  </a:lnTo>
                  <a:lnTo>
                    <a:pt x="935" y="416"/>
                  </a:lnTo>
                  <a:lnTo>
                    <a:pt x="939" y="405"/>
                  </a:lnTo>
                  <a:lnTo>
                    <a:pt x="945" y="393"/>
                  </a:lnTo>
                  <a:lnTo>
                    <a:pt x="948" y="382"/>
                  </a:lnTo>
                  <a:lnTo>
                    <a:pt x="954" y="370"/>
                  </a:lnTo>
                  <a:lnTo>
                    <a:pt x="958" y="359"/>
                  </a:lnTo>
                  <a:lnTo>
                    <a:pt x="964" y="348"/>
                  </a:lnTo>
                  <a:lnTo>
                    <a:pt x="967" y="336"/>
                  </a:lnTo>
                  <a:lnTo>
                    <a:pt x="973" y="327"/>
                  </a:lnTo>
                  <a:lnTo>
                    <a:pt x="977" y="313"/>
                  </a:lnTo>
                  <a:lnTo>
                    <a:pt x="981" y="302"/>
                  </a:lnTo>
                  <a:lnTo>
                    <a:pt x="984" y="289"/>
                  </a:lnTo>
                  <a:lnTo>
                    <a:pt x="990" y="279"/>
                  </a:lnTo>
                  <a:lnTo>
                    <a:pt x="992" y="264"/>
                  </a:lnTo>
                  <a:lnTo>
                    <a:pt x="996" y="253"/>
                  </a:lnTo>
                  <a:lnTo>
                    <a:pt x="1000" y="239"/>
                  </a:lnTo>
                  <a:lnTo>
                    <a:pt x="1003" y="228"/>
                  </a:lnTo>
                  <a:lnTo>
                    <a:pt x="1003" y="213"/>
                  </a:lnTo>
                  <a:lnTo>
                    <a:pt x="1007" y="199"/>
                  </a:lnTo>
                  <a:lnTo>
                    <a:pt x="1009" y="186"/>
                  </a:lnTo>
                  <a:lnTo>
                    <a:pt x="1011" y="173"/>
                  </a:lnTo>
                  <a:lnTo>
                    <a:pt x="1013" y="158"/>
                  </a:lnTo>
                  <a:lnTo>
                    <a:pt x="1015" y="144"/>
                  </a:lnTo>
                  <a:lnTo>
                    <a:pt x="1017" y="129"/>
                  </a:lnTo>
                  <a:lnTo>
                    <a:pt x="1017" y="116"/>
                  </a:lnTo>
                  <a:lnTo>
                    <a:pt x="1017" y="101"/>
                  </a:lnTo>
                  <a:lnTo>
                    <a:pt x="1017" y="85"/>
                  </a:lnTo>
                  <a:lnTo>
                    <a:pt x="1017" y="68"/>
                  </a:lnTo>
                  <a:lnTo>
                    <a:pt x="1017" y="55"/>
                  </a:lnTo>
                  <a:lnTo>
                    <a:pt x="1017" y="38"/>
                  </a:lnTo>
                  <a:lnTo>
                    <a:pt x="1019" y="0"/>
                  </a:lnTo>
                  <a:lnTo>
                    <a:pt x="1021" y="4"/>
                  </a:lnTo>
                  <a:lnTo>
                    <a:pt x="1024" y="7"/>
                  </a:lnTo>
                  <a:lnTo>
                    <a:pt x="1030" y="13"/>
                  </a:lnTo>
                  <a:lnTo>
                    <a:pt x="1034" y="23"/>
                  </a:lnTo>
                  <a:lnTo>
                    <a:pt x="1038" y="30"/>
                  </a:lnTo>
                  <a:lnTo>
                    <a:pt x="1045" y="40"/>
                  </a:lnTo>
                  <a:lnTo>
                    <a:pt x="1049" y="49"/>
                  </a:lnTo>
                  <a:lnTo>
                    <a:pt x="1057" y="61"/>
                  </a:lnTo>
                  <a:lnTo>
                    <a:pt x="1062" y="72"/>
                  </a:lnTo>
                  <a:lnTo>
                    <a:pt x="1068" y="85"/>
                  </a:lnTo>
                  <a:lnTo>
                    <a:pt x="1072" y="91"/>
                  </a:lnTo>
                  <a:lnTo>
                    <a:pt x="1076" y="99"/>
                  </a:lnTo>
                  <a:lnTo>
                    <a:pt x="1079" y="106"/>
                  </a:lnTo>
                  <a:lnTo>
                    <a:pt x="1083" y="114"/>
                  </a:lnTo>
                  <a:lnTo>
                    <a:pt x="1085" y="122"/>
                  </a:lnTo>
                  <a:lnTo>
                    <a:pt x="1089" y="129"/>
                  </a:lnTo>
                  <a:lnTo>
                    <a:pt x="1093" y="137"/>
                  </a:lnTo>
                  <a:lnTo>
                    <a:pt x="1097" y="144"/>
                  </a:lnTo>
                  <a:lnTo>
                    <a:pt x="1098" y="152"/>
                  </a:lnTo>
                  <a:lnTo>
                    <a:pt x="1102" y="161"/>
                  </a:lnTo>
                  <a:lnTo>
                    <a:pt x="1106" y="171"/>
                  </a:lnTo>
                  <a:lnTo>
                    <a:pt x="1110" y="180"/>
                  </a:lnTo>
                  <a:lnTo>
                    <a:pt x="1112" y="190"/>
                  </a:lnTo>
                  <a:lnTo>
                    <a:pt x="1116" y="199"/>
                  </a:lnTo>
                  <a:lnTo>
                    <a:pt x="1118" y="207"/>
                  </a:lnTo>
                  <a:lnTo>
                    <a:pt x="1121" y="218"/>
                  </a:lnTo>
                  <a:lnTo>
                    <a:pt x="1123" y="228"/>
                  </a:lnTo>
                  <a:lnTo>
                    <a:pt x="1127" y="239"/>
                  </a:lnTo>
                  <a:lnTo>
                    <a:pt x="1131" y="251"/>
                  </a:lnTo>
                  <a:lnTo>
                    <a:pt x="1133" y="262"/>
                  </a:lnTo>
                  <a:lnTo>
                    <a:pt x="1135" y="272"/>
                  </a:lnTo>
                  <a:lnTo>
                    <a:pt x="1138" y="281"/>
                  </a:lnTo>
                  <a:lnTo>
                    <a:pt x="1140" y="293"/>
                  </a:lnTo>
                  <a:lnTo>
                    <a:pt x="1144" y="306"/>
                  </a:lnTo>
                  <a:lnTo>
                    <a:pt x="1144" y="317"/>
                  </a:lnTo>
                  <a:lnTo>
                    <a:pt x="1148" y="327"/>
                  </a:lnTo>
                  <a:lnTo>
                    <a:pt x="1150" y="340"/>
                  </a:lnTo>
                  <a:lnTo>
                    <a:pt x="1152" y="353"/>
                  </a:lnTo>
                  <a:lnTo>
                    <a:pt x="1154" y="365"/>
                  </a:lnTo>
                  <a:lnTo>
                    <a:pt x="1156" y="376"/>
                  </a:lnTo>
                  <a:lnTo>
                    <a:pt x="1157" y="388"/>
                  </a:lnTo>
                  <a:lnTo>
                    <a:pt x="1159" y="403"/>
                  </a:lnTo>
                  <a:lnTo>
                    <a:pt x="1159" y="416"/>
                  </a:lnTo>
                  <a:lnTo>
                    <a:pt x="1161" y="429"/>
                  </a:lnTo>
                  <a:lnTo>
                    <a:pt x="1161" y="443"/>
                  </a:lnTo>
                  <a:lnTo>
                    <a:pt x="1165" y="458"/>
                  </a:lnTo>
                  <a:lnTo>
                    <a:pt x="1175" y="616"/>
                  </a:lnTo>
                  <a:lnTo>
                    <a:pt x="1176" y="619"/>
                  </a:lnTo>
                  <a:lnTo>
                    <a:pt x="1180" y="623"/>
                  </a:lnTo>
                  <a:lnTo>
                    <a:pt x="1188" y="631"/>
                  </a:lnTo>
                  <a:lnTo>
                    <a:pt x="1192" y="638"/>
                  </a:lnTo>
                  <a:lnTo>
                    <a:pt x="1199" y="648"/>
                  </a:lnTo>
                  <a:lnTo>
                    <a:pt x="1207" y="657"/>
                  </a:lnTo>
                  <a:lnTo>
                    <a:pt x="1216" y="671"/>
                  </a:lnTo>
                  <a:lnTo>
                    <a:pt x="1218" y="676"/>
                  </a:lnTo>
                  <a:lnTo>
                    <a:pt x="1222" y="682"/>
                  </a:lnTo>
                  <a:lnTo>
                    <a:pt x="1226" y="690"/>
                  </a:lnTo>
                  <a:lnTo>
                    <a:pt x="1230" y="697"/>
                  </a:lnTo>
                  <a:lnTo>
                    <a:pt x="1232" y="705"/>
                  </a:lnTo>
                  <a:lnTo>
                    <a:pt x="1235" y="711"/>
                  </a:lnTo>
                  <a:lnTo>
                    <a:pt x="1239" y="718"/>
                  </a:lnTo>
                  <a:lnTo>
                    <a:pt x="1243" y="728"/>
                  </a:lnTo>
                  <a:lnTo>
                    <a:pt x="1243" y="735"/>
                  </a:lnTo>
                  <a:lnTo>
                    <a:pt x="1245" y="741"/>
                  </a:lnTo>
                  <a:lnTo>
                    <a:pt x="1247" y="751"/>
                  </a:lnTo>
                  <a:lnTo>
                    <a:pt x="1249" y="758"/>
                  </a:lnTo>
                  <a:lnTo>
                    <a:pt x="1249" y="766"/>
                  </a:lnTo>
                  <a:lnTo>
                    <a:pt x="1251" y="777"/>
                  </a:lnTo>
                  <a:lnTo>
                    <a:pt x="1251" y="783"/>
                  </a:lnTo>
                  <a:lnTo>
                    <a:pt x="1251" y="794"/>
                  </a:lnTo>
                  <a:lnTo>
                    <a:pt x="1247" y="800"/>
                  </a:lnTo>
                  <a:lnTo>
                    <a:pt x="1245" y="808"/>
                  </a:lnTo>
                  <a:lnTo>
                    <a:pt x="1243" y="815"/>
                  </a:lnTo>
                  <a:lnTo>
                    <a:pt x="1239" y="825"/>
                  </a:lnTo>
                  <a:lnTo>
                    <a:pt x="1235" y="830"/>
                  </a:lnTo>
                  <a:lnTo>
                    <a:pt x="1233" y="838"/>
                  </a:lnTo>
                  <a:lnTo>
                    <a:pt x="1228" y="846"/>
                  </a:lnTo>
                  <a:lnTo>
                    <a:pt x="1224" y="851"/>
                  </a:lnTo>
                  <a:lnTo>
                    <a:pt x="1218" y="857"/>
                  </a:lnTo>
                  <a:lnTo>
                    <a:pt x="1213" y="863"/>
                  </a:lnTo>
                  <a:lnTo>
                    <a:pt x="1205" y="868"/>
                  </a:lnTo>
                  <a:lnTo>
                    <a:pt x="1199" y="876"/>
                  </a:lnTo>
                  <a:lnTo>
                    <a:pt x="1190" y="880"/>
                  </a:lnTo>
                  <a:lnTo>
                    <a:pt x="1182" y="885"/>
                  </a:lnTo>
                  <a:lnTo>
                    <a:pt x="1175" y="889"/>
                  </a:lnTo>
                  <a:lnTo>
                    <a:pt x="1165" y="897"/>
                  </a:lnTo>
                  <a:lnTo>
                    <a:pt x="1154" y="901"/>
                  </a:lnTo>
                  <a:lnTo>
                    <a:pt x="1144" y="904"/>
                  </a:lnTo>
                  <a:lnTo>
                    <a:pt x="1133" y="906"/>
                  </a:lnTo>
                  <a:lnTo>
                    <a:pt x="1121" y="912"/>
                  </a:lnTo>
                  <a:lnTo>
                    <a:pt x="1108" y="914"/>
                  </a:lnTo>
                  <a:lnTo>
                    <a:pt x="1097" y="918"/>
                  </a:lnTo>
                  <a:lnTo>
                    <a:pt x="1089" y="920"/>
                  </a:lnTo>
                  <a:lnTo>
                    <a:pt x="1081" y="922"/>
                  </a:lnTo>
                  <a:lnTo>
                    <a:pt x="1076" y="924"/>
                  </a:lnTo>
                  <a:lnTo>
                    <a:pt x="1068" y="925"/>
                  </a:lnTo>
                  <a:lnTo>
                    <a:pt x="1060" y="925"/>
                  </a:lnTo>
                  <a:lnTo>
                    <a:pt x="1053" y="927"/>
                  </a:lnTo>
                  <a:lnTo>
                    <a:pt x="1045" y="927"/>
                  </a:lnTo>
                  <a:lnTo>
                    <a:pt x="1038" y="929"/>
                  </a:lnTo>
                  <a:lnTo>
                    <a:pt x="1030" y="931"/>
                  </a:lnTo>
                  <a:lnTo>
                    <a:pt x="1022" y="931"/>
                  </a:lnTo>
                  <a:lnTo>
                    <a:pt x="1013" y="933"/>
                  </a:lnTo>
                  <a:lnTo>
                    <a:pt x="1007" y="935"/>
                  </a:lnTo>
                  <a:lnTo>
                    <a:pt x="996" y="935"/>
                  </a:lnTo>
                  <a:lnTo>
                    <a:pt x="988" y="935"/>
                  </a:lnTo>
                  <a:lnTo>
                    <a:pt x="979" y="937"/>
                  </a:lnTo>
                  <a:lnTo>
                    <a:pt x="971" y="939"/>
                  </a:lnTo>
                  <a:lnTo>
                    <a:pt x="962" y="939"/>
                  </a:lnTo>
                  <a:lnTo>
                    <a:pt x="952" y="939"/>
                  </a:lnTo>
                  <a:lnTo>
                    <a:pt x="943" y="941"/>
                  </a:lnTo>
                  <a:lnTo>
                    <a:pt x="935" y="941"/>
                  </a:lnTo>
                  <a:lnTo>
                    <a:pt x="931" y="941"/>
                  </a:lnTo>
                  <a:lnTo>
                    <a:pt x="927" y="944"/>
                  </a:lnTo>
                  <a:lnTo>
                    <a:pt x="920" y="948"/>
                  </a:lnTo>
                  <a:lnTo>
                    <a:pt x="910" y="954"/>
                  </a:lnTo>
                  <a:lnTo>
                    <a:pt x="905" y="956"/>
                  </a:lnTo>
                  <a:lnTo>
                    <a:pt x="897" y="960"/>
                  </a:lnTo>
                  <a:lnTo>
                    <a:pt x="889" y="963"/>
                  </a:lnTo>
                  <a:lnTo>
                    <a:pt x="882" y="967"/>
                  </a:lnTo>
                  <a:lnTo>
                    <a:pt x="872" y="971"/>
                  </a:lnTo>
                  <a:lnTo>
                    <a:pt x="863" y="975"/>
                  </a:lnTo>
                  <a:lnTo>
                    <a:pt x="853" y="981"/>
                  </a:lnTo>
                  <a:lnTo>
                    <a:pt x="842" y="986"/>
                  </a:lnTo>
                  <a:lnTo>
                    <a:pt x="829" y="990"/>
                  </a:lnTo>
                  <a:lnTo>
                    <a:pt x="817" y="992"/>
                  </a:lnTo>
                  <a:lnTo>
                    <a:pt x="804" y="996"/>
                  </a:lnTo>
                  <a:lnTo>
                    <a:pt x="791" y="1001"/>
                  </a:lnTo>
                  <a:lnTo>
                    <a:pt x="785" y="1003"/>
                  </a:lnTo>
                  <a:lnTo>
                    <a:pt x="777" y="1005"/>
                  </a:lnTo>
                  <a:lnTo>
                    <a:pt x="770" y="1007"/>
                  </a:lnTo>
                  <a:lnTo>
                    <a:pt x="762" y="1009"/>
                  </a:lnTo>
                  <a:lnTo>
                    <a:pt x="754" y="1009"/>
                  </a:lnTo>
                  <a:lnTo>
                    <a:pt x="747" y="1013"/>
                  </a:lnTo>
                  <a:lnTo>
                    <a:pt x="737" y="1015"/>
                  </a:lnTo>
                  <a:lnTo>
                    <a:pt x="730" y="1017"/>
                  </a:lnTo>
                  <a:lnTo>
                    <a:pt x="720" y="1017"/>
                  </a:lnTo>
                  <a:lnTo>
                    <a:pt x="713" y="1020"/>
                  </a:lnTo>
                  <a:lnTo>
                    <a:pt x="703" y="1020"/>
                  </a:lnTo>
                  <a:lnTo>
                    <a:pt x="696" y="1022"/>
                  </a:lnTo>
                  <a:lnTo>
                    <a:pt x="684" y="1024"/>
                  </a:lnTo>
                  <a:lnTo>
                    <a:pt x="677" y="1024"/>
                  </a:lnTo>
                  <a:lnTo>
                    <a:pt x="667" y="1026"/>
                  </a:lnTo>
                  <a:lnTo>
                    <a:pt x="658" y="1028"/>
                  </a:lnTo>
                  <a:lnTo>
                    <a:pt x="648" y="1028"/>
                  </a:lnTo>
                  <a:lnTo>
                    <a:pt x="637" y="1030"/>
                  </a:lnTo>
                  <a:lnTo>
                    <a:pt x="627" y="1030"/>
                  </a:lnTo>
                  <a:lnTo>
                    <a:pt x="618" y="1032"/>
                  </a:lnTo>
                  <a:lnTo>
                    <a:pt x="606" y="1032"/>
                  </a:lnTo>
                  <a:lnTo>
                    <a:pt x="597" y="1034"/>
                  </a:lnTo>
                  <a:lnTo>
                    <a:pt x="585" y="1034"/>
                  </a:lnTo>
                  <a:lnTo>
                    <a:pt x="576" y="1036"/>
                  </a:lnTo>
                  <a:lnTo>
                    <a:pt x="562" y="1036"/>
                  </a:lnTo>
                  <a:lnTo>
                    <a:pt x="551" y="1036"/>
                  </a:lnTo>
                  <a:lnTo>
                    <a:pt x="542" y="1036"/>
                  </a:lnTo>
                  <a:lnTo>
                    <a:pt x="530" y="1036"/>
                  </a:lnTo>
                  <a:lnTo>
                    <a:pt x="519" y="1036"/>
                  </a:lnTo>
                  <a:lnTo>
                    <a:pt x="507" y="1036"/>
                  </a:lnTo>
                  <a:lnTo>
                    <a:pt x="496" y="1036"/>
                  </a:lnTo>
                  <a:lnTo>
                    <a:pt x="486" y="1038"/>
                  </a:lnTo>
                  <a:lnTo>
                    <a:pt x="477" y="1036"/>
                  </a:lnTo>
                  <a:lnTo>
                    <a:pt x="466" y="1036"/>
                  </a:lnTo>
                  <a:lnTo>
                    <a:pt x="454" y="1036"/>
                  </a:lnTo>
                  <a:lnTo>
                    <a:pt x="445" y="1036"/>
                  </a:lnTo>
                  <a:lnTo>
                    <a:pt x="433" y="1034"/>
                  </a:lnTo>
                  <a:lnTo>
                    <a:pt x="424" y="1034"/>
                  </a:lnTo>
                  <a:lnTo>
                    <a:pt x="414" y="1034"/>
                  </a:lnTo>
                  <a:lnTo>
                    <a:pt x="405" y="1034"/>
                  </a:lnTo>
                  <a:lnTo>
                    <a:pt x="393" y="1034"/>
                  </a:lnTo>
                  <a:lnTo>
                    <a:pt x="384" y="1032"/>
                  </a:lnTo>
                  <a:lnTo>
                    <a:pt x="374" y="1032"/>
                  </a:lnTo>
                  <a:lnTo>
                    <a:pt x="365" y="1032"/>
                  </a:lnTo>
                  <a:lnTo>
                    <a:pt x="355" y="1030"/>
                  </a:lnTo>
                  <a:lnTo>
                    <a:pt x="346" y="1030"/>
                  </a:lnTo>
                  <a:lnTo>
                    <a:pt x="336" y="1030"/>
                  </a:lnTo>
                  <a:lnTo>
                    <a:pt x="329" y="1030"/>
                  </a:lnTo>
                  <a:lnTo>
                    <a:pt x="319" y="1028"/>
                  </a:lnTo>
                  <a:lnTo>
                    <a:pt x="310" y="1028"/>
                  </a:lnTo>
                  <a:lnTo>
                    <a:pt x="302" y="1028"/>
                  </a:lnTo>
                  <a:lnTo>
                    <a:pt x="294" y="1028"/>
                  </a:lnTo>
                  <a:lnTo>
                    <a:pt x="285" y="1026"/>
                  </a:lnTo>
                  <a:lnTo>
                    <a:pt x="277" y="1024"/>
                  </a:lnTo>
                  <a:lnTo>
                    <a:pt x="272" y="1024"/>
                  </a:lnTo>
                  <a:lnTo>
                    <a:pt x="264" y="1024"/>
                  </a:lnTo>
                  <a:lnTo>
                    <a:pt x="255" y="1024"/>
                  </a:lnTo>
                  <a:lnTo>
                    <a:pt x="247" y="1022"/>
                  </a:lnTo>
                  <a:lnTo>
                    <a:pt x="241" y="1020"/>
                  </a:lnTo>
                  <a:lnTo>
                    <a:pt x="234" y="1020"/>
                  </a:lnTo>
                  <a:lnTo>
                    <a:pt x="226" y="1020"/>
                  </a:lnTo>
                  <a:lnTo>
                    <a:pt x="220" y="1019"/>
                  </a:lnTo>
                  <a:lnTo>
                    <a:pt x="213" y="1017"/>
                  </a:lnTo>
                  <a:lnTo>
                    <a:pt x="209" y="1017"/>
                  </a:lnTo>
                  <a:lnTo>
                    <a:pt x="196" y="1015"/>
                  </a:lnTo>
                  <a:lnTo>
                    <a:pt x="186" y="1015"/>
                  </a:lnTo>
                  <a:lnTo>
                    <a:pt x="175" y="1013"/>
                  </a:lnTo>
                  <a:lnTo>
                    <a:pt x="167" y="1013"/>
                  </a:lnTo>
                  <a:lnTo>
                    <a:pt x="158" y="1009"/>
                  </a:lnTo>
                  <a:lnTo>
                    <a:pt x="152" y="1009"/>
                  </a:lnTo>
                  <a:lnTo>
                    <a:pt x="144" y="1007"/>
                  </a:lnTo>
                  <a:lnTo>
                    <a:pt x="140" y="1007"/>
                  </a:lnTo>
                  <a:lnTo>
                    <a:pt x="135" y="1007"/>
                  </a:lnTo>
                  <a:lnTo>
                    <a:pt x="133" y="1007"/>
                  </a:lnTo>
                  <a:lnTo>
                    <a:pt x="0" y="941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255360" y="723600"/>
              <a:ext cx="559440" cy="117360"/>
            </a:xfrm>
            <a:custGeom>
              <a:avLst/>
              <a:gdLst/>
              <a:ahLst/>
              <a:rect l="l" t="t" r="r" b="b"/>
              <a:pathLst>
                <a:path w="1181" h="247">
                  <a:moveTo>
                    <a:pt x="0" y="103"/>
                  </a:moveTo>
                  <a:lnTo>
                    <a:pt x="2" y="103"/>
                  </a:lnTo>
                  <a:lnTo>
                    <a:pt x="8" y="106"/>
                  </a:lnTo>
                  <a:lnTo>
                    <a:pt x="12" y="110"/>
                  </a:lnTo>
                  <a:lnTo>
                    <a:pt x="17" y="114"/>
                  </a:lnTo>
                  <a:lnTo>
                    <a:pt x="23" y="118"/>
                  </a:lnTo>
                  <a:lnTo>
                    <a:pt x="32" y="123"/>
                  </a:lnTo>
                  <a:lnTo>
                    <a:pt x="40" y="127"/>
                  </a:lnTo>
                  <a:lnTo>
                    <a:pt x="51" y="133"/>
                  </a:lnTo>
                  <a:lnTo>
                    <a:pt x="61" y="137"/>
                  </a:lnTo>
                  <a:lnTo>
                    <a:pt x="74" y="144"/>
                  </a:lnTo>
                  <a:lnTo>
                    <a:pt x="80" y="146"/>
                  </a:lnTo>
                  <a:lnTo>
                    <a:pt x="86" y="150"/>
                  </a:lnTo>
                  <a:lnTo>
                    <a:pt x="93" y="152"/>
                  </a:lnTo>
                  <a:lnTo>
                    <a:pt x="101" y="156"/>
                  </a:lnTo>
                  <a:lnTo>
                    <a:pt x="109" y="158"/>
                  </a:lnTo>
                  <a:lnTo>
                    <a:pt x="116" y="161"/>
                  </a:lnTo>
                  <a:lnTo>
                    <a:pt x="124" y="165"/>
                  </a:lnTo>
                  <a:lnTo>
                    <a:pt x="133" y="169"/>
                  </a:lnTo>
                  <a:lnTo>
                    <a:pt x="141" y="171"/>
                  </a:lnTo>
                  <a:lnTo>
                    <a:pt x="150" y="175"/>
                  </a:lnTo>
                  <a:lnTo>
                    <a:pt x="158" y="179"/>
                  </a:lnTo>
                  <a:lnTo>
                    <a:pt x="169" y="182"/>
                  </a:lnTo>
                  <a:lnTo>
                    <a:pt x="177" y="184"/>
                  </a:lnTo>
                  <a:lnTo>
                    <a:pt x="188" y="188"/>
                  </a:lnTo>
                  <a:lnTo>
                    <a:pt x="198" y="192"/>
                  </a:lnTo>
                  <a:lnTo>
                    <a:pt x="209" y="196"/>
                  </a:lnTo>
                  <a:lnTo>
                    <a:pt x="219" y="198"/>
                  </a:lnTo>
                  <a:lnTo>
                    <a:pt x="230" y="201"/>
                  </a:lnTo>
                  <a:lnTo>
                    <a:pt x="242" y="203"/>
                  </a:lnTo>
                  <a:lnTo>
                    <a:pt x="253" y="207"/>
                  </a:lnTo>
                  <a:lnTo>
                    <a:pt x="264" y="209"/>
                  </a:lnTo>
                  <a:lnTo>
                    <a:pt x="278" y="213"/>
                  </a:lnTo>
                  <a:lnTo>
                    <a:pt x="291" y="217"/>
                  </a:lnTo>
                  <a:lnTo>
                    <a:pt x="304" y="220"/>
                  </a:lnTo>
                  <a:lnTo>
                    <a:pt x="318" y="220"/>
                  </a:lnTo>
                  <a:lnTo>
                    <a:pt x="331" y="224"/>
                  </a:lnTo>
                  <a:lnTo>
                    <a:pt x="344" y="226"/>
                  </a:lnTo>
                  <a:lnTo>
                    <a:pt x="359" y="228"/>
                  </a:lnTo>
                  <a:lnTo>
                    <a:pt x="373" y="230"/>
                  </a:lnTo>
                  <a:lnTo>
                    <a:pt x="386" y="232"/>
                  </a:lnTo>
                  <a:lnTo>
                    <a:pt x="403" y="234"/>
                  </a:lnTo>
                  <a:lnTo>
                    <a:pt x="418" y="237"/>
                  </a:lnTo>
                  <a:lnTo>
                    <a:pt x="434" y="237"/>
                  </a:lnTo>
                  <a:lnTo>
                    <a:pt x="449" y="239"/>
                  </a:lnTo>
                  <a:lnTo>
                    <a:pt x="466" y="241"/>
                  </a:lnTo>
                  <a:lnTo>
                    <a:pt x="483" y="243"/>
                  </a:lnTo>
                  <a:lnTo>
                    <a:pt x="498" y="243"/>
                  </a:lnTo>
                  <a:lnTo>
                    <a:pt x="515" y="245"/>
                  </a:lnTo>
                  <a:lnTo>
                    <a:pt x="534" y="245"/>
                  </a:lnTo>
                  <a:lnTo>
                    <a:pt x="553" y="247"/>
                  </a:lnTo>
                  <a:lnTo>
                    <a:pt x="570" y="247"/>
                  </a:lnTo>
                  <a:lnTo>
                    <a:pt x="588" y="247"/>
                  </a:lnTo>
                  <a:lnTo>
                    <a:pt x="605" y="247"/>
                  </a:lnTo>
                  <a:lnTo>
                    <a:pt x="624" y="247"/>
                  </a:lnTo>
                  <a:lnTo>
                    <a:pt x="639" y="247"/>
                  </a:lnTo>
                  <a:lnTo>
                    <a:pt x="656" y="247"/>
                  </a:lnTo>
                  <a:lnTo>
                    <a:pt x="673" y="247"/>
                  </a:lnTo>
                  <a:lnTo>
                    <a:pt x="690" y="247"/>
                  </a:lnTo>
                  <a:lnTo>
                    <a:pt x="703" y="243"/>
                  </a:lnTo>
                  <a:lnTo>
                    <a:pt x="721" y="243"/>
                  </a:lnTo>
                  <a:lnTo>
                    <a:pt x="736" y="241"/>
                  </a:lnTo>
                  <a:lnTo>
                    <a:pt x="749" y="241"/>
                  </a:lnTo>
                  <a:lnTo>
                    <a:pt x="762" y="239"/>
                  </a:lnTo>
                  <a:lnTo>
                    <a:pt x="778" y="237"/>
                  </a:lnTo>
                  <a:lnTo>
                    <a:pt x="791" y="237"/>
                  </a:lnTo>
                  <a:lnTo>
                    <a:pt x="806" y="236"/>
                  </a:lnTo>
                  <a:lnTo>
                    <a:pt x="818" y="234"/>
                  </a:lnTo>
                  <a:lnTo>
                    <a:pt x="831" y="230"/>
                  </a:lnTo>
                  <a:lnTo>
                    <a:pt x="842" y="228"/>
                  </a:lnTo>
                  <a:lnTo>
                    <a:pt x="856" y="226"/>
                  </a:lnTo>
                  <a:lnTo>
                    <a:pt x="867" y="224"/>
                  </a:lnTo>
                  <a:lnTo>
                    <a:pt x="878" y="220"/>
                  </a:lnTo>
                  <a:lnTo>
                    <a:pt x="890" y="218"/>
                  </a:lnTo>
                  <a:lnTo>
                    <a:pt x="903" y="217"/>
                  </a:lnTo>
                  <a:lnTo>
                    <a:pt x="913" y="213"/>
                  </a:lnTo>
                  <a:lnTo>
                    <a:pt x="924" y="209"/>
                  </a:lnTo>
                  <a:lnTo>
                    <a:pt x="933" y="207"/>
                  </a:lnTo>
                  <a:lnTo>
                    <a:pt x="945" y="203"/>
                  </a:lnTo>
                  <a:lnTo>
                    <a:pt x="954" y="199"/>
                  </a:lnTo>
                  <a:lnTo>
                    <a:pt x="964" y="196"/>
                  </a:lnTo>
                  <a:lnTo>
                    <a:pt x="973" y="192"/>
                  </a:lnTo>
                  <a:lnTo>
                    <a:pt x="983" y="190"/>
                  </a:lnTo>
                  <a:lnTo>
                    <a:pt x="990" y="186"/>
                  </a:lnTo>
                  <a:lnTo>
                    <a:pt x="998" y="182"/>
                  </a:lnTo>
                  <a:lnTo>
                    <a:pt x="1008" y="177"/>
                  </a:lnTo>
                  <a:lnTo>
                    <a:pt x="1015" y="173"/>
                  </a:lnTo>
                  <a:lnTo>
                    <a:pt x="1023" y="169"/>
                  </a:lnTo>
                  <a:lnTo>
                    <a:pt x="1032" y="165"/>
                  </a:lnTo>
                  <a:lnTo>
                    <a:pt x="1040" y="160"/>
                  </a:lnTo>
                  <a:lnTo>
                    <a:pt x="1048" y="156"/>
                  </a:lnTo>
                  <a:lnTo>
                    <a:pt x="1053" y="150"/>
                  </a:lnTo>
                  <a:lnTo>
                    <a:pt x="1061" y="146"/>
                  </a:lnTo>
                  <a:lnTo>
                    <a:pt x="1068" y="141"/>
                  </a:lnTo>
                  <a:lnTo>
                    <a:pt x="1076" y="137"/>
                  </a:lnTo>
                  <a:lnTo>
                    <a:pt x="1087" y="127"/>
                  </a:lnTo>
                  <a:lnTo>
                    <a:pt x="1101" y="118"/>
                  </a:lnTo>
                  <a:lnTo>
                    <a:pt x="1112" y="106"/>
                  </a:lnTo>
                  <a:lnTo>
                    <a:pt x="1124" y="95"/>
                  </a:lnTo>
                  <a:lnTo>
                    <a:pt x="1133" y="83"/>
                  </a:lnTo>
                  <a:lnTo>
                    <a:pt x="1144" y="74"/>
                  </a:lnTo>
                  <a:lnTo>
                    <a:pt x="1152" y="63"/>
                  </a:lnTo>
                  <a:lnTo>
                    <a:pt x="1163" y="51"/>
                  </a:lnTo>
                  <a:lnTo>
                    <a:pt x="1171" y="38"/>
                  </a:lnTo>
                  <a:lnTo>
                    <a:pt x="1181" y="28"/>
                  </a:lnTo>
                  <a:lnTo>
                    <a:pt x="1139" y="0"/>
                  </a:lnTo>
                  <a:lnTo>
                    <a:pt x="1137" y="0"/>
                  </a:lnTo>
                  <a:lnTo>
                    <a:pt x="1135" y="6"/>
                  </a:lnTo>
                  <a:lnTo>
                    <a:pt x="1129" y="11"/>
                  </a:lnTo>
                  <a:lnTo>
                    <a:pt x="1125" y="21"/>
                  </a:lnTo>
                  <a:lnTo>
                    <a:pt x="1116" y="28"/>
                  </a:lnTo>
                  <a:lnTo>
                    <a:pt x="1105" y="42"/>
                  </a:lnTo>
                  <a:lnTo>
                    <a:pt x="1099" y="45"/>
                  </a:lnTo>
                  <a:lnTo>
                    <a:pt x="1093" y="51"/>
                  </a:lnTo>
                  <a:lnTo>
                    <a:pt x="1086" y="59"/>
                  </a:lnTo>
                  <a:lnTo>
                    <a:pt x="1080" y="66"/>
                  </a:lnTo>
                  <a:lnTo>
                    <a:pt x="1070" y="72"/>
                  </a:lnTo>
                  <a:lnTo>
                    <a:pt x="1061" y="80"/>
                  </a:lnTo>
                  <a:lnTo>
                    <a:pt x="1051" y="85"/>
                  </a:lnTo>
                  <a:lnTo>
                    <a:pt x="1042" y="93"/>
                  </a:lnTo>
                  <a:lnTo>
                    <a:pt x="1030" y="101"/>
                  </a:lnTo>
                  <a:lnTo>
                    <a:pt x="1019" y="106"/>
                  </a:lnTo>
                  <a:lnTo>
                    <a:pt x="1006" y="114"/>
                  </a:lnTo>
                  <a:lnTo>
                    <a:pt x="992" y="122"/>
                  </a:lnTo>
                  <a:lnTo>
                    <a:pt x="985" y="123"/>
                  </a:lnTo>
                  <a:lnTo>
                    <a:pt x="979" y="127"/>
                  </a:lnTo>
                  <a:lnTo>
                    <a:pt x="971" y="131"/>
                  </a:lnTo>
                  <a:lnTo>
                    <a:pt x="964" y="135"/>
                  </a:lnTo>
                  <a:lnTo>
                    <a:pt x="954" y="137"/>
                  </a:lnTo>
                  <a:lnTo>
                    <a:pt x="947" y="141"/>
                  </a:lnTo>
                  <a:lnTo>
                    <a:pt x="937" y="142"/>
                  </a:lnTo>
                  <a:lnTo>
                    <a:pt x="930" y="146"/>
                  </a:lnTo>
                  <a:lnTo>
                    <a:pt x="920" y="148"/>
                  </a:lnTo>
                  <a:lnTo>
                    <a:pt x="913" y="152"/>
                  </a:lnTo>
                  <a:lnTo>
                    <a:pt x="903" y="154"/>
                  </a:lnTo>
                  <a:lnTo>
                    <a:pt x="895" y="158"/>
                  </a:lnTo>
                  <a:lnTo>
                    <a:pt x="884" y="160"/>
                  </a:lnTo>
                  <a:lnTo>
                    <a:pt x="876" y="161"/>
                  </a:lnTo>
                  <a:lnTo>
                    <a:pt x="865" y="165"/>
                  </a:lnTo>
                  <a:lnTo>
                    <a:pt x="856" y="169"/>
                  </a:lnTo>
                  <a:lnTo>
                    <a:pt x="842" y="169"/>
                  </a:lnTo>
                  <a:lnTo>
                    <a:pt x="827" y="171"/>
                  </a:lnTo>
                  <a:lnTo>
                    <a:pt x="814" y="173"/>
                  </a:lnTo>
                  <a:lnTo>
                    <a:pt x="800" y="175"/>
                  </a:lnTo>
                  <a:lnTo>
                    <a:pt x="785" y="177"/>
                  </a:lnTo>
                  <a:lnTo>
                    <a:pt x="772" y="179"/>
                  </a:lnTo>
                  <a:lnTo>
                    <a:pt x="759" y="180"/>
                  </a:lnTo>
                  <a:lnTo>
                    <a:pt x="745" y="182"/>
                  </a:lnTo>
                  <a:lnTo>
                    <a:pt x="730" y="182"/>
                  </a:lnTo>
                  <a:lnTo>
                    <a:pt x="717" y="184"/>
                  </a:lnTo>
                  <a:lnTo>
                    <a:pt x="703" y="186"/>
                  </a:lnTo>
                  <a:lnTo>
                    <a:pt x="690" y="186"/>
                  </a:lnTo>
                  <a:lnTo>
                    <a:pt x="675" y="186"/>
                  </a:lnTo>
                  <a:lnTo>
                    <a:pt x="662" y="188"/>
                  </a:lnTo>
                  <a:lnTo>
                    <a:pt x="648" y="188"/>
                  </a:lnTo>
                  <a:lnTo>
                    <a:pt x="635" y="190"/>
                  </a:lnTo>
                  <a:lnTo>
                    <a:pt x="620" y="188"/>
                  </a:lnTo>
                  <a:lnTo>
                    <a:pt x="605" y="188"/>
                  </a:lnTo>
                  <a:lnTo>
                    <a:pt x="591" y="188"/>
                  </a:lnTo>
                  <a:lnTo>
                    <a:pt x="578" y="188"/>
                  </a:lnTo>
                  <a:lnTo>
                    <a:pt x="565" y="188"/>
                  </a:lnTo>
                  <a:lnTo>
                    <a:pt x="551" y="188"/>
                  </a:lnTo>
                  <a:lnTo>
                    <a:pt x="536" y="188"/>
                  </a:lnTo>
                  <a:lnTo>
                    <a:pt x="523" y="188"/>
                  </a:lnTo>
                  <a:lnTo>
                    <a:pt x="510" y="186"/>
                  </a:lnTo>
                  <a:lnTo>
                    <a:pt x="496" y="186"/>
                  </a:lnTo>
                  <a:lnTo>
                    <a:pt x="481" y="182"/>
                  </a:lnTo>
                  <a:lnTo>
                    <a:pt x="468" y="182"/>
                  </a:lnTo>
                  <a:lnTo>
                    <a:pt x="454" y="180"/>
                  </a:lnTo>
                  <a:lnTo>
                    <a:pt x="443" y="180"/>
                  </a:lnTo>
                  <a:lnTo>
                    <a:pt x="430" y="179"/>
                  </a:lnTo>
                  <a:lnTo>
                    <a:pt x="416" y="179"/>
                  </a:lnTo>
                  <a:lnTo>
                    <a:pt x="403" y="175"/>
                  </a:lnTo>
                  <a:lnTo>
                    <a:pt x="390" y="173"/>
                  </a:lnTo>
                  <a:lnTo>
                    <a:pt x="377" y="171"/>
                  </a:lnTo>
                  <a:lnTo>
                    <a:pt x="365" y="169"/>
                  </a:lnTo>
                  <a:lnTo>
                    <a:pt x="352" y="167"/>
                  </a:lnTo>
                  <a:lnTo>
                    <a:pt x="340" y="165"/>
                  </a:lnTo>
                  <a:lnTo>
                    <a:pt x="327" y="161"/>
                  </a:lnTo>
                  <a:lnTo>
                    <a:pt x="316" y="161"/>
                  </a:lnTo>
                  <a:lnTo>
                    <a:pt x="304" y="158"/>
                  </a:lnTo>
                  <a:lnTo>
                    <a:pt x="291" y="154"/>
                  </a:lnTo>
                  <a:lnTo>
                    <a:pt x="280" y="152"/>
                  </a:lnTo>
                  <a:lnTo>
                    <a:pt x="270" y="150"/>
                  </a:lnTo>
                  <a:lnTo>
                    <a:pt x="259" y="146"/>
                  </a:lnTo>
                  <a:lnTo>
                    <a:pt x="247" y="144"/>
                  </a:lnTo>
                  <a:lnTo>
                    <a:pt x="236" y="141"/>
                  </a:lnTo>
                  <a:lnTo>
                    <a:pt x="226" y="139"/>
                  </a:lnTo>
                  <a:lnTo>
                    <a:pt x="215" y="135"/>
                  </a:lnTo>
                  <a:lnTo>
                    <a:pt x="205" y="131"/>
                  </a:lnTo>
                  <a:lnTo>
                    <a:pt x="194" y="127"/>
                  </a:lnTo>
                  <a:lnTo>
                    <a:pt x="185" y="123"/>
                  </a:lnTo>
                  <a:lnTo>
                    <a:pt x="173" y="120"/>
                  </a:lnTo>
                  <a:lnTo>
                    <a:pt x="166" y="118"/>
                  </a:lnTo>
                  <a:lnTo>
                    <a:pt x="156" y="114"/>
                  </a:lnTo>
                  <a:lnTo>
                    <a:pt x="148" y="110"/>
                  </a:lnTo>
                  <a:lnTo>
                    <a:pt x="139" y="106"/>
                  </a:lnTo>
                  <a:lnTo>
                    <a:pt x="129" y="103"/>
                  </a:lnTo>
                  <a:lnTo>
                    <a:pt x="122" y="101"/>
                  </a:lnTo>
                  <a:lnTo>
                    <a:pt x="116" y="97"/>
                  </a:lnTo>
                  <a:lnTo>
                    <a:pt x="107" y="93"/>
                  </a:lnTo>
                  <a:lnTo>
                    <a:pt x="99" y="89"/>
                  </a:lnTo>
                  <a:lnTo>
                    <a:pt x="91" y="85"/>
                  </a:lnTo>
                  <a:lnTo>
                    <a:pt x="86" y="82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84560" y="276840"/>
              <a:ext cx="98640" cy="406800"/>
            </a:xfrm>
            <a:custGeom>
              <a:avLst/>
              <a:gdLst/>
              <a:ahLst/>
              <a:rect l="l" t="t" r="r" b="b"/>
              <a:pathLst>
                <a:path w="207" h="857">
                  <a:moveTo>
                    <a:pt x="0" y="0"/>
                  </a:moveTo>
                  <a:lnTo>
                    <a:pt x="0" y="2"/>
                  </a:lnTo>
                  <a:lnTo>
                    <a:pt x="4" y="6"/>
                  </a:lnTo>
                  <a:lnTo>
                    <a:pt x="9" y="15"/>
                  </a:lnTo>
                  <a:lnTo>
                    <a:pt x="17" y="27"/>
                  </a:lnTo>
                  <a:lnTo>
                    <a:pt x="19" y="33"/>
                  </a:lnTo>
                  <a:lnTo>
                    <a:pt x="23" y="40"/>
                  </a:lnTo>
                  <a:lnTo>
                    <a:pt x="28" y="50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4" y="80"/>
                  </a:lnTo>
                  <a:lnTo>
                    <a:pt x="51" y="91"/>
                  </a:lnTo>
                  <a:lnTo>
                    <a:pt x="57" y="103"/>
                  </a:lnTo>
                  <a:lnTo>
                    <a:pt x="63" y="114"/>
                  </a:lnTo>
                  <a:lnTo>
                    <a:pt x="68" y="128"/>
                  </a:lnTo>
                  <a:lnTo>
                    <a:pt x="70" y="133"/>
                  </a:lnTo>
                  <a:lnTo>
                    <a:pt x="74" y="139"/>
                  </a:lnTo>
                  <a:lnTo>
                    <a:pt x="78" y="147"/>
                  </a:lnTo>
                  <a:lnTo>
                    <a:pt x="82" y="154"/>
                  </a:lnTo>
                  <a:lnTo>
                    <a:pt x="84" y="162"/>
                  </a:lnTo>
                  <a:lnTo>
                    <a:pt x="87" y="169"/>
                  </a:lnTo>
                  <a:lnTo>
                    <a:pt x="91" y="177"/>
                  </a:lnTo>
                  <a:lnTo>
                    <a:pt x="95" y="185"/>
                  </a:lnTo>
                  <a:lnTo>
                    <a:pt x="99" y="190"/>
                  </a:lnTo>
                  <a:lnTo>
                    <a:pt x="103" y="198"/>
                  </a:lnTo>
                  <a:lnTo>
                    <a:pt x="106" y="207"/>
                  </a:lnTo>
                  <a:lnTo>
                    <a:pt x="110" y="215"/>
                  </a:lnTo>
                  <a:lnTo>
                    <a:pt x="112" y="223"/>
                  </a:lnTo>
                  <a:lnTo>
                    <a:pt x="116" y="230"/>
                  </a:lnTo>
                  <a:lnTo>
                    <a:pt x="120" y="240"/>
                  </a:lnTo>
                  <a:lnTo>
                    <a:pt x="124" y="247"/>
                  </a:lnTo>
                  <a:lnTo>
                    <a:pt x="125" y="257"/>
                  </a:lnTo>
                  <a:lnTo>
                    <a:pt x="129" y="264"/>
                  </a:lnTo>
                  <a:lnTo>
                    <a:pt x="133" y="274"/>
                  </a:lnTo>
                  <a:lnTo>
                    <a:pt x="137" y="283"/>
                  </a:lnTo>
                  <a:lnTo>
                    <a:pt x="139" y="291"/>
                  </a:lnTo>
                  <a:lnTo>
                    <a:pt x="143" y="301"/>
                  </a:lnTo>
                  <a:lnTo>
                    <a:pt x="146" y="308"/>
                  </a:lnTo>
                  <a:lnTo>
                    <a:pt x="150" y="318"/>
                  </a:lnTo>
                  <a:lnTo>
                    <a:pt x="152" y="327"/>
                  </a:lnTo>
                  <a:lnTo>
                    <a:pt x="156" y="337"/>
                  </a:lnTo>
                  <a:lnTo>
                    <a:pt x="160" y="346"/>
                  </a:lnTo>
                  <a:lnTo>
                    <a:pt x="163" y="356"/>
                  </a:lnTo>
                  <a:lnTo>
                    <a:pt x="163" y="363"/>
                  </a:lnTo>
                  <a:lnTo>
                    <a:pt x="167" y="369"/>
                  </a:lnTo>
                  <a:lnTo>
                    <a:pt x="167" y="377"/>
                  </a:lnTo>
                  <a:lnTo>
                    <a:pt x="171" y="384"/>
                  </a:lnTo>
                  <a:lnTo>
                    <a:pt x="171" y="392"/>
                  </a:lnTo>
                  <a:lnTo>
                    <a:pt x="173" y="399"/>
                  </a:lnTo>
                  <a:lnTo>
                    <a:pt x="175" y="407"/>
                  </a:lnTo>
                  <a:lnTo>
                    <a:pt x="177" y="415"/>
                  </a:lnTo>
                  <a:lnTo>
                    <a:pt x="179" y="422"/>
                  </a:lnTo>
                  <a:lnTo>
                    <a:pt x="181" y="430"/>
                  </a:lnTo>
                  <a:lnTo>
                    <a:pt x="182" y="437"/>
                  </a:lnTo>
                  <a:lnTo>
                    <a:pt x="184" y="445"/>
                  </a:lnTo>
                  <a:lnTo>
                    <a:pt x="186" y="453"/>
                  </a:lnTo>
                  <a:lnTo>
                    <a:pt x="188" y="462"/>
                  </a:lnTo>
                  <a:lnTo>
                    <a:pt x="190" y="470"/>
                  </a:lnTo>
                  <a:lnTo>
                    <a:pt x="192" y="479"/>
                  </a:lnTo>
                  <a:lnTo>
                    <a:pt x="192" y="487"/>
                  </a:lnTo>
                  <a:lnTo>
                    <a:pt x="194" y="492"/>
                  </a:lnTo>
                  <a:lnTo>
                    <a:pt x="194" y="500"/>
                  </a:lnTo>
                  <a:lnTo>
                    <a:pt x="196" y="510"/>
                  </a:lnTo>
                  <a:lnTo>
                    <a:pt x="198" y="517"/>
                  </a:lnTo>
                  <a:lnTo>
                    <a:pt x="198" y="525"/>
                  </a:lnTo>
                  <a:lnTo>
                    <a:pt x="200" y="534"/>
                  </a:lnTo>
                  <a:lnTo>
                    <a:pt x="201" y="542"/>
                  </a:lnTo>
                  <a:lnTo>
                    <a:pt x="201" y="549"/>
                  </a:lnTo>
                  <a:lnTo>
                    <a:pt x="201" y="559"/>
                  </a:lnTo>
                  <a:lnTo>
                    <a:pt x="201" y="567"/>
                  </a:lnTo>
                  <a:lnTo>
                    <a:pt x="203" y="576"/>
                  </a:lnTo>
                  <a:lnTo>
                    <a:pt x="203" y="582"/>
                  </a:lnTo>
                  <a:lnTo>
                    <a:pt x="205" y="591"/>
                  </a:lnTo>
                  <a:lnTo>
                    <a:pt x="205" y="599"/>
                  </a:lnTo>
                  <a:lnTo>
                    <a:pt x="207" y="608"/>
                  </a:lnTo>
                  <a:lnTo>
                    <a:pt x="205" y="616"/>
                  </a:lnTo>
                  <a:lnTo>
                    <a:pt x="205" y="624"/>
                  </a:lnTo>
                  <a:lnTo>
                    <a:pt x="205" y="631"/>
                  </a:lnTo>
                  <a:lnTo>
                    <a:pt x="205" y="641"/>
                  </a:lnTo>
                  <a:lnTo>
                    <a:pt x="205" y="648"/>
                  </a:lnTo>
                  <a:lnTo>
                    <a:pt x="205" y="654"/>
                  </a:lnTo>
                  <a:lnTo>
                    <a:pt x="205" y="664"/>
                  </a:lnTo>
                  <a:lnTo>
                    <a:pt x="205" y="671"/>
                  </a:lnTo>
                  <a:lnTo>
                    <a:pt x="205" y="679"/>
                  </a:lnTo>
                  <a:lnTo>
                    <a:pt x="205" y="688"/>
                  </a:lnTo>
                  <a:lnTo>
                    <a:pt x="203" y="696"/>
                  </a:lnTo>
                  <a:lnTo>
                    <a:pt x="203" y="703"/>
                  </a:lnTo>
                  <a:lnTo>
                    <a:pt x="201" y="711"/>
                  </a:lnTo>
                  <a:lnTo>
                    <a:pt x="201" y="721"/>
                  </a:lnTo>
                  <a:lnTo>
                    <a:pt x="201" y="728"/>
                  </a:lnTo>
                  <a:lnTo>
                    <a:pt x="201" y="738"/>
                  </a:lnTo>
                  <a:lnTo>
                    <a:pt x="198" y="743"/>
                  </a:lnTo>
                  <a:lnTo>
                    <a:pt x="198" y="751"/>
                  </a:lnTo>
                  <a:lnTo>
                    <a:pt x="196" y="759"/>
                  </a:lnTo>
                  <a:lnTo>
                    <a:pt x="196" y="768"/>
                  </a:lnTo>
                  <a:lnTo>
                    <a:pt x="194" y="776"/>
                  </a:lnTo>
                  <a:lnTo>
                    <a:pt x="192" y="781"/>
                  </a:lnTo>
                  <a:lnTo>
                    <a:pt x="190" y="789"/>
                  </a:lnTo>
                  <a:lnTo>
                    <a:pt x="190" y="798"/>
                  </a:lnTo>
                  <a:lnTo>
                    <a:pt x="186" y="806"/>
                  </a:lnTo>
                  <a:lnTo>
                    <a:pt x="184" y="814"/>
                  </a:lnTo>
                  <a:lnTo>
                    <a:pt x="182" y="819"/>
                  </a:lnTo>
                  <a:lnTo>
                    <a:pt x="181" y="827"/>
                  </a:lnTo>
                  <a:lnTo>
                    <a:pt x="177" y="835"/>
                  </a:lnTo>
                  <a:lnTo>
                    <a:pt x="177" y="842"/>
                  </a:lnTo>
                  <a:lnTo>
                    <a:pt x="173" y="850"/>
                  </a:lnTo>
                  <a:lnTo>
                    <a:pt x="171" y="857"/>
                  </a:lnTo>
                  <a:lnTo>
                    <a:pt x="122" y="831"/>
                  </a:lnTo>
                  <a:lnTo>
                    <a:pt x="122" y="829"/>
                  </a:lnTo>
                  <a:lnTo>
                    <a:pt x="124" y="823"/>
                  </a:lnTo>
                  <a:lnTo>
                    <a:pt x="125" y="814"/>
                  </a:lnTo>
                  <a:lnTo>
                    <a:pt x="131" y="802"/>
                  </a:lnTo>
                  <a:lnTo>
                    <a:pt x="133" y="797"/>
                  </a:lnTo>
                  <a:lnTo>
                    <a:pt x="135" y="789"/>
                  </a:lnTo>
                  <a:lnTo>
                    <a:pt x="137" y="778"/>
                  </a:lnTo>
                  <a:lnTo>
                    <a:pt x="139" y="770"/>
                  </a:lnTo>
                  <a:lnTo>
                    <a:pt x="141" y="759"/>
                  </a:lnTo>
                  <a:lnTo>
                    <a:pt x="143" y="747"/>
                  </a:lnTo>
                  <a:lnTo>
                    <a:pt x="146" y="738"/>
                  </a:lnTo>
                  <a:lnTo>
                    <a:pt x="150" y="726"/>
                  </a:lnTo>
                  <a:lnTo>
                    <a:pt x="150" y="719"/>
                  </a:lnTo>
                  <a:lnTo>
                    <a:pt x="150" y="713"/>
                  </a:lnTo>
                  <a:lnTo>
                    <a:pt x="150" y="705"/>
                  </a:lnTo>
                  <a:lnTo>
                    <a:pt x="152" y="700"/>
                  </a:lnTo>
                  <a:lnTo>
                    <a:pt x="152" y="692"/>
                  </a:lnTo>
                  <a:lnTo>
                    <a:pt x="154" y="684"/>
                  </a:lnTo>
                  <a:lnTo>
                    <a:pt x="154" y="677"/>
                  </a:lnTo>
                  <a:lnTo>
                    <a:pt x="154" y="671"/>
                  </a:lnTo>
                  <a:lnTo>
                    <a:pt x="154" y="662"/>
                  </a:lnTo>
                  <a:lnTo>
                    <a:pt x="154" y="654"/>
                  </a:lnTo>
                  <a:lnTo>
                    <a:pt x="154" y="646"/>
                  </a:lnTo>
                  <a:lnTo>
                    <a:pt x="154" y="639"/>
                  </a:lnTo>
                  <a:lnTo>
                    <a:pt x="154" y="631"/>
                  </a:lnTo>
                  <a:lnTo>
                    <a:pt x="154" y="622"/>
                  </a:lnTo>
                  <a:lnTo>
                    <a:pt x="154" y="614"/>
                  </a:lnTo>
                  <a:lnTo>
                    <a:pt x="156" y="606"/>
                  </a:lnTo>
                  <a:lnTo>
                    <a:pt x="154" y="597"/>
                  </a:lnTo>
                  <a:lnTo>
                    <a:pt x="154" y="587"/>
                  </a:lnTo>
                  <a:lnTo>
                    <a:pt x="154" y="578"/>
                  </a:lnTo>
                  <a:lnTo>
                    <a:pt x="154" y="568"/>
                  </a:lnTo>
                  <a:lnTo>
                    <a:pt x="152" y="559"/>
                  </a:lnTo>
                  <a:lnTo>
                    <a:pt x="150" y="551"/>
                  </a:lnTo>
                  <a:lnTo>
                    <a:pt x="150" y="542"/>
                  </a:lnTo>
                  <a:lnTo>
                    <a:pt x="150" y="532"/>
                  </a:lnTo>
                  <a:lnTo>
                    <a:pt x="146" y="521"/>
                  </a:lnTo>
                  <a:lnTo>
                    <a:pt x="146" y="511"/>
                  </a:lnTo>
                  <a:lnTo>
                    <a:pt x="143" y="502"/>
                  </a:lnTo>
                  <a:lnTo>
                    <a:pt x="143" y="492"/>
                  </a:lnTo>
                  <a:lnTo>
                    <a:pt x="139" y="481"/>
                  </a:lnTo>
                  <a:lnTo>
                    <a:pt x="139" y="472"/>
                  </a:lnTo>
                  <a:lnTo>
                    <a:pt x="137" y="462"/>
                  </a:lnTo>
                  <a:lnTo>
                    <a:pt x="135" y="453"/>
                  </a:lnTo>
                  <a:lnTo>
                    <a:pt x="131" y="439"/>
                  </a:lnTo>
                  <a:lnTo>
                    <a:pt x="127" y="428"/>
                  </a:lnTo>
                  <a:lnTo>
                    <a:pt x="124" y="416"/>
                  </a:lnTo>
                  <a:lnTo>
                    <a:pt x="122" y="407"/>
                  </a:lnTo>
                  <a:lnTo>
                    <a:pt x="118" y="396"/>
                  </a:lnTo>
                  <a:lnTo>
                    <a:pt x="116" y="384"/>
                  </a:lnTo>
                  <a:lnTo>
                    <a:pt x="112" y="375"/>
                  </a:lnTo>
                  <a:lnTo>
                    <a:pt x="110" y="367"/>
                  </a:lnTo>
                  <a:lnTo>
                    <a:pt x="106" y="356"/>
                  </a:lnTo>
                  <a:lnTo>
                    <a:pt x="103" y="346"/>
                  </a:lnTo>
                  <a:lnTo>
                    <a:pt x="99" y="335"/>
                  </a:lnTo>
                  <a:lnTo>
                    <a:pt x="97" y="329"/>
                  </a:lnTo>
                  <a:lnTo>
                    <a:pt x="93" y="318"/>
                  </a:lnTo>
                  <a:lnTo>
                    <a:pt x="91" y="310"/>
                  </a:lnTo>
                  <a:lnTo>
                    <a:pt x="87" y="302"/>
                  </a:lnTo>
                  <a:lnTo>
                    <a:pt x="85" y="295"/>
                  </a:lnTo>
                  <a:lnTo>
                    <a:pt x="82" y="287"/>
                  </a:lnTo>
                  <a:lnTo>
                    <a:pt x="78" y="280"/>
                  </a:lnTo>
                  <a:lnTo>
                    <a:pt x="76" y="272"/>
                  </a:lnTo>
                  <a:lnTo>
                    <a:pt x="74" y="264"/>
                  </a:lnTo>
                  <a:lnTo>
                    <a:pt x="68" y="251"/>
                  </a:lnTo>
                  <a:lnTo>
                    <a:pt x="63" y="240"/>
                  </a:lnTo>
                  <a:lnTo>
                    <a:pt x="57" y="226"/>
                  </a:lnTo>
                  <a:lnTo>
                    <a:pt x="51" y="215"/>
                  </a:lnTo>
                  <a:lnTo>
                    <a:pt x="47" y="206"/>
                  </a:lnTo>
                  <a:lnTo>
                    <a:pt x="44" y="198"/>
                  </a:lnTo>
                  <a:lnTo>
                    <a:pt x="36" y="188"/>
                  </a:lnTo>
                  <a:lnTo>
                    <a:pt x="32" y="179"/>
                  </a:lnTo>
                  <a:lnTo>
                    <a:pt x="28" y="171"/>
                  </a:lnTo>
                  <a:lnTo>
                    <a:pt x="25" y="166"/>
                  </a:lnTo>
                  <a:lnTo>
                    <a:pt x="17" y="152"/>
                  </a:lnTo>
                  <a:lnTo>
                    <a:pt x="11" y="147"/>
                  </a:lnTo>
                  <a:lnTo>
                    <a:pt x="6" y="137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26960" y="605160"/>
              <a:ext cx="191520" cy="191520"/>
            </a:xfrm>
            <a:custGeom>
              <a:avLst/>
              <a:gdLst/>
              <a:ahLst/>
              <a:rect l="l" t="t" r="r" b="b"/>
              <a:pathLst>
                <a:path w="403" h="405">
                  <a:moveTo>
                    <a:pt x="293" y="86"/>
                  </a:moveTo>
                  <a:lnTo>
                    <a:pt x="295" y="87"/>
                  </a:lnTo>
                  <a:lnTo>
                    <a:pt x="304" y="97"/>
                  </a:lnTo>
                  <a:lnTo>
                    <a:pt x="308" y="101"/>
                  </a:lnTo>
                  <a:lnTo>
                    <a:pt x="316" y="110"/>
                  </a:lnTo>
                  <a:lnTo>
                    <a:pt x="323" y="118"/>
                  </a:lnTo>
                  <a:lnTo>
                    <a:pt x="329" y="127"/>
                  </a:lnTo>
                  <a:lnTo>
                    <a:pt x="337" y="139"/>
                  </a:lnTo>
                  <a:lnTo>
                    <a:pt x="342" y="148"/>
                  </a:lnTo>
                  <a:lnTo>
                    <a:pt x="346" y="160"/>
                  </a:lnTo>
                  <a:lnTo>
                    <a:pt x="352" y="173"/>
                  </a:lnTo>
                  <a:lnTo>
                    <a:pt x="354" y="186"/>
                  </a:lnTo>
                  <a:lnTo>
                    <a:pt x="354" y="200"/>
                  </a:lnTo>
                  <a:lnTo>
                    <a:pt x="354" y="205"/>
                  </a:lnTo>
                  <a:lnTo>
                    <a:pt x="354" y="211"/>
                  </a:lnTo>
                  <a:lnTo>
                    <a:pt x="352" y="219"/>
                  </a:lnTo>
                  <a:lnTo>
                    <a:pt x="352" y="226"/>
                  </a:lnTo>
                  <a:lnTo>
                    <a:pt x="346" y="238"/>
                  </a:lnTo>
                  <a:lnTo>
                    <a:pt x="341" y="249"/>
                  </a:lnTo>
                  <a:lnTo>
                    <a:pt x="333" y="260"/>
                  </a:lnTo>
                  <a:lnTo>
                    <a:pt x="327" y="272"/>
                  </a:lnTo>
                  <a:lnTo>
                    <a:pt x="318" y="281"/>
                  </a:lnTo>
                  <a:lnTo>
                    <a:pt x="308" y="293"/>
                  </a:lnTo>
                  <a:lnTo>
                    <a:pt x="303" y="296"/>
                  </a:lnTo>
                  <a:lnTo>
                    <a:pt x="295" y="300"/>
                  </a:lnTo>
                  <a:lnTo>
                    <a:pt x="289" y="306"/>
                  </a:lnTo>
                  <a:lnTo>
                    <a:pt x="282" y="310"/>
                  </a:lnTo>
                  <a:lnTo>
                    <a:pt x="274" y="314"/>
                  </a:lnTo>
                  <a:lnTo>
                    <a:pt x="266" y="315"/>
                  </a:lnTo>
                  <a:lnTo>
                    <a:pt x="257" y="319"/>
                  </a:lnTo>
                  <a:lnTo>
                    <a:pt x="247" y="323"/>
                  </a:lnTo>
                  <a:lnTo>
                    <a:pt x="238" y="327"/>
                  </a:lnTo>
                  <a:lnTo>
                    <a:pt x="228" y="331"/>
                  </a:lnTo>
                  <a:lnTo>
                    <a:pt x="217" y="333"/>
                  </a:lnTo>
                  <a:lnTo>
                    <a:pt x="206" y="336"/>
                  </a:lnTo>
                  <a:lnTo>
                    <a:pt x="192" y="336"/>
                  </a:lnTo>
                  <a:lnTo>
                    <a:pt x="181" y="340"/>
                  </a:lnTo>
                  <a:lnTo>
                    <a:pt x="168" y="340"/>
                  </a:lnTo>
                  <a:lnTo>
                    <a:pt x="156" y="344"/>
                  </a:lnTo>
                  <a:lnTo>
                    <a:pt x="149" y="344"/>
                  </a:lnTo>
                  <a:lnTo>
                    <a:pt x="141" y="344"/>
                  </a:lnTo>
                  <a:lnTo>
                    <a:pt x="133" y="346"/>
                  </a:lnTo>
                  <a:lnTo>
                    <a:pt x="126" y="348"/>
                  </a:lnTo>
                  <a:lnTo>
                    <a:pt x="118" y="348"/>
                  </a:lnTo>
                  <a:lnTo>
                    <a:pt x="111" y="348"/>
                  </a:lnTo>
                  <a:lnTo>
                    <a:pt x="101" y="350"/>
                  </a:lnTo>
                  <a:lnTo>
                    <a:pt x="93" y="352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8" y="405"/>
                  </a:lnTo>
                  <a:lnTo>
                    <a:pt x="12" y="405"/>
                  </a:lnTo>
                  <a:lnTo>
                    <a:pt x="16" y="405"/>
                  </a:lnTo>
                  <a:lnTo>
                    <a:pt x="21" y="405"/>
                  </a:lnTo>
                  <a:lnTo>
                    <a:pt x="29" y="405"/>
                  </a:lnTo>
                  <a:lnTo>
                    <a:pt x="36" y="405"/>
                  </a:lnTo>
                  <a:lnTo>
                    <a:pt x="42" y="405"/>
                  </a:lnTo>
                  <a:lnTo>
                    <a:pt x="52" y="405"/>
                  </a:lnTo>
                  <a:lnTo>
                    <a:pt x="61" y="405"/>
                  </a:lnTo>
                  <a:lnTo>
                    <a:pt x="71" y="405"/>
                  </a:lnTo>
                  <a:lnTo>
                    <a:pt x="80" y="405"/>
                  </a:lnTo>
                  <a:lnTo>
                    <a:pt x="92" y="405"/>
                  </a:lnTo>
                  <a:lnTo>
                    <a:pt x="103" y="405"/>
                  </a:lnTo>
                  <a:lnTo>
                    <a:pt x="114" y="403"/>
                  </a:lnTo>
                  <a:lnTo>
                    <a:pt x="126" y="403"/>
                  </a:lnTo>
                  <a:lnTo>
                    <a:pt x="137" y="399"/>
                  </a:lnTo>
                  <a:lnTo>
                    <a:pt x="149" y="399"/>
                  </a:lnTo>
                  <a:lnTo>
                    <a:pt x="160" y="397"/>
                  </a:lnTo>
                  <a:lnTo>
                    <a:pt x="173" y="395"/>
                  </a:lnTo>
                  <a:lnTo>
                    <a:pt x="185" y="393"/>
                  </a:lnTo>
                  <a:lnTo>
                    <a:pt x="198" y="392"/>
                  </a:lnTo>
                  <a:lnTo>
                    <a:pt x="209" y="388"/>
                  </a:lnTo>
                  <a:lnTo>
                    <a:pt x="223" y="386"/>
                  </a:lnTo>
                  <a:lnTo>
                    <a:pt x="234" y="382"/>
                  </a:lnTo>
                  <a:lnTo>
                    <a:pt x="247" y="380"/>
                  </a:lnTo>
                  <a:lnTo>
                    <a:pt x="259" y="374"/>
                  </a:lnTo>
                  <a:lnTo>
                    <a:pt x="270" y="371"/>
                  </a:lnTo>
                  <a:lnTo>
                    <a:pt x="282" y="369"/>
                  </a:lnTo>
                  <a:lnTo>
                    <a:pt x="293" y="365"/>
                  </a:lnTo>
                  <a:lnTo>
                    <a:pt x="303" y="357"/>
                  </a:lnTo>
                  <a:lnTo>
                    <a:pt x="312" y="354"/>
                  </a:lnTo>
                  <a:lnTo>
                    <a:pt x="320" y="348"/>
                  </a:lnTo>
                  <a:lnTo>
                    <a:pt x="329" y="342"/>
                  </a:lnTo>
                  <a:lnTo>
                    <a:pt x="337" y="334"/>
                  </a:lnTo>
                  <a:lnTo>
                    <a:pt x="344" y="331"/>
                  </a:lnTo>
                  <a:lnTo>
                    <a:pt x="350" y="323"/>
                  </a:lnTo>
                  <a:lnTo>
                    <a:pt x="358" y="317"/>
                  </a:lnTo>
                  <a:lnTo>
                    <a:pt x="367" y="304"/>
                  </a:lnTo>
                  <a:lnTo>
                    <a:pt x="379" y="293"/>
                  </a:lnTo>
                  <a:lnTo>
                    <a:pt x="384" y="279"/>
                  </a:lnTo>
                  <a:lnTo>
                    <a:pt x="392" y="266"/>
                  </a:lnTo>
                  <a:lnTo>
                    <a:pt x="394" y="258"/>
                  </a:lnTo>
                  <a:lnTo>
                    <a:pt x="396" y="251"/>
                  </a:lnTo>
                  <a:lnTo>
                    <a:pt x="398" y="245"/>
                  </a:lnTo>
                  <a:lnTo>
                    <a:pt x="399" y="238"/>
                  </a:lnTo>
                  <a:lnTo>
                    <a:pt x="401" y="224"/>
                  </a:lnTo>
                  <a:lnTo>
                    <a:pt x="403" y="213"/>
                  </a:lnTo>
                  <a:lnTo>
                    <a:pt x="403" y="200"/>
                  </a:lnTo>
                  <a:lnTo>
                    <a:pt x="403" y="188"/>
                  </a:lnTo>
                  <a:lnTo>
                    <a:pt x="401" y="177"/>
                  </a:lnTo>
                  <a:lnTo>
                    <a:pt x="401" y="167"/>
                  </a:lnTo>
                  <a:lnTo>
                    <a:pt x="398" y="160"/>
                  </a:lnTo>
                  <a:lnTo>
                    <a:pt x="396" y="152"/>
                  </a:lnTo>
                  <a:lnTo>
                    <a:pt x="392" y="144"/>
                  </a:lnTo>
                  <a:lnTo>
                    <a:pt x="390" y="139"/>
                  </a:lnTo>
                  <a:lnTo>
                    <a:pt x="386" y="131"/>
                  </a:lnTo>
                  <a:lnTo>
                    <a:pt x="382" y="124"/>
                  </a:lnTo>
                  <a:lnTo>
                    <a:pt x="379" y="116"/>
                  </a:lnTo>
                  <a:lnTo>
                    <a:pt x="377" y="108"/>
                  </a:lnTo>
                  <a:lnTo>
                    <a:pt x="371" y="101"/>
                  </a:lnTo>
                  <a:lnTo>
                    <a:pt x="367" y="93"/>
                  </a:lnTo>
                  <a:lnTo>
                    <a:pt x="361" y="86"/>
                  </a:lnTo>
                  <a:lnTo>
                    <a:pt x="358" y="80"/>
                  </a:lnTo>
                  <a:lnTo>
                    <a:pt x="350" y="65"/>
                  </a:lnTo>
                  <a:lnTo>
                    <a:pt x="341" y="55"/>
                  </a:lnTo>
                  <a:lnTo>
                    <a:pt x="329" y="42"/>
                  </a:lnTo>
                  <a:lnTo>
                    <a:pt x="322" y="30"/>
                  </a:lnTo>
                  <a:lnTo>
                    <a:pt x="312" y="21"/>
                  </a:lnTo>
                  <a:lnTo>
                    <a:pt x="306" y="13"/>
                  </a:lnTo>
                  <a:lnTo>
                    <a:pt x="299" y="8"/>
                  </a:lnTo>
                  <a:lnTo>
                    <a:pt x="295" y="4"/>
                  </a:lnTo>
                  <a:lnTo>
                    <a:pt x="293" y="0"/>
                  </a:lnTo>
                  <a:lnTo>
                    <a:pt x="293" y="86"/>
                  </a:lnTo>
                  <a:lnTo>
                    <a:pt x="29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21520" y="222840"/>
              <a:ext cx="549720" cy="535680"/>
            </a:xfrm>
            <a:custGeom>
              <a:avLst/>
              <a:gdLst/>
              <a:ahLst/>
              <a:rect l="l" t="t" r="r" b="b"/>
              <a:pathLst>
                <a:path w="1159" h="1129">
                  <a:moveTo>
                    <a:pt x="821" y="0"/>
                  </a:moveTo>
                  <a:lnTo>
                    <a:pt x="812" y="0"/>
                  </a:lnTo>
                  <a:lnTo>
                    <a:pt x="800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79" y="0"/>
                  </a:lnTo>
                  <a:lnTo>
                    <a:pt x="774" y="2"/>
                  </a:lnTo>
                  <a:lnTo>
                    <a:pt x="762" y="2"/>
                  </a:lnTo>
                  <a:lnTo>
                    <a:pt x="755" y="2"/>
                  </a:lnTo>
                  <a:lnTo>
                    <a:pt x="745" y="2"/>
                  </a:lnTo>
                  <a:lnTo>
                    <a:pt x="737" y="6"/>
                  </a:lnTo>
                  <a:lnTo>
                    <a:pt x="726" y="6"/>
                  </a:lnTo>
                  <a:lnTo>
                    <a:pt x="715" y="10"/>
                  </a:lnTo>
                  <a:lnTo>
                    <a:pt x="705" y="12"/>
                  </a:lnTo>
                  <a:lnTo>
                    <a:pt x="694" y="15"/>
                  </a:lnTo>
                  <a:lnTo>
                    <a:pt x="682" y="17"/>
                  </a:lnTo>
                  <a:lnTo>
                    <a:pt x="671" y="19"/>
                  </a:lnTo>
                  <a:lnTo>
                    <a:pt x="656" y="23"/>
                  </a:lnTo>
                  <a:lnTo>
                    <a:pt x="644" y="27"/>
                  </a:lnTo>
                  <a:lnTo>
                    <a:pt x="637" y="27"/>
                  </a:lnTo>
                  <a:lnTo>
                    <a:pt x="629" y="31"/>
                  </a:lnTo>
                  <a:lnTo>
                    <a:pt x="623" y="33"/>
                  </a:lnTo>
                  <a:lnTo>
                    <a:pt x="616" y="34"/>
                  </a:lnTo>
                  <a:lnTo>
                    <a:pt x="608" y="36"/>
                  </a:lnTo>
                  <a:lnTo>
                    <a:pt x="602" y="40"/>
                  </a:lnTo>
                  <a:lnTo>
                    <a:pt x="595" y="42"/>
                  </a:lnTo>
                  <a:lnTo>
                    <a:pt x="587" y="46"/>
                  </a:lnTo>
                  <a:lnTo>
                    <a:pt x="580" y="48"/>
                  </a:lnTo>
                  <a:lnTo>
                    <a:pt x="572" y="52"/>
                  </a:lnTo>
                  <a:lnTo>
                    <a:pt x="564" y="53"/>
                  </a:lnTo>
                  <a:lnTo>
                    <a:pt x="557" y="57"/>
                  </a:lnTo>
                  <a:lnTo>
                    <a:pt x="549" y="61"/>
                  </a:lnTo>
                  <a:lnTo>
                    <a:pt x="542" y="65"/>
                  </a:lnTo>
                  <a:lnTo>
                    <a:pt x="534" y="69"/>
                  </a:lnTo>
                  <a:lnTo>
                    <a:pt x="526" y="72"/>
                  </a:lnTo>
                  <a:lnTo>
                    <a:pt x="517" y="74"/>
                  </a:lnTo>
                  <a:lnTo>
                    <a:pt x="509" y="78"/>
                  </a:lnTo>
                  <a:lnTo>
                    <a:pt x="500" y="82"/>
                  </a:lnTo>
                  <a:lnTo>
                    <a:pt x="492" y="86"/>
                  </a:lnTo>
                  <a:lnTo>
                    <a:pt x="485" y="90"/>
                  </a:lnTo>
                  <a:lnTo>
                    <a:pt x="477" y="95"/>
                  </a:lnTo>
                  <a:lnTo>
                    <a:pt x="468" y="99"/>
                  </a:lnTo>
                  <a:lnTo>
                    <a:pt x="462" y="107"/>
                  </a:lnTo>
                  <a:lnTo>
                    <a:pt x="450" y="109"/>
                  </a:lnTo>
                  <a:lnTo>
                    <a:pt x="443" y="114"/>
                  </a:lnTo>
                  <a:lnTo>
                    <a:pt x="435" y="120"/>
                  </a:lnTo>
                  <a:lnTo>
                    <a:pt x="426" y="124"/>
                  </a:lnTo>
                  <a:lnTo>
                    <a:pt x="416" y="129"/>
                  </a:lnTo>
                  <a:lnTo>
                    <a:pt x="409" y="135"/>
                  </a:lnTo>
                  <a:lnTo>
                    <a:pt x="399" y="141"/>
                  </a:lnTo>
                  <a:lnTo>
                    <a:pt x="391" y="147"/>
                  </a:lnTo>
                  <a:lnTo>
                    <a:pt x="382" y="150"/>
                  </a:lnTo>
                  <a:lnTo>
                    <a:pt x="372" y="158"/>
                  </a:lnTo>
                  <a:lnTo>
                    <a:pt x="365" y="162"/>
                  </a:lnTo>
                  <a:lnTo>
                    <a:pt x="357" y="167"/>
                  </a:lnTo>
                  <a:lnTo>
                    <a:pt x="348" y="175"/>
                  </a:lnTo>
                  <a:lnTo>
                    <a:pt x="340" y="181"/>
                  </a:lnTo>
                  <a:lnTo>
                    <a:pt x="333" y="186"/>
                  </a:lnTo>
                  <a:lnTo>
                    <a:pt x="325" y="194"/>
                  </a:lnTo>
                  <a:lnTo>
                    <a:pt x="315" y="200"/>
                  </a:lnTo>
                  <a:lnTo>
                    <a:pt x="308" y="205"/>
                  </a:lnTo>
                  <a:lnTo>
                    <a:pt x="298" y="213"/>
                  </a:lnTo>
                  <a:lnTo>
                    <a:pt x="291" y="219"/>
                  </a:lnTo>
                  <a:lnTo>
                    <a:pt x="283" y="226"/>
                  </a:lnTo>
                  <a:lnTo>
                    <a:pt x="274" y="234"/>
                  </a:lnTo>
                  <a:lnTo>
                    <a:pt x="266" y="242"/>
                  </a:lnTo>
                  <a:lnTo>
                    <a:pt x="260" y="249"/>
                  </a:lnTo>
                  <a:lnTo>
                    <a:pt x="251" y="257"/>
                  </a:lnTo>
                  <a:lnTo>
                    <a:pt x="243" y="264"/>
                  </a:lnTo>
                  <a:lnTo>
                    <a:pt x="236" y="270"/>
                  </a:lnTo>
                  <a:lnTo>
                    <a:pt x="228" y="280"/>
                  </a:lnTo>
                  <a:lnTo>
                    <a:pt x="220" y="287"/>
                  </a:lnTo>
                  <a:lnTo>
                    <a:pt x="213" y="295"/>
                  </a:lnTo>
                  <a:lnTo>
                    <a:pt x="205" y="304"/>
                  </a:lnTo>
                  <a:lnTo>
                    <a:pt x="200" y="314"/>
                  </a:lnTo>
                  <a:lnTo>
                    <a:pt x="192" y="321"/>
                  </a:lnTo>
                  <a:lnTo>
                    <a:pt x="184" y="329"/>
                  </a:lnTo>
                  <a:lnTo>
                    <a:pt x="177" y="339"/>
                  </a:lnTo>
                  <a:lnTo>
                    <a:pt x="171" y="348"/>
                  </a:lnTo>
                  <a:lnTo>
                    <a:pt x="163" y="358"/>
                  </a:lnTo>
                  <a:lnTo>
                    <a:pt x="156" y="367"/>
                  </a:lnTo>
                  <a:lnTo>
                    <a:pt x="150" y="375"/>
                  </a:lnTo>
                  <a:lnTo>
                    <a:pt x="142" y="386"/>
                  </a:lnTo>
                  <a:lnTo>
                    <a:pt x="137" y="394"/>
                  </a:lnTo>
                  <a:lnTo>
                    <a:pt x="129" y="405"/>
                  </a:lnTo>
                  <a:lnTo>
                    <a:pt x="123" y="415"/>
                  </a:lnTo>
                  <a:lnTo>
                    <a:pt x="118" y="426"/>
                  </a:lnTo>
                  <a:lnTo>
                    <a:pt x="110" y="435"/>
                  </a:lnTo>
                  <a:lnTo>
                    <a:pt x="104" y="447"/>
                  </a:lnTo>
                  <a:lnTo>
                    <a:pt x="99" y="456"/>
                  </a:lnTo>
                  <a:lnTo>
                    <a:pt x="95" y="468"/>
                  </a:lnTo>
                  <a:lnTo>
                    <a:pt x="87" y="477"/>
                  </a:lnTo>
                  <a:lnTo>
                    <a:pt x="82" y="489"/>
                  </a:lnTo>
                  <a:lnTo>
                    <a:pt x="76" y="500"/>
                  </a:lnTo>
                  <a:lnTo>
                    <a:pt x="72" y="511"/>
                  </a:lnTo>
                  <a:lnTo>
                    <a:pt x="66" y="523"/>
                  </a:lnTo>
                  <a:lnTo>
                    <a:pt x="61" y="534"/>
                  </a:lnTo>
                  <a:lnTo>
                    <a:pt x="57" y="546"/>
                  </a:lnTo>
                  <a:lnTo>
                    <a:pt x="53" y="559"/>
                  </a:lnTo>
                  <a:lnTo>
                    <a:pt x="47" y="570"/>
                  </a:lnTo>
                  <a:lnTo>
                    <a:pt x="44" y="584"/>
                  </a:lnTo>
                  <a:lnTo>
                    <a:pt x="40" y="595"/>
                  </a:lnTo>
                  <a:lnTo>
                    <a:pt x="36" y="608"/>
                  </a:lnTo>
                  <a:lnTo>
                    <a:pt x="32" y="622"/>
                  </a:lnTo>
                  <a:lnTo>
                    <a:pt x="28" y="635"/>
                  </a:lnTo>
                  <a:lnTo>
                    <a:pt x="25" y="648"/>
                  </a:lnTo>
                  <a:lnTo>
                    <a:pt x="23" y="662"/>
                  </a:lnTo>
                  <a:lnTo>
                    <a:pt x="19" y="675"/>
                  </a:lnTo>
                  <a:lnTo>
                    <a:pt x="15" y="688"/>
                  </a:lnTo>
                  <a:lnTo>
                    <a:pt x="11" y="700"/>
                  </a:lnTo>
                  <a:lnTo>
                    <a:pt x="9" y="713"/>
                  </a:lnTo>
                  <a:lnTo>
                    <a:pt x="6" y="724"/>
                  </a:lnTo>
                  <a:lnTo>
                    <a:pt x="6" y="738"/>
                  </a:lnTo>
                  <a:lnTo>
                    <a:pt x="2" y="749"/>
                  </a:lnTo>
                  <a:lnTo>
                    <a:pt x="2" y="762"/>
                  </a:lnTo>
                  <a:lnTo>
                    <a:pt x="0" y="774"/>
                  </a:lnTo>
                  <a:lnTo>
                    <a:pt x="0" y="785"/>
                  </a:lnTo>
                  <a:lnTo>
                    <a:pt x="0" y="797"/>
                  </a:lnTo>
                  <a:lnTo>
                    <a:pt x="0" y="808"/>
                  </a:lnTo>
                  <a:lnTo>
                    <a:pt x="0" y="817"/>
                  </a:lnTo>
                  <a:lnTo>
                    <a:pt x="0" y="829"/>
                  </a:lnTo>
                  <a:lnTo>
                    <a:pt x="0" y="840"/>
                  </a:lnTo>
                  <a:lnTo>
                    <a:pt x="2" y="852"/>
                  </a:lnTo>
                  <a:lnTo>
                    <a:pt x="2" y="859"/>
                  </a:lnTo>
                  <a:lnTo>
                    <a:pt x="2" y="871"/>
                  </a:lnTo>
                  <a:lnTo>
                    <a:pt x="2" y="878"/>
                  </a:lnTo>
                  <a:lnTo>
                    <a:pt x="6" y="890"/>
                  </a:lnTo>
                  <a:lnTo>
                    <a:pt x="6" y="899"/>
                  </a:lnTo>
                  <a:lnTo>
                    <a:pt x="9" y="907"/>
                  </a:lnTo>
                  <a:lnTo>
                    <a:pt x="9" y="916"/>
                  </a:lnTo>
                  <a:lnTo>
                    <a:pt x="13" y="926"/>
                  </a:lnTo>
                  <a:lnTo>
                    <a:pt x="15" y="933"/>
                  </a:lnTo>
                  <a:lnTo>
                    <a:pt x="17" y="941"/>
                  </a:lnTo>
                  <a:lnTo>
                    <a:pt x="19" y="950"/>
                  </a:lnTo>
                  <a:lnTo>
                    <a:pt x="23" y="958"/>
                  </a:lnTo>
                  <a:lnTo>
                    <a:pt x="27" y="966"/>
                  </a:lnTo>
                  <a:lnTo>
                    <a:pt x="30" y="973"/>
                  </a:lnTo>
                  <a:lnTo>
                    <a:pt x="34" y="981"/>
                  </a:lnTo>
                  <a:lnTo>
                    <a:pt x="38" y="988"/>
                  </a:lnTo>
                  <a:lnTo>
                    <a:pt x="44" y="1002"/>
                  </a:lnTo>
                  <a:lnTo>
                    <a:pt x="51" y="1015"/>
                  </a:lnTo>
                  <a:lnTo>
                    <a:pt x="59" y="1026"/>
                  </a:lnTo>
                  <a:lnTo>
                    <a:pt x="68" y="1038"/>
                  </a:lnTo>
                  <a:lnTo>
                    <a:pt x="74" y="1047"/>
                  </a:lnTo>
                  <a:lnTo>
                    <a:pt x="84" y="1057"/>
                  </a:lnTo>
                  <a:lnTo>
                    <a:pt x="91" y="1066"/>
                  </a:lnTo>
                  <a:lnTo>
                    <a:pt x="103" y="1076"/>
                  </a:lnTo>
                  <a:lnTo>
                    <a:pt x="110" y="1082"/>
                  </a:lnTo>
                  <a:lnTo>
                    <a:pt x="120" y="1089"/>
                  </a:lnTo>
                  <a:lnTo>
                    <a:pt x="127" y="1095"/>
                  </a:lnTo>
                  <a:lnTo>
                    <a:pt x="137" y="1101"/>
                  </a:lnTo>
                  <a:lnTo>
                    <a:pt x="146" y="1104"/>
                  </a:lnTo>
                  <a:lnTo>
                    <a:pt x="154" y="1108"/>
                  </a:lnTo>
                  <a:lnTo>
                    <a:pt x="163" y="1110"/>
                  </a:lnTo>
                  <a:lnTo>
                    <a:pt x="171" y="1114"/>
                  </a:lnTo>
                  <a:lnTo>
                    <a:pt x="179" y="1114"/>
                  </a:lnTo>
                  <a:lnTo>
                    <a:pt x="188" y="1116"/>
                  </a:lnTo>
                  <a:lnTo>
                    <a:pt x="196" y="1118"/>
                  </a:lnTo>
                  <a:lnTo>
                    <a:pt x="207" y="1120"/>
                  </a:lnTo>
                  <a:lnTo>
                    <a:pt x="219" y="1121"/>
                  </a:lnTo>
                  <a:lnTo>
                    <a:pt x="230" y="1123"/>
                  </a:lnTo>
                  <a:lnTo>
                    <a:pt x="236" y="1123"/>
                  </a:lnTo>
                  <a:lnTo>
                    <a:pt x="243" y="1125"/>
                  </a:lnTo>
                  <a:lnTo>
                    <a:pt x="249" y="1125"/>
                  </a:lnTo>
                  <a:lnTo>
                    <a:pt x="257" y="1127"/>
                  </a:lnTo>
                  <a:lnTo>
                    <a:pt x="262" y="1127"/>
                  </a:lnTo>
                  <a:lnTo>
                    <a:pt x="270" y="1127"/>
                  </a:lnTo>
                  <a:lnTo>
                    <a:pt x="277" y="1127"/>
                  </a:lnTo>
                  <a:lnTo>
                    <a:pt x="285" y="1127"/>
                  </a:lnTo>
                  <a:lnTo>
                    <a:pt x="293" y="1127"/>
                  </a:lnTo>
                  <a:lnTo>
                    <a:pt x="300" y="1127"/>
                  </a:lnTo>
                  <a:lnTo>
                    <a:pt x="310" y="1127"/>
                  </a:lnTo>
                  <a:lnTo>
                    <a:pt x="317" y="1129"/>
                  </a:lnTo>
                  <a:lnTo>
                    <a:pt x="325" y="1127"/>
                  </a:lnTo>
                  <a:lnTo>
                    <a:pt x="334" y="1127"/>
                  </a:lnTo>
                  <a:lnTo>
                    <a:pt x="342" y="1127"/>
                  </a:lnTo>
                  <a:lnTo>
                    <a:pt x="352" y="1127"/>
                  </a:lnTo>
                  <a:lnTo>
                    <a:pt x="361" y="1125"/>
                  </a:lnTo>
                  <a:lnTo>
                    <a:pt x="371" y="1125"/>
                  </a:lnTo>
                  <a:lnTo>
                    <a:pt x="380" y="1125"/>
                  </a:lnTo>
                  <a:lnTo>
                    <a:pt x="390" y="1125"/>
                  </a:lnTo>
                  <a:lnTo>
                    <a:pt x="399" y="1123"/>
                  </a:lnTo>
                  <a:lnTo>
                    <a:pt x="409" y="1121"/>
                  </a:lnTo>
                  <a:lnTo>
                    <a:pt x="416" y="1121"/>
                  </a:lnTo>
                  <a:lnTo>
                    <a:pt x="428" y="1120"/>
                  </a:lnTo>
                  <a:lnTo>
                    <a:pt x="437" y="1118"/>
                  </a:lnTo>
                  <a:lnTo>
                    <a:pt x="449" y="1116"/>
                  </a:lnTo>
                  <a:lnTo>
                    <a:pt x="458" y="1112"/>
                  </a:lnTo>
                  <a:lnTo>
                    <a:pt x="469" y="1112"/>
                  </a:lnTo>
                  <a:lnTo>
                    <a:pt x="479" y="1108"/>
                  </a:lnTo>
                  <a:lnTo>
                    <a:pt x="490" y="1104"/>
                  </a:lnTo>
                  <a:lnTo>
                    <a:pt x="502" y="1102"/>
                  </a:lnTo>
                  <a:lnTo>
                    <a:pt x="513" y="1101"/>
                  </a:lnTo>
                  <a:lnTo>
                    <a:pt x="523" y="1097"/>
                  </a:lnTo>
                  <a:lnTo>
                    <a:pt x="534" y="1093"/>
                  </a:lnTo>
                  <a:lnTo>
                    <a:pt x="545" y="1089"/>
                  </a:lnTo>
                  <a:lnTo>
                    <a:pt x="557" y="1087"/>
                  </a:lnTo>
                  <a:lnTo>
                    <a:pt x="568" y="1082"/>
                  </a:lnTo>
                  <a:lnTo>
                    <a:pt x="580" y="1078"/>
                  </a:lnTo>
                  <a:lnTo>
                    <a:pt x="591" y="1072"/>
                  </a:lnTo>
                  <a:lnTo>
                    <a:pt x="604" y="1068"/>
                  </a:lnTo>
                  <a:lnTo>
                    <a:pt x="616" y="1061"/>
                  </a:lnTo>
                  <a:lnTo>
                    <a:pt x="627" y="1057"/>
                  </a:lnTo>
                  <a:lnTo>
                    <a:pt x="641" y="1051"/>
                  </a:lnTo>
                  <a:lnTo>
                    <a:pt x="654" y="1045"/>
                  </a:lnTo>
                  <a:lnTo>
                    <a:pt x="663" y="1038"/>
                  </a:lnTo>
                  <a:lnTo>
                    <a:pt x="677" y="1032"/>
                  </a:lnTo>
                  <a:lnTo>
                    <a:pt x="690" y="1025"/>
                  </a:lnTo>
                  <a:lnTo>
                    <a:pt x="703" y="1019"/>
                  </a:lnTo>
                  <a:lnTo>
                    <a:pt x="715" y="1009"/>
                  </a:lnTo>
                  <a:lnTo>
                    <a:pt x="728" y="1002"/>
                  </a:lnTo>
                  <a:lnTo>
                    <a:pt x="741" y="994"/>
                  </a:lnTo>
                  <a:lnTo>
                    <a:pt x="756" y="987"/>
                  </a:lnTo>
                  <a:lnTo>
                    <a:pt x="768" y="977"/>
                  </a:lnTo>
                  <a:lnTo>
                    <a:pt x="779" y="968"/>
                  </a:lnTo>
                  <a:lnTo>
                    <a:pt x="793" y="960"/>
                  </a:lnTo>
                  <a:lnTo>
                    <a:pt x="804" y="950"/>
                  </a:lnTo>
                  <a:lnTo>
                    <a:pt x="815" y="941"/>
                  </a:lnTo>
                  <a:lnTo>
                    <a:pt x="829" y="933"/>
                  </a:lnTo>
                  <a:lnTo>
                    <a:pt x="838" y="924"/>
                  </a:lnTo>
                  <a:lnTo>
                    <a:pt x="852" y="916"/>
                  </a:lnTo>
                  <a:lnTo>
                    <a:pt x="861" y="907"/>
                  </a:lnTo>
                  <a:lnTo>
                    <a:pt x="872" y="897"/>
                  </a:lnTo>
                  <a:lnTo>
                    <a:pt x="882" y="890"/>
                  </a:lnTo>
                  <a:lnTo>
                    <a:pt x="893" y="880"/>
                  </a:lnTo>
                  <a:lnTo>
                    <a:pt x="903" y="871"/>
                  </a:lnTo>
                  <a:lnTo>
                    <a:pt x="912" y="863"/>
                  </a:lnTo>
                  <a:lnTo>
                    <a:pt x="922" y="854"/>
                  </a:lnTo>
                  <a:lnTo>
                    <a:pt x="931" y="846"/>
                  </a:lnTo>
                  <a:lnTo>
                    <a:pt x="939" y="836"/>
                  </a:lnTo>
                  <a:lnTo>
                    <a:pt x="948" y="827"/>
                  </a:lnTo>
                  <a:lnTo>
                    <a:pt x="956" y="817"/>
                  </a:lnTo>
                  <a:lnTo>
                    <a:pt x="964" y="810"/>
                  </a:lnTo>
                  <a:lnTo>
                    <a:pt x="971" y="800"/>
                  </a:lnTo>
                  <a:lnTo>
                    <a:pt x="981" y="791"/>
                  </a:lnTo>
                  <a:lnTo>
                    <a:pt x="988" y="783"/>
                  </a:lnTo>
                  <a:lnTo>
                    <a:pt x="996" y="774"/>
                  </a:lnTo>
                  <a:lnTo>
                    <a:pt x="1002" y="764"/>
                  </a:lnTo>
                  <a:lnTo>
                    <a:pt x="1009" y="755"/>
                  </a:lnTo>
                  <a:lnTo>
                    <a:pt x="1017" y="745"/>
                  </a:lnTo>
                  <a:lnTo>
                    <a:pt x="1023" y="738"/>
                  </a:lnTo>
                  <a:lnTo>
                    <a:pt x="1030" y="728"/>
                  </a:lnTo>
                  <a:lnTo>
                    <a:pt x="1036" y="720"/>
                  </a:lnTo>
                  <a:lnTo>
                    <a:pt x="1042" y="711"/>
                  </a:lnTo>
                  <a:lnTo>
                    <a:pt x="1049" y="703"/>
                  </a:lnTo>
                  <a:lnTo>
                    <a:pt x="1053" y="694"/>
                  </a:lnTo>
                  <a:lnTo>
                    <a:pt x="1059" y="684"/>
                  </a:lnTo>
                  <a:lnTo>
                    <a:pt x="1064" y="675"/>
                  </a:lnTo>
                  <a:lnTo>
                    <a:pt x="1070" y="665"/>
                  </a:lnTo>
                  <a:lnTo>
                    <a:pt x="1074" y="656"/>
                  </a:lnTo>
                  <a:lnTo>
                    <a:pt x="1080" y="648"/>
                  </a:lnTo>
                  <a:lnTo>
                    <a:pt x="1083" y="639"/>
                  </a:lnTo>
                  <a:lnTo>
                    <a:pt x="1089" y="629"/>
                  </a:lnTo>
                  <a:lnTo>
                    <a:pt x="1093" y="620"/>
                  </a:lnTo>
                  <a:lnTo>
                    <a:pt x="1097" y="610"/>
                  </a:lnTo>
                  <a:lnTo>
                    <a:pt x="1101" y="601"/>
                  </a:lnTo>
                  <a:lnTo>
                    <a:pt x="1104" y="593"/>
                  </a:lnTo>
                  <a:lnTo>
                    <a:pt x="1108" y="584"/>
                  </a:lnTo>
                  <a:lnTo>
                    <a:pt x="1112" y="574"/>
                  </a:lnTo>
                  <a:lnTo>
                    <a:pt x="1116" y="565"/>
                  </a:lnTo>
                  <a:lnTo>
                    <a:pt x="1120" y="557"/>
                  </a:lnTo>
                  <a:lnTo>
                    <a:pt x="1121" y="548"/>
                  </a:lnTo>
                  <a:lnTo>
                    <a:pt x="1125" y="538"/>
                  </a:lnTo>
                  <a:lnTo>
                    <a:pt x="1127" y="529"/>
                  </a:lnTo>
                  <a:lnTo>
                    <a:pt x="1131" y="521"/>
                  </a:lnTo>
                  <a:lnTo>
                    <a:pt x="1133" y="511"/>
                  </a:lnTo>
                  <a:lnTo>
                    <a:pt x="1137" y="502"/>
                  </a:lnTo>
                  <a:lnTo>
                    <a:pt x="1139" y="492"/>
                  </a:lnTo>
                  <a:lnTo>
                    <a:pt x="1142" y="483"/>
                  </a:lnTo>
                  <a:lnTo>
                    <a:pt x="1142" y="473"/>
                  </a:lnTo>
                  <a:lnTo>
                    <a:pt x="1146" y="466"/>
                  </a:lnTo>
                  <a:lnTo>
                    <a:pt x="1146" y="456"/>
                  </a:lnTo>
                  <a:lnTo>
                    <a:pt x="1150" y="447"/>
                  </a:lnTo>
                  <a:lnTo>
                    <a:pt x="1150" y="437"/>
                  </a:lnTo>
                  <a:lnTo>
                    <a:pt x="1154" y="430"/>
                  </a:lnTo>
                  <a:lnTo>
                    <a:pt x="1154" y="418"/>
                  </a:lnTo>
                  <a:lnTo>
                    <a:pt x="1156" y="411"/>
                  </a:lnTo>
                  <a:lnTo>
                    <a:pt x="1156" y="401"/>
                  </a:lnTo>
                  <a:lnTo>
                    <a:pt x="1158" y="394"/>
                  </a:lnTo>
                  <a:lnTo>
                    <a:pt x="1158" y="384"/>
                  </a:lnTo>
                  <a:lnTo>
                    <a:pt x="1159" y="375"/>
                  </a:lnTo>
                  <a:lnTo>
                    <a:pt x="1159" y="367"/>
                  </a:lnTo>
                  <a:lnTo>
                    <a:pt x="1159" y="358"/>
                  </a:lnTo>
                  <a:lnTo>
                    <a:pt x="1159" y="350"/>
                  </a:lnTo>
                  <a:lnTo>
                    <a:pt x="1159" y="342"/>
                  </a:lnTo>
                  <a:lnTo>
                    <a:pt x="1159" y="333"/>
                  </a:lnTo>
                  <a:lnTo>
                    <a:pt x="1159" y="325"/>
                  </a:lnTo>
                  <a:lnTo>
                    <a:pt x="1159" y="318"/>
                  </a:lnTo>
                  <a:lnTo>
                    <a:pt x="1159" y="310"/>
                  </a:lnTo>
                  <a:lnTo>
                    <a:pt x="1158" y="302"/>
                  </a:lnTo>
                  <a:lnTo>
                    <a:pt x="1158" y="295"/>
                  </a:lnTo>
                  <a:lnTo>
                    <a:pt x="1156" y="287"/>
                  </a:lnTo>
                  <a:lnTo>
                    <a:pt x="1156" y="281"/>
                  </a:lnTo>
                  <a:lnTo>
                    <a:pt x="1154" y="274"/>
                  </a:lnTo>
                  <a:lnTo>
                    <a:pt x="1154" y="266"/>
                  </a:lnTo>
                  <a:lnTo>
                    <a:pt x="1152" y="261"/>
                  </a:lnTo>
                  <a:lnTo>
                    <a:pt x="1150" y="253"/>
                  </a:lnTo>
                  <a:lnTo>
                    <a:pt x="1146" y="240"/>
                  </a:lnTo>
                  <a:lnTo>
                    <a:pt x="1144" y="230"/>
                  </a:lnTo>
                  <a:lnTo>
                    <a:pt x="1139" y="217"/>
                  </a:lnTo>
                  <a:lnTo>
                    <a:pt x="1137" y="205"/>
                  </a:lnTo>
                  <a:lnTo>
                    <a:pt x="1133" y="196"/>
                  </a:lnTo>
                  <a:lnTo>
                    <a:pt x="1129" y="185"/>
                  </a:lnTo>
                  <a:lnTo>
                    <a:pt x="1121" y="175"/>
                  </a:lnTo>
                  <a:lnTo>
                    <a:pt x="1118" y="164"/>
                  </a:lnTo>
                  <a:lnTo>
                    <a:pt x="1112" y="154"/>
                  </a:lnTo>
                  <a:lnTo>
                    <a:pt x="1106" y="147"/>
                  </a:lnTo>
                  <a:lnTo>
                    <a:pt x="1101" y="137"/>
                  </a:lnTo>
                  <a:lnTo>
                    <a:pt x="1095" y="129"/>
                  </a:lnTo>
                  <a:lnTo>
                    <a:pt x="1089" y="122"/>
                  </a:lnTo>
                  <a:lnTo>
                    <a:pt x="1083" y="114"/>
                  </a:lnTo>
                  <a:lnTo>
                    <a:pt x="1078" y="107"/>
                  </a:lnTo>
                  <a:lnTo>
                    <a:pt x="1072" y="99"/>
                  </a:lnTo>
                  <a:lnTo>
                    <a:pt x="1066" y="93"/>
                  </a:lnTo>
                  <a:lnTo>
                    <a:pt x="1061" y="90"/>
                  </a:lnTo>
                  <a:lnTo>
                    <a:pt x="1051" y="78"/>
                  </a:lnTo>
                  <a:lnTo>
                    <a:pt x="1042" y="71"/>
                  </a:lnTo>
                  <a:lnTo>
                    <a:pt x="1030" y="61"/>
                  </a:lnTo>
                  <a:lnTo>
                    <a:pt x="1019" y="53"/>
                  </a:lnTo>
                  <a:lnTo>
                    <a:pt x="1007" y="46"/>
                  </a:lnTo>
                  <a:lnTo>
                    <a:pt x="996" y="38"/>
                  </a:lnTo>
                  <a:lnTo>
                    <a:pt x="988" y="34"/>
                  </a:lnTo>
                  <a:lnTo>
                    <a:pt x="983" y="31"/>
                  </a:lnTo>
                  <a:lnTo>
                    <a:pt x="975" y="29"/>
                  </a:lnTo>
                  <a:lnTo>
                    <a:pt x="969" y="27"/>
                  </a:lnTo>
                  <a:lnTo>
                    <a:pt x="962" y="23"/>
                  </a:lnTo>
                  <a:lnTo>
                    <a:pt x="954" y="19"/>
                  </a:lnTo>
                  <a:lnTo>
                    <a:pt x="948" y="17"/>
                  </a:lnTo>
                  <a:lnTo>
                    <a:pt x="941" y="17"/>
                  </a:lnTo>
                  <a:lnTo>
                    <a:pt x="933" y="14"/>
                  </a:lnTo>
                  <a:lnTo>
                    <a:pt x="926" y="12"/>
                  </a:lnTo>
                  <a:lnTo>
                    <a:pt x="918" y="10"/>
                  </a:lnTo>
                  <a:lnTo>
                    <a:pt x="910" y="8"/>
                  </a:lnTo>
                  <a:lnTo>
                    <a:pt x="903" y="6"/>
                  </a:lnTo>
                  <a:lnTo>
                    <a:pt x="895" y="6"/>
                  </a:lnTo>
                  <a:lnTo>
                    <a:pt x="888" y="2"/>
                  </a:lnTo>
                  <a:lnTo>
                    <a:pt x="880" y="2"/>
                  </a:lnTo>
                  <a:lnTo>
                    <a:pt x="872" y="2"/>
                  </a:lnTo>
                  <a:lnTo>
                    <a:pt x="865" y="0"/>
                  </a:lnTo>
                  <a:lnTo>
                    <a:pt x="857" y="0"/>
                  </a:lnTo>
                  <a:lnTo>
                    <a:pt x="850" y="0"/>
                  </a:lnTo>
                  <a:lnTo>
                    <a:pt x="842" y="0"/>
                  </a:lnTo>
                  <a:lnTo>
                    <a:pt x="834" y="0"/>
                  </a:lnTo>
                  <a:lnTo>
                    <a:pt x="829" y="0"/>
                  </a:lnTo>
                  <a:lnTo>
                    <a:pt x="821" y="0"/>
                  </a:lnTo>
                  <a:lnTo>
                    <a:pt x="821" y="0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81560" y="189000"/>
              <a:ext cx="629640" cy="609480"/>
            </a:xfrm>
            <a:custGeom>
              <a:avLst/>
              <a:gdLst/>
              <a:ahLst/>
              <a:rect l="l" t="t" r="r" b="b"/>
              <a:pathLst>
                <a:path w="1329" h="1287">
                  <a:moveTo>
                    <a:pt x="534" y="163"/>
                  </a:moveTo>
                  <a:lnTo>
                    <a:pt x="534" y="162"/>
                  </a:lnTo>
                  <a:lnTo>
                    <a:pt x="544" y="158"/>
                  </a:lnTo>
                  <a:lnTo>
                    <a:pt x="548" y="154"/>
                  </a:lnTo>
                  <a:lnTo>
                    <a:pt x="555" y="150"/>
                  </a:lnTo>
                  <a:lnTo>
                    <a:pt x="563" y="146"/>
                  </a:lnTo>
                  <a:lnTo>
                    <a:pt x="572" y="143"/>
                  </a:lnTo>
                  <a:lnTo>
                    <a:pt x="582" y="137"/>
                  </a:lnTo>
                  <a:lnTo>
                    <a:pt x="593" y="131"/>
                  </a:lnTo>
                  <a:lnTo>
                    <a:pt x="603" y="125"/>
                  </a:lnTo>
                  <a:lnTo>
                    <a:pt x="618" y="122"/>
                  </a:lnTo>
                  <a:lnTo>
                    <a:pt x="624" y="118"/>
                  </a:lnTo>
                  <a:lnTo>
                    <a:pt x="631" y="116"/>
                  </a:lnTo>
                  <a:lnTo>
                    <a:pt x="637" y="112"/>
                  </a:lnTo>
                  <a:lnTo>
                    <a:pt x="645" y="110"/>
                  </a:lnTo>
                  <a:lnTo>
                    <a:pt x="652" y="106"/>
                  </a:lnTo>
                  <a:lnTo>
                    <a:pt x="660" y="105"/>
                  </a:lnTo>
                  <a:lnTo>
                    <a:pt x="669" y="103"/>
                  </a:lnTo>
                  <a:lnTo>
                    <a:pt x="677" y="99"/>
                  </a:lnTo>
                  <a:lnTo>
                    <a:pt x="685" y="95"/>
                  </a:lnTo>
                  <a:lnTo>
                    <a:pt x="692" y="93"/>
                  </a:lnTo>
                  <a:lnTo>
                    <a:pt x="700" y="91"/>
                  </a:lnTo>
                  <a:lnTo>
                    <a:pt x="709" y="89"/>
                  </a:lnTo>
                  <a:lnTo>
                    <a:pt x="717" y="86"/>
                  </a:lnTo>
                  <a:lnTo>
                    <a:pt x="726" y="82"/>
                  </a:lnTo>
                  <a:lnTo>
                    <a:pt x="736" y="80"/>
                  </a:lnTo>
                  <a:lnTo>
                    <a:pt x="745" y="78"/>
                  </a:lnTo>
                  <a:lnTo>
                    <a:pt x="753" y="74"/>
                  </a:lnTo>
                  <a:lnTo>
                    <a:pt x="763" y="72"/>
                  </a:lnTo>
                  <a:lnTo>
                    <a:pt x="772" y="70"/>
                  </a:lnTo>
                  <a:lnTo>
                    <a:pt x="782" y="68"/>
                  </a:lnTo>
                  <a:lnTo>
                    <a:pt x="791" y="67"/>
                  </a:lnTo>
                  <a:lnTo>
                    <a:pt x="801" y="65"/>
                  </a:lnTo>
                  <a:lnTo>
                    <a:pt x="810" y="63"/>
                  </a:lnTo>
                  <a:lnTo>
                    <a:pt x="821" y="63"/>
                  </a:lnTo>
                  <a:lnTo>
                    <a:pt x="829" y="61"/>
                  </a:lnTo>
                  <a:lnTo>
                    <a:pt x="840" y="59"/>
                  </a:lnTo>
                  <a:lnTo>
                    <a:pt x="850" y="57"/>
                  </a:lnTo>
                  <a:lnTo>
                    <a:pt x="859" y="57"/>
                  </a:lnTo>
                  <a:lnTo>
                    <a:pt x="871" y="55"/>
                  </a:lnTo>
                  <a:lnTo>
                    <a:pt x="880" y="55"/>
                  </a:lnTo>
                  <a:lnTo>
                    <a:pt x="892" y="55"/>
                  </a:lnTo>
                  <a:lnTo>
                    <a:pt x="901" y="55"/>
                  </a:lnTo>
                  <a:lnTo>
                    <a:pt x="913" y="55"/>
                  </a:lnTo>
                  <a:lnTo>
                    <a:pt x="922" y="55"/>
                  </a:lnTo>
                  <a:lnTo>
                    <a:pt x="932" y="55"/>
                  </a:lnTo>
                  <a:lnTo>
                    <a:pt x="943" y="55"/>
                  </a:lnTo>
                  <a:lnTo>
                    <a:pt x="953" y="55"/>
                  </a:lnTo>
                  <a:lnTo>
                    <a:pt x="962" y="57"/>
                  </a:lnTo>
                  <a:lnTo>
                    <a:pt x="974" y="57"/>
                  </a:lnTo>
                  <a:lnTo>
                    <a:pt x="985" y="61"/>
                  </a:lnTo>
                  <a:lnTo>
                    <a:pt x="994" y="61"/>
                  </a:lnTo>
                  <a:lnTo>
                    <a:pt x="1004" y="63"/>
                  </a:lnTo>
                  <a:lnTo>
                    <a:pt x="1013" y="65"/>
                  </a:lnTo>
                  <a:lnTo>
                    <a:pt x="1023" y="68"/>
                  </a:lnTo>
                  <a:lnTo>
                    <a:pt x="1032" y="68"/>
                  </a:lnTo>
                  <a:lnTo>
                    <a:pt x="1042" y="72"/>
                  </a:lnTo>
                  <a:lnTo>
                    <a:pt x="1050" y="74"/>
                  </a:lnTo>
                  <a:lnTo>
                    <a:pt x="1059" y="78"/>
                  </a:lnTo>
                  <a:lnTo>
                    <a:pt x="1067" y="82"/>
                  </a:lnTo>
                  <a:lnTo>
                    <a:pt x="1076" y="84"/>
                  </a:lnTo>
                  <a:lnTo>
                    <a:pt x="1084" y="87"/>
                  </a:lnTo>
                  <a:lnTo>
                    <a:pt x="1093" y="91"/>
                  </a:lnTo>
                  <a:lnTo>
                    <a:pt x="1101" y="95"/>
                  </a:lnTo>
                  <a:lnTo>
                    <a:pt x="1108" y="99"/>
                  </a:lnTo>
                  <a:lnTo>
                    <a:pt x="1116" y="103"/>
                  </a:lnTo>
                  <a:lnTo>
                    <a:pt x="1124" y="108"/>
                  </a:lnTo>
                  <a:lnTo>
                    <a:pt x="1131" y="112"/>
                  </a:lnTo>
                  <a:lnTo>
                    <a:pt x="1137" y="116"/>
                  </a:lnTo>
                  <a:lnTo>
                    <a:pt x="1145" y="122"/>
                  </a:lnTo>
                  <a:lnTo>
                    <a:pt x="1150" y="125"/>
                  </a:lnTo>
                  <a:lnTo>
                    <a:pt x="1164" y="137"/>
                  </a:lnTo>
                  <a:lnTo>
                    <a:pt x="1177" y="148"/>
                  </a:lnTo>
                  <a:lnTo>
                    <a:pt x="1188" y="160"/>
                  </a:lnTo>
                  <a:lnTo>
                    <a:pt x="1200" y="173"/>
                  </a:lnTo>
                  <a:lnTo>
                    <a:pt x="1204" y="179"/>
                  </a:lnTo>
                  <a:lnTo>
                    <a:pt x="1209" y="186"/>
                  </a:lnTo>
                  <a:lnTo>
                    <a:pt x="1213" y="194"/>
                  </a:lnTo>
                  <a:lnTo>
                    <a:pt x="1221" y="201"/>
                  </a:lnTo>
                  <a:lnTo>
                    <a:pt x="1223" y="207"/>
                  </a:lnTo>
                  <a:lnTo>
                    <a:pt x="1226" y="215"/>
                  </a:lnTo>
                  <a:lnTo>
                    <a:pt x="1230" y="222"/>
                  </a:lnTo>
                  <a:lnTo>
                    <a:pt x="1234" y="230"/>
                  </a:lnTo>
                  <a:lnTo>
                    <a:pt x="1238" y="236"/>
                  </a:lnTo>
                  <a:lnTo>
                    <a:pt x="1242" y="245"/>
                  </a:lnTo>
                  <a:lnTo>
                    <a:pt x="1245" y="253"/>
                  </a:lnTo>
                  <a:lnTo>
                    <a:pt x="1249" y="262"/>
                  </a:lnTo>
                  <a:lnTo>
                    <a:pt x="1251" y="270"/>
                  </a:lnTo>
                  <a:lnTo>
                    <a:pt x="1253" y="277"/>
                  </a:lnTo>
                  <a:lnTo>
                    <a:pt x="1255" y="287"/>
                  </a:lnTo>
                  <a:lnTo>
                    <a:pt x="1259" y="295"/>
                  </a:lnTo>
                  <a:lnTo>
                    <a:pt x="1261" y="304"/>
                  </a:lnTo>
                  <a:lnTo>
                    <a:pt x="1262" y="314"/>
                  </a:lnTo>
                  <a:lnTo>
                    <a:pt x="1264" y="321"/>
                  </a:lnTo>
                  <a:lnTo>
                    <a:pt x="1268" y="333"/>
                  </a:lnTo>
                  <a:lnTo>
                    <a:pt x="1268" y="342"/>
                  </a:lnTo>
                  <a:lnTo>
                    <a:pt x="1268" y="352"/>
                  </a:lnTo>
                  <a:lnTo>
                    <a:pt x="1270" y="359"/>
                  </a:lnTo>
                  <a:lnTo>
                    <a:pt x="1270" y="371"/>
                  </a:lnTo>
                  <a:lnTo>
                    <a:pt x="1270" y="380"/>
                  </a:lnTo>
                  <a:lnTo>
                    <a:pt x="1272" y="392"/>
                  </a:lnTo>
                  <a:lnTo>
                    <a:pt x="1272" y="401"/>
                  </a:lnTo>
                  <a:lnTo>
                    <a:pt x="1274" y="412"/>
                  </a:lnTo>
                  <a:lnTo>
                    <a:pt x="1274" y="422"/>
                  </a:lnTo>
                  <a:lnTo>
                    <a:pt x="1274" y="433"/>
                  </a:lnTo>
                  <a:lnTo>
                    <a:pt x="1274" y="445"/>
                  </a:lnTo>
                  <a:lnTo>
                    <a:pt x="1274" y="456"/>
                  </a:lnTo>
                  <a:lnTo>
                    <a:pt x="1272" y="466"/>
                  </a:lnTo>
                  <a:lnTo>
                    <a:pt x="1270" y="477"/>
                  </a:lnTo>
                  <a:lnTo>
                    <a:pt x="1270" y="488"/>
                  </a:lnTo>
                  <a:lnTo>
                    <a:pt x="1270" y="502"/>
                  </a:lnTo>
                  <a:lnTo>
                    <a:pt x="1268" y="507"/>
                  </a:lnTo>
                  <a:lnTo>
                    <a:pt x="1266" y="517"/>
                  </a:lnTo>
                  <a:lnTo>
                    <a:pt x="1264" y="525"/>
                  </a:lnTo>
                  <a:lnTo>
                    <a:pt x="1262" y="534"/>
                  </a:lnTo>
                  <a:lnTo>
                    <a:pt x="1261" y="542"/>
                  </a:lnTo>
                  <a:lnTo>
                    <a:pt x="1257" y="553"/>
                  </a:lnTo>
                  <a:lnTo>
                    <a:pt x="1255" y="561"/>
                  </a:lnTo>
                  <a:lnTo>
                    <a:pt x="1253" y="572"/>
                  </a:lnTo>
                  <a:lnTo>
                    <a:pt x="1249" y="580"/>
                  </a:lnTo>
                  <a:lnTo>
                    <a:pt x="1245" y="589"/>
                  </a:lnTo>
                  <a:lnTo>
                    <a:pt x="1242" y="599"/>
                  </a:lnTo>
                  <a:lnTo>
                    <a:pt x="1240" y="610"/>
                  </a:lnTo>
                  <a:lnTo>
                    <a:pt x="1234" y="620"/>
                  </a:lnTo>
                  <a:lnTo>
                    <a:pt x="1230" y="629"/>
                  </a:lnTo>
                  <a:lnTo>
                    <a:pt x="1226" y="639"/>
                  </a:lnTo>
                  <a:lnTo>
                    <a:pt x="1223" y="650"/>
                  </a:lnTo>
                  <a:lnTo>
                    <a:pt x="1217" y="659"/>
                  </a:lnTo>
                  <a:lnTo>
                    <a:pt x="1213" y="669"/>
                  </a:lnTo>
                  <a:lnTo>
                    <a:pt x="1207" y="678"/>
                  </a:lnTo>
                  <a:lnTo>
                    <a:pt x="1204" y="690"/>
                  </a:lnTo>
                  <a:lnTo>
                    <a:pt x="1196" y="699"/>
                  </a:lnTo>
                  <a:lnTo>
                    <a:pt x="1190" y="711"/>
                  </a:lnTo>
                  <a:lnTo>
                    <a:pt x="1185" y="722"/>
                  </a:lnTo>
                  <a:lnTo>
                    <a:pt x="1179" y="734"/>
                  </a:lnTo>
                  <a:lnTo>
                    <a:pt x="1171" y="743"/>
                  </a:lnTo>
                  <a:lnTo>
                    <a:pt x="1166" y="754"/>
                  </a:lnTo>
                  <a:lnTo>
                    <a:pt x="1160" y="766"/>
                  </a:lnTo>
                  <a:lnTo>
                    <a:pt x="1154" y="775"/>
                  </a:lnTo>
                  <a:lnTo>
                    <a:pt x="1146" y="787"/>
                  </a:lnTo>
                  <a:lnTo>
                    <a:pt x="1139" y="798"/>
                  </a:lnTo>
                  <a:lnTo>
                    <a:pt x="1131" y="810"/>
                  </a:lnTo>
                  <a:lnTo>
                    <a:pt x="1126" y="819"/>
                  </a:lnTo>
                  <a:lnTo>
                    <a:pt x="1118" y="831"/>
                  </a:lnTo>
                  <a:lnTo>
                    <a:pt x="1108" y="840"/>
                  </a:lnTo>
                  <a:lnTo>
                    <a:pt x="1101" y="851"/>
                  </a:lnTo>
                  <a:lnTo>
                    <a:pt x="1093" y="861"/>
                  </a:lnTo>
                  <a:lnTo>
                    <a:pt x="1084" y="872"/>
                  </a:lnTo>
                  <a:lnTo>
                    <a:pt x="1074" y="882"/>
                  </a:lnTo>
                  <a:lnTo>
                    <a:pt x="1065" y="893"/>
                  </a:lnTo>
                  <a:lnTo>
                    <a:pt x="1057" y="905"/>
                  </a:lnTo>
                  <a:lnTo>
                    <a:pt x="1048" y="914"/>
                  </a:lnTo>
                  <a:lnTo>
                    <a:pt x="1038" y="924"/>
                  </a:lnTo>
                  <a:lnTo>
                    <a:pt x="1029" y="933"/>
                  </a:lnTo>
                  <a:lnTo>
                    <a:pt x="1019" y="945"/>
                  </a:lnTo>
                  <a:lnTo>
                    <a:pt x="1008" y="954"/>
                  </a:lnTo>
                  <a:lnTo>
                    <a:pt x="998" y="964"/>
                  </a:lnTo>
                  <a:lnTo>
                    <a:pt x="989" y="975"/>
                  </a:lnTo>
                  <a:lnTo>
                    <a:pt x="979" y="984"/>
                  </a:lnTo>
                  <a:lnTo>
                    <a:pt x="968" y="994"/>
                  </a:lnTo>
                  <a:lnTo>
                    <a:pt x="956" y="1003"/>
                  </a:lnTo>
                  <a:lnTo>
                    <a:pt x="945" y="1013"/>
                  </a:lnTo>
                  <a:lnTo>
                    <a:pt x="936" y="1022"/>
                  </a:lnTo>
                  <a:lnTo>
                    <a:pt x="924" y="1030"/>
                  </a:lnTo>
                  <a:lnTo>
                    <a:pt x="913" y="1040"/>
                  </a:lnTo>
                  <a:lnTo>
                    <a:pt x="901" y="1049"/>
                  </a:lnTo>
                  <a:lnTo>
                    <a:pt x="892" y="1059"/>
                  </a:lnTo>
                  <a:lnTo>
                    <a:pt x="878" y="1066"/>
                  </a:lnTo>
                  <a:lnTo>
                    <a:pt x="867" y="1074"/>
                  </a:lnTo>
                  <a:lnTo>
                    <a:pt x="854" y="1083"/>
                  </a:lnTo>
                  <a:lnTo>
                    <a:pt x="842" y="1091"/>
                  </a:lnTo>
                  <a:lnTo>
                    <a:pt x="829" y="1098"/>
                  </a:lnTo>
                  <a:lnTo>
                    <a:pt x="820" y="1106"/>
                  </a:lnTo>
                  <a:lnTo>
                    <a:pt x="806" y="1114"/>
                  </a:lnTo>
                  <a:lnTo>
                    <a:pt x="795" y="1123"/>
                  </a:lnTo>
                  <a:lnTo>
                    <a:pt x="782" y="1129"/>
                  </a:lnTo>
                  <a:lnTo>
                    <a:pt x="768" y="1135"/>
                  </a:lnTo>
                  <a:lnTo>
                    <a:pt x="755" y="1140"/>
                  </a:lnTo>
                  <a:lnTo>
                    <a:pt x="742" y="1148"/>
                  </a:lnTo>
                  <a:lnTo>
                    <a:pt x="728" y="1154"/>
                  </a:lnTo>
                  <a:lnTo>
                    <a:pt x="717" y="1159"/>
                  </a:lnTo>
                  <a:lnTo>
                    <a:pt x="704" y="1165"/>
                  </a:lnTo>
                  <a:lnTo>
                    <a:pt x="690" y="1171"/>
                  </a:lnTo>
                  <a:lnTo>
                    <a:pt x="677" y="1174"/>
                  </a:lnTo>
                  <a:lnTo>
                    <a:pt x="666" y="1180"/>
                  </a:lnTo>
                  <a:lnTo>
                    <a:pt x="652" y="1184"/>
                  </a:lnTo>
                  <a:lnTo>
                    <a:pt x="639" y="1190"/>
                  </a:lnTo>
                  <a:lnTo>
                    <a:pt x="626" y="1193"/>
                  </a:lnTo>
                  <a:lnTo>
                    <a:pt x="614" y="1197"/>
                  </a:lnTo>
                  <a:lnTo>
                    <a:pt x="601" y="1201"/>
                  </a:lnTo>
                  <a:lnTo>
                    <a:pt x="590" y="1205"/>
                  </a:lnTo>
                  <a:lnTo>
                    <a:pt x="576" y="1209"/>
                  </a:lnTo>
                  <a:lnTo>
                    <a:pt x="565" y="1211"/>
                  </a:lnTo>
                  <a:lnTo>
                    <a:pt x="552" y="1212"/>
                  </a:lnTo>
                  <a:lnTo>
                    <a:pt x="538" y="1216"/>
                  </a:lnTo>
                  <a:lnTo>
                    <a:pt x="527" y="1218"/>
                  </a:lnTo>
                  <a:lnTo>
                    <a:pt x="515" y="1220"/>
                  </a:lnTo>
                  <a:lnTo>
                    <a:pt x="502" y="1222"/>
                  </a:lnTo>
                  <a:lnTo>
                    <a:pt x="491" y="1226"/>
                  </a:lnTo>
                  <a:lnTo>
                    <a:pt x="479" y="1226"/>
                  </a:lnTo>
                  <a:lnTo>
                    <a:pt x="468" y="1228"/>
                  </a:lnTo>
                  <a:lnTo>
                    <a:pt x="456" y="1230"/>
                  </a:lnTo>
                  <a:lnTo>
                    <a:pt x="445" y="1230"/>
                  </a:lnTo>
                  <a:lnTo>
                    <a:pt x="434" y="1230"/>
                  </a:lnTo>
                  <a:lnTo>
                    <a:pt x="422" y="1232"/>
                  </a:lnTo>
                  <a:lnTo>
                    <a:pt x="413" y="1232"/>
                  </a:lnTo>
                  <a:lnTo>
                    <a:pt x="401" y="1232"/>
                  </a:lnTo>
                  <a:lnTo>
                    <a:pt x="388" y="1232"/>
                  </a:lnTo>
                  <a:lnTo>
                    <a:pt x="377" y="1232"/>
                  </a:lnTo>
                  <a:lnTo>
                    <a:pt x="367" y="1230"/>
                  </a:lnTo>
                  <a:lnTo>
                    <a:pt x="356" y="1230"/>
                  </a:lnTo>
                  <a:lnTo>
                    <a:pt x="344" y="1230"/>
                  </a:lnTo>
                  <a:lnTo>
                    <a:pt x="335" y="1228"/>
                  </a:lnTo>
                  <a:lnTo>
                    <a:pt x="325" y="1226"/>
                  </a:lnTo>
                  <a:lnTo>
                    <a:pt x="316" y="1226"/>
                  </a:lnTo>
                  <a:lnTo>
                    <a:pt x="304" y="1222"/>
                  </a:lnTo>
                  <a:lnTo>
                    <a:pt x="295" y="1222"/>
                  </a:lnTo>
                  <a:lnTo>
                    <a:pt x="285" y="1218"/>
                  </a:lnTo>
                  <a:lnTo>
                    <a:pt x="276" y="1218"/>
                  </a:lnTo>
                  <a:lnTo>
                    <a:pt x="266" y="1214"/>
                  </a:lnTo>
                  <a:lnTo>
                    <a:pt x="259" y="1212"/>
                  </a:lnTo>
                  <a:lnTo>
                    <a:pt x="247" y="1209"/>
                  </a:lnTo>
                  <a:lnTo>
                    <a:pt x="242" y="1207"/>
                  </a:lnTo>
                  <a:lnTo>
                    <a:pt x="230" y="1203"/>
                  </a:lnTo>
                  <a:lnTo>
                    <a:pt x="223" y="1199"/>
                  </a:lnTo>
                  <a:lnTo>
                    <a:pt x="215" y="1195"/>
                  </a:lnTo>
                  <a:lnTo>
                    <a:pt x="207" y="1192"/>
                  </a:lnTo>
                  <a:lnTo>
                    <a:pt x="200" y="1188"/>
                  </a:lnTo>
                  <a:lnTo>
                    <a:pt x="192" y="1184"/>
                  </a:lnTo>
                  <a:lnTo>
                    <a:pt x="185" y="1178"/>
                  </a:lnTo>
                  <a:lnTo>
                    <a:pt x="179" y="1174"/>
                  </a:lnTo>
                  <a:lnTo>
                    <a:pt x="171" y="1169"/>
                  </a:lnTo>
                  <a:lnTo>
                    <a:pt x="164" y="1165"/>
                  </a:lnTo>
                  <a:lnTo>
                    <a:pt x="158" y="1159"/>
                  </a:lnTo>
                  <a:lnTo>
                    <a:pt x="152" y="1155"/>
                  </a:lnTo>
                  <a:lnTo>
                    <a:pt x="141" y="1144"/>
                  </a:lnTo>
                  <a:lnTo>
                    <a:pt x="131" y="1133"/>
                  </a:lnTo>
                  <a:lnTo>
                    <a:pt x="126" y="1125"/>
                  </a:lnTo>
                  <a:lnTo>
                    <a:pt x="122" y="1117"/>
                  </a:lnTo>
                  <a:lnTo>
                    <a:pt x="114" y="1110"/>
                  </a:lnTo>
                  <a:lnTo>
                    <a:pt x="111" y="1102"/>
                  </a:lnTo>
                  <a:lnTo>
                    <a:pt x="105" y="1095"/>
                  </a:lnTo>
                  <a:lnTo>
                    <a:pt x="101" y="1085"/>
                  </a:lnTo>
                  <a:lnTo>
                    <a:pt x="97" y="1078"/>
                  </a:lnTo>
                  <a:lnTo>
                    <a:pt x="93" y="1068"/>
                  </a:lnTo>
                  <a:lnTo>
                    <a:pt x="90" y="1059"/>
                  </a:lnTo>
                  <a:lnTo>
                    <a:pt x="86" y="1049"/>
                  </a:lnTo>
                  <a:lnTo>
                    <a:pt x="82" y="1040"/>
                  </a:lnTo>
                  <a:lnTo>
                    <a:pt x="80" y="1030"/>
                  </a:lnTo>
                  <a:lnTo>
                    <a:pt x="76" y="1019"/>
                  </a:lnTo>
                  <a:lnTo>
                    <a:pt x="73" y="1009"/>
                  </a:lnTo>
                  <a:lnTo>
                    <a:pt x="71" y="1000"/>
                  </a:lnTo>
                  <a:lnTo>
                    <a:pt x="69" y="990"/>
                  </a:lnTo>
                  <a:lnTo>
                    <a:pt x="67" y="979"/>
                  </a:lnTo>
                  <a:lnTo>
                    <a:pt x="65" y="967"/>
                  </a:lnTo>
                  <a:lnTo>
                    <a:pt x="63" y="956"/>
                  </a:lnTo>
                  <a:lnTo>
                    <a:pt x="63" y="945"/>
                  </a:lnTo>
                  <a:lnTo>
                    <a:pt x="61" y="933"/>
                  </a:lnTo>
                  <a:lnTo>
                    <a:pt x="59" y="922"/>
                  </a:lnTo>
                  <a:lnTo>
                    <a:pt x="59" y="908"/>
                  </a:lnTo>
                  <a:lnTo>
                    <a:pt x="59" y="899"/>
                  </a:lnTo>
                  <a:lnTo>
                    <a:pt x="59" y="886"/>
                  </a:lnTo>
                  <a:lnTo>
                    <a:pt x="59" y="872"/>
                  </a:lnTo>
                  <a:lnTo>
                    <a:pt x="59" y="861"/>
                  </a:lnTo>
                  <a:lnTo>
                    <a:pt x="61" y="848"/>
                  </a:lnTo>
                  <a:lnTo>
                    <a:pt x="61" y="834"/>
                  </a:lnTo>
                  <a:lnTo>
                    <a:pt x="63" y="823"/>
                  </a:lnTo>
                  <a:lnTo>
                    <a:pt x="65" y="810"/>
                  </a:lnTo>
                  <a:lnTo>
                    <a:pt x="67" y="798"/>
                  </a:lnTo>
                  <a:lnTo>
                    <a:pt x="69" y="783"/>
                  </a:lnTo>
                  <a:lnTo>
                    <a:pt x="71" y="772"/>
                  </a:lnTo>
                  <a:lnTo>
                    <a:pt x="73" y="756"/>
                  </a:lnTo>
                  <a:lnTo>
                    <a:pt x="76" y="745"/>
                  </a:lnTo>
                  <a:lnTo>
                    <a:pt x="78" y="730"/>
                  </a:lnTo>
                  <a:lnTo>
                    <a:pt x="82" y="716"/>
                  </a:lnTo>
                  <a:lnTo>
                    <a:pt x="86" y="703"/>
                  </a:lnTo>
                  <a:lnTo>
                    <a:pt x="90" y="690"/>
                  </a:lnTo>
                  <a:lnTo>
                    <a:pt x="93" y="677"/>
                  </a:lnTo>
                  <a:lnTo>
                    <a:pt x="97" y="661"/>
                  </a:lnTo>
                  <a:lnTo>
                    <a:pt x="101" y="648"/>
                  </a:lnTo>
                  <a:lnTo>
                    <a:pt x="107" y="635"/>
                  </a:lnTo>
                  <a:lnTo>
                    <a:pt x="111" y="621"/>
                  </a:lnTo>
                  <a:lnTo>
                    <a:pt x="118" y="608"/>
                  </a:lnTo>
                  <a:lnTo>
                    <a:pt x="124" y="595"/>
                  </a:lnTo>
                  <a:lnTo>
                    <a:pt x="131" y="582"/>
                  </a:lnTo>
                  <a:lnTo>
                    <a:pt x="137" y="566"/>
                  </a:lnTo>
                  <a:lnTo>
                    <a:pt x="143" y="553"/>
                  </a:lnTo>
                  <a:lnTo>
                    <a:pt x="150" y="540"/>
                  </a:lnTo>
                  <a:lnTo>
                    <a:pt x="158" y="526"/>
                  </a:lnTo>
                  <a:lnTo>
                    <a:pt x="166" y="513"/>
                  </a:lnTo>
                  <a:lnTo>
                    <a:pt x="171" y="500"/>
                  </a:lnTo>
                  <a:lnTo>
                    <a:pt x="181" y="487"/>
                  </a:lnTo>
                  <a:lnTo>
                    <a:pt x="190" y="473"/>
                  </a:lnTo>
                  <a:lnTo>
                    <a:pt x="200" y="460"/>
                  </a:lnTo>
                  <a:lnTo>
                    <a:pt x="209" y="447"/>
                  </a:lnTo>
                  <a:lnTo>
                    <a:pt x="217" y="431"/>
                  </a:lnTo>
                  <a:lnTo>
                    <a:pt x="228" y="420"/>
                  </a:lnTo>
                  <a:lnTo>
                    <a:pt x="238" y="407"/>
                  </a:lnTo>
                  <a:lnTo>
                    <a:pt x="249" y="395"/>
                  </a:lnTo>
                  <a:lnTo>
                    <a:pt x="261" y="380"/>
                  </a:lnTo>
                  <a:lnTo>
                    <a:pt x="272" y="371"/>
                  </a:lnTo>
                  <a:lnTo>
                    <a:pt x="226" y="336"/>
                  </a:lnTo>
                  <a:lnTo>
                    <a:pt x="225" y="336"/>
                  </a:lnTo>
                  <a:lnTo>
                    <a:pt x="223" y="338"/>
                  </a:lnTo>
                  <a:lnTo>
                    <a:pt x="217" y="342"/>
                  </a:lnTo>
                  <a:lnTo>
                    <a:pt x="211" y="352"/>
                  </a:lnTo>
                  <a:lnTo>
                    <a:pt x="204" y="359"/>
                  </a:lnTo>
                  <a:lnTo>
                    <a:pt x="192" y="371"/>
                  </a:lnTo>
                  <a:lnTo>
                    <a:pt x="187" y="376"/>
                  </a:lnTo>
                  <a:lnTo>
                    <a:pt x="183" y="384"/>
                  </a:lnTo>
                  <a:lnTo>
                    <a:pt x="177" y="392"/>
                  </a:lnTo>
                  <a:lnTo>
                    <a:pt x="171" y="401"/>
                  </a:lnTo>
                  <a:lnTo>
                    <a:pt x="166" y="409"/>
                  </a:lnTo>
                  <a:lnTo>
                    <a:pt x="158" y="416"/>
                  </a:lnTo>
                  <a:lnTo>
                    <a:pt x="152" y="426"/>
                  </a:lnTo>
                  <a:lnTo>
                    <a:pt x="147" y="435"/>
                  </a:lnTo>
                  <a:lnTo>
                    <a:pt x="139" y="443"/>
                  </a:lnTo>
                  <a:lnTo>
                    <a:pt x="133" y="454"/>
                  </a:lnTo>
                  <a:lnTo>
                    <a:pt x="126" y="466"/>
                  </a:lnTo>
                  <a:lnTo>
                    <a:pt x="120" y="477"/>
                  </a:lnTo>
                  <a:lnTo>
                    <a:pt x="112" y="487"/>
                  </a:lnTo>
                  <a:lnTo>
                    <a:pt x="107" y="498"/>
                  </a:lnTo>
                  <a:lnTo>
                    <a:pt x="99" y="511"/>
                  </a:lnTo>
                  <a:lnTo>
                    <a:pt x="93" y="525"/>
                  </a:lnTo>
                  <a:lnTo>
                    <a:pt x="86" y="536"/>
                  </a:lnTo>
                  <a:lnTo>
                    <a:pt x="80" y="549"/>
                  </a:lnTo>
                  <a:lnTo>
                    <a:pt x="76" y="557"/>
                  </a:lnTo>
                  <a:lnTo>
                    <a:pt x="73" y="564"/>
                  </a:lnTo>
                  <a:lnTo>
                    <a:pt x="71" y="572"/>
                  </a:lnTo>
                  <a:lnTo>
                    <a:pt x="69" y="580"/>
                  </a:lnTo>
                  <a:lnTo>
                    <a:pt x="65" y="587"/>
                  </a:lnTo>
                  <a:lnTo>
                    <a:pt x="61" y="593"/>
                  </a:lnTo>
                  <a:lnTo>
                    <a:pt x="57" y="602"/>
                  </a:lnTo>
                  <a:lnTo>
                    <a:pt x="54" y="610"/>
                  </a:lnTo>
                  <a:lnTo>
                    <a:pt x="50" y="618"/>
                  </a:lnTo>
                  <a:lnTo>
                    <a:pt x="48" y="627"/>
                  </a:lnTo>
                  <a:lnTo>
                    <a:pt x="46" y="635"/>
                  </a:lnTo>
                  <a:lnTo>
                    <a:pt x="42" y="644"/>
                  </a:lnTo>
                  <a:lnTo>
                    <a:pt x="38" y="652"/>
                  </a:lnTo>
                  <a:lnTo>
                    <a:pt x="36" y="661"/>
                  </a:lnTo>
                  <a:lnTo>
                    <a:pt x="33" y="671"/>
                  </a:lnTo>
                  <a:lnTo>
                    <a:pt x="31" y="680"/>
                  </a:lnTo>
                  <a:lnTo>
                    <a:pt x="29" y="690"/>
                  </a:lnTo>
                  <a:lnTo>
                    <a:pt x="25" y="699"/>
                  </a:lnTo>
                  <a:lnTo>
                    <a:pt x="23" y="707"/>
                  </a:lnTo>
                  <a:lnTo>
                    <a:pt x="21" y="718"/>
                  </a:lnTo>
                  <a:lnTo>
                    <a:pt x="19" y="728"/>
                  </a:lnTo>
                  <a:lnTo>
                    <a:pt x="17" y="737"/>
                  </a:lnTo>
                  <a:lnTo>
                    <a:pt x="15" y="745"/>
                  </a:lnTo>
                  <a:lnTo>
                    <a:pt x="14" y="754"/>
                  </a:lnTo>
                  <a:lnTo>
                    <a:pt x="12" y="766"/>
                  </a:lnTo>
                  <a:lnTo>
                    <a:pt x="10" y="775"/>
                  </a:lnTo>
                  <a:lnTo>
                    <a:pt x="8" y="785"/>
                  </a:lnTo>
                  <a:lnTo>
                    <a:pt x="8" y="796"/>
                  </a:lnTo>
                  <a:lnTo>
                    <a:pt x="4" y="806"/>
                  </a:lnTo>
                  <a:lnTo>
                    <a:pt x="4" y="815"/>
                  </a:lnTo>
                  <a:lnTo>
                    <a:pt x="2" y="825"/>
                  </a:lnTo>
                  <a:lnTo>
                    <a:pt x="2" y="836"/>
                  </a:lnTo>
                  <a:lnTo>
                    <a:pt x="2" y="846"/>
                  </a:lnTo>
                  <a:lnTo>
                    <a:pt x="2" y="855"/>
                  </a:lnTo>
                  <a:lnTo>
                    <a:pt x="2" y="867"/>
                  </a:lnTo>
                  <a:lnTo>
                    <a:pt x="2" y="878"/>
                  </a:lnTo>
                  <a:lnTo>
                    <a:pt x="0" y="889"/>
                  </a:lnTo>
                  <a:lnTo>
                    <a:pt x="0" y="901"/>
                  </a:lnTo>
                  <a:lnTo>
                    <a:pt x="0" y="912"/>
                  </a:lnTo>
                  <a:lnTo>
                    <a:pt x="2" y="924"/>
                  </a:lnTo>
                  <a:lnTo>
                    <a:pt x="2" y="935"/>
                  </a:lnTo>
                  <a:lnTo>
                    <a:pt x="2" y="946"/>
                  </a:lnTo>
                  <a:lnTo>
                    <a:pt x="4" y="958"/>
                  </a:lnTo>
                  <a:lnTo>
                    <a:pt x="6" y="967"/>
                  </a:lnTo>
                  <a:lnTo>
                    <a:pt x="6" y="979"/>
                  </a:lnTo>
                  <a:lnTo>
                    <a:pt x="8" y="988"/>
                  </a:lnTo>
                  <a:lnTo>
                    <a:pt x="10" y="1000"/>
                  </a:lnTo>
                  <a:lnTo>
                    <a:pt x="12" y="1011"/>
                  </a:lnTo>
                  <a:lnTo>
                    <a:pt x="14" y="1021"/>
                  </a:lnTo>
                  <a:lnTo>
                    <a:pt x="15" y="1032"/>
                  </a:lnTo>
                  <a:lnTo>
                    <a:pt x="19" y="1041"/>
                  </a:lnTo>
                  <a:lnTo>
                    <a:pt x="23" y="1053"/>
                  </a:lnTo>
                  <a:lnTo>
                    <a:pt x="25" y="1060"/>
                  </a:lnTo>
                  <a:lnTo>
                    <a:pt x="29" y="1070"/>
                  </a:lnTo>
                  <a:lnTo>
                    <a:pt x="33" y="1079"/>
                  </a:lnTo>
                  <a:lnTo>
                    <a:pt x="36" y="1089"/>
                  </a:lnTo>
                  <a:lnTo>
                    <a:pt x="40" y="1098"/>
                  </a:lnTo>
                  <a:lnTo>
                    <a:pt x="44" y="1108"/>
                  </a:lnTo>
                  <a:lnTo>
                    <a:pt x="50" y="1116"/>
                  </a:lnTo>
                  <a:lnTo>
                    <a:pt x="54" y="1125"/>
                  </a:lnTo>
                  <a:lnTo>
                    <a:pt x="57" y="1133"/>
                  </a:lnTo>
                  <a:lnTo>
                    <a:pt x="63" y="1142"/>
                  </a:lnTo>
                  <a:lnTo>
                    <a:pt x="69" y="1150"/>
                  </a:lnTo>
                  <a:lnTo>
                    <a:pt x="76" y="1159"/>
                  </a:lnTo>
                  <a:lnTo>
                    <a:pt x="80" y="1167"/>
                  </a:lnTo>
                  <a:lnTo>
                    <a:pt x="88" y="1174"/>
                  </a:lnTo>
                  <a:lnTo>
                    <a:pt x="95" y="1180"/>
                  </a:lnTo>
                  <a:lnTo>
                    <a:pt x="103" y="1190"/>
                  </a:lnTo>
                  <a:lnTo>
                    <a:pt x="109" y="1195"/>
                  </a:lnTo>
                  <a:lnTo>
                    <a:pt x="116" y="1201"/>
                  </a:lnTo>
                  <a:lnTo>
                    <a:pt x="124" y="1209"/>
                  </a:lnTo>
                  <a:lnTo>
                    <a:pt x="131" y="1214"/>
                  </a:lnTo>
                  <a:lnTo>
                    <a:pt x="139" y="1220"/>
                  </a:lnTo>
                  <a:lnTo>
                    <a:pt x="149" y="1226"/>
                  </a:lnTo>
                  <a:lnTo>
                    <a:pt x="156" y="1232"/>
                  </a:lnTo>
                  <a:lnTo>
                    <a:pt x="166" y="1237"/>
                  </a:lnTo>
                  <a:lnTo>
                    <a:pt x="175" y="1241"/>
                  </a:lnTo>
                  <a:lnTo>
                    <a:pt x="185" y="1247"/>
                  </a:lnTo>
                  <a:lnTo>
                    <a:pt x="194" y="1251"/>
                  </a:lnTo>
                  <a:lnTo>
                    <a:pt x="206" y="1256"/>
                  </a:lnTo>
                  <a:lnTo>
                    <a:pt x="215" y="1260"/>
                  </a:lnTo>
                  <a:lnTo>
                    <a:pt x="226" y="1264"/>
                  </a:lnTo>
                  <a:lnTo>
                    <a:pt x="238" y="1266"/>
                  </a:lnTo>
                  <a:lnTo>
                    <a:pt x="251" y="1271"/>
                  </a:lnTo>
                  <a:lnTo>
                    <a:pt x="261" y="1273"/>
                  </a:lnTo>
                  <a:lnTo>
                    <a:pt x="274" y="1277"/>
                  </a:lnTo>
                  <a:lnTo>
                    <a:pt x="285" y="1279"/>
                  </a:lnTo>
                  <a:lnTo>
                    <a:pt x="299" y="1281"/>
                  </a:lnTo>
                  <a:lnTo>
                    <a:pt x="312" y="1283"/>
                  </a:lnTo>
                  <a:lnTo>
                    <a:pt x="325" y="1283"/>
                  </a:lnTo>
                  <a:lnTo>
                    <a:pt x="341" y="1285"/>
                  </a:lnTo>
                  <a:lnTo>
                    <a:pt x="354" y="1287"/>
                  </a:lnTo>
                  <a:lnTo>
                    <a:pt x="369" y="1287"/>
                  </a:lnTo>
                  <a:lnTo>
                    <a:pt x="384" y="1287"/>
                  </a:lnTo>
                  <a:lnTo>
                    <a:pt x="398" y="1287"/>
                  </a:lnTo>
                  <a:lnTo>
                    <a:pt x="417" y="1287"/>
                  </a:lnTo>
                  <a:lnTo>
                    <a:pt x="432" y="1287"/>
                  </a:lnTo>
                  <a:lnTo>
                    <a:pt x="449" y="1287"/>
                  </a:lnTo>
                  <a:lnTo>
                    <a:pt x="466" y="1285"/>
                  </a:lnTo>
                  <a:lnTo>
                    <a:pt x="483" y="1285"/>
                  </a:lnTo>
                  <a:lnTo>
                    <a:pt x="500" y="1283"/>
                  </a:lnTo>
                  <a:lnTo>
                    <a:pt x="515" y="1281"/>
                  </a:lnTo>
                  <a:lnTo>
                    <a:pt x="533" y="1277"/>
                  </a:lnTo>
                  <a:lnTo>
                    <a:pt x="550" y="1275"/>
                  </a:lnTo>
                  <a:lnTo>
                    <a:pt x="565" y="1271"/>
                  </a:lnTo>
                  <a:lnTo>
                    <a:pt x="582" y="1268"/>
                  </a:lnTo>
                  <a:lnTo>
                    <a:pt x="597" y="1264"/>
                  </a:lnTo>
                  <a:lnTo>
                    <a:pt x="614" y="1260"/>
                  </a:lnTo>
                  <a:lnTo>
                    <a:pt x="629" y="1256"/>
                  </a:lnTo>
                  <a:lnTo>
                    <a:pt x="645" y="1251"/>
                  </a:lnTo>
                  <a:lnTo>
                    <a:pt x="660" y="1247"/>
                  </a:lnTo>
                  <a:lnTo>
                    <a:pt x="675" y="1241"/>
                  </a:lnTo>
                  <a:lnTo>
                    <a:pt x="690" y="1235"/>
                  </a:lnTo>
                  <a:lnTo>
                    <a:pt x="707" y="1230"/>
                  </a:lnTo>
                  <a:lnTo>
                    <a:pt x="723" y="1222"/>
                  </a:lnTo>
                  <a:lnTo>
                    <a:pt x="738" y="1218"/>
                  </a:lnTo>
                  <a:lnTo>
                    <a:pt x="753" y="1211"/>
                  </a:lnTo>
                  <a:lnTo>
                    <a:pt x="768" y="1203"/>
                  </a:lnTo>
                  <a:lnTo>
                    <a:pt x="782" y="1195"/>
                  </a:lnTo>
                  <a:lnTo>
                    <a:pt x="797" y="1188"/>
                  </a:lnTo>
                  <a:lnTo>
                    <a:pt x="810" y="1180"/>
                  </a:lnTo>
                  <a:lnTo>
                    <a:pt x="825" y="1173"/>
                  </a:lnTo>
                  <a:lnTo>
                    <a:pt x="840" y="1163"/>
                  </a:lnTo>
                  <a:lnTo>
                    <a:pt x="854" y="1157"/>
                  </a:lnTo>
                  <a:lnTo>
                    <a:pt x="867" y="1146"/>
                  </a:lnTo>
                  <a:lnTo>
                    <a:pt x="880" y="1138"/>
                  </a:lnTo>
                  <a:lnTo>
                    <a:pt x="896" y="1129"/>
                  </a:lnTo>
                  <a:lnTo>
                    <a:pt x="909" y="1119"/>
                  </a:lnTo>
                  <a:lnTo>
                    <a:pt x="922" y="1110"/>
                  </a:lnTo>
                  <a:lnTo>
                    <a:pt x="936" y="1100"/>
                  </a:lnTo>
                  <a:lnTo>
                    <a:pt x="949" y="1091"/>
                  </a:lnTo>
                  <a:lnTo>
                    <a:pt x="962" y="1081"/>
                  </a:lnTo>
                  <a:lnTo>
                    <a:pt x="974" y="1070"/>
                  </a:lnTo>
                  <a:lnTo>
                    <a:pt x="985" y="1060"/>
                  </a:lnTo>
                  <a:lnTo>
                    <a:pt x="998" y="1049"/>
                  </a:lnTo>
                  <a:lnTo>
                    <a:pt x="1010" y="1038"/>
                  </a:lnTo>
                  <a:lnTo>
                    <a:pt x="1021" y="1026"/>
                  </a:lnTo>
                  <a:lnTo>
                    <a:pt x="1032" y="1015"/>
                  </a:lnTo>
                  <a:lnTo>
                    <a:pt x="1046" y="1003"/>
                  </a:lnTo>
                  <a:lnTo>
                    <a:pt x="1057" y="992"/>
                  </a:lnTo>
                  <a:lnTo>
                    <a:pt x="1069" y="981"/>
                  </a:lnTo>
                  <a:lnTo>
                    <a:pt x="1080" y="967"/>
                  </a:lnTo>
                  <a:lnTo>
                    <a:pt x="1089" y="956"/>
                  </a:lnTo>
                  <a:lnTo>
                    <a:pt x="1101" y="945"/>
                  </a:lnTo>
                  <a:lnTo>
                    <a:pt x="1110" y="933"/>
                  </a:lnTo>
                  <a:lnTo>
                    <a:pt x="1120" y="920"/>
                  </a:lnTo>
                  <a:lnTo>
                    <a:pt x="1131" y="908"/>
                  </a:lnTo>
                  <a:lnTo>
                    <a:pt x="1141" y="897"/>
                  </a:lnTo>
                  <a:lnTo>
                    <a:pt x="1150" y="884"/>
                  </a:lnTo>
                  <a:lnTo>
                    <a:pt x="1160" y="870"/>
                  </a:lnTo>
                  <a:lnTo>
                    <a:pt x="1167" y="857"/>
                  </a:lnTo>
                  <a:lnTo>
                    <a:pt x="1179" y="844"/>
                  </a:lnTo>
                  <a:lnTo>
                    <a:pt x="1186" y="831"/>
                  </a:lnTo>
                  <a:lnTo>
                    <a:pt x="1196" y="819"/>
                  </a:lnTo>
                  <a:lnTo>
                    <a:pt x="1204" y="806"/>
                  </a:lnTo>
                  <a:lnTo>
                    <a:pt x="1213" y="792"/>
                  </a:lnTo>
                  <a:lnTo>
                    <a:pt x="1221" y="779"/>
                  </a:lnTo>
                  <a:lnTo>
                    <a:pt x="1226" y="766"/>
                  </a:lnTo>
                  <a:lnTo>
                    <a:pt x="1234" y="753"/>
                  </a:lnTo>
                  <a:lnTo>
                    <a:pt x="1243" y="741"/>
                  </a:lnTo>
                  <a:lnTo>
                    <a:pt x="1249" y="728"/>
                  </a:lnTo>
                  <a:lnTo>
                    <a:pt x="1257" y="713"/>
                  </a:lnTo>
                  <a:lnTo>
                    <a:pt x="1262" y="699"/>
                  </a:lnTo>
                  <a:lnTo>
                    <a:pt x="1270" y="688"/>
                  </a:lnTo>
                  <a:lnTo>
                    <a:pt x="1272" y="680"/>
                  </a:lnTo>
                  <a:lnTo>
                    <a:pt x="1274" y="675"/>
                  </a:lnTo>
                  <a:lnTo>
                    <a:pt x="1278" y="667"/>
                  </a:lnTo>
                  <a:lnTo>
                    <a:pt x="1280" y="661"/>
                  </a:lnTo>
                  <a:lnTo>
                    <a:pt x="1281" y="654"/>
                  </a:lnTo>
                  <a:lnTo>
                    <a:pt x="1285" y="646"/>
                  </a:lnTo>
                  <a:lnTo>
                    <a:pt x="1287" y="639"/>
                  </a:lnTo>
                  <a:lnTo>
                    <a:pt x="1291" y="631"/>
                  </a:lnTo>
                  <a:lnTo>
                    <a:pt x="1291" y="623"/>
                  </a:lnTo>
                  <a:lnTo>
                    <a:pt x="1295" y="614"/>
                  </a:lnTo>
                  <a:lnTo>
                    <a:pt x="1297" y="606"/>
                  </a:lnTo>
                  <a:lnTo>
                    <a:pt x="1300" y="599"/>
                  </a:lnTo>
                  <a:lnTo>
                    <a:pt x="1302" y="589"/>
                  </a:lnTo>
                  <a:lnTo>
                    <a:pt x="1306" y="582"/>
                  </a:lnTo>
                  <a:lnTo>
                    <a:pt x="1306" y="572"/>
                  </a:lnTo>
                  <a:lnTo>
                    <a:pt x="1310" y="566"/>
                  </a:lnTo>
                  <a:lnTo>
                    <a:pt x="1312" y="555"/>
                  </a:lnTo>
                  <a:lnTo>
                    <a:pt x="1312" y="547"/>
                  </a:lnTo>
                  <a:lnTo>
                    <a:pt x="1314" y="538"/>
                  </a:lnTo>
                  <a:lnTo>
                    <a:pt x="1316" y="528"/>
                  </a:lnTo>
                  <a:lnTo>
                    <a:pt x="1318" y="519"/>
                  </a:lnTo>
                  <a:lnTo>
                    <a:pt x="1319" y="509"/>
                  </a:lnTo>
                  <a:lnTo>
                    <a:pt x="1319" y="500"/>
                  </a:lnTo>
                  <a:lnTo>
                    <a:pt x="1323" y="490"/>
                  </a:lnTo>
                  <a:lnTo>
                    <a:pt x="1323" y="481"/>
                  </a:lnTo>
                  <a:lnTo>
                    <a:pt x="1323" y="471"/>
                  </a:lnTo>
                  <a:lnTo>
                    <a:pt x="1325" y="460"/>
                  </a:lnTo>
                  <a:lnTo>
                    <a:pt x="1325" y="452"/>
                  </a:lnTo>
                  <a:lnTo>
                    <a:pt x="1325" y="441"/>
                  </a:lnTo>
                  <a:lnTo>
                    <a:pt x="1327" y="431"/>
                  </a:lnTo>
                  <a:lnTo>
                    <a:pt x="1327" y="422"/>
                  </a:lnTo>
                  <a:lnTo>
                    <a:pt x="1329" y="412"/>
                  </a:lnTo>
                  <a:lnTo>
                    <a:pt x="1327" y="401"/>
                  </a:lnTo>
                  <a:lnTo>
                    <a:pt x="1327" y="392"/>
                  </a:lnTo>
                  <a:lnTo>
                    <a:pt x="1325" y="380"/>
                  </a:lnTo>
                  <a:lnTo>
                    <a:pt x="1325" y="371"/>
                  </a:lnTo>
                  <a:lnTo>
                    <a:pt x="1325" y="359"/>
                  </a:lnTo>
                  <a:lnTo>
                    <a:pt x="1323" y="350"/>
                  </a:lnTo>
                  <a:lnTo>
                    <a:pt x="1323" y="340"/>
                  </a:lnTo>
                  <a:lnTo>
                    <a:pt x="1323" y="331"/>
                  </a:lnTo>
                  <a:lnTo>
                    <a:pt x="1319" y="319"/>
                  </a:lnTo>
                  <a:lnTo>
                    <a:pt x="1318" y="310"/>
                  </a:lnTo>
                  <a:lnTo>
                    <a:pt x="1316" y="300"/>
                  </a:lnTo>
                  <a:lnTo>
                    <a:pt x="1314" y="291"/>
                  </a:lnTo>
                  <a:lnTo>
                    <a:pt x="1310" y="279"/>
                  </a:lnTo>
                  <a:lnTo>
                    <a:pt x="1308" y="270"/>
                  </a:lnTo>
                  <a:lnTo>
                    <a:pt x="1304" y="260"/>
                  </a:lnTo>
                  <a:lnTo>
                    <a:pt x="1302" y="251"/>
                  </a:lnTo>
                  <a:lnTo>
                    <a:pt x="1297" y="239"/>
                  </a:lnTo>
                  <a:lnTo>
                    <a:pt x="1293" y="230"/>
                  </a:lnTo>
                  <a:lnTo>
                    <a:pt x="1289" y="220"/>
                  </a:lnTo>
                  <a:lnTo>
                    <a:pt x="1285" y="211"/>
                  </a:lnTo>
                  <a:lnTo>
                    <a:pt x="1280" y="201"/>
                  </a:lnTo>
                  <a:lnTo>
                    <a:pt x="1274" y="192"/>
                  </a:lnTo>
                  <a:lnTo>
                    <a:pt x="1270" y="182"/>
                  </a:lnTo>
                  <a:lnTo>
                    <a:pt x="1264" y="175"/>
                  </a:lnTo>
                  <a:lnTo>
                    <a:pt x="1259" y="165"/>
                  </a:lnTo>
                  <a:lnTo>
                    <a:pt x="1253" y="158"/>
                  </a:lnTo>
                  <a:lnTo>
                    <a:pt x="1245" y="146"/>
                  </a:lnTo>
                  <a:lnTo>
                    <a:pt x="1240" y="139"/>
                  </a:lnTo>
                  <a:lnTo>
                    <a:pt x="1232" y="129"/>
                  </a:lnTo>
                  <a:lnTo>
                    <a:pt x="1224" y="122"/>
                  </a:lnTo>
                  <a:lnTo>
                    <a:pt x="1217" y="114"/>
                  </a:lnTo>
                  <a:lnTo>
                    <a:pt x="1209" y="106"/>
                  </a:lnTo>
                  <a:lnTo>
                    <a:pt x="1200" y="99"/>
                  </a:lnTo>
                  <a:lnTo>
                    <a:pt x="1192" y="89"/>
                  </a:lnTo>
                  <a:lnTo>
                    <a:pt x="1183" y="82"/>
                  </a:lnTo>
                  <a:lnTo>
                    <a:pt x="1173" y="76"/>
                  </a:lnTo>
                  <a:lnTo>
                    <a:pt x="1164" y="68"/>
                  </a:lnTo>
                  <a:lnTo>
                    <a:pt x="1154" y="63"/>
                  </a:lnTo>
                  <a:lnTo>
                    <a:pt x="1145" y="57"/>
                  </a:lnTo>
                  <a:lnTo>
                    <a:pt x="1135" y="51"/>
                  </a:lnTo>
                  <a:lnTo>
                    <a:pt x="1124" y="46"/>
                  </a:lnTo>
                  <a:lnTo>
                    <a:pt x="1114" y="40"/>
                  </a:lnTo>
                  <a:lnTo>
                    <a:pt x="1105" y="36"/>
                  </a:lnTo>
                  <a:lnTo>
                    <a:pt x="1095" y="32"/>
                  </a:lnTo>
                  <a:lnTo>
                    <a:pt x="1084" y="27"/>
                  </a:lnTo>
                  <a:lnTo>
                    <a:pt x="1072" y="23"/>
                  </a:lnTo>
                  <a:lnTo>
                    <a:pt x="1063" y="21"/>
                  </a:lnTo>
                  <a:lnTo>
                    <a:pt x="1051" y="17"/>
                  </a:lnTo>
                  <a:lnTo>
                    <a:pt x="1040" y="13"/>
                  </a:lnTo>
                  <a:lnTo>
                    <a:pt x="1029" y="10"/>
                  </a:lnTo>
                  <a:lnTo>
                    <a:pt x="1017" y="8"/>
                  </a:lnTo>
                  <a:lnTo>
                    <a:pt x="1008" y="6"/>
                  </a:lnTo>
                  <a:lnTo>
                    <a:pt x="994" y="4"/>
                  </a:lnTo>
                  <a:lnTo>
                    <a:pt x="983" y="2"/>
                  </a:lnTo>
                  <a:lnTo>
                    <a:pt x="972" y="2"/>
                  </a:lnTo>
                  <a:lnTo>
                    <a:pt x="960" y="2"/>
                  </a:lnTo>
                  <a:lnTo>
                    <a:pt x="949" y="0"/>
                  </a:lnTo>
                  <a:lnTo>
                    <a:pt x="936" y="0"/>
                  </a:lnTo>
                  <a:lnTo>
                    <a:pt x="924" y="0"/>
                  </a:lnTo>
                  <a:lnTo>
                    <a:pt x="913" y="0"/>
                  </a:lnTo>
                  <a:lnTo>
                    <a:pt x="901" y="0"/>
                  </a:lnTo>
                  <a:lnTo>
                    <a:pt x="890" y="0"/>
                  </a:lnTo>
                  <a:lnTo>
                    <a:pt x="877" y="2"/>
                  </a:lnTo>
                  <a:lnTo>
                    <a:pt x="867" y="2"/>
                  </a:lnTo>
                  <a:lnTo>
                    <a:pt x="854" y="2"/>
                  </a:lnTo>
                  <a:lnTo>
                    <a:pt x="842" y="2"/>
                  </a:lnTo>
                  <a:lnTo>
                    <a:pt x="829" y="4"/>
                  </a:lnTo>
                  <a:lnTo>
                    <a:pt x="818" y="6"/>
                  </a:lnTo>
                  <a:lnTo>
                    <a:pt x="806" y="8"/>
                  </a:lnTo>
                  <a:lnTo>
                    <a:pt x="793" y="10"/>
                  </a:lnTo>
                  <a:lnTo>
                    <a:pt x="782" y="11"/>
                  </a:lnTo>
                  <a:lnTo>
                    <a:pt x="770" y="15"/>
                  </a:lnTo>
                  <a:lnTo>
                    <a:pt x="757" y="17"/>
                  </a:lnTo>
                  <a:lnTo>
                    <a:pt x="745" y="19"/>
                  </a:lnTo>
                  <a:lnTo>
                    <a:pt x="734" y="21"/>
                  </a:lnTo>
                  <a:lnTo>
                    <a:pt x="725" y="25"/>
                  </a:lnTo>
                  <a:lnTo>
                    <a:pt x="711" y="29"/>
                  </a:lnTo>
                  <a:lnTo>
                    <a:pt x="700" y="32"/>
                  </a:lnTo>
                  <a:lnTo>
                    <a:pt x="688" y="36"/>
                  </a:lnTo>
                  <a:lnTo>
                    <a:pt x="679" y="40"/>
                  </a:lnTo>
                  <a:lnTo>
                    <a:pt x="666" y="44"/>
                  </a:lnTo>
                  <a:lnTo>
                    <a:pt x="654" y="48"/>
                  </a:lnTo>
                  <a:lnTo>
                    <a:pt x="645" y="51"/>
                  </a:lnTo>
                  <a:lnTo>
                    <a:pt x="633" y="55"/>
                  </a:lnTo>
                  <a:lnTo>
                    <a:pt x="622" y="57"/>
                  </a:lnTo>
                  <a:lnTo>
                    <a:pt x="610" y="63"/>
                  </a:lnTo>
                  <a:lnTo>
                    <a:pt x="601" y="68"/>
                  </a:lnTo>
                  <a:lnTo>
                    <a:pt x="590" y="72"/>
                  </a:lnTo>
                  <a:lnTo>
                    <a:pt x="580" y="76"/>
                  </a:lnTo>
                  <a:lnTo>
                    <a:pt x="569" y="82"/>
                  </a:lnTo>
                  <a:lnTo>
                    <a:pt x="559" y="86"/>
                  </a:lnTo>
                  <a:lnTo>
                    <a:pt x="550" y="91"/>
                  </a:lnTo>
                  <a:lnTo>
                    <a:pt x="538" y="97"/>
                  </a:lnTo>
                  <a:lnTo>
                    <a:pt x="531" y="103"/>
                  </a:lnTo>
                  <a:lnTo>
                    <a:pt x="521" y="108"/>
                  </a:lnTo>
                  <a:lnTo>
                    <a:pt x="514" y="114"/>
                  </a:lnTo>
                  <a:lnTo>
                    <a:pt x="534" y="163"/>
                  </a:lnTo>
                  <a:lnTo>
                    <a:pt x="53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31600" y="209520"/>
              <a:ext cx="272160" cy="220680"/>
            </a:xfrm>
            <a:custGeom>
              <a:avLst/>
              <a:gdLst/>
              <a:ahLst/>
              <a:rect l="l" t="t" r="r" b="b"/>
              <a:pathLst>
                <a:path w="574" h="465">
                  <a:moveTo>
                    <a:pt x="545" y="66"/>
                  </a:moveTo>
                  <a:lnTo>
                    <a:pt x="541" y="66"/>
                  </a:lnTo>
                  <a:lnTo>
                    <a:pt x="534" y="68"/>
                  </a:lnTo>
                  <a:lnTo>
                    <a:pt x="528" y="70"/>
                  </a:lnTo>
                  <a:lnTo>
                    <a:pt x="522" y="72"/>
                  </a:lnTo>
                  <a:lnTo>
                    <a:pt x="515" y="76"/>
                  </a:lnTo>
                  <a:lnTo>
                    <a:pt x="507" y="80"/>
                  </a:lnTo>
                  <a:lnTo>
                    <a:pt x="498" y="83"/>
                  </a:lnTo>
                  <a:lnTo>
                    <a:pt x="488" y="87"/>
                  </a:lnTo>
                  <a:lnTo>
                    <a:pt x="475" y="93"/>
                  </a:lnTo>
                  <a:lnTo>
                    <a:pt x="465" y="99"/>
                  </a:lnTo>
                  <a:lnTo>
                    <a:pt x="452" y="104"/>
                  </a:lnTo>
                  <a:lnTo>
                    <a:pt x="439" y="112"/>
                  </a:lnTo>
                  <a:lnTo>
                    <a:pt x="431" y="116"/>
                  </a:lnTo>
                  <a:lnTo>
                    <a:pt x="426" y="119"/>
                  </a:lnTo>
                  <a:lnTo>
                    <a:pt x="418" y="123"/>
                  </a:lnTo>
                  <a:lnTo>
                    <a:pt x="412" y="129"/>
                  </a:lnTo>
                  <a:lnTo>
                    <a:pt x="403" y="133"/>
                  </a:lnTo>
                  <a:lnTo>
                    <a:pt x="393" y="138"/>
                  </a:lnTo>
                  <a:lnTo>
                    <a:pt x="384" y="144"/>
                  </a:lnTo>
                  <a:lnTo>
                    <a:pt x="372" y="152"/>
                  </a:lnTo>
                  <a:lnTo>
                    <a:pt x="363" y="156"/>
                  </a:lnTo>
                  <a:lnTo>
                    <a:pt x="353" y="163"/>
                  </a:lnTo>
                  <a:lnTo>
                    <a:pt x="342" y="171"/>
                  </a:lnTo>
                  <a:lnTo>
                    <a:pt x="332" y="178"/>
                  </a:lnTo>
                  <a:lnTo>
                    <a:pt x="321" y="184"/>
                  </a:lnTo>
                  <a:lnTo>
                    <a:pt x="310" y="192"/>
                  </a:lnTo>
                  <a:lnTo>
                    <a:pt x="298" y="199"/>
                  </a:lnTo>
                  <a:lnTo>
                    <a:pt x="289" y="207"/>
                  </a:lnTo>
                  <a:lnTo>
                    <a:pt x="277" y="214"/>
                  </a:lnTo>
                  <a:lnTo>
                    <a:pt x="268" y="224"/>
                  </a:lnTo>
                  <a:lnTo>
                    <a:pt x="258" y="233"/>
                  </a:lnTo>
                  <a:lnTo>
                    <a:pt x="251" y="243"/>
                  </a:lnTo>
                  <a:lnTo>
                    <a:pt x="243" y="247"/>
                  </a:lnTo>
                  <a:lnTo>
                    <a:pt x="235" y="254"/>
                  </a:lnTo>
                  <a:lnTo>
                    <a:pt x="230" y="258"/>
                  </a:lnTo>
                  <a:lnTo>
                    <a:pt x="222" y="264"/>
                  </a:lnTo>
                  <a:lnTo>
                    <a:pt x="209" y="277"/>
                  </a:lnTo>
                  <a:lnTo>
                    <a:pt x="199" y="289"/>
                  </a:lnTo>
                  <a:lnTo>
                    <a:pt x="186" y="300"/>
                  </a:lnTo>
                  <a:lnTo>
                    <a:pt x="175" y="313"/>
                  </a:lnTo>
                  <a:lnTo>
                    <a:pt x="167" y="319"/>
                  </a:lnTo>
                  <a:lnTo>
                    <a:pt x="161" y="327"/>
                  </a:lnTo>
                  <a:lnTo>
                    <a:pt x="156" y="332"/>
                  </a:lnTo>
                  <a:lnTo>
                    <a:pt x="152" y="340"/>
                  </a:lnTo>
                  <a:lnTo>
                    <a:pt x="144" y="348"/>
                  </a:lnTo>
                  <a:lnTo>
                    <a:pt x="138" y="353"/>
                  </a:lnTo>
                  <a:lnTo>
                    <a:pt x="133" y="361"/>
                  </a:lnTo>
                  <a:lnTo>
                    <a:pt x="127" y="368"/>
                  </a:lnTo>
                  <a:lnTo>
                    <a:pt x="121" y="374"/>
                  </a:lnTo>
                  <a:lnTo>
                    <a:pt x="118" y="382"/>
                  </a:lnTo>
                  <a:lnTo>
                    <a:pt x="110" y="389"/>
                  </a:lnTo>
                  <a:lnTo>
                    <a:pt x="106" y="397"/>
                  </a:lnTo>
                  <a:lnTo>
                    <a:pt x="100" y="405"/>
                  </a:lnTo>
                  <a:lnTo>
                    <a:pt x="95" y="412"/>
                  </a:lnTo>
                  <a:lnTo>
                    <a:pt x="89" y="420"/>
                  </a:lnTo>
                  <a:lnTo>
                    <a:pt x="83" y="429"/>
                  </a:lnTo>
                  <a:lnTo>
                    <a:pt x="78" y="437"/>
                  </a:lnTo>
                  <a:lnTo>
                    <a:pt x="72" y="446"/>
                  </a:lnTo>
                  <a:lnTo>
                    <a:pt x="66" y="456"/>
                  </a:lnTo>
                  <a:lnTo>
                    <a:pt x="62" y="465"/>
                  </a:lnTo>
                  <a:lnTo>
                    <a:pt x="0" y="458"/>
                  </a:lnTo>
                  <a:lnTo>
                    <a:pt x="2" y="450"/>
                  </a:lnTo>
                  <a:lnTo>
                    <a:pt x="7" y="441"/>
                  </a:lnTo>
                  <a:lnTo>
                    <a:pt x="9" y="435"/>
                  </a:lnTo>
                  <a:lnTo>
                    <a:pt x="13" y="429"/>
                  </a:lnTo>
                  <a:lnTo>
                    <a:pt x="17" y="422"/>
                  </a:lnTo>
                  <a:lnTo>
                    <a:pt x="21" y="416"/>
                  </a:lnTo>
                  <a:lnTo>
                    <a:pt x="24" y="408"/>
                  </a:lnTo>
                  <a:lnTo>
                    <a:pt x="30" y="401"/>
                  </a:lnTo>
                  <a:lnTo>
                    <a:pt x="34" y="391"/>
                  </a:lnTo>
                  <a:lnTo>
                    <a:pt x="42" y="384"/>
                  </a:lnTo>
                  <a:lnTo>
                    <a:pt x="49" y="374"/>
                  </a:lnTo>
                  <a:lnTo>
                    <a:pt x="55" y="365"/>
                  </a:lnTo>
                  <a:lnTo>
                    <a:pt x="62" y="353"/>
                  </a:lnTo>
                  <a:lnTo>
                    <a:pt x="72" y="344"/>
                  </a:lnTo>
                  <a:lnTo>
                    <a:pt x="80" y="332"/>
                  </a:lnTo>
                  <a:lnTo>
                    <a:pt x="89" y="321"/>
                  </a:lnTo>
                  <a:lnTo>
                    <a:pt x="99" y="309"/>
                  </a:lnTo>
                  <a:lnTo>
                    <a:pt x="110" y="298"/>
                  </a:lnTo>
                  <a:lnTo>
                    <a:pt x="119" y="285"/>
                  </a:lnTo>
                  <a:lnTo>
                    <a:pt x="131" y="275"/>
                  </a:lnTo>
                  <a:lnTo>
                    <a:pt x="144" y="260"/>
                  </a:lnTo>
                  <a:lnTo>
                    <a:pt x="158" y="251"/>
                  </a:lnTo>
                  <a:lnTo>
                    <a:pt x="169" y="237"/>
                  </a:lnTo>
                  <a:lnTo>
                    <a:pt x="182" y="224"/>
                  </a:lnTo>
                  <a:lnTo>
                    <a:pt x="190" y="216"/>
                  </a:lnTo>
                  <a:lnTo>
                    <a:pt x="197" y="211"/>
                  </a:lnTo>
                  <a:lnTo>
                    <a:pt x="205" y="205"/>
                  </a:lnTo>
                  <a:lnTo>
                    <a:pt x="213" y="199"/>
                  </a:lnTo>
                  <a:lnTo>
                    <a:pt x="220" y="192"/>
                  </a:lnTo>
                  <a:lnTo>
                    <a:pt x="226" y="186"/>
                  </a:lnTo>
                  <a:lnTo>
                    <a:pt x="235" y="178"/>
                  </a:lnTo>
                  <a:lnTo>
                    <a:pt x="243" y="173"/>
                  </a:lnTo>
                  <a:lnTo>
                    <a:pt x="251" y="165"/>
                  </a:lnTo>
                  <a:lnTo>
                    <a:pt x="260" y="159"/>
                  </a:lnTo>
                  <a:lnTo>
                    <a:pt x="270" y="154"/>
                  </a:lnTo>
                  <a:lnTo>
                    <a:pt x="279" y="148"/>
                  </a:lnTo>
                  <a:lnTo>
                    <a:pt x="287" y="140"/>
                  </a:lnTo>
                  <a:lnTo>
                    <a:pt x="294" y="135"/>
                  </a:lnTo>
                  <a:lnTo>
                    <a:pt x="304" y="127"/>
                  </a:lnTo>
                  <a:lnTo>
                    <a:pt x="313" y="121"/>
                  </a:lnTo>
                  <a:lnTo>
                    <a:pt x="323" y="116"/>
                  </a:lnTo>
                  <a:lnTo>
                    <a:pt x="332" y="110"/>
                  </a:lnTo>
                  <a:lnTo>
                    <a:pt x="340" y="104"/>
                  </a:lnTo>
                  <a:lnTo>
                    <a:pt x="349" y="100"/>
                  </a:lnTo>
                  <a:lnTo>
                    <a:pt x="359" y="93"/>
                  </a:lnTo>
                  <a:lnTo>
                    <a:pt x="368" y="89"/>
                  </a:lnTo>
                  <a:lnTo>
                    <a:pt x="378" y="81"/>
                  </a:lnTo>
                  <a:lnTo>
                    <a:pt x="388" y="78"/>
                  </a:lnTo>
                  <a:lnTo>
                    <a:pt x="397" y="72"/>
                  </a:lnTo>
                  <a:lnTo>
                    <a:pt x="408" y="68"/>
                  </a:lnTo>
                  <a:lnTo>
                    <a:pt x="416" y="62"/>
                  </a:lnTo>
                  <a:lnTo>
                    <a:pt x="427" y="59"/>
                  </a:lnTo>
                  <a:lnTo>
                    <a:pt x="435" y="53"/>
                  </a:lnTo>
                  <a:lnTo>
                    <a:pt x="445" y="47"/>
                  </a:lnTo>
                  <a:lnTo>
                    <a:pt x="456" y="43"/>
                  </a:lnTo>
                  <a:lnTo>
                    <a:pt x="465" y="40"/>
                  </a:lnTo>
                  <a:lnTo>
                    <a:pt x="473" y="34"/>
                  </a:lnTo>
                  <a:lnTo>
                    <a:pt x="483" y="30"/>
                  </a:lnTo>
                  <a:lnTo>
                    <a:pt x="494" y="28"/>
                  </a:lnTo>
                  <a:lnTo>
                    <a:pt x="503" y="24"/>
                  </a:lnTo>
                  <a:lnTo>
                    <a:pt x="511" y="21"/>
                  </a:lnTo>
                  <a:lnTo>
                    <a:pt x="521" y="17"/>
                  </a:lnTo>
                  <a:lnTo>
                    <a:pt x="528" y="13"/>
                  </a:lnTo>
                  <a:lnTo>
                    <a:pt x="538" y="9"/>
                  </a:lnTo>
                  <a:lnTo>
                    <a:pt x="547" y="5"/>
                  </a:lnTo>
                  <a:lnTo>
                    <a:pt x="555" y="4"/>
                  </a:lnTo>
                  <a:lnTo>
                    <a:pt x="564" y="0"/>
                  </a:lnTo>
                  <a:lnTo>
                    <a:pt x="574" y="0"/>
                  </a:lnTo>
                  <a:lnTo>
                    <a:pt x="545" y="66"/>
                  </a:lnTo>
                  <a:lnTo>
                    <a:pt x="5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68840" y="257040"/>
              <a:ext cx="204480" cy="205560"/>
            </a:xfrm>
            <a:custGeom>
              <a:avLst/>
              <a:gdLst/>
              <a:ahLst/>
              <a:rect l="l" t="t" r="r" b="b"/>
              <a:pathLst>
                <a:path w="431" h="434">
                  <a:moveTo>
                    <a:pt x="22" y="434"/>
                  </a:moveTo>
                  <a:lnTo>
                    <a:pt x="30" y="432"/>
                  </a:lnTo>
                  <a:lnTo>
                    <a:pt x="41" y="428"/>
                  </a:lnTo>
                  <a:lnTo>
                    <a:pt x="45" y="422"/>
                  </a:lnTo>
                  <a:lnTo>
                    <a:pt x="53" y="419"/>
                  </a:lnTo>
                  <a:lnTo>
                    <a:pt x="60" y="413"/>
                  </a:lnTo>
                  <a:lnTo>
                    <a:pt x="70" y="407"/>
                  </a:lnTo>
                  <a:lnTo>
                    <a:pt x="79" y="398"/>
                  </a:lnTo>
                  <a:lnTo>
                    <a:pt x="91" y="388"/>
                  </a:lnTo>
                  <a:lnTo>
                    <a:pt x="97" y="382"/>
                  </a:lnTo>
                  <a:lnTo>
                    <a:pt x="102" y="377"/>
                  </a:lnTo>
                  <a:lnTo>
                    <a:pt x="110" y="371"/>
                  </a:lnTo>
                  <a:lnTo>
                    <a:pt x="118" y="365"/>
                  </a:lnTo>
                  <a:lnTo>
                    <a:pt x="125" y="358"/>
                  </a:lnTo>
                  <a:lnTo>
                    <a:pt x="133" y="350"/>
                  </a:lnTo>
                  <a:lnTo>
                    <a:pt x="140" y="343"/>
                  </a:lnTo>
                  <a:lnTo>
                    <a:pt x="150" y="337"/>
                  </a:lnTo>
                  <a:lnTo>
                    <a:pt x="157" y="325"/>
                  </a:lnTo>
                  <a:lnTo>
                    <a:pt x="167" y="318"/>
                  </a:lnTo>
                  <a:lnTo>
                    <a:pt x="178" y="308"/>
                  </a:lnTo>
                  <a:lnTo>
                    <a:pt x="190" y="301"/>
                  </a:lnTo>
                  <a:lnTo>
                    <a:pt x="199" y="289"/>
                  </a:lnTo>
                  <a:lnTo>
                    <a:pt x="211" y="280"/>
                  </a:lnTo>
                  <a:lnTo>
                    <a:pt x="222" y="268"/>
                  </a:lnTo>
                  <a:lnTo>
                    <a:pt x="233" y="259"/>
                  </a:lnTo>
                  <a:lnTo>
                    <a:pt x="243" y="248"/>
                  </a:lnTo>
                  <a:lnTo>
                    <a:pt x="252" y="238"/>
                  </a:lnTo>
                  <a:lnTo>
                    <a:pt x="264" y="228"/>
                  </a:lnTo>
                  <a:lnTo>
                    <a:pt x="275" y="219"/>
                  </a:lnTo>
                  <a:lnTo>
                    <a:pt x="285" y="209"/>
                  </a:lnTo>
                  <a:lnTo>
                    <a:pt x="294" y="198"/>
                  </a:lnTo>
                  <a:lnTo>
                    <a:pt x="306" y="189"/>
                  </a:lnTo>
                  <a:lnTo>
                    <a:pt x="315" y="181"/>
                  </a:lnTo>
                  <a:lnTo>
                    <a:pt x="325" y="171"/>
                  </a:lnTo>
                  <a:lnTo>
                    <a:pt x="334" y="162"/>
                  </a:lnTo>
                  <a:lnTo>
                    <a:pt x="344" y="152"/>
                  </a:lnTo>
                  <a:lnTo>
                    <a:pt x="353" y="145"/>
                  </a:lnTo>
                  <a:lnTo>
                    <a:pt x="361" y="135"/>
                  </a:lnTo>
                  <a:lnTo>
                    <a:pt x="370" y="128"/>
                  </a:lnTo>
                  <a:lnTo>
                    <a:pt x="376" y="118"/>
                  </a:lnTo>
                  <a:lnTo>
                    <a:pt x="386" y="111"/>
                  </a:lnTo>
                  <a:lnTo>
                    <a:pt x="391" y="103"/>
                  </a:lnTo>
                  <a:lnTo>
                    <a:pt x="397" y="95"/>
                  </a:lnTo>
                  <a:lnTo>
                    <a:pt x="405" y="88"/>
                  </a:lnTo>
                  <a:lnTo>
                    <a:pt x="410" y="82"/>
                  </a:lnTo>
                  <a:lnTo>
                    <a:pt x="414" y="75"/>
                  </a:lnTo>
                  <a:lnTo>
                    <a:pt x="418" y="69"/>
                  </a:lnTo>
                  <a:lnTo>
                    <a:pt x="422" y="61"/>
                  </a:lnTo>
                  <a:lnTo>
                    <a:pt x="425" y="57"/>
                  </a:lnTo>
                  <a:lnTo>
                    <a:pt x="427" y="48"/>
                  </a:lnTo>
                  <a:lnTo>
                    <a:pt x="431" y="40"/>
                  </a:lnTo>
                  <a:lnTo>
                    <a:pt x="427" y="31"/>
                  </a:lnTo>
                  <a:lnTo>
                    <a:pt x="425" y="25"/>
                  </a:lnTo>
                  <a:lnTo>
                    <a:pt x="422" y="18"/>
                  </a:lnTo>
                  <a:lnTo>
                    <a:pt x="414" y="14"/>
                  </a:lnTo>
                  <a:lnTo>
                    <a:pt x="406" y="10"/>
                  </a:lnTo>
                  <a:lnTo>
                    <a:pt x="397" y="6"/>
                  </a:lnTo>
                  <a:lnTo>
                    <a:pt x="387" y="2"/>
                  </a:lnTo>
                  <a:lnTo>
                    <a:pt x="376" y="2"/>
                  </a:lnTo>
                  <a:lnTo>
                    <a:pt x="368" y="2"/>
                  </a:lnTo>
                  <a:lnTo>
                    <a:pt x="361" y="0"/>
                  </a:lnTo>
                  <a:lnTo>
                    <a:pt x="353" y="0"/>
                  </a:lnTo>
                  <a:lnTo>
                    <a:pt x="346" y="0"/>
                  </a:lnTo>
                  <a:lnTo>
                    <a:pt x="338" y="0"/>
                  </a:lnTo>
                  <a:lnTo>
                    <a:pt x="329" y="0"/>
                  </a:lnTo>
                  <a:lnTo>
                    <a:pt x="321" y="0"/>
                  </a:lnTo>
                  <a:lnTo>
                    <a:pt x="311" y="0"/>
                  </a:lnTo>
                  <a:lnTo>
                    <a:pt x="302" y="0"/>
                  </a:lnTo>
                  <a:lnTo>
                    <a:pt x="292" y="0"/>
                  </a:lnTo>
                  <a:lnTo>
                    <a:pt x="283" y="2"/>
                  </a:lnTo>
                  <a:lnTo>
                    <a:pt x="273" y="2"/>
                  </a:lnTo>
                  <a:lnTo>
                    <a:pt x="262" y="2"/>
                  </a:lnTo>
                  <a:lnTo>
                    <a:pt x="251" y="4"/>
                  </a:lnTo>
                  <a:lnTo>
                    <a:pt x="239" y="6"/>
                  </a:lnTo>
                  <a:lnTo>
                    <a:pt x="230" y="8"/>
                  </a:lnTo>
                  <a:lnTo>
                    <a:pt x="224" y="8"/>
                  </a:lnTo>
                  <a:lnTo>
                    <a:pt x="218" y="8"/>
                  </a:lnTo>
                  <a:lnTo>
                    <a:pt x="211" y="10"/>
                  </a:lnTo>
                  <a:lnTo>
                    <a:pt x="205" y="10"/>
                  </a:lnTo>
                  <a:lnTo>
                    <a:pt x="195" y="10"/>
                  </a:lnTo>
                  <a:lnTo>
                    <a:pt x="188" y="12"/>
                  </a:lnTo>
                  <a:lnTo>
                    <a:pt x="182" y="14"/>
                  </a:lnTo>
                  <a:lnTo>
                    <a:pt x="175" y="16"/>
                  </a:lnTo>
                  <a:lnTo>
                    <a:pt x="165" y="16"/>
                  </a:lnTo>
                  <a:lnTo>
                    <a:pt x="157" y="18"/>
                  </a:lnTo>
                  <a:lnTo>
                    <a:pt x="148" y="19"/>
                  </a:lnTo>
                  <a:lnTo>
                    <a:pt x="140" y="21"/>
                  </a:lnTo>
                  <a:lnTo>
                    <a:pt x="133" y="23"/>
                  </a:lnTo>
                  <a:lnTo>
                    <a:pt x="123" y="27"/>
                  </a:lnTo>
                  <a:lnTo>
                    <a:pt x="116" y="27"/>
                  </a:lnTo>
                  <a:lnTo>
                    <a:pt x="108" y="31"/>
                  </a:lnTo>
                  <a:lnTo>
                    <a:pt x="100" y="33"/>
                  </a:lnTo>
                  <a:lnTo>
                    <a:pt x="91" y="35"/>
                  </a:lnTo>
                  <a:lnTo>
                    <a:pt x="83" y="37"/>
                  </a:lnTo>
                  <a:lnTo>
                    <a:pt x="76" y="40"/>
                  </a:lnTo>
                  <a:lnTo>
                    <a:pt x="68" y="42"/>
                  </a:lnTo>
                  <a:lnTo>
                    <a:pt x="60" y="44"/>
                  </a:lnTo>
                  <a:lnTo>
                    <a:pt x="55" y="48"/>
                  </a:lnTo>
                  <a:lnTo>
                    <a:pt x="47" y="52"/>
                  </a:lnTo>
                  <a:lnTo>
                    <a:pt x="36" y="56"/>
                  </a:lnTo>
                  <a:lnTo>
                    <a:pt x="28" y="63"/>
                  </a:lnTo>
                  <a:lnTo>
                    <a:pt x="21" y="69"/>
                  </a:lnTo>
                  <a:lnTo>
                    <a:pt x="19" y="75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5" y="88"/>
                  </a:lnTo>
                  <a:lnTo>
                    <a:pt x="15" y="95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11" y="120"/>
                  </a:lnTo>
                  <a:lnTo>
                    <a:pt x="11" y="132"/>
                  </a:lnTo>
                  <a:lnTo>
                    <a:pt x="9" y="141"/>
                  </a:lnTo>
                  <a:lnTo>
                    <a:pt x="7" y="152"/>
                  </a:lnTo>
                  <a:lnTo>
                    <a:pt x="7" y="164"/>
                  </a:lnTo>
                  <a:lnTo>
                    <a:pt x="7" y="177"/>
                  </a:lnTo>
                  <a:lnTo>
                    <a:pt x="5" y="190"/>
                  </a:lnTo>
                  <a:lnTo>
                    <a:pt x="5" y="204"/>
                  </a:lnTo>
                  <a:lnTo>
                    <a:pt x="5" y="209"/>
                  </a:lnTo>
                  <a:lnTo>
                    <a:pt x="5" y="215"/>
                  </a:lnTo>
                  <a:lnTo>
                    <a:pt x="5" y="223"/>
                  </a:lnTo>
                  <a:lnTo>
                    <a:pt x="5" y="230"/>
                  </a:lnTo>
                  <a:lnTo>
                    <a:pt x="3" y="244"/>
                  </a:lnTo>
                  <a:lnTo>
                    <a:pt x="3" y="255"/>
                  </a:lnTo>
                  <a:lnTo>
                    <a:pt x="3" y="268"/>
                  </a:lnTo>
                  <a:lnTo>
                    <a:pt x="3" y="282"/>
                  </a:lnTo>
                  <a:lnTo>
                    <a:pt x="2" y="293"/>
                  </a:lnTo>
                  <a:lnTo>
                    <a:pt x="2" y="305"/>
                  </a:lnTo>
                  <a:lnTo>
                    <a:pt x="2" y="316"/>
                  </a:lnTo>
                  <a:lnTo>
                    <a:pt x="2" y="327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0" y="369"/>
                  </a:lnTo>
                  <a:lnTo>
                    <a:pt x="0" y="377"/>
                  </a:lnTo>
                  <a:lnTo>
                    <a:pt x="0" y="381"/>
                  </a:lnTo>
                  <a:lnTo>
                    <a:pt x="0" y="384"/>
                  </a:lnTo>
                  <a:lnTo>
                    <a:pt x="0" y="394"/>
                  </a:lnTo>
                  <a:lnTo>
                    <a:pt x="0" y="405"/>
                  </a:lnTo>
                  <a:lnTo>
                    <a:pt x="0" y="411"/>
                  </a:lnTo>
                  <a:lnTo>
                    <a:pt x="3" y="420"/>
                  </a:lnTo>
                  <a:lnTo>
                    <a:pt x="5" y="426"/>
                  </a:lnTo>
                  <a:lnTo>
                    <a:pt x="11" y="430"/>
                  </a:lnTo>
                  <a:lnTo>
                    <a:pt x="15" y="432"/>
                  </a:lnTo>
                  <a:lnTo>
                    <a:pt x="22" y="434"/>
                  </a:lnTo>
                  <a:lnTo>
                    <a:pt x="22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7920" y="277920"/>
              <a:ext cx="157320" cy="155160"/>
            </a:xfrm>
            <a:custGeom>
              <a:avLst/>
              <a:gdLst/>
              <a:ahLst/>
              <a:rect l="l" t="t" r="r" b="b"/>
              <a:pathLst>
                <a:path w="330" h="329">
                  <a:moveTo>
                    <a:pt x="19" y="59"/>
                  </a:moveTo>
                  <a:lnTo>
                    <a:pt x="17" y="63"/>
                  </a:lnTo>
                  <a:lnTo>
                    <a:pt x="15" y="74"/>
                  </a:lnTo>
                  <a:lnTo>
                    <a:pt x="15" y="80"/>
                  </a:lnTo>
                  <a:lnTo>
                    <a:pt x="15" y="88"/>
                  </a:lnTo>
                  <a:lnTo>
                    <a:pt x="13" y="95"/>
                  </a:lnTo>
                  <a:lnTo>
                    <a:pt x="13" y="105"/>
                  </a:lnTo>
                  <a:lnTo>
                    <a:pt x="11" y="114"/>
                  </a:lnTo>
                  <a:lnTo>
                    <a:pt x="11" y="124"/>
                  </a:lnTo>
                  <a:lnTo>
                    <a:pt x="11" y="133"/>
                  </a:lnTo>
                  <a:lnTo>
                    <a:pt x="11" y="145"/>
                  </a:lnTo>
                  <a:lnTo>
                    <a:pt x="9" y="156"/>
                  </a:lnTo>
                  <a:lnTo>
                    <a:pt x="7" y="167"/>
                  </a:lnTo>
                  <a:lnTo>
                    <a:pt x="7" y="181"/>
                  </a:lnTo>
                  <a:lnTo>
                    <a:pt x="7" y="192"/>
                  </a:lnTo>
                  <a:lnTo>
                    <a:pt x="7" y="204"/>
                  </a:lnTo>
                  <a:lnTo>
                    <a:pt x="5" y="217"/>
                  </a:lnTo>
                  <a:lnTo>
                    <a:pt x="5" y="226"/>
                  </a:lnTo>
                  <a:lnTo>
                    <a:pt x="5" y="240"/>
                  </a:lnTo>
                  <a:lnTo>
                    <a:pt x="3" y="249"/>
                  </a:lnTo>
                  <a:lnTo>
                    <a:pt x="1" y="261"/>
                  </a:lnTo>
                  <a:lnTo>
                    <a:pt x="1" y="270"/>
                  </a:lnTo>
                  <a:lnTo>
                    <a:pt x="1" y="281"/>
                  </a:lnTo>
                  <a:lnTo>
                    <a:pt x="1" y="289"/>
                  </a:lnTo>
                  <a:lnTo>
                    <a:pt x="0" y="297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21"/>
                  </a:lnTo>
                  <a:lnTo>
                    <a:pt x="0" y="327"/>
                  </a:lnTo>
                  <a:lnTo>
                    <a:pt x="1" y="329"/>
                  </a:lnTo>
                  <a:lnTo>
                    <a:pt x="9" y="323"/>
                  </a:lnTo>
                  <a:lnTo>
                    <a:pt x="15" y="319"/>
                  </a:lnTo>
                  <a:lnTo>
                    <a:pt x="22" y="314"/>
                  </a:lnTo>
                  <a:lnTo>
                    <a:pt x="28" y="306"/>
                  </a:lnTo>
                  <a:lnTo>
                    <a:pt x="39" y="299"/>
                  </a:lnTo>
                  <a:lnTo>
                    <a:pt x="47" y="289"/>
                  </a:lnTo>
                  <a:lnTo>
                    <a:pt x="60" y="278"/>
                  </a:lnTo>
                  <a:lnTo>
                    <a:pt x="70" y="266"/>
                  </a:lnTo>
                  <a:lnTo>
                    <a:pt x="83" y="255"/>
                  </a:lnTo>
                  <a:lnTo>
                    <a:pt x="91" y="247"/>
                  </a:lnTo>
                  <a:lnTo>
                    <a:pt x="97" y="242"/>
                  </a:lnTo>
                  <a:lnTo>
                    <a:pt x="104" y="236"/>
                  </a:lnTo>
                  <a:lnTo>
                    <a:pt x="112" y="230"/>
                  </a:lnTo>
                  <a:lnTo>
                    <a:pt x="119" y="223"/>
                  </a:lnTo>
                  <a:lnTo>
                    <a:pt x="127" y="215"/>
                  </a:lnTo>
                  <a:lnTo>
                    <a:pt x="135" y="207"/>
                  </a:lnTo>
                  <a:lnTo>
                    <a:pt x="144" y="202"/>
                  </a:lnTo>
                  <a:lnTo>
                    <a:pt x="152" y="192"/>
                  </a:lnTo>
                  <a:lnTo>
                    <a:pt x="159" y="184"/>
                  </a:lnTo>
                  <a:lnTo>
                    <a:pt x="169" y="175"/>
                  </a:lnTo>
                  <a:lnTo>
                    <a:pt x="176" y="167"/>
                  </a:lnTo>
                  <a:lnTo>
                    <a:pt x="184" y="160"/>
                  </a:lnTo>
                  <a:lnTo>
                    <a:pt x="193" y="152"/>
                  </a:lnTo>
                  <a:lnTo>
                    <a:pt x="201" y="145"/>
                  </a:lnTo>
                  <a:lnTo>
                    <a:pt x="211" y="137"/>
                  </a:lnTo>
                  <a:lnTo>
                    <a:pt x="218" y="127"/>
                  </a:lnTo>
                  <a:lnTo>
                    <a:pt x="228" y="120"/>
                  </a:lnTo>
                  <a:lnTo>
                    <a:pt x="235" y="112"/>
                  </a:lnTo>
                  <a:lnTo>
                    <a:pt x="245" y="105"/>
                  </a:lnTo>
                  <a:lnTo>
                    <a:pt x="250" y="97"/>
                  </a:lnTo>
                  <a:lnTo>
                    <a:pt x="260" y="89"/>
                  </a:lnTo>
                  <a:lnTo>
                    <a:pt x="268" y="82"/>
                  </a:lnTo>
                  <a:lnTo>
                    <a:pt x="275" y="76"/>
                  </a:lnTo>
                  <a:lnTo>
                    <a:pt x="283" y="69"/>
                  </a:lnTo>
                  <a:lnTo>
                    <a:pt x="289" y="61"/>
                  </a:lnTo>
                  <a:lnTo>
                    <a:pt x="294" y="53"/>
                  </a:lnTo>
                  <a:lnTo>
                    <a:pt x="300" y="48"/>
                  </a:lnTo>
                  <a:lnTo>
                    <a:pt x="309" y="36"/>
                  </a:lnTo>
                  <a:lnTo>
                    <a:pt x="319" y="27"/>
                  </a:lnTo>
                  <a:lnTo>
                    <a:pt x="327" y="17"/>
                  </a:lnTo>
                  <a:lnTo>
                    <a:pt x="330" y="12"/>
                  </a:lnTo>
                  <a:lnTo>
                    <a:pt x="330" y="8"/>
                  </a:lnTo>
                  <a:lnTo>
                    <a:pt x="330" y="6"/>
                  </a:lnTo>
                  <a:lnTo>
                    <a:pt x="325" y="4"/>
                  </a:lnTo>
                  <a:lnTo>
                    <a:pt x="319" y="2"/>
                  </a:lnTo>
                  <a:lnTo>
                    <a:pt x="311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87" y="0"/>
                  </a:lnTo>
                  <a:lnTo>
                    <a:pt x="277" y="0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5" y="0"/>
                  </a:lnTo>
                  <a:lnTo>
                    <a:pt x="233" y="2"/>
                  </a:lnTo>
                  <a:lnTo>
                    <a:pt x="222" y="4"/>
                  </a:lnTo>
                  <a:lnTo>
                    <a:pt x="214" y="4"/>
                  </a:lnTo>
                  <a:lnTo>
                    <a:pt x="209" y="4"/>
                  </a:lnTo>
                  <a:lnTo>
                    <a:pt x="201" y="6"/>
                  </a:lnTo>
                  <a:lnTo>
                    <a:pt x="195" y="8"/>
                  </a:lnTo>
                  <a:lnTo>
                    <a:pt x="188" y="8"/>
                  </a:lnTo>
                  <a:lnTo>
                    <a:pt x="182" y="10"/>
                  </a:lnTo>
                  <a:lnTo>
                    <a:pt x="174" y="10"/>
                  </a:lnTo>
                  <a:lnTo>
                    <a:pt x="169" y="13"/>
                  </a:lnTo>
                  <a:lnTo>
                    <a:pt x="155" y="13"/>
                  </a:lnTo>
                  <a:lnTo>
                    <a:pt x="144" y="15"/>
                  </a:lnTo>
                  <a:lnTo>
                    <a:pt x="135" y="17"/>
                  </a:lnTo>
                  <a:lnTo>
                    <a:pt x="127" y="19"/>
                  </a:lnTo>
                  <a:lnTo>
                    <a:pt x="117" y="21"/>
                  </a:lnTo>
                  <a:lnTo>
                    <a:pt x="108" y="23"/>
                  </a:lnTo>
                  <a:lnTo>
                    <a:pt x="100" y="25"/>
                  </a:lnTo>
                  <a:lnTo>
                    <a:pt x="93" y="27"/>
                  </a:lnTo>
                  <a:lnTo>
                    <a:pt x="87" y="27"/>
                  </a:lnTo>
                  <a:lnTo>
                    <a:pt x="79" y="29"/>
                  </a:lnTo>
                  <a:lnTo>
                    <a:pt x="74" y="31"/>
                  </a:lnTo>
                  <a:lnTo>
                    <a:pt x="66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39" y="42"/>
                  </a:lnTo>
                  <a:lnTo>
                    <a:pt x="34" y="44"/>
                  </a:lnTo>
                  <a:lnTo>
                    <a:pt x="28" y="46"/>
                  </a:lnTo>
                  <a:lnTo>
                    <a:pt x="24" y="50"/>
                  </a:lnTo>
                  <a:lnTo>
                    <a:pt x="19" y="55"/>
                  </a:lnTo>
                  <a:lnTo>
                    <a:pt x="19" y="59"/>
                  </a:lnTo>
                  <a:lnTo>
                    <a:pt x="19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01960" y="307440"/>
              <a:ext cx="237960" cy="194400"/>
            </a:xfrm>
            <a:custGeom>
              <a:avLst/>
              <a:gdLst/>
              <a:ahLst/>
              <a:rect l="l" t="t" r="r" b="b"/>
              <a:pathLst>
                <a:path w="504" h="408">
                  <a:moveTo>
                    <a:pt x="2" y="338"/>
                  </a:moveTo>
                  <a:lnTo>
                    <a:pt x="0" y="334"/>
                  </a:lnTo>
                  <a:lnTo>
                    <a:pt x="2" y="329"/>
                  </a:lnTo>
                  <a:lnTo>
                    <a:pt x="6" y="321"/>
                  </a:lnTo>
                  <a:lnTo>
                    <a:pt x="11" y="315"/>
                  </a:lnTo>
                  <a:lnTo>
                    <a:pt x="17" y="304"/>
                  </a:lnTo>
                  <a:lnTo>
                    <a:pt x="27" y="296"/>
                  </a:lnTo>
                  <a:lnTo>
                    <a:pt x="36" y="287"/>
                  </a:lnTo>
                  <a:lnTo>
                    <a:pt x="50" y="277"/>
                  </a:lnTo>
                  <a:lnTo>
                    <a:pt x="53" y="270"/>
                  </a:lnTo>
                  <a:lnTo>
                    <a:pt x="59" y="264"/>
                  </a:lnTo>
                  <a:lnTo>
                    <a:pt x="65" y="258"/>
                  </a:lnTo>
                  <a:lnTo>
                    <a:pt x="72" y="253"/>
                  </a:lnTo>
                  <a:lnTo>
                    <a:pt x="80" y="247"/>
                  </a:lnTo>
                  <a:lnTo>
                    <a:pt x="86" y="239"/>
                  </a:lnTo>
                  <a:lnTo>
                    <a:pt x="93" y="234"/>
                  </a:lnTo>
                  <a:lnTo>
                    <a:pt x="103" y="228"/>
                  </a:lnTo>
                  <a:lnTo>
                    <a:pt x="110" y="220"/>
                  </a:lnTo>
                  <a:lnTo>
                    <a:pt x="116" y="215"/>
                  </a:lnTo>
                  <a:lnTo>
                    <a:pt x="126" y="209"/>
                  </a:lnTo>
                  <a:lnTo>
                    <a:pt x="135" y="201"/>
                  </a:lnTo>
                  <a:lnTo>
                    <a:pt x="141" y="196"/>
                  </a:lnTo>
                  <a:lnTo>
                    <a:pt x="150" y="188"/>
                  </a:lnTo>
                  <a:lnTo>
                    <a:pt x="158" y="182"/>
                  </a:lnTo>
                  <a:lnTo>
                    <a:pt x="167" y="177"/>
                  </a:lnTo>
                  <a:lnTo>
                    <a:pt x="175" y="169"/>
                  </a:lnTo>
                  <a:lnTo>
                    <a:pt x="184" y="161"/>
                  </a:lnTo>
                  <a:lnTo>
                    <a:pt x="192" y="154"/>
                  </a:lnTo>
                  <a:lnTo>
                    <a:pt x="202" y="148"/>
                  </a:lnTo>
                  <a:lnTo>
                    <a:pt x="209" y="141"/>
                  </a:lnTo>
                  <a:lnTo>
                    <a:pt x="219" y="135"/>
                  </a:lnTo>
                  <a:lnTo>
                    <a:pt x="226" y="129"/>
                  </a:lnTo>
                  <a:lnTo>
                    <a:pt x="238" y="123"/>
                  </a:lnTo>
                  <a:lnTo>
                    <a:pt x="243" y="116"/>
                  </a:lnTo>
                  <a:lnTo>
                    <a:pt x="253" y="108"/>
                  </a:lnTo>
                  <a:lnTo>
                    <a:pt x="261" y="102"/>
                  </a:lnTo>
                  <a:lnTo>
                    <a:pt x="268" y="97"/>
                  </a:lnTo>
                  <a:lnTo>
                    <a:pt x="276" y="91"/>
                  </a:lnTo>
                  <a:lnTo>
                    <a:pt x="285" y="85"/>
                  </a:lnTo>
                  <a:lnTo>
                    <a:pt x="293" y="80"/>
                  </a:lnTo>
                  <a:lnTo>
                    <a:pt x="302" y="76"/>
                  </a:lnTo>
                  <a:lnTo>
                    <a:pt x="308" y="70"/>
                  </a:lnTo>
                  <a:lnTo>
                    <a:pt x="316" y="64"/>
                  </a:lnTo>
                  <a:lnTo>
                    <a:pt x="323" y="59"/>
                  </a:lnTo>
                  <a:lnTo>
                    <a:pt x="329" y="55"/>
                  </a:lnTo>
                  <a:lnTo>
                    <a:pt x="342" y="45"/>
                  </a:lnTo>
                  <a:lnTo>
                    <a:pt x="354" y="38"/>
                  </a:lnTo>
                  <a:lnTo>
                    <a:pt x="363" y="30"/>
                  </a:lnTo>
                  <a:lnTo>
                    <a:pt x="375" y="25"/>
                  </a:lnTo>
                  <a:lnTo>
                    <a:pt x="382" y="21"/>
                  </a:lnTo>
                  <a:lnTo>
                    <a:pt x="390" y="17"/>
                  </a:lnTo>
                  <a:lnTo>
                    <a:pt x="399" y="9"/>
                  </a:lnTo>
                  <a:lnTo>
                    <a:pt x="409" y="6"/>
                  </a:lnTo>
                  <a:lnTo>
                    <a:pt x="418" y="2"/>
                  </a:lnTo>
                  <a:lnTo>
                    <a:pt x="430" y="2"/>
                  </a:lnTo>
                  <a:lnTo>
                    <a:pt x="439" y="0"/>
                  </a:lnTo>
                  <a:lnTo>
                    <a:pt x="447" y="0"/>
                  </a:lnTo>
                  <a:lnTo>
                    <a:pt x="456" y="2"/>
                  </a:lnTo>
                  <a:lnTo>
                    <a:pt x="464" y="7"/>
                  </a:lnTo>
                  <a:lnTo>
                    <a:pt x="470" y="11"/>
                  </a:lnTo>
                  <a:lnTo>
                    <a:pt x="477" y="21"/>
                  </a:lnTo>
                  <a:lnTo>
                    <a:pt x="483" y="28"/>
                  </a:lnTo>
                  <a:lnTo>
                    <a:pt x="491" y="40"/>
                  </a:lnTo>
                  <a:lnTo>
                    <a:pt x="491" y="45"/>
                  </a:lnTo>
                  <a:lnTo>
                    <a:pt x="492" y="53"/>
                  </a:lnTo>
                  <a:lnTo>
                    <a:pt x="494" y="61"/>
                  </a:lnTo>
                  <a:lnTo>
                    <a:pt x="496" y="68"/>
                  </a:lnTo>
                  <a:lnTo>
                    <a:pt x="498" y="76"/>
                  </a:lnTo>
                  <a:lnTo>
                    <a:pt x="500" y="85"/>
                  </a:lnTo>
                  <a:lnTo>
                    <a:pt x="500" y="95"/>
                  </a:lnTo>
                  <a:lnTo>
                    <a:pt x="504" y="106"/>
                  </a:lnTo>
                  <a:lnTo>
                    <a:pt x="504" y="116"/>
                  </a:lnTo>
                  <a:lnTo>
                    <a:pt x="504" y="127"/>
                  </a:lnTo>
                  <a:lnTo>
                    <a:pt x="504" y="139"/>
                  </a:lnTo>
                  <a:lnTo>
                    <a:pt x="504" y="150"/>
                  </a:lnTo>
                  <a:lnTo>
                    <a:pt x="504" y="160"/>
                  </a:lnTo>
                  <a:lnTo>
                    <a:pt x="504" y="169"/>
                  </a:lnTo>
                  <a:lnTo>
                    <a:pt x="504" y="179"/>
                  </a:lnTo>
                  <a:lnTo>
                    <a:pt x="504" y="188"/>
                  </a:lnTo>
                  <a:lnTo>
                    <a:pt x="504" y="198"/>
                  </a:lnTo>
                  <a:lnTo>
                    <a:pt x="502" y="205"/>
                  </a:lnTo>
                  <a:lnTo>
                    <a:pt x="500" y="215"/>
                  </a:lnTo>
                  <a:lnTo>
                    <a:pt x="500" y="222"/>
                  </a:lnTo>
                  <a:lnTo>
                    <a:pt x="500" y="230"/>
                  </a:lnTo>
                  <a:lnTo>
                    <a:pt x="500" y="239"/>
                  </a:lnTo>
                  <a:lnTo>
                    <a:pt x="498" y="247"/>
                  </a:lnTo>
                  <a:lnTo>
                    <a:pt x="498" y="255"/>
                  </a:lnTo>
                  <a:lnTo>
                    <a:pt x="496" y="260"/>
                  </a:lnTo>
                  <a:lnTo>
                    <a:pt x="494" y="268"/>
                  </a:lnTo>
                  <a:lnTo>
                    <a:pt x="492" y="274"/>
                  </a:lnTo>
                  <a:lnTo>
                    <a:pt x="492" y="281"/>
                  </a:lnTo>
                  <a:lnTo>
                    <a:pt x="491" y="294"/>
                  </a:lnTo>
                  <a:lnTo>
                    <a:pt x="487" y="306"/>
                  </a:lnTo>
                  <a:lnTo>
                    <a:pt x="483" y="315"/>
                  </a:lnTo>
                  <a:lnTo>
                    <a:pt x="479" y="327"/>
                  </a:lnTo>
                  <a:lnTo>
                    <a:pt x="475" y="336"/>
                  </a:lnTo>
                  <a:lnTo>
                    <a:pt x="473" y="346"/>
                  </a:lnTo>
                  <a:lnTo>
                    <a:pt x="468" y="351"/>
                  </a:lnTo>
                  <a:lnTo>
                    <a:pt x="464" y="359"/>
                  </a:lnTo>
                  <a:lnTo>
                    <a:pt x="460" y="365"/>
                  </a:lnTo>
                  <a:lnTo>
                    <a:pt x="456" y="370"/>
                  </a:lnTo>
                  <a:lnTo>
                    <a:pt x="447" y="382"/>
                  </a:lnTo>
                  <a:lnTo>
                    <a:pt x="439" y="391"/>
                  </a:lnTo>
                  <a:lnTo>
                    <a:pt x="432" y="395"/>
                  </a:lnTo>
                  <a:lnTo>
                    <a:pt x="426" y="401"/>
                  </a:lnTo>
                  <a:lnTo>
                    <a:pt x="418" y="403"/>
                  </a:lnTo>
                  <a:lnTo>
                    <a:pt x="414" y="407"/>
                  </a:lnTo>
                  <a:lnTo>
                    <a:pt x="409" y="407"/>
                  </a:lnTo>
                  <a:lnTo>
                    <a:pt x="401" y="407"/>
                  </a:lnTo>
                  <a:lnTo>
                    <a:pt x="394" y="407"/>
                  </a:lnTo>
                  <a:lnTo>
                    <a:pt x="386" y="408"/>
                  </a:lnTo>
                  <a:lnTo>
                    <a:pt x="376" y="407"/>
                  </a:lnTo>
                  <a:lnTo>
                    <a:pt x="367" y="407"/>
                  </a:lnTo>
                  <a:lnTo>
                    <a:pt x="354" y="407"/>
                  </a:lnTo>
                  <a:lnTo>
                    <a:pt x="342" y="407"/>
                  </a:lnTo>
                  <a:lnTo>
                    <a:pt x="333" y="405"/>
                  </a:lnTo>
                  <a:lnTo>
                    <a:pt x="325" y="405"/>
                  </a:lnTo>
                  <a:lnTo>
                    <a:pt x="319" y="403"/>
                  </a:lnTo>
                  <a:lnTo>
                    <a:pt x="312" y="403"/>
                  </a:lnTo>
                  <a:lnTo>
                    <a:pt x="302" y="401"/>
                  </a:lnTo>
                  <a:lnTo>
                    <a:pt x="295" y="401"/>
                  </a:lnTo>
                  <a:lnTo>
                    <a:pt x="285" y="401"/>
                  </a:lnTo>
                  <a:lnTo>
                    <a:pt x="278" y="401"/>
                  </a:lnTo>
                  <a:lnTo>
                    <a:pt x="268" y="397"/>
                  </a:lnTo>
                  <a:lnTo>
                    <a:pt x="257" y="397"/>
                  </a:lnTo>
                  <a:lnTo>
                    <a:pt x="247" y="395"/>
                  </a:lnTo>
                  <a:lnTo>
                    <a:pt x="238" y="395"/>
                  </a:lnTo>
                  <a:lnTo>
                    <a:pt x="224" y="393"/>
                  </a:lnTo>
                  <a:lnTo>
                    <a:pt x="213" y="391"/>
                  </a:lnTo>
                  <a:lnTo>
                    <a:pt x="202" y="391"/>
                  </a:lnTo>
                  <a:lnTo>
                    <a:pt x="188" y="391"/>
                  </a:lnTo>
                  <a:lnTo>
                    <a:pt x="175" y="388"/>
                  </a:lnTo>
                  <a:lnTo>
                    <a:pt x="164" y="388"/>
                  </a:lnTo>
                  <a:lnTo>
                    <a:pt x="152" y="384"/>
                  </a:lnTo>
                  <a:lnTo>
                    <a:pt x="141" y="384"/>
                  </a:lnTo>
                  <a:lnTo>
                    <a:pt x="131" y="382"/>
                  </a:lnTo>
                  <a:lnTo>
                    <a:pt x="120" y="380"/>
                  </a:lnTo>
                  <a:lnTo>
                    <a:pt x="110" y="380"/>
                  </a:lnTo>
                  <a:lnTo>
                    <a:pt x="103" y="380"/>
                  </a:lnTo>
                  <a:lnTo>
                    <a:pt x="93" y="378"/>
                  </a:lnTo>
                  <a:lnTo>
                    <a:pt x="86" y="376"/>
                  </a:lnTo>
                  <a:lnTo>
                    <a:pt x="78" y="376"/>
                  </a:lnTo>
                  <a:lnTo>
                    <a:pt x="70" y="374"/>
                  </a:lnTo>
                  <a:lnTo>
                    <a:pt x="57" y="372"/>
                  </a:lnTo>
                  <a:lnTo>
                    <a:pt x="48" y="370"/>
                  </a:lnTo>
                  <a:lnTo>
                    <a:pt x="36" y="367"/>
                  </a:lnTo>
                  <a:lnTo>
                    <a:pt x="29" y="365"/>
                  </a:lnTo>
                  <a:lnTo>
                    <a:pt x="19" y="361"/>
                  </a:lnTo>
                  <a:lnTo>
                    <a:pt x="13" y="359"/>
                  </a:lnTo>
                  <a:lnTo>
                    <a:pt x="6" y="350"/>
                  </a:lnTo>
                  <a:lnTo>
                    <a:pt x="2" y="338"/>
                  </a:lnTo>
                  <a:lnTo>
                    <a:pt x="2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36160" y="334800"/>
              <a:ext cx="181800" cy="141120"/>
            </a:xfrm>
            <a:custGeom>
              <a:avLst/>
              <a:gdLst/>
              <a:ahLst/>
              <a:rect l="l" t="t" r="r" b="b"/>
              <a:pathLst>
                <a:path w="384" h="298">
                  <a:moveTo>
                    <a:pt x="8" y="274"/>
                  </a:moveTo>
                  <a:lnTo>
                    <a:pt x="12" y="274"/>
                  </a:lnTo>
                  <a:lnTo>
                    <a:pt x="19" y="274"/>
                  </a:lnTo>
                  <a:lnTo>
                    <a:pt x="27" y="274"/>
                  </a:lnTo>
                  <a:lnTo>
                    <a:pt x="38" y="275"/>
                  </a:lnTo>
                  <a:lnTo>
                    <a:pt x="48" y="275"/>
                  </a:lnTo>
                  <a:lnTo>
                    <a:pt x="59" y="279"/>
                  </a:lnTo>
                  <a:lnTo>
                    <a:pt x="65" y="279"/>
                  </a:lnTo>
                  <a:lnTo>
                    <a:pt x="73" y="279"/>
                  </a:lnTo>
                  <a:lnTo>
                    <a:pt x="80" y="281"/>
                  </a:lnTo>
                  <a:lnTo>
                    <a:pt x="88" y="281"/>
                  </a:lnTo>
                  <a:lnTo>
                    <a:pt x="93" y="281"/>
                  </a:lnTo>
                  <a:lnTo>
                    <a:pt x="101" y="281"/>
                  </a:lnTo>
                  <a:lnTo>
                    <a:pt x="109" y="283"/>
                  </a:lnTo>
                  <a:lnTo>
                    <a:pt x="116" y="285"/>
                  </a:lnTo>
                  <a:lnTo>
                    <a:pt x="124" y="285"/>
                  </a:lnTo>
                  <a:lnTo>
                    <a:pt x="133" y="285"/>
                  </a:lnTo>
                  <a:lnTo>
                    <a:pt x="141" y="287"/>
                  </a:lnTo>
                  <a:lnTo>
                    <a:pt x="150" y="289"/>
                  </a:lnTo>
                  <a:lnTo>
                    <a:pt x="158" y="289"/>
                  </a:lnTo>
                  <a:lnTo>
                    <a:pt x="168" y="289"/>
                  </a:lnTo>
                  <a:lnTo>
                    <a:pt x="175" y="289"/>
                  </a:lnTo>
                  <a:lnTo>
                    <a:pt x="185" y="291"/>
                  </a:lnTo>
                  <a:lnTo>
                    <a:pt x="194" y="291"/>
                  </a:lnTo>
                  <a:lnTo>
                    <a:pt x="204" y="293"/>
                  </a:lnTo>
                  <a:lnTo>
                    <a:pt x="213" y="293"/>
                  </a:lnTo>
                  <a:lnTo>
                    <a:pt x="223" y="294"/>
                  </a:lnTo>
                  <a:lnTo>
                    <a:pt x="232" y="294"/>
                  </a:lnTo>
                  <a:lnTo>
                    <a:pt x="242" y="294"/>
                  </a:lnTo>
                  <a:lnTo>
                    <a:pt x="251" y="294"/>
                  </a:lnTo>
                  <a:lnTo>
                    <a:pt x="261" y="296"/>
                  </a:lnTo>
                  <a:lnTo>
                    <a:pt x="270" y="296"/>
                  </a:lnTo>
                  <a:lnTo>
                    <a:pt x="278" y="296"/>
                  </a:lnTo>
                  <a:lnTo>
                    <a:pt x="285" y="296"/>
                  </a:lnTo>
                  <a:lnTo>
                    <a:pt x="295" y="298"/>
                  </a:lnTo>
                  <a:lnTo>
                    <a:pt x="306" y="296"/>
                  </a:lnTo>
                  <a:lnTo>
                    <a:pt x="318" y="296"/>
                  </a:lnTo>
                  <a:lnTo>
                    <a:pt x="325" y="296"/>
                  </a:lnTo>
                  <a:lnTo>
                    <a:pt x="333" y="294"/>
                  </a:lnTo>
                  <a:lnTo>
                    <a:pt x="339" y="287"/>
                  </a:lnTo>
                  <a:lnTo>
                    <a:pt x="344" y="281"/>
                  </a:lnTo>
                  <a:lnTo>
                    <a:pt x="350" y="272"/>
                  </a:lnTo>
                  <a:lnTo>
                    <a:pt x="354" y="264"/>
                  </a:lnTo>
                  <a:lnTo>
                    <a:pt x="358" y="255"/>
                  </a:lnTo>
                  <a:lnTo>
                    <a:pt x="361" y="247"/>
                  </a:lnTo>
                  <a:lnTo>
                    <a:pt x="365" y="237"/>
                  </a:lnTo>
                  <a:lnTo>
                    <a:pt x="369" y="228"/>
                  </a:lnTo>
                  <a:lnTo>
                    <a:pt x="371" y="217"/>
                  </a:lnTo>
                  <a:lnTo>
                    <a:pt x="373" y="207"/>
                  </a:lnTo>
                  <a:lnTo>
                    <a:pt x="373" y="196"/>
                  </a:lnTo>
                  <a:lnTo>
                    <a:pt x="377" y="186"/>
                  </a:lnTo>
                  <a:lnTo>
                    <a:pt x="377" y="175"/>
                  </a:lnTo>
                  <a:lnTo>
                    <a:pt x="379" y="165"/>
                  </a:lnTo>
                  <a:lnTo>
                    <a:pt x="380" y="156"/>
                  </a:lnTo>
                  <a:lnTo>
                    <a:pt x="382" y="148"/>
                  </a:lnTo>
                  <a:lnTo>
                    <a:pt x="382" y="137"/>
                  </a:lnTo>
                  <a:lnTo>
                    <a:pt x="384" y="125"/>
                  </a:lnTo>
                  <a:lnTo>
                    <a:pt x="384" y="114"/>
                  </a:lnTo>
                  <a:lnTo>
                    <a:pt x="384" y="104"/>
                  </a:lnTo>
                  <a:lnTo>
                    <a:pt x="384" y="91"/>
                  </a:lnTo>
                  <a:lnTo>
                    <a:pt x="384" y="80"/>
                  </a:lnTo>
                  <a:lnTo>
                    <a:pt x="384" y="68"/>
                  </a:lnTo>
                  <a:lnTo>
                    <a:pt x="384" y="57"/>
                  </a:lnTo>
                  <a:lnTo>
                    <a:pt x="382" y="45"/>
                  </a:lnTo>
                  <a:lnTo>
                    <a:pt x="380" y="36"/>
                  </a:lnTo>
                  <a:lnTo>
                    <a:pt x="379" y="26"/>
                  </a:lnTo>
                  <a:lnTo>
                    <a:pt x="377" y="19"/>
                  </a:lnTo>
                  <a:lnTo>
                    <a:pt x="373" y="11"/>
                  </a:lnTo>
                  <a:lnTo>
                    <a:pt x="371" y="7"/>
                  </a:lnTo>
                  <a:lnTo>
                    <a:pt x="365" y="4"/>
                  </a:lnTo>
                  <a:lnTo>
                    <a:pt x="360" y="2"/>
                  </a:lnTo>
                  <a:lnTo>
                    <a:pt x="356" y="0"/>
                  </a:lnTo>
                  <a:lnTo>
                    <a:pt x="350" y="2"/>
                  </a:lnTo>
                  <a:lnTo>
                    <a:pt x="344" y="4"/>
                  </a:lnTo>
                  <a:lnTo>
                    <a:pt x="339" y="7"/>
                  </a:lnTo>
                  <a:lnTo>
                    <a:pt x="329" y="11"/>
                  </a:lnTo>
                  <a:lnTo>
                    <a:pt x="322" y="15"/>
                  </a:lnTo>
                  <a:lnTo>
                    <a:pt x="312" y="21"/>
                  </a:lnTo>
                  <a:lnTo>
                    <a:pt x="304" y="28"/>
                  </a:lnTo>
                  <a:lnTo>
                    <a:pt x="293" y="34"/>
                  </a:lnTo>
                  <a:lnTo>
                    <a:pt x="282" y="42"/>
                  </a:lnTo>
                  <a:lnTo>
                    <a:pt x="270" y="47"/>
                  </a:lnTo>
                  <a:lnTo>
                    <a:pt x="259" y="57"/>
                  </a:lnTo>
                  <a:lnTo>
                    <a:pt x="247" y="64"/>
                  </a:lnTo>
                  <a:lnTo>
                    <a:pt x="234" y="74"/>
                  </a:lnTo>
                  <a:lnTo>
                    <a:pt x="223" y="84"/>
                  </a:lnTo>
                  <a:lnTo>
                    <a:pt x="211" y="93"/>
                  </a:lnTo>
                  <a:lnTo>
                    <a:pt x="198" y="101"/>
                  </a:lnTo>
                  <a:lnTo>
                    <a:pt x="185" y="110"/>
                  </a:lnTo>
                  <a:lnTo>
                    <a:pt x="173" y="118"/>
                  </a:lnTo>
                  <a:lnTo>
                    <a:pt x="162" y="127"/>
                  </a:lnTo>
                  <a:lnTo>
                    <a:pt x="150" y="137"/>
                  </a:lnTo>
                  <a:lnTo>
                    <a:pt x="139" y="144"/>
                  </a:lnTo>
                  <a:lnTo>
                    <a:pt x="128" y="152"/>
                  </a:lnTo>
                  <a:lnTo>
                    <a:pt x="120" y="161"/>
                  </a:lnTo>
                  <a:lnTo>
                    <a:pt x="109" y="167"/>
                  </a:lnTo>
                  <a:lnTo>
                    <a:pt x="101" y="175"/>
                  </a:lnTo>
                  <a:lnTo>
                    <a:pt x="93" y="180"/>
                  </a:lnTo>
                  <a:lnTo>
                    <a:pt x="86" y="186"/>
                  </a:lnTo>
                  <a:lnTo>
                    <a:pt x="76" y="196"/>
                  </a:lnTo>
                  <a:lnTo>
                    <a:pt x="69" y="201"/>
                  </a:lnTo>
                  <a:lnTo>
                    <a:pt x="63" y="203"/>
                  </a:lnTo>
                  <a:lnTo>
                    <a:pt x="59" y="207"/>
                  </a:lnTo>
                  <a:lnTo>
                    <a:pt x="52" y="213"/>
                  </a:lnTo>
                  <a:lnTo>
                    <a:pt x="44" y="218"/>
                  </a:lnTo>
                  <a:lnTo>
                    <a:pt x="38" y="224"/>
                  </a:lnTo>
                  <a:lnTo>
                    <a:pt x="31" y="230"/>
                  </a:lnTo>
                  <a:lnTo>
                    <a:pt x="25" y="236"/>
                  </a:lnTo>
                  <a:lnTo>
                    <a:pt x="17" y="241"/>
                  </a:lnTo>
                  <a:lnTo>
                    <a:pt x="8" y="251"/>
                  </a:lnTo>
                  <a:lnTo>
                    <a:pt x="0" y="262"/>
                  </a:lnTo>
                  <a:lnTo>
                    <a:pt x="0" y="268"/>
                  </a:lnTo>
                  <a:lnTo>
                    <a:pt x="8" y="274"/>
                  </a:lnTo>
                  <a:lnTo>
                    <a:pt x="8" y="274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79280" y="490320"/>
              <a:ext cx="212400" cy="190440"/>
            </a:xfrm>
            <a:custGeom>
              <a:avLst/>
              <a:gdLst/>
              <a:ahLst/>
              <a:rect l="l" t="t" r="r" b="b"/>
              <a:pathLst>
                <a:path w="448" h="401">
                  <a:moveTo>
                    <a:pt x="19" y="2"/>
                  </a:moveTo>
                  <a:lnTo>
                    <a:pt x="26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60" y="2"/>
                  </a:lnTo>
                  <a:lnTo>
                    <a:pt x="72" y="2"/>
                  </a:lnTo>
                  <a:lnTo>
                    <a:pt x="85" y="2"/>
                  </a:lnTo>
                  <a:lnTo>
                    <a:pt x="93" y="2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6" y="5"/>
                  </a:lnTo>
                  <a:lnTo>
                    <a:pt x="121" y="5"/>
                  </a:lnTo>
                  <a:lnTo>
                    <a:pt x="129" y="7"/>
                  </a:lnTo>
                  <a:lnTo>
                    <a:pt x="136" y="7"/>
                  </a:lnTo>
                  <a:lnTo>
                    <a:pt x="144" y="9"/>
                  </a:lnTo>
                  <a:lnTo>
                    <a:pt x="150" y="9"/>
                  </a:lnTo>
                  <a:lnTo>
                    <a:pt x="157" y="11"/>
                  </a:lnTo>
                  <a:lnTo>
                    <a:pt x="165" y="11"/>
                  </a:lnTo>
                  <a:lnTo>
                    <a:pt x="173" y="13"/>
                  </a:lnTo>
                  <a:lnTo>
                    <a:pt x="178" y="13"/>
                  </a:lnTo>
                  <a:lnTo>
                    <a:pt x="186" y="15"/>
                  </a:lnTo>
                  <a:lnTo>
                    <a:pt x="193" y="15"/>
                  </a:lnTo>
                  <a:lnTo>
                    <a:pt x="201" y="19"/>
                  </a:lnTo>
                  <a:lnTo>
                    <a:pt x="209" y="19"/>
                  </a:lnTo>
                  <a:lnTo>
                    <a:pt x="214" y="19"/>
                  </a:lnTo>
                  <a:lnTo>
                    <a:pt x="222" y="21"/>
                  </a:lnTo>
                  <a:lnTo>
                    <a:pt x="230" y="22"/>
                  </a:lnTo>
                  <a:lnTo>
                    <a:pt x="235" y="22"/>
                  </a:lnTo>
                  <a:lnTo>
                    <a:pt x="243" y="24"/>
                  </a:lnTo>
                  <a:lnTo>
                    <a:pt x="250" y="24"/>
                  </a:lnTo>
                  <a:lnTo>
                    <a:pt x="258" y="26"/>
                  </a:lnTo>
                  <a:lnTo>
                    <a:pt x="266" y="28"/>
                  </a:lnTo>
                  <a:lnTo>
                    <a:pt x="275" y="30"/>
                  </a:lnTo>
                  <a:lnTo>
                    <a:pt x="285" y="32"/>
                  </a:lnTo>
                  <a:lnTo>
                    <a:pt x="294" y="34"/>
                  </a:lnTo>
                  <a:lnTo>
                    <a:pt x="302" y="34"/>
                  </a:lnTo>
                  <a:lnTo>
                    <a:pt x="311" y="36"/>
                  </a:lnTo>
                  <a:lnTo>
                    <a:pt x="321" y="38"/>
                  </a:lnTo>
                  <a:lnTo>
                    <a:pt x="330" y="40"/>
                  </a:lnTo>
                  <a:lnTo>
                    <a:pt x="338" y="41"/>
                  </a:lnTo>
                  <a:lnTo>
                    <a:pt x="349" y="43"/>
                  </a:lnTo>
                  <a:lnTo>
                    <a:pt x="359" y="45"/>
                  </a:lnTo>
                  <a:lnTo>
                    <a:pt x="368" y="49"/>
                  </a:lnTo>
                  <a:lnTo>
                    <a:pt x="376" y="49"/>
                  </a:lnTo>
                  <a:lnTo>
                    <a:pt x="384" y="53"/>
                  </a:lnTo>
                  <a:lnTo>
                    <a:pt x="391" y="53"/>
                  </a:lnTo>
                  <a:lnTo>
                    <a:pt x="401" y="57"/>
                  </a:lnTo>
                  <a:lnTo>
                    <a:pt x="406" y="59"/>
                  </a:lnTo>
                  <a:lnTo>
                    <a:pt x="414" y="60"/>
                  </a:lnTo>
                  <a:lnTo>
                    <a:pt x="420" y="62"/>
                  </a:lnTo>
                  <a:lnTo>
                    <a:pt x="427" y="66"/>
                  </a:lnTo>
                  <a:lnTo>
                    <a:pt x="435" y="74"/>
                  </a:lnTo>
                  <a:lnTo>
                    <a:pt x="442" y="79"/>
                  </a:lnTo>
                  <a:lnTo>
                    <a:pt x="448" y="87"/>
                  </a:lnTo>
                  <a:lnTo>
                    <a:pt x="448" y="95"/>
                  </a:lnTo>
                  <a:lnTo>
                    <a:pt x="444" y="104"/>
                  </a:lnTo>
                  <a:lnTo>
                    <a:pt x="441" y="116"/>
                  </a:lnTo>
                  <a:lnTo>
                    <a:pt x="435" y="129"/>
                  </a:lnTo>
                  <a:lnTo>
                    <a:pt x="427" y="142"/>
                  </a:lnTo>
                  <a:lnTo>
                    <a:pt x="420" y="154"/>
                  </a:lnTo>
                  <a:lnTo>
                    <a:pt x="412" y="167"/>
                  </a:lnTo>
                  <a:lnTo>
                    <a:pt x="406" y="173"/>
                  </a:lnTo>
                  <a:lnTo>
                    <a:pt x="403" y="180"/>
                  </a:lnTo>
                  <a:lnTo>
                    <a:pt x="397" y="186"/>
                  </a:lnTo>
                  <a:lnTo>
                    <a:pt x="393" y="194"/>
                  </a:lnTo>
                  <a:lnTo>
                    <a:pt x="384" y="207"/>
                  </a:lnTo>
                  <a:lnTo>
                    <a:pt x="372" y="220"/>
                  </a:lnTo>
                  <a:lnTo>
                    <a:pt x="366" y="226"/>
                  </a:lnTo>
                  <a:lnTo>
                    <a:pt x="359" y="233"/>
                  </a:lnTo>
                  <a:lnTo>
                    <a:pt x="353" y="239"/>
                  </a:lnTo>
                  <a:lnTo>
                    <a:pt x="349" y="247"/>
                  </a:lnTo>
                  <a:lnTo>
                    <a:pt x="334" y="258"/>
                  </a:lnTo>
                  <a:lnTo>
                    <a:pt x="323" y="271"/>
                  </a:lnTo>
                  <a:lnTo>
                    <a:pt x="311" y="283"/>
                  </a:lnTo>
                  <a:lnTo>
                    <a:pt x="298" y="296"/>
                  </a:lnTo>
                  <a:lnTo>
                    <a:pt x="290" y="302"/>
                  </a:lnTo>
                  <a:lnTo>
                    <a:pt x="285" y="306"/>
                  </a:lnTo>
                  <a:lnTo>
                    <a:pt x="277" y="311"/>
                  </a:lnTo>
                  <a:lnTo>
                    <a:pt x="269" y="317"/>
                  </a:lnTo>
                  <a:lnTo>
                    <a:pt x="256" y="327"/>
                  </a:lnTo>
                  <a:lnTo>
                    <a:pt x="245" y="338"/>
                  </a:lnTo>
                  <a:lnTo>
                    <a:pt x="231" y="347"/>
                  </a:lnTo>
                  <a:lnTo>
                    <a:pt x="218" y="357"/>
                  </a:lnTo>
                  <a:lnTo>
                    <a:pt x="209" y="365"/>
                  </a:lnTo>
                  <a:lnTo>
                    <a:pt x="197" y="374"/>
                  </a:lnTo>
                  <a:lnTo>
                    <a:pt x="184" y="380"/>
                  </a:lnTo>
                  <a:lnTo>
                    <a:pt x="174" y="385"/>
                  </a:lnTo>
                  <a:lnTo>
                    <a:pt x="163" y="389"/>
                  </a:lnTo>
                  <a:lnTo>
                    <a:pt x="157" y="395"/>
                  </a:lnTo>
                  <a:lnTo>
                    <a:pt x="148" y="397"/>
                  </a:lnTo>
                  <a:lnTo>
                    <a:pt x="142" y="399"/>
                  </a:lnTo>
                  <a:lnTo>
                    <a:pt x="135" y="399"/>
                  </a:lnTo>
                  <a:lnTo>
                    <a:pt x="131" y="401"/>
                  </a:lnTo>
                  <a:lnTo>
                    <a:pt x="121" y="397"/>
                  </a:lnTo>
                  <a:lnTo>
                    <a:pt x="112" y="385"/>
                  </a:lnTo>
                  <a:lnTo>
                    <a:pt x="108" y="380"/>
                  </a:lnTo>
                  <a:lnTo>
                    <a:pt x="104" y="372"/>
                  </a:lnTo>
                  <a:lnTo>
                    <a:pt x="98" y="363"/>
                  </a:lnTo>
                  <a:lnTo>
                    <a:pt x="97" y="355"/>
                  </a:lnTo>
                  <a:lnTo>
                    <a:pt x="91" y="344"/>
                  </a:lnTo>
                  <a:lnTo>
                    <a:pt x="85" y="332"/>
                  </a:lnTo>
                  <a:lnTo>
                    <a:pt x="81" y="321"/>
                  </a:lnTo>
                  <a:lnTo>
                    <a:pt x="77" y="309"/>
                  </a:lnTo>
                  <a:lnTo>
                    <a:pt x="74" y="302"/>
                  </a:lnTo>
                  <a:lnTo>
                    <a:pt x="72" y="296"/>
                  </a:lnTo>
                  <a:lnTo>
                    <a:pt x="68" y="289"/>
                  </a:lnTo>
                  <a:lnTo>
                    <a:pt x="68" y="283"/>
                  </a:lnTo>
                  <a:lnTo>
                    <a:pt x="64" y="270"/>
                  </a:lnTo>
                  <a:lnTo>
                    <a:pt x="60" y="256"/>
                  </a:lnTo>
                  <a:lnTo>
                    <a:pt x="57" y="249"/>
                  </a:lnTo>
                  <a:lnTo>
                    <a:pt x="55" y="241"/>
                  </a:lnTo>
                  <a:lnTo>
                    <a:pt x="51" y="233"/>
                  </a:lnTo>
                  <a:lnTo>
                    <a:pt x="51" y="226"/>
                  </a:lnTo>
                  <a:lnTo>
                    <a:pt x="47" y="218"/>
                  </a:lnTo>
                  <a:lnTo>
                    <a:pt x="45" y="211"/>
                  </a:lnTo>
                  <a:lnTo>
                    <a:pt x="43" y="203"/>
                  </a:lnTo>
                  <a:lnTo>
                    <a:pt x="41" y="195"/>
                  </a:lnTo>
                  <a:lnTo>
                    <a:pt x="38" y="188"/>
                  </a:lnTo>
                  <a:lnTo>
                    <a:pt x="38" y="180"/>
                  </a:lnTo>
                  <a:lnTo>
                    <a:pt x="34" y="173"/>
                  </a:lnTo>
                  <a:lnTo>
                    <a:pt x="32" y="165"/>
                  </a:lnTo>
                  <a:lnTo>
                    <a:pt x="30" y="159"/>
                  </a:lnTo>
                  <a:lnTo>
                    <a:pt x="28" y="152"/>
                  </a:lnTo>
                  <a:lnTo>
                    <a:pt x="26" y="146"/>
                  </a:lnTo>
                  <a:lnTo>
                    <a:pt x="24" y="138"/>
                  </a:lnTo>
                  <a:lnTo>
                    <a:pt x="22" y="131"/>
                  </a:lnTo>
                  <a:lnTo>
                    <a:pt x="20" y="125"/>
                  </a:lnTo>
                  <a:lnTo>
                    <a:pt x="19" y="117"/>
                  </a:lnTo>
                  <a:lnTo>
                    <a:pt x="17" y="112"/>
                  </a:lnTo>
                  <a:lnTo>
                    <a:pt x="13" y="97"/>
                  </a:lnTo>
                  <a:lnTo>
                    <a:pt x="11" y="87"/>
                  </a:lnTo>
                  <a:lnTo>
                    <a:pt x="7" y="74"/>
                  </a:lnTo>
                  <a:lnTo>
                    <a:pt x="7" y="62"/>
                  </a:lnTo>
                  <a:lnTo>
                    <a:pt x="3" y="53"/>
                  </a:lnTo>
                  <a:lnTo>
                    <a:pt x="3" y="43"/>
                  </a:lnTo>
                  <a:lnTo>
                    <a:pt x="1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03040" y="512280"/>
              <a:ext cx="157320" cy="136440"/>
            </a:xfrm>
            <a:custGeom>
              <a:avLst/>
              <a:gdLst/>
              <a:ahLst/>
              <a:rect l="l" t="t" r="r" b="b"/>
              <a:pathLst>
                <a:path w="331" h="287">
                  <a:moveTo>
                    <a:pt x="2" y="2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11" y="61"/>
                  </a:lnTo>
                  <a:lnTo>
                    <a:pt x="15" y="72"/>
                  </a:lnTo>
                  <a:lnTo>
                    <a:pt x="19" y="86"/>
                  </a:lnTo>
                  <a:lnTo>
                    <a:pt x="21" y="93"/>
                  </a:lnTo>
                  <a:lnTo>
                    <a:pt x="25" y="101"/>
                  </a:lnTo>
                  <a:lnTo>
                    <a:pt x="25" y="107"/>
                  </a:lnTo>
                  <a:lnTo>
                    <a:pt x="28" y="114"/>
                  </a:lnTo>
                  <a:lnTo>
                    <a:pt x="30" y="122"/>
                  </a:lnTo>
                  <a:lnTo>
                    <a:pt x="34" y="130"/>
                  </a:lnTo>
                  <a:lnTo>
                    <a:pt x="36" y="137"/>
                  </a:lnTo>
                  <a:lnTo>
                    <a:pt x="40" y="145"/>
                  </a:lnTo>
                  <a:lnTo>
                    <a:pt x="42" y="152"/>
                  </a:lnTo>
                  <a:lnTo>
                    <a:pt x="46" y="160"/>
                  </a:lnTo>
                  <a:lnTo>
                    <a:pt x="47" y="168"/>
                  </a:lnTo>
                  <a:lnTo>
                    <a:pt x="51" y="175"/>
                  </a:lnTo>
                  <a:lnTo>
                    <a:pt x="51" y="185"/>
                  </a:lnTo>
                  <a:lnTo>
                    <a:pt x="55" y="194"/>
                  </a:lnTo>
                  <a:lnTo>
                    <a:pt x="57" y="200"/>
                  </a:lnTo>
                  <a:lnTo>
                    <a:pt x="61" y="209"/>
                  </a:lnTo>
                  <a:lnTo>
                    <a:pt x="63" y="215"/>
                  </a:lnTo>
                  <a:lnTo>
                    <a:pt x="65" y="223"/>
                  </a:lnTo>
                  <a:lnTo>
                    <a:pt x="68" y="230"/>
                  </a:lnTo>
                  <a:lnTo>
                    <a:pt x="72" y="238"/>
                  </a:lnTo>
                  <a:lnTo>
                    <a:pt x="76" y="247"/>
                  </a:lnTo>
                  <a:lnTo>
                    <a:pt x="82" y="261"/>
                  </a:lnTo>
                  <a:lnTo>
                    <a:pt x="89" y="272"/>
                  </a:lnTo>
                  <a:lnTo>
                    <a:pt x="97" y="285"/>
                  </a:lnTo>
                  <a:lnTo>
                    <a:pt x="99" y="285"/>
                  </a:lnTo>
                  <a:lnTo>
                    <a:pt x="103" y="287"/>
                  </a:lnTo>
                  <a:lnTo>
                    <a:pt x="108" y="285"/>
                  </a:lnTo>
                  <a:lnTo>
                    <a:pt x="116" y="283"/>
                  </a:lnTo>
                  <a:lnTo>
                    <a:pt x="123" y="280"/>
                  </a:lnTo>
                  <a:lnTo>
                    <a:pt x="131" y="274"/>
                  </a:lnTo>
                  <a:lnTo>
                    <a:pt x="141" y="268"/>
                  </a:lnTo>
                  <a:lnTo>
                    <a:pt x="150" y="261"/>
                  </a:lnTo>
                  <a:lnTo>
                    <a:pt x="161" y="253"/>
                  </a:lnTo>
                  <a:lnTo>
                    <a:pt x="171" y="244"/>
                  </a:lnTo>
                  <a:lnTo>
                    <a:pt x="184" y="234"/>
                  </a:lnTo>
                  <a:lnTo>
                    <a:pt x="196" y="225"/>
                  </a:lnTo>
                  <a:lnTo>
                    <a:pt x="207" y="213"/>
                  </a:lnTo>
                  <a:lnTo>
                    <a:pt x="220" y="204"/>
                  </a:lnTo>
                  <a:lnTo>
                    <a:pt x="232" y="192"/>
                  </a:lnTo>
                  <a:lnTo>
                    <a:pt x="245" y="183"/>
                  </a:lnTo>
                  <a:lnTo>
                    <a:pt x="253" y="173"/>
                  </a:lnTo>
                  <a:lnTo>
                    <a:pt x="262" y="162"/>
                  </a:lnTo>
                  <a:lnTo>
                    <a:pt x="270" y="152"/>
                  </a:lnTo>
                  <a:lnTo>
                    <a:pt x="277" y="145"/>
                  </a:lnTo>
                  <a:lnTo>
                    <a:pt x="283" y="135"/>
                  </a:lnTo>
                  <a:lnTo>
                    <a:pt x="291" y="128"/>
                  </a:lnTo>
                  <a:lnTo>
                    <a:pt x="298" y="118"/>
                  </a:lnTo>
                  <a:lnTo>
                    <a:pt x="304" y="110"/>
                  </a:lnTo>
                  <a:lnTo>
                    <a:pt x="308" y="103"/>
                  </a:lnTo>
                  <a:lnTo>
                    <a:pt x="314" y="95"/>
                  </a:lnTo>
                  <a:lnTo>
                    <a:pt x="317" y="88"/>
                  </a:lnTo>
                  <a:lnTo>
                    <a:pt x="321" y="84"/>
                  </a:lnTo>
                  <a:lnTo>
                    <a:pt x="327" y="72"/>
                  </a:lnTo>
                  <a:lnTo>
                    <a:pt x="331" y="67"/>
                  </a:lnTo>
                  <a:lnTo>
                    <a:pt x="329" y="59"/>
                  </a:lnTo>
                  <a:lnTo>
                    <a:pt x="319" y="55"/>
                  </a:lnTo>
                  <a:lnTo>
                    <a:pt x="312" y="52"/>
                  </a:lnTo>
                  <a:lnTo>
                    <a:pt x="304" y="50"/>
                  </a:lnTo>
                  <a:lnTo>
                    <a:pt x="295" y="46"/>
                  </a:lnTo>
                  <a:lnTo>
                    <a:pt x="285" y="46"/>
                  </a:lnTo>
                  <a:lnTo>
                    <a:pt x="274" y="42"/>
                  </a:lnTo>
                  <a:lnTo>
                    <a:pt x="262" y="40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28" y="34"/>
                  </a:lnTo>
                  <a:lnTo>
                    <a:pt x="217" y="33"/>
                  </a:lnTo>
                  <a:lnTo>
                    <a:pt x="205" y="31"/>
                  </a:lnTo>
                  <a:lnTo>
                    <a:pt x="198" y="31"/>
                  </a:lnTo>
                  <a:lnTo>
                    <a:pt x="192" y="29"/>
                  </a:lnTo>
                  <a:lnTo>
                    <a:pt x="184" y="29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3"/>
                  </a:lnTo>
                  <a:lnTo>
                    <a:pt x="158" y="21"/>
                  </a:lnTo>
                  <a:lnTo>
                    <a:pt x="150" y="21"/>
                  </a:lnTo>
                  <a:lnTo>
                    <a:pt x="144" y="19"/>
                  </a:lnTo>
                  <a:lnTo>
                    <a:pt x="137" y="17"/>
                  </a:lnTo>
                  <a:lnTo>
                    <a:pt x="129" y="15"/>
                  </a:lnTo>
                  <a:lnTo>
                    <a:pt x="120" y="14"/>
                  </a:lnTo>
                  <a:lnTo>
                    <a:pt x="112" y="14"/>
                  </a:lnTo>
                  <a:lnTo>
                    <a:pt x="104" y="12"/>
                  </a:lnTo>
                  <a:lnTo>
                    <a:pt x="97" y="12"/>
                  </a:lnTo>
                  <a:lnTo>
                    <a:pt x="89" y="10"/>
                  </a:lnTo>
                  <a:lnTo>
                    <a:pt x="82" y="10"/>
                  </a:lnTo>
                  <a:lnTo>
                    <a:pt x="74" y="8"/>
                  </a:lnTo>
                  <a:lnTo>
                    <a:pt x="66" y="6"/>
                  </a:lnTo>
                  <a:lnTo>
                    <a:pt x="59" y="4"/>
                  </a:lnTo>
                  <a:lnTo>
                    <a:pt x="51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302880" y="499680"/>
              <a:ext cx="210240" cy="222840"/>
            </a:xfrm>
            <a:custGeom>
              <a:avLst/>
              <a:gdLst/>
              <a:ahLst/>
              <a:rect l="l" t="t" r="r" b="b"/>
              <a:pathLst>
                <a:path w="445" h="469">
                  <a:moveTo>
                    <a:pt x="363" y="24"/>
                  </a:moveTo>
                  <a:lnTo>
                    <a:pt x="363" y="26"/>
                  </a:lnTo>
                  <a:lnTo>
                    <a:pt x="363" y="30"/>
                  </a:lnTo>
                  <a:lnTo>
                    <a:pt x="365" y="38"/>
                  </a:lnTo>
                  <a:lnTo>
                    <a:pt x="367" y="45"/>
                  </a:lnTo>
                  <a:lnTo>
                    <a:pt x="369" y="55"/>
                  </a:lnTo>
                  <a:lnTo>
                    <a:pt x="373" y="64"/>
                  </a:lnTo>
                  <a:lnTo>
                    <a:pt x="376" y="76"/>
                  </a:lnTo>
                  <a:lnTo>
                    <a:pt x="380" y="89"/>
                  </a:lnTo>
                  <a:lnTo>
                    <a:pt x="380" y="95"/>
                  </a:lnTo>
                  <a:lnTo>
                    <a:pt x="382" y="100"/>
                  </a:lnTo>
                  <a:lnTo>
                    <a:pt x="382" y="108"/>
                  </a:lnTo>
                  <a:lnTo>
                    <a:pt x="386" y="116"/>
                  </a:lnTo>
                  <a:lnTo>
                    <a:pt x="386" y="123"/>
                  </a:lnTo>
                  <a:lnTo>
                    <a:pt x="390" y="129"/>
                  </a:lnTo>
                  <a:lnTo>
                    <a:pt x="390" y="136"/>
                  </a:lnTo>
                  <a:lnTo>
                    <a:pt x="393" y="144"/>
                  </a:lnTo>
                  <a:lnTo>
                    <a:pt x="393" y="152"/>
                  </a:lnTo>
                  <a:lnTo>
                    <a:pt x="397" y="159"/>
                  </a:lnTo>
                  <a:lnTo>
                    <a:pt x="397" y="167"/>
                  </a:lnTo>
                  <a:lnTo>
                    <a:pt x="401" y="176"/>
                  </a:lnTo>
                  <a:lnTo>
                    <a:pt x="403" y="184"/>
                  </a:lnTo>
                  <a:lnTo>
                    <a:pt x="405" y="192"/>
                  </a:lnTo>
                  <a:lnTo>
                    <a:pt x="407" y="201"/>
                  </a:lnTo>
                  <a:lnTo>
                    <a:pt x="411" y="209"/>
                  </a:lnTo>
                  <a:lnTo>
                    <a:pt x="411" y="216"/>
                  </a:lnTo>
                  <a:lnTo>
                    <a:pt x="412" y="224"/>
                  </a:lnTo>
                  <a:lnTo>
                    <a:pt x="414" y="232"/>
                  </a:lnTo>
                  <a:lnTo>
                    <a:pt x="416" y="239"/>
                  </a:lnTo>
                  <a:lnTo>
                    <a:pt x="416" y="247"/>
                  </a:lnTo>
                  <a:lnTo>
                    <a:pt x="420" y="256"/>
                  </a:lnTo>
                  <a:lnTo>
                    <a:pt x="420" y="264"/>
                  </a:lnTo>
                  <a:lnTo>
                    <a:pt x="424" y="271"/>
                  </a:lnTo>
                  <a:lnTo>
                    <a:pt x="424" y="279"/>
                  </a:lnTo>
                  <a:lnTo>
                    <a:pt x="426" y="287"/>
                  </a:lnTo>
                  <a:lnTo>
                    <a:pt x="428" y="294"/>
                  </a:lnTo>
                  <a:lnTo>
                    <a:pt x="430" y="302"/>
                  </a:lnTo>
                  <a:lnTo>
                    <a:pt x="431" y="308"/>
                  </a:lnTo>
                  <a:lnTo>
                    <a:pt x="431" y="315"/>
                  </a:lnTo>
                  <a:lnTo>
                    <a:pt x="433" y="323"/>
                  </a:lnTo>
                  <a:lnTo>
                    <a:pt x="435" y="328"/>
                  </a:lnTo>
                  <a:lnTo>
                    <a:pt x="437" y="342"/>
                  </a:lnTo>
                  <a:lnTo>
                    <a:pt x="439" y="353"/>
                  </a:lnTo>
                  <a:lnTo>
                    <a:pt x="441" y="363"/>
                  </a:lnTo>
                  <a:lnTo>
                    <a:pt x="443" y="374"/>
                  </a:lnTo>
                  <a:lnTo>
                    <a:pt x="443" y="382"/>
                  </a:lnTo>
                  <a:lnTo>
                    <a:pt x="445" y="391"/>
                  </a:lnTo>
                  <a:lnTo>
                    <a:pt x="445" y="397"/>
                  </a:lnTo>
                  <a:lnTo>
                    <a:pt x="445" y="401"/>
                  </a:lnTo>
                  <a:lnTo>
                    <a:pt x="441" y="408"/>
                  </a:lnTo>
                  <a:lnTo>
                    <a:pt x="433" y="414"/>
                  </a:lnTo>
                  <a:lnTo>
                    <a:pt x="428" y="420"/>
                  </a:lnTo>
                  <a:lnTo>
                    <a:pt x="416" y="425"/>
                  </a:lnTo>
                  <a:lnTo>
                    <a:pt x="411" y="429"/>
                  </a:lnTo>
                  <a:lnTo>
                    <a:pt x="405" y="431"/>
                  </a:lnTo>
                  <a:lnTo>
                    <a:pt x="397" y="433"/>
                  </a:lnTo>
                  <a:lnTo>
                    <a:pt x="392" y="437"/>
                  </a:lnTo>
                  <a:lnTo>
                    <a:pt x="382" y="439"/>
                  </a:lnTo>
                  <a:lnTo>
                    <a:pt x="376" y="442"/>
                  </a:lnTo>
                  <a:lnTo>
                    <a:pt x="369" y="442"/>
                  </a:lnTo>
                  <a:lnTo>
                    <a:pt x="361" y="446"/>
                  </a:lnTo>
                  <a:lnTo>
                    <a:pt x="352" y="448"/>
                  </a:lnTo>
                  <a:lnTo>
                    <a:pt x="342" y="450"/>
                  </a:lnTo>
                  <a:lnTo>
                    <a:pt x="335" y="452"/>
                  </a:lnTo>
                  <a:lnTo>
                    <a:pt x="325" y="454"/>
                  </a:lnTo>
                  <a:lnTo>
                    <a:pt x="316" y="456"/>
                  </a:lnTo>
                  <a:lnTo>
                    <a:pt x="308" y="458"/>
                  </a:lnTo>
                  <a:lnTo>
                    <a:pt x="297" y="460"/>
                  </a:lnTo>
                  <a:lnTo>
                    <a:pt x="289" y="461"/>
                  </a:lnTo>
                  <a:lnTo>
                    <a:pt x="279" y="461"/>
                  </a:lnTo>
                  <a:lnTo>
                    <a:pt x="270" y="463"/>
                  </a:lnTo>
                  <a:lnTo>
                    <a:pt x="260" y="463"/>
                  </a:lnTo>
                  <a:lnTo>
                    <a:pt x="251" y="467"/>
                  </a:lnTo>
                  <a:lnTo>
                    <a:pt x="241" y="467"/>
                  </a:lnTo>
                  <a:lnTo>
                    <a:pt x="232" y="467"/>
                  </a:lnTo>
                  <a:lnTo>
                    <a:pt x="222" y="469"/>
                  </a:lnTo>
                  <a:lnTo>
                    <a:pt x="215" y="469"/>
                  </a:lnTo>
                  <a:lnTo>
                    <a:pt x="205" y="469"/>
                  </a:lnTo>
                  <a:lnTo>
                    <a:pt x="198" y="469"/>
                  </a:lnTo>
                  <a:lnTo>
                    <a:pt x="188" y="469"/>
                  </a:lnTo>
                  <a:lnTo>
                    <a:pt x="179" y="469"/>
                  </a:lnTo>
                  <a:lnTo>
                    <a:pt x="169" y="469"/>
                  </a:lnTo>
                  <a:lnTo>
                    <a:pt x="162" y="469"/>
                  </a:lnTo>
                  <a:lnTo>
                    <a:pt x="150" y="469"/>
                  </a:lnTo>
                  <a:lnTo>
                    <a:pt x="143" y="469"/>
                  </a:lnTo>
                  <a:lnTo>
                    <a:pt x="133" y="469"/>
                  </a:lnTo>
                  <a:lnTo>
                    <a:pt x="125" y="467"/>
                  </a:lnTo>
                  <a:lnTo>
                    <a:pt x="116" y="467"/>
                  </a:lnTo>
                  <a:lnTo>
                    <a:pt x="108" y="467"/>
                  </a:lnTo>
                  <a:lnTo>
                    <a:pt x="101" y="465"/>
                  </a:lnTo>
                  <a:lnTo>
                    <a:pt x="93" y="463"/>
                  </a:lnTo>
                  <a:lnTo>
                    <a:pt x="86" y="463"/>
                  </a:lnTo>
                  <a:lnTo>
                    <a:pt x="78" y="463"/>
                  </a:lnTo>
                  <a:lnTo>
                    <a:pt x="72" y="460"/>
                  </a:lnTo>
                  <a:lnTo>
                    <a:pt x="65" y="460"/>
                  </a:lnTo>
                  <a:lnTo>
                    <a:pt x="57" y="456"/>
                  </a:lnTo>
                  <a:lnTo>
                    <a:pt x="51" y="456"/>
                  </a:lnTo>
                  <a:lnTo>
                    <a:pt x="38" y="452"/>
                  </a:lnTo>
                  <a:lnTo>
                    <a:pt x="29" y="448"/>
                  </a:lnTo>
                  <a:lnTo>
                    <a:pt x="19" y="442"/>
                  </a:lnTo>
                  <a:lnTo>
                    <a:pt x="11" y="439"/>
                  </a:lnTo>
                  <a:lnTo>
                    <a:pt x="6" y="433"/>
                  </a:lnTo>
                  <a:lnTo>
                    <a:pt x="4" y="429"/>
                  </a:lnTo>
                  <a:lnTo>
                    <a:pt x="0" y="422"/>
                  </a:lnTo>
                  <a:lnTo>
                    <a:pt x="0" y="414"/>
                  </a:lnTo>
                  <a:lnTo>
                    <a:pt x="4" y="403"/>
                  </a:lnTo>
                  <a:lnTo>
                    <a:pt x="10" y="393"/>
                  </a:lnTo>
                  <a:lnTo>
                    <a:pt x="11" y="385"/>
                  </a:lnTo>
                  <a:lnTo>
                    <a:pt x="15" y="380"/>
                  </a:lnTo>
                  <a:lnTo>
                    <a:pt x="19" y="372"/>
                  </a:lnTo>
                  <a:lnTo>
                    <a:pt x="25" y="366"/>
                  </a:lnTo>
                  <a:lnTo>
                    <a:pt x="29" y="357"/>
                  </a:lnTo>
                  <a:lnTo>
                    <a:pt x="34" y="349"/>
                  </a:lnTo>
                  <a:lnTo>
                    <a:pt x="40" y="344"/>
                  </a:lnTo>
                  <a:lnTo>
                    <a:pt x="48" y="336"/>
                  </a:lnTo>
                  <a:lnTo>
                    <a:pt x="53" y="327"/>
                  </a:lnTo>
                  <a:lnTo>
                    <a:pt x="59" y="317"/>
                  </a:lnTo>
                  <a:lnTo>
                    <a:pt x="65" y="308"/>
                  </a:lnTo>
                  <a:lnTo>
                    <a:pt x="72" y="300"/>
                  </a:lnTo>
                  <a:lnTo>
                    <a:pt x="80" y="290"/>
                  </a:lnTo>
                  <a:lnTo>
                    <a:pt x="87" y="281"/>
                  </a:lnTo>
                  <a:lnTo>
                    <a:pt x="95" y="273"/>
                  </a:lnTo>
                  <a:lnTo>
                    <a:pt x="103" y="264"/>
                  </a:lnTo>
                  <a:lnTo>
                    <a:pt x="108" y="254"/>
                  </a:lnTo>
                  <a:lnTo>
                    <a:pt x="116" y="247"/>
                  </a:lnTo>
                  <a:lnTo>
                    <a:pt x="122" y="235"/>
                  </a:lnTo>
                  <a:lnTo>
                    <a:pt x="129" y="230"/>
                  </a:lnTo>
                  <a:lnTo>
                    <a:pt x="137" y="220"/>
                  </a:lnTo>
                  <a:lnTo>
                    <a:pt x="144" y="211"/>
                  </a:lnTo>
                  <a:lnTo>
                    <a:pt x="152" y="201"/>
                  </a:lnTo>
                  <a:lnTo>
                    <a:pt x="160" y="195"/>
                  </a:lnTo>
                  <a:lnTo>
                    <a:pt x="165" y="184"/>
                  </a:lnTo>
                  <a:lnTo>
                    <a:pt x="171" y="176"/>
                  </a:lnTo>
                  <a:lnTo>
                    <a:pt x="177" y="167"/>
                  </a:lnTo>
                  <a:lnTo>
                    <a:pt x="184" y="159"/>
                  </a:lnTo>
                  <a:lnTo>
                    <a:pt x="192" y="150"/>
                  </a:lnTo>
                  <a:lnTo>
                    <a:pt x="198" y="142"/>
                  </a:lnTo>
                  <a:lnTo>
                    <a:pt x="203" y="133"/>
                  </a:lnTo>
                  <a:lnTo>
                    <a:pt x="211" y="127"/>
                  </a:lnTo>
                  <a:lnTo>
                    <a:pt x="217" y="117"/>
                  </a:lnTo>
                  <a:lnTo>
                    <a:pt x="222" y="110"/>
                  </a:lnTo>
                  <a:lnTo>
                    <a:pt x="228" y="100"/>
                  </a:lnTo>
                  <a:lnTo>
                    <a:pt x="236" y="93"/>
                  </a:lnTo>
                  <a:lnTo>
                    <a:pt x="241" y="85"/>
                  </a:lnTo>
                  <a:lnTo>
                    <a:pt x="247" y="78"/>
                  </a:lnTo>
                  <a:lnTo>
                    <a:pt x="253" y="72"/>
                  </a:lnTo>
                  <a:lnTo>
                    <a:pt x="260" y="64"/>
                  </a:lnTo>
                  <a:lnTo>
                    <a:pt x="264" y="57"/>
                  </a:lnTo>
                  <a:lnTo>
                    <a:pt x="270" y="51"/>
                  </a:lnTo>
                  <a:lnTo>
                    <a:pt x="274" y="43"/>
                  </a:lnTo>
                  <a:lnTo>
                    <a:pt x="279" y="40"/>
                  </a:lnTo>
                  <a:lnTo>
                    <a:pt x="287" y="28"/>
                  </a:lnTo>
                  <a:lnTo>
                    <a:pt x="297" y="21"/>
                  </a:lnTo>
                  <a:lnTo>
                    <a:pt x="304" y="11"/>
                  </a:lnTo>
                  <a:lnTo>
                    <a:pt x="312" y="5"/>
                  </a:lnTo>
                  <a:lnTo>
                    <a:pt x="316" y="3"/>
                  </a:lnTo>
                  <a:lnTo>
                    <a:pt x="321" y="2"/>
                  </a:lnTo>
                  <a:lnTo>
                    <a:pt x="333" y="0"/>
                  </a:lnTo>
                  <a:lnTo>
                    <a:pt x="346" y="3"/>
                  </a:lnTo>
                  <a:lnTo>
                    <a:pt x="350" y="5"/>
                  </a:lnTo>
                  <a:lnTo>
                    <a:pt x="355" y="11"/>
                  </a:lnTo>
                  <a:lnTo>
                    <a:pt x="359" y="17"/>
                  </a:lnTo>
                  <a:lnTo>
                    <a:pt x="363" y="24"/>
                  </a:lnTo>
                  <a:lnTo>
                    <a:pt x="36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37080" y="525240"/>
              <a:ext cx="150480" cy="173520"/>
            </a:xfrm>
            <a:custGeom>
              <a:avLst/>
              <a:gdLst/>
              <a:ahLst/>
              <a:rect l="l" t="t" r="r" b="b"/>
              <a:pathLst>
                <a:path w="320" h="365">
                  <a:moveTo>
                    <a:pt x="255" y="0"/>
                  </a:moveTo>
                  <a:lnTo>
                    <a:pt x="249" y="2"/>
                  </a:lnTo>
                  <a:lnTo>
                    <a:pt x="240" y="13"/>
                  </a:lnTo>
                  <a:lnTo>
                    <a:pt x="232" y="19"/>
                  </a:lnTo>
                  <a:lnTo>
                    <a:pt x="226" y="26"/>
                  </a:lnTo>
                  <a:lnTo>
                    <a:pt x="219" y="38"/>
                  </a:lnTo>
                  <a:lnTo>
                    <a:pt x="211" y="49"/>
                  </a:lnTo>
                  <a:lnTo>
                    <a:pt x="206" y="55"/>
                  </a:lnTo>
                  <a:lnTo>
                    <a:pt x="202" y="61"/>
                  </a:lnTo>
                  <a:lnTo>
                    <a:pt x="194" y="66"/>
                  </a:lnTo>
                  <a:lnTo>
                    <a:pt x="192" y="74"/>
                  </a:lnTo>
                  <a:lnTo>
                    <a:pt x="185" y="80"/>
                  </a:lnTo>
                  <a:lnTo>
                    <a:pt x="181" y="87"/>
                  </a:lnTo>
                  <a:lnTo>
                    <a:pt x="175" y="95"/>
                  </a:lnTo>
                  <a:lnTo>
                    <a:pt x="171" y="102"/>
                  </a:lnTo>
                  <a:lnTo>
                    <a:pt x="164" y="108"/>
                  </a:lnTo>
                  <a:lnTo>
                    <a:pt x="158" y="116"/>
                  </a:lnTo>
                  <a:lnTo>
                    <a:pt x="152" y="123"/>
                  </a:lnTo>
                  <a:lnTo>
                    <a:pt x="147" y="131"/>
                  </a:lnTo>
                  <a:lnTo>
                    <a:pt x="141" y="139"/>
                  </a:lnTo>
                  <a:lnTo>
                    <a:pt x="137" y="146"/>
                  </a:lnTo>
                  <a:lnTo>
                    <a:pt x="129" y="156"/>
                  </a:lnTo>
                  <a:lnTo>
                    <a:pt x="126" y="165"/>
                  </a:lnTo>
                  <a:lnTo>
                    <a:pt x="118" y="171"/>
                  </a:lnTo>
                  <a:lnTo>
                    <a:pt x="112" y="178"/>
                  </a:lnTo>
                  <a:lnTo>
                    <a:pt x="107" y="186"/>
                  </a:lnTo>
                  <a:lnTo>
                    <a:pt x="103" y="196"/>
                  </a:lnTo>
                  <a:lnTo>
                    <a:pt x="95" y="201"/>
                  </a:lnTo>
                  <a:lnTo>
                    <a:pt x="91" y="209"/>
                  </a:lnTo>
                  <a:lnTo>
                    <a:pt x="86" y="216"/>
                  </a:lnTo>
                  <a:lnTo>
                    <a:pt x="80" y="226"/>
                  </a:lnTo>
                  <a:lnTo>
                    <a:pt x="74" y="232"/>
                  </a:lnTo>
                  <a:lnTo>
                    <a:pt x="69" y="239"/>
                  </a:lnTo>
                  <a:lnTo>
                    <a:pt x="63" y="247"/>
                  </a:lnTo>
                  <a:lnTo>
                    <a:pt x="57" y="253"/>
                  </a:lnTo>
                  <a:lnTo>
                    <a:pt x="53" y="260"/>
                  </a:lnTo>
                  <a:lnTo>
                    <a:pt x="48" y="268"/>
                  </a:lnTo>
                  <a:lnTo>
                    <a:pt x="44" y="273"/>
                  </a:lnTo>
                  <a:lnTo>
                    <a:pt x="40" y="281"/>
                  </a:lnTo>
                  <a:lnTo>
                    <a:pt x="31" y="291"/>
                  </a:lnTo>
                  <a:lnTo>
                    <a:pt x="23" y="302"/>
                  </a:lnTo>
                  <a:lnTo>
                    <a:pt x="15" y="311"/>
                  </a:lnTo>
                  <a:lnTo>
                    <a:pt x="10" y="321"/>
                  </a:lnTo>
                  <a:lnTo>
                    <a:pt x="6" y="327"/>
                  </a:lnTo>
                  <a:lnTo>
                    <a:pt x="2" y="332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0" y="346"/>
                  </a:lnTo>
                  <a:lnTo>
                    <a:pt x="6" y="351"/>
                  </a:lnTo>
                  <a:lnTo>
                    <a:pt x="12" y="353"/>
                  </a:lnTo>
                  <a:lnTo>
                    <a:pt x="19" y="355"/>
                  </a:lnTo>
                  <a:lnTo>
                    <a:pt x="27" y="355"/>
                  </a:lnTo>
                  <a:lnTo>
                    <a:pt x="36" y="359"/>
                  </a:lnTo>
                  <a:lnTo>
                    <a:pt x="46" y="359"/>
                  </a:lnTo>
                  <a:lnTo>
                    <a:pt x="57" y="361"/>
                  </a:lnTo>
                  <a:lnTo>
                    <a:pt x="69" y="363"/>
                  </a:lnTo>
                  <a:lnTo>
                    <a:pt x="82" y="363"/>
                  </a:lnTo>
                  <a:lnTo>
                    <a:pt x="91" y="363"/>
                  </a:lnTo>
                  <a:lnTo>
                    <a:pt x="105" y="363"/>
                  </a:lnTo>
                  <a:lnTo>
                    <a:pt x="112" y="363"/>
                  </a:lnTo>
                  <a:lnTo>
                    <a:pt x="120" y="363"/>
                  </a:lnTo>
                  <a:lnTo>
                    <a:pt x="126" y="363"/>
                  </a:lnTo>
                  <a:lnTo>
                    <a:pt x="133" y="365"/>
                  </a:lnTo>
                  <a:lnTo>
                    <a:pt x="143" y="363"/>
                  </a:lnTo>
                  <a:lnTo>
                    <a:pt x="156" y="363"/>
                  </a:lnTo>
                  <a:lnTo>
                    <a:pt x="164" y="363"/>
                  </a:lnTo>
                  <a:lnTo>
                    <a:pt x="171" y="363"/>
                  </a:lnTo>
                  <a:lnTo>
                    <a:pt x="177" y="361"/>
                  </a:lnTo>
                  <a:lnTo>
                    <a:pt x="185" y="361"/>
                  </a:lnTo>
                  <a:lnTo>
                    <a:pt x="192" y="359"/>
                  </a:lnTo>
                  <a:lnTo>
                    <a:pt x="198" y="359"/>
                  </a:lnTo>
                  <a:lnTo>
                    <a:pt x="206" y="357"/>
                  </a:lnTo>
                  <a:lnTo>
                    <a:pt x="211" y="357"/>
                  </a:lnTo>
                  <a:lnTo>
                    <a:pt x="219" y="355"/>
                  </a:lnTo>
                  <a:lnTo>
                    <a:pt x="225" y="355"/>
                  </a:lnTo>
                  <a:lnTo>
                    <a:pt x="232" y="353"/>
                  </a:lnTo>
                  <a:lnTo>
                    <a:pt x="240" y="353"/>
                  </a:lnTo>
                  <a:lnTo>
                    <a:pt x="251" y="349"/>
                  </a:lnTo>
                  <a:lnTo>
                    <a:pt x="263" y="348"/>
                  </a:lnTo>
                  <a:lnTo>
                    <a:pt x="274" y="346"/>
                  </a:lnTo>
                  <a:lnTo>
                    <a:pt x="283" y="342"/>
                  </a:lnTo>
                  <a:lnTo>
                    <a:pt x="293" y="340"/>
                  </a:lnTo>
                  <a:lnTo>
                    <a:pt x="301" y="338"/>
                  </a:lnTo>
                  <a:lnTo>
                    <a:pt x="308" y="336"/>
                  </a:lnTo>
                  <a:lnTo>
                    <a:pt x="314" y="332"/>
                  </a:lnTo>
                  <a:lnTo>
                    <a:pt x="318" y="327"/>
                  </a:lnTo>
                  <a:lnTo>
                    <a:pt x="320" y="317"/>
                  </a:lnTo>
                  <a:lnTo>
                    <a:pt x="318" y="308"/>
                  </a:lnTo>
                  <a:lnTo>
                    <a:pt x="318" y="302"/>
                  </a:lnTo>
                  <a:lnTo>
                    <a:pt x="318" y="291"/>
                  </a:lnTo>
                  <a:lnTo>
                    <a:pt x="316" y="283"/>
                  </a:lnTo>
                  <a:lnTo>
                    <a:pt x="314" y="272"/>
                  </a:lnTo>
                  <a:lnTo>
                    <a:pt x="310" y="260"/>
                  </a:lnTo>
                  <a:lnTo>
                    <a:pt x="310" y="253"/>
                  </a:lnTo>
                  <a:lnTo>
                    <a:pt x="308" y="247"/>
                  </a:lnTo>
                  <a:lnTo>
                    <a:pt x="308" y="239"/>
                  </a:lnTo>
                  <a:lnTo>
                    <a:pt x="308" y="232"/>
                  </a:lnTo>
                  <a:lnTo>
                    <a:pt x="304" y="226"/>
                  </a:lnTo>
                  <a:lnTo>
                    <a:pt x="304" y="218"/>
                  </a:lnTo>
                  <a:lnTo>
                    <a:pt x="301" y="211"/>
                  </a:lnTo>
                  <a:lnTo>
                    <a:pt x="301" y="203"/>
                  </a:lnTo>
                  <a:lnTo>
                    <a:pt x="299" y="196"/>
                  </a:lnTo>
                  <a:lnTo>
                    <a:pt x="297" y="186"/>
                  </a:lnTo>
                  <a:lnTo>
                    <a:pt x="295" y="178"/>
                  </a:lnTo>
                  <a:lnTo>
                    <a:pt x="295" y="171"/>
                  </a:lnTo>
                  <a:lnTo>
                    <a:pt x="293" y="161"/>
                  </a:lnTo>
                  <a:lnTo>
                    <a:pt x="291" y="152"/>
                  </a:lnTo>
                  <a:lnTo>
                    <a:pt x="289" y="142"/>
                  </a:lnTo>
                  <a:lnTo>
                    <a:pt x="287" y="135"/>
                  </a:lnTo>
                  <a:lnTo>
                    <a:pt x="285" y="125"/>
                  </a:lnTo>
                  <a:lnTo>
                    <a:pt x="283" y="118"/>
                  </a:lnTo>
                  <a:lnTo>
                    <a:pt x="282" y="110"/>
                  </a:lnTo>
                  <a:lnTo>
                    <a:pt x="280" y="102"/>
                  </a:lnTo>
                  <a:lnTo>
                    <a:pt x="278" y="95"/>
                  </a:lnTo>
                  <a:lnTo>
                    <a:pt x="276" y="87"/>
                  </a:lnTo>
                  <a:lnTo>
                    <a:pt x="276" y="80"/>
                  </a:lnTo>
                  <a:lnTo>
                    <a:pt x="274" y="74"/>
                  </a:lnTo>
                  <a:lnTo>
                    <a:pt x="272" y="66"/>
                  </a:lnTo>
                  <a:lnTo>
                    <a:pt x="272" y="61"/>
                  </a:lnTo>
                  <a:lnTo>
                    <a:pt x="270" y="55"/>
                  </a:lnTo>
                  <a:lnTo>
                    <a:pt x="270" y="49"/>
                  </a:lnTo>
                  <a:lnTo>
                    <a:pt x="266" y="38"/>
                  </a:lnTo>
                  <a:lnTo>
                    <a:pt x="263" y="26"/>
                  </a:lnTo>
                  <a:lnTo>
                    <a:pt x="261" y="17"/>
                  </a:lnTo>
                  <a:lnTo>
                    <a:pt x="259" y="11"/>
                  </a:lnTo>
                  <a:lnTo>
                    <a:pt x="255" y="2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58240" y="479880"/>
              <a:ext cx="181800" cy="193320"/>
            </a:xfrm>
            <a:custGeom>
              <a:avLst/>
              <a:gdLst/>
              <a:ahLst/>
              <a:rect l="l" t="t" r="r" b="b"/>
              <a:pathLst>
                <a:path w="384" h="408">
                  <a:moveTo>
                    <a:pt x="367" y="7"/>
                  </a:moveTo>
                  <a:lnTo>
                    <a:pt x="376" y="13"/>
                  </a:lnTo>
                  <a:lnTo>
                    <a:pt x="384" y="23"/>
                  </a:lnTo>
                  <a:lnTo>
                    <a:pt x="384" y="28"/>
                  </a:lnTo>
                  <a:lnTo>
                    <a:pt x="384" y="36"/>
                  </a:lnTo>
                  <a:lnTo>
                    <a:pt x="382" y="44"/>
                  </a:lnTo>
                  <a:lnTo>
                    <a:pt x="378" y="51"/>
                  </a:lnTo>
                  <a:lnTo>
                    <a:pt x="372" y="57"/>
                  </a:lnTo>
                  <a:lnTo>
                    <a:pt x="363" y="68"/>
                  </a:lnTo>
                  <a:lnTo>
                    <a:pt x="357" y="74"/>
                  </a:lnTo>
                  <a:lnTo>
                    <a:pt x="350" y="82"/>
                  </a:lnTo>
                  <a:lnTo>
                    <a:pt x="342" y="93"/>
                  </a:lnTo>
                  <a:lnTo>
                    <a:pt x="334" y="102"/>
                  </a:lnTo>
                  <a:lnTo>
                    <a:pt x="329" y="108"/>
                  </a:lnTo>
                  <a:lnTo>
                    <a:pt x="323" y="114"/>
                  </a:lnTo>
                  <a:lnTo>
                    <a:pt x="317" y="120"/>
                  </a:lnTo>
                  <a:lnTo>
                    <a:pt x="312" y="127"/>
                  </a:lnTo>
                  <a:lnTo>
                    <a:pt x="304" y="135"/>
                  </a:lnTo>
                  <a:lnTo>
                    <a:pt x="298" y="140"/>
                  </a:lnTo>
                  <a:lnTo>
                    <a:pt x="293" y="148"/>
                  </a:lnTo>
                  <a:lnTo>
                    <a:pt x="287" y="158"/>
                  </a:lnTo>
                  <a:lnTo>
                    <a:pt x="279" y="165"/>
                  </a:lnTo>
                  <a:lnTo>
                    <a:pt x="272" y="173"/>
                  </a:lnTo>
                  <a:lnTo>
                    <a:pt x="264" y="182"/>
                  </a:lnTo>
                  <a:lnTo>
                    <a:pt x="256" y="192"/>
                  </a:lnTo>
                  <a:lnTo>
                    <a:pt x="249" y="199"/>
                  </a:lnTo>
                  <a:lnTo>
                    <a:pt x="239" y="209"/>
                  </a:lnTo>
                  <a:lnTo>
                    <a:pt x="232" y="220"/>
                  </a:lnTo>
                  <a:lnTo>
                    <a:pt x="224" y="232"/>
                  </a:lnTo>
                  <a:lnTo>
                    <a:pt x="215" y="241"/>
                  </a:lnTo>
                  <a:lnTo>
                    <a:pt x="205" y="249"/>
                  </a:lnTo>
                  <a:lnTo>
                    <a:pt x="199" y="258"/>
                  </a:lnTo>
                  <a:lnTo>
                    <a:pt x="192" y="268"/>
                  </a:lnTo>
                  <a:lnTo>
                    <a:pt x="182" y="275"/>
                  </a:lnTo>
                  <a:lnTo>
                    <a:pt x="175" y="283"/>
                  </a:lnTo>
                  <a:lnTo>
                    <a:pt x="169" y="291"/>
                  </a:lnTo>
                  <a:lnTo>
                    <a:pt x="163" y="298"/>
                  </a:lnTo>
                  <a:lnTo>
                    <a:pt x="156" y="306"/>
                  </a:lnTo>
                  <a:lnTo>
                    <a:pt x="150" y="312"/>
                  </a:lnTo>
                  <a:lnTo>
                    <a:pt x="144" y="319"/>
                  </a:lnTo>
                  <a:lnTo>
                    <a:pt x="139" y="325"/>
                  </a:lnTo>
                  <a:lnTo>
                    <a:pt x="127" y="336"/>
                  </a:lnTo>
                  <a:lnTo>
                    <a:pt x="120" y="348"/>
                  </a:lnTo>
                  <a:lnTo>
                    <a:pt x="110" y="357"/>
                  </a:lnTo>
                  <a:lnTo>
                    <a:pt x="101" y="365"/>
                  </a:lnTo>
                  <a:lnTo>
                    <a:pt x="93" y="372"/>
                  </a:lnTo>
                  <a:lnTo>
                    <a:pt x="87" y="380"/>
                  </a:lnTo>
                  <a:lnTo>
                    <a:pt x="76" y="391"/>
                  </a:lnTo>
                  <a:lnTo>
                    <a:pt x="68" y="399"/>
                  </a:lnTo>
                  <a:lnTo>
                    <a:pt x="59" y="403"/>
                  </a:lnTo>
                  <a:lnTo>
                    <a:pt x="55" y="407"/>
                  </a:lnTo>
                  <a:lnTo>
                    <a:pt x="51" y="408"/>
                  </a:lnTo>
                  <a:lnTo>
                    <a:pt x="47" y="408"/>
                  </a:lnTo>
                  <a:lnTo>
                    <a:pt x="42" y="408"/>
                  </a:lnTo>
                  <a:lnTo>
                    <a:pt x="38" y="408"/>
                  </a:lnTo>
                  <a:lnTo>
                    <a:pt x="32" y="408"/>
                  </a:lnTo>
                  <a:lnTo>
                    <a:pt x="28" y="405"/>
                  </a:lnTo>
                  <a:lnTo>
                    <a:pt x="25" y="399"/>
                  </a:lnTo>
                  <a:lnTo>
                    <a:pt x="21" y="393"/>
                  </a:lnTo>
                  <a:lnTo>
                    <a:pt x="17" y="386"/>
                  </a:lnTo>
                  <a:lnTo>
                    <a:pt x="13" y="374"/>
                  </a:lnTo>
                  <a:lnTo>
                    <a:pt x="11" y="363"/>
                  </a:lnTo>
                  <a:lnTo>
                    <a:pt x="9" y="351"/>
                  </a:lnTo>
                  <a:lnTo>
                    <a:pt x="7" y="344"/>
                  </a:lnTo>
                  <a:lnTo>
                    <a:pt x="6" y="336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4" y="313"/>
                  </a:lnTo>
                  <a:lnTo>
                    <a:pt x="2" y="306"/>
                  </a:lnTo>
                  <a:lnTo>
                    <a:pt x="2" y="298"/>
                  </a:lnTo>
                  <a:lnTo>
                    <a:pt x="2" y="291"/>
                  </a:lnTo>
                  <a:lnTo>
                    <a:pt x="0" y="281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0" y="256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2" y="222"/>
                  </a:lnTo>
                  <a:lnTo>
                    <a:pt x="2" y="215"/>
                  </a:lnTo>
                  <a:lnTo>
                    <a:pt x="2" y="207"/>
                  </a:lnTo>
                  <a:lnTo>
                    <a:pt x="2" y="201"/>
                  </a:lnTo>
                  <a:lnTo>
                    <a:pt x="2" y="196"/>
                  </a:lnTo>
                  <a:lnTo>
                    <a:pt x="4" y="182"/>
                  </a:lnTo>
                  <a:lnTo>
                    <a:pt x="6" y="169"/>
                  </a:lnTo>
                  <a:lnTo>
                    <a:pt x="6" y="158"/>
                  </a:lnTo>
                  <a:lnTo>
                    <a:pt x="7" y="144"/>
                  </a:lnTo>
                  <a:lnTo>
                    <a:pt x="9" y="135"/>
                  </a:lnTo>
                  <a:lnTo>
                    <a:pt x="13" y="123"/>
                  </a:lnTo>
                  <a:lnTo>
                    <a:pt x="13" y="110"/>
                  </a:lnTo>
                  <a:lnTo>
                    <a:pt x="17" y="99"/>
                  </a:lnTo>
                  <a:lnTo>
                    <a:pt x="21" y="89"/>
                  </a:lnTo>
                  <a:lnTo>
                    <a:pt x="25" y="80"/>
                  </a:lnTo>
                  <a:lnTo>
                    <a:pt x="26" y="68"/>
                  </a:lnTo>
                  <a:lnTo>
                    <a:pt x="30" y="61"/>
                  </a:lnTo>
                  <a:lnTo>
                    <a:pt x="34" y="51"/>
                  </a:lnTo>
                  <a:lnTo>
                    <a:pt x="40" y="44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51" y="30"/>
                  </a:lnTo>
                  <a:lnTo>
                    <a:pt x="59" y="26"/>
                  </a:lnTo>
                  <a:lnTo>
                    <a:pt x="66" y="23"/>
                  </a:lnTo>
                  <a:lnTo>
                    <a:pt x="76" y="19"/>
                  </a:lnTo>
                  <a:lnTo>
                    <a:pt x="85" y="17"/>
                  </a:lnTo>
                  <a:lnTo>
                    <a:pt x="99" y="15"/>
                  </a:lnTo>
                  <a:lnTo>
                    <a:pt x="110" y="11"/>
                  </a:lnTo>
                  <a:lnTo>
                    <a:pt x="122" y="11"/>
                  </a:lnTo>
                  <a:lnTo>
                    <a:pt x="127" y="9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6" y="7"/>
                  </a:lnTo>
                  <a:lnTo>
                    <a:pt x="163" y="6"/>
                  </a:lnTo>
                  <a:lnTo>
                    <a:pt x="171" y="4"/>
                  </a:lnTo>
                  <a:lnTo>
                    <a:pt x="179" y="4"/>
                  </a:lnTo>
                  <a:lnTo>
                    <a:pt x="184" y="4"/>
                  </a:lnTo>
                  <a:lnTo>
                    <a:pt x="192" y="4"/>
                  </a:lnTo>
                  <a:lnTo>
                    <a:pt x="199" y="4"/>
                  </a:lnTo>
                  <a:lnTo>
                    <a:pt x="207" y="4"/>
                  </a:lnTo>
                  <a:lnTo>
                    <a:pt x="213" y="4"/>
                  </a:lnTo>
                  <a:lnTo>
                    <a:pt x="220" y="4"/>
                  </a:lnTo>
                  <a:lnTo>
                    <a:pt x="226" y="2"/>
                  </a:lnTo>
                  <a:lnTo>
                    <a:pt x="234" y="2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2" y="0"/>
                  </a:lnTo>
                  <a:lnTo>
                    <a:pt x="274" y="0"/>
                  </a:lnTo>
                  <a:lnTo>
                    <a:pt x="287" y="0"/>
                  </a:lnTo>
                  <a:lnTo>
                    <a:pt x="300" y="0"/>
                  </a:lnTo>
                  <a:lnTo>
                    <a:pt x="312" y="2"/>
                  </a:lnTo>
                  <a:lnTo>
                    <a:pt x="321" y="2"/>
                  </a:lnTo>
                  <a:lnTo>
                    <a:pt x="333" y="2"/>
                  </a:lnTo>
                  <a:lnTo>
                    <a:pt x="340" y="2"/>
                  </a:lnTo>
                  <a:lnTo>
                    <a:pt x="350" y="4"/>
                  </a:lnTo>
                  <a:lnTo>
                    <a:pt x="359" y="4"/>
                  </a:lnTo>
                  <a:lnTo>
                    <a:pt x="367" y="7"/>
                  </a:lnTo>
                  <a:lnTo>
                    <a:pt x="36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80920" y="499680"/>
              <a:ext cx="129960" cy="142200"/>
            </a:xfrm>
            <a:custGeom>
              <a:avLst/>
              <a:gdLst/>
              <a:ahLst/>
              <a:rect l="l" t="t" r="r" b="b"/>
              <a:pathLst>
                <a:path w="274" h="300">
                  <a:moveTo>
                    <a:pt x="274" y="3"/>
                  </a:moveTo>
                  <a:lnTo>
                    <a:pt x="268" y="2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8" y="0"/>
                  </a:lnTo>
                  <a:lnTo>
                    <a:pt x="230" y="0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2"/>
                  </a:lnTo>
                  <a:lnTo>
                    <a:pt x="181" y="2"/>
                  </a:lnTo>
                  <a:lnTo>
                    <a:pt x="171" y="3"/>
                  </a:lnTo>
                  <a:lnTo>
                    <a:pt x="160" y="3"/>
                  </a:lnTo>
                  <a:lnTo>
                    <a:pt x="151" y="5"/>
                  </a:lnTo>
                  <a:lnTo>
                    <a:pt x="139" y="5"/>
                  </a:lnTo>
                  <a:lnTo>
                    <a:pt x="128" y="7"/>
                  </a:lnTo>
                  <a:lnTo>
                    <a:pt x="118" y="9"/>
                  </a:lnTo>
                  <a:lnTo>
                    <a:pt x="107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6" y="13"/>
                  </a:lnTo>
                  <a:lnTo>
                    <a:pt x="69" y="17"/>
                  </a:lnTo>
                  <a:lnTo>
                    <a:pt x="59" y="17"/>
                  </a:lnTo>
                  <a:lnTo>
                    <a:pt x="52" y="21"/>
                  </a:lnTo>
                  <a:lnTo>
                    <a:pt x="46" y="21"/>
                  </a:lnTo>
                  <a:lnTo>
                    <a:pt x="42" y="22"/>
                  </a:lnTo>
                  <a:lnTo>
                    <a:pt x="33" y="26"/>
                  </a:lnTo>
                  <a:lnTo>
                    <a:pt x="29" y="32"/>
                  </a:lnTo>
                  <a:lnTo>
                    <a:pt x="25" y="40"/>
                  </a:lnTo>
                  <a:lnTo>
                    <a:pt x="21" y="47"/>
                  </a:lnTo>
                  <a:lnTo>
                    <a:pt x="17" y="55"/>
                  </a:lnTo>
                  <a:lnTo>
                    <a:pt x="17" y="64"/>
                  </a:lnTo>
                  <a:lnTo>
                    <a:pt x="14" y="76"/>
                  </a:lnTo>
                  <a:lnTo>
                    <a:pt x="12" y="85"/>
                  </a:lnTo>
                  <a:lnTo>
                    <a:pt x="10" y="95"/>
                  </a:lnTo>
                  <a:lnTo>
                    <a:pt x="8" y="106"/>
                  </a:lnTo>
                  <a:lnTo>
                    <a:pt x="6" y="117"/>
                  </a:lnTo>
                  <a:lnTo>
                    <a:pt x="4" y="129"/>
                  </a:lnTo>
                  <a:lnTo>
                    <a:pt x="4" y="140"/>
                  </a:lnTo>
                  <a:lnTo>
                    <a:pt x="4" y="150"/>
                  </a:lnTo>
                  <a:lnTo>
                    <a:pt x="2" y="161"/>
                  </a:lnTo>
                  <a:lnTo>
                    <a:pt x="2" y="173"/>
                  </a:lnTo>
                  <a:lnTo>
                    <a:pt x="2" y="184"/>
                  </a:lnTo>
                  <a:lnTo>
                    <a:pt x="2" y="195"/>
                  </a:lnTo>
                  <a:lnTo>
                    <a:pt x="0" y="205"/>
                  </a:lnTo>
                  <a:lnTo>
                    <a:pt x="0" y="21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3"/>
                  </a:lnTo>
                  <a:lnTo>
                    <a:pt x="0" y="252"/>
                  </a:lnTo>
                  <a:lnTo>
                    <a:pt x="0" y="260"/>
                  </a:lnTo>
                  <a:lnTo>
                    <a:pt x="2" y="268"/>
                  </a:lnTo>
                  <a:lnTo>
                    <a:pt x="2" y="273"/>
                  </a:lnTo>
                  <a:lnTo>
                    <a:pt x="2" y="281"/>
                  </a:lnTo>
                  <a:lnTo>
                    <a:pt x="4" y="285"/>
                  </a:lnTo>
                  <a:lnTo>
                    <a:pt x="4" y="290"/>
                  </a:lnTo>
                  <a:lnTo>
                    <a:pt x="6" y="298"/>
                  </a:lnTo>
                  <a:lnTo>
                    <a:pt x="8" y="300"/>
                  </a:lnTo>
                  <a:lnTo>
                    <a:pt x="12" y="296"/>
                  </a:lnTo>
                  <a:lnTo>
                    <a:pt x="23" y="287"/>
                  </a:lnTo>
                  <a:lnTo>
                    <a:pt x="29" y="279"/>
                  </a:lnTo>
                  <a:lnTo>
                    <a:pt x="36" y="273"/>
                  </a:lnTo>
                  <a:lnTo>
                    <a:pt x="44" y="264"/>
                  </a:lnTo>
                  <a:lnTo>
                    <a:pt x="54" y="256"/>
                  </a:lnTo>
                  <a:lnTo>
                    <a:pt x="63" y="245"/>
                  </a:lnTo>
                  <a:lnTo>
                    <a:pt x="73" y="233"/>
                  </a:lnTo>
                  <a:lnTo>
                    <a:pt x="82" y="222"/>
                  </a:lnTo>
                  <a:lnTo>
                    <a:pt x="94" y="211"/>
                  </a:lnTo>
                  <a:lnTo>
                    <a:pt x="105" y="197"/>
                  </a:lnTo>
                  <a:lnTo>
                    <a:pt x="118" y="184"/>
                  </a:lnTo>
                  <a:lnTo>
                    <a:pt x="130" y="171"/>
                  </a:lnTo>
                  <a:lnTo>
                    <a:pt x="141" y="159"/>
                  </a:lnTo>
                  <a:lnTo>
                    <a:pt x="149" y="150"/>
                  </a:lnTo>
                  <a:lnTo>
                    <a:pt x="154" y="142"/>
                  </a:lnTo>
                  <a:lnTo>
                    <a:pt x="160" y="135"/>
                  </a:lnTo>
                  <a:lnTo>
                    <a:pt x="168" y="127"/>
                  </a:lnTo>
                  <a:lnTo>
                    <a:pt x="173" y="119"/>
                  </a:lnTo>
                  <a:lnTo>
                    <a:pt x="179" y="112"/>
                  </a:lnTo>
                  <a:lnTo>
                    <a:pt x="187" y="106"/>
                  </a:lnTo>
                  <a:lnTo>
                    <a:pt x="192" y="98"/>
                  </a:lnTo>
                  <a:lnTo>
                    <a:pt x="198" y="93"/>
                  </a:lnTo>
                  <a:lnTo>
                    <a:pt x="204" y="85"/>
                  </a:lnTo>
                  <a:lnTo>
                    <a:pt x="209" y="78"/>
                  </a:lnTo>
                  <a:lnTo>
                    <a:pt x="217" y="72"/>
                  </a:lnTo>
                  <a:lnTo>
                    <a:pt x="227" y="60"/>
                  </a:lnTo>
                  <a:lnTo>
                    <a:pt x="238" y="51"/>
                  </a:lnTo>
                  <a:lnTo>
                    <a:pt x="244" y="40"/>
                  </a:lnTo>
                  <a:lnTo>
                    <a:pt x="253" y="30"/>
                  </a:lnTo>
                  <a:lnTo>
                    <a:pt x="259" y="22"/>
                  </a:lnTo>
                  <a:lnTo>
                    <a:pt x="266" y="17"/>
                  </a:lnTo>
                  <a:lnTo>
                    <a:pt x="272" y="5"/>
                  </a:lnTo>
                  <a:lnTo>
                    <a:pt x="274" y="3"/>
                  </a:lnTo>
                  <a:lnTo>
                    <a:pt x="274" y="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96400" y="306360"/>
              <a:ext cx="164880" cy="1659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3" y="348"/>
                  </a:moveTo>
                  <a:lnTo>
                    <a:pt x="19" y="348"/>
                  </a:lnTo>
                  <a:lnTo>
                    <a:pt x="30" y="348"/>
                  </a:lnTo>
                  <a:lnTo>
                    <a:pt x="36" y="348"/>
                  </a:lnTo>
                  <a:lnTo>
                    <a:pt x="43" y="348"/>
                  </a:lnTo>
                  <a:lnTo>
                    <a:pt x="53" y="348"/>
                  </a:lnTo>
                  <a:lnTo>
                    <a:pt x="61" y="350"/>
                  </a:lnTo>
                  <a:lnTo>
                    <a:pt x="68" y="348"/>
                  </a:lnTo>
                  <a:lnTo>
                    <a:pt x="78" y="348"/>
                  </a:lnTo>
                  <a:lnTo>
                    <a:pt x="87" y="348"/>
                  </a:lnTo>
                  <a:lnTo>
                    <a:pt x="99" y="348"/>
                  </a:lnTo>
                  <a:lnTo>
                    <a:pt x="110" y="348"/>
                  </a:lnTo>
                  <a:lnTo>
                    <a:pt x="121" y="348"/>
                  </a:lnTo>
                  <a:lnTo>
                    <a:pt x="133" y="348"/>
                  </a:lnTo>
                  <a:lnTo>
                    <a:pt x="144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63" y="348"/>
                  </a:lnTo>
                  <a:lnTo>
                    <a:pt x="171" y="348"/>
                  </a:lnTo>
                  <a:lnTo>
                    <a:pt x="176" y="348"/>
                  </a:lnTo>
                  <a:lnTo>
                    <a:pt x="184" y="348"/>
                  </a:lnTo>
                  <a:lnTo>
                    <a:pt x="192" y="348"/>
                  </a:lnTo>
                  <a:lnTo>
                    <a:pt x="199" y="348"/>
                  </a:lnTo>
                  <a:lnTo>
                    <a:pt x="211" y="348"/>
                  </a:lnTo>
                  <a:lnTo>
                    <a:pt x="224" y="348"/>
                  </a:lnTo>
                  <a:lnTo>
                    <a:pt x="235" y="348"/>
                  </a:lnTo>
                  <a:lnTo>
                    <a:pt x="249" y="348"/>
                  </a:lnTo>
                  <a:lnTo>
                    <a:pt x="258" y="348"/>
                  </a:lnTo>
                  <a:lnTo>
                    <a:pt x="268" y="348"/>
                  </a:lnTo>
                  <a:lnTo>
                    <a:pt x="277" y="348"/>
                  </a:lnTo>
                  <a:lnTo>
                    <a:pt x="285" y="348"/>
                  </a:lnTo>
                  <a:lnTo>
                    <a:pt x="291" y="348"/>
                  </a:lnTo>
                  <a:lnTo>
                    <a:pt x="298" y="348"/>
                  </a:lnTo>
                  <a:lnTo>
                    <a:pt x="304" y="348"/>
                  </a:lnTo>
                  <a:lnTo>
                    <a:pt x="308" y="348"/>
                  </a:lnTo>
                  <a:lnTo>
                    <a:pt x="317" y="344"/>
                  </a:lnTo>
                  <a:lnTo>
                    <a:pt x="325" y="342"/>
                  </a:lnTo>
                  <a:lnTo>
                    <a:pt x="330" y="338"/>
                  </a:lnTo>
                  <a:lnTo>
                    <a:pt x="338" y="331"/>
                  </a:lnTo>
                  <a:lnTo>
                    <a:pt x="338" y="323"/>
                  </a:lnTo>
                  <a:lnTo>
                    <a:pt x="340" y="319"/>
                  </a:lnTo>
                  <a:lnTo>
                    <a:pt x="340" y="312"/>
                  </a:lnTo>
                  <a:lnTo>
                    <a:pt x="344" y="306"/>
                  </a:lnTo>
                  <a:lnTo>
                    <a:pt x="344" y="296"/>
                  </a:lnTo>
                  <a:lnTo>
                    <a:pt x="346" y="287"/>
                  </a:lnTo>
                  <a:lnTo>
                    <a:pt x="346" y="276"/>
                  </a:lnTo>
                  <a:lnTo>
                    <a:pt x="348" y="266"/>
                  </a:lnTo>
                  <a:lnTo>
                    <a:pt x="346" y="258"/>
                  </a:lnTo>
                  <a:lnTo>
                    <a:pt x="346" y="253"/>
                  </a:lnTo>
                  <a:lnTo>
                    <a:pt x="346" y="245"/>
                  </a:lnTo>
                  <a:lnTo>
                    <a:pt x="346" y="238"/>
                  </a:lnTo>
                  <a:lnTo>
                    <a:pt x="346" y="228"/>
                  </a:lnTo>
                  <a:lnTo>
                    <a:pt x="346" y="219"/>
                  </a:lnTo>
                  <a:lnTo>
                    <a:pt x="346" y="209"/>
                  </a:lnTo>
                  <a:lnTo>
                    <a:pt x="346" y="200"/>
                  </a:lnTo>
                  <a:lnTo>
                    <a:pt x="344" y="190"/>
                  </a:lnTo>
                  <a:lnTo>
                    <a:pt x="344" y="181"/>
                  </a:lnTo>
                  <a:lnTo>
                    <a:pt x="344" y="169"/>
                  </a:lnTo>
                  <a:lnTo>
                    <a:pt x="344" y="160"/>
                  </a:lnTo>
                  <a:lnTo>
                    <a:pt x="342" y="148"/>
                  </a:lnTo>
                  <a:lnTo>
                    <a:pt x="342" y="137"/>
                  </a:lnTo>
                  <a:lnTo>
                    <a:pt x="342" y="127"/>
                  </a:lnTo>
                  <a:lnTo>
                    <a:pt x="342" y="118"/>
                  </a:lnTo>
                  <a:lnTo>
                    <a:pt x="340" y="106"/>
                  </a:lnTo>
                  <a:lnTo>
                    <a:pt x="340" y="95"/>
                  </a:lnTo>
                  <a:lnTo>
                    <a:pt x="338" y="85"/>
                  </a:lnTo>
                  <a:lnTo>
                    <a:pt x="338" y="76"/>
                  </a:lnTo>
                  <a:lnTo>
                    <a:pt x="338" y="66"/>
                  </a:lnTo>
                  <a:lnTo>
                    <a:pt x="338" y="59"/>
                  </a:lnTo>
                  <a:lnTo>
                    <a:pt x="336" y="49"/>
                  </a:lnTo>
                  <a:lnTo>
                    <a:pt x="336" y="42"/>
                  </a:lnTo>
                  <a:lnTo>
                    <a:pt x="334" y="36"/>
                  </a:lnTo>
                  <a:lnTo>
                    <a:pt x="334" y="28"/>
                  </a:lnTo>
                  <a:lnTo>
                    <a:pt x="330" y="23"/>
                  </a:lnTo>
                  <a:lnTo>
                    <a:pt x="330" y="19"/>
                  </a:lnTo>
                  <a:lnTo>
                    <a:pt x="329" y="9"/>
                  </a:lnTo>
                  <a:lnTo>
                    <a:pt x="327" y="6"/>
                  </a:lnTo>
                  <a:lnTo>
                    <a:pt x="321" y="2"/>
                  </a:lnTo>
                  <a:lnTo>
                    <a:pt x="317" y="2"/>
                  </a:lnTo>
                  <a:lnTo>
                    <a:pt x="311" y="0"/>
                  </a:lnTo>
                  <a:lnTo>
                    <a:pt x="306" y="2"/>
                  </a:lnTo>
                  <a:lnTo>
                    <a:pt x="296" y="2"/>
                  </a:lnTo>
                  <a:lnTo>
                    <a:pt x="291" y="6"/>
                  </a:lnTo>
                  <a:lnTo>
                    <a:pt x="279" y="9"/>
                  </a:lnTo>
                  <a:lnTo>
                    <a:pt x="272" y="17"/>
                  </a:lnTo>
                  <a:lnTo>
                    <a:pt x="258" y="23"/>
                  </a:lnTo>
                  <a:lnTo>
                    <a:pt x="247" y="30"/>
                  </a:lnTo>
                  <a:lnTo>
                    <a:pt x="239" y="34"/>
                  </a:lnTo>
                  <a:lnTo>
                    <a:pt x="233" y="40"/>
                  </a:lnTo>
                  <a:lnTo>
                    <a:pt x="226" y="44"/>
                  </a:lnTo>
                  <a:lnTo>
                    <a:pt x="220" y="49"/>
                  </a:lnTo>
                  <a:lnTo>
                    <a:pt x="211" y="55"/>
                  </a:lnTo>
                  <a:lnTo>
                    <a:pt x="205" y="61"/>
                  </a:lnTo>
                  <a:lnTo>
                    <a:pt x="195" y="66"/>
                  </a:lnTo>
                  <a:lnTo>
                    <a:pt x="188" y="74"/>
                  </a:lnTo>
                  <a:lnTo>
                    <a:pt x="180" y="80"/>
                  </a:lnTo>
                  <a:lnTo>
                    <a:pt x="171" y="87"/>
                  </a:lnTo>
                  <a:lnTo>
                    <a:pt x="163" y="97"/>
                  </a:lnTo>
                  <a:lnTo>
                    <a:pt x="156" y="104"/>
                  </a:lnTo>
                  <a:lnTo>
                    <a:pt x="146" y="112"/>
                  </a:lnTo>
                  <a:lnTo>
                    <a:pt x="137" y="120"/>
                  </a:lnTo>
                  <a:lnTo>
                    <a:pt x="127" y="127"/>
                  </a:lnTo>
                  <a:lnTo>
                    <a:pt x="119" y="139"/>
                  </a:lnTo>
                  <a:lnTo>
                    <a:pt x="110" y="146"/>
                  </a:lnTo>
                  <a:lnTo>
                    <a:pt x="102" y="156"/>
                  </a:lnTo>
                  <a:lnTo>
                    <a:pt x="93" y="165"/>
                  </a:lnTo>
                  <a:lnTo>
                    <a:pt x="85" y="177"/>
                  </a:lnTo>
                  <a:lnTo>
                    <a:pt x="78" y="186"/>
                  </a:lnTo>
                  <a:lnTo>
                    <a:pt x="68" y="196"/>
                  </a:lnTo>
                  <a:lnTo>
                    <a:pt x="61" y="205"/>
                  </a:lnTo>
                  <a:lnTo>
                    <a:pt x="55" y="215"/>
                  </a:lnTo>
                  <a:lnTo>
                    <a:pt x="47" y="224"/>
                  </a:lnTo>
                  <a:lnTo>
                    <a:pt x="42" y="234"/>
                  </a:lnTo>
                  <a:lnTo>
                    <a:pt x="36" y="245"/>
                  </a:lnTo>
                  <a:lnTo>
                    <a:pt x="30" y="255"/>
                  </a:lnTo>
                  <a:lnTo>
                    <a:pt x="24" y="264"/>
                  </a:lnTo>
                  <a:lnTo>
                    <a:pt x="19" y="272"/>
                  </a:lnTo>
                  <a:lnTo>
                    <a:pt x="15" y="281"/>
                  </a:lnTo>
                  <a:lnTo>
                    <a:pt x="11" y="289"/>
                  </a:lnTo>
                  <a:lnTo>
                    <a:pt x="7" y="296"/>
                  </a:lnTo>
                  <a:lnTo>
                    <a:pt x="3" y="304"/>
                  </a:lnTo>
                  <a:lnTo>
                    <a:pt x="2" y="310"/>
                  </a:lnTo>
                  <a:lnTo>
                    <a:pt x="2" y="317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3" y="344"/>
                  </a:lnTo>
                  <a:lnTo>
                    <a:pt x="13" y="348"/>
                  </a:lnTo>
                  <a:lnTo>
                    <a:pt x="1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23760" y="334080"/>
              <a:ext cx="117360" cy="1173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2" y="247"/>
                  </a:moveTo>
                  <a:lnTo>
                    <a:pt x="2" y="247"/>
                  </a:lnTo>
                  <a:lnTo>
                    <a:pt x="5" y="247"/>
                  </a:lnTo>
                  <a:lnTo>
                    <a:pt x="11" y="247"/>
                  </a:lnTo>
                  <a:lnTo>
                    <a:pt x="19" y="249"/>
                  </a:lnTo>
                  <a:lnTo>
                    <a:pt x="26" y="249"/>
                  </a:lnTo>
                  <a:lnTo>
                    <a:pt x="36" y="249"/>
                  </a:lnTo>
                  <a:lnTo>
                    <a:pt x="45" y="249"/>
                  </a:lnTo>
                  <a:lnTo>
                    <a:pt x="57" y="249"/>
                  </a:lnTo>
                  <a:lnTo>
                    <a:pt x="62" y="247"/>
                  </a:lnTo>
                  <a:lnTo>
                    <a:pt x="68" y="247"/>
                  </a:lnTo>
                  <a:lnTo>
                    <a:pt x="76" y="247"/>
                  </a:lnTo>
                  <a:lnTo>
                    <a:pt x="83" y="247"/>
                  </a:lnTo>
                  <a:lnTo>
                    <a:pt x="89" y="247"/>
                  </a:lnTo>
                  <a:lnTo>
                    <a:pt x="97" y="247"/>
                  </a:lnTo>
                  <a:lnTo>
                    <a:pt x="104" y="247"/>
                  </a:lnTo>
                  <a:lnTo>
                    <a:pt x="114" y="247"/>
                  </a:lnTo>
                  <a:lnTo>
                    <a:pt x="121" y="247"/>
                  </a:lnTo>
                  <a:lnTo>
                    <a:pt x="129" y="247"/>
                  </a:lnTo>
                  <a:lnTo>
                    <a:pt x="138" y="247"/>
                  </a:lnTo>
                  <a:lnTo>
                    <a:pt x="148" y="247"/>
                  </a:lnTo>
                  <a:lnTo>
                    <a:pt x="155" y="247"/>
                  </a:lnTo>
                  <a:lnTo>
                    <a:pt x="165" y="247"/>
                  </a:lnTo>
                  <a:lnTo>
                    <a:pt x="176" y="247"/>
                  </a:lnTo>
                  <a:lnTo>
                    <a:pt x="186" y="247"/>
                  </a:lnTo>
                  <a:lnTo>
                    <a:pt x="197" y="247"/>
                  </a:lnTo>
                  <a:lnTo>
                    <a:pt x="207" y="247"/>
                  </a:lnTo>
                  <a:lnTo>
                    <a:pt x="214" y="245"/>
                  </a:lnTo>
                  <a:lnTo>
                    <a:pt x="222" y="245"/>
                  </a:lnTo>
                  <a:lnTo>
                    <a:pt x="232" y="243"/>
                  </a:lnTo>
                  <a:lnTo>
                    <a:pt x="239" y="239"/>
                  </a:lnTo>
                  <a:lnTo>
                    <a:pt x="241" y="234"/>
                  </a:lnTo>
                  <a:lnTo>
                    <a:pt x="245" y="226"/>
                  </a:lnTo>
                  <a:lnTo>
                    <a:pt x="245" y="220"/>
                  </a:lnTo>
                  <a:lnTo>
                    <a:pt x="245" y="215"/>
                  </a:lnTo>
                  <a:lnTo>
                    <a:pt x="245" y="209"/>
                  </a:lnTo>
                  <a:lnTo>
                    <a:pt x="247" y="203"/>
                  </a:lnTo>
                  <a:lnTo>
                    <a:pt x="247" y="194"/>
                  </a:lnTo>
                  <a:lnTo>
                    <a:pt x="247" y="182"/>
                  </a:lnTo>
                  <a:lnTo>
                    <a:pt x="245" y="175"/>
                  </a:lnTo>
                  <a:lnTo>
                    <a:pt x="245" y="167"/>
                  </a:lnTo>
                  <a:lnTo>
                    <a:pt x="245" y="160"/>
                  </a:lnTo>
                  <a:lnTo>
                    <a:pt x="245" y="154"/>
                  </a:lnTo>
                  <a:lnTo>
                    <a:pt x="245" y="144"/>
                  </a:lnTo>
                  <a:lnTo>
                    <a:pt x="245" y="137"/>
                  </a:lnTo>
                  <a:lnTo>
                    <a:pt x="243" y="127"/>
                  </a:lnTo>
                  <a:lnTo>
                    <a:pt x="243" y="120"/>
                  </a:lnTo>
                  <a:lnTo>
                    <a:pt x="243" y="110"/>
                  </a:lnTo>
                  <a:lnTo>
                    <a:pt x="243" y="103"/>
                  </a:lnTo>
                  <a:lnTo>
                    <a:pt x="243" y="93"/>
                  </a:lnTo>
                  <a:lnTo>
                    <a:pt x="243" y="86"/>
                  </a:lnTo>
                  <a:lnTo>
                    <a:pt x="241" y="76"/>
                  </a:lnTo>
                  <a:lnTo>
                    <a:pt x="241" y="68"/>
                  </a:lnTo>
                  <a:lnTo>
                    <a:pt x="241" y="61"/>
                  </a:lnTo>
                  <a:lnTo>
                    <a:pt x="241" y="53"/>
                  </a:lnTo>
                  <a:lnTo>
                    <a:pt x="239" y="40"/>
                  </a:lnTo>
                  <a:lnTo>
                    <a:pt x="239" y="28"/>
                  </a:lnTo>
                  <a:lnTo>
                    <a:pt x="237" y="17"/>
                  </a:lnTo>
                  <a:lnTo>
                    <a:pt x="237" y="9"/>
                  </a:lnTo>
                  <a:lnTo>
                    <a:pt x="235" y="4"/>
                  </a:lnTo>
                  <a:lnTo>
                    <a:pt x="235" y="2"/>
                  </a:lnTo>
                  <a:lnTo>
                    <a:pt x="230" y="0"/>
                  </a:lnTo>
                  <a:lnTo>
                    <a:pt x="222" y="4"/>
                  </a:lnTo>
                  <a:lnTo>
                    <a:pt x="211" y="9"/>
                  </a:lnTo>
                  <a:lnTo>
                    <a:pt x="199" y="17"/>
                  </a:lnTo>
                  <a:lnTo>
                    <a:pt x="186" y="27"/>
                  </a:lnTo>
                  <a:lnTo>
                    <a:pt x="176" y="36"/>
                  </a:lnTo>
                  <a:lnTo>
                    <a:pt x="163" y="46"/>
                  </a:lnTo>
                  <a:lnTo>
                    <a:pt x="155" y="53"/>
                  </a:lnTo>
                  <a:lnTo>
                    <a:pt x="146" y="59"/>
                  </a:lnTo>
                  <a:lnTo>
                    <a:pt x="136" y="68"/>
                  </a:lnTo>
                  <a:lnTo>
                    <a:pt x="129" y="72"/>
                  </a:lnTo>
                  <a:lnTo>
                    <a:pt x="121" y="80"/>
                  </a:lnTo>
                  <a:lnTo>
                    <a:pt x="116" y="87"/>
                  </a:lnTo>
                  <a:lnTo>
                    <a:pt x="108" y="95"/>
                  </a:lnTo>
                  <a:lnTo>
                    <a:pt x="97" y="103"/>
                  </a:lnTo>
                  <a:lnTo>
                    <a:pt x="91" y="112"/>
                  </a:lnTo>
                  <a:lnTo>
                    <a:pt x="79" y="120"/>
                  </a:lnTo>
                  <a:lnTo>
                    <a:pt x="74" y="131"/>
                  </a:lnTo>
                  <a:lnTo>
                    <a:pt x="64" y="141"/>
                  </a:lnTo>
                  <a:lnTo>
                    <a:pt x="57" y="152"/>
                  </a:lnTo>
                  <a:lnTo>
                    <a:pt x="49" y="163"/>
                  </a:lnTo>
                  <a:lnTo>
                    <a:pt x="41" y="177"/>
                  </a:lnTo>
                  <a:lnTo>
                    <a:pt x="30" y="188"/>
                  </a:lnTo>
                  <a:lnTo>
                    <a:pt x="22" y="201"/>
                  </a:lnTo>
                  <a:lnTo>
                    <a:pt x="13" y="213"/>
                  </a:lnTo>
                  <a:lnTo>
                    <a:pt x="9" y="224"/>
                  </a:lnTo>
                  <a:lnTo>
                    <a:pt x="3" y="232"/>
                  </a:lnTo>
                  <a:lnTo>
                    <a:pt x="2" y="239"/>
                  </a:lnTo>
                  <a:lnTo>
                    <a:pt x="0" y="243"/>
                  </a:lnTo>
                  <a:lnTo>
                    <a:pt x="2" y="247"/>
                  </a:lnTo>
                  <a:lnTo>
                    <a:pt x="2" y="247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29520" y="428760"/>
              <a:ext cx="36000" cy="1764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0" y="38"/>
                  </a:moveTo>
                  <a:lnTo>
                    <a:pt x="63" y="38"/>
                  </a:lnTo>
                  <a:lnTo>
                    <a:pt x="76" y="9"/>
                  </a:lnTo>
                  <a:lnTo>
                    <a:pt x="25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47520" y="401400"/>
              <a:ext cx="32040" cy="2340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34"/>
                  </a:moveTo>
                  <a:lnTo>
                    <a:pt x="48" y="49"/>
                  </a:lnTo>
                  <a:lnTo>
                    <a:pt x="68" y="24"/>
                  </a:lnTo>
                  <a:lnTo>
                    <a:pt x="25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65520" y="380520"/>
              <a:ext cx="30240" cy="255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28"/>
                  </a:moveTo>
                  <a:lnTo>
                    <a:pt x="42" y="53"/>
                  </a:lnTo>
                  <a:lnTo>
                    <a:pt x="65" y="30"/>
                  </a:lnTo>
                  <a:lnTo>
                    <a:pt x="3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87120" y="360360"/>
              <a:ext cx="26640" cy="27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5"/>
                  </a:moveTo>
                  <a:lnTo>
                    <a:pt x="32" y="57"/>
                  </a:lnTo>
                  <a:lnTo>
                    <a:pt x="57" y="38"/>
                  </a:lnTo>
                  <a:lnTo>
                    <a:pt x="32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92440" y="509400"/>
              <a:ext cx="32040" cy="2448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10" y="13"/>
                  </a:moveTo>
                  <a:lnTo>
                    <a:pt x="69" y="0"/>
                  </a:lnTo>
                  <a:lnTo>
                    <a:pt x="61" y="34"/>
                  </a:lnTo>
                  <a:lnTo>
                    <a:pt x="0" y="51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88840" y="536040"/>
              <a:ext cx="30960" cy="2556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65" y="0"/>
                  </a:moveTo>
                  <a:lnTo>
                    <a:pt x="8" y="17"/>
                  </a:lnTo>
                  <a:lnTo>
                    <a:pt x="0" y="55"/>
                  </a:lnTo>
                  <a:lnTo>
                    <a:pt x="58" y="34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86680" y="562320"/>
              <a:ext cx="29160" cy="3204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0"/>
                  </a:moveTo>
                  <a:lnTo>
                    <a:pt x="2" y="23"/>
                  </a:lnTo>
                  <a:lnTo>
                    <a:pt x="0" y="66"/>
                  </a:lnTo>
                  <a:lnTo>
                    <a:pt x="57" y="4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86680" y="593640"/>
              <a:ext cx="27360" cy="40680"/>
            </a:xfrm>
            <a:custGeom>
              <a:avLst/>
              <a:gdLst/>
              <a:ahLst/>
              <a:rect l="l" t="t" r="r" b="b"/>
              <a:pathLst>
                <a:path w="57" h="88">
                  <a:moveTo>
                    <a:pt x="57" y="0"/>
                  </a:moveTo>
                  <a:lnTo>
                    <a:pt x="0" y="33"/>
                  </a:lnTo>
                  <a:lnTo>
                    <a:pt x="2" y="88"/>
                  </a:lnTo>
                  <a:lnTo>
                    <a:pt x="57" y="2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00880" y="298800"/>
              <a:ext cx="19080" cy="2916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2" y="15"/>
                  </a:moveTo>
                  <a:lnTo>
                    <a:pt x="0" y="63"/>
                  </a:lnTo>
                  <a:lnTo>
                    <a:pt x="34" y="51"/>
                  </a:lnTo>
                  <a:lnTo>
                    <a:pt x="40" y="0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5720" y="292320"/>
              <a:ext cx="19800" cy="2916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8" y="7"/>
                  </a:moveTo>
                  <a:lnTo>
                    <a:pt x="0" y="60"/>
                  </a:lnTo>
                  <a:lnTo>
                    <a:pt x="37" y="51"/>
                  </a:lnTo>
                  <a:lnTo>
                    <a:pt x="42" y="0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54160" y="288360"/>
              <a:ext cx="19800" cy="266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6" y="6"/>
                  </a:moveTo>
                  <a:lnTo>
                    <a:pt x="0" y="57"/>
                  </a:lnTo>
                  <a:lnTo>
                    <a:pt x="35" y="51"/>
                  </a:lnTo>
                  <a:lnTo>
                    <a:pt x="42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05640" y="282960"/>
              <a:ext cx="33120" cy="2556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2" y="0"/>
                  </a:moveTo>
                  <a:lnTo>
                    <a:pt x="0" y="55"/>
                  </a:lnTo>
                  <a:lnTo>
                    <a:pt x="28" y="55"/>
                  </a:lnTo>
                  <a:lnTo>
                    <a:pt x="70" y="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11960" y="341640"/>
              <a:ext cx="21600" cy="320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0" y="29"/>
                  </a:moveTo>
                  <a:lnTo>
                    <a:pt x="19" y="69"/>
                  </a:lnTo>
                  <a:lnTo>
                    <a:pt x="46" y="53"/>
                  </a:lnTo>
                  <a:lnTo>
                    <a:pt x="38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79720" y="284400"/>
              <a:ext cx="23760" cy="2664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10" y="4"/>
                  </a:moveTo>
                  <a:lnTo>
                    <a:pt x="0" y="57"/>
                  </a:lnTo>
                  <a:lnTo>
                    <a:pt x="35" y="54"/>
                  </a:lnTo>
                  <a:lnTo>
                    <a:pt x="5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2440" y="772920"/>
              <a:ext cx="97560" cy="33840"/>
            </a:xfrm>
            <a:custGeom>
              <a:avLst/>
              <a:gdLst/>
              <a:ahLst/>
              <a:rect l="l" t="t" r="r" b="b"/>
              <a:pathLst>
                <a:path w="206" h="72">
                  <a:moveTo>
                    <a:pt x="0" y="66"/>
                  </a:moveTo>
                  <a:lnTo>
                    <a:pt x="2" y="64"/>
                  </a:lnTo>
                  <a:lnTo>
                    <a:pt x="12" y="62"/>
                  </a:lnTo>
                  <a:lnTo>
                    <a:pt x="17" y="58"/>
                  </a:lnTo>
                  <a:lnTo>
                    <a:pt x="27" y="55"/>
                  </a:lnTo>
                  <a:lnTo>
                    <a:pt x="34" y="51"/>
                  </a:lnTo>
                  <a:lnTo>
                    <a:pt x="46" y="49"/>
                  </a:lnTo>
                  <a:lnTo>
                    <a:pt x="55" y="43"/>
                  </a:lnTo>
                  <a:lnTo>
                    <a:pt x="67" y="38"/>
                  </a:lnTo>
                  <a:lnTo>
                    <a:pt x="78" y="32"/>
                  </a:lnTo>
                  <a:lnTo>
                    <a:pt x="90" y="28"/>
                  </a:lnTo>
                  <a:lnTo>
                    <a:pt x="101" y="20"/>
                  </a:lnTo>
                  <a:lnTo>
                    <a:pt x="112" y="15"/>
                  </a:lnTo>
                  <a:lnTo>
                    <a:pt x="126" y="7"/>
                  </a:lnTo>
                  <a:lnTo>
                    <a:pt x="137" y="0"/>
                  </a:lnTo>
                  <a:lnTo>
                    <a:pt x="206" y="7"/>
                  </a:lnTo>
                  <a:lnTo>
                    <a:pt x="202" y="7"/>
                  </a:lnTo>
                  <a:lnTo>
                    <a:pt x="198" y="15"/>
                  </a:lnTo>
                  <a:lnTo>
                    <a:pt x="188" y="22"/>
                  </a:lnTo>
                  <a:lnTo>
                    <a:pt x="177" y="34"/>
                  </a:lnTo>
                  <a:lnTo>
                    <a:pt x="171" y="38"/>
                  </a:lnTo>
                  <a:lnTo>
                    <a:pt x="164" y="43"/>
                  </a:lnTo>
                  <a:lnTo>
                    <a:pt x="154" y="49"/>
                  </a:lnTo>
                  <a:lnTo>
                    <a:pt x="147" y="55"/>
                  </a:lnTo>
                  <a:lnTo>
                    <a:pt x="137" y="58"/>
                  </a:lnTo>
                  <a:lnTo>
                    <a:pt x="130" y="64"/>
                  </a:lnTo>
                  <a:lnTo>
                    <a:pt x="120" y="68"/>
                  </a:lnTo>
                  <a:lnTo>
                    <a:pt x="111" y="7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28760" y="717120"/>
              <a:ext cx="56520" cy="5760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25" y="60"/>
                  </a:moveTo>
                  <a:lnTo>
                    <a:pt x="23" y="60"/>
                  </a:lnTo>
                  <a:lnTo>
                    <a:pt x="21" y="66"/>
                  </a:lnTo>
                  <a:lnTo>
                    <a:pt x="19" y="72"/>
                  </a:lnTo>
                  <a:lnTo>
                    <a:pt x="17" y="81"/>
                  </a:lnTo>
                  <a:lnTo>
                    <a:pt x="13" y="91"/>
                  </a:lnTo>
                  <a:lnTo>
                    <a:pt x="12" y="100"/>
                  </a:lnTo>
                  <a:lnTo>
                    <a:pt x="4" y="112"/>
                  </a:lnTo>
                  <a:lnTo>
                    <a:pt x="0" y="121"/>
                  </a:lnTo>
                  <a:lnTo>
                    <a:pt x="4" y="118"/>
                  </a:lnTo>
                  <a:lnTo>
                    <a:pt x="12" y="114"/>
                  </a:lnTo>
                  <a:lnTo>
                    <a:pt x="17" y="108"/>
                  </a:lnTo>
                  <a:lnTo>
                    <a:pt x="27" y="104"/>
                  </a:lnTo>
                  <a:lnTo>
                    <a:pt x="34" y="98"/>
                  </a:lnTo>
                  <a:lnTo>
                    <a:pt x="42" y="95"/>
                  </a:lnTo>
                  <a:lnTo>
                    <a:pt x="51" y="87"/>
                  </a:lnTo>
                  <a:lnTo>
                    <a:pt x="61" y="81"/>
                  </a:lnTo>
                  <a:lnTo>
                    <a:pt x="69" y="74"/>
                  </a:lnTo>
                  <a:lnTo>
                    <a:pt x="76" y="66"/>
                  </a:lnTo>
                  <a:lnTo>
                    <a:pt x="86" y="57"/>
                  </a:lnTo>
                  <a:lnTo>
                    <a:pt x="93" y="47"/>
                  </a:lnTo>
                  <a:lnTo>
                    <a:pt x="99" y="36"/>
                  </a:lnTo>
                  <a:lnTo>
                    <a:pt x="107" y="26"/>
                  </a:lnTo>
                  <a:lnTo>
                    <a:pt x="114" y="11"/>
                  </a:lnTo>
                  <a:lnTo>
                    <a:pt x="120" y="0"/>
                  </a:lnTo>
                  <a:lnTo>
                    <a:pt x="114" y="3"/>
                  </a:lnTo>
                  <a:lnTo>
                    <a:pt x="107" y="9"/>
                  </a:lnTo>
                  <a:lnTo>
                    <a:pt x="99" y="13"/>
                  </a:lnTo>
                  <a:lnTo>
                    <a:pt x="93" y="19"/>
                  </a:lnTo>
                  <a:lnTo>
                    <a:pt x="86" y="22"/>
                  </a:lnTo>
                  <a:lnTo>
                    <a:pt x="76" y="28"/>
                  </a:lnTo>
                  <a:lnTo>
                    <a:pt x="69" y="32"/>
                  </a:lnTo>
                  <a:lnTo>
                    <a:pt x="63" y="40"/>
                  </a:lnTo>
                  <a:lnTo>
                    <a:pt x="53" y="43"/>
                  </a:lnTo>
                  <a:lnTo>
                    <a:pt x="46" y="45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9"/>
                  </a:lnTo>
                  <a:lnTo>
                    <a:pt x="25" y="60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554160" y="775800"/>
              <a:ext cx="70920" cy="32040"/>
            </a:xfrm>
            <a:custGeom>
              <a:avLst/>
              <a:gdLst/>
              <a:ahLst/>
              <a:rect l="l" t="t" r="r" b="b"/>
              <a:pathLst>
                <a:path w="151" h="69">
                  <a:moveTo>
                    <a:pt x="0" y="69"/>
                  </a:moveTo>
                  <a:lnTo>
                    <a:pt x="0" y="67"/>
                  </a:lnTo>
                  <a:lnTo>
                    <a:pt x="4" y="65"/>
                  </a:lnTo>
                  <a:lnTo>
                    <a:pt x="10" y="61"/>
                  </a:lnTo>
                  <a:lnTo>
                    <a:pt x="21" y="55"/>
                  </a:lnTo>
                  <a:lnTo>
                    <a:pt x="25" y="50"/>
                  </a:lnTo>
                  <a:lnTo>
                    <a:pt x="31" y="46"/>
                  </a:lnTo>
                  <a:lnTo>
                    <a:pt x="38" y="40"/>
                  </a:lnTo>
                  <a:lnTo>
                    <a:pt x="46" y="34"/>
                  </a:lnTo>
                  <a:lnTo>
                    <a:pt x="54" y="27"/>
                  </a:lnTo>
                  <a:lnTo>
                    <a:pt x="61" y="19"/>
                  </a:lnTo>
                  <a:lnTo>
                    <a:pt x="69" y="10"/>
                  </a:lnTo>
                  <a:lnTo>
                    <a:pt x="78" y="2"/>
                  </a:lnTo>
                  <a:lnTo>
                    <a:pt x="151" y="0"/>
                  </a:lnTo>
                  <a:lnTo>
                    <a:pt x="147" y="2"/>
                  </a:lnTo>
                  <a:lnTo>
                    <a:pt x="145" y="8"/>
                  </a:lnTo>
                  <a:lnTo>
                    <a:pt x="139" y="15"/>
                  </a:lnTo>
                  <a:lnTo>
                    <a:pt x="133" y="27"/>
                  </a:lnTo>
                  <a:lnTo>
                    <a:pt x="124" y="36"/>
                  </a:lnTo>
                  <a:lnTo>
                    <a:pt x="112" y="48"/>
                  </a:lnTo>
                  <a:lnTo>
                    <a:pt x="107" y="53"/>
                  </a:lnTo>
                  <a:lnTo>
                    <a:pt x="99" y="57"/>
                  </a:lnTo>
                  <a:lnTo>
                    <a:pt x="92" y="63"/>
                  </a:lnTo>
                  <a:lnTo>
                    <a:pt x="86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19680" y="767160"/>
              <a:ext cx="54720" cy="36720"/>
            </a:xfrm>
            <a:custGeom>
              <a:avLst/>
              <a:gdLst/>
              <a:ahLst/>
              <a:rect l="l" t="t" r="r" b="b"/>
              <a:pathLst>
                <a:path w="116" h="78">
                  <a:moveTo>
                    <a:pt x="0" y="78"/>
                  </a:moveTo>
                  <a:lnTo>
                    <a:pt x="0" y="76"/>
                  </a:lnTo>
                  <a:lnTo>
                    <a:pt x="6" y="74"/>
                  </a:lnTo>
                  <a:lnTo>
                    <a:pt x="10" y="67"/>
                  </a:lnTo>
                  <a:lnTo>
                    <a:pt x="19" y="61"/>
                  </a:lnTo>
                  <a:lnTo>
                    <a:pt x="25" y="50"/>
                  </a:lnTo>
                  <a:lnTo>
                    <a:pt x="36" y="40"/>
                  </a:lnTo>
                  <a:lnTo>
                    <a:pt x="38" y="32"/>
                  </a:lnTo>
                  <a:lnTo>
                    <a:pt x="44" y="27"/>
                  </a:lnTo>
                  <a:lnTo>
                    <a:pt x="50" y="19"/>
                  </a:lnTo>
                  <a:lnTo>
                    <a:pt x="53" y="12"/>
                  </a:lnTo>
                  <a:lnTo>
                    <a:pt x="116" y="0"/>
                  </a:lnTo>
                  <a:lnTo>
                    <a:pt x="114" y="2"/>
                  </a:lnTo>
                  <a:lnTo>
                    <a:pt x="112" y="6"/>
                  </a:lnTo>
                  <a:lnTo>
                    <a:pt x="108" y="12"/>
                  </a:lnTo>
                  <a:lnTo>
                    <a:pt x="107" y="23"/>
                  </a:lnTo>
                  <a:lnTo>
                    <a:pt x="101" y="32"/>
                  </a:lnTo>
                  <a:lnTo>
                    <a:pt x="93" y="44"/>
                  </a:lnTo>
                  <a:lnTo>
                    <a:pt x="86" y="53"/>
                  </a:lnTo>
                  <a:lnTo>
                    <a:pt x="76" y="65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6560" y="753840"/>
              <a:ext cx="45360" cy="4068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85"/>
                  </a:moveTo>
                  <a:lnTo>
                    <a:pt x="0" y="81"/>
                  </a:lnTo>
                  <a:lnTo>
                    <a:pt x="2" y="79"/>
                  </a:lnTo>
                  <a:lnTo>
                    <a:pt x="6" y="74"/>
                  </a:lnTo>
                  <a:lnTo>
                    <a:pt x="11" y="68"/>
                  </a:lnTo>
                  <a:lnTo>
                    <a:pt x="19" y="57"/>
                  </a:lnTo>
                  <a:lnTo>
                    <a:pt x="25" y="47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9"/>
                  </a:lnTo>
                  <a:lnTo>
                    <a:pt x="97" y="0"/>
                  </a:lnTo>
                  <a:lnTo>
                    <a:pt x="95" y="1"/>
                  </a:lnTo>
                  <a:lnTo>
                    <a:pt x="93" y="5"/>
                  </a:lnTo>
                  <a:lnTo>
                    <a:pt x="91" y="13"/>
                  </a:lnTo>
                  <a:lnTo>
                    <a:pt x="89" y="24"/>
                  </a:lnTo>
                  <a:lnTo>
                    <a:pt x="83" y="34"/>
                  </a:lnTo>
                  <a:lnTo>
                    <a:pt x="80" y="43"/>
                  </a:lnTo>
                  <a:lnTo>
                    <a:pt x="74" y="53"/>
                  </a:lnTo>
                  <a:lnTo>
                    <a:pt x="66" y="6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3640" y="732240"/>
              <a:ext cx="70920" cy="30240"/>
            </a:xfrm>
            <a:custGeom>
              <a:avLst/>
              <a:gdLst/>
              <a:ahLst/>
              <a:rect l="l" t="t" r="r" b="b"/>
              <a:pathLst>
                <a:path w="150" h="65">
                  <a:moveTo>
                    <a:pt x="0" y="65"/>
                  </a:moveTo>
                  <a:lnTo>
                    <a:pt x="0" y="63"/>
                  </a:lnTo>
                  <a:lnTo>
                    <a:pt x="4" y="59"/>
                  </a:lnTo>
                  <a:lnTo>
                    <a:pt x="9" y="53"/>
                  </a:lnTo>
                  <a:lnTo>
                    <a:pt x="17" y="47"/>
                  </a:lnTo>
                  <a:lnTo>
                    <a:pt x="23" y="38"/>
                  </a:lnTo>
                  <a:lnTo>
                    <a:pt x="30" y="30"/>
                  </a:lnTo>
                  <a:lnTo>
                    <a:pt x="38" y="21"/>
                  </a:lnTo>
                  <a:lnTo>
                    <a:pt x="45" y="11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8" y="9"/>
                  </a:lnTo>
                  <a:lnTo>
                    <a:pt x="76" y="9"/>
                  </a:lnTo>
                  <a:lnTo>
                    <a:pt x="82" y="8"/>
                  </a:lnTo>
                  <a:lnTo>
                    <a:pt x="89" y="8"/>
                  </a:lnTo>
                  <a:lnTo>
                    <a:pt x="97" y="8"/>
                  </a:lnTo>
                  <a:lnTo>
                    <a:pt x="104" y="8"/>
                  </a:lnTo>
                  <a:lnTo>
                    <a:pt x="110" y="6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4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4" y="8"/>
                  </a:lnTo>
                  <a:lnTo>
                    <a:pt x="139" y="11"/>
                  </a:lnTo>
                  <a:lnTo>
                    <a:pt x="133" y="17"/>
                  </a:lnTo>
                  <a:lnTo>
                    <a:pt x="123" y="23"/>
                  </a:lnTo>
                  <a:lnTo>
                    <a:pt x="116" y="30"/>
                  </a:lnTo>
                  <a:lnTo>
                    <a:pt x="110" y="32"/>
                  </a:lnTo>
                  <a:lnTo>
                    <a:pt x="104" y="36"/>
                  </a:lnTo>
                  <a:lnTo>
                    <a:pt x="99" y="38"/>
                  </a:lnTo>
                  <a:lnTo>
                    <a:pt x="93" y="42"/>
                  </a:lnTo>
                  <a:lnTo>
                    <a:pt x="84" y="44"/>
                  </a:lnTo>
                  <a:lnTo>
                    <a:pt x="76" y="46"/>
                  </a:lnTo>
                  <a:lnTo>
                    <a:pt x="68" y="47"/>
                  </a:lnTo>
                  <a:lnTo>
                    <a:pt x="63" y="51"/>
                  </a:lnTo>
                  <a:lnTo>
                    <a:pt x="53" y="51"/>
                  </a:lnTo>
                  <a:lnTo>
                    <a:pt x="45" y="55"/>
                  </a:lnTo>
                  <a:lnTo>
                    <a:pt x="38" y="55"/>
                  </a:lnTo>
                  <a:lnTo>
                    <a:pt x="32" y="59"/>
                  </a:lnTo>
                  <a:lnTo>
                    <a:pt x="25" y="59"/>
                  </a:lnTo>
                  <a:lnTo>
                    <a:pt x="19" y="59"/>
                  </a:lnTo>
                  <a:lnTo>
                    <a:pt x="13" y="61"/>
                  </a:lnTo>
                  <a:lnTo>
                    <a:pt x="9" y="63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2175120" y="233280"/>
            <a:ext cx="765000" cy="677520"/>
            <a:chOff x="2175120" y="233280"/>
            <a:chExt cx="765000" cy="677520"/>
          </a:xfrm>
        </p:grpSpPr>
        <p:sp>
          <p:nvSpPr>
            <p:cNvPr id="579" name=""/>
            <p:cNvSpPr/>
            <p:nvPr/>
          </p:nvSpPr>
          <p:spPr>
            <a:xfrm flipH="1">
              <a:off x="2305080" y="243000"/>
              <a:ext cx="621360" cy="603720"/>
            </a:xfrm>
            <a:custGeom>
              <a:avLst/>
              <a:gdLst/>
              <a:ahLst/>
              <a:rect l="l" t="t" r="r" b="b"/>
              <a:pathLst>
                <a:path w="1260" h="1226">
                  <a:moveTo>
                    <a:pt x="9" y="733"/>
                  </a:moveTo>
                  <a:lnTo>
                    <a:pt x="7" y="733"/>
                  </a:lnTo>
                  <a:lnTo>
                    <a:pt x="7" y="737"/>
                  </a:lnTo>
                  <a:lnTo>
                    <a:pt x="7" y="743"/>
                  </a:lnTo>
                  <a:lnTo>
                    <a:pt x="6" y="751"/>
                  </a:lnTo>
                  <a:lnTo>
                    <a:pt x="4" y="758"/>
                  </a:lnTo>
                  <a:lnTo>
                    <a:pt x="4" y="770"/>
                  </a:lnTo>
                  <a:lnTo>
                    <a:pt x="2" y="775"/>
                  </a:lnTo>
                  <a:lnTo>
                    <a:pt x="2" y="781"/>
                  </a:lnTo>
                  <a:lnTo>
                    <a:pt x="2" y="789"/>
                  </a:lnTo>
                  <a:lnTo>
                    <a:pt x="2" y="796"/>
                  </a:lnTo>
                  <a:lnTo>
                    <a:pt x="0" y="802"/>
                  </a:lnTo>
                  <a:lnTo>
                    <a:pt x="0" y="810"/>
                  </a:lnTo>
                  <a:lnTo>
                    <a:pt x="0" y="819"/>
                  </a:lnTo>
                  <a:lnTo>
                    <a:pt x="0" y="827"/>
                  </a:lnTo>
                  <a:lnTo>
                    <a:pt x="0" y="834"/>
                  </a:lnTo>
                  <a:lnTo>
                    <a:pt x="0" y="844"/>
                  </a:lnTo>
                  <a:lnTo>
                    <a:pt x="0" y="853"/>
                  </a:lnTo>
                  <a:lnTo>
                    <a:pt x="0" y="863"/>
                  </a:lnTo>
                  <a:lnTo>
                    <a:pt x="0" y="870"/>
                  </a:lnTo>
                  <a:lnTo>
                    <a:pt x="0" y="882"/>
                  </a:lnTo>
                  <a:lnTo>
                    <a:pt x="0" y="889"/>
                  </a:lnTo>
                  <a:lnTo>
                    <a:pt x="2" y="901"/>
                  </a:lnTo>
                  <a:lnTo>
                    <a:pt x="2" y="910"/>
                  </a:lnTo>
                  <a:lnTo>
                    <a:pt x="4" y="920"/>
                  </a:lnTo>
                  <a:lnTo>
                    <a:pt x="4" y="929"/>
                  </a:lnTo>
                  <a:lnTo>
                    <a:pt x="7" y="941"/>
                  </a:lnTo>
                  <a:lnTo>
                    <a:pt x="7" y="950"/>
                  </a:lnTo>
                  <a:lnTo>
                    <a:pt x="9" y="962"/>
                  </a:lnTo>
                  <a:lnTo>
                    <a:pt x="9" y="971"/>
                  </a:lnTo>
                  <a:lnTo>
                    <a:pt x="13" y="981"/>
                  </a:lnTo>
                  <a:lnTo>
                    <a:pt x="13" y="992"/>
                  </a:lnTo>
                  <a:lnTo>
                    <a:pt x="17" y="1001"/>
                  </a:lnTo>
                  <a:lnTo>
                    <a:pt x="21" y="1011"/>
                  </a:lnTo>
                  <a:lnTo>
                    <a:pt x="25" y="1022"/>
                  </a:lnTo>
                  <a:lnTo>
                    <a:pt x="26" y="1030"/>
                  </a:lnTo>
                  <a:lnTo>
                    <a:pt x="28" y="1041"/>
                  </a:lnTo>
                  <a:lnTo>
                    <a:pt x="32" y="1049"/>
                  </a:lnTo>
                  <a:lnTo>
                    <a:pt x="38" y="1060"/>
                  </a:lnTo>
                  <a:lnTo>
                    <a:pt x="40" y="1070"/>
                  </a:lnTo>
                  <a:lnTo>
                    <a:pt x="45" y="1079"/>
                  </a:lnTo>
                  <a:lnTo>
                    <a:pt x="51" y="1087"/>
                  </a:lnTo>
                  <a:lnTo>
                    <a:pt x="57" y="1098"/>
                  </a:lnTo>
                  <a:lnTo>
                    <a:pt x="61" y="1104"/>
                  </a:lnTo>
                  <a:lnTo>
                    <a:pt x="66" y="1114"/>
                  </a:lnTo>
                  <a:lnTo>
                    <a:pt x="72" y="1121"/>
                  </a:lnTo>
                  <a:lnTo>
                    <a:pt x="80" y="1131"/>
                  </a:lnTo>
                  <a:lnTo>
                    <a:pt x="85" y="1138"/>
                  </a:lnTo>
                  <a:lnTo>
                    <a:pt x="93" y="1146"/>
                  </a:lnTo>
                  <a:lnTo>
                    <a:pt x="101" y="1153"/>
                  </a:lnTo>
                  <a:lnTo>
                    <a:pt x="110" y="1159"/>
                  </a:lnTo>
                  <a:lnTo>
                    <a:pt x="116" y="1165"/>
                  </a:lnTo>
                  <a:lnTo>
                    <a:pt x="127" y="1171"/>
                  </a:lnTo>
                  <a:lnTo>
                    <a:pt x="135" y="1176"/>
                  </a:lnTo>
                  <a:lnTo>
                    <a:pt x="144" y="1184"/>
                  </a:lnTo>
                  <a:lnTo>
                    <a:pt x="154" y="1188"/>
                  </a:lnTo>
                  <a:lnTo>
                    <a:pt x="165" y="1191"/>
                  </a:lnTo>
                  <a:lnTo>
                    <a:pt x="177" y="1195"/>
                  </a:lnTo>
                  <a:lnTo>
                    <a:pt x="188" y="1201"/>
                  </a:lnTo>
                  <a:lnTo>
                    <a:pt x="199" y="1201"/>
                  </a:lnTo>
                  <a:lnTo>
                    <a:pt x="211" y="1205"/>
                  </a:lnTo>
                  <a:lnTo>
                    <a:pt x="222" y="1207"/>
                  </a:lnTo>
                  <a:lnTo>
                    <a:pt x="234" y="1211"/>
                  </a:lnTo>
                  <a:lnTo>
                    <a:pt x="245" y="1211"/>
                  </a:lnTo>
                  <a:lnTo>
                    <a:pt x="256" y="1214"/>
                  </a:lnTo>
                  <a:lnTo>
                    <a:pt x="266" y="1214"/>
                  </a:lnTo>
                  <a:lnTo>
                    <a:pt x="279" y="1218"/>
                  </a:lnTo>
                  <a:lnTo>
                    <a:pt x="291" y="1218"/>
                  </a:lnTo>
                  <a:lnTo>
                    <a:pt x="300" y="1218"/>
                  </a:lnTo>
                  <a:lnTo>
                    <a:pt x="312" y="1220"/>
                  </a:lnTo>
                  <a:lnTo>
                    <a:pt x="325" y="1222"/>
                  </a:lnTo>
                  <a:lnTo>
                    <a:pt x="334" y="1222"/>
                  </a:lnTo>
                  <a:lnTo>
                    <a:pt x="346" y="1222"/>
                  </a:lnTo>
                  <a:lnTo>
                    <a:pt x="357" y="1224"/>
                  </a:lnTo>
                  <a:lnTo>
                    <a:pt x="369" y="1226"/>
                  </a:lnTo>
                  <a:lnTo>
                    <a:pt x="380" y="1224"/>
                  </a:lnTo>
                  <a:lnTo>
                    <a:pt x="389" y="1224"/>
                  </a:lnTo>
                  <a:lnTo>
                    <a:pt x="401" y="1224"/>
                  </a:lnTo>
                  <a:lnTo>
                    <a:pt x="412" y="1224"/>
                  </a:lnTo>
                  <a:lnTo>
                    <a:pt x="422" y="1222"/>
                  </a:lnTo>
                  <a:lnTo>
                    <a:pt x="433" y="1222"/>
                  </a:lnTo>
                  <a:lnTo>
                    <a:pt x="445" y="1222"/>
                  </a:lnTo>
                  <a:lnTo>
                    <a:pt x="454" y="1222"/>
                  </a:lnTo>
                  <a:lnTo>
                    <a:pt x="466" y="1222"/>
                  </a:lnTo>
                  <a:lnTo>
                    <a:pt x="475" y="1220"/>
                  </a:lnTo>
                  <a:lnTo>
                    <a:pt x="485" y="1218"/>
                  </a:lnTo>
                  <a:lnTo>
                    <a:pt x="494" y="1218"/>
                  </a:lnTo>
                  <a:lnTo>
                    <a:pt x="504" y="1216"/>
                  </a:lnTo>
                  <a:lnTo>
                    <a:pt x="513" y="1214"/>
                  </a:lnTo>
                  <a:lnTo>
                    <a:pt x="523" y="1214"/>
                  </a:lnTo>
                  <a:lnTo>
                    <a:pt x="534" y="1214"/>
                  </a:lnTo>
                  <a:lnTo>
                    <a:pt x="540" y="1211"/>
                  </a:lnTo>
                  <a:lnTo>
                    <a:pt x="549" y="1211"/>
                  </a:lnTo>
                  <a:lnTo>
                    <a:pt x="557" y="1209"/>
                  </a:lnTo>
                  <a:lnTo>
                    <a:pt x="566" y="1209"/>
                  </a:lnTo>
                  <a:lnTo>
                    <a:pt x="574" y="1205"/>
                  </a:lnTo>
                  <a:lnTo>
                    <a:pt x="581" y="1205"/>
                  </a:lnTo>
                  <a:lnTo>
                    <a:pt x="589" y="1201"/>
                  </a:lnTo>
                  <a:lnTo>
                    <a:pt x="599" y="1201"/>
                  </a:lnTo>
                  <a:lnTo>
                    <a:pt x="604" y="1199"/>
                  </a:lnTo>
                  <a:lnTo>
                    <a:pt x="612" y="1197"/>
                  </a:lnTo>
                  <a:lnTo>
                    <a:pt x="619" y="1197"/>
                  </a:lnTo>
                  <a:lnTo>
                    <a:pt x="625" y="1195"/>
                  </a:lnTo>
                  <a:lnTo>
                    <a:pt x="638" y="1193"/>
                  </a:lnTo>
                  <a:lnTo>
                    <a:pt x="650" y="1191"/>
                  </a:lnTo>
                  <a:lnTo>
                    <a:pt x="659" y="1188"/>
                  </a:lnTo>
                  <a:lnTo>
                    <a:pt x="669" y="1184"/>
                  </a:lnTo>
                  <a:lnTo>
                    <a:pt x="676" y="1182"/>
                  </a:lnTo>
                  <a:lnTo>
                    <a:pt x="684" y="1180"/>
                  </a:lnTo>
                  <a:lnTo>
                    <a:pt x="692" y="1178"/>
                  </a:lnTo>
                  <a:lnTo>
                    <a:pt x="696" y="1178"/>
                  </a:lnTo>
                  <a:lnTo>
                    <a:pt x="696" y="1176"/>
                  </a:lnTo>
                  <a:lnTo>
                    <a:pt x="701" y="1174"/>
                  </a:lnTo>
                  <a:lnTo>
                    <a:pt x="707" y="1171"/>
                  </a:lnTo>
                  <a:lnTo>
                    <a:pt x="718" y="1167"/>
                  </a:lnTo>
                  <a:lnTo>
                    <a:pt x="722" y="1163"/>
                  </a:lnTo>
                  <a:lnTo>
                    <a:pt x="728" y="1159"/>
                  </a:lnTo>
                  <a:lnTo>
                    <a:pt x="735" y="1155"/>
                  </a:lnTo>
                  <a:lnTo>
                    <a:pt x="743" y="1152"/>
                  </a:lnTo>
                  <a:lnTo>
                    <a:pt x="749" y="1146"/>
                  </a:lnTo>
                  <a:lnTo>
                    <a:pt x="758" y="1142"/>
                  </a:lnTo>
                  <a:lnTo>
                    <a:pt x="766" y="1136"/>
                  </a:lnTo>
                  <a:lnTo>
                    <a:pt x="777" y="1133"/>
                  </a:lnTo>
                  <a:lnTo>
                    <a:pt x="785" y="1125"/>
                  </a:lnTo>
                  <a:lnTo>
                    <a:pt x="794" y="1119"/>
                  </a:lnTo>
                  <a:lnTo>
                    <a:pt x="804" y="1112"/>
                  </a:lnTo>
                  <a:lnTo>
                    <a:pt x="815" y="1106"/>
                  </a:lnTo>
                  <a:lnTo>
                    <a:pt x="825" y="1098"/>
                  </a:lnTo>
                  <a:lnTo>
                    <a:pt x="836" y="1091"/>
                  </a:lnTo>
                  <a:lnTo>
                    <a:pt x="848" y="1085"/>
                  </a:lnTo>
                  <a:lnTo>
                    <a:pt x="859" y="1077"/>
                  </a:lnTo>
                  <a:lnTo>
                    <a:pt x="870" y="1066"/>
                  </a:lnTo>
                  <a:lnTo>
                    <a:pt x="882" y="1058"/>
                  </a:lnTo>
                  <a:lnTo>
                    <a:pt x="893" y="1049"/>
                  </a:lnTo>
                  <a:lnTo>
                    <a:pt x="907" y="1041"/>
                  </a:lnTo>
                  <a:lnTo>
                    <a:pt x="918" y="1032"/>
                  </a:lnTo>
                  <a:lnTo>
                    <a:pt x="931" y="1022"/>
                  </a:lnTo>
                  <a:lnTo>
                    <a:pt x="945" y="1013"/>
                  </a:lnTo>
                  <a:lnTo>
                    <a:pt x="958" y="1003"/>
                  </a:lnTo>
                  <a:lnTo>
                    <a:pt x="969" y="992"/>
                  </a:lnTo>
                  <a:lnTo>
                    <a:pt x="983" y="981"/>
                  </a:lnTo>
                  <a:lnTo>
                    <a:pt x="992" y="969"/>
                  </a:lnTo>
                  <a:lnTo>
                    <a:pt x="1005" y="958"/>
                  </a:lnTo>
                  <a:lnTo>
                    <a:pt x="1019" y="946"/>
                  </a:lnTo>
                  <a:lnTo>
                    <a:pt x="1030" y="933"/>
                  </a:lnTo>
                  <a:lnTo>
                    <a:pt x="1043" y="922"/>
                  </a:lnTo>
                  <a:lnTo>
                    <a:pt x="1057" y="908"/>
                  </a:lnTo>
                  <a:lnTo>
                    <a:pt x="1068" y="895"/>
                  </a:lnTo>
                  <a:lnTo>
                    <a:pt x="1079" y="882"/>
                  </a:lnTo>
                  <a:lnTo>
                    <a:pt x="1091" y="868"/>
                  </a:lnTo>
                  <a:lnTo>
                    <a:pt x="1102" y="855"/>
                  </a:lnTo>
                  <a:lnTo>
                    <a:pt x="1114" y="840"/>
                  </a:lnTo>
                  <a:lnTo>
                    <a:pt x="1125" y="827"/>
                  </a:lnTo>
                  <a:lnTo>
                    <a:pt x="1137" y="813"/>
                  </a:lnTo>
                  <a:lnTo>
                    <a:pt x="1146" y="798"/>
                  </a:lnTo>
                  <a:lnTo>
                    <a:pt x="1156" y="783"/>
                  </a:lnTo>
                  <a:lnTo>
                    <a:pt x="1165" y="768"/>
                  </a:lnTo>
                  <a:lnTo>
                    <a:pt x="1175" y="752"/>
                  </a:lnTo>
                  <a:lnTo>
                    <a:pt x="1184" y="737"/>
                  </a:lnTo>
                  <a:lnTo>
                    <a:pt x="1192" y="720"/>
                  </a:lnTo>
                  <a:lnTo>
                    <a:pt x="1201" y="705"/>
                  </a:lnTo>
                  <a:lnTo>
                    <a:pt x="1209" y="690"/>
                  </a:lnTo>
                  <a:lnTo>
                    <a:pt x="1216" y="673"/>
                  </a:lnTo>
                  <a:lnTo>
                    <a:pt x="1222" y="656"/>
                  </a:lnTo>
                  <a:lnTo>
                    <a:pt x="1228" y="638"/>
                  </a:lnTo>
                  <a:lnTo>
                    <a:pt x="1233" y="621"/>
                  </a:lnTo>
                  <a:lnTo>
                    <a:pt x="1239" y="604"/>
                  </a:lnTo>
                  <a:lnTo>
                    <a:pt x="1243" y="585"/>
                  </a:lnTo>
                  <a:lnTo>
                    <a:pt x="1247" y="568"/>
                  </a:lnTo>
                  <a:lnTo>
                    <a:pt x="1251" y="551"/>
                  </a:lnTo>
                  <a:lnTo>
                    <a:pt x="1254" y="534"/>
                  </a:lnTo>
                  <a:lnTo>
                    <a:pt x="1256" y="515"/>
                  </a:lnTo>
                  <a:lnTo>
                    <a:pt x="1256" y="496"/>
                  </a:lnTo>
                  <a:lnTo>
                    <a:pt x="1258" y="479"/>
                  </a:lnTo>
                  <a:lnTo>
                    <a:pt x="1260" y="462"/>
                  </a:lnTo>
                  <a:lnTo>
                    <a:pt x="1260" y="443"/>
                  </a:lnTo>
                  <a:lnTo>
                    <a:pt x="1260" y="428"/>
                  </a:lnTo>
                  <a:lnTo>
                    <a:pt x="1260" y="410"/>
                  </a:lnTo>
                  <a:lnTo>
                    <a:pt x="1260" y="397"/>
                  </a:lnTo>
                  <a:lnTo>
                    <a:pt x="1260" y="380"/>
                  </a:lnTo>
                  <a:lnTo>
                    <a:pt x="1258" y="365"/>
                  </a:lnTo>
                  <a:lnTo>
                    <a:pt x="1256" y="350"/>
                  </a:lnTo>
                  <a:lnTo>
                    <a:pt x="1256" y="336"/>
                  </a:lnTo>
                  <a:lnTo>
                    <a:pt x="1254" y="321"/>
                  </a:lnTo>
                  <a:lnTo>
                    <a:pt x="1252" y="308"/>
                  </a:lnTo>
                  <a:lnTo>
                    <a:pt x="1251" y="294"/>
                  </a:lnTo>
                  <a:lnTo>
                    <a:pt x="1249" y="283"/>
                  </a:lnTo>
                  <a:lnTo>
                    <a:pt x="1245" y="270"/>
                  </a:lnTo>
                  <a:lnTo>
                    <a:pt x="1241" y="256"/>
                  </a:lnTo>
                  <a:lnTo>
                    <a:pt x="1239" y="245"/>
                  </a:lnTo>
                  <a:lnTo>
                    <a:pt x="1235" y="234"/>
                  </a:lnTo>
                  <a:lnTo>
                    <a:pt x="1232" y="222"/>
                  </a:lnTo>
                  <a:lnTo>
                    <a:pt x="1228" y="211"/>
                  </a:lnTo>
                  <a:lnTo>
                    <a:pt x="1224" y="201"/>
                  </a:lnTo>
                  <a:lnTo>
                    <a:pt x="1220" y="192"/>
                  </a:lnTo>
                  <a:lnTo>
                    <a:pt x="1214" y="180"/>
                  </a:lnTo>
                  <a:lnTo>
                    <a:pt x="1211" y="171"/>
                  </a:lnTo>
                  <a:lnTo>
                    <a:pt x="1205" y="160"/>
                  </a:lnTo>
                  <a:lnTo>
                    <a:pt x="1201" y="154"/>
                  </a:lnTo>
                  <a:lnTo>
                    <a:pt x="1194" y="142"/>
                  </a:lnTo>
                  <a:lnTo>
                    <a:pt x="1188" y="135"/>
                  </a:lnTo>
                  <a:lnTo>
                    <a:pt x="1182" y="127"/>
                  </a:lnTo>
                  <a:lnTo>
                    <a:pt x="1176" y="120"/>
                  </a:lnTo>
                  <a:lnTo>
                    <a:pt x="1171" y="112"/>
                  </a:lnTo>
                  <a:lnTo>
                    <a:pt x="1163" y="104"/>
                  </a:lnTo>
                  <a:lnTo>
                    <a:pt x="1156" y="97"/>
                  </a:lnTo>
                  <a:lnTo>
                    <a:pt x="1148" y="91"/>
                  </a:lnTo>
                  <a:lnTo>
                    <a:pt x="1138" y="84"/>
                  </a:lnTo>
                  <a:lnTo>
                    <a:pt x="1133" y="78"/>
                  </a:lnTo>
                  <a:lnTo>
                    <a:pt x="1125" y="70"/>
                  </a:lnTo>
                  <a:lnTo>
                    <a:pt x="1117" y="66"/>
                  </a:lnTo>
                  <a:lnTo>
                    <a:pt x="1108" y="61"/>
                  </a:lnTo>
                  <a:lnTo>
                    <a:pt x="1100" y="55"/>
                  </a:lnTo>
                  <a:lnTo>
                    <a:pt x="1091" y="49"/>
                  </a:lnTo>
                  <a:lnTo>
                    <a:pt x="1083" y="46"/>
                  </a:lnTo>
                  <a:lnTo>
                    <a:pt x="1074" y="40"/>
                  </a:lnTo>
                  <a:lnTo>
                    <a:pt x="1064" y="36"/>
                  </a:lnTo>
                  <a:lnTo>
                    <a:pt x="1055" y="34"/>
                  </a:lnTo>
                  <a:lnTo>
                    <a:pt x="1047" y="30"/>
                  </a:lnTo>
                  <a:lnTo>
                    <a:pt x="1036" y="27"/>
                  </a:lnTo>
                  <a:lnTo>
                    <a:pt x="1026" y="23"/>
                  </a:lnTo>
                  <a:lnTo>
                    <a:pt x="1017" y="19"/>
                  </a:lnTo>
                  <a:lnTo>
                    <a:pt x="1005" y="17"/>
                  </a:lnTo>
                  <a:lnTo>
                    <a:pt x="996" y="13"/>
                  </a:lnTo>
                  <a:lnTo>
                    <a:pt x="984" y="11"/>
                  </a:lnTo>
                  <a:lnTo>
                    <a:pt x="973" y="9"/>
                  </a:lnTo>
                  <a:lnTo>
                    <a:pt x="964" y="8"/>
                  </a:lnTo>
                  <a:lnTo>
                    <a:pt x="950" y="6"/>
                  </a:lnTo>
                  <a:lnTo>
                    <a:pt x="941" y="4"/>
                  </a:lnTo>
                  <a:lnTo>
                    <a:pt x="929" y="2"/>
                  </a:lnTo>
                  <a:lnTo>
                    <a:pt x="918" y="2"/>
                  </a:lnTo>
                  <a:lnTo>
                    <a:pt x="907" y="0"/>
                  </a:lnTo>
                  <a:lnTo>
                    <a:pt x="895" y="0"/>
                  </a:lnTo>
                  <a:lnTo>
                    <a:pt x="884" y="0"/>
                  </a:lnTo>
                  <a:lnTo>
                    <a:pt x="872" y="0"/>
                  </a:lnTo>
                  <a:lnTo>
                    <a:pt x="859" y="0"/>
                  </a:lnTo>
                  <a:lnTo>
                    <a:pt x="846" y="0"/>
                  </a:lnTo>
                  <a:lnTo>
                    <a:pt x="834" y="0"/>
                  </a:lnTo>
                  <a:lnTo>
                    <a:pt x="823" y="0"/>
                  </a:lnTo>
                  <a:lnTo>
                    <a:pt x="810" y="0"/>
                  </a:lnTo>
                  <a:lnTo>
                    <a:pt x="798" y="2"/>
                  </a:lnTo>
                  <a:lnTo>
                    <a:pt x="785" y="2"/>
                  </a:lnTo>
                  <a:lnTo>
                    <a:pt x="773" y="6"/>
                  </a:lnTo>
                  <a:lnTo>
                    <a:pt x="762" y="6"/>
                  </a:lnTo>
                  <a:lnTo>
                    <a:pt x="749" y="8"/>
                  </a:lnTo>
                  <a:lnTo>
                    <a:pt x="737" y="9"/>
                  </a:lnTo>
                  <a:lnTo>
                    <a:pt x="726" y="13"/>
                  </a:lnTo>
                  <a:lnTo>
                    <a:pt x="715" y="15"/>
                  </a:lnTo>
                  <a:lnTo>
                    <a:pt x="703" y="19"/>
                  </a:lnTo>
                  <a:lnTo>
                    <a:pt x="692" y="23"/>
                  </a:lnTo>
                  <a:lnTo>
                    <a:pt x="680" y="27"/>
                  </a:lnTo>
                  <a:lnTo>
                    <a:pt x="669" y="28"/>
                  </a:lnTo>
                  <a:lnTo>
                    <a:pt x="657" y="32"/>
                  </a:lnTo>
                  <a:lnTo>
                    <a:pt x="644" y="36"/>
                  </a:lnTo>
                  <a:lnTo>
                    <a:pt x="633" y="40"/>
                  </a:lnTo>
                  <a:lnTo>
                    <a:pt x="623" y="44"/>
                  </a:lnTo>
                  <a:lnTo>
                    <a:pt x="612" y="47"/>
                  </a:lnTo>
                  <a:lnTo>
                    <a:pt x="600" y="53"/>
                  </a:lnTo>
                  <a:lnTo>
                    <a:pt x="589" y="59"/>
                  </a:lnTo>
                  <a:lnTo>
                    <a:pt x="578" y="63"/>
                  </a:lnTo>
                  <a:lnTo>
                    <a:pt x="566" y="68"/>
                  </a:lnTo>
                  <a:lnTo>
                    <a:pt x="555" y="74"/>
                  </a:lnTo>
                  <a:lnTo>
                    <a:pt x="543" y="80"/>
                  </a:lnTo>
                  <a:lnTo>
                    <a:pt x="534" y="85"/>
                  </a:lnTo>
                  <a:lnTo>
                    <a:pt x="523" y="91"/>
                  </a:lnTo>
                  <a:lnTo>
                    <a:pt x="513" y="95"/>
                  </a:lnTo>
                  <a:lnTo>
                    <a:pt x="504" y="103"/>
                  </a:lnTo>
                  <a:lnTo>
                    <a:pt x="492" y="108"/>
                  </a:lnTo>
                  <a:lnTo>
                    <a:pt x="481" y="114"/>
                  </a:lnTo>
                  <a:lnTo>
                    <a:pt x="469" y="120"/>
                  </a:lnTo>
                  <a:lnTo>
                    <a:pt x="458" y="127"/>
                  </a:lnTo>
                  <a:lnTo>
                    <a:pt x="448" y="133"/>
                  </a:lnTo>
                  <a:lnTo>
                    <a:pt x="437" y="141"/>
                  </a:lnTo>
                  <a:lnTo>
                    <a:pt x="427" y="146"/>
                  </a:lnTo>
                  <a:lnTo>
                    <a:pt x="418" y="154"/>
                  </a:lnTo>
                  <a:lnTo>
                    <a:pt x="407" y="160"/>
                  </a:lnTo>
                  <a:lnTo>
                    <a:pt x="399" y="167"/>
                  </a:lnTo>
                  <a:lnTo>
                    <a:pt x="388" y="175"/>
                  </a:lnTo>
                  <a:lnTo>
                    <a:pt x="380" y="180"/>
                  </a:lnTo>
                  <a:lnTo>
                    <a:pt x="369" y="188"/>
                  </a:lnTo>
                  <a:lnTo>
                    <a:pt x="361" y="196"/>
                  </a:lnTo>
                  <a:lnTo>
                    <a:pt x="351" y="203"/>
                  </a:lnTo>
                  <a:lnTo>
                    <a:pt x="342" y="211"/>
                  </a:lnTo>
                  <a:lnTo>
                    <a:pt x="332" y="218"/>
                  </a:lnTo>
                  <a:lnTo>
                    <a:pt x="325" y="226"/>
                  </a:lnTo>
                  <a:lnTo>
                    <a:pt x="315" y="234"/>
                  </a:lnTo>
                  <a:lnTo>
                    <a:pt x="306" y="241"/>
                  </a:lnTo>
                  <a:lnTo>
                    <a:pt x="298" y="249"/>
                  </a:lnTo>
                  <a:lnTo>
                    <a:pt x="289" y="256"/>
                  </a:lnTo>
                  <a:lnTo>
                    <a:pt x="281" y="264"/>
                  </a:lnTo>
                  <a:lnTo>
                    <a:pt x="274" y="272"/>
                  </a:lnTo>
                  <a:lnTo>
                    <a:pt x="264" y="279"/>
                  </a:lnTo>
                  <a:lnTo>
                    <a:pt x="256" y="287"/>
                  </a:lnTo>
                  <a:lnTo>
                    <a:pt x="247" y="294"/>
                  </a:lnTo>
                  <a:lnTo>
                    <a:pt x="239" y="304"/>
                  </a:lnTo>
                  <a:lnTo>
                    <a:pt x="232" y="312"/>
                  </a:lnTo>
                  <a:lnTo>
                    <a:pt x="226" y="317"/>
                  </a:lnTo>
                  <a:lnTo>
                    <a:pt x="218" y="327"/>
                  </a:lnTo>
                  <a:lnTo>
                    <a:pt x="213" y="334"/>
                  </a:lnTo>
                  <a:lnTo>
                    <a:pt x="205" y="342"/>
                  </a:lnTo>
                  <a:lnTo>
                    <a:pt x="197" y="350"/>
                  </a:lnTo>
                  <a:lnTo>
                    <a:pt x="190" y="357"/>
                  </a:lnTo>
                  <a:lnTo>
                    <a:pt x="182" y="367"/>
                  </a:lnTo>
                  <a:lnTo>
                    <a:pt x="175" y="374"/>
                  </a:lnTo>
                  <a:lnTo>
                    <a:pt x="169" y="382"/>
                  </a:lnTo>
                  <a:lnTo>
                    <a:pt x="163" y="391"/>
                  </a:lnTo>
                  <a:lnTo>
                    <a:pt x="158" y="399"/>
                  </a:lnTo>
                  <a:lnTo>
                    <a:pt x="150" y="407"/>
                  </a:lnTo>
                  <a:lnTo>
                    <a:pt x="144" y="414"/>
                  </a:lnTo>
                  <a:lnTo>
                    <a:pt x="139" y="424"/>
                  </a:lnTo>
                  <a:lnTo>
                    <a:pt x="133" y="431"/>
                  </a:lnTo>
                  <a:lnTo>
                    <a:pt x="127" y="439"/>
                  </a:lnTo>
                  <a:lnTo>
                    <a:pt x="123" y="448"/>
                  </a:lnTo>
                  <a:lnTo>
                    <a:pt x="118" y="456"/>
                  </a:lnTo>
                  <a:lnTo>
                    <a:pt x="114" y="466"/>
                  </a:lnTo>
                  <a:lnTo>
                    <a:pt x="108" y="473"/>
                  </a:lnTo>
                  <a:lnTo>
                    <a:pt x="102" y="483"/>
                  </a:lnTo>
                  <a:lnTo>
                    <a:pt x="99" y="490"/>
                  </a:lnTo>
                  <a:lnTo>
                    <a:pt x="95" y="500"/>
                  </a:lnTo>
                  <a:lnTo>
                    <a:pt x="89" y="507"/>
                  </a:lnTo>
                  <a:lnTo>
                    <a:pt x="85" y="515"/>
                  </a:lnTo>
                  <a:lnTo>
                    <a:pt x="82" y="524"/>
                  </a:lnTo>
                  <a:lnTo>
                    <a:pt x="78" y="532"/>
                  </a:lnTo>
                  <a:lnTo>
                    <a:pt x="74" y="540"/>
                  </a:lnTo>
                  <a:lnTo>
                    <a:pt x="70" y="549"/>
                  </a:lnTo>
                  <a:lnTo>
                    <a:pt x="66" y="555"/>
                  </a:lnTo>
                  <a:lnTo>
                    <a:pt x="63" y="564"/>
                  </a:lnTo>
                  <a:lnTo>
                    <a:pt x="59" y="572"/>
                  </a:lnTo>
                  <a:lnTo>
                    <a:pt x="57" y="580"/>
                  </a:lnTo>
                  <a:lnTo>
                    <a:pt x="55" y="587"/>
                  </a:lnTo>
                  <a:lnTo>
                    <a:pt x="51" y="597"/>
                  </a:lnTo>
                  <a:lnTo>
                    <a:pt x="47" y="602"/>
                  </a:lnTo>
                  <a:lnTo>
                    <a:pt x="44" y="610"/>
                  </a:lnTo>
                  <a:lnTo>
                    <a:pt x="42" y="618"/>
                  </a:lnTo>
                  <a:lnTo>
                    <a:pt x="40" y="623"/>
                  </a:lnTo>
                  <a:lnTo>
                    <a:pt x="34" y="637"/>
                  </a:lnTo>
                  <a:lnTo>
                    <a:pt x="30" y="650"/>
                  </a:lnTo>
                  <a:lnTo>
                    <a:pt x="26" y="661"/>
                  </a:lnTo>
                  <a:lnTo>
                    <a:pt x="23" y="673"/>
                  </a:lnTo>
                  <a:lnTo>
                    <a:pt x="21" y="682"/>
                  </a:lnTo>
                  <a:lnTo>
                    <a:pt x="17" y="694"/>
                  </a:lnTo>
                  <a:lnTo>
                    <a:pt x="13" y="701"/>
                  </a:lnTo>
                  <a:lnTo>
                    <a:pt x="13" y="711"/>
                  </a:lnTo>
                  <a:lnTo>
                    <a:pt x="9" y="716"/>
                  </a:lnTo>
                  <a:lnTo>
                    <a:pt x="9" y="724"/>
                  </a:lnTo>
                  <a:lnTo>
                    <a:pt x="9" y="730"/>
                  </a:lnTo>
                  <a:lnTo>
                    <a:pt x="9" y="733"/>
                  </a:lnTo>
                  <a:lnTo>
                    <a:pt x="9" y="73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2187720" y="384840"/>
              <a:ext cx="615600" cy="511200"/>
            </a:xfrm>
            <a:custGeom>
              <a:avLst/>
              <a:gdLst/>
              <a:ahLst/>
              <a:rect l="l" t="t" r="r" b="b"/>
              <a:pathLst>
                <a:path w="1251" h="1038">
                  <a:moveTo>
                    <a:pt x="0" y="941"/>
                  </a:moveTo>
                  <a:lnTo>
                    <a:pt x="2" y="941"/>
                  </a:lnTo>
                  <a:lnTo>
                    <a:pt x="11" y="941"/>
                  </a:lnTo>
                  <a:lnTo>
                    <a:pt x="15" y="941"/>
                  </a:lnTo>
                  <a:lnTo>
                    <a:pt x="25" y="943"/>
                  </a:lnTo>
                  <a:lnTo>
                    <a:pt x="32" y="943"/>
                  </a:lnTo>
                  <a:lnTo>
                    <a:pt x="42" y="944"/>
                  </a:lnTo>
                  <a:lnTo>
                    <a:pt x="51" y="944"/>
                  </a:lnTo>
                  <a:lnTo>
                    <a:pt x="63" y="944"/>
                  </a:lnTo>
                  <a:lnTo>
                    <a:pt x="76" y="944"/>
                  </a:lnTo>
                  <a:lnTo>
                    <a:pt x="89" y="944"/>
                  </a:lnTo>
                  <a:lnTo>
                    <a:pt x="95" y="944"/>
                  </a:lnTo>
                  <a:lnTo>
                    <a:pt x="102" y="944"/>
                  </a:lnTo>
                  <a:lnTo>
                    <a:pt x="110" y="944"/>
                  </a:lnTo>
                  <a:lnTo>
                    <a:pt x="118" y="946"/>
                  </a:lnTo>
                  <a:lnTo>
                    <a:pt x="123" y="946"/>
                  </a:lnTo>
                  <a:lnTo>
                    <a:pt x="131" y="946"/>
                  </a:lnTo>
                  <a:lnTo>
                    <a:pt x="140" y="946"/>
                  </a:lnTo>
                  <a:lnTo>
                    <a:pt x="148" y="948"/>
                  </a:lnTo>
                  <a:lnTo>
                    <a:pt x="156" y="946"/>
                  </a:lnTo>
                  <a:lnTo>
                    <a:pt x="163" y="946"/>
                  </a:lnTo>
                  <a:lnTo>
                    <a:pt x="171" y="946"/>
                  </a:lnTo>
                  <a:lnTo>
                    <a:pt x="180" y="946"/>
                  </a:lnTo>
                  <a:lnTo>
                    <a:pt x="188" y="944"/>
                  </a:lnTo>
                  <a:lnTo>
                    <a:pt x="196" y="944"/>
                  </a:lnTo>
                  <a:lnTo>
                    <a:pt x="205" y="944"/>
                  </a:lnTo>
                  <a:lnTo>
                    <a:pt x="213" y="944"/>
                  </a:lnTo>
                  <a:lnTo>
                    <a:pt x="220" y="944"/>
                  </a:lnTo>
                  <a:lnTo>
                    <a:pt x="230" y="943"/>
                  </a:lnTo>
                  <a:lnTo>
                    <a:pt x="237" y="941"/>
                  </a:lnTo>
                  <a:lnTo>
                    <a:pt x="247" y="941"/>
                  </a:lnTo>
                  <a:lnTo>
                    <a:pt x="255" y="941"/>
                  </a:lnTo>
                  <a:lnTo>
                    <a:pt x="264" y="941"/>
                  </a:lnTo>
                  <a:lnTo>
                    <a:pt x="272" y="939"/>
                  </a:lnTo>
                  <a:lnTo>
                    <a:pt x="281" y="939"/>
                  </a:lnTo>
                  <a:lnTo>
                    <a:pt x="289" y="937"/>
                  </a:lnTo>
                  <a:lnTo>
                    <a:pt x="298" y="935"/>
                  </a:lnTo>
                  <a:lnTo>
                    <a:pt x="306" y="935"/>
                  </a:lnTo>
                  <a:lnTo>
                    <a:pt x="315" y="933"/>
                  </a:lnTo>
                  <a:lnTo>
                    <a:pt x="323" y="931"/>
                  </a:lnTo>
                  <a:lnTo>
                    <a:pt x="331" y="929"/>
                  </a:lnTo>
                  <a:lnTo>
                    <a:pt x="340" y="927"/>
                  </a:lnTo>
                  <a:lnTo>
                    <a:pt x="348" y="927"/>
                  </a:lnTo>
                  <a:lnTo>
                    <a:pt x="355" y="924"/>
                  </a:lnTo>
                  <a:lnTo>
                    <a:pt x="363" y="922"/>
                  </a:lnTo>
                  <a:lnTo>
                    <a:pt x="370" y="920"/>
                  </a:lnTo>
                  <a:lnTo>
                    <a:pt x="378" y="918"/>
                  </a:lnTo>
                  <a:lnTo>
                    <a:pt x="386" y="916"/>
                  </a:lnTo>
                  <a:lnTo>
                    <a:pt x="393" y="914"/>
                  </a:lnTo>
                  <a:lnTo>
                    <a:pt x="401" y="910"/>
                  </a:lnTo>
                  <a:lnTo>
                    <a:pt x="408" y="910"/>
                  </a:lnTo>
                  <a:lnTo>
                    <a:pt x="420" y="904"/>
                  </a:lnTo>
                  <a:lnTo>
                    <a:pt x="433" y="897"/>
                  </a:lnTo>
                  <a:lnTo>
                    <a:pt x="439" y="893"/>
                  </a:lnTo>
                  <a:lnTo>
                    <a:pt x="447" y="891"/>
                  </a:lnTo>
                  <a:lnTo>
                    <a:pt x="454" y="887"/>
                  </a:lnTo>
                  <a:lnTo>
                    <a:pt x="462" y="885"/>
                  </a:lnTo>
                  <a:lnTo>
                    <a:pt x="473" y="878"/>
                  </a:lnTo>
                  <a:lnTo>
                    <a:pt x="486" y="870"/>
                  </a:lnTo>
                  <a:lnTo>
                    <a:pt x="494" y="866"/>
                  </a:lnTo>
                  <a:lnTo>
                    <a:pt x="500" y="863"/>
                  </a:lnTo>
                  <a:lnTo>
                    <a:pt x="507" y="859"/>
                  </a:lnTo>
                  <a:lnTo>
                    <a:pt x="515" y="857"/>
                  </a:lnTo>
                  <a:lnTo>
                    <a:pt x="528" y="849"/>
                  </a:lnTo>
                  <a:lnTo>
                    <a:pt x="542" y="840"/>
                  </a:lnTo>
                  <a:lnTo>
                    <a:pt x="547" y="834"/>
                  </a:lnTo>
                  <a:lnTo>
                    <a:pt x="555" y="832"/>
                  </a:lnTo>
                  <a:lnTo>
                    <a:pt x="561" y="828"/>
                  </a:lnTo>
                  <a:lnTo>
                    <a:pt x="568" y="825"/>
                  </a:lnTo>
                  <a:lnTo>
                    <a:pt x="580" y="815"/>
                  </a:lnTo>
                  <a:lnTo>
                    <a:pt x="593" y="808"/>
                  </a:lnTo>
                  <a:lnTo>
                    <a:pt x="606" y="798"/>
                  </a:lnTo>
                  <a:lnTo>
                    <a:pt x="619" y="790"/>
                  </a:lnTo>
                  <a:lnTo>
                    <a:pt x="631" y="781"/>
                  </a:lnTo>
                  <a:lnTo>
                    <a:pt x="640" y="773"/>
                  </a:lnTo>
                  <a:lnTo>
                    <a:pt x="652" y="762"/>
                  </a:lnTo>
                  <a:lnTo>
                    <a:pt x="665" y="754"/>
                  </a:lnTo>
                  <a:lnTo>
                    <a:pt x="675" y="745"/>
                  </a:lnTo>
                  <a:lnTo>
                    <a:pt x="686" y="735"/>
                  </a:lnTo>
                  <a:lnTo>
                    <a:pt x="696" y="728"/>
                  </a:lnTo>
                  <a:lnTo>
                    <a:pt x="707" y="718"/>
                  </a:lnTo>
                  <a:lnTo>
                    <a:pt x="716" y="709"/>
                  </a:lnTo>
                  <a:lnTo>
                    <a:pt x="726" y="701"/>
                  </a:lnTo>
                  <a:lnTo>
                    <a:pt x="734" y="692"/>
                  </a:lnTo>
                  <a:lnTo>
                    <a:pt x="743" y="682"/>
                  </a:lnTo>
                  <a:lnTo>
                    <a:pt x="751" y="673"/>
                  </a:lnTo>
                  <a:lnTo>
                    <a:pt x="758" y="665"/>
                  </a:lnTo>
                  <a:lnTo>
                    <a:pt x="766" y="656"/>
                  </a:lnTo>
                  <a:lnTo>
                    <a:pt x="773" y="648"/>
                  </a:lnTo>
                  <a:lnTo>
                    <a:pt x="777" y="637"/>
                  </a:lnTo>
                  <a:lnTo>
                    <a:pt x="785" y="627"/>
                  </a:lnTo>
                  <a:lnTo>
                    <a:pt x="794" y="616"/>
                  </a:lnTo>
                  <a:lnTo>
                    <a:pt x="802" y="606"/>
                  </a:lnTo>
                  <a:lnTo>
                    <a:pt x="811" y="593"/>
                  </a:lnTo>
                  <a:lnTo>
                    <a:pt x="823" y="581"/>
                  </a:lnTo>
                  <a:lnTo>
                    <a:pt x="827" y="574"/>
                  </a:lnTo>
                  <a:lnTo>
                    <a:pt x="832" y="568"/>
                  </a:lnTo>
                  <a:lnTo>
                    <a:pt x="838" y="561"/>
                  </a:lnTo>
                  <a:lnTo>
                    <a:pt x="844" y="553"/>
                  </a:lnTo>
                  <a:lnTo>
                    <a:pt x="849" y="545"/>
                  </a:lnTo>
                  <a:lnTo>
                    <a:pt x="855" y="538"/>
                  </a:lnTo>
                  <a:lnTo>
                    <a:pt x="859" y="528"/>
                  </a:lnTo>
                  <a:lnTo>
                    <a:pt x="867" y="523"/>
                  </a:lnTo>
                  <a:lnTo>
                    <a:pt x="870" y="513"/>
                  </a:lnTo>
                  <a:lnTo>
                    <a:pt x="876" y="505"/>
                  </a:lnTo>
                  <a:lnTo>
                    <a:pt x="882" y="498"/>
                  </a:lnTo>
                  <a:lnTo>
                    <a:pt x="889" y="490"/>
                  </a:lnTo>
                  <a:lnTo>
                    <a:pt x="893" y="481"/>
                  </a:lnTo>
                  <a:lnTo>
                    <a:pt x="901" y="471"/>
                  </a:lnTo>
                  <a:lnTo>
                    <a:pt x="905" y="462"/>
                  </a:lnTo>
                  <a:lnTo>
                    <a:pt x="910" y="454"/>
                  </a:lnTo>
                  <a:lnTo>
                    <a:pt x="916" y="443"/>
                  </a:lnTo>
                  <a:lnTo>
                    <a:pt x="922" y="433"/>
                  </a:lnTo>
                  <a:lnTo>
                    <a:pt x="927" y="424"/>
                  </a:lnTo>
                  <a:lnTo>
                    <a:pt x="935" y="416"/>
                  </a:lnTo>
                  <a:lnTo>
                    <a:pt x="939" y="405"/>
                  </a:lnTo>
                  <a:lnTo>
                    <a:pt x="945" y="393"/>
                  </a:lnTo>
                  <a:lnTo>
                    <a:pt x="948" y="382"/>
                  </a:lnTo>
                  <a:lnTo>
                    <a:pt x="954" y="370"/>
                  </a:lnTo>
                  <a:lnTo>
                    <a:pt x="958" y="359"/>
                  </a:lnTo>
                  <a:lnTo>
                    <a:pt x="964" y="348"/>
                  </a:lnTo>
                  <a:lnTo>
                    <a:pt x="967" y="336"/>
                  </a:lnTo>
                  <a:lnTo>
                    <a:pt x="973" y="327"/>
                  </a:lnTo>
                  <a:lnTo>
                    <a:pt x="977" y="313"/>
                  </a:lnTo>
                  <a:lnTo>
                    <a:pt x="981" y="302"/>
                  </a:lnTo>
                  <a:lnTo>
                    <a:pt x="984" y="289"/>
                  </a:lnTo>
                  <a:lnTo>
                    <a:pt x="990" y="279"/>
                  </a:lnTo>
                  <a:lnTo>
                    <a:pt x="992" y="264"/>
                  </a:lnTo>
                  <a:lnTo>
                    <a:pt x="996" y="253"/>
                  </a:lnTo>
                  <a:lnTo>
                    <a:pt x="1000" y="239"/>
                  </a:lnTo>
                  <a:lnTo>
                    <a:pt x="1003" y="228"/>
                  </a:lnTo>
                  <a:lnTo>
                    <a:pt x="1003" y="213"/>
                  </a:lnTo>
                  <a:lnTo>
                    <a:pt x="1007" y="199"/>
                  </a:lnTo>
                  <a:lnTo>
                    <a:pt x="1009" y="186"/>
                  </a:lnTo>
                  <a:lnTo>
                    <a:pt x="1011" y="173"/>
                  </a:lnTo>
                  <a:lnTo>
                    <a:pt x="1013" y="158"/>
                  </a:lnTo>
                  <a:lnTo>
                    <a:pt x="1015" y="144"/>
                  </a:lnTo>
                  <a:lnTo>
                    <a:pt x="1017" y="129"/>
                  </a:lnTo>
                  <a:lnTo>
                    <a:pt x="1017" y="116"/>
                  </a:lnTo>
                  <a:lnTo>
                    <a:pt x="1017" y="101"/>
                  </a:lnTo>
                  <a:lnTo>
                    <a:pt x="1017" y="85"/>
                  </a:lnTo>
                  <a:lnTo>
                    <a:pt x="1017" y="68"/>
                  </a:lnTo>
                  <a:lnTo>
                    <a:pt x="1017" y="55"/>
                  </a:lnTo>
                  <a:lnTo>
                    <a:pt x="1017" y="38"/>
                  </a:lnTo>
                  <a:lnTo>
                    <a:pt x="1019" y="0"/>
                  </a:lnTo>
                  <a:lnTo>
                    <a:pt x="1021" y="4"/>
                  </a:lnTo>
                  <a:lnTo>
                    <a:pt x="1024" y="7"/>
                  </a:lnTo>
                  <a:lnTo>
                    <a:pt x="1030" y="13"/>
                  </a:lnTo>
                  <a:lnTo>
                    <a:pt x="1034" y="23"/>
                  </a:lnTo>
                  <a:lnTo>
                    <a:pt x="1038" y="30"/>
                  </a:lnTo>
                  <a:lnTo>
                    <a:pt x="1045" y="40"/>
                  </a:lnTo>
                  <a:lnTo>
                    <a:pt x="1049" y="49"/>
                  </a:lnTo>
                  <a:lnTo>
                    <a:pt x="1057" y="61"/>
                  </a:lnTo>
                  <a:lnTo>
                    <a:pt x="1062" y="72"/>
                  </a:lnTo>
                  <a:lnTo>
                    <a:pt x="1068" y="85"/>
                  </a:lnTo>
                  <a:lnTo>
                    <a:pt x="1072" y="91"/>
                  </a:lnTo>
                  <a:lnTo>
                    <a:pt x="1076" y="99"/>
                  </a:lnTo>
                  <a:lnTo>
                    <a:pt x="1079" y="106"/>
                  </a:lnTo>
                  <a:lnTo>
                    <a:pt x="1083" y="114"/>
                  </a:lnTo>
                  <a:lnTo>
                    <a:pt x="1085" y="122"/>
                  </a:lnTo>
                  <a:lnTo>
                    <a:pt x="1089" y="129"/>
                  </a:lnTo>
                  <a:lnTo>
                    <a:pt x="1093" y="137"/>
                  </a:lnTo>
                  <a:lnTo>
                    <a:pt x="1097" y="144"/>
                  </a:lnTo>
                  <a:lnTo>
                    <a:pt x="1098" y="152"/>
                  </a:lnTo>
                  <a:lnTo>
                    <a:pt x="1102" y="161"/>
                  </a:lnTo>
                  <a:lnTo>
                    <a:pt x="1106" y="171"/>
                  </a:lnTo>
                  <a:lnTo>
                    <a:pt x="1110" y="180"/>
                  </a:lnTo>
                  <a:lnTo>
                    <a:pt x="1112" y="190"/>
                  </a:lnTo>
                  <a:lnTo>
                    <a:pt x="1116" y="199"/>
                  </a:lnTo>
                  <a:lnTo>
                    <a:pt x="1118" y="207"/>
                  </a:lnTo>
                  <a:lnTo>
                    <a:pt x="1121" y="218"/>
                  </a:lnTo>
                  <a:lnTo>
                    <a:pt x="1123" y="228"/>
                  </a:lnTo>
                  <a:lnTo>
                    <a:pt x="1127" y="239"/>
                  </a:lnTo>
                  <a:lnTo>
                    <a:pt x="1131" y="251"/>
                  </a:lnTo>
                  <a:lnTo>
                    <a:pt x="1133" y="262"/>
                  </a:lnTo>
                  <a:lnTo>
                    <a:pt x="1135" y="272"/>
                  </a:lnTo>
                  <a:lnTo>
                    <a:pt x="1138" y="281"/>
                  </a:lnTo>
                  <a:lnTo>
                    <a:pt x="1140" y="293"/>
                  </a:lnTo>
                  <a:lnTo>
                    <a:pt x="1144" y="306"/>
                  </a:lnTo>
                  <a:lnTo>
                    <a:pt x="1144" y="317"/>
                  </a:lnTo>
                  <a:lnTo>
                    <a:pt x="1148" y="327"/>
                  </a:lnTo>
                  <a:lnTo>
                    <a:pt x="1150" y="340"/>
                  </a:lnTo>
                  <a:lnTo>
                    <a:pt x="1152" y="353"/>
                  </a:lnTo>
                  <a:lnTo>
                    <a:pt x="1154" y="365"/>
                  </a:lnTo>
                  <a:lnTo>
                    <a:pt x="1156" y="376"/>
                  </a:lnTo>
                  <a:lnTo>
                    <a:pt x="1157" y="388"/>
                  </a:lnTo>
                  <a:lnTo>
                    <a:pt x="1159" y="403"/>
                  </a:lnTo>
                  <a:lnTo>
                    <a:pt x="1159" y="416"/>
                  </a:lnTo>
                  <a:lnTo>
                    <a:pt x="1161" y="429"/>
                  </a:lnTo>
                  <a:lnTo>
                    <a:pt x="1161" y="443"/>
                  </a:lnTo>
                  <a:lnTo>
                    <a:pt x="1165" y="458"/>
                  </a:lnTo>
                  <a:lnTo>
                    <a:pt x="1175" y="616"/>
                  </a:lnTo>
                  <a:lnTo>
                    <a:pt x="1176" y="619"/>
                  </a:lnTo>
                  <a:lnTo>
                    <a:pt x="1180" y="623"/>
                  </a:lnTo>
                  <a:lnTo>
                    <a:pt x="1188" y="631"/>
                  </a:lnTo>
                  <a:lnTo>
                    <a:pt x="1192" y="638"/>
                  </a:lnTo>
                  <a:lnTo>
                    <a:pt x="1199" y="648"/>
                  </a:lnTo>
                  <a:lnTo>
                    <a:pt x="1207" y="657"/>
                  </a:lnTo>
                  <a:lnTo>
                    <a:pt x="1216" y="671"/>
                  </a:lnTo>
                  <a:lnTo>
                    <a:pt x="1218" y="676"/>
                  </a:lnTo>
                  <a:lnTo>
                    <a:pt x="1222" y="682"/>
                  </a:lnTo>
                  <a:lnTo>
                    <a:pt x="1226" y="690"/>
                  </a:lnTo>
                  <a:lnTo>
                    <a:pt x="1230" y="697"/>
                  </a:lnTo>
                  <a:lnTo>
                    <a:pt x="1232" y="705"/>
                  </a:lnTo>
                  <a:lnTo>
                    <a:pt x="1235" y="711"/>
                  </a:lnTo>
                  <a:lnTo>
                    <a:pt x="1239" y="718"/>
                  </a:lnTo>
                  <a:lnTo>
                    <a:pt x="1243" y="728"/>
                  </a:lnTo>
                  <a:lnTo>
                    <a:pt x="1243" y="735"/>
                  </a:lnTo>
                  <a:lnTo>
                    <a:pt x="1245" y="741"/>
                  </a:lnTo>
                  <a:lnTo>
                    <a:pt x="1247" y="751"/>
                  </a:lnTo>
                  <a:lnTo>
                    <a:pt x="1249" y="758"/>
                  </a:lnTo>
                  <a:lnTo>
                    <a:pt x="1249" y="766"/>
                  </a:lnTo>
                  <a:lnTo>
                    <a:pt x="1251" y="777"/>
                  </a:lnTo>
                  <a:lnTo>
                    <a:pt x="1251" y="783"/>
                  </a:lnTo>
                  <a:lnTo>
                    <a:pt x="1251" y="794"/>
                  </a:lnTo>
                  <a:lnTo>
                    <a:pt x="1247" y="800"/>
                  </a:lnTo>
                  <a:lnTo>
                    <a:pt x="1245" y="808"/>
                  </a:lnTo>
                  <a:lnTo>
                    <a:pt x="1243" y="815"/>
                  </a:lnTo>
                  <a:lnTo>
                    <a:pt x="1239" y="825"/>
                  </a:lnTo>
                  <a:lnTo>
                    <a:pt x="1235" y="830"/>
                  </a:lnTo>
                  <a:lnTo>
                    <a:pt x="1233" y="838"/>
                  </a:lnTo>
                  <a:lnTo>
                    <a:pt x="1228" y="846"/>
                  </a:lnTo>
                  <a:lnTo>
                    <a:pt x="1224" y="851"/>
                  </a:lnTo>
                  <a:lnTo>
                    <a:pt x="1218" y="857"/>
                  </a:lnTo>
                  <a:lnTo>
                    <a:pt x="1213" y="863"/>
                  </a:lnTo>
                  <a:lnTo>
                    <a:pt x="1205" y="868"/>
                  </a:lnTo>
                  <a:lnTo>
                    <a:pt x="1199" y="876"/>
                  </a:lnTo>
                  <a:lnTo>
                    <a:pt x="1190" y="880"/>
                  </a:lnTo>
                  <a:lnTo>
                    <a:pt x="1182" y="885"/>
                  </a:lnTo>
                  <a:lnTo>
                    <a:pt x="1175" y="889"/>
                  </a:lnTo>
                  <a:lnTo>
                    <a:pt x="1165" y="897"/>
                  </a:lnTo>
                  <a:lnTo>
                    <a:pt x="1154" y="901"/>
                  </a:lnTo>
                  <a:lnTo>
                    <a:pt x="1144" y="904"/>
                  </a:lnTo>
                  <a:lnTo>
                    <a:pt x="1133" y="906"/>
                  </a:lnTo>
                  <a:lnTo>
                    <a:pt x="1121" y="912"/>
                  </a:lnTo>
                  <a:lnTo>
                    <a:pt x="1108" y="914"/>
                  </a:lnTo>
                  <a:lnTo>
                    <a:pt x="1097" y="918"/>
                  </a:lnTo>
                  <a:lnTo>
                    <a:pt x="1089" y="920"/>
                  </a:lnTo>
                  <a:lnTo>
                    <a:pt x="1081" y="922"/>
                  </a:lnTo>
                  <a:lnTo>
                    <a:pt x="1076" y="924"/>
                  </a:lnTo>
                  <a:lnTo>
                    <a:pt x="1068" y="925"/>
                  </a:lnTo>
                  <a:lnTo>
                    <a:pt x="1060" y="925"/>
                  </a:lnTo>
                  <a:lnTo>
                    <a:pt x="1053" y="927"/>
                  </a:lnTo>
                  <a:lnTo>
                    <a:pt x="1045" y="927"/>
                  </a:lnTo>
                  <a:lnTo>
                    <a:pt x="1038" y="929"/>
                  </a:lnTo>
                  <a:lnTo>
                    <a:pt x="1030" y="931"/>
                  </a:lnTo>
                  <a:lnTo>
                    <a:pt x="1022" y="931"/>
                  </a:lnTo>
                  <a:lnTo>
                    <a:pt x="1013" y="933"/>
                  </a:lnTo>
                  <a:lnTo>
                    <a:pt x="1007" y="935"/>
                  </a:lnTo>
                  <a:lnTo>
                    <a:pt x="996" y="935"/>
                  </a:lnTo>
                  <a:lnTo>
                    <a:pt x="988" y="935"/>
                  </a:lnTo>
                  <a:lnTo>
                    <a:pt x="979" y="937"/>
                  </a:lnTo>
                  <a:lnTo>
                    <a:pt x="971" y="939"/>
                  </a:lnTo>
                  <a:lnTo>
                    <a:pt x="962" y="939"/>
                  </a:lnTo>
                  <a:lnTo>
                    <a:pt x="952" y="939"/>
                  </a:lnTo>
                  <a:lnTo>
                    <a:pt x="943" y="941"/>
                  </a:lnTo>
                  <a:lnTo>
                    <a:pt x="935" y="941"/>
                  </a:lnTo>
                  <a:lnTo>
                    <a:pt x="931" y="941"/>
                  </a:lnTo>
                  <a:lnTo>
                    <a:pt x="927" y="944"/>
                  </a:lnTo>
                  <a:lnTo>
                    <a:pt x="920" y="948"/>
                  </a:lnTo>
                  <a:lnTo>
                    <a:pt x="910" y="954"/>
                  </a:lnTo>
                  <a:lnTo>
                    <a:pt x="905" y="956"/>
                  </a:lnTo>
                  <a:lnTo>
                    <a:pt x="897" y="960"/>
                  </a:lnTo>
                  <a:lnTo>
                    <a:pt x="889" y="963"/>
                  </a:lnTo>
                  <a:lnTo>
                    <a:pt x="882" y="967"/>
                  </a:lnTo>
                  <a:lnTo>
                    <a:pt x="872" y="971"/>
                  </a:lnTo>
                  <a:lnTo>
                    <a:pt x="863" y="975"/>
                  </a:lnTo>
                  <a:lnTo>
                    <a:pt x="853" y="981"/>
                  </a:lnTo>
                  <a:lnTo>
                    <a:pt x="842" y="986"/>
                  </a:lnTo>
                  <a:lnTo>
                    <a:pt x="829" y="990"/>
                  </a:lnTo>
                  <a:lnTo>
                    <a:pt x="817" y="992"/>
                  </a:lnTo>
                  <a:lnTo>
                    <a:pt x="804" y="996"/>
                  </a:lnTo>
                  <a:lnTo>
                    <a:pt x="791" y="1001"/>
                  </a:lnTo>
                  <a:lnTo>
                    <a:pt x="785" y="1003"/>
                  </a:lnTo>
                  <a:lnTo>
                    <a:pt x="777" y="1005"/>
                  </a:lnTo>
                  <a:lnTo>
                    <a:pt x="770" y="1007"/>
                  </a:lnTo>
                  <a:lnTo>
                    <a:pt x="762" y="1009"/>
                  </a:lnTo>
                  <a:lnTo>
                    <a:pt x="754" y="1009"/>
                  </a:lnTo>
                  <a:lnTo>
                    <a:pt x="747" y="1013"/>
                  </a:lnTo>
                  <a:lnTo>
                    <a:pt x="737" y="1015"/>
                  </a:lnTo>
                  <a:lnTo>
                    <a:pt x="730" y="1017"/>
                  </a:lnTo>
                  <a:lnTo>
                    <a:pt x="720" y="1017"/>
                  </a:lnTo>
                  <a:lnTo>
                    <a:pt x="713" y="1020"/>
                  </a:lnTo>
                  <a:lnTo>
                    <a:pt x="703" y="1020"/>
                  </a:lnTo>
                  <a:lnTo>
                    <a:pt x="696" y="1022"/>
                  </a:lnTo>
                  <a:lnTo>
                    <a:pt x="684" y="1024"/>
                  </a:lnTo>
                  <a:lnTo>
                    <a:pt x="677" y="1024"/>
                  </a:lnTo>
                  <a:lnTo>
                    <a:pt x="667" y="1026"/>
                  </a:lnTo>
                  <a:lnTo>
                    <a:pt x="658" y="1028"/>
                  </a:lnTo>
                  <a:lnTo>
                    <a:pt x="648" y="1028"/>
                  </a:lnTo>
                  <a:lnTo>
                    <a:pt x="637" y="1030"/>
                  </a:lnTo>
                  <a:lnTo>
                    <a:pt x="627" y="1030"/>
                  </a:lnTo>
                  <a:lnTo>
                    <a:pt x="618" y="1032"/>
                  </a:lnTo>
                  <a:lnTo>
                    <a:pt x="606" y="1032"/>
                  </a:lnTo>
                  <a:lnTo>
                    <a:pt x="597" y="1034"/>
                  </a:lnTo>
                  <a:lnTo>
                    <a:pt x="585" y="1034"/>
                  </a:lnTo>
                  <a:lnTo>
                    <a:pt x="576" y="1036"/>
                  </a:lnTo>
                  <a:lnTo>
                    <a:pt x="562" y="1036"/>
                  </a:lnTo>
                  <a:lnTo>
                    <a:pt x="551" y="1036"/>
                  </a:lnTo>
                  <a:lnTo>
                    <a:pt x="542" y="1036"/>
                  </a:lnTo>
                  <a:lnTo>
                    <a:pt x="530" y="1036"/>
                  </a:lnTo>
                  <a:lnTo>
                    <a:pt x="519" y="1036"/>
                  </a:lnTo>
                  <a:lnTo>
                    <a:pt x="507" y="1036"/>
                  </a:lnTo>
                  <a:lnTo>
                    <a:pt x="496" y="1036"/>
                  </a:lnTo>
                  <a:lnTo>
                    <a:pt x="486" y="1038"/>
                  </a:lnTo>
                  <a:lnTo>
                    <a:pt x="477" y="1036"/>
                  </a:lnTo>
                  <a:lnTo>
                    <a:pt x="466" y="1036"/>
                  </a:lnTo>
                  <a:lnTo>
                    <a:pt x="454" y="1036"/>
                  </a:lnTo>
                  <a:lnTo>
                    <a:pt x="445" y="1036"/>
                  </a:lnTo>
                  <a:lnTo>
                    <a:pt x="433" y="1034"/>
                  </a:lnTo>
                  <a:lnTo>
                    <a:pt x="424" y="1034"/>
                  </a:lnTo>
                  <a:lnTo>
                    <a:pt x="414" y="1034"/>
                  </a:lnTo>
                  <a:lnTo>
                    <a:pt x="405" y="1034"/>
                  </a:lnTo>
                  <a:lnTo>
                    <a:pt x="393" y="1034"/>
                  </a:lnTo>
                  <a:lnTo>
                    <a:pt x="384" y="1032"/>
                  </a:lnTo>
                  <a:lnTo>
                    <a:pt x="374" y="1032"/>
                  </a:lnTo>
                  <a:lnTo>
                    <a:pt x="365" y="1032"/>
                  </a:lnTo>
                  <a:lnTo>
                    <a:pt x="355" y="1030"/>
                  </a:lnTo>
                  <a:lnTo>
                    <a:pt x="346" y="1030"/>
                  </a:lnTo>
                  <a:lnTo>
                    <a:pt x="336" y="1030"/>
                  </a:lnTo>
                  <a:lnTo>
                    <a:pt x="329" y="1030"/>
                  </a:lnTo>
                  <a:lnTo>
                    <a:pt x="319" y="1028"/>
                  </a:lnTo>
                  <a:lnTo>
                    <a:pt x="310" y="1028"/>
                  </a:lnTo>
                  <a:lnTo>
                    <a:pt x="302" y="1028"/>
                  </a:lnTo>
                  <a:lnTo>
                    <a:pt x="294" y="1028"/>
                  </a:lnTo>
                  <a:lnTo>
                    <a:pt x="285" y="1026"/>
                  </a:lnTo>
                  <a:lnTo>
                    <a:pt x="277" y="1024"/>
                  </a:lnTo>
                  <a:lnTo>
                    <a:pt x="272" y="1024"/>
                  </a:lnTo>
                  <a:lnTo>
                    <a:pt x="264" y="1024"/>
                  </a:lnTo>
                  <a:lnTo>
                    <a:pt x="255" y="1024"/>
                  </a:lnTo>
                  <a:lnTo>
                    <a:pt x="247" y="1022"/>
                  </a:lnTo>
                  <a:lnTo>
                    <a:pt x="241" y="1020"/>
                  </a:lnTo>
                  <a:lnTo>
                    <a:pt x="234" y="1020"/>
                  </a:lnTo>
                  <a:lnTo>
                    <a:pt x="226" y="1020"/>
                  </a:lnTo>
                  <a:lnTo>
                    <a:pt x="220" y="1019"/>
                  </a:lnTo>
                  <a:lnTo>
                    <a:pt x="213" y="1017"/>
                  </a:lnTo>
                  <a:lnTo>
                    <a:pt x="209" y="1017"/>
                  </a:lnTo>
                  <a:lnTo>
                    <a:pt x="196" y="1015"/>
                  </a:lnTo>
                  <a:lnTo>
                    <a:pt x="186" y="1015"/>
                  </a:lnTo>
                  <a:lnTo>
                    <a:pt x="175" y="1013"/>
                  </a:lnTo>
                  <a:lnTo>
                    <a:pt x="167" y="1013"/>
                  </a:lnTo>
                  <a:lnTo>
                    <a:pt x="158" y="1009"/>
                  </a:lnTo>
                  <a:lnTo>
                    <a:pt x="152" y="1009"/>
                  </a:lnTo>
                  <a:lnTo>
                    <a:pt x="144" y="1007"/>
                  </a:lnTo>
                  <a:lnTo>
                    <a:pt x="140" y="1007"/>
                  </a:lnTo>
                  <a:lnTo>
                    <a:pt x="135" y="1007"/>
                  </a:lnTo>
                  <a:lnTo>
                    <a:pt x="133" y="1007"/>
                  </a:lnTo>
                  <a:lnTo>
                    <a:pt x="0" y="941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2282400" y="788760"/>
              <a:ext cx="581040" cy="122040"/>
            </a:xfrm>
            <a:custGeom>
              <a:avLst/>
              <a:gdLst/>
              <a:ahLst/>
              <a:rect l="l" t="t" r="r" b="b"/>
              <a:pathLst>
                <a:path w="1181" h="247">
                  <a:moveTo>
                    <a:pt x="0" y="103"/>
                  </a:moveTo>
                  <a:lnTo>
                    <a:pt x="2" y="103"/>
                  </a:lnTo>
                  <a:lnTo>
                    <a:pt x="8" y="106"/>
                  </a:lnTo>
                  <a:lnTo>
                    <a:pt x="12" y="110"/>
                  </a:lnTo>
                  <a:lnTo>
                    <a:pt x="17" y="114"/>
                  </a:lnTo>
                  <a:lnTo>
                    <a:pt x="23" y="118"/>
                  </a:lnTo>
                  <a:lnTo>
                    <a:pt x="32" y="123"/>
                  </a:lnTo>
                  <a:lnTo>
                    <a:pt x="40" y="127"/>
                  </a:lnTo>
                  <a:lnTo>
                    <a:pt x="51" y="133"/>
                  </a:lnTo>
                  <a:lnTo>
                    <a:pt x="61" y="137"/>
                  </a:lnTo>
                  <a:lnTo>
                    <a:pt x="74" y="144"/>
                  </a:lnTo>
                  <a:lnTo>
                    <a:pt x="80" y="146"/>
                  </a:lnTo>
                  <a:lnTo>
                    <a:pt x="86" y="150"/>
                  </a:lnTo>
                  <a:lnTo>
                    <a:pt x="93" y="152"/>
                  </a:lnTo>
                  <a:lnTo>
                    <a:pt x="101" y="156"/>
                  </a:lnTo>
                  <a:lnTo>
                    <a:pt x="109" y="158"/>
                  </a:lnTo>
                  <a:lnTo>
                    <a:pt x="116" y="161"/>
                  </a:lnTo>
                  <a:lnTo>
                    <a:pt x="124" y="165"/>
                  </a:lnTo>
                  <a:lnTo>
                    <a:pt x="133" y="169"/>
                  </a:lnTo>
                  <a:lnTo>
                    <a:pt x="141" y="171"/>
                  </a:lnTo>
                  <a:lnTo>
                    <a:pt x="150" y="175"/>
                  </a:lnTo>
                  <a:lnTo>
                    <a:pt x="158" y="179"/>
                  </a:lnTo>
                  <a:lnTo>
                    <a:pt x="169" y="182"/>
                  </a:lnTo>
                  <a:lnTo>
                    <a:pt x="177" y="184"/>
                  </a:lnTo>
                  <a:lnTo>
                    <a:pt x="188" y="188"/>
                  </a:lnTo>
                  <a:lnTo>
                    <a:pt x="198" y="192"/>
                  </a:lnTo>
                  <a:lnTo>
                    <a:pt x="209" y="196"/>
                  </a:lnTo>
                  <a:lnTo>
                    <a:pt x="219" y="198"/>
                  </a:lnTo>
                  <a:lnTo>
                    <a:pt x="230" y="201"/>
                  </a:lnTo>
                  <a:lnTo>
                    <a:pt x="242" y="203"/>
                  </a:lnTo>
                  <a:lnTo>
                    <a:pt x="253" y="207"/>
                  </a:lnTo>
                  <a:lnTo>
                    <a:pt x="264" y="209"/>
                  </a:lnTo>
                  <a:lnTo>
                    <a:pt x="278" y="213"/>
                  </a:lnTo>
                  <a:lnTo>
                    <a:pt x="291" y="217"/>
                  </a:lnTo>
                  <a:lnTo>
                    <a:pt x="304" y="220"/>
                  </a:lnTo>
                  <a:lnTo>
                    <a:pt x="318" y="220"/>
                  </a:lnTo>
                  <a:lnTo>
                    <a:pt x="331" y="224"/>
                  </a:lnTo>
                  <a:lnTo>
                    <a:pt x="344" y="226"/>
                  </a:lnTo>
                  <a:lnTo>
                    <a:pt x="359" y="228"/>
                  </a:lnTo>
                  <a:lnTo>
                    <a:pt x="373" y="230"/>
                  </a:lnTo>
                  <a:lnTo>
                    <a:pt x="386" y="232"/>
                  </a:lnTo>
                  <a:lnTo>
                    <a:pt x="403" y="234"/>
                  </a:lnTo>
                  <a:lnTo>
                    <a:pt x="418" y="237"/>
                  </a:lnTo>
                  <a:lnTo>
                    <a:pt x="434" y="237"/>
                  </a:lnTo>
                  <a:lnTo>
                    <a:pt x="449" y="239"/>
                  </a:lnTo>
                  <a:lnTo>
                    <a:pt x="466" y="241"/>
                  </a:lnTo>
                  <a:lnTo>
                    <a:pt x="483" y="243"/>
                  </a:lnTo>
                  <a:lnTo>
                    <a:pt x="498" y="243"/>
                  </a:lnTo>
                  <a:lnTo>
                    <a:pt x="515" y="245"/>
                  </a:lnTo>
                  <a:lnTo>
                    <a:pt x="534" y="245"/>
                  </a:lnTo>
                  <a:lnTo>
                    <a:pt x="553" y="247"/>
                  </a:lnTo>
                  <a:lnTo>
                    <a:pt x="570" y="247"/>
                  </a:lnTo>
                  <a:lnTo>
                    <a:pt x="588" y="247"/>
                  </a:lnTo>
                  <a:lnTo>
                    <a:pt x="605" y="247"/>
                  </a:lnTo>
                  <a:lnTo>
                    <a:pt x="624" y="247"/>
                  </a:lnTo>
                  <a:lnTo>
                    <a:pt x="639" y="247"/>
                  </a:lnTo>
                  <a:lnTo>
                    <a:pt x="656" y="247"/>
                  </a:lnTo>
                  <a:lnTo>
                    <a:pt x="673" y="247"/>
                  </a:lnTo>
                  <a:lnTo>
                    <a:pt x="690" y="247"/>
                  </a:lnTo>
                  <a:lnTo>
                    <a:pt x="703" y="243"/>
                  </a:lnTo>
                  <a:lnTo>
                    <a:pt x="721" y="243"/>
                  </a:lnTo>
                  <a:lnTo>
                    <a:pt x="736" y="241"/>
                  </a:lnTo>
                  <a:lnTo>
                    <a:pt x="749" y="241"/>
                  </a:lnTo>
                  <a:lnTo>
                    <a:pt x="762" y="239"/>
                  </a:lnTo>
                  <a:lnTo>
                    <a:pt x="778" y="237"/>
                  </a:lnTo>
                  <a:lnTo>
                    <a:pt x="791" y="237"/>
                  </a:lnTo>
                  <a:lnTo>
                    <a:pt x="806" y="236"/>
                  </a:lnTo>
                  <a:lnTo>
                    <a:pt x="818" y="234"/>
                  </a:lnTo>
                  <a:lnTo>
                    <a:pt x="831" y="230"/>
                  </a:lnTo>
                  <a:lnTo>
                    <a:pt x="842" y="228"/>
                  </a:lnTo>
                  <a:lnTo>
                    <a:pt x="856" y="226"/>
                  </a:lnTo>
                  <a:lnTo>
                    <a:pt x="867" y="224"/>
                  </a:lnTo>
                  <a:lnTo>
                    <a:pt x="878" y="220"/>
                  </a:lnTo>
                  <a:lnTo>
                    <a:pt x="890" y="218"/>
                  </a:lnTo>
                  <a:lnTo>
                    <a:pt x="903" y="217"/>
                  </a:lnTo>
                  <a:lnTo>
                    <a:pt x="913" y="213"/>
                  </a:lnTo>
                  <a:lnTo>
                    <a:pt x="924" y="209"/>
                  </a:lnTo>
                  <a:lnTo>
                    <a:pt x="933" y="207"/>
                  </a:lnTo>
                  <a:lnTo>
                    <a:pt x="945" y="203"/>
                  </a:lnTo>
                  <a:lnTo>
                    <a:pt x="954" y="199"/>
                  </a:lnTo>
                  <a:lnTo>
                    <a:pt x="964" y="196"/>
                  </a:lnTo>
                  <a:lnTo>
                    <a:pt x="973" y="192"/>
                  </a:lnTo>
                  <a:lnTo>
                    <a:pt x="983" y="190"/>
                  </a:lnTo>
                  <a:lnTo>
                    <a:pt x="990" y="186"/>
                  </a:lnTo>
                  <a:lnTo>
                    <a:pt x="998" y="182"/>
                  </a:lnTo>
                  <a:lnTo>
                    <a:pt x="1008" y="177"/>
                  </a:lnTo>
                  <a:lnTo>
                    <a:pt x="1015" y="173"/>
                  </a:lnTo>
                  <a:lnTo>
                    <a:pt x="1023" y="169"/>
                  </a:lnTo>
                  <a:lnTo>
                    <a:pt x="1032" y="165"/>
                  </a:lnTo>
                  <a:lnTo>
                    <a:pt x="1040" y="160"/>
                  </a:lnTo>
                  <a:lnTo>
                    <a:pt x="1048" y="156"/>
                  </a:lnTo>
                  <a:lnTo>
                    <a:pt x="1053" y="150"/>
                  </a:lnTo>
                  <a:lnTo>
                    <a:pt x="1061" y="146"/>
                  </a:lnTo>
                  <a:lnTo>
                    <a:pt x="1068" y="141"/>
                  </a:lnTo>
                  <a:lnTo>
                    <a:pt x="1076" y="137"/>
                  </a:lnTo>
                  <a:lnTo>
                    <a:pt x="1087" y="127"/>
                  </a:lnTo>
                  <a:lnTo>
                    <a:pt x="1101" y="118"/>
                  </a:lnTo>
                  <a:lnTo>
                    <a:pt x="1112" y="106"/>
                  </a:lnTo>
                  <a:lnTo>
                    <a:pt x="1124" y="95"/>
                  </a:lnTo>
                  <a:lnTo>
                    <a:pt x="1133" y="83"/>
                  </a:lnTo>
                  <a:lnTo>
                    <a:pt x="1144" y="74"/>
                  </a:lnTo>
                  <a:lnTo>
                    <a:pt x="1152" y="63"/>
                  </a:lnTo>
                  <a:lnTo>
                    <a:pt x="1163" y="51"/>
                  </a:lnTo>
                  <a:lnTo>
                    <a:pt x="1171" y="38"/>
                  </a:lnTo>
                  <a:lnTo>
                    <a:pt x="1181" y="28"/>
                  </a:lnTo>
                  <a:lnTo>
                    <a:pt x="1139" y="0"/>
                  </a:lnTo>
                  <a:lnTo>
                    <a:pt x="1137" y="0"/>
                  </a:lnTo>
                  <a:lnTo>
                    <a:pt x="1135" y="6"/>
                  </a:lnTo>
                  <a:lnTo>
                    <a:pt x="1129" y="11"/>
                  </a:lnTo>
                  <a:lnTo>
                    <a:pt x="1125" y="21"/>
                  </a:lnTo>
                  <a:lnTo>
                    <a:pt x="1116" y="28"/>
                  </a:lnTo>
                  <a:lnTo>
                    <a:pt x="1105" y="42"/>
                  </a:lnTo>
                  <a:lnTo>
                    <a:pt x="1099" y="45"/>
                  </a:lnTo>
                  <a:lnTo>
                    <a:pt x="1093" y="51"/>
                  </a:lnTo>
                  <a:lnTo>
                    <a:pt x="1086" y="59"/>
                  </a:lnTo>
                  <a:lnTo>
                    <a:pt x="1080" y="66"/>
                  </a:lnTo>
                  <a:lnTo>
                    <a:pt x="1070" y="72"/>
                  </a:lnTo>
                  <a:lnTo>
                    <a:pt x="1061" y="80"/>
                  </a:lnTo>
                  <a:lnTo>
                    <a:pt x="1051" y="85"/>
                  </a:lnTo>
                  <a:lnTo>
                    <a:pt x="1042" y="93"/>
                  </a:lnTo>
                  <a:lnTo>
                    <a:pt x="1030" y="101"/>
                  </a:lnTo>
                  <a:lnTo>
                    <a:pt x="1019" y="106"/>
                  </a:lnTo>
                  <a:lnTo>
                    <a:pt x="1006" y="114"/>
                  </a:lnTo>
                  <a:lnTo>
                    <a:pt x="992" y="122"/>
                  </a:lnTo>
                  <a:lnTo>
                    <a:pt x="985" y="123"/>
                  </a:lnTo>
                  <a:lnTo>
                    <a:pt x="979" y="127"/>
                  </a:lnTo>
                  <a:lnTo>
                    <a:pt x="971" y="131"/>
                  </a:lnTo>
                  <a:lnTo>
                    <a:pt x="964" y="135"/>
                  </a:lnTo>
                  <a:lnTo>
                    <a:pt x="954" y="137"/>
                  </a:lnTo>
                  <a:lnTo>
                    <a:pt x="947" y="141"/>
                  </a:lnTo>
                  <a:lnTo>
                    <a:pt x="937" y="142"/>
                  </a:lnTo>
                  <a:lnTo>
                    <a:pt x="930" y="146"/>
                  </a:lnTo>
                  <a:lnTo>
                    <a:pt x="920" y="148"/>
                  </a:lnTo>
                  <a:lnTo>
                    <a:pt x="913" y="152"/>
                  </a:lnTo>
                  <a:lnTo>
                    <a:pt x="903" y="154"/>
                  </a:lnTo>
                  <a:lnTo>
                    <a:pt x="895" y="158"/>
                  </a:lnTo>
                  <a:lnTo>
                    <a:pt x="884" y="160"/>
                  </a:lnTo>
                  <a:lnTo>
                    <a:pt x="876" y="161"/>
                  </a:lnTo>
                  <a:lnTo>
                    <a:pt x="865" y="165"/>
                  </a:lnTo>
                  <a:lnTo>
                    <a:pt x="856" y="169"/>
                  </a:lnTo>
                  <a:lnTo>
                    <a:pt x="842" y="169"/>
                  </a:lnTo>
                  <a:lnTo>
                    <a:pt x="827" y="171"/>
                  </a:lnTo>
                  <a:lnTo>
                    <a:pt x="814" y="173"/>
                  </a:lnTo>
                  <a:lnTo>
                    <a:pt x="800" y="175"/>
                  </a:lnTo>
                  <a:lnTo>
                    <a:pt x="785" y="177"/>
                  </a:lnTo>
                  <a:lnTo>
                    <a:pt x="772" y="179"/>
                  </a:lnTo>
                  <a:lnTo>
                    <a:pt x="759" y="180"/>
                  </a:lnTo>
                  <a:lnTo>
                    <a:pt x="745" y="182"/>
                  </a:lnTo>
                  <a:lnTo>
                    <a:pt x="730" y="182"/>
                  </a:lnTo>
                  <a:lnTo>
                    <a:pt x="717" y="184"/>
                  </a:lnTo>
                  <a:lnTo>
                    <a:pt x="703" y="186"/>
                  </a:lnTo>
                  <a:lnTo>
                    <a:pt x="690" y="186"/>
                  </a:lnTo>
                  <a:lnTo>
                    <a:pt x="675" y="186"/>
                  </a:lnTo>
                  <a:lnTo>
                    <a:pt x="662" y="188"/>
                  </a:lnTo>
                  <a:lnTo>
                    <a:pt x="648" y="188"/>
                  </a:lnTo>
                  <a:lnTo>
                    <a:pt x="635" y="190"/>
                  </a:lnTo>
                  <a:lnTo>
                    <a:pt x="620" y="188"/>
                  </a:lnTo>
                  <a:lnTo>
                    <a:pt x="605" y="188"/>
                  </a:lnTo>
                  <a:lnTo>
                    <a:pt x="591" y="188"/>
                  </a:lnTo>
                  <a:lnTo>
                    <a:pt x="578" y="188"/>
                  </a:lnTo>
                  <a:lnTo>
                    <a:pt x="565" y="188"/>
                  </a:lnTo>
                  <a:lnTo>
                    <a:pt x="551" y="188"/>
                  </a:lnTo>
                  <a:lnTo>
                    <a:pt x="536" y="188"/>
                  </a:lnTo>
                  <a:lnTo>
                    <a:pt x="523" y="188"/>
                  </a:lnTo>
                  <a:lnTo>
                    <a:pt x="510" y="186"/>
                  </a:lnTo>
                  <a:lnTo>
                    <a:pt x="496" y="186"/>
                  </a:lnTo>
                  <a:lnTo>
                    <a:pt x="481" y="182"/>
                  </a:lnTo>
                  <a:lnTo>
                    <a:pt x="468" y="182"/>
                  </a:lnTo>
                  <a:lnTo>
                    <a:pt x="454" y="180"/>
                  </a:lnTo>
                  <a:lnTo>
                    <a:pt x="443" y="180"/>
                  </a:lnTo>
                  <a:lnTo>
                    <a:pt x="430" y="179"/>
                  </a:lnTo>
                  <a:lnTo>
                    <a:pt x="416" y="179"/>
                  </a:lnTo>
                  <a:lnTo>
                    <a:pt x="403" y="175"/>
                  </a:lnTo>
                  <a:lnTo>
                    <a:pt x="390" y="173"/>
                  </a:lnTo>
                  <a:lnTo>
                    <a:pt x="377" y="171"/>
                  </a:lnTo>
                  <a:lnTo>
                    <a:pt x="365" y="169"/>
                  </a:lnTo>
                  <a:lnTo>
                    <a:pt x="352" y="167"/>
                  </a:lnTo>
                  <a:lnTo>
                    <a:pt x="340" y="165"/>
                  </a:lnTo>
                  <a:lnTo>
                    <a:pt x="327" y="161"/>
                  </a:lnTo>
                  <a:lnTo>
                    <a:pt x="316" y="161"/>
                  </a:lnTo>
                  <a:lnTo>
                    <a:pt x="304" y="158"/>
                  </a:lnTo>
                  <a:lnTo>
                    <a:pt x="291" y="154"/>
                  </a:lnTo>
                  <a:lnTo>
                    <a:pt x="280" y="152"/>
                  </a:lnTo>
                  <a:lnTo>
                    <a:pt x="270" y="150"/>
                  </a:lnTo>
                  <a:lnTo>
                    <a:pt x="259" y="146"/>
                  </a:lnTo>
                  <a:lnTo>
                    <a:pt x="247" y="144"/>
                  </a:lnTo>
                  <a:lnTo>
                    <a:pt x="236" y="141"/>
                  </a:lnTo>
                  <a:lnTo>
                    <a:pt x="226" y="139"/>
                  </a:lnTo>
                  <a:lnTo>
                    <a:pt x="215" y="135"/>
                  </a:lnTo>
                  <a:lnTo>
                    <a:pt x="205" y="131"/>
                  </a:lnTo>
                  <a:lnTo>
                    <a:pt x="194" y="127"/>
                  </a:lnTo>
                  <a:lnTo>
                    <a:pt x="185" y="123"/>
                  </a:lnTo>
                  <a:lnTo>
                    <a:pt x="173" y="120"/>
                  </a:lnTo>
                  <a:lnTo>
                    <a:pt x="166" y="118"/>
                  </a:lnTo>
                  <a:lnTo>
                    <a:pt x="156" y="114"/>
                  </a:lnTo>
                  <a:lnTo>
                    <a:pt x="148" y="110"/>
                  </a:lnTo>
                  <a:lnTo>
                    <a:pt x="139" y="106"/>
                  </a:lnTo>
                  <a:lnTo>
                    <a:pt x="129" y="103"/>
                  </a:lnTo>
                  <a:lnTo>
                    <a:pt x="122" y="101"/>
                  </a:lnTo>
                  <a:lnTo>
                    <a:pt x="116" y="97"/>
                  </a:lnTo>
                  <a:lnTo>
                    <a:pt x="107" y="93"/>
                  </a:lnTo>
                  <a:lnTo>
                    <a:pt x="99" y="89"/>
                  </a:lnTo>
                  <a:lnTo>
                    <a:pt x="91" y="85"/>
                  </a:lnTo>
                  <a:lnTo>
                    <a:pt x="86" y="82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211480" y="324720"/>
              <a:ext cx="102240" cy="422640"/>
            </a:xfrm>
            <a:custGeom>
              <a:avLst/>
              <a:gdLst/>
              <a:ahLst/>
              <a:rect l="l" t="t" r="r" b="b"/>
              <a:pathLst>
                <a:path w="207" h="857">
                  <a:moveTo>
                    <a:pt x="0" y="0"/>
                  </a:moveTo>
                  <a:lnTo>
                    <a:pt x="0" y="2"/>
                  </a:lnTo>
                  <a:lnTo>
                    <a:pt x="4" y="6"/>
                  </a:lnTo>
                  <a:lnTo>
                    <a:pt x="9" y="15"/>
                  </a:lnTo>
                  <a:lnTo>
                    <a:pt x="17" y="27"/>
                  </a:lnTo>
                  <a:lnTo>
                    <a:pt x="19" y="33"/>
                  </a:lnTo>
                  <a:lnTo>
                    <a:pt x="23" y="40"/>
                  </a:lnTo>
                  <a:lnTo>
                    <a:pt x="28" y="50"/>
                  </a:lnTo>
                  <a:lnTo>
                    <a:pt x="34" y="59"/>
                  </a:lnTo>
                  <a:lnTo>
                    <a:pt x="38" y="69"/>
                  </a:lnTo>
                  <a:lnTo>
                    <a:pt x="44" y="80"/>
                  </a:lnTo>
                  <a:lnTo>
                    <a:pt x="51" y="91"/>
                  </a:lnTo>
                  <a:lnTo>
                    <a:pt x="57" y="103"/>
                  </a:lnTo>
                  <a:lnTo>
                    <a:pt x="63" y="114"/>
                  </a:lnTo>
                  <a:lnTo>
                    <a:pt x="68" y="128"/>
                  </a:lnTo>
                  <a:lnTo>
                    <a:pt x="70" y="133"/>
                  </a:lnTo>
                  <a:lnTo>
                    <a:pt x="74" y="139"/>
                  </a:lnTo>
                  <a:lnTo>
                    <a:pt x="78" y="147"/>
                  </a:lnTo>
                  <a:lnTo>
                    <a:pt x="82" y="154"/>
                  </a:lnTo>
                  <a:lnTo>
                    <a:pt x="84" y="162"/>
                  </a:lnTo>
                  <a:lnTo>
                    <a:pt x="87" y="169"/>
                  </a:lnTo>
                  <a:lnTo>
                    <a:pt x="91" y="177"/>
                  </a:lnTo>
                  <a:lnTo>
                    <a:pt x="95" y="185"/>
                  </a:lnTo>
                  <a:lnTo>
                    <a:pt x="99" y="190"/>
                  </a:lnTo>
                  <a:lnTo>
                    <a:pt x="103" y="198"/>
                  </a:lnTo>
                  <a:lnTo>
                    <a:pt x="106" y="207"/>
                  </a:lnTo>
                  <a:lnTo>
                    <a:pt x="110" y="215"/>
                  </a:lnTo>
                  <a:lnTo>
                    <a:pt x="112" y="223"/>
                  </a:lnTo>
                  <a:lnTo>
                    <a:pt x="116" y="230"/>
                  </a:lnTo>
                  <a:lnTo>
                    <a:pt x="120" y="240"/>
                  </a:lnTo>
                  <a:lnTo>
                    <a:pt x="124" y="247"/>
                  </a:lnTo>
                  <a:lnTo>
                    <a:pt x="125" y="257"/>
                  </a:lnTo>
                  <a:lnTo>
                    <a:pt x="129" y="264"/>
                  </a:lnTo>
                  <a:lnTo>
                    <a:pt x="133" y="274"/>
                  </a:lnTo>
                  <a:lnTo>
                    <a:pt x="137" y="283"/>
                  </a:lnTo>
                  <a:lnTo>
                    <a:pt x="139" y="291"/>
                  </a:lnTo>
                  <a:lnTo>
                    <a:pt x="143" y="301"/>
                  </a:lnTo>
                  <a:lnTo>
                    <a:pt x="146" y="308"/>
                  </a:lnTo>
                  <a:lnTo>
                    <a:pt x="150" y="318"/>
                  </a:lnTo>
                  <a:lnTo>
                    <a:pt x="152" y="327"/>
                  </a:lnTo>
                  <a:lnTo>
                    <a:pt x="156" y="337"/>
                  </a:lnTo>
                  <a:lnTo>
                    <a:pt x="160" y="346"/>
                  </a:lnTo>
                  <a:lnTo>
                    <a:pt x="163" y="356"/>
                  </a:lnTo>
                  <a:lnTo>
                    <a:pt x="163" y="363"/>
                  </a:lnTo>
                  <a:lnTo>
                    <a:pt x="167" y="369"/>
                  </a:lnTo>
                  <a:lnTo>
                    <a:pt x="167" y="377"/>
                  </a:lnTo>
                  <a:lnTo>
                    <a:pt x="171" y="384"/>
                  </a:lnTo>
                  <a:lnTo>
                    <a:pt x="171" y="392"/>
                  </a:lnTo>
                  <a:lnTo>
                    <a:pt x="173" y="399"/>
                  </a:lnTo>
                  <a:lnTo>
                    <a:pt x="175" y="407"/>
                  </a:lnTo>
                  <a:lnTo>
                    <a:pt x="177" y="415"/>
                  </a:lnTo>
                  <a:lnTo>
                    <a:pt x="179" y="422"/>
                  </a:lnTo>
                  <a:lnTo>
                    <a:pt x="181" y="430"/>
                  </a:lnTo>
                  <a:lnTo>
                    <a:pt x="182" y="437"/>
                  </a:lnTo>
                  <a:lnTo>
                    <a:pt x="184" y="445"/>
                  </a:lnTo>
                  <a:lnTo>
                    <a:pt x="186" y="453"/>
                  </a:lnTo>
                  <a:lnTo>
                    <a:pt x="188" y="462"/>
                  </a:lnTo>
                  <a:lnTo>
                    <a:pt x="190" y="470"/>
                  </a:lnTo>
                  <a:lnTo>
                    <a:pt x="192" y="479"/>
                  </a:lnTo>
                  <a:lnTo>
                    <a:pt x="192" y="487"/>
                  </a:lnTo>
                  <a:lnTo>
                    <a:pt x="194" y="492"/>
                  </a:lnTo>
                  <a:lnTo>
                    <a:pt x="194" y="500"/>
                  </a:lnTo>
                  <a:lnTo>
                    <a:pt x="196" y="510"/>
                  </a:lnTo>
                  <a:lnTo>
                    <a:pt x="198" y="517"/>
                  </a:lnTo>
                  <a:lnTo>
                    <a:pt x="198" y="525"/>
                  </a:lnTo>
                  <a:lnTo>
                    <a:pt x="200" y="534"/>
                  </a:lnTo>
                  <a:lnTo>
                    <a:pt x="201" y="542"/>
                  </a:lnTo>
                  <a:lnTo>
                    <a:pt x="201" y="549"/>
                  </a:lnTo>
                  <a:lnTo>
                    <a:pt x="201" y="559"/>
                  </a:lnTo>
                  <a:lnTo>
                    <a:pt x="201" y="567"/>
                  </a:lnTo>
                  <a:lnTo>
                    <a:pt x="203" y="576"/>
                  </a:lnTo>
                  <a:lnTo>
                    <a:pt x="203" y="582"/>
                  </a:lnTo>
                  <a:lnTo>
                    <a:pt x="205" y="591"/>
                  </a:lnTo>
                  <a:lnTo>
                    <a:pt x="205" y="599"/>
                  </a:lnTo>
                  <a:lnTo>
                    <a:pt x="207" y="608"/>
                  </a:lnTo>
                  <a:lnTo>
                    <a:pt x="205" y="616"/>
                  </a:lnTo>
                  <a:lnTo>
                    <a:pt x="205" y="624"/>
                  </a:lnTo>
                  <a:lnTo>
                    <a:pt x="205" y="631"/>
                  </a:lnTo>
                  <a:lnTo>
                    <a:pt x="205" y="641"/>
                  </a:lnTo>
                  <a:lnTo>
                    <a:pt x="205" y="648"/>
                  </a:lnTo>
                  <a:lnTo>
                    <a:pt x="205" y="654"/>
                  </a:lnTo>
                  <a:lnTo>
                    <a:pt x="205" y="664"/>
                  </a:lnTo>
                  <a:lnTo>
                    <a:pt x="205" y="671"/>
                  </a:lnTo>
                  <a:lnTo>
                    <a:pt x="205" y="679"/>
                  </a:lnTo>
                  <a:lnTo>
                    <a:pt x="205" y="688"/>
                  </a:lnTo>
                  <a:lnTo>
                    <a:pt x="203" y="696"/>
                  </a:lnTo>
                  <a:lnTo>
                    <a:pt x="203" y="703"/>
                  </a:lnTo>
                  <a:lnTo>
                    <a:pt x="201" y="711"/>
                  </a:lnTo>
                  <a:lnTo>
                    <a:pt x="201" y="721"/>
                  </a:lnTo>
                  <a:lnTo>
                    <a:pt x="201" y="728"/>
                  </a:lnTo>
                  <a:lnTo>
                    <a:pt x="201" y="738"/>
                  </a:lnTo>
                  <a:lnTo>
                    <a:pt x="198" y="743"/>
                  </a:lnTo>
                  <a:lnTo>
                    <a:pt x="198" y="751"/>
                  </a:lnTo>
                  <a:lnTo>
                    <a:pt x="196" y="759"/>
                  </a:lnTo>
                  <a:lnTo>
                    <a:pt x="196" y="768"/>
                  </a:lnTo>
                  <a:lnTo>
                    <a:pt x="194" y="776"/>
                  </a:lnTo>
                  <a:lnTo>
                    <a:pt x="192" y="781"/>
                  </a:lnTo>
                  <a:lnTo>
                    <a:pt x="190" y="789"/>
                  </a:lnTo>
                  <a:lnTo>
                    <a:pt x="190" y="798"/>
                  </a:lnTo>
                  <a:lnTo>
                    <a:pt x="186" y="806"/>
                  </a:lnTo>
                  <a:lnTo>
                    <a:pt x="184" y="814"/>
                  </a:lnTo>
                  <a:lnTo>
                    <a:pt x="182" y="819"/>
                  </a:lnTo>
                  <a:lnTo>
                    <a:pt x="181" y="827"/>
                  </a:lnTo>
                  <a:lnTo>
                    <a:pt x="177" y="835"/>
                  </a:lnTo>
                  <a:lnTo>
                    <a:pt x="177" y="842"/>
                  </a:lnTo>
                  <a:lnTo>
                    <a:pt x="173" y="850"/>
                  </a:lnTo>
                  <a:lnTo>
                    <a:pt x="171" y="857"/>
                  </a:lnTo>
                  <a:lnTo>
                    <a:pt x="122" y="831"/>
                  </a:lnTo>
                  <a:lnTo>
                    <a:pt x="122" y="829"/>
                  </a:lnTo>
                  <a:lnTo>
                    <a:pt x="124" y="823"/>
                  </a:lnTo>
                  <a:lnTo>
                    <a:pt x="125" y="814"/>
                  </a:lnTo>
                  <a:lnTo>
                    <a:pt x="131" y="802"/>
                  </a:lnTo>
                  <a:lnTo>
                    <a:pt x="133" y="797"/>
                  </a:lnTo>
                  <a:lnTo>
                    <a:pt x="135" y="789"/>
                  </a:lnTo>
                  <a:lnTo>
                    <a:pt x="137" y="778"/>
                  </a:lnTo>
                  <a:lnTo>
                    <a:pt x="139" y="770"/>
                  </a:lnTo>
                  <a:lnTo>
                    <a:pt x="141" y="759"/>
                  </a:lnTo>
                  <a:lnTo>
                    <a:pt x="143" y="747"/>
                  </a:lnTo>
                  <a:lnTo>
                    <a:pt x="146" y="738"/>
                  </a:lnTo>
                  <a:lnTo>
                    <a:pt x="150" y="726"/>
                  </a:lnTo>
                  <a:lnTo>
                    <a:pt x="150" y="719"/>
                  </a:lnTo>
                  <a:lnTo>
                    <a:pt x="150" y="713"/>
                  </a:lnTo>
                  <a:lnTo>
                    <a:pt x="150" y="705"/>
                  </a:lnTo>
                  <a:lnTo>
                    <a:pt x="152" y="700"/>
                  </a:lnTo>
                  <a:lnTo>
                    <a:pt x="152" y="692"/>
                  </a:lnTo>
                  <a:lnTo>
                    <a:pt x="154" y="684"/>
                  </a:lnTo>
                  <a:lnTo>
                    <a:pt x="154" y="677"/>
                  </a:lnTo>
                  <a:lnTo>
                    <a:pt x="154" y="671"/>
                  </a:lnTo>
                  <a:lnTo>
                    <a:pt x="154" y="662"/>
                  </a:lnTo>
                  <a:lnTo>
                    <a:pt x="154" y="654"/>
                  </a:lnTo>
                  <a:lnTo>
                    <a:pt x="154" y="646"/>
                  </a:lnTo>
                  <a:lnTo>
                    <a:pt x="154" y="639"/>
                  </a:lnTo>
                  <a:lnTo>
                    <a:pt x="154" y="631"/>
                  </a:lnTo>
                  <a:lnTo>
                    <a:pt x="154" y="622"/>
                  </a:lnTo>
                  <a:lnTo>
                    <a:pt x="154" y="614"/>
                  </a:lnTo>
                  <a:lnTo>
                    <a:pt x="156" y="606"/>
                  </a:lnTo>
                  <a:lnTo>
                    <a:pt x="154" y="597"/>
                  </a:lnTo>
                  <a:lnTo>
                    <a:pt x="154" y="587"/>
                  </a:lnTo>
                  <a:lnTo>
                    <a:pt x="154" y="578"/>
                  </a:lnTo>
                  <a:lnTo>
                    <a:pt x="154" y="568"/>
                  </a:lnTo>
                  <a:lnTo>
                    <a:pt x="152" y="559"/>
                  </a:lnTo>
                  <a:lnTo>
                    <a:pt x="150" y="551"/>
                  </a:lnTo>
                  <a:lnTo>
                    <a:pt x="150" y="542"/>
                  </a:lnTo>
                  <a:lnTo>
                    <a:pt x="150" y="532"/>
                  </a:lnTo>
                  <a:lnTo>
                    <a:pt x="146" y="521"/>
                  </a:lnTo>
                  <a:lnTo>
                    <a:pt x="146" y="511"/>
                  </a:lnTo>
                  <a:lnTo>
                    <a:pt x="143" y="502"/>
                  </a:lnTo>
                  <a:lnTo>
                    <a:pt x="143" y="492"/>
                  </a:lnTo>
                  <a:lnTo>
                    <a:pt x="139" y="481"/>
                  </a:lnTo>
                  <a:lnTo>
                    <a:pt x="139" y="472"/>
                  </a:lnTo>
                  <a:lnTo>
                    <a:pt x="137" y="462"/>
                  </a:lnTo>
                  <a:lnTo>
                    <a:pt x="135" y="453"/>
                  </a:lnTo>
                  <a:lnTo>
                    <a:pt x="131" y="439"/>
                  </a:lnTo>
                  <a:lnTo>
                    <a:pt x="127" y="428"/>
                  </a:lnTo>
                  <a:lnTo>
                    <a:pt x="124" y="416"/>
                  </a:lnTo>
                  <a:lnTo>
                    <a:pt x="122" y="407"/>
                  </a:lnTo>
                  <a:lnTo>
                    <a:pt x="118" y="396"/>
                  </a:lnTo>
                  <a:lnTo>
                    <a:pt x="116" y="384"/>
                  </a:lnTo>
                  <a:lnTo>
                    <a:pt x="112" y="375"/>
                  </a:lnTo>
                  <a:lnTo>
                    <a:pt x="110" y="367"/>
                  </a:lnTo>
                  <a:lnTo>
                    <a:pt x="106" y="356"/>
                  </a:lnTo>
                  <a:lnTo>
                    <a:pt x="103" y="346"/>
                  </a:lnTo>
                  <a:lnTo>
                    <a:pt x="99" y="335"/>
                  </a:lnTo>
                  <a:lnTo>
                    <a:pt x="97" y="329"/>
                  </a:lnTo>
                  <a:lnTo>
                    <a:pt x="93" y="318"/>
                  </a:lnTo>
                  <a:lnTo>
                    <a:pt x="91" y="310"/>
                  </a:lnTo>
                  <a:lnTo>
                    <a:pt x="87" y="302"/>
                  </a:lnTo>
                  <a:lnTo>
                    <a:pt x="85" y="295"/>
                  </a:lnTo>
                  <a:lnTo>
                    <a:pt x="82" y="287"/>
                  </a:lnTo>
                  <a:lnTo>
                    <a:pt x="78" y="280"/>
                  </a:lnTo>
                  <a:lnTo>
                    <a:pt x="76" y="272"/>
                  </a:lnTo>
                  <a:lnTo>
                    <a:pt x="74" y="264"/>
                  </a:lnTo>
                  <a:lnTo>
                    <a:pt x="68" y="251"/>
                  </a:lnTo>
                  <a:lnTo>
                    <a:pt x="63" y="240"/>
                  </a:lnTo>
                  <a:lnTo>
                    <a:pt x="57" y="226"/>
                  </a:lnTo>
                  <a:lnTo>
                    <a:pt x="51" y="215"/>
                  </a:lnTo>
                  <a:lnTo>
                    <a:pt x="47" y="206"/>
                  </a:lnTo>
                  <a:lnTo>
                    <a:pt x="44" y="198"/>
                  </a:lnTo>
                  <a:lnTo>
                    <a:pt x="36" y="188"/>
                  </a:lnTo>
                  <a:lnTo>
                    <a:pt x="32" y="179"/>
                  </a:lnTo>
                  <a:lnTo>
                    <a:pt x="28" y="171"/>
                  </a:lnTo>
                  <a:lnTo>
                    <a:pt x="25" y="166"/>
                  </a:lnTo>
                  <a:lnTo>
                    <a:pt x="17" y="152"/>
                  </a:lnTo>
                  <a:lnTo>
                    <a:pt x="11" y="147"/>
                  </a:lnTo>
                  <a:lnTo>
                    <a:pt x="6" y="137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175120" y="665640"/>
              <a:ext cx="198720" cy="199080"/>
            </a:xfrm>
            <a:custGeom>
              <a:avLst/>
              <a:gdLst/>
              <a:ahLst/>
              <a:rect l="l" t="t" r="r" b="b"/>
              <a:pathLst>
                <a:path w="403" h="405">
                  <a:moveTo>
                    <a:pt x="293" y="86"/>
                  </a:moveTo>
                  <a:lnTo>
                    <a:pt x="295" y="87"/>
                  </a:lnTo>
                  <a:lnTo>
                    <a:pt x="304" y="97"/>
                  </a:lnTo>
                  <a:lnTo>
                    <a:pt x="308" y="101"/>
                  </a:lnTo>
                  <a:lnTo>
                    <a:pt x="316" y="110"/>
                  </a:lnTo>
                  <a:lnTo>
                    <a:pt x="323" y="118"/>
                  </a:lnTo>
                  <a:lnTo>
                    <a:pt x="329" y="127"/>
                  </a:lnTo>
                  <a:lnTo>
                    <a:pt x="337" y="139"/>
                  </a:lnTo>
                  <a:lnTo>
                    <a:pt x="342" y="148"/>
                  </a:lnTo>
                  <a:lnTo>
                    <a:pt x="346" y="160"/>
                  </a:lnTo>
                  <a:lnTo>
                    <a:pt x="352" y="173"/>
                  </a:lnTo>
                  <a:lnTo>
                    <a:pt x="354" y="186"/>
                  </a:lnTo>
                  <a:lnTo>
                    <a:pt x="354" y="200"/>
                  </a:lnTo>
                  <a:lnTo>
                    <a:pt x="354" y="205"/>
                  </a:lnTo>
                  <a:lnTo>
                    <a:pt x="354" y="211"/>
                  </a:lnTo>
                  <a:lnTo>
                    <a:pt x="352" y="219"/>
                  </a:lnTo>
                  <a:lnTo>
                    <a:pt x="352" y="226"/>
                  </a:lnTo>
                  <a:lnTo>
                    <a:pt x="346" y="238"/>
                  </a:lnTo>
                  <a:lnTo>
                    <a:pt x="341" y="249"/>
                  </a:lnTo>
                  <a:lnTo>
                    <a:pt x="333" y="260"/>
                  </a:lnTo>
                  <a:lnTo>
                    <a:pt x="327" y="272"/>
                  </a:lnTo>
                  <a:lnTo>
                    <a:pt x="318" y="281"/>
                  </a:lnTo>
                  <a:lnTo>
                    <a:pt x="308" y="293"/>
                  </a:lnTo>
                  <a:lnTo>
                    <a:pt x="303" y="296"/>
                  </a:lnTo>
                  <a:lnTo>
                    <a:pt x="295" y="300"/>
                  </a:lnTo>
                  <a:lnTo>
                    <a:pt x="289" y="306"/>
                  </a:lnTo>
                  <a:lnTo>
                    <a:pt x="282" y="310"/>
                  </a:lnTo>
                  <a:lnTo>
                    <a:pt x="274" y="314"/>
                  </a:lnTo>
                  <a:lnTo>
                    <a:pt x="266" y="315"/>
                  </a:lnTo>
                  <a:lnTo>
                    <a:pt x="257" y="319"/>
                  </a:lnTo>
                  <a:lnTo>
                    <a:pt x="247" y="323"/>
                  </a:lnTo>
                  <a:lnTo>
                    <a:pt x="238" y="327"/>
                  </a:lnTo>
                  <a:lnTo>
                    <a:pt x="228" y="331"/>
                  </a:lnTo>
                  <a:lnTo>
                    <a:pt x="217" y="333"/>
                  </a:lnTo>
                  <a:lnTo>
                    <a:pt x="206" y="336"/>
                  </a:lnTo>
                  <a:lnTo>
                    <a:pt x="192" y="336"/>
                  </a:lnTo>
                  <a:lnTo>
                    <a:pt x="181" y="340"/>
                  </a:lnTo>
                  <a:lnTo>
                    <a:pt x="168" y="340"/>
                  </a:lnTo>
                  <a:lnTo>
                    <a:pt x="156" y="344"/>
                  </a:lnTo>
                  <a:lnTo>
                    <a:pt x="149" y="344"/>
                  </a:lnTo>
                  <a:lnTo>
                    <a:pt x="141" y="344"/>
                  </a:lnTo>
                  <a:lnTo>
                    <a:pt x="133" y="346"/>
                  </a:lnTo>
                  <a:lnTo>
                    <a:pt x="126" y="348"/>
                  </a:lnTo>
                  <a:lnTo>
                    <a:pt x="118" y="348"/>
                  </a:lnTo>
                  <a:lnTo>
                    <a:pt x="111" y="348"/>
                  </a:lnTo>
                  <a:lnTo>
                    <a:pt x="101" y="350"/>
                  </a:lnTo>
                  <a:lnTo>
                    <a:pt x="93" y="352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8" y="405"/>
                  </a:lnTo>
                  <a:lnTo>
                    <a:pt x="12" y="405"/>
                  </a:lnTo>
                  <a:lnTo>
                    <a:pt x="16" y="405"/>
                  </a:lnTo>
                  <a:lnTo>
                    <a:pt x="21" y="405"/>
                  </a:lnTo>
                  <a:lnTo>
                    <a:pt x="29" y="405"/>
                  </a:lnTo>
                  <a:lnTo>
                    <a:pt x="36" y="405"/>
                  </a:lnTo>
                  <a:lnTo>
                    <a:pt x="42" y="405"/>
                  </a:lnTo>
                  <a:lnTo>
                    <a:pt x="52" y="405"/>
                  </a:lnTo>
                  <a:lnTo>
                    <a:pt x="61" y="405"/>
                  </a:lnTo>
                  <a:lnTo>
                    <a:pt x="71" y="405"/>
                  </a:lnTo>
                  <a:lnTo>
                    <a:pt x="80" y="405"/>
                  </a:lnTo>
                  <a:lnTo>
                    <a:pt x="92" y="405"/>
                  </a:lnTo>
                  <a:lnTo>
                    <a:pt x="103" y="405"/>
                  </a:lnTo>
                  <a:lnTo>
                    <a:pt x="114" y="403"/>
                  </a:lnTo>
                  <a:lnTo>
                    <a:pt x="126" y="403"/>
                  </a:lnTo>
                  <a:lnTo>
                    <a:pt x="137" y="399"/>
                  </a:lnTo>
                  <a:lnTo>
                    <a:pt x="149" y="399"/>
                  </a:lnTo>
                  <a:lnTo>
                    <a:pt x="160" y="397"/>
                  </a:lnTo>
                  <a:lnTo>
                    <a:pt x="173" y="395"/>
                  </a:lnTo>
                  <a:lnTo>
                    <a:pt x="185" y="393"/>
                  </a:lnTo>
                  <a:lnTo>
                    <a:pt x="198" y="392"/>
                  </a:lnTo>
                  <a:lnTo>
                    <a:pt x="209" y="388"/>
                  </a:lnTo>
                  <a:lnTo>
                    <a:pt x="223" y="386"/>
                  </a:lnTo>
                  <a:lnTo>
                    <a:pt x="234" y="382"/>
                  </a:lnTo>
                  <a:lnTo>
                    <a:pt x="247" y="380"/>
                  </a:lnTo>
                  <a:lnTo>
                    <a:pt x="259" y="374"/>
                  </a:lnTo>
                  <a:lnTo>
                    <a:pt x="270" y="371"/>
                  </a:lnTo>
                  <a:lnTo>
                    <a:pt x="282" y="369"/>
                  </a:lnTo>
                  <a:lnTo>
                    <a:pt x="293" y="365"/>
                  </a:lnTo>
                  <a:lnTo>
                    <a:pt x="303" y="357"/>
                  </a:lnTo>
                  <a:lnTo>
                    <a:pt x="312" y="354"/>
                  </a:lnTo>
                  <a:lnTo>
                    <a:pt x="320" y="348"/>
                  </a:lnTo>
                  <a:lnTo>
                    <a:pt x="329" y="342"/>
                  </a:lnTo>
                  <a:lnTo>
                    <a:pt x="337" y="334"/>
                  </a:lnTo>
                  <a:lnTo>
                    <a:pt x="344" y="331"/>
                  </a:lnTo>
                  <a:lnTo>
                    <a:pt x="350" y="323"/>
                  </a:lnTo>
                  <a:lnTo>
                    <a:pt x="358" y="317"/>
                  </a:lnTo>
                  <a:lnTo>
                    <a:pt x="367" y="304"/>
                  </a:lnTo>
                  <a:lnTo>
                    <a:pt x="379" y="293"/>
                  </a:lnTo>
                  <a:lnTo>
                    <a:pt x="384" y="279"/>
                  </a:lnTo>
                  <a:lnTo>
                    <a:pt x="392" y="266"/>
                  </a:lnTo>
                  <a:lnTo>
                    <a:pt x="394" y="258"/>
                  </a:lnTo>
                  <a:lnTo>
                    <a:pt x="396" y="251"/>
                  </a:lnTo>
                  <a:lnTo>
                    <a:pt x="398" y="245"/>
                  </a:lnTo>
                  <a:lnTo>
                    <a:pt x="399" y="238"/>
                  </a:lnTo>
                  <a:lnTo>
                    <a:pt x="401" y="224"/>
                  </a:lnTo>
                  <a:lnTo>
                    <a:pt x="403" y="213"/>
                  </a:lnTo>
                  <a:lnTo>
                    <a:pt x="403" y="200"/>
                  </a:lnTo>
                  <a:lnTo>
                    <a:pt x="403" y="188"/>
                  </a:lnTo>
                  <a:lnTo>
                    <a:pt x="401" y="177"/>
                  </a:lnTo>
                  <a:lnTo>
                    <a:pt x="401" y="167"/>
                  </a:lnTo>
                  <a:lnTo>
                    <a:pt x="398" y="160"/>
                  </a:lnTo>
                  <a:lnTo>
                    <a:pt x="396" y="152"/>
                  </a:lnTo>
                  <a:lnTo>
                    <a:pt x="392" y="144"/>
                  </a:lnTo>
                  <a:lnTo>
                    <a:pt x="390" y="139"/>
                  </a:lnTo>
                  <a:lnTo>
                    <a:pt x="386" y="131"/>
                  </a:lnTo>
                  <a:lnTo>
                    <a:pt x="382" y="124"/>
                  </a:lnTo>
                  <a:lnTo>
                    <a:pt x="379" y="116"/>
                  </a:lnTo>
                  <a:lnTo>
                    <a:pt x="377" y="108"/>
                  </a:lnTo>
                  <a:lnTo>
                    <a:pt x="371" y="101"/>
                  </a:lnTo>
                  <a:lnTo>
                    <a:pt x="367" y="93"/>
                  </a:lnTo>
                  <a:lnTo>
                    <a:pt x="361" y="86"/>
                  </a:lnTo>
                  <a:lnTo>
                    <a:pt x="358" y="80"/>
                  </a:lnTo>
                  <a:lnTo>
                    <a:pt x="350" y="65"/>
                  </a:lnTo>
                  <a:lnTo>
                    <a:pt x="341" y="55"/>
                  </a:lnTo>
                  <a:lnTo>
                    <a:pt x="329" y="42"/>
                  </a:lnTo>
                  <a:lnTo>
                    <a:pt x="322" y="30"/>
                  </a:lnTo>
                  <a:lnTo>
                    <a:pt x="312" y="21"/>
                  </a:lnTo>
                  <a:lnTo>
                    <a:pt x="306" y="13"/>
                  </a:lnTo>
                  <a:lnTo>
                    <a:pt x="299" y="8"/>
                  </a:lnTo>
                  <a:lnTo>
                    <a:pt x="295" y="4"/>
                  </a:lnTo>
                  <a:lnTo>
                    <a:pt x="293" y="0"/>
                  </a:lnTo>
                  <a:lnTo>
                    <a:pt x="293" y="86"/>
                  </a:lnTo>
                  <a:lnTo>
                    <a:pt x="29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327760" y="268560"/>
              <a:ext cx="570960" cy="556560"/>
            </a:xfrm>
            <a:custGeom>
              <a:avLst/>
              <a:gdLst/>
              <a:ahLst/>
              <a:rect l="l" t="t" r="r" b="b"/>
              <a:pathLst>
                <a:path w="1159" h="1129">
                  <a:moveTo>
                    <a:pt x="821" y="0"/>
                  </a:moveTo>
                  <a:lnTo>
                    <a:pt x="812" y="0"/>
                  </a:lnTo>
                  <a:lnTo>
                    <a:pt x="800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79" y="0"/>
                  </a:lnTo>
                  <a:lnTo>
                    <a:pt x="774" y="2"/>
                  </a:lnTo>
                  <a:lnTo>
                    <a:pt x="762" y="2"/>
                  </a:lnTo>
                  <a:lnTo>
                    <a:pt x="755" y="2"/>
                  </a:lnTo>
                  <a:lnTo>
                    <a:pt x="745" y="2"/>
                  </a:lnTo>
                  <a:lnTo>
                    <a:pt x="737" y="6"/>
                  </a:lnTo>
                  <a:lnTo>
                    <a:pt x="726" y="6"/>
                  </a:lnTo>
                  <a:lnTo>
                    <a:pt x="715" y="10"/>
                  </a:lnTo>
                  <a:lnTo>
                    <a:pt x="705" y="12"/>
                  </a:lnTo>
                  <a:lnTo>
                    <a:pt x="694" y="15"/>
                  </a:lnTo>
                  <a:lnTo>
                    <a:pt x="682" y="17"/>
                  </a:lnTo>
                  <a:lnTo>
                    <a:pt x="671" y="19"/>
                  </a:lnTo>
                  <a:lnTo>
                    <a:pt x="656" y="23"/>
                  </a:lnTo>
                  <a:lnTo>
                    <a:pt x="644" y="27"/>
                  </a:lnTo>
                  <a:lnTo>
                    <a:pt x="637" y="27"/>
                  </a:lnTo>
                  <a:lnTo>
                    <a:pt x="629" y="31"/>
                  </a:lnTo>
                  <a:lnTo>
                    <a:pt x="623" y="33"/>
                  </a:lnTo>
                  <a:lnTo>
                    <a:pt x="616" y="34"/>
                  </a:lnTo>
                  <a:lnTo>
                    <a:pt x="608" y="36"/>
                  </a:lnTo>
                  <a:lnTo>
                    <a:pt x="602" y="40"/>
                  </a:lnTo>
                  <a:lnTo>
                    <a:pt x="595" y="42"/>
                  </a:lnTo>
                  <a:lnTo>
                    <a:pt x="587" y="46"/>
                  </a:lnTo>
                  <a:lnTo>
                    <a:pt x="580" y="48"/>
                  </a:lnTo>
                  <a:lnTo>
                    <a:pt x="572" y="52"/>
                  </a:lnTo>
                  <a:lnTo>
                    <a:pt x="564" y="53"/>
                  </a:lnTo>
                  <a:lnTo>
                    <a:pt x="557" y="57"/>
                  </a:lnTo>
                  <a:lnTo>
                    <a:pt x="549" y="61"/>
                  </a:lnTo>
                  <a:lnTo>
                    <a:pt x="542" y="65"/>
                  </a:lnTo>
                  <a:lnTo>
                    <a:pt x="534" y="69"/>
                  </a:lnTo>
                  <a:lnTo>
                    <a:pt x="526" y="72"/>
                  </a:lnTo>
                  <a:lnTo>
                    <a:pt x="517" y="74"/>
                  </a:lnTo>
                  <a:lnTo>
                    <a:pt x="509" y="78"/>
                  </a:lnTo>
                  <a:lnTo>
                    <a:pt x="500" y="82"/>
                  </a:lnTo>
                  <a:lnTo>
                    <a:pt x="492" y="86"/>
                  </a:lnTo>
                  <a:lnTo>
                    <a:pt x="485" y="90"/>
                  </a:lnTo>
                  <a:lnTo>
                    <a:pt x="477" y="95"/>
                  </a:lnTo>
                  <a:lnTo>
                    <a:pt x="468" y="99"/>
                  </a:lnTo>
                  <a:lnTo>
                    <a:pt x="462" y="107"/>
                  </a:lnTo>
                  <a:lnTo>
                    <a:pt x="450" y="109"/>
                  </a:lnTo>
                  <a:lnTo>
                    <a:pt x="443" y="114"/>
                  </a:lnTo>
                  <a:lnTo>
                    <a:pt x="435" y="120"/>
                  </a:lnTo>
                  <a:lnTo>
                    <a:pt x="426" y="124"/>
                  </a:lnTo>
                  <a:lnTo>
                    <a:pt x="416" y="129"/>
                  </a:lnTo>
                  <a:lnTo>
                    <a:pt x="409" y="135"/>
                  </a:lnTo>
                  <a:lnTo>
                    <a:pt x="399" y="141"/>
                  </a:lnTo>
                  <a:lnTo>
                    <a:pt x="391" y="147"/>
                  </a:lnTo>
                  <a:lnTo>
                    <a:pt x="382" y="150"/>
                  </a:lnTo>
                  <a:lnTo>
                    <a:pt x="372" y="158"/>
                  </a:lnTo>
                  <a:lnTo>
                    <a:pt x="365" y="162"/>
                  </a:lnTo>
                  <a:lnTo>
                    <a:pt x="357" y="167"/>
                  </a:lnTo>
                  <a:lnTo>
                    <a:pt x="348" y="175"/>
                  </a:lnTo>
                  <a:lnTo>
                    <a:pt x="340" y="181"/>
                  </a:lnTo>
                  <a:lnTo>
                    <a:pt x="333" y="186"/>
                  </a:lnTo>
                  <a:lnTo>
                    <a:pt x="325" y="194"/>
                  </a:lnTo>
                  <a:lnTo>
                    <a:pt x="315" y="200"/>
                  </a:lnTo>
                  <a:lnTo>
                    <a:pt x="308" y="205"/>
                  </a:lnTo>
                  <a:lnTo>
                    <a:pt x="298" y="213"/>
                  </a:lnTo>
                  <a:lnTo>
                    <a:pt x="291" y="219"/>
                  </a:lnTo>
                  <a:lnTo>
                    <a:pt x="283" y="226"/>
                  </a:lnTo>
                  <a:lnTo>
                    <a:pt x="274" y="234"/>
                  </a:lnTo>
                  <a:lnTo>
                    <a:pt x="266" y="242"/>
                  </a:lnTo>
                  <a:lnTo>
                    <a:pt x="260" y="249"/>
                  </a:lnTo>
                  <a:lnTo>
                    <a:pt x="251" y="257"/>
                  </a:lnTo>
                  <a:lnTo>
                    <a:pt x="243" y="264"/>
                  </a:lnTo>
                  <a:lnTo>
                    <a:pt x="236" y="270"/>
                  </a:lnTo>
                  <a:lnTo>
                    <a:pt x="228" y="280"/>
                  </a:lnTo>
                  <a:lnTo>
                    <a:pt x="220" y="287"/>
                  </a:lnTo>
                  <a:lnTo>
                    <a:pt x="213" y="295"/>
                  </a:lnTo>
                  <a:lnTo>
                    <a:pt x="205" y="304"/>
                  </a:lnTo>
                  <a:lnTo>
                    <a:pt x="200" y="314"/>
                  </a:lnTo>
                  <a:lnTo>
                    <a:pt x="192" y="321"/>
                  </a:lnTo>
                  <a:lnTo>
                    <a:pt x="184" y="329"/>
                  </a:lnTo>
                  <a:lnTo>
                    <a:pt x="177" y="339"/>
                  </a:lnTo>
                  <a:lnTo>
                    <a:pt x="171" y="348"/>
                  </a:lnTo>
                  <a:lnTo>
                    <a:pt x="163" y="358"/>
                  </a:lnTo>
                  <a:lnTo>
                    <a:pt x="156" y="367"/>
                  </a:lnTo>
                  <a:lnTo>
                    <a:pt x="150" y="375"/>
                  </a:lnTo>
                  <a:lnTo>
                    <a:pt x="142" y="386"/>
                  </a:lnTo>
                  <a:lnTo>
                    <a:pt x="137" y="394"/>
                  </a:lnTo>
                  <a:lnTo>
                    <a:pt x="129" y="405"/>
                  </a:lnTo>
                  <a:lnTo>
                    <a:pt x="123" y="415"/>
                  </a:lnTo>
                  <a:lnTo>
                    <a:pt x="118" y="426"/>
                  </a:lnTo>
                  <a:lnTo>
                    <a:pt x="110" y="435"/>
                  </a:lnTo>
                  <a:lnTo>
                    <a:pt x="104" y="447"/>
                  </a:lnTo>
                  <a:lnTo>
                    <a:pt x="99" y="456"/>
                  </a:lnTo>
                  <a:lnTo>
                    <a:pt x="95" y="468"/>
                  </a:lnTo>
                  <a:lnTo>
                    <a:pt x="87" y="477"/>
                  </a:lnTo>
                  <a:lnTo>
                    <a:pt x="82" y="489"/>
                  </a:lnTo>
                  <a:lnTo>
                    <a:pt x="76" y="500"/>
                  </a:lnTo>
                  <a:lnTo>
                    <a:pt x="72" y="511"/>
                  </a:lnTo>
                  <a:lnTo>
                    <a:pt x="66" y="523"/>
                  </a:lnTo>
                  <a:lnTo>
                    <a:pt x="61" y="534"/>
                  </a:lnTo>
                  <a:lnTo>
                    <a:pt x="57" y="546"/>
                  </a:lnTo>
                  <a:lnTo>
                    <a:pt x="53" y="559"/>
                  </a:lnTo>
                  <a:lnTo>
                    <a:pt x="47" y="570"/>
                  </a:lnTo>
                  <a:lnTo>
                    <a:pt x="44" y="584"/>
                  </a:lnTo>
                  <a:lnTo>
                    <a:pt x="40" y="595"/>
                  </a:lnTo>
                  <a:lnTo>
                    <a:pt x="36" y="608"/>
                  </a:lnTo>
                  <a:lnTo>
                    <a:pt x="32" y="622"/>
                  </a:lnTo>
                  <a:lnTo>
                    <a:pt x="28" y="635"/>
                  </a:lnTo>
                  <a:lnTo>
                    <a:pt x="25" y="648"/>
                  </a:lnTo>
                  <a:lnTo>
                    <a:pt x="23" y="662"/>
                  </a:lnTo>
                  <a:lnTo>
                    <a:pt x="19" y="675"/>
                  </a:lnTo>
                  <a:lnTo>
                    <a:pt x="15" y="688"/>
                  </a:lnTo>
                  <a:lnTo>
                    <a:pt x="11" y="700"/>
                  </a:lnTo>
                  <a:lnTo>
                    <a:pt x="9" y="713"/>
                  </a:lnTo>
                  <a:lnTo>
                    <a:pt x="6" y="724"/>
                  </a:lnTo>
                  <a:lnTo>
                    <a:pt x="6" y="738"/>
                  </a:lnTo>
                  <a:lnTo>
                    <a:pt x="2" y="749"/>
                  </a:lnTo>
                  <a:lnTo>
                    <a:pt x="2" y="762"/>
                  </a:lnTo>
                  <a:lnTo>
                    <a:pt x="0" y="774"/>
                  </a:lnTo>
                  <a:lnTo>
                    <a:pt x="0" y="785"/>
                  </a:lnTo>
                  <a:lnTo>
                    <a:pt x="0" y="797"/>
                  </a:lnTo>
                  <a:lnTo>
                    <a:pt x="0" y="808"/>
                  </a:lnTo>
                  <a:lnTo>
                    <a:pt x="0" y="817"/>
                  </a:lnTo>
                  <a:lnTo>
                    <a:pt x="0" y="829"/>
                  </a:lnTo>
                  <a:lnTo>
                    <a:pt x="0" y="840"/>
                  </a:lnTo>
                  <a:lnTo>
                    <a:pt x="2" y="852"/>
                  </a:lnTo>
                  <a:lnTo>
                    <a:pt x="2" y="859"/>
                  </a:lnTo>
                  <a:lnTo>
                    <a:pt x="2" y="871"/>
                  </a:lnTo>
                  <a:lnTo>
                    <a:pt x="2" y="878"/>
                  </a:lnTo>
                  <a:lnTo>
                    <a:pt x="6" y="890"/>
                  </a:lnTo>
                  <a:lnTo>
                    <a:pt x="6" y="899"/>
                  </a:lnTo>
                  <a:lnTo>
                    <a:pt x="9" y="907"/>
                  </a:lnTo>
                  <a:lnTo>
                    <a:pt x="9" y="916"/>
                  </a:lnTo>
                  <a:lnTo>
                    <a:pt x="13" y="926"/>
                  </a:lnTo>
                  <a:lnTo>
                    <a:pt x="15" y="933"/>
                  </a:lnTo>
                  <a:lnTo>
                    <a:pt x="17" y="941"/>
                  </a:lnTo>
                  <a:lnTo>
                    <a:pt x="19" y="950"/>
                  </a:lnTo>
                  <a:lnTo>
                    <a:pt x="23" y="958"/>
                  </a:lnTo>
                  <a:lnTo>
                    <a:pt x="27" y="966"/>
                  </a:lnTo>
                  <a:lnTo>
                    <a:pt x="30" y="973"/>
                  </a:lnTo>
                  <a:lnTo>
                    <a:pt x="34" y="981"/>
                  </a:lnTo>
                  <a:lnTo>
                    <a:pt x="38" y="988"/>
                  </a:lnTo>
                  <a:lnTo>
                    <a:pt x="44" y="1002"/>
                  </a:lnTo>
                  <a:lnTo>
                    <a:pt x="51" y="1015"/>
                  </a:lnTo>
                  <a:lnTo>
                    <a:pt x="59" y="1026"/>
                  </a:lnTo>
                  <a:lnTo>
                    <a:pt x="68" y="1038"/>
                  </a:lnTo>
                  <a:lnTo>
                    <a:pt x="74" y="1047"/>
                  </a:lnTo>
                  <a:lnTo>
                    <a:pt x="84" y="1057"/>
                  </a:lnTo>
                  <a:lnTo>
                    <a:pt x="91" y="1066"/>
                  </a:lnTo>
                  <a:lnTo>
                    <a:pt x="103" y="1076"/>
                  </a:lnTo>
                  <a:lnTo>
                    <a:pt x="110" y="1082"/>
                  </a:lnTo>
                  <a:lnTo>
                    <a:pt x="120" y="1089"/>
                  </a:lnTo>
                  <a:lnTo>
                    <a:pt x="127" y="1095"/>
                  </a:lnTo>
                  <a:lnTo>
                    <a:pt x="137" y="1101"/>
                  </a:lnTo>
                  <a:lnTo>
                    <a:pt x="146" y="1104"/>
                  </a:lnTo>
                  <a:lnTo>
                    <a:pt x="154" y="1108"/>
                  </a:lnTo>
                  <a:lnTo>
                    <a:pt x="163" y="1110"/>
                  </a:lnTo>
                  <a:lnTo>
                    <a:pt x="171" y="1114"/>
                  </a:lnTo>
                  <a:lnTo>
                    <a:pt x="179" y="1114"/>
                  </a:lnTo>
                  <a:lnTo>
                    <a:pt x="188" y="1116"/>
                  </a:lnTo>
                  <a:lnTo>
                    <a:pt x="196" y="1118"/>
                  </a:lnTo>
                  <a:lnTo>
                    <a:pt x="207" y="1120"/>
                  </a:lnTo>
                  <a:lnTo>
                    <a:pt x="219" y="1121"/>
                  </a:lnTo>
                  <a:lnTo>
                    <a:pt x="230" y="1123"/>
                  </a:lnTo>
                  <a:lnTo>
                    <a:pt x="236" y="1123"/>
                  </a:lnTo>
                  <a:lnTo>
                    <a:pt x="243" y="1125"/>
                  </a:lnTo>
                  <a:lnTo>
                    <a:pt x="249" y="1125"/>
                  </a:lnTo>
                  <a:lnTo>
                    <a:pt x="257" y="1127"/>
                  </a:lnTo>
                  <a:lnTo>
                    <a:pt x="262" y="1127"/>
                  </a:lnTo>
                  <a:lnTo>
                    <a:pt x="270" y="1127"/>
                  </a:lnTo>
                  <a:lnTo>
                    <a:pt x="277" y="1127"/>
                  </a:lnTo>
                  <a:lnTo>
                    <a:pt x="285" y="1127"/>
                  </a:lnTo>
                  <a:lnTo>
                    <a:pt x="293" y="1127"/>
                  </a:lnTo>
                  <a:lnTo>
                    <a:pt x="300" y="1127"/>
                  </a:lnTo>
                  <a:lnTo>
                    <a:pt x="310" y="1127"/>
                  </a:lnTo>
                  <a:lnTo>
                    <a:pt x="317" y="1129"/>
                  </a:lnTo>
                  <a:lnTo>
                    <a:pt x="325" y="1127"/>
                  </a:lnTo>
                  <a:lnTo>
                    <a:pt x="334" y="1127"/>
                  </a:lnTo>
                  <a:lnTo>
                    <a:pt x="342" y="1127"/>
                  </a:lnTo>
                  <a:lnTo>
                    <a:pt x="352" y="1127"/>
                  </a:lnTo>
                  <a:lnTo>
                    <a:pt x="361" y="1125"/>
                  </a:lnTo>
                  <a:lnTo>
                    <a:pt x="371" y="1125"/>
                  </a:lnTo>
                  <a:lnTo>
                    <a:pt x="380" y="1125"/>
                  </a:lnTo>
                  <a:lnTo>
                    <a:pt x="390" y="1125"/>
                  </a:lnTo>
                  <a:lnTo>
                    <a:pt x="399" y="1123"/>
                  </a:lnTo>
                  <a:lnTo>
                    <a:pt x="409" y="1121"/>
                  </a:lnTo>
                  <a:lnTo>
                    <a:pt x="416" y="1121"/>
                  </a:lnTo>
                  <a:lnTo>
                    <a:pt x="428" y="1120"/>
                  </a:lnTo>
                  <a:lnTo>
                    <a:pt x="437" y="1118"/>
                  </a:lnTo>
                  <a:lnTo>
                    <a:pt x="449" y="1116"/>
                  </a:lnTo>
                  <a:lnTo>
                    <a:pt x="458" y="1112"/>
                  </a:lnTo>
                  <a:lnTo>
                    <a:pt x="469" y="1112"/>
                  </a:lnTo>
                  <a:lnTo>
                    <a:pt x="479" y="1108"/>
                  </a:lnTo>
                  <a:lnTo>
                    <a:pt x="490" y="1104"/>
                  </a:lnTo>
                  <a:lnTo>
                    <a:pt x="502" y="1102"/>
                  </a:lnTo>
                  <a:lnTo>
                    <a:pt x="513" y="1101"/>
                  </a:lnTo>
                  <a:lnTo>
                    <a:pt x="523" y="1097"/>
                  </a:lnTo>
                  <a:lnTo>
                    <a:pt x="534" y="1093"/>
                  </a:lnTo>
                  <a:lnTo>
                    <a:pt x="545" y="1089"/>
                  </a:lnTo>
                  <a:lnTo>
                    <a:pt x="557" y="1087"/>
                  </a:lnTo>
                  <a:lnTo>
                    <a:pt x="568" y="1082"/>
                  </a:lnTo>
                  <a:lnTo>
                    <a:pt x="580" y="1078"/>
                  </a:lnTo>
                  <a:lnTo>
                    <a:pt x="591" y="1072"/>
                  </a:lnTo>
                  <a:lnTo>
                    <a:pt x="604" y="1068"/>
                  </a:lnTo>
                  <a:lnTo>
                    <a:pt x="616" y="1061"/>
                  </a:lnTo>
                  <a:lnTo>
                    <a:pt x="627" y="1057"/>
                  </a:lnTo>
                  <a:lnTo>
                    <a:pt x="641" y="1051"/>
                  </a:lnTo>
                  <a:lnTo>
                    <a:pt x="654" y="1045"/>
                  </a:lnTo>
                  <a:lnTo>
                    <a:pt x="663" y="1038"/>
                  </a:lnTo>
                  <a:lnTo>
                    <a:pt x="677" y="1032"/>
                  </a:lnTo>
                  <a:lnTo>
                    <a:pt x="690" y="1025"/>
                  </a:lnTo>
                  <a:lnTo>
                    <a:pt x="703" y="1019"/>
                  </a:lnTo>
                  <a:lnTo>
                    <a:pt x="715" y="1009"/>
                  </a:lnTo>
                  <a:lnTo>
                    <a:pt x="728" y="1002"/>
                  </a:lnTo>
                  <a:lnTo>
                    <a:pt x="741" y="994"/>
                  </a:lnTo>
                  <a:lnTo>
                    <a:pt x="756" y="987"/>
                  </a:lnTo>
                  <a:lnTo>
                    <a:pt x="768" y="977"/>
                  </a:lnTo>
                  <a:lnTo>
                    <a:pt x="779" y="968"/>
                  </a:lnTo>
                  <a:lnTo>
                    <a:pt x="793" y="960"/>
                  </a:lnTo>
                  <a:lnTo>
                    <a:pt x="804" y="950"/>
                  </a:lnTo>
                  <a:lnTo>
                    <a:pt x="815" y="941"/>
                  </a:lnTo>
                  <a:lnTo>
                    <a:pt x="829" y="933"/>
                  </a:lnTo>
                  <a:lnTo>
                    <a:pt x="838" y="924"/>
                  </a:lnTo>
                  <a:lnTo>
                    <a:pt x="852" y="916"/>
                  </a:lnTo>
                  <a:lnTo>
                    <a:pt x="861" y="907"/>
                  </a:lnTo>
                  <a:lnTo>
                    <a:pt x="872" y="897"/>
                  </a:lnTo>
                  <a:lnTo>
                    <a:pt x="882" y="890"/>
                  </a:lnTo>
                  <a:lnTo>
                    <a:pt x="893" y="880"/>
                  </a:lnTo>
                  <a:lnTo>
                    <a:pt x="903" y="871"/>
                  </a:lnTo>
                  <a:lnTo>
                    <a:pt x="912" y="863"/>
                  </a:lnTo>
                  <a:lnTo>
                    <a:pt x="922" y="854"/>
                  </a:lnTo>
                  <a:lnTo>
                    <a:pt x="931" y="846"/>
                  </a:lnTo>
                  <a:lnTo>
                    <a:pt x="939" y="836"/>
                  </a:lnTo>
                  <a:lnTo>
                    <a:pt x="948" y="827"/>
                  </a:lnTo>
                  <a:lnTo>
                    <a:pt x="956" y="817"/>
                  </a:lnTo>
                  <a:lnTo>
                    <a:pt x="964" y="810"/>
                  </a:lnTo>
                  <a:lnTo>
                    <a:pt x="971" y="800"/>
                  </a:lnTo>
                  <a:lnTo>
                    <a:pt x="981" y="791"/>
                  </a:lnTo>
                  <a:lnTo>
                    <a:pt x="988" y="783"/>
                  </a:lnTo>
                  <a:lnTo>
                    <a:pt x="996" y="774"/>
                  </a:lnTo>
                  <a:lnTo>
                    <a:pt x="1002" y="764"/>
                  </a:lnTo>
                  <a:lnTo>
                    <a:pt x="1009" y="755"/>
                  </a:lnTo>
                  <a:lnTo>
                    <a:pt x="1017" y="745"/>
                  </a:lnTo>
                  <a:lnTo>
                    <a:pt x="1023" y="738"/>
                  </a:lnTo>
                  <a:lnTo>
                    <a:pt x="1030" y="728"/>
                  </a:lnTo>
                  <a:lnTo>
                    <a:pt x="1036" y="720"/>
                  </a:lnTo>
                  <a:lnTo>
                    <a:pt x="1042" y="711"/>
                  </a:lnTo>
                  <a:lnTo>
                    <a:pt x="1049" y="703"/>
                  </a:lnTo>
                  <a:lnTo>
                    <a:pt x="1053" y="694"/>
                  </a:lnTo>
                  <a:lnTo>
                    <a:pt x="1059" y="684"/>
                  </a:lnTo>
                  <a:lnTo>
                    <a:pt x="1064" y="675"/>
                  </a:lnTo>
                  <a:lnTo>
                    <a:pt x="1070" y="665"/>
                  </a:lnTo>
                  <a:lnTo>
                    <a:pt x="1074" y="656"/>
                  </a:lnTo>
                  <a:lnTo>
                    <a:pt x="1080" y="648"/>
                  </a:lnTo>
                  <a:lnTo>
                    <a:pt x="1083" y="639"/>
                  </a:lnTo>
                  <a:lnTo>
                    <a:pt x="1089" y="629"/>
                  </a:lnTo>
                  <a:lnTo>
                    <a:pt x="1093" y="620"/>
                  </a:lnTo>
                  <a:lnTo>
                    <a:pt x="1097" y="610"/>
                  </a:lnTo>
                  <a:lnTo>
                    <a:pt x="1101" y="601"/>
                  </a:lnTo>
                  <a:lnTo>
                    <a:pt x="1104" y="593"/>
                  </a:lnTo>
                  <a:lnTo>
                    <a:pt x="1108" y="584"/>
                  </a:lnTo>
                  <a:lnTo>
                    <a:pt x="1112" y="574"/>
                  </a:lnTo>
                  <a:lnTo>
                    <a:pt x="1116" y="565"/>
                  </a:lnTo>
                  <a:lnTo>
                    <a:pt x="1120" y="557"/>
                  </a:lnTo>
                  <a:lnTo>
                    <a:pt x="1121" y="548"/>
                  </a:lnTo>
                  <a:lnTo>
                    <a:pt x="1125" y="538"/>
                  </a:lnTo>
                  <a:lnTo>
                    <a:pt x="1127" y="529"/>
                  </a:lnTo>
                  <a:lnTo>
                    <a:pt x="1131" y="521"/>
                  </a:lnTo>
                  <a:lnTo>
                    <a:pt x="1133" y="511"/>
                  </a:lnTo>
                  <a:lnTo>
                    <a:pt x="1137" y="502"/>
                  </a:lnTo>
                  <a:lnTo>
                    <a:pt x="1139" y="492"/>
                  </a:lnTo>
                  <a:lnTo>
                    <a:pt x="1142" y="483"/>
                  </a:lnTo>
                  <a:lnTo>
                    <a:pt x="1142" y="473"/>
                  </a:lnTo>
                  <a:lnTo>
                    <a:pt x="1146" y="466"/>
                  </a:lnTo>
                  <a:lnTo>
                    <a:pt x="1146" y="456"/>
                  </a:lnTo>
                  <a:lnTo>
                    <a:pt x="1150" y="447"/>
                  </a:lnTo>
                  <a:lnTo>
                    <a:pt x="1150" y="437"/>
                  </a:lnTo>
                  <a:lnTo>
                    <a:pt x="1154" y="430"/>
                  </a:lnTo>
                  <a:lnTo>
                    <a:pt x="1154" y="418"/>
                  </a:lnTo>
                  <a:lnTo>
                    <a:pt x="1156" y="411"/>
                  </a:lnTo>
                  <a:lnTo>
                    <a:pt x="1156" y="401"/>
                  </a:lnTo>
                  <a:lnTo>
                    <a:pt x="1158" y="394"/>
                  </a:lnTo>
                  <a:lnTo>
                    <a:pt x="1158" y="384"/>
                  </a:lnTo>
                  <a:lnTo>
                    <a:pt x="1159" y="375"/>
                  </a:lnTo>
                  <a:lnTo>
                    <a:pt x="1159" y="367"/>
                  </a:lnTo>
                  <a:lnTo>
                    <a:pt x="1159" y="358"/>
                  </a:lnTo>
                  <a:lnTo>
                    <a:pt x="1159" y="350"/>
                  </a:lnTo>
                  <a:lnTo>
                    <a:pt x="1159" y="342"/>
                  </a:lnTo>
                  <a:lnTo>
                    <a:pt x="1159" y="333"/>
                  </a:lnTo>
                  <a:lnTo>
                    <a:pt x="1159" y="325"/>
                  </a:lnTo>
                  <a:lnTo>
                    <a:pt x="1159" y="318"/>
                  </a:lnTo>
                  <a:lnTo>
                    <a:pt x="1159" y="310"/>
                  </a:lnTo>
                  <a:lnTo>
                    <a:pt x="1158" y="302"/>
                  </a:lnTo>
                  <a:lnTo>
                    <a:pt x="1158" y="295"/>
                  </a:lnTo>
                  <a:lnTo>
                    <a:pt x="1156" y="287"/>
                  </a:lnTo>
                  <a:lnTo>
                    <a:pt x="1156" y="281"/>
                  </a:lnTo>
                  <a:lnTo>
                    <a:pt x="1154" y="274"/>
                  </a:lnTo>
                  <a:lnTo>
                    <a:pt x="1154" y="266"/>
                  </a:lnTo>
                  <a:lnTo>
                    <a:pt x="1152" y="261"/>
                  </a:lnTo>
                  <a:lnTo>
                    <a:pt x="1150" y="253"/>
                  </a:lnTo>
                  <a:lnTo>
                    <a:pt x="1146" y="240"/>
                  </a:lnTo>
                  <a:lnTo>
                    <a:pt x="1144" y="230"/>
                  </a:lnTo>
                  <a:lnTo>
                    <a:pt x="1139" y="217"/>
                  </a:lnTo>
                  <a:lnTo>
                    <a:pt x="1137" y="205"/>
                  </a:lnTo>
                  <a:lnTo>
                    <a:pt x="1133" y="196"/>
                  </a:lnTo>
                  <a:lnTo>
                    <a:pt x="1129" y="185"/>
                  </a:lnTo>
                  <a:lnTo>
                    <a:pt x="1121" y="175"/>
                  </a:lnTo>
                  <a:lnTo>
                    <a:pt x="1118" y="164"/>
                  </a:lnTo>
                  <a:lnTo>
                    <a:pt x="1112" y="154"/>
                  </a:lnTo>
                  <a:lnTo>
                    <a:pt x="1106" y="147"/>
                  </a:lnTo>
                  <a:lnTo>
                    <a:pt x="1101" y="137"/>
                  </a:lnTo>
                  <a:lnTo>
                    <a:pt x="1095" y="129"/>
                  </a:lnTo>
                  <a:lnTo>
                    <a:pt x="1089" y="122"/>
                  </a:lnTo>
                  <a:lnTo>
                    <a:pt x="1083" y="114"/>
                  </a:lnTo>
                  <a:lnTo>
                    <a:pt x="1078" y="107"/>
                  </a:lnTo>
                  <a:lnTo>
                    <a:pt x="1072" y="99"/>
                  </a:lnTo>
                  <a:lnTo>
                    <a:pt x="1066" y="93"/>
                  </a:lnTo>
                  <a:lnTo>
                    <a:pt x="1061" y="90"/>
                  </a:lnTo>
                  <a:lnTo>
                    <a:pt x="1051" y="78"/>
                  </a:lnTo>
                  <a:lnTo>
                    <a:pt x="1042" y="71"/>
                  </a:lnTo>
                  <a:lnTo>
                    <a:pt x="1030" y="61"/>
                  </a:lnTo>
                  <a:lnTo>
                    <a:pt x="1019" y="53"/>
                  </a:lnTo>
                  <a:lnTo>
                    <a:pt x="1007" y="46"/>
                  </a:lnTo>
                  <a:lnTo>
                    <a:pt x="996" y="38"/>
                  </a:lnTo>
                  <a:lnTo>
                    <a:pt x="988" y="34"/>
                  </a:lnTo>
                  <a:lnTo>
                    <a:pt x="983" y="31"/>
                  </a:lnTo>
                  <a:lnTo>
                    <a:pt x="975" y="29"/>
                  </a:lnTo>
                  <a:lnTo>
                    <a:pt x="969" y="27"/>
                  </a:lnTo>
                  <a:lnTo>
                    <a:pt x="962" y="23"/>
                  </a:lnTo>
                  <a:lnTo>
                    <a:pt x="954" y="19"/>
                  </a:lnTo>
                  <a:lnTo>
                    <a:pt x="948" y="17"/>
                  </a:lnTo>
                  <a:lnTo>
                    <a:pt x="941" y="17"/>
                  </a:lnTo>
                  <a:lnTo>
                    <a:pt x="933" y="14"/>
                  </a:lnTo>
                  <a:lnTo>
                    <a:pt x="926" y="12"/>
                  </a:lnTo>
                  <a:lnTo>
                    <a:pt x="918" y="10"/>
                  </a:lnTo>
                  <a:lnTo>
                    <a:pt x="910" y="8"/>
                  </a:lnTo>
                  <a:lnTo>
                    <a:pt x="903" y="6"/>
                  </a:lnTo>
                  <a:lnTo>
                    <a:pt x="895" y="6"/>
                  </a:lnTo>
                  <a:lnTo>
                    <a:pt x="888" y="2"/>
                  </a:lnTo>
                  <a:lnTo>
                    <a:pt x="880" y="2"/>
                  </a:lnTo>
                  <a:lnTo>
                    <a:pt x="872" y="2"/>
                  </a:lnTo>
                  <a:lnTo>
                    <a:pt x="865" y="0"/>
                  </a:lnTo>
                  <a:lnTo>
                    <a:pt x="857" y="0"/>
                  </a:lnTo>
                  <a:lnTo>
                    <a:pt x="850" y="0"/>
                  </a:lnTo>
                  <a:lnTo>
                    <a:pt x="842" y="0"/>
                  </a:lnTo>
                  <a:lnTo>
                    <a:pt x="834" y="0"/>
                  </a:lnTo>
                  <a:lnTo>
                    <a:pt x="829" y="0"/>
                  </a:lnTo>
                  <a:lnTo>
                    <a:pt x="821" y="0"/>
                  </a:lnTo>
                  <a:lnTo>
                    <a:pt x="821" y="0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2286360" y="233280"/>
              <a:ext cx="653760" cy="633240"/>
            </a:xfrm>
            <a:custGeom>
              <a:avLst/>
              <a:gdLst/>
              <a:ahLst/>
              <a:rect l="l" t="t" r="r" b="b"/>
              <a:pathLst>
                <a:path w="1329" h="1287">
                  <a:moveTo>
                    <a:pt x="534" y="163"/>
                  </a:moveTo>
                  <a:lnTo>
                    <a:pt x="534" y="162"/>
                  </a:lnTo>
                  <a:lnTo>
                    <a:pt x="544" y="158"/>
                  </a:lnTo>
                  <a:lnTo>
                    <a:pt x="548" y="154"/>
                  </a:lnTo>
                  <a:lnTo>
                    <a:pt x="555" y="150"/>
                  </a:lnTo>
                  <a:lnTo>
                    <a:pt x="563" y="146"/>
                  </a:lnTo>
                  <a:lnTo>
                    <a:pt x="572" y="143"/>
                  </a:lnTo>
                  <a:lnTo>
                    <a:pt x="582" y="137"/>
                  </a:lnTo>
                  <a:lnTo>
                    <a:pt x="593" y="131"/>
                  </a:lnTo>
                  <a:lnTo>
                    <a:pt x="603" y="125"/>
                  </a:lnTo>
                  <a:lnTo>
                    <a:pt x="618" y="122"/>
                  </a:lnTo>
                  <a:lnTo>
                    <a:pt x="624" y="118"/>
                  </a:lnTo>
                  <a:lnTo>
                    <a:pt x="631" y="116"/>
                  </a:lnTo>
                  <a:lnTo>
                    <a:pt x="637" y="112"/>
                  </a:lnTo>
                  <a:lnTo>
                    <a:pt x="645" y="110"/>
                  </a:lnTo>
                  <a:lnTo>
                    <a:pt x="652" y="106"/>
                  </a:lnTo>
                  <a:lnTo>
                    <a:pt x="660" y="105"/>
                  </a:lnTo>
                  <a:lnTo>
                    <a:pt x="669" y="103"/>
                  </a:lnTo>
                  <a:lnTo>
                    <a:pt x="677" y="99"/>
                  </a:lnTo>
                  <a:lnTo>
                    <a:pt x="685" y="95"/>
                  </a:lnTo>
                  <a:lnTo>
                    <a:pt x="692" y="93"/>
                  </a:lnTo>
                  <a:lnTo>
                    <a:pt x="700" y="91"/>
                  </a:lnTo>
                  <a:lnTo>
                    <a:pt x="709" y="89"/>
                  </a:lnTo>
                  <a:lnTo>
                    <a:pt x="717" y="86"/>
                  </a:lnTo>
                  <a:lnTo>
                    <a:pt x="726" y="82"/>
                  </a:lnTo>
                  <a:lnTo>
                    <a:pt x="736" y="80"/>
                  </a:lnTo>
                  <a:lnTo>
                    <a:pt x="745" y="78"/>
                  </a:lnTo>
                  <a:lnTo>
                    <a:pt x="753" y="74"/>
                  </a:lnTo>
                  <a:lnTo>
                    <a:pt x="763" y="72"/>
                  </a:lnTo>
                  <a:lnTo>
                    <a:pt x="772" y="70"/>
                  </a:lnTo>
                  <a:lnTo>
                    <a:pt x="782" y="68"/>
                  </a:lnTo>
                  <a:lnTo>
                    <a:pt x="791" y="67"/>
                  </a:lnTo>
                  <a:lnTo>
                    <a:pt x="801" y="65"/>
                  </a:lnTo>
                  <a:lnTo>
                    <a:pt x="810" y="63"/>
                  </a:lnTo>
                  <a:lnTo>
                    <a:pt x="821" y="63"/>
                  </a:lnTo>
                  <a:lnTo>
                    <a:pt x="829" y="61"/>
                  </a:lnTo>
                  <a:lnTo>
                    <a:pt x="840" y="59"/>
                  </a:lnTo>
                  <a:lnTo>
                    <a:pt x="850" y="57"/>
                  </a:lnTo>
                  <a:lnTo>
                    <a:pt x="859" y="57"/>
                  </a:lnTo>
                  <a:lnTo>
                    <a:pt x="871" y="55"/>
                  </a:lnTo>
                  <a:lnTo>
                    <a:pt x="880" y="55"/>
                  </a:lnTo>
                  <a:lnTo>
                    <a:pt x="892" y="55"/>
                  </a:lnTo>
                  <a:lnTo>
                    <a:pt x="901" y="55"/>
                  </a:lnTo>
                  <a:lnTo>
                    <a:pt x="913" y="55"/>
                  </a:lnTo>
                  <a:lnTo>
                    <a:pt x="922" y="55"/>
                  </a:lnTo>
                  <a:lnTo>
                    <a:pt x="932" y="55"/>
                  </a:lnTo>
                  <a:lnTo>
                    <a:pt x="943" y="55"/>
                  </a:lnTo>
                  <a:lnTo>
                    <a:pt x="953" y="55"/>
                  </a:lnTo>
                  <a:lnTo>
                    <a:pt x="962" y="57"/>
                  </a:lnTo>
                  <a:lnTo>
                    <a:pt x="974" y="57"/>
                  </a:lnTo>
                  <a:lnTo>
                    <a:pt x="985" y="61"/>
                  </a:lnTo>
                  <a:lnTo>
                    <a:pt x="994" y="61"/>
                  </a:lnTo>
                  <a:lnTo>
                    <a:pt x="1004" y="63"/>
                  </a:lnTo>
                  <a:lnTo>
                    <a:pt x="1013" y="65"/>
                  </a:lnTo>
                  <a:lnTo>
                    <a:pt x="1023" y="68"/>
                  </a:lnTo>
                  <a:lnTo>
                    <a:pt x="1032" y="68"/>
                  </a:lnTo>
                  <a:lnTo>
                    <a:pt x="1042" y="72"/>
                  </a:lnTo>
                  <a:lnTo>
                    <a:pt x="1050" y="74"/>
                  </a:lnTo>
                  <a:lnTo>
                    <a:pt x="1059" y="78"/>
                  </a:lnTo>
                  <a:lnTo>
                    <a:pt x="1067" y="82"/>
                  </a:lnTo>
                  <a:lnTo>
                    <a:pt x="1076" y="84"/>
                  </a:lnTo>
                  <a:lnTo>
                    <a:pt x="1084" y="87"/>
                  </a:lnTo>
                  <a:lnTo>
                    <a:pt x="1093" y="91"/>
                  </a:lnTo>
                  <a:lnTo>
                    <a:pt x="1101" y="95"/>
                  </a:lnTo>
                  <a:lnTo>
                    <a:pt x="1108" y="99"/>
                  </a:lnTo>
                  <a:lnTo>
                    <a:pt x="1116" y="103"/>
                  </a:lnTo>
                  <a:lnTo>
                    <a:pt x="1124" y="108"/>
                  </a:lnTo>
                  <a:lnTo>
                    <a:pt x="1131" y="112"/>
                  </a:lnTo>
                  <a:lnTo>
                    <a:pt x="1137" y="116"/>
                  </a:lnTo>
                  <a:lnTo>
                    <a:pt x="1145" y="122"/>
                  </a:lnTo>
                  <a:lnTo>
                    <a:pt x="1150" y="125"/>
                  </a:lnTo>
                  <a:lnTo>
                    <a:pt x="1164" y="137"/>
                  </a:lnTo>
                  <a:lnTo>
                    <a:pt x="1177" y="148"/>
                  </a:lnTo>
                  <a:lnTo>
                    <a:pt x="1188" y="160"/>
                  </a:lnTo>
                  <a:lnTo>
                    <a:pt x="1200" y="173"/>
                  </a:lnTo>
                  <a:lnTo>
                    <a:pt x="1204" y="179"/>
                  </a:lnTo>
                  <a:lnTo>
                    <a:pt x="1209" y="186"/>
                  </a:lnTo>
                  <a:lnTo>
                    <a:pt x="1213" y="194"/>
                  </a:lnTo>
                  <a:lnTo>
                    <a:pt x="1221" y="201"/>
                  </a:lnTo>
                  <a:lnTo>
                    <a:pt x="1223" y="207"/>
                  </a:lnTo>
                  <a:lnTo>
                    <a:pt x="1226" y="215"/>
                  </a:lnTo>
                  <a:lnTo>
                    <a:pt x="1230" y="222"/>
                  </a:lnTo>
                  <a:lnTo>
                    <a:pt x="1234" y="230"/>
                  </a:lnTo>
                  <a:lnTo>
                    <a:pt x="1238" y="236"/>
                  </a:lnTo>
                  <a:lnTo>
                    <a:pt x="1242" y="245"/>
                  </a:lnTo>
                  <a:lnTo>
                    <a:pt x="1245" y="253"/>
                  </a:lnTo>
                  <a:lnTo>
                    <a:pt x="1249" y="262"/>
                  </a:lnTo>
                  <a:lnTo>
                    <a:pt x="1251" y="270"/>
                  </a:lnTo>
                  <a:lnTo>
                    <a:pt x="1253" y="277"/>
                  </a:lnTo>
                  <a:lnTo>
                    <a:pt x="1255" y="287"/>
                  </a:lnTo>
                  <a:lnTo>
                    <a:pt x="1259" y="295"/>
                  </a:lnTo>
                  <a:lnTo>
                    <a:pt x="1261" y="304"/>
                  </a:lnTo>
                  <a:lnTo>
                    <a:pt x="1262" y="314"/>
                  </a:lnTo>
                  <a:lnTo>
                    <a:pt x="1264" y="321"/>
                  </a:lnTo>
                  <a:lnTo>
                    <a:pt x="1268" y="333"/>
                  </a:lnTo>
                  <a:lnTo>
                    <a:pt x="1268" y="342"/>
                  </a:lnTo>
                  <a:lnTo>
                    <a:pt x="1268" y="352"/>
                  </a:lnTo>
                  <a:lnTo>
                    <a:pt x="1270" y="359"/>
                  </a:lnTo>
                  <a:lnTo>
                    <a:pt x="1270" y="371"/>
                  </a:lnTo>
                  <a:lnTo>
                    <a:pt x="1270" y="380"/>
                  </a:lnTo>
                  <a:lnTo>
                    <a:pt x="1272" y="392"/>
                  </a:lnTo>
                  <a:lnTo>
                    <a:pt x="1272" y="401"/>
                  </a:lnTo>
                  <a:lnTo>
                    <a:pt x="1274" y="412"/>
                  </a:lnTo>
                  <a:lnTo>
                    <a:pt x="1274" y="422"/>
                  </a:lnTo>
                  <a:lnTo>
                    <a:pt x="1274" y="433"/>
                  </a:lnTo>
                  <a:lnTo>
                    <a:pt x="1274" y="445"/>
                  </a:lnTo>
                  <a:lnTo>
                    <a:pt x="1274" y="456"/>
                  </a:lnTo>
                  <a:lnTo>
                    <a:pt x="1272" y="466"/>
                  </a:lnTo>
                  <a:lnTo>
                    <a:pt x="1270" y="477"/>
                  </a:lnTo>
                  <a:lnTo>
                    <a:pt x="1270" y="488"/>
                  </a:lnTo>
                  <a:lnTo>
                    <a:pt x="1270" y="502"/>
                  </a:lnTo>
                  <a:lnTo>
                    <a:pt x="1268" y="507"/>
                  </a:lnTo>
                  <a:lnTo>
                    <a:pt x="1266" y="517"/>
                  </a:lnTo>
                  <a:lnTo>
                    <a:pt x="1264" y="525"/>
                  </a:lnTo>
                  <a:lnTo>
                    <a:pt x="1262" y="534"/>
                  </a:lnTo>
                  <a:lnTo>
                    <a:pt x="1261" y="542"/>
                  </a:lnTo>
                  <a:lnTo>
                    <a:pt x="1257" y="553"/>
                  </a:lnTo>
                  <a:lnTo>
                    <a:pt x="1255" y="561"/>
                  </a:lnTo>
                  <a:lnTo>
                    <a:pt x="1253" y="572"/>
                  </a:lnTo>
                  <a:lnTo>
                    <a:pt x="1249" y="580"/>
                  </a:lnTo>
                  <a:lnTo>
                    <a:pt x="1245" y="589"/>
                  </a:lnTo>
                  <a:lnTo>
                    <a:pt x="1242" y="599"/>
                  </a:lnTo>
                  <a:lnTo>
                    <a:pt x="1240" y="610"/>
                  </a:lnTo>
                  <a:lnTo>
                    <a:pt x="1234" y="620"/>
                  </a:lnTo>
                  <a:lnTo>
                    <a:pt x="1230" y="629"/>
                  </a:lnTo>
                  <a:lnTo>
                    <a:pt x="1226" y="639"/>
                  </a:lnTo>
                  <a:lnTo>
                    <a:pt x="1223" y="650"/>
                  </a:lnTo>
                  <a:lnTo>
                    <a:pt x="1217" y="659"/>
                  </a:lnTo>
                  <a:lnTo>
                    <a:pt x="1213" y="669"/>
                  </a:lnTo>
                  <a:lnTo>
                    <a:pt x="1207" y="678"/>
                  </a:lnTo>
                  <a:lnTo>
                    <a:pt x="1204" y="690"/>
                  </a:lnTo>
                  <a:lnTo>
                    <a:pt x="1196" y="699"/>
                  </a:lnTo>
                  <a:lnTo>
                    <a:pt x="1190" y="711"/>
                  </a:lnTo>
                  <a:lnTo>
                    <a:pt x="1185" y="722"/>
                  </a:lnTo>
                  <a:lnTo>
                    <a:pt x="1179" y="734"/>
                  </a:lnTo>
                  <a:lnTo>
                    <a:pt x="1171" y="743"/>
                  </a:lnTo>
                  <a:lnTo>
                    <a:pt x="1166" y="754"/>
                  </a:lnTo>
                  <a:lnTo>
                    <a:pt x="1160" y="766"/>
                  </a:lnTo>
                  <a:lnTo>
                    <a:pt x="1154" y="775"/>
                  </a:lnTo>
                  <a:lnTo>
                    <a:pt x="1146" y="787"/>
                  </a:lnTo>
                  <a:lnTo>
                    <a:pt x="1139" y="798"/>
                  </a:lnTo>
                  <a:lnTo>
                    <a:pt x="1131" y="810"/>
                  </a:lnTo>
                  <a:lnTo>
                    <a:pt x="1126" y="819"/>
                  </a:lnTo>
                  <a:lnTo>
                    <a:pt x="1118" y="831"/>
                  </a:lnTo>
                  <a:lnTo>
                    <a:pt x="1108" y="840"/>
                  </a:lnTo>
                  <a:lnTo>
                    <a:pt x="1101" y="851"/>
                  </a:lnTo>
                  <a:lnTo>
                    <a:pt x="1093" y="861"/>
                  </a:lnTo>
                  <a:lnTo>
                    <a:pt x="1084" y="872"/>
                  </a:lnTo>
                  <a:lnTo>
                    <a:pt x="1074" y="882"/>
                  </a:lnTo>
                  <a:lnTo>
                    <a:pt x="1065" y="893"/>
                  </a:lnTo>
                  <a:lnTo>
                    <a:pt x="1057" y="905"/>
                  </a:lnTo>
                  <a:lnTo>
                    <a:pt x="1048" y="914"/>
                  </a:lnTo>
                  <a:lnTo>
                    <a:pt x="1038" y="924"/>
                  </a:lnTo>
                  <a:lnTo>
                    <a:pt x="1029" y="933"/>
                  </a:lnTo>
                  <a:lnTo>
                    <a:pt x="1019" y="945"/>
                  </a:lnTo>
                  <a:lnTo>
                    <a:pt x="1008" y="954"/>
                  </a:lnTo>
                  <a:lnTo>
                    <a:pt x="998" y="964"/>
                  </a:lnTo>
                  <a:lnTo>
                    <a:pt x="989" y="975"/>
                  </a:lnTo>
                  <a:lnTo>
                    <a:pt x="979" y="984"/>
                  </a:lnTo>
                  <a:lnTo>
                    <a:pt x="968" y="994"/>
                  </a:lnTo>
                  <a:lnTo>
                    <a:pt x="956" y="1003"/>
                  </a:lnTo>
                  <a:lnTo>
                    <a:pt x="945" y="1013"/>
                  </a:lnTo>
                  <a:lnTo>
                    <a:pt x="936" y="1022"/>
                  </a:lnTo>
                  <a:lnTo>
                    <a:pt x="924" y="1030"/>
                  </a:lnTo>
                  <a:lnTo>
                    <a:pt x="913" y="1040"/>
                  </a:lnTo>
                  <a:lnTo>
                    <a:pt x="901" y="1049"/>
                  </a:lnTo>
                  <a:lnTo>
                    <a:pt x="892" y="1059"/>
                  </a:lnTo>
                  <a:lnTo>
                    <a:pt x="878" y="1066"/>
                  </a:lnTo>
                  <a:lnTo>
                    <a:pt x="867" y="1074"/>
                  </a:lnTo>
                  <a:lnTo>
                    <a:pt x="854" y="1083"/>
                  </a:lnTo>
                  <a:lnTo>
                    <a:pt x="842" y="1091"/>
                  </a:lnTo>
                  <a:lnTo>
                    <a:pt x="829" y="1098"/>
                  </a:lnTo>
                  <a:lnTo>
                    <a:pt x="820" y="1106"/>
                  </a:lnTo>
                  <a:lnTo>
                    <a:pt x="806" y="1114"/>
                  </a:lnTo>
                  <a:lnTo>
                    <a:pt x="795" y="1123"/>
                  </a:lnTo>
                  <a:lnTo>
                    <a:pt x="782" y="1129"/>
                  </a:lnTo>
                  <a:lnTo>
                    <a:pt x="768" y="1135"/>
                  </a:lnTo>
                  <a:lnTo>
                    <a:pt x="755" y="1140"/>
                  </a:lnTo>
                  <a:lnTo>
                    <a:pt x="742" y="1148"/>
                  </a:lnTo>
                  <a:lnTo>
                    <a:pt x="728" y="1154"/>
                  </a:lnTo>
                  <a:lnTo>
                    <a:pt x="717" y="1159"/>
                  </a:lnTo>
                  <a:lnTo>
                    <a:pt x="704" y="1165"/>
                  </a:lnTo>
                  <a:lnTo>
                    <a:pt x="690" y="1171"/>
                  </a:lnTo>
                  <a:lnTo>
                    <a:pt x="677" y="1174"/>
                  </a:lnTo>
                  <a:lnTo>
                    <a:pt x="666" y="1180"/>
                  </a:lnTo>
                  <a:lnTo>
                    <a:pt x="652" y="1184"/>
                  </a:lnTo>
                  <a:lnTo>
                    <a:pt x="639" y="1190"/>
                  </a:lnTo>
                  <a:lnTo>
                    <a:pt x="626" y="1193"/>
                  </a:lnTo>
                  <a:lnTo>
                    <a:pt x="614" y="1197"/>
                  </a:lnTo>
                  <a:lnTo>
                    <a:pt x="601" y="1201"/>
                  </a:lnTo>
                  <a:lnTo>
                    <a:pt x="590" y="1205"/>
                  </a:lnTo>
                  <a:lnTo>
                    <a:pt x="576" y="1209"/>
                  </a:lnTo>
                  <a:lnTo>
                    <a:pt x="565" y="1211"/>
                  </a:lnTo>
                  <a:lnTo>
                    <a:pt x="552" y="1212"/>
                  </a:lnTo>
                  <a:lnTo>
                    <a:pt x="538" y="1216"/>
                  </a:lnTo>
                  <a:lnTo>
                    <a:pt x="527" y="1218"/>
                  </a:lnTo>
                  <a:lnTo>
                    <a:pt x="515" y="1220"/>
                  </a:lnTo>
                  <a:lnTo>
                    <a:pt x="502" y="1222"/>
                  </a:lnTo>
                  <a:lnTo>
                    <a:pt x="491" y="1226"/>
                  </a:lnTo>
                  <a:lnTo>
                    <a:pt x="479" y="1226"/>
                  </a:lnTo>
                  <a:lnTo>
                    <a:pt x="468" y="1228"/>
                  </a:lnTo>
                  <a:lnTo>
                    <a:pt x="456" y="1230"/>
                  </a:lnTo>
                  <a:lnTo>
                    <a:pt x="445" y="1230"/>
                  </a:lnTo>
                  <a:lnTo>
                    <a:pt x="434" y="1230"/>
                  </a:lnTo>
                  <a:lnTo>
                    <a:pt x="422" y="1232"/>
                  </a:lnTo>
                  <a:lnTo>
                    <a:pt x="413" y="1232"/>
                  </a:lnTo>
                  <a:lnTo>
                    <a:pt x="401" y="1232"/>
                  </a:lnTo>
                  <a:lnTo>
                    <a:pt x="388" y="1232"/>
                  </a:lnTo>
                  <a:lnTo>
                    <a:pt x="377" y="1232"/>
                  </a:lnTo>
                  <a:lnTo>
                    <a:pt x="367" y="1230"/>
                  </a:lnTo>
                  <a:lnTo>
                    <a:pt x="356" y="1230"/>
                  </a:lnTo>
                  <a:lnTo>
                    <a:pt x="344" y="1230"/>
                  </a:lnTo>
                  <a:lnTo>
                    <a:pt x="335" y="1228"/>
                  </a:lnTo>
                  <a:lnTo>
                    <a:pt x="325" y="1226"/>
                  </a:lnTo>
                  <a:lnTo>
                    <a:pt x="316" y="1226"/>
                  </a:lnTo>
                  <a:lnTo>
                    <a:pt x="304" y="1222"/>
                  </a:lnTo>
                  <a:lnTo>
                    <a:pt x="295" y="1222"/>
                  </a:lnTo>
                  <a:lnTo>
                    <a:pt x="285" y="1218"/>
                  </a:lnTo>
                  <a:lnTo>
                    <a:pt x="276" y="1218"/>
                  </a:lnTo>
                  <a:lnTo>
                    <a:pt x="266" y="1214"/>
                  </a:lnTo>
                  <a:lnTo>
                    <a:pt x="259" y="1212"/>
                  </a:lnTo>
                  <a:lnTo>
                    <a:pt x="247" y="1209"/>
                  </a:lnTo>
                  <a:lnTo>
                    <a:pt x="242" y="1207"/>
                  </a:lnTo>
                  <a:lnTo>
                    <a:pt x="230" y="1203"/>
                  </a:lnTo>
                  <a:lnTo>
                    <a:pt x="223" y="1199"/>
                  </a:lnTo>
                  <a:lnTo>
                    <a:pt x="215" y="1195"/>
                  </a:lnTo>
                  <a:lnTo>
                    <a:pt x="207" y="1192"/>
                  </a:lnTo>
                  <a:lnTo>
                    <a:pt x="200" y="1188"/>
                  </a:lnTo>
                  <a:lnTo>
                    <a:pt x="192" y="1184"/>
                  </a:lnTo>
                  <a:lnTo>
                    <a:pt x="185" y="1178"/>
                  </a:lnTo>
                  <a:lnTo>
                    <a:pt x="179" y="1174"/>
                  </a:lnTo>
                  <a:lnTo>
                    <a:pt x="171" y="1169"/>
                  </a:lnTo>
                  <a:lnTo>
                    <a:pt x="164" y="1165"/>
                  </a:lnTo>
                  <a:lnTo>
                    <a:pt x="158" y="1159"/>
                  </a:lnTo>
                  <a:lnTo>
                    <a:pt x="152" y="1155"/>
                  </a:lnTo>
                  <a:lnTo>
                    <a:pt x="141" y="1144"/>
                  </a:lnTo>
                  <a:lnTo>
                    <a:pt x="131" y="1133"/>
                  </a:lnTo>
                  <a:lnTo>
                    <a:pt x="126" y="1125"/>
                  </a:lnTo>
                  <a:lnTo>
                    <a:pt x="122" y="1117"/>
                  </a:lnTo>
                  <a:lnTo>
                    <a:pt x="114" y="1110"/>
                  </a:lnTo>
                  <a:lnTo>
                    <a:pt x="111" y="1102"/>
                  </a:lnTo>
                  <a:lnTo>
                    <a:pt x="105" y="1095"/>
                  </a:lnTo>
                  <a:lnTo>
                    <a:pt x="101" y="1085"/>
                  </a:lnTo>
                  <a:lnTo>
                    <a:pt x="97" y="1078"/>
                  </a:lnTo>
                  <a:lnTo>
                    <a:pt x="93" y="1068"/>
                  </a:lnTo>
                  <a:lnTo>
                    <a:pt x="90" y="1059"/>
                  </a:lnTo>
                  <a:lnTo>
                    <a:pt x="86" y="1049"/>
                  </a:lnTo>
                  <a:lnTo>
                    <a:pt x="82" y="1040"/>
                  </a:lnTo>
                  <a:lnTo>
                    <a:pt x="80" y="1030"/>
                  </a:lnTo>
                  <a:lnTo>
                    <a:pt x="76" y="1019"/>
                  </a:lnTo>
                  <a:lnTo>
                    <a:pt x="73" y="1009"/>
                  </a:lnTo>
                  <a:lnTo>
                    <a:pt x="71" y="1000"/>
                  </a:lnTo>
                  <a:lnTo>
                    <a:pt x="69" y="990"/>
                  </a:lnTo>
                  <a:lnTo>
                    <a:pt x="67" y="979"/>
                  </a:lnTo>
                  <a:lnTo>
                    <a:pt x="65" y="967"/>
                  </a:lnTo>
                  <a:lnTo>
                    <a:pt x="63" y="956"/>
                  </a:lnTo>
                  <a:lnTo>
                    <a:pt x="63" y="945"/>
                  </a:lnTo>
                  <a:lnTo>
                    <a:pt x="61" y="933"/>
                  </a:lnTo>
                  <a:lnTo>
                    <a:pt x="59" y="922"/>
                  </a:lnTo>
                  <a:lnTo>
                    <a:pt x="59" y="908"/>
                  </a:lnTo>
                  <a:lnTo>
                    <a:pt x="59" y="899"/>
                  </a:lnTo>
                  <a:lnTo>
                    <a:pt x="59" y="886"/>
                  </a:lnTo>
                  <a:lnTo>
                    <a:pt x="59" y="872"/>
                  </a:lnTo>
                  <a:lnTo>
                    <a:pt x="59" y="861"/>
                  </a:lnTo>
                  <a:lnTo>
                    <a:pt x="61" y="848"/>
                  </a:lnTo>
                  <a:lnTo>
                    <a:pt x="61" y="834"/>
                  </a:lnTo>
                  <a:lnTo>
                    <a:pt x="63" y="823"/>
                  </a:lnTo>
                  <a:lnTo>
                    <a:pt x="65" y="810"/>
                  </a:lnTo>
                  <a:lnTo>
                    <a:pt x="67" y="798"/>
                  </a:lnTo>
                  <a:lnTo>
                    <a:pt x="69" y="783"/>
                  </a:lnTo>
                  <a:lnTo>
                    <a:pt x="71" y="772"/>
                  </a:lnTo>
                  <a:lnTo>
                    <a:pt x="73" y="756"/>
                  </a:lnTo>
                  <a:lnTo>
                    <a:pt x="76" y="745"/>
                  </a:lnTo>
                  <a:lnTo>
                    <a:pt x="78" y="730"/>
                  </a:lnTo>
                  <a:lnTo>
                    <a:pt x="82" y="716"/>
                  </a:lnTo>
                  <a:lnTo>
                    <a:pt x="86" y="703"/>
                  </a:lnTo>
                  <a:lnTo>
                    <a:pt x="90" y="690"/>
                  </a:lnTo>
                  <a:lnTo>
                    <a:pt x="93" y="677"/>
                  </a:lnTo>
                  <a:lnTo>
                    <a:pt x="97" y="661"/>
                  </a:lnTo>
                  <a:lnTo>
                    <a:pt x="101" y="648"/>
                  </a:lnTo>
                  <a:lnTo>
                    <a:pt x="107" y="635"/>
                  </a:lnTo>
                  <a:lnTo>
                    <a:pt x="111" y="621"/>
                  </a:lnTo>
                  <a:lnTo>
                    <a:pt x="118" y="608"/>
                  </a:lnTo>
                  <a:lnTo>
                    <a:pt x="124" y="595"/>
                  </a:lnTo>
                  <a:lnTo>
                    <a:pt x="131" y="582"/>
                  </a:lnTo>
                  <a:lnTo>
                    <a:pt x="137" y="566"/>
                  </a:lnTo>
                  <a:lnTo>
                    <a:pt x="143" y="553"/>
                  </a:lnTo>
                  <a:lnTo>
                    <a:pt x="150" y="540"/>
                  </a:lnTo>
                  <a:lnTo>
                    <a:pt x="158" y="526"/>
                  </a:lnTo>
                  <a:lnTo>
                    <a:pt x="166" y="513"/>
                  </a:lnTo>
                  <a:lnTo>
                    <a:pt x="171" y="500"/>
                  </a:lnTo>
                  <a:lnTo>
                    <a:pt x="181" y="487"/>
                  </a:lnTo>
                  <a:lnTo>
                    <a:pt x="190" y="473"/>
                  </a:lnTo>
                  <a:lnTo>
                    <a:pt x="200" y="460"/>
                  </a:lnTo>
                  <a:lnTo>
                    <a:pt x="209" y="447"/>
                  </a:lnTo>
                  <a:lnTo>
                    <a:pt x="217" y="431"/>
                  </a:lnTo>
                  <a:lnTo>
                    <a:pt x="228" y="420"/>
                  </a:lnTo>
                  <a:lnTo>
                    <a:pt x="238" y="407"/>
                  </a:lnTo>
                  <a:lnTo>
                    <a:pt x="249" y="395"/>
                  </a:lnTo>
                  <a:lnTo>
                    <a:pt x="261" y="380"/>
                  </a:lnTo>
                  <a:lnTo>
                    <a:pt x="272" y="371"/>
                  </a:lnTo>
                  <a:lnTo>
                    <a:pt x="226" y="336"/>
                  </a:lnTo>
                  <a:lnTo>
                    <a:pt x="225" y="336"/>
                  </a:lnTo>
                  <a:lnTo>
                    <a:pt x="223" y="338"/>
                  </a:lnTo>
                  <a:lnTo>
                    <a:pt x="217" y="342"/>
                  </a:lnTo>
                  <a:lnTo>
                    <a:pt x="211" y="352"/>
                  </a:lnTo>
                  <a:lnTo>
                    <a:pt x="204" y="359"/>
                  </a:lnTo>
                  <a:lnTo>
                    <a:pt x="192" y="371"/>
                  </a:lnTo>
                  <a:lnTo>
                    <a:pt x="187" y="376"/>
                  </a:lnTo>
                  <a:lnTo>
                    <a:pt x="183" y="384"/>
                  </a:lnTo>
                  <a:lnTo>
                    <a:pt x="177" y="392"/>
                  </a:lnTo>
                  <a:lnTo>
                    <a:pt x="171" y="401"/>
                  </a:lnTo>
                  <a:lnTo>
                    <a:pt x="166" y="409"/>
                  </a:lnTo>
                  <a:lnTo>
                    <a:pt x="158" y="416"/>
                  </a:lnTo>
                  <a:lnTo>
                    <a:pt x="152" y="426"/>
                  </a:lnTo>
                  <a:lnTo>
                    <a:pt x="147" y="435"/>
                  </a:lnTo>
                  <a:lnTo>
                    <a:pt x="139" y="443"/>
                  </a:lnTo>
                  <a:lnTo>
                    <a:pt x="133" y="454"/>
                  </a:lnTo>
                  <a:lnTo>
                    <a:pt x="126" y="466"/>
                  </a:lnTo>
                  <a:lnTo>
                    <a:pt x="120" y="477"/>
                  </a:lnTo>
                  <a:lnTo>
                    <a:pt x="112" y="487"/>
                  </a:lnTo>
                  <a:lnTo>
                    <a:pt x="107" y="498"/>
                  </a:lnTo>
                  <a:lnTo>
                    <a:pt x="99" y="511"/>
                  </a:lnTo>
                  <a:lnTo>
                    <a:pt x="93" y="525"/>
                  </a:lnTo>
                  <a:lnTo>
                    <a:pt x="86" y="536"/>
                  </a:lnTo>
                  <a:lnTo>
                    <a:pt x="80" y="549"/>
                  </a:lnTo>
                  <a:lnTo>
                    <a:pt x="76" y="557"/>
                  </a:lnTo>
                  <a:lnTo>
                    <a:pt x="73" y="564"/>
                  </a:lnTo>
                  <a:lnTo>
                    <a:pt x="71" y="572"/>
                  </a:lnTo>
                  <a:lnTo>
                    <a:pt x="69" y="580"/>
                  </a:lnTo>
                  <a:lnTo>
                    <a:pt x="65" y="587"/>
                  </a:lnTo>
                  <a:lnTo>
                    <a:pt x="61" y="593"/>
                  </a:lnTo>
                  <a:lnTo>
                    <a:pt x="57" y="602"/>
                  </a:lnTo>
                  <a:lnTo>
                    <a:pt x="54" y="610"/>
                  </a:lnTo>
                  <a:lnTo>
                    <a:pt x="50" y="618"/>
                  </a:lnTo>
                  <a:lnTo>
                    <a:pt x="48" y="627"/>
                  </a:lnTo>
                  <a:lnTo>
                    <a:pt x="46" y="635"/>
                  </a:lnTo>
                  <a:lnTo>
                    <a:pt x="42" y="644"/>
                  </a:lnTo>
                  <a:lnTo>
                    <a:pt x="38" y="652"/>
                  </a:lnTo>
                  <a:lnTo>
                    <a:pt x="36" y="661"/>
                  </a:lnTo>
                  <a:lnTo>
                    <a:pt x="33" y="671"/>
                  </a:lnTo>
                  <a:lnTo>
                    <a:pt x="31" y="680"/>
                  </a:lnTo>
                  <a:lnTo>
                    <a:pt x="29" y="690"/>
                  </a:lnTo>
                  <a:lnTo>
                    <a:pt x="25" y="699"/>
                  </a:lnTo>
                  <a:lnTo>
                    <a:pt x="23" y="707"/>
                  </a:lnTo>
                  <a:lnTo>
                    <a:pt x="21" y="718"/>
                  </a:lnTo>
                  <a:lnTo>
                    <a:pt x="19" y="728"/>
                  </a:lnTo>
                  <a:lnTo>
                    <a:pt x="17" y="737"/>
                  </a:lnTo>
                  <a:lnTo>
                    <a:pt x="15" y="745"/>
                  </a:lnTo>
                  <a:lnTo>
                    <a:pt x="14" y="754"/>
                  </a:lnTo>
                  <a:lnTo>
                    <a:pt x="12" y="766"/>
                  </a:lnTo>
                  <a:lnTo>
                    <a:pt x="10" y="775"/>
                  </a:lnTo>
                  <a:lnTo>
                    <a:pt x="8" y="785"/>
                  </a:lnTo>
                  <a:lnTo>
                    <a:pt x="8" y="796"/>
                  </a:lnTo>
                  <a:lnTo>
                    <a:pt x="4" y="806"/>
                  </a:lnTo>
                  <a:lnTo>
                    <a:pt x="4" y="815"/>
                  </a:lnTo>
                  <a:lnTo>
                    <a:pt x="2" y="825"/>
                  </a:lnTo>
                  <a:lnTo>
                    <a:pt x="2" y="836"/>
                  </a:lnTo>
                  <a:lnTo>
                    <a:pt x="2" y="846"/>
                  </a:lnTo>
                  <a:lnTo>
                    <a:pt x="2" y="855"/>
                  </a:lnTo>
                  <a:lnTo>
                    <a:pt x="2" y="867"/>
                  </a:lnTo>
                  <a:lnTo>
                    <a:pt x="2" y="878"/>
                  </a:lnTo>
                  <a:lnTo>
                    <a:pt x="0" y="889"/>
                  </a:lnTo>
                  <a:lnTo>
                    <a:pt x="0" y="901"/>
                  </a:lnTo>
                  <a:lnTo>
                    <a:pt x="0" y="912"/>
                  </a:lnTo>
                  <a:lnTo>
                    <a:pt x="2" y="924"/>
                  </a:lnTo>
                  <a:lnTo>
                    <a:pt x="2" y="935"/>
                  </a:lnTo>
                  <a:lnTo>
                    <a:pt x="2" y="946"/>
                  </a:lnTo>
                  <a:lnTo>
                    <a:pt x="4" y="958"/>
                  </a:lnTo>
                  <a:lnTo>
                    <a:pt x="6" y="967"/>
                  </a:lnTo>
                  <a:lnTo>
                    <a:pt x="6" y="979"/>
                  </a:lnTo>
                  <a:lnTo>
                    <a:pt x="8" y="988"/>
                  </a:lnTo>
                  <a:lnTo>
                    <a:pt x="10" y="1000"/>
                  </a:lnTo>
                  <a:lnTo>
                    <a:pt x="12" y="1011"/>
                  </a:lnTo>
                  <a:lnTo>
                    <a:pt x="14" y="1021"/>
                  </a:lnTo>
                  <a:lnTo>
                    <a:pt x="15" y="1032"/>
                  </a:lnTo>
                  <a:lnTo>
                    <a:pt x="19" y="1041"/>
                  </a:lnTo>
                  <a:lnTo>
                    <a:pt x="23" y="1053"/>
                  </a:lnTo>
                  <a:lnTo>
                    <a:pt x="25" y="1060"/>
                  </a:lnTo>
                  <a:lnTo>
                    <a:pt x="29" y="1070"/>
                  </a:lnTo>
                  <a:lnTo>
                    <a:pt x="33" y="1079"/>
                  </a:lnTo>
                  <a:lnTo>
                    <a:pt x="36" y="1089"/>
                  </a:lnTo>
                  <a:lnTo>
                    <a:pt x="40" y="1098"/>
                  </a:lnTo>
                  <a:lnTo>
                    <a:pt x="44" y="1108"/>
                  </a:lnTo>
                  <a:lnTo>
                    <a:pt x="50" y="1116"/>
                  </a:lnTo>
                  <a:lnTo>
                    <a:pt x="54" y="1125"/>
                  </a:lnTo>
                  <a:lnTo>
                    <a:pt x="57" y="1133"/>
                  </a:lnTo>
                  <a:lnTo>
                    <a:pt x="63" y="1142"/>
                  </a:lnTo>
                  <a:lnTo>
                    <a:pt x="69" y="1150"/>
                  </a:lnTo>
                  <a:lnTo>
                    <a:pt x="76" y="1159"/>
                  </a:lnTo>
                  <a:lnTo>
                    <a:pt x="80" y="1167"/>
                  </a:lnTo>
                  <a:lnTo>
                    <a:pt x="88" y="1174"/>
                  </a:lnTo>
                  <a:lnTo>
                    <a:pt x="95" y="1180"/>
                  </a:lnTo>
                  <a:lnTo>
                    <a:pt x="103" y="1190"/>
                  </a:lnTo>
                  <a:lnTo>
                    <a:pt x="109" y="1195"/>
                  </a:lnTo>
                  <a:lnTo>
                    <a:pt x="116" y="1201"/>
                  </a:lnTo>
                  <a:lnTo>
                    <a:pt x="124" y="1209"/>
                  </a:lnTo>
                  <a:lnTo>
                    <a:pt x="131" y="1214"/>
                  </a:lnTo>
                  <a:lnTo>
                    <a:pt x="139" y="1220"/>
                  </a:lnTo>
                  <a:lnTo>
                    <a:pt x="149" y="1226"/>
                  </a:lnTo>
                  <a:lnTo>
                    <a:pt x="156" y="1232"/>
                  </a:lnTo>
                  <a:lnTo>
                    <a:pt x="166" y="1237"/>
                  </a:lnTo>
                  <a:lnTo>
                    <a:pt x="175" y="1241"/>
                  </a:lnTo>
                  <a:lnTo>
                    <a:pt x="185" y="1247"/>
                  </a:lnTo>
                  <a:lnTo>
                    <a:pt x="194" y="1251"/>
                  </a:lnTo>
                  <a:lnTo>
                    <a:pt x="206" y="1256"/>
                  </a:lnTo>
                  <a:lnTo>
                    <a:pt x="215" y="1260"/>
                  </a:lnTo>
                  <a:lnTo>
                    <a:pt x="226" y="1264"/>
                  </a:lnTo>
                  <a:lnTo>
                    <a:pt x="238" y="1266"/>
                  </a:lnTo>
                  <a:lnTo>
                    <a:pt x="251" y="1271"/>
                  </a:lnTo>
                  <a:lnTo>
                    <a:pt x="261" y="1273"/>
                  </a:lnTo>
                  <a:lnTo>
                    <a:pt x="274" y="1277"/>
                  </a:lnTo>
                  <a:lnTo>
                    <a:pt x="285" y="1279"/>
                  </a:lnTo>
                  <a:lnTo>
                    <a:pt x="299" y="1281"/>
                  </a:lnTo>
                  <a:lnTo>
                    <a:pt x="312" y="1283"/>
                  </a:lnTo>
                  <a:lnTo>
                    <a:pt x="325" y="1283"/>
                  </a:lnTo>
                  <a:lnTo>
                    <a:pt x="341" y="1285"/>
                  </a:lnTo>
                  <a:lnTo>
                    <a:pt x="354" y="1287"/>
                  </a:lnTo>
                  <a:lnTo>
                    <a:pt x="369" y="1287"/>
                  </a:lnTo>
                  <a:lnTo>
                    <a:pt x="384" y="1287"/>
                  </a:lnTo>
                  <a:lnTo>
                    <a:pt x="398" y="1287"/>
                  </a:lnTo>
                  <a:lnTo>
                    <a:pt x="417" y="1287"/>
                  </a:lnTo>
                  <a:lnTo>
                    <a:pt x="432" y="1287"/>
                  </a:lnTo>
                  <a:lnTo>
                    <a:pt x="449" y="1287"/>
                  </a:lnTo>
                  <a:lnTo>
                    <a:pt x="466" y="1285"/>
                  </a:lnTo>
                  <a:lnTo>
                    <a:pt x="483" y="1285"/>
                  </a:lnTo>
                  <a:lnTo>
                    <a:pt x="500" y="1283"/>
                  </a:lnTo>
                  <a:lnTo>
                    <a:pt x="515" y="1281"/>
                  </a:lnTo>
                  <a:lnTo>
                    <a:pt x="533" y="1277"/>
                  </a:lnTo>
                  <a:lnTo>
                    <a:pt x="550" y="1275"/>
                  </a:lnTo>
                  <a:lnTo>
                    <a:pt x="565" y="1271"/>
                  </a:lnTo>
                  <a:lnTo>
                    <a:pt x="582" y="1268"/>
                  </a:lnTo>
                  <a:lnTo>
                    <a:pt x="597" y="1264"/>
                  </a:lnTo>
                  <a:lnTo>
                    <a:pt x="614" y="1260"/>
                  </a:lnTo>
                  <a:lnTo>
                    <a:pt x="629" y="1256"/>
                  </a:lnTo>
                  <a:lnTo>
                    <a:pt x="645" y="1251"/>
                  </a:lnTo>
                  <a:lnTo>
                    <a:pt x="660" y="1247"/>
                  </a:lnTo>
                  <a:lnTo>
                    <a:pt x="675" y="1241"/>
                  </a:lnTo>
                  <a:lnTo>
                    <a:pt x="690" y="1235"/>
                  </a:lnTo>
                  <a:lnTo>
                    <a:pt x="707" y="1230"/>
                  </a:lnTo>
                  <a:lnTo>
                    <a:pt x="723" y="1222"/>
                  </a:lnTo>
                  <a:lnTo>
                    <a:pt x="738" y="1218"/>
                  </a:lnTo>
                  <a:lnTo>
                    <a:pt x="753" y="1211"/>
                  </a:lnTo>
                  <a:lnTo>
                    <a:pt x="768" y="1203"/>
                  </a:lnTo>
                  <a:lnTo>
                    <a:pt x="782" y="1195"/>
                  </a:lnTo>
                  <a:lnTo>
                    <a:pt x="797" y="1188"/>
                  </a:lnTo>
                  <a:lnTo>
                    <a:pt x="810" y="1180"/>
                  </a:lnTo>
                  <a:lnTo>
                    <a:pt x="825" y="1173"/>
                  </a:lnTo>
                  <a:lnTo>
                    <a:pt x="840" y="1163"/>
                  </a:lnTo>
                  <a:lnTo>
                    <a:pt x="854" y="1157"/>
                  </a:lnTo>
                  <a:lnTo>
                    <a:pt x="867" y="1146"/>
                  </a:lnTo>
                  <a:lnTo>
                    <a:pt x="880" y="1138"/>
                  </a:lnTo>
                  <a:lnTo>
                    <a:pt x="896" y="1129"/>
                  </a:lnTo>
                  <a:lnTo>
                    <a:pt x="909" y="1119"/>
                  </a:lnTo>
                  <a:lnTo>
                    <a:pt x="922" y="1110"/>
                  </a:lnTo>
                  <a:lnTo>
                    <a:pt x="936" y="1100"/>
                  </a:lnTo>
                  <a:lnTo>
                    <a:pt x="949" y="1091"/>
                  </a:lnTo>
                  <a:lnTo>
                    <a:pt x="962" y="1081"/>
                  </a:lnTo>
                  <a:lnTo>
                    <a:pt x="974" y="1070"/>
                  </a:lnTo>
                  <a:lnTo>
                    <a:pt x="985" y="1060"/>
                  </a:lnTo>
                  <a:lnTo>
                    <a:pt x="998" y="1049"/>
                  </a:lnTo>
                  <a:lnTo>
                    <a:pt x="1010" y="1038"/>
                  </a:lnTo>
                  <a:lnTo>
                    <a:pt x="1021" y="1026"/>
                  </a:lnTo>
                  <a:lnTo>
                    <a:pt x="1032" y="1015"/>
                  </a:lnTo>
                  <a:lnTo>
                    <a:pt x="1046" y="1003"/>
                  </a:lnTo>
                  <a:lnTo>
                    <a:pt x="1057" y="992"/>
                  </a:lnTo>
                  <a:lnTo>
                    <a:pt x="1069" y="981"/>
                  </a:lnTo>
                  <a:lnTo>
                    <a:pt x="1080" y="967"/>
                  </a:lnTo>
                  <a:lnTo>
                    <a:pt x="1089" y="956"/>
                  </a:lnTo>
                  <a:lnTo>
                    <a:pt x="1101" y="945"/>
                  </a:lnTo>
                  <a:lnTo>
                    <a:pt x="1110" y="933"/>
                  </a:lnTo>
                  <a:lnTo>
                    <a:pt x="1120" y="920"/>
                  </a:lnTo>
                  <a:lnTo>
                    <a:pt x="1131" y="908"/>
                  </a:lnTo>
                  <a:lnTo>
                    <a:pt x="1141" y="897"/>
                  </a:lnTo>
                  <a:lnTo>
                    <a:pt x="1150" y="884"/>
                  </a:lnTo>
                  <a:lnTo>
                    <a:pt x="1160" y="870"/>
                  </a:lnTo>
                  <a:lnTo>
                    <a:pt x="1167" y="857"/>
                  </a:lnTo>
                  <a:lnTo>
                    <a:pt x="1179" y="844"/>
                  </a:lnTo>
                  <a:lnTo>
                    <a:pt x="1186" y="831"/>
                  </a:lnTo>
                  <a:lnTo>
                    <a:pt x="1196" y="819"/>
                  </a:lnTo>
                  <a:lnTo>
                    <a:pt x="1204" y="806"/>
                  </a:lnTo>
                  <a:lnTo>
                    <a:pt x="1213" y="792"/>
                  </a:lnTo>
                  <a:lnTo>
                    <a:pt x="1221" y="779"/>
                  </a:lnTo>
                  <a:lnTo>
                    <a:pt x="1226" y="766"/>
                  </a:lnTo>
                  <a:lnTo>
                    <a:pt x="1234" y="753"/>
                  </a:lnTo>
                  <a:lnTo>
                    <a:pt x="1243" y="741"/>
                  </a:lnTo>
                  <a:lnTo>
                    <a:pt x="1249" y="728"/>
                  </a:lnTo>
                  <a:lnTo>
                    <a:pt x="1257" y="713"/>
                  </a:lnTo>
                  <a:lnTo>
                    <a:pt x="1262" y="699"/>
                  </a:lnTo>
                  <a:lnTo>
                    <a:pt x="1270" y="688"/>
                  </a:lnTo>
                  <a:lnTo>
                    <a:pt x="1272" y="680"/>
                  </a:lnTo>
                  <a:lnTo>
                    <a:pt x="1274" y="675"/>
                  </a:lnTo>
                  <a:lnTo>
                    <a:pt x="1278" y="667"/>
                  </a:lnTo>
                  <a:lnTo>
                    <a:pt x="1280" y="661"/>
                  </a:lnTo>
                  <a:lnTo>
                    <a:pt x="1281" y="654"/>
                  </a:lnTo>
                  <a:lnTo>
                    <a:pt x="1285" y="646"/>
                  </a:lnTo>
                  <a:lnTo>
                    <a:pt x="1287" y="639"/>
                  </a:lnTo>
                  <a:lnTo>
                    <a:pt x="1291" y="631"/>
                  </a:lnTo>
                  <a:lnTo>
                    <a:pt x="1291" y="623"/>
                  </a:lnTo>
                  <a:lnTo>
                    <a:pt x="1295" y="614"/>
                  </a:lnTo>
                  <a:lnTo>
                    <a:pt x="1297" y="606"/>
                  </a:lnTo>
                  <a:lnTo>
                    <a:pt x="1300" y="599"/>
                  </a:lnTo>
                  <a:lnTo>
                    <a:pt x="1302" y="589"/>
                  </a:lnTo>
                  <a:lnTo>
                    <a:pt x="1306" y="582"/>
                  </a:lnTo>
                  <a:lnTo>
                    <a:pt x="1306" y="572"/>
                  </a:lnTo>
                  <a:lnTo>
                    <a:pt x="1310" y="566"/>
                  </a:lnTo>
                  <a:lnTo>
                    <a:pt x="1312" y="555"/>
                  </a:lnTo>
                  <a:lnTo>
                    <a:pt x="1312" y="547"/>
                  </a:lnTo>
                  <a:lnTo>
                    <a:pt x="1314" y="538"/>
                  </a:lnTo>
                  <a:lnTo>
                    <a:pt x="1316" y="528"/>
                  </a:lnTo>
                  <a:lnTo>
                    <a:pt x="1318" y="519"/>
                  </a:lnTo>
                  <a:lnTo>
                    <a:pt x="1319" y="509"/>
                  </a:lnTo>
                  <a:lnTo>
                    <a:pt x="1319" y="500"/>
                  </a:lnTo>
                  <a:lnTo>
                    <a:pt x="1323" y="490"/>
                  </a:lnTo>
                  <a:lnTo>
                    <a:pt x="1323" y="481"/>
                  </a:lnTo>
                  <a:lnTo>
                    <a:pt x="1323" y="471"/>
                  </a:lnTo>
                  <a:lnTo>
                    <a:pt x="1325" y="460"/>
                  </a:lnTo>
                  <a:lnTo>
                    <a:pt x="1325" y="452"/>
                  </a:lnTo>
                  <a:lnTo>
                    <a:pt x="1325" y="441"/>
                  </a:lnTo>
                  <a:lnTo>
                    <a:pt x="1327" y="431"/>
                  </a:lnTo>
                  <a:lnTo>
                    <a:pt x="1327" y="422"/>
                  </a:lnTo>
                  <a:lnTo>
                    <a:pt x="1329" y="412"/>
                  </a:lnTo>
                  <a:lnTo>
                    <a:pt x="1327" y="401"/>
                  </a:lnTo>
                  <a:lnTo>
                    <a:pt x="1327" y="392"/>
                  </a:lnTo>
                  <a:lnTo>
                    <a:pt x="1325" y="380"/>
                  </a:lnTo>
                  <a:lnTo>
                    <a:pt x="1325" y="371"/>
                  </a:lnTo>
                  <a:lnTo>
                    <a:pt x="1325" y="359"/>
                  </a:lnTo>
                  <a:lnTo>
                    <a:pt x="1323" y="350"/>
                  </a:lnTo>
                  <a:lnTo>
                    <a:pt x="1323" y="340"/>
                  </a:lnTo>
                  <a:lnTo>
                    <a:pt x="1323" y="331"/>
                  </a:lnTo>
                  <a:lnTo>
                    <a:pt x="1319" y="319"/>
                  </a:lnTo>
                  <a:lnTo>
                    <a:pt x="1318" y="310"/>
                  </a:lnTo>
                  <a:lnTo>
                    <a:pt x="1316" y="300"/>
                  </a:lnTo>
                  <a:lnTo>
                    <a:pt x="1314" y="291"/>
                  </a:lnTo>
                  <a:lnTo>
                    <a:pt x="1310" y="279"/>
                  </a:lnTo>
                  <a:lnTo>
                    <a:pt x="1308" y="270"/>
                  </a:lnTo>
                  <a:lnTo>
                    <a:pt x="1304" y="260"/>
                  </a:lnTo>
                  <a:lnTo>
                    <a:pt x="1302" y="251"/>
                  </a:lnTo>
                  <a:lnTo>
                    <a:pt x="1297" y="239"/>
                  </a:lnTo>
                  <a:lnTo>
                    <a:pt x="1293" y="230"/>
                  </a:lnTo>
                  <a:lnTo>
                    <a:pt x="1289" y="220"/>
                  </a:lnTo>
                  <a:lnTo>
                    <a:pt x="1285" y="211"/>
                  </a:lnTo>
                  <a:lnTo>
                    <a:pt x="1280" y="201"/>
                  </a:lnTo>
                  <a:lnTo>
                    <a:pt x="1274" y="192"/>
                  </a:lnTo>
                  <a:lnTo>
                    <a:pt x="1270" y="182"/>
                  </a:lnTo>
                  <a:lnTo>
                    <a:pt x="1264" y="175"/>
                  </a:lnTo>
                  <a:lnTo>
                    <a:pt x="1259" y="165"/>
                  </a:lnTo>
                  <a:lnTo>
                    <a:pt x="1253" y="158"/>
                  </a:lnTo>
                  <a:lnTo>
                    <a:pt x="1245" y="146"/>
                  </a:lnTo>
                  <a:lnTo>
                    <a:pt x="1240" y="139"/>
                  </a:lnTo>
                  <a:lnTo>
                    <a:pt x="1232" y="129"/>
                  </a:lnTo>
                  <a:lnTo>
                    <a:pt x="1224" y="122"/>
                  </a:lnTo>
                  <a:lnTo>
                    <a:pt x="1217" y="114"/>
                  </a:lnTo>
                  <a:lnTo>
                    <a:pt x="1209" y="106"/>
                  </a:lnTo>
                  <a:lnTo>
                    <a:pt x="1200" y="99"/>
                  </a:lnTo>
                  <a:lnTo>
                    <a:pt x="1192" y="89"/>
                  </a:lnTo>
                  <a:lnTo>
                    <a:pt x="1183" y="82"/>
                  </a:lnTo>
                  <a:lnTo>
                    <a:pt x="1173" y="76"/>
                  </a:lnTo>
                  <a:lnTo>
                    <a:pt x="1164" y="68"/>
                  </a:lnTo>
                  <a:lnTo>
                    <a:pt x="1154" y="63"/>
                  </a:lnTo>
                  <a:lnTo>
                    <a:pt x="1145" y="57"/>
                  </a:lnTo>
                  <a:lnTo>
                    <a:pt x="1135" y="51"/>
                  </a:lnTo>
                  <a:lnTo>
                    <a:pt x="1124" y="46"/>
                  </a:lnTo>
                  <a:lnTo>
                    <a:pt x="1114" y="40"/>
                  </a:lnTo>
                  <a:lnTo>
                    <a:pt x="1105" y="36"/>
                  </a:lnTo>
                  <a:lnTo>
                    <a:pt x="1095" y="32"/>
                  </a:lnTo>
                  <a:lnTo>
                    <a:pt x="1084" y="27"/>
                  </a:lnTo>
                  <a:lnTo>
                    <a:pt x="1072" y="23"/>
                  </a:lnTo>
                  <a:lnTo>
                    <a:pt x="1063" y="21"/>
                  </a:lnTo>
                  <a:lnTo>
                    <a:pt x="1051" y="17"/>
                  </a:lnTo>
                  <a:lnTo>
                    <a:pt x="1040" y="13"/>
                  </a:lnTo>
                  <a:lnTo>
                    <a:pt x="1029" y="10"/>
                  </a:lnTo>
                  <a:lnTo>
                    <a:pt x="1017" y="8"/>
                  </a:lnTo>
                  <a:lnTo>
                    <a:pt x="1008" y="6"/>
                  </a:lnTo>
                  <a:lnTo>
                    <a:pt x="994" y="4"/>
                  </a:lnTo>
                  <a:lnTo>
                    <a:pt x="983" y="2"/>
                  </a:lnTo>
                  <a:lnTo>
                    <a:pt x="972" y="2"/>
                  </a:lnTo>
                  <a:lnTo>
                    <a:pt x="960" y="2"/>
                  </a:lnTo>
                  <a:lnTo>
                    <a:pt x="949" y="0"/>
                  </a:lnTo>
                  <a:lnTo>
                    <a:pt x="936" y="0"/>
                  </a:lnTo>
                  <a:lnTo>
                    <a:pt x="924" y="0"/>
                  </a:lnTo>
                  <a:lnTo>
                    <a:pt x="913" y="0"/>
                  </a:lnTo>
                  <a:lnTo>
                    <a:pt x="901" y="0"/>
                  </a:lnTo>
                  <a:lnTo>
                    <a:pt x="890" y="0"/>
                  </a:lnTo>
                  <a:lnTo>
                    <a:pt x="877" y="2"/>
                  </a:lnTo>
                  <a:lnTo>
                    <a:pt x="867" y="2"/>
                  </a:lnTo>
                  <a:lnTo>
                    <a:pt x="854" y="2"/>
                  </a:lnTo>
                  <a:lnTo>
                    <a:pt x="842" y="2"/>
                  </a:lnTo>
                  <a:lnTo>
                    <a:pt x="829" y="4"/>
                  </a:lnTo>
                  <a:lnTo>
                    <a:pt x="818" y="6"/>
                  </a:lnTo>
                  <a:lnTo>
                    <a:pt x="806" y="8"/>
                  </a:lnTo>
                  <a:lnTo>
                    <a:pt x="793" y="10"/>
                  </a:lnTo>
                  <a:lnTo>
                    <a:pt x="782" y="11"/>
                  </a:lnTo>
                  <a:lnTo>
                    <a:pt x="770" y="15"/>
                  </a:lnTo>
                  <a:lnTo>
                    <a:pt x="757" y="17"/>
                  </a:lnTo>
                  <a:lnTo>
                    <a:pt x="745" y="19"/>
                  </a:lnTo>
                  <a:lnTo>
                    <a:pt x="734" y="21"/>
                  </a:lnTo>
                  <a:lnTo>
                    <a:pt x="725" y="25"/>
                  </a:lnTo>
                  <a:lnTo>
                    <a:pt x="711" y="29"/>
                  </a:lnTo>
                  <a:lnTo>
                    <a:pt x="700" y="32"/>
                  </a:lnTo>
                  <a:lnTo>
                    <a:pt x="688" y="36"/>
                  </a:lnTo>
                  <a:lnTo>
                    <a:pt x="679" y="40"/>
                  </a:lnTo>
                  <a:lnTo>
                    <a:pt x="666" y="44"/>
                  </a:lnTo>
                  <a:lnTo>
                    <a:pt x="654" y="48"/>
                  </a:lnTo>
                  <a:lnTo>
                    <a:pt x="645" y="51"/>
                  </a:lnTo>
                  <a:lnTo>
                    <a:pt x="633" y="55"/>
                  </a:lnTo>
                  <a:lnTo>
                    <a:pt x="622" y="57"/>
                  </a:lnTo>
                  <a:lnTo>
                    <a:pt x="610" y="63"/>
                  </a:lnTo>
                  <a:lnTo>
                    <a:pt x="601" y="68"/>
                  </a:lnTo>
                  <a:lnTo>
                    <a:pt x="590" y="72"/>
                  </a:lnTo>
                  <a:lnTo>
                    <a:pt x="580" y="76"/>
                  </a:lnTo>
                  <a:lnTo>
                    <a:pt x="569" y="82"/>
                  </a:lnTo>
                  <a:lnTo>
                    <a:pt x="559" y="86"/>
                  </a:lnTo>
                  <a:lnTo>
                    <a:pt x="550" y="91"/>
                  </a:lnTo>
                  <a:lnTo>
                    <a:pt x="538" y="97"/>
                  </a:lnTo>
                  <a:lnTo>
                    <a:pt x="531" y="103"/>
                  </a:lnTo>
                  <a:lnTo>
                    <a:pt x="521" y="108"/>
                  </a:lnTo>
                  <a:lnTo>
                    <a:pt x="514" y="114"/>
                  </a:lnTo>
                  <a:lnTo>
                    <a:pt x="534" y="163"/>
                  </a:lnTo>
                  <a:lnTo>
                    <a:pt x="53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604960" y="254880"/>
              <a:ext cx="282600" cy="229320"/>
            </a:xfrm>
            <a:custGeom>
              <a:avLst/>
              <a:gdLst/>
              <a:ahLst/>
              <a:rect l="l" t="t" r="r" b="b"/>
              <a:pathLst>
                <a:path w="574" h="465">
                  <a:moveTo>
                    <a:pt x="545" y="66"/>
                  </a:moveTo>
                  <a:lnTo>
                    <a:pt x="541" y="66"/>
                  </a:lnTo>
                  <a:lnTo>
                    <a:pt x="534" y="68"/>
                  </a:lnTo>
                  <a:lnTo>
                    <a:pt x="528" y="70"/>
                  </a:lnTo>
                  <a:lnTo>
                    <a:pt x="522" y="72"/>
                  </a:lnTo>
                  <a:lnTo>
                    <a:pt x="515" y="76"/>
                  </a:lnTo>
                  <a:lnTo>
                    <a:pt x="507" y="80"/>
                  </a:lnTo>
                  <a:lnTo>
                    <a:pt x="498" y="83"/>
                  </a:lnTo>
                  <a:lnTo>
                    <a:pt x="488" y="87"/>
                  </a:lnTo>
                  <a:lnTo>
                    <a:pt x="475" y="93"/>
                  </a:lnTo>
                  <a:lnTo>
                    <a:pt x="465" y="99"/>
                  </a:lnTo>
                  <a:lnTo>
                    <a:pt x="452" y="104"/>
                  </a:lnTo>
                  <a:lnTo>
                    <a:pt x="439" y="112"/>
                  </a:lnTo>
                  <a:lnTo>
                    <a:pt x="431" y="116"/>
                  </a:lnTo>
                  <a:lnTo>
                    <a:pt x="426" y="119"/>
                  </a:lnTo>
                  <a:lnTo>
                    <a:pt x="418" y="123"/>
                  </a:lnTo>
                  <a:lnTo>
                    <a:pt x="412" y="129"/>
                  </a:lnTo>
                  <a:lnTo>
                    <a:pt x="403" y="133"/>
                  </a:lnTo>
                  <a:lnTo>
                    <a:pt x="393" y="138"/>
                  </a:lnTo>
                  <a:lnTo>
                    <a:pt x="384" y="144"/>
                  </a:lnTo>
                  <a:lnTo>
                    <a:pt x="372" y="152"/>
                  </a:lnTo>
                  <a:lnTo>
                    <a:pt x="363" y="156"/>
                  </a:lnTo>
                  <a:lnTo>
                    <a:pt x="353" y="163"/>
                  </a:lnTo>
                  <a:lnTo>
                    <a:pt x="342" y="171"/>
                  </a:lnTo>
                  <a:lnTo>
                    <a:pt x="332" y="178"/>
                  </a:lnTo>
                  <a:lnTo>
                    <a:pt x="321" y="184"/>
                  </a:lnTo>
                  <a:lnTo>
                    <a:pt x="310" y="192"/>
                  </a:lnTo>
                  <a:lnTo>
                    <a:pt x="298" y="199"/>
                  </a:lnTo>
                  <a:lnTo>
                    <a:pt x="289" y="207"/>
                  </a:lnTo>
                  <a:lnTo>
                    <a:pt x="277" y="214"/>
                  </a:lnTo>
                  <a:lnTo>
                    <a:pt x="268" y="224"/>
                  </a:lnTo>
                  <a:lnTo>
                    <a:pt x="258" y="233"/>
                  </a:lnTo>
                  <a:lnTo>
                    <a:pt x="251" y="243"/>
                  </a:lnTo>
                  <a:lnTo>
                    <a:pt x="243" y="247"/>
                  </a:lnTo>
                  <a:lnTo>
                    <a:pt x="235" y="254"/>
                  </a:lnTo>
                  <a:lnTo>
                    <a:pt x="230" y="258"/>
                  </a:lnTo>
                  <a:lnTo>
                    <a:pt x="222" y="264"/>
                  </a:lnTo>
                  <a:lnTo>
                    <a:pt x="209" y="277"/>
                  </a:lnTo>
                  <a:lnTo>
                    <a:pt x="199" y="289"/>
                  </a:lnTo>
                  <a:lnTo>
                    <a:pt x="186" y="300"/>
                  </a:lnTo>
                  <a:lnTo>
                    <a:pt x="175" y="313"/>
                  </a:lnTo>
                  <a:lnTo>
                    <a:pt x="167" y="319"/>
                  </a:lnTo>
                  <a:lnTo>
                    <a:pt x="161" y="327"/>
                  </a:lnTo>
                  <a:lnTo>
                    <a:pt x="156" y="332"/>
                  </a:lnTo>
                  <a:lnTo>
                    <a:pt x="152" y="340"/>
                  </a:lnTo>
                  <a:lnTo>
                    <a:pt x="144" y="348"/>
                  </a:lnTo>
                  <a:lnTo>
                    <a:pt x="138" y="353"/>
                  </a:lnTo>
                  <a:lnTo>
                    <a:pt x="133" y="361"/>
                  </a:lnTo>
                  <a:lnTo>
                    <a:pt x="127" y="368"/>
                  </a:lnTo>
                  <a:lnTo>
                    <a:pt x="121" y="374"/>
                  </a:lnTo>
                  <a:lnTo>
                    <a:pt x="118" y="382"/>
                  </a:lnTo>
                  <a:lnTo>
                    <a:pt x="110" y="389"/>
                  </a:lnTo>
                  <a:lnTo>
                    <a:pt x="106" y="397"/>
                  </a:lnTo>
                  <a:lnTo>
                    <a:pt x="100" y="405"/>
                  </a:lnTo>
                  <a:lnTo>
                    <a:pt x="95" y="412"/>
                  </a:lnTo>
                  <a:lnTo>
                    <a:pt x="89" y="420"/>
                  </a:lnTo>
                  <a:lnTo>
                    <a:pt x="83" y="429"/>
                  </a:lnTo>
                  <a:lnTo>
                    <a:pt x="78" y="437"/>
                  </a:lnTo>
                  <a:lnTo>
                    <a:pt x="72" y="446"/>
                  </a:lnTo>
                  <a:lnTo>
                    <a:pt x="66" y="456"/>
                  </a:lnTo>
                  <a:lnTo>
                    <a:pt x="62" y="465"/>
                  </a:lnTo>
                  <a:lnTo>
                    <a:pt x="0" y="458"/>
                  </a:lnTo>
                  <a:lnTo>
                    <a:pt x="2" y="450"/>
                  </a:lnTo>
                  <a:lnTo>
                    <a:pt x="7" y="441"/>
                  </a:lnTo>
                  <a:lnTo>
                    <a:pt x="9" y="435"/>
                  </a:lnTo>
                  <a:lnTo>
                    <a:pt x="13" y="429"/>
                  </a:lnTo>
                  <a:lnTo>
                    <a:pt x="17" y="422"/>
                  </a:lnTo>
                  <a:lnTo>
                    <a:pt x="21" y="416"/>
                  </a:lnTo>
                  <a:lnTo>
                    <a:pt x="24" y="408"/>
                  </a:lnTo>
                  <a:lnTo>
                    <a:pt x="30" y="401"/>
                  </a:lnTo>
                  <a:lnTo>
                    <a:pt x="34" y="391"/>
                  </a:lnTo>
                  <a:lnTo>
                    <a:pt x="42" y="384"/>
                  </a:lnTo>
                  <a:lnTo>
                    <a:pt x="49" y="374"/>
                  </a:lnTo>
                  <a:lnTo>
                    <a:pt x="55" y="365"/>
                  </a:lnTo>
                  <a:lnTo>
                    <a:pt x="62" y="353"/>
                  </a:lnTo>
                  <a:lnTo>
                    <a:pt x="72" y="344"/>
                  </a:lnTo>
                  <a:lnTo>
                    <a:pt x="80" y="332"/>
                  </a:lnTo>
                  <a:lnTo>
                    <a:pt x="89" y="321"/>
                  </a:lnTo>
                  <a:lnTo>
                    <a:pt x="99" y="309"/>
                  </a:lnTo>
                  <a:lnTo>
                    <a:pt x="110" y="298"/>
                  </a:lnTo>
                  <a:lnTo>
                    <a:pt x="119" y="285"/>
                  </a:lnTo>
                  <a:lnTo>
                    <a:pt x="131" y="275"/>
                  </a:lnTo>
                  <a:lnTo>
                    <a:pt x="144" y="260"/>
                  </a:lnTo>
                  <a:lnTo>
                    <a:pt x="158" y="251"/>
                  </a:lnTo>
                  <a:lnTo>
                    <a:pt x="169" y="237"/>
                  </a:lnTo>
                  <a:lnTo>
                    <a:pt x="182" y="224"/>
                  </a:lnTo>
                  <a:lnTo>
                    <a:pt x="190" y="216"/>
                  </a:lnTo>
                  <a:lnTo>
                    <a:pt x="197" y="211"/>
                  </a:lnTo>
                  <a:lnTo>
                    <a:pt x="205" y="205"/>
                  </a:lnTo>
                  <a:lnTo>
                    <a:pt x="213" y="199"/>
                  </a:lnTo>
                  <a:lnTo>
                    <a:pt x="220" y="192"/>
                  </a:lnTo>
                  <a:lnTo>
                    <a:pt x="226" y="186"/>
                  </a:lnTo>
                  <a:lnTo>
                    <a:pt x="235" y="178"/>
                  </a:lnTo>
                  <a:lnTo>
                    <a:pt x="243" y="173"/>
                  </a:lnTo>
                  <a:lnTo>
                    <a:pt x="251" y="165"/>
                  </a:lnTo>
                  <a:lnTo>
                    <a:pt x="260" y="159"/>
                  </a:lnTo>
                  <a:lnTo>
                    <a:pt x="270" y="154"/>
                  </a:lnTo>
                  <a:lnTo>
                    <a:pt x="279" y="148"/>
                  </a:lnTo>
                  <a:lnTo>
                    <a:pt x="287" y="140"/>
                  </a:lnTo>
                  <a:lnTo>
                    <a:pt x="294" y="135"/>
                  </a:lnTo>
                  <a:lnTo>
                    <a:pt x="304" y="127"/>
                  </a:lnTo>
                  <a:lnTo>
                    <a:pt x="313" y="121"/>
                  </a:lnTo>
                  <a:lnTo>
                    <a:pt x="323" y="116"/>
                  </a:lnTo>
                  <a:lnTo>
                    <a:pt x="332" y="110"/>
                  </a:lnTo>
                  <a:lnTo>
                    <a:pt x="340" y="104"/>
                  </a:lnTo>
                  <a:lnTo>
                    <a:pt x="349" y="100"/>
                  </a:lnTo>
                  <a:lnTo>
                    <a:pt x="359" y="93"/>
                  </a:lnTo>
                  <a:lnTo>
                    <a:pt x="368" y="89"/>
                  </a:lnTo>
                  <a:lnTo>
                    <a:pt x="378" y="81"/>
                  </a:lnTo>
                  <a:lnTo>
                    <a:pt x="388" y="78"/>
                  </a:lnTo>
                  <a:lnTo>
                    <a:pt x="397" y="72"/>
                  </a:lnTo>
                  <a:lnTo>
                    <a:pt x="408" y="68"/>
                  </a:lnTo>
                  <a:lnTo>
                    <a:pt x="416" y="62"/>
                  </a:lnTo>
                  <a:lnTo>
                    <a:pt x="427" y="59"/>
                  </a:lnTo>
                  <a:lnTo>
                    <a:pt x="435" y="53"/>
                  </a:lnTo>
                  <a:lnTo>
                    <a:pt x="445" y="47"/>
                  </a:lnTo>
                  <a:lnTo>
                    <a:pt x="456" y="43"/>
                  </a:lnTo>
                  <a:lnTo>
                    <a:pt x="465" y="40"/>
                  </a:lnTo>
                  <a:lnTo>
                    <a:pt x="473" y="34"/>
                  </a:lnTo>
                  <a:lnTo>
                    <a:pt x="483" y="30"/>
                  </a:lnTo>
                  <a:lnTo>
                    <a:pt x="494" y="28"/>
                  </a:lnTo>
                  <a:lnTo>
                    <a:pt x="503" y="24"/>
                  </a:lnTo>
                  <a:lnTo>
                    <a:pt x="511" y="21"/>
                  </a:lnTo>
                  <a:lnTo>
                    <a:pt x="521" y="17"/>
                  </a:lnTo>
                  <a:lnTo>
                    <a:pt x="528" y="13"/>
                  </a:lnTo>
                  <a:lnTo>
                    <a:pt x="538" y="9"/>
                  </a:lnTo>
                  <a:lnTo>
                    <a:pt x="547" y="5"/>
                  </a:lnTo>
                  <a:lnTo>
                    <a:pt x="555" y="4"/>
                  </a:lnTo>
                  <a:lnTo>
                    <a:pt x="564" y="0"/>
                  </a:lnTo>
                  <a:lnTo>
                    <a:pt x="574" y="0"/>
                  </a:lnTo>
                  <a:lnTo>
                    <a:pt x="545" y="66"/>
                  </a:lnTo>
                  <a:lnTo>
                    <a:pt x="5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429280" y="304200"/>
              <a:ext cx="212400" cy="213480"/>
            </a:xfrm>
            <a:custGeom>
              <a:avLst/>
              <a:gdLst/>
              <a:ahLst/>
              <a:rect l="l" t="t" r="r" b="b"/>
              <a:pathLst>
                <a:path w="431" h="434">
                  <a:moveTo>
                    <a:pt x="22" y="434"/>
                  </a:moveTo>
                  <a:lnTo>
                    <a:pt x="30" y="432"/>
                  </a:lnTo>
                  <a:lnTo>
                    <a:pt x="41" y="428"/>
                  </a:lnTo>
                  <a:lnTo>
                    <a:pt x="45" y="422"/>
                  </a:lnTo>
                  <a:lnTo>
                    <a:pt x="53" y="419"/>
                  </a:lnTo>
                  <a:lnTo>
                    <a:pt x="60" y="413"/>
                  </a:lnTo>
                  <a:lnTo>
                    <a:pt x="70" y="407"/>
                  </a:lnTo>
                  <a:lnTo>
                    <a:pt x="79" y="398"/>
                  </a:lnTo>
                  <a:lnTo>
                    <a:pt x="91" y="388"/>
                  </a:lnTo>
                  <a:lnTo>
                    <a:pt x="97" y="382"/>
                  </a:lnTo>
                  <a:lnTo>
                    <a:pt x="102" y="377"/>
                  </a:lnTo>
                  <a:lnTo>
                    <a:pt x="110" y="371"/>
                  </a:lnTo>
                  <a:lnTo>
                    <a:pt x="118" y="365"/>
                  </a:lnTo>
                  <a:lnTo>
                    <a:pt x="125" y="358"/>
                  </a:lnTo>
                  <a:lnTo>
                    <a:pt x="133" y="350"/>
                  </a:lnTo>
                  <a:lnTo>
                    <a:pt x="140" y="343"/>
                  </a:lnTo>
                  <a:lnTo>
                    <a:pt x="150" y="337"/>
                  </a:lnTo>
                  <a:lnTo>
                    <a:pt x="157" y="325"/>
                  </a:lnTo>
                  <a:lnTo>
                    <a:pt x="167" y="318"/>
                  </a:lnTo>
                  <a:lnTo>
                    <a:pt x="178" y="308"/>
                  </a:lnTo>
                  <a:lnTo>
                    <a:pt x="190" y="301"/>
                  </a:lnTo>
                  <a:lnTo>
                    <a:pt x="199" y="289"/>
                  </a:lnTo>
                  <a:lnTo>
                    <a:pt x="211" y="280"/>
                  </a:lnTo>
                  <a:lnTo>
                    <a:pt x="222" y="268"/>
                  </a:lnTo>
                  <a:lnTo>
                    <a:pt x="233" y="259"/>
                  </a:lnTo>
                  <a:lnTo>
                    <a:pt x="243" y="248"/>
                  </a:lnTo>
                  <a:lnTo>
                    <a:pt x="252" y="238"/>
                  </a:lnTo>
                  <a:lnTo>
                    <a:pt x="264" y="228"/>
                  </a:lnTo>
                  <a:lnTo>
                    <a:pt x="275" y="219"/>
                  </a:lnTo>
                  <a:lnTo>
                    <a:pt x="285" y="209"/>
                  </a:lnTo>
                  <a:lnTo>
                    <a:pt x="294" y="198"/>
                  </a:lnTo>
                  <a:lnTo>
                    <a:pt x="306" y="189"/>
                  </a:lnTo>
                  <a:lnTo>
                    <a:pt x="315" y="181"/>
                  </a:lnTo>
                  <a:lnTo>
                    <a:pt x="325" y="171"/>
                  </a:lnTo>
                  <a:lnTo>
                    <a:pt x="334" y="162"/>
                  </a:lnTo>
                  <a:lnTo>
                    <a:pt x="344" y="152"/>
                  </a:lnTo>
                  <a:lnTo>
                    <a:pt x="353" y="145"/>
                  </a:lnTo>
                  <a:lnTo>
                    <a:pt x="361" y="135"/>
                  </a:lnTo>
                  <a:lnTo>
                    <a:pt x="370" y="128"/>
                  </a:lnTo>
                  <a:lnTo>
                    <a:pt x="376" y="118"/>
                  </a:lnTo>
                  <a:lnTo>
                    <a:pt x="386" y="111"/>
                  </a:lnTo>
                  <a:lnTo>
                    <a:pt x="391" y="103"/>
                  </a:lnTo>
                  <a:lnTo>
                    <a:pt x="397" y="95"/>
                  </a:lnTo>
                  <a:lnTo>
                    <a:pt x="405" y="88"/>
                  </a:lnTo>
                  <a:lnTo>
                    <a:pt x="410" y="82"/>
                  </a:lnTo>
                  <a:lnTo>
                    <a:pt x="414" y="75"/>
                  </a:lnTo>
                  <a:lnTo>
                    <a:pt x="418" y="69"/>
                  </a:lnTo>
                  <a:lnTo>
                    <a:pt x="422" y="61"/>
                  </a:lnTo>
                  <a:lnTo>
                    <a:pt x="425" y="57"/>
                  </a:lnTo>
                  <a:lnTo>
                    <a:pt x="427" y="48"/>
                  </a:lnTo>
                  <a:lnTo>
                    <a:pt x="431" y="40"/>
                  </a:lnTo>
                  <a:lnTo>
                    <a:pt x="427" y="31"/>
                  </a:lnTo>
                  <a:lnTo>
                    <a:pt x="425" y="25"/>
                  </a:lnTo>
                  <a:lnTo>
                    <a:pt x="422" y="18"/>
                  </a:lnTo>
                  <a:lnTo>
                    <a:pt x="414" y="14"/>
                  </a:lnTo>
                  <a:lnTo>
                    <a:pt x="406" y="10"/>
                  </a:lnTo>
                  <a:lnTo>
                    <a:pt x="397" y="6"/>
                  </a:lnTo>
                  <a:lnTo>
                    <a:pt x="387" y="2"/>
                  </a:lnTo>
                  <a:lnTo>
                    <a:pt x="376" y="2"/>
                  </a:lnTo>
                  <a:lnTo>
                    <a:pt x="368" y="2"/>
                  </a:lnTo>
                  <a:lnTo>
                    <a:pt x="361" y="0"/>
                  </a:lnTo>
                  <a:lnTo>
                    <a:pt x="353" y="0"/>
                  </a:lnTo>
                  <a:lnTo>
                    <a:pt x="346" y="0"/>
                  </a:lnTo>
                  <a:lnTo>
                    <a:pt x="338" y="0"/>
                  </a:lnTo>
                  <a:lnTo>
                    <a:pt x="329" y="0"/>
                  </a:lnTo>
                  <a:lnTo>
                    <a:pt x="321" y="0"/>
                  </a:lnTo>
                  <a:lnTo>
                    <a:pt x="311" y="0"/>
                  </a:lnTo>
                  <a:lnTo>
                    <a:pt x="302" y="0"/>
                  </a:lnTo>
                  <a:lnTo>
                    <a:pt x="292" y="0"/>
                  </a:lnTo>
                  <a:lnTo>
                    <a:pt x="283" y="2"/>
                  </a:lnTo>
                  <a:lnTo>
                    <a:pt x="273" y="2"/>
                  </a:lnTo>
                  <a:lnTo>
                    <a:pt x="262" y="2"/>
                  </a:lnTo>
                  <a:lnTo>
                    <a:pt x="251" y="4"/>
                  </a:lnTo>
                  <a:lnTo>
                    <a:pt x="239" y="6"/>
                  </a:lnTo>
                  <a:lnTo>
                    <a:pt x="230" y="8"/>
                  </a:lnTo>
                  <a:lnTo>
                    <a:pt x="224" y="8"/>
                  </a:lnTo>
                  <a:lnTo>
                    <a:pt x="218" y="8"/>
                  </a:lnTo>
                  <a:lnTo>
                    <a:pt x="211" y="10"/>
                  </a:lnTo>
                  <a:lnTo>
                    <a:pt x="205" y="10"/>
                  </a:lnTo>
                  <a:lnTo>
                    <a:pt x="195" y="10"/>
                  </a:lnTo>
                  <a:lnTo>
                    <a:pt x="188" y="12"/>
                  </a:lnTo>
                  <a:lnTo>
                    <a:pt x="182" y="14"/>
                  </a:lnTo>
                  <a:lnTo>
                    <a:pt x="175" y="16"/>
                  </a:lnTo>
                  <a:lnTo>
                    <a:pt x="165" y="16"/>
                  </a:lnTo>
                  <a:lnTo>
                    <a:pt x="157" y="18"/>
                  </a:lnTo>
                  <a:lnTo>
                    <a:pt x="148" y="19"/>
                  </a:lnTo>
                  <a:lnTo>
                    <a:pt x="140" y="21"/>
                  </a:lnTo>
                  <a:lnTo>
                    <a:pt x="133" y="23"/>
                  </a:lnTo>
                  <a:lnTo>
                    <a:pt x="123" y="27"/>
                  </a:lnTo>
                  <a:lnTo>
                    <a:pt x="116" y="27"/>
                  </a:lnTo>
                  <a:lnTo>
                    <a:pt x="108" y="31"/>
                  </a:lnTo>
                  <a:lnTo>
                    <a:pt x="100" y="33"/>
                  </a:lnTo>
                  <a:lnTo>
                    <a:pt x="91" y="35"/>
                  </a:lnTo>
                  <a:lnTo>
                    <a:pt x="83" y="37"/>
                  </a:lnTo>
                  <a:lnTo>
                    <a:pt x="76" y="40"/>
                  </a:lnTo>
                  <a:lnTo>
                    <a:pt x="68" y="42"/>
                  </a:lnTo>
                  <a:lnTo>
                    <a:pt x="60" y="44"/>
                  </a:lnTo>
                  <a:lnTo>
                    <a:pt x="55" y="48"/>
                  </a:lnTo>
                  <a:lnTo>
                    <a:pt x="47" y="52"/>
                  </a:lnTo>
                  <a:lnTo>
                    <a:pt x="36" y="56"/>
                  </a:lnTo>
                  <a:lnTo>
                    <a:pt x="28" y="63"/>
                  </a:lnTo>
                  <a:lnTo>
                    <a:pt x="21" y="69"/>
                  </a:lnTo>
                  <a:lnTo>
                    <a:pt x="19" y="75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5" y="88"/>
                  </a:lnTo>
                  <a:lnTo>
                    <a:pt x="15" y="95"/>
                  </a:lnTo>
                  <a:lnTo>
                    <a:pt x="13" y="103"/>
                  </a:lnTo>
                  <a:lnTo>
                    <a:pt x="11" y="111"/>
                  </a:lnTo>
                  <a:lnTo>
                    <a:pt x="11" y="120"/>
                  </a:lnTo>
                  <a:lnTo>
                    <a:pt x="11" y="132"/>
                  </a:lnTo>
                  <a:lnTo>
                    <a:pt x="9" y="141"/>
                  </a:lnTo>
                  <a:lnTo>
                    <a:pt x="7" y="152"/>
                  </a:lnTo>
                  <a:lnTo>
                    <a:pt x="7" y="164"/>
                  </a:lnTo>
                  <a:lnTo>
                    <a:pt x="7" y="177"/>
                  </a:lnTo>
                  <a:lnTo>
                    <a:pt x="5" y="190"/>
                  </a:lnTo>
                  <a:lnTo>
                    <a:pt x="5" y="204"/>
                  </a:lnTo>
                  <a:lnTo>
                    <a:pt x="5" y="209"/>
                  </a:lnTo>
                  <a:lnTo>
                    <a:pt x="5" y="215"/>
                  </a:lnTo>
                  <a:lnTo>
                    <a:pt x="5" y="223"/>
                  </a:lnTo>
                  <a:lnTo>
                    <a:pt x="5" y="230"/>
                  </a:lnTo>
                  <a:lnTo>
                    <a:pt x="3" y="244"/>
                  </a:lnTo>
                  <a:lnTo>
                    <a:pt x="3" y="255"/>
                  </a:lnTo>
                  <a:lnTo>
                    <a:pt x="3" y="268"/>
                  </a:lnTo>
                  <a:lnTo>
                    <a:pt x="3" y="282"/>
                  </a:lnTo>
                  <a:lnTo>
                    <a:pt x="2" y="293"/>
                  </a:lnTo>
                  <a:lnTo>
                    <a:pt x="2" y="305"/>
                  </a:lnTo>
                  <a:lnTo>
                    <a:pt x="2" y="316"/>
                  </a:lnTo>
                  <a:lnTo>
                    <a:pt x="2" y="327"/>
                  </a:lnTo>
                  <a:lnTo>
                    <a:pt x="0" y="337"/>
                  </a:lnTo>
                  <a:lnTo>
                    <a:pt x="0" y="346"/>
                  </a:lnTo>
                  <a:lnTo>
                    <a:pt x="0" y="354"/>
                  </a:lnTo>
                  <a:lnTo>
                    <a:pt x="0" y="363"/>
                  </a:lnTo>
                  <a:lnTo>
                    <a:pt x="0" y="369"/>
                  </a:lnTo>
                  <a:lnTo>
                    <a:pt x="0" y="377"/>
                  </a:lnTo>
                  <a:lnTo>
                    <a:pt x="0" y="381"/>
                  </a:lnTo>
                  <a:lnTo>
                    <a:pt x="0" y="384"/>
                  </a:lnTo>
                  <a:lnTo>
                    <a:pt x="0" y="394"/>
                  </a:lnTo>
                  <a:lnTo>
                    <a:pt x="0" y="405"/>
                  </a:lnTo>
                  <a:lnTo>
                    <a:pt x="0" y="411"/>
                  </a:lnTo>
                  <a:lnTo>
                    <a:pt x="3" y="420"/>
                  </a:lnTo>
                  <a:lnTo>
                    <a:pt x="5" y="426"/>
                  </a:lnTo>
                  <a:lnTo>
                    <a:pt x="11" y="430"/>
                  </a:lnTo>
                  <a:lnTo>
                    <a:pt x="15" y="432"/>
                  </a:lnTo>
                  <a:lnTo>
                    <a:pt x="22" y="434"/>
                  </a:lnTo>
                  <a:lnTo>
                    <a:pt x="22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458440" y="325800"/>
              <a:ext cx="163440" cy="161280"/>
            </a:xfrm>
            <a:custGeom>
              <a:avLst/>
              <a:gdLst/>
              <a:ahLst/>
              <a:rect l="l" t="t" r="r" b="b"/>
              <a:pathLst>
                <a:path w="330" h="329">
                  <a:moveTo>
                    <a:pt x="19" y="59"/>
                  </a:moveTo>
                  <a:lnTo>
                    <a:pt x="17" y="63"/>
                  </a:lnTo>
                  <a:lnTo>
                    <a:pt x="15" y="74"/>
                  </a:lnTo>
                  <a:lnTo>
                    <a:pt x="15" y="80"/>
                  </a:lnTo>
                  <a:lnTo>
                    <a:pt x="15" y="88"/>
                  </a:lnTo>
                  <a:lnTo>
                    <a:pt x="13" y="95"/>
                  </a:lnTo>
                  <a:lnTo>
                    <a:pt x="13" y="105"/>
                  </a:lnTo>
                  <a:lnTo>
                    <a:pt x="11" y="114"/>
                  </a:lnTo>
                  <a:lnTo>
                    <a:pt x="11" y="124"/>
                  </a:lnTo>
                  <a:lnTo>
                    <a:pt x="11" y="133"/>
                  </a:lnTo>
                  <a:lnTo>
                    <a:pt x="11" y="145"/>
                  </a:lnTo>
                  <a:lnTo>
                    <a:pt x="9" y="156"/>
                  </a:lnTo>
                  <a:lnTo>
                    <a:pt x="7" y="167"/>
                  </a:lnTo>
                  <a:lnTo>
                    <a:pt x="7" y="181"/>
                  </a:lnTo>
                  <a:lnTo>
                    <a:pt x="7" y="192"/>
                  </a:lnTo>
                  <a:lnTo>
                    <a:pt x="7" y="204"/>
                  </a:lnTo>
                  <a:lnTo>
                    <a:pt x="5" y="217"/>
                  </a:lnTo>
                  <a:lnTo>
                    <a:pt x="5" y="226"/>
                  </a:lnTo>
                  <a:lnTo>
                    <a:pt x="5" y="240"/>
                  </a:lnTo>
                  <a:lnTo>
                    <a:pt x="3" y="249"/>
                  </a:lnTo>
                  <a:lnTo>
                    <a:pt x="1" y="261"/>
                  </a:lnTo>
                  <a:lnTo>
                    <a:pt x="1" y="270"/>
                  </a:lnTo>
                  <a:lnTo>
                    <a:pt x="1" y="281"/>
                  </a:lnTo>
                  <a:lnTo>
                    <a:pt x="1" y="289"/>
                  </a:lnTo>
                  <a:lnTo>
                    <a:pt x="0" y="297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21"/>
                  </a:lnTo>
                  <a:lnTo>
                    <a:pt x="0" y="327"/>
                  </a:lnTo>
                  <a:lnTo>
                    <a:pt x="1" y="329"/>
                  </a:lnTo>
                  <a:lnTo>
                    <a:pt x="9" y="323"/>
                  </a:lnTo>
                  <a:lnTo>
                    <a:pt x="15" y="319"/>
                  </a:lnTo>
                  <a:lnTo>
                    <a:pt x="22" y="314"/>
                  </a:lnTo>
                  <a:lnTo>
                    <a:pt x="28" y="306"/>
                  </a:lnTo>
                  <a:lnTo>
                    <a:pt x="39" y="299"/>
                  </a:lnTo>
                  <a:lnTo>
                    <a:pt x="47" y="289"/>
                  </a:lnTo>
                  <a:lnTo>
                    <a:pt x="60" y="278"/>
                  </a:lnTo>
                  <a:lnTo>
                    <a:pt x="70" y="266"/>
                  </a:lnTo>
                  <a:lnTo>
                    <a:pt x="83" y="255"/>
                  </a:lnTo>
                  <a:lnTo>
                    <a:pt x="91" y="247"/>
                  </a:lnTo>
                  <a:lnTo>
                    <a:pt x="97" y="242"/>
                  </a:lnTo>
                  <a:lnTo>
                    <a:pt x="104" y="236"/>
                  </a:lnTo>
                  <a:lnTo>
                    <a:pt x="112" y="230"/>
                  </a:lnTo>
                  <a:lnTo>
                    <a:pt x="119" y="223"/>
                  </a:lnTo>
                  <a:lnTo>
                    <a:pt x="127" y="215"/>
                  </a:lnTo>
                  <a:lnTo>
                    <a:pt x="135" y="207"/>
                  </a:lnTo>
                  <a:lnTo>
                    <a:pt x="144" y="202"/>
                  </a:lnTo>
                  <a:lnTo>
                    <a:pt x="152" y="192"/>
                  </a:lnTo>
                  <a:lnTo>
                    <a:pt x="159" y="184"/>
                  </a:lnTo>
                  <a:lnTo>
                    <a:pt x="169" y="175"/>
                  </a:lnTo>
                  <a:lnTo>
                    <a:pt x="176" y="167"/>
                  </a:lnTo>
                  <a:lnTo>
                    <a:pt x="184" y="160"/>
                  </a:lnTo>
                  <a:lnTo>
                    <a:pt x="193" y="152"/>
                  </a:lnTo>
                  <a:lnTo>
                    <a:pt x="201" y="145"/>
                  </a:lnTo>
                  <a:lnTo>
                    <a:pt x="211" y="137"/>
                  </a:lnTo>
                  <a:lnTo>
                    <a:pt x="218" y="127"/>
                  </a:lnTo>
                  <a:lnTo>
                    <a:pt x="228" y="120"/>
                  </a:lnTo>
                  <a:lnTo>
                    <a:pt x="235" y="112"/>
                  </a:lnTo>
                  <a:lnTo>
                    <a:pt x="245" y="105"/>
                  </a:lnTo>
                  <a:lnTo>
                    <a:pt x="250" y="97"/>
                  </a:lnTo>
                  <a:lnTo>
                    <a:pt x="260" y="89"/>
                  </a:lnTo>
                  <a:lnTo>
                    <a:pt x="268" y="82"/>
                  </a:lnTo>
                  <a:lnTo>
                    <a:pt x="275" y="76"/>
                  </a:lnTo>
                  <a:lnTo>
                    <a:pt x="283" y="69"/>
                  </a:lnTo>
                  <a:lnTo>
                    <a:pt x="289" y="61"/>
                  </a:lnTo>
                  <a:lnTo>
                    <a:pt x="294" y="53"/>
                  </a:lnTo>
                  <a:lnTo>
                    <a:pt x="300" y="48"/>
                  </a:lnTo>
                  <a:lnTo>
                    <a:pt x="309" y="36"/>
                  </a:lnTo>
                  <a:lnTo>
                    <a:pt x="319" y="27"/>
                  </a:lnTo>
                  <a:lnTo>
                    <a:pt x="327" y="17"/>
                  </a:lnTo>
                  <a:lnTo>
                    <a:pt x="330" y="12"/>
                  </a:lnTo>
                  <a:lnTo>
                    <a:pt x="330" y="8"/>
                  </a:lnTo>
                  <a:lnTo>
                    <a:pt x="330" y="6"/>
                  </a:lnTo>
                  <a:lnTo>
                    <a:pt x="325" y="4"/>
                  </a:lnTo>
                  <a:lnTo>
                    <a:pt x="319" y="2"/>
                  </a:lnTo>
                  <a:lnTo>
                    <a:pt x="311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87" y="0"/>
                  </a:lnTo>
                  <a:lnTo>
                    <a:pt x="277" y="0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5" y="0"/>
                  </a:lnTo>
                  <a:lnTo>
                    <a:pt x="233" y="2"/>
                  </a:lnTo>
                  <a:lnTo>
                    <a:pt x="222" y="4"/>
                  </a:lnTo>
                  <a:lnTo>
                    <a:pt x="214" y="4"/>
                  </a:lnTo>
                  <a:lnTo>
                    <a:pt x="209" y="4"/>
                  </a:lnTo>
                  <a:lnTo>
                    <a:pt x="201" y="6"/>
                  </a:lnTo>
                  <a:lnTo>
                    <a:pt x="195" y="8"/>
                  </a:lnTo>
                  <a:lnTo>
                    <a:pt x="188" y="8"/>
                  </a:lnTo>
                  <a:lnTo>
                    <a:pt x="182" y="10"/>
                  </a:lnTo>
                  <a:lnTo>
                    <a:pt x="174" y="10"/>
                  </a:lnTo>
                  <a:lnTo>
                    <a:pt x="169" y="13"/>
                  </a:lnTo>
                  <a:lnTo>
                    <a:pt x="155" y="13"/>
                  </a:lnTo>
                  <a:lnTo>
                    <a:pt x="144" y="15"/>
                  </a:lnTo>
                  <a:lnTo>
                    <a:pt x="135" y="17"/>
                  </a:lnTo>
                  <a:lnTo>
                    <a:pt x="127" y="19"/>
                  </a:lnTo>
                  <a:lnTo>
                    <a:pt x="117" y="21"/>
                  </a:lnTo>
                  <a:lnTo>
                    <a:pt x="108" y="23"/>
                  </a:lnTo>
                  <a:lnTo>
                    <a:pt x="100" y="25"/>
                  </a:lnTo>
                  <a:lnTo>
                    <a:pt x="93" y="27"/>
                  </a:lnTo>
                  <a:lnTo>
                    <a:pt x="87" y="27"/>
                  </a:lnTo>
                  <a:lnTo>
                    <a:pt x="79" y="29"/>
                  </a:lnTo>
                  <a:lnTo>
                    <a:pt x="74" y="31"/>
                  </a:lnTo>
                  <a:lnTo>
                    <a:pt x="66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39" y="42"/>
                  </a:lnTo>
                  <a:lnTo>
                    <a:pt x="34" y="44"/>
                  </a:lnTo>
                  <a:lnTo>
                    <a:pt x="28" y="46"/>
                  </a:lnTo>
                  <a:lnTo>
                    <a:pt x="24" y="50"/>
                  </a:lnTo>
                  <a:lnTo>
                    <a:pt x="19" y="55"/>
                  </a:lnTo>
                  <a:lnTo>
                    <a:pt x="19" y="59"/>
                  </a:lnTo>
                  <a:lnTo>
                    <a:pt x="19" y="59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360160" y="356400"/>
              <a:ext cx="246960" cy="201960"/>
            </a:xfrm>
            <a:custGeom>
              <a:avLst/>
              <a:gdLst/>
              <a:ahLst/>
              <a:rect l="l" t="t" r="r" b="b"/>
              <a:pathLst>
                <a:path w="504" h="408">
                  <a:moveTo>
                    <a:pt x="2" y="338"/>
                  </a:moveTo>
                  <a:lnTo>
                    <a:pt x="0" y="334"/>
                  </a:lnTo>
                  <a:lnTo>
                    <a:pt x="2" y="329"/>
                  </a:lnTo>
                  <a:lnTo>
                    <a:pt x="6" y="321"/>
                  </a:lnTo>
                  <a:lnTo>
                    <a:pt x="11" y="315"/>
                  </a:lnTo>
                  <a:lnTo>
                    <a:pt x="17" y="304"/>
                  </a:lnTo>
                  <a:lnTo>
                    <a:pt x="27" y="296"/>
                  </a:lnTo>
                  <a:lnTo>
                    <a:pt x="36" y="287"/>
                  </a:lnTo>
                  <a:lnTo>
                    <a:pt x="50" y="277"/>
                  </a:lnTo>
                  <a:lnTo>
                    <a:pt x="53" y="270"/>
                  </a:lnTo>
                  <a:lnTo>
                    <a:pt x="59" y="264"/>
                  </a:lnTo>
                  <a:lnTo>
                    <a:pt x="65" y="258"/>
                  </a:lnTo>
                  <a:lnTo>
                    <a:pt x="72" y="253"/>
                  </a:lnTo>
                  <a:lnTo>
                    <a:pt x="80" y="247"/>
                  </a:lnTo>
                  <a:lnTo>
                    <a:pt x="86" y="239"/>
                  </a:lnTo>
                  <a:lnTo>
                    <a:pt x="93" y="234"/>
                  </a:lnTo>
                  <a:lnTo>
                    <a:pt x="103" y="228"/>
                  </a:lnTo>
                  <a:lnTo>
                    <a:pt x="110" y="220"/>
                  </a:lnTo>
                  <a:lnTo>
                    <a:pt x="116" y="215"/>
                  </a:lnTo>
                  <a:lnTo>
                    <a:pt x="126" y="209"/>
                  </a:lnTo>
                  <a:lnTo>
                    <a:pt x="135" y="201"/>
                  </a:lnTo>
                  <a:lnTo>
                    <a:pt x="141" y="196"/>
                  </a:lnTo>
                  <a:lnTo>
                    <a:pt x="150" y="188"/>
                  </a:lnTo>
                  <a:lnTo>
                    <a:pt x="158" y="182"/>
                  </a:lnTo>
                  <a:lnTo>
                    <a:pt x="167" y="177"/>
                  </a:lnTo>
                  <a:lnTo>
                    <a:pt x="175" y="169"/>
                  </a:lnTo>
                  <a:lnTo>
                    <a:pt x="184" y="161"/>
                  </a:lnTo>
                  <a:lnTo>
                    <a:pt x="192" y="154"/>
                  </a:lnTo>
                  <a:lnTo>
                    <a:pt x="202" y="148"/>
                  </a:lnTo>
                  <a:lnTo>
                    <a:pt x="209" y="141"/>
                  </a:lnTo>
                  <a:lnTo>
                    <a:pt x="219" y="135"/>
                  </a:lnTo>
                  <a:lnTo>
                    <a:pt x="226" y="129"/>
                  </a:lnTo>
                  <a:lnTo>
                    <a:pt x="238" y="123"/>
                  </a:lnTo>
                  <a:lnTo>
                    <a:pt x="243" y="116"/>
                  </a:lnTo>
                  <a:lnTo>
                    <a:pt x="253" y="108"/>
                  </a:lnTo>
                  <a:lnTo>
                    <a:pt x="261" y="102"/>
                  </a:lnTo>
                  <a:lnTo>
                    <a:pt x="268" y="97"/>
                  </a:lnTo>
                  <a:lnTo>
                    <a:pt x="276" y="91"/>
                  </a:lnTo>
                  <a:lnTo>
                    <a:pt x="285" y="85"/>
                  </a:lnTo>
                  <a:lnTo>
                    <a:pt x="293" y="80"/>
                  </a:lnTo>
                  <a:lnTo>
                    <a:pt x="302" y="76"/>
                  </a:lnTo>
                  <a:lnTo>
                    <a:pt x="308" y="70"/>
                  </a:lnTo>
                  <a:lnTo>
                    <a:pt x="316" y="64"/>
                  </a:lnTo>
                  <a:lnTo>
                    <a:pt x="323" y="59"/>
                  </a:lnTo>
                  <a:lnTo>
                    <a:pt x="329" y="55"/>
                  </a:lnTo>
                  <a:lnTo>
                    <a:pt x="342" y="45"/>
                  </a:lnTo>
                  <a:lnTo>
                    <a:pt x="354" y="38"/>
                  </a:lnTo>
                  <a:lnTo>
                    <a:pt x="363" y="30"/>
                  </a:lnTo>
                  <a:lnTo>
                    <a:pt x="375" y="25"/>
                  </a:lnTo>
                  <a:lnTo>
                    <a:pt x="382" y="21"/>
                  </a:lnTo>
                  <a:lnTo>
                    <a:pt x="390" y="17"/>
                  </a:lnTo>
                  <a:lnTo>
                    <a:pt x="399" y="9"/>
                  </a:lnTo>
                  <a:lnTo>
                    <a:pt x="409" y="6"/>
                  </a:lnTo>
                  <a:lnTo>
                    <a:pt x="418" y="2"/>
                  </a:lnTo>
                  <a:lnTo>
                    <a:pt x="430" y="2"/>
                  </a:lnTo>
                  <a:lnTo>
                    <a:pt x="439" y="0"/>
                  </a:lnTo>
                  <a:lnTo>
                    <a:pt x="447" y="0"/>
                  </a:lnTo>
                  <a:lnTo>
                    <a:pt x="456" y="2"/>
                  </a:lnTo>
                  <a:lnTo>
                    <a:pt x="464" y="7"/>
                  </a:lnTo>
                  <a:lnTo>
                    <a:pt x="470" y="11"/>
                  </a:lnTo>
                  <a:lnTo>
                    <a:pt x="477" y="21"/>
                  </a:lnTo>
                  <a:lnTo>
                    <a:pt x="483" y="28"/>
                  </a:lnTo>
                  <a:lnTo>
                    <a:pt x="491" y="40"/>
                  </a:lnTo>
                  <a:lnTo>
                    <a:pt x="491" y="45"/>
                  </a:lnTo>
                  <a:lnTo>
                    <a:pt x="492" y="53"/>
                  </a:lnTo>
                  <a:lnTo>
                    <a:pt x="494" y="61"/>
                  </a:lnTo>
                  <a:lnTo>
                    <a:pt x="496" y="68"/>
                  </a:lnTo>
                  <a:lnTo>
                    <a:pt x="498" y="76"/>
                  </a:lnTo>
                  <a:lnTo>
                    <a:pt x="500" y="85"/>
                  </a:lnTo>
                  <a:lnTo>
                    <a:pt x="500" y="95"/>
                  </a:lnTo>
                  <a:lnTo>
                    <a:pt x="504" y="106"/>
                  </a:lnTo>
                  <a:lnTo>
                    <a:pt x="504" y="116"/>
                  </a:lnTo>
                  <a:lnTo>
                    <a:pt x="504" y="127"/>
                  </a:lnTo>
                  <a:lnTo>
                    <a:pt x="504" y="139"/>
                  </a:lnTo>
                  <a:lnTo>
                    <a:pt x="504" y="150"/>
                  </a:lnTo>
                  <a:lnTo>
                    <a:pt x="504" y="160"/>
                  </a:lnTo>
                  <a:lnTo>
                    <a:pt x="504" y="169"/>
                  </a:lnTo>
                  <a:lnTo>
                    <a:pt x="504" y="179"/>
                  </a:lnTo>
                  <a:lnTo>
                    <a:pt x="504" y="188"/>
                  </a:lnTo>
                  <a:lnTo>
                    <a:pt x="504" y="198"/>
                  </a:lnTo>
                  <a:lnTo>
                    <a:pt x="502" y="205"/>
                  </a:lnTo>
                  <a:lnTo>
                    <a:pt x="500" y="215"/>
                  </a:lnTo>
                  <a:lnTo>
                    <a:pt x="500" y="222"/>
                  </a:lnTo>
                  <a:lnTo>
                    <a:pt x="500" y="230"/>
                  </a:lnTo>
                  <a:lnTo>
                    <a:pt x="500" y="239"/>
                  </a:lnTo>
                  <a:lnTo>
                    <a:pt x="498" y="247"/>
                  </a:lnTo>
                  <a:lnTo>
                    <a:pt x="498" y="255"/>
                  </a:lnTo>
                  <a:lnTo>
                    <a:pt x="496" y="260"/>
                  </a:lnTo>
                  <a:lnTo>
                    <a:pt x="494" y="268"/>
                  </a:lnTo>
                  <a:lnTo>
                    <a:pt x="492" y="274"/>
                  </a:lnTo>
                  <a:lnTo>
                    <a:pt x="492" y="281"/>
                  </a:lnTo>
                  <a:lnTo>
                    <a:pt x="491" y="294"/>
                  </a:lnTo>
                  <a:lnTo>
                    <a:pt x="487" y="306"/>
                  </a:lnTo>
                  <a:lnTo>
                    <a:pt x="483" y="315"/>
                  </a:lnTo>
                  <a:lnTo>
                    <a:pt x="479" y="327"/>
                  </a:lnTo>
                  <a:lnTo>
                    <a:pt x="475" y="336"/>
                  </a:lnTo>
                  <a:lnTo>
                    <a:pt x="473" y="346"/>
                  </a:lnTo>
                  <a:lnTo>
                    <a:pt x="468" y="351"/>
                  </a:lnTo>
                  <a:lnTo>
                    <a:pt x="464" y="359"/>
                  </a:lnTo>
                  <a:lnTo>
                    <a:pt x="460" y="365"/>
                  </a:lnTo>
                  <a:lnTo>
                    <a:pt x="456" y="370"/>
                  </a:lnTo>
                  <a:lnTo>
                    <a:pt x="447" y="382"/>
                  </a:lnTo>
                  <a:lnTo>
                    <a:pt x="439" y="391"/>
                  </a:lnTo>
                  <a:lnTo>
                    <a:pt x="432" y="395"/>
                  </a:lnTo>
                  <a:lnTo>
                    <a:pt x="426" y="401"/>
                  </a:lnTo>
                  <a:lnTo>
                    <a:pt x="418" y="403"/>
                  </a:lnTo>
                  <a:lnTo>
                    <a:pt x="414" y="407"/>
                  </a:lnTo>
                  <a:lnTo>
                    <a:pt x="409" y="407"/>
                  </a:lnTo>
                  <a:lnTo>
                    <a:pt x="401" y="407"/>
                  </a:lnTo>
                  <a:lnTo>
                    <a:pt x="394" y="407"/>
                  </a:lnTo>
                  <a:lnTo>
                    <a:pt x="386" y="408"/>
                  </a:lnTo>
                  <a:lnTo>
                    <a:pt x="376" y="407"/>
                  </a:lnTo>
                  <a:lnTo>
                    <a:pt x="367" y="407"/>
                  </a:lnTo>
                  <a:lnTo>
                    <a:pt x="354" y="407"/>
                  </a:lnTo>
                  <a:lnTo>
                    <a:pt x="342" y="407"/>
                  </a:lnTo>
                  <a:lnTo>
                    <a:pt x="333" y="405"/>
                  </a:lnTo>
                  <a:lnTo>
                    <a:pt x="325" y="405"/>
                  </a:lnTo>
                  <a:lnTo>
                    <a:pt x="319" y="403"/>
                  </a:lnTo>
                  <a:lnTo>
                    <a:pt x="312" y="403"/>
                  </a:lnTo>
                  <a:lnTo>
                    <a:pt x="302" y="401"/>
                  </a:lnTo>
                  <a:lnTo>
                    <a:pt x="295" y="401"/>
                  </a:lnTo>
                  <a:lnTo>
                    <a:pt x="285" y="401"/>
                  </a:lnTo>
                  <a:lnTo>
                    <a:pt x="278" y="401"/>
                  </a:lnTo>
                  <a:lnTo>
                    <a:pt x="268" y="397"/>
                  </a:lnTo>
                  <a:lnTo>
                    <a:pt x="257" y="397"/>
                  </a:lnTo>
                  <a:lnTo>
                    <a:pt x="247" y="395"/>
                  </a:lnTo>
                  <a:lnTo>
                    <a:pt x="238" y="395"/>
                  </a:lnTo>
                  <a:lnTo>
                    <a:pt x="224" y="393"/>
                  </a:lnTo>
                  <a:lnTo>
                    <a:pt x="213" y="391"/>
                  </a:lnTo>
                  <a:lnTo>
                    <a:pt x="202" y="391"/>
                  </a:lnTo>
                  <a:lnTo>
                    <a:pt x="188" y="391"/>
                  </a:lnTo>
                  <a:lnTo>
                    <a:pt x="175" y="388"/>
                  </a:lnTo>
                  <a:lnTo>
                    <a:pt x="164" y="388"/>
                  </a:lnTo>
                  <a:lnTo>
                    <a:pt x="152" y="384"/>
                  </a:lnTo>
                  <a:lnTo>
                    <a:pt x="141" y="384"/>
                  </a:lnTo>
                  <a:lnTo>
                    <a:pt x="131" y="382"/>
                  </a:lnTo>
                  <a:lnTo>
                    <a:pt x="120" y="380"/>
                  </a:lnTo>
                  <a:lnTo>
                    <a:pt x="110" y="380"/>
                  </a:lnTo>
                  <a:lnTo>
                    <a:pt x="103" y="380"/>
                  </a:lnTo>
                  <a:lnTo>
                    <a:pt x="93" y="378"/>
                  </a:lnTo>
                  <a:lnTo>
                    <a:pt x="86" y="376"/>
                  </a:lnTo>
                  <a:lnTo>
                    <a:pt x="78" y="376"/>
                  </a:lnTo>
                  <a:lnTo>
                    <a:pt x="70" y="374"/>
                  </a:lnTo>
                  <a:lnTo>
                    <a:pt x="57" y="372"/>
                  </a:lnTo>
                  <a:lnTo>
                    <a:pt x="48" y="370"/>
                  </a:lnTo>
                  <a:lnTo>
                    <a:pt x="36" y="367"/>
                  </a:lnTo>
                  <a:lnTo>
                    <a:pt x="29" y="365"/>
                  </a:lnTo>
                  <a:lnTo>
                    <a:pt x="19" y="361"/>
                  </a:lnTo>
                  <a:lnTo>
                    <a:pt x="13" y="359"/>
                  </a:lnTo>
                  <a:lnTo>
                    <a:pt x="6" y="350"/>
                  </a:lnTo>
                  <a:lnTo>
                    <a:pt x="2" y="338"/>
                  </a:lnTo>
                  <a:lnTo>
                    <a:pt x="2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383200" y="384840"/>
              <a:ext cx="188640" cy="146520"/>
            </a:xfrm>
            <a:custGeom>
              <a:avLst/>
              <a:gdLst/>
              <a:ahLst/>
              <a:rect l="l" t="t" r="r" b="b"/>
              <a:pathLst>
                <a:path w="384" h="298">
                  <a:moveTo>
                    <a:pt x="8" y="274"/>
                  </a:moveTo>
                  <a:lnTo>
                    <a:pt x="12" y="274"/>
                  </a:lnTo>
                  <a:lnTo>
                    <a:pt x="19" y="274"/>
                  </a:lnTo>
                  <a:lnTo>
                    <a:pt x="27" y="274"/>
                  </a:lnTo>
                  <a:lnTo>
                    <a:pt x="38" y="275"/>
                  </a:lnTo>
                  <a:lnTo>
                    <a:pt x="48" y="275"/>
                  </a:lnTo>
                  <a:lnTo>
                    <a:pt x="59" y="279"/>
                  </a:lnTo>
                  <a:lnTo>
                    <a:pt x="65" y="279"/>
                  </a:lnTo>
                  <a:lnTo>
                    <a:pt x="73" y="279"/>
                  </a:lnTo>
                  <a:lnTo>
                    <a:pt x="80" y="281"/>
                  </a:lnTo>
                  <a:lnTo>
                    <a:pt x="88" y="281"/>
                  </a:lnTo>
                  <a:lnTo>
                    <a:pt x="93" y="281"/>
                  </a:lnTo>
                  <a:lnTo>
                    <a:pt x="101" y="281"/>
                  </a:lnTo>
                  <a:lnTo>
                    <a:pt x="109" y="283"/>
                  </a:lnTo>
                  <a:lnTo>
                    <a:pt x="116" y="285"/>
                  </a:lnTo>
                  <a:lnTo>
                    <a:pt x="124" y="285"/>
                  </a:lnTo>
                  <a:lnTo>
                    <a:pt x="133" y="285"/>
                  </a:lnTo>
                  <a:lnTo>
                    <a:pt x="141" y="287"/>
                  </a:lnTo>
                  <a:lnTo>
                    <a:pt x="150" y="289"/>
                  </a:lnTo>
                  <a:lnTo>
                    <a:pt x="158" y="289"/>
                  </a:lnTo>
                  <a:lnTo>
                    <a:pt x="168" y="289"/>
                  </a:lnTo>
                  <a:lnTo>
                    <a:pt x="175" y="289"/>
                  </a:lnTo>
                  <a:lnTo>
                    <a:pt x="185" y="291"/>
                  </a:lnTo>
                  <a:lnTo>
                    <a:pt x="194" y="291"/>
                  </a:lnTo>
                  <a:lnTo>
                    <a:pt x="204" y="293"/>
                  </a:lnTo>
                  <a:lnTo>
                    <a:pt x="213" y="293"/>
                  </a:lnTo>
                  <a:lnTo>
                    <a:pt x="223" y="294"/>
                  </a:lnTo>
                  <a:lnTo>
                    <a:pt x="232" y="294"/>
                  </a:lnTo>
                  <a:lnTo>
                    <a:pt x="242" y="294"/>
                  </a:lnTo>
                  <a:lnTo>
                    <a:pt x="251" y="294"/>
                  </a:lnTo>
                  <a:lnTo>
                    <a:pt x="261" y="296"/>
                  </a:lnTo>
                  <a:lnTo>
                    <a:pt x="270" y="296"/>
                  </a:lnTo>
                  <a:lnTo>
                    <a:pt x="278" y="296"/>
                  </a:lnTo>
                  <a:lnTo>
                    <a:pt x="285" y="296"/>
                  </a:lnTo>
                  <a:lnTo>
                    <a:pt x="295" y="298"/>
                  </a:lnTo>
                  <a:lnTo>
                    <a:pt x="306" y="296"/>
                  </a:lnTo>
                  <a:lnTo>
                    <a:pt x="318" y="296"/>
                  </a:lnTo>
                  <a:lnTo>
                    <a:pt x="325" y="296"/>
                  </a:lnTo>
                  <a:lnTo>
                    <a:pt x="333" y="294"/>
                  </a:lnTo>
                  <a:lnTo>
                    <a:pt x="339" y="287"/>
                  </a:lnTo>
                  <a:lnTo>
                    <a:pt x="344" y="281"/>
                  </a:lnTo>
                  <a:lnTo>
                    <a:pt x="350" y="272"/>
                  </a:lnTo>
                  <a:lnTo>
                    <a:pt x="354" y="264"/>
                  </a:lnTo>
                  <a:lnTo>
                    <a:pt x="358" y="255"/>
                  </a:lnTo>
                  <a:lnTo>
                    <a:pt x="361" y="247"/>
                  </a:lnTo>
                  <a:lnTo>
                    <a:pt x="365" y="237"/>
                  </a:lnTo>
                  <a:lnTo>
                    <a:pt x="369" y="228"/>
                  </a:lnTo>
                  <a:lnTo>
                    <a:pt x="371" y="217"/>
                  </a:lnTo>
                  <a:lnTo>
                    <a:pt x="373" y="207"/>
                  </a:lnTo>
                  <a:lnTo>
                    <a:pt x="373" y="196"/>
                  </a:lnTo>
                  <a:lnTo>
                    <a:pt x="377" y="186"/>
                  </a:lnTo>
                  <a:lnTo>
                    <a:pt x="377" y="175"/>
                  </a:lnTo>
                  <a:lnTo>
                    <a:pt x="379" y="165"/>
                  </a:lnTo>
                  <a:lnTo>
                    <a:pt x="380" y="156"/>
                  </a:lnTo>
                  <a:lnTo>
                    <a:pt x="382" y="148"/>
                  </a:lnTo>
                  <a:lnTo>
                    <a:pt x="382" y="137"/>
                  </a:lnTo>
                  <a:lnTo>
                    <a:pt x="384" y="125"/>
                  </a:lnTo>
                  <a:lnTo>
                    <a:pt x="384" y="114"/>
                  </a:lnTo>
                  <a:lnTo>
                    <a:pt x="384" y="104"/>
                  </a:lnTo>
                  <a:lnTo>
                    <a:pt x="384" y="91"/>
                  </a:lnTo>
                  <a:lnTo>
                    <a:pt x="384" y="80"/>
                  </a:lnTo>
                  <a:lnTo>
                    <a:pt x="384" y="68"/>
                  </a:lnTo>
                  <a:lnTo>
                    <a:pt x="384" y="57"/>
                  </a:lnTo>
                  <a:lnTo>
                    <a:pt x="382" y="45"/>
                  </a:lnTo>
                  <a:lnTo>
                    <a:pt x="380" y="36"/>
                  </a:lnTo>
                  <a:lnTo>
                    <a:pt x="379" y="26"/>
                  </a:lnTo>
                  <a:lnTo>
                    <a:pt x="377" y="19"/>
                  </a:lnTo>
                  <a:lnTo>
                    <a:pt x="373" y="11"/>
                  </a:lnTo>
                  <a:lnTo>
                    <a:pt x="371" y="7"/>
                  </a:lnTo>
                  <a:lnTo>
                    <a:pt x="365" y="4"/>
                  </a:lnTo>
                  <a:lnTo>
                    <a:pt x="360" y="2"/>
                  </a:lnTo>
                  <a:lnTo>
                    <a:pt x="356" y="0"/>
                  </a:lnTo>
                  <a:lnTo>
                    <a:pt x="350" y="2"/>
                  </a:lnTo>
                  <a:lnTo>
                    <a:pt x="344" y="4"/>
                  </a:lnTo>
                  <a:lnTo>
                    <a:pt x="339" y="7"/>
                  </a:lnTo>
                  <a:lnTo>
                    <a:pt x="329" y="11"/>
                  </a:lnTo>
                  <a:lnTo>
                    <a:pt x="322" y="15"/>
                  </a:lnTo>
                  <a:lnTo>
                    <a:pt x="312" y="21"/>
                  </a:lnTo>
                  <a:lnTo>
                    <a:pt x="304" y="28"/>
                  </a:lnTo>
                  <a:lnTo>
                    <a:pt x="293" y="34"/>
                  </a:lnTo>
                  <a:lnTo>
                    <a:pt x="282" y="42"/>
                  </a:lnTo>
                  <a:lnTo>
                    <a:pt x="270" y="47"/>
                  </a:lnTo>
                  <a:lnTo>
                    <a:pt x="259" y="57"/>
                  </a:lnTo>
                  <a:lnTo>
                    <a:pt x="247" y="64"/>
                  </a:lnTo>
                  <a:lnTo>
                    <a:pt x="234" y="74"/>
                  </a:lnTo>
                  <a:lnTo>
                    <a:pt x="223" y="84"/>
                  </a:lnTo>
                  <a:lnTo>
                    <a:pt x="211" y="93"/>
                  </a:lnTo>
                  <a:lnTo>
                    <a:pt x="198" y="101"/>
                  </a:lnTo>
                  <a:lnTo>
                    <a:pt x="185" y="110"/>
                  </a:lnTo>
                  <a:lnTo>
                    <a:pt x="173" y="118"/>
                  </a:lnTo>
                  <a:lnTo>
                    <a:pt x="162" y="127"/>
                  </a:lnTo>
                  <a:lnTo>
                    <a:pt x="150" y="137"/>
                  </a:lnTo>
                  <a:lnTo>
                    <a:pt x="139" y="144"/>
                  </a:lnTo>
                  <a:lnTo>
                    <a:pt x="128" y="152"/>
                  </a:lnTo>
                  <a:lnTo>
                    <a:pt x="120" y="161"/>
                  </a:lnTo>
                  <a:lnTo>
                    <a:pt x="109" y="167"/>
                  </a:lnTo>
                  <a:lnTo>
                    <a:pt x="101" y="175"/>
                  </a:lnTo>
                  <a:lnTo>
                    <a:pt x="93" y="180"/>
                  </a:lnTo>
                  <a:lnTo>
                    <a:pt x="86" y="186"/>
                  </a:lnTo>
                  <a:lnTo>
                    <a:pt x="76" y="196"/>
                  </a:lnTo>
                  <a:lnTo>
                    <a:pt x="69" y="201"/>
                  </a:lnTo>
                  <a:lnTo>
                    <a:pt x="63" y="203"/>
                  </a:lnTo>
                  <a:lnTo>
                    <a:pt x="59" y="207"/>
                  </a:lnTo>
                  <a:lnTo>
                    <a:pt x="52" y="213"/>
                  </a:lnTo>
                  <a:lnTo>
                    <a:pt x="44" y="218"/>
                  </a:lnTo>
                  <a:lnTo>
                    <a:pt x="38" y="224"/>
                  </a:lnTo>
                  <a:lnTo>
                    <a:pt x="31" y="230"/>
                  </a:lnTo>
                  <a:lnTo>
                    <a:pt x="25" y="236"/>
                  </a:lnTo>
                  <a:lnTo>
                    <a:pt x="17" y="241"/>
                  </a:lnTo>
                  <a:lnTo>
                    <a:pt x="8" y="251"/>
                  </a:lnTo>
                  <a:lnTo>
                    <a:pt x="0" y="262"/>
                  </a:lnTo>
                  <a:lnTo>
                    <a:pt x="0" y="268"/>
                  </a:lnTo>
                  <a:lnTo>
                    <a:pt x="8" y="274"/>
                  </a:lnTo>
                  <a:lnTo>
                    <a:pt x="8" y="274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409840" y="546480"/>
              <a:ext cx="220680" cy="198000"/>
            </a:xfrm>
            <a:custGeom>
              <a:avLst/>
              <a:gdLst/>
              <a:ahLst/>
              <a:rect l="l" t="t" r="r" b="b"/>
              <a:pathLst>
                <a:path w="448" h="401">
                  <a:moveTo>
                    <a:pt x="19" y="2"/>
                  </a:moveTo>
                  <a:lnTo>
                    <a:pt x="26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60" y="2"/>
                  </a:lnTo>
                  <a:lnTo>
                    <a:pt x="72" y="2"/>
                  </a:lnTo>
                  <a:lnTo>
                    <a:pt x="85" y="2"/>
                  </a:lnTo>
                  <a:lnTo>
                    <a:pt x="93" y="2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6" y="5"/>
                  </a:lnTo>
                  <a:lnTo>
                    <a:pt x="121" y="5"/>
                  </a:lnTo>
                  <a:lnTo>
                    <a:pt x="129" y="7"/>
                  </a:lnTo>
                  <a:lnTo>
                    <a:pt x="136" y="7"/>
                  </a:lnTo>
                  <a:lnTo>
                    <a:pt x="144" y="9"/>
                  </a:lnTo>
                  <a:lnTo>
                    <a:pt x="150" y="9"/>
                  </a:lnTo>
                  <a:lnTo>
                    <a:pt x="157" y="11"/>
                  </a:lnTo>
                  <a:lnTo>
                    <a:pt x="165" y="11"/>
                  </a:lnTo>
                  <a:lnTo>
                    <a:pt x="173" y="13"/>
                  </a:lnTo>
                  <a:lnTo>
                    <a:pt x="178" y="13"/>
                  </a:lnTo>
                  <a:lnTo>
                    <a:pt x="186" y="15"/>
                  </a:lnTo>
                  <a:lnTo>
                    <a:pt x="193" y="15"/>
                  </a:lnTo>
                  <a:lnTo>
                    <a:pt x="201" y="19"/>
                  </a:lnTo>
                  <a:lnTo>
                    <a:pt x="209" y="19"/>
                  </a:lnTo>
                  <a:lnTo>
                    <a:pt x="214" y="19"/>
                  </a:lnTo>
                  <a:lnTo>
                    <a:pt x="222" y="21"/>
                  </a:lnTo>
                  <a:lnTo>
                    <a:pt x="230" y="22"/>
                  </a:lnTo>
                  <a:lnTo>
                    <a:pt x="235" y="22"/>
                  </a:lnTo>
                  <a:lnTo>
                    <a:pt x="243" y="24"/>
                  </a:lnTo>
                  <a:lnTo>
                    <a:pt x="250" y="24"/>
                  </a:lnTo>
                  <a:lnTo>
                    <a:pt x="258" y="26"/>
                  </a:lnTo>
                  <a:lnTo>
                    <a:pt x="266" y="28"/>
                  </a:lnTo>
                  <a:lnTo>
                    <a:pt x="275" y="30"/>
                  </a:lnTo>
                  <a:lnTo>
                    <a:pt x="285" y="32"/>
                  </a:lnTo>
                  <a:lnTo>
                    <a:pt x="294" y="34"/>
                  </a:lnTo>
                  <a:lnTo>
                    <a:pt x="302" y="34"/>
                  </a:lnTo>
                  <a:lnTo>
                    <a:pt x="311" y="36"/>
                  </a:lnTo>
                  <a:lnTo>
                    <a:pt x="321" y="38"/>
                  </a:lnTo>
                  <a:lnTo>
                    <a:pt x="330" y="40"/>
                  </a:lnTo>
                  <a:lnTo>
                    <a:pt x="338" y="41"/>
                  </a:lnTo>
                  <a:lnTo>
                    <a:pt x="349" y="43"/>
                  </a:lnTo>
                  <a:lnTo>
                    <a:pt x="359" y="45"/>
                  </a:lnTo>
                  <a:lnTo>
                    <a:pt x="368" y="49"/>
                  </a:lnTo>
                  <a:lnTo>
                    <a:pt x="376" y="49"/>
                  </a:lnTo>
                  <a:lnTo>
                    <a:pt x="384" y="53"/>
                  </a:lnTo>
                  <a:lnTo>
                    <a:pt x="391" y="53"/>
                  </a:lnTo>
                  <a:lnTo>
                    <a:pt x="401" y="57"/>
                  </a:lnTo>
                  <a:lnTo>
                    <a:pt x="406" y="59"/>
                  </a:lnTo>
                  <a:lnTo>
                    <a:pt x="414" y="60"/>
                  </a:lnTo>
                  <a:lnTo>
                    <a:pt x="420" y="62"/>
                  </a:lnTo>
                  <a:lnTo>
                    <a:pt x="427" y="66"/>
                  </a:lnTo>
                  <a:lnTo>
                    <a:pt x="435" y="74"/>
                  </a:lnTo>
                  <a:lnTo>
                    <a:pt x="442" y="79"/>
                  </a:lnTo>
                  <a:lnTo>
                    <a:pt x="448" y="87"/>
                  </a:lnTo>
                  <a:lnTo>
                    <a:pt x="448" y="95"/>
                  </a:lnTo>
                  <a:lnTo>
                    <a:pt x="444" y="104"/>
                  </a:lnTo>
                  <a:lnTo>
                    <a:pt x="441" y="116"/>
                  </a:lnTo>
                  <a:lnTo>
                    <a:pt x="435" y="129"/>
                  </a:lnTo>
                  <a:lnTo>
                    <a:pt x="427" y="142"/>
                  </a:lnTo>
                  <a:lnTo>
                    <a:pt x="420" y="154"/>
                  </a:lnTo>
                  <a:lnTo>
                    <a:pt x="412" y="167"/>
                  </a:lnTo>
                  <a:lnTo>
                    <a:pt x="406" y="173"/>
                  </a:lnTo>
                  <a:lnTo>
                    <a:pt x="403" y="180"/>
                  </a:lnTo>
                  <a:lnTo>
                    <a:pt x="397" y="186"/>
                  </a:lnTo>
                  <a:lnTo>
                    <a:pt x="393" y="194"/>
                  </a:lnTo>
                  <a:lnTo>
                    <a:pt x="384" y="207"/>
                  </a:lnTo>
                  <a:lnTo>
                    <a:pt x="372" y="220"/>
                  </a:lnTo>
                  <a:lnTo>
                    <a:pt x="366" y="226"/>
                  </a:lnTo>
                  <a:lnTo>
                    <a:pt x="359" y="233"/>
                  </a:lnTo>
                  <a:lnTo>
                    <a:pt x="353" y="239"/>
                  </a:lnTo>
                  <a:lnTo>
                    <a:pt x="349" y="247"/>
                  </a:lnTo>
                  <a:lnTo>
                    <a:pt x="334" y="258"/>
                  </a:lnTo>
                  <a:lnTo>
                    <a:pt x="323" y="271"/>
                  </a:lnTo>
                  <a:lnTo>
                    <a:pt x="311" y="283"/>
                  </a:lnTo>
                  <a:lnTo>
                    <a:pt x="298" y="296"/>
                  </a:lnTo>
                  <a:lnTo>
                    <a:pt x="290" y="302"/>
                  </a:lnTo>
                  <a:lnTo>
                    <a:pt x="285" y="306"/>
                  </a:lnTo>
                  <a:lnTo>
                    <a:pt x="277" y="311"/>
                  </a:lnTo>
                  <a:lnTo>
                    <a:pt x="269" y="317"/>
                  </a:lnTo>
                  <a:lnTo>
                    <a:pt x="256" y="327"/>
                  </a:lnTo>
                  <a:lnTo>
                    <a:pt x="245" y="338"/>
                  </a:lnTo>
                  <a:lnTo>
                    <a:pt x="231" y="347"/>
                  </a:lnTo>
                  <a:lnTo>
                    <a:pt x="218" y="357"/>
                  </a:lnTo>
                  <a:lnTo>
                    <a:pt x="209" y="365"/>
                  </a:lnTo>
                  <a:lnTo>
                    <a:pt x="197" y="374"/>
                  </a:lnTo>
                  <a:lnTo>
                    <a:pt x="184" y="380"/>
                  </a:lnTo>
                  <a:lnTo>
                    <a:pt x="174" y="385"/>
                  </a:lnTo>
                  <a:lnTo>
                    <a:pt x="163" y="389"/>
                  </a:lnTo>
                  <a:lnTo>
                    <a:pt x="157" y="395"/>
                  </a:lnTo>
                  <a:lnTo>
                    <a:pt x="148" y="397"/>
                  </a:lnTo>
                  <a:lnTo>
                    <a:pt x="142" y="399"/>
                  </a:lnTo>
                  <a:lnTo>
                    <a:pt x="135" y="399"/>
                  </a:lnTo>
                  <a:lnTo>
                    <a:pt x="131" y="401"/>
                  </a:lnTo>
                  <a:lnTo>
                    <a:pt x="121" y="397"/>
                  </a:lnTo>
                  <a:lnTo>
                    <a:pt x="112" y="385"/>
                  </a:lnTo>
                  <a:lnTo>
                    <a:pt x="108" y="380"/>
                  </a:lnTo>
                  <a:lnTo>
                    <a:pt x="104" y="372"/>
                  </a:lnTo>
                  <a:lnTo>
                    <a:pt x="98" y="363"/>
                  </a:lnTo>
                  <a:lnTo>
                    <a:pt x="97" y="355"/>
                  </a:lnTo>
                  <a:lnTo>
                    <a:pt x="91" y="344"/>
                  </a:lnTo>
                  <a:lnTo>
                    <a:pt x="85" y="332"/>
                  </a:lnTo>
                  <a:lnTo>
                    <a:pt x="81" y="321"/>
                  </a:lnTo>
                  <a:lnTo>
                    <a:pt x="77" y="309"/>
                  </a:lnTo>
                  <a:lnTo>
                    <a:pt x="74" y="302"/>
                  </a:lnTo>
                  <a:lnTo>
                    <a:pt x="72" y="296"/>
                  </a:lnTo>
                  <a:lnTo>
                    <a:pt x="68" y="289"/>
                  </a:lnTo>
                  <a:lnTo>
                    <a:pt x="68" y="283"/>
                  </a:lnTo>
                  <a:lnTo>
                    <a:pt x="64" y="270"/>
                  </a:lnTo>
                  <a:lnTo>
                    <a:pt x="60" y="256"/>
                  </a:lnTo>
                  <a:lnTo>
                    <a:pt x="57" y="249"/>
                  </a:lnTo>
                  <a:lnTo>
                    <a:pt x="55" y="241"/>
                  </a:lnTo>
                  <a:lnTo>
                    <a:pt x="51" y="233"/>
                  </a:lnTo>
                  <a:lnTo>
                    <a:pt x="51" y="226"/>
                  </a:lnTo>
                  <a:lnTo>
                    <a:pt x="47" y="218"/>
                  </a:lnTo>
                  <a:lnTo>
                    <a:pt x="45" y="211"/>
                  </a:lnTo>
                  <a:lnTo>
                    <a:pt x="43" y="203"/>
                  </a:lnTo>
                  <a:lnTo>
                    <a:pt x="41" y="195"/>
                  </a:lnTo>
                  <a:lnTo>
                    <a:pt x="38" y="188"/>
                  </a:lnTo>
                  <a:lnTo>
                    <a:pt x="38" y="180"/>
                  </a:lnTo>
                  <a:lnTo>
                    <a:pt x="34" y="173"/>
                  </a:lnTo>
                  <a:lnTo>
                    <a:pt x="32" y="165"/>
                  </a:lnTo>
                  <a:lnTo>
                    <a:pt x="30" y="159"/>
                  </a:lnTo>
                  <a:lnTo>
                    <a:pt x="28" y="152"/>
                  </a:lnTo>
                  <a:lnTo>
                    <a:pt x="26" y="146"/>
                  </a:lnTo>
                  <a:lnTo>
                    <a:pt x="24" y="138"/>
                  </a:lnTo>
                  <a:lnTo>
                    <a:pt x="22" y="131"/>
                  </a:lnTo>
                  <a:lnTo>
                    <a:pt x="20" y="125"/>
                  </a:lnTo>
                  <a:lnTo>
                    <a:pt x="19" y="117"/>
                  </a:lnTo>
                  <a:lnTo>
                    <a:pt x="17" y="112"/>
                  </a:lnTo>
                  <a:lnTo>
                    <a:pt x="13" y="97"/>
                  </a:lnTo>
                  <a:lnTo>
                    <a:pt x="11" y="87"/>
                  </a:lnTo>
                  <a:lnTo>
                    <a:pt x="7" y="74"/>
                  </a:lnTo>
                  <a:lnTo>
                    <a:pt x="7" y="62"/>
                  </a:lnTo>
                  <a:lnTo>
                    <a:pt x="3" y="53"/>
                  </a:lnTo>
                  <a:lnTo>
                    <a:pt x="3" y="43"/>
                  </a:lnTo>
                  <a:lnTo>
                    <a:pt x="1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442960" y="569160"/>
              <a:ext cx="163440" cy="141840"/>
            </a:xfrm>
            <a:custGeom>
              <a:avLst/>
              <a:gdLst/>
              <a:ahLst/>
              <a:rect l="l" t="t" r="r" b="b"/>
              <a:pathLst>
                <a:path w="331" h="287">
                  <a:moveTo>
                    <a:pt x="2" y="2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11" y="61"/>
                  </a:lnTo>
                  <a:lnTo>
                    <a:pt x="15" y="72"/>
                  </a:lnTo>
                  <a:lnTo>
                    <a:pt x="19" y="86"/>
                  </a:lnTo>
                  <a:lnTo>
                    <a:pt x="21" y="93"/>
                  </a:lnTo>
                  <a:lnTo>
                    <a:pt x="25" y="101"/>
                  </a:lnTo>
                  <a:lnTo>
                    <a:pt x="25" y="107"/>
                  </a:lnTo>
                  <a:lnTo>
                    <a:pt x="28" y="114"/>
                  </a:lnTo>
                  <a:lnTo>
                    <a:pt x="30" y="122"/>
                  </a:lnTo>
                  <a:lnTo>
                    <a:pt x="34" y="130"/>
                  </a:lnTo>
                  <a:lnTo>
                    <a:pt x="36" y="137"/>
                  </a:lnTo>
                  <a:lnTo>
                    <a:pt x="40" y="145"/>
                  </a:lnTo>
                  <a:lnTo>
                    <a:pt x="42" y="152"/>
                  </a:lnTo>
                  <a:lnTo>
                    <a:pt x="46" y="160"/>
                  </a:lnTo>
                  <a:lnTo>
                    <a:pt x="47" y="168"/>
                  </a:lnTo>
                  <a:lnTo>
                    <a:pt x="51" y="175"/>
                  </a:lnTo>
                  <a:lnTo>
                    <a:pt x="51" y="185"/>
                  </a:lnTo>
                  <a:lnTo>
                    <a:pt x="55" y="194"/>
                  </a:lnTo>
                  <a:lnTo>
                    <a:pt x="57" y="200"/>
                  </a:lnTo>
                  <a:lnTo>
                    <a:pt x="61" y="209"/>
                  </a:lnTo>
                  <a:lnTo>
                    <a:pt x="63" y="215"/>
                  </a:lnTo>
                  <a:lnTo>
                    <a:pt x="65" y="223"/>
                  </a:lnTo>
                  <a:lnTo>
                    <a:pt x="68" y="230"/>
                  </a:lnTo>
                  <a:lnTo>
                    <a:pt x="72" y="238"/>
                  </a:lnTo>
                  <a:lnTo>
                    <a:pt x="76" y="247"/>
                  </a:lnTo>
                  <a:lnTo>
                    <a:pt x="82" y="261"/>
                  </a:lnTo>
                  <a:lnTo>
                    <a:pt x="89" y="272"/>
                  </a:lnTo>
                  <a:lnTo>
                    <a:pt x="97" y="285"/>
                  </a:lnTo>
                  <a:lnTo>
                    <a:pt x="99" y="285"/>
                  </a:lnTo>
                  <a:lnTo>
                    <a:pt x="103" y="287"/>
                  </a:lnTo>
                  <a:lnTo>
                    <a:pt x="108" y="285"/>
                  </a:lnTo>
                  <a:lnTo>
                    <a:pt x="116" y="283"/>
                  </a:lnTo>
                  <a:lnTo>
                    <a:pt x="123" y="280"/>
                  </a:lnTo>
                  <a:lnTo>
                    <a:pt x="131" y="274"/>
                  </a:lnTo>
                  <a:lnTo>
                    <a:pt x="141" y="268"/>
                  </a:lnTo>
                  <a:lnTo>
                    <a:pt x="150" y="261"/>
                  </a:lnTo>
                  <a:lnTo>
                    <a:pt x="161" y="253"/>
                  </a:lnTo>
                  <a:lnTo>
                    <a:pt x="171" y="244"/>
                  </a:lnTo>
                  <a:lnTo>
                    <a:pt x="184" y="234"/>
                  </a:lnTo>
                  <a:lnTo>
                    <a:pt x="196" y="225"/>
                  </a:lnTo>
                  <a:lnTo>
                    <a:pt x="207" y="213"/>
                  </a:lnTo>
                  <a:lnTo>
                    <a:pt x="220" y="204"/>
                  </a:lnTo>
                  <a:lnTo>
                    <a:pt x="232" y="192"/>
                  </a:lnTo>
                  <a:lnTo>
                    <a:pt x="245" y="183"/>
                  </a:lnTo>
                  <a:lnTo>
                    <a:pt x="253" y="173"/>
                  </a:lnTo>
                  <a:lnTo>
                    <a:pt x="262" y="162"/>
                  </a:lnTo>
                  <a:lnTo>
                    <a:pt x="270" y="152"/>
                  </a:lnTo>
                  <a:lnTo>
                    <a:pt x="277" y="145"/>
                  </a:lnTo>
                  <a:lnTo>
                    <a:pt x="283" y="135"/>
                  </a:lnTo>
                  <a:lnTo>
                    <a:pt x="291" y="128"/>
                  </a:lnTo>
                  <a:lnTo>
                    <a:pt x="298" y="118"/>
                  </a:lnTo>
                  <a:lnTo>
                    <a:pt x="304" y="110"/>
                  </a:lnTo>
                  <a:lnTo>
                    <a:pt x="308" y="103"/>
                  </a:lnTo>
                  <a:lnTo>
                    <a:pt x="314" y="95"/>
                  </a:lnTo>
                  <a:lnTo>
                    <a:pt x="317" y="88"/>
                  </a:lnTo>
                  <a:lnTo>
                    <a:pt x="321" y="84"/>
                  </a:lnTo>
                  <a:lnTo>
                    <a:pt x="327" y="72"/>
                  </a:lnTo>
                  <a:lnTo>
                    <a:pt x="331" y="67"/>
                  </a:lnTo>
                  <a:lnTo>
                    <a:pt x="329" y="59"/>
                  </a:lnTo>
                  <a:lnTo>
                    <a:pt x="319" y="55"/>
                  </a:lnTo>
                  <a:lnTo>
                    <a:pt x="312" y="52"/>
                  </a:lnTo>
                  <a:lnTo>
                    <a:pt x="304" y="50"/>
                  </a:lnTo>
                  <a:lnTo>
                    <a:pt x="295" y="46"/>
                  </a:lnTo>
                  <a:lnTo>
                    <a:pt x="285" y="46"/>
                  </a:lnTo>
                  <a:lnTo>
                    <a:pt x="274" y="42"/>
                  </a:lnTo>
                  <a:lnTo>
                    <a:pt x="262" y="40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28" y="34"/>
                  </a:lnTo>
                  <a:lnTo>
                    <a:pt x="217" y="33"/>
                  </a:lnTo>
                  <a:lnTo>
                    <a:pt x="205" y="31"/>
                  </a:lnTo>
                  <a:lnTo>
                    <a:pt x="198" y="31"/>
                  </a:lnTo>
                  <a:lnTo>
                    <a:pt x="192" y="29"/>
                  </a:lnTo>
                  <a:lnTo>
                    <a:pt x="184" y="29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3"/>
                  </a:lnTo>
                  <a:lnTo>
                    <a:pt x="158" y="21"/>
                  </a:lnTo>
                  <a:lnTo>
                    <a:pt x="150" y="21"/>
                  </a:lnTo>
                  <a:lnTo>
                    <a:pt x="144" y="19"/>
                  </a:lnTo>
                  <a:lnTo>
                    <a:pt x="137" y="17"/>
                  </a:lnTo>
                  <a:lnTo>
                    <a:pt x="129" y="15"/>
                  </a:lnTo>
                  <a:lnTo>
                    <a:pt x="120" y="14"/>
                  </a:lnTo>
                  <a:lnTo>
                    <a:pt x="112" y="14"/>
                  </a:lnTo>
                  <a:lnTo>
                    <a:pt x="104" y="12"/>
                  </a:lnTo>
                  <a:lnTo>
                    <a:pt x="97" y="12"/>
                  </a:lnTo>
                  <a:lnTo>
                    <a:pt x="89" y="10"/>
                  </a:lnTo>
                  <a:lnTo>
                    <a:pt x="82" y="10"/>
                  </a:lnTo>
                  <a:lnTo>
                    <a:pt x="74" y="8"/>
                  </a:lnTo>
                  <a:lnTo>
                    <a:pt x="66" y="6"/>
                  </a:lnTo>
                  <a:lnTo>
                    <a:pt x="59" y="4"/>
                  </a:lnTo>
                  <a:lnTo>
                    <a:pt x="51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595240" y="556200"/>
              <a:ext cx="218520" cy="231480"/>
            </a:xfrm>
            <a:custGeom>
              <a:avLst/>
              <a:gdLst/>
              <a:ahLst/>
              <a:rect l="l" t="t" r="r" b="b"/>
              <a:pathLst>
                <a:path w="445" h="469">
                  <a:moveTo>
                    <a:pt x="363" y="24"/>
                  </a:moveTo>
                  <a:lnTo>
                    <a:pt x="363" y="26"/>
                  </a:lnTo>
                  <a:lnTo>
                    <a:pt x="363" y="30"/>
                  </a:lnTo>
                  <a:lnTo>
                    <a:pt x="365" y="38"/>
                  </a:lnTo>
                  <a:lnTo>
                    <a:pt x="367" y="45"/>
                  </a:lnTo>
                  <a:lnTo>
                    <a:pt x="369" y="55"/>
                  </a:lnTo>
                  <a:lnTo>
                    <a:pt x="373" y="64"/>
                  </a:lnTo>
                  <a:lnTo>
                    <a:pt x="376" y="76"/>
                  </a:lnTo>
                  <a:lnTo>
                    <a:pt x="380" y="89"/>
                  </a:lnTo>
                  <a:lnTo>
                    <a:pt x="380" y="95"/>
                  </a:lnTo>
                  <a:lnTo>
                    <a:pt x="382" y="100"/>
                  </a:lnTo>
                  <a:lnTo>
                    <a:pt x="382" y="108"/>
                  </a:lnTo>
                  <a:lnTo>
                    <a:pt x="386" y="116"/>
                  </a:lnTo>
                  <a:lnTo>
                    <a:pt x="386" y="123"/>
                  </a:lnTo>
                  <a:lnTo>
                    <a:pt x="390" y="129"/>
                  </a:lnTo>
                  <a:lnTo>
                    <a:pt x="390" y="136"/>
                  </a:lnTo>
                  <a:lnTo>
                    <a:pt x="393" y="144"/>
                  </a:lnTo>
                  <a:lnTo>
                    <a:pt x="393" y="152"/>
                  </a:lnTo>
                  <a:lnTo>
                    <a:pt x="397" y="159"/>
                  </a:lnTo>
                  <a:lnTo>
                    <a:pt x="397" y="167"/>
                  </a:lnTo>
                  <a:lnTo>
                    <a:pt x="401" y="176"/>
                  </a:lnTo>
                  <a:lnTo>
                    <a:pt x="403" y="184"/>
                  </a:lnTo>
                  <a:lnTo>
                    <a:pt x="405" y="192"/>
                  </a:lnTo>
                  <a:lnTo>
                    <a:pt x="407" y="201"/>
                  </a:lnTo>
                  <a:lnTo>
                    <a:pt x="411" y="209"/>
                  </a:lnTo>
                  <a:lnTo>
                    <a:pt x="411" y="216"/>
                  </a:lnTo>
                  <a:lnTo>
                    <a:pt x="412" y="224"/>
                  </a:lnTo>
                  <a:lnTo>
                    <a:pt x="414" y="232"/>
                  </a:lnTo>
                  <a:lnTo>
                    <a:pt x="416" y="239"/>
                  </a:lnTo>
                  <a:lnTo>
                    <a:pt x="416" y="247"/>
                  </a:lnTo>
                  <a:lnTo>
                    <a:pt x="420" y="256"/>
                  </a:lnTo>
                  <a:lnTo>
                    <a:pt x="420" y="264"/>
                  </a:lnTo>
                  <a:lnTo>
                    <a:pt x="424" y="271"/>
                  </a:lnTo>
                  <a:lnTo>
                    <a:pt x="424" y="279"/>
                  </a:lnTo>
                  <a:lnTo>
                    <a:pt x="426" y="287"/>
                  </a:lnTo>
                  <a:lnTo>
                    <a:pt x="428" y="294"/>
                  </a:lnTo>
                  <a:lnTo>
                    <a:pt x="430" y="302"/>
                  </a:lnTo>
                  <a:lnTo>
                    <a:pt x="431" y="308"/>
                  </a:lnTo>
                  <a:lnTo>
                    <a:pt x="431" y="315"/>
                  </a:lnTo>
                  <a:lnTo>
                    <a:pt x="433" y="323"/>
                  </a:lnTo>
                  <a:lnTo>
                    <a:pt x="435" y="328"/>
                  </a:lnTo>
                  <a:lnTo>
                    <a:pt x="437" y="342"/>
                  </a:lnTo>
                  <a:lnTo>
                    <a:pt x="439" y="353"/>
                  </a:lnTo>
                  <a:lnTo>
                    <a:pt x="441" y="363"/>
                  </a:lnTo>
                  <a:lnTo>
                    <a:pt x="443" y="374"/>
                  </a:lnTo>
                  <a:lnTo>
                    <a:pt x="443" y="382"/>
                  </a:lnTo>
                  <a:lnTo>
                    <a:pt x="445" y="391"/>
                  </a:lnTo>
                  <a:lnTo>
                    <a:pt x="445" y="397"/>
                  </a:lnTo>
                  <a:lnTo>
                    <a:pt x="445" y="401"/>
                  </a:lnTo>
                  <a:lnTo>
                    <a:pt x="441" y="408"/>
                  </a:lnTo>
                  <a:lnTo>
                    <a:pt x="433" y="414"/>
                  </a:lnTo>
                  <a:lnTo>
                    <a:pt x="428" y="420"/>
                  </a:lnTo>
                  <a:lnTo>
                    <a:pt x="416" y="425"/>
                  </a:lnTo>
                  <a:lnTo>
                    <a:pt x="411" y="429"/>
                  </a:lnTo>
                  <a:lnTo>
                    <a:pt x="405" y="431"/>
                  </a:lnTo>
                  <a:lnTo>
                    <a:pt x="397" y="433"/>
                  </a:lnTo>
                  <a:lnTo>
                    <a:pt x="392" y="437"/>
                  </a:lnTo>
                  <a:lnTo>
                    <a:pt x="382" y="439"/>
                  </a:lnTo>
                  <a:lnTo>
                    <a:pt x="376" y="442"/>
                  </a:lnTo>
                  <a:lnTo>
                    <a:pt x="369" y="442"/>
                  </a:lnTo>
                  <a:lnTo>
                    <a:pt x="361" y="446"/>
                  </a:lnTo>
                  <a:lnTo>
                    <a:pt x="352" y="448"/>
                  </a:lnTo>
                  <a:lnTo>
                    <a:pt x="342" y="450"/>
                  </a:lnTo>
                  <a:lnTo>
                    <a:pt x="335" y="452"/>
                  </a:lnTo>
                  <a:lnTo>
                    <a:pt x="325" y="454"/>
                  </a:lnTo>
                  <a:lnTo>
                    <a:pt x="316" y="456"/>
                  </a:lnTo>
                  <a:lnTo>
                    <a:pt x="308" y="458"/>
                  </a:lnTo>
                  <a:lnTo>
                    <a:pt x="297" y="460"/>
                  </a:lnTo>
                  <a:lnTo>
                    <a:pt x="289" y="461"/>
                  </a:lnTo>
                  <a:lnTo>
                    <a:pt x="279" y="461"/>
                  </a:lnTo>
                  <a:lnTo>
                    <a:pt x="270" y="463"/>
                  </a:lnTo>
                  <a:lnTo>
                    <a:pt x="260" y="463"/>
                  </a:lnTo>
                  <a:lnTo>
                    <a:pt x="251" y="467"/>
                  </a:lnTo>
                  <a:lnTo>
                    <a:pt x="241" y="467"/>
                  </a:lnTo>
                  <a:lnTo>
                    <a:pt x="232" y="467"/>
                  </a:lnTo>
                  <a:lnTo>
                    <a:pt x="222" y="469"/>
                  </a:lnTo>
                  <a:lnTo>
                    <a:pt x="215" y="469"/>
                  </a:lnTo>
                  <a:lnTo>
                    <a:pt x="205" y="469"/>
                  </a:lnTo>
                  <a:lnTo>
                    <a:pt x="198" y="469"/>
                  </a:lnTo>
                  <a:lnTo>
                    <a:pt x="188" y="469"/>
                  </a:lnTo>
                  <a:lnTo>
                    <a:pt x="179" y="469"/>
                  </a:lnTo>
                  <a:lnTo>
                    <a:pt x="169" y="469"/>
                  </a:lnTo>
                  <a:lnTo>
                    <a:pt x="162" y="469"/>
                  </a:lnTo>
                  <a:lnTo>
                    <a:pt x="150" y="469"/>
                  </a:lnTo>
                  <a:lnTo>
                    <a:pt x="143" y="469"/>
                  </a:lnTo>
                  <a:lnTo>
                    <a:pt x="133" y="469"/>
                  </a:lnTo>
                  <a:lnTo>
                    <a:pt x="125" y="467"/>
                  </a:lnTo>
                  <a:lnTo>
                    <a:pt x="116" y="467"/>
                  </a:lnTo>
                  <a:lnTo>
                    <a:pt x="108" y="467"/>
                  </a:lnTo>
                  <a:lnTo>
                    <a:pt x="101" y="465"/>
                  </a:lnTo>
                  <a:lnTo>
                    <a:pt x="93" y="463"/>
                  </a:lnTo>
                  <a:lnTo>
                    <a:pt x="86" y="463"/>
                  </a:lnTo>
                  <a:lnTo>
                    <a:pt x="78" y="463"/>
                  </a:lnTo>
                  <a:lnTo>
                    <a:pt x="72" y="460"/>
                  </a:lnTo>
                  <a:lnTo>
                    <a:pt x="65" y="460"/>
                  </a:lnTo>
                  <a:lnTo>
                    <a:pt x="57" y="456"/>
                  </a:lnTo>
                  <a:lnTo>
                    <a:pt x="51" y="456"/>
                  </a:lnTo>
                  <a:lnTo>
                    <a:pt x="38" y="452"/>
                  </a:lnTo>
                  <a:lnTo>
                    <a:pt x="29" y="448"/>
                  </a:lnTo>
                  <a:lnTo>
                    <a:pt x="19" y="442"/>
                  </a:lnTo>
                  <a:lnTo>
                    <a:pt x="11" y="439"/>
                  </a:lnTo>
                  <a:lnTo>
                    <a:pt x="6" y="433"/>
                  </a:lnTo>
                  <a:lnTo>
                    <a:pt x="4" y="429"/>
                  </a:lnTo>
                  <a:lnTo>
                    <a:pt x="0" y="422"/>
                  </a:lnTo>
                  <a:lnTo>
                    <a:pt x="0" y="414"/>
                  </a:lnTo>
                  <a:lnTo>
                    <a:pt x="4" y="403"/>
                  </a:lnTo>
                  <a:lnTo>
                    <a:pt x="10" y="393"/>
                  </a:lnTo>
                  <a:lnTo>
                    <a:pt x="11" y="385"/>
                  </a:lnTo>
                  <a:lnTo>
                    <a:pt x="15" y="380"/>
                  </a:lnTo>
                  <a:lnTo>
                    <a:pt x="19" y="372"/>
                  </a:lnTo>
                  <a:lnTo>
                    <a:pt x="25" y="366"/>
                  </a:lnTo>
                  <a:lnTo>
                    <a:pt x="29" y="357"/>
                  </a:lnTo>
                  <a:lnTo>
                    <a:pt x="34" y="349"/>
                  </a:lnTo>
                  <a:lnTo>
                    <a:pt x="40" y="344"/>
                  </a:lnTo>
                  <a:lnTo>
                    <a:pt x="48" y="336"/>
                  </a:lnTo>
                  <a:lnTo>
                    <a:pt x="53" y="327"/>
                  </a:lnTo>
                  <a:lnTo>
                    <a:pt x="59" y="317"/>
                  </a:lnTo>
                  <a:lnTo>
                    <a:pt x="65" y="308"/>
                  </a:lnTo>
                  <a:lnTo>
                    <a:pt x="72" y="300"/>
                  </a:lnTo>
                  <a:lnTo>
                    <a:pt x="80" y="290"/>
                  </a:lnTo>
                  <a:lnTo>
                    <a:pt x="87" y="281"/>
                  </a:lnTo>
                  <a:lnTo>
                    <a:pt x="95" y="273"/>
                  </a:lnTo>
                  <a:lnTo>
                    <a:pt x="103" y="264"/>
                  </a:lnTo>
                  <a:lnTo>
                    <a:pt x="108" y="254"/>
                  </a:lnTo>
                  <a:lnTo>
                    <a:pt x="116" y="247"/>
                  </a:lnTo>
                  <a:lnTo>
                    <a:pt x="122" y="235"/>
                  </a:lnTo>
                  <a:lnTo>
                    <a:pt x="129" y="230"/>
                  </a:lnTo>
                  <a:lnTo>
                    <a:pt x="137" y="220"/>
                  </a:lnTo>
                  <a:lnTo>
                    <a:pt x="144" y="211"/>
                  </a:lnTo>
                  <a:lnTo>
                    <a:pt x="152" y="201"/>
                  </a:lnTo>
                  <a:lnTo>
                    <a:pt x="160" y="195"/>
                  </a:lnTo>
                  <a:lnTo>
                    <a:pt x="165" y="184"/>
                  </a:lnTo>
                  <a:lnTo>
                    <a:pt x="171" y="176"/>
                  </a:lnTo>
                  <a:lnTo>
                    <a:pt x="177" y="167"/>
                  </a:lnTo>
                  <a:lnTo>
                    <a:pt x="184" y="159"/>
                  </a:lnTo>
                  <a:lnTo>
                    <a:pt x="192" y="150"/>
                  </a:lnTo>
                  <a:lnTo>
                    <a:pt x="198" y="142"/>
                  </a:lnTo>
                  <a:lnTo>
                    <a:pt x="203" y="133"/>
                  </a:lnTo>
                  <a:lnTo>
                    <a:pt x="211" y="127"/>
                  </a:lnTo>
                  <a:lnTo>
                    <a:pt x="217" y="117"/>
                  </a:lnTo>
                  <a:lnTo>
                    <a:pt x="222" y="110"/>
                  </a:lnTo>
                  <a:lnTo>
                    <a:pt x="228" y="100"/>
                  </a:lnTo>
                  <a:lnTo>
                    <a:pt x="236" y="93"/>
                  </a:lnTo>
                  <a:lnTo>
                    <a:pt x="241" y="85"/>
                  </a:lnTo>
                  <a:lnTo>
                    <a:pt x="247" y="78"/>
                  </a:lnTo>
                  <a:lnTo>
                    <a:pt x="253" y="72"/>
                  </a:lnTo>
                  <a:lnTo>
                    <a:pt x="260" y="64"/>
                  </a:lnTo>
                  <a:lnTo>
                    <a:pt x="264" y="57"/>
                  </a:lnTo>
                  <a:lnTo>
                    <a:pt x="270" y="51"/>
                  </a:lnTo>
                  <a:lnTo>
                    <a:pt x="274" y="43"/>
                  </a:lnTo>
                  <a:lnTo>
                    <a:pt x="279" y="40"/>
                  </a:lnTo>
                  <a:lnTo>
                    <a:pt x="287" y="28"/>
                  </a:lnTo>
                  <a:lnTo>
                    <a:pt x="297" y="21"/>
                  </a:lnTo>
                  <a:lnTo>
                    <a:pt x="304" y="11"/>
                  </a:lnTo>
                  <a:lnTo>
                    <a:pt x="312" y="5"/>
                  </a:lnTo>
                  <a:lnTo>
                    <a:pt x="316" y="3"/>
                  </a:lnTo>
                  <a:lnTo>
                    <a:pt x="321" y="2"/>
                  </a:lnTo>
                  <a:lnTo>
                    <a:pt x="333" y="0"/>
                  </a:lnTo>
                  <a:lnTo>
                    <a:pt x="346" y="3"/>
                  </a:lnTo>
                  <a:lnTo>
                    <a:pt x="350" y="5"/>
                  </a:lnTo>
                  <a:lnTo>
                    <a:pt x="355" y="11"/>
                  </a:lnTo>
                  <a:lnTo>
                    <a:pt x="359" y="17"/>
                  </a:lnTo>
                  <a:lnTo>
                    <a:pt x="363" y="24"/>
                  </a:lnTo>
                  <a:lnTo>
                    <a:pt x="36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622240" y="582840"/>
              <a:ext cx="156240" cy="180000"/>
            </a:xfrm>
            <a:custGeom>
              <a:avLst/>
              <a:gdLst/>
              <a:ahLst/>
              <a:rect l="l" t="t" r="r" b="b"/>
              <a:pathLst>
                <a:path w="320" h="365">
                  <a:moveTo>
                    <a:pt x="255" y="0"/>
                  </a:moveTo>
                  <a:lnTo>
                    <a:pt x="249" y="2"/>
                  </a:lnTo>
                  <a:lnTo>
                    <a:pt x="240" y="13"/>
                  </a:lnTo>
                  <a:lnTo>
                    <a:pt x="232" y="19"/>
                  </a:lnTo>
                  <a:lnTo>
                    <a:pt x="226" y="26"/>
                  </a:lnTo>
                  <a:lnTo>
                    <a:pt x="219" y="38"/>
                  </a:lnTo>
                  <a:lnTo>
                    <a:pt x="211" y="49"/>
                  </a:lnTo>
                  <a:lnTo>
                    <a:pt x="206" y="55"/>
                  </a:lnTo>
                  <a:lnTo>
                    <a:pt x="202" y="61"/>
                  </a:lnTo>
                  <a:lnTo>
                    <a:pt x="194" y="66"/>
                  </a:lnTo>
                  <a:lnTo>
                    <a:pt x="192" y="74"/>
                  </a:lnTo>
                  <a:lnTo>
                    <a:pt x="185" y="80"/>
                  </a:lnTo>
                  <a:lnTo>
                    <a:pt x="181" y="87"/>
                  </a:lnTo>
                  <a:lnTo>
                    <a:pt x="175" y="95"/>
                  </a:lnTo>
                  <a:lnTo>
                    <a:pt x="171" y="102"/>
                  </a:lnTo>
                  <a:lnTo>
                    <a:pt x="164" y="108"/>
                  </a:lnTo>
                  <a:lnTo>
                    <a:pt x="158" y="116"/>
                  </a:lnTo>
                  <a:lnTo>
                    <a:pt x="152" y="123"/>
                  </a:lnTo>
                  <a:lnTo>
                    <a:pt x="147" y="131"/>
                  </a:lnTo>
                  <a:lnTo>
                    <a:pt x="141" y="139"/>
                  </a:lnTo>
                  <a:lnTo>
                    <a:pt x="137" y="146"/>
                  </a:lnTo>
                  <a:lnTo>
                    <a:pt x="129" y="156"/>
                  </a:lnTo>
                  <a:lnTo>
                    <a:pt x="126" y="165"/>
                  </a:lnTo>
                  <a:lnTo>
                    <a:pt x="118" y="171"/>
                  </a:lnTo>
                  <a:lnTo>
                    <a:pt x="112" y="178"/>
                  </a:lnTo>
                  <a:lnTo>
                    <a:pt x="107" y="186"/>
                  </a:lnTo>
                  <a:lnTo>
                    <a:pt x="103" y="196"/>
                  </a:lnTo>
                  <a:lnTo>
                    <a:pt x="95" y="201"/>
                  </a:lnTo>
                  <a:lnTo>
                    <a:pt x="91" y="209"/>
                  </a:lnTo>
                  <a:lnTo>
                    <a:pt x="86" y="216"/>
                  </a:lnTo>
                  <a:lnTo>
                    <a:pt x="80" y="226"/>
                  </a:lnTo>
                  <a:lnTo>
                    <a:pt x="74" y="232"/>
                  </a:lnTo>
                  <a:lnTo>
                    <a:pt x="69" y="239"/>
                  </a:lnTo>
                  <a:lnTo>
                    <a:pt x="63" y="247"/>
                  </a:lnTo>
                  <a:lnTo>
                    <a:pt x="57" y="253"/>
                  </a:lnTo>
                  <a:lnTo>
                    <a:pt x="53" y="260"/>
                  </a:lnTo>
                  <a:lnTo>
                    <a:pt x="48" y="268"/>
                  </a:lnTo>
                  <a:lnTo>
                    <a:pt x="44" y="273"/>
                  </a:lnTo>
                  <a:lnTo>
                    <a:pt x="40" y="281"/>
                  </a:lnTo>
                  <a:lnTo>
                    <a:pt x="31" y="291"/>
                  </a:lnTo>
                  <a:lnTo>
                    <a:pt x="23" y="302"/>
                  </a:lnTo>
                  <a:lnTo>
                    <a:pt x="15" y="311"/>
                  </a:lnTo>
                  <a:lnTo>
                    <a:pt x="10" y="321"/>
                  </a:lnTo>
                  <a:lnTo>
                    <a:pt x="6" y="327"/>
                  </a:lnTo>
                  <a:lnTo>
                    <a:pt x="2" y="332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0" y="346"/>
                  </a:lnTo>
                  <a:lnTo>
                    <a:pt x="6" y="351"/>
                  </a:lnTo>
                  <a:lnTo>
                    <a:pt x="12" y="353"/>
                  </a:lnTo>
                  <a:lnTo>
                    <a:pt x="19" y="355"/>
                  </a:lnTo>
                  <a:lnTo>
                    <a:pt x="27" y="355"/>
                  </a:lnTo>
                  <a:lnTo>
                    <a:pt x="36" y="359"/>
                  </a:lnTo>
                  <a:lnTo>
                    <a:pt x="46" y="359"/>
                  </a:lnTo>
                  <a:lnTo>
                    <a:pt x="57" y="361"/>
                  </a:lnTo>
                  <a:lnTo>
                    <a:pt x="69" y="363"/>
                  </a:lnTo>
                  <a:lnTo>
                    <a:pt x="82" y="363"/>
                  </a:lnTo>
                  <a:lnTo>
                    <a:pt x="91" y="363"/>
                  </a:lnTo>
                  <a:lnTo>
                    <a:pt x="105" y="363"/>
                  </a:lnTo>
                  <a:lnTo>
                    <a:pt x="112" y="363"/>
                  </a:lnTo>
                  <a:lnTo>
                    <a:pt x="120" y="363"/>
                  </a:lnTo>
                  <a:lnTo>
                    <a:pt x="126" y="363"/>
                  </a:lnTo>
                  <a:lnTo>
                    <a:pt x="133" y="365"/>
                  </a:lnTo>
                  <a:lnTo>
                    <a:pt x="143" y="363"/>
                  </a:lnTo>
                  <a:lnTo>
                    <a:pt x="156" y="363"/>
                  </a:lnTo>
                  <a:lnTo>
                    <a:pt x="164" y="363"/>
                  </a:lnTo>
                  <a:lnTo>
                    <a:pt x="171" y="363"/>
                  </a:lnTo>
                  <a:lnTo>
                    <a:pt x="177" y="361"/>
                  </a:lnTo>
                  <a:lnTo>
                    <a:pt x="185" y="361"/>
                  </a:lnTo>
                  <a:lnTo>
                    <a:pt x="192" y="359"/>
                  </a:lnTo>
                  <a:lnTo>
                    <a:pt x="198" y="359"/>
                  </a:lnTo>
                  <a:lnTo>
                    <a:pt x="206" y="357"/>
                  </a:lnTo>
                  <a:lnTo>
                    <a:pt x="211" y="357"/>
                  </a:lnTo>
                  <a:lnTo>
                    <a:pt x="219" y="355"/>
                  </a:lnTo>
                  <a:lnTo>
                    <a:pt x="225" y="355"/>
                  </a:lnTo>
                  <a:lnTo>
                    <a:pt x="232" y="353"/>
                  </a:lnTo>
                  <a:lnTo>
                    <a:pt x="240" y="353"/>
                  </a:lnTo>
                  <a:lnTo>
                    <a:pt x="251" y="349"/>
                  </a:lnTo>
                  <a:lnTo>
                    <a:pt x="263" y="348"/>
                  </a:lnTo>
                  <a:lnTo>
                    <a:pt x="274" y="346"/>
                  </a:lnTo>
                  <a:lnTo>
                    <a:pt x="283" y="342"/>
                  </a:lnTo>
                  <a:lnTo>
                    <a:pt x="293" y="340"/>
                  </a:lnTo>
                  <a:lnTo>
                    <a:pt x="301" y="338"/>
                  </a:lnTo>
                  <a:lnTo>
                    <a:pt x="308" y="336"/>
                  </a:lnTo>
                  <a:lnTo>
                    <a:pt x="314" y="332"/>
                  </a:lnTo>
                  <a:lnTo>
                    <a:pt x="318" y="327"/>
                  </a:lnTo>
                  <a:lnTo>
                    <a:pt x="320" y="317"/>
                  </a:lnTo>
                  <a:lnTo>
                    <a:pt x="318" y="308"/>
                  </a:lnTo>
                  <a:lnTo>
                    <a:pt x="318" y="302"/>
                  </a:lnTo>
                  <a:lnTo>
                    <a:pt x="318" y="291"/>
                  </a:lnTo>
                  <a:lnTo>
                    <a:pt x="316" y="283"/>
                  </a:lnTo>
                  <a:lnTo>
                    <a:pt x="314" y="272"/>
                  </a:lnTo>
                  <a:lnTo>
                    <a:pt x="310" y="260"/>
                  </a:lnTo>
                  <a:lnTo>
                    <a:pt x="310" y="253"/>
                  </a:lnTo>
                  <a:lnTo>
                    <a:pt x="308" y="247"/>
                  </a:lnTo>
                  <a:lnTo>
                    <a:pt x="308" y="239"/>
                  </a:lnTo>
                  <a:lnTo>
                    <a:pt x="308" y="232"/>
                  </a:lnTo>
                  <a:lnTo>
                    <a:pt x="304" y="226"/>
                  </a:lnTo>
                  <a:lnTo>
                    <a:pt x="304" y="218"/>
                  </a:lnTo>
                  <a:lnTo>
                    <a:pt x="301" y="211"/>
                  </a:lnTo>
                  <a:lnTo>
                    <a:pt x="301" y="203"/>
                  </a:lnTo>
                  <a:lnTo>
                    <a:pt x="299" y="196"/>
                  </a:lnTo>
                  <a:lnTo>
                    <a:pt x="297" y="186"/>
                  </a:lnTo>
                  <a:lnTo>
                    <a:pt x="295" y="178"/>
                  </a:lnTo>
                  <a:lnTo>
                    <a:pt x="295" y="171"/>
                  </a:lnTo>
                  <a:lnTo>
                    <a:pt x="293" y="161"/>
                  </a:lnTo>
                  <a:lnTo>
                    <a:pt x="291" y="152"/>
                  </a:lnTo>
                  <a:lnTo>
                    <a:pt x="289" y="142"/>
                  </a:lnTo>
                  <a:lnTo>
                    <a:pt x="287" y="135"/>
                  </a:lnTo>
                  <a:lnTo>
                    <a:pt x="285" y="125"/>
                  </a:lnTo>
                  <a:lnTo>
                    <a:pt x="283" y="118"/>
                  </a:lnTo>
                  <a:lnTo>
                    <a:pt x="282" y="110"/>
                  </a:lnTo>
                  <a:lnTo>
                    <a:pt x="280" y="102"/>
                  </a:lnTo>
                  <a:lnTo>
                    <a:pt x="278" y="95"/>
                  </a:lnTo>
                  <a:lnTo>
                    <a:pt x="276" y="87"/>
                  </a:lnTo>
                  <a:lnTo>
                    <a:pt x="276" y="80"/>
                  </a:lnTo>
                  <a:lnTo>
                    <a:pt x="274" y="74"/>
                  </a:lnTo>
                  <a:lnTo>
                    <a:pt x="272" y="66"/>
                  </a:lnTo>
                  <a:lnTo>
                    <a:pt x="272" y="61"/>
                  </a:lnTo>
                  <a:lnTo>
                    <a:pt x="270" y="55"/>
                  </a:lnTo>
                  <a:lnTo>
                    <a:pt x="270" y="49"/>
                  </a:lnTo>
                  <a:lnTo>
                    <a:pt x="266" y="38"/>
                  </a:lnTo>
                  <a:lnTo>
                    <a:pt x="263" y="26"/>
                  </a:lnTo>
                  <a:lnTo>
                    <a:pt x="261" y="17"/>
                  </a:lnTo>
                  <a:lnTo>
                    <a:pt x="259" y="11"/>
                  </a:lnTo>
                  <a:lnTo>
                    <a:pt x="255" y="2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671560" y="535680"/>
              <a:ext cx="188640" cy="200880"/>
            </a:xfrm>
            <a:custGeom>
              <a:avLst/>
              <a:gdLst/>
              <a:ahLst/>
              <a:rect l="l" t="t" r="r" b="b"/>
              <a:pathLst>
                <a:path w="384" h="408">
                  <a:moveTo>
                    <a:pt x="367" y="7"/>
                  </a:moveTo>
                  <a:lnTo>
                    <a:pt x="376" y="13"/>
                  </a:lnTo>
                  <a:lnTo>
                    <a:pt x="384" y="23"/>
                  </a:lnTo>
                  <a:lnTo>
                    <a:pt x="384" y="28"/>
                  </a:lnTo>
                  <a:lnTo>
                    <a:pt x="384" y="36"/>
                  </a:lnTo>
                  <a:lnTo>
                    <a:pt x="382" y="44"/>
                  </a:lnTo>
                  <a:lnTo>
                    <a:pt x="378" y="51"/>
                  </a:lnTo>
                  <a:lnTo>
                    <a:pt x="372" y="57"/>
                  </a:lnTo>
                  <a:lnTo>
                    <a:pt x="363" y="68"/>
                  </a:lnTo>
                  <a:lnTo>
                    <a:pt x="357" y="74"/>
                  </a:lnTo>
                  <a:lnTo>
                    <a:pt x="350" y="82"/>
                  </a:lnTo>
                  <a:lnTo>
                    <a:pt x="342" y="93"/>
                  </a:lnTo>
                  <a:lnTo>
                    <a:pt x="334" y="102"/>
                  </a:lnTo>
                  <a:lnTo>
                    <a:pt x="329" y="108"/>
                  </a:lnTo>
                  <a:lnTo>
                    <a:pt x="323" y="114"/>
                  </a:lnTo>
                  <a:lnTo>
                    <a:pt x="317" y="120"/>
                  </a:lnTo>
                  <a:lnTo>
                    <a:pt x="312" y="127"/>
                  </a:lnTo>
                  <a:lnTo>
                    <a:pt x="304" y="135"/>
                  </a:lnTo>
                  <a:lnTo>
                    <a:pt x="298" y="140"/>
                  </a:lnTo>
                  <a:lnTo>
                    <a:pt x="293" y="148"/>
                  </a:lnTo>
                  <a:lnTo>
                    <a:pt x="287" y="158"/>
                  </a:lnTo>
                  <a:lnTo>
                    <a:pt x="279" y="165"/>
                  </a:lnTo>
                  <a:lnTo>
                    <a:pt x="272" y="173"/>
                  </a:lnTo>
                  <a:lnTo>
                    <a:pt x="264" y="182"/>
                  </a:lnTo>
                  <a:lnTo>
                    <a:pt x="256" y="192"/>
                  </a:lnTo>
                  <a:lnTo>
                    <a:pt x="249" y="199"/>
                  </a:lnTo>
                  <a:lnTo>
                    <a:pt x="239" y="209"/>
                  </a:lnTo>
                  <a:lnTo>
                    <a:pt x="232" y="220"/>
                  </a:lnTo>
                  <a:lnTo>
                    <a:pt x="224" y="232"/>
                  </a:lnTo>
                  <a:lnTo>
                    <a:pt x="215" y="241"/>
                  </a:lnTo>
                  <a:lnTo>
                    <a:pt x="205" y="249"/>
                  </a:lnTo>
                  <a:lnTo>
                    <a:pt x="199" y="258"/>
                  </a:lnTo>
                  <a:lnTo>
                    <a:pt x="192" y="268"/>
                  </a:lnTo>
                  <a:lnTo>
                    <a:pt x="182" y="275"/>
                  </a:lnTo>
                  <a:lnTo>
                    <a:pt x="175" y="283"/>
                  </a:lnTo>
                  <a:lnTo>
                    <a:pt x="169" y="291"/>
                  </a:lnTo>
                  <a:lnTo>
                    <a:pt x="163" y="298"/>
                  </a:lnTo>
                  <a:lnTo>
                    <a:pt x="156" y="306"/>
                  </a:lnTo>
                  <a:lnTo>
                    <a:pt x="150" y="312"/>
                  </a:lnTo>
                  <a:lnTo>
                    <a:pt x="144" y="319"/>
                  </a:lnTo>
                  <a:lnTo>
                    <a:pt x="139" y="325"/>
                  </a:lnTo>
                  <a:lnTo>
                    <a:pt x="127" y="336"/>
                  </a:lnTo>
                  <a:lnTo>
                    <a:pt x="120" y="348"/>
                  </a:lnTo>
                  <a:lnTo>
                    <a:pt x="110" y="357"/>
                  </a:lnTo>
                  <a:lnTo>
                    <a:pt x="101" y="365"/>
                  </a:lnTo>
                  <a:lnTo>
                    <a:pt x="93" y="372"/>
                  </a:lnTo>
                  <a:lnTo>
                    <a:pt x="87" y="380"/>
                  </a:lnTo>
                  <a:lnTo>
                    <a:pt x="76" y="391"/>
                  </a:lnTo>
                  <a:lnTo>
                    <a:pt x="68" y="399"/>
                  </a:lnTo>
                  <a:lnTo>
                    <a:pt x="59" y="403"/>
                  </a:lnTo>
                  <a:lnTo>
                    <a:pt x="55" y="407"/>
                  </a:lnTo>
                  <a:lnTo>
                    <a:pt x="51" y="408"/>
                  </a:lnTo>
                  <a:lnTo>
                    <a:pt x="47" y="408"/>
                  </a:lnTo>
                  <a:lnTo>
                    <a:pt x="42" y="408"/>
                  </a:lnTo>
                  <a:lnTo>
                    <a:pt x="38" y="408"/>
                  </a:lnTo>
                  <a:lnTo>
                    <a:pt x="32" y="408"/>
                  </a:lnTo>
                  <a:lnTo>
                    <a:pt x="28" y="405"/>
                  </a:lnTo>
                  <a:lnTo>
                    <a:pt x="25" y="399"/>
                  </a:lnTo>
                  <a:lnTo>
                    <a:pt x="21" y="393"/>
                  </a:lnTo>
                  <a:lnTo>
                    <a:pt x="17" y="386"/>
                  </a:lnTo>
                  <a:lnTo>
                    <a:pt x="13" y="374"/>
                  </a:lnTo>
                  <a:lnTo>
                    <a:pt x="11" y="363"/>
                  </a:lnTo>
                  <a:lnTo>
                    <a:pt x="9" y="351"/>
                  </a:lnTo>
                  <a:lnTo>
                    <a:pt x="7" y="344"/>
                  </a:lnTo>
                  <a:lnTo>
                    <a:pt x="6" y="336"/>
                  </a:lnTo>
                  <a:lnTo>
                    <a:pt x="4" y="329"/>
                  </a:lnTo>
                  <a:lnTo>
                    <a:pt x="4" y="323"/>
                  </a:lnTo>
                  <a:lnTo>
                    <a:pt x="4" y="313"/>
                  </a:lnTo>
                  <a:lnTo>
                    <a:pt x="2" y="306"/>
                  </a:lnTo>
                  <a:lnTo>
                    <a:pt x="2" y="298"/>
                  </a:lnTo>
                  <a:lnTo>
                    <a:pt x="2" y="291"/>
                  </a:lnTo>
                  <a:lnTo>
                    <a:pt x="0" y="281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0" y="256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2" y="222"/>
                  </a:lnTo>
                  <a:lnTo>
                    <a:pt x="2" y="215"/>
                  </a:lnTo>
                  <a:lnTo>
                    <a:pt x="2" y="207"/>
                  </a:lnTo>
                  <a:lnTo>
                    <a:pt x="2" y="201"/>
                  </a:lnTo>
                  <a:lnTo>
                    <a:pt x="2" y="196"/>
                  </a:lnTo>
                  <a:lnTo>
                    <a:pt x="4" y="182"/>
                  </a:lnTo>
                  <a:lnTo>
                    <a:pt x="6" y="169"/>
                  </a:lnTo>
                  <a:lnTo>
                    <a:pt x="6" y="158"/>
                  </a:lnTo>
                  <a:lnTo>
                    <a:pt x="7" y="144"/>
                  </a:lnTo>
                  <a:lnTo>
                    <a:pt x="9" y="135"/>
                  </a:lnTo>
                  <a:lnTo>
                    <a:pt x="13" y="123"/>
                  </a:lnTo>
                  <a:lnTo>
                    <a:pt x="13" y="110"/>
                  </a:lnTo>
                  <a:lnTo>
                    <a:pt x="17" y="99"/>
                  </a:lnTo>
                  <a:lnTo>
                    <a:pt x="21" y="89"/>
                  </a:lnTo>
                  <a:lnTo>
                    <a:pt x="25" y="80"/>
                  </a:lnTo>
                  <a:lnTo>
                    <a:pt x="26" y="68"/>
                  </a:lnTo>
                  <a:lnTo>
                    <a:pt x="30" y="61"/>
                  </a:lnTo>
                  <a:lnTo>
                    <a:pt x="34" y="51"/>
                  </a:lnTo>
                  <a:lnTo>
                    <a:pt x="40" y="44"/>
                  </a:lnTo>
                  <a:lnTo>
                    <a:pt x="42" y="38"/>
                  </a:lnTo>
                  <a:lnTo>
                    <a:pt x="45" y="34"/>
                  </a:lnTo>
                  <a:lnTo>
                    <a:pt x="51" y="30"/>
                  </a:lnTo>
                  <a:lnTo>
                    <a:pt x="59" y="26"/>
                  </a:lnTo>
                  <a:lnTo>
                    <a:pt x="66" y="23"/>
                  </a:lnTo>
                  <a:lnTo>
                    <a:pt x="76" y="19"/>
                  </a:lnTo>
                  <a:lnTo>
                    <a:pt x="85" y="17"/>
                  </a:lnTo>
                  <a:lnTo>
                    <a:pt x="99" y="15"/>
                  </a:lnTo>
                  <a:lnTo>
                    <a:pt x="110" y="11"/>
                  </a:lnTo>
                  <a:lnTo>
                    <a:pt x="122" y="11"/>
                  </a:lnTo>
                  <a:lnTo>
                    <a:pt x="127" y="9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6" y="7"/>
                  </a:lnTo>
                  <a:lnTo>
                    <a:pt x="163" y="6"/>
                  </a:lnTo>
                  <a:lnTo>
                    <a:pt x="171" y="4"/>
                  </a:lnTo>
                  <a:lnTo>
                    <a:pt x="179" y="4"/>
                  </a:lnTo>
                  <a:lnTo>
                    <a:pt x="184" y="4"/>
                  </a:lnTo>
                  <a:lnTo>
                    <a:pt x="192" y="4"/>
                  </a:lnTo>
                  <a:lnTo>
                    <a:pt x="199" y="4"/>
                  </a:lnTo>
                  <a:lnTo>
                    <a:pt x="207" y="4"/>
                  </a:lnTo>
                  <a:lnTo>
                    <a:pt x="213" y="4"/>
                  </a:lnTo>
                  <a:lnTo>
                    <a:pt x="220" y="4"/>
                  </a:lnTo>
                  <a:lnTo>
                    <a:pt x="226" y="2"/>
                  </a:lnTo>
                  <a:lnTo>
                    <a:pt x="234" y="2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2" y="0"/>
                  </a:lnTo>
                  <a:lnTo>
                    <a:pt x="274" y="0"/>
                  </a:lnTo>
                  <a:lnTo>
                    <a:pt x="287" y="0"/>
                  </a:lnTo>
                  <a:lnTo>
                    <a:pt x="300" y="0"/>
                  </a:lnTo>
                  <a:lnTo>
                    <a:pt x="312" y="2"/>
                  </a:lnTo>
                  <a:lnTo>
                    <a:pt x="321" y="2"/>
                  </a:lnTo>
                  <a:lnTo>
                    <a:pt x="333" y="2"/>
                  </a:lnTo>
                  <a:lnTo>
                    <a:pt x="340" y="2"/>
                  </a:lnTo>
                  <a:lnTo>
                    <a:pt x="350" y="4"/>
                  </a:lnTo>
                  <a:lnTo>
                    <a:pt x="359" y="4"/>
                  </a:lnTo>
                  <a:lnTo>
                    <a:pt x="367" y="7"/>
                  </a:lnTo>
                  <a:lnTo>
                    <a:pt x="36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701440" y="556200"/>
              <a:ext cx="135000" cy="147600"/>
            </a:xfrm>
            <a:custGeom>
              <a:avLst/>
              <a:gdLst/>
              <a:ahLst/>
              <a:rect l="l" t="t" r="r" b="b"/>
              <a:pathLst>
                <a:path w="274" h="300">
                  <a:moveTo>
                    <a:pt x="274" y="3"/>
                  </a:moveTo>
                  <a:lnTo>
                    <a:pt x="268" y="2"/>
                  </a:lnTo>
                  <a:lnTo>
                    <a:pt x="261" y="0"/>
                  </a:lnTo>
                  <a:lnTo>
                    <a:pt x="253" y="0"/>
                  </a:lnTo>
                  <a:lnTo>
                    <a:pt x="246" y="0"/>
                  </a:lnTo>
                  <a:lnTo>
                    <a:pt x="238" y="0"/>
                  </a:lnTo>
                  <a:lnTo>
                    <a:pt x="230" y="0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2"/>
                  </a:lnTo>
                  <a:lnTo>
                    <a:pt x="181" y="2"/>
                  </a:lnTo>
                  <a:lnTo>
                    <a:pt x="171" y="3"/>
                  </a:lnTo>
                  <a:lnTo>
                    <a:pt x="160" y="3"/>
                  </a:lnTo>
                  <a:lnTo>
                    <a:pt x="151" y="5"/>
                  </a:lnTo>
                  <a:lnTo>
                    <a:pt x="139" y="5"/>
                  </a:lnTo>
                  <a:lnTo>
                    <a:pt x="128" y="7"/>
                  </a:lnTo>
                  <a:lnTo>
                    <a:pt x="118" y="9"/>
                  </a:lnTo>
                  <a:lnTo>
                    <a:pt x="107" y="9"/>
                  </a:lnTo>
                  <a:lnTo>
                    <a:pt x="95" y="11"/>
                  </a:lnTo>
                  <a:lnTo>
                    <a:pt x="86" y="13"/>
                  </a:lnTo>
                  <a:lnTo>
                    <a:pt x="76" y="13"/>
                  </a:lnTo>
                  <a:lnTo>
                    <a:pt x="69" y="17"/>
                  </a:lnTo>
                  <a:lnTo>
                    <a:pt x="59" y="17"/>
                  </a:lnTo>
                  <a:lnTo>
                    <a:pt x="52" y="21"/>
                  </a:lnTo>
                  <a:lnTo>
                    <a:pt x="46" y="21"/>
                  </a:lnTo>
                  <a:lnTo>
                    <a:pt x="42" y="22"/>
                  </a:lnTo>
                  <a:lnTo>
                    <a:pt x="33" y="26"/>
                  </a:lnTo>
                  <a:lnTo>
                    <a:pt x="29" y="32"/>
                  </a:lnTo>
                  <a:lnTo>
                    <a:pt x="25" y="40"/>
                  </a:lnTo>
                  <a:lnTo>
                    <a:pt x="21" y="47"/>
                  </a:lnTo>
                  <a:lnTo>
                    <a:pt x="17" y="55"/>
                  </a:lnTo>
                  <a:lnTo>
                    <a:pt x="17" y="64"/>
                  </a:lnTo>
                  <a:lnTo>
                    <a:pt x="14" y="76"/>
                  </a:lnTo>
                  <a:lnTo>
                    <a:pt x="12" y="85"/>
                  </a:lnTo>
                  <a:lnTo>
                    <a:pt x="10" y="95"/>
                  </a:lnTo>
                  <a:lnTo>
                    <a:pt x="8" y="106"/>
                  </a:lnTo>
                  <a:lnTo>
                    <a:pt x="6" y="117"/>
                  </a:lnTo>
                  <a:lnTo>
                    <a:pt x="4" y="129"/>
                  </a:lnTo>
                  <a:lnTo>
                    <a:pt x="4" y="140"/>
                  </a:lnTo>
                  <a:lnTo>
                    <a:pt x="4" y="150"/>
                  </a:lnTo>
                  <a:lnTo>
                    <a:pt x="2" y="161"/>
                  </a:lnTo>
                  <a:lnTo>
                    <a:pt x="2" y="173"/>
                  </a:lnTo>
                  <a:lnTo>
                    <a:pt x="2" y="184"/>
                  </a:lnTo>
                  <a:lnTo>
                    <a:pt x="2" y="195"/>
                  </a:lnTo>
                  <a:lnTo>
                    <a:pt x="0" y="205"/>
                  </a:lnTo>
                  <a:lnTo>
                    <a:pt x="0" y="216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3"/>
                  </a:lnTo>
                  <a:lnTo>
                    <a:pt x="0" y="252"/>
                  </a:lnTo>
                  <a:lnTo>
                    <a:pt x="0" y="260"/>
                  </a:lnTo>
                  <a:lnTo>
                    <a:pt x="2" y="268"/>
                  </a:lnTo>
                  <a:lnTo>
                    <a:pt x="2" y="273"/>
                  </a:lnTo>
                  <a:lnTo>
                    <a:pt x="2" y="281"/>
                  </a:lnTo>
                  <a:lnTo>
                    <a:pt x="4" y="285"/>
                  </a:lnTo>
                  <a:lnTo>
                    <a:pt x="4" y="290"/>
                  </a:lnTo>
                  <a:lnTo>
                    <a:pt x="6" y="298"/>
                  </a:lnTo>
                  <a:lnTo>
                    <a:pt x="8" y="300"/>
                  </a:lnTo>
                  <a:lnTo>
                    <a:pt x="12" y="296"/>
                  </a:lnTo>
                  <a:lnTo>
                    <a:pt x="23" y="287"/>
                  </a:lnTo>
                  <a:lnTo>
                    <a:pt x="29" y="279"/>
                  </a:lnTo>
                  <a:lnTo>
                    <a:pt x="36" y="273"/>
                  </a:lnTo>
                  <a:lnTo>
                    <a:pt x="44" y="264"/>
                  </a:lnTo>
                  <a:lnTo>
                    <a:pt x="54" y="256"/>
                  </a:lnTo>
                  <a:lnTo>
                    <a:pt x="63" y="245"/>
                  </a:lnTo>
                  <a:lnTo>
                    <a:pt x="73" y="233"/>
                  </a:lnTo>
                  <a:lnTo>
                    <a:pt x="82" y="222"/>
                  </a:lnTo>
                  <a:lnTo>
                    <a:pt x="94" y="211"/>
                  </a:lnTo>
                  <a:lnTo>
                    <a:pt x="105" y="197"/>
                  </a:lnTo>
                  <a:lnTo>
                    <a:pt x="118" y="184"/>
                  </a:lnTo>
                  <a:lnTo>
                    <a:pt x="130" y="171"/>
                  </a:lnTo>
                  <a:lnTo>
                    <a:pt x="141" y="159"/>
                  </a:lnTo>
                  <a:lnTo>
                    <a:pt x="149" y="150"/>
                  </a:lnTo>
                  <a:lnTo>
                    <a:pt x="154" y="142"/>
                  </a:lnTo>
                  <a:lnTo>
                    <a:pt x="160" y="135"/>
                  </a:lnTo>
                  <a:lnTo>
                    <a:pt x="168" y="127"/>
                  </a:lnTo>
                  <a:lnTo>
                    <a:pt x="173" y="119"/>
                  </a:lnTo>
                  <a:lnTo>
                    <a:pt x="179" y="112"/>
                  </a:lnTo>
                  <a:lnTo>
                    <a:pt x="187" y="106"/>
                  </a:lnTo>
                  <a:lnTo>
                    <a:pt x="192" y="98"/>
                  </a:lnTo>
                  <a:lnTo>
                    <a:pt x="198" y="93"/>
                  </a:lnTo>
                  <a:lnTo>
                    <a:pt x="204" y="85"/>
                  </a:lnTo>
                  <a:lnTo>
                    <a:pt x="209" y="78"/>
                  </a:lnTo>
                  <a:lnTo>
                    <a:pt x="217" y="72"/>
                  </a:lnTo>
                  <a:lnTo>
                    <a:pt x="227" y="60"/>
                  </a:lnTo>
                  <a:lnTo>
                    <a:pt x="238" y="51"/>
                  </a:lnTo>
                  <a:lnTo>
                    <a:pt x="244" y="40"/>
                  </a:lnTo>
                  <a:lnTo>
                    <a:pt x="253" y="30"/>
                  </a:lnTo>
                  <a:lnTo>
                    <a:pt x="259" y="22"/>
                  </a:lnTo>
                  <a:lnTo>
                    <a:pt x="266" y="17"/>
                  </a:lnTo>
                  <a:lnTo>
                    <a:pt x="272" y="5"/>
                  </a:lnTo>
                  <a:lnTo>
                    <a:pt x="274" y="3"/>
                  </a:lnTo>
                  <a:lnTo>
                    <a:pt x="274" y="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49600" y="355320"/>
              <a:ext cx="171000" cy="17244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3" y="348"/>
                  </a:moveTo>
                  <a:lnTo>
                    <a:pt x="19" y="348"/>
                  </a:lnTo>
                  <a:lnTo>
                    <a:pt x="30" y="348"/>
                  </a:lnTo>
                  <a:lnTo>
                    <a:pt x="36" y="348"/>
                  </a:lnTo>
                  <a:lnTo>
                    <a:pt x="43" y="348"/>
                  </a:lnTo>
                  <a:lnTo>
                    <a:pt x="53" y="348"/>
                  </a:lnTo>
                  <a:lnTo>
                    <a:pt x="61" y="350"/>
                  </a:lnTo>
                  <a:lnTo>
                    <a:pt x="68" y="348"/>
                  </a:lnTo>
                  <a:lnTo>
                    <a:pt x="78" y="348"/>
                  </a:lnTo>
                  <a:lnTo>
                    <a:pt x="87" y="348"/>
                  </a:lnTo>
                  <a:lnTo>
                    <a:pt x="99" y="348"/>
                  </a:lnTo>
                  <a:lnTo>
                    <a:pt x="110" y="348"/>
                  </a:lnTo>
                  <a:lnTo>
                    <a:pt x="121" y="348"/>
                  </a:lnTo>
                  <a:lnTo>
                    <a:pt x="133" y="348"/>
                  </a:lnTo>
                  <a:lnTo>
                    <a:pt x="144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63" y="348"/>
                  </a:lnTo>
                  <a:lnTo>
                    <a:pt x="171" y="348"/>
                  </a:lnTo>
                  <a:lnTo>
                    <a:pt x="176" y="348"/>
                  </a:lnTo>
                  <a:lnTo>
                    <a:pt x="184" y="348"/>
                  </a:lnTo>
                  <a:lnTo>
                    <a:pt x="192" y="348"/>
                  </a:lnTo>
                  <a:lnTo>
                    <a:pt x="199" y="348"/>
                  </a:lnTo>
                  <a:lnTo>
                    <a:pt x="211" y="348"/>
                  </a:lnTo>
                  <a:lnTo>
                    <a:pt x="224" y="348"/>
                  </a:lnTo>
                  <a:lnTo>
                    <a:pt x="235" y="348"/>
                  </a:lnTo>
                  <a:lnTo>
                    <a:pt x="249" y="348"/>
                  </a:lnTo>
                  <a:lnTo>
                    <a:pt x="258" y="348"/>
                  </a:lnTo>
                  <a:lnTo>
                    <a:pt x="268" y="348"/>
                  </a:lnTo>
                  <a:lnTo>
                    <a:pt x="277" y="348"/>
                  </a:lnTo>
                  <a:lnTo>
                    <a:pt x="285" y="348"/>
                  </a:lnTo>
                  <a:lnTo>
                    <a:pt x="291" y="348"/>
                  </a:lnTo>
                  <a:lnTo>
                    <a:pt x="298" y="348"/>
                  </a:lnTo>
                  <a:lnTo>
                    <a:pt x="304" y="348"/>
                  </a:lnTo>
                  <a:lnTo>
                    <a:pt x="308" y="348"/>
                  </a:lnTo>
                  <a:lnTo>
                    <a:pt x="317" y="344"/>
                  </a:lnTo>
                  <a:lnTo>
                    <a:pt x="325" y="342"/>
                  </a:lnTo>
                  <a:lnTo>
                    <a:pt x="330" y="338"/>
                  </a:lnTo>
                  <a:lnTo>
                    <a:pt x="338" y="331"/>
                  </a:lnTo>
                  <a:lnTo>
                    <a:pt x="338" y="323"/>
                  </a:lnTo>
                  <a:lnTo>
                    <a:pt x="340" y="319"/>
                  </a:lnTo>
                  <a:lnTo>
                    <a:pt x="340" y="312"/>
                  </a:lnTo>
                  <a:lnTo>
                    <a:pt x="344" y="306"/>
                  </a:lnTo>
                  <a:lnTo>
                    <a:pt x="344" y="296"/>
                  </a:lnTo>
                  <a:lnTo>
                    <a:pt x="346" y="287"/>
                  </a:lnTo>
                  <a:lnTo>
                    <a:pt x="346" y="276"/>
                  </a:lnTo>
                  <a:lnTo>
                    <a:pt x="348" y="266"/>
                  </a:lnTo>
                  <a:lnTo>
                    <a:pt x="346" y="258"/>
                  </a:lnTo>
                  <a:lnTo>
                    <a:pt x="346" y="253"/>
                  </a:lnTo>
                  <a:lnTo>
                    <a:pt x="346" y="245"/>
                  </a:lnTo>
                  <a:lnTo>
                    <a:pt x="346" y="238"/>
                  </a:lnTo>
                  <a:lnTo>
                    <a:pt x="346" y="228"/>
                  </a:lnTo>
                  <a:lnTo>
                    <a:pt x="346" y="219"/>
                  </a:lnTo>
                  <a:lnTo>
                    <a:pt x="346" y="209"/>
                  </a:lnTo>
                  <a:lnTo>
                    <a:pt x="346" y="200"/>
                  </a:lnTo>
                  <a:lnTo>
                    <a:pt x="344" y="190"/>
                  </a:lnTo>
                  <a:lnTo>
                    <a:pt x="344" y="181"/>
                  </a:lnTo>
                  <a:lnTo>
                    <a:pt x="344" y="169"/>
                  </a:lnTo>
                  <a:lnTo>
                    <a:pt x="344" y="160"/>
                  </a:lnTo>
                  <a:lnTo>
                    <a:pt x="342" y="148"/>
                  </a:lnTo>
                  <a:lnTo>
                    <a:pt x="342" y="137"/>
                  </a:lnTo>
                  <a:lnTo>
                    <a:pt x="342" y="127"/>
                  </a:lnTo>
                  <a:lnTo>
                    <a:pt x="342" y="118"/>
                  </a:lnTo>
                  <a:lnTo>
                    <a:pt x="340" y="106"/>
                  </a:lnTo>
                  <a:lnTo>
                    <a:pt x="340" y="95"/>
                  </a:lnTo>
                  <a:lnTo>
                    <a:pt x="338" y="85"/>
                  </a:lnTo>
                  <a:lnTo>
                    <a:pt x="338" y="76"/>
                  </a:lnTo>
                  <a:lnTo>
                    <a:pt x="338" y="66"/>
                  </a:lnTo>
                  <a:lnTo>
                    <a:pt x="338" y="59"/>
                  </a:lnTo>
                  <a:lnTo>
                    <a:pt x="336" y="49"/>
                  </a:lnTo>
                  <a:lnTo>
                    <a:pt x="336" y="42"/>
                  </a:lnTo>
                  <a:lnTo>
                    <a:pt x="334" y="36"/>
                  </a:lnTo>
                  <a:lnTo>
                    <a:pt x="334" y="28"/>
                  </a:lnTo>
                  <a:lnTo>
                    <a:pt x="330" y="23"/>
                  </a:lnTo>
                  <a:lnTo>
                    <a:pt x="330" y="19"/>
                  </a:lnTo>
                  <a:lnTo>
                    <a:pt x="329" y="9"/>
                  </a:lnTo>
                  <a:lnTo>
                    <a:pt x="327" y="6"/>
                  </a:lnTo>
                  <a:lnTo>
                    <a:pt x="321" y="2"/>
                  </a:lnTo>
                  <a:lnTo>
                    <a:pt x="317" y="2"/>
                  </a:lnTo>
                  <a:lnTo>
                    <a:pt x="311" y="0"/>
                  </a:lnTo>
                  <a:lnTo>
                    <a:pt x="306" y="2"/>
                  </a:lnTo>
                  <a:lnTo>
                    <a:pt x="296" y="2"/>
                  </a:lnTo>
                  <a:lnTo>
                    <a:pt x="291" y="6"/>
                  </a:lnTo>
                  <a:lnTo>
                    <a:pt x="279" y="9"/>
                  </a:lnTo>
                  <a:lnTo>
                    <a:pt x="272" y="17"/>
                  </a:lnTo>
                  <a:lnTo>
                    <a:pt x="258" y="23"/>
                  </a:lnTo>
                  <a:lnTo>
                    <a:pt x="247" y="30"/>
                  </a:lnTo>
                  <a:lnTo>
                    <a:pt x="239" y="34"/>
                  </a:lnTo>
                  <a:lnTo>
                    <a:pt x="233" y="40"/>
                  </a:lnTo>
                  <a:lnTo>
                    <a:pt x="226" y="44"/>
                  </a:lnTo>
                  <a:lnTo>
                    <a:pt x="220" y="49"/>
                  </a:lnTo>
                  <a:lnTo>
                    <a:pt x="211" y="55"/>
                  </a:lnTo>
                  <a:lnTo>
                    <a:pt x="205" y="61"/>
                  </a:lnTo>
                  <a:lnTo>
                    <a:pt x="195" y="66"/>
                  </a:lnTo>
                  <a:lnTo>
                    <a:pt x="188" y="74"/>
                  </a:lnTo>
                  <a:lnTo>
                    <a:pt x="180" y="80"/>
                  </a:lnTo>
                  <a:lnTo>
                    <a:pt x="171" y="87"/>
                  </a:lnTo>
                  <a:lnTo>
                    <a:pt x="163" y="97"/>
                  </a:lnTo>
                  <a:lnTo>
                    <a:pt x="156" y="104"/>
                  </a:lnTo>
                  <a:lnTo>
                    <a:pt x="146" y="112"/>
                  </a:lnTo>
                  <a:lnTo>
                    <a:pt x="137" y="120"/>
                  </a:lnTo>
                  <a:lnTo>
                    <a:pt x="127" y="127"/>
                  </a:lnTo>
                  <a:lnTo>
                    <a:pt x="119" y="139"/>
                  </a:lnTo>
                  <a:lnTo>
                    <a:pt x="110" y="146"/>
                  </a:lnTo>
                  <a:lnTo>
                    <a:pt x="102" y="156"/>
                  </a:lnTo>
                  <a:lnTo>
                    <a:pt x="93" y="165"/>
                  </a:lnTo>
                  <a:lnTo>
                    <a:pt x="85" y="177"/>
                  </a:lnTo>
                  <a:lnTo>
                    <a:pt x="78" y="186"/>
                  </a:lnTo>
                  <a:lnTo>
                    <a:pt x="68" y="196"/>
                  </a:lnTo>
                  <a:lnTo>
                    <a:pt x="61" y="205"/>
                  </a:lnTo>
                  <a:lnTo>
                    <a:pt x="55" y="215"/>
                  </a:lnTo>
                  <a:lnTo>
                    <a:pt x="47" y="224"/>
                  </a:lnTo>
                  <a:lnTo>
                    <a:pt x="42" y="234"/>
                  </a:lnTo>
                  <a:lnTo>
                    <a:pt x="36" y="245"/>
                  </a:lnTo>
                  <a:lnTo>
                    <a:pt x="30" y="255"/>
                  </a:lnTo>
                  <a:lnTo>
                    <a:pt x="24" y="264"/>
                  </a:lnTo>
                  <a:lnTo>
                    <a:pt x="19" y="272"/>
                  </a:lnTo>
                  <a:lnTo>
                    <a:pt x="15" y="281"/>
                  </a:lnTo>
                  <a:lnTo>
                    <a:pt x="11" y="289"/>
                  </a:lnTo>
                  <a:lnTo>
                    <a:pt x="7" y="296"/>
                  </a:lnTo>
                  <a:lnTo>
                    <a:pt x="3" y="304"/>
                  </a:lnTo>
                  <a:lnTo>
                    <a:pt x="2" y="310"/>
                  </a:lnTo>
                  <a:lnTo>
                    <a:pt x="2" y="317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3" y="344"/>
                  </a:lnTo>
                  <a:lnTo>
                    <a:pt x="13" y="348"/>
                  </a:lnTo>
                  <a:lnTo>
                    <a:pt x="1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670120" y="384120"/>
              <a:ext cx="122040" cy="12204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2" y="247"/>
                  </a:moveTo>
                  <a:lnTo>
                    <a:pt x="2" y="247"/>
                  </a:lnTo>
                  <a:lnTo>
                    <a:pt x="5" y="247"/>
                  </a:lnTo>
                  <a:lnTo>
                    <a:pt x="11" y="247"/>
                  </a:lnTo>
                  <a:lnTo>
                    <a:pt x="19" y="249"/>
                  </a:lnTo>
                  <a:lnTo>
                    <a:pt x="26" y="249"/>
                  </a:lnTo>
                  <a:lnTo>
                    <a:pt x="36" y="249"/>
                  </a:lnTo>
                  <a:lnTo>
                    <a:pt x="45" y="249"/>
                  </a:lnTo>
                  <a:lnTo>
                    <a:pt x="57" y="249"/>
                  </a:lnTo>
                  <a:lnTo>
                    <a:pt x="62" y="247"/>
                  </a:lnTo>
                  <a:lnTo>
                    <a:pt x="68" y="247"/>
                  </a:lnTo>
                  <a:lnTo>
                    <a:pt x="76" y="247"/>
                  </a:lnTo>
                  <a:lnTo>
                    <a:pt x="83" y="247"/>
                  </a:lnTo>
                  <a:lnTo>
                    <a:pt x="89" y="247"/>
                  </a:lnTo>
                  <a:lnTo>
                    <a:pt x="97" y="247"/>
                  </a:lnTo>
                  <a:lnTo>
                    <a:pt x="104" y="247"/>
                  </a:lnTo>
                  <a:lnTo>
                    <a:pt x="114" y="247"/>
                  </a:lnTo>
                  <a:lnTo>
                    <a:pt x="121" y="247"/>
                  </a:lnTo>
                  <a:lnTo>
                    <a:pt x="129" y="247"/>
                  </a:lnTo>
                  <a:lnTo>
                    <a:pt x="138" y="247"/>
                  </a:lnTo>
                  <a:lnTo>
                    <a:pt x="148" y="247"/>
                  </a:lnTo>
                  <a:lnTo>
                    <a:pt x="155" y="247"/>
                  </a:lnTo>
                  <a:lnTo>
                    <a:pt x="165" y="247"/>
                  </a:lnTo>
                  <a:lnTo>
                    <a:pt x="176" y="247"/>
                  </a:lnTo>
                  <a:lnTo>
                    <a:pt x="186" y="247"/>
                  </a:lnTo>
                  <a:lnTo>
                    <a:pt x="197" y="247"/>
                  </a:lnTo>
                  <a:lnTo>
                    <a:pt x="207" y="247"/>
                  </a:lnTo>
                  <a:lnTo>
                    <a:pt x="214" y="245"/>
                  </a:lnTo>
                  <a:lnTo>
                    <a:pt x="222" y="245"/>
                  </a:lnTo>
                  <a:lnTo>
                    <a:pt x="232" y="243"/>
                  </a:lnTo>
                  <a:lnTo>
                    <a:pt x="239" y="239"/>
                  </a:lnTo>
                  <a:lnTo>
                    <a:pt x="241" y="234"/>
                  </a:lnTo>
                  <a:lnTo>
                    <a:pt x="245" y="226"/>
                  </a:lnTo>
                  <a:lnTo>
                    <a:pt x="245" y="220"/>
                  </a:lnTo>
                  <a:lnTo>
                    <a:pt x="245" y="215"/>
                  </a:lnTo>
                  <a:lnTo>
                    <a:pt x="245" y="209"/>
                  </a:lnTo>
                  <a:lnTo>
                    <a:pt x="247" y="203"/>
                  </a:lnTo>
                  <a:lnTo>
                    <a:pt x="247" y="194"/>
                  </a:lnTo>
                  <a:lnTo>
                    <a:pt x="247" y="182"/>
                  </a:lnTo>
                  <a:lnTo>
                    <a:pt x="245" y="175"/>
                  </a:lnTo>
                  <a:lnTo>
                    <a:pt x="245" y="167"/>
                  </a:lnTo>
                  <a:lnTo>
                    <a:pt x="245" y="160"/>
                  </a:lnTo>
                  <a:lnTo>
                    <a:pt x="245" y="154"/>
                  </a:lnTo>
                  <a:lnTo>
                    <a:pt x="245" y="144"/>
                  </a:lnTo>
                  <a:lnTo>
                    <a:pt x="245" y="137"/>
                  </a:lnTo>
                  <a:lnTo>
                    <a:pt x="243" y="127"/>
                  </a:lnTo>
                  <a:lnTo>
                    <a:pt x="243" y="120"/>
                  </a:lnTo>
                  <a:lnTo>
                    <a:pt x="243" y="110"/>
                  </a:lnTo>
                  <a:lnTo>
                    <a:pt x="243" y="103"/>
                  </a:lnTo>
                  <a:lnTo>
                    <a:pt x="243" y="93"/>
                  </a:lnTo>
                  <a:lnTo>
                    <a:pt x="243" y="86"/>
                  </a:lnTo>
                  <a:lnTo>
                    <a:pt x="241" y="76"/>
                  </a:lnTo>
                  <a:lnTo>
                    <a:pt x="241" y="68"/>
                  </a:lnTo>
                  <a:lnTo>
                    <a:pt x="241" y="61"/>
                  </a:lnTo>
                  <a:lnTo>
                    <a:pt x="241" y="53"/>
                  </a:lnTo>
                  <a:lnTo>
                    <a:pt x="239" y="40"/>
                  </a:lnTo>
                  <a:lnTo>
                    <a:pt x="239" y="28"/>
                  </a:lnTo>
                  <a:lnTo>
                    <a:pt x="237" y="17"/>
                  </a:lnTo>
                  <a:lnTo>
                    <a:pt x="237" y="9"/>
                  </a:lnTo>
                  <a:lnTo>
                    <a:pt x="235" y="4"/>
                  </a:lnTo>
                  <a:lnTo>
                    <a:pt x="235" y="2"/>
                  </a:lnTo>
                  <a:lnTo>
                    <a:pt x="230" y="0"/>
                  </a:lnTo>
                  <a:lnTo>
                    <a:pt x="222" y="4"/>
                  </a:lnTo>
                  <a:lnTo>
                    <a:pt x="211" y="9"/>
                  </a:lnTo>
                  <a:lnTo>
                    <a:pt x="199" y="17"/>
                  </a:lnTo>
                  <a:lnTo>
                    <a:pt x="186" y="27"/>
                  </a:lnTo>
                  <a:lnTo>
                    <a:pt x="176" y="36"/>
                  </a:lnTo>
                  <a:lnTo>
                    <a:pt x="163" y="46"/>
                  </a:lnTo>
                  <a:lnTo>
                    <a:pt x="155" y="53"/>
                  </a:lnTo>
                  <a:lnTo>
                    <a:pt x="146" y="59"/>
                  </a:lnTo>
                  <a:lnTo>
                    <a:pt x="136" y="68"/>
                  </a:lnTo>
                  <a:lnTo>
                    <a:pt x="129" y="72"/>
                  </a:lnTo>
                  <a:lnTo>
                    <a:pt x="121" y="80"/>
                  </a:lnTo>
                  <a:lnTo>
                    <a:pt x="116" y="87"/>
                  </a:lnTo>
                  <a:lnTo>
                    <a:pt x="108" y="95"/>
                  </a:lnTo>
                  <a:lnTo>
                    <a:pt x="97" y="103"/>
                  </a:lnTo>
                  <a:lnTo>
                    <a:pt x="91" y="112"/>
                  </a:lnTo>
                  <a:lnTo>
                    <a:pt x="79" y="120"/>
                  </a:lnTo>
                  <a:lnTo>
                    <a:pt x="74" y="131"/>
                  </a:lnTo>
                  <a:lnTo>
                    <a:pt x="64" y="141"/>
                  </a:lnTo>
                  <a:lnTo>
                    <a:pt x="57" y="152"/>
                  </a:lnTo>
                  <a:lnTo>
                    <a:pt x="49" y="163"/>
                  </a:lnTo>
                  <a:lnTo>
                    <a:pt x="41" y="177"/>
                  </a:lnTo>
                  <a:lnTo>
                    <a:pt x="30" y="188"/>
                  </a:lnTo>
                  <a:lnTo>
                    <a:pt x="22" y="201"/>
                  </a:lnTo>
                  <a:lnTo>
                    <a:pt x="13" y="213"/>
                  </a:lnTo>
                  <a:lnTo>
                    <a:pt x="9" y="224"/>
                  </a:lnTo>
                  <a:lnTo>
                    <a:pt x="3" y="232"/>
                  </a:lnTo>
                  <a:lnTo>
                    <a:pt x="2" y="239"/>
                  </a:lnTo>
                  <a:lnTo>
                    <a:pt x="0" y="243"/>
                  </a:lnTo>
                  <a:lnTo>
                    <a:pt x="2" y="247"/>
                  </a:lnTo>
                  <a:lnTo>
                    <a:pt x="2" y="247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749320" y="482400"/>
              <a:ext cx="37440" cy="1836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0" y="38"/>
                  </a:moveTo>
                  <a:lnTo>
                    <a:pt x="63" y="38"/>
                  </a:lnTo>
                  <a:lnTo>
                    <a:pt x="76" y="9"/>
                  </a:lnTo>
                  <a:lnTo>
                    <a:pt x="25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733840" y="453960"/>
              <a:ext cx="33480" cy="24480"/>
            </a:xfrm>
            <a:custGeom>
              <a:avLst/>
              <a:gdLst/>
              <a:ahLst/>
              <a:rect l="l" t="t" r="r" b="b"/>
              <a:pathLst>
                <a:path w="68" h="49">
                  <a:moveTo>
                    <a:pt x="0" y="34"/>
                  </a:moveTo>
                  <a:lnTo>
                    <a:pt x="48" y="49"/>
                  </a:lnTo>
                  <a:lnTo>
                    <a:pt x="68" y="24"/>
                  </a:lnTo>
                  <a:lnTo>
                    <a:pt x="25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717280" y="432360"/>
              <a:ext cx="31320" cy="2628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0" y="28"/>
                  </a:moveTo>
                  <a:lnTo>
                    <a:pt x="42" y="53"/>
                  </a:lnTo>
                  <a:lnTo>
                    <a:pt x="65" y="30"/>
                  </a:lnTo>
                  <a:lnTo>
                    <a:pt x="3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699280" y="411480"/>
              <a:ext cx="27360" cy="284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0" y="25"/>
                  </a:moveTo>
                  <a:lnTo>
                    <a:pt x="32" y="57"/>
                  </a:lnTo>
                  <a:lnTo>
                    <a:pt x="57" y="38"/>
                  </a:lnTo>
                  <a:lnTo>
                    <a:pt x="32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791080" y="566280"/>
              <a:ext cx="33480" cy="252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10" y="13"/>
                  </a:moveTo>
                  <a:lnTo>
                    <a:pt x="69" y="0"/>
                  </a:lnTo>
                  <a:lnTo>
                    <a:pt x="61" y="34"/>
                  </a:lnTo>
                  <a:lnTo>
                    <a:pt x="0" y="51"/>
                  </a:lnTo>
                  <a:lnTo>
                    <a:pt x="1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796480" y="593640"/>
              <a:ext cx="32040" cy="2628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65" y="0"/>
                  </a:moveTo>
                  <a:lnTo>
                    <a:pt x="8" y="17"/>
                  </a:lnTo>
                  <a:lnTo>
                    <a:pt x="0" y="55"/>
                  </a:lnTo>
                  <a:lnTo>
                    <a:pt x="58" y="34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2799720" y="621360"/>
              <a:ext cx="30600" cy="3348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0"/>
                  </a:moveTo>
                  <a:lnTo>
                    <a:pt x="2" y="23"/>
                  </a:lnTo>
                  <a:lnTo>
                    <a:pt x="0" y="66"/>
                  </a:lnTo>
                  <a:lnTo>
                    <a:pt x="57" y="4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801880" y="653760"/>
              <a:ext cx="28440" cy="42120"/>
            </a:xfrm>
            <a:custGeom>
              <a:avLst/>
              <a:gdLst/>
              <a:ahLst/>
              <a:rect l="l" t="t" r="r" b="b"/>
              <a:pathLst>
                <a:path w="57" h="88">
                  <a:moveTo>
                    <a:pt x="57" y="0"/>
                  </a:moveTo>
                  <a:lnTo>
                    <a:pt x="0" y="33"/>
                  </a:lnTo>
                  <a:lnTo>
                    <a:pt x="2" y="88"/>
                  </a:lnTo>
                  <a:lnTo>
                    <a:pt x="57" y="2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588040" y="347400"/>
              <a:ext cx="19800" cy="30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2" y="15"/>
                  </a:moveTo>
                  <a:lnTo>
                    <a:pt x="0" y="63"/>
                  </a:lnTo>
                  <a:lnTo>
                    <a:pt x="34" y="51"/>
                  </a:lnTo>
                  <a:lnTo>
                    <a:pt x="40" y="0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2561760" y="340560"/>
              <a:ext cx="20520" cy="302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8" y="7"/>
                  </a:moveTo>
                  <a:lnTo>
                    <a:pt x="0" y="60"/>
                  </a:lnTo>
                  <a:lnTo>
                    <a:pt x="37" y="51"/>
                  </a:lnTo>
                  <a:lnTo>
                    <a:pt x="42" y="0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532240" y="336600"/>
              <a:ext cx="20520" cy="2736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6" y="6"/>
                  </a:moveTo>
                  <a:lnTo>
                    <a:pt x="0" y="57"/>
                  </a:lnTo>
                  <a:lnTo>
                    <a:pt x="35" y="51"/>
                  </a:lnTo>
                  <a:lnTo>
                    <a:pt x="42" y="0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2465280" y="330840"/>
              <a:ext cx="34200" cy="262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2" y="0"/>
                  </a:moveTo>
                  <a:lnTo>
                    <a:pt x="0" y="55"/>
                  </a:lnTo>
                  <a:lnTo>
                    <a:pt x="28" y="55"/>
                  </a:lnTo>
                  <a:lnTo>
                    <a:pt x="70" y="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2678400" y="391680"/>
              <a:ext cx="22320" cy="3348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0" y="29"/>
                  </a:moveTo>
                  <a:lnTo>
                    <a:pt x="19" y="69"/>
                  </a:lnTo>
                  <a:lnTo>
                    <a:pt x="46" y="53"/>
                  </a:lnTo>
                  <a:lnTo>
                    <a:pt x="38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502000" y="332640"/>
              <a:ext cx="24480" cy="27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10" y="4"/>
                  </a:moveTo>
                  <a:lnTo>
                    <a:pt x="0" y="57"/>
                  </a:lnTo>
                  <a:lnTo>
                    <a:pt x="35" y="54"/>
                  </a:lnTo>
                  <a:lnTo>
                    <a:pt x="5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536200" y="839880"/>
              <a:ext cx="101160" cy="35280"/>
            </a:xfrm>
            <a:custGeom>
              <a:avLst/>
              <a:gdLst/>
              <a:ahLst/>
              <a:rect l="l" t="t" r="r" b="b"/>
              <a:pathLst>
                <a:path w="206" h="72">
                  <a:moveTo>
                    <a:pt x="0" y="66"/>
                  </a:moveTo>
                  <a:lnTo>
                    <a:pt x="2" y="64"/>
                  </a:lnTo>
                  <a:lnTo>
                    <a:pt x="12" y="62"/>
                  </a:lnTo>
                  <a:lnTo>
                    <a:pt x="17" y="58"/>
                  </a:lnTo>
                  <a:lnTo>
                    <a:pt x="27" y="55"/>
                  </a:lnTo>
                  <a:lnTo>
                    <a:pt x="34" y="51"/>
                  </a:lnTo>
                  <a:lnTo>
                    <a:pt x="46" y="49"/>
                  </a:lnTo>
                  <a:lnTo>
                    <a:pt x="55" y="43"/>
                  </a:lnTo>
                  <a:lnTo>
                    <a:pt x="67" y="38"/>
                  </a:lnTo>
                  <a:lnTo>
                    <a:pt x="78" y="32"/>
                  </a:lnTo>
                  <a:lnTo>
                    <a:pt x="90" y="28"/>
                  </a:lnTo>
                  <a:lnTo>
                    <a:pt x="101" y="20"/>
                  </a:lnTo>
                  <a:lnTo>
                    <a:pt x="112" y="15"/>
                  </a:lnTo>
                  <a:lnTo>
                    <a:pt x="126" y="7"/>
                  </a:lnTo>
                  <a:lnTo>
                    <a:pt x="137" y="0"/>
                  </a:lnTo>
                  <a:lnTo>
                    <a:pt x="206" y="7"/>
                  </a:lnTo>
                  <a:lnTo>
                    <a:pt x="202" y="7"/>
                  </a:lnTo>
                  <a:lnTo>
                    <a:pt x="198" y="15"/>
                  </a:lnTo>
                  <a:lnTo>
                    <a:pt x="188" y="22"/>
                  </a:lnTo>
                  <a:lnTo>
                    <a:pt x="177" y="34"/>
                  </a:lnTo>
                  <a:lnTo>
                    <a:pt x="171" y="38"/>
                  </a:lnTo>
                  <a:lnTo>
                    <a:pt x="164" y="43"/>
                  </a:lnTo>
                  <a:lnTo>
                    <a:pt x="154" y="49"/>
                  </a:lnTo>
                  <a:lnTo>
                    <a:pt x="147" y="55"/>
                  </a:lnTo>
                  <a:lnTo>
                    <a:pt x="137" y="58"/>
                  </a:lnTo>
                  <a:lnTo>
                    <a:pt x="130" y="64"/>
                  </a:lnTo>
                  <a:lnTo>
                    <a:pt x="120" y="68"/>
                  </a:lnTo>
                  <a:lnTo>
                    <a:pt x="111" y="7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2312640" y="781920"/>
              <a:ext cx="58680" cy="5976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25" y="60"/>
                  </a:moveTo>
                  <a:lnTo>
                    <a:pt x="23" y="60"/>
                  </a:lnTo>
                  <a:lnTo>
                    <a:pt x="21" y="66"/>
                  </a:lnTo>
                  <a:lnTo>
                    <a:pt x="19" y="72"/>
                  </a:lnTo>
                  <a:lnTo>
                    <a:pt x="17" y="81"/>
                  </a:lnTo>
                  <a:lnTo>
                    <a:pt x="13" y="91"/>
                  </a:lnTo>
                  <a:lnTo>
                    <a:pt x="12" y="100"/>
                  </a:lnTo>
                  <a:lnTo>
                    <a:pt x="4" y="112"/>
                  </a:lnTo>
                  <a:lnTo>
                    <a:pt x="0" y="121"/>
                  </a:lnTo>
                  <a:lnTo>
                    <a:pt x="4" y="118"/>
                  </a:lnTo>
                  <a:lnTo>
                    <a:pt x="12" y="114"/>
                  </a:lnTo>
                  <a:lnTo>
                    <a:pt x="17" y="108"/>
                  </a:lnTo>
                  <a:lnTo>
                    <a:pt x="27" y="104"/>
                  </a:lnTo>
                  <a:lnTo>
                    <a:pt x="34" y="98"/>
                  </a:lnTo>
                  <a:lnTo>
                    <a:pt x="42" y="95"/>
                  </a:lnTo>
                  <a:lnTo>
                    <a:pt x="51" y="87"/>
                  </a:lnTo>
                  <a:lnTo>
                    <a:pt x="61" y="81"/>
                  </a:lnTo>
                  <a:lnTo>
                    <a:pt x="69" y="74"/>
                  </a:lnTo>
                  <a:lnTo>
                    <a:pt x="76" y="66"/>
                  </a:lnTo>
                  <a:lnTo>
                    <a:pt x="86" y="57"/>
                  </a:lnTo>
                  <a:lnTo>
                    <a:pt x="93" y="47"/>
                  </a:lnTo>
                  <a:lnTo>
                    <a:pt x="99" y="36"/>
                  </a:lnTo>
                  <a:lnTo>
                    <a:pt x="107" y="26"/>
                  </a:lnTo>
                  <a:lnTo>
                    <a:pt x="114" y="11"/>
                  </a:lnTo>
                  <a:lnTo>
                    <a:pt x="120" y="0"/>
                  </a:lnTo>
                  <a:lnTo>
                    <a:pt x="114" y="3"/>
                  </a:lnTo>
                  <a:lnTo>
                    <a:pt x="107" y="9"/>
                  </a:lnTo>
                  <a:lnTo>
                    <a:pt x="99" y="13"/>
                  </a:lnTo>
                  <a:lnTo>
                    <a:pt x="93" y="19"/>
                  </a:lnTo>
                  <a:lnTo>
                    <a:pt x="86" y="22"/>
                  </a:lnTo>
                  <a:lnTo>
                    <a:pt x="76" y="28"/>
                  </a:lnTo>
                  <a:lnTo>
                    <a:pt x="69" y="32"/>
                  </a:lnTo>
                  <a:lnTo>
                    <a:pt x="63" y="40"/>
                  </a:lnTo>
                  <a:lnTo>
                    <a:pt x="53" y="43"/>
                  </a:lnTo>
                  <a:lnTo>
                    <a:pt x="46" y="45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9"/>
                  </a:lnTo>
                  <a:lnTo>
                    <a:pt x="25" y="60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478960" y="843120"/>
              <a:ext cx="73800" cy="33480"/>
            </a:xfrm>
            <a:custGeom>
              <a:avLst/>
              <a:gdLst/>
              <a:ahLst/>
              <a:rect l="l" t="t" r="r" b="b"/>
              <a:pathLst>
                <a:path w="151" h="69">
                  <a:moveTo>
                    <a:pt x="0" y="69"/>
                  </a:moveTo>
                  <a:lnTo>
                    <a:pt x="0" y="67"/>
                  </a:lnTo>
                  <a:lnTo>
                    <a:pt x="4" y="65"/>
                  </a:lnTo>
                  <a:lnTo>
                    <a:pt x="10" y="61"/>
                  </a:lnTo>
                  <a:lnTo>
                    <a:pt x="21" y="55"/>
                  </a:lnTo>
                  <a:lnTo>
                    <a:pt x="25" y="50"/>
                  </a:lnTo>
                  <a:lnTo>
                    <a:pt x="31" y="46"/>
                  </a:lnTo>
                  <a:lnTo>
                    <a:pt x="38" y="40"/>
                  </a:lnTo>
                  <a:lnTo>
                    <a:pt x="46" y="34"/>
                  </a:lnTo>
                  <a:lnTo>
                    <a:pt x="54" y="27"/>
                  </a:lnTo>
                  <a:lnTo>
                    <a:pt x="61" y="19"/>
                  </a:lnTo>
                  <a:lnTo>
                    <a:pt x="69" y="10"/>
                  </a:lnTo>
                  <a:lnTo>
                    <a:pt x="78" y="2"/>
                  </a:lnTo>
                  <a:lnTo>
                    <a:pt x="151" y="0"/>
                  </a:lnTo>
                  <a:lnTo>
                    <a:pt x="147" y="2"/>
                  </a:lnTo>
                  <a:lnTo>
                    <a:pt x="145" y="8"/>
                  </a:lnTo>
                  <a:lnTo>
                    <a:pt x="139" y="15"/>
                  </a:lnTo>
                  <a:lnTo>
                    <a:pt x="133" y="27"/>
                  </a:lnTo>
                  <a:lnTo>
                    <a:pt x="124" y="36"/>
                  </a:lnTo>
                  <a:lnTo>
                    <a:pt x="112" y="48"/>
                  </a:lnTo>
                  <a:lnTo>
                    <a:pt x="107" y="53"/>
                  </a:lnTo>
                  <a:lnTo>
                    <a:pt x="99" y="57"/>
                  </a:lnTo>
                  <a:lnTo>
                    <a:pt x="92" y="63"/>
                  </a:lnTo>
                  <a:lnTo>
                    <a:pt x="86" y="69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428200" y="834120"/>
              <a:ext cx="56880" cy="38160"/>
            </a:xfrm>
            <a:custGeom>
              <a:avLst/>
              <a:gdLst/>
              <a:ahLst/>
              <a:rect l="l" t="t" r="r" b="b"/>
              <a:pathLst>
                <a:path w="116" h="78">
                  <a:moveTo>
                    <a:pt x="0" y="78"/>
                  </a:moveTo>
                  <a:lnTo>
                    <a:pt x="0" y="76"/>
                  </a:lnTo>
                  <a:lnTo>
                    <a:pt x="6" y="74"/>
                  </a:lnTo>
                  <a:lnTo>
                    <a:pt x="10" y="67"/>
                  </a:lnTo>
                  <a:lnTo>
                    <a:pt x="19" y="61"/>
                  </a:lnTo>
                  <a:lnTo>
                    <a:pt x="25" y="50"/>
                  </a:lnTo>
                  <a:lnTo>
                    <a:pt x="36" y="40"/>
                  </a:lnTo>
                  <a:lnTo>
                    <a:pt x="38" y="32"/>
                  </a:lnTo>
                  <a:lnTo>
                    <a:pt x="44" y="27"/>
                  </a:lnTo>
                  <a:lnTo>
                    <a:pt x="50" y="19"/>
                  </a:lnTo>
                  <a:lnTo>
                    <a:pt x="53" y="12"/>
                  </a:lnTo>
                  <a:lnTo>
                    <a:pt x="116" y="0"/>
                  </a:lnTo>
                  <a:lnTo>
                    <a:pt x="114" y="2"/>
                  </a:lnTo>
                  <a:lnTo>
                    <a:pt x="112" y="6"/>
                  </a:lnTo>
                  <a:lnTo>
                    <a:pt x="108" y="12"/>
                  </a:lnTo>
                  <a:lnTo>
                    <a:pt x="107" y="23"/>
                  </a:lnTo>
                  <a:lnTo>
                    <a:pt x="101" y="32"/>
                  </a:lnTo>
                  <a:lnTo>
                    <a:pt x="93" y="44"/>
                  </a:lnTo>
                  <a:lnTo>
                    <a:pt x="86" y="53"/>
                  </a:lnTo>
                  <a:lnTo>
                    <a:pt x="76" y="65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2378520" y="820440"/>
              <a:ext cx="47160" cy="4212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85"/>
                  </a:moveTo>
                  <a:lnTo>
                    <a:pt x="0" y="81"/>
                  </a:lnTo>
                  <a:lnTo>
                    <a:pt x="2" y="79"/>
                  </a:lnTo>
                  <a:lnTo>
                    <a:pt x="6" y="74"/>
                  </a:lnTo>
                  <a:lnTo>
                    <a:pt x="11" y="68"/>
                  </a:lnTo>
                  <a:lnTo>
                    <a:pt x="19" y="57"/>
                  </a:lnTo>
                  <a:lnTo>
                    <a:pt x="25" y="47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6" y="26"/>
                  </a:lnTo>
                  <a:lnTo>
                    <a:pt x="40" y="19"/>
                  </a:lnTo>
                  <a:lnTo>
                    <a:pt x="97" y="0"/>
                  </a:lnTo>
                  <a:lnTo>
                    <a:pt x="95" y="1"/>
                  </a:lnTo>
                  <a:lnTo>
                    <a:pt x="93" y="5"/>
                  </a:lnTo>
                  <a:lnTo>
                    <a:pt x="91" y="13"/>
                  </a:lnTo>
                  <a:lnTo>
                    <a:pt x="89" y="24"/>
                  </a:lnTo>
                  <a:lnTo>
                    <a:pt x="83" y="34"/>
                  </a:lnTo>
                  <a:lnTo>
                    <a:pt x="80" y="43"/>
                  </a:lnTo>
                  <a:lnTo>
                    <a:pt x="74" y="53"/>
                  </a:lnTo>
                  <a:lnTo>
                    <a:pt x="66" y="60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2219760" y="797760"/>
              <a:ext cx="73800" cy="31320"/>
            </a:xfrm>
            <a:custGeom>
              <a:avLst/>
              <a:gdLst/>
              <a:ahLst/>
              <a:rect l="l" t="t" r="r" b="b"/>
              <a:pathLst>
                <a:path w="150" h="65">
                  <a:moveTo>
                    <a:pt x="0" y="65"/>
                  </a:moveTo>
                  <a:lnTo>
                    <a:pt x="0" y="63"/>
                  </a:lnTo>
                  <a:lnTo>
                    <a:pt x="4" y="59"/>
                  </a:lnTo>
                  <a:lnTo>
                    <a:pt x="9" y="53"/>
                  </a:lnTo>
                  <a:lnTo>
                    <a:pt x="17" y="47"/>
                  </a:lnTo>
                  <a:lnTo>
                    <a:pt x="23" y="38"/>
                  </a:lnTo>
                  <a:lnTo>
                    <a:pt x="30" y="30"/>
                  </a:lnTo>
                  <a:lnTo>
                    <a:pt x="38" y="21"/>
                  </a:lnTo>
                  <a:lnTo>
                    <a:pt x="45" y="11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8" y="9"/>
                  </a:lnTo>
                  <a:lnTo>
                    <a:pt x="76" y="9"/>
                  </a:lnTo>
                  <a:lnTo>
                    <a:pt x="82" y="8"/>
                  </a:lnTo>
                  <a:lnTo>
                    <a:pt x="89" y="8"/>
                  </a:lnTo>
                  <a:lnTo>
                    <a:pt x="97" y="8"/>
                  </a:lnTo>
                  <a:lnTo>
                    <a:pt x="104" y="8"/>
                  </a:lnTo>
                  <a:lnTo>
                    <a:pt x="110" y="6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4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4" y="8"/>
                  </a:lnTo>
                  <a:lnTo>
                    <a:pt x="139" y="11"/>
                  </a:lnTo>
                  <a:lnTo>
                    <a:pt x="133" y="17"/>
                  </a:lnTo>
                  <a:lnTo>
                    <a:pt x="123" y="23"/>
                  </a:lnTo>
                  <a:lnTo>
                    <a:pt x="116" y="30"/>
                  </a:lnTo>
                  <a:lnTo>
                    <a:pt x="110" y="32"/>
                  </a:lnTo>
                  <a:lnTo>
                    <a:pt x="104" y="36"/>
                  </a:lnTo>
                  <a:lnTo>
                    <a:pt x="99" y="38"/>
                  </a:lnTo>
                  <a:lnTo>
                    <a:pt x="93" y="42"/>
                  </a:lnTo>
                  <a:lnTo>
                    <a:pt x="84" y="44"/>
                  </a:lnTo>
                  <a:lnTo>
                    <a:pt x="76" y="46"/>
                  </a:lnTo>
                  <a:lnTo>
                    <a:pt x="68" y="47"/>
                  </a:lnTo>
                  <a:lnTo>
                    <a:pt x="63" y="51"/>
                  </a:lnTo>
                  <a:lnTo>
                    <a:pt x="53" y="51"/>
                  </a:lnTo>
                  <a:lnTo>
                    <a:pt x="45" y="55"/>
                  </a:lnTo>
                  <a:lnTo>
                    <a:pt x="38" y="55"/>
                  </a:lnTo>
                  <a:lnTo>
                    <a:pt x="32" y="59"/>
                  </a:lnTo>
                  <a:lnTo>
                    <a:pt x="25" y="59"/>
                  </a:lnTo>
                  <a:lnTo>
                    <a:pt x="19" y="59"/>
                  </a:lnTo>
                  <a:lnTo>
                    <a:pt x="13" y="61"/>
                  </a:lnTo>
                  <a:lnTo>
                    <a:pt x="9" y="63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3057480" y="2743200"/>
            <a:ext cx="2243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CA" sz="5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7360" y="2058840"/>
            <a:ext cx="2025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-bit string, x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16760" y="1968480"/>
            <a:ext cx="27194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y one bit x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of our choice, with hig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382760" y="1231920"/>
            <a:ext cx="61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Quantum random access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97240" y="2584440"/>
            <a:ext cx="139212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4626000" y="2614320"/>
            <a:ext cx="1455840" cy="64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23920" y="2306520"/>
            <a:ext cx="89200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per bound on the sample complexity of “PAC” (Probably Approximately Correctly) learning a quantum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nformal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predict approximate expectation values of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ments on an n-qubit state, after a number of sample measurements that increases only linearly with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68560" y="165240"/>
            <a:ext cx="678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 Lemona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551640" y="182520"/>
            <a:ext cx="550800" cy="623880"/>
            <a:chOff x="6551640" y="182520"/>
            <a:chExt cx="550800" cy="623880"/>
          </a:xfrm>
        </p:grpSpPr>
        <p:sp>
          <p:nvSpPr>
            <p:cNvPr id="628" name=""/>
            <p:cNvSpPr/>
            <p:nvPr/>
          </p:nvSpPr>
          <p:spPr>
            <a:xfrm>
              <a:off x="6887160" y="274680"/>
              <a:ext cx="203760" cy="374760"/>
            </a:xfrm>
            <a:custGeom>
              <a:avLst/>
              <a:gdLst/>
              <a:ahLst/>
              <a:rect l="l" t="t" r="r" b="b"/>
              <a:pathLst>
                <a:path w="1131" h="2080">
                  <a:moveTo>
                    <a:pt x="50" y="644"/>
                  </a:moveTo>
                  <a:lnTo>
                    <a:pt x="50" y="633"/>
                  </a:lnTo>
                  <a:lnTo>
                    <a:pt x="50" y="619"/>
                  </a:lnTo>
                  <a:lnTo>
                    <a:pt x="50" y="612"/>
                  </a:lnTo>
                  <a:lnTo>
                    <a:pt x="54" y="604"/>
                  </a:lnTo>
                  <a:lnTo>
                    <a:pt x="54" y="597"/>
                  </a:lnTo>
                  <a:lnTo>
                    <a:pt x="59" y="589"/>
                  </a:lnTo>
                  <a:lnTo>
                    <a:pt x="59" y="579"/>
                  </a:lnTo>
                  <a:lnTo>
                    <a:pt x="63" y="572"/>
                  </a:lnTo>
                  <a:lnTo>
                    <a:pt x="67" y="562"/>
                  </a:lnTo>
                  <a:lnTo>
                    <a:pt x="71" y="555"/>
                  </a:lnTo>
                  <a:lnTo>
                    <a:pt x="74" y="545"/>
                  </a:lnTo>
                  <a:lnTo>
                    <a:pt x="78" y="536"/>
                  </a:lnTo>
                  <a:lnTo>
                    <a:pt x="84" y="526"/>
                  </a:lnTo>
                  <a:lnTo>
                    <a:pt x="90" y="517"/>
                  </a:lnTo>
                  <a:lnTo>
                    <a:pt x="93" y="505"/>
                  </a:lnTo>
                  <a:lnTo>
                    <a:pt x="99" y="494"/>
                  </a:lnTo>
                  <a:lnTo>
                    <a:pt x="105" y="482"/>
                  </a:lnTo>
                  <a:lnTo>
                    <a:pt x="112" y="473"/>
                  </a:lnTo>
                  <a:lnTo>
                    <a:pt x="118" y="462"/>
                  </a:lnTo>
                  <a:lnTo>
                    <a:pt x="124" y="452"/>
                  </a:lnTo>
                  <a:lnTo>
                    <a:pt x="133" y="441"/>
                  </a:lnTo>
                  <a:lnTo>
                    <a:pt x="141" y="431"/>
                  </a:lnTo>
                  <a:lnTo>
                    <a:pt x="147" y="418"/>
                  </a:lnTo>
                  <a:lnTo>
                    <a:pt x="154" y="406"/>
                  </a:lnTo>
                  <a:lnTo>
                    <a:pt x="164" y="395"/>
                  </a:lnTo>
                  <a:lnTo>
                    <a:pt x="171" y="385"/>
                  </a:lnTo>
                  <a:lnTo>
                    <a:pt x="181" y="374"/>
                  </a:lnTo>
                  <a:lnTo>
                    <a:pt x="190" y="363"/>
                  </a:lnTo>
                  <a:lnTo>
                    <a:pt x="200" y="351"/>
                  </a:lnTo>
                  <a:lnTo>
                    <a:pt x="211" y="342"/>
                  </a:lnTo>
                  <a:lnTo>
                    <a:pt x="221" y="328"/>
                  </a:lnTo>
                  <a:lnTo>
                    <a:pt x="230" y="319"/>
                  </a:lnTo>
                  <a:lnTo>
                    <a:pt x="240" y="308"/>
                  </a:lnTo>
                  <a:lnTo>
                    <a:pt x="251" y="298"/>
                  </a:lnTo>
                  <a:lnTo>
                    <a:pt x="263" y="285"/>
                  </a:lnTo>
                  <a:lnTo>
                    <a:pt x="274" y="277"/>
                  </a:lnTo>
                  <a:lnTo>
                    <a:pt x="285" y="266"/>
                  </a:lnTo>
                  <a:lnTo>
                    <a:pt x="299" y="258"/>
                  </a:lnTo>
                  <a:lnTo>
                    <a:pt x="310" y="247"/>
                  </a:lnTo>
                  <a:lnTo>
                    <a:pt x="322" y="237"/>
                  </a:lnTo>
                  <a:lnTo>
                    <a:pt x="333" y="230"/>
                  </a:lnTo>
                  <a:lnTo>
                    <a:pt x="346" y="222"/>
                  </a:lnTo>
                  <a:lnTo>
                    <a:pt x="360" y="212"/>
                  </a:lnTo>
                  <a:lnTo>
                    <a:pt x="373" y="205"/>
                  </a:lnTo>
                  <a:lnTo>
                    <a:pt x="386" y="197"/>
                  </a:lnTo>
                  <a:lnTo>
                    <a:pt x="401" y="192"/>
                  </a:lnTo>
                  <a:lnTo>
                    <a:pt x="415" y="184"/>
                  </a:lnTo>
                  <a:lnTo>
                    <a:pt x="430" y="176"/>
                  </a:lnTo>
                  <a:lnTo>
                    <a:pt x="443" y="171"/>
                  </a:lnTo>
                  <a:lnTo>
                    <a:pt x="458" y="167"/>
                  </a:lnTo>
                  <a:lnTo>
                    <a:pt x="474" y="161"/>
                  </a:lnTo>
                  <a:lnTo>
                    <a:pt x="489" y="155"/>
                  </a:lnTo>
                  <a:lnTo>
                    <a:pt x="504" y="152"/>
                  </a:lnTo>
                  <a:lnTo>
                    <a:pt x="521" y="150"/>
                  </a:lnTo>
                  <a:lnTo>
                    <a:pt x="536" y="144"/>
                  </a:lnTo>
                  <a:lnTo>
                    <a:pt x="552" y="144"/>
                  </a:lnTo>
                  <a:lnTo>
                    <a:pt x="569" y="140"/>
                  </a:lnTo>
                  <a:lnTo>
                    <a:pt x="586" y="140"/>
                  </a:lnTo>
                  <a:lnTo>
                    <a:pt x="601" y="140"/>
                  </a:lnTo>
                  <a:lnTo>
                    <a:pt x="620" y="140"/>
                  </a:lnTo>
                  <a:lnTo>
                    <a:pt x="637" y="140"/>
                  </a:lnTo>
                  <a:lnTo>
                    <a:pt x="656" y="144"/>
                  </a:lnTo>
                  <a:lnTo>
                    <a:pt x="671" y="144"/>
                  </a:lnTo>
                  <a:lnTo>
                    <a:pt x="688" y="146"/>
                  </a:lnTo>
                  <a:lnTo>
                    <a:pt x="704" y="148"/>
                  </a:lnTo>
                  <a:lnTo>
                    <a:pt x="719" y="152"/>
                  </a:lnTo>
                  <a:lnTo>
                    <a:pt x="732" y="154"/>
                  </a:lnTo>
                  <a:lnTo>
                    <a:pt x="747" y="157"/>
                  </a:lnTo>
                  <a:lnTo>
                    <a:pt x="761" y="161"/>
                  </a:lnTo>
                  <a:lnTo>
                    <a:pt x="776" y="165"/>
                  </a:lnTo>
                  <a:lnTo>
                    <a:pt x="787" y="169"/>
                  </a:lnTo>
                  <a:lnTo>
                    <a:pt x="799" y="173"/>
                  </a:lnTo>
                  <a:lnTo>
                    <a:pt x="810" y="176"/>
                  </a:lnTo>
                  <a:lnTo>
                    <a:pt x="822" y="184"/>
                  </a:lnTo>
                  <a:lnTo>
                    <a:pt x="831" y="188"/>
                  </a:lnTo>
                  <a:lnTo>
                    <a:pt x="841" y="193"/>
                  </a:lnTo>
                  <a:lnTo>
                    <a:pt x="850" y="199"/>
                  </a:lnTo>
                  <a:lnTo>
                    <a:pt x="860" y="207"/>
                  </a:lnTo>
                  <a:lnTo>
                    <a:pt x="867" y="211"/>
                  </a:lnTo>
                  <a:lnTo>
                    <a:pt x="875" y="218"/>
                  </a:lnTo>
                  <a:lnTo>
                    <a:pt x="880" y="224"/>
                  </a:lnTo>
                  <a:lnTo>
                    <a:pt x="888" y="233"/>
                  </a:lnTo>
                  <a:lnTo>
                    <a:pt x="894" y="239"/>
                  </a:lnTo>
                  <a:lnTo>
                    <a:pt x="901" y="247"/>
                  </a:lnTo>
                  <a:lnTo>
                    <a:pt x="907" y="254"/>
                  </a:lnTo>
                  <a:lnTo>
                    <a:pt x="911" y="264"/>
                  </a:lnTo>
                  <a:lnTo>
                    <a:pt x="915" y="271"/>
                  </a:lnTo>
                  <a:lnTo>
                    <a:pt x="919" y="279"/>
                  </a:lnTo>
                  <a:lnTo>
                    <a:pt x="924" y="287"/>
                  </a:lnTo>
                  <a:lnTo>
                    <a:pt x="928" y="294"/>
                  </a:lnTo>
                  <a:lnTo>
                    <a:pt x="930" y="304"/>
                  </a:lnTo>
                  <a:lnTo>
                    <a:pt x="934" y="311"/>
                  </a:lnTo>
                  <a:lnTo>
                    <a:pt x="938" y="321"/>
                  </a:lnTo>
                  <a:lnTo>
                    <a:pt x="939" y="332"/>
                  </a:lnTo>
                  <a:lnTo>
                    <a:pt x="941" y="340"/>
                  </a:lnTo>
                  <a:lnTo>
                    <a:pt x="941" y="349"/>
                  </a:lnTo>
                  <a:lnTo>
                    <a:pt x="941" y="359"/>
                  </a:lnTo>
                  <a:lnTo>
                    <a:pt x="943" y="368"/>
                  </a:lnTo>
                  <a:lnTo>
                    <a:pt x="943" y="378"/>
                  </a:lnTo>
                  <a:lnTo>
                    <a:pt x="943" y="389"/>
                  </a:lnTo>
                  <a:lnTo>
                    <a:pt x="943" y="399"/>
                  </a:lnTo>
                  <a:lnTo>
                    <a:pt x="945" y="408"/>
                  </a:lnTo>
                  <a:lnTo>
                    <a:pt x="943" y="418"/>
                  </a:lnTo>
                  <a:lnTo>
                    <a:pt x="941" y="429"/>
                  </a:lnTo>
                  <a:lnTo>
                    <a:pt x="941" y="439"/>
                  </a:lnTo>
                  <a:lnTo>
                    <a:pt x="941" y="448"/>
                  </a:lnTo>
                  <a:lnTo>
                    <a:pt x="939" y="458"/>
                  </a:lnTo>
                  <a:lnTo>
                    <a:pt x="938" y="469"/>
                  </a:lnTo>
                  <a:lnTo>
                    <a:pt x="938" y="479"/>
                  </a:lnTo>
                  <a:lnTo>
                    <a:pt x="936" y="492"/>
                  </a:lnTo>
                  <a:lnTo>
                    <a:pt x="932" y="501"/>
                  </a:lnTo>
                  <a:lnTo>
                    <a:pt x="930" y="511"/>
                  </a:lnTo>
                  <a:lnTo>
                    <a:pt x="928" y="522"/>
                  </a:lnTo>
                  <a:lnTo>
                    <a:pt x="924" y="532"/>
                  </a:lnTo>
                  <a:lnTo>
                    <a:pt x="922" y="541"/>
                  </a:lnTo>
                  <a:lnTo>
                    <a:pt x="919" y="553"/>
                  </a:lnTo>
                  <a:lnTo>
                    <a:pt x="917" y="562"/>
                  </a:lnTo>
                  <a:lnTo>
                    <a:pt x="915" y="576"/>
                  </a:lnTo>
                  <a:lnTo>
                    <a:pt x="911" y="583"/>
                  </a:lnTo>
                  <a:lnTo>
                    <a:pt x="907" y="597"/>
                  </a:lnTo>
                  <a:lnTo>
                    <a:pt x="903" y="606"/>
                  </a:lnTo>
                  <a:lnTo>
                    <a:pt x="901" y="617"/>
                  </a:lnTo>
                  <a:lnTo>
                    <a:pt x="898" y="627"/>
                  </a:lnTo>
                  <a:lnTo>
                    <a:pt x="894" y="638"/>
                  </a:lnTo>
                  <a:lnTo>
                    <a:pt x="892" y="648"/>
                  </a:lnTo>
                  <a:lnTo>
                    <a:pt x="888" y="659"/>
                  </a:lnTo>
                  <a:lnTo>
                    <a:pt x="392" y="1277"/>
                  </a:lnTo>
                  <a:lnTo>
                    <a:pt x="396" y="1285"/>
                  </a:lnTo>
                  <a:lnTo>
                    <a:pt x="401" y="1296"/>
                  </a:lnTo>
                  <a:lnTo>
                    <a:pt x="407" y="1308"/>
                  </a:lnTo>
                  <a:lnTo>
                    <a:pt x="413" y="1323"/>
                  </a:lnTo>
                  <a:lnTo>
                    <a:pt x="413" y="1329"/>
                  </a:lnTo>
                  <a:lnTo>
                    <a:pt x="417" y="1336"/>
                  </a:lnTo>
                  <a:lnTo>
                    <a:pt x="419" y="1344"/>
                  </a:lnTo>
                  <a:lnTo>
                    <a:pt x="422" y="1351"/>
                  </a:lnTo>
                  <a:lnTo>
                    <a:pt x="426" y="1359"/>
                  </a:lnTo>
                  <a:lnTo>
                    <a:pt x="428" y="1367"/>
                  </a:lnTo>
                  <a:lnTo>
                    <a:pt x="430" y="1376"/>
                  </a:lnTo>
                  <a:lnTo>
                    <a:pt x="434" y="1386"/>
                  </a:lnTo>
                  <a:lnTo>
                    <a:pt x="436" y="1393"/>
                  </a:lnTo>
                  <a:lnTo>
                    <a:pt x="438" y="1401"/>
                  </a:lnTo>
                  <a:lnTo>
                    <a:pt x="441" y="1410"/>
                  </a:lnTo>
                  <a:lnTo>
                    <a:pt x="445" y="1420"/>
                  </a:lnTo>
                  <a:lnTo>
                    <a:pt x="447" y="1429"/>
                  </a:lnTo>
                  <a:lnTo>
                    <a:pt x="449" y="1439"/>
                  </a:lnTo>
                  <a:lnTo>
                    <a:pt x="451" y="1448"/>
                  </a:lnTo>
                  <a:lnTo>
                    <a:pt x="457" y="1460"/>
                  </a:lnTo>
                  <a:lnTo>
                    <a:pt x="457" y="1467"/>
                  </a:lnTo>
                  <a:lnTo>
                    <a:pt x="460" y="1477"/>
                  </a:lnTo>
                  <a:lnTo>
                    <a:pt x="462" y="1486"/>
                  </a:lnTo>
                  <a:lnTo>
                    <a:pt x="464" y="1498"/>
                  </a:lnTo>
                  <a:lnTo>
                    <a:pt x="466" y="1507"/>
                  </a:lnTo>
                  <a:lnTo>
                    <a:pt x="470" y="1517"/>
                  </a:lnTo>
                  <a:lnTo>
                    <a:pt x="472" y="1526"/>
                  </a:lnTo>
                  <a:lnTo>
                    <a:pt x="476" y="1538"/>
                  </a:lnTo>
                  <a:lnTo>
                    <a:pt x="477" y="1545"/>
                  </a:lnTo>
                  <a:lnTo>
                    <a:pt x="479" y="1555"/>
                  </a:lnTo>
                  <a:lnTo>
                    <a:pt x="481" y="1564"/>
                  </a:lnTo>
                  <a:lnTo>
                    <a:pt x="483" y="1574"/>
                  </a:lnTo>
                  <a:lnTo>
                    <a:pt x="485" y="1581"/>
                  </a:lnTo>
                  <a:lnTo>
                    <a:pt x="487" y="1591"/>
                  </a:lnTo>
                  <a:lnTo>
                    <a:pt x="489" y="1600"/>
                  </a:lnTo>
                  <a:lnTo>
                    <a:pt x="491" y="1608"/>
                  </a:lnTo>
                  <a:lnTo>
                    <a:pt x="491" y="1618"/>
                  </a:lnTo>
                  <a:lnTo>
                    <a:pt x="495" y="1625"/>
                  </a:lnTo>
                  <a:lnTo>
                    <a:pt x="496" y="1633"/>
                  </a:lnTo>
                  <a:lnTo>
                    <a:pt x="498" y="1640"/>
                  </a:lnTo>
                  <a:lnTo>
                    <a:pt x="498" y="1648"/>
                  </a:lnTo>
                  <a:lnTo>
                    <a:pt x="500" y="1656"/>
                  </a:lnTo>
                  <a:lnTo>
                    <a:pt x="502" y="1661"/>
                  </a:lnTo>
                  <a:lnTo>
                    <a:pt x="504" y="1671"/>
                  </a:lnTo>
                  <a:lnTo>
                    <a:pt x="506" y="1680"/>
                  </a:lnTo>
                  <a:lnTo>
                    <a:pt x="508" y="1692"/>
                  </a:lnTo>
                  <a:lnTo>
                    <a:pt x="510" y="1703"/>
                  </a:lnTo>
                  <a:lnTo>
                    <a:pt x="514" y="1713"/>
                  </a:lnTo>
                  <a:lnTo>
                    <a:pt x="515" y="1722"/>
                  </a:lnTo>
                  <a:lnTo>
                    <a:pt x="517" y="1728"/>
                  </a:lnTo>
                  <a:lnTo>
                    <a:pt x="517" y="2080"/>
                  </a:lnTo>
                  <a:lnTo>
                    <a:pt x="692" y="2017"/>
                  </a:lnTo>
                  <a:lnTo>
                    <a:pt x="692" y="2013"/>
                  </a:lnTo>
                  <a:lnTo>
                    <a:pt x="692" y="2004"/>
                  </a:lnTo>
                  <a:lnTo>
                    <a:pt x="692" y="1996"/>
                  </a:lnTo>
                  <a:lnTo>
                    <a:pt x="692" y="1990"/>
                  </a:lnTo>
                  <a:lnTo>
                    <a:pt x="692" y="1981"/>
                  </a:lnTo>
                  <a:lnTo>
                    <a:pt x="692" y="1973"/>
                  </a:lnTo>
                  <a:lnTo>
                    <a:pt x="692" y="1960"/>
                  </a:lnTo>
                  <a:lnTo>
                    <a:pt x="692" y="1948"/>
                  </a:lnTo>
                  <a:lnTo>
                    <a:pt x="690" y="1933"/>
                  </a:lnTo>
                  <a:lnTo>
                    <a:pt x="690" y="1920"/>
                  </a:lnTo>
                  <a:lnTo>
                    <a:pt x="688" y="1912"/>
                  </a:lnTo>
                  <a:lnTo>
                    <a:pt x="688" y="1905"/>
                  </a:lnTo>
                  <a:lnTo>
                    <a:pt x="687" y="1897"/>
                  </a:lnTo>
                  <a:lnTo>
                    <a:pt x="687" y="1889"/>
                  </a:lnTo>
                  <a:lnTo>
                    <a:pt x="685" y="1880"/>
                  </a:lnTo>
                  <a:lnTo>
                    <a:pt x="683" y="1872"/>
                  </a:lnTo>
                  <a:lnTo>
                    <a:pt x="683" y="1863"/>
                  </a:lnTo>
                  <a:lnTo>
                    <a:pt x="683" y="1855"/>
                  </a:lnTo>
                  <a:lnTo>
                    <a:pt x="679" y="1844"/>
                  </a:lnTo>
                  <a:lnTo>
                    <a:pt x="679" y="1834"/>
                  </a:lnTo>
                  <a:lnTo>
                    <a:pt x="675" y="1823"/>
                  </a:lnTo>
                  <a:lnTo>
                    <a:pt x="675" y="1815"/>
                  </a:lnTo>
                  <a:lnTo>
                    <a:pt x="671" y="1802"/>
                  </a:lnTo>
                  <a:lnTo>
                    <a:pt x="669" y="1793"/>
                  </a:lnTo>
                  <a:lnTo>
                    <a:pt x="666" y="1781"/>
                  </a:lnTo>
                  <a:lnTo>
                    <a:pt x="666" y="1772"/>
                  </a:lnTo>
                  <a:lnTo>
                    <a:pt x="662" y="1760"/>
                  </a:lnTo>
                  <a:lnTo>
                    <a:pt x="658" y="1749"/>
                  </a:lnTo>
                  <a:lnTo>
                    <a:pt x="656" y="1737"/>
                  </a:lnTo>
                  <a:lnTo>
                    <a:pt x="652" y="1728"/>
                  </a:lnTo>
                  <a:lnTo>
                    <a:pt x="649" y="1715"/>
                  </a:lnTo>
                  <a:lnTo>
                    <a:pt x="647" y="1703"/>
                  </a:lnTo>
                  <a:lnTo>
                    <a:pt x="643" y="1692"/>
                  </a:lnTo>
                  <a:lnTo>
                    <a:pt x="639" y="1680"/>
                  </a:lnTo>
                  <a:lnTo>
                    <a:pt x="635" y="1667"/>
                  </a:lnTo>
                  <a:lnTo>
                    <a:pt x="631" y="1656"/>
                  </a:lnTo>
                  <a:lnTo>
                    <a:pt x="626" y="1642"/>
                  </a:lnTo>
                  <a:lnTo>
                    <a:pt x="622" y="1631"/>
                  </a:lnTo>
                  <a:lnTo>
                    <a:pt x="616" y="1618"/>
                  </a:lnTo>
                  <a:lnTo>
                    <a:pt x="611" y="1604"/>
                  </a:lnTo>
                  <a:lnTo>
                    <a:pt x="605" y="1591"/>
                  </a:lnTo>
                  <a:lnTo>
                    <a:pt x="601" y="1580"/>
                  </a:lnTo>
                  <a:lnTo>
                    <a:pt x="593" y="1564"/>
                  </a:lnTo>
                  <a:lnTo>
                    <a:pt x="588" y="1553"/>
                  </a:lnTo>
                  <a:lnTo>
                    <a:pt x="580" y="1538"/>
                  </a:lnTo>
                  <a:lnTo>
                    <a:pt x="574" y="1526"/>
                  </a:lnTo>
                  <a:lnTo>
                    <a:pt x="567" y="1511"/>
                  </a:lnTo>
                  <a:lnTo>
                    <a:pt x="561" y="1500"/>
                  </a:lnTo>
                  <a:lnTo>
                    <a:pt x="552" y="1486"/>
                  </a:lnTo>
                  <a:lnTo>
                    <a:pt x="546" y="1473"/>
                  </a:lnTo>
                  <a:lnTo>
                    <a:pt x="538" y="1460"/>
                  </a:lnTo>
                  <a:lnTo>
                    <a:pt x="533" y="1445"/>
                  </a:lnTo>
                  <a:lnTo>
                    <a:pt x="527" y="1429"/>
                  </a:lnTo>
                  <a:lnTo>
                    <a:pt x="525" y="1416"/>
                  </a:lnTo>
                  <a:lnTo>
                    <a:pt x="521" y="1401"/>
                  </a:lnTo>
                  <a:lnTo>
                    <a:pt x="523" y="1386"/>
                  </a:lnTo>
                  <a:lnTo>
                    <a:pt x="525" y="1370"/>
                  </a:lnTo>
                  <a:lnTo>
                    <a:pt x="529" y="1357"/>
                  </a:lnTo>
                  <a:lnTo>
                    <a:pt x="531" y="1340"/>
                  </a:lnTo>
                  <a:lnTo>
                    <a:pt x="536" y="1325"/>
                  </a:lnTo>
                  <a:lnTo>
                    <a:pt x="542" y="1310"/>
                  </a:lnTo>
                  <a:lnTo>
                    <a:pt x="550" y="1292"/>
                  </a:lnTo>
                  <a:lnTo>
                    <a:pt x="557" y="1277"/>
                  </a:lnTo>
                  <a:lnTo>
                    <a:pt x="565" y="1260"/>
                  </a:lnTo>
                  <a:lnTo>
                    <a:pt x="574" y="1245"/>
                  </a:lnTo>
                  <a:lnTo>
                    <a:pt x="588" y="1230"/>
                  </a:lnTo>
                  <a:lnTo>
                    <a:pt x="597" y="1213"/>
                  </a:lnTo>
                  <a:lnTo>
                    <a:pt x="609" y="1195"/>
                  </a:lnTo>
                  <a:lnTo>
                    <a:pt x="622" y="1178"/>
                  </a:lnTo>
                  <a:lnTo>
                    <a:pt x="635" y="1161"/>
                  </a:lnTo>
                  <a:lnTo>
                    <a:pt x="649" y="1142"/>
                  </a:lnTo>
                  <a:lnTo>
                    <a:pt x="664" y="1127"/>
                  </a:lnTo>
                  <a:lnTo>
                    <a:pt x="679" y="1108"/>
                  </a:lnTo>
                  <a:lnTo>
                    <a:pt x="696" y="1093"/>
                  </a:lnTo>
                  <a:lnTo>
                    <a:pt x="711" y="1074"/>
                  </a:lnTo>
                  <a:lnTo>
                    <a:pt x="727" y="1057"/>
                  </a:lnTo>
                  <a:lnTo>
                    <a:pt x="744" y="1038"/>
                  </a:lnTo>
                  <a:lnTo>
                    <a:pt x="761" y="1021"/>
                  </a:lnTo>
                  <a:lnTo>
                    <a:pt x="778" y="1002"/>
                  </a:lnTo>
                  <a:lnTo>
                    <a:pt x="795" y="984"/>
                  </a:lnTo>
                  <a:lnTo>
                    <a:pt x="812" y="965"/>
                  </a:lnTo>
                  <a:lnTo>
                    <a:pt x="831" y="948"/>
                  </a:lnTo>
                  <a:lnTo>
                    <a:pt x="846" y="927"/>
                  </a:lnTo>
                  <a:lnTo>
                    <a:pt x="863" y="910"/>
                  </a:lnTo>
                  <a:lnTo>
                    <a:pt x="880" y="889"/>
                  </a:lnTo>
                  <a:lnTo>
                    <a:pt x="898" y="870"/>
                  </a:lnTo>
                  <a:lnTo>
                    <a:pt x="915" y="851"/>
                  </a:lnTo>
                  <a:lnTo>
                    <a:pt x="930" y="832"/>
                  </a:lnTo>
                  <a:lnTo>
                    <a:pt x="945" y="813"/>
                  </a:lnTo>
                  <a:lnTo>
                    <a:pt x="962" y="794"/>
                  </a:lnTo>
                  <a:lnTo>
                    <a:pt x="977" y="775"/>
                  </a:lnTo>
                  <a:lnTo>
                    <a:pt x="995" y="756"/>
                  </a:lnTo>
                  <a:lnTo>
                    <a:pt x="1006" y="735"/>
                  </a:lnTo>
                  <a:lnTo>
                    <a:pt x="1021" y="716"/>
                  </a:lnTo>
                  <a:lnTo>
                    <a:pt x="1034" y="695"/>
                  </a:lnTo>
                  <a:lnTo>
                    <a:pt x="1048" y="676"/>
                  </a:lnTo>
                  <a:lnTo>
                    <a:pt x="1059" y="655"/>
                  </a:lnTo>
                  <a:lnTo>
                    <a:pt x="1072" y="636"/>
                  </a:lnTo>
                  <a:lnTo>
                    <a:pt x="1080" y="616"/>
                  </a:lnTo>
                  <a:lnTo>
                    <a:pt x="1091" y="597"/>
                  </a:lnTo>
                  <a:lnTo>
                    <a:pt x="1099" y="576"/>
                  </a:lnTo>
                  <a:lnTo>
                    <a:pt x="1107" y="557"/>
                  </a:lnTo>
                  <a:lnTo>
                    <a:pt x="1112" y="536"/>
                  </a:lnTo>
                  <a:lnTo>
                    <a:pt x="1120" y="515"/>
                  </a:lnTo>
                  <a:lnTo>
                    <a:pt x="1124" y="496"/>
                  </a:lnTo>
                  <a:lnTo>
                    <a:pt x="1130" y="475"/>
                  </a:lnTo>
                  <a:lnTo>
                    <a:pt x="1130" y="454"/>
                  </a:lnTo>
                  <a:lnTo>
                    <a:pt x="1131" y="433"/>
                  </a:lnTo>
                  <a:lnTo>
                    <a:pt x="1131" y="412"/>
                  </a:lnTo>
                  <a:lnTo>
                    <a:pt x="1131" y="393"/>
                  </a:lnTo>
                  <a:lnTo>
                    <a:pt x="1128" y="372"/>
                  </a:lnTo>
                  <a:lnTo>
                    <a:pt x="1124" y="351"/>
                  </a:lnTo>
                  <a:lnTo>
                    <a:pt x="1118" y="330"/>
                  </a:lnTo>
                  <a:lnTo>
                    <a:pt x="1112" y="311"/>
                  </a:lnTo>
                  <a:lnTo>
                    <a:pt x="1103" y="289"/>
                  </a:lnTo>
                  <a:lnTo>
                    <a:pt x="1093" y="269"/>
                  </a:lnTo>
                  <a:lnTo>
                    <a:pt x="1082" y="250"/>
                  </a:lnTo>
                  <a:lnTo>
                    <a:pt x="1072" y="233"/>
                  </a:lnTo>
                  <a:lnTo>
                    <a:pt x="1063" y="214"/>
                  </a:lnTo>
                  <a:lnTo>
                    <a:pt x="1052" y="199"/>
                  </a:lnTo>
                  <a:lnTo>
                    <a:pt x="1042" y="184"/>
                  </a:lnTo>
                  <a:lnTo>
                    <a:pt x="1031" y="171"/>
                  </a:lnTo>
                  <a:lnTo>
                    <a:pt x="1017" y="155"/>
                  </a:lnTo>
                  <a:lnTo>
                    <a:pt x="1006" y="142"/>
                  </a:lnTo>
                  <a:lnTo>
                    <a:pt x="993" y="131"/>
                  </a:lnTo>
                  <a:lnTo>
                    <a:pt x="981" y="117"/>
                  </a:lnTo>
                  <a:lnTo>
                    <a:pt x="968" y="106"/>
                  </a:lnTo>
                  <a:lnTo>
                    <a:pt x="955" y="96"/>
                  </a:lnTo>
                  <a:lnTo>
                    <a:pt x="941" y="87"/>
                  </a:lnTo>
                  <a:lnTo>
                    <a:pt x="928" y="79"/>
                  </a:lnTo>
                  <a:lnTo>
                    <a:pt x="913" y="70"/>
                  </a:lnTo>
                  <a:lnTo>
                    <a:pt x="898" y="62"/>
                  </a:lnTo>
                  <a:lnTo>
                    <a:pt x="884" y="55"/>
                  </a:lnTo>
                  <a:lnTo>
                    <a:pt x="869" y="47"/>
                  </a:lnTo>
                  <a:lnTo>
                    <a:pt x="854" y="41"/>
                  </a:lnTo>
                  <a:lnTo>
                    <a:pt x="841" y="36"/>
                  </a:lnTo>
                  <a:lnTo>
                    <a:pt x="825" y="30"/>
                  </a:lnTo>
                  <a:lnTo>
                    <a:pt x="810" y="26"/>
                  </a:lnTo>
                  <a:lnTo>
                    <a:pt x="795" y="22"/>
                  </a:lnTo>
                  <a:lnTo>
                    <a:pt x="780" y="17"/>
                  </a:lnTo>
                  <a:lnTo>
                    <a:pt x="766" y="15"/>
                  </a:lnTo>
                  <a:lnTo>
                    <a:pt x="753" y="13"/>
                  </a:lnTo>
                  <a:lnTo>
                    <a:pt x="736" y="9"/>
                  </a:lnTo>
                  <a:lnTo>
                    <a:pt x="723" y="7"/>
                  </a:lnTo>
                  <a:lnTo>
                    <a:pt x="707" y="5"/>
                  </a:lnTo>
                  <a:lnTo>
                    <a:pt x="694" y="5"/>
                  </a:lnTo>
                  <a:lnTo>
                    <a:pt x="679" y="3"/>
                  </a:lnTo>
                  <a:lnTo>
                    <a:pt x="666" y="1"/>
                  </a:lnTo>
                  <a:lnTo>
                    <a:pt x="650" y="1"/>
                  </a:lnTo>
                  <a:lnTo>
                    <a:pt x="637" y="1"/>
                  </a:lnTo>
                  <a:lnTo>
                    <a:pt x="622" y="0"/>
                  </a:lnTo>
                  <a:lnTo>
                    <a:pt x="609" y="0"/>
                  </a:lnTo>
                  <a:lnTo>
                    <a:pt x="595" y="1"/>
                  </a:lnTo>
                  <a:lnTo>
                    <a:pt x="584" y="3"/>
                  </a:lnTo>
                  <a:lnTo>
                    <a:pt x="571" y="3"/>
                  </a:lnTo>
                  <a:lnTo>
                    <a:pt x="557" y="3"/>
                  </a:lnTo>
                  <a:lnTo>
                    <a:pt x="546" y="3"/>
                  </a:lnTo>
                  <a:lnTo>
                    <a:pt x="534" y="5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2" y="11"/>
                  </a:lnTo>
                  <a:lnTo>
                    <a:pt x="495" y="13"/>
                  </a:lnTo>
                  <a:lnTo>
                    <a:pt x="483" y="13"/>
                  </a:lnTo>
                  <a:lnTo>
                    <a:pt x="474" y="17"/>
                  </a:lnTo>
                  <a:lnTo>
                    <a:pt x="466" y="17"/>
                  </a:lnTo>
                  <a:lnTo>
                    <a:pt x="458" y="20"/>
                  </a:lnTo>
                  <a:lnTo>
                    <a:pt x="451" y="20"/>
                  </a:lnTo>
                  <a:lnTo>
                    <a:pt x="443" y="22"/>
                  </a:lnTo>
                  <a:lnTo>
                    <a:pt x="436" y="24"/>
                  </a:lnTo>
                  <a:lnTo>
                    <a:pt x="432" y="26"/>
                  </a:lnTo>
                  <a:lnTo>
                    <a:pt x="420" y="28"/>
                  </a:lnTo>
                  <a:lnTo>
                    <a:pt x="415" y="30"/>
                  </a:lnTo>
                  <a:lnTo>
                    <a:pt x="409" y="32"/>
                  </a:lnTo>
                  <a:lnTo>
                    <a:pt x="409" y="34"/>
                  </a:lnTo>
                  <a:lnTo>
                    <a:pt x="0" y="404"/>
                  </a:lnTo>
                  <a:lnTo>
                    <a:pt x="50" y="644"/>
                  </a:lnTo>
                  <a:lnTo>
                    <a:pt x="50" y="644"/>
                  </a:lnTo>
                  <a:close/>
                </a:path>
              </a:pathLst>
            </a:custGeom>
            <a:solidFill>
              <a:srgbClr val="b5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73240" y="424440"/>
              <a:ext cx="394200" cy="358560"/>
            </a:xfrm>
            <a:custGeom>
              <a:avLst/>
              <a:gdLst/>
              <a:ahLst/>
              <a:rect l="l" t="t" r="r" b="b"/>
              <a:pathLst>
                <a:path w="2184" h="1989">
                  <a:moveTo>
                    <a:pt x="384" y="297"/>
                  </a:moveTo>
                  <a:lnTo>
                    <a:pt x="382" y="297"/>
                  </a:lnTo>
                  <a:lnTo>
                    <a:pt x="380" y="301"/>
                  </a:lnTo>
                  <a:lnTo>
                    <a:pt x="376" y="305"/>
                  </a:lnTo>
                  <a:lnTo>
                    <a:pt x="372" y="310"/>
                  </a:lnTo>
                  <a:lnTo>
                    <a:pt x="367" y="318"/>
                  </a:lnTo>
                  <a:lnTo>
                    <a:pt x="361" y="327"/>
                  </a:lnTo>
                  <a:lnTo>
                    <a:pt x="357" y="331"/>
                  </a:lnTo>
                  <a:lnTo>
                    <a:pt x="353" y="337"/>
                  </a:lnTo>
                  <a:lnTo>
                    <a:pt x="350" y="343"/>
                  </a:lnTo>
                  <a:lnTo>
                    <a:pt x="346" y="350"/>
                  </a:lnTo>
                  <a:lnTo>
                    <a:pt x="340" y="356"/>
                  </a:lnTo>
                  <a:lnTo>
                    <a:pt x="336" y="363"/>
                  </a:lnTo>
                  <a:lnTo>
                    <a:pt x="331" y="369"/>
                  </a:lnTo>
                  <a:lnTo>
                    <a:pt x="327" y="377"/>
                  </a:lnTo>
                  <a:lnTo>
                    <a:pt x="321" y="384"/>
                  </a:lnTo>
                  <a:lnTo>
                    <a:pt x="315" y="392"/>
                  </a:lnTo>
                  <a:lnTo>
                    <a:pt x="310" y="402"/>
                  </a:lnTo>
                  <a:lnTo>
                    <a:pt x="306" y="411"/>
                  </a:lnTo>
                  <a:lnTo>
                    <a:pt x="300" y="419"/>
                  </a:lnTo>
                  <a:lnTo>
                    <a:pt x="294" y="426"/>
                  </a:lnTo>
                  <a:lnTo>
                    <a:pt x="287" y="436"/>
                  </a:lnTo>
                  <a:lnTo>
                    <a:pt x="283" y="447"/>
                  </a:lnTo>
                  <a:lnTo>
                    <a:pt x="275" y="455"/>
                  </a:lnTo>
                  <a:lnTo>
                    <a:pt x="270" y="466"/>
                  </a:lnTo>
                  <a:lnTo>
                    <a:pt x="264" y="476"/>
                  </a:lnTo>
                  <a:lnTo>
                    <a:pt x="258" y="487"/>
                  </a:lnTo>
                  <a:lnTo>
                    <a:pt x="251" y="497"/>
                  </a:lnTo>
                  <a:lnTo>
                    <a:pt x="245" y="508"/>
                  </a:lnTo>
                  <a:lnTo>
                    <a:pt x="237" y="517"/>
                  </a:lnTo>
                  <a:lnTo>
                    <a:pt x="232" y="529"/>
                  </a:lnTo>
                  <a:lnTo>
                    <a:pt x="224" y="538"/>
                  </a:lnTo>
                  <a:lnTo>
                    <a:pt x="218" y="550"/>
                  </a:lnTo>
                  <a:lnTo>
                    <a:pt x="211" y="561"/>
                  </a:lnTo>
                  <a:lnTo>
                    <a:pt x="205" y="575"/>
                  </a:lnTo>
                  <a:lnTo>
                    <a:pt x="196" y="584"/>
                  </a:lnTo>
                  <a:lnTo>
                    <a:pt x="190" y="595"/>
                  </a:lnTo>
                  <a:lnTo>
                    <a:pt x="182" y="609"/>
                  </a:lnTo>
                  <a:lnTo>
                    <a:pt x="178" y="620"/>
                  </a:lnTo>
                  <a:lnTo>
                    <a:pt x="171" y="632"/>
                  </a:lnTo>
                  <a:lnTo>
                    <a:pt x="163" y="645"/>
                  </a:lnTo>
                  <a:lnTo>
                    <a:pt x="156" y="656"/>
                  </a:lnTo>
                  <a:lnTo>
                    <a:pt x="152" y="668"/>
                  </a:lnTo>
                  <a:lnTo>
                    <a:pt x="144" y="679"/>
                  </a:lnTo>
                  <a:lnTo>
                    <a:pt x="137" y="692"/>
                  </a:lnTo>
                  <a:lnTo>
                    <a:pt x="131" y="704"/>
                  </a:lnTo>
                  <a:lnTo>
                    <a:pt x="123" y="715"/>
                  </a:lnTo>
                  <a:lnTo>
                    <a:pt x="118" y="729"/>
                  </a:lnTo>
                  <a:lnTo>
                    <a:pt x="112" y="740"/>
                  </a:lnTo>
                  <a:lnTo>
                    <a:pt x="104" y="751"/>
                  </a:lnTo>
                  <a:lnTo>
                    <a:pt x="101" y="763"/>
                  </a:lnTo>
                  <a:lnTo>
                    <a:pt x="93" y="774"/>
                  </a:lnTo>
                  <a:lnTo>
                    <a:pt x="87" y="786"/>
                  </a:lnTo>
                  <a:lnTo>
                    <a:pt x="82" y="799"/>
                  </a:lnTo>
                  <a:lnTo>
                    <a:pt x="76" y="810"/>
                  </a:lnTo>
                  <a:lnTo>
                    <a:pt x="70" y="820"/>
                  </a:lnTo>
                  <a:lnTo>
                    <a:pt x="64" y="833"/>
                  </a:lnTo>
                  <a:lnTo>
                    <a:pt x="61" y="845"/>
                  </a:lnTo>
                  <a:lnTo>
                    <a:pt x="57" y="856"/>
                  </a:lnTo>
                  <a:lnTo>
                    <a:pt x="51" y="867"/>
                  </a:lnTo>
                  <a:lnTo>
                    <a:pt x="47" y="877"/>
                  </a:lnTo>
                  <a:lnTo>
                    <a:pt x="43" y="890"/>
                  </a:lnTo>
                  <a:lnTo>
                    <a:pt x="40" y="902"/>
                  </a:lnTo>
                  <a:lnTo>
                    <a:pt x="34" y="913"/>
                  </a:lnTo>
                  <a:lnTo>
                    <a:pt x="30" y="926"/>
                  </a:lnTo>
                  <a:lnTo>
                    <a:pt x="26" y="938"/>
                  </a:lnTo>
                  <a:lnTo>
                    <a:pt x="24" y="951"/>
                  </a:lnTo>
                  <a:lnTo>
                    <a:pt x="21" y="962"/>
                  </a:lnTo>
                  <a:lnTo>
                    <a:pt x="17" y="974"/>
                  </a:lnTo>
                  <a:lnTo>
                    <a:pt x="13" y="987"/>
                  </a:lnTo>
                  <a:lnTo>
                    <a:pt x="13" y="1000"/>
                  </a:lnTo>
                  <a:lnTo>
                    <a:pt x="9" y="1014"/>
                  </a:lnTo>
                  <a:lnTo>
                    <a:pt x="7" y="1029"/>
                  </a:lnTo>
                  <a:lnTo>
                    <a:pt x="5" y="1042"/>
                  </a:lnTo>
                  <a:lnTo>
                    <a:pt x="5" y="1057"/>
                  </a:lnTo>
                  <a:lnTo>
                    <a:pt x="4" y="1071"/>
                  </a:lnTo>
                  <a:lnTo>
                    <a:pt x="2" y="1084"/>
                  </a:lnTo>
                  <a:lnTo>
                    <a:pt x="2" y="1097"/>
                  </a:lnTo>
                  <a:lnTo>
                    <a:pt x="2" y="1113"/>
                  </a:lnTo>
                  <a:lnTo>
                    <a:pt x="0" y="1126"/>
                  </a:lnTo>
                  <a:lnTo>
                    <a:pt x="0" y="1141"/>
                  </a:lnTo>
                  <a:lnTo>
                    <a:pt x="0" y="1154"/>
                  </a:lnTo>
                  <a:lnTo>
                    <a:pt x="2" y="1172"/>
                  </a:lnTo>
                  <a:lnTo>
                    <a:pt x="2" y="1185"/>
                  </a:lnTo>
                  <a:lnTo>
                    <a:pt x="4" y="1200"/>
                  </a:lnTo>
                  <a:lnTo>
                    <a:pt x="4" y="1215"/>
                  </a:lnTo>
                  <a:lnTo>
                    <a:pt x="5" y="1231"/>
                  </a:lnTo>
                  <a:lnTo>
                    <a:pt x="7" y="1246"/>
                  </a:lnTo>
                  <a:lnTo>
                    <a:pt x="9" y="1261"/>
                  </a:lnTo>
                  <a:lnTo>
                    <a:pt x="11" y="1274"/>
                  </a:lnTo>
                  <a:lnTo>
                    <a:pt x="15" y="1291"/>
                  </a:lnTo>
                  <a:lnTo>
                    <a:pt x="17" y="1305"/>
                  </a:lnTo>
                  <a:lnTo>
                    <a:pt x="19" y="1320"/>
                  </a:lnTo>
                  <a:lnTo>
                    <a:pt x="21" y="1335"/>
                  </a:lnTo>
                  <a:lnTo>
                    <a:pt x="26" y="1350"/>
                  </a:lnTo>
                  <a:lnTo>
                    <a:pt x="28" y="1366"/>
                  </a:lnTo>
                  <a:lnTo>
                    <a:pt x="32" y="1379"/>
                  </a:lnTo>
                  <a:lnTo>
                    <a:pt x="36" y="1394"/>
                  </a:lnTo>
                  <a:lnTo>
                    <a:pt x="42" y="1409"/>
                  </a:lnTo>
                  <a:lnTo>
                    <a:pt x="45" y="1424"/>
                  </a:lnTo>
                  <a:lnTo>
                    <a:pt x="49" y="1440"/>
                  </a:lnTo>
                  <a:lnTo>
                    <a:pt x="55" y="1453"/>
                  </a:lnTo>
                  <a:lnTo>
                    <a:pt x="61" y="1468"/>
                  </a:lnTo>
                  <a:lnTo>
                    <a:pt x="64" y="1483"/>
                  </a:lnTo>
                  <a:lnTo>
                    <a:pt x="70" y="1497"/>
                  </a:lnTo>
                  <a:lnTo>
                    <a:pt x="76" y="1512"/>
                  </a:lnTo>
                  <a:lnTo>
                    <a:pt x="83" y="1529"/>
                  </a:lnTo>
                  <a:lnTo>
                    <a:pt x="89" y="1540"/>
                  </a:lnTo>
                  <a:lnTo>
                    <a:pt x="95" y="1556"/>
                  </a:lnTo>
                  <a:lnTo>
                    <a:pt x="102" y="1571"/>
                  </a:lnTo>
                  <a:lnTo>
                    <a:pt x="110" y="1586"/>
                  </a:lnTo>
                  <a:lnTo>
                    <a:pt x="118" y="1599"/>
                  </a:lnTo>
                  <a:lnTo>
                    <a:pt x="125" y="1613"/>
                  </a:lnTo>
                  <a:lnTo>
                    <a:pt x="133" y="1626"/>
                  </a:lnTo>
                  <a:lnTo>
                    <a:pt x="140" y="1641"/>
                  </a:lnTo>
                  <a:lnTo>
                    <a:pt x="148" y="1653"/>
                  </a:lnTo>
                  <a:lnTo>
                    <a:pt x="156" y="1668"/>
                  </a:lnTo>
                  <a:lnTo>
                    <a:pt x="165" y="1679"/>
                  </a:lnTo>
                  <a:lnTo>
                    <a:pt x="175" y="1694"/>
                  </a:lnTo>
                  <a:lnTo>
                    <a:pt x="182" y="1706"/>
                  </a:lnTo>
                  <a:lnTo>
                    <a:pt x="194" y="1719"/>
                  </a:lnTo>
                  <a:lnTo>
                    <a:pt x="203" y="1732"/>
                  </a:lnTo>
                  <a:lnTo>
                    <a:pt x="215" y="1746"/>
                  </a:lnTo>
                  <a:lnTo>
                    <a:pt x="224" y="1757"/>
                  </a:lnTo>
                  <a:lnTo>
                    <a:pt x="235" y="1769"/>
                  </a:lnTo>
                  <a:lnTo>
                    <a:pt x="247" y="1778"/>
                  </a:lnTo>
                  <a:lnTo>
                    <a:pt x="260" y="1790"/>
                  </a:lnTo>
                  <a:lnTo>
                    <a:pt x="272" y="1799"/>
                  </a:lnTo>
                  <a:lnTo>
                    <a:pt x="287" y="1810"/>
                  </a:lnTo>
                  <a:lnTo>
                    <a:pt x="300" y="1820"/>
                  </a:lnTo>
                  <a:lnTo>
                    <a:pt x="315" y="1831"/>
                  </a:lnTo>
                  <a:lnTo>
                    <a:pt x="331" y="1839"/>
                  </a:lnTo>
                  <a:lnTo>
                    <a:pt x="346" y="1847"/>
                  </a:lnTo>
                  <a:lnTo>
                    <a:pt x="363" y="1854"/>
                  </a:lnTo>
                  <a:lnTo>
                    <a:pt x="380" y="1864"/>
                  </a:lnTo>
                  <a:lnTo>
                    <a:pt x="397" y="1871"/>
                  </a:lnTo>
                  <a:lnTo>
                    <a:pt x="414" y="1879"/>
                  </a:lnTo>
                  <a:lnTo>
                    <a:pt x="431" y="1886"/>
                  </a:lnTo>
                  <a:lnTo>
                    <a:pt x="452" y="1894"/>
                  </a:lnTo>
                  <a:lnTo>
                    <a:pt x="469" y="1900"/>
                  </a:lnTo>
                  <a:lnTo>
                    <a:pt x="488" y="1906"/>
                  </a:lnTo>
                  <a:lnTo>
                    <a:pt x="507" y="1911"/>
                  </a:lnTo>
                  <a:lnTo>
                    <a:pt x="526" y="1917"/>
                  </a:lnTo>
                  <a:lnTo>
                    <a:pt x="545" y="1921"/>
                  </a:lnTo>
                  <a:lnTo>
                    <a:pt x="566" y="1926"/>
                  </a:lnTo>
                  <a:lnTo>
                    <a:pt x="585" y="1932"/>
                  </a:lnTo>
                  <a:lnTo>
                    <a:pt x="606" y="1938"/>
                  </a:lnTo>
                  <a:lnTo>
                    <a:pt x="625" y="1942"/>
                  </a:lnTo>
                  <a:lnTo>
                    <a:pt x="646" y="1945"/>
                  </a:lnTo>
                  <a:lnTo>
                    <a:pt x="665" y="1949"/>
                  </a:lnTo>
                  <a:lnTo>
                    <a:pt x="686" y="1953"/>
                  </a:lnTo>
                  <a:lnTo>
                    <a:pt x="705" y="1955"/>
                  </a:lnTo>
                  <a:lnTo>
                    <a:pt x="724" y="1959"/>
                  </a:lnTo>
                  <a:lnTo>
                    <a:pt x="745" y="1963"/>
                  </a:lnTo>
                  <a:lnTo>
                    <a:pt x="766" y="1966"/>
                  </a:lnTo>
                  <a:lnTo>
                    <a:pt x="785" y="1968"/>
                  </a:lnTo>
                  <a:lnTo>
                    <a:pt x="804" y="1970"/>
                  </a:lnTo>
                  <a:lnTo>
                    <a:pt x="821" y="1972"/>
                  </a:lnTo>
                  <a:lnTo>
                    <a:pt x="842" y="1974"/>
                  </a:lnTo>
                  <a:lnTo>
                    <a:pt x="859" y="1976"/>
                  </a:lnTo>
                  <a:lnTo>
                    <a:pt x="878" y="1976"/>
                  </a:lnTo>
                  <a:lnTo>
                    <a:pt x="895" y="1978"/>
                  </a:lnTo>
                  <a:lnTo>
                    <a:pt x="912" y="1982"/>
                  </a:lnTo>
                  <a:lnTo>
                    <a:pt x="929" y="1982"/>
                  </a:lnTo>
                  <a:lnTo>
                    <a:pt x="946" y="1982"/>
                  </a:lnTo>
                  <a:lnTo>
                    <a:pt x="962" y="1982"/>
                  </a:lnTo>
                  <a:lnTo>
                    <a:pt x="979" y="1983"/>
                  </a:lnTo>
                  <a:lnTo>
                    <a:pt x="994" y="1983"/>
                  </a:lnTo>
                  <a:lnTo>
                    <a:pt x="1009" y="1985"/>
                  </a:lnTo>
                  <a:lnTo>
                    <a:pt x="1023" y="1985"/>
                  </a:lnTo>
                  <a:lnTo>
                    <a:pt x="1038" y="1987"/>
                  </a:lnTo>
                  <a:lnTo>
                    <a:pt x="1049" y="1987"/>
                  </a:lnTo>
                  <a:lnTo>
                    <a:pt x="1061" y="1987"/>
                  </a:lnTo>
                  <a:lnTo>
                    <a:pt x="1074" y="1987"/>
                  </a:lnTo>
                  <a:lnTo>
                    <a:pt x="1085" y="1987"/>
                  </a:lnTo>
                  <a:lnTo>
                    <a:pt x="1095" y="1987"/>
                  </a:lnTo>
                  <a:lnTo>
                    <a:pt x="1104" y="1987"/>
                  </a:lnTo>
                  <a:lnTo>
                    <a:pt x="1114" y="1987"/>
                  </a:lnTo>
                  <a:lnTo>
                    <a:pt x="1123" y="1989"/>
                  </a:lnTo>
                  <a:lnTo>
                    <a:pt x="1129" y="1989"/>
                  </a:lnTo>
                  <a:lnTo>
                    <a:pt x="1135" y="1989"/>
                  </a:lnTo>
                  <a:lnTo>
                    <a:pt x="1140" y="1989"/>
                  </a:lnTo>
                  <a:lnTo>
                    <a:pt x="1146" y="1989"/>
                  </a:lnTo>
                  <a:lnTo>
                    <a:pt x="1154" y="1989"/>
                  </a:lnTo>
                  <a:lnTo>
                    <a:pt x="1156" y="1989"/>
                  </a:lnTo>
                  <a:lnTo>
                    <a:pt x="1798" y="1972"/>
                  </a:lnTo>
                  <a:lnTo>
                    <a:pt x="1798" y="1970"/>
                  </a:lnTo>
                  <a:lnTo>
                    <a:pt x="1802" y="1964"/>
                  </a:lnTo>
                  <a:lnTo>
                    <a:pt x="1808" y="1957"/>
                  </a:lnTo>
                  <a:lnTo>
                    <a:pt x="1817" y="1945"/>
                  </a:lnTo>
                  <a:lnTo>
                    <a:pt x="1821" y="1938"/>
                  </a:lnTo>
                  <a:lnTo>
                    <a:pt x="1827" y="1930"/>
                  </a:lnTo>
                  <a:lnTo>
                    <a:pt x="1830" y="1923"/>
                  </a:lnTo>
                  <a:lnTo>
                    <a:pt x="1838" y="1915"/>
                  </a:lnTo>
                  <a:lnTo>
                    <a:pt x="1844" y="1904"/>
                  </a:lnTo>
                  <a:lnTo>
                    <a:pt x="1851" y="1892"/>
                  </a:lnTo>
                  <a:lnTo>
                    <a:pt x="1859" y="1883"/>
                  </a:lnTo>
                  <a:lnTo>
                    <a:pt x="1867" y="1871"/>
                  </a:lnTo>
                  <a:lnTo>
                    <a:pt x="1874" y="1858"/>
                  </a:lnTo>
                  <a:lnTo>
                    <a:pt x="1884" y="1845"/>
                  </a:lnTo>
                  <a:lnTo>
                    <a:pt x="1891" y="1831"/>
                  </a:lnTo>
                  <a:lnTo>
                    <a:pt x="1901" y="1818"/>
                  </a:lnTo>
                  <a:lnTo>
                    <a:pt x="1908" y="1803"/>
                  </a:lnTo>
                  <a:lnTo>
                    <a:pt x="1918" y="1788"/>
                  </a:lnTo>
                  <a:lnTo>
                    <a:pt x="1927" y="1772"/>
                  </a:lnTo>
                  <a:lnTo>
                    <a:pt x="1937" y="1757"/>
                  </a:lnTo>
                  <a:lnTo>
                    <a:pt x="1945" y="1740"/>
                  </a:lnTo>
                  <a:lnTo>
                    <a:pt x="1956" y="1723"/>
                  </a:lnTo>
                  <a:lnTo>
                    <a:pt x="1965" y="1704"/>
                  </a:lnTo>
                  <a:lnTo>
                    <a:pt x="1975" y="1687"/>
                  </a:lnTo>
                  <a:lnTo>
                    <a:pt x="1984" y="1670"/>
                  </a:lnTo>
                  <a:lnTo>
                    <a:pt x="1996" y="1651"/>
                  </a:lnTo>
                  <a:lnTo>
                    <a:pt x="2005" y="1630"/>
                  </a:lnTo>
                  <a:lnTo>
                    <a:pt x="2017" y="1611"/>
                  </a:lnTo>
                  <a:lnTo>
                    <a:pt x="2024" y="1590"/>
                  </a:lnTo>
                  <a:lnTo>
                    <a:pt x="2036" y="1571"/>
                  </a:lnTo>
                  <a:lnTo>
                    <a:pt x="2043" y="1550"/>
                  </a:lnTo>
                  <a:lnTo>
                    <a:pt x="2053" y="1529"/>
                  </a:lnTo>
                  <a:lnTo>
                    <a:pt x="2062" y="1506"/>
                  </a:lnTo>
                  <a:lnTo>
                    <a:pt x="2072" y="1485"/>
                  </a:lnTo>
                  <a:lnTo>
                    <a:pt x="2079" y="1462"/>
                  </a:lnTo>
                  <a:lnTo>
                    <a:pt x="2091" y="1442"/>
                  </a:lnTo>
                  <a:lnTo>
                    <a:pt x="2099" y="1419"/>
                  </a:lnTo>
                  <a:lnTo>
                    <a:pt x="2106" y="1396"/>
                  </a:lnTo>
                  <a:lnTo>
                    <a:pt x="2114" y="1375"/>
                  </a:lnTo>
                  <a:lnTo>
                    <a:pt x="2123" y="1352"/>
                  </a:lnTo>
                  <a:lnTo>
                    <a:pt x="2129" y="1327"/>
                  </a:lnTo>
                  <a:lnTo>
                    <a:pt x="2137" y="1305"/>
                  </a:lnTo>
                  <a:lnTo>
                    <a:pt x="2144" y="1282"/>
                  </a:lnTo>
                  <a:lnTo>
                    <a:pt x="2150" y="1259"/>
                  </a:lnTo>
                  <a:lnTo>
                    <a:pt x="2156" y="1234"/>
                  </a:lnTo>
                  <a:lnTo>
                    <a:pt x="2161" y="1211"/>
                  </a:lnTo>
                  <a:lnTo>
                    <a:pt x="2165" y="1187"/>
                  </a:lnTo>
                  <a:lnTo>
                    <a:pt x="2171" y="1164"/>
                  </a:lnTo>
                  <a:lnTo>
                    <a:pt x="2173" y="1139"/>
                  </a:lnTo>
                  <a:lnTo>
                    <a:pt x="2176" y="1115"/>
                  </a:lnTo>
                  <a:lnTo>
                    <a:pt x="2180" y="1092"/>
                  </a:lnTo>
                  <a:lnTo>
                    <a:pt x="2182" y="1067"/>
                  </a:lnTo>
                  <a:lnTo>
                    <a:pt x="2182" y="1044"/>
                  </a:lnTo>
                  <a:lnTo>
                    <a:pt x="2184" y="1019"/>
                  </a:lnTo>
                  <a:lnTo>
                    <a:pt x="2184" y="997"/>
                  </a:lnTo>
                  <a:lnTo>
                    <a:pt x="2184" y="972"/>
                  </a:lnTo>
                  <a:lnTo>
                    <a:pt x="2182" y="947"/>
                  </a:lnTo>
                  <a:lnTo>
                    <a:pt x="2180" y="924"/>
                  </a:lnTo>
                  <a:lnTo>
                    <a:pt x="2178" y="900"/>
                  </a:lnTo>
                  <a:lnTo>
                    <a:pt x="2176" y="877"/>
                  </a:lnTo>
                  <a:lnTo>
                    <a:pt x="2171" y="854"/>
                  </a:lnTo>
                  <a:lnTo>
                    <a:pt x="2167" y="829"/>
                  </a:lnTo>
                  <a:lnTo>
                    <a:pt x="2163" y="806"/>
                  </a:lnTo>
                  <a:lnTo>
                    <a:pt x="2159" y="786"/>
                  </a:lnTo>
                  <a:lnTo>
                    <a:pt x="2156" y="761"/>
                  </a:lnTo>
                  <a:lnTo>
                    <a:pt x="2152" y="740"/>
                  </a:lnTo>
                  <a:lnTo>
                    <a:pt x="2148" y="717"/>
                  </a:lnTo>
                  <a:lnTo>
                    <a:pt x="2144" y="696"/>
                  </a:lnTo>
                  <a:lnTo>
                    <a:pt x="2138" y="673"/>
                  </a:lnTo>
                  <a:lnTo>
                    <a:pt x="2133" y="652"/>
                  </a:lnTo>
                  <a:lnTo>
                    <a:pt x="2127" y="632"/>
                  </a:lnTo>
                  <a:lnTo>
                    <a:pt x="2123" y="611"/>
                  </a:lnTo>
                  <a:lnTo>
                    <a:pt x="2116" y="590"/>
                  </a:lnTo>
                  <a:lnTo>
                    <a:pt x="2110" y="569"/>
                  </a:lnTo>
                  <a:lnTo>
                    <a:pt x="2106" y="550"/>
                  </a:lnTo>
                  <a:lnTo>
                    <a:pt x="2100" y="531"/>
                  </a:lnTo>
                  <a:lnTo>
                    <a:pt x="2093" y="512"/>
                  </a:lnTo>
                  <a:lnTo>
                    <a:pt x="2085" y="491"/>
                  </a:lnTo>
                  <a:lnTo>
                    <a:pt x="2078" y="474"/>
                  </a:lnTo>
                  <a:lnTo>
                    <a:pt x="2070" y="455"/>
                  </a:lnTo>
                  <a:lnTo>
                    <a:pt x="2062" y="436"/>
                  </a:lnTo>
                  <a:lnTo>
                    <a:pt x="2053" y="419"/>
                  </a:lnTo>
                  <a:lnTo>
                    <a:pt x="2043" y="402"/>
                  </a:lnTo>
                  <a:lnTo>
                    <a:pt x="2036" y="384"/>
                  </a:lnTo>
                  <a:lnTo>
                    <a:pt x="2026" y="367"/>
                  </a:lnTo>
                  <a:lnTo>
                    <a:pt x="2015" y="350"/>
                  </a:lnTo>
                  <a:lnTo>
                    <a:pt x="2005" y="335"/>
                  </a:lnTo>
                  <a:lnTo>
                    <a:pt x="1996" y="320"/>
                  </a:lnTo>
                  <a:lnTo>
                    <a:pt x="1983" y="303"/>
                  </a:lnTo>
                  <a:lnTo>
                    <a:pt x="1969" y="289"/>
                  </a:lnTo>
                  <a:lnTo>
                    <a:pt x="1958" y="274"/>
                  </a:lnTo>
                  <a:lnTo>
                    <a:pt x="1946" y="261"/>
                  </a:lnTo>
                  <a:lnTo>
                    <a:pt x="1931" y="244"/>
                  </a:lnTo>
                  <a:lnTo>
                    <a:pt x="1918" y="232"/>
                  </a:lnTo>
                  <a:lnTo>
                    <a:pt x="1901" y="217"/>
                  </a:lnTo>
                  <a:lnTo>
                    <a:pt x="1886" y="206"/>
                  </a:lnTo>
                  <a:lnTo>
                    <a:pt x="1868" y="192"/>
                  </a:lnTo>
                  <a:lnTo>
                    <a:pt x="1851" y="179"/>
                  </a:lnTo>
                  <a:lnTo>
                    <a:pt x="1834" y="166"/>
                  </a:lnTo>
                  <a:lnTo>
                    <a:pt x="1817" y="156"/>
                  </a:lnTo>
                  <a:lnTo>
                    <a:pt x="1796" y="143"/>
                  </a:lnTo>
                  <a:lnTo>
                    <a:pt x="1777" y="132"/>
                  </a:lnTo>
                  <a:lnTo>
                    <a:pt x="1756" y="122"/>
                  </a:lnTo>
                  <a:lnTo>
                    <a:pt x="1735" y="112"/>
                  </a:lnTo>
                  <a:lnTo>
                    <a:pt x="1713" y="103"/>
                  </a:lnTo>
                  <a:lnTo>
                    <a:pt x="1692" y="93"/>
                  </a:lnTo>
                  <a:lnTo>
                    <a:pt x="1667" y="86"/>
                  </a:lnTo>
                  <a:lnTo>
                    <a:pt x="1642" y="78"/>
                  </a:lnTo>
                  <a:lnTo>
                    <a:pt x="1616" y="69"/>
                  </a:lnTo>
                  <a:lnTo>
                    <a:pt x="1591" y="59"/>
                  </a:lnTo>
                  <a:lnTo>
                    <a:pt x="1564" y="54"/>
                  </a:lnTo>
                  <a:lnTo>
                    <a:pt x="1536" y="48"/>
                  </a:lnTo>
                  <a:lnTo>
                    <a:pt x="1507" y="40"/>
                  </a:lnTo>
                  <a:lnTo>
                    <a:pt x="1477" y="35"/>
                  </a:lnTo>
                  <a:lnTo>
                    <a:pt x="1446" y="29"/>
                  </a:lnTo>
                  <a:lnTo>
                    <a:pt x="1416" y="25"/>
                  </a:lnTo>
                  <a:lnTo>
                    <a:pt x="1380" y="21"/>
                  </a:lnTo>
                  <a:lnTo>
                    <a:pt x="1348" y="16"/>
                  </a:lnTo>
                  <a:lnTo>
                    <a:pt x="1311" y="12"/>
                  </a:lnTo>
                  <a:lnTo>
                    <a:pt x="1277" y="10"/>
                  </a:lnTo>
                  <a:lnTo>
                    <a:pt x="1241" y="6"/>
                  </a:lnTo>
                  <a:lnTo>
                    <a:pt x="1203" y="4"/>
                  </a:lnTo>
                  <a:lnTo>
                    <a:pt x="1163" y="2"/>
                  </a:lnTo>
                  <a:lnTo>
                    <a:pt x="1125" y="2"/>
                  </a:lnTo>
                  <a:lnTo>
                    <a:pt x="1083" y="2"/>
                  </a:lnTo>
                  <a:lnTo>
                    <a:pt x="1045" y="0"/>
                  </a:lnTo>
                  <a:lnTo>
                    <a:pt x="1007" y="0"/>
                  </a:lnTo>
                  <a:lnTo>
                    <a:pt x="973" y="2"/>
                  </a:lnTo>
                  <a:lnTo>
                    <a:pt x="937" y="2"/>
                  </a:lnTo>
                  <a:lnTo>
                    <a:pt x="905" y="2"/>
                  </a:lnTo>
                  <a:lnTo>
                    <a:pt x="872" y="4"/>
                  </a:lnTo>
                  <a:lnTo>
                    <a:pt x="844" y="8"/>
                  </a:lnTo>
                  <a:lnTo>
                    <a:pt x="812" y="10"/>
                  </a:lnTo>
                  <a:lnTo>
                    <a:pt x="785" y="12"/>
                  </a:lnTo>
                  <a:lnTo>
                    <a:pt x="756" y="16"/>
                  </a:lnTo>
                  <a:lnTo>
                    <a:pt x="734" y="21"/>
                  </a:lnTo>
                  <a:lnTo>
                    <a:pt x="707" y="25"/>
                  </a:lnTo>
                  <a:lnTo>
                    <a:pt x="686" y="29"/>
                  </a:lnTo>
                  <a:lnTo>
                    <a:pt x="661" y="33"/>
                  </a:lnTo>
                  <a:lnTo>
                    <a:pt x="642" y="38"/>
                  </a:lnTo>
                  <a:lnTo>
                    <a:pt x="620" y="42"/>
                  </a:lnTo>
                  <a:lnTo>
                    <a:pt x="602" y="48"/>
                  </a:lnTo>
                  <a:lnTo>
                    <a:pt x="581" y="54"/>
                  </a:lnTo>
                  <a:lnTo>
                    <a:pt x="566" y="59"/>
                  </a:lnTo>
                  <a:lnTo>
                    <a:pt x="549" y="65"/>
                  </a:lnTo>
                  <a:lnTo>
                    <a:pt x="534" y="73"/>
                  </a:lnTo>
                  <a:lnTo>
                    <a:pt x="519" y="78"/>
                  </a:lnTo>
                  <a:lnTo>
                    <a:pt x="507" y="86"/>
                  </a:lnTo>
                  <a:lnTo>
                    <a:pt x="494" y="92"/>
                  </a:lnTo>
                  <a:lnTo>
                    <a:pt x="483" y="99"/>
                  </a:lnTo>
                  <a:lnTo>
                    <a:pt x="471" y="105"/>
                  </a:lnTo>
                  <a:lnTo>
                    <a:pt x="462" y="112"/>
                  </a:lnTo>
                  <a:lnTo>
                    <a:pt x="450" y="120"/>
                  </a:lnTo>
                  <a:lnTo>
                    <a:pt x="443" y="126"/>
                  </a:lnTo>
                  <a:lnTo>
                    <a:pt x="435" y="135"/>
                  </a:lnTo>
                  <a:lnTo>
                    <a:pt x="427" y="143"/>
                  </a:lnTo>
                  <a:lnTo>
                    <a:pt x="420" y="149"/>
                  </a:lnTo>
                  <a:lnTo>
                    <a:pt x="414" y="156"/>
                  </a:lnTo>
                  <a:lnTo>
                    <a:pt x="407" y="162"/>
                  </a:lnTo>
                  <a:lnTo>
                    <a:pt x="403" y="170"/>
                  </a:lnTo>
                  <a:lnTo>
                    <a:pt x="397" y="175"/>
                  </a:lnTo>
                  <a:lnTo>
                    <a:pt x="393" y="183"/>
                  </a:lnTo>
                  <a:lnTo>
                    <a:pt x="391" y="189"/>
                  </a:lnTo>
                  <a:lnTo>
                    <a:pt x="388" y="196"/>
                  </a:lnTo>
                  <a:lnTo>
                    <a:pt x="382" y="209"/>
                  </a:lnTo>
                  <a:lnTo>
                    <a:pt x="380" y="223"/>
                  </a:lnTo>
                  <a:lnTo>
                    <a:pt x="376" y="236"/>
                  </a:lnTo>
                  <a:lnTo>
                    <a:pt x="376" y="247"/>
                  </a:lnTo>
                  <a:lnTo>
                    <a:pt x="376" y="257"/>
                  </a:lnTo>
                  <a:lnTo>
                    <a:pt x="376" y="267"/>
                  </a:lnTo>
                  <a:lnTo>
                    <a:pt x="376" y="276"/>
                  </a:lnTo>
                  <a:lnTo>
                    <a:pt x="380" y="284"/>
                  </a:lnTo>
                  <a:lnTo>
                    <a:pt x="380" y="293"/>
                  </a:lnTo>
                  <a:lnTo>
                    <a:pt x="384" y="297"/>
                  </a:lnTo>
                  <a:lnTo>
                    <a:pt x="384" y="297"/>
                  </a:lnTo>
                  <a:close/>
                </a:path>
              </a:pathLst>
            </a:custGeom>
            <a:solidFill>
              <a:srgbClr val="fff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11760" y="499320"/>
              <a:ext cx="109440" cy="253080"/>
            </a:xfrm>
            <a:custGeom>
              <a:avLst/>
              <a:gdLst/>
              <a:ahLst/>
              <a:rect l="l" t="t" r="r" b="b"/>
              <a:pathLst>
                <a:path w="604" h="1405">
                  <a:moveTo>
                    <a:pt x="465" y="68"/>
                  </a:moveTo>
                  <a:lnTo>
                    <a:pt x="463" y="70"/>
                  </a:lnTo>
                  <a:lnTo>
                    <a:pt x="462" y="78"/>
                  </a:lnTo>
                  <a:lnTo>
                    <a:pt x="458" y="81"/>
                  </a:lnTo>
                  <a:lnTo>
                    <a:pt x="456" y="91"/>
                  </a:lnTo>
                  <a:lnTo>
                    <a:pt x="454" y="99"/>
                  </a:lnTo>
                  <a:lnTo>
                    <a:pt x="450" y="110"/>
                  </a:lnTo>
                  <a:lnTo>
                    <a:pt x="446" y="121"/>
                  </a:lnTo>
                  <a:lnTo>
                    <a:pt x="443" y="135"/>
                  </a:lnTo>
                  <a:lnTo>
                    <a:pt x="441" y="140"/>
                  </a:lnTo>
                  <a:lnTo>
                    <a:pt x="439" y="146"/>
                  </a:lnTo>
                  <a:lnTo>
                    <a:pt x="435" y="154"/>
                  </a:lnTo>
                  <a:lnTo>
                    <a:pt x="435" y="161"/>
                  </a:lnTo>
                  <a:lnTo>
                    <a:pt x="431" y="169"/>
                  </a:lnTo>
                  <a:lnTo>
                    <a:pt x="429" y="177"/>
                  </a:lnTo>
                  <a:lnTo>
                    <a:pt x="427" y="184"/>
                  </a:lnTo>
                  <a:lnTo>
                    <a:pt x="425" y="194"/>
                  </a:lnTo>
                  <a:lnTo>
                    <a:pt x="422" y="201"/>
                  </a:lnTo>
                  <a:lnTo>
                    <a:pt x="420" y="211"/>
                  </a:lnTo>
                  <a:lnTo>
                    <a:pt x="418" y="218"/>
                  </a:lnTo>
                  <a:lnTo>
                    <a:pt x="416" y="230"/>
                  </a:lnTo>
                  <a:lnTo>
                    <a:pt x="412" y="237"/>
                  </a:lnTo>
                  <a:lnTo>
                    <a:pt x="410" y="247"/>
                  </a:lnTo>
                  <a:lnTo>
                    <a:pt x="406" y="256"/>
                  </a:lnTo>
                  <a:lnTo>
                    <a:pt x="405" y="268"/>
                  </a:lnTo>
                  <a:lnTo>
                    <a:pt x="403" y="277"/>
                  </a:lnTo>
                  <a:lnTo>
                    <a:pt x="401" y="289"/>
                  </a:lnTo>
                  <a:lnTo>
                    <a:pt x="397" y="298"/>
                  </a:lnTo>
                  <a:lnTo>
                    <a:pt x="397" y="312"/>
                  </a:lnTo>
                  <a:lnTo>
                    <a:pt x="391" y="321"/>
                  </a:lnTo>
                  <a:lnTo>
                    <a:pt x="391" y="332"/>
                  </a:lnTo>
                  <a:lnTo>
                    <a:pt x="387" y="342"/>
                  </a:lnTo>
                  <a:lnTo>
                    <a:pt x="387" y="355"/>
                  </a:lnTo>
                  <a:lnTo>
                    <a:pt x="384" y="367"/>
                  </a:lnTo>
                  <a:lnTo>
                    <a:pt x="384" y="378"/>
                  </a:lnTo>
                  <a:lnTo>
                    <a:pt x="380" y="389"/>
                  </a:lnTo>
                  <a:lnTo>
                    <a:pt x="378" y="403"/>
                  </a:lnTo>
                  <a:lnTo>
                    <a:pt x="374" y="416"/>
                  </a:lnTo>
                  <a:lnTo>
                    <a:pt x="374" y="428"/>
                  </a:lnTo>
                  <a:lnTo>
                    <a:pt x="370" y="439"/>
                  </a:lnTo>
                  <a:lnTo>
                    <a:pt x="370" y="452"/>
                  </a:lnTo>
                  <a:lnTo>
                    <a:pt x="366" y="466"/>
                  </a:lnTo>
                  <a:lnTo>
                    <a:pt x="366" y="479"/>
                  </a:lnTo>
                  <a:lnTo>
                    <a:pt x="363" y="492"/>
                  </a:lnTo>
                  <a:lnTo>
                    <a:pt x="363" y="504"/>
                  </a:lnTo>
                  <a:lnTo>
                    <a:pt x="361" y="517"/>
                  </a:lnTo>
                  <a:lnTo>
                    <a:pt x="359" y="530"/>
                  </a:lnTo>
                  <a:lnTo>
                    <a:pt x="357" y="544"/>
                  </a:lnTo>
                  <a:lnTo>
                    <a:pt x="357" y="557"/>
                  </a:lnTo>
                  <a:lnTo>
                    <a:pt x="357" y="570"/>
                  </a:lnTo>
                  <a:lnTo>
                    <a:pt x="355" y="585"/>
                  </a:lnTo>
                  <a:lnTo>
                    <a:pt x="355" y="599"/>
                  </a:lnTo>
                  <a:lnTo>
                    <a:pt x="355" y="614"/>
                  </a:lnTo>
                  <a:lnTo>
                    <a:pt x="353" y="625"/>
                  </a:lnTo>
                  <a:lnTo>
                    <a:pt x="353" y="640"/>
                  </a:lnTo>
                  <a:lnTo>
                    <a:pt x="353" y="654"/>
                  </a:lnTo>
                  <a:lnTo>
                    <a:pt x="353" y="667"/>
                  </a:lnTo>
                  <a:lnTo>
                    <a:pt x="353" y="680"/>
                  </a:lnTo>
                  <a:lnTo>
                    <a:pt x="357" y="696"/>
                  </a:lnTo>
                  <a:lnTo>
                    <a:pt x="357" y="709"/>
                  </a:lnTo>
                  <a:lnTo>
                    <a:pt x="361" y="724"/>
                  </a:lnTo>
                  <a:lnTo>
                    <a:pt x="361" y="737"/>
                  </a:lnTo>
                  <a:lnTo>
                    <a:pt x="365" y="753"/>
                  </a:lnTo>
                  <a:lnTo>
                    <a:pt x="366" y="766"/>
                  </a:lnTo>
                  <a:lnTo>
                    <a:pt x="370" y="781"/>
                  </a:lnTo>
                  <a:lnTo>
                    <a:pt x="374" y="794"/>
                  </a:lnTo>
                  <a:lnTo>
                    <a:pt x="378" y="808"/>
                  </a:lnTo>
                  <a:lnTo>
                    <a:pt x="382" y="823"/>
                  </a:lnTo>
                  <a:lnTo>
                    <a:pt x="387" y="838"/>
                  </a:lnTo>
                  <a:lnTo>
                    <a:pt x="391" y="852"/>
                  </a:lnTo>
                  <a:lnTo>
                    <a:pt x="395" y="865"/>
                  </a:lnTo>
                  <a:lnTo>
                    <a:pt x="399" y="878"/>
                  </a:lnTo>
                  <a:lnTo>
                    <a:pt x="405" y="891"/>
                  </a:lnTo>
                  <a:lnTo>
                    <a:pt x="408" y="905"/>
                  </a:lnTo>
                  <a:lnTo>
                    <a:pt x="414" y="918"/>
                  </a:lnTo>
                  <a:lnTo>
                    <a:pt x="418" y="931"/>
                  </a:lnTo>
                  <a:lnTo>
                    <a:pt x="425" y="947"/>
                  </a:lnTo>
                  <a:lnTo>
                    <a:pt x="431" y="958"/>
                  </a:lnTo>
                  <a:lnTo>
                    <a:pt x="437" y="971"/>
                  </a:lnTo>
                  <a:lnTo>
                    <a:pt x="443" y="985"/>
                  </a:lnTo>
                  <a:lnTo>
                    <a:pt x="448" y="998"/>
                  </a:lnTo>
                  <a:lnTo>
                    <a:pt x="454" y="1009"/>
                  </a:lnTo>
                  <a:lnTo>
                    <a:pt x="462" y="1023"/>
                  </a:lnTo>
                  <a:lnTo>
                    <a:pt x="465" y="1034"/>
                  </a:lnTo>
                  <a:lnTo>
                    <a:pt x="473" y="1047"/>
                  </a:lnTo>
                  <a:lnTo>
                    <a:pt x="479" y="1059"/>
                  </a:lnTo>
                  <a:lnTo>
                    <a:pt x="484" y="1068"/>
                  </a:lnTo>
                  <a:lnTo>
                    <a:pt x="488" y="1080"/>
                  </a:lnTo>
                  <a:lnTo>
                    <a:pt x="496" y="1091"/>
                  </a:lnTo>
                  <a:lnTo>
                    <a:pt x="501" y="1103"/>
                  </a:lnTo>
                  <a:lnTo>
                    <a:pt x="507" y="1112"/>
                  </a:lnTo>
                  <a:lnTo>
                    <a:pt x="513" y="1123"/>
                  </a:lnTo>
                  <a:lnTo>
                    <a:pt x="519" y="1133"/>
                  </a:lnTo>
                  <a:lnTo>
                    <a:pt x="524" y="1142"/>
                  </a:lnTo>
                  <a:lnTo>
                    <a:pt x="530" y="1150"/>
                  </a:lnTo>
                  <a:lnTo>
                    <a:pt x="536" y="1160"/>
                  </a:lnTo>
                  <a:lnTo>
                    <a:pt x="541" y="1169"/>
                  </a:lnTo>
                  <a:lnTo>
                    <a:pt x="545" y="1177"/>
                  </a:lnTo>
                  <a:lnTo>
                    <a:pt x="551" y="1186"/>
                  </a:lnTo>
                  <a:lnTo>
                    <a:pt x="557" y="1194"/>
                  </a:lnTo>
                  <a:lnTo>
                    <a:pt x="562" y="1201"/>
                  </a:lnTo>
                  <a:lnTo>
                    <a:pt x="566" y="1207"/>
                  </a:lnTo>
                  <a:lnTo>
                    <a:pt x="570" y="1213"/>
                  </a:lnTo>
                  <a:lnTo>
                    <a:pt x="574" y="1220"/>
                  </a:lnTo>
                  <a:lnTo>
                    <a:pt x="577" y="1226"/>
                  </a:lnTo>
                  <a:lnTo>
                    <a:pt x="583" y="1236"/>
                  </a:lnTo>
                  <a:lnTo>
                    <a:pt x="593" y="1245"/>
                  </a:lnTo>
                  <a:lnTo>
                    <a:pt x="597" y="1253"/>
                  </a:lnTo>
                  <a:lnTo>
                    <a:pt x="600" y="1257"/>
                  </a:lnTo>
                  <a:lnTo>
                    <a:pt x="602" y="1260"/>
                  </a:lnTo>
                  <a:lnTo>
                    <a:pt x="604" y="1262"/>
                  </a:lnTo>
                  <a:lnTo>
                    <a:pt x="406" y="1329"/>
                  </a:lnTo>
                  <a:lnTo>
                    <a:pt x="309" y="1405"/>
                  </a:lnTo>
                  <a:lnTo>
                    <a:pt x="308" y="1403"/>
                  </a:lnTo>
                  <a:lnTo>
                    <a:pt x="304" y="1401"/>
                  </a:lnTo>
                  <a:lnTo>
                    <a:pt x="296" y="1395"/>
                  </a:lnTo>
                  <a:lnTo>
                    <a:pt x="290" y="1388"/>
                  </a:lnTo>
                  <a:lnTo>
                    <a:pt x="285" y="1384"/>
                  </a:lnTo>
                  <a:lnTo>
                    <a:pt x="279" y="1380"/>
                  </a:lnTo>
                  <a:lnTo>
                    <a:pt x="273" y="1374"/>
                  </a:lnTo>
                  <a:lnTo>
                    <a:pt x="268" y="1369"/>
                  </a:lnTo>
                  <a:lnTo>
                    <a:pt x="260" y="1361"/>
                  </a:lnTo>
                  <a:lnTo>
                    <a:pt x="254" y="1355"/>
                  </a:lnTo>
                  <a:lnTo>
                    <a:pt x="247" y="1348"/>
                  </a:lnTo>
                  <a:lnTo>
                    <a:pt x="241" y="1342"/>
                  </a:lnTo>
                  <a:lnTo>
                    <a:pt x="233" y="1333"/>
                  </a:lnTo>
                  <a:lnTo>
                    <a:pt x="226" y="1325"/>
                  </a:lnTo>
                  <a:lnTo>
                    <a:pt x="216" y="1315"/>
                  </a:lnTo>
                  <a:lnTo>
                    <a:pt x="209" y="1308"/>
                  </a:lnTo>
                  <a:lnTo>
                    <a:pt x="199" y="1296"/>
                  </a:lnTo>
                  <a:lnTo>
                    <a:pt x="192" y="1287"/>
                  </a:lnTo>
                  <a:lnTo>
                    <a:pt x="182" y="1277"/>
                  </a:lnTo>
                  <a:lnTo>
                    <a:pt x="174" y="1268"/>
                  </a:lnTo>
                  <a:lnTo>
                    <a:pt x="165" y="1257"/>
                  </a:lnTo>
                  <a:lnTo>
                    <a:pt x="155" y="1243"/>
                  </a:lnTo>
                  <a:lnTo>
                    <a:pt x="148" y="1232"/>
                  </a:lnTo>
                  <a:lnTo>
                    <a:pt x="140" y="1220"/>
                  </a:lnTo>
                  <a:lnTo>
                    <a:pt x="131" y="1207"/>
                  </a:lnTo>
                  <a:lnTo>
                    <a:pt x="121" y="1194"/>
                  </a:lnTo>
                  <a:lnTo>
                    <a:pt x="114" y="1180"/>
                  </a:lnTo>
                  <a:lnTo>
                    <a:pt x="106" y="1167"/>
                  </a:lnTo>
                  <a:lnTo>
                    <a:pt x="97" y="1150"/>
                  </a:lnTo>
                  <a:lnTo>
                    <a:pt x="89" y="1137"/>
                  </a:lnTo>
                  <a:lnTo>
                    <a:pt x="81" y="1120"/>
                  </a:lnTo>
                  <a:lnTo>
                    <a:pt x="72" y="1106"/>
                  </a:lnTo>
                  <a:lnTo>
                    <a:pt x="64" y="1089"/>
                  </a:lnTo>
                  <a:lnTo>
                    <a:pt x="57" y="1072"/>
                  </a:lnTo>
                  <a:lnTo>
                    <a:pt x="51" y="1055"/>
                  </a:lnTo>
                  <a:lnTo>
                    <a:pt x="45" y="1040"/>
                  </a:lnTo>
                  <a:lnTo>
                    <a:pt x="38" y="1021"/>
                  </a:lnTo>
                  <a:lnTo>
                    <a:pt x="32" y="1002"/>
                  </a:lnTo>
                  <a:lnTo>
                    <a:pt x="26" y="983"/>
                  </a:lnTo>
                  <a:lnTo>
                    <a:pt x="22" y="966"/>
                  </a:lnTo>
                  <a:lnTo>
                    <a:pt x="17" y="947"/>
                  </a:lnTo>
                  <a:lnTo>
                    <a:pt x="13" y="928"/>
                  </a:lnTo>
                  <a:lnTo>
                    <a:pt x="9" y="909"/>
                  </a:lnTo>
                  <a:lnTo>
                    <a:pt x="7" y="890"/>
                  </a:lnTo>
                  <a:lnTo>
                    <a:pt x="3" y="869"/>
                  </a:lnTo>
                  <a:lnTo>
                    <a:pt x="3" y="848"/>
                  </a:lnTo>
                  <a:lnTo>
                    <a:pt x="0" y="825"/>
                  </a:lnTo>
                  <a:lnTo>
                    <a:pt x="0" y="806"/>
                  </a:lnTo>
                  <a:lnTo>
                    <a:pt x="0" y="783"/>
                  </a:lnTo>
                  <a:lnTo>
                    <a:pt x="0" y="762"/>
                  </a:lnTo>
                  <a:lnTo>
                    <a:pt x="1" y="739"/>
                  </a:lnTo>
                  <a:lnTo>
                    <a:pt x="5" y="718"/>
                  </a:lnTo>
                  <a:lnTo>
                    <a:pt x="7" y="694"/>
                  </a:lnTo>
                  <a:lnTo>
                    <a:pt x="11" y="671"/>
                  </a:lnTo>
                  <a:lnTo>
                    <a:pt x="15" y="646"/>
                  </a:lnTo>
                  <a:lnTo>
                    <a:pt x="20" y="623"/>
                  </a:lnTo>
                  <a:lnTo>
                    <a:pt x="26" y="599"/>
                  </a:lnTo>
                  <a:lnTo>
                    <a:pt x="34" y="574"/>
                  </a:lnTo>
                  <a:lnTo>
                    <a:pt x="41" y="551"/>
                  </a:lnTo>
                  <a:lnTo>
                    <a:pt x="51" y="526"/>
                  </a:lnTo>
                  <a:lnTo>
                    <a:pt x="249" y="0"/>
                  </a:lnTo>
                  <a:lnTo>
                    <a:pt x="376" y="51"/>
                  </a:lnTo>
                  <a:lnTo>
                    <a:pt x="465" y="68"/>
                  </a:lnTo>
                  <a:lnTo>
                    <a:pt x="465" y="6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81760" y="291960"/>
              <a:ext cx="186480" cy="244800"/>
            </a:xfrm>
            <a:custGeom>
              <a:avLst/>
              <a:gdLst/>
              <a:ahLst/>
              <a:rect l="l" t="t" r="r" b="b"/>
              <a:pathLst>
                <a:path w="1034" h="1360">
                  <a:moveTo>
                    <a:pt x="0" y="432"/>
                  </a:moveTo>
                  <a:lnTo>
                    <a:pt x="0" y="430"/>
                  </a:lnTo>
                  <a:lnTo>
                    <a:pt x="4" y="426"/>
                  </a:lnTo>
                  <a:lnTo>
                    <a:pt x="5" y="419"/>
                  </a:lnTo>
                  <a:lnTo>
                    <a:pt x="13" y="413"/>
                  </a:lnTo>
                  <a:lnTo>
                    <a:pt x="15" y="407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0"/>
                  </a:lnTo>
                  <a:lnTo>
                    <a:pt x="30" y="383"/>
                  </a:lnTo>
                  <a:lnTo>
                    <a:pt x="36" y="377"/>
                  </a:lnTo>
                  <a:lnTo>
                    <a:pt x="42" y="369"/>
                  </a:lnTo>
                  <a:lnTo>
                    <a:pt x="47" y="364"/>
                  </a:lnTo>
                  <a:lnTo>
                    <a:pt x="53" y="354"/>
                  </a:lnTo>
                  <a:lnTo>
                    <a:pt x="61" y="347"/>
                  </a:lnTo>
                  <a:lnTo>
                    <a:pt x="64" y="339"/>
                  </a:lnTo>
                  <a:lnTo>
                    <a:pt x="74" y="329"/>
                  </a:lnTo>
                  <a:lnTo>
                    <a:pt x="80" y="322"/>
                  </a:lnTo>
                  <a:lnTo>
                    <a:pt x="87" y="312"/>
                  </a:lnTo>
                  <a:lnTo>
                    <a:pt x="95" y="303"/>
                  </a:lnTo>
                  <a:lnTo>
                    <a:pt x="104" y="295"/>
                  </a:lnTo>
                  <a:lnTo>
                    <a:pt x="112" y="284"/>
                  </a:lnTo>
                  <a:lnTo>
                    <a:pt x="121" y="274"/>
                  </a:lnTo>
                  <a:lnTo>
                    <a:pt x="129" y="263"/>
                  </a:lnTo>
                  <a:lnTo>
                    <a:pt x="140" y="255"/>
                  </a:lnTo>
                  <a:lnTo>
                    <a:pt x="150" y="244"/>
                  </a:lnTo>
                  <a:lnTo>
                    <a:pt x="161" y="234"/>
                  </a:lnTo>
                  <a:lnTo>
                    <a:pt x="171" y="225"/>
                  </a:lnTo>
                  <a:lnTo>
                    <a:pt x="182" y="215"/>
                  </a:lnTo>
                  <a:lnTo>
                    <a:pt x="192" y="204"/>
                  </a:lnTo>
                  <a:lnTo>
                    <a:pt x="203" y="194"/>
                  </a:lnTo>
                  <a:lnTo>
                    <a:pt x="215" y="185"/>
                  </a:lnTo>
                  <a:lnTo>
                    <a:pt x="226" y="175"/>
                  </a:lnTo>
                  <a:lnTo>
                    <a:pt x="239" y="164"/>
                  </a:lnTo>
                  <a:lnTo>
                    <a:pt x="251" y="154"/>
                  </a:lnTo>
                  <a:lnTo>
                    <a:pt x="264" y="145"/>
                  </a:lnTo>
                  <a:lnTo>
                    <a:pt x="277" y="137"/>
                  </a:lnTo>
                  <a:lnTo>
                    <a:pt x="289" y="126"/>
                  </a:lnTo>
                  <a:lnTo>
                    <a:pt x="302" y="116"/>
                  </a:lnTo>
                  <a:lnTo>
                    <a:pt x="315" y="107"/>
                  </a:lnTo>
                  <a:lnTo>
                    <a:pt x="331" y="99"/>
                  </a:lnTo>
                  <a:lnTo>
                    <a:pt x="344" y="90"/>
                  </a:lnTo>
                  <a:lnTo>
                    <a:pt x="357" y="82"/>
                  </a:lnTo>
                  <a:lnTo>
                    <a:pt x="372" y="75"/>
                  </a:lnTo>
                  <a:lnTo>
                    <a:pt x="388" y="67"/>
                  </a:lnTo>
                  <a:lnTo>
                    <a:pt x="401" y="59"/>
                  </a:lnTo>
                  <a:lnTo>
                    <a:pt x="416" y="52"/>
                  </a:lnTo>
                  <a:lnTo>
                    <a:pt x="431" y="44"/>
                  </a:lnTo>
                  <a:lnTo>
                    <a:pt x="448" y="40"/>
                  </a:lnTo>
                  <a:lnTo>
                    <a:pt x="462" y="33"/>
                  </a:lnTo>
                  <a:lnTo>
                    <a:pt x="479" y="27"/>
                  </a:lnTo>
                  <a:lnTo>
                    <a:pt x="494" y="21"/>
                  </a:lnTo>
                  <a:lnTo>
                    <a:pt x="511" y="18"/>
                  </a:lnTo>
                  <a:lnTo>
                    <a:pt x="528" y="14"/>
                  </a:lnTo>
                  <a:lnTo>
                    <a:pt x="543" y="10"/>
                  </a:lnTo>
                  <a:lnTo>
                    <a:pt x="561" y="6"/>
                  </a:lnTo>
                  <a:lnTo>
                    <a:pt x="578" y="4"/>
                  </a:lnTo>
                  <a:lnTo>
                    <a:pt x="593" y="2"/>
                  </a:lnTo>
                  <a:lnTo>
                    <a:pt x="612" y="0"/>
                  </a:lnTo>
                  <a:lnTo>
                    <a:pt x="629" y="0"/>
                  </a:lnTo>
                  <a:lnTo>
                    <a:pt x="648" y="0"/>
                  </a:lnTo>
                  <a:lnTo>
                    <a:pt x="663" y="0"/>
                  </a:lnTo>
                  <a:lnTo>
                    <a:pt x="680" y="0"/>
                  </a:lnTo>
                  <a:lnTo>
                    <a:pt x="697" y="0"/>
                  </a:lnTo>
                  <a:lnTo>
                    <a:pt x="713" y="4"/>
                  </a:lnTo>
                  <a:lnTo>
                    <a:pt x="728" y="4"/>
                  </a:lnTo>
                  <a:lnTo>
                    <a:pt x="741" y="6"/>
                  </a:lnTo>
                  <a:lnTo>
                    <a:pt x="756" y="8"/>
                  </a:lnTo>
                  <a:lnTo>
                    <a:pt x="772" y="14"/>
                  </a:lnTo>
                  <a:lnTo>
                    <a:pt x="785" y="16"/>
                  </a:lnTo>
                  <a:lnTo>
                    <a:pt x="798" y="18"/>
                  </a:lnTo>
                  <a:lnTo>
                    <a:pt x="810" y="21"/>
                  </a:lnTo>
                  <a:lnTo>
                    <a:pt x="823" y="27"/>
                  </a:lnTo>
                  <a:lnTo>
                    <a:pt x="834" y="31"/>
                  </a:lnTo>
                  <a:lnTo>
                    <a:pt x="846" y="35"/>
                  </a:lnTo>
                  <a:lnTo>
                    <a:pt x="855" y="40"/>
                  </a:lnTo>
                  <a:lnTo>
                    <a:pt x="869" y="46"/>
                  </a:lnTo>
                  <a:lnTo>
                    <a:pt x="876" y="50"/>
                  </a:lnTo>
                  <a:lnTo>
                    <a:pt x="886" y="56"/>
                  </a:lnTo>
                  <a:lnTo>
                    <a:pt x="895" y="61"/>
                  </a:lnTo>
                  <a:lnTo>
                    <a:pt x="905" y="69"/>
                  </a:lnTo>
                  <a:lnTo>
                    <a:pt x="912" y="75"/>
                  </a:lnTo>
                  <a:lnTo>
                    <a:pt x="922" y="80"/>
                  </a:lnTo>
                  <a:lnTo>
                    <a:pt x="929" y="88"/>
                  </a:lnTo>
                  <a:lnTo>
                    <a:pt x="939" y="96"/>
                  </a:lnTo>
                  <a:lnTo>
                    <a:pt x="945" y="101"/>
                  </a:lnTo>
                  <a:lnTo>
                    <a:pt x="952" y="111"/>
                  </a:lnTo>
                  <a:lnTo>
                    <a:pt x="958" y="118"/>
                  </a:lnTo>
                  <a:lnTo>
                    <a:pt x="966" y="126"/>
                  </a:lnTo>
                  <a:lnTo>
                    <a:pt x="969" y="134"/>
                  </a:lnTo>
                  <a:lnTo>
                    <a:pt x="975" y="141"/>
                  </a:lnTo>
                  <a:lnTo>
                    <a:pt x="981" y="149"/>
                  </a:lnTo>
                  <a:lnTo>
                    <a:pt x="986" y="158"/>
                  </a:lnTo>
                  <a:lnTo>
                    <a:pt x="990" y="168"/>
                  </a:lnTo>
                  <a:lnTo>
                    <a:pt x="996" y="175"/>
                  </a:lnTo>
                  <a:lnTo>
                    <a:pt x="1000" y="183"/>
                  </a:lnTo>
                  <a:lnTo>
                    <a:pt x="1004" y="193"/>
                  </a:lnTo>
                  <a:lnTo>
                    <a:pt x="1005" y="200"/>
                  </a:lnTo>
                  <a:lnTo>
                    <a:pt x="1009" y="208"/>
                  </a:lnTo>
                  <a:lnTo>
                    <a:pt x="1013" y="217"/>
                  </a:lnTo>
                  <a:lnTo>
                    <a:pt x="1017" y="227"/>
                  </a:lnTo>
                  <a:lnTo>
                    <a:pt x="1017" y="234"/>
                  </a:lnTo>
                  <a:lnTo>
                    <a:pt x="1021" y="244"/>
                  </a:lnTo>
                  <a:lnTo>
                    <a:pt x="1023" y="253"/>
                  </a:lnTo>
                  <a:lnTo>
                    <a:pt x="1024" y="263"/>
                  </a:lnTo>
                  <a:lnTo>
                    <a:pt x="1026" y="270"/>
                  </a:lnTo>
                  <a:lnTo>
                    <a:pt x="1026" y="282"/>
                  </a:lnTo>
                  <a:lnTo>
                    <a:pt x="1028" y="289"/>
                  </a:lnTo>
                  <a:lnTo>
                    <a:pt x="1030" y="299"/>
                  </a:lnTo>
                  <a:lnTo>
                    <a:pt x="1030" y="308"/>
                  </a:lnTo>
                  <a:lnTo>
                    <a:pt x="1030" y="316"/>
                  </a:lnTo>
                  <a:lnTo>
                    <a:pt x="1030" y="326"/>
                  </a:lnTo>
                  <a:lnTo>
                    <a:pt x="1032" y="335"/>
                  </a:lnTo>
                  <a:lnTo>
                    <a:pt x="1032" y="343"/>
                  </a:lnTo>
                  <a:lnTo>
                    <a:pt x="1032" y="352"/>
                  </a:lnTo>
                  <a:lnTo>
                    <a:pt x="1032" y="360"/>
                  </a:lnTo>
                  <a:lnTo>
                    <a:pt x="1034" y="369"/>
                  </a:lnTo>
                  <a:lnTo>
                    <a:pt x="1032" y="377"/>
                  </a:lnTo>
                  <a:lnTo>
                    <a:pt x="1032" y="385"/>
                  </a:lnTo>
                  <a:lnTo>
                    <a:pt x="1030" y="392"/>
                  </a:lnTo>
                  <a:lnTo>
                    <a:pt x="1030" y="400"/>
                  </a:lnTo>
                  <a:lnTo>
                    <a:pt x="1030" y="409"/>
                  </a:lnTo>
                  <a:lnTo>
                    <a:pt x="1030" y="417"/>
                  </a:lnTo>
                  <a:lnTo>
                    <a:pt x="1028" y="424"/>
                  </a:lnTo>
                  <a:lnTo>
                    <a:pt x="1028" y="432"/>
                  </a:lnTo>
                  <a:lnTo>
                    <a:pt x="1026" y="440"/>
                  </a:lnTo>
                  <a:lnTo>
                    <a:pt x="1023" y="445"/>
                  </a:lnTo>
                  <a:lnTo>
                    <a:pt x="1021" y="453"/>
                  </a:lnTo>
                  <a:lnTo>
                    <a:pt x="1019" y="463"/>
                  </a:lnTo>
                  <a:lnTo>
                    <a:pt x="1015" y="470"/>
                  </a:lnTo>
                  <a:lnTo>
                    <a:pt x="1011" y="478"/>
                  </a:lnTo>
                  <a:lnTo>
                    <a:pt x="1007" y="487"/>
                  </a:lnTo>
                  <a:lnTo>
                    <a:pt x="1004" y="497"/>
                  </a:lnTo>
                  <a:lnTo>
                    <a:pt x="1000" y="504"/>
                  </a:lnTo>
                  <a:lnTo>
                    <a:pt x="996" y="512"/>
                  </a:lnTo>
                  <a:lnTo>
                    <a:pt x="990" y="521"/>
                  </a:lnTo>
                  <a:lnTo>
                    <a:pt x="985" y="533"/>
                  </a:lnTo>
                  <a:lnTo>
                    <a:pt x="977" y="540"/>
                  </a:lnTo>
                  <a:lnTo>
                    <a:pt x="973" y="552"/>
                  </a:lnTo>
                  <a:lnTo>
                    <a:pt x="967" y="561"/>
                  </a:lnTo>
                  <a:lnTo>
                    <a:pt x="962" y="573"/>
                  </a:lnTo>
                  <a:lnTo>
                    <a:pt x="954" y="580"/>
                  </a:lnTo>
                  <a:lnTo>
                    <a:pt x="947" y="592"/>
                  </a:lnTo>
                  <a:lnTo>
                    <a:pt x="939" y="601"/>
                  </a:lnTo>
                  <a:lnTo>
                    <a:pt x="933" y="611"/>
                  </a:lnTo>
                  <a:lnTo>
                    <a:pt x="926" y="622"/>
                  </a:lnTo>
                  <a:lnTo>
                    <a:pt x="916" y="634"/>
                  </a:lnTo>
                  <a:lnTo>
                    <a:pt x="908" y="643"/>
                  </a:lnTo>
                  <a:lnTo>
                    <a:pt x="903" y="655"/>
                  </a:lnTo>
                  <a:lnTo>
                    <a:pt x="893" y="664"/>
                  </a:lnTo>
                  <a:lnTo>
                    <a:pt x="886" y="675"/>
                  </a:lnTo>
                  <a:lnTo>
                    <a:pt x="876" y="687"/>
                  </a:lnTo>
                  <a:lnTo>
                    <a:pt x="869" y="698"/>
                  </a:lnTo>
                  <a:lnTo>
                    <a:pt x="861" y="708"/>
                  </a:lnTo>
                  <a:lnTo>
                    <a:pt x="851" y="721"/>
                  </a:lnTo>
                  <a:lnTo>
                    <a:pt x="844" y="731"/>
                  </a:lnTo>
                  <a:lnTo>
                    <a:pt x="836" y="744"/>
                  </a:lnTo>
                  <a:lnTo>
                    <a:pt x="827" y="752"/>
                  </a:lnTo>
                  <a:lnTo>
                    <a:pt x="817" y="765"/>
                  </a:lnTo>
                  <a:lnTo>
                    <a:pt x="808" y="774"/>
                  </a:lnTo>
                  <a:lnTo>
                    <a:pt x="800" y="786"/>
                  </a:lnTo>
                  <a:lnTo>
                    <a:pt x="791" y="795"/>
                  </a:lnTo>
                  <a:lnTo>
                    <a:pt x="781" y="807"/>
                  </a:lnTo>
                  <a:lnTo>
                    <a:pt x="774" y="818"/>
                  </a:lnTo>
                  <a:lnTo>
                    <a:pt x="766" y="829"/>
                  </a:lnTo>
                  <a:lnTo>
                    <a:pt x="756" y="839"/>
                  </a:lnTo>
                  <a:lnTo>
                    <a:pt x="747" y="848"/>
                  </a:lnTo>
                  <a:lnTo>
                    <a:pt x="737" y="860"/>
                  </a:lnTo>
                  <a:lnTo>
                    <a:pt x="730" y="871"/>
                  </a:lnTo>
                  <a:lnTo>
                    <a:pt x="722" y="879"/>
                  </a:lnTo>
                  <a:lnTo>
                    <a:pt x="715" y="890"/>
                  </a:lnTo>
                  <a:lnTo>
                    <a:pt x="707" y="902"/>
                  </a:lnTo>
                  <a:lnTo>
                    <a:pt x="699" y="911"/>
                  </a:lnTo>
                  <a:lnTo>
                    <a:pt x="692" y="919"/>
                  </a:lnTo>
                  <a:lnTo>
                    <a:pt x="684" y="930"/>
                  </a:lnTo>
                  <a:lnTo>
                    <a:pt x="677" y="938"/>
                  </a:lnTo>
                  <a:lnTo>
                    <a:pt x="669" y="949"/>
                  </a:lnTo>
                  <a:lnTo>
                    <a:pt x="661" y="957"/>
                  </a:lnTo>
                  <a:lnTo>
                    <a:pt x="656" y="966"/>
                  </a:lnTo>
                  <a:lnTo>
                    <a:pt x="648" y="976"/>
                  </a:lnTo>
                  <a:lnTo>
                    <a:pt x="642" y="985"/>
                  </a:lnTo>
                  <a:lnTo>
                    <a:pt x="635" y="993"/>
                  </a:lnTo>
                  <a:lnTo>
                    <a:pt x="629" y="1001"/>
                  </a:lnTo>
                  <a:lnTo>
                    <a:pt x="623" y="1008"/>
                  </a:lnTo>
                  <a:lnTo>
                    <a:pt x="620" y="1016"/>
                  </a:lnTo>
                  <a:lnTo>
                    <a:pt x="614" y="1023"/>
                  </a:lnTo>
                  <a:lnTo>
                    <a:pt x="610" y="1031"/>
                  </a:lnTo>
                  <a:lnTo>
                    <a:pt x="606" y="1039"/>
                  </a:lnTo>
                  <a:lnTo>
                    <a:pt x="602" y="1046"/>
                  </a:lnTo>
                  <a:lnTo>
                    <a:pt x="599" y="1052"/>
                  </a:lnTo>
                  <a:lnTo>
                    <a:pt x="595" y="1060"/>
                  </a:lnTo>
                  <a:lnTo>
                    <a:pt x="591" y="1065"/>
                  </a:lnTo>
                  <a:lnTo>
                    <a:pt x="587" y="1073"/>
                  </a:lnTo>
                  <a:lnTo>
                    <a:pt x="583" y="1079"/>
                  </a:lnTo>
                  <a:lnTo>
                    <a:pt x="580" y="1086"/>
                  </a:lnTo>
                  <a:lnTo>
                    <a:pt x="576" y="1092"/>
                  </a:lnTo>
                  <a:lnTo>
                    <a:pt x="574" y="1099"/>
                  </a:lnTo>
                  <a:lnTo>
                    <a:pt x="566" y="1113"/>
                  </a:lnTo>
                  <a:lnTo>
                    <a:pt x="562" y="1126"/>
                  </a:lnTo>
                  <a:lnTo>
                    <a:pt x="559" y="1139"/>
                  </a:lnTo>
                  <a:lnTo>
                    <a:pt x="555" y="1155"/>
                  </a:lnTo>
                  <a:lnTo>
                    <a:pt x="549" y="1166"/>
                  </a:lnTo>
                  <a:lnTo>
                    <a:pt x="545" y="1179"/>
                  </a:lnTo>
                  <a:lnTo>
                    <a:pt x="542" y="1193"/>
                  </a:lnTo>
                  <a:lnTo>
                    <a:pt x="536" y="1206"/>
                  </a:lnTo>
                  <a:lnTo>
                    <a:pt x="532" y="1217"/>
                  </a:lnTo>
                  <a:lnTo>
                    <a:pt x="530" y="1231"/>
                  </a:lnTo>
                  <a:lnTo>
                    <a:pt x="528" y="1242"/>
                  </a:lnTo>
                  <a:lnTo>
                    <a:pt x="526" y="1255"/>
                  </a:lnTo>
                  <a:lnTo>
                    <a:pt x="523" y="1267"/>
                  </a:lnTo>
                  <a:lnTo>
                    <a:pt x="521" y="1276"/>
                  </a:lnTo>
                  <a:lnTo>
                    <a:pt x="519" y="1286"/>
                  </a:lnTo>
                  <a:lnTo>
                    <a:pt x="519" y="1297"/>
                  </a:lnTo>
                  <a:lnTo>
                    <a:pt x="515" y="1305"/>
                  </a:lnTo>
                  <a:lnTo>
                    <a:pt x="515" y="1314"/>
                  </a:lnTo>
                  <a:lnTo>
                    <a:pt x="515" y="1322"/>
                  </a:lnTo>
                  <a:lnTo>
                    <a:pt x="515" y="1330"/>
                  </a:lnTo>
                  <a:lnTo>
                    <a:pt x="511" y="1341"/>
                  </a:lnTo>
                  <a:lnTo>
                    <a:pt x="511" y="1350"/>
                  </a:lnTo>
                  <a:lnTo>
                    <a:pt x="511" y="1358"/>
                  </a:lnTo>
                  <a:lnTo>
                    <a:pt x="511" y="1360"/>
                  </a:lnTo>
                  <a:lnTo>
                    <a:pt x="397" y="1084"/>
                  </a:lnTo>
                  <a:lnTo>
                    <a:pt x="397" y="1082"/>
                  </a:lnTo>
                  <a:lnTo>
                    <a:pt x="403" y="1079"/>
                  </a:lnTo>
                  <a:lnTo>
                    <a:pt x="410" y="1073"/>
                  </a:lnTo>
                  <a:lnTo>
                    <a:pt x="420" y="1065"/>
                  </a:lnTo>
                  <a:lnTo>
                    <a:pt x="424" y="1060"/>
                  </a:lnTo>
                  <a:lnTo>
                    <a:pt x="431" y="1056"/>
                  </a:lnTo>
                  <a:lnTo>
                    <a:pt x="439" y="1050"/>
                  </a:lnTo>
                  <a:lnTo>
                    <a:pt x="447" y="1044"/>
                  </a:lnTo>
                  <a:lnTo>
                    <a:pt x="454" y="1039"/>
                  </a:lnTo>
                  <a:lnTo>
                    <a:pt x="462" y="1031"/>
                  </a:lnTo>
                  <a:lnTo>
                    <a:pt x="471" y="1025"/>
                  </a:lnTo>
                  <a:lnTo>
                    <a:pt x="483" y="1018"/>
                  </a:lnTo>
                  <a:lnTo>
                    <a:pt x="490" y="1008"/>
                  </a:lnTo>
                  <a:lnTo>
                    <a:pt x="502" y="1001"/>
                  </a:lnTo>
                  <a:lnTo>
                    <a:pt x="511" y="991"/>
                  </a:lnTo>
                  <a:lnTo>
                    <a:pt x="524" y="982"/>
                  </a:lnTo>
                  <a:lnTo>
                    <a:pt x="534" y="972"/>
                  </a:lnTo>
                  <a:lnTo>
                    <a:pt x="545" y="963"/>
                  </a:lnTo>
                  <a:lnTo>
                    <a:pt x="559" y="953"/>
                  </a:lnTo>
                  <a:lnTo>
                    <a:pt x="570" y="944"/>
                  </a:lnTo>
                  <a:lnTo>
                    <a:pt x="582" y="932"/>
                  </a:lnTo>
                  <a:lnTo>
                    <a:pt x="593" y="921"/>
                  </a:lnTo>
                  <a:lnTo>
                    <a:pt x="606" y="909"/>
                  </a:lnTo>
                  <a:lnTo>
                    <a:pt x="620" y="900"/>
                  </a:lnTo>
                  <a:lnTo>
                    <a:pt x="633" y="888"/>
                  </a:lnTo>
                  <a:lnTo>
                    <a:pt x="646" y="875"/>
                  </a:lnTo>
                  <a:lnTo>
                    <a:pt x="659" y="864"/>
                  </a:lnTo>
                  <a:lnTo>
                    <a:pt x="673" y="854"/>
                  </a:lnTo>
                  <a:lnTo>
                    <a:pt x="686" y="839"/>
                  </a:lnTo>
                  <a:lnTo>
                    <a:pt x="697" y="828"/>
                  </a:lnTo>
                  <a:lnTo>
                    <a:pt x="711" y="814"/>
                  </a:lnTo>
                  <a:lnTo>
                    <a:pt x="724" y="801"/>
                  </a:lnTo>
                  <a:lnTo>
                    <a:pt x="735" y="788"/>
                  </a:lnTo>
                  <a:lnTo>
                    <a:pt x="749" y="774"/>
                  </a:lnTo>
                  <a:lnTo>
                    <a:pt x="762" y="761"/>
                  </a:lnTo>
                  <a:lnTo>
                    <a:pt x="775" y="748"/>
                  </a:lnTo>
                  <a:lnTo>
                    <a:pt x="785" y="734"/>
                  </a:lnTo>
                  <a:lnTo>
                    <a:pt x="798" y="721"/>
                  </a:lnTo>
                  <a:lnTo>
                    <a:pt x="810" y="708"/>
                  </a:lnTo>
                  <a:lnTo>
                    <a:pt x="821" y="694"/>
                  </a:lnTo>
                  <a:lnTo>
                    <a:pt x="832" y="679"/>
                  </a:lnTo>
                  <a:lnTo>
                    <a:pt x="844" y="668"/>
                  </a:lnTo>
                  <a:lnTo>
                    <a:pt x="855" y="653"/>
                  </a:lnTo>
                  <a:lnTo>
                    <a:pt x="865" y="641"/>
                  </a:lnTo>
                  <a:lnTo>
                    <a:pt x="874" y="626"/>
                  </a:lnTo>
                  <a:lnTo>
                    <a:pt x="884" y="613"/>
                  </a:lnTo>
                  <a:lnTo>
                    <a:pt x="891" y="598"/>
                  </a:lnTo>
                  <a:lnTo>
                    <a:pt x="901" y="584"/>
                  </a:lnTo>
                  <a:lnTo>
                    <a:pt x="908" y="571"/>
                  </a:lnTo>
                  <a:lnTo>
                    <a:pt x="916" y="558"/>
                  </a:lnTo>
                  <a:lnTo>
                    <a:pt x="922" y="544"/>
                  </a:lnTo>
                  <a:lnTo>
                    <a:pt x="929" y="533"/>
                  </a:lnTo>
                  <a:lnTo>
                    <a:pt x="935" y="520"/>
                  </a:lnTo>
                  <a:lnTo>
                    <a:pt x="941" y="506"/>
                  </a:lnTo>
                  <a:lnTo>
                    <a:pt x="945" y="493"/>
                  </a:lnTo>
                  <a:lnTo>
                    <a:pt x="948" y="480"/>
                  </a:lnTo>
                  <a:lnTo>
                    <a:pt x="952" y="466"/>
                  </a:lnTo>
                  <a:lnTo>
                    <a:pt x="954" y="455"/>
                  </a:lnTo>
                  <a:lnTo>
                    <a:pt x="956" y="443"/>
                  </a:lnTo>
                  <a:lnTo>
                    <a:pt x="958" y="432"/>
                  </a:lnTo>
                  <a:lnTo>
                    <a:pt x="956" y="421"/>
                  </a:lnTo>
                  <a:lnTo>
                    <a:pt x="956" y="409"/>
                  </a:lnTo>
                  <a:lnTo>
                    <a:pt x="956" y="396"/>
                  </a:lnTo>
                  <a:lnTo>
                    <a:pt x="956" y="385"/>
                  </a:lnTo>
                  <a:lnTo>
                    <a:pt x="954" y="373"/>
                  </a:lnTo>
                  <a:lnTo>
                    <a:pt x="952" y="362"/>
                  </a:lnTo>
                  <a:lnTo>
                    <a:pt x="952" y="352"/>
                  </a:lnTo>
                  <a:lnTo>
                    <a:pt x="950" y="343"/>
                  </a:lnTo>
                  <a:lnTo>
                    <a:pt x="947" y="329"/>
                  </a:lnTo>
                  <a:lnTo>
                    <a:pt x="945" y="322"/>
                  </a:lnTo>
                  <a:lnTo>
                    <a:pt x="943" y="310"/>
                  </a:lnTo>
                  <a:lnTo>
                    <a:pt x="941" y="303"/>
                  </a:lnTo>
                  <a:lnTo>
                    <a:pt x="937" y="291"/>
                  </a:lnTo>
                  <a:lnTo>
                    <a:pt x="935" y="282"/>
                  </a:lnTo>
                  <a:lnTo>
                    <a:pt x="929" y="274"/>
                  </a:lnTo>
                  <a:lnTo>
                    <a:pt x="927" y="267"/>
                  </a:lnTo>
                  <a:lnTo>
                    <a:pt x="922" y="257"/>
                  </a:lnTo>
                  <a:lnTo>
                    <a:pt x="918" y="248"/>
                  </a:lnTo>
                  <a:lnTo>
                    <a:pt x="912" y="240"/>
                  </a:lnTo>
                  <a:lnTo>
                    <a:pt x="908" y="232"/>
                  </a:lnTo>
                  <a:lnTo>
                    <a:pt x="903" y="225"/>
                  </a:lnTo>
                  <a:lnTo>
                    <a:pt x="899" y="215"/>
                  </a:lnTo>
                  <a:lnTo>
                    <a:pt x="893" y="208"/>
                  </a:lnTo>
                  <a:lnTo>
                    <a:pt x="889" y="202"/>
                  </a:lnTo>
                  <a:lnTo>
                    <a:pt x="882" y="193"/>
                  </a:lnTo>
                  <a:lnTo>
                    <a:pt x="876" y="187"/>
                  </a:lnTo>
                  <a:lnTo>
                    <a:pt x="869" y="181"/>
                  </a:lnTo>
                  <a:lnTo>
                    <a:pt x="865" y="175"/>
                  </a:lnTo>
                  <a:lnTo>
                    <a:pt x="855" y="168"/>
                  </a:lnTo>
                  <a:lnTo>
                    <a:pt x="851" y="162"/>
                  </a:lnTo>
                  <a:lnTo>
                    <a:pt x="842" y="156"/>
                  </a:lnTo>
                  <a:lnTo>
                    <a:pt x="838" y="153"/>
                  </a:lnTo>
                  <a:lnTo>
                    <a:pt x="829" y="145"/>
                  </a:lnTo>
                  <a:lnTo>
                    <a:pt x="821" y="141"/>
                  </a:lnTo>
                  <a:lnTo>
                    <a:pt x="813" y="135"/>
                  </a:lnTo>
                  <a:lnTo>
                    <a:pt x="806" y="132"/>
                  </a:lnTo>
                  <a:lnTo>
                    <a:pt x="798" y="126"/>
                  </a:lnTo>
                  <a:lnTo>
                    <a:pt x="791" y="122"/>
                  </a:lnTo>
                  <a:lnTo>
                    <a:pt x="781" y="118"/>
                  </a:lnTo>
                  <a:lnTo>
                    <a:pt x="774" y="115"/>
                  </a:lnTo>
                  <a:lnTo>
                    <a:pt x="764" y="111"/>
                  </a:lnTo>
                  <a:lnTo>
                    <a:pt x="755" y="105"/>
                  </a:lnTo>
                  <a:lnTo>
                    <a:pt x="747" y="103"/>
                  </a:lnTo>
                  <a:lnTo>
                    <a:pt x="737" y="101"/>
                  </a:lnTo>
                  <a:lnTo>
                    <a:pt x="728" y="97"/>
                  </a:lnTo>
                  <a:lnTo>
                    <a:pt x="720" y="96"/>
                  </a:lnTo>
                  <a:lnTo>
                    <a:pt x="709" y="92"/>
                  </a:lnTo>
                  <a:lnTo>
                    <a:pt x="701" y="92"/>
                  </a:lnTo>
                  <a:lnTo>
                    <a:pt x="690" y="88"/>
                  </a:lnTo>
                  <a:lnTo>
                    <a:pt x="680" y="88"/>
                  </a:lnTo>
                  <a:lnTo>
                    <a:pt x="671" y="84"/>
                  </a:lnTo>
                  <a:lnTo>
                    <a:pt x="661" y="84"/>
                  </a:lnTo>
                  <a:lnTo>
                    <a:pt x="650" y="82"/>
                  </a:lnTo>
                  <a:lnTo>
                    <a:pt x="640" y="82"/>
                  </a:lnTo>
                  <a:lnTo>
                    <a:pt x="631" y="82"/>
                  </a:lnTo>
                  <a:lnTo>
                    <a:pt x="621" y="82"/>
                  </a:lnTo>
                  <a:lnTo>
                    <a:pt x="610" y="80"/>
                  </a:lnTo>
                  <a:lnTo>
                    <a:pt x="601" y="80"/>
                  </a:lnTo>
                  <a:lnTo>
                    <a:pt x="589" y="80"/>
                  </a:lnTo>
                  <a:lnTo>
                    <a:pt x="580" y="82"/>
                  </a:lnTo>
                  <a:lnTo>
                    <a:pt x="566" y="82"/>
                  </a:lnTo>
                  <a:lnTo>
                    <a:pt x="559" y="84"/>
                  </a:lnTo>
                  <a:lnTo>
                    <a:pt x="545" y="84"/>
                  </a:lnTo>
                  <a:lnTo>
                    <a:pt x="536" y="88"/>
                  </a:lnTo>
                  <a:lnTo>
                    <a:pt x="524" y="88"/>
                  </a:lnTo>
                  <a:lnTo>
                    <a:pt x="515" y="90"/>
                  </a:lnTo>
                  <a:lnTo>
                    <a:pt x="502" y="92"/>
                  </a:lnTo>
                  <a:lnTo>
                    <a:pt x="492" y="97"/>
                  </a:lnTo>
                  <a:lnTo>
                    <a:pt x="479" y="99"/>
                  </a:lnTo>
                  <a:lnTo>
                    <a:pt x="469" y="103"/>
                  </a:lnTo>
                  <a:lnTo>
                    <a:pt x="458" y="109"/>
                  </a:lnTo>
                  <a:lnTo>
                    <a:pt x="447" y="115"/>
                  </a:lnTo>
                  <a:lnTo>
                    <a:pt x="435" y="118"/>
                  </a:lnTo>
                  <a:lnTo>
                    <a:pt x="424" y="126"/>
                  </a:lnTo>
                  <a:lnTo>
                    <a:pt x="412" y="132"/>
                  </a:lnTo>
                  <a:lnTo>
                    <a:pt x="401" y="141"/>
                  </a:lnTo>
                  <a:lnTo>
                    <a:pt x="390" y="147"/>
                  </a:lnTo>
                  <a:lnTo>
                    <a:pt x="380" y="154"/>
                  </a:lnTo>
                  <a:lnTo>
                    <a:pt x="369" y="164"/>
                  </a:lnTo>
                  <a:lnTo>
                    <a:pt x="357" y="173"/>
                  </a:lnTo>
                  <a:lnTo>
                    <a:pt x="346" y="181"/>
                  </a:lnTo>
                  <a:lnTo>
                    <a:pt x="334" y="189"/>
                  </a:lnTo>
                  <a:lnTo>
                    <a:pt x="325" y="198"/>
                  </a:lnTo>
                  <a:lnTo>
                    <a:pt x="313" y="210"/>
                  </a:lnTo>
                  <a:lnTo>
                    <a:pt x="302" y="219"/>
                  </a:lnTo>
                  <a:lnTo>
                    <a:pt x="293" y="229"/>
                  </a:lnTo>
                  <a:lnTo>
                    <a:pt x="281" y="238"/>
                  </a:lnTo>
                  <a:lnTo>
                    <a:pt x="272" y="251"/>
                  </a:lnTo>
                  <a:lnTo>
                    <a:pt x="260" y="259"/>
                  </a:lnTo>
                  <a:lnTo>
                    <a:pt x="251" y="270"/>
                  </a:lnTo>
                  <a:lnTo>
                    <a:pt x="239" y="282"/>
                  </a:lnTo>
                  <a:lnTo>
                    <a:pt x="230" y="293"/>
                  </a:lnTo>
                  <a:lnTo>
                    <a:pt x="220" y="303"/>
                  </a:lnTo>
                  <a:lnTo>
                    <a:pt x="211" y="314"/>
                  </a:lnTo>
                  <a:lnTo>
                    <a:pt x="201" y="326"/>
                  </a:lnTo>
                  <a:lnTo>
                    <a:pt x="194" y="337"/>
                  </a:lnTo>
                  <a:lnTo>
                    <a:pt x="182" y="347"/>
                  </a:lnTo>
                  <a:lnTo>
                    <a:pt x="175" y="356"/>
                  </a:lnTo>
                  <a:lnTo>
                    <a:pt x="165" y="367"/>
                  </a:lnTo>
                  <a:lnTo>
                    <a:pt x="156" y="379"/>
                  </a:lnTo>
                  <a:lnTo>
                    <a:pt x="148" y="388"/>
                  </a:lnTo>
                  <a:lnTo>
                    <a:pt x="139" y="400"/>
                  </a:lnTo>
                  <a:lnTo>
                    <a:pt x="131" y="409"/>
                  </a:lnTo>
                  <a:lnTo>
                    <a:pt x="125" y="421"/>
                  </a:lnTo>
                  <a:lnTo>
                    <a:pt x="118" y="430"/>
                  </a:lnTo>
                  <a:lnTo>
                    <a:pt x="108" y="440"/>
                  </a:lnTo>
                  <a:lnTo>
                    <a:pt x="101" y="449"/>
                  </a:lnTo>
                  <a:lnTo>
                    <a:pt x="95" y="459"/>
                  </a:lnTo>
                  <a:lnTo>
                    <a:pt x="87" y="466"/>
                  </a:lnTo>
                  <a:lnTo>
                    <a:pt x="82" y="476"/>
                  </a:lnTo>
                  <a:lnTo>
                    <a:pt x="76" y="483"/>
                  </a:lnTo>
                  <a:lnTo>
                    <a:pt x="72" y="493"/>
                  </a:lnTo>
                  <a:lnTo>
                    <a:pt x="64" y="501"/>
                  </a:lnTo>
                  <a:lnTo>
                    <a:pt x="61" y="508"/>
                  </a:lnTo>
                  <a:lnTo>
                    <a:pt x="55" y="514"/>
                  </a:lnTo>
                  <a:lnTo>
                    <a:pt x="51" y="521"/>
                  </a:lnTo>
                  <a:lnTo>
                    <a:pt x="47" y="527"/>
                  </a:lnTo>
                  <a:lnTo>
                    <a:pt x="44" y="533"/>
                  </a:lnTo>
                  <a:lnTo>
                    <a:pt x="40" y="539"/>
                  </a:lnTo>
                  <a:lnTo>
                    <a:pt x="38" y="544"/>
                  </a:lnTo>
                  <a:lnTo>
                    <a:pt x="30" y="550"/>
                  </a:lnTo>
                  <a:lnTo>
                    <a:pt x="28" y="558"/>
                  </a:lnTo>
                  <a:lnTo>
                    <a:pt x="25" y="561"/>
                  </a:lnTo>
                  <a:lnTo>
                    <a:pt x="25" y="563"/>
                  </a:lnTo>
                  <a:lnTo>
                    <a:pt x="0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8a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40440" y="491040"/>
              <a:ext cx="43200" cy="162720"/>
            </a:xfrm>
            <a:custGeom>
              <a:avLst/>
              <a:gdLst/>
              <a:ahLst/>
              <a:rect l="l" t="t" r="r" b="b"/>
              <a:pathLst>
                <a:path w="239" h="905">
                  <a:moveTo>
                    <a:pt x="80" y="0"/>
                  </a:moveTo>
                  <a:lnTo>
                    <a:pt x="80" y="0"/>
                  </a:lnTo>
                  <a:lnTo>
                    <a:pt x="78" y="6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72" y="27"/>
                  </a:lnTo>
                  <a:lnTo>
                    <a:pt x="68" y="40"/>
                  </a:lnTo>
                  <a:lnTo>
                    <a:pt x="66" y="44"/>
                  </a:lnTo>
                  <a:lnTo>
                    <a:pt x="65" y="54"/>
                  </a:lnTo>
                  <a:lnTo>
                    <a:pt x="63" y="61"/>
                  </a:lnTo>
                  <a:lnTo>
                    <a:pt x="63" y="69"/>
                  </a:lnTo>
                  <a:lnTo>
                    <a:pt x="59" y="76"/>
                  </a:lnTo>
                  <a:lnTo>
                    <a:pt x="57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49" y="111"/>
                  </a:lnTo>
                  <a:lnTo>
                    <a:pt x="49" y="122"/>
                  </a:lnTo>
                  <a:lnTo>
                    <a:pt x="45" y="131"/>
                  </a:lnTo>
                  <a:lnTo>
                    <a:pt x="45" y="143"/>
                  </a:lnTo>
                  <a:lnTo>
                    <a:pt x="42" y="154"/>
                  </a:lnTo>
                  <a:lnTo>
                    <a:pt x="42" y="164"/>
                  </a:lnTo>
                  <a:lnTo>
                    <a:pt x="38" y="177"/>
                  </a:lnTo>
                  <a:lnTo>
                    <a:pt x="36" y="189"/>
                  </a:lnTo>
                  <a:lnTo>
                    <a:pt x="34" y="200"/>
                  </a:lnTo>
                  <a:lnTo>
                    <a:pt x="32" y="211"/>
                  </a:lnTo>
                  <a:lnTo>
                    <a:pt x="30" y="225"/>
                  </a:lnTo>
                  <a:lnTo>
                    <a:pt x="28" y="238"/>
                  </a:lnTo>
                  <a:lnTo>
                    <a:pt x="25" y="249"/>
                  </a:lnTo>
                  <a:lnTo>
                    <a:pt x="25" y="261"/>
                  </a:lnTo>
                  <a:lnTo>
                    <a:pt x="21" y="274"/>
                  </a:lnTo>
                  <a:lnTo>
                    <a:pt x="19" y="287"/>
                  </a:lnTo>
                  <a:lnTo>
                    <a:pt x="17" y="299"/>
                  </a:lnTo>
                  <a:lnTo>
                    <a:pt x="15" y="312"/>
                  </a:lnTo>
                  <a:lnTo>
                    <a:pt x="13" y="325"/>
                  </a:lnTo>
                  <a:lnTo>
                    <a:pt x="13" y="341"/>
                  </a:lnTo>
                  <a:lnTo>
                    <a:pt x="9" y="352"/>
                  </a:lnTo>
                  <a:lnTo>
                    <a:pt x="9" y="367"/>
                  </a:lnTo>
                  <a:lnTo>
                    <a:pt x="6" y="381"/>
                  </a:lnTo>
                  <a:lnTo>
                    <a:pt x="6" y="396"/>
                  </a:lnTo>
                  <a:lnTo>
                    <a:pt x="6" y="409"/>
                  </a:lnTo>
                  <a:lnTo>
                    <a:pt x="4" y="422"/>
                  </a:lnTo>
                  <a:lnTo>
                    <a:pt x="2" y="436"/>
                  </a:lnTo>
                  <a:lnTo>
                    <a:pt x="2" y="451"/>
                  </a:lnTo>
                  <a:lnTo>
                    <a:pt x="2" y="464"/>
                  </a:lnTo>
                  <a:lnTo>
                    <a:pt x="0" y="478"/>
                  </a:lnTo>
                  <a:lnTo>
                    <a:pt x="0" y="491"/>
                  </a:lnTo>
                  <a:lnTo>
                    <a:pt x="0" y="506"/>
                  </a:lnTo>
                  <a:lnTo>
                    <a:pt x="0" y="517"/>
                  </a:lnTo>
                  <a:lnTo>
                    <a:pt x="0" y="533"/>
                  </a:lnTo>
                  <a:lnTo>
                    <a:pt x="0" y="544"/>
                  </a:lnTo>
                  <a:lnTo>
                    <a:pt x="2" y="559"/>
                  </a:lnTo>
                  <a:lnTo>
                    <a:pt x="2" y="571"/>
                  </a:lnTo>
                  <a:lnTo>
                    <a:pt x="2" y="584"/>
                  </a:lnTo>
                  <a:lnTo>
                    <a:pt x="2" y="597"/>
                  </a:lnTo>
                  <a:lnTo>
                    <a:pt x="4" y="611"/>
                  </a:lnTo>
                  <a:lnTo>
                    <a:pt x="4" y="622"/>
                  </a:lnTo>
                  <a:lnTo>
                    <a:pt x="6" y="633"/>
                  </a:lnTo>
                  <a:lnTo>
                    <a:pt x="7" y="647"/>
                  </a:lnTo>
                  <a:lnTo>
                    <a:pt x="11" y="658"/>
                  </a:lnTo>
                  <a:lnTo>
                    <a:pt x="13" y="668"/>
                  </a:lnTo>
                  <a:lnTo>
                    <a:pt x="15" y="679"/>
                  </a:lnTo>
                  <a:lnTo>
                    <a:pt x="17" y="690"/>
                  </a:lnTo>
                  <a:lnTo>
                    <a:pt x="19" y="700"/>
                  </a:lnTo>
                  <a:lnTo>
                    <a:pt x="23" y="709"/>
                  </a:lnTo>
                  <a:lnTo>
                    <a:pt x="25" y="719"/>
                  </a:lnTo>
                  <a:lnTo>
                    <a:pt x="28" y="729"/>
                  </a:lnTo>
                  <a:lnTo>
                    <a:pt x="32" y="738"/>
                  </a:lnTo>
                  <a:lnTo>
                    <a:pt x="36" y="746"/>
                  </a:lnTo>
                  <a:lnTo>
                    <a:pt x="40" y="753"/>
                  </a:lnTo>
                  <a:lnTo>
                    <a:pt x="44" y="761"/>
                  </a:lnTo>
                  <a:lnTo>
                    <a:pt x="47" y="770"/>
                  </a:lnTo>
                  <a:lnTo>
                    <a:pt x="51" y="776"/>
                  </a:lnTo>
                  <a:lnTo>
                    <a:pt x="57" y="784"/>
                  </a:lnTo>
                  <a:lnTo>
                    <a:pt x="61" y="791"/>
                  </a:lnTo>
                  <a:lnTo>
                    <a:pt x="66" y="799"/>
                  </a:lnTo>
                  <a:lnTo>
                    <a:pt x="74" y="810"/>
                  </a:lnTo>
                  <a:lnTo>
                    <a:pt x="84" y="824"/>
                  </a:lnTo>
                  <a:lnTo>
                    <a:pt x="93" y="831"/>
                  </a:lnTo>
                  <a:lnTo>
                    <a:pt x="103" y="843"/>
                  </a:lnTo>
                  <a:lnTo>
                    <a:pt x="112" y="850"/>
                  </a:lnTo>
                  <a:lnTo>
                    <a:pt x="123" y="858"/>
                  </a:lnTo>
                  <a:lnTo>
                    <a:pt x="133" y="865"/>
                  </a:lnTo>
                  <a:lnTo>
                    <a:pt x="142" y="873"/>
                  </a:lnTo>
                  <a:lnTo>
                    <a:pt x="150" y="877"/>
                  </a:lnTo>
                  <a:lnTo>
                    <a:pt x="160" y="881"/>
                  </a:lnTo>
                  <a:lnTo>
                    <a:pt x="169" y="884"/>
                  </a:lnTo>
                  <a:lnTo>
                    <a:pt x="179" y="890"/>
                  </a:lnTo>
                  <a:lnTo>
                    <a:pt x="184" y="892"/>
                  </a:lnTo>
                  <a:lnTo>
                    <a:pt x="194" y="894"/>
                  </a:lnTo>
                  <a:lnTo>
                    <a:pt x="201" y="898"/>
                  </a:lnTo>
                  <a:lnTo>
                    <a:pt x="209" y="900"/>
                  </a:lnTo>
                  <a:lnTo>
                    <a:pt x="220" y="902"/>
                  </a:lnTo>
                  <a:lnTo>
                    <a:pt x="230" y="903"/>
                  </a:lnTo>
                  <a:lnTo>
                    <a:pt x="237" y="903"/>
                  </a:lnTo>
                  <a:lnTo>
                    <a:pt x="239" y="905"/>
                  </a:lnTo>
                  <a:lnTo>
                    <a:pt x="236" y="436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97360" y="201960"/>
              <a:ext cx="351720" cy="312120"/>
            </a:xfrm>
            <a:custGeom>
              <a:avLst/>
              <a:gdLst/>
              <a:ahLst/>
              <a:rect l="l" t="t" r="r" b="b"/>
              <a:pathLst>
                <a:path w="1946" h="1732">
                  <a:moveTo>
                    <a:pt x="0" y="278"/>
                  </a:moveTo>
                  <a:lnTo>
                    <a:pt x="2" y="278"/>
                  </a:lnTo>
                  <a:lnTo>
                    <a:pt x="11" y="274"/>
                  </a:lnTo>
                  <a:lnTo>
                    <a:pt x="15" y="272"/>
                  </a:lnTo>
                  <a:lnTo>
                    <a:pt x="23" y="270"/>
                  </a:lnTo>
                  <a:lnTo>
                    <a:pt x="30" y="267"/>
                  </a:lnTo>
                  <a:lnTo>
                    <a:pt x="42" y="265"/>
                  </a:lnTo>
                  <a:lnTo>
                    <a:pt x="51" y="261"/>
                  </a:lnTo>
                  <a:lnTo>
                    <a:pt x="64" y="257"/>
                  </a:lnTo>
                  <a:lnTo>
                    <a:pt x="76" y="251"/>
                  </a:lnTo>
                  <a:lnTo>
                    <a:pt x="91" y="247"/>
                  </a:lnTo>
                  <a:lnTo>
                    <a:pt x="106" y="244"/>
                  </a:lnTo>
                  <a:lnTo>
                    <a:pt x="123" y="238"/>
                  </a:lnTo>
                  <a:lnTo>
                    <a:pt x="140" y="232"/>
                  </a:lnTo>
                  <a:lnTo>
                    <a:pt x="159" y="228"/>
                  </a:lnTo>
                  <a:lnTo>
                    <a:pt x="177" y="221"/>
                  </a:lnTo>
                  <a:lnTo>
                    <a:pt x="197" y="215"/>
                  </a:lnTo>
                  <a:lnTo>
                    <a:pt x="218" y="208"/>
                  </a:lnTo>
                  <a:lnTo>
                    <a:pt x="241" y="204"/>
                  </a:lnTo>
                  <a:lnTo>
                    <a:pt x="262" y="194"/>
                  </a:lnTo>
                  <a:lnTo>
                    <a:pt x="285" y="190"/>
                  </a:lnTo>
                  <a:lnTo>
                    <a:pt x="310" y="181"/>
                  </a:lnTo>
                  <a:lnTo>
                    <a:pt x="334" y="177"/>
                  </a:lnTo>
                  <a:lnTo>
                    <a:pt x="357" y="170"/>
                  </a:lnTo>
                  <a:lnTo>
                    <a:pt x="384" y="162"/>
                  </a:lnTo>
                  <a:lnTo>
                    <a:pt x="410" y="154"/>
                  </a:lnTo>
                  <a:lnTo>
                    <a:pt x="437" y="149"/>
                  </a:lnTo>
                  <a:lnTo>
                    <a:pt x="465" y="143"/>
                  </a:lnTo>
                  <a:lnTo>
                    <a:pt x="494" y="135"/>
                  </a:lnTo>
                  <a:lnTo>
                    <a:pt x="521" y="130"/>
                  </a:lnTo>
                  <a:lnTo>
                    <a:pt x="551" y="122"/>
                  </a:lnTo>
                  <a:lnTo>
                    <a:pt x="580" y="114"/>
                  </a:lnTo>
                  <a:lnTo>
                    <a:pt x="608" y="107"/>
                  </a:lnTo>
                  <a:lnTo>
                    <a:pt x="638" y="101"/>
                  </a:lnTo>
                  <a:lnTo>
                    <a:pt x="669" y="93"/>
                  </a:lnTo>
                  <a:lnTo>
                    <a:pt x="699" y="86"/>
                  </a:lnTo>
                  <a:lnTo>
                    <a:pt x="730" y="80"/>
                  </a:lnTo>
                  <a:lnTo>
                    <a:pt x="760" y="73"/>
                  </a:lnTo>
                  <a:lnTo>
                    <a:pt x="791" y="67"/>
                  </a:lnTo>
                  <a:lnTo>
                    <a:pt x="821" y="61"/>
                  </a:lnTo>
                  <a:lnTo>
                    <a:pt x="853" y="55"/>
                  </a:lnTo>
                  <a:lnTo>
                    <a:pt x="884" y="50"/>
                  </a:lnTo>
                  <a:lnTo>
                    <a:pt x="916" y="46"/>
                  </a:lnTo>
                  <a:lnTo>
                    <a:pt x="946" y="38"/>
                  </a:lnTo>
                  <a:lnTo>
                    <a:pt x="979" y="35"/>
                  </a:lnTo>
                  <a:lnTo>
                    <a:pt x="1009" y="31"/>
                  </a:lnTo>
                  <a:lnTo>
                    <a:pt x="1042" y="27"/>
                  </a:lnTo>
                  <a:lnTo>
                    <a:pt x="1070" y="21"/>
                  </a:lnTo>
                  <a:lnTo>
                    <a:pt x="1102" y="17"/>
                  </a:lnTo>
                  <a:lnTo>
                    <a:pt x="1131" y="14"/>
                  </a:lnTo>
                  <a:lnTo>
                    <a:pt x="1163" y="10"/>
                  </a:lnTo>
                  <a:lnTo>
                    <a:pt x="1194" y="6"/>
                  </a:lnTo>
                  <a:lnTo>
                    <a:pt x="1222" y="6"/>
                  </a:lnTo>
                  <a:lnTo>
                    <a:pt x="1251" y="2"/>
                  </a:lnTo>
                  <a:lnTo>
                    <a:pt x="1281" y="2"/>
                  </a:lnTo>
                  <a:lnTo>
                    <a:pt x="1310" y="0"/>
                  </a:lnTo>
                  <a:lnTo>
                    <a:pt x="1338" y="0"/>
                  </a:lnTo>
                  <a:lnTo>
                    <a:pt x="1367" y="0"/>
                  </a:lnTo>
                  <a:lnTo>
                    <a:pt x="1393" y="0"/>
                  </a:lnTo>
                  <a:lnTo>
                    <a:pt x="1420" y="0"/>
                  </a:lnTo>
                  <a:lnTo>
                    <a:pt x="1446" y="2"/>
                  </a:lnTo>
                  <a:lnTo>
                    <a:pt x="1473" y="4"/>
                  </a:lnTo>
                  <a:lnTo>
                    <a:pt x="1498" y="8"/>
                  </a:lnTo>
                  <a:lnTo>
                    <a:pt x="1521" y="10"/>
                  </a:lnTo>
                  <a:lnTo>
                    <a:pt x="1543" y="14"/>
                  </a:lnTo>
                  <a:lnTo>
                    <a:pt x="1564" y="17"/>
                  </a:lnTo>
                  <a:lnTo>
                    <a:pt x="1587" y="21"/>
                  </a:lnTo>
                  <a:lnTo>
                    <a:pt x="1604" y="25"/>
                  </a:lnTo>
                  <a:lnTo>
                    <a:pt x="1621" y="33"/>
                  </a:lnTo>
                  <a:lnTo>
                    <a:pt x="1638" y="36"/>
                  </a:lnTo>
                  <a:lnTo>
                    <a:pt x="1656" y="46"/>
                  </a:lnTo>
                  <a:lnTo>
                    <a:pt x="1669" y="50"/>
                  </a:lnTo>
                  <a:lnTo>
                    <a:pt x="1682" y="59"/>
                  </a:lnTo>
                  <a:lnTo>
                    <a:pt x="1694" y="67"/>
                  </a:lnTo>
                  <a:lnTo>
                    <a:pt x="1705" y="74"/>
                  </a:lnTo>
                  <a:lnTo>
                    <a:pt x="1714" y="82"/>
                  </a:lnTo>
                  <a:lnTo>
                    <a:pt x="1726" y="90"/>
                  </a:lnTo>
                  <a:lnTo>
                    <a:pt x="1733" y="99"/>
                  </a:lnTo>
                  <a:lnTo>
                    <a:pt x="1741" y="111"/>
                  </a:lnTo>
                  <a:lnTo>
                    <a:pt x="1747" y="118"/>
                  </a:lnTo>
                  <a:lnTo>
                    <a:pt x="1752" y="128"/>
                  </a:lnTo>
                  <a:lnTo>
                    <a:pt x="1756" y="137"/>
                  </a:lnTo>
                  <a:lnTo>
                    <a:pt x="1762" y="149"/>
                  </a:lnTo>
                  <a:lnTo>
                    <a:pt x="1764" y="158"/>
                  </a:lnTo>
                  <a:lnTo>
                    <a:pt x="1766" y="170"/>
                  </a:lnTo>
                  <a:lnTo>
                    <a:pt x="1768" y="179"/>
                  </a:lnTo>
                  <a:lnTo>
                    <a:pt x="1770" y="190"/>
                  </a:lnTo>
                  <a:lnTo>
                    <a:pt x="1770" y="202"/>
                  </a:lnTo>
                  <a:lnTo>
                    <a:pt x="1770" y="213"/>
                  </a:lnTo>
                  <a:lnTo>
                    <a:pt x="1770" y="223"/>
                  </a:lnTo>
                  <a:lnTo>
                    <a:pt x="1770" y="234"/>
                  </a:lnTo>
                  <a:lnTo>
                    <a:pt x="1766" y="246"/>
                  </a:lnTo>
                  <a:lnTo>
                    <a:pt x="1766" y="257"/>
                  </a:lnTo>
                  <a:lnTo>
                    <a:pt x="1762" y="270"/>
                  </a:lnTo>
                  <a:lnTo>
                    <a:pt x="1762" y="282"/>
                  </a:lnTo>
                  <a:lnTo>
                    <a:pt x="1756" y="291"/>
                  </a:lnTo>
                  <a:lnTo>
                    <a:pt x="1752" y="303"/>
                  </a:lnTo>
                  <a:lnTo>
                    <a:pt x="1749" y="314"/>
                  </a:lnTo>
                  <a:lnTo>
                    <a:pt x="1745" y="324"/>
                  </a:lnTo>
                  <a:lnTo>
                    <a:pt x="1739" y="335"/>
                  </a:lnTo>
                  <a:lnTo>
                    <a:pt x="1735" y="344"/>
                  </a:lnTo>
                  <a:lnTo>
                    <a:pt x="1730" y="356"/>
                  </a:lnTo>
                  <a:lnTo>
                    <a:pt x="1726" y="367"/>
                  </a:lnTo>
                  <a:lnTo>
                    <a:pt x="1718" y="377"/>
                  </a:lnTo>
                  <a:lnTo>
                    <a:pt x="1713" y="386"/>
                  </a:lnTo>
                  <a:lnTo>
                    <a:pt x="1709" y="396"/>
                  </a:lnTo>
                  <a:lnTo>
                    <a:pt x="1703" y="405"/>
                  </a:lnTo>
                  <a:lnTo>
                    <a:pt x="1695" y="415"/>
                  </a:lnTo>
                  <a:lnTo>
                    <a:pt x="1692" y="424"/>
                  </a:lnTo>
                  <a:lnTo>
                    <a:pt x="1686" y="432"/>
                  </a:lnTo>
                  <a:lnTo>
                    <a:pt x="1682" y="441"/>
                  </a:lnTo>
                  <a:lnTo>
                    <a:pt x="1675" y="449"/>
                  </a:lnTo>
                  <a:lnTo>
                    <a:pt x="1669" y="457"/>
                  </a:lnTo>
                  <a:lnTo>
                    <a:pt x="1665" y="462"/>
                  </a:lnTo>
                  <a:lnTo>
                    <a:pt x="1661" y="470"/>
                  </a:lnTo>
                  <a:lnTo>
                    <a:pt x="1656" y="476"/>
                  </a:lnTo>
                  <a:lnTo>
                    <a:pt x="1652" y="481"/>
                  </a:lnTo>
                  <a:lnTo>
                    <a:pt x="1648" y="487"/>
                  </a:lnTo>
                  <a:lnTo>
                    <a:pt x="1642" y="495"/>
                  </a:lnTo>
                  <a:lnTo>
                    <a:pt x="1635" y="500"/>
                  </a:lnTo>
                  <a:lnTo>
                    <a:pt x="1631" y="506"/>
                  </a:lnTo>
                  <a:lnTo>
                    <a:pt x="1629" y="512"/>
                  </a:lnTo>
                  <a:lnTo>
                    <a:pt x="1629" y="514"/>
                  </a:lnTo>
                  <a:lnTo>
                    <a:pt x="1627" y="516"/>
                  </a:lnTo>
                  <a:lnTo>
                    <a:pt x="1627" y="529"/>
                  </a:lnTo>
                  <a:lnTo>
                    <a:pt x="1627" y="535"/>
                  </a:lnTo>
                  <a:lnTo>
                    <a:pt x="1627" y="546"/>
                  </a:lnTo>
                  <a:lnTo>
                    <a:pt x="1627" y="556"/>
                  </a:lnTo>
                  <a:lnTo>
                    <a:pt x="1627" y="569"/>
                  </a:lnTo>
                  <a:lnTo>
                    <a:pt x="1625" y="575"/>
                  </a:lnTo>
                  <a:lnTo>
                    <a:pt x="1625" y="582"/>
                  </a:lnTo>
                  <a:lnTo>
                    <a:pt x="1625" y="590"/>
                  </a:lnTo>
                  <a:lnTo>
                    <a:pt x="1625" y="597"/>
                  </a:lnTo>
                  <a:lnTo>
                    <a:pt x="1625" y="605"/>
                  </a:lnTo>
                  <a:lnTo>
                    <a:pt x="1625" y="613"/>
                  </a:lnTo>
                  <a:lnTo>
                    <a:pt x="1625" y="620"/>
                  </a:lnTo>
                  <a:lnTo>
                    <a:pt x="1625" y="630"/>
                  </a:lnTo>
                  <a:lnTo>
                    <a:pt x="1625" y="639"/>
                  </a:lnTo>
                  <a:lnTo>
                    <a:pt x="1625" y="647"/>
                  </a:lnTo>
                  <a:lnTo>
                    <a:pt x="1625" y="656"/>
                  </a:lnTo>
                  <a:lnTo>
                    <a:pt x="1625" y="666"/>
                  </a:lnTo>
                  <a:lnTo>
                    <a:pt x="1625" y="675"/>
                  </a:lnTo>
                  <a:lnTo>
                    <a:pt x="1625" y="687"/>
                  </a:lnTo>
                  <a:lnTo>
                    <a:pt x="1625" y="696"/>
                  </a:lnTo>
                  <a:lnTo>
                    <a:pt x="1625" y="706"/>
                  </a:lnTo>
                  <a:lnTo>
                    <a:pt x="1616" y="713"/>
                  </a:lnTo>
                  <a:lnTo>
                    <a:pt x="1606" y="719"/>
                  </a:lnTo>
                  <a:lnTo>
                    <a:pt x="1595" y="727"/>
                  </a:lnTo>
                  <a:lnTo>
                    <a:pt x="1587" y="734"/>
                  </a:lnTo>
                  <a:lnTo>
                    <a:pt x="1576" y="740"/>
                  </a:lnTo>
                  <a:lnTo>
                    <a:pt x="1566" y="748"/>
                  </a:lnTo>
                  <a:lnTo>
                    <a:pt x="1557" y="755"/>
                  </a:lnTo>
                  <a:lnTo>
                    <a:pt x="1547" y="763"/>
                  </a:lnTo>
                  <a:lnTo>
                    <a:pt x="1536" y="770"/>
                  </a:lnTo>
                  <a:lnTo>
                    <a:pt x="1526" y="776"/>
                  </a:lnTo>
                  <a:lnTo>
                    <a:pt x="1517" y="784"/>
                  </a:lnTo>
                  <a:lnTo>
                    <a:pt x="1507" y="789"/>
                  </a:lnTo>
                  <a:lnTo>
                    <a:pt x="1498" y="797"/>
                  </a:lnTo>
                  <a:lnTo>
                    <a:pt x="1490" y="803"/>
                  </a:lnTo>
                  <a:lnTo>
                    <a:pt x="1481" y="810"/>
                  </a:lnTo>
                  <a:lnTo>
                    <a:pt x="1473" y="818"/>
                  </a:lnTo>
                  <a:lnTo>
                    <a:pt x="1464" y="824"/>
                  </a:lnTo>
                  <a:lnTo>
                    <a:pt x="1456" y="827"/>
                  </a:lnTo>
                  <a:lnTo>
                    <a:pt x="1448" y="833"/>
                  </a:lnTo>
                  <a:lnTo>
                    <a:pt x="1443" y="839"/>
                  </a:lnTo>
                  <a:lnTo>
                    <a:pt x="1433" y="843"/>
                  </a:lnTo>
                  <a:lnTo>
                    <a:pt x="1429" y="848"/>
                  </a:lnTo>
                  <a:lnTo>
                    <a:pt x="1422" y="852"/>
                  </a:lnTo>
                  <a:lnTo>
                    <a:pt x="1418" y="858"/>
                  </a:lnTo>
                  <a:lnTo>
                    <a:pt x="1408" y="864"/>
                  </a:lnTo>
                  <a:lnTo>
                    <a:pt x="1403" y="869"/>
                  </a:lnTo>
                  <a:lnTo>
                    <a:pt x="1397" y="871"/>
                  </a:lnTo>
                  <a:lnTo>
                    <a:pt x="1397" y="875"/>
                  </a:lnTo>
                  <a:lnTo>
                    <a:pt x="1395" y="877"/>
                  </a:lnTo>
                  <a:lnTo>
                    <a:pt x="1393" y="886"/>
                  </a:lnTo>
                  <a:lnTo>
                    <a:pt x="1393" y="892"/>
                  </a:lnTo>
                  <a:lnTo>
                    <a:pt x="1391" y="902"/>
                  </a:lnTo>
                  <a:lnTo>
                    <a:pt x="1389" y="909"/>
                  </a:lnTo>
                  <a:lnTo>
                    <a:pt x="1389" y="921"/>
                  </a:lnTo>
                  <a:lnTo>
                    <a:pt x="1389" y="930"/>
                  </a:lnTo>
                  <a:lnTo>
                    <a:pt x="1387" y="941"/>
                  </a:lnTo>
                  <a:lnTo>
                    <a:pt x="1387" y="955"/>
                  </a:lnTo>
                  <a:lnTo>
                    <a:pt x="1387" y="968"/>
                  </a:lnTo>
                  <a:lnTo>
                    <a:pt x="1386" y="981"/>
                  </a:lnTo>
                  <a:lnTo>
                    <a:pt x="1386" y="997"/>
                  </a:lnTo>
                  <a:lnTo>
                    <a:pt x="1386" y="1004"/>
                  </a:lnTo>
                  <a:lnTo>
                    <a:pt x="1387" y="1012"/>
                  </a:lnTo>
                  <a:lnTo>
                    <a:pt x="1387" y="1021"/>
                  </a:lnTo>
                  <a:lnTo>
                    <a:pt x="1389" y="1029"/>
                  </a:lnTo>
                  <a:lnTo>
                    <a:pt x="1389" y="1035"/>
                  </a:lnTo>
                  <a:lnTo>
                    <a:pt x="1389" y="1044"/>
                  </a:lnTo>
                  <a:lnTo>
                    <a:pt x="1389" y="1052"/>
                  </a:lnTo>
                  <a:lnTo>
                    <a:pt x="1391" y="1059"/>
                  </a:lnTo>
                  <a:lnTo>
                    <a:pt x="1391" y="1065"/>
                  </a:lnTo>
                  <a:lnTo>
                    <a:pt x="1393" y="1075"/>
                  </a:lnTo>
                  <a:lnTo>
                    <a:pt x="1393" y="1082"/>
                  </a:lnTo>
                  <a:lnTo>
                    <a:pt x="1397" y="1090"/>
                  </a:lnTo>
                  <a:lnTo>
                    <a:pt x="1397" y="1096"/>
                  </a:lnTo>
                  <a:lnTo>
                    <a:pt x="1399" y="1105"/>
                  </a:lnTo>
                  <a:lnTo>
                    <a:pt x="1401" y="1111"/>
                  </a:lnTo>
                  <a:lnTo>
                    <a:pt x="1403" y="1118"/>
                  </a:lnTo>
                  <a:lnTo>
                    <a:pt x="1407" y="1126"/>
                  </a:lnTo>
                  <a:lnTo>
                    <a:pt x="1408" y="1134"/>
                  </a:lnTo>
                  <a:lnTo>
                    <a:pt x="1412" y="1141"/>
                  </a:lnTo>
                  <a:lnTo>
                    <a:pt x="1416" y="1149"/>
                  </a:lnTo>
                  <a:lnTo>
                    <a:pt x="1420" y="1160"/>
                  </a:lnTo>
                  <a:lnTo>
                    <a:pt x="1429" y="1173"/>
                  </a:lnTo>
                  <a:lnTo>
                    <a:pt x="1435" y="1185"/>
                  </a:lnTo>
                  <a:lnTo>
                    <a:pt x="1446" y="1196"/>
                  </a:lnTo>
                  <a:lnTo>
                    <a:pt x="1456" y="1206"/>
                  </a:lnTo>
                  <a:lnTo>
                    <a:pt x="1467" y="1215"/>
                  </a:lnTo>
                  <a:lnTo>
                    <a:pt x="1473" y="1219"/>
                  </a:lnTo>
                  <a:lnTo>
                    <a:pt x="1479" y="1223"/>
                  </a:lnTo>
                  <a:lnTo>
                    <a:pt x="1486" y="1227"/>
                  </a:lnTo>
                  <a:lnTo>
                    <a:pt x="1494" y="1231"/>
                  </a:lnTo>
                  <a:lnTo>
                    <a:pt x="1500" y="1232"/>
                  </a:lnTo>
                  <a:lnTo>
                    <a:pt x="1507" y="1234"/>
                  </a:lnTo>
                  <a:lnTo>
                    <a:pt x="1517" y="1236"/>
                  </a:lnTo>
                  <a:lnTo>
                    <a:pt x="1524" y="1236"/>
                  </a:lnTo>
                  <a:lnTo>
                    <a:pt x="1530" y="1236"/>
                  </a:lnTo>
                  <a:lnTo>
                    <a:pt x="1538" y="1234"/>
                  </a:lnTo>
                  <a:lnTo>
                    <a:pt x="1545" y="1232"/>
                  </a:lnTo>
                  <a:lnTo>
                    <a:pt x="1551" y="1232"/>
                  </a:lnTo>
                  <a:lnTo>
                    <a:pt x="1562" y="1223"/>
                  </a:lnTo>
                  <a:lnTo>
                    <a:pt x="1574" y="1215"/>
                  </a:lnTo>
                  <a:lnTo>
                    <a:pt x="1583" y="1204"/>
                  </a:lnTo>
                  <a:lnTo>
                    <a:pt x="1595" y="1192"/>
                  </a:lnTo>
                  <a:lnTo>
                    <a:pt x="1597" y="1185"/>
                  </a:lnTo>
                  <a:lnTo>
                    <a:pt x="1600" y="1177"/>
                  </a:lnTo>
                  <a:lnTo>
                    <a:pt x="1604" y="1170"/>
                  </a:lnTo>
                  <a:lnTo>
                    <a:pt x="1608" y="1162"/>
                  </a:lnTo>
                  <a:lnTo>
                    <a:pt x="1612" y="1153"/>
                  </a:lnTo>
                  <a:lnTo>
                    <a:pt x="1614" y="1145"/>
                  </a:lnTo>
                  <a:lnTo>
                    <a:pt x="1618" y="1137"/>
                  </a:lnTo>
                  <a:lnTo>
                    <a:pt x="1621" y="1130"/>
                  </a:lnTo>
                  <a:lnTo>
                    <a:pt x="1621" y="1120"/>
                  </a:lnTo>
                  <a:lnTo>
                    <a:pt x="1625" y="1111"/>
                  </a:lnTo>
                  <a:lnTo>
                    <a:pt x="1625" y="1101"/>
                  </a:lnTo>
                  <a:lnTo>
                    <a:pt x="1629" y="1094"/>
                  </a:lnTo>
                  <a:lnTo>
                    <a:pt x="1629" y="1084"/>
                  </a:lnTo>
                  <a:lnTo>
                    <a:pt x="1633" y="1075"/>
                  </a:lnTo>
                  <a:lnTo>
                    <a:pt x="1635" y="1067"/>
                  </a:lnTo>
                  <a:lnTo>
                    <a:pt x="1637" y="1059"/>
                  </a:lnTo>
                  <a:lnTo>
                    <a:pt x="1640" y="1067"/>
                  </a:lnTo>
                  <a:lnTo>
                    <a:pt x="1648" y="1078"/>
                  </a:lnTo>
                  <a:lnTo>
                    <a:pt x="1652" y="1082"/>
                  </a:lnTo>
                  <a:lnTo>
                    <a:pt x="1656" y="1088"/>
                  </a:lnTo>
                  <a:lnTo>
                    <a:pt x="1661" y="1096"/>
                  </a:lnTo>
                  <a:lnTo>
                    <a:pt x="1665" y="1103"/>
                  </a:lnTo>
                  <a:lnTo>
                    <a:pt x="1669" y="1109"/>
                  </a:lnTo>
                  <a:lnTo>
                    <a:pt x="1673" y="1116"/>
                  </a:lnTo>
                  <a:lnTo>
                    <a:pt x="1678" y="1124"/>
                  </a:lnTo>
                  <a:lnTo>
                    <a:pt x="1682" y="1132"/>
                  </a:lnTo>
                  <a:lnTo>
                    <a:pt x="1688" y="1141"/>
                  </a:lnTo>
                  <a:lnTo>
                    <a:pt x="1694" y="1149"/>
                  </a:lnTo>
                  <a:lnTo>
                    <a:pt x="1699" y="1158"/>
                  </a:lnTo>
                  <a:lnTo>
                    <a:pt x="1705" y="1166"/>
                  </a:lnTo>
                  <a:lnTo>
                    <a:pt x="1709" y="1175"/>
                  </a:lnTo>
                  <a:lnTo>
                    <a:pt x="1716" y="1185"/>
                  </a:lnTo>
                  <a:lnTo>
                    <a:pt x="1722" y="1192"/>
                  </a:lnTo>
                  <a:lnTo>
                    <a:pt x="1728" y="1204"/>
                  </a:lnTo>
                  <a:lnTo>
                    <a:pt x="1733" y="1213"/>
                  </a:lnTo>
                  <a:lnTo>
                    <a:pt x="1739" y="1223"/>
                  </a:lnTo>
                  <a:lnTo>
                    <a:pt x="1745" y="1232"/>
                  </a:lnTo>
                  <a:lnTo>
                    <a:pt x="1752" y="1246"/>
                  </a:lnTo>
                  <a:lnTo>
                    <a:pt x="1756" y="1255"/>
                  </a:lnTo>
                  <a:lnTo>
                    <a:pt x="1764" y="1265"/>
                  </a:lnTo>
                  <a:lnTo>
                    <a:pt x="1770" y="1276"/>
                  </a:lnTo>
                  <a:lnTo>
                    <a:pt x="1775" y="1288"/>
                  </a:lnTo>
                  <a:lnTo>
                    <a:pt x="1781" y="1299"/>
                  </a:lnTo>
                  <a:lnTo>
                    <a:pt x="1789" y="1312"/>
                  </a:lnTo>
                  <a:lnTo>
                    <a:pt x="1794" y="1324"/>
                  </a:lnTo>
                  <a:lnTo>
                    <a:pt x="1802" y="1335"/>
                  </a:lnTo>
                  <a:lnTo>
                    <a:pt x="1808" y="1346"/>
                  </a:lnTo>
                  <a:lnTo>
                    <a:pt x="1813" y="1358"/>
                  </a:lnTo>
                  <a:lnTo>
                    <a:pt x="1819" y="1369"/>
                  </a:lnTo>
                  <a:lnTo>
                    <a:pt x="1827" y="1383"/>
                  </a:lnTo>
                  <a:lnTo>
                    <a:pt x="1830" y="1394"/>
                  </a:lnTo>
                  <a:lnTo>
                    <a:pt x="1838" y="1405"/>
                  </a:lnTo>
                  <a:lnTo>
                    <a:pt x="1844" y="1417"/>
                  </a:lnTo>
                  <a:lnTo>
                    <a:pt x="1849" y="1430"/>
                  </a:lnTo>
                  <a:lnTo>
                    <a:pt x="1853" y="1443"/>
                  </a:lnTo>
                  <a:lnTo>
                    <a:pt x="1861" y="1455"/>
                  </a:lnTo>
                  <a:lnTo>
                    <a:pt x="1865" y="1466"/>
                  </a:lnTo>
                  <a:lnTo>
                    <a:pt x="1870" y="1480"/>
                  </a:lnTo>
                  <a:lnTo>
                    <a:pt x="1874" y="1491"/>
                  </a:lnTo>
                  <a:lnTo>
                    <a:pt x="1882" y="1504"/>
                  </a:lnTo>
                  <a:lnTo>
                    <a:pt x="1886" y="1518"/>
                  </a:lnTo>
                  <a:lnTo>
                    <a:pt x="1893" y="1531"/>
                  </a:lnTo>
                  <a:lnTo>
                    <a:pt x="1897" y="1544"/>
                  </a:lnTo>
                  <a:lnTo>
                    <a:pt x="1901" y="1556"/>
                  </a:lnTo>
                  <a:lnTo>
                    <a:pt x="1905" y="1567"/>
                  </a:lnTo>
                  <a:lnTo>
                    <a:pt x="1908" y="1580"/>
                  </a:lnTo>
                  <a:lnTo>
                    <a:pt x="1914" y="1592"/>
                  </a:lnTo>
                  <a:lnTo>
                    <a:pt x="1918" y="1607"/>
                  </a:lnTo>
                  <a:lnTo>
                    <a:pt x="1922" y="1618"/>
                  </a:lnTo>
                  <a:lnTo>
                    <a:pt x="1925" y="1632"/>
                  </a:lnTo>
                  <a:lnTo>
                    <a:pt x="1927" y="1643"/>
                  </a:lnTo>
                  <a:lnTo>
                    <a:pt x="1931" y="1655"/>
                  </a:lnTo>
                  <a:lnTo>
                    <a:pt x="1933" y="1668"/>
                  </a:lnTo>
                  <a:lnTo>
                    <a:pt x="1937" y="1679"/>
                  </a:lnTo>
                  <a:lnTo>
                    <a:pt x="1939" y="1691"/>
                  </a:lnTo>
                  <a:lnTo>
                    <a:pt x="1941" y="1702"/>
                  </a:lnTo>
                  <a:lnTo>
                    <a:pt x="1944" y="1715"/>
                  </a:lnTo>
                  <a:lnTo>
                    <a:pt x="1946" y="1727"/>
                  </a:lnTo>
                  <a:lnTo>
                    <a:pt x="1944" y="1732"/>
                  </a:lnTo>
                  <a:lnTo>
                    <a:pt x="1939" y="1729"/>
                  </a:lnTo>
                  <a:lnTo>
                    <a:pt x="1933" y="1721"/>
                  </a:lnTo>
                  <a:lnTo>
                    <a:pt x="1927" y="1712"/>
                  </a:lnTo>
                  <a:lnTo>
                    <a:pt x="1922" y="1704"/>
                  </a:lnTo>
                  <a:lnTo>
                    <a:pt x="1918" y="1698"/>
                  </a:lnTo>
                  <a:lnTo>
                    <a:pt x="1912" y="1693"/>
                  </a:lnTo>
                  <a:lnTo>
                    <a:pt x="1908" y="1685"/>
                  </a:lnTo>
                  <a:lnTo>
                    <a:pt x="1901" y="1677"/>
                  </a:lnTo>
                  <a:lnTo>
                    <a:pt x="1895" y="1668"/>
                  </a:lnTo>
                  <a:lnTo>
                    <a:pt x="1887" y="1658"/>
                  </a:lnTo>
                  <a:lnTo>
                    <a:pt x="1882" y="1651"/>
                  </a:lnTo>
                  <a:lnTo>
                    <a:pt x="1874" y="1641"/>
                  </a:lnTo>
                  <a:lnTo>
                    <a:pt x="1867" y="1632"/>
                  </a:lnTo>
                  <a:lnTo>
                    <a:pt x="1857" y="1620"/>
                  </a:lnTo>
                  <a:lnTo>
                    <a:pt x="1848" y="1611"/>
                  </a:lnTo>
                  <a:lnTo>
                    <a:pt x="1838" y="1599"/>
                  </a:lnTo>
                  <a:lnTo>
                    <a:pt x="1827" y="1588"/>
                  </a:lnTo>
                  <a:lnTo>
                    <a:pt x="1817" y="1575"/>
                  </a:lnTo>
                  <a:lnTo>
                    <a:pt x="1806" y="1565"/>
                  </a:lnTo>
                  <a:lnTo>
                    <a:pt x="1792" y="1554"/>
                  </a:lnTo>
                  <a:lnTo>
                    <a:pt x="1781" y="1540"/>
                  </a:lnTo>
                  <a:lnTo>
                    <a:pt x="1768" y="1529"/>
                  </a:lnTo>
                  <a:lnTo>
                    <a:pt x="1756" y="1518"/>
                  </a:lnTo>
                  <a:lnTo>
                    <a:pt x="1739" y="1504"/>
                  </a:lnTo>
                  <a:lnTo>
                    <a:pt x="1726" y="1493"/>
                  </a:lnTo>
                  <a:lnTo>
                    <a:pt x="1709" y="1480"/>
                  </a:lnTo>
                  <a:lnTo>
                    <a:pt x="1694" y="1468"/>
                  </a:lnTo>
                  <a:lnTo>
                    <a:pt x="1675" y="1457"/>
                  </a:lnTo>
                  <a:lnTo>
                    <a:pt x="1657" y="1443"/>
                  </a:lnTo>
                  <a:lnTo>
                    <a:pt x="1638" y="1432"/>
                  </a:lnTo>
                  <a:lnTo>
                    <a:pt x="1621" y="1421"/>
                  </a:lnTo>
                  <a:lnTo>
                    <a:pt x="1600" y="1407"/>
                  </a:lnTo>
                  <a:lnTo>
                    <a:pt x="1581" y="1396"/>
                  </a:lnTo>
                  <a:lnTo>
                    <a:pt x="1560" y="1386"/>
                  </a:lnTo>
                  <a:lnTo>
                    <a:pt x="1538" y="1375"/>
                  </a:lnTo>
                  <a:lnTo>
                    <a:pt x="1517" y="1364"/>
                  </a:lnTo>
                  <a:lnTo>
                    <a:pt x="1494" y="1352"/>
                  </a:lnTo>
                  <a:lnTo>
                    <a:pt x="1469" y="1343"/>
                  </a:lnTo>
                  <a:lnTo>
                    <a:pt x="1446" y="1333"/>
                  </a:lnTo>
                  <a:lnTo>
                    <a:pt x="1420" y="1324"/>
                  </a:lnTo>
                  <a:lnTo>
                    <a:pt x="1393" y="1314"/>
                  </a:lnTo>
                  <a:lnTo>
                    <a:pt x="1365" y="1307"/>
                  </a:lnTo>
                  <a:lnTo>
                    <a:pt x="1338" y="1299"/>
                  </a:lnTo>
                  <a:lnTo>
                    <a:pt x="1310" y="1289"/>
                  </a:lnTo>
                  <a:lnTo>
                    <a:pt x="1281" y="1282"/>
                  </a:lnTo>
                  <a:lnTo>
                    <a:pt x="1251" y="1276"/>
                  </a:lnTo>
                  <a:lnTo>
                    <a:pt x="1220" y="1270"/>
                  </a:lnTo>
                  <a:lnTo>
                    <a:pt x="1186" y="1263"/>
                  </a:lnTo>
                  <a:lnTo>
                    <a:pt x="1154" y="1259"/>
                  </a:lnTo>
                  <a:lnTo>
                    <a:pt x="1119" y="1255"/>
                  </a:lnTo>
                  <a:lnTo>
                    <a:pt x="1087" y="1253"/>
                  </a:lnTo>
                  <a:lnTo>
                    <a:pt x="1051" y="1250"/>
                  </a:lnTo>
                  <a:lnTo>
                    <a:pt x="1017" y="1248"/>
                  </a:lnTo>
                  <a:lnTo>
                    <a:pt x="979" y="1248"/>
                  </a:lnTo>
                  <a:lnTo>
                    <a:pt x="943" y="1248"/>
                  </a:lnTo>
                  <a:lnTo>
                    <a:pt x="939" y="1246"/>
                  </a:lnTo>
                  <a:lnTo>
                    <a:pt x="937" y="1246"/>
                  </a:lnTo>
                  <a:lnTo>
                    <a:pt x="931" y="1246"/>
                  </a:lnTo>
                  <a:lnTo>
                    <a:pt x="924" y="1246"/>
                  </a:lnTo>
                  <a:lnTo>
                    <a:pt x="914" y="1246"/>
                  </a:lnTo>
                  <a:lnTo>
                    <a:pt x="903" y="1246"/>
                  </a:lnTo>
                  <a:lnTo>
                    <a:pt x="895" y="1246"/>
                  </a:lnTo>
                  <a:lnTo>
                    <a:pt x="889" y="1248"/>
                  </a:lnTo>
                  <a:lnTo>
                    <a:pt x="882" y="1248"/>
                  </a:lnTo>
                  <a:lnTo>
                    <a:pt x="874" y="1250"/>
                  </a:lnTo>
                  <a:lnTo>
                    <a:pt x="865" y="1250"/>
                  </a:lnTo>
                  <a:lnTo>
                    <a:pt x="857" y="1250"/>
                  </a:lnTo>
                  <a:lnTo>
                    <a:pt x="848" y="1250"/>
                  </a:lnTo>
                  <a:lnTo>
                    <a:pt x="838" y="1251"/>
                  </a:lnTo>
                  <a:lnTo>
                    <a:pt x="829" y="1251"/>
                  </a:lnTo>
                  <a:lnTo>
                    <a:pt x="819" y="1253"/>
                  </a:lnTo>
                  <a:lnTo>
                    <a:pt x="808" y="1255"/>
                  </a:lnTo>
                  <a:lnTo>
                    <a:pt x="800" y="1255"/>
                  </a:lnTo>
                  <a:lnTo>
                    <a:pt x="787" y="1255"/>
                  </a:lnTo>
                  <a:lnTo>
                    <a:pt x="775" y="1259"/>
                  </a:lnTo>
                  <a:lnTo>
                    <a:pt x="764" y="1259"/>
                  </a:lnTo>
                  <a:lnTo>
                    <a:pt x="753" y="1263"/>
                  </a:lnTo>
                  <a:lnTo>
                    <a:pt x="741" y="1263"/>
                  </a:lnTo>
                  <a:lnTo>
                    <a:pt x="730" y="1267"/>
                  </a:lnTo>
                  <a:lnTo>
                    <a:pt x="716" y="1267"/>
                  </a:lnTo>
                  <a:lnTo>
                    <a:pt x="705" y="1272"/>
                  </a:lnTo>
                  <a:lnTo>
                    <a:pt x="690" y="1272"/>
                  </a:lnTo>
                  <a:lnTo>
                    <a:pt x="678" y="1276"/>
                  </a:lnTo>
                  <a:lnTo>
                    <a:pt x="663" y="1278"/>
                  </a:lnTo>
                  <a:lnTo>
                    <a:pt x="652" y="1282"/>
                  </a:lnTo>
                  <a:lnTo>
                    <a:pt x="638" y="1286"/>
                  </a:lnTo>
                  <a:lnTo>
                    <a:pt x="625" y="1289"/>
                  </a:lnTo>
                  <a:lnTo>
                    <a:pt x="612" y="1293"/>
                  </a:lnTo>
                  <a:lnTo>
                    <a:pt x="599" y="1297"/>
                  </a:lnTo>
                  <a:lnTo>
                    <a:pt x="581" y="1301"/>
                  </a:lnTo>
                  <a:lnTo>
                    <a:pt x="568" y="1305"/>
                  </a:lnTo>
                  <a:lnTo>
                    <a:pt x="553" y="1308"/>
                  </a:lnTo>
                  <a:lnTo>
                    <a:pt x="540" y="1314"/>
                  </a:lnTo>
                  <a:lnTo>
                    <a:pt x="524" y="1318"/>
                  </a:lnTo>
                  <a:lnTo>
                    <a:pt x="511" y="1324"/>
                  </a:lnTo>
                  <a:lnTo>
                    <a:pt x="496" y="1329"/>
                  </a:lnTo>
                  <a:lnTo>
                    <a:pt x="483" y="1335"/>
                  </a:lnTo>
                  <a:lnTo>
                    <a:pt x="467" y="1339"/>
                  </a:lnTo>
                  <a:lnTo>
                    <a:pt x="452" y="1346"/>
                  </a:lnTo>
                  <a:lnTo>
                    <a:pt x="437" y="1352"/>
                  </a:lnTo>
                  <a:lnTo>
                    <a:pt x="424" y="1360"/>
                  </a:lnTo>
                  <a:lnTo>
                    <a:pt x="407" y="1366"/>
                  </a:lnTo>
                  <a:lnTo>
                    <a:pt x="393" y="1373"/>
                  </a:lnTo>
                  <a:lnTo>
                    <a:pt x="378" y="1383"/>
                  </a:lnTo>
                  <a:lnTo>
                    <a:pt x="365" y="1390"/>
                  </a:lnTo>
                  <a:lnTo>
                    <a:pt x="350" y="1398"/>
                  </a:lnTo>
                  <a:lnTo>
                    <a:pt x="336" y="1405"/>
                  </a:lnTo>
                  <a:lnTo>
                    <a:pt x="321" y="1413"/>
                  </a:lnTo>
                  <a:lnTo>
                    <a:pt x="308" y="1424"/>
                  </a:lnTo>
                  <a:lnTo>
                    <a:pt x="292" y="1432"/>
                  </a:lnTo>
                  <a:lnTo>
                    <a:pt x="279" y="1443"/>
                  </a:lnTo>
                  <a:lnTo>
                    <a:pt x="266" y="1453"/>
                  </a:lnTo>
                  <a:lnTo>
                    <a:pt x="253" y="1464"/>
                  </a:lnTo>
                  <a:lnTo>
                    <a:pt x="253" y="1459"/>
                  </a:lnTo>
                  <a:lnTo>
                    <a:pt x="258" y="1447"/>
                  </a:lnTo>
                  <a:lnTo>
                    <a:pt x="258" y="1440"/>
                  </a:lnTo>
                  <a:lnTo>
                    <a:pt x="262" y="1428"/>
                  </a:lnTo>
                  <a:lnTo>
                    <a:pt x="266" y="1417"/>
                  </a:lnTo>
                  <a:lnTo>
                    <a:pt x="272" y="1405"/>
                  </a:lnTo>
                  <a:lnTo>
                    <a:pt x="272" y="1398"/>
                  </a:lnTo>
                  <a:lnTo>
                    <a:pt x="273" y="1390"/>
                  </a:lnTo>
                  <a:lnTo>
                    <a:pt x="275" y="1383"/>
                  </a:lnTo>
                  <a:lnTo>
                    <a:pt x="277" y="1375"/>
                  </a:lnTo>
                  <a:lnTo>
                    <a:pt x="279" y="1366"/>
                  </a:lnTo>
                  <a:lnTo>
                    <a:pt x="281" y="1358"/>
                  </a:lnTo>
                  <a:lnTo>
                    <a:pt x="283" y="1348"/>
                  </a:lnTo>
                  <a:lnTo>
                    <a:pt x="287" y="1341"/>
                  </a:lnTo>
                  <a:lnTo>
                    <a:pt x="289" y="1329"/>
                  </a:lnTo>
                  <a:lnTo>
                    <a:pt x="291" y="1322"/>
                  </a:lnTo>
                  <a:lnTo>
                    <a:pt x="292" y="1312"/>
                  </a:lnTo>
                  <a:lnTo>
                    <a:pt x="296" y="1303"/>
                  </a:lnTo>
                  <a:lnTo>
                    <a:pt x="298" y="1293"/>
                  </a:lnTo>
                  <a:lnTo>
                    <a:pt x="302" y="1284"/>
                  </a:lnTo>
                  <a:lnTo>
                    <a:pt x="304" y="1272"/>
                  </a:lnTo>
                  <a:lnTo>
                    <a:pt x="308" y="1263"/>
                  </a:lnTo>
                  <a:lnTo>
                    <a:pt x="310" y="1251"/>
                  </a:lnTo>
                  <a:lnTo>
                    <a:pt x="312" y="1242"/>
                  </a:lnTo>
                  <a:lnTo>
                    <a:pt x="313" y="1229"/>
                  </a:lnTo>
                  <a:lnTo>
                    <a:pt x="317" y="1219"/>
                  </a:lnTo>
                  <a:lnTo>
                    <a:pt x="319" y="1206"/>
                  </a:lnTo>
                  <a:lnTo>
                    <a:pt x="321" y="1196"/>
                  </a:lnTo>
                  <a:lnTo>
                    <a:pt x="323" y="1185"/>
                  </a:lnTo>
                  <a:lnTo>
                    <a:pt x="327" y="1175"/>
                  </a:lnTo>
                  <a:lnTo>
                    <a:pt x="327" y="1162"/>
                  </a:lnTo>
                  <a:lnTo>
                    <a:pt x="329" y="1151"/>
                  </a:lnTo>
                  <a:lnTo>
                    <a:pt x="331" y="1139"/>
                  </a:lnTo>
                  <a:lnTo>
                    <a:pt x="332" y="1128"/>
                  </a:lnTo>
                  <a:lnTo>
                    <a:pt x="334" y="1116"/>
                  </a:lnTo>
                  <a:lnTo>
                    <a:pt x="336" y="1105"/>
                  </a:lnTo>
                  <a:lnTo>
                    <a:pt x="338" y="1096"/>
                  </a:lnTo>
                  <a:lnTo>
                    <a:pt x="340" y="1084"/>
                  </a:lnTo>
                  <a:lnTo>
                    <a:pt x="340" y="1073"/>
                  </a:lnTo>
                  <a:lnTo>
                    <a:pt x="342" y="1061"/>
                  </a:lnTo>
                  <a:lnTo>
                    <a:pt x="344" y="1050"/>
                  </a:lnTo>
                  <a:lnTo>
                    <a:pt x="346" y="1038"/>
                  </a:lnTo>
                  <a:lnTo>
                    <a:pt x="346" y="1027"/>
                  </a:lnTo>
                  <a:lnTo>
                    <a:pt x="346" y="1018"/>
                  </a:lnTo>
                  <a:lnTo>
                    <a:pt x="348" y="1006"/>
                  </a:lnTo>
                  <a:lnTo>
                    <a:pt x="350" y="997"/>
                  </a:lnTo>
                  <a:lnTo>
                    <a:pt x="350" y="985"/>
                  </a:lnTo>
                  <a:lnTo>
                    <a:pt x="350" y="978"/>
                  </a:lnTo>
                  <a:lnTo>
                    <a:pt x="350" y="966"/>
                  </a:lnTo>
                  <a:lnTo>
                    <a:pt x="350" y="957"/>
                  </a:lnTo>
                  <a:lnTo>
                    <a:pt x="348" y="947"/>
                  </a:lnTo>
                  <a:lnTo>
                    <a:pt x="348" y="938"/>
                  </a:lnTo>
                  <a:lnTo>
                    <a:pt x="348" y="930"/>
                  </a:lnTo>
                  <a:lnTo>
                    <a:pt x="348" y="921"/>
                  </a:lnTo>
                  <a:lnTo>
                    <a:pt x="346" y="911"/>
                  </a:lnTo>
                  <a:lnTo>
                    <a:pt x="344" y="902"/>
                  </a:lnTo>
                  <a:lnTo>
                    <a:pt x="340" y="890"/>
                  </a:lnTo>
                  <a:lnTo>
                    <a:pt x="340" y="881"/>
                  </a:lnTo>
                  <a:lnTo>
                    <a:pt x="336" y="869"/>
                  </a:lnTo>
                  <a:lnTo>
                    <a:pt x="332" y="860"/>
                  </a:lnTo>
                  <a:lnTo>
                    <a:pt x="327" y="848"/>
                  </a:lnTo>
                  <a:lnTo>
                    <a:pt x="325" y="837"/>
                  </a:lnTo>
                  <a:lnTo>
                    <a:pt x="319" y="826"/>
                  </a:lnTo>
                  <a:lnTo>
                    <a:pt x="315" y="814"/>
                  </a:lnTo>
                  <a:lnTo>
                    <a:pt x="310" y="801"/>
                  </a:lnTo>
                  <a:lnTo>
                    <a:pt x="306" y="789"/>
                  </a:lnTo>
                  <a:lnTo>
                    <a:pt x="300" y="776"/>
                  </a:lnTo>
                  <a:lnTo>
                    <a:pt x="294" y="765"/>
                  </a:lnTo>
                  <a:lnTo>
                    <a:pt x="289" y="751"/>
                  </a:lnTo>
                  <a:lnTo>
                    <a:pt x="283" y="740"/>
                  </a:lnTo>
                  <a:lnTo>
                    <a:pt x="275" y="725"/>
                  </a:lnTo>
                  <a:lnTo>
                    <a:pt x="270" y="713"/>
                  </a:lnTo>
                  <a:lnTo>
                    <a:pt x="262" y="698"/>
                  </a:lnTo>
                  <a:lnTo>
                    <a:pt x="256" y="687"/>
                  </a:lnTo>
                  <a:lnTo>
                    <a:pt x="249" y="671"/>
                  </a:lnTo>
                  <a:lnTo>
                    <a:pt x="241" y="660"/>
                  </a:lnTo>
                  <a:lnTo>
                    <a:pt x="234" y="645"/>
                  </a:lnTo>
                  <a:lnTo>
                    <a:pt x="228" y="633"/>
                  </a:lnTo>
                  <a:lnTo>
                    <a:pt x="218" y="618"/>
                  </a:lnTo>
                  <a:lnTo>
                    <a:pt x="211" y="605"/>
                  </a:lnTo>
                  <a:lnTo>
                    <a:pt x="203" y="592"/>
                  </a:lnTo>
                  <a:lnTo>
                    <a:pt x="197" y="578"/>
                  </a:lnTo>
                  <a:lnTo>
                    <a:pt x="188" y="565"/>
                  </a:lnTo>
                  <a:lnTo>
                    <a:pt x="180" y="552"/>
                  </a:lnTo>
                  <a:lnTo>
                    <a:pt x="173" y="540"/>
                  </a:lnTo>
                  <a:lnTo>
                    <a:pt x="167" y="529"/>
                  </a:lnTo>
                  <a:lnTo>
                    <a:pt x="158" y="516"/>
                  </a:lnTo>
                  <a:lnTo>
                    <a:pt x="150" y="502"/>
                  </a:lnTo>
                  <a:lnTo>
                    <a:pt x="142" y="489"/>
                  </a:lnTo>
                  <a:lnTo>
                    <a:pt x="135" y="476"/>
                  </a:lnTo>
                  <a:lnTo>
                    <a:pt x="127" y="464"/>
                  </a:lnTo>
                  <a:lnTo>
                    <a:pt x="118" y="453"/>
                  </a:lnTo>
                  <a:lnTo>
                    <a:pt x="110" y="441"/>
                  </a:lnTo>
                  <a:lnTo>
                    <a:pt x="104" y="430"/>
                  </a:lnTo>
                  <a:lnTo>
                    <a:pt x="97" y="419"/>
                  </a:lnTo>
                  <a:lnTo>
                    <a:pt x="87" y="407"/>
                  </a:lnTo>
                  <a:lnTo>
                    <a:pt x="81" y="398"/>
                  </a:lnTo>
                  <a:lnTo>
                    <a:pt x="74" y="388"/>
                  </a:lnTo>
                  <a:lnTo>
                    <a:pt x="66" y="377"/>
                  </a:lnTo>
                  <a:lnTo>
                    <a:pt x="61" y="367"/>
                  </a:lnTo>
                  <a:lnTo>
                    <a:pt x="55" y="360"/>
                  </a:lnTo>
                  <a:lnTo>
                    <a:pt x="51" y="352"/>
                  </a:lnTo>
                  <a:lnTo>
                    <a:pt x="43" y="343"/>
                  </a:lnTo>
                  <a:lnTo>
                    <a:pt x="40" y="335"/>
                  </a:lnTo>
                  <a:lnTo>
                    <a:pt x="34" y="327"/>
                  </a:lnTo>
                  <a:lnTo>
                    <a:pt x="30" y="320"/>
                  </a:lnTo>
                  <a:lnTo>
                    <a:pt x="21" y="308"/>
                  </a:lnTo>
                  <a:lnTo>
                    <a:pt x="13" y="297"/>
                  </a:lnTo>
                  <a:lnTo>
                    <a:pt x="7" y="287"/>
                  </a:lnTo>
                  <a:lnTo>
                    <a:pt x="4" y="284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c7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20560" y="423360"/>
              <a:ext cx="114840" cy="346680"/>
            </a:xfrm>
            <a:custGeom>
              <a:avLst/>
              <a:gdLst/>
              <a:ahLst/>
              <a:rect l="l" t="t" r="r" b="b"/>
              <a:pathLst>
                <a:path w="635" h="1926">
                  <a:moveTo>
                    <a:pt x="177" y="34"/>
                  </a:moveTo>
                  <a:lnTo>
                    <a:pt x="181" y="38"/>
                  </a:lnTo>
                  <a:lnTo>
                    <a:pt x="189" y="43"/>
                  </a:lnTo>
                  <a:lnTo>
                    <a:pt x="198" y="53"/>
                  </a:lnTo>
                  <a:lnTo>
                    <a:pt x="202" y="57"/>
                  </a:lnTo>
                  <a:lnTo>
                    <a:pt x="208" y="62"/>
                  </a:lnTo>
                  <a:lnTo>
                    <a:pt x="213" y="68"/>
                  </a:lnTo>
                  <a:lnTo>
                    <a:pt x="221" y="76"/>
                  </a:lnTo>
                  <a:lnTo>
                    <a:pt x="229" y="83"/>
                  </a:lnTo>
                  <a:lnTo>
                    <a:pt x="236" y="91"/>
                  </a:lnTo>
                  <a:lnTo>
                    <a:pt x="244" y="98"/>
                  </a:lnTo>
                  <a:lnTo>
                    <a:pt x="253" y="108"/>
                  </a:lnTo>
                  <a:lnTo>
                    <a:pt x="261" y="117"/>
                  </a:lnTo>
                  <a:lnTo>
                    <a:pt x="268" y="127"/>
                  </a:lnTo>
                  <a:lnTo>
                    <a:pt x="278" y="138"/>
                  </a:lnTo>
                  <a:lnTo>
                    <a:pt x="289" y="150"/>
                  </a:lnTo>
                  <a:lnTo>
                    <a:pt x="297" y="161"/>
                  </a:lnTo>
                  <a:lnTo>
                    <a:pt x="306" y="175"/>
                  </a:lnTo>
                  <a:lnTo>
                    <a:pt x="316" y="186"/>
                  </a:lnTo>
                  <a:lnTo>
                    <a:pt x="329" y="201"/>
                  </a:lnTo>
                  <a:lnTo>
                    <a:pt x="339" y="213"/>
                  </a:lnTo>
                  <a:lnTo>
                    <a:pt x="350" y="228"/>
                  </a:lnTo>
                  <a:lnTo>
                    <a:pt x="360" y="241"/>
                  </a:lnTo>
                  <a:lnTo>
                    <a:pt x="373" y="258"/>
                  </a:lnTo>
                  <a:lnTo>
                    <a:pt x="383" y="273"/>
                  </a:lnTo>
                  <a:lnTo>
                    <a:pt x="394" y="289"/>
                  </a:lnTo>
                  <a:lnTo>
                    <a:pt x="405" y="306"/>
                  </a:lnTo>
                  <a:lnTo>
                    <a:pt x="417" y="325"/>
                  </a:lnTo>
                  <a:lnTo>
                    <a:pt x="428" y="340"/>
                  </a:lnTo>
                  <a:lnTo>
                    <a:pt x="438" y="359"/>
                  </a:lnTo>
                  <a:lnTo>
                    <a:pt x="449" y="376"/>
                  </a:lnTo>
                  <a:lnTo>
                    <a:pt x="460" y="395"/>
                  </a:lnTo>
                  <a:lnTo>
                    <a:pt x="470" y="414"/>
                  </a:lnTo>
                  <a:lnTo>
                    <a:pt x="481" y="433"/>
                  </a:lnTo>
                  <a:lnTo>
                    <a:pt x="491" y="454"/>
                  </a:lnTo>
                  <a:lnTo>
                    <a:pt x="504" y="475"/>
                  </a:lnTo>
                  <a:lnTo>
                    <a:pt x="514" y="496"/>
                  </a:lnTo>
                  <a:lnTo>
                    <a:pt x="521" y="517"/>
                  </a:lnTo>
                  <a:lnTo>
                    <a:pt x="531" y="538"/>
                  </a:lnTo>
                  <a:lnTo>
                    <a:pt x="542" y="561"/>
                  </a:lnTo>
                  <a:lnTo>
                    <a:pt x="550" y="581"/>
                  </a:lnTo>
                  <a:lnTo>
                    <a:pt x="559" y="606"/>
                  </a:lnTo>
                  <a:lnTo>
                    <a:pt x="567" y="629"/>
                  </a:lnTo>
                  <a:lnTo>
                    <a:pt x="576" y="654"/>
                  </a:lnTo>
                  <a:lnTo>
                    <a:pt x="582" y="677"/>
                  </a:lnTo>
                  <a:lnTo>
                    <a:pt x="590" y="699"/>
                  </a:lnTo>
                  <a:lnTo>
                    <a:pt x="595" y="724"/>
                  </a:lnTo>
                  <a:lnTo>
                    <a:pt x="603" y="751"/>
                  </a:lnTo>
                  <a:lnTo>
                    <a:pt x="609" y="773"/>
                  </a:lnTo>
                  <a:lnTo>
                    <a:pt x="613" y="800"/>
                  </a:lnTo>
                  <a:lnTo>
                    <a:pt x="618" y="825"/>
                  </a:lnTo>
                  <a:lnTo>
                    <a:pt x="624" y="853"/>
                  </a:lnTo>
                  <a:lnTo>
                    <a:pt x="626" y="878"/>
                  </a:lnTo>
                  <a:lnTo>
                    <a:pt x="630" y="905"/>
                  </a:lnTo>
                  <a:lnTo>
                    <a:pt x="632" y="933"/>
                  </a:lnTo>
                  <a:lnTo>
                    <a:pt x="635" y="962"/>
                  </a:lnTo>
                  <a:lnTo>
                    <a:pt x="635" y="988"/>
                  </a:lnTo>
                  <a:lnTo>
                    <a:pt x="635" y="1015"/>
                  </a:lnTo>
                  <a:lnTo>
                    <a:pt x="635" y="1045"/>
                  </a:lnTo>
                  <a:lnTo>
                    <a:pt x="635" y="1074"/>
                  </a:lnTo>
                  <a:lnTo>
                    <a:pt x="633" y="1101"/>
                  </a:lnTo>
                  <a:lnTo>
                    <a:pt x="632" y="1129"/>
                  </a:lnTo>
                  <a:lnTo>
                    <a:pt x="628" y="1156"/>
                  </a:lnTo>
                  <a:lnTo>
                    <a:pt x="626" y="1182"/>
                  </a:lnTo>
                  <a:lnTo>
                    <a:pt x="620" y="1207"/>
                  </a:lnTo>
                  <a:lnTo>
                    <a:pt x="616" y="1234"/>
                  </a:lnTo>
                  <a:lnTo>
                    <a:pt x="611" y="1258"/>
                  </a:lnTo>
                  <a:lnTo>
                    <a:pt x="607" y="1283"/>
                  </a:lnTo>
                  <a:lnTo>
                    <a:pt x="599" y="1306"/>
                  </a:lnTo>
                  <a:lnTo>
                    <a:pt x="594" y="1331"/>
                  </a:lnTo>
                  <a:lnTo>
                    <a:pt x="588" y="1353"/>
                  </a:lnTo>
                  <a:lnTo>
                    <a:pt x="582" y="1376"/>
                  </a:lnTo>
                  <a:lnTo>
                    <a:pt x="575" y="1397"/>
                  </a:lnTo>
                  <a:lnTo>
                    <a:pt x="567" y="1420"/>
                  </a:lnTo>
                  <a:lnTo>
                    <a:pt x="559" y="1441"/>
                  </a:lnTo>
                  <a:lnTo>
                    <a:pt x="552" y="1462"/>
                  </a:lnTo>
                  <a:lnTo>
                    <a:pt x="544" y="1481"/>
                  </a:lnTo>
                  <a:lnTo>
                    <a:pt x="535" y="1502"/>
                  </a:lnTo>
                  <a:lnTo>
                    <a:pt x="525" y="1521"/>
                  </a:lnTo>
                  <a:lnTo>
                    <a:pt x="517" y="1538"/>
                  </a:lnTo>
                  <a:lnTo>
                    <a:pt x="508" y="1555"/>
                  </a:lnTo>
                  <a:lnTo>
                    <a:pt x="498" y="1574"/>
                  </a:lnTo>
                  <a:lnTo>
                    <a:pt x="489" y="1591"/>
                  </a:lnTo>
                  <a:lnTo>
                    <a:pt x="479" y="1608"/>
                  </a:lnTo>
                  <a:lnTo>
                    <a:pt x="468" y="1623"/>
                  </a:lnTo>
                  <a:lnTo>
                    <a:pt x="460" y="1639"/>
                  </a:lnTo>
                  <a:lnTo>
                    <a:pt x="449" y="1656"/>
                  </a:lnTo>
                  <a:lnTo>
                    <a:pt x="440" y="1671"/>
                  </a:lnTo>
                  <a:lnTo>
                    <a:pt x="430" y="1684"/>
                  </a:lnTo>
                  <a:lnTo>
                    <a:pt x="421" y="1699"/>
                  </a:lnTo>
                  <a:lnTo>
                    <a:pt x="411" y="1713"/>
                  </a:lnTo>
                  <a:lnTo>
                    <a:pt x="402" y="1726"/>
                  </a:lnTo>
                  <a:lnTo>
                    <a:pt x="390" y="1739"/>
                  </a:lnTo>
                  <a:lnTo>
                    <a:pt x="383" y="1751"/>
                  </a:lnTo>
                  <a:lnTo>
                    <a:pt x="371" y="1762"/>
                  </a:lnTo>
                  <a:lnTo>
                    <a:pt x="362" y="1776"/>
                  </a:lnTo>
                  <a:lnTo>
                    <a:pt x="352" y="1783"/>
                  </a:lnTo>
                  <a:lnTo>
                    <a:pt x="343" y="1795"/>
                  </a:lnTo>
                  <a:lnTo>
                    <a:pt x="331" y="1806"/>
                  </a:lnTo>
                  <a:lnTo>
                    <a:pt x="324" y="1815"/>
                  </a:lnTo>
                  <a:lnTo>
                    <a:pt x="312" y="1823"/>
                  </a:lnTo>
                  <a:lnTo>
                    <a:pt x="303" y="1833"/>
                  </a:lnTo>
                  <a:lnTo>
                    <a:pt x="295" y="1840"/>
                  </a:lnTo>
                  <a:lnTo>
                    <a:pt x="287" y="1850"/>
                  </a:lnTo>
                  <a:lnTo>
                    <a:pt x="278" y="1855"/>
                  </a:lnTo>
                  <a:lnTo>
                    <a:pt x="270" y="1863"/>
                  </a:lnTo>
                  <a:lnTo>
                    <a:pt x="263" y="1871"/>
                  </a:lnTo>
                  <a:lnTo>
                    <a:pt x="257" y="1878"/>
                  </a:lnTo>
                  <a:lnTo>
                    <a:pt x="249" y="1884"/>
                  </a:lnTo>
                  <a:lnTo>
                    <a:pt x="242" y="1890"/>
                  </a:lnTo>
                  <a:lnTo>
                    <a:pt x="234" y="1893"/>
                  </a:lnTo>
                  <a:lnTo>
                    <a:pt x="229" y="1897"/>
                  </a:lnTo>
                  <a:lnTo>
                    <a:pt x="217" y="1907"/>
                  </a:lnTo>
                  <a:lnTo>
                    <a:pt x="210" y="1914"/>
                  </a:lnTo>
                  <a:lnTo>
                    <a:pt x="200" y="1918"/>
                  </a:lnTo>
                  <a:lnTo>
                    <a:pt x="196" y="1922"/>
                  </a:lnTo>
                  <a:lnTo>
                    <a:pt x="192" y="1924"/>
                  </a:lnTo>
                  <a:lnTo>
                    <a:pt x="192" y="1926"/>
                  </a:lnTo>
                  <a:lnTo>
                    <a:pt x="0" y="1905"/>
                  </a:lnTo>
                  <a:lnTo>
                    <a:pt x="251" y="1120"/>
                  </a:lnTo>
                  <a:lnTo>
                    <a:pt x="263" y="1085"/>
                  </a:lnTo>
                  <a:lnTo>
                    <a:pt x="274" y="1051"/>
                  </a:lnTo>
                  <a:lnTo>
                    <a:pt x="286" y="1019"/>
                  </a:lnTo>
                  <a:lnTo>
                    <a:pt x="295" y="986"/>
                  </a:lnTo>
                  <a:lnTo>
                    <a:pt x="303" y="954"/>
                  </a:lnTo>
                  <a:lnTo>
                    <a:pt x="312" y="922"/>
                  </a:lnTo>
                  <a:lnTo>
                    <a:pt x="318" y="891"/>
                  </a:lnTo>
                  <a:lnTo>
                    <a:pt x="325" y="863"/>
                  </a:lnTo>
                  <a:lnTo>
                    <a:pt x="329" y="832"/>
                  </a:lnTo>
                  <a:lnTo>
                    <a:pt x="333" y="804"/>
                  </a:lnTo>
                  <a:lnTo>
                    <a:pt x="335" y="775"/>
                  </a:lnTo>
                  <a:lnTo>
                    <a:pt x="337" y="747"/>
                  </a:lnTo>
                  <a:lnTo>
                    <a:pt x="339" y="720"/>
                  </a:lnTo>
                  <a:lnTo>
                    <a:pt x="341" y="692"/>
                  </a:lnTo>
                  <a:lnTo>
                    <a:pt x="341" y="665"/>
                  </a:lnTo>
                  <a:lnTo>
                    <a:pt x="341" y="640"/>
                  </a:lnTo>
                  <a:lnTo>
                    <a:pt x="337" y="612"/>
                  </a:lnTo>
                  <a:lnTo>
                    <a:pt x="337" y="587"/>
                  </a:lnTo>
                  <a:lnTo>
                    <a:pt x="333" y="562"/>
                  </a:lnTo>
                  <a:lnTo>
                    <a:pt x="329" y="540"/>
                  </a:lnTo>
                  <a:lnTo>
                    <a:pt x="325" y="515"/>
                  </a:lnTo>
                  <a:lnTo>
                    <a:pt x="322" y="492"/>
                  </a:lnTo>
                  <a:lnTo>
                    <a:pt x="316" y="469"/>
                  </a:lnTo>
                  <a:lnTo>
                    <a:pt x="312" y="448"/>
                  </a:lnTo>
                  <a:lnTo>
                    <a:pt x="305" y="426"/>
                  </a:lnTo>
                  <a:lnTo>
                    <a:pt x="299" y="403"/>
                  </a:lnTo>
                  <a:lnTo>
                    <a:pt x="291" y="384"/>
                  </a:lnTo>
                  <a:lnTo>
                    <a:pt x="286" y="363"/>
                  </a:lnTo>
                  <a:lnTo>
                    <a:pt x="276" y="344"/>
                  </a:lnTo>
                  <a:lnTo>
                    <a:pt x="270" y="325"/>
                  </a:lnTo>
                  <a:lnTo>
                    <a:pt x="263" y="306"/>
                  </a:lnTo>
                  <a:lnTo>
                    <a:pt x="255" y="289"/>
                  </a:lnTo>
                  <a:lnTo>
                    <a:pt x="246" y="270"/>
                  </a:lnTo>
                  <a:lnTo>
                    <a:pt x="238" y="252"/>
                  </a:lnTo>
                  <a:lnTo>
                    <a:pt x="229" y="237"/>
                  </a:lnTo>
                  <a:lnTo>
                    <a:pt x="221" y="220"/>
                  </a:lnTo>
                  <a:lnTo>
                    <a:pt x="211" y="205"/>
                  </a:lnTo>
                  <a:lnTo>
                    <a:pt x="202" y="188"/>
                  </a:lnTo>
                  <a:lnTo>
                    <a:pt x="192" y="175"/>
                  </a:lnTo>
                  <a:lnTo>
                    <a:pt x="185" y="161"/>
                  </a:lnTo>
                  <a:lnTo>
                    <a:pt x="173" y="148"/>
                  </a:lnTo>
                  <a:lnTo>
                    <a:pt x="164" y="135"/>
                  </a:lnTo>
                  <a:lnTo>
                    <a:pt x="154" y="123"/>
                  </a:lnTo>
                  <a:lnTo>
                    <a:pt x="147" y="112"/>
                  </a:lnTo>
                  <a:lnTo>
                    <a:pt x="137" y="100"/>
                  </a:lnTo>
                  <a:lnTo>
                    <a:pt x="130" y="91"/>
                  </a:lnTo>
                  <a:lnTo>
                    <a:pt x="122" y="79"/>
                  </a:lnTo>
                  <a:lnTo>
                    <a:pt x="114" y="72"/>
                  </a:lnTo>
                  <a:lnTo>
                    <a:pt x="107" y="60"/>
                  </a:lnTo>
                  <a:lnTo>
                    <a:pt x="97" y="53"/>
                  </a:lnTo>
                  <a:lnTo>
                    <a:pt x="90" y="45"/>
                  </a:lnTo>
                  <a:lnTo>
                    <a:pt x="84" y="38"/>
                  </a:lnTo>
                  <a:lnTo>
                    <a:pt x="76" y="30"/>
                  </a:lnTo>
                  <a:lnTo>
                    <a:pt x="71" y="26"/>
                  </a:lnTo>
                  <a:lnTo>
                    <a:pt x="65" y="21"/>
                  </a:lnTo>
                  <a:lnTo>
                    <a:pt x="61" y="17"/>
                  </a:lnTo>
                  <a:lnTo>
                    <a:pt x="52" y="7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77" y="34"/>
                  </a:lnTo>
                  <a:lnTo>
                    <a:pt x="177" y="34"/>
                  </a:lnTo>
                  <a:close/>
                </a:path>
              </a:pathLst>
            </a:custGeom>
            <a:solidFill>
              <a:srgbClr val="ede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95000" y="203760"/>
              <a:ext cx="106560" cy="224640"/>
            </a:xfrm>
            <a:custGeom>
              <a:avLst/>
              <a:gdLst/>
              <a:ahLst/>
              <a:rect l="l" t="t" r="r" b="b"/>
              <a:pathLst>
                <a:path w="593" h="1247">
                  <a:moveTo>
                    <a:pt x="66" y="6"/>
                  </a:moveTo>
                  <a:lnTo>
                    <a:pt x="0" y="1019"/>
                  </a:lnTo>
                  <a:lnTo>
                    <a:pt x="108" y="1207"/>
                  </a:lnTo>
                  <a:lnTo>
                    <a:pt x="329" y="1247"/>
                  </a:lnTo>
                  <a:lnTo>
                    <a:pt x="325" y="1245"/>
                  </a:lnTo>
                  <a:lnTo>
                    <a:pt x="319" y="1242"/>
                  </a:lnTo>
                  <a:lnTo>
                    <a:pt x="312" y="1238"/>
                  </a:lnTo>
                  <a:lnTo>
                    <a:pt x="306" y="1234"/>
                  </a:lnTo>
                  <a:lnTo>
                    <a:pt x="300" y="1228"/>
                  </a:lnTo>
                  <a:lnTo>
                    <a:pt x="293" y="1224"/>
                  </a:lnTo>
                  <a:lnTo>
                    <a:pt x="283" y="1215"/>
                  </a:lnTo>
                  <a:lnTo>
                    <a:pt x="275" y="1209"/>
                  </a:lnTo>
                  <a:lnTo>
                    <a:pt x="266" y="1200"/>
                  </a:lnTo>
                  <a:lnTo>
                    <a:pt x="256" y="1190"/>
                  </a:lnTo>
                  <a:lnTo>
                    <a:pt x="247" y="1179"/>
                  </a:lnTo>
                  <a:lnTo>
                    <a:pt x="237" y="1167"/>
                  </a:lnTo>
                  <a:lnTo>
                    <a:pt x="232" y="1162"/>
                  </a:lnTo>
                  <a:lnTo>
                    <a:pt x="228" y="1154"/>
                  </a:lnTo>
                  <a:lnTo>
                    <a:pt x="222" y="1148"/>
                  </a:lnTo>
                  <a:lnTo>
                    <a:pt x="218" y="1143"/>
                  </a:lnTo>
                  <a:lnTo>
                    <a:pt x="213" y="1133"/>
                  </a:lnTo>
                  <a:lnTo>
                    <a:pt x="209" y="1126"/>
                  </a:lnTo>
                  <a:lnTo>
                    <a:pt x="203" y="1118"/>
                  </a:lnTo>
                  <a:lnTo>
                    <a:pt x="199" y="1110"/>
                  </a:lnTo>
                  <a:lnTo>
                    <a:pt x="194" y="1101"/>
                  </a:lnTo>
                  <a:lnTo>
                    <a:pt x="188" y="1091"/>
                  </a:lnTo>
                  <a:lnTo>
                    <a:pt x="184" y="1082"/>
                  </a:lnTo>
                  <a:lnTo>
                    <a:pt x="180" y="1072"/>
                  </a:lnTo>
                  <a:lnTo>
                    <a:pt x="175" y="1063"/>
                  </a:lnTo>
                  <a:lnTo>
                    <a:pt x="171" y="1051"/>
                  </a:lnTo>
                  <a:lnTo>
                    <a:pt x="167" y="1040"/>
                  </a:lnTo>
                  <a:lnTo>
                    <a:pt x="163" y="1030"/>
                  </a:lnTo>
                  <a:lnTo>
                    <a:pt x="160" y="1017"/>
                  </a:lnTo>
                  <a:lnTo>
                    <a:pt x="158" y="1006"/>
                  </a:lnTo>
                  <a:lnTo>
                    <a:pt x="154" y="994"/>
                  </a:lnTo>
                  <a:lnTo>
                    <a:pt x="152" y="983"/>
                  </a:lnTo>
                  <a:lnTo>
                    <a:pt x="148" y="968"/>
                  </a:lnTo>
                  <a:lnTo>
                    <a:pt x="144" y="954"/>
                  </a:lnTo>
                  <a:lnTo>
                    <a:pt x="142" y="941"/>
                  </a:lnTo>
                  <a:lnTo>
                    <a:pt x="141" y="928"/>
                  </a:lnTo>
                  <a:lnTo>
                    <a:pt x="137" y="913"/>
                  </a:lnTo>
                  <a:lnTo>
                    <a:pt x="135" y="899"/>
                  </a:lnTo>
                  <a:lnTo>
                    <a:pt x="135" y="882"/>
                  </a:lnTo>
                  <a:lnTo>
                    <a:pt x="135" y="869"/>
                  </a:lnTo>
                  <a:lnTo>
                    <a:pt x="133" y="852"/>
                  </a:lnTo>
                  <a:lnTo>
                    <a:pt x="131" y="835"/>
                  </a:lnTo>
                  <a:lnTo>
                    <a:pt x="131" y="818"/>
                  </a:lnTo>
                  <a:lnTo>
                    <a:pt x="131" y="800"/>
                  </a:lnTo>
                  <a:lnTo>
                    <a:pt x="131" y="781"/>
                  </a:lnTo>
                  <a:lnTo>
                    <a:pt x="133" y="764"/>
                  </a:lnTo>
                  <a:lnTo>
                    <a:pt x="135" y="745"/>
                  </a:lnTo>
                  <a:lnTo>
                    <a:pt x="137" y="728"/>
                  </a:lnTo>
                  <a:lnTo>
                    <a:pt x="137" y="707"/>
                  </a:lnTo>
                  <a:lnTo>
                    <a:pt x="139" y="688"/>
                  </a:lnTo>
                  <a:lnTo>
                    <a:pt x="142" y="667"/>
                  </a:lnTo>
                  <a:lnTo>
                    <a:pt x="146" y="650"/>
                  </a:lnTo>
                  <a:lnTo>
                    <a:pt x="150" y="631"/>
                  </a:lnTo>
                  <a:lnTo>
                    <a:pt x="154" y="612"/>
                  </a:lnTo>
                  <a:lnTo>
                    <a:pt x="158" y="595"/>
                  </a:lnTo>
                  <a:lnTo>
                    <a:pt x="165" y="578"/>
                  </a:lnTo>
                  <a:lnTo>
                    <a:pt x="169" y="559"/>
                  </a:lnTo>
                  <a:lnTo>
                    <a:pt x="177" y="542"/>
                  </a:lnTo>
                  <a:lnTo>
                    <a:pt x="182" y="525"/>
                  </a:lnTo>
                  <a:lnTo>
                    <a:pt x="190" y="509"/>
                  </a:lnTo>
                  <a:lnTo>
                    <a:pt x="196" y="492"/>
                  </a:lnTo>
                  <a:lnTo>
                    <a:pt x="205" y="477"/>
                  </a:lnTo>
                  <a:lnTo>
                    <a:pt x="213" y="460"/>
                  </a:lnTo>
                  <a:lnTo>
                    <a:pt x="222" y="447"/>
                  </a:lnTo>
                  <a:lnTo>
                    <a:pt x="230" y="430"/>
                  </a:lnTo>
                  <a:lnTo>
                    <a:pt x="237" y="414"/>
                  </a:lnTo>
                  <a:lnTo>
                    <a:pt x="247" y="399"/>
                  </a:lnTo>
                  <a:lnTo>
                    <a:pt x="256" y="386"/>
                  </a:lnTo>
                  <a:lnTo>
                    <a:pt x="266" y="371"/>
                  </a:lnTo>
                  <a:lnTo>
                    <a:pt x="275" y="357"/>
                  </a:lnTo>
                  <a:lnTo>
                    <a:pt x="285" y="342"/>
                  </a:lnTo>
                  <a:lnTo>
                    <a:pt x="296" y="331"/>
                  </a:lnTo>
                  <a:lnTo>
                    <a:pt x="306" y="317"/>
                  </a:lnTo>
                  <a:lnTo>
                    <a:pt x="315" y="304"/>
                  </a:lnTo>
                  <a:lnTo>
                    <a:pt x="325" y="293"/>
                  </a:lnTo>
                  <a:lnTo>
                    <a:pt x="336" y="279"/>
                  </a:lnTo>
                  <a:lnTo>
                    <a:pt x="344" y="268"/>
                  </a:lnTo>
                  <a:lnTo>
                    <a:pt x="357" y="257"/>
                  </a:lnTo>
                  <a:lnTo>
                    <a:pt x="367" y="245"/>
                  </a:lnTo>
                  <a:lnTo>
                    <a:pt x="378" y="236"/>
                  </a:lnTo>
                  <a:lnTo>
                    <a:pt x="388" y="224"/>
                  </a:lnTo>
                  <a:lnTo>
                    <a:pt x="397" y="213"/>
                  </a:lnTo>
                  <a:lnTo>
                    <a:pt x="405" y="203"/>
                  </a:lnTo>
                  <a:lnTo>
                    <a:pt x="416" y="194"/>
                  </a:lnTo>
                  <a:lnTo>
                    <a:pt x="426" y="184"/>
                  </a:lnTo>
                  <a:lnTo>
                    <a:pt x="437" y="175"/>
                  </a:lnTo>
                  <a:lnTo>
                    <a:pt x="445" y="167"/>
                  </a:lnTo>
                  <a:lnTo>
                    <a:pt x="456" y="160"/>
                  </a:lnTo>
                  <a:lnTo>
                    <a:pt x="464" y="150"/>
                  </a:lnTo>
                  <a:lnTo>
                    <a:pt x="473" y="143"/>
                  </a:lnTo>
                  <a:lnTo>
                    <a:pt x="483" y="135"/>
                  </a:lnTo>
                  <a:lnTo>
                    <a:pt x="492" y="127"/>
                  </a:lnTo>
                  <a:lnTo>
                    <a:pt x="500" y="120"/>
                  </a:lnTo>
                  <a:lnTo>
                    <a:pt x="507" y="114"/>
                  </a:lnTo>
                  <a:lnTo>
                    <a:pt x="515" y="108"/>
                  </a:lnTo>
                  <a:lnTo>
                    <a:pt x="525" y="103"/>
                  </a:lnTo>
                  <a:lnTo>
                    <a:pt x="532" y="97"/>
                  </a:lnTo>
                  <a:lnTo>
                    <a:pt x="538" y="91"/>
                  </a:lnTo>
                  <a:lnTo>
                    <a:pt x="545" y="85"/>
                  </a:lnTo>
                  <a:lnTo>
                    <a:pt x="551" y="82"/>
                  </a:lnTo>
                  <a:lnTo>
                    <a:pt x="557" y="78"/>
                  </a:lnTo>
                  <a:lnTo>
                    <a:pt x="563" y="74"/>
                  </a:lnTo>
                  <a:lnTo>
                    <a:pt x="568" y="72"/>
                  </a:lnTo>
                  <a:lnTo>
                    <a:pt x="574" y="68"/>
                  </a:lnTo>
                  <a:lnTo>
                    <a:pt x="580" y="65"/>
                  </a:lnTo>
                  <a:lnTo>
                    <a:pt x="587" y="59"/>
                  </a:lnTo>
                  <a:lnTo>
                    <a:pt x="589" y="59"/>
                  </a:lnTo>
                  <a:lnTo>
                    <a:pt x="593" y="59"/>
                  </a:lnTo>
                  <a:lnTo>
                    <a:pt x="589" y="57"/>
                  </a:lnTo>
                  <a:lnTo>
                    <a:pt x="587" y="55"/>
                  </a:lnTo>
                  <a:lnTo>
                    <a:pt x="582" y="51"/>
                  </a:lnTo>
                  <a:lnTo>
                    <a:pt x="576" y="49"/>
                  </a:lnTo>
                  <a:lnTo>
                    <a:pt x="566" y="46"/>
                  </a:lnTo>
                  <a:lnTo>
                    <a:pt x="555" y="42"/>
                  </a:lnTo>
                  <a:lnTo>
                    <a:pt x="544" y="36"/>
                  </a:lnTo>
                  <a:lnTo>
                    <a:pt x="532" y="32"/>
                  </a:lnTo>
                  <a:lnTo>
                    <a:pt x="525" y="28"/>
                  </a:lnTo>
                  <a:lnTo>
                    <a:pt x="515" y="25"/>
                  </a:lnTo>
                  <a:lnTo>
                    <a:pt x="507" y="23"/>
                  </a:lnTo>
                  <a:lnTo>
                    <a:pt x="502" y="21"/>
                  </a:lnTo>
                  <a:lnTo>
                    <a:pt x="492" y="17"/>
                  </a:lnTo>
                  <a:lnTo>
                    <a:pt x="485" y="15"/>
                  </a:lnTo>
                  <a:lnTo>
                    <a:pt x="475" y="13"/>
                  </a:lnTo>
                  <a:lnTo>
                    <a:pt x="467" y="11"/>
                  </a:lnTo>
                  <a:lnTo>
                    <a:pt x="456" y="9"/>
                  </a:lnTo>
                  <a:lnTo>
                    <a:pt x="447" y="8"/>
                  </a:lnTo>
                  <a:lnTo>
                    <a:pt x="437" y="6"/>
                  </a:lnTo>
                  <a:lnTo>
                    <a:pt x="428" y="6"/>
                  </a:lnTo>
                  <a:lnTo>
                    <a:pt x="418" y="2"/>
                  </a:lnTo>
                  <a:lnTo>
                    <a:pt x="409" y="2"/>
                  </a:lnTo>
                  <a:lnTo>
                    <a:pt x="397" y="2"/>
                  </a:lnTo>
                  <a:lnTo>
                    <a:pt x="388" y="2"/>
                  </a:lnTo>
                  <a:lnTo>
                    <a:pt x="376" y="2"/>
                  </a:lnTo>
                  <a:lnTo>
                    <a:pt x="365" y="2"/>
                  </a:lnTo>
                  <a:lnTo>
                    <a:pt x="353" y="0"/>
                  </a:lnTo>
                  <a:lnTo>
                    <a:pt x="340" y="0"/>
                  </a:lnTo>
                  <a:lnTo>
                    <a:pt x="327" y="0"/>
                  </a:lnTo>
                  <a:lnTo>
                    <a:pt x="314" y="0"/>
                  </a:lnTo>
                  <a:lnTo>
                    <a:pt x="300" y="0"/>
                  </a:lnTo>
                  <a:lnTo>
                    <a:pt x="289" y="0"/>
                  </a:lnTo>
                  <a:lnTo>
                    <a:pt x="274" y="0"/>
                  </a:lnTo>
                  <a:lnTo>
                    <a:pt x="262" y="0"/>
                  </a:lnTo>
                  <a:lnTo>
                    <a:pt x="249" y="0"/>
                  </a:lnTo>
                  <a:lnTo>
                    <a:pt x="236" y="0"/>
                  </a:lnTo>
                  <a:lnTo>
                    <a:pt x="222" y="0"/>
                  </a:lnTo>
                  <a:lnTo>
                    <a:pt x="209" y="0"/>
                  </a:lnTo>
                  <a:lnTo>
                    <a:pt x="196" y="0"/>
                  </a:lnTo>
                  <a:lnTo>
                    <a:pt x="184" y="2"/>
                  </a:lnTo>
                  <a:lnTo>
                    <a:pt x="171" y="2"/>
                  </a:lnTo>
                  <a:lnTo>
                    <a:pt x="160" y="2"/>
                  </a:lnTo>
                  <a:lnTo>
                    <a:pt x="148" y="2"/>
                  </a:lnTo>
                  <a:lnTo>
                    <a:pt x="137" y="2"/>
                  </a:lnTo>
                  <a:lnTo>
                    <a:pt x="125" y="2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101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68" y="4"/>
                  </a:lnTo>
                  <a:lnTo>
                    <a:pt x="66" y="6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d6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1520" y="338040"/>
              <a:ext cx="39240" cy="77760"/>
            </a:xfrm>
            <a:custGeom>
              <a:avLst/>
              <a:gdLst/>
              <a:ahLst/>
              <a:rect l="l" t="t" r="r" b="b"/>
              <a:pathLst>
                <a:path w="218" h="434">
                  <a:moveTo>
                    <a:pt x="218" y="0"/>
                  </a:moveTo>
                  <a:lnTo>
                    <a:pt x="214" y="0"/>
                  </a:lnTo>
                  <a:lnTo>
                    <a:pt x="209" y="4"/>
                  </a:lnTo>
                  <a:lnTo>
                    <a:pt x="203" y="6"/>
                  </a:lnTo>
                  <a:lnTo>
                    <a:pt x="199" y="10"/>
                  </a:lnTo>
                  <a:lnTo>
                    <a:pt x="192" y="14"/>
                  </a:lnTo>
                  <a:lnTo>
                    <a:pt x="188" y="17"/>
                  </a:lnTo>
                  <a:lnTo>
                    <a:pt x="180" y="23"/>
                  </a:lnTo>
                  <a:lnTo>
                    <a:pt x="171" y="27"/>
                  </a:lnTo>
                  <a:lnTo>
                    <a:pt x="163" y="33"/>
                  </a:lnTo>
                  <a:lnTo>
                    <a:pt x="155" y="40"/>
                  </a:lnTo>
                  <a:lnTo>
                    <a:pt x="146" y="44"/>
                  </a:lnTo>
                  <a:lnTo>
                    <a:pt x="138" y="53"/>
                  </a:lnTo>
                  <a:lnTo>
                    <a:pt x="129" y="61"/>
                  </a:lnTo>
                  <a:lnTo>
                    <a:pt x="121" y="69"/>
                  </a:lnTo>
                  <a:lnTo>
                    <a:pt x="110" y="74"/>
                  </a:lnTo>
                  <a:lnTo>
                    <a:pt x="100" y="84"/>
                  </a:lnTo>
                  <a:lnTo>
                    <a:pt x="91" y="92"/>
                  </a:lnTo>
                  <a:lnTo>
                    <a:pt x="83" y="101"/>
                  </a:lnTo>
                  <a:lnTo>
                    <a:pt x="74" y="109"/>
                  </a:lnTo>
                  <a:lnTo>
                    <a:pt x="64" y="118"/>
                  </a:lnTo>
                  <a:lnTo>
                    <a:pt x="57" y="128"/>
                  </a:lnTo>
                  <a:lnTo>
                    <a:pt x="49" y="139"/>
                  </a:lnTo>
                  <a:lnTo>
                    <a:pt x="39" y="149"/>
                  </a:lnTo>
                  <a:lnTo>
                    <a:pt x="32" y="158"/>
                  </a:lnTo>
                  <a:lnTo>
                    <a:pt x="26" y="168"/>
                  </a:lnTo>
                  <a:lnTo>
                    <a:pt x="20" y="181"/>
                  </a:lnTo>
                  <a:lnTo>
                    <a:pt x="15" y="190"/>
                  </a:lnTo>
                  <a:lnTo>
                    <a:pt x="11" y="202"/>
                  </a:lnTo>
                  <a:lnTo>
                    <a:pt x="7" y="211"/>
                  </a:lnTo>
                  <a:lnTo>
                    <a:pt x="5" y="225"/>
                  </a:lnTo>
                  <a:lnTo>
                    <a:pt x="1" y="232"/>
                  </a:lnTo>
                  <a:lnTo>
                    <a:pt x="0" y="244"/>
                  </a:lnTo>
                  <a:lnTo>
                    <a:pt x="0" y="255"/>
                  </a:lnTo>
                  <a:lnTo>
                    <a:pt x="0" y="266"/>
                  </a:lnTo>
                  <a:lnTo>
                    <a:pt x="0" y="278"/>
                  </a:lnTo>
                  <a:lnTo>
                    <a:pt x="3" y="289"/>
                  </a:lnTo>
                  <a:lnTo>
                    <a:pt x="5" y="299"/>
                  </a:lnTo>
                  <a:lnTo>
                    <a:pt x="9" y="312"/>
                  </a:lnTo>
                  <a:lnTo>
                    <a:pt x="11" y="322"/>
                  </a:lnTo>
                  <a:lnTo>
                    <a:pt x="15" y="331"/>
                  </a:lnTo>
                  <a:lnTo>
                    <a:pt x="19" y="343"/>
                  </a:lnTo>
                  <a:lnTo>
                    <a:pt x="24" y="352"/>
                  </a:lnTo>
                  <a:lnTo>
                    <a:pt x="28" y="362"/>
                  </a:lnTo>
                  <a:lnTo>
                    <a:pt x="36" y="371"/>
                  </a:lnTo>
                  <a:lnTo>
                    <a:pt x="39" y="381"/>
                  </a:lnTo>
                  <a:lnTo>
                    <a:pt x="49" y="390"/>
                  </a:lnTo>
                  <a:lnTo>
                    <a:pt x="53" y="396"/>
                  </a:lnTo>
                  <a:lnTo>
                    <a:pt x="60" y="403"/>
                  </a:lnTo>
                  <a:lnTo>
                    <a:pt x="66" y="409"/>
                  </a:lnTo>
                  <a:lnTo>
                    <a:pt x="74" y="417"/>
                  </a:lnTo>
                  <a:lnTo>
                    <a:pt x="79" y="420"/>
                  </a:lnTo>
                  <a:lnTo>
                    <a:pt x="87" y="424"/>
                  </a:lnTo>
                  <a:lnTo>
                    <a:pt x="96" y="426"/>
                  </a:lnTo>
                  <a:lnTo>
                    <a:pt x="104" y="432"/>
                  </a:lnTo>
                  <a:lnTo>
                    <a:pt x="110" y="432"/>
                  </a:lnTo>
                  <a:lnTo>
                    <a:pt x="117" y="434"/>
                  </a:lnTo>
                  <a:lnTo>
                    <a:pt x="125" y="432"/>
                  </a:lnTo>
                  <a:lnTo>
                    <a:pt x="133" y="432"/>
                  </a:lnTo>
                  <a:lnTo>
                    <a:pt x="140" y="428"/>
                  </a:lnTo>
                  <a:lnTo>
                    <a:pt x="148" y="426"/>
                  </a:lnTo>
                  <a:lnTo>
                    <a:pt x="153" y="420"/>
                  </a:lnTo>
                  <a:lnTo>
                    <a:pt x="161" y="417"/>
                  </a:lnTo>
                  <a:lnTo>
                    <a:pt x="167" y="409"/>
                  </a:lnTo>
                  <a:lnTo>
                    <a:pt x="172" y="400"/>
                  </a:lnTo>
                  <a:lnTo>
                    <a:pt x="178" y="392"/>
                  </a:lnTo>
                  <a:lnTo>
                    <a:pt x="184" y="382"/>
                  </a:lnTo>
                  <a:lnTo>
                    <a:pt x="186" y="373"/>
                  </a:lnTo>
                  <a:lnTo>
                    <a:pt x="190" y="365"/>
                  </a:lnTo>
                  <a:lnTo>
                    <a:pt x="192" y="356"/>
                  </a:lnTo>
                  <a:lnTo>
                    <a:pt x="197" y="346"/>
                  </a:lnTo>
                  <a:lnTo>
                    <a:pt x="197" y="335"/>
                  </a:lnTo>
                  <a:lnTo>
                    <a:pt x="199" y="323"/>
                  </a:lnTo>
                  <a:lnTo>
                    <a:pt x="201" y="312"/>
                  </a:lnTo>
                  <a:lnTo>
                    <a:pt x="203" y="303"/>
                  </a:lnTo>
                  <a:lnTo>
                    <a:pt x="203" y="291"/>
                  </a:lnTo>
                  <a:lnTo>
                    <a:pt x="205" y="282"/>
                  </a:lnTo>
                  <a:lnTo>
                    <a:pt x="205" y="272"/>
                  </a:lnTo>
                  <a:lnTo>
                    <a:pt x="205" y="263"/>
                  </a:lnTo>
                  <a:lnTo>
                    <a:pt x="205" y="251"/>
                  </a:lnTo>
                  <a:lnTo>
                    <a:pt x="205" y="242"/>
                  </a:lnTo>
                  <a:lnTo>
                    <a:pt x="203" y="230"/>
                  </a:lnTo>
                  <a:lnTo>
                    <a:pt x="203" y="223"/>
                  </a:lnTo>
                  <a:lnTo>
                    <a:pt x="201" y="213"/>
                  </a:lnTo>
                  <a:lnTo>
                    <a:pt x="201" y="206"/>
                  </a:lnTo>
                  <a:lnTo>
                    <a:pt x="201" y="198"/>
                  </a:lnTo>
                  <a:lnTo>
                    <a:pt x="201" y="192"/>
                  </a:lnTo>
                  <a:lnTo>
                    <a:pt x="199" y="179"/>
                  </a:lnTo>
                  <a:lnTo>
                    <a:pt x="197" y="169"/>
                  </a:lnTo>
                  <a:lnTo>
                    <a:pt x="197" y="164"/>
                  </a:lnTo>
                  <a:lnTo>
                    <a:pt x="197" y="164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74200" y="261360"/>
              <a:ext cx="228240" cy="396000"/>
            </a:xfrm>
            <a:custGeom>
              <a:avLst/>
              <a:gdLst/>
              <a:ahLst/>
              <a:rect l="l" t="t" r="r" b="b"/>
              <a:pathLst>
                <a:path w="1262" h="2198">
                  <a:moveTo>
                    <a:pt x="979" y="1040"/>
                  </a:moveTo>
                  <a:lnTo>
                    <a:pt x="985" y="1031"/>
                  </a:lnTo>
                  <a:lnTo>
                    <a:pt x="992" y="1021"/>
                  </a:lnTo>
                  <a:lnTo>
                    <a:pt x="998" y="1014"/>
                  </a:lnTo>
                  <a:lnTo>
                    <a:pt x="1006" y="1006"/>
                  </a:lnTo>
                  <a:lnTo>
                    <a:pt x="1013" y="997"/>
                  </a:lnTo>
                  <a:lnTo>
                    <a:pt x="1021" y="987"/>
                  </a:lnTo>
                  <a:lnTo>
                    <a:pt x="1026" y="980"/>
                  </a:lnTo>
                  <a:lnTo>
                    <a:pt x="1036" y="972"/>
                  </a:lnTo>
                  <a:lnTo>
                    <a:pt x="1042" y="962"/>
                  </a:lnTo>
                  <a:lnTo>
                    <a:pt x="1049" y="953"/>
                  </a:lnTo>
                  <a:lnTo>
                    <a:pt x="1055" y="945"/>
                  </a:lnTo>
                  <a:lnTo>
                    <a:pt x="1063" y="936"/>
                  </a:lnTo>
                  <a:lnTo>
                    <a:pt x="1070" y="928"/>
                  </a:lnTo>
                  <a:lnTo>
                    <a:pt x="1078" y="919"/>
                  </a:lnTo>
                  <a:lnTo>
                    <a:pt x="1083" y="909"/>
                  </a:lnTo>
                  <a:lnTo>
                    <a:pt x="1093" y="902"/>
                  </a:lnTo>
                  <a:lnTo>
                    <a:pt x="1097" y="892"/>
                  </a:lnTo>
                  <a:lnTo>
                    <a:pt x="1104" y="884"/>
                  </a:lnTo>
                  <a:lnTo>
                    <a:pt x="1110" y="875"/>
                  </a:lnTo>
                  <a:lnTo>
                    <a:pt x="1118" y="865"/>
                  </a:lnTo>
                  <a:lnTo>
                    <a:pt x="1123" y="858"/>
                  </a:lnTo>
                  <a:lnTo>
                    <a:pt x="1131" y="848"/>
                  </a:lnTo>
                  <a:lnTo>
                    <a:pt x="1137" y="839"/>
                  </a:lnTo>
                  <a:lnTo>
                    <a:pt x="1144" y="831"/>
                  </a:lnTo>
                  <a:lnTo>
                    <a:pt x="1148" y="822"/>
                  </a:lnTo>
                  <a:lnTo>
                    <a:pt x="1154" y="814"/>
                  </a:lnTo>
                  <a:lnTo>
                    <a:pt x="1159" y="805"/>
                  </a:lnTo>
                  <a:lnTo>
                    <a:pt x="1167" y="795"/>
                  </a:lnTo>
                  <a:lnTo>
                    <a:pt x="1171" y="788"/>
                  </a:lnTo>
                  <a:lnTo>
                    <a:pt x="1179" y="778"/>
                  </a:lnTo>
                  <a:lnTo>
                    <a:pt x="1184" y="769"/>
                  </a:lnTo>
                  <a:lnTo>
                    <a:pt x="1190" y="761"/>
                  </a:lnTo>
                  <a:lnTo>
                    <a:pt x="1194" y="751"/>
                  </a:lnTo>
                  <a:lnTo>
                    <a:pt x="1199" y="742"/>
                  </a:lnTo>
                  <a:lnTo>
                    <a:pt x="1203" y="732"/>
                  </a:lnTo>
                  <a:lnTo>
                    <a:pt x="1209" y="725"/>
                  </a:lnTo>
                  <a:lnTo>
                    <a:pt x="1213" y="713"/>
                  </a:lnTo>
                  <a:lnTo>
                    <a:pt x="1217" y="704"/>
                  </a:lnTo>
                  <a:lnTo>
                    <a:pt x="1220" y="694"/>
                  </a:lnTo>
                  <a:lnTo>
                    <a:pt x="1226" y="687"/>
                  </a:lnTo>
                  <a:lnTo>
                    <a:pt x="1228" y="677"/>
                  </a:lnTo>
                  <a:lnTo>
                    <a:pt x="1232" y="668"/>
                  </a:lnTo>
                  <a:lnTo>
                    <a:pt x="1237" y="658"/>
                  </a:lnTo>
                  <a:lnTo>
                    <a:pt x="1241" y="649"/>
                  </a:lnTo>
                  <a:lnTo>
                    <a:pt x="1243" y="637"/>
                  </a:lnTo>
                  <a:lnTo>
                    <a:pt x="1245" y="630"/>
                  </a:lnTo>
                  <a:lnTo>
                    <a:pt x="1249" y="620"/>
                  </a:lnTo>
                  <a:lnTo>
                    <a:pt x="1253" y="611"/>
                  </a:lnTo>
                  <a:lnTo>
                    <a:pt x="1255" y="601"/>
                  </a:lnTo>
                  <a:lnTo>
                    <a:pt x="1255" y="592"/>
                  </a:lnTo>
                  <a:lnTo>
                    <a:pt x="1256" y="580"/>
                  </a:lnTo>
                  <a:lnTo>
                    <a:pt x="1258" y="571"/>
                  </a:lnTo>
                  <a:lnTo>
                    <a:pt x="1258" y="561"/>
                  </a:lnTo>
                  <a:lnTo>
                    <a:pt x="1260" y="552"/>
                  </a:lnTo>
                  <a:lnTo>
                    <a:pt x="1262" y="540"/>
                  </a:lnTo>
                  <a:lnTo>
                    <a:pt x="1262" y="533"/>
                  </a:lnTo>
                  <a:lnTo>
                    <a:pt x="1262" y="521"/>
                  </a:lnTo>
                  <a:lnTo>
                    <a:pt x="1262" y="510"/>
                  </a:lnTo>
                  <a:lnTo>
                    <a:pt x="1262" y="500"/>
                  </a:lnTo>
                  <a:lnTo>
                    <a:pt x="1262" y="491"/>
                  </a:lnTo>
                  <a:lnTo>
                    <a:pt x="1262" y="479"/>
                  </a:lnTo>
                  <a:lnTo>
                    <a:pt x="1262" y="470"/>
                  </a:lnTo>
                  <a:lnTo>
                    <a:pt x="1260" y="460"/>
                  </a:lnTo>
                  <a:lnTo>
                    <a:pt x="1260" y="451"/>
                  </a:lnTo>
                  <a:lnTo>
                    <a:pt x="1255" y="426"/>
                  </a:lnTo>
                  <a:lnTo>
                    <a:pt x="1251" y="405"/>
                  </a:lnTo>
                  <a:lnTo>
                    <a:pt x="1245" y="386"/>
                  </a:lnTo>
                  <a:lnTo>
                    <a:pt x="1239" y="365"/>
                  </a:lnTo>
                  <a:lnTo>
                    <a:pt x="1232" y="346"/>
                  </a:lnTo>
                  <a:lnTo>
                    <a:pt x="1224" y="329"/>
                  </a:lnTo>
                  <a:lnTo>
                    <a:pt x="1217" y="310"/>
                  </a:lnTo>
                  <a:lnTo>
                    <a:pt x="1209" y="293"/>
                  </a:lnTo>
                  <a:lnTo>
                    <a:pt x="1198" y="276"/>
                  </a:lnTo>
                  <a:lnTo>
                    <a:pt x="1188" y="261"/>
                  </a:lnTo>
                  <a:lnTo>
                    <a:pt x="1179" y="246"/>
                  </a:lnTo>
                  <a:lnTo>
                    <a:pt x="1169" y="232"/>
                  </a:lnTo>
                  <a:lnTo>
                    <a:pt x="1158" y="217"/>
                  </a:lnTo>
                  <a:lnTo>
                    <a:pt x="1144" y="204"/>
                  </a:lnTo>
                  <a:lnTo>
                    <a:pt x="1133" y="192"/>
                  </a:lnTo>
                  <a:lnTo>
                    <a:pt x="1121" y="179"/>
                  </a:lnTo>
                  <a:lnTo>
                    <a:pt x="1106" y="168"/>
                  </a:lnTo>
                  <a:lnTo>
                    <a:pt x="1093" y="156"/>
                  </a:lnTo>
                  <a:lnTo>
                    <a:pt x="1080" y="145"/>
                  </a:lnTo>
                  <a:lnTo>
                    <a:pt x="1066" y="135"/>
                  </a:lnTo>
                  <a:lnTo>
                    <a:pt x="1053" y="126"/>
                  </a:lnTo>
                  <a:lnTo>
                    <a:pt x="1038" y="116"/>
                  </a:lnTo>
                  <a:lnTo>
                    <a:pt x="1023" y="109"/>
                  </a:lnTo>
                  <a:lnTo>
                    <a:pt x="1009" y="101"/>
                  </a:lnTo>
                  <a:lnTo>
                    <a:pt x="994" y="92"/>
                  </a:lnTo>
                  <a:lnTo>
                    <a:pt x="979" y="84"/>
                  </a:lnTo>
                  <a:lnTo>
                    <a:pt x="964" y="76"/>
                  </a:lnTo>
                  <a:lnTo>
                    <a:pt x="948" y="71"/>
                  </a:lnTo>
                  <a:lnTo>
                    <a:pt x="933" y="63"/>
                  </a:lnTo>
                  <a:lnTo>
                    <a:pt x="918" y="57"/>
                  </a:lnTo>
                  <a:lnTo>
                    <a:pt x="903" y="54"/>
                  </a:lnTo>
                  <a:lnTo>
                    <a:pt x="888" y="48"/>
                  </a:lnTo>
                  <a:lnTo>
                    <a:pt x="872" y="44"/>
                  </a:lnTo>
                  <a:lnTo>
                    <a:pt x="855" y="38"/>
                  </a:lnTo>
                  <a:lnTo>
                    <a:pt x="840" y="35"/>
                  </a:lnTo>
                  <a:lnTo>
                    <a:pt x="825" y="31"/>
                  </a:lnTo>
                  <a:lnTo>
                    <a:pt x="810" y="27"/>
                  </a:lnTo>
                  <a:lnTo>
                    <a:pt x="795" y="21"/>
                  </a:lnTo>
                  <a:lnTo>
                    <a:pt x="781" y="19"/>
                  </a:lnTo>
                  <a:lnTo>
                    <a:pt x="768" y="17"/>
                  </a:lnTo>
                  <a:lnTo>
                    <a:pt x="753" y="14"/>
                  </a:lnTo>
                  <a:lnTo>
                    <a:pt x="739" y="14"/>
                  </a:lnTo>
                  <a:lnTo>
                    <a:pt x="726" y="10"/>
                  </a:lnTo>
                  <a:lnTo>
                    <a:pt x="713" y="8"/>
                  </a:lnTo>
                  <a:lnTo>
                    <a:pt x="699" y="8"/>
                  </a:lnTo>
                  <a:lnTo>
                    <a:pt x="688" y="6"/>
                  </a:lnTo>
                  <a:lnTo>
                    <a:pt x="677" y="4"/>
                  </a:lnTo>
                  <a:lnTo>
                    <a:pt x="665" y="4"/>
                  </a:lnTo>
                  <a:lnTo>
                    <a:pt x="654" y="4"/>
                  </a:lnTo>
                  <a:lnTo>
                    <a:pt x="642" y="2"/>
                  </a:lnTo>
                  <a:lnTo>
                    <a:pt x="633" y="0"/>
                  </a:lnTo>
                  <a:lnTo>
                    <a:pt x="623" y="0"/>
                  </a:lnTo>
                  <a:lnTo>
                    <a:pt x="614" y="0"/>
                  </a:lnTo>
                  <a:lnTo>
                    <a:pt x="606" y="0"/>
                  </a:lnTo>
                  <a:lnTo>
                    <a:pt x="599" y="0"/>
                  </a:lnTo>
                  <a:lnTo>
                    <a:pt x="593" y="0"/>
                  </a:lnTo>
                  <a:lnTo>
                    <a:pt x="580" y="0"/>
                  </a:lnTo>
                  <a:lnTo>
                    <a:pt x="572" y="0"/>
                  </a:lnTo>
                  <a:lnTo>
                    <a:pt x="566" y="0"/>
                  </a:lnTo>
                  <a:lnTo>
                    <a:pt x="564" y="2"/>
                  </a:lnTo>
                  <a:lnTo>
                    <a:pt x="551" y="4"/>
                  </a:lnTo>
                  <a:lnTo>
                    <a:pt x="542" y="12"/>
                  </a:lnTo>
                  <a:lnTo>
                    <a:pt x="0" y="447"/>
                  </a:lnTo>
                  <a:lnTo>
                    <a:pt x="51" y="512"/>
                  </a:lnTo>
                  <a:lnTo>
                    <a:pt x="582" y="86"/>
                  </a:lnTo>
                  <a:lnTo>
                    <a:pt x="589" y="84"/>
                  </a:lnTo>
                  <a:lnTo>
                    <a:pt x="601" y="84"/>
                  </a:lnTo>
                  <a:lnTo>
                    <a:pt x="606" y="84"/>
                  </a:lnTo>
                  <a:lnTo>
                    <a:pt x="612" y="84"/>
                  </a:lnTo>
                  <a:lnTo>
                    <a:pt x="620" y="84"/>
                  </a:lnTo>
                  <a:lnTo>
                    <a:pt x="629" y="84"/>
                  </a:lnTo>
                  <a:lnTo>
                    <a:pt x="637" y="84"/>
                  </a:lnTo>
                  <a:lnTo>
                    <a:pt x="644" y="84"/>
                  </a:lnTo>
                  <a:lnTo>
                    <a:pt x="652" y="84"/>
                  </a:lnTo>
                  <a:lnTo>
                    <a:pt x="661" y="86"/>
                  </a:lnTo>
                  <a:lnTo>
                    <a:pt x="669" y="86"/>
                  </a:lnTo>
                  <a:lnTo>
                    <a:pt x="680" y="88"/>
                  </a:lnTo>
                  <a:lnTo>
                    <a:pt x="690" y="88"/>
                  </a:lnTo>
                  <a:lnTo>
                    <a:pt x="701" y="92"/>
                  </a:lnTo>
                  <a:lnTo>
                    <a:pt x="711" y="92"/>
                  </a:lnTo>
                  <a:lnTo>
                    <a:pt x="720" y="92"/>
                  </a:lnTo>
                  <a:lnTo>
                    <a:pt x="732" y="94"/>
                  </a:lnTo>
                  <a:lnTo>
                    <a:pt x="743" y="97"/>
                  </a:lnTo>
                  <a:lnTo>
                    <a:pt x="756" y="97"/>
                  </a:lnTo>
                  <a:lnTo>
                    <a:pt x="768" y="101"/>
                  </a:lnTo>
                  <a:lnTo>
                    <a:pt x="779" y="101"/>
                  </a:lnTo>
                  <a:lnTo>
                    <a:pt x="791" y="105"/>
                  </a:lnTo>
                  <a:lnTo>
                    <a:pt x="804" y="109"/>
                  </a:lnTo>
                  <a:lnTo>
                    <a:pt x="815" y="111"/>
                  </a:lnTo>
                  <a:lnTo>
                    <a:pt x="827" y="114"/>
                  </a:lnTo>
                  <a:lnTo>
                    <a:pt x="838" y="118"/>
                  </a:lnTo>
                  <a:lnTo>
                    <a:pt x="852" y="122"/>
                  </a:lnTo>
                  <a:lnTo>
                    <a:pt x="865" y="126"/>
                  </a:lnTo>
                  <a:lnTo>
                    <a:pt x="876" y="130"/>
                  </a:lnTo>
                  <a:lnTo>
                    <a:pt x="890" y="135"/>
                  </a:lnTo>
                  <a:lnTo>
                    <a:pt x="901" y="139"/>
                  </a:lnTo>
                  <a:lnTo>
                    <a:pt x="912" y="143"/>
                  </a:lnTo>
                  <a:lnTo>
                    <a:pt x="926" y="149"/>
                  </a:lnTo>
                  <a:lnTo>
                    <a:pt x="937" y="154"/>
                  </a:lnTo>
                  <a:lnTo>
                    <a:pt x="948" y="158"/>
                  </a:lnTo>
                  <a:lnTo>
                    <a:pt x="962" y="166"/>
                  </a:lnTo>
                  <a:lnTo>
                    <a:pt x="973" y="171"/>
                  </a:lnTo>
                  <a:lnTo>
                    <a:pt x="985" y="179"/>
                  </a:lnTo>
                  <a:lnTo>
                    <a:pt x="996" y="187"/>
                  </a:lnTo>
                  <a:lnTo>
                    <a:pt x="1006" y="192"/>
                  </a:lnTo>
                  <a:lnTo>
                    <a:pt x="1017" y="202"/>
                  </a:lnTo>
                  <a:lnTo>
                    <a:pt x="1028" y="211"/>
                  </a:lnTo>
                  <a:lnTo>
                    <a:pt x="1040" y="219"/>
                  </a:lnTo>
                  <a:lnTo>
                    <a:pt x="1049" y="229"/>
                  </a:lnTo>
                  <a:lnTo>
                    <a:pt x="1061" y="238"/>
                  </a:lnTo>
                  <a:lnTo>
                    <a:pt x="1070" y="248"/>
                  </a:lnTo>
                  <a:lnTo>
                    <a:pt x="1080" y="257"/>
                  </a:lnTo>
                  <a:lnTo>
                    <a:pt x="1089" y="268"/>
                  </a:lnTo>
                  <a:lnTo>
                    <a:pt x="1097" y="278"/>
                  </a:lnTo>
                  <a:lnTo>
                    <a:pt x="1106" y="289"/>
                  </a:lnTo>
                  <a:lnTo>
                    <a:pt x="1114" y="301"/>
                  </a:lnTo>
                  <a:lnTo>
                    <a:pt x="1123" y="312"/>
                  </a:lnTo>
                  <a:lnTo>
                    <a:pt x="1129" y="325"/>
                  </a:lnTo>
                  <a:lnTo>
                    <a:pt x="1137" y="339"/>
                  </a:lnTo>
                  <a:lnTo>
                    <a:pt x="1142" y="352"/>
                  </a:lnTo>
                  <a:lnTo>
                    <a:pt x="1148" y="365"/>
                  </a:lnTo>
                  <a:lnTo>
                    <a:pt x="1154" y="381"/>
                  </a:lnTo>
                  <a:lnTo>
                    <a:pt x="1161" y="396"/>
                  </a:lnTo>
                  <a:lnTo>
                    <a:pt x="1165" y="413"/>
                  </a:lnTo>
                  <a:lnTo>
                    <a:pt x="1169" y="428"/>
                  </a:lnTo>
                  <a:lnTo>
                    <a:pt x="1173" y="443"/>
                  </a:lnTo>
                  <a:lnTo>
                    <a:pt x="1177" y="462"/>
                  </a:lnTo>
                  <a:lnTo>
                    <a:pt x="1177" y="470"/>
                  </a:lnTo>
                  <a:lnTo>
                    <a:pt x="1179" y="479"/>
                  </a:lnTo>
                  <a:lnTo>
                    <a:pt x="1179" y="487"/>
                  </a:lnTo>
                  <a:lnTo>
                    <a:pt x="1180" y="497"/>
                  </a:lnTo>
                  <a:lnTo>
                    <a:pt x="1179" y="504"/>
                  </a:lnTo>
                  <a:lnTo>
                    <a:pt x="1179" y="514"/>
                  </a:lnTo>
                  <a:lnTo>
                    <a:pt x="1179" y="521"/>
                  </a:lnTo>
                  <a:lnTo>
                    <a:pt x="1179" y="531"/>
                  </a:lnTo>
                  <a:lnTo>
                    <a:pt x="1177" y="538"/>
                  </a:lnTo>
                  <a:lnTo>
                    <a:pt x="1175" y="546"/>
                  </a:lnTo>
                  <a:lnTo>
                    <a:pt x="1175" y="554"/>
                  </a:lnTo>
                  <a:lnTo>
                    <a:pt x="1175" y="563"/>
                  </a:lnTo>
                  <a:lnTo>
                    <a:pt x="1171" y="571"/>
                  </a:lnTo>
                  <a:lnTo>
                    <a:pt x="1171" y="580"/>
                  </a:lnTo>
                  <a:lnTo>
                    <a:pt x="1169" y="588"/>
                  </a:lnTo>
                  <a:lnTo>
                    <a:pt x="1167" y="597"/>
                  </a:lnTo>
                  <a:lnTo>
                    <a:pt x="1163" y="605"/>
                  </a:lnTo>
                  <a:lnTo>
                    <a:pt x="1161" y="613"/>
                  </a:lnTo>
                  <a:lnTo>
                    <a:pt x="1158" y="620"/>
                  </a:lnTo>
                  <a:lnTo>
                    <a:pt x="1156" y="628"/>
                  </a:lnTo>
                  <a:lnTo>
                    <a:pt x="1152" y="637"/>
                  </a:lnTo>
                  <a:lnTo>
                    <a:pt x="1148" y="645"/>
                  </a:lnTo>
                  <a:lnTo>
                    <a:pt x="1146" y="653"/>
                  </a:lnTo>
                  <a:lnTo>
                    <a:pt x="1144" y="662"/>
                  </a:lnTo>
                  <a:lnTo>
                    <a:pt x="1140" y="670"/>
                  </a:lnTo>
                  <a:lnTo>
                    <a:pt x="1137" y="677"/>
                  </a:lnTo>
                  <a:lnTo>
                    <a:pt x="1131" y="685"/>
                  </a:lnTo>
                  <a:lnTo>
                    <a:pt x="1127" y="694"/>
                  </a:lnTo>
                  <a:lnTo>
                    <a:pt x="1123" y="704"/>
                  </a:lnTo>
                  <a:lnTo>
                    <a:pt x="1120" y="711"/>
                  </a:lnTo>
                  <a:lnTo>
                    <a:pt x="1116" y="719"/>
                  </a:lnTo>
                  <a:lnTo>
                    <a:pt x="1112" y="729"/>
                  </a:lnTo>
                  <a:lnTo>
                    <a:pt x="1106" y="736"/>
                  </a:lnTo>
                  <a:lnTo>
                    <a:pt x="1101" y="744"/>
                  </a:lnTo>
                  <a:lnTo>
                    <a:pt x="1095" y="751"/>
                  </a:lnTo>
                  <a:lnTo>
                    <a:pt x="1091" y="761"/>
                  </a:lnTo>
                  <a:lnTo>
                    <a:pt x="1083" y="769"/>
                  </a:lnTo>
                  <a:lnTo>
                    <a:pt x="1080" y="776"/>
                  </a:lnTo>
                  <a:lnTo>
                    <a:pt x="1074" y="784"/>
                  </a:lnTo>
                  <a:lnTo>
                    <a:pt x="1070" y="791"/>
                  </a:lnTo>
                  <a:lnTo>
                    <a:pt x="1063" y="799"/>
                  </a:lnTo>
                  <a:lnTo>
                    <a:pt x="1057" y="808"/>
                  </a:lnTo>
                  <a:lnTo>
                    <a:pt x="1051" y="816"/>
                  </a:lnTo>
                  <a:lnTo>
                    <a:pt x="1045" y="824"/>
                  </a:lnTo>
                  <a:lnTo>
                    <a:pt x="1040" y="831"/>
                  </a:lnTo>
                  <a:lnTo>
                    <a:pt x="1034" y="839"/>
                  </a:lnTo>
                  <a:lnTo>
                    <a:pt x="1026" y="848"/>
                  </a:lnTo>
                  <a:lnTo>
                    <a:pt x="1023" y="856"/>
                  </a:lnTo>
                  <a:lnTo>
                    <a:pt x="1013" y="864"/>
                  </a:lnTo>
                  <a:lnTo>
                    <a:pt x="1007" y="871"/>
                  </a:lnTo>
                  <a:lnTo>
                    <a:pt x="1000" y="879"/>
                  </a:lnTo>
                  <a:lnTo>
                    <a:pt x="996" y="888"/>
                  </a:lnTo>
                  <a:lnTo>
                    <a:pt x="987" y="896"/>
                  </a:lnTo>
                  <a:lnTo>
                    <a:pt x="981" y="904"/>
                  </a:lnTo>
                  <a:lnTo>
                    <a:pt x="975" y="911"/>
                  </a:lnTo>
                  <a:lnTo>
                    <a:pt x="969" y="919"/>
                  </a:lnTo>
                  <a:lnTo>
                    <a:pt x="962" y="928"/>
                  </a:lnTo>
                  <a:lnTo>
                    <a:pt x="954" y="936"/>
                  </a:lnTo>
                  <a:lnTo>
                    <a:pt x="948" y="943"/>
                  </a:lnTo>
                  <a:lnTo>
                    <a:pt x="941" y="951"/>
                  </a:lnTo>
                  <a:lnTo>
                    <a:pt x="933" y="959"/>
                  </a:lnTo>
                  <a:lnTo>
                    <a:pt x="928" y="966"/>
                  </a:lnTo>
                  <a:lnTo>
                    <a:pt x="920" y="976"/>
                  </a:lnTo>
                  <a:lnTo>
                    <a:pt x="914" y="985"/>
                  </a:lnTo>
                  <a:lnTo>
                    <a:pt x="905" y="993"/>
                  </a:lnTo>
                  <a:lnTo>
                    <a:pt x="895" y="1002"/>
                  </a:lnTo>
                  <a:lnTo>
                    <a:pt x="888" y="1012"/>
                  </a:lnTo>
                  <a:lnTo>
                    <a:pt x="880" y="1023"/>
                  </a:lnTo>
                  <a:lnTo>
                    <a:pt x="871" y="1033"/>
                  </a:lnTo>
                  <a:lnTo>
                    <a:pt x="861" y="1042"/>
                  </a:lnTo>
                  <a:lnTo>
                    <a:pt x="853" y="1052"/>
                  </a:lnTo>
                  <a:lnTo>
                    <a:pt x="846" y="1063"/>
                  </a:lnTo>
                  <a:lnTo>
                    <a:pt x="836" y="1073"/>
                  </a:lnTo>
                  <a:lnTo>
                    <a:pt x="829" y="1082"/>
                  </a:lnTo>
                  <a:lnTo>
                    <a:pt x="821" y="1092"/>
                  </a:lnTo>
                  <a:lnTo>
                    <a:pt x="812" y="1103"/>
                  </a:lnTo>
                  <a:lnTo>
                    <a:pt x="804" y="1113"/>
                  </a:lnTo>
                  <a:lnTo>
                    <a:pt x="796" y="1124"/>
                  </a:lnTo>
                  <a:lnTo>
                    <a:pt x="789" y="1134"/>
                  </a:lnTo>
                  <a:lnTo>
                    <a:pt x="781" y="1145"/>
                  </a:lnTo>
                  <a:lnTo>
                    <a:pt x="774" y="1154"/>
                  </a:lnTo>
                  <a:lnTo>
                    <a:pt x="764" y="1164"/>
                  </a:lnTo>
                  <a:lnTo>
                    <a:pt x="756" y="1175"/>
                  </a:lnTo>
                  <a:lnTo>
                    <a:pt x="749" y="1187"/>
                  </a:lnTo>
                  <a:lnTo>
                    <a:pt x="741" y="1196"/>
                  </a:lnTo>
                  <a:lnTo>
                    <a:pt x="734" y="1208"/>
                  </a:lnTo>
                  <a:lnTo>
                    <a:pt x="726" y="1217"/>
                  </a:lnTo>
                  <a:lnTo>
                    <a:pt x="720" y="1231"/>
                  </a:lnTo>
                  <a:lnTo>
                    <a:pt x="711" y="1240"/>
                  </a:lnTo>
                  <a:lnTo>
                    <a:pt x="703" y="1251"/>
                  </a:lnTo>
                  <a:lnTo>
                    <a:pt x="698" y="1261"/>
                  </a:lnTo>
                  <a:lnTo>
                    <a:pt x="692" y="1274"/>
                  </a:lnTo>
                  <a:lnTo>
                    <a:pt x="684" y="1284"/>
                  </a:lnTo>
                  <a:lnTo>
                    <a:pt x="679" y="1297"/>
                  </a:lnTo>
                  <a:lnTo>
                    <a:pt x="673" y="1309"/>
                  </a:lnTo>
                  <a:lnTo>
                    <a:pt x="669" y="1320"/>
                  </a:lnTo>
                  <a:lnTo>
                    <a:pt x="661" y="1331"/>
                  </a:lnTo>
                  <a:lnTo>
                    <a:pt x="656" y="1343"/>
                  </a:lnTo>
                  <a:lnTo>
                    <a:pt x="650" y="1354"/>
                  </a:lnTo>
                  <a:lnTo>
                    <a:pt x="646" y="1366"/>
                  </a:lnTo>
                  <a:lnTo>
                    <a:pt x="639" y="1377"/>
                  </a:lnTo>
                  <a:lnTo>
                    <a:pt x="635" y="1388"/>
                  </a:lnTo>
                  <a:lnTo>
                    <a:pt x="631" y="1402"/>
                  </a:lnTo>
                  <a:lnTo>
                    <a:pt x="627" y="1415"/>
                  </a:lnTo>
                  <a:lnTo>
                    <a:pt x="622" y="1426"/>
                  </a:lnTo>
                  <a:lnTo>
                    <a:pt x="618" y="1438"/>
                  </a:lnTo>
                  <a:lnTo>
                    <a:pt x="614" y="1451"/>
                  </a:lnTo>
                  <a:lnTo>
                    <a:pt x="612" y="1464"/>
                  </a:lnTo>
                  <a:lnTo>
                    <a:pt x="606" y="1476"/>
                  </a:lnTo>
                  <a:lnTo>
                    <a:pt x="606" y="1489"/>
                  </a:lnTo>
                  <a:lnTo>
                    <a:pt x="602" y="1502"/>
                  </a:lnTo>
                  <a:lnTo>
                    <a:pt x="602" y="1516"/>
                  </a:lnTo>
                  <a:lnTo>
                    <a:pt x="599" y="1527"/>
                  </a:lnTo>
                  <a:lnTo>
                    <a:pt x="599" y="1539"/>
                  </a:lnTo>
                  <a:lnTo>
                    <a:pt x="595" y="1552"/>
                  </a:lnTo>
                  <a:lnTo>
                    <a:pt x="595" y="1565"/>
                  </a:lnTo>
                  <a:lnTo>
                    <a:pt x="595" y="1579"/>
                  </a:lnTo>
                  <a:lnTo>
                    <a:pt x="595" y="1592"/>
                  </a:lnTo>
                  <a:lnTo>
                    <a:pt x="595" y="1605"/>
                  </a:lnTo>
                  <a:lnTo>
                    <a:pt x="595" y="1620"/>
                  </a:lnTo>
                  <a:lnTo>
                    <a:pt x="595" y="1634"/>
                  </a:lnTo>
                  <a:lnTo>
                    <a:pt x="595" y="1649"/>
                  </a:lnTo>
                  <a:lnTo>
                    <a:pt x="597" y="1662"/>
                  </a:lnTo>
                  <a:lnTo>
                    <a:pt x="599" y="1675"/>
                  </a:lnTo>
                  <a:lnTo>
                    <a:pt x="602" y="1689"/>
                  </a:lnTo>
                  <a:lnTo>
                    <a:pt x="604" y="1704"/>
                  </a:lnTo>
                  <a:lnTo>
                    <a:pt x="608" y="1719"/>
                  </a:lnTo>
                  <a:lnTo>
                    <a:pt x="612" y="1734"/>
                  </a:lnTo>
                  <a:lnTo>
                    <a:pt x="614" y="1740"/>
                  </a:lnTo>
                  <a:lnTo>
                    <a:pt x="618" y="1746"/>
                  </a:lnTo>
                  <a:lnTo>
                    <a:pt x="747" y="1959"/>
                  </a:lnTo>
                  <a:lnTo>
                    <a:pt x="751" y="1970"/>
                  </a:lnTo>
                  <a:lnTo>
                    <a:pt x="751" y="1982"/>
                  </a:lnTo>
                  <a:lnTo>
                    <a:pt x="751" y="1995"/>
                  </a:lnTo>
                  <a:lnTo>
                    <a:pt x="751" y="2008"/>
                  </a:lnTo>
                  <a:lnTo>
                    <a:pt x="747" y="2022"/>
                  </a:lnTo>
                  <a:lnTo>
                    <a:pt x="743" y="2035"/>
                  </a:lnTo>
                  <a:lnTo>
                    <a:pt x="737" y="2046"/>
                  </a:lnTo>
                  <a:lnTo>
                    <a:pt x="730" y="2058"/>
                  </a:lnTo>
                  <a:lnTo>
                    <a:pt x="722" y="2065"/>
                  </a:lnTo>
                  <a:lnTo>
                    <a:pt x="715" y="2073"/>
                  </a:lnTo>
                  <a:lnTo>
                    <a:pt x="705" y="2079"/>
                  </a:lnTo>
                  <a:lnTo>
                    <a:pt x="698" y="2084"/>
                  </a:lnTo>
                  <a:lnTo>
                    <a:pt x="686" y="2090"/>
                  </a:lnTo>
                  <a:lnTo>
                    <a:pt x="677" y="2096"/>
                  </a:lnTo>
                  <a:lnTo>
                    <a:pt x="667" y="2099"/>
                  </a:lnTo>
                  <a:lnTo>
                    <a:pt x="656" y="2105"/>
                  </a:lnTo>
                  <a:lnTo>
                    <a:pt x="642" y="2105"/>
                  </a:lnTo>
                  <a:lnTo>
                    <a:pt x="631" y="2109"/>
                  </a:lnTo>
                  <a:lnTo>
                    <a:pt x="618" y="2109"/>
                  </a:lnTo>
                  <a:lnTo>
                    <a:pt x="606" y="2113"/>
                  </a:lnTo>
                  <a:lnTo>
                    <a:pt x="599" y="2113"/>
                  </a:lnTo>
                  <a:lnTo>
                    <a:pt x="591" y="2113"/>
                  </a:lnTo>
                  <a:lnTo>
                    <a:pt x="583" y="2113"/>
                  </a:lnTo>
                  <a:lnTo>
                    <a:pt x="576" y="2113"/>
                  </a:lnTo>
                  <a:lnTo>
                    <a:pt x="563" y="2113"/>
                  </a:lnTo>
                  <a:lnTo>
                    <a:pt x="549" y="2113"/>
                  </a:lnTo>
                  <a:lnTo>
                    <a:pt x="540" y="2196"/>
                  </a:lnTo>
                  <a:lnTo>
                    <a:pt x="549" y="2196"/>
                  </a:lnTo>
                  <a:lnTo>
                    <a:pt x="559" y="2196"/>
                  </a:lnTo>
                  <a:lnTo>
                    <a:pt x="568" y="2196"/>
                  </a:lnTo>
                  <a:lnTo>
                    <a:pt x="578" y="2198"/>
                  </a:lnTo>
                  <a:lnTo>
                    <a:pt x="587" y="2198"/>
                  </a:lnTo>
                  <a:lnTo>
                    <a:pt x="599" y="2198"/>
                  </a:lnTo>
                  <a:lnTo>
                    <a:pt x="606" y="2198"/>
                  </a:lnTo>
                  <a:lnTo>
                    <a:pt x="618" y="2198"/>
                  </a:lnTo>
                  <a:lnTo>
                    <a:pt x="625" y="2195"/>
                  </a:lnTo>
                  <a:lnTo>
                    <a:pt x="635" y="2193"/>
                  </a:lnTo>
                  <a:lnTo>
                    <a:pt x="642" y="2193"/>
                  </a:lnTo>
                  <a:lnTo>
                    <a:pt x="652" y="2191"/>
                  </a:lnTo>
                  <a:lnTo>
                    <a:pt x="660" y="2189"/>
                  </a:lnTo>
                  <a:lnTo>
                    <a:pt x="669" y="2187"/>
                  </a:lnTo>
                  <a:lnTo>
                    <a:pt x="679" y="2185"/>
                  </a:lnTo>
                  <a:lnTo>
                    <a:pt x="688" y="2183"/>
                  </a:lnTo>
                  <a:lnTo>
                    <a:pt x="696" y="2179"/>
                  </a:lnTo>
                  <a:lnTo>
                    <a:pt x="703" y="2176"/>
                  </a:lnTo>
                  <a:lnTo>
                    <a:pt x="711" y="2172"/>
                  </a:lnTo>
                  <a:lnTo>
                    <a:pt x="718" y="2170"/>
                  </a:lnTo>
                  <a:lnTo>
                    <a:pt x="726" y="2164"/>
                  </a:lnTo>
                  <a:lnTo>
                    <a:pt x="734" y="2160"/>
                  </a:lnTo>
                  <a:lnTo>
                    <a:pt x="739" y="2157"/>
                  </a:lnTo>
                  <a:lnTo>
                    <a:pt x="747" y="2153"/>
                  </a:lnTo>
                  <a:lnTo>
                    <a:pt x="753" y="2147"/>
                  </a:lnTo>
                  <a:lnTo>
                    <a:pt x="760" y="2141"/>
                  </a:lnTo>
                  <a:lnTo>
                    <a:pt x="766" y="2136"/>
                  </a:lnTo>
                  <a:lnTo>
                    <a:pt x="774" y="2132"/>
                  </a:lnTo>
                  <a:lnTo>
                    <a:pt x="777" y="2126"/>
                  </a:lnTo>
                  <a:lnTo>
                    <a:pt x="785" y="2120"/>
                  </a:lnTo>
                  <a:lnTo>
                    <a:pt x="791" y="2115"/>
                  </a:lnTo>
                  <a:lnTo>
                    <a:pt x="796" y="2109"/>
                  </a:lnTo>
                  <a:lnTo>
                    <a:pt x="802" y="2099"/>
                  </a:lnTo>
                  <a:lnTo>
                    <a:pt x="808" y="2088"/>
                  </a:lnTo>
                  <a:lnTo>
                    <a:pt x="814" y="2079"/>
                  </a:lnTo>
                  <a:lnTo>
                    <a:pt x="821" y="2067"/>
                  </a:lnTo>
                  <a:lnTo>
                    <a:pt x="825" y="2056"/>
                  </a:lnTo>
                  <a:lnTo>
                    <a:pt x="829" y="2044"/>
                  </a:lnTo>
                  <a:lnTo>
                    <a:pt x="831" y="2031"/>
                  </a:lnTo>
                  <a:lnTo>
                    <a:pt x="834" y="2022"/>
                  </a:lnTo>
                  <a:lnTo>
                    <a:pt x="834" y="2008"/>
                  </a:lnTo>
                  <a:lnTo>
                    <a:pt x="836" y="1997"/>
                  </a:lnTo>
                  <a:lnTo>
                    <a:pt x="836" y="1985"/>
                  </a:lnTo>
                  <a:lnTo>
                    <a:pt x="836" y="1974"/>
                  </a:lnTo>
                  <a:lnTo>
                    <a:pt x="834" y="1961"/>
                  </a:lnTo>
                  <a:lnTo>
                    <a:pt x="833" y="1949"/>
                  </a:lnTo>
                  <a:lnTo>
                    <a:pt x="831" y="1938"/>
                  </a:lnTo>
                  <a:lnTo>
                    <a:pt x="827" y="1926"/>
                  </a:lnTo>
                  <a:lnTo>
                    <a:pt x="825" y="1923"/>
                  </a:lnTo>
                  <a:lnTo>
                    <a:pt x="823" y="1919"/>
                  </a:lnTo>
                  <a:lnTo>
                    <a:pt x="694" y="1708"/>
                  </a:lnTo>
                  <a:lnTo>
                    <a:pt x="690" y="1694"/>
                  </a:lnTo>
                  <a:lnTo>
                    <a:pt x="686" y="1683"/>
                  </a:lnTo>
                  <a:lnTo>
                    <a:pt x="684" y="1670"/>
                  </a:lnTo>
                  <a:lnTo>
                    <a:pt x="682" y="1656"/>
                  </a:lnTo>
                  <a:lnTo>
                    <a:pt x="680" y="1645"/>
                  </a:lnTo>
                  <a:lnTo>
                    <a:pt x="680" y="1634"/>
                  </a:lnTo>
                  <a:lnTo>
                    <a:pt x="680" y="1622"/>
                  </a:lnTo>
                  <a:lnTo>
                    <a:pt x="680" y="1611"/>
                  </a:lnTo>
                  <a:lnTo>
                    <a:pt x="679" y="1599"/>
                  </a:lnTo>
                  <a:lnTo>
                    <a:pt x="679" y="1586"/>
                  </a:lnTo>
                  <a:lnTo>
                    <a:pt x="679" y="1575"/>
                  </a:lnTo>
                  <a:lnTo>
                    <a:pt x="680" y="1563"/>
                  </a:lnTo>
                  <a:lnTo>
                    <a:pt x="680" y="1552"/>
                  </a:lnTo>
                  <a:lnTo>
                    <a:pt x="682" y="1540"/>
                  </a:lnTo>
                  <a:lnTo>
                    <a:pt x="684" y="1529"/>
                  </a:lnTo>
                  <a:lnTo>
                    <a:pt x="686" y="1520"/>
                  </a:lnTo>
                  <a:lnTo>
                    <a:pt x="686" y="1508"/>
                  </a:lnTo>
                  <a:lnTo>
                    <a:pt x="690" y="1495"/>
                  </a:lnTo>
                  <a:lnTo>
                    <a:pt x="690" y="1485"/>
                  </a:lnTo>
                  <a:lnTo>
                    <a:pt x="696" y="1474"/>
                  </a:lnTo>
                  <a:lnTo>
                    <a:pt x="698" y="1463"/>
                  </a:lnTo>
                  <a:lnTo>
                    <a:pt x="701" y="1451"/>
                  </a:lnTo>
                  <a:lnTo>
                    <a:pt x="705" y="1442"/>
                  </a:lnTo>
                  <a:lnTo>
                    <a:pt x="709" y="1432"/>
                  </a:lnTo>
                  <a:lnTo>
                    <a:pt x="713" y="1421"/>
                  </a:lnTo>
                  <a:lnTo>
                    <a:pt x="717" y="1411"/>
                  </a:lnTo>
                  <a:lnTo>
                    <a:pt x="720" y="1398"/>
                  </a:lnTo>
                  <a:lnTo>
                    <a:pt x="726" y="1388"/>
                  </a:lnTo>
                  <a:lnTo>
                    <a:pt x="730" y="1379"/>
                  </a:lnTo>
                  <a:lnTo>
                    <a:pt x="736" y="1369"/>
                  </a:lnTo>
                  <a:lnTo>
                    <a:pt x="741" y="1358"/>
                  </a:lnTo>
                  <a:lnTo>
                    <a:pt x="747" y="1350"/>
                  </a:lnTo>
                  <a:lnTo>
                    <a:pt x="751" y="1337"/>
                  </a:lnTo>
                  <a:lnTo>
                    <a:pt x="756" y="1328"/>
                  </a:lnTo>
                  <a:lnTo>
                    <a:pt x="762" y="1318"/>
                  </a:lnTo>
                  <a:lnTo>
                    <a:pt x="770" y="1309"/>
                  </a:lnTo>
                  <a:lnTo>
                    <a:pt x="774" y="1297"/>
                  </a:lnTo>
                  <a:lnTo>
                    <a:pt x="781" y="1288"/>
                  </a:lnTo>
                  <a:lnTo>
                    <a:pt x="787" y="1278"/>
                  </a:lnTo>
                  <a:lnTo>
                    <a:pt x="795" y="1269"/>
                  </a:lnTo>
                  <a:lnTo>
                    <a:pt x="800" y="1257"/>
                  </a:lnTo>
                  <a:lnTo>
                    <a:pt x="806" y="1248"/>
                  </a:lnTo>
                  <a:lnTo>
                    <a:pt x="812" y="1238"/>
                  </a:lnTo>
                  <a:lnTo>
                    <a:pt x="821" y="1229"/>
                  </a:lnTo>
                  <a:lnTo>
                    <a:pt x="827" y="1217"/>
                  </a:lnTo>
                  <a:lnTo>
                    <a:pt x="834" y="1210"/>
                  </a:lnTo>
                  <a:lnTo>
                    <a:pt x="844" y="1198"/>
                  </a:lnTo>
                  <a:lnTo>
                    <a:pt x="852" y="1191"/>
                  </a:lnTo>
                  <a:lnTo>
                    <a:pt x="857" y="1179"/>
                  </a:lnTo>
                  <a:lnTo>
                    <a:pt x="865" y="1170"/>
                  </a:lnTo>
                  <a:lnTo>
                    <a:pt x="872" y="1160"/>
                  </a:lnTo>
                  <a:lnTo>
                    <a:pt x="880" y="1151"/>
                  </a:lnTo>
                  <a:lnTo>
                    <a:pt x="888" y="1141"/>
                  </a:lnTo>
                  <a:lnTo>
                    <a:pt x="895" y="1134"/>
                  </a:lnTo>
                  <a:lnTo>
                    <a:pt x="905" y="1122"/>
                  </a:lnTo>
                  <a:lnTo>
                    <a:pt x="912" y="1115"/>
                  </a:lnTo>
                  <a:lnTo>
                    <a:pt x="920" y="1103"/>
                  </a:lnTo>
                  <a:lnTo>
                    <a:pt x="928" y="1094"/>
                  </a:lnTo>
                  <a:lnTo>
                    <a:pt x="935" y="1086"/>
                  </a:lnTo>
                  <a:lnTo>
                    <a:pt x="945" y="1077"/>
                  </a:lnTo>
                  <a:lnTo>
                    <a:pt x="952" y="1067"/>
                  </a:lnTo>
                  <a:lnTo>
                    <a:pt x="962" y="1058"/>
                  </a:lnTo>
                  <a:lnTo>
                    <a:pt x="969" y="1048"/>
                  </a:lnTo>
                  <a:lnTo>
                    <a:pt x="979" y="1040"/>
                  </a:lnTo>
                  <a:lnTo>
                    <a:pt x="979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82480" y="271440"/>
              <a:ext cx="104040" cy="534960"/>
            </a:xfrm>
            <a:custGeom>
              <a:avLst/>
              <a:gdLst/>
              <a:ahLst/>
              <a:rect l="l" t="t" r="r" b="b"/>
              <a:pathLst>
                <a:path w="578" h="2970">
                  <a:moveTo>
                    <a:pt x="116" y="0"/>
                  </a:moveTo>
                  <a:lnTo>
                    <a:pt x="0" y="573"/>
                  </a:lnTo>
                  <a:lnTo>
                    <a:pt x="0" y="575"/>
                  </a:lnTo>
                  <a:lnTo>
                    <a:pt x="6" y="580"/>
                  </a:lnTo>
                  <a:lnTo>
                    <a:pt x="10" y="584"/>
                  </a:lnTo>
                  <a:lnTo>
                    <a:pt x="14" y="590"/>
                  </a:lnTo>
                  <a:lnTo>
                    <a:pt x="18" y="597"/>
                  </a:lnTo>
                  <a:lnTo>
                    <a:pt x="25" y="605"/>
                  </a:lnTo>
                  <a:lnTo>
                    <a:pt x="29" y="611"/>
                  </a:lnTo>
                  <a:lnTo>
                    <a:pt x="37" y="620"/>
                  </a:lnTo>
                  <a:lnTo>
                    <a:pt x="44" y="628"/>
                  </a:lnTo>
                  <a:lnTo>
                    <a:pt x="52" y="641"/>
                  </a:lnTo>
                  <a:lnTo>
                    <a:pt x="59" y="651"/>
                  </a:lnTo>
                  <a:lnTo>
                    <a:pt x="69" y="664"/>
                  </a:lnTo>
                  <a:lnTo>
                    <a:pt x="78" y="677"/>
                  </a:lnTo>
                  <a:lnTo>
                    <a:pt x="90" y="692"/>
                  </a:lnTo>
                  <a:lnTo>
                    <a:pt x="97" y="706"/>
                  </a:lnTo>
                  <a:lnTo>
                    <a:pt x="107" y="721"/>
                  </a:lnTo>
                  <a:lnTo>
                    <a:pt x="118" y="736"/>
                  </a:lnTo>
                  <a:lnTo>
                    <a:pt x="130" y="753"/>
                  </a:lnTo>
                  <a:lnTo>
                    <a:pt x="141" y="769"/>
                  </a:lnTo>
                  <a:lnTo>
                    <a:pt x="153" y="788"/>
                  </a:lnTo>
                  <a:lnTo>
                    <a:pt x="164" y="807"/>
                  </a:lnTo>
                  <a:lnTo>
                    <a:pt x="177" y="827"/>
                  </a:lnTo>
                  <a:lnTo>
                    <a:pt x="189" y="847"/>
                  </a:lnTo>
                  <a:lnTo>
                    <a:pt x="200" y="866"/>
                  </a:lnTo>
                  <a:lnTo>
                    <a:pt x="213" y="888"/>
                  </a:lnTo>
                  <a:lnTo>
                    <a:pt x="227" y="909"/>
                  </a:lnTo>
                  <a:lnTo>
                    <a:pt x="238" y="932"/>
                  </a:lnTo>
                  <a:lnTo>
                    <a:pt x="251" y="955"/>
                  </a:lnTo>
                  <a:lnTo>
                    <a:pt x="265" y="980"/>
                  </a:lnTo>
                  <a:lnTo>
                    <a:pt x="278" y="1004"/>
                  </a:lnTo>
                  <a:lnTo>
                    <a:pt x="291" y="1029"/>
                  </a:lnTo>
                  <a:lnTo>
                    <a:pt x="303" y="1052"/>
                  </a:lnTo>
                  <a:lnTo>
                    <a:pt x="314" y="1077"/>
                  </a:lnTo>
                  <a:lnTo>
                    <a:pt x="327" y="1103"/>
                  </a:lnTo>
                  <a:lnTo>
                    <a:pt x="339" y="1130"/>
                  </a:lnTo>
                  <a:lnTo>
                    <a:pt x="352" y="1156"/>
                  </a:lnTo>
                  <a:lnTo>
                    <a:pt x="364" y="1183"/>
                  </a:lnTo>
                  <a:lnTo>
                    <a:pt x="377" y="1212"/>
                  </a:lnTo>
                  <a:lnTo>
                    <a:pt x="388" y="1240"/>
                  </a:lnTo>
                  <a:lnTo>
                    <a:pt x="400" y="1267"/>
                  </a:lnTo>
                  <a:lnTo>
                    <a:pt x="409" y="1295"/>
                  </a:lnTo>
                  <a:lnTo>
                    <a:pt x="423" y="1326"/>
                  </a:lnTo>
                  <a:lnTo>
                    <a:pt x="430" y="1354"/>
                  </a:lnTo>
                  <a:lnTo>
                    <a:pt x="442" y="1385"/>
                  </a:lnTo>
                  <a:lnTo>
                    <a:pt x="453" y="1415"/>
                  </a:lnTo>
                  <a:lnTo>
                    <a:pt x="462" y="1445"/>
                  </a:lnTo>
                  <a:lnTo>
                    <a:pt x="470" y="1476"/>
                  </a:lnTo>
                  <a:lnTo>
                    <a:pt x="480" y="1506"/>
                  </a:lnTo>
                  <a:lnTo>
                    <a:pt x="487" y="1539"/>
                  </a:lnTo>
                  <a:lnTo>
                    <a:pt x="495" y="1569"/>
                  </a:lnTo>
                  <a:lnTo>
                    <a:pt x="500" y="1599"/>
                  </a:lnTo>
                  <a:lnTo>
                    <a:pt x="506" y="1632"/>
                  </a:lnTo>
                  <a:lnTo>
                    <a:pt x="512" y="1664"/>
                  </a:lnTo>
                  <a:lnTo>
                    <a:pt x="519" y="1696"/>
                  </a:lnTo>
                  <a:lnTo>
                    <a:pt x="523" y="1729"/>
                  </a:lnTo>
                  <a:lnTo>
                    <a:pt x="527" y="1761"/>
                  </a:lnTo>
                  <a:lnTo>
                    <a:pt x="529" y="1793"/>
                  </a:lnTo>
                  <a:lnTo>
                    <a:pt x="533" y="1828"/>
                  </a:lnTo>
                  <a:lnTo>
                    <a:pt x="535" y="1860"/>
                  </a:lnTo>
                  <a:lnTo>
                    <a:pt x="537" y="1894"/>
                  </a:lnTo>
                  <a:lnTo>
                    <a:pt x="537" y="1926"/>
                  </a:lnTo>
                  <a:lnTo>
                    <a:pt x="537" y="1961"/>
                  </a:lnTo>
                  <a:lnTo>
                    <a:pt x="533" y="1993"/>
                  </a:lnTo>
                  <a:lnTo>
                    <a:pt x="531" y="2025"/>
                  </a:lnTo>
                  <a:lnTo>
                    <a:pt x="527" y="2056"/>
                  </a:lnTo>
                  <a:lnTo>
                    <a:pt x="525" y="2088"/>
                  </a:lnTo>
                  <a:lnTo>
                    <a:pt x="519" y="2117"/>
                  </a:lnTo>
                  <a:lnTo>
                    <a:pt x="516" y="2145"/>
                  </a:lnTo>
                  <a:lnTo>
                    <a:pt x="510" y="2176"/>
                  </a:lnTo>
                  <a:lnTo>
                    <a:pt x="506" y="2204"/>
                  </a:lnTo>
                  <a:lnTo>
                    <a:pt x="500" y="2231"/>
                  </a:lnTo>
                  <a:lnTo>
                    <a:pt x="493" y="2259"/>
                  </a:lnTo>
                  <a:lnTo>
                    <a:pt x="487" y="2286"/>
                  </a:lnTo>
                  <a:lnTo>
                    <a:pt x="480" y="2312"/>
                  </a:lnTo>
                  <a:lnTo>
                    <a:pt x="472" y="2337"/>
                  </a:lnTo>
                  <a:lnTo>
                    <a:pt x="464" y="2362"/>
                  </a:lnTo>
                  <a:lnTo>
                    <a:pt x="457" y="2387"/>
                  </a:lnTo>
                  <a:lnTo>
                    <a:pt x="449" y="2411"/>
                  </a:lnTo>
                  <a:lnTo>
                    <a:pt x="440" y="2432"/>
                  </a:lnTo>
                  <a:lnTo>
                    <a:pt x="430" y="2455"/>
                  </a:lnTo>
                  <a:lnTo>
                    <a:pt x="421" y="2476"/>
                  </a:lnTo>
                  <a:lnTo>
                    <a:pt x="411" y="2499"/>
                  </a:lnTo>
                  <a:lnTo>
                    <a:pt x="400" y="2520"/>
                  </a:lnTo>
                  <a:lnTo>
                    <a:pt x="392" y="2541"/>
                  </a:lnTo>
                  <a:lnTo>
                    <a:pt x="381" y="2560"/>
                  </a:lnTo>
                  <a:lnTo>
                    <a:pt x="371" y="2581"/>
                  </a:lnTo>
                  <a:lnTo>
                    <a:pt x="360" y="2598"/>
                  </a:lnTo>
                  <a:lnTo>
                    <a:pt x="348" y="2615"/>
                  </a:lnTo>
                  <a:lnTo>
                    <a:pt x="339" y="2634"/>
                  </a:lnTo>
                  <a:lnTo>
                    <a:pt x="327" y="2651"/>
                  </a:lnTo>
                  <a:lnTo>
                    <a:pt x="318" y="2668"/>
                  </a:lnTo>
                  <a:lnTo>
                    <a:pt x="307" y="2685"/>
                  </a:lnTo>
                  <a:lnTo>
                    <a:pt x="295" y="2700"/>
                  </a:lnTo>
                  <a:lnTo>
                    <a:pt x="286" y="2717"/>
                  </a:lnTo>
                  <a:lnTo>
                    <a:pt x="274" y="2731"/>
                  </a:lnTo>
                  <a:lnTo>
                    <a:pt x="261" y="2744"/>
                  </a:lnTo>
                  <a:lnTo>
                    <a:pt x="251" y="2757"/>
                  </a:lnTo>
                  <a:lnTo>
                    <a:pt x="240" y="2771"/>
                  </a:lnTo>
                  <a:lnTo>
                    <a:pt x="229" y="2782"/>
                  </a:lnTo>
                  <a:lnTo>
                    <a:pt x="217" y="2795"/>
                  </a:lnTo>
                  <a:lnTo>
                    <a:pt x="208" y="2807"/>
                  </a:lnTo>
                  <a:lnTo>
                    <a:pt x="198" y="2818"/>
                  </a:lnTo>
                  <a:lnTo>
                    <a:pt x="187" y="2828"/>
                  </a:lnTo>
                  <a:lnTo>
                    <a:pt x="177" y="2839"/>
                  </a:lnTo>
                  <a:lnTo>
                    <a:pt x="166" y="2849"/>
                  </a:lnTo>
                  <a:lnTo>
                    <a:pt x="158" y="2858"/>
                  </a:lnTo>
                  <a:lnTo>
                    <a:pt x="147" y="2866"/>
                  </a:lnTo>
                  <a:lnTo>
                    <a:pt x="139" y="2875"/>
                  </a:lnTo>
                  <a:lnTo>
                    <a:pt x="132" y="2883"/>
                  </a:lnTo>
                  <a:lnTo>
                    <a:pt x="124" y="2891"/>
                  </a:lnTo>
                  <a:lnTo>
                    <a:pt x="115" y="2896"/>
                  </a:lnTo>
                  <a:lnTo>
                    <a:pt x="107" y="2902"/>
                  </a:lnTo>
                  <a:lnTo>
                    <a:pt x="99" y="2908"/>
                  </a:lnTo>
                  <a:lnTo>
                    <a:pt x="94" y="2915"/>
                  </a:lnTo>
                  <a:lnTo>
                    <a:pt x="86" y="2919"/>
                  </a:lnTo>
                  <a:lnTo>
                    <a:pt x="80" y="2923"/>
                  </a:lnTo>
                  <a:lnTo>
                    <a:pt x="75" y="2927"/>
                  </a:lnTo>
                  <a:lnTo>
                    <a:pt x="71" y="2932"/>
                  </a:lnTo>
                  <a:lnTo>
                    <a:pt x="61" y="2938"/>
                  </a:lnTo>
                  <a:lnTo>
                    <a:pt x="56" y="2942"/>
                  </a:lnTo>
                  <a:lnTo>
                    <a:pt x="50" y="2946"/>
                  </a:lnTo>
                  <a:lnTo>
                    <a:pt x="50" y="2948"/>
                  </a:lnTo>
                  <a:lnTo>
                    <a:pt x="48" y="2949"/>
                  </a:lnTo>
                  <a:lnTo>
                    <a:pt x="48" y="2949"/>
                  </a:lnTo>
                  <a:lnTo>
                    <a:pt x="48" y="2949"/>
                  </a:lnTo>
                  <a:lnTo>
                    <a:pt x="113" y="2970"/>
                  </a:lnTo>
                  <a:lnTo>
                    <a:pt x="113" y="2968"/>
                  </a:lnTo>
                  <a:lnTo>
                    <a:pt x="118" y="2967"/>
                  </a:lnTo>
                  <a:lnTo>
                    <a:pt x="124" y="2961"/>
                  </a:lnTo>
                  <a:lnTo>
                    <a:pt x="134" y="2957"/>
                  </a:lnTo>
                  <a:lnTo>
                    <a:pt x="143" y="2948"/>
                  </a:lnTo>
                  <a:lnTo>
                    <a:pt x="154" y="2940"/>
                  </a:lnTo>
                  <a:lnTo>
                    <a:pt x="160" y="2932"/>
                  </a:lnTo>
                  <a:lnTo>
                    <a:pt x="168" y="2927"/>
                  </a:lnTo>
                  <a:lnTo>
                    <a:pt x="175" y="2921"/>
                  </a:lnTo>
                  <a:lnTo>
                    <a:pt x="183" y="2915"/>
                  </a:lnTo>
                  <a:lnTo>
                    <a:pt x="191" y="2908"/>
                  </a:lnTo>
                  <a:lnTo>
                    <a:pt x="200" y="2900"/>
                  </a:lnTo>
                  <a:lnTo>
                    <a:pt x="208" y="2892"/>
                  </a:lnTo>
                  <a:lnTo>
                    <a:pt x="217" y="2883"/>
                  </a:lnTo>
                  <a:lnTo>
                    <a:pt x="225" y="2873"/>
                  </a:lnTo>
                  <a:lnTo>
                    <a:pt x="234" y="2864"/>
                  </a:lnTo>
                  <a:lnTo>
                    <a:pt x="244" y="2852"/>
                  </a:lnTo>
                  <a:lnTo>
                    <a:pt x="255" y="2845"/>
                  </a:lnTo>
                  <a:lnTo>
                    <a:pt x="265" y="2832"/>
                  </a:lnTo>
                  <a:lnTo>
                    <a:pt x="274" y="2820"/>
                  </a:lnTo>
                  <a:lnTo>
                    <a:pt x="284" y="2809"/>
                  </a:lnTo>
                  <a:lnTo>
                    <a:pt x="295" y="2797"/>
                  </a:lnTo>
                  <a:lnTo>
                    <a:pt x="305" y="2782"/>
                  </a:lnTo>
                  <a:lnTo>
                    <a:pt x="316" y="2769"/>
                  </a:lnTo>
                  <a:lnTo>
                    <a:pt x="326" y="2756"/>
                  </a:lnTo>
                  <a:lnTo>
                    <a:pt x="337" y="2742"/>
                  </a:lnTo>
                  <a:lnTo>
                    <a:pt x="346" y="2727"/>
                  </a:lnTo>
                  <a:lnTo>
                    <a:pt x="356" y="2712"/>
                  </a:lnTo>
                  <a:lnTo>
                    <a:pt x="367" y="2695"/>
                  </a:lnTo>
                  <a:lnTo>
                    <a:pt x="379" y="2678"/>
                  </a:lnTo>
                  <a:lnTo>
                    <a:pt x="388" y="2660"/>
                  </a:lnTo>
                  <a:lnTo>
                    <a:pt x="398" y="2641"/>
                  </a:lnTo>
                  <a:lnTo>
                    <a:pt x="409" y="2624"/>
                  </a:lnTo>
                  <a:lnTo>
                    <a:pt x="419" y="2607"/>
                  </a:lnTo>
                  <a:lnTo>
                    <a:pt x="428" y="2586"/>
                  </a:lnTo>
                  <a:lnTo>
                    <a:pt x="438" y="2567"/>
                  </a:lnTo>
                  <a:lnTo>
                    <a:pt x="447" y="2546"/>
                  </a:lnTo>
                  <a:lnTo>
                    <a:pt x="457" y="2525"/>
                  </a:lnTo>
                  <a:lnTo>
                    <a:pt x="466" y="2503"/>
                  </a:lnTo>
                  <a:lnTo>
                    <a:pt x="476" y="2480"/>
                  </a:lnTo>
                  <a:lnTo>
                    <a:pt x="485" y="2457"/>
                  </a:lnTo>
                  <a:lnTo>
                    <a:pt x="495" y="2436"/>
                  </a:lnTo>
                  <a:lnTo>
                    <a:pt x="500" y="2409"/>
                  </a:lnTo>
                  <a:lnTo>
                    <a:pt x="510" y="2387"/>
                  </a:lnTo>
                  <a:lnTo>
                    <a:pt x="516" y="2360"/>
                  </a:lnTo>
                  <a:lnTo>
                    <a:pt x="523" y="2335"/>
                  </a:lnTo>
                  <a:lnTo>
                    <a:pt x="531" y="2307"/>
                  </a:lnTo>
                  <a:lnTo>
                    <a:pt x="537" y="2282"/>
                  </a:lnTo>
                  <a:lnTo>
                    <a:pt x="544" y="2254"/>
                  </a:lnTo>
                  <a:lnTo>
                    <a:pt x="550" y="2225"/>
                  </a:lnTo>
                  <a:lnTo>
                    <a:pt x="554" y="2195"/>
                  </a:lnTo>
                  <a:lnTo>
                    <a:pt x="559" y="2166"/>
                  </a:lnTo>
                  <a:lnTo>
                    <a:pt x="563" y="2136"/>
                  </a:lnTo>
                  <a:lnTo>
                    <a:pt x="567" y="2105"/>
                  </a:lnTo>
                  <a:lnTo>
                    <a:pt x="571" y="2075"/>
                  </a:lnTo>
                  <a:lnTo>
                    <a:pt x="573" y="2042"/>
                  </a:lnTo>
                  <a:lnTo>
                    <a:pt x="575" y="2008"/>
                  </a:lnTo>
                  <a:lnTo>
                    <a:pt x="578" y="1978"/>
                  </a:lnTo>
                  <a:lnTo>
                    <a:pt x="578" y="1944"/>
                  </a:lnTo>
                  <a:lnTo>
                    <a:pt x="578" y="1909"/>
                  </a:lnTo>
                  <a:lnTo>
                    <a:pt x="577" y="1875"/>
                  </a:lnTo>
                  <a:lnTo>
                    <a:pt x="575" y="1841"/>
                  </a:lnTo>
                  <a:lnTo>
                    <a:pt x="571" y="1807"/>
                  </a:lnTo>
                  <a:lnTo>
                    <a:pt x="569" y="1774"/>
                  </a:lnTo>
                  <a:lnTo>
                    <a:pt x="565" y="1740"/>
                  </a:lnTo>
                  <a:lnTo>
                    <a:pt x="561" y="1710"/>
                  </a:lnTo>
                  <a:lnTo>
                    <a:pt x="554" y="1676"/>
                  </a:lnTo>
                  <a:lnTo>
                    <a:pt x="550" y="1643"/>
                  </a:lnTo>
                  <a:lnTo>
                    <a:pt x="542" y="1611"/>
                  </a:lnTo>
                  <a:lnTo>
                    <a:pt x="537" y="1579"/>
                  </a:lnTo>
                  <a:lnTo>
                    <a:pt x="527" y="1546"/>
                  </a:lnTo>
                  <a:lnTo>
                    <a:pt x="519" y="1514"/>
                  </a:lnTo>
                  <a:lnTo>
                    <a:pt x="510" y="1483"/>
                  </a:lnTo>
                  <a:lnTo>
                    <a:pt x="502" y="1453"/>
                  </a:lnTo>
                  <a:lnTo>
                    <a:pt x="493" y="1421"/>
                  </a:lnTo>
                  <a:lnTo>
                    <a:pt x="481" y="1388"/>
                  </a:lnTo>
                  <a:lnTo>
                    <a:pt x="470" y="1358"/>
                  </a:lnTo>
                  <a:lnTo>
                    <a:pt x="461" y="1329"/>
                  </a:lnTo>
                  <a:lnTo>
                    <a:pt x="449" y="1299"/>
                  </a:lnTo>
                  <a:lnTo>
                    <a:pt x="440" y="1271"/>
                  </a:lnTo>
                  <a:lnTo>
                    <a:pt x="426" y="1242"/>
                  </a:lnTo>
                  <a:lnTo>
                    <a:pt x="417" y="1213"/>
                  </a:lnTo>
                  <a:lnTo>
                    <a:pt x="404" y="1187"/>
                  </a:lnTo>
                  <a:lnTo>
                    <a:pt x="392" y="1158"/>
                  </a:lnTo>
                  <a:lnTo>
                    <a:pt x="379" y="1130"/>
                  </a:lnTo>
                  <a:lnTo>
                    <a:pt x="367" y="1103"/>
                  </a:lnTo>
                  <a:lnTo>
                    <a:pt x="354" y="1077"/>
                  </a:lnTo>
                  <a:lnTo>
                    <a:pt x="343" y="1052"/>
                  </a:lnTo>
                  <a:lnTo>
                    <a:pt x="329" y="1027"/>
                  </a:lnTo>
                  <a:lnTo>
                    <a:pt x="318" y="1002"/>
                  </a:lnTo>
                  <a:lnTo>
                    <a:pt x="303" y="978"/>
                  </a:lnTo>
                  <a:lnTo>
                    <a:pt x="291" y="953"/>
                  </a:lnTo>
                  <a:lnTo>
                    <a:pt x="276" y="930"/>
                  </a:lnTo>
                  <a:lnTo>
                    <a:pt x="265" y="907"/>
                  </a:lnTo>
                  <a:lnTo>
                    <a:pt x="251" y="885"/>
                  </a:lnTo>
                  <a:lnTo>
                    <a:pt x="238" y="864"/>
                  </a:lnTo>
                  <a:lnTo>
                    <a:pt x="227" y="843"/>
                  </a:lnTo>
                  <a:lnTo>
                    <a:pt x="215" y="822"/>
                  </a:lnTo>
                  <a:lnTo>
                    <a:pt x="202" y="803"/>
                  </a:lnTo>
                  <a:lnTo>
                    <a:pt x="191" y="782"/>
                  </a:lnTo>
                  <a:lnTo>
                    <a:pt x="177" y="765"/>
                  </a:lnTo>
                  <a:lnTo>
                    <a:pt x="168" y="748"/>
                  </a:lnTo>
                  <a:lnTo>
                    <a:pt x="156" y="731"/>
                  </a:lnTo>
                  <a:lnTo>
                    <a:pt x="145" y="715"/>
                  </a:lnTo>
                  <a:lnTo>
                    <a:pt x="134" y="698"/>
                  </a:lnTo>
                  <a:lnTo>
                    <a:pt x="124" y="687"/>
                  </a:lnTo>
                  <a:lnTo>
                    <a:pt x="115" y="670"/>
                  </a:lnTo>
                  <a:lnTo>
                    <a:pt x="105" y="658"/>
                  </a:lnTo>
                  <a:lnTo>
                    <a:pt x="96" y="645"/>
                  </a:lnTo>
                  <a:lnTo>
                    <a:pt x="88" y="634"/>
                  </a:lnTo>
                  <a:lnTo>
                    <a:pt x="80" y="622"/>
                  </a:lnTo>
                  <a:lnTo>
                    <a:pt x="73" y="613"/>
                  </a:lnTo>
                  <a:lnTo>
                    <a:pt x="65" y="603"/>
                  </a:lnTo>
                  <a:lnTo>
                    <a:pt x="59" y="596"/>
                  </a:lnTo>
                  <a:lnTo>
                    <a:pt x="54" y="588"/>
                  </a:lnTo>
                  <a:lnTo>
                    <a:pt x="48" y="580"/>
                  </a:lnTo>
                  <a:lnTo>
                    <a:pt x="44" y="577"/>
                  </a:lnTo>
                  <a:lnTo>
                    <a:pt x="42" y="571"/>
                  </a:lnTo>
                  <a:lnTo>
                    <a:pt x="37" y="565"/>
                  </a:lnTo>
                  <a:lnTo>
                    <a:pt x="35" y="563"/>
                  </a:lnTo>
                  <a:lnTo>
                    <a:pt x="170" y="14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49000" y="352440"/>
              <a:ext cx="40320" cy="70920"/>
            </a:xfrm>
            <a:custGeom>
              <a:avLst/>
              <a:gdLst/>
              <a:ahLst/>
              <a:rect l="l" t="t" r="r" b="b"/>
              <a:pathLst>
                <a:path w="225" h="396">
                  <a:moveTo>
                    <a:pt x="93" y="0"/>
                  </a:moveTo>
                  <a:lnTo>
                    <a:pt x="82" y="4"/>
                  </a:lnTo>
                  <a:lnTo>
                    <a:pt x="72" y="13"/>
                  </a:lnTo>
                  <a:lnTo>
                    <a:pt x="63" y="21"/>
                  </a:lnTo>
                  <a:lnTo>
                    <a:pt x="53" y="32"/>
                  </a:lnTo>
                  <a:lnTo>
                    <a:pt x="50" y="36"/>
                  </a:lnTo>
                  <a:lnTo>
                    <a:pt x="44" y="42"/>
                  </a:lnTo>
                  <a:lnTo>
                    <a:pt x="40" y="48"/>
                  </a:lnTo>
                  <a:lnTo>
                    <a:pt x="36" y="55"/>
                  </a:lnTo>
                  <a:lnTo>
                    <a:pt x="33" y="61"/>
                  </a:lnTo>
                  <a:lnTo>
                    <a:pt x="27" y="69"/>
                  </a:lnTo>
                  <a:lnTo>
                    <a:pt x="25" y="76"/>
                  </a:lnTo>
                  <a:lnTo>
                    <a:pt x="23" y="84"/>
                  </a:lnTo>
                  <a:lnTo>
                    <a:pt x="19" y="91"/>
                  </a:lnTo>
                  <a:lnTo>
                    <a:pt x="14" y="99"/>
                  </a:lnTo>
                  <a:lnTo>
                    <a:pt x="12" y="107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6" y="133"/>
                  </a:lnTo>
                  <a:lnTo>
                    <a:pt x="4" y="143"/>
                  </a:lnTo>
                  <a:lnTo>
                    <a:pt x="4" y="152"/>
                  </a:lnTo>
                  <a:lnTo>
                    <a:pt x="2" y="162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4"/>
                  </a:lnTo>
                  <a:lnTo>
                    <a:pt x="0" y="205"/>
                  </a:lnTo>
                  <a:lnTo>
                    <a:pt x="0" y="217"/>
                  </a:lnTo>
                  <a:lnTo>
                    <a:pt x="2" y="228"/>
                  </a:lnTo>
                  <a:lnTo>
                    <a:pt x="6" y="242"/>
                  </a:lnTo>
                  <a:lnTo>
                    <a:pt x="6" y="253"/>
                  </a:lnTo>
                  <a:lnTo>
                    <a:pt x="8" y="266"/>
                  </a:lnTo>
                  <a:lnTo>
                    <a:pt x="10" y="278"/>
                  </a:lnTo>
                  <a:lnTo>
                    <a:pt x="14" y="289"/>
                  </a:lnTo>
                  <a:lnTo>
                    <a:pt x="17" y="301"/>
                  </a:lnTo>
                  <a:lnTo>
                    <a:pt x="21" y="312"/>
                  </a:lnTo>
                  <a:lnTo>
                    <a:pt x="27" y="321"/>
                  </a:lnTo>
                  <a:lnTo>
                    <a:pt x="33" y="333"/>
                  </a:lnTo>
                  <a:lnTo>
                    <a:pt x="36" y="340"/>
                  </a:lnTo>
                  <a:lnTo>
                    <a:pt x="40" y="348"/>
                  </a:lnTo>
                  <a:lnTo>
                    <a:pt x="46" y="356"/>
                  </a:lnTo>
                  <a:lnTo>
                    <a:pt x="53" y="363"/>
                  </a:lnTo>
                  <a:lnTo>
                    <a:pt x="59" y="369"/>
                  </a:lnTo>
                  <a:lnTo>
                    <a:pt x="67" y="377"/>
                  </a:lnTo>
                  <a:lnTo>
                    <a:pt x="74" y="382"/>
                  </a:lnTo>
                  <a:lnTo>
                    <a:pt x="84" y="386"/>
                  </a:lnTo>
                  <a:lnTo>
                    <a:pt x="91" y="390"/>
                  </a:lnTo>
                  <a:lnTo>
                    <a:pt x="101" y="392"/>
                  </a:lnTo>
                  <a:lnTo>
                    <a:pt x="110" y="394"/>
                  </a:lnTo>
                  <a:lnTo>
                    <a:pt x="120" y="396"/>
                  </a:lnTo>
                  <a:lnTo>
                    <a:pt x="128" y="394"/>
                  </a:lnTo>
                  <a:lnTo>
                    <a:pt x="139" y="392"/>
                  </a:lnTo>
                  <a:lnTo>
                    <a:pt x="147" y="390"/>
                  </a:lnTo>
                  <a:lnTo>
                    <a:pt x="158" y="386"/>
                  </a:lnTo>
                  <a:lnTo>
                    <a:pt x="164" y="380"/>
                  </a:lnTo>
                  <a:lnTo>
                    <a:pt x="171" y="375"/>
                  </a:lnTo>
                  <a:lnTo>
                    <a:pt x="179" y="367"/>
                  </a:lnTo>
                  <a:lnTo>
                    <a:pt x="188" y="359"/>
                  </a:lnTo>
                  <a:lnTo>
                    <a:pt x="194" y="348"/>
                  </a:lnTo>
                  <a:lnTo>
                    <a:pt x="200" y="339"/>
                  </a:lnTo>
                  <a:lnTo>
                    <a:pt x="206" y="325"/>
                  </a:lnTo>
                  <a:lnTo>
                    <a:pt x="211" y="316"/>
                  </a:lnTo>
                  <a:lnTo>
                    <a:pt x="215" y="302"/>
                  </a:lnTo>
                  <a:lnTo>
                    <a:pt x="219" y="289"/>
                  </a:lnTo>
                  <a:lnTo>
                    <a:pt x="221" y="276"/>
                  </a:lnTo>
                  <a:lnTo>
                    <a:pt x="225" y="263"/>
                  </a:lnTo>
                  <a:lnTo>
                    <a:pt x="225" y="255"/>
                  </a:lnTo>
                  <a:lnTo>
                    <a:pt x="225" y="247"/>
                  </a:lnTo>
                  <a:lnTo>
                    <a:pt x="225" y="240"/>
                  </a:lnTo>
                  <a:lnTo>
                    <a:pt x="225" y="232"/>
                  </a:lnTo>
                  <a:lnTo>
                    <a:pt x="225" y="219"/>
                  </a:lnTo>
                  <a:lnTo>
                    <a:pt x="225" y="205"/>
                  </a:lnTo>
                  <a:lnTo>
                    <a:pt x="198" y="209"/>
                  </a:lnTo>
                  <a:lnTo>
                    <a:pt x="198" y="221"/>
                  </a:lnTo>
                  <a:lnTo>
                    <a:pt x="198" y="232"/>
                  </a:lnTo>
                  <a:lnTo>
                    <a:pt x="196" y="245"/>
                  </a:lnTo>
                  <a:lnTo>
                    <a:pt x="196" y="257"/>
                  </a:lnTo>
                  <a:lnTo>
                    <a:pt x="194" y="268"/>
                  </a:lnTo>
                  <a:lnTo>
                    <a:pt x="192" y="280"/>
                  </a:lnTo>
                  <a:lnTo>
                    <a:pt x="188" y="289"/>
                  </a:lnTo>
                  <a:lnTo>
                    <a:pt x="186" y="302"/>
                  </a:lnTo>
                  <a:lnTo>
                    <a:pt x="181" y="312"/>
                  </a:lnTo>
                  <a:lnTo>
                    <a:pt x="177" y="320"/>
                  </a:lnTo>
                  <a:lnTo>
                    <a:pt x="171" y="329"/>
                  </a:lnTo>
                  <a:lnTo>
                    <a:pt x="167" y="339"/>
                  </a:lnTo>
                  <a:lnTo>
                    <a:pt x="160" y="344"/>
                  </a:lnTo>
                  <a:lnTo>
                    <a:pt x="154" y="352"/>
                  </a:lnTo>
                  <a:lnTo>
                    <a:pt x="148" y="358"/>
                  </a:lnTo>
                  <a:lnTo>
                    <a:pt x="145" y="363"/>
                  </a:lnTo>
                  <a:lnTo>
                    <a:pt x="131" y="367"/>
                  </a:lnTo>
                  <a:lnTo>
                    <a:pt x="120" y="369"/>
                  </a:lnTo>
                  <a:lnTo>
                    <a:pt x="109" y="365"/>
                  </a:lnTo>
                  <a:lnTo>
                    <a:pt x="97" y="361"/>
                  </a:lnTo>
                  <a:lnTo>
                    <a:pt x="88" y="356"/>
                  </a:lnTo>
                  <a:lnTo>
                    <a:pt x="84" y="352"/>
                  </a:lnTo>
                  <a:lnTo>
                    <a:pt x="76" y="346"/>
                  </a:lnTo>
                  <a:lnTo>
                    <a:pt x="72" y="342"/>
                  </a:lnTo>
                  <a:lnTo>
                    <a:pt x="67" y="335"/>
                  </a:lnTo>
                  <a:lnTo>
                    <a:pt x="63" y="329"/>
                  </a:lnTo>
                  <a:lnTo>
                    <a:pt x="57" y="321"/>
                  </a:lnTo>
                  <a:lnTo>
                    <a:pt x="53" y="316"/>
                  </a:lnTo>
                  <a:lnTo>
                    <a:pt x="50" y="306"/>
                  </a:lnTo>
                  <a:lnTo>
                    <a:pt x="46" y="299"/>
                  </a:lnTo>
                  <a:lnTo>
                    <a:pt x="42" y="289"/>
                  </a:lnTo>
                  <a:lnTo>
                    <a:pt x="40" y="280"/>
                  </a:lnTo>
                  <a:lnTo>
                    <a:pt x="36" y="268"/>
                  </a:lnTo>
                  <a:lnTo>
                    <a:pt x="36" y="259"/>
                  </a:lnTo>
                  <a:lnTo>
                    <a:pt x="33" y="247"/>
                  </a:lnTo>
                  <a:lnTo>
                    <a:pt x="33" y="238"/>
                  </a:lnTo>
                  <a:lnTo>
                    <a:pt x="31" y="224"/>
                  </a:lnTo>
                  <a:lnTo>
                    <a:pt x="29" y="215"/>
                  </a:lnTo>
                  <a:lnTo>
                    <a:pt x="29" y="205"/>
                  </a:lnTo>
                  <a:lnTo>
                    <a:pt x="29" y="196"/>
                  </a:lnTo>
                  <a:lnTo>
                    <a:pt x="27" y="185"/>
                  </a:lnTo>
                  <a:lnTo>
                    <a:pt x="27" y="175"/>
                  </a:lnTo>
                  <a:lnTo>
                    <a:pt x="29" y="167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3" y="141"/>
                  </a:lnTo>
                  <a:lnTo>
                    <a:pt x="33" y="133"/>
                  </a:lnTo>
                  <a:lnTo>
                    <a:pt x="36" y="126"/>
                  </a:lnTo>
                  <a:lnTo>
                    <a:pt x="36" y="118"/>
                  </a:lnTo>
                  <a:lnTo>
                    <a:pt x="40" y="108"/>
                  </a:lnTo>
                  <a:lnTo>
                    <a:pt x="42" y="103"/>
                  </a:lnTo>
                  <a:lnTo>
                    <a:pt x="46" y="97"/>
                  </a:lnTo>
                  <a:lnTo>
                    <a:pt x="50" y="84"/>
                  </a:lnTo>
                  <a:lnTo>
                    <a:pt x="57" y="72"/>
                  </a:lnTo>
                  <a:lnTo>
                    <a:pt x="65" y="61"/>
                  </a:lnTo>
                  <a:lnTo>
                    <a:pt x="72" y="51"/>
                  </a:lnTo>
                  <a:lnTo>
                    <a:pt x="80" y="42"/>
                  </a:lnTo>
                  <a:lnTo>
                    <a:pt x="88" y="34"/>
                  </a:lnTo>
                  <a:lnTo>
                    <a:pt x="97" y="29"/>
                  </a:lnTo>
                  <a:lnTo>
                    <a:pt x="107" y="2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32280" y="268200"/>
              <a:ext cx="109440" cy="496800"/>
            </a:xfrm>
            <a:custGeom>
              <a:avLst/>
              <a:gdLst/>
              <a:ahLst/>
              <a:rect l="l" t="t" r="r" b="b"/>
              <a:pathLst>
                <a:path w="606" h="2759">
                  <a:moveTo>
                    <a:pt x="89" y="0"/>
                  </a:moveTo>
                  <a:lnTo>
                    <a:pt x="321" y="1132"/>
                  </a:lnTo>
                  <a:lnTo>
                    <a:pt x="319" y="1132"/>
                  </a:lnTo>
                  <a:lnTo>
                    <a:pt x="317" y="1136"/>
                  </a:lnTo>
                  <a:lnTo>
                    <a:pt x="311" y="1139"/>
                  </a:lnTo>
                  <a:lnTo>
                    <a:pt x="304" y="1149"/>
                  </a:lnTo>
                  <a:lnTo>
                    <a:pt x="300" y="1153"/>
                  </a:lnTo>
                  <a:lnTo>
                    <a:pt x="294" y="1160"/>
                  </a:lnTo>
                  <a:lnTo>
                    <a:pt x="291" y="1166"/>
                  </a:lnTo>
                  <a:lnTo>
                    <a:pt x="285" y="1174"/>
                  </a:lnTo>
                  <a:lnTo>
                    <a:pt x="277" y="1179"/>
                  </a:lnTo>
                  <a:lnTo>
                    <a:pt x="273" y="1189"/>
                  </a:lnTo>
                  <a:lnTo>
                    <a:pt x="266" y="1196"/>
                  </a:lnTo>
                  <a:lnTo>
                    <a:pt x="260" y="1206"/>
                  </a:lnTo>
                  <a:lnTo>
                    <a:pt x="252" y="1215"/>
                  </a:lnTo>
                  <a:lnTo>
                    <a:pt x="247" y="1225"/>
                  </a:lnTo>
                  <a:lnTo>
                    <a:pt x="239" y="1234"/>
                  </a:lnTo>
                  <a:lnTo>
                    <a:pt x="232" y="1246"/>
                  </a:lnTo>
                  <a:lnTo>
                    <a:pt x="224" y="1257"/>
                  </a:lnTo>
                  <a:lnTo>
                    <a:pt x="216" y="1269"/>
                  </a:lnTo>
                  <a:lnTo>
                    <a:pt x="209" y="1280"/>
                  </a:lnTo>
                  <a:lnTo>
                    <a:pt x="201" y="1293"/>
                  </a:lnTo>
                  <a:lnTo>
                    <a:pt x="192" y="1307"/>
                  </a:lnTo>
                  <a:lnTo>
                    <a:pt x="184" y="1320"/>
                  </a:lnTo>
                  <a:lnTo>
                    <a:pt x="176" y="1333"/>
                  </a:lnTo>
                  <a:lnTo>
                    <a:pt x="169" y="1348"/>
                  </a:lnTo>
                  <a:lnTo>
                    <a:pt x="159" y="1364"/>
                  </a:lnTo>
                  <a:lnTo>
                    <a:pt x="152" y="1377"/>
                  </a:lnTo>
                  <a:lnTo>
                    <a:pt x="144" y="1394"/>
                  </a:lnTo>
                  <a:lnTo>
                    <a:pt x="137" y="1411"/>
                  </a:lnTo>
                  <a:lnTo>
                    <a:pt x="127" y="1426"/>
                  </a:lnTo>
                  <a:lnTo>
                    <a:pt x="119" y="1444"/>
                  </a:lnTo>
                  <a:lnTo>
                    <a:pt x="112" y="1459"/>
                  </a:lnTo>
                  <a:lnTo>
                    <a:pt x="102" y="1478"/>
                  </a:lnTo>
                  <a:lnTo>
                    <a:pt x="95" y="1493"/>
                  </a:lnTo>
                  <a:lnTo>
                    <a:pt x="87" y="1512"/>
                  </a:lnTo>
                  <a:lnTo>
                    <a:pt x="81" y="1531"/>
                  </a:lnTo>
                  <a:lnTo>
                    <a:pt x="74" y="1550"/>
                  </a:lnTo>
                  <a:lnTo>
                    <a:pt x="66" y="1569"/>
                  </a:lnTo>
                  <a:lnTo>
                    <a:pt x="59" y="1588"/>
                  </a:lnTo>
                  <a:lnTo>
                    <a:pt x="53" y="1607"/>
                  </a:lnTo>
                  <a:lnTo>
                    <a:pt x="47" y="1628"/>
                  </a:lnTo>
                  <a:lnTo>
                    <a:pt x="41" y="1647"/>
                  </a:lnTo>
                  <a:lnTo>
                    <a:pt x="36" y="1668"/>
                  </a:lnTo>
                  <a:lnTo>
                    <a:pt x="30" y="1689"/>
                  </a:lnTo>
                  <a:lnTo>
                    <a:pt x="26" y="1710"/>
                  </a:lnTo>
                  <a:lnTo>
                    <a:pt x="21" y="1729"/>
                  </a:lnTo>
                  <a:lnTo>
                    <a:pt x="17" y="1752"/>
                  </a:lnTo>
                  <a:lnTo>
                    <a:pt x="13" y="1772"/>
                  </a:lnTo>
                  <a:lnTo>
                    <a:pt x="9" y="1795"/>
                  </a:lnTo>
                  <a:lnTo>
                    <a:pt x="5" y="1816"/>
                  </a:lnTo>
                  <a:lnTo>
                    <a:pt x="3" y="1839"/>
                  </a:lnTo>
                  <a:lnTo>
                    <a:pt x="2" y="1860"/>
                  </a:lnTo>
                  <a:lnTo>
                    <a:pt x="2" y="1883"/>
                  </a:lnTo>
                  <a:lnTo>
                    <a:pt x="0" y="1906"/>
                  </a:lnTo>
                  <a:lnTo>
                    <a:pt x="0" y="1928"/>
                  </a:lnTo>
                  <a:lnTo>
                    <a:pt x="0" y="1951"/>
                  </a:lnTo>
                  <a:lnTo>
                    <a:pt x="2" y="1974"/>
                  </a:lnTo>
                  <a:lnTo>
                    <a:pt x="3" y="1997"/>
                  </a:lnTo>
                  <a:lnTo>
                    <a:pt x="5" y="2022"/>
                  </a:lnTo>
                  <a:lnTo>
                    <a:pt x="9" y="2044"/>
                  </a:lnTo>
                  <a:lnTo>
                    <a:pt x="13" y="2069"/>
                  </a:lnTo>
                  <a:lnTo>
                    <a:pt x="15" y="2092"/>
                  </a:lnTo>
                  <a:lnTo>
                    <a:pt x="21" y="2115"/>
                  </a:lnTo>
                  <a:lnTo>
                    <a:pt x="24" y="2136"/>
                  </a:lnTo>
                  <a:lnTo>
                    <a:pt x="30" y="2158"/>
                  </a:lnTo>
                  <a:lnTo>
                    <a:pt x="36" y="2179"/>
                  </a:lnTo>
                  <a:lnTo>
                    <a:pt x="41" y="2200"/>
                  </a:lnTo>
                  <a:lnTo>
                    <a:pt x="49" y="2221"/>
                  </a:lnTo>
                  <a:lnTo>
                    <a:pt x="57" y="2242"/>
                  </a:lnTo>
                  <a:lnTo>
                    <a:pt x="64" y="2261"/>
                  </a:lnTo>
                  <a:lnTo>
                    <a:pt x="72" y="2280"/>
                  </a:lnTo>
                  <a:lnTo>
                    <a:pt x="79" y="2299"/>
                  </a:lnTo>
                  <a:lnTo>
                    <a:pt x="89" y="2318"/>
                  </a:lnTo>
                  <a:lnTo>
                    <a:pt x="97" y="2335"/>
                  </a:lnTo>
                  <a:lnTo>
                    <a:pt x="106" y="2354"/>
                  </a:lnTo>
                  <a:lnTo>
                    <a:pt x="116" y="2371"/>
                  </a:lnTo>
                  <a:lnTo>
                    <a:pt x="125" y="2389"/>
                  </a:lnTo>
                  <a:lnTo>
                    <a:pt x="133" y="2402"/>
                  </a:lnTo>
                  <a:lnTo>
                    <a:pt x="144" y="2419"/>
                  </a:lnTo>
                  <a:lnTo>
                    <a:pt x="154" y="2434"/>
                  </a:lnTo>
                  <a:lnTo>
                    <a:pt x="165" y="2449"/>
                  </a:lnTo>
                  <a:lnTo>
                    <a:pt x="176" y="2463"/>
                  </a:lnTo>
                  <a:lnTo>
                    <a:pt x="186" y="2478"/>
                  </a:lnTo>
                  <a:lnTo>
                    <a:pt x="197" y="2493"/>
                  </a:lnTo>
                  <a:lnTo>
                    <a:pt x="209" y="2506"/>
                  </a:lnTo>
                  <a:lnTo>
                    <a:pt x="220" y="2520"/>
                  </a:lnTo>
                  <a:lnTo>
                    <a:pt x="230" y="2533"/>
                  </a:lnTo>
                  <a:lnTo>
                    <a:pt x="241" y="2544"/>
                  </a:lnTo>
                  <a:lnTo>
                    <a:pt x="252" y="2556"/>
                  </a:lnTo>
                  <a:lnTo>
                    <a:pt x="264" y="2567"/>
                  </a:lnTo>
                  <a:lnTo>
                    <a:pt x="275" y="2579"/>
                  </a:lnTo>
                  <a:lnTo>
                    <a:pt x="287" y="2590"/>
                  </a:lnTo>
                  <a:lnTo>
                    <a:pt x="298" y="2601"/>
                  </a:lnTo>
                  <a:lnTo>
                    <a:pt x="308" y="2611"/>
                  </a:lnTo>
                  <a:lnTo>
                    <a:pt x="319" y="2620"/>
                  </a:lnTo>
                  <a:lnTo>
                    <a:pt x="329" y="2630"/>
                  </a:lnTo>
                  <a:lnTo>
                    <a:pt x="340" y="2640"/>
                  </a:lnTo>
                  <a:lnTo>
                    <a:pt x="349" y="2647"/>
                  </a:lnTo>
                  <a:lnTo>
                    <a:pt x="361" y="2655"/>
                  </a:lnTo>
                  <a:lnTo>
                    <a:pt x="370" y="2662"/>
                  </a:lnTo>
                  <a:lnTo>
                    <a:pt x="382" y="2672"/>
                  </a:lnTo>
                  <a:lnTo>
                    <a:pt x="391" y="2679"/>
                  </a:lnTo>
                  <a:lnTo>
                    <a:pt x="401" y="2685"/>
                  </a:lnTo>
                  <a:lnTo>
                    <a:pt x="408" y="2691"/>
                  </a:lnTo>
                  <a:lnTo>
                    <a:pt x="420" y="2698"/>
                  </a:lnTo>
                  <a:lnTo>
                    <a:pt x="427" y="2704"/>
                  </a:lnTo>
                  <a:lnTo>
                    <a:pt x="437" y="2710"/>
                  </a:lnTo>
                  <a:lnTo>
                    <a:pt x="444" y="2714"/>
                  </a:lnTo>
                  <a:lnTo>
                    <a:pt x="454" y="2721"/>
                  </a:lnTo>
                  <a:lnTo>
                    <a:pt x="462" y="2725"/>
                  </a:lnTo>
                  <a:lnTo>
                    <a:pt x="469" y="2729"/>
                  </a:lnTo>
                  <a:lnTo>
                    <a:pt x="475" y="2733"/>
                  </a:lnTo>
                  <a:lnTo>
                    <a:pt x="483" y="2736"/>
                  </a:lnTo>
                  <a:lnTo>
                    <a:pt x="488" y="2740"/>
                  </a:lnTo>
                  <a:lnTo>
                    <a:pt x="494" y="2744"/>
                  </a:lnTo>
                  <a:lnTo>
                    <a:pt x="500" y="2746"/>
                  </a:lnTo>
                  <a:lnTo>
                    <a:pt x="505" y="2750"/>
                  </a:lnTo>
                  <a:lnTo>
                    <a:pt x="511" y="2754"/>
                  </a:lnTo>
                  <a:lnTo>
                    <a:pt x="519" y="2757"/>
                  </a:lnTo>
                  <a:lnTo>
                    <a:pt x="522" y="2757"/>
                  </a:lnTo>
                  <a:lnTo>
                    <a:pt x="524" y="2759"/>
                  </a:lnTo>
                  <a:lnTo>
                    <a:pt x="606" y="2759"/>
                  </a:lnTo>
                  <a:lnTo>
                    <a:pt x="604" y="2757"/>
                  </a:lnTo>
                  <a:lnTo>
                    <a:pt x="600" y="2755"/>
                  </a:lnTo>
                  <a:lnTo>
                    <a:pt x="593" y="2752"/>
                  </a:lnTo>
                  <a:lnTo>
                    <a:pt x="583" y="2748"/>
                  </a:lnTo>
                  <a:lnTo>
                    <a:pt x="576" y="2744"/>
                  </a:lnTo>
                  <a:lnTo>
                    <a:pt x="570" y="2740"/>
                  </a:lnTo>
                  <a:lnTo>
                    <a:pt x="564" y="2736"/>
                  </a:lnTo>
                  <a:lnTo>
                    <a:pt x="557" y="2735"/>
                  </a:lnTo>
                  <a:lnTo>
                    <a:pt x="549" y="2729"/>
                  </a:lnTo>
                  <a:lnTo>
                    <a:pt x="540" y="2725"/>
                  </a:lnTo>
                  <a:lnTo>
                    <a:pt x="532" y="2719"/>
                  </a:lnTo>
                  <a:lnTo>
                    <a:pt x="524" y="2716"/>
                  </a:lnTo>
                  <a:lnTo>
                    <a:pt x="515" y="2710"/>
                  </a:lnTo>
                  <a:lnTo>
                    <a:pt x="503" y="2702"/>
                  </a:lnTo>
                  <a:lnTo>
                    <a:pt x="492" y="2697"/>
                  </a:lnTo>
                  <a:lnTo>
                    <a:pt x="483" y="2691"/>
                  </a:lnTo>
                  <a:lnTo>
                    <a:pt x="473" y="2683"/>
                  </a:lnTo>
                  <a:lnTo>
                    <a:pt x="462" y="2674"/>
                  </a:lnTo>
                  <a:lnTo>
                    <a:pt x="450" y="2666"/>
                  </a:lnTo>
                  <a:lnTo>
                    <a:pt x="439" y="2660"/>
                  </a:lnTo>
                  <a:lnTo>
                    <a:pt x="427" y="2651"/>
                  </a:lnTo>
                  <a:lnTo>
                    <a:pt x="416" y="2643"/>
                  </a:lnTo>
                  <a:lnTo>
                    <a:pt x="405" y="2634"/>
                  </a:lnTo>
                  <a:lnTo>
                    <a:pt x="391" y="2624"/>
                  </a:lnTo>
                  <a:lnTo>
                    <a:pt x="380" y="2613"/>
                  </a:lnTo>
                  <a:lnTo>
                    <a:pt x="368" y="2603"/>
                  </a:lnTo>
                  <a:lnTo>
                    <a:pt x="357" y="2592"/>
                  </a:lnTo>
                  <a:lnTo>
                    <a:pt x="344" y="2582"/>
                  </a:lnTo>
                  <a:lnTo>
                    <a:pt x="330" y="2569"/>
                  </a:lnTo>
                  <a:lnTo>
                    <a:pt x="317" y="2558"/>
                  </a:lnTo>
                  <a:lnTo>
                    <a:pt x="304" y="2546"/>
                  </a:lnTo>
                  <a:lnTo>
                    <a:pt x="292" y="2533"/>
                  </a:lnTo>
                  <a:lnTo>
                    <a:pt x="279" y="2520"/>
                  </a:lnTo>
                  <a:lnTo>
                    <a:pt x="268" y="2506"/>
                  </a:lnTo>
                  <a:lnTo>
                    <a:pt x="256" y="2495"/>
                  </a:lnTo>
                  <a:lnTo>
                    <a:pt x="243" y="2480"/>
                  </a:lnTo>
                  <a:lnTo>
                    <a:pt x="232" y="2466"/>
                  </a:lnTo>
                  <a:lnTo>
                    <a:pt x="220" y="2451"/>
                  </a:lnTo>
                  <a:lnTo>
                    <a:pt x="209" y="2436"/>
                  </a:lnTo>
                  <a:lnTo>
                    <a:pt x="197" y="2421"/>
                  </a:lnTo>
                  <a:lnTo>
                    <a:pt x="186" y="2404"/>
                  </a:lnTo>
                  <a:lnTo>
                    <a:pt x="176" y="2389"/>
                  </a:lnTo>
                  <a:lnTo>
                    <a:pt x="165" y="2371"/>
                  </a:lnTo>
                  <a:lnTo>
                    <a:pt x="156" y="2356"/>
                  </a:lnTo>
                  <a:lnTo>
                    <a:pt x="146" y="2337"/>
                  </a:lnTo>
                  <a:lnTo>
                    <a:pt x="137" y="2318"/>
                  </a:lnTo>
                  <a:lnTo>
                    <a:pt x="127" y="2301"/>
                  </a:lnTo>
                  <a:lnTo>
                    <a:pt x="119" y="2284"/>
                  </a:lnTo>
                  <a:lnTo>
                    <a:pt x="112" y="2263"/>
                  </a:lnTo>
                  <a:lnTo>
                    <a:pt x="102" y="2244"/>
                  </a:lnTo>
                  <a:lnTo>
                    <a:pt x="95" y="2225"/>
                  </a:lnTo>
                  <a:lnTo>
                    <a:pt x="89" y="2206"/>
                  </a:lnTo>
                  <a:lnTo>
                    <a:pt x="83" y="2185"/>
                  </a:lnTo>
                  <a:lnTo>
                    <a:pt x="78" y="2164"/>
                  </a:lnTo>
                  <a:lnTo>
                    <a:pt x="72" y="2143"/>
                  </a:lnTo>
                  <a:lnTo>
                    <a:pt x="68" y="2122"/>
                  </a:lnTo>
                  <a:lnTo>
                    <a:pt x="64" y="2100"/>
                  </a:lnTo>
                  <a:lnTo>
                    <a:pt x="62" y="2077"/>
                  </a:lnTo>
                  <a:lnTo>
                    <a:pt x="59" y="2054"/>
                  </a:lnTo>
                  <a:lnTo>
                    <a:pt x="59" y="2033"/>
                  </a:lnTo>
                  <a:lnTo>
                    <a:pt x="57" y="2010"/>
                  </a:lnTo>
                  <a:lnTo>
                    <a:pt x="55" y="1987"/>
                  </a:lnTo>
                  <a:lnTo>
                    <a:pt x="55" y="1965"/>
                  </a:lnTo>
                  <a:lnTo>
                    <a:pt x="55" y="1944"/>
                  </a:lnTo>
                  <a:lnTo>
                    <a:pt x="55" y="1923"/>
                  </a:lnTo>
                  <a:lnTo>
                    <a:pt x="55" y="1902"/>
                  </a:lnTo>
                  <a:lnTo>
                    <a:pt x="55" y="1883"/>
                  </a:lnTo>
                  <a:lnTo>
                    <a:pt x="55" y="1864"/>
                  </a:lnTo>
                  <a:lnTo>
                    <a:pt x="55" y="1843"/>
                  </a:lnTo>
                  <a:lnTo>
                    <a:pt x="57" y="1826"/>
                  </a:lnTo>
                  <a:lnTo>
                    <a:pt x="59" y="1807"/>
                  </a:lnTo>
                  <a:lnTo>
                    <a:pt x="60" y="1790"/>
                  </a:lnTo>
                  <a:lnTo>
                    <a:pt x="60" y="1772"/>
                  </a:lnTo>
                  <a:lnTo>
                    <a:pt x="64" y="1755"/>
                  </a:lnTo>
                  <a:lnTo>
                    <a:pt x="66" y="1740"/>
                  </a:lnTo>
                  <a:lnTo>
                    <a:pt x="70" y="1725"/>
                  </a:lnTo>
                  <a:lnTo>
                    <a:pt x="72" y="1708"/>
                  </a:lnTo>
                  <a:lnTo>
                    <a:pt x="74" y="1693"/>
                  </a:lnTo>
                  <a:lnTo>
                    <a:pt x="78" y="1675"/>
                  </a:lnTo>
                  <a:lnTo>
                    <a:pt x="81" y="1662"/>
                  </a:lnTo>
                  <a:lnTo>
                    <a:pt x="85" y="1645"/>
                  </a:lnTo>
                  <a:lnTo>
                    <a:pt x="89" y="1632"/>
                  </a:lnTo>
                  <a:lnTo>
                    <a:pt x="93" y="1618"/>
                  </a:lnTo>
                  <a:lnTo>
                    <a:pt x="97" y="1605"/>
                  </a:lnTo>
                  <a:lnTo>
                    <a:pt x="100" y="1592"/>
                  </a:lnTo>
                  <a:lnTo>
                    <a:pt x="104" y="1579"/>
                  </a:lnTo>
                  <a:lnTo>
                    <a:pt x="110" y="1567"/>
                  </a:lnTo>
                  <a:lnTo>
                    <a:pt x="116" y="1554"/>
                  </a:lnTo>
                  <a:lnTo>
                    <a:pt x="119" y="1541"/>
                  </a:lnTo>
                  <a:lnTo>
                    <a:pt x="125" y="1529"/>
                  </a:lnTo>
                  <a:lnTo>
                    <a:pt x="129" y="1518"/>
                  </a:lnTo>
                  <a:lnTo>
                    <a:pt x="137" y="1506"/>
                  </a:lnTo>
                  <a:lnTo>
                    <a:pt x="140" y="1495"/>
                  </a:lnTo>
                  <a:lnTo>
                    <a:pt x="146" y="1483"/>
                  </a:lnTo>
                  <a:lnTo>
                    <a:pt x="152" y="1470"/>
                  </a:lnTo>
                  <a:lnTo>
                    <a:pt x="159" y="1459"/>
                  </a:lnTo>
                  <a:lnTo>
                    <a:pt x="163" y="1447"/>
                  </a:lnTo>
                  <a:lnTo>
                    <a:pt x="171" y="1436"/>
                  </a:lnTo>
                  <a:lnTo>
                    <a:pt x="176" y="1425"/>
                  </a:lnTo>
                  <a:lnTo>
                    <a:pt x="184" y="1413"/>
                  </a:lnTo>
                  <a:lnTo>
                    <a:pt x="190" y="1402"/>
                  </a:lnTo>
                  <a:lnTo>
                    <a:pt x="195" y="1390"/>
                  </a:lnTo>
                  <a:lnTo>
                    <a:pt x="203" y="1381"/>
                  </a:lnTo>
                  <a:lnTo>
                    <a:pt x="211" y="1369"/>
                  </a:lnTo>
                  <a:lnTo>
                    <a:pt x="216" y="1358"/>
                  </a:lnTo>
                  <a:lnTo>
                    <a:pt x="224" y="1347"/>
                  </a:lnTo>
                  <a:lnTo>
                    <a:pt x="232" y="1337"/>
                  </a:lnTo>
                  <a:lnTo>
                    <a:pt x="239" y="1326"/>
                  </a:lnTo>
                  <a:lnTo>
                    <a:pt x="247" y="1314"/>
                  </a:lnTo>
                  <a:lnTo>
                    <a:pt x="254" y="1303"/>
                  </a:lnTo>
                  <a:lnTo>
                    <a:pt x="260" y="1290"/>
                  </a:lnTo>
                  <a:lnTo>
                    <a:pt x="270" y="1280"/>
                  </a:lnTo>
                  <a:lnTo>
                    <a:pt x="275" y="1267"/>
                  </a:lnTo>
                  <a:lnTo>
                    <a:pt x="283" y="1255"/>
                  </a:lnTo>
                  <a:lnTo>
                    <a:pt x="291" y="1244"/>
                  </a:lnTo>
                  <a:lnTo>
                    <a:pt x="300" y="1232"/>
                  </a:lnTo>
                  <a:lnTo>
                    <a:pt x="308" y="1219"/>
                  </a:lnTo>
                  <a:lnTo>
                    <a:pt x="315" y="1208"/>
                  </a:lnTo>
                  <a:lnTo>
                    <a:pt x="323" y="1194"/>
                  </a:lnTo>
                  <a:lnTo>
                    <a:pt x="330" y="1183"/>
                  </a:lnTo>
                  <a:lnTo>
                    <a:pt x="340" y="1170"/>
                  </a:lnTo>
                  <a:lnTo>
                    <a:pt x="348" y="1156"/>
                  </a:lnTo>
                  <a:lnTo>
                    <a:pt x="355" y="1143"/>
                  </a:lnTo>
                  <a:lnTo>
                    <a:pt x="363" y="1132"/>
                  </a:lnTo>
                  <a:lnTo>
                    <a:pt x="207" y="10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66120" y="726120"/>
              <a:ext cx="222480" cy="63720"/>
            </a:xfrm>
            <a:custGeom>
              <a:avLst/>
              <a:gdLst/>
              <a:ahLst/>
              <a:rect l="l" t="t" r="r" b="b"/>
              <a:pathLst>
                <a:path w="1232" h="353">
                  <a:moveTo>
                    <a:pt x="1196" y="353"/>
                  </a:moveTo>
                  <a:lnTo>
                    <a:pt x="1196" y="349"/>
                  </a:lnTo>
                  <a:lnTo>
                    <a:pt x="1199" y="342"/>
                  </a:lnTo>
                  <a:lnTo>
                    <a:pt x="1203" y="336"/>
                  </a:lnTo>
                  <a:lnTo>
                    <a:pt x="1207" y="330"/>
                  </a:lnTo>
                  <a:lnTo>
                    <a:pt x="1211" y="325"/>
                  </a:lnTo>
                  <a:lnTo>
                    <a:pt x="1215" y="317"/>
                  </a:lnTo>
                  <a:lnTo>
                    <a:pt x="1217" y="308"/>
                  </a:lnTo>
                  <a:lnTo>
                    <a:pt x="1222" y="298"/>
                  </a:lnTo>
                  <a:lnTo>
                    <a:pt x="1224" y="289"/>
                  </a:lnTo>
                  <a:lnTo>
                    <a:pt x="1228" y="279"/>
                  </a:lnTo>
                  <a:lnTo>
                    <a:pt x="1230" y="268"/>
                  </a:lnTo>
                  <a:lnTo>
                    <a:pt x="1230" y="254"/>
                  </a:lnTo>
                  <a:lnTo>
                    <a:pt x="1230" y="243"/>
                  </a:lnTo>
                  <a:lnTo>
                    <a:pt x="1232" y="232"/>
                  </a:lnTo>
                  <a:lnTo>
                    <a:pt x="1228" y="218"/>
                  </a:lnTo>
                  <a:lnTo>
                    <a:pt x="1226" y="207"/>
                  </a:lnTo>
                  <a:lnTo>
                    <a:pt x="1220" y="193"/>
                  </a:lnTo>
                  <a:lnTo>
                    <a:pt x="1215" y="180"/>
                  </a:lnTo>
                  <a:lnTo>
                    <a:pt x="1209" y="173"/>
                  </a:lnTo>
                  <a:lnTo>
                    <a:pt x="1205" y="167"/>
                  </a:lnTo>
                  <a:lnTo>
                    <a:pt x="1201" y="159"/>
                  </a:lnTo>
                  <a:lnTo>
                    <a:pt x="1197" y="154"/>
                  </a:lnTo>
                  <a:lnTo>
                    <a:pt x="1190" y="148"/>
                  </a:lnTo>
                  <a:lnTo>
                    <a:pt x="1184" y="142"/>
                  </a:lnTo>
                  <a:lnTo>
                    <a:pt x="1178" y="136"/>
                  </a:lnTo>
                  <a:lnTo>
                    <a:pt x="1173" y="131"/>
                  </a:lnTo>
                  <a:lnTo>
                    <a:pt x="1163" y="123"/>
                  </a:lnTo>
                  <a:lnTo>
                    <a:pt x="1156" y="117"/>
                  </a:lnTo>
                  <a:lnTo>
                    <a:pt x="1146" y="110"/>
                  </a:lnTo>
                  <a:lnTo>
                    <a:pt x="1137" y="104"/>
                  </a:lnTo>
                  <a:lnTo>
                    <a:pt x="1125" y="98"/>
                  </a:lnTo>
                  <a:lnTo>
                    <a:pt x="1116" y="93"/>
                  </a:lnTo>
                  <a:lnTo>
                    <a:pt x="1104" y="87"/>
                  </a:lnTo>
                  <a:lnTo>
                    <a:pt x="1093" y="83"/>
                  </a:lnTo>
                  <a:lnTo>
                    <a:pt x="1078" y="76"/>
                  </a:lnTo>
                  <a:lnTo>
                    <a:pt x="1064" y="70"/>
                  </a:lnTo>
                  <a:lnTo>
                    <a:pt x="1051" y="66"/>
                  </a:lnTo>
                  <a:lnTo>
                    <a:pt x="1038" y="60"/>
                  </a:lnTo>
                  <a:lnTo>
                    <a:pt x="1021" y="57"/>
                  </a:lnTo>
                  <a:lnTo>
                    <a:pt x="1004" y="53"/>
                  </a:lnTo>
                  <a:lnTo>
                    <a:pt x="986" y="47"/>
                  </a:lnTo>
                  <a:lnTo>
                    <a:pt x="969" y="43"/>
                  </a:lnTo>
                  <a:lnTo>
                    <a:pt x="950" y="39"/>
                  </a:lnTo>
                  <a:lnTo>
                    <a:pt x="931" y="34"/>
                  </a:lnTo>
                  <a:lnTo>
                    <a:pt x="910" y="30"/>
                  </a:lnTo>
                  <a:lnTo>
                    <a:pt x="893" y="26"/>
                  </a:lnTo>
                  <a:lnTo>
                    <a:pt x="872" y="22"/>
                  </a:lnTo>
                  <a:lnTo>
                    <a:pt x="853" y="19"/>
                  </a:lnTo>
                  <a:lnTo>
                    <a:pt x="832" y="17"/>
                  </a:lnTo>
                  <a:lnTo>
                    <a:pt x="815" y="15"/>
                  </a:lnTo>
                  <a:lnTo>
                    <a:pt x="794" y="11"/>
                  </a:lnTo>
                  <a:lnTo>
                    <a:pt x="775" y="9"/>
                  </a:lnTo>
                  <a:lnTo>
                    <a:pt x="755" y="7"/>
                  </a:lnTo>
                  <a:lnTo>
                    <a:pt x="737" y="5"/>
                  </a:lnTo>
                  <a:lnTo>
                    <a:pt x="717" y="3"/>
                  </a:lnTo>
                  <a:lnTo>
                    <a:pt x="698" y="1"/>
                  </a:lnTo>
                  <a:lnTo>
                    <a:pt x="677" y="1"/>
                  </a:lnTo>
                  <a:lnTo>
                    <a:pt x="658" y="1"/>
                  </a:lnTo>
                  <a:lnTo>
                    <a:pt x="639" y="0"/>
                  </a:lnTo>
                  <a:lnTo>
                    <a:pt x="618" y="0"/>
                  </a:lnTo>
                  <a:lnTo>
                    <a:pt x="599" y="0"/>
                  </a:lnTo>
                  <a:lnTo>
                    <a:pt x="580" y="0"/>
                  </a:lnTo>
                  <a:lnTo>
                    <a:pt x="561" y="0"/>
                  </a:lnTo>
                  <a:lnTo>
                    <a:pt x="542" y="0"/>
                  </a:lnTo>
                  <a:lnTo>
                    <a:pt x="523" y="1"/>
                  </a:lnTo>
                  <a:lnTo>
                    <a:pt x="506" y="3"/>
                  </a:lnTo>
                  <a:lnTo>
                    <a:pt x="485" y="3"/>
                  </a:lnTo>
                  <a:lnTo>
                    <a:pt x="467" y="5"/>
                  </a:lnTo>
                  <a:lnTo>
                    <a:pt x="448" y="7"/>
                  </a:lnTo>
                  <a:lnTo>
                    <a:pt x="431" y="9"/>
                  </a:lnTo>
                  <a:lnTo>
                    <a:pt x="412" y="11"/>
                  </a:lnTo>
                  <a:lnTo>
                    <a:pt x="395" y="13"/>
                  </a:lnTo>
                  <a:lnTo>
                    <a:pt x="378" y="17"/>
                  </a:lnTo>
                  <a:lnTo>
                    <a:pt x="361" y="22"/>
                  </a:lnTo>
                  <a:lnTo>
                    <a:pt x="344" y="24"/>
                  </a:lnTo>
                  <a:lnTo>
                    <a:pt x="327" y="26"/>
                  </a:lnTo>
                  <a:lnTo>
                    <a:pt x="310" y="30"/>
                  </a:lnTo>
                  <a:lnTo>
                    <a:pt x="295" y="36"/>
                  </a:lnTo>
                  <a:lnTo>
                    <a:pt x="277" y="39"/>
                  </a:lnTo>
                  <a:lnTo>
                    <a:pt x="260" y="43"/>
                  </a:lnTo>
                  <a:lnTo>
                    <a:pt x="247" y="49"/>
                  </a:lnTo>
                  <a:lnTo>
                    <a:pt x="232" y="57"/>
                  </a:lnTo>
                  <a:lnTo>
                    <a:pt x="217" y="60"/>
                  </a:lnTo>
                  <a:lnTo>
                    <a:pt x="201" y="66"/>
                  </a:lnTo>
                  <a:lnTo>
                    <a:pt x="186" y="72"/>
                  </a:lnTo>
                  <a:lnTo>
                    <a:pt x="175" y="79"/>
                  </a:lnTo>
                  <a:lnTo>
                    <a:pt x="160" y="85"/>
                  </a:lnTo>
                  <a:lnTo>
                    <a:pt x="148" y="93"/>
                  </a:lnTo>
                  <a:lnTo>
                    <a:pt x="137" y="100"/>
                  </a:lnTo>
                  <a:lnTo>
                    <a:pt x="125" y="110"/>
                  </a:lnTo>
                  <a:lnTo>
                    <a:pt x="112" y="117"/>
                  </a:lnTo>
                  <a:lnTo>
                    <a:pt x="101" y="125"/>
                  </a:lnTo>
                  <a:lnTo>
                    <a:pt x="89" y="133"/>
                  </a:lnTo>
                  <a:lnTo>
                    <a:pt x="82" y="142"/>
                  </a:lnTo>
                  <a:lnTo>
                    <a:pt x="70" y="150"/>
                  </a:lnTo>
                  <a:lnTo>
                    <a:pt x="61" y="161"/>
                  </a:lnTo>
                  <a:lnTo>
                    <a:pt x="53" y="171"/>
                  </a:lnTo>
                  <a:lnTo>
                    <a:pt x="45" y="182"/>
                  </a:lnTo>
                  <a:lnTo>
                    <a:pt x="38" y="192"/>
                  </a:lnTo>
                  <a:lnTo>
                    <a:pt x="28" y="201"/>
                  </a:lnTo>
                  <a:lnTo>
                    <a:pt x="23" y="214"/>
                  </a:lnTo>
                  <a:lnTo>
                    <a:pt x="17" y="226"/>
                  </a:lnTo>
                  <a:lnTo>
                    <a:pt x="11" y="237"/>
                  </a:lnTo>
                  <a:lnTo>
                    <a:pt x="7" y="251"/>
                  </a:lnTo>
                  <a:lnTo>
                    <a:pt x="2" y="264"/>
                  </a:lnTo>
                  <a:lnTo>
                    <a:pt x="0" y="277"/>
                  </a:lnTo>
                  <a:lnTo>
                    <a:pt x="173" y="332"/>
                  </a:lnTo>
                  <a:lnTo>
                    <a:pt x="1196" y="353"/>
                  </a:lnTo>
                  <a:lnTo>
                    <a:pt x="1196" y="353"/>
                  </a:lnTo>
                  <a:close/>
                </a:path>
              </a:pathLst>
            </a:custGeom>
            <a:solidFill>
              <a:srgbClr val="edd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54160" y="252720"/>
              <a:ext cx="379800" cy="547200"/>
            </a:xfrm>
            <a:custGeom>
              <a:avLst/>
              <a:gdLst/>
              <a:ahLst/>
              <a:rect l="l" t="t" r="r" b="b"/>
              <a:pathLst>
                <a:path w="2105" h="3038">
                  <a:moveTo>
                    <a:pt x="698" y="2955"/>
                  </a:moveTo>
                  <a:lnTo>
                    <a:pt x="683" y="2949"/>
                  </a:lnTo>
                  <a:lnTo>
                    <a:pt x="666" y="2943"/>
                  </a:lnTo>
                  <a:lnTo>
                    <a:pt x="650" y="2936"/>
                  </a:lnTo>
                  <a:lnTo>
                    <a:pt x="635" y="2930"/>
                  </a:lnTo>
                  <a:lnTo>
                    <a:pt x="620" y="2922"/>
                  </a:lnTo>
                  <a:lnTo>
                    <a:pt x="605" y="2915"/>
                  </a:lnTo>
                  <a:lnTo>
                    <a:pt x="590" y="2907"/>
                  </a:lnTo>
                  <a:lnTo>
                    <a:pt x="574" y="2899"/>
                  </a:lnTo>
                  <a:lnTo>
                    <a:pt x="559" y="2890"/>
                  </a:lnTo>
                  <a:lnTo>
                    <a:pt x="544" y="2880"/>
                  </a:lnTo>
                  <a:lnTo>
                    <a:pt x="531" y="2871"/>
                  </a:lnTo>
                  <a:lnTo>
                    <a:pt x="515" y="2861"/>
                  </a:lnTo>
                  <a:lnTo>
                    <a:pt x="500" y="2852"/>
                  </a:lnTo>
                  <a:lnTo>
                    <a:pt x="487" y="2840"/>
                  </a:lnTo>
                  <a:lnTo>
                    <a:pt x="472" y="2829"/>
                  </a:lnTo>
                  <a:lnTo>
                    <a:pt x="458" y="2820"/>
                  </a:lnTo>
                  <a:lnTo>
                    <a:pt x="443" y="2806"/>
                  </a:lnTo>
                  <a:lnTo>
                    <a:pt x="430" y="2795"/>
                  </a:lnTo>
                  <a:lnTo>
                    <a:pt x="417" y="2782"/>
                  </a:lnTo>
                  <a:lnTo>
                    <a:pt x="403" y="2770"/>
                  </a:lnTo>
                  <a:lnTo>
                    <a:pt x="388" y="2757"/>
                  </a:lnTo>
                  <a:lnTo>
                    <a:pt x="375" y="2745"/>
                  </a:lnTo>
                  <a:lnTo>
                    <a:pt x="363" y="2732"/>
                  </a:lnTo>
                  <a:lnTo>
                    <a:pt x="352" y="2719"/>
                  </a:lnTo>
                  <a:lnTo>
                    <a:pt x="339" y="2705"/>
                  </a:lnTo>
                  <a:lnTo>
                    <a:pt x="325" y="2692"/>
                  </a:lnTo>
                  <a:lnTo>
                    <a:pt x="312" y="2677"/>
                  </a:lnTo>
                  <a:lnTo>
                    <a:pt x="301" y="2664"/>
                  </a:lnTo>
                  <a:lnTo>
                    <a:pt x="289" y="2650"/>
                  </a:lnTo>
                  <a:lnTo>
                    <a:pt x="278" y="2635"/>
                  </a:lnTo>
                  <a:lnTo>
                    <a:pt x="266" y="2622"/>
                  </a:lnTo>
                  <a:lnTo>
                    <a:pt x="255" y="2609"/>
                  </a:lnTo>
                  <a:lnTo>
                    <a:pt x="244" y="2591"/>
                  </a:lnTo>
                  <a:lnTo>
                    <a:pt x="232" y="2578"/>
                  </a:lnTo>
                  <a:lnTo>
                    <a:pt x="221" y="2563"/>
                  </a:lnTo>
                  <a:lnTo>
                    <a:pt x="211" y="2550"/>
                  </a:lnTo>
                  <a:lnTo>
                    <a:pt x="202" y="2534"/>
                  </a:lnTo>
                  <a:lnTo>
                    <a:pt x="192" y="2519"/>
                  </a:lnTo>
                  <a:lnTo>
                    <a:pt x="183" y="2504"/>
                  </a:lnTo>
                  <a:lnTo>
                    <a:pt x="175" y="2491"/>
                  </a:lnTo>
                  <a:lnTo>
                    <a:pt x="166" y="2475"/>
                  </a:lnTo>
                  <a:lnTo>
                    <a:pt x="156" y="2462"/>
                  </a:lnTo>
                  <a:lnTo>
                    <a:pt x="149" y="2447"/>
                  </a:lnTo>
                  <a:lnTo>
                    <a:pt x="141" y="2434"/>
                  </a:lnTo>
                  <a:lnTo>
                    <a:pt x="133" y="2418"/>
                  </a:lnTo>
                  <a:lnTo>
                    <a:pt x="128" y="2405"/>
                  </a:lnTo>
                  <a:lnTo>
                    <a:pt x="120" y="2390"/>
                  </a:lnTo>
                  <a:lnTo>
                    <a:pt x="114" y="2377"/>
                  </a:lnTo>
                  <a:lnTo>
                    <a:pt x="109" y="2363"/>
                  </a:lnTo>
                  <a:lnTo>
                    <a:pt x="103" y="2350"/>
                  </a:lnTo>
                  <a:lnTo>
                    <a:pt x="97" y="2335"/>
                  </a:lnTo>
                  <a:lnTo>
                    <a:pt x="93" y="2323"/>
                  </a:lnTo>
                  <a:lnTo>
                    <a:pt x="88" y="2310"/>
                  </a:lnTo>
                  <a:lnTo>
                    <a:pt x="84" y="2297"/>
                  </a:lnTo>
                  <a:lnTo>
                    <a:pt x="80" y="2285"/>
                  </a:lnTo>
                  <a:lnTo>
                    <a:pt x="78" y="2274"/>
                  </a:lnTo>
                  <a:lnTo>
                    <a:pt x="74" y="2262"/>
                  </a:lnTo>
                  <a:lnTo>
                    <a:pt x="73" y="2249"/>
                  </a:lnTo>
                  <a:lnTo>
                    <a:pt x="71" y="2238"/>
                  </a:lnTo>
                  <a:lnTo>
                    <a:pt x="69" y="2226"/>
                  </a:lnTo>
                  <a:lnTo>
                    <a:pt x="67" y="2215"/>
                  </a:lnTo>
                  <a:lnTo>
                    <a:pt x="67" y="2205"/>
                  </a:lnTo>
                  <a:lnTo>
                    <a:pt x="67" y="2196"/>
                  </a:lnTo>
                  <a:lnTo>
                    <a:pt x="69" y="2188"/>
                  </a:lnTo>
                  <a:lnTo>
                    <a:pt x="69" y="2171"/>
                  </a:lnTo>
                  <a:lnTo>
                    <a:pt x="69" y="2158"/>
                  </a:lnTo>
                  <a:lnTo>
                    <a:pt x="71" y="2143"/>
                  </a:lnTo>
                  <a:lnTo>
                    <a:pt x="73" y="2129"/>
                  </a:lnTo>
                  <a:lnTo>
                    <a:pt x="73" y="2114"/>
                  </a:lnTo>
                  <a:lnTo>
                    <a:pt x="74" y="2101"/>
                  </a:lnTo>
                  <a:lnTo>
                    <a:pt x="76" y="2086"/>
                  </a:lnTo>
                  <a:lnTo>
                    <a:pt x="78" y="2074"/>
                  </a:lnTo>
                  <a:lnTo>
                    <a:pt x="80" y="2059"/>
                  </a:lnTo>
                  <a:lnTo>
                    <a:pt x="82" y="2048"/>
                  </a:lnTo>
                  <a:lnTo>
                    <a:pt x="84" y="2034"/>
                  </a:lnTo>
                  <a:lnTo>
                    <a:pt x="86" y="2021"/>
                  </a:lnTo>
                  <a:lnTo>
                    <a:pt x="88" y="2008"/>
                  </a:lnTo>
                  <a:lnTo>
                    <a:pt x="90" y="1994"/>
                  </a:lnTo>
                  <a:lnTo>
                    <a:pt x="93" y="1981"/>
                  </a:lnTo>
                  <a:lnTo>
                    <a:pt x="97" y="1970"/>
                  </a:lnTo>
                  <a:lnTo>
                    <a:pt x="99" y="1956"/>
                  </a:lnTo>
                  <a:lnTo>
                    <a:pt x="103" y="1943"/>
                  </a:lnTo>
                  <a:lnTo>
                    <a:pt x="105" y="1930"/>
                  </a:lnTo>
                  <a:lnTo>
                    <a:pt x="109" y="1918"/>
                  </a:lnTo>
                  <a:lnTo>
                    <a:pt x="111" y="1907"/>
                  </a:lnTo>
                  <a:lnTo>
                    <a:pt x="114" y="1894"/>
                  </a:lnTo>
                  <a:lnTo>
                    <a:pt x="118" y="1882"/>
                  </a:lnTo>
                  <a:lnTo>
                    <a:pt x="122" y="1871"/>
                  </a:lnTo>
                  <a:lnTo>
                    <a:pt x="124" y="1857"/>
                  </a:lnTo>
                  <a:lnTo>
                    <a:pt x="128" y="1844"/>
                  </a:lnTo>
                  <a:lnTo>
                    <a:pt x="133" y="1833"/>
                  </a:lnTo>
                  <a:lnTo>
                    <a:pt x="137" y="1821"/>
                  </a:lnTo>
                  <a:lnTo>
                    <a:pt x="141" y="1810"/>
                  </a:lnTo>
                  <a:lnTo>
                    <a:pt x="145" y="1799"/>
                  </a:lnTo>
                  <a:lnTo>
                    <a:pt x="149" y="1787"/>
                  </a:lnTo>
                  <a:lnTo>
                    <a:pt x="154" y="1776"/>
                  </a:lnTo>
                  <a:lnTo>
                    <a:pt x="158" y="1764"/>
                  </a:lnTo>
                  <a:lnTo>
                    <a:pt x="162" y="1753"/>
                  </a:lnTo>
                  <a:lnTo>
                    <a:pt x="166" y="1740"/>
                  </a:lnTo>
                  <a:lnTo>
                    <a:pt x="169" y="1730"/>
                  </a:lnTo>
                  <a:lnTo>
                    <a:pt x="173" y="1717"/>
                  </a:lnTo>
                  <a:lnTo>
                    <a:pt x="179" y="1707"/>
                  </a:lnTo>
                  <a:lnTo>
                    <a:pt x="183" y="1696"/>
                  </a:lnTo>
                  <a:lnTo>
                    <a:pt x="189" y="1684"/>
                  </a:lnTo>
                  <a:lnTo>
                    <a:pt x="192" y="1673"/>
                  </a:lnTo>
                  <a:lnTo>
                    <a:pt x="198" y="1662"/>
                  </a:lnTo>
                  <a:lnTo>
                    <a:pt x="202" y="1652"/>
                  </a:lnTo>
                  <a:lnTo>
                    <a:pt x="208" y="1641"/>
                  </a:lnTo>
                  <a:lnTo>
                    <a:pt x="211" y="1629"/>
                  </a:lnTo>
                  <a:lnTo>
                    <a:pt x="217" y="1618"/>
                  </a:lnTo>
                  <a:lnTo>
                    <a:pt x="223" y="1608"/>
                  </a:lnTo>
                  <a:lnTo>
                    <a:pt x="228" y="1599"/>
                  </a:lnTo>
                  <a:lnTo>
                    <a:pt x="232" y="1586"/>
                  </a:lnTo>
                  <a:lnTo>
                    <a:pt x="238" y="1576"/>
                  </a:lnTo>
                  <a:lnTo>
                    <a:pt x="242" y="1565"/>
                  </a:lnTo>
                  <a:lnTo>
                    <a:pt x="247" y="1555"/>
                  </a:lnTo>
                  <a:lnTo>
                    <a:pt x="251" y="1544"/>
                  </a:lnTo>
                  <a:lnTo>
                    <a:pt x="257" y="1532"/>
                  </a:lnTo>
                  <a:lnTo>
                    <a:pt x="263" y="1523"/>
                  </a:lnTo>
                  <a:lnTo>
                    <a:pt x="268" y="1513"/>
                  </a:lnTo>
                  <a:lnTo>
                    <a:pt x="272" y="1502"/>
                  </a:lnTo>
                  <a:lnTo>
                    <a:pt x="278" y="1492"/>
                  </a:lnTo>
                  <a:lnTo>
                    <a:pt x="282" y="1479"/>
                  </a:lnTo>
                  <a:lnTo>
                    <a:pt x="289" y="1471"/>
                  </a:lnTo>
                  <a:lnTo>
                    <a:pt x="293" y="1460"/>
                  </a:lnTo>
                  <a:lnTo>
                    <a:pt x="299" y="1451"/>
                  </a:lnTo>
                  <a:lnTo>
                    <a:pt x="303" y="1441"/>
                  </a:lnTo>
                  <a:lnTo>
                    <a:pt x="310" y="1432"/>
                  </a:lnTo>
                  <a:lnTo>
                    <a:pt x="316" y="1416"/>
                  </a:lnTo>
                  <a:lnTo>
                    <a:pt x="322" y="1403"/>
                  </a:lnTo>
                  <a:lnTo>
                    <a:pt x="329" y="1390"/>
                  </a:lnTo>
                  <a:lnTo>
                    <a:pt x="335" y="1378"/>
                  </a:lnTo>
                  <a:lnTo>
                    <a:pt x="341" y="1363"/>
                  </a:lnTo>
                  <a:lnTo>
                    <a:pt x="348" y="1350"/>
                  </a:lnTo>
                  <a:lnTo>
                    <a:pt x="354" y="1336"/>
                  </a:lnTo>
                  <a:lnTo>
                    <a:pt x="362" y="1325"/>
                  </a:lnTo>
                  <a:lnTo>
                    <a:pt x="367" y="1312"/>
                  </a:lnTo>
                  <a:lnTo>
                    <a:pt x="373" y="1298"/>
                  </a:lnTo>
                  <a:lnTo>
                    <a:pt x="381" y="1285"/>
                  </a:lnTo>
                  <a:lnTo>
                    <a:pt x="386" y="1272"/>
                  </a:lnTo>
                  <a:lnTo>
                    <a:pt x="392" y="1259"/>
                  </a:lnTo>
                  <a:lnTo>
                    <a:pt x="400" y="1245"/>
                  </a:lnTo>
                  <a:lnTo>
                    <a:pt x="405" y="1232"/>
                  </a:lnTo>
                  <a:lnTo>
                    <a:pt x="413" y="1221"/>
                  </a:lnTo>
                  <a:lnTo>
                    <a:pt x="417" y="1205"/>
                  </a:lnTo>
                  <a:lnTo>
                    <a:pt x="422" y="1192"/>
                  </a:lnTo>
                  <a:lnTo>
                    <a:pt x="428" y="1179"/>
                  </a:lnTo>
                  <a:lnTo>
                    <a:pt x="434" y="1165"/>
                  </a:lnTo>
                  <a:lnTo>
                    <a:pt x="439" y="1150"/>
                  </a:lnTo>
                  <a:lnTo>
                    <a:pt x="445" y="1139"/>
                  </a:lnTo>
                  <a:lnTo>
                    <a:pt x="451" y="1124"/>
                  </a:lnTo>
                  <a:lnTo>
                    <a:pt x="457" y="1112"/>
                  </a:lnTo>
                  <a:lnTo>
                    <a:pt x="460" y="1097"/>
                  </a:lnTo>
                  <a:lnTo>
                    <a:pt x="466" y="1084"/>
                  </a:lnTo>
                  <a:lnTo>
                    <a:pt x="470" y="1070"/>
                  </a:lnTo>
                  <a:lnTo>
                    <a:pt x="476" y="1057"/>
                  </a:lnTo>
                  <a:lnTo>
                    <a:pt x="479" y="1042"/>
                  </a:lnTo>
                  <a:lnTo>
                    <a:pt x="485" y="1028"/>
                  </a:lnTo>
                  <a:lnTo>
                    <a:pt x="491" y="1015"/>
                  </a:lnTo>
                  <a:lnTo>
                    <a:pt x="495" y="1002"/>
                  </a:lnTo>
                  <a:lnTo>
                    <a:pt x="498" y="987"/>
                  </a:lnTo>
                  <a:lnTo>
                    <a:pt x="502" y="973"/>
                  </a:lnTo>
                  <a:lnTo>
                    <a:pt x="506" y="956"/>
                  </a:lnTo>
                  <a:lnTo>
                    <a:pt x="510" y="943"/>
                  </a:lnTo>
                  <a:lnTo>
                    <a:pt x="514" y="928"/>
                  </a:lnTo>
                  <a:lnTo>
                    <a:pt x="517" y="914"/>
                  </a:lnTo>
                  <a:lnTo>
                    <a:pt x="519" y="899"/>
                  </a:lnTo>
                  <a:lnTo>
                    <a:pt x="523" y="886"/>
                  </a:lnTo>
                  <a:lnTo>
                    <a:pt x="525" y="869"/>
                  </a:lnTo>
                  <a:lnTo>
                    <a:pt x="527" y="855"/>
                  </a:lnTo>
                  <a:lnTo>
                    <a:pt x="531" y="838"/>
                  </a:lnTo>
                  <a:lnTo>
                    <a:pt x="533" y="825"/>
                  </a:lnTo>
                  <a:lnTo>
                    <a:pt x="534" y="808"/>
                  </a:lnTo>
                  <a:lnTo>
                    <a:pt x="536" y="795"/>
                  </a:lnTo>
                  <a:lnTo>
                    <a:pt x="538" y="777"/>
                  </a:lnTo>
                  <a:lnTo>
                    <a:pt x="540" y="764"/>
                  </a:lnTo>
                  <a:lnTo>
                    <a:pt x="540" y="745"/>
                  </a:lnTo>
                  <a:lnTo>
                    <a:pt x="542" y="730"/>
                  </a:lnTo>
                  <a:lnTo>
                    <a:pt x="542" y="715"/>
                  </a:lnTo>
                  <a:lnTo>
                    <a:pt x="544" y="698"/>
                  </a:lnTo>
                  <a:lnTo>
                    <a:pt x="544" y="681"/>
                  </a:lnTo>
                  <a:lnTo>
                    <a:pt x="544" y="665"/>
                  </a:lnTo>
                  <a:lnTo>
                    <a:pt x="544" y="648"/>
                  </a:lnTo>
                  <a:lnTo>
                    <a:pt x="544" y="631"/>
                  </a:lnTo>
                  <a:lnTo>
                    <a:pt x="542" y="614"/>
                  </a:lnTo>
                  <a:lnTo>
                    <a:pt x="540" y="597"/>
                  </a:lnTo>
                  <a:lnTo>
                    <a:pt x="538" y="580"/>
                  </a:lnTo>
                  <a:lnTo>
                    <a:pt x="538" y="563"/>
                  </a:lnTo>
                  <a:lnTo>
                    <a:pt x="536" y="544"/>
                  </a:lnTo>
                  <a:lnTo>
                    <a:pt x="534" y="526"/>
                  </a:lnTo>
                  <a:lnTo>
                    <a:pt x="533" y="509"/>
                  </a:lnTo>
                  <a:lnTo>
                    <a:pt x="531" y="492"/>
                  </a:lnTo>
                  <a:lnTo>
                    <a:pt x="527" y="477"/>
                  </a:lnTo>
                  <a:lnTo>
                    <a:pt x="525" y="462"/>
                  </a:lnTo>
                  <a:lnTo>
                    <a:pt x="521" y="447"/>
                  </a:lnTo>
                  <a:lnTo>
                    <a:pt x="517" y="433"/>
                  </a:lnTo>
                  <a:lnTo>
                    <a:pt x="512" y="420"/>
                  </a:lnTo>
                  <a:lnTo>
                    <a:pt x="508" y="407"/>
                  </a:lnTo>
                  <a:lnTo>
                    <a:pt x="502" y="393"/>
                  </a:lnTo>
                  <a:lnTo>
                    <a:pt x="498" y="380"/>
                  </a:lnTo>
                  <a:lnTo>
                    <a:pt x="491" y="367"/>
                  </a:lnTo>
                  <a:lnTo>
                    <a:pt x="487" y="355"/>
                  </a:lnTo>
                  <a:lnTo>
                    <a:pt x="479" y="342"/>
                  </a:lnTo>
                  <a:lnTo>
                    <a:pt x="474" y="331"/>
                  </a:lnTo>
                  <a:lnTo>
                    <a:pt x="466" y="319"/>
                  </a:lnTo>
                  <a:lnTo>
                    <a:pt x="460" y="306"/>
                  </a:lnTo>
                  <a:lnTo>
                    <a:pt x="453" y="296"/>
                  </a:lnTo>
                  <a:lnTo>
                    <a:pt x="447" y="285"/>
                  </a:lnTo>
                  <a:lnTo>
                    <a:pt x="438" y="274"/>
                  </a:lnTo>
                  <a:lnTo>
                    <a:pt x="430" y="262"/>
                  </a:lnTo>
                  <a:lnTo>
                    <a:pt x="420" y="251"/>
                  </a:lnTo>
                  <a:lnTo>
                    <a:pt x="413" y="241"/>
                  </a:lnTo>
                  <a:lnTo>
                    <a:pt x="403" y="230"/>
                  </a:lnTo>
                  <a:lnTo>
                    <a:pt x="396" y="220"/>
                  </a:lnTo>
                  <a:lnTo>
                    <a:pt x="386" y="209"/>
                  </a:lnTo>
                  <a:lnTo>
                    <a:pt x="379" y="201"/>
                  </a:lnTo>
                  <a:lnTo>
                    <a:pt x="369" y="192"/>
                  </a:lnTo>
                  <a:lnTo>
                    <a:pt x="360" y="182"/>
                  </a:lnTo>
                  <a:lnTo>
                    <a:pt x="352" y="173"/>
                  </a:lnTo>
                  <a:lnTo>
                    <a:pt x="342" y="165"/>
                  </a:lnTo>
                  <a:lnTo>
                    <a:pt x="333" y="156"/>
                  </a:lnTo>
                  <a:lnTo>
                    <a:pt x="325" y="148"/>
                  </a:lnTo>
                  <a:lnTo>
                    <a:pt x="316" y="139"/>
                  </a:lnTo>
                  <a:lnTo>
                    <a:pt x="308" y="133"/>
                  </a:lnTo>
                  <a:lnTo>
                    <a:pt x="299" y="125"/>
                  </a:lnTo>
                  <a:lnTo>
                    <a:pt x="289" y="118"/>
                  </a:lnTo>
                  <a:lnTo>
                    <a:pt x="280" y="108"/>
                  </a:lnTo>
                  <a:lnTo>
                    <a:pt x="272" y="102"/>
                  </a:lnTo>
                  <a:lnTo>
                    <a:pt x="263" y="95"/>
                  </a:lnTo>
                  <a:lnTo>
                    <a:pt x="253" y="89"/>
                  </a:lnTo>
                  <a:lnTo>
                    <a:pt x="246" y="82"/>
                  </a:lnTo>
                  <a:lnTo>
                    <a:pt x="238" y="78"/>
                  </a:lnTo>
                  <a:lnTo>
                    <a:pt x="228" y="70"/>
                  </a:lnTo>
                  <a:lnTo>
                    <a:pt x="221" y="64"/>
                  </a:lnTo>
                  <a:lnTo>
                    <a:pt x="211" y="59"/>
                  </a:lnTo>
                  <a:lnTo>
                    <a:pt x="204" y="55"/>
                  </a:lnTo>
                  <a:lnTo>
                    <a:pt x="196" y="49"/>
                  </a:lnTo>
                  <a:lnTo>
                    <a:pt x="189" y="45"/>
                  </a:lnTo>
                  <a:lnTo>
                    <a:pt x="181" y="42"/>
                  </a:lnTo>
                  <a:lnTo>
                    <a:pt x="177" y="38"/>
                  </a:lnTo>
                  <a:lnTo>
                    <a:pt x="168" y="32"/>
                  </a:lnTo>
                  <a:lnTo>
                    <a:pt x="162" y="28"/>
                  </a:lnTo>
                  <a:lnTo>
                    <a:pt x="154" y="25"/>
                  </a:lnTo>
                  <a:lnTo>
                    <a:pt x="150" y="21"/>
                  </a:lnTo>
                  <a:lnTo>
                    <a:pt x="139" y="15"/>
                  </a:lnTo>
                  <a:lnTo>
                    <a:pt x="131" y="11"/>
                  </a:lnTo>
                  <a:lnTo>
                    <a:pt x="124" y="6"/>
                  </a:lnTo>
                  <a:lnTo>
                    <a:pt x="116" y="4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63" y="38"/>
                  </a:lnTo>
                  <a:lnTo>
                    <a:pt x="67" y="42"/>
                  </a:lnTo>
                  <a:lnTo>
                    <a:pt x="74" y="47"/>
                  </a:lnTo>
                  <a:lnTo>
                    <a:pt x="82" y="51"/>
                  </a:lnTo>
                  <a:lnTo>
                    <a:pt x="93" y="57"/>
                  </a:lnTo>
                  <a:lnTo>
                    <a:pt x="97" y="61"/>
                  </a:lnTo>
                  <a:lnTo>
                    <a:pt x="103" y="64"/>
                  </a:lnTo>
                  <a:lnTo>
                    <a:pt x="109" y="68"/>
                  </a:lnTo>
                  <a:lnTo>
                    <a:pt x="116" y="74"/>
                  </a:lnTo>
                  <a:lnTo>
                    <a:pt x="122" y="78"/>
                  </a:lnTo>
                  <a:lnTo>
                    <a:pt x="128" y="82"/>
                  </a:lnTo>
                  <a:lnTo>
                    <a:pt x="137" y="85"/>
                  </a:lnTo>
                  <a:lnTo>
                    <a:pt x="145" y="91"/>
                  </a:lnTo>
                  <a:lnTo>
                    <a:pt x="152" y="97"/>
                  </a:lnTo>
                  <a:lnTo>
                    <a:pt x="160" y="104"/>
                  </a:lnTo>
                  <a:lnTo>
                    <a:pt x="168" y="108"/>
                  </a:lnTo>
                  <a:lnTo>
                    <a:pt x="177" y="116"/>
                  </a:lnTo>
                  <a:lnTo>
                    <a:pt x="185" y="122"/>
                  </a:lnTo>
                  <a:lnTo>
                    <a:pt x="194" y="127"/>
                  </a:lnTo>
                  <a:lnTo>
                    <a:pt x="202" y="135"/>
                  </a:lnTo>
                  <a:lnTo>
                    <a:pt x="211" y="142"/>
                  </a:lnTo>
                  <a:lnTo>
                    <a:pt x="221" y="150"/>
                  </a:lnTo>
                  <a:lnTo>
                    <a:pt x="228" y="158"/>
                  </a:lnTo>
                  <a:lnTo>
                    <a:pt x="238" y="165"/>
                  </a:lnTo>
                  <a:lnTo>
                    <a:pt x="249" y="175"/>
                  </a:lnTo>
                  <a:lnTo>
                    <a:pt x="257" y="180"/>
                  </a:lnTo>
                  <a:lnTo>
                    <a:pt x="266" y="188"/>
                  </a:lnTo>
                  <a:lnTo>
                    <a:pt x="276" y="196"/>
                  </a:lnTo>
                  <a:lnTo>
                    <a:pt x="285" y="205"/>
                  </a:lnTo>
                  <a:lnTo>
                    <a:pt x="293" y="215"/>
                  </a:lnTo>
                  <a:lnTo>
                    <a:pt x="303" y="222"/>
                  </a:lnTo>
                  <a:lnTo>
                    <a:pt x="312" y="232"/>
                  </a:lnTo>
                  <a:lnTo>
                    <a:pt x="320" y="241"/>
                  </a:lnTo>
                  <a:lnTo>
                    <a:pt x="329" y="249"/>
                  </a:lnTo>
                  <a:lnTo>
                    <a:pt x="339" y="260"/>
                  </a:lnTo>
                  <a:lnTo>
                    <a:pt x="346" y="270"/>
                  </a:lnTo>
                  <a:lnTo>
                    <a:pt x="356" y="279"/>
                  </a:lnTo>
                  <a:lnTo>
                    <a:pt x="363" y="291"/>
                  </a:lnTo>
                  <a:lnTo>
                    <a:pt x="371" y="302"/>
                  </a:lnTo>
                  <a:lnTo>
                    <a:pt x="379" y="312"/>
                  </a:lnTo>
                  <a:lnTo>
                    <a:pt x="388" y="323"/>
                  </a:lnTo>
                  <a:lnTo>
                    <a:pt x="394" y="333"/>
                  </a:lnTo>
                  <a:lnTo>
                    <a:pt x="401" y="344"/>
                  </a:lnTo>
                  <a:lnTo>
                    <a:pt x="409" y="355"/>
                  </a:lnTo>
                  <a:lnTo>
                    <a:pt x="417" y="367"/>
                  </a:lnTo>
                  <a:lnTo>
                    <a:pt x="420" y="378"/>
                  </a:lnTo>
                  <a:lnTo>
                    <a:pt x="428" y="390"/>
                  </a:lnTo>
                  <a:lnTo>
                    <a:pt x="434" y="403"/>
                  </a:lnTo>
                  <a:lnTo>
                    <a:pt x="439" y="414"/>
                  </a:lnTo>
                  <a:lnTo>
                    <a:pt x="443" y="426"/>
                  </a:lnTo>
                  <a:lnTo>
                    <a:pt x="449" y="437"/>
                  </a:lnTo>
                  <a:lnTo>
                    <a:pt x="453" y="450"/>
                  </a:lnTo>
                  <a:lnTo>
                    <a:pt x="458" y="464"/>
                  </a:lnTo>
                  <a:lnTo>
                    <a:pt x="460" y="475"/>
                  </a:lnTo>
                  <a:lnTo>
                    <a:pt x="464" y="488"/>
                  </a:lnTo>
                  <a:lnTo>
                    <a:pt x="468" y="502"/>
                  </a:lnTo>
                  <a:lnTo>
                    <a:pt x="472" y="515"/>
                  </a:lnTo>
                  <a:lnTo>
                    <a:pt x="474" y="530"/>
                  </a:lnTo>
                  <a:lnTo>
                    <a:pt x="474" y="547"/>
                  </a:lnTo>
                  <a:lnTo>
                    <a:pt x="476" y="563"/>
                  </a:lnTo>
                  <a:lnTo>
                    <a:pt x="477" y="580"/>
                  </a:lnTo>
                  <a:lnTo>
                    <a:pt x="477" y="597"/>
                  </a:lnTo>
                  <a:lnTo>
                    <a:pt x="479" y="612"/>
                  </a:lnTo>
                  <a:lnTo>
                    <a:pt x="481" y="627"/>
                  </a:lnTo>
                  <a:lnTo>
                    <a:pt x="483" y="644"/>
                  </a:lnTo>
                  <a:lnTo>
                    <a:pt x="481" y="660"/>
                  </a:lnTo>
                  <a:lnTo>
                    <a:pt x="481" y="675"/>
                  </a:lnTo>
                  <a:lnTo>
                    <a:pt x="481" y="690"/>
                  </a:lnTo>
                  <a:lnTo>
                    <a:pt x="481" y="705"/>
                  </a:lnTo>
                  <a:lnTo>
                    <a:pt x="479" y="720"/>
                  </a:lnTo>
                  <a:lnTo>
                    <a:pt x="477" y="738"/>
                  </a:lnTo>
                  <a:lnTo>
                    <a:pt x="477" y="751"/>
                  </a:lnTo>
                  <a:lnTo>
                    <a:pt x="477" y="768"/>
                  </a:lnTo>
                  <a:lnTo>
                    <a:pt x="474" y="781"/>
                  </a:lnTo>
                  <a:lnTo>
                    <a:pt x="472" y="795"/>
                  </a:lnTo>
                  <a:lnTo>
                    <a:pt x="470" y="810"/>
                  </a:lnTo>
                  <a:lnTo>
                    <a:pt x="468" y="825"/>
                  </a:lnTo>
                  <a:lnTo>
                    <a:pt x="464" y="838"/>
                  </a:lnTo>
                  <a:lnTo>
                    <a:pt x="460" y="852"/>
                  </a:lnTo>
                  <a:lnTo>
                    <a:pt x="458" y="867"/>
                  </a:lnTo>
                  <a:lnTo>
                    <a:pt x="457" y="882"/>
                  </a:lnTo>
                  <a:lnTo>
                    <a:pt x="451" y="895"/>
                  </a:lnTo>
                  <a:lnTo>
                    <a:pt x="447" y="909"/>
                  </a:lnTo>
                  <a:lnTo>
                    <a:pt x="443" y="922"/>
                  </a:lnTo>
                  <a:lnTo>
                    <a:pt x="439" y="935"/>
                  </a:lnTo>
                  <a:lnTo>
                    <a:pt x="436" y="949"/>
                  </a:lnTo>
                  <a:lnTo>
                    <a:pt x="432" y="962"/>
                  </a:lnTo>
                  <a:lnTo>
                    <a:pt x="428" y="975"/>
                  </a:lnTo>
                  <a:lnTo>
                    <a:pt x="424" y="990"/>
                  </a:lnTo>
                  <a:lnTo>
                    <a:pt x="419" y="1002"/>
                  </a:lnTo>
                  <a:lnTo>
                    <a:pt x="413" y="1015"/>
                  </a:lnTo>
                  <a:lnTo>
                    <a:pt x="409" y="1027"/>
                  </a:lnTo>
                  <a:lnTo>
                    <a:pt x="403" y="1040"/>
                  </a:lnTo>
                  <a:lnTo>
                    <a:pt x="398" y="1053"/>
                  </a:lnTo>
                  <a:lnTo>
                    <a:pt x="392" y="1066"/>
                  </a:lnTo>
                  <a:lnTo>
                    <a:pt x="386" y="1080"/>
                  </a:lnTo>
                  <a:lnTo>
                    <a:pt x="382" y="1093"/>
                  </a:lnTo>
                  <a:lnTo>
                    <a:pt x="375" y="1105"/>
                  </a:lnTo>
                  <a:lnTo>
                    <a:pt x="369" y="1118"/>
                  </a:lnTo>
                  <a:lnTo>
                    <a:pt x="363" y="1129"/>
                  </a:lnTo>
                  <a:lnTo>
                    <a:pt x="358" y="1143"/>
                  </a:lnTo>
                  <a:lnTo>
                    <a:pt x="352" y="1154"/>
                  </a:lnTo>
                  <a:lnTo>
                    <a:pt x="346" y="1167"/>
                  </a:lnTo>
                  <a:lnTo>
                    <a:pt x="341" y="1181"/>
                  </a:lnTo>
                  <a:lnTo>
                    <a:pt x="335" y="1194"/>
                  </a:lnTo>
                  <a:lnTo>
                    <a:pt x="329" y="1205"/>
                  </a:lnTo>
                  <a:lnTo>
                    <a:pt x="322" y="1217"/>
                  </a:lnTo>
                  <a:lnTo>
                    <a:pt x="316" y="1230"/>
                  </a:lnTo>
                  <a:lnTo>
                    <a:pt x="310" y="1243"/>
                  </a:lnTo>
                  <a:lnTo>
                    <a:pt x="303" y="1255"/>
                  </a:lnTo>
                  <a:lnTo>
                    <a:pt x="297" y="1268"/>
                  </a:lnTo>
                  <a:lnTo>
                    <a:pt x="289" y="1279"/>
                  </a:lnTo>
                  <a:lnTo>
                    <a:pt x="285" y="1293"/>
                  </a:lnTo>
                  <a:lnTo>
                    <a:pt x="278" y="1304"/>
                  </a:lnTo>
                  <a:lnTo>
                    <a:pt x="272" y="1317"/>
                  </a:lnTo>
                  <a:lnTo>
                    <a:pt x="265" y="1329"/>
                  </a:lnTo>
                  <a:lnTo>
                    <a:pt x="259" y="1342"/>
                  </a:lnTo>
                  <a:lnTo>
                    <a:pt x="253" y="1354"/>
                  </a:lnTo>
                  <a:lnTo>
                    <a:pt x="247" y="1367"/>
                  </a:lnTo>
                  <a:lnTo>
                    <a:pt x="242" y="1380"/>
                  </a:lnTo>
                  <a:lnTo>
                    <a:pt x="236" y="1394"/>
                  </a:lnTo>
                  <a:lnTo>
                    <a:pt x="228" y="1403"/>
                  </a:lnTo>
                  <a:lnTo>
                    <a:pt x="225" y="1414"/>
                  </a:lnTo>
                  <a:lnTo>
                    <a:pt x="219" y="1424"/>
                  </a:lnTo>
                  <a:lnTo>
                    <a:pt x="213" y="1435"/>
                  </a:lnTo>
                  <a:lnTo>
                    <a:pt x="208" y="1445"/>
                  </a:lnTo>
                  <a:lnTo>
                    <a:pt x="202" y="1456"/>
                  </a:lnTo>
                  <a:lnTo>
                    <a:pt x="196" y="1468"/>
                  </a:lnTo>
                  <a:lnTo>
                    <a:pt x="192" y="1479"/>
                  </a:lnTo>
                  <a:lnTo>
                    <a:pt x="185" y="1489"/>
                  </a:lnTo>
                  <a:lnTo>
                    <a:pt x="181" y="1498"/>
                  </a:lnTo>
                  <a:lnTo>
                    <a:pt x="175" y="1510"/>
                  </a:lnTo>
                  <a:lnTo>
                    <a:pt x="171" y="1519"/>
                  </a:lnTo>
                  <a:lnTo>
                    <a:pt x="166" y="1530"/>
                  </a:lnTo>
                  <a:lnTo>
                    <a:pt x="160" y="1542"/>
                  </a:lnTo>
                  <a:lnTo>
                    <a:pt x="156" y="1551"/>
                  </a:lnTo>
                  <a:lnTo>
                    <a:pt x="152" y="1563"/>
                  </a:lnTo>
                  <a:lnTo>
                    <a:pt x="147" y="1574"/>
                  </a:lnTo>
                  <a:lnTo>
                    <a:pt x="141" y="1586"/>
                  </a:lnTo>
                  <a:lnTo>
                    <a:pt x="137" y="1595"/>
                  </a:lnTo>
                  <a:lnTo>
                    <a:pt x="133" y="1608"/>
                  </a:lnTo>
                  <a:lnTo>
                    <a:pt x="128" y="1618"/>
                  </a:lnTo>
                  <a:lnTo>
                    <a:pt x="122" y="1629"/>
                  </a:lnTo>
                  <a:lnTo>
                    <a:pt x="118" y="1639"/>
                  </a:lnTo>
                  <a:lnTo>
                    <a:pt x="114" y="1652"/>
                  </a:lnTo>
                  <a:lnTo>
                    <a:pt x="109" y="1662"/>
                  </a:lnTo>
                  <a:lnTo>
                    <a:pt x="105" y="1673"/>
                  </a:lnTo>
                  <a:lnTo>
                    <a:pt x="101" y="1683"/>
                  </a:lnTo>
                  <a:lnTo>
                    <a:pt x="97" y="1696"/>
                  </a:lnTo>
                  <a:lnTo>
                    <a:pt x="93" y="1707"/>
                  </a:lnTo>
                  <a:lnTo>
                    <a:pt x="88" y="1719"/>
                  </a:lnTo>
                  <a:lnTo>
                    <a:pt x="84" y="1730"/>
                  </a:lnTo>
                  <a:lnTo>
                    <a:pt x="80" y="1743"/>
                  </a:lnTo>
                  <a:lnTo>
                    <a:pt x="76" y="1753"/>
                  </a:lnTo>
                  <a:lnTo>
                    <a:pt x="73" y="1766"/>
                  </a:lnTo>
                  <a:lnTo>
                    <a:pt x="69" y="1776"/>
                  </a:lnTo>
                  <a:lnTo>
                    <a:pt x="65" y="1787"/>
                  </a:lnTo>
                  <a:lnTo>
                    <a:pt x="61" y="1800"/>
                  </a:lnTo>
                  <a:lnTo>
                    <a:pt x="57" y="1812"/>
                  </a:lnTo>
                  <a:lnTo>
                    <a:pt x="54" y="1823"/>
                  </a:lnTo>
                  <a:lnTo>
                    <a:pt x="52" y="1837"/>
                  </a:lnTo>
                  <a:lnTo>
                    <a:pt x="48" y="1850"/>
                  </a:lnTo>
                  <a:lnTo>
                    <a:pt x="44" y="1861"/>
                  </a:lnTo>
                  <a:lnTo>
                    <a:pt x="40" y="1873"/>
                  </a:lnTo>
                  <a:lnTo>
                    <a:pt x="38" y="1886"/>
                  </a:lnTo>
                  <a:lnTo>
                    <a:pt x="35" y="1897"/>
                  </a:lnTo>
                  <a:lnTo>
                    <a:pt x="33" y="1911"/>
                  </a:lnTo>
                  <a:lnTo>
                    <a:pt x="29" y="1924"/>
                  </a:lnTo>
                  <a:lnTo>
                    <a:pt x="27" y="1939"/>
                  </a:lnTo>
                  <a:lnTo>
                    <a:pt x="23" y="1951"/>
                  </a:lnTo>
                  <a:lnTo>
                    <a:pt x="23" y="1964"/>
                  </a:lnTo>
                  <a:lnTo>
                    <a:pt x="19" y="1977"/>
                  </a:lnTo>
                  <a:lnTo>
                    <a:pt x="17" y="1991"/>
                  </a:lnTo>
                  <a:lnTo>
                    <a:pt x="16" y="2004"/>
                  </a:lnTo>
                  <a:lnTo>
                    <a:pt x="14" y="2019"/>
                  </a:lnTo>
                  <a:lnTo>
                    <a:pt x="10" y="2032"/>
                  </a:lnTo>
                  <a:lnTo>
                    <a:pt x="10" y="2048"/>
                  </a:lnTo>
                  <a:lnTo>
                    <a:pt x="8" y="2059"/>
                  </a:lnTo>
                  <a:lnTo>
                    <a:pt x="6" y="2074"/>
                  </a:lnTo>
                  <a:lnTo>
                    <a:pt x="6" y="2089"/>
                  </a:lnTo>
                  <a:lnTo>
                    <a:pt x="4" y="2105"/>
                  </a:lnTo>
                  <a:lnTo>
                    <a:pt x="2" y="2118"/>
                  </a:lnTo>
                  <a:lnTo>
                    <a:pt x="2" y="2133"/>
                  </a:lnTo>
                  <a:lnTo>
                    <a:pt x="2" y="2148"/>
                  </a:lnTo>
                  <a:lnTo>
                    <a:pt x="2" y="2165"/>
                  </a:lnTo>
                  <a:lnTo>
                    <a:pt x="0" y="2175"/>
                  </a:lnTo>
                  <a:lnTo>
                    <a:pt x="0" y="2188"/>
                  </a:lnTo>
                  <a:lnTo>
                    <a:pt x="0" y="2200"/>
                  </a:lnTo>
                  <a:lnTo>
                    <a:pt x="2" y="2211"/>
                  </a:lnTo>
                  <a:lnTo>
                    <a:pt x="2" y="2223"/>
                  </a:lnTo>
                  <a:lnTo>
                    <a:pt x="4" y="2238"/>
                  </a:lnTo>
                  <a:lnTo>
                    <a:pt x="6" y="2251"/>
                  </a:lnTo>
                  <a:lnTo>
                    <a:pt x="10" y="2266"/>
                  </a:lnTo>
                  <a:lnTo>
                    <a:pt x="14" y="2280"/>
                  </a:lnTo>
                  <a:lnTo>
                    <a:pt x="16" y="2293"/>
                  </a:lnTo>
                  <a:lnTo>
                    <a:pt x="19" y="2308"/>
                  </a:lnTo>
                  <a:lnTo>
                    <a:pt x="25" y="2323"/>
                  </a:lnTo>
                  <a:lnTo>
                    <a:pt x="29" y="2339"/>
                  </a:lnTo>
                  <a:lnTo>
                    <a:pt x="35" y="2354"/>
                  </a:lnTo>
                  <a:lnTo>
                    <a:pt x="40" y="2371"/>
                  </a:lnTo>
                  <a:lnTo>
                    <a:pt x="48" y="2386"/>
                  </a:lnTo>
                  <a:lnTo>
                    <a:pt x="54" y="2401"/>
                  </a:lnTo>
                  <a:lnTo>
                    <a:pt x="59" y="2416"/>
                  </a:lnTo>
                  <a:lnTo>
                    <a:pt x="67" y="2434"/>
                  </a:lnTo>
                  <a:lnTo>
                    <a:pt x="76" y="2449"/>
                  </a:lnTo>
                  <a:lnTo>
                    <a:pt x="84" y="2464"/>
                  </a:lnTo>
                  <a:lnTo>
                    <a:pt x="92" y="2483"/>
                  </a:lnTo>
                  <a:lnTo>
                    <a:pt x="99" y="2498"/>
                  </a:lnTo>
                  <a:lnTo>
                    <a:pt x="111" y="2515"/>
                  </a:lnTo>
                  <a:lnTo>
                    <a:pt x="118" y="2531"/>
                  </a:lnTo>
                  <a:lnTo>
                    <a:pt x="128" y="2548"/>
                  </a:lnTo>
                  <a:lnTo>
                    <a:pt x="137" y="2565"/>
                  </a:lnTo>
                  <a:lnTo>
                    <a:pt x="149" y="2582"/>
                  </a:lnTo>
                  <a:lnTo>
                    <a:pt x="158" y="2597"/>
                  </a:lnTo>
                  <a:lnTo>
                    <a:pt x="169" y="2614"/>
                  </a:lnTo>
                  <a:lnTo>
                    <a:pt x="181" y="2631"/>
                  </a:lnTo>
                  <a:lnTo>
                    <a:pt x="194" y="2650"/>
                  </a:lnTo>
                  <a:lnTo>
                    <a:pt x="204" y="2664"/>
                  </a:lnTo>
                  <a:lnTo>
                    <a:pt x="215" y="2681"/>
                  </a:lnTo>
                  <a:lnTo>
                    <a:pt x="228" y="2696"/>
                  </a:lnTo>
                  <a:lnTo>
                    <a:pt x="242" y="2711"/>
                  </a:lnTo>
                  <a:lnTo>
                    <a:pt x="253" y="2726"/>
                  </a:lnTo>
                  <a:lnTo>
                    <a:pt x="266" y="2742"/>
                  </a:lnTo>
                  <a:lnTo>
                    <a:pt x="280" y="2759"/>
                  </a:lnTo>
                  <a:lnTo>
                    <a:pt x="295" y="2774"/>
                  </a:lnTo>
                  <a:lnTo>
                    <a:pt x="308" y="2789"/>
                  </a:lnTo>
                  <a:lnTo>
                    <a:pt x="322" y="2802"/>
                  </a:lnTo>
                  <a:lnTo>
                    <a:pt x="335" y="2818"/>
                  </a:lnTo>
                  <a:lnTo>
                    <a:pt x="352" y="2833"/>
                  </a:lnTo>
                  <a:lnTo>
                    <a:pt x="365" y="2846"/>
                  </a:lnTo>
                  <a:lnTo>
                    <a:pt x="381" y="2860"/>
                  </a:lnTo>
                  <a:lnTo>
                    <a:pt x="396" y="2873"/>
                  </a:lnTo>
                  <a:lnTo>
                    <a:pt x="413" y="2886"/>
                  </a:lnTo>
                  <a:lnTo>
                    <a:pt x="426" y="2899"/>
                  </a:lnTo>
                  <a:lnTo>
                    <a:pt x="443" y="2911"/>
                  </a:lnTo>
                  <a:lnTo>
                    <a:pt x="458" y="2922"/>
                  </a:lnTo>
                  <a:lnTo>
                    <a:pt x="474" y="2936"/>
                  </a:lnTo>
                  <a:lnTo>
                    <a:pt x="491" y="2945"/>
                  </a:lnTo>
                  <a:lnTo>
                    <a:pt x="506" y="2956"/>
                  </a:lnTo>
                  <a:lnTo>
                    <a:pt x="523" y="2966"/>
                  </a:lnTo>
                  <a:lnTo>
                    <a:pt x="540" y="2977"/>
                  </a:lnTo>
                  <a:lnTo>
                    <a:pt x="557" y="2985"/>
                  </a:lnTo>
                  <a:lnTo>
                    <a:pt x="574" y="2995"/>
                  </a:lnTo>
                  <a:lnTo>
                    <a:pt x="592" y="3002"/>
                  </a:lnTo>
                  <a:lnTo>
                    <a:pt x="609" y="3012"/>
                  </a:lnTo>
                  <a:lnTo>
                    <a:pt x="626" y="3019"/>
                  </a:lnTo>
                  <a:lnTo>
                    <a:pt x="645" y="3025"/>
                  </a:lnTo>
                  <a:lnTo>
                    <a:pt x="662" y="3031"/>
                  </a:lnTo>
                  <a:lnTo>
                    <a:pt x="679" y="3038"/>
                  </a:lnTo>
                  <a:lnTo>
                    <a:pt x="2105" y="3036"/>
                  </a:lnTo>
                  <a:lnTo>
                    <a:pt x="2090" y="2960"/>
                  </a:lnTo>
                  <a:lnTo>
                    <a:pt x="698" y="2955"/>
                  </a:lnTo>
                  <a:lnTo>
                    <a:pt x="698" y="2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51640" y="182520"/>
              <a:ext cx="390600" cy="133560"/>
            </a:xfrm>
            <a:custGeom>
              <a:avLst/>
              <a:gdLst/>
              <a:ahLst/>
              <a:rect l="l" t="t" r="r" b="b"/>
              <a:pathLst>
                <a:path w="2163" h="742">
                  <a:moveTo>
                    <a:pt x="2101" y="143"/>
                  </a:moveTo>
                  <a:lnTo>
                    <a:pt x="2087" y="129"/>
                  </a:lnTo>
                  <a:lnTo>
                    <a:pt x="2076" y="116"/>
                  </a:lnTo>
                  <a:lnTo>
                    <a:pt x="2063" y="107"/>
                  </a:lnTo>
                  <a:lnTo>
                    <a:pt x="2049" y="97"/>
                  </a:lnTo>
                  <a:lnTo>
                    <a:pt x="2034" y="86"/>
                  </a:lnTo>
                  <a:lnTo>
                    <a:pt x="2017" y="78"/>
                  </a:lnTo>
                  <a:lnTo>
                    <a:pt x="2002" y="70"/>
                  </a:lnTo>
                  <a:lnTo>
                    <a:pt x="1985" y="63"/>
                  </a:lnTo>
                  <a:lnTo>
                    <a:pt x="1968" y="55"/>
                  </a:lnTo>
                  <a:lnTo>
                    <a:pt x="1950" y="48"/>
                  </a:lnTo>
                  <a:lnTo>
                    <a:pt x="1930" y="42"/>
                  </a:lnTo>
                  <a:lnTo>
                    <a:pt x="1911" y="36"/>
                  </a:lnTo>
                  <a:lnTo>
                    <a:pt x="1892" y="30"/>
                  </a:lnTo>
                  <a:lnTo>
                    <a:pt x="1873" y="25"/>
                  </a:lnTo>
                  <a:lnTo>
                    <a:pt x="1850" y="21"/>
                  </a:lnTo>
                  <a:lnTo>
                    <a:pt x="1829" y="19"/>
                  </a:lnTo>
                  <a:lnTo>
                    <a:pt x="1806" y="15"/>
                  </a:lnTo>
                  <a:lnTo>
                    <a:pt x="1785" y="10"/>
                  </a:lnTo>
                  <a:lnTo>
                    <a:pt x="1760" y="8"/>
                  </a:lnTo>
                  <a:lnTo>
                    <a:pt x="1738" y="6"/>
                  </a:lnTo>
                  <a:lnTo>
                    <a:pt x="1713" y="2"/>
                  </a:lnTo>
                  <a:lnTo>
                    <a:pt x="1688" y="2"/>
                  </a:lnTo>
                  <a:lnTo>
                    <a:pt x="1663" y="2"/>
                  </a:lnTo>
                  <a:lnTo>
                    <a:pt x="1641" y="2"/>
                  </a:lnTo>
                  <a:lnTo>
                    <a:pt x="1614" y="0"/>
                  </a:lnTo>
                  <a:lnTo>
                    <a:pt x="1587" y="0"/>
                  </a:lnTo>
                  <a:lnTo>
                    <a:pt x="1563" y="0"/>
                  </a:lnTo>
                  <a:lnTo>
                    <a:pt x="1538" y="2"/>
                  </a:lnTo>
                  <a:lnTo>
                    <a:pt x="1509" y="2"/>
                  </a:lnTo>
                  <a:lnTo>
                    <a:pt x="1485" y="4"/>
                  </a:lnTo>
                  <a:lnTo>
                    <a:pt x="1456" y="6"/>
                  </a:lnTo>
                  <a:lnTo>
                    <a:pt x="1431" y="8"/>
                  </a:lnTo>
                  <a:lnTo>
                    <a:pt x="1405" y="10"/>
                  </a:lnTo>
                  <a:lnTo>
                    <a:pt x="1378" y="11"/>
                  </a:lnTo>
                  <a:lnTo>
                    <a:pt x="1350" y="13"/>
                  </a:lnTo>
                  <a:lnTo>
                    <a:pt x="1323" y="17"/>
                  </a:lnTo>
                  <a:lnTo>
                    <a:pt x="1295" y="19"/>
                  </a:lnTo>
                  <a:lnTo>
                    <a:pt x="1270" y="23"/>
                  </a:lnTo>
                  <a:lnTo>
                    <a:pt x="1241" y="29"/>
                  </a:lnTo>
                  <a:lnTo>
                    <a:pt x="1215" y="32"/>
                  </a:lnTo>
                  <a:lnTo>
                    <a:pt x="1186" y="36"/>
                  </a:lnTo>
                  <a:lnTo>
                    <a:pt x="1160" y="40"/>
                  </a:lnTo>
                  <a:lnTo>
                    <a:pt x="1133" y="44"/>
                  </a:lnTo>
                  <a:lnTo>
                    <a:pt x="1106" y="48"/>
                  </a:lnTo>
                  <a:lnTo>
                    <a:pt x="1080" y="51"/>
                  </a:lnTo>
                  <a:lnTo>
                    <a:pt x="1055" y="57"/>
                  </a:lnTo>
                  <a:lnTo>
                    <a:pt x="1028" y="63"/>
                  </a:lnTo>
                  <a:lnTo>
                    <a:pt x="1002" y="68"/>
                  </a:lnTo>
                  <a:lnTo>
                    <a:pt x="975" y="72"/>
                  </a:lnTo>
                  <a:lnTo>
                    <a:pt x="951" y="80"/>
                  </a:lnTo>
                  <a:lnTo>
                    <a:pt x="926" y="84"/>
                  </a:lnTo>
                  <a:lnTo>
                    <a:pt x="901" y="89"/>
                  </a:lnTo>
                  <a:lnTo>
                    <a:pt x="876" y="95"/>
                  </a:lnTo>
                  <a:lnTo>
                    <a:pt x="854" y="103"/>
                  </a:lnTo>
                  <a:lnTo>
                    <a:pt x="831" y="107"/>
                  </a:lnTo>
                  <a:lnTo>
                    <a:pt x="808" y="114"/>
                  </a:lnTo>
                  <a:lnTo>
                    <a:pt x="783" y="120"/>
                  </a:lnTo>
                  <a:lnTo>
                    <a:pt x="762" y="126"/>
                  </a:lnTo>
                  <a:lnTo>
                    <a:pt x="740" y="131"/>
                  </a:lnTo>
                  <a:lnTo>
                    <a:pt x="719" y="139"/>
                  </a:lnTo>
                  <a:lnTo>
                    <a:pt x="698" y="145"/>
                  </a:lnTo>
                  <a:lnTo>
                    <a:pt x="679" y="150"/>
                  </a:lnTo>
                  <a:lnTo>
                    <a:pt x="658" y="156"/>
                  </a:lnTo>
                  <a:lnTo>
                    <a:pt x="641" y="164"/>
                  </a:lnTo>
                  <a:lnTo>
                    <a:pt x="616" y="171"/>
                  </a:lnTo>
                  <a:lnTo>
                    <a:pt x="591" y="179"/>
                  </a:lnTo>
                  <a:lnTo>
                    <a:pt x="568" y="186"/>
                  </a:lnTo>
                  <a:lnTo>
                    <a:pt x="546" y="194"/>
                  </a:lnTo>
                  <a:lnTo>
                    <a:pt x="523" y="202"/>
                  </a:lnTo>
                  <a:lnTo>
                    <a:pt x="502" y="209"/>
                  </a:lnTo>
                  <a:lnTo>
                    <a:pt x="483" y="217"/>
                  </a:lnTo>
                  <a:lnTo>
                    <a:pt x="462" y="224"/>
                  </a:lnTo>
                  <a:lnTo>
                    <a:pt x="443" y="230"/>
                  </a:lnTo>
                  <a:lnTo>
                    <a:pt x="422" y="238"/>
                  </a:lnTo>
                  <a:lnTo>
                    <a:pt x="403" y="243"/>
                  </a:lnTo>
                  <a:lnTo>
                    <a:pt x="386" y="251"/>
                  </a:lnTo>
                  <a:lnTo>
                    <a:pt x="369" y="257"/>
                  </a:lnTo>
                  <a:lnTo>
                    <a:pt x="352" y="262"/>
                  </a:lnTo>
                  <a:lnTo>
                    <a:pt x="335" y="270"/>
                  </a:lnTo>
                  <a:lnTo>
                    <a:pt x="319" y="276"/>
                  </a:lnTo>
                  <a:lnTo>
                    <a:pt x="302" y="281"/>
                  </a:lnTo>
                  <a:lnTo>
                    <a:pt x="287" y="287"/>
                  </a:lnTo>
                  <a:lnTo>
                    <a:pt x="272" y="291"/>
                  </a:lnTo>
                  <a:lnTo>
                    <a:pt x="259" y="299"/>
                  </a:lnTo>
                  <a:lnTo>
                    <a:pt x="243" y="302"/>
                  </a:lnTo>
                  <a:lnTo>
                    <a:pt x="230" y="310"/>
                  </a:lnTo>
                  <a:lnTo>
                    <a:pt x="219" y="314"/>
                  </a:lnTo>
                  <a:lnTo>
                    <a:pt x="207" y="319"/>
                  </a:lnTo>
                  <a:lnTo>
                    <a:pt x="194" y="323"/>
                  </a:lnTo>
                  <a:lnTo>
                    <a:pt x="182" y="329"/>
                  </a:lnTo>
                  <a:lnTo>
                    <a:pt x="171" y="333"/>
                  </a:lnTo>
                  <a:lnTo>
                    <a:pt x="162" y="338"/>
                  </a:lnTo>
                  <a:lnTo>
                    <a:pt x="150" y="342"/>
                  </a:lnTo>
                  <a:lnTo>
                    <a:pt x="141" y="348"/>
                  </a:lnTo>
                  <a:lnTo>
                    <a:pt x="131" y="352"/>
                  </a:lnTo>
                  <a:lnTo>
                    <a:pt x="124" y="357"/>
                  </a:lnTo>
                  <a:lnTo>
                    <a:pt x="112" y="359"/>
                  </a:lnTo>
                  <a:lnTo>
                    <a:pt x="105" y="363"/>
                  </a:lnTo>
                  <a:lnTo>
                    <a:pt x="97" y="367"/>
                  </a:lnTo>
                  <a:lnTo>
                    <a:pt x="89" y="371"/>
                  </a:lnTo>
                  <a:lnTo>
                    <a:pt x="80" y="375"/>
                  </a:lnTo>
                  <a:lnTo>
                    <a:pt x="72" y="378"/>
                  </a:lnTo>
                  <a:lnTo>
                    <a:pt x="67" y="380"/>
                  </a:lnTo>
                  <a:lnTo>
                    <a:pt x="61" y="384"/>
                  </a:lnTo>
                  <a:lnTo>
                    <a:pt x="49" y="390"/>
                  </a:lnTo>
                  <a:lnTo>
                    <a:pt x="38" y="397"/>
                  </a:lnTo>
                  <a:lnTo>
                    <a:pt x="29" y="401"/>
                  </a:lnTo>
                  <a:lnTo>
                    <a:pt x="23" y="407"/>
                  </a:lnTo>
                  <a:lnTo>
                    <a:pt x="15" y="411"/>
                  </a:lnTo>
                  <a:lnTo>
                    <a:pt x="8" y="415"/>
                  </a:lnTo>
                  <a:lnTo>
                    <a:pt x="2" y="418"/>
                  </a:lnTo>
                  <a:lnTo>
                    <a:pt x="0" y="422"/>
                  </a:lnTo>
                  <a:lnTo>
                    <a:pt x="0" y="426"/>
                  </a:lnTo>
                  <a:lnTo>
                    <a:pt x="0" y="430"/>
                  </a:lnTo>
                  <a:lnTo>
                    <a:pt x="53" y="489"/>
                  </a:lnTo>
                  <a:lnTo>
                    <a:pt x="53" y="485"/>
                  </a:lnTo>
                  <a:lnTo>
                    <a:pt x="57" y="481"/>
                  </a:lnTo>
                  <a:lnTo>
                    <a:pt x="59" y="477"/>
                  </a:lnTo>
                  <a:lnTo>
                    <a:pt x="63" y="475"/>
                  </a:lnTo>
                  <a:lnTo>
                    <a:pt x="67" y="472"/>
                  </a:lnTo>
                  <a:lnTo>
                    <a:pt x="76" y="468"/>
                  </a:lnTo>
                  <a:lnTo>
                    <a:pt x="82" y="464"/>
                  </a:lnTo>
                  <a:lnTo>
                    <a:pt x="89" y="458"/>
                  </a:lnTo>
                  <a:lnTo>
                    <a:pt x="99" y="451"/>
                  </a:lnTo>
                  <a:lnTo>
                    <a:pt x="110" y="445"/>
                  </a:lnTo>
                  <a:lnTo>
                    <a:pt x="116" y="441"/>
                  </a:lnTo>
                  <a:lnTo>
                    <a:pt x="122" y="437"/>
                  </a:lnTo>
                  <a:lnTo>
                    <a:pt x="127" y="434"/>
                  </a:lnTo>
                  <a:lnTo>
                    <a:pt x="135" y="432"/>
                  </a:lnTo>
                  <a:lnTo>
                    <a:pt x="141" y="428"/>
                  </a:lnTo>
                  <a:lnTo>
                    <a:pt x="150" y="424"/>
                  </a:lnTo>
                  <a:lnTo>
                    <a:pt x="158" y="420"/>
                  </a:lnTo>
                  <a:lnTo>
                    <a:pt x="167" y="416"/>
                  </a:lnTo>
                  <a:lnTo>
                    <a:pt x="175" y="411"/>
                  </a:lnTo>
                  <a:lnTo>
                    <a:pt x="182" y="407"/>
                  </a:lnTo>
                  <a:lnTo>
                    <a:pt x="192" y="401"/>
                  </a:lnTo>
                  <a:lnTo>
                    <a:pt x="202" y="397"/>
                  </a:lnTo>
                  <a:lnTo>
                    <a:pt x="211" y="394"/>
                  </a:lnTo>
                  <a:lnTo>
                    <a:pt x="221" y="388"/>
                  </a:lnTo>
                  <a:lnTo>
                    <a:pt x="234" y="382"/>
                  </a:lnTo>
                  <a:lnTo>
                    <a:pt x="245" y="378"/>
                  </a:lnTo>
                  <a:lnTo>
                    <a:pt x="255" y="371"/>
                  </a:lnTo>
                  <a:lnTo>
                    <a:pt x="268" y="367"/>
                  </a:lnTo>
                  <a:lnTo>
                    <a:pt x="279" y="361"/>
                  </a:lnTo>
                  <a:lnTo>
                    <a:pt x="295" y="357"/>
                  </a:lnTo>
                  <a:lnTo>
                    <a:pt x="306" y="350"/>
                  </a:lnTo>
                  <a:lnTo>
                    <a:pt x="321" y="344"/>
                  </a:lnTo>
                  <a:lnTo>
                    <a:pt x="335" y="340"/>
                  </a:lnTo>
                  <a:lnTo>
                    <a:pt x="352" y="335"/>
                  </a:lnTo>
                  <a:lnTo>
                    <a:pt x="365" y="327"/>
                  </a:lnTo>
                  <a:lnTo>
                    <a:pt x="382" y="321"/>
                  </a:lnTo>
                  <a:lnTo>
                    <a:pt x="397" y="314"/>
                  </a:lnTo>
                  <a:lnTo>
                    <a:pt x="414" y="310"/>
                  </a:lnTo>
                  <a:lnTo>
                    <a:pt x="430" y="300"/>
                  </a:lnTo>
                  <a:lnTo>
                    <a:pt x="449" y="297"/>
                  </a:lnTo>
                  <a:lnTo>
                    <a:pt x="468" y="287"/>
                  </a:lnTo>
                  <a:lnTo>
                    <a:pt x="487" y="283"/>
                  </a:lnTo>
                  <a:lnTo>
                    <a:pt x="506" y="274"/>
                  </a:lnTo>
                  <a:lnTo>
                    <a:pt x="527" y="268"/>
                  </a:lnTo>
                  <a:lnTo>
                    <a:pt x="546" y="261"/>
                  </a:lnTo>
                  <a:lnTo>
                    <a:pt x="567" y="253"/>
                  </a:lnTo>
                  <a:lnTo>
                    <a:pt x="587" y="245"/>
                  </a:lnTo>
                  <a:lnTo>
                    <a:pt x="610" y="240"/>
                  </a:lnTo>
                  <a:lnTo>
                    <a:pt x="635" y="232"/>
                  </a:lnTo>
                  <a:lnTo>
                    <a:pt x="658" y="226"/>
                  </a:lnTo>
                  <a:lnTo>
                    <a:pt x="679" y="217"/>
                  </a:lnTo>
                  <a:lnTo>
                    <a:pt x="701" y="211"/>
                  </a:lnTo>
                  <a:lnTo>
                    <a:pt x="722" y="203"/>
                  </a:lnTo>
                  <a:lnTo>
                    <a:pt x="743" y="198"/>
                  </a:lnTo>
                  <a:lnTo>
                    <a:pt x="766" y="190"/>
                  </a:lnTo>
                  <a:lnTo>
                    <a:pt x="791" y="186"/>
                  </a:lnTo>
                  <a:lnTo>
                    <a:pt x="814" y="179"/>
                  </a:lnTo>
                  <a:lnTo>
                    <a:pt x="838" y="173"/>
                  </a:lnTo>
                  <a:lnTo>
                    <a:pt x="863" y="167"/>
                  </a:lnTo>
                  <a:lnTo>
                    <a:pt x="886" y="162"/>
                  </a:lnTo>
                  <a:lnTo>
                    <a:pt x="911" y="156"/>
                  </a:lnTo>
                  <a:lnTo>
                    <a:pt x="937" y="150"/>
                  </a:lnTo>
                  <a:lnTo>
                    <a:pt x="960" y="145"/>
                  </a:lnTo>
                  <a:lnTo>
                    <a:pt x="987" y="139"/>
                  </a:lnTo>
                  <a:lnTo>
                    <a:pt x="1011" y="135"/>
                  </a:lnTo>
                  <a:lnTo>
                    <a:pt x="1038" y="131"/>
                  </a:lnTo>
                  <a:lnTo>
                    <a:pt x="1063" y="126"/>
                  </a:lnTo>
                  <a:lnTo>
                    <a:pt x="1089" y="120"/>
                  </a:lnTo>
                  <a:lnTo>
                    <a:pt x="1114" y="116"/>
                  </a:lnTo>
                  <a:lnTo>
                    <a:pt x="1141" y="112"/>
                  </a:lnTo>
                  <a:lnTo>
                    <a:pt x="1165" y="108"/>
                  </a:lnTo>
                  <a:lnTo>
                    <a:pt x="1192" y="105"/>
                  </a:lnTo>
                  <a:lnTo>
                    <a:pt x="1219" y="101"/>
                  </a:lnTo>
                  <a:lnTo>
                    <a:pt x="1245" y="99"/>
                  </a:lnTo>
                  <a:lnTo>
                    <a:pt x="1270" y="93"/>
                  </a:lnTo>
                  <a:lnTo>
                    <a:pt x="1295" y="91"/>
                  </a:lnTo>
                  <a:lnTo>
                    <a:pt x="1321" y="89"/>
                  </a:lnTo>
                  <a:lnTo>
                    <a:pt x="1348" y="87"/>
                  </a:lnTo>
                  <a:lnTo>
                    <a:pt x="1373" y="84"/>
                  </a:lnTo>
                  <a:lnTo>
                    <a:pt x="1397" y="82"/>
                  </a:lnTo>
                  <a:lnTo>
                    <a:pt x="1422" y="80"/>
                  </a:lnTo>
                  <a:lnTo>
                    <a:pt x="1449" y="80"/>
                  </a:lnTo>
                  <a:lnTo>
                    <a:pt x="1473" y="78"/>
                  </a:lnTo>
                  <a:lnTo>
                    <a:pt x="1496" y="76"/>
                  </a:lnTo>
                  <a:lnTo>
                    <a:pt x="1521" y="76"/>
                  </a:lnTo>
                  <a:lnTo>
                    <a:pt x="1546" y="76"/>
                  </a:lnTo>
                  <a:lnTo>
                    <a:pt x="1568" y="76"/>
                  </a:lnTo>
                  <a:lnTo>
                    <a:pt x="1591" y="76"/>
                  </a:lnTo>
                  <a:lnTo>
                    <a:pt x="1616" y="76"/>
                  </a:lnTo>
                  <a:lnTo>
                    <a:pt x="1641" y="78"/>
                  </a:lnTo>
                  <a:lnTo>
                    <a:pt x="1662" y="78"/>
                  </a:lnTo>
                  <a:lnTo>
                    <a:pt x="1684" y="80"/>
                  </a:lnTo>
                  <a:lnTo>
                    <a:pt x="1705" y="80"/>
                  </a:lnTo>
                  <a:lnTo>
                    <a:pt x="1728" y="86"/>
                  </a:lnTo>
                  <a:lnTo>
                    <a:pt x="1747" y="86"/>
                  </a:lnTo>
                  <a:lnTo>
                    <a:pt x="1768" y="89"/>
                  </a:lnTo>
                  <a:lnTo>
                    <a:pt x="1789" y="93"/>
                  </a:lnTo>
                  <a:lnTo>
                    <a:pt x="1810" y="97"/>
                  </a:lnTo>
                  <a:lnTo>
                    <a:pt x="1827" y="99"/>
                  </a:lnTo>
                  <a:lnTo>
                    <a:pt x="1846" y="103"/>
                  </a:lnTo>
                  <a:lnTo>
                    <a:pt x="1863" y="107"/>
                  </a:lnTo>
                  <a:lnTo>
                    <a:pt x="1880" y="112"/>
                  </a:lnTo>
                  <a:lnTo>
                    <a:pt x="1897" y="116"/>
                  </a:lnTo>
                  <a:lnTo>
                    <a:pt x="1912" y="122"/>
                  </a:lnTo>
                  <a:lnTo>
                    <a:pt x="1928" y="127"/>
                  </a:lnTo>
                  <a:lnTo>
                    <a:pt x="1945" y="135"/>
                  </a:lnTo>
                  <a:lnTo>
                    <a:pt x="1958" y="141"/>
                  </a:lnTo>
                  <a:lnTo>
                    <a:pt x="1971" y="146"/>
                  </a:lnTo>
                  <a:lnTo>
                    <a:pt x="1983" y="156"/>
                  </a:lnTo>
                  <a:lnTo>
                    <a:pt x="1996" y="164"/>
                  </a:lnTo>
                  <a:lnTo>
                    <a:pt x="2007" y="171"/>
                  </a:lnTo>
                  <a:lnTo>
                    <a:pt x="2019" y="179"/>
                  </a:lnTo>
                  <a:lnTo>
                    <a:pt x="2028" y="188"/>
                  </a:lnTo>
                  <a:lnTo>
                    <a:pt x="2038" y="200"/>
                  </a:lnTo>
                  <a:lnTo>
                    <a:pt x="2042" y="203"/>
                  </a:lnTo>
                  <a:lnTo>
                    <a:pt x="2047" y="211"/>
                  </a:lnTo>
                  <a:lnTo>
                    <a:pt x="2051" y="217"/>
                  </a:lnTo>
                  <a:lnTo>
                    <a:pt x="2057" y="224"/>
                  </a:lnTo>
                  <a:lnTo>
                    <a:pt x="2059" y="230"/>
                  </a:lnTo>
                  <a:lnTo>
                    <a:pt x="2065" y="238"/>
                  </a:lnTo>
                  <a:lnTo>
                    <a:pt x="2066" y="243"/>
                  </a:lnTo>
                  <a:lnTo>
                    <a:pt x="2070" y="253"/>
                  </a:lnTo>
                  <a:lnTo>
                    <a:pt x="2072" y="259"/>
                  </a:lnTo>
                  <a:lnTo>
                    <a:pt x="2072" y="266"/>
                  </a:lnTo>
                  <a:lnTo>
                    <a:pt x="2074" y="274"/>
                  </a:lnTo>
                  <a:lnTo>
                    <a:pt x="2078" y="281"/>
                  </a:lnTo>
                  <a:lnTo>
                    <a:pt x="2078" y="289"/>
                  </a:lnTo>
                  <a:lnTo>
                    <a:pt x="2080" y="297"/>
                  </a:lnTo>
                  <a:lnTo>
                    <a:pt x="2080" y="304"/>
                  </a:lnTo>
                  <a:lnTo>
                    <a:pt x="2082" y="314"/>
                  </a:lnTo>
                  <a:lnTo>
                    <a:pt x="2080" y="319"/>
                  </a:lnTo>
                  <a:lnTo>
                    <a:pt x="2080" y="327"/>
                  </a:lnTo>
                  <a:lnTo>
                    <a:pt x="2078" y="335"/>
                  </a:lnTo>
                  <a:lnTo>
                    <a:pt x="2078" y="344"/>
                  </a:lnTo>
                  <a:lnTo>
                    <a:pt x="2074" y="352"/>
                  </a:lnTo>
                  <a:lnTo>
                    <a:pt x="2072" y="359"/>
                  </a:lnTo>
                  <a:lnTo>
                    <a:pt x="2072" y="367"/>
                  </a:lnTo>
                  <a:lnTo>
                    <a:pt x="2070" y="375"/>
                  </a:lnTo>
                  <a:lnTo>
                    <a:pt x="2068" y="382"/>
                  </a:lnTo>
                  <a:lnTo>
                    <a:pt x="2065" y="390"/>
                  </a:lnTo>
                  <a:lnTo>
                    <a:pt x="2063" y="397"/>
                  </a:lnTo>
                  <a:lnTo>
                    <a:pt x="2059" y="405"/>
                  </a:lnTo>
                  <a:lnTo>
                    <a:pt x="2055" y="415"/>
                  </a:lnTo>
                  <a:lnTo>
                    <a:pt x="2051" y="422"/>
                  </a:lnTo>
                  <a:lnTo>
                    <a:pt x="2047" y="430"/>
                  </a:lnTo>
                  <a:lnTo>
                    <a:pt x="2046" y="437"/>
                  </a:lnTo>
                  <a:lnTo>
                    <a:pt x="2040" y="445"/>
                  </a:lnTo>
                  <a:lnTo>
                    <a:pt x="2034" y="451"/>
                  </a:lnTo>
                  <a:lnTo>
                    <a:pt x="2028" y="458"/>
                  </a:lnTo>
                  <a:lnTo>
                    <a:pt x="2025" y="466"/>
                  </a:lnTo>
                  <a:lnTo>
                    <a:pt x="2021" y="472"/>
                  </a:lnTo>
                  <a:lnTo>
                    <a:pt x="2015" y="481"/>
                  </a:lnTo>
                  <a:lnTo>
                    <a:pt x="2009" y="487"/>
                  </a:lnTo>
                  <a:lnTo>
                    <a:pt x="2004" y="494"/>
                  </a:lnTo>
                  <a:lnTo>
                    <a:pt x="1998" y="502"/>
                  </a:lnTo>
                  <a:lnTo>
                    <a:pt x="1992" y="508"/>
                  </a:lnTo>
                  <a:lnTo>
                    <a:pt x="1985" y="515"/>
                  </a:lnTo>
                  <a:lnTo>
                    <a:pt x="1981" y="521"/>
                  </a:lnTo>
                  <a:lnTo>
                    <a:pt x="1973" y="529"/>
                  </a:lnTo>
                  <a:lnTo>
                    <a:pt x="1968" y="534"/>
                  </a:lnTo>
                  <a:lnTo>
                    <a:pt x="1960" y="542"/>
                  </a:lnTo>
                  <a:lnTo>
                    <a:pt x="1954" y="548"/>
                  </a:lnTo>
                  <a:lnTo>
                    <a:pt x="1947" y="553"/>
                  </a:lnTo>
                  <a:lnTo>
                    <a:pt x="1941" y="559"/>
                  </a:lnTo>
                  <a:lnTo>
                    <a:pt x="1933" y="565"/>
                  </a:lnTo>
                  <a:lnTo>
                    <a:pt x="1926" y="570"/>
                  </a:lnTo>
                  <a:lnTo>
                    <a:pt x="1918" y="574"/>
                  </a:lnTo>
                  <a:lnTo>
                    <a:pt x="1911" y="580"/>
                  </a:lnTo>
                  <a:lnTo>
                    <a:pt x="1905" y="586"/>
                  </a:lnTo>
                  <a:lnTo>
                    <a:pt x="1897" y="591"/>
                  </a:lnTo>
                  <a:lnTo>
                    <a:pt x="1890" y="595"/>
                  </a:lnTo>
                  <a:lnTo>
                    <a:pt x="1884" y="599"/>
                  </a:lnTo>
                  <a:lnTo>
                    <a:pt x="1876" y="603"/>
                  </a:lnTo>
                  <a:lnTo>
                    <a:pt x="1869" y="608"/>
                  </a:lnTo>
                  <a:lnTo>
                    <a:pt x="1861" y="610"/>
                  </a:lnTo>
                  <a:lnTo>
                    <a:pt x="1854" y="614"/>
                  </a:lnTo>
                  <a:lnTo>
                    <a:pt x="1848" y="618"/>
                  </a:lnTo>
                  <a:lnTo>
                    <a:pt x="1842" y="622"/>
                  </a:lnTo>
                  <a:lnTo>
                    <a:pt x="1821" y="627"/>
                  </a:lnTo>
                  <a:lnTo>
                    <a:pt x="1802" y="635"/>
                  </a:lnTo>
                  <a:lnTo>
                    <a:pt x="1783" y="639"/>
                  </a:lnTo>
                  <a:lnTo>
                    <a:pt x="1762" y="643"/>
                  </a:lnTo>
                  <a:lnTo>
                    <a:pt x="1741" y="648"/>
                  </a:lnTo>
                  <a:lnTo>
                    <a:pt x="1722" y="652"/>
                  </a:lnTo>
                  <a:lnTo>
                    <a:pt x="1701" y="654"/>
                  </a:lnTo>
                  <a:lnTo>
                    <a:pt x="1681" y="656"/>
                  </a:lnTo>
                  <a:lnTo>
                    <a:pt x="1658" y="658"/>
                  </a:lnTo>
                  <a:lnTo>
                    <a:pt x="1637" y="660"/>
                  </a:lnTo>
                  <a:lnTo>
                    <a:pt x="1614" y="662"/>
                  </a:lnTo>
                  <a:lnTo>
                    <a:pt x="1591" y="662"/>
                  </a:lnTo>
                  <a:lnTo>
                    <a:pt x="1568" y="662"/>
                  </a:lnTo>
                  <a:lnTo>
                    <a:pt x="1547" y="662"/>
                  </a:lnTo>
                  <a:lnTo>
                    <a:pt x="1523" y="660"/>
                  </a:lnTo>
                  <a:lnTo>
                    <a:pt x="1502" y="660"/>
                  </a:lnTo>
                  <a:lnTo>
                    <a:pt x="1479" y="656"/>
                  </a:lnTo>
                  <a:lnTo>
                    <a:pt x="1456" y="654"/>
                  </a:lnTo>
                  <a:lnTo>
                    <a:pt x="1431" y="652"/>
                  </a:lnTo>
                  <a:lnTo>
                    <a:pt x="1409" y="648"/>
                  </a:lnTo>
                  <a:lnTo>
                    <a:pt x="1386" y="645"/>
                  </a:lnTo>
                  <a:lnTo>
                    <a:pt x="1363" y="641"/>
                  </a:lnTo>
                  <a:lnTo>
                    <a:pt x="1338" y="637"/>
                  </a:lnTo>
                  <a:lnTo>
                    <a:pt x="1317" y="635"/>
                  </a:lnTo>
                  <a:lnTo>
                    <a:pt x="1293" y="629"/>
                  </a:lnTo>
                  <a:lnTo>
                    <a:pt x="1270" y="626"/>
                  </a:lnTo>
                  <a:lnTo>
                    <a:pt x="1247" y="620"/>
                  </a:lnTo>
                  <a:lnTo>
                    <a:pt x="1224" y="616"/>
                  </a:lnTo>
                  <a:lnTo>
                    <a:pt x="1203" y="608"/>
                  </a:lnTo>
                  <a:lnTo>
                    <a:pt x="1181" y="605"/>
                  </a:lnTo>
                  <a:lnTo>
                    <a:pt x="1160" y="599"/>
                  </a:lnTo>
                  <a:lnTo>
                    <a:pt x="1139" y="595"/>
                  </a:lnTo>
                  <a:lnTo>
                    <a:pt x="1116" y="588"/>
                  </a:lnTo>
                  <a:lnTo>
                    <a:pt x="1095" y="582"/>
                  </a:lnTo>
                  <a:lnTo>
                    <a:pt x="1076" y="574"/>
                  </a:lnTo>
                  <a:lnTo>
                    <a:pt x="1055" y="569"/>
                  </a:lnTo>
                  <a:lnTo>
                    <a:pt x="1036" y="563"/>
                  </a:lnTo>
                  <a:lnTo>
                    <a:pt x="1015" y="555"/>
                  </a:lnTo>
                  <a:lnTo>
                    <a:pt x="996" y="550"/>
                  </a:lnTo>
                  <a:lnTo>
                    <a:pt x="979" y="544"/>
                  </a:lnTo>
                  <a:lnTo>
                    <a:pt x="958" y="538"/>
                  </a:lnTo>
                  <a:lnTo>
                    <a:pt x="941" y="532"/>
                  </a:lnTo>
                  <a:lnTo>
                    <a:pt x="924" y="525"/>
                  </a:lnTo>
                  <a:lnTo>
                    <a:pt x="909" y="521"/>
                  </a:lnTo>
                  <a:lnTo>
                    <a:pt x="893" y="513"/>
                  </a:lnTo>
                  <a:lnTo>
                    <a:pt x="876" y="508"/>
                  </a:lnTo>
                  <a:lnTo>
                    <a:pt x="863" y="502"/>
                  </a:lnTo>
                  <a:lnTo>
                    <a:pt x="850" y="498"/>
                  </a:lnTo>
                  <a:lnTo>
                    <a:pt x="835" y="492"/>
                  </a:lnTo>
                  <a:lnTo>
                    <a:pt x="821" y="487"/>
                  </a:lnTo>
                  <a:lnTo>
                    <a:pt x="810" y="483"/>
                  </a:lnTo>
                  <a:lnTo>
                    <a:pt x="798" y="479"/>
                  </a:lnTo>
                  <a:lnTo>
                    <a:pt x="787" y="473"/>
                  </a:lnTo>
                  <a:lnTo>
                    <a:pt x="778" y="470"/>
                  </a:lnTo>
                  <a:lnTo>
                    <a:pt x="768" y="466"/>
                  </a:lnTo>
                  <a:lnTo>
                    <a:pt x="760" y="464"/>
                  </a:lnTo>
                  <a:lnTo>
                    <a:pt x="753" y="458"/>
                  </a:lnTo>
                  <a:lnTo>
                    <a:pt x="745" y="456"/>
                  </a:lnTo>
                  <a:lnTo>
                    <a:pt x="740" y="454"/>
                  </a:lnTo>
                  <a:lnTo>
                    <a:pt x="736" y="453"/>
                  </a:lnTo>
                  <a:lnTo>
                    <a:pt x="730" y="451"/>
                  </a:lnTo>
                  <a:lnTo>
                    <a:pt x="728" y="451"/>
                  </a:lnTo>
                  <a:lnTo>
                    <a:pt x="154" y="475"/>
                  </a:lnTo>
                  <a:lnTo>
                    <a:pt x="163" y="531"/>
                  </a:lnTo>
                  <a:lnTo>
                    <a:pt x="701" y="531"/>
                  </a:lnTo>
                  <a:lnTo>
                    <a:pt x="709" y="534"/>
                  </a:lnTo>
                  <a:lnTo>
                    <a:pt x="722" y="538"/>
                  </a:lnTo>
                  <a:lnTo>
                    <a:pt x="730" y="542"/>
                  </a:lnTo>
                  <a:lnTo>
                    <a:pt x="738" y="546"/>
                  </a:lnTo>
                  <a:lnTo>
                    <a:pt x="747" y="550"/>
                  </a:lnTo>
                  <a:lnTo>
                    <a:pt x="757" y="555"/>
                  </a:lnTo>
                  <a:lnTo>
                    <a:pt x="766" y="559"/>
                  </a:lnTo>
                  <a:lnTo>
                    <a:pt x="778" y="563"/>
                  </a:lnTo>
                  <a:lnTo>
                    <a:pt x="789" y="567"/>
                  </a:lnTo>
                  <a:lnTo>
                    <a:pt x="802" y="572"/>
                  </a:lnTo>
                  <a:lnTo>
                    <a:pt x="814" y="576"/>
                  </a:lnTo>
                  <a:lnTo>
                    <a:pt x="829" y="582"/>
                  </a:lnTo>
                  <a:lnTo>
                    <a:pt x="844" y="588"/>
                  </a:lnTo>
                  <a:lnTo>
                    <a:pt x="859" y="595"/>
                  </a:lnTo>
                  <a:lnTo>
                    <a:pt x="874" y="599"/>
                  </a:lnTo>
                  <a:lnTo>
                    <a:pt x="890" y="605"/>
                  </a:lnTo>
                  <a:lnTo>
                    <a:pt x="907" y="610"/>
                  </a:lnTo>
                  <a:lnTo>
                    <a:pt x="924" y="616"/>
                  </a:lnTo>
                  <a:lnTo>
                    <a:pt x="939" y="622"/>
                  </a:lnTo>
                  <a:lnTo>
                    <a:pt x="958" y="627"/>
                  </a:lnTo>
                  <a:lnTo>
                    <a:pt x="975" y="633"/>
                  </a:lnTo>
                  <a:lnTo>
                    <a:pt x="994" y="639"/>
                  </a:lnTo>
                  <a:lnTo>
                    <a:pt x="1013" y="645"/>
                  </a:lnTo>
                  <a:lnTo>
                    <a:pt x="1032" y="650"/>
                  </a:lnTo>
                  <a:lnTo>
                    <a:pt x="1051" y="656"/>
                  </a:lnTo>
                  <a:lnTo>
                    <a:pt x="1072" y="662"/>
                  </a:lnTo>
                  <a:lnTo>
                    <a:pt x="1093" y="667"/>
                  </a:lnTo>
                  <a:lnTo>
                    <a:pt x="1112" y="675"/>
                  </a:lnTo>
                  <a:lnTo>
                    <a:pt x="1133" y="679"/>
                  </a:lnTo>
                  <a:lnTo>
                    <a:pt x="1156" y="686"/>
                  </a:lnTo>
                  <a:lnTo>
                    <a:pt x="1177" y="690"/>
                  </a:lnTo>
                  <a:lnTo>
                    <a:pt x="1200" y="696"/>
                  </a:lnTo>
                  <a:lnTo>
                    <a:pt x="1220" y="700"/>
                  </a:lnTo>
                  <a:lnTo>
                    <a:pt x="1243" y="705"/>
                  </a:lnTo>
                  <a:lnTo>
                    <a:pt x="1264" y="709"/>
                  </a:lnTo>
                  <a:lnTo>
                    <a:pt x="1287" y="713"/>
                  </a:lnTo>
                  <a:lnTo>
                    <a:pt x="1308" y="717"/>
                  </a:lnTo>
                  <a:lnTo>
                    <a:pt x="1333" y="723"/>
                  </a:lnTo>
                  <a:lnTo>
                    <a:pt x="1355" y="724"/>
                  </a:lnTo>
                  <a:lnTo>
                    <a:pt x="1378" y="726"/>
                  </a:lnTo>
                  <a:lnTo>
                    <a:pt x="1399" y="730"/>
                  </a:lnTo>
                  <a:lnTo>
                    <a:pt x="1424" y="734"/>
                  </a:lnTo>
                  <a:lnTo>
                    <a:pt x="1447" y="736"/>
                  </a:lnTo>
                  <a:lnTo>
                    <a:pt x="1469" y="738"/>
                  </a:lnTo>
                  <a:lnTo>
                    <a:pt x="1494" y="740"/>
                  </a:lnTo>
                  <a:lnTo>
                    <a:pt x="1517" y="742"/>
                  </a:lnTo>
                  <a:lnTo>
                    <a:pt x="1540" y="742"/>
                  </a:lnTo>
                  <a:lnTo>
                    <a:pt x="1563" y="742"/>
                  </a:lnTo>
                  <a:lnTo>
                    <a:pt x="1585" y="742"/>
                  </a:lnTo>
                  <a:lnTo>
                    <a:pt x="1610" y="742"/>
                  </a:lnTo>
                  <a:lnTo>
                    <a:pt x="1631" y="740"/>
                  </a:lnTo>
                  <a:lnTo>
                    <a:pt x="1654" y="738"/>
                  </a:lnTo>
                  <a:lnTo>
                    <a:pt x="1677" y="736"/>
                  </a:lnTo>
                  <a:lnTo>
                    <a:pt x="1701" y="736"/>
                  </a:lnTo>
                  <a:lnTo>
                    <a:pt x="1722" y="730"/>
                  </a:lnTo>
                  <a:lnTo>
                    <a:pt x="1745" y="726"/>
                  </a:lnTo>
                  <a:lnTo>
                    <a:pt x="1766" y="723"/>
                  </a:lnTo>
                  <a:lnTo>
                    <a:pt x="1789" y="719"/>
                  </a:lnTo>
                  <a:lnTo>
                    <a:pt x="1810" y="713"/>
                  </a:lnTo>
                  <a:lnTo>
                    <a:pt x="1831" y="707"/>
                  </a:lnTo>
                  <a:lnTo>
                    <a:pt x="1852" y="700"/>
                  </a:lnTo>
                  <a:lnTo>
                    <a:pt x="1874" y="696"/>
                  </a:lnTo>
                  <a:lnTo>
                    <a:pt x="1882" y="690"/>
                  </a:lnTo>
                  <a:lnTo>
                    <a:pt x="1893" y="686"/>
                  </a:lnTo>
                  <a:lnTo>
                    <a:pt x="1901" y="681"/>
                  </a:lnTo>
                  <a:lnTo>
                    <a:pt x="1911" y="677"/>
                  </a:lnTo>
                  <a:lnTo>
                    <a:pt x="1920" y="671"/>
                  </a:lnTo>
                  <a:lnTo>
                    <a:pt x="1930" y="666"/>
                  </a:lnTo>
                  <a:lnTo>
                    <a:pt x="1939" y="662"/>
                  </a:lnTo>
                  <a:lnTo>
                    <a:pt x="1950" y="656"/>
                  </a:lnTo>
                  <a:lnTo>
                    <a:pt x="1958" y="648"/>
                  </a:lnTo>
                  <a:lnTo>
                    <a:pt x="1968" y="643"/>
                  </a:lnTo>
                  <a:lnTo>
                    <a:pt x="1975" y="635"/>
                  </a:lnTo>
                  <a:lnTo>
                    <a:pt x="1985" y="629"/>
                  </a:lnTo>
                  <a:lnTo>
                    <a:pt x="1992" y="622"/>
                  </a:lnTo>
                  <a:lnTo>
                    <a:pt x="2002" y="614"/>
                  </a:lnTo>
                  <a:lnTo>
                    <a:pt x="2011" y="608"/>
                  </a:lnTo>
                  <a:lnTo>
                    <a:pt x="2021" y="601"/>
                  </a:lnTo>
                  <a:lnTo>
                    <a:pt x="2026" y="591"/>
                  </a:lnTo>
                  <a:lnTo>
                    <a:pt x="2034" y="584"/>
                  </a:lnTo>
                  <a:lnTo>
                    <a:pt x="2042" y="576"/>
                  </a:lnTo>
                  <a:lnTo>
                    <a:pt x="2051" y="569"/>
                  </a:lnTo>
                  <a:lnTo>
                    <a:pt x="2057" y="559"/>
                  </a:lnTo>
                  <a:lnTo>
                    <a:pt x="2065" y="551"/>
                  </a:lnTo>
                  <a:lnTo>
                    <a:pt x="2072" y="542"/>
                  </a:lnTo>
                  <a:lnTo>
                    <a:pt x="2080" y="534"/>
                  </a:lnTo>
                  <a:lnTo>
                    <a:pt x="2085" y="523"/>
                  </a:lnTo>
                  <a:lnTo>
                    <a:pt x="2091" y="515"/>
                  </a:lnTo>
                  <a:lnTo>
                    <a:pt x="2097" y="504"/>
                  </a:lnTo>
                  <a:lnTo>
                    <a:pt x="2103" y="496"/>
                  </a:lnTo>
                  <a:lnTo>
                    <a:pt x="2108" y="485"/>
                  </a:lnTo>
                  <a:lnTo>
                    <a:pt x="2114" y="475"/>
                  </a:lnTo>
                  <a:lnTo>
                    <a:pt x="2120" y="468"/>
                  </a:lnTo>
                  <a:lnTo>
                    <a:pt x="2125" y="458"/>
                  </a:lnTo>
                  <a:lnTo>
                    <a:pt x="2129" y="447"/>
                  </a:lnTo>
                  <a:lnTo>
                    <a:pt x="2133" y="437"/>
                  </a:lnTo>
                  <a:lnTo>
                    <a:pt x="2139" y="426"/>
                  </a:lnTo>
                  <a:lnTo>
                    <a:pt x="2142" y="416"/>
                  </a:lnTo>
                  <a:lnTo>
                    <a:pt x="2144" y="405"/>
                  </a:lnTo>
                  <a:lnTo>
                    <a:pt x="2148" y="396"/>
                  </a:lnTo>
                  <a:lnTo>
                    <a:pt x="2152" y="384"/>
                  </a:lnTo>
                  <a:lnTo>
                    <a:pt x="2154" y="375"/>
                  </a:lnTo>
                  <a:lnTo>
                    <a:pt x="2156" y="363"/>
                  </a:lnTo>
                  <a:lnTo>
                    <a:pt x="2156" y="354"/>
                  </a:lnTo>
                  <a:lnTo>
                    <a:pt x="2158" y="342"/>
                  </a:lnTo>
                  <a:lnTo>
                    <a:pt x="2160" y="333"/>
                  </a:lnTo>
                  <a:lnTo>
                    <a:pt x="2160" y="323"/>
                  </a:lnTo>
                  <a:lnTo>
                    <a:pt x="2161" y="314"/>
                  </a:lnTo>
                  <a:lnTo>
                    <a:pt x="2161" y="302"/>
                  </a:lnTo>
                  <a:lnTo>
                    <a:pt x="2163" y="293"/>
                  </a:lnTo>
                  <a:lnTo>
                    <a:pt x="2161" y="281"/>
                  </a:lnTo>
                  <a:lnTo>
                    <a:pt x="2160" y="272"/>
                  </a:lnTo>
                  <a:lnTo>
                    <a:pt x="2158" y="261"/>
                  </a:lnTo>
                  <a:lnTo>
                    <a:pt x="2156" y="253"/>
                  </a:lnTo>
                  <a:lnTo>
                    <a:pt x="2154" y="242"/>
                  </a:lnTo>
                  <a:lnTo>
                    <a:pt x="2152" y="232"/>
                  </a:lnTo>
                  <a:lnTo>
                    <a:pt x="2148" y="221"/>
                  </a:lnTo>
                  <a:lnTo>
                    <a:pt x="2146" y="213"/>
                  </a:lnTo>
                  <a:lnTo>
                    <a:pt x="2141" y="203"/>
                  </a:lnTo>
                  <a:lnTo>
                    <a:pt x="2137" y="194"/>
                  </a:lnTo>
                  <a:lnTo>
                    <a:pt x="2131" y="184"/>
                  </a:lnTo>
                  <a:lnTo>
                    <a:pt x="2125" y="177"/>
                  </a:lnTo>
                  <a:lnTo>
                    <a:pt x="2120" y="167"/>
                  </a:lnTo>
                  <a:lnTo>
                    <a:pt x="2114" y="158"/>
                  </a:lnTo>
                  <a:lnTo>
                    <a:pt x="2108" y="150"/>
                  </a:lnTo>
                  <a:lnTo>
                    <a:pt x="2101" y="143"/>
                  </a:lnTo>
                  <a:lnTo>
                    <a:pt x="210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39120" y="423360"/>
              <a:ext cx="282600" cy="99360"/>
            </a:xfrm>
            <a:custGeom>
              <a:avLst/>
              <a:gdLst/>
              <a:ahLst/>
              <a:rect l="l" t="t" r="r" b="b"/>
              <a:pathLst>
                <a:path w="1564" h="551">
                  <a:moveTo>
                    <a:pt x="783" y="551"/>
                  </a:moveTo>
                  <a:lnTo>
                    <a:pt x="802" y="549"/>
                  </a:lnTo>
                  <a:lnTo>
                    <a:pt x="821" y="549"/>
                  </a:lnTo>
                  <a:lnTo>
                    <a:pt x="842" y="549"/>
                  </a:lnTo>
                  <a:lnTo>
                    <a:pt x="861" y="549"/>
                  </a:lnTo>
                  <a:lnTo>
                    <a:pt x="880" y="547"/>
                  </a:lnTo>
                  <a:lnTo>
                    <a:pt x="899" y="545"/>
                  </a:lnTo>
                  <a:lnTo>
                    <a:pt x="920" y="543"/>
                  </a:lnTo>
                  <a:lnTo>
                    <a:pt x="939" y="543"/>
                  </a:lnTo>
                  <a:lnTo>
                    <a:pt x="958" y="542"/>
                  </a:lnTo>
                  <a:lnTo>
                    <a:pt x="977" y="540"/>
                  </a:lnTo>
                  <a:lnTo>
                    <a:pt x="996" y="540"/>
                  </a:lnTo>
                  <a:lnTo>
                    <a:pt x="1015" y="538"/>
                  </a:lnTo>
                  <a:lnTo>
                    <a:pt x="1032" y="536"/>
                  </a:lnTo>
                  <a:lnTo>
                    <a:pt x="1051" y="534"/>
                  </a:lnTo>
                  <a:lnTo>
                    <a:pt x="1068" y="530"/>
                  </a:lnTo>
                  <a:lnTo>
                    <a:pt x="1087" y="530"/>
                  </a:lnTo>
                  <a:lnTo>
                    <a:pt x="1102" y="526"/>
                  </a:lnTo>
                  <a:lnTo>
                    <a:pt x="1119" y="522"/>
                  </a:lnTo>
                  <a:lnTo>
                    <a:pt x="1136" y="519"/>
                  </a:lnTo>
                  <a:lnTo>
                    <a:pt x="1154" y="517"/>
                  </a:lnTo>
                  <a:lnTo>
                    <a:pt x="1171" y="513"/>
                  </a:lnTo>
                  <a:lnTo>
                    <a:pt x="1186" y="509"/>
                  </a:lnTo>
                  <a:lnTo>
                    <a:pt x="1201" y="507"/>
                  </a:lnTo>
                  <a:lnTo>
                    <a:pt x="1218" y="503"/>
                  </a:lnTo>
                  <a:lnTo>
                    <a:pt x="1233" y="500"/>
                  </a:lnTo>
                  <a:lnTo>
                    <a:pt x="1249" y="496"/>
                  </a:lnTo>
                  <a:lnTo>
                    <a:pt x="1262" y="492"/>
                  </a:lnTo>
                  <a:lnTo>
                    <a:pt x="1279" y="488"/>
                  </a:lnTo>
                  <a:lnTo>
                    <a:pt x="1292" y="484"/>
                  </a:lnTo>
                  <a:lnTo>
                    <a:pt x="1306" y="481"/>
                  </a:lnTo>
                  <a:lnTo>
                    <a:pt x="1321" y="477"/>
                  </a:lnTo>
                  <a:lnTo>
                    <a:pt x="1336" y="473"/>
                  </a:lnTo>
                  <a:lnTo>
                    <a:pt x="1347" y="467"/>
                  </a:lnTo>
                  <a:lnTo>
                    <a:pt x="1359" y="462"/>
                  </a:lnTo>
                  <a:lnTo>
                    <a:pt x="1372" y="456"/>
                  </a:lnTo>
                  <a:lnTo>
                    <a:pt x="1386" y="452"/>
                  </a:lnTo>
                  <a:lnTo>
                    <a:pt x="1395" y="448"/>
                  </a:lnTo>
                  <a:lnTo>
                    <a:pt x="1406" y="443"/>
                  </a:lnTo>
                  <a:lnTo>
                    <a:pt x="1418" y="437"/>
                  </a:lnTo>
                  <a:lnTo>
                    <a:pt x="1429" y="433"/>
                  </a:lnTo>
                  <a:lnTo>
                    <a:pt x="1439" y="426"/>
                  </a:lnTo>
                  <a:lnTo>
                    <a:pt x="1448" y="422"/>
                  </a:lnTo>
                  <a:lnTo>
                    <a:pt x="1458" y="416"/>
                  </a:lnTo>
                  <a:lnTo>
                    <a:pt x="1467" y="410"/>
                  </a:lnTo>
                  <a:lnTo>
                    <a:pt x="1477" y="403"/>
                  </a:lnTo>
                  <a:lnTo>
                    <a:pt x="1484" y="399"/>
                  </a:lnTo>
                  <a:lnTo>
                    <a:pt x="1494" y="393"/>
                  </a:lnTo>
                  <a:lnTo>
                    <a:pt x="1503" y="389"/>
                  </a:lnTo>
                  <a:lnTo>
                    <a:pt x="1509" y="382"/>
                  </a:lnTo>
                  <a:lnTo>
                    <a:pt x="1517" y="376"/>
                  </a:lnTo>
                  <a:lnTo>
                    <a:pt x="1520" y="368"/>
                  </a:lnTo>
                  <a:lnTo>
                    <a:pt x="1528" y="363"/>
                  </a:lnTo>
                  <a:lnTo>
                    <a:pt x="1534" y="357"/>
                  </a:lnTo>
                  <a:lnTo>
                    <a:pt x="1538" y="351"/>
                  </a:lnTo>
                  <a:lnTo>
                    <a:pt x="1541" y="344"/>
                  </a:lnTo>
                  <a:lnTo>
                    <a:pt x="1547" y="338"/>
                  </a:lnTo>
                  <a:lnTo>
                    <a:pt x="1551" y="330"/>
                  </a:lnTo>
                  <a:lnTo>
                    <a:pt x="1555" y="325"/>
                  </a:lnTo>
                  <a:lnTo>
                    <a:pt x="1557" y="317"/>
                  </a:lnTo>
                  <a:lnTo>
                    <a:pt x="1560" y="311"/>
                  </a:lnTo>
                  <a:lnTo>
                    <a:pt x="1562" y="298"/>
                  </a:lnTo>
                  <a:lnTo>
                    <a:pt x="1564" y="287"/>
                  </a:lnTo>
                  <a:lnTo>
                    <a:pt x="1562" y="272"/>
                  </a:lnTo>
                  <a:lnTo>
                    <a:pt x="1559" y="258"/>
                  </a:lnTo>
                  <a:lnTo>
                    <a:pt x="1555" y="251"/>
                  </a:lnTo>
                  <a:lnTo>
                    <a:pt x="1551" y="245"/>
                  </a:lnTo>
                  <a:lnTo>
                    <a:pt x="1547" y="237"/>
                  </a:lnTo>
                  <a:lnTo>
                    <a:pt x="1543" y="232"/>
                  </a:lnTo>
                  <a:lnTo>
                    <a:pt x="1538" y="224"/>
                  </a:lnTo>
                  <a:lnTo>
                    <a:pt x="1532" y="218"/>
                  </a:lnTo>
                  <a:lnTo>
                    <a:pt x="1524" y="211"/>
                  </a:lnTo>
                  <a:lnTo>
                    <a:pt x="1519" y="205"/>
                  </a:lnTo>
                  <a:lnTo>
                    <a:pt x="1511" y="197"/>
                  </a:lnTo>
                  <a:lnTo>
                    <a:pt x="1503" y="192"/>
                  </a:lnTo>
                  <a:lnTo>
                    <a:pt x="1494" y="184"/>
                  </a:lnTo>
                  <a:lnTo>
                    <a:pt x="1486" y="178"/>
                  </a:lnTo>
                  <a:lnTo>
                    <a:pt x="1477" y="171"/>
                  </a:lnTo>
                  <a:lnTo>
                    <a:pt x="1465" y="167"/>
                  </a:lnTo>
                  <a:lnTo>
                    <a:pt x="1454" y="159"/>
                  </a:lnTo>
                  <a:lnTo>
                    <a:pt x="1444" y="154"/>
                  </a:lnTo>
                  <a:lnTo>
                    <a:pt x="1433" y="148"/>
                  </a:lnTo>
                  <a:lnTo>
                    <a:pt x="1420" y="142"/>
                  </a:lnTo>
                  <a:lnTo>
                    <a:pt x="1408" y="135"/>
                  </a:lnTo>
                  <a:lnTo>
                    <a:pt x="1397" y="131"/>
                  </a:lnTo>
                  <a:lnTo>
                    <a:pt x="1382" y="123"/>
                  </a:lnTo>
                  <a:lnTo>
                    <a:pt x="1368" y="117"/>
                  </a:lnTo>
                  <a:lnTo>
                    <a:pt x="1355" y="114"/>
                  </a:lnTo>
                  <a:lnTo>
                    <a:pt x="1340" y="108"/>
                  </a:lnTo>
                  <a:lnTo>
                    <a:pt x="1327" y="102"/>
                  </a:lnTo>
                  <a:lnTo>
                    <a:pt x="1311" y="97"/>
                  </a:lnTo>
                  <a:lnTo>
                    <a:pt x="1298" y="91"/>
                  </a:lnTo>
                  <a:lnTo>
                    <a:pt x="1283" y="87"/>
                  </a:lnTo>
                  <a:lnTo>
                    <a:pt x="1266" y="83"/>
                  </a:lnTo>
                  <a:lnTo>
                    <a:pt x="1249" y="78"/>
                  </a:lnTo>
                  <a:lnTo>
                    <a:pt x="1232" y="72"/>
                  </a:lnTo>
                  <a:lnTo>
                    <a:pt x="1216" y="68"/>
                  </a:lnTo>
                  <a:lnTo>
                    <a:pt x="1199" y="62"/>
                  </a:lnTo>
                  <a:lnTo>
                    <a:pt x="1182" y="59"/>
                  </a:lnTo>
                  <a:lnTo>
                    <a:pt x="1165" y="55"/>
                  </a:lnTo>
                  <a:lnTo>
                    <a:pt x="1148" y="51"/>
                  </a:lnTo>
                  <a:lnTo>
                    <a:pt x="1129" y="47"/>
                  </a:lnTo>
                  <a:lnTo>
                    <a:pt x="1110" y="43"/>
                  </a:lnTo>
                  <a:lnTo>
                    <a:pt x="1093" y="38"/>
                  </a:lnTo>
                  <a:lnTo>
                    <a:pt x="1074" y="34"/>
                  </a:lnTo>
                  <a:lnTo>
                    <a:pt x="1053" y="30"/>
                  </a:lnTo>
                  <a:lnTo>
                    <a:pt x="1036" y="28"/>
                  </a:lnTo>
                  <a:lnTo>
                    <a:pt x="1017" y="26"/>
                  </a:lnTo>
                  <a:lnTo>
                    <a:pt x="998" y="22"/>
                  </a:lnTo>
                  <a:lnTo>
                    <a:pt x="979" y="19"/>
                  </a:lnTo>
                  <a:lnTo>
                    <a:pt x="958" y="17"/>
                  </a:lnTo>
                  <a:lnTo>
                    <a:pt x="939" y="13"/>
                  </a:lnTo>
                  <a:lnTo>
                    <a:pt x="918" y="11"/>
                  </a:lnTo>
                  <a:lnTo>
                    <a:pt x="899" y="7"/>
                  </a:lnTo>
                  <a:lnTo>
                    <a:pt x="878" y="7"/>
                  </a:lnTo>
                  <a:lnTo>
                    <a:pt x="859" y="3"/>
                  </a:lnTo>
                  <a:lnTo>
                    <a:pt x="840" y="3"/>
                  </a:lnTo>
                  <a:lnTo>
                    <a:pt x="819" y="2"/>
                  </a:lnTo>
                  <a:lnTo>
                    <a:pt x="798" y="0"/>
                  </a:lnTo>
                  <a:lnTo>
                    <a:pt x="777" y="0"/>
                  </a:lnTo>
                  <a:lnTo>
                    <a:pt x="758" y="0"/>
                  </a:lnTo>
                  <a:lnTo>
                    <a:pt x="737" y="0"/>
                  </a:lnTo>
                  <a:lnTo>
                    <a:pt x="718" y="0"/>
                  </a:lnTo>
                  <a:lnTo>
                    <a:pt x="699" y="0"/>
                  </a:lnTo>
                  <a:lnTo>
                    <a:pt x="678" y="0"/>
                  </a:lnTo>
                  <a:lnTo>
                    <a:pt x="657" y="0"/>
                  </a:lnTo>
                  <a:lnTo>
                    <a:pt x="637" y="0"/>
                  </a:lnTo>
                  <a:lnTo>
                    <a:pt x="617" y="0"/>
                  </a:lnTo>
                  <a:lnTo>
                    <a:pt x="598" y="0"/>
                  </a:lnTo>
                  <a:lnTo>
                    <a:pt x="579" y="0"/>
                  </a:lnTo>
                  <a:lnTo>
                    <a:pt x="559" y="0"/>
                  </a:lnTo>
                  <a:lnTo>
                    <a:pt x="541" y="2"/>
                  </a:lnTo>
                  <a:lnTo>
                    <a:pt x="524" y="3"/>
                  </a:lnTo>
                  <a:lnTo>
                    <a:pt x="505" y="3"/>
                  </a:lnTo>
                  <a:lnTo>
                    <a:pt x="488" y="7"/>
                  </a:lnTo>
                  <a:lnTo>
                    <a:pt x="469" y="7"/>
                  </a:lnTo>
                  <a:lnTo>
                    <a:pt x="454" y="11"/>
                  </a:lnTo>
                  <a:lnTo>
                    <a:pt x="437" y="13"/>
                  </a:lnTo>
                  <a:lnTo>
                    <a:pt x="420" y="17"/>
                  </a:lnTo>
                  <a:lnTo>
                    <a:pt x="405" y="19"/>
                  </a:lnTo>
                  <a:lnTo>
                    <a:pt x="389" y="22"/>
                  </a:lnTo>
                  <a:lnTo>
                    <a:pt x="374" y="26"/>
                  </a:lnTo>
                  <a:lnTo>
                    <a:pt x="357" y="28"/>
                  </a:lnTo>
                  <a:lnTo>
                    <a:pt x="342" y="30"/>
                  </a:lnTo>
                  <a:lnTo>
                    <a:pt x="329" y="34"/>
                  </a:lnTo>
                  <a:lnTo>
                    <a:pt x="313" y="38"/>
                  </a:lnTo>
                  <a:lnTo>
                    <a:pt x="300" y="43"/>
                  </a:lnTo>
                  <a:lnTo>
                    <a:pt x="285" y="47"/>
                  </a:lnTo>
                  <a:lnTo>
                    <a:pt x="273" y="51"/>
                  </a:lnTo>
                  <a:lnTo>
                    <a:pt x="258" y="55"/>
                  </a:lnTo>
                  <a:lnTo>
                    <a:pt x="245" y="59"/>
                  </a:lnTo>
                  <a:lnTo>
                    <a:pt x="233" y="62"/>
                  </a:lnTo>
                  <a:lnTo>
                    <a:pt x="222" y="68"/>
                  </a:lnTo>
                  <a:lnTo>
                    <a:pt x="209" y="72"/>
                  </a:lnTo>
                  <a:lnTo>
                    <a:pt x="197" y="78"/>
                  </a:lnTo>
                  <a:lnTo>
                    <a:pt x="188" y="83"/>
                  </a:lnTo>
                  <a:lnTo>
                    <a:pt x="178" y="87"/>
                  </a:lnTo>
                  <a:lnTo>
                    <a:pt x="165" y="91"/>
                  </a:lnTo>
                  <a:lnTo>
                    <a:pt x="156" y="97"/>
                  </a:lnTo>
                  <a:lnTo>
                    <a:pt x="144" y="102"/>
                  </a:lnTo>
                  <a:lnTo>
                    <a:pt x="135" y="108"/>
                  </a:lnTo>
                  <a:lnTo>
                    <a:pt x="125" y="114"/>
                  </a:lnTo>
                  <a:lnTo>
                    <a:pt x="116" y="117"/>
                  </a:lnTo>
                  <a:lnTo>
                    <a:pt x="108" y="123"/>
                  </a:lnTo>
                  <a:lnTo>
                    <a:pt x="100" y="131"/>
                  </a:lnTo>
                  <a:lnTo>
                    <a:pt x="91" y="135"/>
                  </a:lnTo>
                  <a:lnTo>
                    <a:pt x="83" y="142"/>
                  </a:lnTo>
                  <a:lnTo>
                    <a:pt x="76" y="148"/>
                  </a:lnTo>
                  <a:lnTo>
                    <a:pt x="70" y="154"/>
                  </a:lnTo>
                  <a:lnTo>
                    <a:pt x="60" y="159"/>
                  </a:lnTo>
                  <a:lnTo>
                    <a:pt x="57" y="167"/>
                  </a:lnTo>
                  <a:lnTo>
                    <a:pt x="49" y="171"/>
                  </a:lnTo>
                  <a:lnTo>
                    <a:pt x="45" y="178"/>
                  </a:lnTo>
                  <a:lnTo>
                    <a:pt x="40" y="184"/>
                  </a:lnTo>
                  <a:lnTo>
                    <a:pt x="34" y="192"/>
                  </a:lnTo>
                  <a:lnTo>
                    <a:pt x="28" y="197"/>
                  </a:lnTo>
                  <a:lnTo>
                    <a:pt x="24" y="205"/>
                  </a:lnTo>
                  <a:lnTo>
                    <a:pt x="21" y="211"/>
                  </a:lnTo>
                  <a:lnTo>
                    <a:pt x="17" y="218"/>
                  </a:lnTo>
                  <a:lnTo>
                    <a:pt x="13" y="224"/>
                  </a:lnTo>
                  <a:lnTo>
                    <a:pt x="11" y="232"/>
                  </a:lnTo>
                  <a:lnTo>
                    <a:pt x="5" y="245"/>
                  </a:lnTo>
                  <a:lnTo>
                    <a:pt x="2" y="258"/>
                  </a:lnTo>
                  <a:lnTo>
                    <a:pt x="0" y="272"/>
                  </a:lnTo>
                  <a:lnTo>
                    <a:pt x="0" y="287"/>
                  </a:lnTo>
                  <a:lnTo>
                    <a:pt x="0" y="298"/>
                  </a:lnTo>
                  <a:lnTo>
                    <a:pt x="3" y="311"/>
                  </a:lnTo>
                  <a:lnTo>
                    <a:pt x="3" y="317"/>
                  </a:lnTo>
                  <a:lnTo>
                    <a:pt x="7" y="325"/>
                  </a:lnTo>
                  <a:lnTo>
                    <a:pt x="11" y="330"/>
                  </a:lnTo>
                  <a:lnTo>
                    <a:pt x="15" y="338"/>
                  </a:lnTo>
                  <a:lnTo>
                    <a:pt x="19" y="344"/>
                  </a:lnTo>
                  <a:lnTo>
                    <a:pt x="22" y="351"/>
                  </a:lnTo>
                  <a:lnTo>
                    <a:pt x="28" y="357"/>
                  </a:lnTo>
                  <a:lnTo>
                    <a:pt x="34" y="363"/>
                  </a:lnTo>
                  <a:lnTo>
                    <a:pt x="40" y="368"/>
                  </a:lnTo>
                  <a:lnTo>
                    <a:pt x="45" y="376"/>
                  </a:lnTo>
                  <a:lnTo>
                    <a:pt x="53" y="382"/>
                  </a:lnTo>
                  <a:lnTo>
                    <a:pt x="60" y="389"/>
                  </a:lnTo>
                  <a:lnTo>
                    <a:pt x="68" y="393"/>
                  </a:lnTo>
                  <a:lnTo>
                    <a:pt x="76" y="399"/>
                  </a:lnTo>
                  <a:lnTo>
                    <a:pt x="83" y="403"/>
                  </a:lnTo>
                  <a:lnTo>
                    <a:pt x="93" y="410"/>
                  </a:lnTo>
                  <a:lnTo>
                    <a:pt x="100" y="416"/>
                  </a:lnTo>
                  <a:lnTo>
                    <a:pt x="112" y="422"/>
                  </a:lnTo>
                  <a:lnTo>
                    <a:pt x="121" y="426"/>
                  </a:lnTo>
                  <a:lnTo>
                    <a:pt x="133" y="433"/>
                  </a:lnTo>
                  <a:lnTo>
                    <a:pt x="142" y="437"/>
                  </a:lnTo>
                  <a:lnTo>
                    <a:pt x="154" y="443"/>
                  </a:lnTo>
                  <a:lnTo>
                    <a:pt x="165" y="448"/>
                  </a:lnTo>
                  <a:lnTo>
                    <a:pt x="178" y="452"/>
                  </a:lnTo>
                  <a:lnTo>
                    <a:pt x="190" y="456"/>
                  </a:lnTo>
                  <a:lnTo>
                    <a:pt x="201" y="462"/>
                  </a:lnTo>
                  <a:lnTo>
                    <a:pt x="214" y="467"/>
                  </a:lnTo>
                  <a:lnTo>
                    <a:pt x="230" y="473"/>
                  </a:lnTo>
                  <a:lnTo>
                    <a:pt x="241" y="477"/>
                  </a:lnTo>
                  <a:lnTo>
                    <a:pt x="254" y="481"/>
                  </a:lnTo>
                  <a:lnTo>
                    <a:pt x="268" y="484"/>
                  </a:lnTo>
                  <a:lnTo>
                    <a:pt x="283" y="488"/>
                  </a:lnTo>
                  <a:lnTo>
                    <a:pt x="296" y="492"/>
                  </a:lnTo>
                  <a:lnTo>
                    <a:pt x="313" y="496"/>
                  </a:lnTo>
                  <a:lnTo>
                    <a:pt x="329" y="500"/>
                  </a:lnTo>
                  <a:lnTo>
                    <a:pt x="346" y="503"/>
                  </a:lnTo>
                  <a:lnTo>
                    <a:pt x="359" y="507"/>
                  </a:lnTo>
                  <a:lnTo>
                    <a:pt x="376" y="509"/>
                  </a:lnTo>
                  <a:lnTo>
                    <a:pt x="391" y="513"/>
                  </a:lnTo>
                  <a:lnTo>
                    <a:pt x="408" y="517"/>
                  </a:lnTo>
                  <a:lnTo>
                    <a:pt x="424" y="519"/>
                  </a:lnTo>
                  <a:lnTo>
                    <a:pt x="443" y="522"/>
                  </a:lnTo>
                  <a:lnTo>
                    <a:pt x="460" y="526"/>
                  </a:lnTo>
                  <a:lnTo>
                    <a:pt x="479" y="530"/>
                  </a:lnTo>
                  <a:lnTo>
                    <a:pt x="494" y="530"/>
                  </a:lnTo>
                  <a:lnTo>
                    <a:pt x="513" y="534"/>
                  </a:lnTo>
                  <a:lnTo>
                    <a:pt x="530" y="536"/>
                  </a:lnTo>
                  <a:lnTo>
                    <a:pt x="549" y="538"/>
                  </a:lnTo>
                  <a:lnTo>
                    <a:pt x="568" y="540"/>
                  </a:lnTo>
                  <a:lnTo>
                    <a:pt x="585" y="540"/>
                  </a:lnTo>
                  <a:lnTo>
                    <a:pt x="604" y="542"/>
                  </a:lnTo>
                  <a:lnTo>
                    <a:pt x="625" y="543"/>
                  </a:lnTo>
                  <a:lnTo>
                    <a:pt x="642" y="543"/>
                  </a:lnTo>
                  <a:lnTo>
                    <a:pt x="663" y="545"/>
                  </a:lnTo>
                  <a:lnTo>
                    <a:pt x="682" y="547"/>
                  </a:lnTo>
                  <a:lnTo>
                    <a:pt x="703" y="549"/>
                  </a:lnTo>
                  <a:lnTo>
                    <a:pt x="722" y="549"/>
                  </a:lnTo>
                  <a:lnTo>
                    <a:pt x="743" y="549"/>
                  </a:lnTo>
                  <a:lnTo>
                    <a:pt x="762" y="549"/>
                  </a:lnTo>
                  <a:lnTo>
                    <a:pt x="783" y="551"/>
                  </a:lnTo>
                  <a:lnTo>
                    <a:pt x="783" y="55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61440" y="718920"/>
              <a:ext cx="245520" cy="72360"/>
            </a:xfrm>
            <a:custGeom>
              <a:avLst/>
              <a:gdLst/>
              <a:ahLst/>
              <a:rect l="l" t="t" r="r" b="b"/>
              <a:pathLst>
                <a:path w="1360" h="403">
                  <a:moveTo>
                    <a:pt x="1360" y="249"/>
                  </a:moveTo>
                  <a:lnTo>
                    <a:pt x="1356" y="239"/>
                  </a:lnTo>
                  <a:lnTo>
                    <a:pt x="1350" y="230"/>
                  </a:lnTo>
                  <a:lnTo>
                    <a:pt x="1346" y="220"/>
                  </a:lnTo>
                  <a:lnTo>
                    <a:pt x="1342" y="213"/>
                  </a:lnTo>
                  <a:lnTo>
                    <a:pt x="1337" y="203"/>
                  </a:lnTo>
                  <a:lnTo>
                    <a:pt x="1331" y="195"/>
                  </a:lnTo>
                  <a:lnTo>
                    <a:pt x="1325" y="188"/>
                  </a:lnTo>
                  <a:lnTo>
                    <a:pt x="1320" y="180"/>
                  </a:lnTo>
                  <a:lnTo>
                    <a:pt x="1310" y="171"/>
                  </a:lnTo>
                  <a:lnTo>
                    <a:pt x="1303" y="163"/>
                  </a:lnTo>
                  <a:lnTo>
                    <a:pt x="1293" y="154"/>
                  </a:lnTo>
                  <a:lnTo>
                    <a:pt x="1285" y="146"/>
                  </a:lnTo>
                  <a:lnTo>
                    <a:pt x="1274" y="138"/>
                  </a:lnTo>
                  <a:lnTo>
                    <a:pt x="1265" y="131"/>
                  </a:lnTo>
                  <a:lnTo>
                    <a:pt x="1253" y="125"/>
                  </a:lnTo>
                  <a:lnTo>
                    <a:pt x="1242" y="117"/>
                  </a:lnTo>
                  <a:lnTo>
                    <a:pt x="1234" y="114"/>
                  </a:lnTo>
                  <a:lnTo>
                    <a:pt x="1228" y="110"/>
                  </a:lnTo>
                  <a:lnTo>
                    <a:pt x="1221" y="106"/>
                  </a:lnTo>
                  <a:lnTo>
                    <a:pt x="1215" y="102"/>
                  </a:lnTo>
                  <a:lnTo>
                    <a:pt x="1202" y="97"/>
                  </a:lnTo>
                  <a:lnTo>
                    <a:pt x="1188" y="91"/>
                  </a:lnTo>
                  <a:lnTo>
                    <a:pt x="1181" y="87"/>
                  </a:lnTo>
                  <a:lnTo>
                    <a:pt x="1173" y="83"/>
                  </a:lnTo>
                  <a:lnTo>
                    <a:pt x="1166" y="79"/>
                  </a:lnTo>
                  <a:lnTo>
                    <a:pt x="1158" y="78"/>
                  </a:lnTo>
                  <a:lnTo>
                    <a:pt x="1150" y="74"/>
                  </a:lnTo>
                  <a:lnTo>
                    <a:pt x="1143" y="70"/>
                  </a:lnTo>
                  <a:lnTo>
                    <a:pt x="1135" y="68"/>
                  </a:lnTo>
                  <a:lnTo>
                    <a:pt x="1128" y="66"/>
                  </a:lnTo>
                  <a:lnTo>
                    <a:pt x="1120" y="62"/>
                  </a:lnTo>
                  <a:lnTo>
                    <a:pt x="1111" y="60"/>
                  </a:lnTo>
                  <a:lnTo>
                    <a:pt x="1103" y="57"/>
                  </a:lnTo>
                  <a:lnTo>
                    <a:pt x="1093" y="55"/>
                  </a:lnTo>
                  <a:lnTo>
                    <a:pt x="1084" y="53"/>
                  </a:lnTo>
                  <a:lnTo>
                    <a:pt x="1076" y="49"/>
                  </a:lnTo>
                  <a:lnTo>
                    <a:pt x="1067" y="47"/>
                  </a:lnTo>
                  <a:lnTo>
                    <a:pt x="1059" y="45"/>
                  </a:lnTo>
                  <a:lnTo>
                    <a:pt x="1050" y="41"/>
                  </a:lnTo>
                  <a:lnTo>
                    <a:pt x="1040" y="40"/>
                  </a:lnTo>
                  <a:lnTo>
                    <a:pt x="1031" y="38"/>
                  </a:lnTo>
                  <a:lnTo>
                    <a:pt x="1023" y="36"/>
                  </a:lnTo>
                  <a:lnTo>
                    <a:pt x="1012" y="34"/>
                  </a:lnTo>
                  <a:lnTo>
                    <a:pt x="1004" y="32"/>
                  </a:lnTo>
                  <a:lnTo>
                    <a:pt x="993" y="30"/>
                  </a:lnTo>
                  <a:lnTo>
                    <a:pt x="985" y="30"/>
                  </a:lnTo>
                  <a:lnTo>
                    <a:pt x="968" y="26"/>
                  </a:lnTo>
                  <a:lnTo>
                    <a:pt x="953" y="22"/>
                  </a:lnTo>
                  <a:lnTo>
                    <a:pt x="936" y="19"/>
                  </a:lnTo>
                  <a:lnTo>
                    <a:pt x="920" y="17"/>
                  </a:lnTo>
                  <a:lnTo>
                    <a:pt x="905" y="13"/>
                  </a:lnTo>
                  <a:lnTo>
                    <a:pt x="888" y="13"/>
                  </a:lnTo>
                  <a:lnTo>
                    <a:pt x="873" y="9"/>
                  </a:lnTo>
                  <a:lnTo>
                    <a:pt x="858" y="9"/>
                  </a:lnTo>
                  <a:lnTo>
                    <a:pt x="841" y="7"/>
                  </a:lnTo>
                  <a:lnTo>
                    <a:pt x="823" y="5"/>
                  </a:lnTo>
                  <a:lnTo>
                    <a:pt x="806" y="3"/>
                  </a:lnTo>
                  <a:lnTo>
                    <a:pt x="791" y="3"/>
                  </a:lnTo>
                  <a:lnTo>
                    <a:pt x="774" y="2"/>
                  </a:lnTo>
                  <a:lnTo>
                    <a:pt x="757" y="2"/>
                  </a:lnTo>
                  <a:lnTo>
                    <a:pt x="742" y="2"/>
                  </a:lnTo>
                  <a:lnTo>
                    <a:pt x="727" y="2"/>
                  </a:lnTo>
                  <a:lnTo>
                    <a:pt x="709" y="0"/>
                  </a:lnTo>
                  <a:lnTo>
                    <a:pt x="692" y="0"/>
                  </a:lnTo>
                  <a:lnTo>
                    <a:pt x="675" y="0"/>
                  </a:lnTo>
                  <a:lnTo>
                    <a:pt x="660" y="0"/>
                  </a:lnTo>
                  <a:lnTo>
                    <a:pt x="643" y="0"/>
                  </a:lnTo>
                  <a:lnTo>
                    <a:pt x="628" y="0"/>
                  </a:lnTo>
                  <a:lnTo>
                    <a:pt x="612" y="2"/>
                  </a:lnTo>
                  <a:lnTo>
                    <a:pt x="595" y="3"/>
                  </a:lnTo>
                  <a:lnTo>
                    <a:pt x="578" y="3"/>
                  </a:lnTo>
                  <a:lnTo>
                    <a:pt x="563" y="3"/>
                  </a:lnTo>
                  <a:lnTo>
                    <a:pt x="548" y="5"/>
                  </a:lnTo>
                  <a:lnTo>
                    <a:pt x="531" y="7"/>
                  </a:lnTo>
                  <a:lnTo>
                    <a:pt x="516" y="9"/>
                  </a:lnTo>
                  <a:lnTo>
                    <a:pt x="500" y="11"/>
                  </a:lnTo>
                  <a:lnTo>
                    <a:pt x="485" y="13"/>
                  </a:lnTo>
                  <a:lnTo>
                    <a:pt x="470" y="15"/>
                  </a:lnTo>
                  <a:lnTo>
                    <a:pt x="455" y="17"/>
                  </a:lnTo>
                  <a:lnTo>
                    <a:pt x="438" y="19"/>
                  </a:lnTo>
                  <a:lnTo>
                    <a:pt x="424" y="21"/>
                  </a:lnTo>
                  <a:lnTo>
                    <a:pt x="409" y="22"/>
                  </a:lnTo>
                  <a:lnTo>
                    <a:pt x="394" y="26"/>
                  </a:lnTo>
                  <a:lnTo>
                    <a:pt x="379" y="28"/>
                  </a:lnTo>
                  <a:lnTo>
                    <a:pt x="363" y="30"/>
                  </a:lnTo>
                  <a:lnTo>
                    <a:pt x="350" y="36"/>
                  </a:lnTo>
                  <a:lnTo>
                    <a:pt x="335" y="38"/>
                  </a:lnTo>
                  <a:lnTo>
                    <a:pt x="322" y="40"/>
                  </a:lnTo>
                  <a:lnTo>
                    <a:pt x="306" y="43"/>
                  </a:lnTo>
                  <a:lnTo>
                    <a:pt x="295" y="47"/>
                  </a:lnTo>
                  <a:lnTo>
                    <a:pt x="280" y="51"/>
                  </a:lnTo>
                  <a:lnTo>
                    <a:pt x="266" y="55"/>
                  </a:lnTo>
                  <a:lnTo>
                    <a:pt x="255" y="59"/>
                  </a:lnTo>
                  <a:lnTo>
                    <a:pt x="244" y="64"/>
                  </a:lnTo>
                  <a:lnTo>
                    <a:pt x="230" y="68"/>
                  </a:lnTo>
                  <a:lnTo>
                    <a:pt x="219" y="72"/>
                  </a:lnTo>
                  <a:lnTo>
                    <a:pt x="206" y="76"/>
                  </a:lnTo>
                  <a:lnTo>
                    <a:pt x="194" y="79"/>
                  </a:lnTo>
                  <a:lnTo>
                    <a:pt x="183" y="83"/>
                  </a:lnTo>
                  <a:lnTo>
                    <a:pt x="171" y="89"/>
                  </a:lnTo>
                  <a:lnTo>
                    <a:pt x="160" y="95"/>
                  </a:lnTo>
                  <a:lnTo>
                    <a:pt x="151" y="100"/>
                  </a:lnTo>
                  <a:lnTo>
                    <a:pt x="141" y="104"/>
                  </a:lnTo>
                  <a:lnTo>
                    <a:pt x="132" y="110"/>
                  </a:lnTo>
                  <a:lnTo>
                    <a:pt x="120" y="114"/>
                  </a:lnTo>
                  <a:lnTo>
                    <a:pt x="112" y="121"/>
                  </a:lnTo>
                  <a:lnTo>
                    <a:pt x="103" y="127"/>
                  </a:lnTo>
                  <a:lnTo>
                    <a:pt x="93" y="133"/>
                  </a:lnTo>
                  <a:lnTo>
                    <a:pt x="86" y="138"/>
                  </a:lnTo>
                  <a:lnTo>
                    <a:pt x="80" y="146"/>
                  </a:lnTo>
                  <a:lnTo>
                    <a:pt x="69" y="154"/>
                  </a:lnTo>
                  <a:lnTo>
                    <a:pt x="61" y="161"/>
                  </a:lnTo>
                  <a:lnTo>
                    <a:pt x="54" y="169"/>
                  </a:lnTo>
                  <a:lnTo>
                    <a:pt x="44" y="178"/>
                  </a:lnTo>
                  <a:lnTo>
                    <a:pt x="36" y="186"/>
                  </a:lnTo>
                  <a:lnTo>
                    <a:pt x="31" y="197"/>
                  </a:lnTo>
                  <a:lnTo>
                    <a:pt x="23" y="207"/>
                  </a:lnTo>
                  <a:lnTo>
                    <a:pt x="19" y="216"/>
                  </a:lnTo>
                  <a:lnTo>
                    <a:pt x="14" y="226"/>
                  </a:lnTo>
                  <a:lnTo>
                    <a:pt x="10" y="235"/>
                  </a:lnTo>
                  <a:lnTo>
                    <a:pt x="6" y="245"/>
                  </a:lnTo>
                  <a:lnTo>
                    <a:pt x="4" y="254"/>
                  </a:lnTo>
                  <a:lnTo>
                    <a:pt x="0" y="264"/>
                  </a:lnTo>
                  <a:lnTo>
                    <a:pt x="0" y="273"/>
                  </a:lnTo>
                  <a:lnTo>
                    <a:pt x="0" y="283"/>
                  </a:lnTo>
                  <a:lnTo>
                    <a:pt x="2" y="292"/>
                  </a:lnTo>
                  <a:lnTo>
                    <a:pt x="31" y="287"/>
                  </a:lnTo>
                  <a:lnTo>
                    <a:pt x="29" y="279"/>
                  </a:lnTo>
                  <a:lnTo>
                    <a:pt x="29" y="272"/>
                  </a:lnTo>
                  <a:lnTo>
                    <a:pt x="29" y="264"/>
                  </a:lnTo>
                  <a:lnTo>
                    <a:pt x="31" y="258"/>
                  </a:lnTo>
                  <a:lnTo>
                    <a:pt x="35" y="251"/>
                  </a:lnTo>
                  <a:lnTo>
                    <a:pt x="36" y="241"/>
                  </a:lnTo>
                  <a:lnTo>
                    <a:pt x="40" y="233"/>
                  </a:lnTo>
                  <a:lnTo>
                    <a:pt x="46" y="226"/>
                  </a:lnTo>
                  <a:lnTo>
                    <a:pt x="50" y="218"/>
                  </a:lnTo>
                  <a:lnTo>
                    <a:pt x="55" y="211"/>
                  </a:lnTo>
                  <a:lnTo>
                    <a:pt x="61" y="201"/>
                  </a:lnTo>
                  <a:lnTo>
                    <a:pt x="67" y="194"/>
                  </a:lnTo>
                  <a:lnTo>
                    <a:pt x="73" y="186"/>
                  </a:lnTo>
                  <a:lnTo>
                    <a:pt x="80" y="180"/>
                  </a:lnTo>
                  <a:lnTo>
                    <a:pt x="88" y="173"/>
                  </a:lnTo>
                  <a:lnTo>
                    <a:pt x="97" y="169"/>
                  </a:lnTo>
                  <a:lnTo>
                    <a:pt x="103" y="163"/>
                  </a:lnTo>
                  <a:lnTo>
                    <a:pt x="111" y="157"/>
                  </a:lnTo>
                  <a:lnTo>
                    <a:pt x="118" y="150"/>
                  </a:lnTo>
                  <a:lnTo>
                    <a:pt x="128" y="144"/>
                  </a:lnTo>
                  <a:lnTo>
                    <a:pt x="135" y="140"/>
                  </a:lnTo>
                  <a:lnTo>
                    <a:pt x="147" y="135"/>
                  </a:lnTo>
                  <a:lnTo>
                    <a:pt x="156" y="129"/>
                  </a:lnTo>
                  <a:lnTo>
                    <a:pt x="168" y="125"/>
                  </a:lnTo>
                  <a:lnTo>
                    <a:pt x="175" y="119"/>
                  </a:lnTo>
                  <a:lnTo>
                    <a:pt x="187" y="114"/>
                  </a:lnTo>
                  <a:lnTo>
                    <a:pt x="198" y="110"/>
                  </a:lnTo>
                  <a:lnTo>
                    <a:pt x="209" y="106"/>
                  </a:lnTo>
                  <a:lnTo>
                    <a:pt x="219" y="100"/>
                  </a:lnTo>
                  <a:lnTo>
                    <a:pt x="232" y="97"/>
                  </a:lnTo>
                  <a:lnTo>
                    <a:pt x="244" y="93"/>
                  </a:lnTo>
                  <a:lnTo>
                    <a:pt x="257" y="89"/>
                  </a:lnTo>
                  <a:lnTo>
                    <a:pt x="268" y="85"/>
                  </a:lnTo>
                  <a:lnTo>
                    <a:pt x="280" y="81"/>
                  </a:lnTo>
                  <a:lnTo>
                    <a:pt x="293" y="78"/>
                  </a:lnTo>
                  <a:lnTo>
                    <a:pt x="306" y="74"/>
                  </a:lnTo>
                  <a:lnTo>
                    <a:pt x="318" y="70"/>
                  </a:lnTo>
                  <a:lnTo>
                    <a:pt x="333" y="66"/>
                  </a:lnTo>
                  <a:lnTo>
                    <a:pt x="346" y="64"/>
                  </a:lnTo>
                  <a:lnTo>
                    <a:pt x="360" y="62"/>
                  </a:lnTo>
                  <a:lnTo>
                    <a:pt x="373" y="57"/>
                  </a:lnTo>
                  <a:lnTo>
                    <a:pt x="388" y="55"/>
                  </a:lnTo>
                  <a:lnTo>
                    <a:pt x="401" y="53"/>
                  </a:lnTo>
                  <a:lnTo>
                    <a:pt x="417" y="49"/>
                  </a:lnTo>
                  <a:lnTo>
                    <a:pt x="430" y="47"/>
                  </a:lnTo>
                  <a:lnTo>
                    <a:pt x="445" y="45"/>
                  </a:lnTo>
                  <a:lnTo>
                    <a:pt x="460" y="43"/>
                  </a:lnTo>
                  <a:lnTo>
                    <a:pt x="477" y="41"/>
                  </a:lnTo>
                  <a:lnTo>
                    <a:pt x="491" y="40"/>
                  </a:lnTo>
                  <a:lnTo>
                    <a:pt x="506" y="38"/>
                  </a:lnTo>
                  <a:lnTo>
                    <a:pt x="521" y="36"/>
                  </a:lnTo>
                  <a:lnTo>
                    <a:pt x="536" y="34"/>
                  </a:lnTo>
                  <a:lnTo>
                    <a:pt x="552" y="32"/>
                  </a:lnTo>
                  <a:lnTo>
                    <a:pt x="567" y="30"/>
                  </a:lnTo>
                  <a:lnTo>
                    <a:pt x="582" y="30"/>
                  </a:lnTo>
                  <a:lnTo>
                    <a:pt x="599" y="30"/>
                  </a:lnTo>
                  <a:lnTo>
                    <a:pt x="614" y="28"/>
                  </a:lnTo>
                  <a:lnTo>
                    <a:pt x="630" y="28"/>
                  </a:lnTo>
                  <a:lnTo>
                    <a:pt x="647" y="28"/>
                  </a:lnTo>
                  <a:lnTo>
                    <a:pt x="662" y="28"/>
                  </a:lnTo>
                  <a:lnTo>
                    <a:pt x="677" y="28"/>
                  </a:lnTo>
                  <a:lnTo>
                    <a:pt x="694" y="28"/>
                  </a:lnTo>
                  <a:lnTo>
                    <a:pt x="709" y="28"/>
                  </a:lnTo>
                  <a:lnTo>
                    <a:pt x="727" y="30"/>
                  </a:lnTo>
                  <a:lnTo>
                    <a:pt x="742" y="30"/>
                  </a:lnTo>
                  <a:lnTo>
                    <a:pt x="757" y="30"/>
                  </a:lnTo>
                  <a:lnTo>
                    <a:pt x="774" y="30"/>
                  </a:lnTo>
                  <a:lnTo>
                    <a:pt x="789" y="32"/>
                  </a:lnTo>
                  <a:lnTo>
                    <a:pt x="804" y="32"/>
                  </a:lnTo>
                  <a:lnTo>
                    <a:pt x="822" y="34"/>
                  </a:lnTo>
                  <a:lnTo>
                    <a:pt x="837" y="36"/>
                  </a:lnTo>
                  <a:lnTo>
                    <a:pt x="852" y="38"/>
                  </a:lnTo>
                  <a:lnTo>
                    <a:pt x="867" y="40"/>
                  </a:lnTo>
                  <a:lnTo>
                    <a:pt x="882" y="41"/>
                  </a:lnTo>
                  <a:lnTo>
                    <a:pt x="900" y="43"/>
                  </a:lnTo>
                  <a:lnTo>
                    <a:pt x="915" y="45"/>
                  </a:lnTo>
                  <a:lnTo>
                    <a:pt x="932" y="47"/>
                  </a:lnTo>
                  <a:lnTo>
                    <a:pt x="947" y="51"/>
                  </a:lnTo>
                  <a:lnTo>
                    <a:pt x="962" y="53"/>
                  </a:lnTo>
                  <a:lnTo>
                    <a:pt x="979" y="57"/>
                  </a:lnTo>
                  <a:lnTo>
                    <a:pt x="987" y="57"/>
                  </a:lnTo>
                  <a:lnTo>
                    <a:pt x="996" y="60"/>
                  </a:lnTo>
                  <a:lnTo>
                    <a:pt x="1004" y="62"/>
                  </a:lnTo>
                  <a:lnTo>
                    <a:pt x="1014" y="64"/>
                  </a:lnTo>
                  <a:lnTo>
                    <a:pt x="1021" y="66"/>
                  </a:lnTo>
                  <a:lnTo>
                    <a:pt x="1031" y="68"/>
                  </a:lnTo>
                  <a:lnTo>
                    <a:pt x="1040" y="70"/>
                  </a:lnTo>
                  <a:lnTo>
                    <a:pt x="1050" y="72"/>
                  </a:lnTo>
                  <a:lnTo>
                    <a:pt x="1057" y="74"/>
                  </a:lnTo>
                  <a:lnTo>
                    <a:pt x="1065" y="76"/>
                  </a:lnTo>
                  <a:lnTo>
                    <a:pt x="1073" y="79"/>
                  </a:lnTo>
                  <a:lnTo>
                    <a:pt x="1082" y="81"/>
                  </a:lnTo>
                  <a:lnTo>
                    <a:pt x="1090" y="83"/>
                  </a:lnTo>
                  <a:lnTo>
                    <a:pt x="1097" y="87"/>
                  </a:lnTo>
                  <a:lnTo>
                    <a:pt x="1107" y="87"/>
                  </a:lnTo>
                  <a:lnTo>
                    <a:pt x="1114" y="93"/>
                  </a:lnTo>
                  <a:lnTo>
                    <a:pt x="1120" y="93"/>
                  </a:lnTo>
                  <a:lnTo>
                    <a:pt x="1128" y="97"/>
                  </a:lnTo>
                  <a:lnTo>
                    <a:pt x="1135" y="98"/>
                  </a:lnTo>
                  <a:lnTo>
                    <a:pt x="1143" y="100"/>
                  </a:lnTo>
                  <a:lnTo>
                    <a:pt x="1150" y="104"/>
                  </a:lnTo>
                  <a:lnTo>
                    <a:pt x="1158" y="106"/>
                  </a:lnTo>
                  <a:lnTo>
                    <a:pt x="1164" y="110"/>
                  </a:lnTo>
                  <a:lnTo>
                    <a:pt x="1171" y="114"/>
                  </a:lnTo>
                  <a:lnTo>
                    <a:pt x="1185" y="117"/>
                  </a:lnTo>
                  <a:lnTo>
                    <a:pt x="1198" y="125"/>
                  </a:lnTo>
                  <a:lnTo>
                    <a:pt x="1209" y="131"/>
                  </a:lnTo>
                  <a:lnTo>
                    <a:pt x="1223" y="138"/>
                  </a:lnTo>
                  <a:lnTo>
                    <a:pt x="1232" y="144"/>
                  </a:lnTo>
                  <a:lnTo>
                    <a:pt x="1242" y="150"/>
                  </a:lnTo>
                  <a:lnTo>
                    <a:pt x="1251" y="157"/>
                  </a:lnTo>
                  <a:lnTo>
                    <a:pt x="1263" y="165"/>
                  </a:lnTo>
                  <a:lnTo>
                    <a:pt x="1270" y="171"/>
                  </a:lnTo>
                  <a:lnTo>
                    <a:pt x="1280" y="178"/>
                  </a:lnTo>
                  <a:lnTo>
                    <a:pt x="1287" y="184"/>
                  </a:lnTo>
                  <a:lnTo>
                    <a:pt x="1295" y="194"/>
                  </a:lnTo>
                  <a:lnTo>
                    <a:pt x="1301" y="199"/>
                  </a:lnTo>
                  <a:lnTo>
                    <a:pt x="1308" y="207"/>
                  </a:lnTo>
                  <a:lnTo>
                    <a:pt x="1312" y="214"/>
                  </a:lnTo>
                  <a:lnTo>
                    <a:pt x="1318" y="224"/>
                  </a:lnTo>
                  <a:lnTo>
                    <a:pt x="1320" y="232"/>
                  </a:lnTo>
                  <a:lnTo>
                    <a:pt x="1325" y="239"/>
                  </a:lnTo>
                  <a:lnTo>
                    <a:pt x="1327" y="247"/>
                  </a:lnTo>
                  <a:lnTo>
                    <a:pt x="1331" y="254"/>
                  </a:lnTo>
                  <a:lnTo>
                    <a:pt x="1331" y="264"/>
                  </a:lnTo>
                  <a:lnTo>
                    <a:pt x="1333" y="273"/>
                  </a:lnTo>
                  <a:lnTo>
                    <a:pt x="1331" y="283"/>
                  </a:lnTo>
                  <a:lnTo>
                    <a:pt x="1331" y="292"/>
                  </a:lnTo>
                  <a:lnTo>
                    <a:pt x="1329" y="300"/>
                  </a:lnTo>
                  <a:lnTo>
                    <a:pt x="1325" y="310"/>
                  </a:lnTo>
                  <a:lnTo>
                    <a:pt x="1322" y="317"/>
                  </a:lnTo>
                  <a:lnTo>
                    <a:pt x="1318" y="327"/>
                  </a:lnTo>
                  <a:lnTo>
                    <a:pt x="1312" y="334"/>
                  </a:lnTo>
                  <a:lnTo>
                    <a:pt x="1306" y="342"/>
                  </a:lnTo>
                  <a:lnTo>
                    <a:pt x="1299" y="348"/>
                  </a:lnTo>
                  <a:lnTo>
                    <a:pt x="1295" y="355"/>
                  </a:lnTo>
                  <a:lnTo>
                    <a:pt x="1287" y="361"/>
                  </a:lnTo>
                  <a:lnTo>
                    <a:pt x="1282" y="368"/>
                  </a:lnTo>
                  <a:lnTo>
                    <a:pt x="1274" y="374"/>
                  </a:lnTo>
                  <a:lnTo>
                    <a:pt x="1268" y="382"/>
                  </a:lnTo>
                  <a:lnTo>
                    <a:pt x="1285" y="403"/>
                  </a:lnTo>
                  <a:lnTo>
                    <a:pt x="1289" y="395"/>
                  </a:lnTo>
                  <a:lnTo>
                    <a:pt x="1297" y="391"/>
                  </a:lnTo>
                  <a:lnTo>
                    <a:pt x="1303" y="386"/>
                  </a:lnTo>
                  <a:lnTo>
                    <a:pt x="1308" y="380"/>
                  </a:lnTo>
                  <a:lnTo>
                    <a:pt x="1320" y="368"/>
                  </a:lnTo>
                  <a:lnTo>
                    <a:pt x="1329" y="359"/>
                  </a:lnTo>
                  <a:lnTo>
                    <a:pt x="1335" y="348"/>
                  </a:lnTo>
                  <a:lnTo>
                    <a:pt x="1342" y="338"/>
                  </a:lnTo>
                  <a:lnTo>
                    <a:pt x="1348" y="327"/>
                  </a:lnTo>
                  <a:lnTo>
                    <a:pt x="1354" y="317"/>
                  </a:lnTo>
                  <a:lnTo>
                    <a:pt x="1356" y="308"/>
                  </a:lnTo>
                  <a:lnTo>
                    <a:pt x="1358" y="298"/>
                  </a:lnTo>
                  <a:lnTo>
                    <a:pt x="1360" y="287"/>
                  </a:lnTo>
                  <a:lnTo>
                    <a:pt x="1360" y="279"/>
                  </a:lnTo>
                  <a:lnTo>
                    <a:pt x="1360" y="272"/>
                  </a:lnTo>
                  <a:lnTo>
                    <a:pt x="1360" y="264"/>
                  </a:lnTo>
                  <a:lnTo>
                    <a:pt x="1360" y="254"/>
                  </a:lnTo>
                  <a:lnTo>
                    <a:pt x="1360" y="249"/>
                  </a:lnTo>
                  <a:lnTo>
                    <a:pt x="136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16240" y="423360"/>
              <a:ext cx="88560" cy="86400"/>
            </a:xfrm>
            <a:custGeom>
              <a:avLst/>
              <a:gdLst/>
              <a:ahLst/>
              <a:rect l="l" t="t" r="r" b="b"/>
              <a:pathLst>
                <a:path w="492" h="479">
                  <a:moveTo>
                    <a:pt x="207" y="41"/>
                  </a:moveTo>
                  <a:lnTo>
                    <a:pt x="209" y="41"/>
                  </a:lnTo>
                  <a:lnTo>
                    <a:pt x="216" y="47"/>
                  </a:lnTo>
                  <a:lnTo>
                    <a:pt x="220" y="49"/>
                  </a:lnTo>
                  <a:lnTo>
                    <a:pt x="226" y="53"/>
                  </a:lnTo>
                  <a:lnTo>
                    <a:pt x="234" y="59"/>
                  </a:lnTo>
                  <a:lnTo>
                    <a:pt x="243" y="64"/>
                  </a:lnTo>
                  <a:lnTo>
                    <a:pt x="251" y="70"/>
                  </a:lnTo>
                  <a:lnTo>
                    <a:pt x="260" y="78"/>
                  </a:lnTo>
                  <a:lnTo>
                    <a:pt x="270" y="85"/>
                  </a:lnTo>
                  <a:lnTo>
                    <a:pt x="281" y="97"/>
                  </a:lnTo>
                  <a:lnTo>
                    <a:pt x="292" y="104"/>
                  </a:lnTo>
                  <a:lnTo>
                    <a:pt x="304" y="114"/>
                  </a:lnTo>
                  <a:lnTo>
                    <a:pt x="310" y="119"/>
                  </a:lnTo>
                  <a:lnTo>
                    <a:pt x="315" y="127"/>
                  </a:lnTo>
                  <a:lnTo>
                    <a:pt x="321" y="131"/>
                  </a:lnTo>
                  <a:lnTo>
                    <a:pt x="327" y="138"/>
                  </a:lnTo>
                  <a:lnTo>
                    <a:pt x="332" y="142"/>
                  </a:lnTo>
                  <a:lnTo>
                    <a:pt x="340" y="148"/>
                  </a:lnTo>
                  <a:lnTo>
                    <a:pt x="346" y="154"/>
                  </a:lnTo>
                  <a:lnTo>
                    <a:pt x="351" y="161"/>
                  </a:lnTo>
                  <a:lnTo>
                    <a:pt x="357" y="167"/>
                  </a:lnTo>
                  <a:lnTo>
                    <a:pt x="363" y="175"/>
                  </a:lnTo>
                  <a:lnTo>
                    <a:pt x="368" y="182"/>
                  </a:lnTo>
                  <a:lnTo>
                    <a:pt x="376" y="190"/>
                  </a:lnTo>
                  <a:lnTo>
                    <a:pt x="380" y="197"/>
                  </a:lnTo>
                  <a:lnTo>
                    <a:pt x="388" y="205"/>
                  </a:lnTo>
                  <a:lnTo>
                    <a:pt x="393" y="213"/>
                  </a:lnTo>
                  <a:lnTo>
                    <a:pt x="399" y="220"/>
                  </a:lnTo>
                  <a:lnTo>
                    <a:pt x="405" y="228"/>
                  </a:lnTo>
                  <a:lnTo>
                    <a:pt x="410" y="237"/>
                  </a:lnTo>
                  <a:lnTo>
                    <a:pt x="416" y="245"/>
                  </a:lnTo>
                  <a:lnTo>
                    <a:pt x="424" y="254"/>
                  </a:lnTo>
                  <a:lnTo>
                    <a:pt x="427" y="262"/>
                  </a:lnTo>
                  <a:lnTo>
                    <a:pt x="433" y="270"/>
                  </a:lnTo>
                  <a:lnTo>
                    <a:pt x="437" y="279"/>
                  </a:lnTo>
                  <a:lnTo>
                    <a:pt x="445" y="289"/>
                  </a:lnTo>
                  <a:lnTo>
                    <a:pt x="448" y="298"/>
                  </a:lnTo>
                  <a:lnTo>
                    <a:pt x="454" y="308"/>
                  </a:lnTo>
                  <a:lnTo>
                    <a:pt x="458" y="317"/>
                  </a:lnTo>
                  <a:lnTo>
                    <a:pt x="464" y="329"/>
                  </a:lnTo>
                  <a:lnTo>
                    <a:pt x="467" y="338"/>
                  </a:lnTo>
                  <a:lnTo>
                    <a:pt x="471" y="348"/>
                  </a:lnTo>
                  <a:lnTo>
                    <a:pt x="475" y="359"/>
                  </a:lnTo>
                  <a:lnTo>
                    <a:pt x="481" y="368"/>
                  </a:lnTo>
                  <a:lnTo>
                    <a:pt x="483" y="380"/>
                  </a:lnTo>
                  <a:lnTo>
                    <a:pt x="486" y="389"/>
                  </a:lnTo>
                  <a:lnTo>
                    <a:pt x="488" y="403"/>
                  </a:lnTo>
                  <a:lnTo>
                    <a:pt x="492" y="414"/>
                  </a:lnTo>
                  <a:lnTo>
                    <a:pt x="346" y="479"/>
                  </a:lnTo>
                  <a:lnTo>
                    <a:pt x="0" y="0"/>
                  </a:lnTo>
                  <a:lnTo>
                    <a:pt x="207" y="41"/>
                  </a:lnTo>
                  <a:lnTo>
                    <a:pt x="207" y="41"/>
                  </a:lnTo>
                  <a:close/>
                </a:path>
              </a:pathLst>
            </a:cu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48480" y="430200"/>
              <a:ext cx="206640" cy="70200"/>
            </a:xfrm>
            <a:custGeom>
              <a:avLst/>
              <a:gdLst/>
              <a:ahLst/>
              <a:rect l="l" t="t" r="r" b="b"/>
              <a:pathLst>
                <a:path w="1146" h="389">
                  <a:moveTo>
                    <a:pt x="844" y="9"/>
                  </a:moveTo>
                  <a:lnTo>
                    <a:pt x="835" y="7"/>
                  </a:lnTo>
                  <a:lnTo>
                    <a:pt x="825" y="5"/>
                  </a:lnTo>
                  <a:lnTo>
                    <a:pt x="814" y="5"/>
                  </a:lnTo>
                  <a:lnTo>
                    <a:pt x="800" y="5"/>
                  </a:lnTo>
                  <a:lnTo>
                    <a:pt x="793" y="3"/>
                  </a:lnTo>
                  <a:lnTo>
                    <a:pt x="787" y="3"/>
                  </a:lnTo>
                  <a:lnTo>
                    <a:pt x="779" y="2"/>
                  </a:lnTo>
                  <a:lnTo>
                    <a:pt x="772" y="2"/>
                  </a:lnTo>
                  <a:lnTo>
                    <a:pt x="762" y="2"/>
                  </a:lnTo>
                  <a:lnTo>
                    <a:pt x="755" y="2"/>
                  </a:lnTo>
                  <a:lnTo>
                    <a:pt x="747" y="2"/>
                  </a:lnTo>
                  <a:lnTo>
                    <a:pt x="739" y="2"/>
                  </a:lnTo>
                  <a:lnTo>
                    <a:pt x="728" y="0"/>
                  </a:lnTo>
                  <a:lnTo>
                    <a:pt x="719" y="0"/>
                  </a:lnTo>
                  <a:lnTo>
                    <a:pt x="709" y="0"/>
                  </a:lnTo>
                  <a:lnTo>
                    <a:pt x="700" y="0"/>
                  </a:lnTo>
                  <a:lnTo>
                    <a:pt x="688" y="0"/>
                  </a:lnTo>
                  <a:lnTo>
                    <a:pt x="679" y="0"/>
                  </a:lnTo>
                  <a:lnTo>
                    <a:pt x="667" y="0"/>
                  </a:lnTo>
                  <a:lnTo>
                    <a:pt x="656" y="0"/>
                  </a:lnTo>
                  <a:lnTo>
                    <a:pt x="644" y="0"/>
                  </a:lnTo>
                  <a:lnTo>
                    <a:pt x="633" y="0"/>
                  </a:lnTo>
                  <a:lnTo>
                    <a:pt x="622" y="0"/>
                  </a:lnTo>
                  <a:lnTo>
                    <a:pt x="610" y="0"/>
                  </a:lnTo>
                  <a:lnTo>
                    <a:pt x="599" y="0"/>
                  </a:lnTo>
                  <a:lnTo>
                    <a:pt x="586" y="0"/>
                  </a:lnTo>
                  <a:lnTo>
                    <a:pt x="574" y="2"/>
                  </a:lnTo>
                  <a:lnTo>
                    <a:pt x="563" y="3"/>
                  </a:lnTo>
                  <a:lnTo>
                    <a:pt x="547" y="3"/>
                  </a:lnTo>
                  <a:lnTo>
                    <a:pt x="536" y="3"/>
                  </a:lnTo>
                  <a:lnTo>
                    <a:pt x="521" y="5"/>
                  </a:lnTo>
                  <a:lnTo>
                    <a:pt x="509" y="5"/>
                  </a:lnTo>
                  <a:lnTo>
                    <a:pt x="494" y="5"/>
                  </a:lnTo>
                  <a:lnTo>
                    <a:pt x="481" y="9"/>
                  </a:lnTo>
                  <a:lnTo>
                    <a:pt x="468" y="9"/>
                  </a:lnTo>
                  <a:lnTo>
                    <a:pt x="456" y="13"/>
                  </a:lnTo>
                  <a:lnTo>
                    <a:pt x="441" y="13"/>
                  </a:lnTo>
                  <a:lnTo>
                    <a:pt x="426" y="15"/>
                  </a:lnTo>
                  <a:lnTo>
                    <a:pt x="411" y="17"/>
                  </a:lnTo>
                  <a:lnTo>
                    <a:pt x="399" y="21"/>
                  </a:lnTo>
                  <a:lnTo>
                    <a:pt x="384" y="22"/>
                  </a:lnTo>
                  <a:lnTo>
                    <a:pt x="371" y="24"/>
                  </a:lnTo>
                  <a:lnTo>
                    <a:pt x="355" y="28"/>
                  </a:lnTo>
                  <a:lnTo>
                    <a:pt x="342" y="32"/>
                  </a:lnTo>
                  <a:lnTo>
                    <a:pt x="327" y="36"/>
                  </a:lnTo>
                  <a:lnTo>
                    <a:pt x="312" y="38"/>
                  </a:lnTo>
                  <a:lnTo>
                    <a:pt x="298" y="41"/>
                  </a:lnTo>
                  <a:lnTo>
                    <a:pt x="285" y="45"/>
                  </a:lnTo>
                  <a:lnTo>
                    <a:pt x="268" y="49"/>
                  </a:lnTo>
                  <a:lnTo>
                    <a:pt x="255" y="53"/>
                  </a:lnTo>
                  <a:lnTo>
                    <a:pt x="240" y="59"/>
                  </a:lnTo>
                  <a:lnTo>
                    <a:pt x="226" y="62"/>
                  </a:lnTo>
                  <a:lnTo>
                    <a:pt x="211" y="66"/>
                  </a:lnTo>
                  <a:lnTo>
                    <a:pt x="196" y="72"/>
                  </a:lnTo>
                  <a:lnTo>
                    <a:pt x="181" y="78"/>
                  </a:lnTo>
                  <a:lnTo>
                    <a:pt x="167" y="85"/>
                  </a:lnTo>
                  <a:lnTo>
                    <a:pt x="152" y="89"/>
                  </a:lnTo>
                  <a:lnTo>
                    <a:pt x="137" y="97"/>
                  </a:lnTo>
                  <a:lnTo>
                    <a:pt x="124" y="102"/>
                  </a:lnTo>
                  <a:lnTo>
                    <a:pt x="110" y="110"/>
                  </a:lnTo>
                  <a:lnTo>
                    <a:pt x="93" y="116"/>
                  </a:lnTo>
                  <a:lnTo>
                    <a:pt x="82" y="123"/>
                  </a:lnTo>
                  <a:lnTo>
                    <a:pt x="68" y="129"/>
                  </a:lnTo>
                  <a:lnTo>
                    <a:pt x="57" y="137"/>
                  </a:lnTo>
                  <a:lnTo>
                    <a:pt x="48" y="140"/>
                  </a:lnTo>
                  <a:lnTo>
                    <a:pt x="40" y="150"/>
                  </a:lnTo>
                  <a:lnTo>
                    <a:pt x="30" y="154"/>
                  </a:lnTo>
                  <a:lnTo>
                    <a:pt x="25" y="163"/>
                  </a:lnTo>
                  <a:lnTo>
                    <a:pt x="17" y="167"/>
                  </a:lnTo>
                  <a:lnTo>
                    <a:pt x="13" y="175"/>
                  </a:lnTo>
                  <a:lnTo>
                    <a:pt x="8" y="180"/>
                  </a:lnTo>
                  <a:lnTo>
                    <a:pt x="6" y="188"/>
                  </a:lnTo>
                  <a:lnTo>
                    <a:pt x="0" y="201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6" y="237"/>
                  </a:lnTo>
                  <a:lnTo>
                    <a:pt x="11" y="247"/>
                  </a:lnTo>
                  <a:lnTo>
                    <a:pt x="21" y="260"/>
                  </a:lnTo>
                  <a:lnTo>
                    <a:pt x="25" y="264"/>
                  </a:lnTo>
                  <a:lnTo>
                    <a:pt x="32" y="270"/>
                  </a:lnTo>
                  <a:lnTo>
                    <a:pt x="40" y="275"/>
                  </a:lnTo>
                  <a:lnTo>
                    <a:pt x="48" y="281"/>
                  </a:lnTo>
                  <a:lnTo>
                    <a:pt x="53" y="287"/>
                  </a:lnTo>
                  <a:lnTo>
                    <a:pt x="63" y="291"/>
                  </a:lnTo>
                  <a:lnTo>
                    <a:pt x="70" y="296"/>
                  </a:lnTo>
                  <a:lnTo>
                    <a:pt x="82" y="302"/>
                  </a:lnTo>
                  <a:lnTo>
                    <a:pt x="89" y="306"/>
                  </a:lnTo>
                  <a:lnTo>
                    <a:pt x="101" y="310"/>
                  </a:lnTo>
                  <a:lnTo>
                    <a:pt x="110" y="313"/>
                  </a:lnTo>
                  <a:lnTo>
                    <a:pt x="122" y="319"/>
                  </a:lnTo>
                  <a:lnTo>
                    <a:pt x="131" y="323"/>
                  </a:lnTo>
                  <a:lnTo>
                    <a:pt x="144" y="327"/>
                  </a:lnTo>
                  <a:lnTo>
                    <a:pt x="156" y="330"/>
                  </a:lnTo>
                  <a:lnTo>
                    <a:pt x="169" y="336"/>
                  </a:lnTo>
                  <a:lnTo>
                    <a:pt x="181" y="340"/>
                  </a:lnTo>
                  <a:lnTo>
                    <a:pt x="194" y="344"/>
                  </a:lnTo>
                  <a:lnTo>
                    <a:pt x="205" y="348"/>
                  </a:lnTo>
                  <a:lnTo>
                    <a:pt x="221" y="351"/>
                  </a:lnTo>
                  <a:lnTo>
                    <a:pt x="232" y="353"/>
                  </a:lnTo>
                  <a:lnTo>
                    <a:pt x="247" y="357"/>
                  </a:lnTo>
                  <a:lnTo>
                    <a:pt x="260" y="361"/>
                  </a:lnTo>
                  <a:lnTo>
                    <a:pt x="276" y="365"/>
                  </a:lnTo>
                  <a:lnTo>
                    <a:pt x="289" y="365"/>
                  </a:lnTo>
                  <a:lnTo>
                    <a:pt x="304" y="369"/>
                  </a:lnTo>
                  <a:lnTo>
                    <a:pt x="317" y="370"/>
                  </a:lnTo>
                  <a:lnTo>
                    <a:pt x="333" y="374"/>
                  </a:lnTo>
                  <a:lnTo>
                    <a:pt x="346" y="374"/>
                  </a:lnTo>
                  <a:lnTo>
                    <a:pt x="361" y="378"/>
                  </a:lnTo>
                  <a:lnTo>
                    <a:pt x="376" y="378"/>
                  </a:lnTo>
                  <a:lnTo>
                    <a:pt x="392" y="382"/>
                  </a:lnTo>
                  <a:lnTo>
                    <a:pt x="405" y="382"/>
                  </a:lnTo>
                  <a:lnTo>
                    <a:pt x="420" y="384"/>
                  </a:lnTo>
                  <a:lnTo>
                    <a:pt x="433" y="384"/>
                  </a:lnTo>
                  <a:lnTo>
                    <a:pt x="449" y="386"/>
                  </a:lnTo>
                  <a:lnTo>
                    <a:pt x="464" y="386"/>
                  </a:lnTo>
                  <a:lnTo>
                    <a:pt x="477" y="388"/>
                  </a:lnTo>
                  <a:lnTo>
                    <a:pt x="492" y="388"/>
                  </a:lnTo>
                  <a:lnTo>
                    <a:pt x="508" y="389"/>
                  </a:lnTo>
                  <a:lnTo>
                    <a:pt x="521" y="374"/>
                  </a:lnTo>
                  <a:lnTo>
                    <a:pt x="519" y="372"/>
                  </a:lnTo>
                  <a:lnTo>
                    <a:pt x="517" y="372"/>
                  </a:lnTo>
                  <a:lnTo>
                    <a:pt x="509" y="370"/>
                  </a:lnTo>
                  <a:lnTo>
                    <a:pt x="504" y="370"/>
                  </a:lnTo>
                  <a:lnTo>
                    <a:pt x="494" y="367"/>
                  </a:lnTo>
                  <a:lnTo>
                    <a:pt x="483" y="365"/>
                  </a:lnTo>
                  <a:lnTo>
                    <a:pt x="470" y="365"/>
                  </a:lnTo>
                  <a:lnTo>
                    <a:pt x="458" y="363"/>
                  </a:lnTo>
                  <a:lnTo>
                    <a:pt x="451" y="361"/>
                  </a:lnTo>
                  <a:lnTo>
                    <a:pt x="443" y="359"/>
                  </a:lnTo>
                  <a:lnTo>
                    <a:pt x="433" y="357"/>
                  </a:lnTo>
                  <a:lnTo>
                    <a:pt x="426" y="357"/>
                  </a:lnTo>
                  <a:lnTo>
                    <a:pt x="416" y="353"/>
                  </a:lnTo>
                  <a:lnTo>
                    <a:pt x="409" y="351"/>
                  </a:lnTo>
                  <a:lnTo>
                    <a:pt x="399" y="351"/>
                  </a:lnTo>
                  <a:lnTo>
                    <a:pt x="392" y="349"/>
                  </a:lnTo>
                  <a:lnTo>
                    <a:pt x="380" y="348"/>
                  </a:lnTo>
                  <a:lnTo>
                    <a:pt x="373" y="344"/>
                  </a:lnTo>
                  <a:lnTo>
                    <a:pt x="363" y="342"/>
                  </a:lnTo>
                  <a:lnTo>
                    <a:pt x="355" y="340"/>
                  </a:lnTo>
                  <a:lnTo>
                    <a:pt x="344" y="338"/>
                  </a:lnTo>
                  <a:lnTo>
                    <a:pt x="336" y="334"/>
                  </a:lnTo>
                  <a:lnTo>
                    <a:pt x="325" y="332"/>
                  </a:lnTo>
                  <a:lnTo>
                    <a:pt x="317" y="330"/>
                  </a:lnTo>
                  <a:lnTo>
                    <a:pt x="306" y="327"/>
                  </a:lnTo>
                  <a:lnTo>
                    <a:pt x="298" y="325"/>
                  </a:lnTo>
                  <a:lnTo>
                    <a:pt x="287" y="321"/>
                  </a:lnTo>
                  <a:lnTo>
                    <a:pt x="278" y="317"/>
                  </a:lnTo>
                  <a:lnTo>
                    <a:pt x="268" y="313"/>
                  </a:lnTo>
                  <a:lnTo>
                    <a:pt x="259" y="311"/>
                  </a:lnTo>
                  <a:lnTo>
                    <a:pt x="249" y="308"/>
                  </a:lnTo>
                  <a:lnTo>
                    <a:pt x="241" y="306"/>
                  </a:lnTo>
                  <a:lnTo>
                    <a:pt x="230" y="302"/>
                  </a:lnTo>
                  <a:lnTo>
                    <a:pt x="221" y="300"/>
                  </a:lnTo>
                  <a:lnTo>
                    <a:pt x="211" y="294"/>
                  </a:lnTo>
                  <a:lnTo>
                    <a:pt x="203" y="292"/>
                  </a:lnTo>
                  <a:lnTo>
                    <a:pt x="194" y="289"/>
                  </a:lnTo>
                  <a:lnTo>
                    <a:pt x="186" y="285"/>
                  </a:lnTo>
                  <a:lnTo>
                    <a:pt x="179" y="281"/>
                  </a:lnTo>
                  <a:lnTo>
                    <a:pt x="171" y="277"/>
                  </a:lnTo>
                  <a:lnTo>
                    <a:pt x="163" y="273"/>
                  </a:lnTo>
                  <a:lnTo>
                    <a:pt x="156" y="270"/>
                  </a:lnTo>
                  <a:lnTo>
                    <a:pt x="148" y="264"/>
                  </a:lnTo>
                  <a:lnTo>
                    <a:pt x="141" y="260"/>
                  </a:lnTo>
                  <a:lnTo>
                    <a:pt x="129" y="251"/>
                  </a:lnTo>
                  <a:lnTo>
                    <a:pt x="120" y="241"/>
                  </a:lnTo>
                  <a:lnTo>
                    <a:pt x="108" y="230"/>
                  </a:lnTo>
                  <a:lnTo>
                    <a:pt x="101" y="220"/>
                  </a:lnTo>
                  <a:lnTo>
                    <a:pt x="97" y="211"/>
                  </a:lnTo>
                  <a:lnTo>
                    <a:pt x="93" y="201"/>
                  </a:lnTo>
                  <a:lnTo>
                    <a:pt x="91" y="190"/>
                  </a:lnTo>
                  <a:lnTo>
                    <a:pt x="93" y="176"/>
                  </a:lnTo>
                  <a:lnTo>
                    <a:pt x="97" y="165"/>
                  </a:lnTo>
                  <a:lnTo>
                    <a:pt x="106" y="154"/>
                  </a:lnTo>
                  <a:lnTo>
                    <a:pt x="110" y="148"/>
                  </a:lnTo>
                  <a:lnTo>
                    <a:pt x="116" y="142"/>
                  </a:lnTo>
                  <a:lnTo>
                    <a:pt x="124" y="137"/>
                  </a:lnTo>
                  <a:lnTo>
                    <a:pt x="131" y="133"/>
                  </a:lnTo>
                  <a:lnTo>
                    <a:pt x="139" y="127"/>
                  </a:lnTo>
                  <a:lnTo>
                    <a:pt x="146" y="121"/>
                  </a:lnTo>
                  <a:lnTo>
                    <a:pt x="156" y="116"/>
                  </a:lnTo>
                  <a:lnTo>
                    <a:pt x="167" y="112"/>
                  </a:lnTo>
                  <a:lnTo>
                    <a:pt x="175" y="106"/>
                  </a:lnTo>
                  <a:lnTo>
                    <a:pt x="186" y="100"/>
                  </a:lnTo>
                  <a:lnTo>
                    <a:pt x="198" y="95"/>
                  </a:lnTo>
                  <a:lnTo>
                    <a:pt x="211" y="91"/>
                  </a:lnTo>
                  <a:lnTo>
                    <a:pt x="222" y="85"/>
                  </a:lnTo>
                  <a:lnTo>
                    <a:pt x="238" y="81"/>
                  </a:lnTo>
                  <a:lnTo>
                    <a:pt x="251" y="78"/>
                  </a:lnTo>
                  <a:lnTo>
                    <a:pt x="266" y="74"/>
                  </a:lnTo>
                  <a:lnTo>
                    <a:pt x="279" y="68"/>
                  </a:lnTo>
                  <a:lnTo>
                    <a:pt x="295" y="64"/>
                  </a:lnTo>
                  <a:lnTo>
                    <a:pt x="312" y="60"/>
                  </a:lnTo>
                  <a:lnTo>
                    <a:pt x="329" y="57"/>
                  </a:lnTo>
                  <a:lnTo>
                    <a:pt x="344" y="53"/>
                  </a:lnTo>
                  <a:lnTo>
                    <a:pt x="361" y="49"/>
                  </a:lnTo>
                  <a:lnTo>
                    <a:pt x="378" y="47"/>
                  </a:lnTo>
                  <a:lnTo>
                    <a:pt x="399" y="45"/>
                  </a:lnTo>
                  <a:lnTo>
                    <a:pt x="416" y="40"/>
                  </a:lnTo>
                  <a:lnTo>
                    <a:pt x="433" y="38"/>
                  </a:lnTo>
                  <a:lnTo>
                    <a:pt x="452" y="36"/>
                  </a:lnTo>
                  <a:lnTo>
                    <a:pt x="473" y="32"/>
                  </a:lnTo>
                  <a:lnTo>
                    <a:pt x="492" y="30"/>
                  </a:lnTo>
                  <a:lnTo>
                    <a:pt x="511" y="28"/>
                  </a:lnTo>
                  <a:lnTo>
                    <a:pt x="534" y="26"/>
                  </a:lnTo>
                  <a:lnTo>
                    <a:pt x="555" y="26"/>
                  </a:lnTo>
                  <a:lnTo>
                    <a:pt x="576" y="22"/>
                  </a:lnTo>
                  <a:lnTo>
                    <a:pt x="599" y="22"/>
                  </a:lnTo>
                  <a:lnTo>
                    <a:pt x="620" y="22"/>
                  </a:lnTo>
                  <a:lnTo>
                    <a:pt x="643" y="22"/>
                  </a:lnTo>
                  <a:lnTo>
                    <a:pt x="665" y="21"/>
                  </a:lnTo>
                  <a:lnTo>
                    <a:pt x="686" y="21"/>
                  </a:lnTo>
                  <a:lnTo>
                    <a:pt x="711" y="22"/>
                  </a:lnTo>
                  <a:lnTo>
                    <a:pt x="736" y="22"/>
                  </a:lnTo>
                  <a:lnTo>
                    <a:pt x="757" y="22"/>
                  </a:lnTo>
                  <a:lnTo>
                    <a:pt x="779" y="22"/>
                  </a:lnTo>
                  <a:lnTo>
                    <a:pt x="804" y="24"/>
                  </a:lnTo>
                  <a:lnTo>
                    <a:pt x="827" y="26"/>
                  </a:lnTo>
                  <a:lnTo>
                    <a:pt x="852" y="28"/>
                  </a:lnTo>
                  <a:lnTo>
                    <a:pt x="876" y="32"/>
                  </a:lnTo>
                  <a:lnTo>
                    <a:pt x="901" y="34"/>
                  </a:lnTo>
                  <a:lnTo>
                    <a:pt x="926" y="38"/>
                  </a:lnTo>
                  <a:lnTo>
                    <a:pt x="949" y="40"/>
                  </a:lnTo>
                  <a:lnTo>
                    <a:pt x="975" y="45"/>
                  </a:lnTo>
                  <a:lnTo>
                    <a:pt x="1000" y="49"/>
                  </a:lnTo>
                  <a:lnTo>
                    <a:pt x="1025" y="53"/>
                  </a:lnTo>
                  <a:lnTo>
                    <a:pt x="1049" y="59"/>
                  </a:lnTo>
                  <a:lnTo>
                    <a:pt x="1076" y="62"/>
                  </a:lnTo>
                  <a:lnTo>
                    <a:pt x="1101" y="68"/>
                  </a:lnTo>
                  <a:lnTo>
                    <a:pt x="1127" y="76"/>
                  </a:lnTo>
                  <a:lnTo>
                    <a:pt x="1146" y="57"/>
                  </a:lnTo>
                  <a:lnTo>
                    <a:pt x="1144" y="55"/>
                  </a:lnTo>
                  <a:lnTo>
                    <a:pt x="1137" y="53"/>
                  </a:lnTo>
                  <a:lnTo>
                    <a:pt x="1127" y="51"/>
                  </a:lnTo>
                  <a:lnTo>
                    <a:pt x="1116" y="49"/>
                  </a:lnTo>
                  <a:lnTo>
                    <a:pt x="1106" y="45"/>
                  </a:lnTo>
                  <a:lnTo>
                    <a:pt x="1099" y="45"/>
                  </a:lnTo>
                  <a:lnTo>
                    <a:pt x="1089" y="41"/>
                  </a:lnTo>
                  <a:lnTo>
                    <a:pt x="1080" y="40"/>
                  </a:lnTo>
                  <a:lnTo>
                    <a:pt x="1070" y="38"/>
                  </a:lnTo>
                  <a:lnTo>
                    <a:pt x="1059" y="36"/>
                  </a:lnTo>
                  <a:lnTo>
                    <a:pt x="1049" y="36"/>
                  </a:lnTo>
                  <a:lnTo>
                    <a:pt x="1038" y="34"/>
                  </a:lnTo>
                  <a:lnTo>
                    <a:pt x="1025" y="32"/>
                  </a:lnTo>
                  <a:lnTo>
                    <a:pt x="1013" y="28"/>
                  </a:lnTo>
                  <a:lnTo>
                    <a:pt x="1002" y="26"/>
                  </a:lnTo>
                  <a:lnTo>
                    <a:pt x="989" y="24"/>
                  </a:lnTo>
                  <a:lnTo>
                    <a:pt x="975" y="22"/>
                  </a:lnTo>
                  <a:lnTo>
                    <a:pt x="964" y="21"/>
                  </a:lnTo>
                  <a:lnTo>
                    <a:pt x="951" y="19"/>
                  </a:lnTo>
                  <a:lnTo>
                    <a:pt x="939" y="19"/>
                  </a:lnTo>
                  <a:lnTo>
                    <a:pt x="926" y="15"/>
                  </a:lnTo>
                  <a:lnTo>
                    <a:pt x="914" y="15"/>
                  </a:lnTo>
                  <a:lnTo>
                    <a:pt x="901" y="11"/>
                  </a:lnTo>
                  <a:lnTo>
                    <a:pt x="888" y="11"/>
                  </a:lnTo>
                  <a:lnTo>
                    <a:pt x="876" y="9"/>
                  </a:lnTo>
                  <a:lnTo>
                    <a:pt x="865" y="9"/>
                  </a:lnTo>
                  <a:lnTo>
                    <a:pt x="854" y="9"/>
                  </a:lnTo>
                  <a:lnTo>
                    <a:pt x="844" y="9"/>
                  </a:lnTo>
                  <a:lnTo>
                    <a:pt x="844" y="9"/>
                  </a:lnTo>
                  <a:close/>
                </a:path>
              </a:pathLst>
            </a:custGeom>
            <a:solidFill>
              <a:srgbClr val="ede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66120" y="429120"/>
              <a:ext cx="28440" cy="78480"/>
            </a:xfrm>
            <a:custGeom>
              <a:avLst/>
              <a:gdLst/>
              <a:ahLst/>
              <a:rect l="l" t="t" r="r" b="b"/>
              <a:pathLst>
                <a:path w="158" h="437">
                  <a:moveTo>
                    <a:pt x="141" y="0"/>
                  </a:moveTo>
                  <a:lnTo>
                    <a:pt x="141" y="4"/>
                  </a:lnTo>
                  <a:lnTo>
                    <a:pt x="143" y="10"/>
                  </a:lnTo>
                  <a:lnTo>
                    <a:pt x="144" y="21"/>
                  </a:lnTo>
                  <a:lnTo>
                    <a:pt x="144" y="30"/>
                  </a:lnTo>
                  <a:lnTo>
                    <a:pt x="148" y="44"/>
                  </a:lnTo>
                  <a:lnTo>
                    <a:pt x="148" y="51"/>
                  </a:lnTo>
                  <a:lnTo>
                    <a:pt x="150" y="59"/>
                  </a:lnTo>
                  <a:lnTo>
                    <a:pt x="150" y="68"/>
                  </a:lnTo>
                  <a:lnTo>
                    <a:pt x="154" y="78"/>
                  </a:lnTo>
                  <a:lnTo>
                    <a:pt x="154" y="86"/>
                  </a:lnTo>
                  <a:lnTo>
                    <a:pt x="154" y="95"/>
                  </a:lnTo>
                  <a:lnTo>
                    <a:pt x="154" y="105"/>
                  </a:lnTo>
                  <a:lnTo>
                    <a:pt x="156" y="116"/>
                  </a:lnTo>
                  <a:lnTo>
                    <a:pt x="156" y="126"/>
                  </a:lnTo>
                  <a:lnTo>
                    <a:pt x="156" y="137"/>
                  </a:lnTo>
                  <a:lnTo>
                    <a:pt x="156" y="148"/>
                  </a:lnTo>
                  <a:lnTo>
                    <a:pt x="158" y="160"/>
                  </a:lnTo>
                  <a:lnTo>
                    <a:pt x="156" y="171"/>
                  </a:lnTo>
                  <a:lnTo>
                    <a:pt x="156" y="183"/>
                  </a:lnTo>
                  <a:lnTo>
                    <a:pt x="154" y="194"/>
                  </a:lnTo>
                  <a:lnTo>
                    <a:pt x="154" y="207"/>
                  </a:lnTo>
                  <a:lnTo>
                    <a:pt x="154" y="219"/>
                  </a:lnTo>
                  <a:lnTo>
                    <a:pt x="152" y="232"/>
                  </a:lnTo>
                  <a:lnTo>
                    <a:pt x="150" y="245"/>
                  </a:lnTo>
                  <a:lnTo>
                    <a:pt x="148" y="259"/>
                  </a:lnTo>
                  <a:lnTo>
                    <a:pt x="144" y="272"/>
                  </a:lnTo>
                  <a:lnTo>
                    <a:pt x="143" y="283"/>
                  </a:lnTo>
                  <a:lnTo>
                    <a:pt x="141" y="295"/>
                  </a:lnTo>
                  <a:lnTo>
                    <a:pt x="137" y="306"/>
                  </a:lnTo>
                  <a:lnTo>
                    <a:pt x="133" y="316"/>
                  </a:lnTo>
                  <a:lnTo>
                    <a:pt x="131" y="325"/>
                  </a:lnTo>
                  <a:lnTo>
                    <a:pt x="127" y="335"/>
                  </a:lnTo>
                  <a:lnTo>
                    <a:pt x="124" y="344"/>
                  </a:lnTo>
                  <a:lnTo>
                    <a:pt x="120" y="352"/>
                  </a:lnTo>
                  <a:lnTo>
                    <a:pt x="116" y="359"/>
                  </a:lnTo>
                  <a:lnTo>
                    <a:pt x="112" y="367"/>
                  </a:lnTo>
                  <a:lnTo>
                    <a:pt x="108" y="375"/>
                  </a:lnTo>
                  <a:lnTo>
                    <a:pt x="103" y="386"/>
                  </a:lnTo>
                  <a:lnTo>
                    <a:pt x="97" y="399"/>
                  </a:lnTo>
                  <a:lnTo>
                    <a:pt x="87" y="409"/>
                  </a:lnTo>
                  <a:lnTo>
                    <a:pt x="80" y="416"/>
                  </a:lnTo>
                  <a:lnTo>
                    <a:pt x="74" y="422"/>
                  </a:lnTo>
                  <a:lnTo>
                    <a:pt x="70" y="428"/>
                  </a:lnTo>
                  <a:lnTo>
                    <a:pt x="63" y="435"/>
                  </a:lnTo>
                  <a:lnTo>
                    <a:pt x="61" y="437"/>
                  </a:lnTo>
                  <a:lnTo>
                    <a:pt x="0" y="415"/>
                  </a:lnTo>
                  <a:lnTo>
                    <a:pt x="85" y="188"/>
                  </a:lnTo>
                  <a:lnTo>
                    <a:pt x="87" y="19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30120" y="416160"/>
              <a:ext cx="284400" cy="103680"/>
            </a:xfrm>
            <a:custGeom>
              <a:avLst/>
              <a:gdLst/>
              <a:ahLst/>
              <a:rect l="l" t="t" r="r" b="b"/>
              <a:pathLst>
                <a:path w="1576" h="576">
                  <a:moveTo>
                    <a:pt x="689" y="2"/>
                  </a:moveTo>
                  <a:lnTo>
                    <a:pt x="671" y="2"/>
                  </a:lnTo>
                  <a:lnTo>
                    <a:pt x="658" y="2"/>
                  </a:lnTo>
                  <a:lnTo>
                    <a:pt x="645" y="2"/>
                  </a:lnTo>
                  <a:lnTo>
                    <a:pt x="631" y="3"/>
                  </a:lnTo>
                  <a:lnTo>
                    <a:pt x="616" y="3"/>
                  </a:lnTo>
                  <a:lnTo>
                    <a:pt x="603" y="3"/>
                  </a:lnTo>
                  <a:lnTo>
                    <a:pt x="590" y="5"/>
                  </a:lnTo>
                  <a:lnTo>
                    <a:pt x="576" y="7"/>
                  </a:lnTo>
                  <a:lnTo>
                    <a:pt x="563" y="7"/>
                  </a:lnTo>
                  <a:lnTo>
                    <a:pt x="550" y="9"/>
                  </a:lnTo>
                  <a:lnTo>
                    <a:pt x="536" y="9"/>
                  </a:lnTo>
                  <a:lnTo>
                    <a:pt x="523" y="13"/>
                  </a:lnTo>
                  <a:lnTo>
                    <a:pt x="510" y="13"/>
                  </a:lnTo>
                  <a:lnTo>
                    <a:pt x="497" y="17"/>
                  </a:lnTo>
                  <a:lnTo>
                    <a:pt x="483" y="17"/>
                  </a:lnTo>
                  <a:lnTo>
                    <a:pt x="472" y="22"/>
                  </a:lnTo>
                  <a:lnTo>
                    <a:pt x="458" y="22"/>
                  </a:lnTo>
                  <a:lnTo>
                    <a:pt x="445" y="26"/>
                  </a:lnTo>
                  <a:lnTo>
                    <a:pt x="434" y="26"/>
                  </a:lnTo>
                  <a:lnTo>
                    <a:pt x="422" y="30"/>
                  </a:lnTo>
                  <a:lnTo>
                    <a:pt x="409" y="30"/>
                  </a:lnTo>
                  <a:lnTo>
                    <a:pt x="398" y="34"/>
                  </a:lnTo>
                  <a:lnTo>
                    <a:pt x="386" y="36"/>
                  </a:lnTo>
                  <a:lnTo>
                    <a:pt x="375" y="40"/>
                  </a:lnTo>
                  <a:lnTo>
                    <a:pt x="362" y="43"/>
                  </a:lnTo>
                  <a:lnTo>
                    <a:pt x="350" y="45"/>
                  </a:lnTo>
                  <a:lnTo>
                    <a:pt x="341" y="47"/>
                  </a:lnTo>
                  <a:lnTo>
                    <a:pt x="329" y="53"/>
                  </a:lnTo>
                  <a:lnTo>
                    <a:pt x="318" y="55"/>
                  </a:lnTo>
                  <a:lnTo>
                    <a:pt x="306" y="59"/>
                  </a:lnTo>
                  <a:lnTo>
                    <a:pt x="297" y="62"/>
                  </a:lnTo>
                  <a:lnTo>
                    <a:pt x="287" y="66"/>
                  </a:lnTo>
                  <a:lnTo>
                    <a:pt x="274" y="70"/>
                  </a:lnTo>
                  <a:lnTo>
                    <a:pt x="266" y="74"/>
                  </a:lnTo>
                  <a:lnTo>
                    <a:pt x="255" y="76"/>
                  </a:lnTo>
                  <a:lnTo>
                    <a:pt x="246" y="80"/>
                  </a:lnTo>
                  <a:lnTo>
                    <a:pt x="234" y="83"/>
                  </a:lnTo>
                  <a:lnTo>
                    <a:pt x="227" y="87"/>
                  </a:lnTo>
                  <a:lnTo>
                    <a:pt x="215" y="93"/>
                  </a:lnTo>
                  <a:lnTo>
                    <a:pt x="208" y="97"/>
                  </a:lnTo>
                  <a:lnTo>
                    <a:pt x="196" y="100"/>
                  </a:lnTo>
                  <a:lnTo>
                    <a:pt x="187" y="104"/>
                  </a:lnTo>
                  <a:lnTo>
                    <a:pt x="179" y="108"/>
                  </a:lnTo>
                  <a:lnTo>
                    <a:pt x="171" y="112"/>
                  </a:lnTo>
                  <a:lnTo>
                    <a:pt x="162" y="116"/>
                  </a:lnTo>
                  <a:lnTo>
                    <a:pt x="154" y="121"/>
                  </a:lnTo>
                  <a:lnTo>
                    <a:pt x="147" y="127"/>
                  </a:lnTo>
                  <a:lnTo>
                    <a:pt x="139" y="131"/>
                  </a:lnTo>
                  <a:lnTo>
                    <a:pt x="132" y="137"/>
                  </a:lnTo>
                  <a:lnTo>
                    <a:pt x="124" y="140"/>
                  </a:lnTo>
                  <a:lnTo>
                    <a:pt x="116" y="144"/>
                  </a:lnTo>
                  <a:lnTo>
                    <a:pt x="109" y="150"/>
                  </a:lnTo>
                  <a:lnTo>
                    <a:pt x="101" y="154"/>
                  </a:lnTo>
                  <a:lnTo>
                    <a:pt x="95" y="159"/>
                  </a:lnTo>
                  <a:lnTo>
                    <a:pt x="90" y="165"/>
                  </a:lnTo>
                  <a:lnTo>
                    <a:pt x="84" y="171"/>
                  </a:lnTo>
                  <a:lnTo>
                    <a:pt x="73" y="180"/>
                  </a:lnTo>
                  <a:lnTo>
                    <a:pt x="61" y="192"/>
                  </a:lnTo>
                  <a:lnTo>
                    <a:pt x="52" y="203"/>
                  </a:lnTo>
                  <a:lnTo>
                    <a:pt x="44" y="215"/>
                  </a:lnTo>
                  <a:lnTo>
                    <a:pt x="38" y="222"/>
                  </a:lnTo>
                  <a:lnTo>
                    <a:pt x="33" y="228"/>
                  </a:lnTo>
                  <a:lnTo>
                    <a:pt x="29" y="235"/>
                  </a:lnTo>
                  <a:lnTo>
                    <a:pt x="25" y="243"/>
                  </a:lnTo>
                  <a:lnTo>
                    <a:pt x="19" y="251"/>
                  </a:lnTo>
                  <a:lnTo>
                    <a:pt x="16" y="258"/>
                  </a:lnTo>
                  <a:lnTo>
                    <a:pt x="12" y="268"/>
                  </a:lnTo>
                  <a:lnTo>
                    <a:pt x="10" y="275"/>
                  </a:lnTo>
                  <a:lnTo>
                    <a:pt x="6" y="281"/>
                  </a:lnTo>
                  <a:lnTo>
                    <a:pt x="4" y="289"/>
                  </a:lnTo>
                  <a:lnTo>
                    <a:pt x="2" y="296"/>
                  </a:lnTo>
                  <a:lnTo>
                    <a:pt x="2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2" y="327"/>
                  </a:lnTo>
                  <a:lnTo>
                    <a:pt x="4" y="334"/>
                  </a:lnTo>
                  <a:lnTo>
                    <a:pt x="8" y="348"/>
                  </a:lnTo>
                  <a:lnTo>
                    <a:pt x="14" y="361"/>
                  </a:lnTo>
                  <a:lnTo>
                    <a:pt x="17" y="367"/>
                  </a:lnTo>
                  <a:lnTo>
                    <a:pt x="21" y="374"/>
                  </a:lnTo>
                  <a:lnTo>
                    <a:pt x="27" y="380"/>
                  </a:lnTo>
                  <a:lnTo>
                    <a:pt x="33" y="388"/>
                  </a:lnTo>
                  <a:lnTo>
                    <a:pt x="36" y="393"/>
                  </a:lnTo>
                  <a:lnTo>
                    <a:pt x="42" y="399"/>
                  </a:lnTo>
                  <a:lnTo>
                    <a:pt x="50" y="405"/>
                  </a:lnTo>
                  <a:lnTo>
                    <a:pt x="57" y="412"/>
                  </a:lnTo>
                  <a:lnTo>
                    <a:pt x="65" y="418"/>
                  </a:lnTo>
                  <a:lnTo>
                    <a:pt x="73" y="424"/>
                  </a:lnTo>
                  <a:lnTo>
                    <a:pt x="80" y="429"/>
                  </a:lnTo>
                  <a:lnTo>
                    <a:pt x="90" y="437"/>
                  </a:lnTo>
                  <a:lnTo>
                    <a:pt x="97" y="443"/>
                  </a:lnTo>
                  <a:lnTo>
                    <a:pt x="107" y="448"/>
                  </a:lnTo>
                  <a:lnTo>
                    <a:pt x="116" y="452"/>
                  </a:lnTo>
                  <a:lnTo>
                    <a:pt x="126" y="460"/>
                  </a:lnTo>
                  <a:lnTo>
                    <a:pt x="135" y="464"/>
                  </a:lnTo>
                  <a:lnTo>
                    <a:pt x="147" y="469"/>
                  </a:lnTo>
                  <a:lnTo>
                    <a:pt x="158" y="473"/>
                  </a:lnTo>
                  <a:lnTo>
                    <a:pt x="170" y="481"/>
                  </a:lnTo>
                  <a:lnTo>
                    <a:pt x="181" y="485"/>
                  </a:lnTo>
                  <a:lnTo>
                    <a:pt x="192" y="490"/>
                  </a:lnTo>
                  <a:lnTo>
                    <a:pt x="204" y="494"/>
                  </a:lnTo>
                  <a:lnTo>
                    <a:pt x="217" y="500"/>
                  </a:lnTo>
                  <a:lnTo>
                    <a:pt x="230" y="504"/>
                  </a:lnTo>
                  <a:lnTo>
                    <a:pt x="244" y="507"/>
                  </a:lnTo>
                  <a:lnTo>
                    <a:pt x="257" y="511"/>
                  </a:lnTo>
                  <a:lnTo>
                    <a:pt x="272" y="517"/>
                  </a:lnTo>
                  <a:lnTo>
                    <a:pt x="285" y="519"/>
                  </a:lnTo>
                  <a:lnTo>
                    <a:pt x="301" y="523"/>
                  </a:lnTo>
                  <a:lnTo>
                    <a:pt x="314" y="526"/>
                  </a:lnTo>
                  <a:lnTo>
                    <a:pt x="329" y="532"/>
                  </a:lnTo>
                  <a:lnTo>
                    <a:pt x="344" y="534"/>
                  </a:lnTo>
                  <a:lnTo>
                    <a:pt x="360" y="536"/>
                  </a:lnTo>
                  <a:lnTo>
                    <a:pt x="375" y="540"/>
                  </a:lnTo>
                  <a:lnTo>
                    <a:pt x="392" y="543"/>
                  </a:lnTo>
                  <a:lnTo>
                    <a:pt x="409" y="543"/>
                  </a:lnTo>
                  <a:lnTo>
                    <a:pt x="424" y="549"/>
                  </a:lnTo>
                  <a:lnTo>
                    <a:pt x="439" y="549"/>
                  </a:lnTo>
                  <a:lnTo>
                    <a:pt x="458" y="553"/>
                  </a:lnTo>
                  <a:lnTo>
                    <a:pt x="476" y="555"/>
                  </a:lnTo>
                  <a:lnTo>
                    <a:pt x="493" y="559"/>
                  </a:lnTo>
                  <a:lnTo>
                    <a:pt x="510" y="561"/>
                  </a:lnTo>
                  <a:lnTo>
                    <a:pt x="529" y="562"/>
                  </a:lnTo>
                  <a:lnTo>
                    <a:pt x="546" y="564"/>
                  </a:lnTo>
                  <a:lnTo>
                    <a:pt x="565" y="566"/>
                  </a:lnTo>
                  <a:lnTo>
                    <a:pt x="582" y="566"/>
                  </a:lnTo>
                  <a:lnTo>
                    <a:pt x="603" y="568"/>
                  </a:lnTo>
                  <a:lnTo>
                    <a:pt x="620" y="570"/>
                  </a:lnTo>
                  <a:lnTo>
                    <a:pt x="639" y="570"/>
                  </a:lnTo>
                  <a:lnTo>
                    <a:pt x="658" y="572"/>
                  </a:lnTo>
                  <a:lnTo>
                    <a:pt x="679" y="574"/>
                  </a:lnTo>
                  <a:lnTo>
                    <a:pt x="698" y="574"/>
                  </a:lnTo>
                  <a:lnTo>
                    <a:pt x="719" y="574"/>
                  </a:lnTo>
                  <a:lnTo>
                    <a:pt x="738" y="574"/>
                  </a:lnTo>
                  <a:lnTo>
                    <a:pt x="759" y="576"/>
                  </a:lnTo>
                  <a:lnTo>
                    <a:pt x="778" y="576"/>
                  </a:lnTo>
                  <a:lnTo>
                    <a:pt x="799" y="576"/>
                  </a:lnTo>
                  <a:lnTo>
                    <a:pt x="820" y="576"/>
                  </a:lnTo>
                  <a:lnTo>
                    <a:pt x="841" y="576"/>
                  </a:lnTo>
                  <a:lnTo>
                    <a:pt x="846" y="574"/>
                  </a:lnTo>
                  <a:lnTo>
                    <a:pt x="854" y="574"/>
                  </a:lnTo>
                  <a:lnTo>
                    <a:pt x="862" y="572"/>
                  </a:lnTo>
                  <a:lnTo>
                    <a:pt x="869" y="572"/>
                  </a:lnTo>
                  <a:lnTo>
                    <a:pt x="877" y="570"/>
                  </a:lnTo>
                  <a:lnTo>
                    <a:pt x="886" y="570"/>
                  </a:lnTo>
                  <a:lnTo>
                    <a:pt x="896" y="570"/>
                  </a:lnTo>
                  <a:lnTo>
                    <a:pt x="903" y="570"/>
                  </a:lnTo>
                  <a:lnTo>
                    <a:pt x="913" y="568"/>
                  </a:lnTo>
                  <a:lnTo>
                    <a:pt x="920" y="566"/>
                  </a:lnTo>
                  <a:lnTo>
                    <a:pt x="930" y="566"/>
                  </a:lnTo>
                  <a:lnTo>
                    <a:pt x="939" y="566"/>
                  </a:lnTo>
                  <a:lnTo>
                    <a:pt x="949" y="564"/>
                  </a:lnTo>
                  <a:lnTo>
                    <a:pt x="960" y="564"/>
                  </a:lnTo>
                  <a:lnTo>
                    <a:pt x="970" y="562"/>
                  </a:lnTo>
                  <a:lnTo>
                    <a:pt x="979" y="562"/>
                  </a:lnTo>
                  <a:lnTo>
                    <a:pt x="987" y="561"/>
                  </a:lnTo>
                  <a:lnTo>
                    <a:pt x="998" y="561"/>
                  </a:lnTo>
                  <a:lnTo>
                    <a:pt x="1006" y="559"/>
                  </a:lnTo>
                  <a:lnTo>
                    <a:pt x="1017" y="559"/>
                  </a:lnTo>
                  <a:lnTo>
                    <a:pt x="1025" y="557"/>
                  </a:lnTo>
                  <a:lnTo>
                    <a:pt x="1034" y="555"/>
                  </a:lnTo>
                  <a:lnTo>
                    <a:pt x="1044" y="553"/>
                  </a:lnTo>
                  <a:lnTo>
                    <a:pt x="1055" y="553"/>
                  </a:lnTo>
                  <a:lnTo>
                    <a:pt x="1063" y="553"/>
                  </a:lnTo>
                  <a:lnTo>
                    <a:pt x="1073" y="551"/>
                  </a:lnTo>
                  <a:lnTo>
                    <a:pt x="1080" y="549"/>
                  </a:lnTo>
                  <a:lnTo>
                    <a:pt x="1090" y="549"/>
                  </a:lnTo>
                  <a:lnTo>
                    <a:pt x="1095" y="549"/>
                  </a:lnTo>
                  <a:lnTo>
                    <a:pt x="1105" y="547"/>
                  </a:lnTo>
                  <a:lnTo>
                    <a:pt x="1112" y="545"/>
                  </a:lnTo>
                  <a:lnTo>
                    <a:pt x="1120" y="545"/>
                  </a:lnTo>
                  <a:lnTo>
                    <a:pt x="1116" y="519"/>
                  </a:lnTo>
                  <a:lnTo>
                    <a:pt x="1109" y="519"/>
                  </a:lnTo>
                  <a:lnTo>
                    <a:pt x="1101" y="519"/>
                  </a:lnTo>
                  <a:lnTo>
                    <a:pt x="1092" y="521"/>
                  </a:lnTo>
                  <a:lnTo>
                    <a:pt x="1086" y="523"/>
                  </a:lnTo>
                  <a:lnTo>
                    <a:pt x="1076" y="523"/>
                  </a:lnTo>
                  <a:lnTo>
                    <a:pt x="1069" y="523"/>
                  </a:lnTo>
                  <a:lnTo>
                    <a:pt x="1061" y="524"/>
                  </a:lnTo>
                  <a:lnTo>
                    <a:pt x="1052" y="526"/>
                  </a:lnTo>
                  <a:lnTo>
                    <a:pt x="1042" y="526"/>
                  </a:lnTo>
                  <a:lnTo>
                    <a:pt x="1033" y="526"/>
                  </a:lnTo>
                  <a:lnTo>
                    <a:pt x="1023" y="528"/>
                  </a:lnTo>
                  <a:lnTo>
                    <a:pt x="1014" y="530"/>
                  </a:lnTo>
                  <a:lnTo>
                    <a:pt x="1004" y="530"/>
                  </a:lnTo>
                  <a:lnTo>
                    <a:pt x="995" y="532"/>
                  </a:lnTo>
                  <a:lnTo>
                    <a:pt x="985" y="532"/>
                  </a:lnTo>
                  <a:lnTo>
                    <a:pt x="977" y="536"/>
                  </a:lnTo>
                  <a:lnTo>
                    <a:pt x="966" y="536"/>
                  </a:lnTo>
                  <a:lnTo>
                    <a:pt x="957" y="536"/>
                  </a:lnTo>
                  <a:lnTo>
                    <a:pt x="947" y="538"/>
                  </a:lnTo>
                  <a:lnTo>
                    <a:pt x="938" y="540"/>
                  </a:lnTo>
                  <a:lnTo>
                    <a:pt x="928" y="540"/>
                  </a:lnTo>
                  <a:lnTo>
                    <a:pt x="919" y="540"/>
                  </a:lnTo>
                  <a:lnTo>
                    <a:pt x="909" y="542"/>
                  </a:lnTo>
                  <a:lnTo>
                    <a:pt x="901" y="543"/>
                  </a:lnTo>
                  <a:lnTo>
                    <a:pt x="892" y="543"/>
                  </a:lnTo>
                  <a:lnTo>
                    <a:pt x="882" y="543"/>
                  </a:lnTo>
                  <a:lnTo>
                    <a:pt x="875" y="543"/>
                  </a:lnTo>
                  <a:lnTo>
                    <a:pt x="867" y="543"/>
                  </a:lnTo>
                  <a:lnTo>
                    <a:pt x="860" y="543"/>
                  </a:lnTo>
                  <a:lnTo>
                    <a:pt x="850" y="545"/>
                  </a:lnTo>
                  <a:lnTo>
                    <a:pt x="844" y="545"/>
                  </a:lnTo>
                  <a:lnTo>
                    <a:pt x="839" y="547"/>
                  </a:lnTo>
                  <a:lnTo>
                    <a:pt x="820" y="547"/>
                  </a:lnTo>
                  <a:lnTo>
                    <a:pt x="799" y="547"/>
                  </a:lnTo>
                  <a:lnTo>
                    <a:pt x="780" y="547"/>
                  </a:lnTo>
                  <a:lnTo>
                    <a:pt x="761" y="547"/>
                  </a:lnTo>
                  <a:lnTo>
                    <a:pt x="742" y="545"/>
                  </a:lnTo>
                  <a:lnTo>
                    <a:pt x="723" y="545"/>
                  </a:lnTo>
                  <a:lnTo>
                    <a:pt x="704" y="545"/>
                  </a:lnTo>
                  <a:lnTo>
                    <a:pt x="687" y="545"/>
                  </a:lnTo>
                  <a:lnTo>
                    <a:pt x="668" y="543"/>
                  </a:lnTo>
                  <a:lnTo>
                    <a:pt x="650" y="543"/>
                  </a:lnTo>
                  <a:lnTo>
                    <a:pt x="631" y="542"/>
                  </a:lnTo>
                  <a:lnTo>
                    <a:pt x="614" y="542"/>
                  </a:lnTo>
                  <a:lnTo>
                    <a:pt x="595" y="540"/>
                  </a:lnTo>
                  <a:lnTo>
                    <a:pt x="578" y="540"/>
                  </a:lnTo>
                  <a:lnTo>
                    <a:pt x="561" y="536"/>
                  </a:lnTo>
                  <a:lnTo>
                    <a:pt x="546" y="536"/>
                  </a:lnTo>
                  <a:lnTo>
                    <a:pt x="529" y="534"/>
                  </a:lnTo>
                  <a:lnTo>
                    <a:pt x="510" y="532"/>
                  </a:lnTo>
                  <a:lnTo>
                    <a:pt x="493" y="528"/>
                  </a:lnTo>
                  <a:lnTo>
                    <a:pt x="477" y="526"/>
                  </a:lnTo>
                  <a:lnTo>
                    <a:pt x="462" y="524"/>
                  </a:lnTo>
                  <a:lnTo>
                    <a:pt x="445" y="523"/>
                  </a:lnTo>
                  <a:lnTo>
                    <a:pt x="430" y="519"/>
                  </a:lnTo>
                  <a:lnTo>
                    <a:pt x="415" y="519"/>
                  </a:lnTo>
                  <a:lnTo>
                    <a:pt x="400" y="513"/>
                  </a:lnTo>
                  <a:lnTo>
                    <a:pt x="384" y="511"/>
                  </a:lnTo>
                  <a:lnTo>
                    <a:pt x="369" y="509"/>
                  </a:lnTo>
                  <a:lnTo>
                    <a:pt x="356" y="505"/>
                  </a:lnTo>
                  <a:lnTo>
                    <a:pt x="341" y="502"/>
                  </a:lnTo>
                  <a:lnTo>
                    <a:pt x="327" y="500"/>
                  </a:lnTo>
                  <a:lnTo>
                    <a:pt x="312" y="496"/>
                  </a:lnTo>
                  <a:lnTo>
                    <a:pt x="301" y="492"/>
                  </a:lnTo>
                  <a:lnTo>
                    <a:pt x="285" y="488"/>
                  </a:lnTo>
                  <a:lnTo>
                    <a:pt x="272" y="483"/>
                  </a:lnTo>
                  <a:lnTo>
                    <a:pt x="261" y="479"/>
                  </a:lnTo>
                  <a:lnTo>
                    <a:pt x="247" y="475"/>
                  </a:lnTo>
                  <a:lnTo>
                    <a:pt x="234" y="469"/>
                  </a:lnTo>
                  <a:lnTo>
                    <a:pt x="223" y="466"/>
                  </a:lnTo>
                  <a:lnTo>
                    <a:pt x="211" y="462"/>
                  </a:lnTo>
                  <a:lnTo>
                    <a:pt x="200" y="458"/>
                  </a:lnTo>
                  <a:lnTo>
                    <a:pt x="189" y="452"/>
                  </a:lnTo>
                  <a:lnTo>
                    <a:pt x="177" y="448"/>
                  </a:lnTo>
                  <a:lnTo>
                    <a:pt x="168" y="443"/>
                  </a:lnTo>
                  <a:lnTo>
                    <a:pt x="158" y="439"/>
                  </a:lnTo>
                  <a:lnTo>
                    <a:pt x="149" y="433"/>
                  </a:lnTo>
                  <a:lnTo>
                    <a:pt x="139" y="429"/>
                  </a:lnTo>
                  <a:lnTo>
                    <a:pt x="132" y="424"/>
                  </a:lnTo>
                  <a:lnTo>
                    <a:pt x="124" y="420"/>
                  </a:lnTo>
                  <a:lnTo>
                    <a:pt x="114" y="412"/>
                  </a:lnTo>
                  <a:lnTo>
                    <a:pt x="107" y="408"/>
                  </a:lnTo>
                  <a:lnTo>
                    <a:pt x="99" y="403"/>
                  </a:lnTo>
                  <a:lnTo>
                    <a:pt x="92" y="399"/>
                  </a:lnTo>
                  <a:lnTo>
                    <a:pt x="86" y="391"/>
                  </a:lnTo>
                  <a:lnTo>
                    <a:pt x="80" y="386"/>
                  </a:lnTo>
                  <a:lnTo>
                    <a:pt x="73" y="382"/>
                  </a:lnTo>
                  <a:lnTo>
                    <a:pt x="69" y="376"/>
                  </a:lnTo>
                  <a:lnTo>
                    <a:pt x="59" y="365"/>
                  </a:lnTo>
                  <a:lnTo>
                    <a:pt x="52" y="351"/>
                  </a:lnTo>
                  <a:lnTo>
                    <a:pt x="46" y="340"/>
                  </a:lnTo>
                  <a:lnTo>
                    <a:pt x="42" y="329"/>
                  </a:lnTo>
                  <a:lnTo>
                    <a:pt x="38" y="315"/>
                  </a:lnTo>
                  <a:lnTo>
                    <a:pt x="38" y="304"/>
                  </a:lnTo>
                  <a:lnTo>
                    <a:pt x="38" y="292"/>
                  </a:lnTo>
                  <a:lnTo>
                    <a:pt x="42" y="281"/>
                  </a:lnTo>
                  <a:lnTo>
                    <a:pt x="46" y="268"/>
                  </a:lnTo>
                  <a:lnTo>
                    <a:pt x="52" y="256"/>
                  </a:lnTo>
                  <a:lnTo>
                    <a:pt x="57" y="245"/>
                  </a:lnTo>
                  <a:lnTo>
                    <a:pt x="67" y="232"/>
                  </a:lnTo>
                  <a:lnTo>
                    <a:pt x="73" y="224"/>
                  </a:lnTo>
                  <a:lnTo>
                    <a:pt x="82" y="215"/>
                  </a:lnTo>
                  <a:lnTo>
                    <a:pt x="90" y="205"/>
                  </a:lnTo>
                  <a:lnTo>
                    <a:pt x="99" y="197"/>
                  </a:lnTo>
                  <a:lnTo>
                    <a:pt x="111" y="188"/>
                  </a:lnTo>
                  <a:lnTo>
                    <a:pt x="122" y="178"/>
                  </a:lnTo>
                  <a:lnTo>
                    <a:pt x="128" y="175"/>
                  </a:lnTo>
                  <a:lnTo>
                    <a:pt x="135" y="171"/>
                  </a:lnTo>
                  <a:lnTo>
                    <a:pt x="143" y="167"/>
                  </a:lnTo>
                  <a:lnTo>
                    <a:pt x="151" y="163"/>
                  </a:lnTo>
                  <a:lnTo>
                    <a:pt x="156" y="157"/>
                  </a:lnTo>
                  <a:lnTo>
                    <a:pt x="164" y="154"/>
                  </a:lnTo>
                  <a:lnTo>
                    <a:pt x="171" y="150"/>
                  </a:lnTo>
                  <a:lnTo>
                    <a:pt x="179" y="146"/>
                  </a:lnTo>
                  <a:lnTo>
                    <a:pt x="187" y="142"/>
                  </a:lnTo>
                  <a:lnTo>
                    <a:pt x="194" y="138"/>
                  </a:lnTo>
                  <a:lnTo>
                    <a:pt x="204" y="135"/>
                  </a:lnTo>
                  <a:lnTo>
                    <a:pt x="213" y="131"/>
                  </a:lnTo>
                  <a:lnTo>
                    <a:pt x="221" y="127"/>
                  </a:lnTo>
                  <a:lnTo>
                    <a:pt x="228" y="123"/>
                  </a:lnTo>
                  <a:lnTo>
                    <a:pt x="238" y="118"/>
                  </a:lnTo>
                  <a:lnTo>
                    <a:pt x="247" y="114"/>
                  </a:lnTo>
                  <a:lnTo>
                    <a:pt x="257" y="110"/>
                  </a:lnTo>
                  <a:lnTo>
                    <a:pt x="268" y="108"/>
                  </a:lnTo>
                  <a:lnTo>
                    <a:pt x="278" y="104"/>
                  </a:lnTo>
                  <a:lnTo>
                    <a:pt x="289" y="102"/>
                  </a:lnTo>
                  <a:lnTo>
                    <a:pt x="299" y="99"/>
                  </a:lnTo>
                  <a:lnTo>
                    <a:pt x="308" y="95"/>
                  </a:lnTo>
                  <a:lnTo>
                    <a:pt x="318" y="91"/>
                  </a:lnTo>
                  <a:lnTo>
                    <a:pt x="331" y="87"/>
                  </a:lnTo>
                  <a:lnTo>
                    <a:pt x="341" y="83"/>
                  </a:lnTo>
                  <a:lnTo>
                    <a:pt x="354" y="81"/>
                  </a:lnTo>
                  <a:lnTo>
                    <a:pt x="365" y="78"/>
                  </a:lnTo>
                  <a:lnTo>
                    <a:pt x="377" y="78"/>
                  </a:lnTo>
                  <a:lnTo>
                    <a:pt x="388" y="74"/>
                  </a:lnTo>
                  <a:lnTo>
                    <a:pt x="401" y="70"/>
                  </a:lnTo>
                  <a:lnTo>
                    <a:pt x="413" y="68"/>
                  </a:lnTo>
                  <a:lnTo>
                    <a:pt x="424" y="66"/>
                  </a:lnTo>
                  <a:lnTo>
                    <a:pt x="436" y="62"/>
                  </a:lnTo>
                  <a:lnTo>
                    <a:pt x="449" y="61"/>
                  </a:lnTo>
                  <a:lnTo>
                    <a:pt x="462" y="59"/>
                  </a:lnTo>
                  <a:lnTo>
                    <a:pt x="476" y="57"/>
                  </a:lnTo>
                  <a:lnTo>
                    <a:pt x="489" y="53"/>
                  </a:lnTo>
                  <a:lnTo>
                    <a:pt x="502" y="53"/>
                  </a:lnTo>
                  <a:lnTo>
                    <a:pt x="514" y="49"/>
                  </a:lnTo>
                  <a:lnTo>
                    <a:pt x="529" y="47"/>
                  </a:lnTo>
                  <a:lnTo>
                    <a:pt x="542" y="45"/>
                  </a:lnTo>
                  <a:lnTo>
                    <a:pt x="557" y="45"/>
                  </a:lnTo>
                  <a:lnTo>
                    <a:pt x="571" y="43"/>
                  </a:lnTo>
                  <a:lnTo>
                    <a:pt x="586" y="43"/>
                  </a:lnTo>
                  <a:lnTo>
                    <a:pt x="601" y="40"/>
                  </a:lnTo>
                  <a:lnTo>
                    <a:pt x="614" y="40"/>
                  </a:lnTo>
                  <a:lnTo>
                    <a:pt x="630" y="38"/>
                  </a:lnTo>
                  <a:lnTo>
                    <a:pt x="645" y="38"/>
                  </a:lnTo>
                  <a:lnTo>
                    <a:pt x="660" y="36"/>
                  </a:lnTo>
                  <a:lnTo>
                    <a:pt x="677" y="36"/>
                  </a:lnTo>
                  <a:lnTo>
                    <a:pt x="692" y="36"/>
                  </a:lnTo>
                  <a:lnTo>
                    <a:pt x="708" y="36"/>
                  </a:lnTo>
                  <a:lnTo>
                    <a:pt x="727" y="34"/>
                  </a:lnTo>
                  <a:lnTo>
                    <a:pt x="746" y="34"/>
                  </a:lnTo>
                  <a:lnTo>
                    <a:pt x="765" y="34"/>
                  </a:lnTo>
                  <a:lnTo>
                    <a:pt x="782" y="34"/>
                  </a:lnTo>
                  <a:lnTo>
                    <a:pt x="801" y="34"/>
                  </a:lnTo>
                  <a:lnTo>
                    <a:pt x="820" y="34"/>
                  </a:lnTo>
                  <a:lnTo>
                    <a:pt x="839" y="34"/>
                  </a:lnTo>
                  <a:lnTo>
                    <a:pt x="858" y="36"/>
                  </a:lnTo>
                  <a:lnTo>
                    <a:pt x="875" y="36"/>
                  </a:lnTo>
                  <a:lnTo>
                    <a:pt x="896" y="38"/>
                  </a:lnTo>
                  <a:lnTo>
                    <a:pt x="913" y="40"/>
                  </a:lnTo>
                  <a:lnTo>
                    <a:pt x="932" y="40"/>
                  </a:lnTo>
                  <a:lnTo>
                    <a:pt x="949" y="42"/>
                  </a:lnTo>
                  <a:lnTo>
                    <a:pt x="968" y="43"/>
                  </a:lnTo>
                  <a:lnTo>
                    <a:pt x="987" y="45"/>
                  </a:lnTo>
                  <a:lnTo>
                    <a:pt x="1004" y="47"/>
                  </a:lnTo>
                  <a:lnTo>
                    <a:pt x="1021" y="49"/>
                  </a:lnTo>
                  <a:lnTo>
                    <a:pt x="1040" y="53"/>
                  </a:lnTo>
                  <a:lnTo>
                    <a:pt x="1055" y="53"/>
                  </a:lnTo>
                  <a:lnTo>
                    <a:pt x="1074" y="57"/>
                  </a:lnTo>
                  <a:lnTo>
                    <a:pt x="1090" y="59"/>
                  </a:lnTo>
                  <a:lnTo>
                    <a:pt x="1107" y="61"/>
                  </a:lnTo>
                  <a:lnTo>
                    <a:pt x="1124" y="64"/>
                  </a:lnTo>
                  <a:lnTo>
                    <a:pt x="1141" y="68"/>
                  </a:lnTo>
                  <a:lnTo>
                    <a:pt x="1156" y="70"/>
                  </a:lnTo>
                  <a:lnTo>
                    <a:pt x="1173" y="74"/>
                  </a:lnTo>
                  <a:lnTo>
                    <a:pt x="1188" y="78"/>
                  </a:lnTo>
                  <a:lnTo>
                    <a:pt x="1206" y="81"/>
                  </a:lnTo>
                  <a:lnTo>
                    <a:pt x="1221" y="85"/>
                  </a:lnTo>
                  <a:lnTo>
                    <a:pt x="1236" y="89"/>
                  </a:lnTo>
                  <a:lnTo>
                    <a:pt x="1251" y="93"/>
                  </a:lnTo>
                  <a:lnTo>
                    <a:pt x="1266" y="97"/>
                  </a:lnTo>
                  <a:lnTo>
                    <a:pt x="1280" y="100"/>
                  </a:lnTo>
                  <a:lnTo>
                    <a:pt x="1293" y="104"/>
                  </a:lnTo>
                  <a:lnTo>
                    <a:pt x="1306" y="110"/>
                  </a:lnTo>
                  <a:lnTo>
                    <a:pt x="1322" y="114"/>
                  </a:lnTo>
                  <a:lnTo>
                    <a:pt x="1335" y="118"/>
                  </a:lnTo>
                  <a:lnTo>
                    <a:pt x="1348" y="123"/>
                  </a:lnTo>
                  <a:lnTo>
                    <a:pt x="1360" y="127"/>
                  </a:lnTo>
                  <a:lnTo>
                    <a:pt x="1373" y="131"/>
                  </a:lnTo>
                  <a:lnTo>
                    <a:pt x="1384" y="137"/>
                  </a:lnTo>
                  <a:lnTo>
                    <a:pt x="1396" y="140"/>
                  </a:lnTo>
                  <a:lnTo>
                    <a:pt x="1407" y="146"/>
                  </a:lnTo>
                  <a:lnTo>
                    <a:pt x="1419" y="152"/>
                  </a:lnTo>
                  <a:lnTo>
                    <a:pt x="1428" y="157"/>
                  </a:lnTo>
                  <a:lnTo>
                    <a:pt x="1438" y="163"/>
                  </a:lnTo>
                  <a:lnTo>
                    <a:pt x="1449" y="167"/>
                  </a:lnTo>
                  <a:lnTo>
                    <a:pt x="1458" y="175"/>
                  </a:lnTo>
                  <a:lnTo>
                    <a:pt x="1468" y="178"/>
                  </a:lnTo>
                  <a:lnTo>
                    <a:pt x="1476" y="184"/>
                  </a:lnTo>
                  <a:lnTo>
                    <a:pt x="1483" y="188"/>
                  </a:lnTo>
                  <a:lnTo>
                    <a:pt x="1491" y="196"/>
                  </a:lnTo>
                  <a:lnTo>
                    <a:pt x="1498" y="201"/>
                  </a:lnTo>
                  <a:lnTo>
                    <a:pt x="1506" y="207"/>
                  </a:lnTo>
                  <a:lnTo>
                    <a:pt x="1512" y="213"/>
                  </a:lnTo>
                  <a:lnTo>
                    <a:pt x="1519" y="220"/>
                  </a:lnTo>
                  <a:lnTo>
                    <a:pt x="1529" y="232"/>
                  </a:lnTo>
                  <a:lnTo>
                    <a:pt x="1536" y="245"/>
                  </a:lnTo>
                  <a:lnTo>
                    <a:pt x="1540" y="251"/>
                  </a:lnTo>
                  <a:lnTo>
                    <a:pt x="1544" y="258"/>
                  </a:lnTo>
                  <a:lnTo>
                    <a:pt x="1546" y="264"/>
                  </a:lnTo>
                  <a:lnTo>
                    <a:pt x="1550" y="272"/>
                  </a:lnTo>
                  <a:lnTo>
                    <a:pt x="1576" y="264"/>
                  </a:lnTo>
                  <a:lnTo>
                    <a:pt x="1572" y="254"/>
                  </a:lnTo>
                  <a:lnTo>
                    <a:pt x="1569" y="247"/>
                  </a:lnTo>
                  <a:lnTo>
                    <a:pt x="1565" y="241"/>
                  </a:lnTo>
                  <a:lnTo>
                    <a:pt x="1563" y="234"/>
                  </a:lnTo>
                  <a:lnTo>
                    <a:pt x="1557" y="226"/>
                  </a:lnTo>
                  <a:lnTo>
                    <a:pt x="1553" y="218"/>
                  </a:lnTo>
                  <a:lnTo>
                    <a:pt x="1548" y="213"/>
                  </a:lnTo>
                  <a:lnTo>
                    <a:pt x="1542" y="207"/>
                  </a:lnTo>
                  <a:lnTo>
                    <a:pt x="1536" y="197"/>
                  </a:lnTo>
                  <a:lnTo>
                    <a:pt x="1529" y="192"/>
                  </a:lnTo>
                  <a:lnTo>
                    <a:pt x="1521" y="184"/>
                  </a:lnTo>
                  <a:lnTo>
                    <a:pt x="1515" y="178"/>
                  </a:lnTo>
                  <a:lnTo>
                    <a:pt x="1506" y="171"/>
                  </a:lnTo>
                  <a:lnTo>
                    <a:pt x="1498" y="167"/>
                  </a:lnTo>
                  <a:lnTo>
                    <a:pt x="1489" y="159"/>
                  </a:lnTo>
                  <a:lnTo>
                    <a:pt x="1481" y="154"/>
                  </a:lnTo>
                  <a:lnTo>
                    <a:pt x="1470" y="148"/>
                  </a:lnTo>
                  <a:lnTo>
                    <a:pt x="1458" y="142"/>
                  </a:lnTo>
                  <a:lnTo>
                    <a:pt x="1447" y="137"/>
                  </a:lnTo>
                  <a:lnTo>
                    <a:pt x="1438" y="131"/>
                  </a:lnTo>
                  <a:lnTo>
                    <a:pt x="1424" y="123"/>
                  </a:lnTo>
                  <a:lnTo>
                    <a:pt x="1413" y="118"/>
                  </a:lnTo>
                  <a:lnTo>
                    <a:pt x="1401" y="112"/>
                  </a:lnTo>
                  <a:lnTo>
                    <a:pt x="1390" y="108"/>
                  </a:lnTo>
                  <a:lnTo>
                    <a:pt x="1377" y="102"/>
                  </a:lnTo>
                  <a:lnTo>
                    <a:pt x="1361" y="97"/>
                  </a:lnTo>
                  <a:lnTo>
                    <a:pt x="1350" y="93"/>
                  </a:lnTo>
                  <a:lnTo>
                    <a:pt x="1337" y="87"/>
                  </a:lnTo>
                  <a:lnTo>
                    <a:pt x="1322" y="83"/>
                  </a:lnTo>
                  <a:lnTo>
                    <a:pt x="1306" y="78"/>
                  </a:lnTo>
                  <a:lnTo>
                    <a:pt x="1293" y="74"/>
                  </a:lnTo>
                  <a:lnTo>
                    <a:pt x="1280" y="70"/>
                  </a:lnTo>
                  <a:lnTo>
                    <a:pt x="1263" y="64"/>
                  </a:lnTo>
                  <a:lnTo>
                    <a:pt x="1246" y="61"/>
                  </a:lnTo>
                  <a:lnTo>
                    <a:pt x="1230" y="57"/>
                  </a:lnTo>
                  <a:lnTo>
                    <a:pt x="1213" y="53"/>
                  </a:lnTo>
                  <a:lnTo>
                    <a:pt x="1196" y="47"/>
                  </a:lnTo>
                  <a:lnTo>
                    <a:pt x="1179" y="43"/>
                  </a:lnTo>
                  <a:lnTo>
                    <a:pt x="1162" y="40"/>
                  </a:lnTo>
                  <a:lnTo>
                    <a:pt x="1147" y="38"/>
                  </a:lnTo>
                  <a:lnTo>
                    <a:pt x="1128" y="34"/>
                  </a:lnTo>
                  <a:lnTo>
                    <a:pt x="1111" y="30"/>
                  </a:lnTo>
                  <a:lnTo>
                    <a:pt x="1093" y="26"/>
                  </a:lnTo>
                  <a:lnTo>
                    <a:pt x="1076" y="24"/>
                  </a:lnTo>
                  <a:lnTo>
                    <a:pt x="1057" y="21"/>
                  </a:lnTo>
                  <a:lnTo>
                    <a:pt x="1040" y="19"/>
                  </a:lnTo>
                  <a:lnTo>
                    <a:pt x="1021" y="17"/>
                  </a:lnTo>
                  <a:lnTo>
                    <a:pt x="1004" y="15"/>
                  </a:lnTo>
                  <a:lnTo>
                    <a:pt x="983" y="11"/>
                  </a:lnTo>
                  <a:lnTo>
                    <a:pt x="964" y="9"/>
                  </a:lnTo>
                  <a:lnTo>
                    <a:pt x="943" y="7"/>
                  </a:lnTo>
                  <a:lnTo>
                    <a:pt x="926" y="5"/>
                  </a:lnTo>
                  <a:lnTo>
                    <a:pt x="905" y="3"/>
                  </a:lnTo>
                  <a:lnTo>
                    <a:pt x="886" y="3"/>
                  </a:lnTo>
                  <a:lnTo>
                    <a:pt x="865" y="2"/>
                  </a:lnTo>
                  <a:lnTo>
                    <a:pt x="846" y="2"/>
                  </a:lnTo>
                  <a:lnTo>
                    <a:pt x="827" y="0"/>
                  </a:lnTo>
                  <a:lnTo>
                    <a:pt x="808" y="0"/>
                  </a:lnTo>
                  <a:lnTo>
                    <a:pt x="787" y="0"/>
                  </a:lnTo>
                  <a:lnTo>
                    <a:pt x="768" y="0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2"/>
                  </a:lnTo>
                  <a:lnTo>
                    <a:pt x="6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13360" y="201600"/>
              <a:ext cx="50760" cy="88560"/>
            </a:xfrm>
            <a:custGeom>
              <a:avLst/>
              <a:gdLst/>
              <a:ahLst/>
              <a:rect l="l" t="t" r="r" b="b"/>
              <a:pathLst>
                <a:path w="282" h="492">
                  <a:moveTo>
                    <a:pt x="111" y="5"/>
                  </a:moveTo>
                  <a:lnTo>
                    <a:pt x="0" y="492"/>
                  </a:lnTo>
                  <a:lnTo>
                    <a:pt x="282" y="0"/>
                  </a:lnTo>
                  <a:lnTo>
                    <a:pt x="212" y="0"/>
                  </a:lnTo>
                  <a:lnTo>
                    <a:pt x="111" y="5"/>
                  </a:lnTo>
                  <a:lnTo>
                    <a:pt x="1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39360" y="514080"/>
              <a:ext cx="29880" cy="132480"/>
            </a:xfrm>
            <a:custGeom>
              <a:avLst/>
              <a:gdLst/>
              <a:ahLst/>
              <a:rect l="l" t="t" r="r" b="b"/>
              <a:pathLst>
                <a:path w="166" h="736">
                  <a:moveTo>
                    <a:pt x="160" y="375"/>
                  </a:moveTo>
                  <a:lnTo>
                    <a:pt x="160" y="385"/>
                  </a:lnTo>
                  <a:lnTo>
                    <a:pt x="162" y="396"/>
                  </a:lnTo>
                  <a:lnTo>
                    <a:pt x="164" y="405"/>
                  </a:lnTo>
                  <a:lnTo>
                    <a:pt x="166" y="419"/>
                  </a:lnTo>
                  <a:lnTo>
                    <a:pt x="166" y="428"/>
                  </a:lnTo>
                  <a:lnTo>
                    <a:pt x="166" y="440"/>
                  </a:lnTo>
                  <a:lnTo>
                    <a:pt x="166" y="451"/>
                  </a:lnTo>
                  <a:lnTo>
                    <a:pt x="166" y="463"/>
                  </a:lnTo>
                  <a:lnTo>
                    <a:pt x="164" y="474"/>
                  </a:lnTo>
                  <a:lnTo>
                    <a:pt x="164" y="485"/>
                  </a:lnTo>
                  <a:lnTo>
                    <a:pt x="162" y="497"/>
                  </a:lnTo>
                  <a:lnTo>
                    <a:pt x="162" y="508"/>
                  </a:lnTo>
                  <a:lnTo>
                    <a:pt x="160" y="520"/>
                  </a:lnTo>
                  <a:lnTo>
                    <a:pt x="160" y="531"/>
                  </a:lnTo>
                  <a:lnTo>
                    <a:pt x="158" y="542"/>
                  </a:lnTo>
                  <a:lnTo>
                    <a:pt x="158" y="556"/>
                  </a:lnTo>
                  <a:lnTo>
                    <a:pt x="156" y="565"/>
                  </a:lnTo>
                  <a:lnTo>
                    <a:pt x="152" y="577"/>
                  </a:lnTo>
                  <a:lnTo>
                    <a:pt x="150" y="588"/>
                  </a:lnTo>
                  <a:lnTo>
                    <a:pt x="148" y="599"/>
                  </a:lnTo>
                  <a:lnTo>
                    <a:pt x="147" y="611"/>
                  </a:lnTo>
                  <a:lnTo>
                    <a:pt x="145" y="622"/>
                  </a:lnTo>
                  <a:lnTo>
                    <a:pt x="143" y="634"/>
                  </a:lnTo>
                  <a:lnTo>
                    <a:pt x="141" y="647"/>
                  </a:lnTo>
                  <a:lnTo>
                    <a:pt x="139" y="656"/>
                  </a:lnTo>
                  <a:lnTo>
                    <a:pt x="135" y="670"/>
                  </a:lnTo>
                  <a:lnTo>
                    <a:pt x="133" y="679"/>
                  </a:lnTo>
                  <a:lnTo>
                    <a:pt x="131" y="693"/>
                  </a:lnTo>
                  <a:lnTo>
                    <a:pt x="129" y="702"/>
                  </a:lnTo>
                  <a:lnTo>
                    <a:pt x="128" y="713"/>
                  </a:lnTo>
                  <a:lnTo>
                    <a:pt x="126" y="725"/>
                  </a:lnTo>
                  <a:lnTo>
                    <a:pt x="124" y="736"/>
                  </a:lnTo>
                  <a:lnTo>
                    <a:pt x="114" y="729"/>
                  </a:lnTo>
                  <a:lnTo>
                    <a:pt x="105" y="721"/>
                  </a:lnTo>
                  <a:lnTo>
                    <a:pt x="95" y="713"/>
                  </a:lnTo>
                  <a:lnTo>
                    <a:pt x="88" y="704"/>
                  </a:lnTo>
                  <a:lnTo>
                    <a:pt x="80" y="694"/>
                  </a:lnTo>
                  <a:lnTo>
                    <a:pt x="72" y="685"/>
                  </a:lnTo>
                  <a:lnTo>
                    <a:pt x="65" y="674"/>
                  </a:lnTo>
                  <a:lnTo>
                    <a:pt x="57" y="662"/>
                  </a:lnTo>
                  <a:lnTo>
                    <a:pt x="53" y="656"/>
                  </a:lnTo>
                  <a:lnTo>
                    <a:pt x="50" y="649"/>
                  </a:lnTo>
                  <a:lnTo>
                    <a:pt x="46" y="643"/>
                  </a:lnTo>
                  <a:lnTo>
                    <a:pt x="42" y="636"/>
                  </a:lnTo>
                  <a:lnTo>
                    <a:pt x="38" y="628"/>
                  </a:lnTo>
                  <a:lnTo>
                    <a:pt x="34" y="622"/>
                  </a:lnTo>
                  <a:lnTo>
                    <a:pt x="32" y="613"/>
                  </a:lnTo>
                  <a:lnTo>
                    <a:pt x="31" y="607"/>
                  </a:lnTo>
                  <a:lnTo>
                    <a:pt x="25" y="598"/>
                  </a:lnTo>
                  <a:lnTo>
                    <a:pt x="23" y="590"/>
                  </a:lnTo>
                  <a:lnTo>
                    <a:pt x="21" y="580"/>
                  </a:lnTo>
                  <a:lnTo>
                    <a:pt x="17" y="573"/>
                  </a:lnTo>
                  <a:lnTo>
                    <a:pt x="15" y="563"/>
                  </a:lnTo>
                  <a:lnTo>
                    <a:pt x="13" y="554"/>
                  </a:lnTo>
                  <a:lnTo>
                    <a:pt x="12" y="544"/>
                  </a:lnTo>
                  <a:lnTo>
                    <a:pt x="12" y="535"/>
                  </a:lnTo>
                  <a:lnTo>
                    <a:pt x="8" y="527"/>
                  </a:lnTo>
                  <a:lnTo>
                    <a:pt x="8" y="520"/>
                  </a:lnTo>
                  <a:lnTo>
                    <a:pt x="6" y="512"/>
                  </a:lnTo>
                  <a:lnTo>
                    <a:pt x="4" y="502"/>
                  </a:lnTo>
                  <a:lnTo>
                    <a:pt x="4" y="495"/>
                  </a:lnTo>
                  <a:lnTo>
                    <a:pt x="2" y="487"/>
                  </a:lnTo>
                  <a:lnTo>
                    <a:pt x="2" y="480"/>
                  </a:lnTo>
                  <a:lnTo>
                    <a:pt x="2" y="472"/>
                  </a:lnTo>
                  <a:lnTo>
                    <a:pt x="0" y="463"/>
                  </a:lnTo>
                  <a:lnTo>
                    <a:pt x="0" y="455"/>
                  </a:lnTo>
                  <a:lnTo>
                    <a:pt x="0" y="445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19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5"/>
                  </a:lnTo>
                  <a:lnTo>
                    <a:pt x="0" y="375"/>
                  </a:lnTo>
                  <a:lnTo>
                    <a:pt x="0" y="367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0" y="322"/>
                  </a:lnTo>
                  <a:lnTo>
                    <a:pt x="0" y="314"/>
                  </a:lnTo>
                  <a:lnTo>
                    <a:pt x="2" y="305"/>
                  </a:lnTo>
                  <a:lnTo>
                    <a:pt x="4" y="295"/>
                  </a:lnTo>
                  <a:lnTo>
                    <a:pt x="4" y="288"/>
                  </a:lnTo>
                  <a:lnTo>
                    <a:pt x="4" y="278"/>
                  </a:lnTo>
                  <a:lnTo>
                    <a:pt x="6" y="269"/>
                  </a:lnTo>
                  <a:lnTo>
                    <a:pt x="8" y="261"/>
                  </a:lnTo>
                  <a:lnTo>
                    <a:pt x="8" y="250"/>
                  </a:lnTo>
                  <a:lnTo>
                    <a:pt x="8" y="240"/>
                  </a:lnTo>
                  <a:lnTo>
                    <a:pt x="10" y="231"/>
                  </a:lnTo>
                  <a:lnTo>
                    <a:pt x="12" y="223"/>
                  </a:lnTo>
                  <a:lnTo>
                    <a:pt x="12" y="213"/>
                  </a:lnTo>
                  <a:lnTo>
                    <a:pt x="12" y="204"/>
                  </a:lnTo>
                  <a:lnTo>
                    <a:pt x="13" y="194"/>
                  </a:lnTo>
                  <a:lnTo>
                    <a:pt x="15" y="187"/>
                  </a:lnTo>
                  <a:lnTo>
                    <a:pt x="15" y="177"/>
                  </a:lnTo>
                  <a:lnTo>
                    <a:pt x="17" y="168"/>
                  </a:lnTo>
                  <a:lnTo>
                    <a:pt x="17" y="160"/>
                  </a:lnTo>
                  <a:lnTo>
                    <a:pt x="21" y="151"/>
                  </a:lnTo>
                  <a:lnTo>
                    <a:pt x="21" y="143"/>
                  </a:lnTo>
                  <a:lnTo>
                    <a:pt x="23" y="135"/>
                  </a:lnTo>
                  <a:lnTo>
                    <a:pt x="25" y="128"/>
                  </a:lnTo>
                  <a:lnTo>
                    <a:pt x="27" y="120"/>
                  </a:lnTo>
                  <a:lnTo>
                    <a:pt x="27" y="111"/>
                  </a:lnTo>
                  <a:lnTo>
                    <a:pt x="29" y="103"/>
                  </a:lnTo>
                  <a:lnTo>
                    <a:pt x="31" y="94"/>
                  </a:lnTo>
                  <a:lnTo>
                    <a:pt x="31" y="86"/>
                  </a:lnTo>
                  <a:lnTo>
                    <a:pt x="32" y="78"/>
                  </a:lnTo>
                  <a:lnTo>
                    <a:pt x="34" y="71"/>
                  </a:lnTo>
                  <a:lnTo>
                    <a:pt x="34" y="63"/>
                  </a:lnTo>
                  <a:lnTo>
                    <a:pt x="38" y="56"/>
                  </a:lnTo>
                  <a:lnTo>
                    <a:pt x="38" y="48"/>
                  </a:lnTo>
                  <a:lnTo>
                    <a:pt x="40" y="40"/>
                  </a:lnTo>
                  <a:lnTo>
                    <a:pt x="42" y="33"/>
                  </a:lnTo>
                  <a:lnTo>
                    <a:pt x="44" y="27"/>
                  </a:lnTo>
                  <a:lnTo>
                    <a:pt x="48" y="12"/>
                  </a:lnTo>
                  <a:lnTo>
                    <a:pt x="51" y="0"/>
                  </a:lnTo>
                  <a:lnTo>
                    <a:pt x="53" y="10"/>
                  </a:lnTo>
                  <a:lnTo>
                    <a:pt x="57" y="19"/>
                  </a:lnTo>
                  <a:lnTo>
                    <a:pt x="61" y="31"/>
                  </a:lnTo>
                  <a:lnTo>
                    <a:pt x="65" y="42"/>
                  </a:lnTo>
                  <a:lnTo>
                    <a:pt x="69" y="54"/>
                  </a:lnTo>
                  <a:lnTo>
                    <a:pt x="74" y="63"/>
                  </a:lnTo>
                  <a:lnTo>
                    <a:pt x="78" y="75"/>
                  </a:lnTo>
                  <a:lnTo>
                    <a:pt x="82" y="86"/>
                  </a:lnTo>
                  <a:lnTo>
                    <a:pt x="86" y="97"/>
                  </a:lnTo>
                  <a:lnTo>
                    <a:pt x="90" y="107"/>
                  </a:lnTo>
                  <a:lnTo>
                    <a:pt x="93" y="118"/>
                  </a:lnTo>
                  <a:lnTo>
                    <a:pt x="97" y="130"/>
                  </a:lnTo>
                  <a:lnTo>
                    <a:pt x="101" y="141"/>
                  </a:lnTo>
                  <a:lnTo>
                    <a:pt x="105" y="153"/>
                  </a:lnTo>
                  <a:lnTo>
                    <a:pt x="109" y="164"/>
                  </a:lnTo>
                  <a:lnTo>
                    <a:pt x="112" y="177"/>
                  </a:lnTo>
                  <a:lnTo>
                    <a:pt x="116" y="187"/>
                  </a:lnTo>
                  <a:lnTo>
                    <a:pt x="118" y="200"/>
                  </a:lnTo>
                  <a:lnTo>
                    <a:pt x="122" y="212"/>
                  </a:lnTo>
                  <a:lnTo>
                    <a:pt x="126" y="223"/>
                  </a:lnTo>
                  <a:lnTo>
                    <a:pt x="128" y="234"/>
                  </a:lnTo>
                  <a:lnTo>
                    <a:pt x="131" y="248"/>
                  </a:lnTo>
                  <a:lnTo>
                    <a:pt x="135" y="259"/>
                  </a:lnTo>
                  <a:lnTo>
                    <a:pt x="139" y="272"/>
                  </a:lnTo>
                  <a:lnTo>
                    <a:pt x="141" y="284"/>
                  </a:lnTo>
                  <a:lnTo>
                    <a:pt x="143" y="295"/>
                  </a:lnTo>
                  <a:lnTo>
                    <a:pt x="147" y="308"/>
                  </a:lnTo>
                  <a:lnTo>
                    <a:pt x="150" y="322"/>
                  </a:lnTo>
                  <a:lnTo>
                    <a:pt x="152" y="335"/>
                  </a:lnTo>
                  <a:lnTo>
                    <a:pt x="156" y="348"/>
                  </a:lnTo>
                  <a:lnTo>
                    <a:pt x="156" y="362"/>
                  </a:lnTo>
                  <a:lnTo>
                    <a:pt x="160" y="375"/>
                  </a:lnTo>
                  <a:lnTo>
                    <a:pt x="160" y="375"/>
                  </a:lnTo>
                  <a:close/>
                </a:path>
              </a:pathLst>
            </a:custGeom>
            <a:solidFill>
              <a:srgbClr val="dbe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87160" y="302760"/>
              <a:ext cx="174960" cy="334440"/>
            </a:xfrm>
            <a:custGeom>
              <a:avLst/>
              <a:gdLst/>
              <a:ahLst/>
              <a:rect l="l" t="t" r="r" b="b"/>
              <a:pathLst>
                <a:path w="972" h="1858">
                  <a:moveTo>
                    <a:pt x="27" y="499"/>
                  </a:moveTo>
                  <a:lnTo>
                    <a:pt x="29" y="483"/>
                  </a:lnTo>
                  <a:lnTo>
                    <a:pt x="33" y="470"/>
                  </a:lnTo>
                  <a:lnTo>
                    <a:pt x="38" y="455"/>
                  </a:lnTo>
                  <a:lnTo>
                    <a:pt x="46" y="443"/>
                  </a:lnTo>
                  <a:lnTo>
                    <a:pt x="48" y="434"/>
                  </a:lnTo>
                  <a:lnTo>
                    <a:pt x="52" y="428"/>
                  </a:lnTo>
                  <a:lnTo>
                    <a:pt x="54" y="421"/>
                  </a:lnTo>
                  <a:lnTo>
                    <a:pt x="59" y="415"/>
                  </a:lnTo>
                  <a:lnTo>
                    <a:pt x="63" y="407"/>
                  </a:lnTo>
                  <a:lnTo>
                    <a:pt x="67" y="402"/>
                  </a:lnTo>
                  <a:lnTo>
                    <a:pt x="71" y="394"/>
                  </a:lnTo>
                  <a:lnTo>
                    <a:pt x="76" y="388"/>
                  </a:lnTo>
                  <a:lnTo>
                    <a:pt x="80" y="381"/>
                  </a:lnTo>
                  <a:lnTo>
                    <a:pt x="84" y="373"/>
                  </a:lnTo>
                  <a:lnTo>
                    <a:pt x="88" y="367"/>
                  </a:lnTo>
                  <a:lnTo>
                    <a:pt x="93" y="360"/>
                  </a:lnTo>
                  <a:lnTo>
                    <a:pt x="97" y="352"/>
                  </a:lnTo>
                  <a:lnTo>
                    <a:pt x="101" y="346"/>
                  </a:lnTo>
                  <a:lnTo>
                    <a:pt x="107" y="339"/>
                  </a:lnTo>
                  <a:lnTo>
                    <a:pt x="114" y="333"/>
                  </a:lnTo>
                  <a:lnTo>
                    <a:pt x="118" y="324"/>
                  </a:lnTo>
                  <a:lnTo>
                    <a:pt x="124" y="318"/>
                  </a:lnTo>
                  <a:lnTo>
                    <a:pt x="128" y="310"/>
                  </a:lnTo>
                  <a:lnTo>
                    <a:pt x="135" y="305"/>
                  </a:lnTo>
                  <a:lnTo>
                    <a:pt x="141" y="297"/>
                  </a:lnTo>
                  <a:lnTo>
                    <a:pt x="147" y="289"/>
                  </a:lnTo>
                  <a:lnTo>
                    <a:pt x="152" y="284"/>
                  </a:lnTo>
                  <a:lnTo>
                    <a:pt x="160" y="278"/>
                  </a:lnTo>
                  <a:lnTo>
                    <a:pt x="166" y="270"/>
                  </a:lnTo>
                  <a:lnTo>
                    <a:pt x="171" y="263"/>
                  </a:lnTo>
                  <a:lnTo>
                    <a:pt x="177" y="257"/>
                  </a:lnTo>
                  <a:lnTo>
                    <a:pt x="185" y="249"/>
                  </a:lnTo>
                  <a:lnTo>
                    <a:pt x="190" y="242"/>
                  </a:lnTo>
                  <a:lnTo>
                    <a:pt x="198" y="236"/>
                  </a:lnTo>
                  <a:lnTo>
                    <a:pt x="202" y="229"/>
                  </a:lnTo>
                  <a:lnTo>
                    <a:pt x="211" y="223"/>
                  </a:lnTo>
                  <a:lnTo>
                    <a:pt x="217" y="215"/>
                  </a:lnTo>
                  <a:lnTo>
                    <a:pt x="225" y="210"/>
                  </a:lnTo>
                  <a:lnTo>
                    <a:pt x="230" y="204"/>
                  </a:lnTo>
                  <a:lnTo>
                    <a:pt x="238" y="198"/>
                  </a:lnTo>
                  <a:lnTo>
                    <a:pt x="246" y="192"/>
                  </a:lnTo>
                  <a:lnTo>
                    <a:pt x="251" y="187"/>
                  </a:lnTo>
                  <a:lnTo>
                    <a:pt x="259" y="179"/>
                  </a:lnTo>
                  <a:lnTo>
                    <a:pt x="268" y="175"/>
                  </a:lnTo>
                  <a:lnTo>
                    <a:pt x="274" y="170"/>
                  </a:lnTo>
                  <a:lnTo>
                    <a:pt x="282" y="164"/>
                  </a:lnTo>
                  <a:lnTo>
                    <a:pt x="287" y="156"/>
                  </a:lnTo>
                  <a:lnTo>
                    <a:pt x="295" y="153"/>
                  </a:lnTo>
                  <a:lnTo>
                    <a:pt x="303" y="145"/>
                  </a:lnTo>
                  <a:lnTo>
                    <a:pt x="312" y="141"/>
                  </a:lnTo>
                  <a:lnTo>
                    <a:pt x="320" y="134"/>
                  </a:lnTo>
                  <a:lnTo>
                    <a:pt x="327" y="130"/>
                  </a:lnTo>
                  <a:lnTo>
                    <a:pt x="335" y="126"/>
                  </a:lnTo>
                  <a:lnTo>
                    <a:pt x="342" y="120"/>
                  </a:lnTo>
                  <a:lnTo>
                    <a:pt x="352" y="114"/>
                  </a:lnTo>
                  <a:lnTo>
                    <a:pt x="360" y="111"/>
                  </a:lnTo>
                  <a:lnTo>
                    <a:pt x="367" y="107"/>
                  </a:lnTo>
                  <a:lnTo>
                    <a:pt x="375" y="103"/>
                  </a:lnTo>
                  <a:lnTo>
                    <a:pt x="382" y="99"/>
                  </a:lnTo>
                  <a:lnTo>
                    <a:pt x="390" y="95"/>
                  </a:lnTo>
                  <a:lnTo>
                    <a:pt x="398" y="90"/>
                  </a:lnTo>
                  <a:lnTo>
                    <a:pt x="405" y="86"/>
                  </a:lnTo>
                  <a:lnTo>
                    <a:pt x="413" y="82"/>
                  </a:lnTo>
                  <a:lnTo>
                    <a:pt x="420" y="78"/>
                  </a:lnTo>
                  <a:lnTo>
                    <a:pt x="430" y="73"/>
                  </a:lnTo>
                  <a:lnTo>
                    <a:pt x="438" y="69"/>
                  </a:lnTo>
                  <a:lnTo>
                    <a:pt x="447" y="65"/>
                  </a:lnTo>
                  <a:lnTo>
                    <a:pt x="457" y="63"/>
                  </a:lnTo>
                  <a:lnTo>
                    <a:pt x="464" y="59"/>
                  </a:lnTo>
                  <a:lnTo>
                    <a:pt x="474" y="56"/>
                  </a:lnTo>
                  <a:lnTo>
                    <a:pt x="481" y="52"/>
                  </a:lnTo>
                  <a:lnTo>
                    <a:pt x="491" y="48"/>
                  </a:lnTo>
                  <a:lnTo>
                    <a:pt x="500" y="44"/>
                  </a:lnTo>
                  <a:lnTo>
                    <a:pt x="512" y="42"/>
                  </a:lnTo>
                  <a:lnTo>
                    <a:pt x="521" y="40"/>
                  </a:lnTo>
                  <a:lnTo>
                    <a:pt x="531" y="38"/>
                  </a:lnTo>
                  <a:lnTo>
                    <a:pt x="538" y="35"/>
                  </a:lnTo>
                  <a:lnTo>
                    <a:pt x="550" y="33"/>
                  </a:lnTo>
                  <a:lnTo>
                    <a:pt x="559" y="31"/>
                  </a:lnTo>
                  <a:lnTo>
                    <a:pt x="571" y="31"/>
                  </a:lnTo>
                  <a:lnTo>
                    <a:pt x="578" y="29"/>
                  </a:lnTo>
                  <a:lnTo>
                    <a:pt x="590" y="29"/>
                  </a:lnTo>
                  <a:lnTo>
                    <a:pt x="601" y="29"/>
                  </a:lnTo>
                  <a:lnTo>
                    <a:pt x="611" y="29"/>
                  </a:lnTo>
                  <a:lnTo>
                    <a:pt x="620" y="29"/>
                  </a:lnTo>
                  <a:lnTo>
                    <a:pt x="631" y="29"/>
                  </a:lnTo>
                  <a:lnTo>
                    <a:pt x="641" y="29"/>
                  </a:lnTo>
                  <a:lnTo>
                    <a:pt x="652" y="33"/>
                  </a:lnTo>
                  <a:lnTo>
                    <a:pt x="662" y="33"/>
                  </a:lnTo>
                  <a:lnTo>
                    <a:pt x="673" y="37"/>
                  </a:lnTo>
                  <a:lnTo>
                    <a:pt x="683" y="38"/>
                  </a:lnTo>
                  <a:lnTo>
                    <a:pt x="694" y="42"/>
                  </a:lnTo>
                  <a:lnTo>
                    <a:pt x="706" y="46"/>
                  </a:lnTo>
                  <a:lnTo>
                    <a:pt x="719" y="52"/>
                  </a:lnTo>
                  <a:lnTo>
                    <a:pt x="730" y="56"/>
                  </a:lnTo>
                  <a:lnTo>
                    <a:pt x="744" y="59"/>
                  </a:lnTo>
                  <a:lnTo>
                    <a:pt x="753" y="63"/>
                  </a:lnTo>
                  <a:lnTo>
                    <a:pt x="766" y="71"/>
                  </a:lnTo>
                  <a:lnTo>
                    <a:pt x="776" y="76"/>
                  </a:lnTo>
                  <a:lnTo>
                    <a:pt x="787" y="82"/>
                  </a:lnTo>
                  <a:lnTo>
                    <a:pt x="797" y="86"/>
                  </a:lnTo>
                  <a:lnTo>
                    <a:pt x="806" y="94"/>
                  </a:lnTo>
                  <a:lnTo>
                    <a:pt x="816" y="99"/>
                  </a:lnTo>
                  <a:lnTo>
                    <a:pt x="827" y="107"/>
                  </a:lnTo>
                  <a:lnTo>
                    <a:pt x="835" y="113"/>
                  </a:lnTo>
                  <a:lnTo>
                    <a:pt x="842" y="118"/>
                  </a:lnTo>
                  <a:lnTo>
                    <a:pt x="850" y="126"/>
                  </a:lnTo>
                  <a:lnTo>
                    <a:pt x="860" y="134"/>
                  </a:lnTo>
                  <a:lnTo>
                    <a:pt x="867" y="141"/>
                  </a:lnTo>
                  <a:lnTo>
                    <a:pt x="873" y="149"/>
                  </a:lnTo>
                  <a:lnTo>
                    <a:pt x="880" y="156"/>
                  </a:lnTo>
                  <a:lnTo>
                    <a:pt x="886" y="166"/>
                  </a:lnTo>
                  <a:lnTo>
                    <a:pt x="892" y="173"/>
                  </a:lnTo>
                  <a:lnTo>
                    <a:pt x="898" y="181"/>
                  </a:lnTo>
                  <a:lnTo>
                    <a:pt x="903" y="191"/>
                  </a:lnTo>
                  <a:lnTo>
                    <a:pt x="911" y="200"/>
                  </a:lnTo>
                  <a:lnTo>
                    <a:pt x="915" y="208"/>
                  </a:lnTo>
                  <a:lnTo>
                    <a:pt x="919" y="215"/>
                  </a:lnTo>
                  <a:lnTo>
                    <a:pt x="922" y="225"/>
                  </a:lnTo>
                  <a:lnTo>
                    <a:pt x="926" y="236"/>
                  </a:lnTo>
                  <a:lnTo>
                    <a:pt x="928" y="244"/>
                  </a:lnTo>
                  <a:lnTo>
                    <a:pt x="932" y="255"/>
                  </a:lnTo>
                  <a:lnTo>
                    <a:pt x="936" y="265"/>
                  </a:lnTo>
                  <a:lnTo>
                    <a:pt x="939" y="276"/>
                  </a:lnTo>
                  <a:lnTo>
                    <a:pt x="939" y="284"/>
                  </a:lnTo>
                  <a:lnTo>
                    <a:pt x="941" y="295"/>
                  </a:lnTo>
                  <a:lnTo>
                    <a:pt x="941" y="303"/>
                  </a:lnTo>
                  <a:lnTo>
                    <a:pt x="943" y="314"/>
                  </a:lnTo>
                  <a:lnTo>
                    <a:pt x="943" y="324"/>
                  </a:lnTo>
                  <a:lnTo>
                    <a:pt x="943" y="333"/>
                  </a:lnTo>
                  <a:lnTo>
                    <a:pt x="943" y="343"/>
                  </a:lnTo>
                  <a:lnTo>
                    <a:pt x="943" y="354"/>
                  </a:lnTo>
                  <a:lnTo>
                    <a:pt x="941" y="364"/>
                  </a:lnTo>
                  <a:lnTo>
                    <a:pt x="941" y="373"/>
                  </a:lnTo>
                  <a:lnTo>
                    <a:pt x="941" y="383"/>
                  </a:lnTo>
                  <a:lnTo>
                    <a:pt x="939" y="394"/>
                  </a:lnTo>
                  <a:lnTo>
                    <a:pt x="938" y="404"/>
                  </a:lnTo>
                  <a:lnTo>
                    <a:pt x="936" y="413"/>
                  </a:lnTo>
                  <a:lnTo>
                    <a:pt x="934" y="423"/>
                  </a:lnTo>
                  <a:lnTo>
                    <a:pt x="932" y="434"/>
                  </a:lnTo>
                  <a:lnTo>
                    <a:pt x="928" y="443"/>
                  </a:lnTo>
                  <a:lnTo>
                    <a:pt x="926" y="455"/>
                  </a:lnTo>
                  <a:lnTo>
                    <a:pt x="924" y="464"/>
                  </a:lnTo>
                  <a:lnTo>
                    <a:pt x="920" y="476"/>
                  </a:lnTo>
                  <a:lnTo>
                    <a:pt x="917" y="485"/>
                  </a:lnTo>
                  <a:lnTo>
                    <a:pt x="913" y="495"/>
                  </a:lnTo>
                  <a:lnTo>
                    <a:pt x="909" y="506"/>
                  </a:lnTo>
                  <a:lnTo>
                    <a:pt x="907" y="518"/>
                  </a:lnTo>
                  <a:lnTo>
                    <a:pt x="901" y="525"/>
                  </a:lnTo>
                  <a:lnTo>
                    <a:pt x="898" y="537"/>
                  </a:lnTo>
                  <a:lnTo>
                    <a:pt x="894" y="548"/>
                  </a:lnTo>
                  <a:lnTo>
                    <a:pt x="888" y="558"/>
                  </a:lnTo>
                  <a:lnTo>
                    <a:pt x="884" y="567"/>
                  </a:lnTo>
                  <a:lnTo>
                    <a:pt x="879" y="578"/>
                  </a:lnTo>
                  <a:lnTo>
                    <a:pt x="873" y="588"/>
                  </a:lnTo>
                  <a:lnTo>
                    <a:pt x="869" y="601"/>
                  </a:lnTo>
                  <a:lnTo>
                    <a:pt x="863" y="609"/>
                  </a:lnTo>
                  <a:lnTo>
                    <a:pt x="856" y="618"/>
                  </a:lnTo>
                  <a:lnTo>
                    <a:pt x="848" y="628"/>
                  </a:lnTo>
                  <a:lnTo>
                    <a:pt x="844" y="639"/>
                  </a:lnTo>
                  <a:lnTo>
                    <a:pt x="837" y="649"/>
                  </a:lnTo>
                  <a:lnTo>
                    <a:pt x="831" y="658"/>
                  </a:lnTo>
                  <a:lnTo>
                    <a:pt x="823" y="668"/>
                  </a:lnTo>
                  <a:lnTo>
                    <a:pt x="818" y="679"/>
                  </a:lnTo>
                  <a:lnTo>
                    <a:pt x="810" y="687"/>
                  </a:lnTo>
                  <a:lnTo>
                    <a:pt x="804" y="698"/>
                  </a:lnTo>
                  <a:lnTo>
                    <a:pt x="797" y="706"/>
                  </a:lnTo>
                  <a:lnTo>
                    <a:pt x="791" y="715"/>
                  </a:lnTo>
                  <a:lnTo>
                    <a:pt x="784" y="725"/>
                  </a:lnTo>
                  <a:lnTo>
                    <a:pt x="776" y="734"/>
                  </a:lnTo>
                  <a:lnTo>
                    <a:pt x="770" y="744"/>
                  </a:lnTo>
                  <a:lnTo>
                    <a:pt x="763" y="755"/>
                  </a:lnTo>
                  <a:lnTo>
                    <a:pt x="755" y="763"/>
                  </a:lnTo>
                  <a:lnTo>
                    <a:pt x="747" y="772"/>
                  </a:lnTo>
                  <a:lnTo>
                    <a:pt x="740" y="780"/>
                  </a:lnTo>
                  <a:lnTo>
                    <a:pt x="732" y="789"/>
                  </a:lnTo>
                  <a:lnTo>
                    <a:pt x="723" y="797"/>
                  </a:lnTo>
                  <a:lnTo>
                    <a:pt x="715" y="805"/>
                  </a:lnTo>
                  <a:lnTo>
                    <a:pt x="707" y="812"/>
                  </a:lnTo>
                  <a:lnTo>
                    <a:pt x="702" y="822"/>
                  </a:lnTo>
                  <a:lnTo>
                    <a:pt x="692" y="829"/>
                  </a:lnTo>
                  <a:lnTo>
                    <a:pt x="685" y="839"/>
                  </a:lnTo>
                  <a:lnTo>
                    <a:pt x="677" y="847"/>
                  </a:lnTo>
                  <a:lnTo>
                    <a:pt x="669" y="854"/>
                  </a:lnTo>
                  <a:lnTo>
                    <a:pt x="662" y="860"/>
                  </a:lnTo>
                  <a:lnTo>
                    <a:pt x="652" y="869"/>
                  </a:lnTo>
                  <a:lnTo>
                    <a:pt x="645" y="877"/>
                  </a:lnTo>
                  <a:lnTo>
                    <a:pt x="637" y="885"/>
                  </a:lnTo>
                  <a:lnTo>
                    <a:pt x="626" y="892"/>
                  </a:lnTo>
                  <a:lnTo>
                    <a:pt x="614" y="902"/>
                  </a:lnTo>
                  <a:lnTo>
                    <a:pt x="605" y="911"/>
                  </a:lnTo>
                  <a:lnTo>
                    <a:pt x="595" y="921"/>
                  </a:lnTo>
                  <a:lnTo>
                    <a:pt x="582" y="930"/>
                  </a:lnTo>
                  <a:lnTo>
                    <a:pt x="574" y="942"/>
                  </a:lnTo>
                  <a:lnTo>
                    <a:pt x="565" y="951"/>
                  </a:lnTo>
                  <a:lnTo>
                    <a:pt x="557" y="963"/>
                  </a:lnTo>
                  <a:lnTo>
                    <a:pt x="546" y="972"/>
                  </a:lnTo>
                  <a:lnTo>
                    <a:pt x="536" y="983"/>
                  </a:lnTo>
                  <a:lnTo>
                    <a:pt x="529" y="993"/>
                  </a:lnTo>
                  <a:lnTo>
                    <a:pt x="521" y="1004"/>
                  </a:lnTo>
                  <a:lnTo>
                    <a:pt x="514" y="1016"/>
                  </a:lnTo>
                  <a:lnTo>
                    <a:pt x="504" y="1027"/>
                  </a:lnTo>
                  <a:lnTo>
                    <a:pt x="496" y="1039"/>
                  </a:lnTo>
                  <a:lnTo>
                    <a:pt x="491" y="1050"/>
                  </a:lnTo>
                  <a:lnTo>
                    <a:pt x="481" y="1061"/>
                  </a:lnTo>
                  <a:lnTo>
                    <a:pt x="474" y="1073"/>
                  </a:lnTo>
                  <a:lnTo>
                    <a:pt x="466" y="1084"/>
                  </a:lnTo>
                  <a:lnTo>
                    <a:pt x="460" y="1096"/>
                  </a:lnTo>
                  <a:lnTo>
                    <a:pt x="451" y="1107"/>
                  </a:lnTo>
                  <a:lnTo>
                    <a:pt x="447" y="1120"/>
                  </a:lnTo>
                  <a:lnTo>
                    <a:pt x="439" y="1132"/>
                  </a:lnTo>
                  <a:lnTo>
                    <a:pt x="434" y="1143"/>
                  </a:lnTo>
                  <a:lnTo>
                    <a:pt x="426" y="1155"/>
                  </a:lnTo>
                  <a:lnTo>
                    <a:pt x="420" y="1168"/>
                  </a:lnTo>
                  <a:lnTo>
                    <a:pt x="415" y="1179"/>
                  </a:lnTo>
                  <a:lnTo>
                    <a:pt x="411" y="1191"/>
                  </a:lnTo>
                  <a:lnTo>
                    <a:pt x="403" y="1202"/>
                  </a:lnTo>
                  <a:lnTo>
                    <a:pt x="400" y="1215"/>
                  </a:lnTo>
                  <a:lnTo>
                    <a:pt x="396" y="1227"/>
                  </a:lnTo>
                  <a:lnTo>
                    <a:pt x="390" y="1240"/>
                  </a:lnTo>
                  <a:lnTo>
                    <a:pt x="386" y="1252"/>
                  </a:lnTo>
                  <a:lnTo>
                    <a:pt x="381" y="1265"/>
                  </a:lnTo>
                  <a:lnTo>
                    <a:pt x="375" y="1276"/>
                  </a:lnTo>
                  <a:lnTo>
                    <a:pt x="371" y="1288"/>
                  </a:lnTo>
                  <a:lnTo>
                    <a:pt x="367" y="1299"/>
                  </a:lnTo>
                  <a:lnTo>
                    <a:pt x="363" y="1312"/>
                  </a:lnTo>
                  <a:lnTo>
                    <a:pt x="360" y="1324"/>
                  </a:lnTo>
                  <a:lnTo>
                    <a:pt x="356" y="1335"/>
                  </a:lnTo>
                  <a:lnTo>
                    <a:pt x="352" y="1347"/>
                  </a:lnTo>
                  <a:lnTo>
                    <a:pt x="348" y="1358"/>
                  </a:lnTo>
                  <a:lnTo>
                    <a:pt x="346" y="1369"/>
                  </a:lnTo>
                  <a:lnTo>
                    <a:pt x="342" y="1383"/>
                  </a:lnTo>
                  <a:lnTo>
                    <a:pt x="339" y="1394"/>
                  </a:lnTo>
                  <a:lnTo>
                    <a:pt x="337" y="1406"/>
                  </a:lnTo>
                  <a:lnTo>
                    <a:pt x="333" y="1419"/>
                  </a:lnTo>
                  <a:lnTo>
                    <a:pt x="333" y="1430"/>
                  </a:lnTo>
                  <a:lnTo>
                    <a:pt x="329" y="1440"/>
                  </a:lnTo>
                  <a:lnTo>
                    <a:pt x="327" y="1453"/>
                  </a:lnTo>
                  <a:lnTo>
                    <a:pt x="325" y="1463"/>
                  </a:lnTo>
                  <a:lnTo>
                    <a:pt x="323" y="1476"/>
                  </a:lnTo>
                  <a:lnTo>
                    <a:pt x="322" y="1485"/>
                  </a:lnTo>
                  <a:lnTo>
                    <a:pt x="322" y="1497"/>
                  </a:lnTo>
                  <a:lnTo>
                    <a:pt x="318" y="1508"/>
                  </a:lnTo>
                  <a:lnTo>
                    <a:pt x="318" y="1520"/>
                  </a:lnTo>
                  <a:lnTo>
                    <a:pt x="316" y="1529"/>
                  </a:lnTo>
                  <a:lnTo>
                    <a:pt x="316" y="1541"/>
                  </a:lnTo>
                  <a:lnTo>
                    <a:pt x="314" y="1550"/>
                  </a:lnTo>
                  <a:lnTo>
                    <a:pt x="314" y="1563"/>
                  </a:lnTo>
                  <a:lnTo>
                    <a:pt x="312" y="1573"/>
                  </a:lnTo>
                  <a:lnTo>
                    <a:pt x="312" y="1582"/>
                  </a:lnTo>
                  <a:lnTo>
                    <a:pt x="312" y="1594"/>
                  </a:lnTo>
                  <a:lnTo>
                    <a:pt x="312" y="1603"/>
                  </a:lnTo>
                  <a:lnTo>
                    <a:pt x="312" y="1617"/>
                  </a:lnTo>
                  <a:lnTo>
                    <a:pt x="312" y="1630"/>
                  </a:lnTo>
                  <a:lnTo>
                    <a:pt x="312" y="1641"/>
                  </a:lnTo>
                  <a:lnTo>
                    <a:pt x="312" y="1657"/>
                  </a:lnTo>
                  <a:lnTo>
                    <a:pt x="312" y="1668"/>
                  </a:lnTo>
                  <a:lnTo>
                    <a:pt x="314" y="1679"/>
                  </a:lnTo>
                  <a:lnTo>
                    <a:pt x="316" y="1691"/>
                  </a:lnTo>
                  <a:lnTo>
                    <a:pt x="318" y="1704"/>
                  </a:lnTo>
                  <a:lnTo>
                    <a:pt x="318" y="1714"/>
                  </a:lnTo>
                  <a:lnTo>
                    <a:pt x="322" y="1725"/>
                  </a:lnTo>
                  <a:lnTo>
                    <a:pt x="322" y="1734"/>
                  </a:lnTo>
                  <a:lnTo>
                    <a:pt x="325" y="1746"/>
                  </a:lnTo>
                  <a:lnTo>
                    <a:pt x="325" y="1755"/>
                  </a:lnTo>
                  <a:lnTo>
                    <a:pt x="329" y="1765"/>
                  </a:lnTo>
                  <a:lnTo>
                    <a:pt x="331" y="1774"/>
                  </a:lnTo>
                  <a:lnTo>
                    <a:pt x="335" y="1784"/>
                  </a:lnTo>
                  <a:lnTo>
                    <a:pt x="337" y="1792"/>
                  </a:lnTo>
                  <a:lnTo>
                    <a:pt x="339" y="1799"/>
                  </a:lnTo>
                  <a:lnTo>
                    <a:pt x="342" y="1805"/>
                  </a:lnTo>
                  <a:lnTo>
                    <a:pt x="344" y="1814"/>
                  </a:lnTo>
                  <a:lnTo>
                    <a:pt x="348" y="1826"/>
                  </a:lnTo>
                  <a:lnTo>
                    <a:pt x="354" y="1837"/>
                  </a:lnTo>
                  <a:lnTo>
                    <a:pt x="356" y="1845"/>
                  </a:lnTo>
                  <a:lnTo>
                    <a:pt x="360" y="1852"/>
                  </a:lnTo>
                  <a:lnTo>
                    <a:pt x="362" y="1854"/>
                  </a:lnTo>
                  <a:lnTo>
                    <a:pt x="365" y="1858"/>
                  </a:lnTo>
                  <a:lnTo>
                    <a:pt x="388" y="1845"/>
                  </a:lnTo>
                  <a:lnTo>
                    <a:pt x="386" y="1843"/>
                  </a:lnTo>
                  <a:lnTo>
                    <a:pt x="386" y="1839"/>
                  </a:lnTo>
                  <a:lnTo>
                    <a:pt x="382" y="1831"/>
                  </a:lnTo>
                  <a:lnTo>
                    <a:pt x="379" y="1826"/>
                  </a:lnTo>
                  <a:lnTo>
                    <a:pt x="375" y="1814"/>
                  </a:lnTo>
                  <a:lnTo>
                    <a:pt x="371" y="1805"/>
                  </a:lnTo>
                  <a:lnTo>
                    <a:pt x="369" y="1797"/>
                  </a:lnTo>
                  <a:lnTo>
                    <a:pt x="365" y="1792"/>
                  </a:lnTo>
                  <a:lnTo>
                    <a:pt x="363" y="1782"/>
                  </a:lnTo>
                  <a:lnTo>
                    <a:pt x="362" y="1776"/>
                  </a:lnTo>
                  <a:lnTo>
                    <a:pt x="358" y="1767"/>
                  </a:lnTo>
                  <a:lnTo>
                    <a:pt x="356" y="1759"/>
                  </a:lnTo>
                  <a:lnTo>
                    <a:pt x="354" y="1750"/>
                  </a:lnTo>
                  <a:lnTo>
                    <a:pt x="352" y="1740"/>
                  </a:lnTo>
                  <a:lnTo>
                    <a:pt x="350" y="1731"/>
                  </a:lnTo>
                  <a:lnTo>
                    <a:pt x="348" y="1721"/>
                  </a:lnTo>
                  <a:lnTo>
                    <a:pt x="346" y="1710"/>
                  </a:lnTo>
                  <a:lnTo>
                    <a:pt x="344" y="1700"/>
                  </a:lnTo>
                  <a:lnTo>
                    <a:pt x="342" y="1689"/>
                  </a:lnTo>
                  <a:lnTo>
                    <a:pt x="341" y="1677"/>
                  </a:lnTo>
                  <a:lnTo>
                    <a:pt x="341" y="1664"/>
                  </a:lnTo>
                  <a:lnTo>
                    <a:pt x="341" y="1655"/>
                  </a:lnTo>
                  <a:lnTo>
                    <a:pt x="339" y="1641"/>
                  </a:lnTo>
                  <a:lnTo>
                    <a:pt x="339" y="1630"/>
                  </a:lnTo>
                  <a:lnTo>
                    <a:pt x="339" y="1617"/>
                  </a:lnTo>
                  <a:lnTo>
                    <a:pt x="341" y="1605"/>
                  </a:lnTo>
                  <a:lnTo>
                    <a:pt x="341" y="1594"/>
                  </a:lnTo>
                  <a:lnTo>
                    <a:pt x="341" y="1584"/>
                  </a:lnTo>
                  <a:lnTo>
                    <a:pt x="341" y="1573"/>
                  </a:lnTo>
                  <a:lnTo>
                    <a:pt x="342" y="1563"/>
                  </a:lnTo>
                  <a:lnTo>
                    <a:pt x="342" y="1554"/>
                  </a:lnTo>
                  <a:lnTo>
                    <a:pt x="342" y="1542"/>
                  </a:lnTo>
                  <a:lnTo>
                    <a:pt x="344" y="1533"/>
                  </a:lnTo>
                  <a:lnTo>
                    <a:pt x="346" y="1523"/>
                  </a:lnTo>
                  <a:lnTo>
                    <a:pt x="346" y="1510"/>
                  </a:lnTo>
                  <a:lnTo>
                    <a:pt x="348" y="1501"/>
                  </a:lnTo>
                  <a:lnTo>
                    <a:pt x="348" y="1489"/>
                  </a:lnTo>
                  <a:lnTo>
                    <a:pt x="352" y="1480"/>
                  </a:lnTo>
                  <a:lnTo>
                    <a:pt x="352" y="1468"/>
                  </a:lnTo>
                  <a:lnTo>
                    <a:pt x="356" y="1457"/>
                  </a:lnTo>
                  <a:lnTo>
                    <a:pt x="356" y="1447"/>
                  </a:lnTo>
                  <a:lnTo>
                    <a:pt x="360" y="1436"/>
                  </a:lnTo>
                  <a:lnTo>
                    <a:pt x="362" y="1425"/>
                  </a:lnTo>
                  <a:lnTo>
                    <a:pt x="365" y="1413"/>
                  </a:lnTo>
                  <a:lnTo>
                    <a:pt x="365" y="1402"/>
                  </a:lnTo>
                  <a:lnTo>
                    <a:pt x="369" y="1390"/>
                  </a:lnTo>
                  <a:lnTo>
                    <a:pt x="373" y="1379"/>
                  </a:lnTo>
                  <a:lnTo>
                    <a:pt x="375" y="1366"/>
                  </a:lnTo>
                  <a:lnTo>
                    <a:pt x="379" y="1354"/>
                  </a:lnTo>
                  <a:lnTo>
                    <a:pt x="382" y="1343"/>
                  </a:lnTo>
                  <a:lnTo>
                    <a:pt x="386" y="1331"/>
                  </a:lnTo>
                  <a:lnTo>
                    <a:pt x="390" y="1320"/>
                  </a:lnTo>
                  <a:lnTo>
                    <a:pt x="394" y="1309"/>
                  </a:lnTo>
                  <a:lnTo>
                    <a:pt x="398" y="1297"/>
                  </a:lnTo>
                  <a:lnTo>
                    <a:pt x="401" y="1286"/>
                  </a:lnTo>
                  <a:lnTo>
                    <a:pt x="405" y="1272"/>
                  </a:lnTo>
                  <a:lnTo>
                    <a:pt x="411" y="1261"/>
                  </a:lnTo>
                  <a:lnTo>
                    <a:pt x="417" y="1252"/>
                  </a:lnTo>
                  <a:lnTo>
                    <a:pt x="420" y="1238"/>
                  </a:lnTo>
                  <a:lnTo>
                    <a:pt x="424" y="1227"/>
                  </a:lnTo>
                  <a:lnTo>
                    <a:pt x="430" y="1215"/>
                  </a:lnTo>
                  <a:lnTo>
                    <a:pt x="434" y="1202"/>
                  </a:lnTo>
                  <a:lnTo>
                    <a:pt x="439" y="1191"/>
                  </a:lnTo>
                  <a:lnTo>
                    <a:pt x="447" y="1179"/>
                  </a:lnTo>
                  <a:lnTo>
                    <a:pt x="451" y="1168"/>
                  </a:lnTo>
                  <a:lnTo>
                    <a:pt x="458" y="1156"/>
                  </a:lnTo>
                  <a:lnTo>
                    <a:pt x="464" y="1145"/>
                  </a:lnTo>
                  <a:lnTo>
                    <a:pt x="470" y="1132"/>
                  </a:lnTo>
                  <a:lnTo>
                    <a:pt x="476" y="1120"/>
                  </a:lnTo>
                  <a:lnTo>
                    <a:pt x="483" y="1111"/>
                  </a:lnTo>
                  <a:lnTo>
                    <a:pt x="491" y="1098"/>
                  </a:lnTo>
                  <a:lnTo>
                    <a:pt x="496" y="1088"/>
                  </a:lnTo>
                  <a:lnTo>
                    <a:pt x="504" y="1077"/>
                  </a:lnTo>
                  <a:lnTo>
                    <a:pt x="514" y="1067"/>
                  </a:lnTo>
                  <a:lnTo>
                    <a:pt x="519" y="1054"/>
                  </a:lnTo>
                  <a:lnTo>
                    <a:pt x="527" y="1044"/>
                  </a:lnTo>
                  <a:lnTo>
                    <a:pt x="534" y="1033"/>
                  </a:lnTo>
                  <a:lnTo>
                    <a:pt x="544" y="1023"/>
                  </a:lnTo>
                  <a:lnTo>
                    <a:pt x="552" y="1010"/>
                  </a:lnTo>
                  <a:lnTo>
                    <a:pt x="559" y="1001"/>
                  </a:lnTo>
                  <a:lnTo>
                    <a:pt x="569" y="991"/>
                  </a:lnTo>
                  <a:lnTo>
                    <a:pt x="578" y="982"/>
                  </a:lnTo>
                  <a:lnTo>
                    <a:pt x="586" y="970"/>
                  </a:lnTo>
                  <a:lnTo>
                    <a:pt x="595" y="961"/>
                  </a:lnTo>
                  <a:lnTo>
                    <a:pt x="605" y="951"/>
                  </a:lnTo>
                  <a:lnTo>
                    <a:pt x="614" y="942"/>
                  </a:lnTo>
                  <a:lnTo>
                    <a:pt x="624" y="932"/>
                  </a:lnTo>
                  <a:lnTo>
                    <a:pt x="635" y="923"/>
                  </a:lnTo>
                  <a:lnTo>
                    <a:pt x="643" y="913"/>
                  </a:lnTo>
                  <a:lnTo>
                    <a:pt x="656" y="905"/>
                  </a:lnTo>
                  <a:lnTo>
                    <a:pt x="664" y="898"/>
                  </a:lnTo>
                  <a:lnTo>
                    <a:pt x="671" y="890"/>
                  </a:lnTo>
                  <a:lnTo>
                    <a:pt x="679" y="883"/>
                  </a:lnTo>
                  <a:lnTo>
                    <a:pt x="688" y="873"/>
                  </a:lnTo>
                  <a:lnTo>
                    <a:pt x="696" y="866"/>
                  </a:lnTo>
                  <a:lnTo>
                    <a:pt x="706" y="858"/>
                  </a:lnTo>
                  <a:lnTo>
                    <a:pt x="713" y="850"/>
                  </a:lnTo>
                  <a:lnTo>
                    <a:pt x="723" y="843"/>
                  </a:lnTo>
                  <a:lnTo>
                    <a:pt x="730" y="833"/>
                  </a:lnTo>
                  <a:lnTo>
                    <a:pt x="738" y="824"/>
                  </a:lnTo>
                  <a:lnTo>
                    <a:pt x="746" y="814"/>
                  </a:lnTo>
                  <a:lnTo>
                    <a:pt x="753" y="807"/>
                  </a:lnTo>
                  <a:lnTo>
                    <a:pt x="763" y="797"/>
                  </a:lnTo>
                  <a:lnTo>
                    <a:pt x="770" y="788"/>
                  </a:lnTo>
                  <a:lnTo>
                    <a:pt x="778" y="778"/>
                  </a:lnTo>
                  <a:lnTo>
                    <a:pt x="785" y="770"/>
                  </a:lnTo>
                  <a:lnTo>
                    <a:pt x="793" y="759"/>
                  </a:lnTo>
                  <a:lnTo>
                    <a:pt x="801" y="750"/>
                  </a:lnTo>
                  <a:lnTo>
                    <a:pt x="806" y="740"/>
                  </a:lnTo>
                  <a:lnTo>
                    <a:pt x="814" y="731"/>
                  </a:lnTo>
                  <a:lnTo>
                    <a:pt x="822" y="719"/>
                  </a:lnTo>
                  <a:lnTo>
                    <a:pt x="829" y="710"/>
                  </a:lnTo>
                  <a:lnTo>
                    <a:pt x="837" y="702"/>
                  </a:lnTo>
                  <a:lnTo>
                    <a:pt x="844" y="693"/>
                  </a:lnTo>
                  <a:lnTo>
                    <a:pt x="848" y="679"/>
                  </a:lnTo>
                  <a:lnTo>
                    <a:pt x="856" y="672"/>
                  </a:lnTo>
                  <a:lnTo>
                    <a:pt x="863" y="660"/>
                  </a:lnTo>
                  <a:lnTo>
                    <a:pt x="869" y="651"/>
                  </a:lnTo>
                  <a:lnTo>
                    <a:pt x="875" y="639"/>
                  </a:lnTo>
                  <a:lnTo>
                    <a:pt x="880" y="630"/>
                  </a:lnTo>
                  <a:lnTo>
                    <a:pt x="888" y="618"/>
                  </a:lnTo>
                  <a:lnTo>
                    <a:pt x="894" y="609"/>
                  </a:lnTo>
                  <a:lnTo>
                    <a:pt x="898" y="597"/>
                  </a:lnTo>
                  <a:lnTo>
                    <a:pt x="903" y="588"/>
                  </a:lnTo>
                  <a:lnTo>
                    <a:pt x="909" y="577"/>
                  </a:lnTo>
                  <a:lnTo>
                    <a:pt x="915" y="565"/>
                  </a:lnTo>
                  <a:lnTo>
                    <a:pt x="919" y="554"/>
                  </a:lnTo>
                  <a:lnTo>
                    <a:pt x="924" y="544"/>
                  </a:lnTo>
                  <a:lnTo>
                    <a:pt x="928" y="533"/>
                  </a:lnTo>
                  <a:lnTo>
                    <a:pt x="932" y="523"/>
                  </a:lnTo>
                  <a:lnTo>
                    <a:pt x="938" y="512"/>
                  </a:lnTo>
                  <a:lnTo>
                    <a:pt x="941" y="500"/>
                  </a:lnTo>
                  <a:lnTo>
                    <a:pt x="945" y="491"/>
                  </a:lnTo>
                  <a:lnTo>
                    <a:pt x="949" y="480"/>
                  </a:lnTo>
                  <a:lnTo>
                    <a:pt x="951" y="468"/>
                  </a:lnTo>
                  <a:lnTo>
                    <a:pt x="955" y="457"/>
                  </a:lnTo>
                  <a:lnTo>
                    <a:pt x="957" y="447"/>
                  </a:lnTo>
                  <a:lnTo>
                    <a:pt x="960" y="438"/>
                  </a:lnTo>
                  <a:lnTo>
                    <a:pt x="962" y="424"/>
                  </a:lnTo>
                  <a:lnTo>
                    <a:pt x="964" y="415"/>
                  </a:lnTo>
                  <a:lnTo>
                    <a:pt x="966" y="404"/>
                  </a:lnTo>
                  <a:lnTo>
                    <a:pt x="968" y="394"/>
                  </a:lnTo>
                  <a:lnTo>
                    <a:pt x="968" y="383"/>
                  </a:lnTo>
                  <a:lnTo>
                    <a:pt x="970" y="373"/>
                  </a:lnTo>
                  <a:lnTo>
                    <a:pt x="972" y="362"/>
                  </a:lnTo>
                  <a:lnTo>
                    <a:pt x="972" y="352"/>
                  </a:lnTo>
                  <a:lnTo>
                    <a:pt x="972" y="341"/>
                  </a:lnTo>
                  <a:lnTo>
                    <a:pt x="972" y="331"/>
                  </a:lnTo>
                  <a:lnTo>
                    <a:pt x="972" y="320"/>
                  </a:lnTo>
                  <a:lnTo>
                    <a:pt x="972" y="310"/>
                  </a:lnTo>
                  <a:lnTo>
                    <a:pt x="970" y="301"/>
                  </a:lnTo>
                  <a:lnTo>
                    <a:pt x="970" y="291"/>
                  </a:lnTo>
                  <a:lnTo>
                    <a:pt x="968" y="280"/>
                  </a:lnTo>
                  <a:lnTo>
                    <a:pt x="968" y="270"/>
                  </a:lnTo>
                  <a:lnTo>
                    <a:pt x="962" y="259"/>
                  </a:lnTo>
                  <a:lnTo>
                    <a:pt x="960" y="248"/>
                  </a:lnTo>
                  <a:lnTo>
                    <a:pt x="957" y="236"/>
                  </a:lnTo>
                  <a:lnTo>
                    <a:pt x="955" y="227"/>
                  </a:lnTo>
                  <a:lnTo>
                    <a:pt x="949" y="213"/>
                  </a:lnTo>
                  <a:lnTo>
                    <a:pt x="945" y="204"/>
                  </a:lnTo>
                  <a:lnTo>
                    <a:pt x="939" y="194"/>
                  </a:lnTo>
                  <a:lnTo>
                    <a:pt x="936" y="187"/>
                  </a:lnTo>
                  <a:lnTo>
                    <a:pt x="928" y="175"/>
                  </a:lnTo>
                  <a:lnTo>
                    <a:pt x="922" y="166"/>
                  </a:lnTo>
                  <a:lnTo>
                    <a:pt x="915" y="156"/>
                  </a:lnTo>
                  <a:lnTo>
                    <a:pt x="911" y="149"/>
                  </a:lnTo>
                  <a:lnTo>
                    <a:pt x="901" y="139"/>
                  </a:lnTo>
                  <a:lnTo>
                    <a:pt x="896" y="132"/>
                  </a:lnTo>
                  <a:lnTo>
                    <a:pt x="888" y="124"/>
                  </a:lnTo>
                  <a:lnTo>
                    <a:pt x="880" y="116"/>
                  </a:lnTo>
                  <a:lnTo>
                    <a:pt x="871" y="109"/>
                  </a:lnTo>
                  <a:lnTo>
                    <a:pt x="863" y="99"/>
                  </a:lnTo>
                  <a:lnTo>
                    <a:pt x="854" y="92"/>
                  </a:lnTo>
                  <a:lnTo>
                    <a:pt x="844" y="86"/>
                  </a:lnTo>
                  <a:lnTo>
                    <a:pt x="833" y="78"/>
                  </a:lnTo>
                  <a:lnTo>
                    <a:pt x="823" y="71"/>
                  </a:lnTo>
                  <a:lnTo>
                    <a:pt x="814" y="63"/>
                  </a:lnTo>
                  <a:lnTo>
                    <a:pt x="803" y="59"/>
                  </a:lnTo>
                  <a:lnTo>
                    <a:pt x="791" y="52"/>
                  </a:lnTo>
                  <a:lnTo>
                    <a:pt x="780" y="46"/>
                  </a:lnTo>
                  <a:lnTo>
                    <a:pt x="766" y="38"/>
                  </a:lnTo>
                  <a:lnTo>
                    <a:pt x="755" y="35"/>
                  </a:lnTo>
                  <a:lnTo>
                    <a:pt x="742" y="29"/>
                  </a:lnTo>
                  <a:lnTo>
                    <a:pt x="730" y="25"/>
                  </a:lnTo>
                  <a:lnTo>
                    <a:pt x="717" y="19"/>
                  </a:lnTo>
                  <a:lnTo>
                    <a:pt x="704" y="16"/>
                  </a:lnTo>
                  <a:lnTo>
                    <a:pt x="692" y="12"/>
                  </a:lnTo>
                  <a:lnTo>
                    <a:pt x="685" y="10"/>
                  </a:lnTo>
                  <a:lnTo>
                    <a:pt x="675" y="8"/>
                  </a:lnTo>
                  <a:lnTo>
                    <a:pt x="666" y="8"/>
                  </a:lnTo>
                  <a:lnTo>
                    <a:pt x="656" y="4"/>
                  </a:lnTo>
                  <a:lnTo>
                    <a:pt x="647" y="2"/>
                  </a:lnTo>
                  <a:lnTo>
                    <a:pt x="637" y="2"/>
                  </a:lnTo>
                  <a:lnTo>
                    <a:pt x="628" y="2"/>
                  </a:lnTo>
                  <a:lnTo>
                    <a:pt x="618" y="0"/>
                  </a:lnTo>
                  <a:lnTo>
                    <a:pt x="609" y="0"/>
                  </a:lnTo>
                  <a:lnTo>
                    <a:pt x="597" y="0"/>
                  </a:lnTo>
                  <a:lnTo>
                    <a:pt x="588" y="2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59" y="4"/>
                  </a:lnTo>
                  <a:lnTo>
                    <a:pt x="550" y="8"/>
                  </a:lnTo>
                  <a:lnTo>
                    <a:pt x="538" y="8"/>
                  </a:lnTo>
                  <a:lnTo>
                    <a:pt x="527" y="10"/>
                  </a:lnTo>
                  <a:lnTo>
                    <a:pt x="517" y="12"/>
                  </a:lnTo>
                  <a:lnTo>
                    <a:pt x="508" y="16"/>
                  </a:lnTo>
                  <a:lnTo>
                    <a:pt x="496" y="18"/>
                  </a:lnTo>
                  <a:lnTo>
                    <a:pt x="485" y="19"/>
                  </a:lnTo>
                  <a:lnTo>
                    <a:pt x="474" y="25"/>
                  </a:lnTo>
                  <a:lnTo>
                    <a:pt x="464" y="29"/>
                  </a:lnTo>
                  <a:lnTo>
                    <a:pt x="453" y="33"/>
                  </a:lnTo>
                  <a:lnTo>
                    <a:pt x="443" y="37"/>
                  </a:lnTo>
                  <a:lnTo>
                    <a:pt x="432" y="40"/>
                  </a:lnTo>
                  <a:lnTo>
                    <a:pt x="420" y="46"/>
                  </a:lnTo>
                  <a:lnTo>
                    <a:pt x="409" y="50"/>
                  </a:lnTo>
                  <a:lnTo>
                    <a:pt x="400" y="56"/>
                  </a:lnTo>
                  <a:lnTo>
                    <a:pt x="388" y="61"/>
                  </a:lnTo>
                  <a:lnTo>
                    <a:pt x="377" y="69"/>
                  </a:lnTo>
                  <a:lnTo>
                    <a:pt x="369" y="73"/>
                  </a:lnTo>
                  <a:lnTo>
                    <a:pt x="360" y="78"/>
                  </a:lnTo>
                  <a:lnTo>
                    <a:pt x="352" y="82"/>
                  </a:lnTo>
                  <a:lnTo>
                    <a:pt x="344" y="86"/>
                  </a:lnTo>
                  <a:lnTo>
                    <a:pt x="335" y="90"/>
                  </a:lnTo>
                  <a:lnTo>
                    <a:pt x="327" y="95"/>
                  </a:lnTo>
                  <a:lnTo>
                    <a:pt x="320" y="101"/>
                  </a:lnTo>
                  <a:lnTo>
                    <a:pt x="312" y="107"/>
                  </a:lnTo>
                  <a:lnTo>
                    <a:pt x="303" y="111"/>
                  </a:lnTo>
                  <a:lnTo>
                    <a:pt x="295" y="118"/>
                  </a:lnTo>
                  <a:lnTo>
                    <a:pt x="287" y="122"/>
                  </a:lnTo>
                  <a:lnTo>
                    <a:pt x="280" y="130"/>
                  </a:lnTo>
                  <a:lnTo>
                    <a:pt x="272" y="134"/>
                  </a:lnTo>
                  <a:lnTo>
                    <a:pt x="265" y="141"/>
                  </a:lnTo>
                  <a:lnTo>
                    <a:pt x="255" y="147"/>
                  </a:lnTo>
                  <a:lnTo>
                    <a:pt x="249" y="153"/>
                  </a:lnTo>
                  <a:lnTo>
                    <a:pt x="242" y="158"/>
                  </a:lnTo>
                  <a:lnTo>
                    <a:pt x="232" y="166"/>
                  </a:lnTo>
                  <a:lnTo>
                    <a:pt x="225" y="170"/>
                  </a:lnTo>
                  <a:lnTo>
                    <a:pt x="219" y="177"/>
                  </a:lnTo>
                  <a:lnTo>
                    <a:pt x="211" y="183"/>
                  </a:lnTo>
                  <a:lnTo>
                    <a:pt x="204" y="191"/>
                  </a:lnTo>
                  <a:lnTo>
                    <a:pt x="198" y="196"/>
                  </a:lnTo>
                  <a:lnTo>
                    <a:pt x="190" y="204"/>
                  </a:lnTo>
                  <a:lnTo>
                    <a:pt x="183" y="210"/>
                  </a:lnTo>
                  <a:lnTo>
                    <a:pt x="177" y="217"/>
                  </a:lnTo>
                  <a:lnTo>
                    <a:pt x="169" y="223"/>
                  </a:lnTo>
                  <a:lnTo>
                    <a:pt x="164" y="232"/>
                  </a:lnTo>
                  <a:lnTo>
                    <a:pt x="154" y="238"/>
                  </a:lnTo>
                  <a:lnTo>
                    <a:pt x="150" y="244"/>
                  </a:lnTo>
                  <a:lnTo>
                    <a:pt x="143" y="251"/>
                  </a:lnTo>
                  <a:lnTo>
                    <a:pt x="137" y="259"/>
                  </a:lnTo>
                  <a:lnTo>
                    <a:pt x="130" y="267"/>
                  </a:lnTo>
                  <a:lnTo>
                    <a:pt x="124" y="272"/>
                  </a:lnTo>
                  <a:lnTo>
                    <a:pt x="118" y="280"/>
                  </a:lnTo>
                  <a:lnTo>
                    <a:pt x="112" y="288"/>
                  </a:lnTo>
                  <a:lnTo>
                    <a:pt x="107" y="293"/>
                  </a:lnTo>
                  <a:lnTo>
                    <a:pt x="101" y="301"/>
                  </a:lnTo>
                  <a:lnTo>
                    <a:pt x="93" y="308"/>
                  </a:lnTo>
                  <a:lnTo>
                    <a:pt x="90" y="316"/>
                  </a:lnTo>
                  <a:lnTo>
                    <a:pt x="84" y="324"/>
                  </a:lnTo>
                  <a:lnTo>
                    <a:pt x="78" y="329"/>
                  </a:lnTo>
                  <a:lnTo>
                    <a:pt x="73" y="337"/>
                  </a:lnTo>
                  <a:lnTo>
                    <a:pt x="69" y="345"/>
                  </a:lnTo>
                  <a:lnTo>
                    <a:pt x="63" y="350"/>
                  </a:lnTo>
                  <a:lnTo>
                    <a:pt x="59" y="360"/>
                  </a:lnTo>
                  <a:lnTo>
                    <a:pt x="54" y="367"/>
                  </a:lnTo>
                  <a:lnTo>
                    <a:pt x="50" y="375"/>
                  </a:lnTo>
                  <a:lnTo>
                    <a:pt x="46" y="381"/>
                  </a:lnTo>
                  <a:lnTo>
                    <a:pt x="40" y="388"/>
                  </a:lnTo>
                  <a:lnTo>
                    <a:pt x="36" y="396"/>
                  </a:lnTo>
                  <a:lnTo>
                    <a:pt x="33" y="404"/>
                  </a:lnTo>
                  <a:lnTo>
                    <a:pt x="29" y="411"/>
                  </a:lnTo>
                  <a:lnTo>
                    <a:pt x="25" y="417"/>
                  </a:lnTo>
                  <a:lnTo>
                    <a:pt x="21" y="424"/>
                  </a:lnTo>
                  <a:lnTo>
                    <a:pt x="19" y="434"/>
                  </a:lnTo>
                  <a:lnTo>
                    <a:pt x="12" y="447"/>
                  </a:lnTo>
                  <a:lnTo>
                    <a:pt x="6" y="461"/>
                  </a:lnTo>
                  <a:lnTo>
                    <a:pt x="4" y="468"/>
                  </a:lnTo>
                  <a:lnTo>
                    <a:pt x="2" y="476"/>
                  </a:lnTo>
                  <a:lnTo>
                    <a:pt x="0" y="481"/>
                  </a:lnTo>
                  <a:lnTo>
                    <a:pt x="0" y="491"/>
                  </a:lnTo>
                  <a:lnTo>
                    <a:pt x="27" y="499"/>
                  </a:lnTo>
                  <a:lnTo>
                    <a:pt x="2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971720" y="225360"/>
            <a:ext cx="565200" cy="641520"/>
            <a:chOff x="1971720" y="225360"/>
            <a:chExt cx="565200" cy="641520"/>
          </a:xfrm>
        </p:grpSpPr>
        <p:sp>
          <p:nvSpPr>
            <p:cNvPr id="654" name=""/>
            <p:cNvSpPr/>
            <p:nvPr/>
          </p:nvSpPr>
          <p:spPr>
            <a:xfrm flipH="1">
              <a:off x="1983240" y="320040"/>
              <a:ext cx="209160" cy="385200"/>
            </a:xfrm>
            <a:custGeom>
              <a:avLst/>
              <a:gdLst/>
              <a:ahLst/>
              <a:rect l="l" t="t" r="r" b="b"/>
              <a:pathLst>
                <a:path w="1131" h="2080">
                  <a:moveTo>
                    <a:pt x="50" y="644"/>
                  </a:moveTo>
                  <a:lnTo>
                    <a:pt x="50" y="633"/>
                  </a:lnTo>
                  <a:lnTo>
                    <a:pt x="50" y="619"/>
                  </a:lnTo>
                  <a:lnTo>
                    <a:pt x="50" y="612"/>
                  </a:lnTo>
                  <a:lnTo>
                    <a:pt x="54" y="604"/>
                  </a:lnTo>
                  <a:lnTo>
                    <a:pt x="54" y="597"/>
                  </a:lnTo>
                  <a:lnTo>
                    <a:pt x="59" y="589"/>
                  </a:lnTo>
                  <a:lnTo>
                    <a:pt x="59" y="579"/>
                  </a:lnTo>
                  <a:lnTo>
                    <a:pt x="63" y="572"/>
                  </a:lnTo>
                  <a:lnTo>
                    <a:pt x="67" y="562"/>
                  </a:lnTo>
                  <a:lnTo>
                    <a:pt x="71" y="555"/>
                  </a:lnTo>
                  <a:lnTo>
                    <a:pt x="74" y="545"/>
                  </a:lnTo>
                  <a:lnTo>
                    <a:pt x="78" y="536"/>
                  </a:lnTo>
                  <a:lnTo>
                    <a:pt x="84" y="526"/>
                  </a:lnTo>
                  <a:lnTo>
                    <a:pt x="90" y="517"/>
                  </a:lnTo>
                  <a:lnTo>
                    <a:pt x="93" y="505"/>
                  </a:lnTo>
                  <a:lnTo>
                    <a:pt x="99" y="494"/>
                  </a:lnTo>
                  <a:lnTo>
                    <a:pt x="105" y="482"/>
                  </a:lnTo>
                  <a:lnTo>
                    <a:pt x="112" y="473"/>
                  </a:lnTo>
                  <a:lnTo>
                    <a:pt x="118" y="462"/>
                  </a:lnTo>
                  <a:lnTo>
                    <a:pt x="124" y="452"/>
                  </a:lnTo>
                  <a:lnTo>
                    <a:pt x="133" y="441"/>
                  </a:lnTo>
                  <a:lnTo>
                    <a:pt x="141" y="431"/>
                  </a:lnTo>
                  <a:lnTo>
                    <a:pt x="147" y="418"/>
                  </a:lnTo>
                  <a:lnTo>
                    <a:pt x="154" y="406"/>
                  </a:lnTo>
                  <a:lnTo>
                    <a:pt x="164" y="395"/>
                  </a:lnTo>
                  <a:lnTo>
                    <a:pt x="171" y="385"/>
                  </a:lnTo>
                  <a:lnTo>
                    <a:pt x="181" y="374"/>
                  </a:lnTo>
                  <a:lnTo>
                    <a:pt x="190" y="363"/>
                  </a:lnTo>
                  <a:lnTo>
                    <a:pt x="200" y="351"/>
                  </a:lnTo>
                  <a:lnTo>
                    <a:pt x="211" y="342"/>
                  </a:lnTo>
                  <a:lnTo>
                    <a:pt x="221" y="328"/>
                  </a:lnTo>
                  <a:lnTo>
                    <a:pt x="230" y="319"/>
                  </a:lnTo>
                  <a:lnTo>
                    <a:pt x="240" y="308"/>
                  </a:lnTo>
                  <a:lnTo>
                    <a:pt x="251" y="298"/>
                  </a:lnTo>
                  <a:lnTo>
                    <a:pt x="263" y="285"/>
                  </a:lnTo>
                  <a:lnTo>
                    <a:pt x="274" y="277"/>
                  </a:lnTo>
                  <a:lnTo>
                    <a:pt x="285" y="266"/>
                  </a:lnTo>
                  <a:lnTo>
                    <a:pt x="299" y="258"/>
                  </a:lnTo>
                  <a:lnTo>
                    <a:pt x="310" y="247"/>
                  </a:lnTo>
                  <a:lnTo>
                    <a:pt x="322" y="237"/>
                  </a:lnTo>
                  <a:lnTo>
                    <a:pt x="333" y="230"/>
                  </a:lnTo>
                  <a:lnTo>
                    <a:pt x="346" y="222"/>
                  </a:lnTo>
                  <a:lnTo>
                    <a:pt x="360" y="212"/>
                  </a:lnTo>
                  <a:lnTo>
                    <a:pt x="373" y="205"/>
                  </a:lnTo>
                  <a:lnTo>
                    <a:pt x="386" y="197"/>
                  </a:lnTo>
                  <a:lnTo>
                    <a:pt x="401" y="192"/>
                  </a:lnTo>
                  <a:lnTo>
                    <a:pt x="415" y="184"/>
                  </a:lnTo>
                  <a:lnTo>
                    <a:pt x="430" y="176"/>
                  </a:lnTo>
                  <a:lnTo>
                    <a:pt x="443" y="171"/>
                  </a:lnTo>
                  <a:lnTo>
                    <a:pt x="458" y="167"/>
                  </a:lnTo>
                  <a:lnTo>
                    <a:pt x="474" y="161"/>
                  </a:lnTo>
                  <a:lnTo>
                    <a:pt x="489" y="155"/>
                  </a:lnTo>
                  <a:lnTo>
                    <a:pt x="504" y="152"/>
                  </a:lnTo>
                  <a:lnTo>
                    <a:pt x="521" y="150"/>
                  </a:lnTo>
                  <a:lnTo>
                    <a:pt x="536" y="144"/>
                  </a:lnTo>
                  <a:lnTo>
                    <a:pt x="552" y="144"/>
                  </a:lnTo>
                  <a:lnTo>
                    <a:pt x="569" y="140"/>
                  </a:lnTo>
                  <a:lnTo>
                    <a:pt x="586" y="140"/>
                  </a:lnTo>
                  <a:lnTo>
                    <a:pt x="601" y="140"/>
                  </a:lnTo>
                  <a:lnTo>
                    <a:pt x="620" y="140"/>
                  </a:lnTo>
                  <a:lnTo>
                    <a:pt x="637" y="140"/>
                  </a:lnTo>
                  <a:lnTo>
                    <a:pt x="656" y="144"/>
                  </a:lnTo>
                  <a:lnTo>
                    <a:pt x="671" y="144"/>
                  </a:lnTo>
                  <a:lnTo>
                    <a:pt x="688" y="146"/>
                  </a:lnTo>
                  <a:lnTo>
                    <a:pt x="704" y="148"/>
                  </a:lnTo>
                  <a:lnTo>
                    <a:pt x="719" y="152"/>
                  </a:lnTo>
                  <a:lnTo>
                    <a:pt x="732" y="154"/>
                  </a:lnTo>
                  <a:lnTo>
                    <a:pt x="747" y="157"/>
                  </a:lnTo>
                  <a:lnTo>
                    <a:pt x="761" y="161"/>
                  </a:lnTo>
                  <a:lnTo>
                    <a:pt x="776" y="165"/>
                  </a:lnTo>
                  <a:lnTo>
                    <a:pt x="787" y="169"/>
                  </a:lnTo>
                  <a:lnTo>
                    <a:pt x="799" y="173"/>
                  </a:lnTo>
                  <a:lnTo>
                    <a:pt x="810" y="176"/>
                  </a:lnTo>
                  <a:lnTo>
                    <a:pt x="822" y="184"/>
                  </a:lnTo>
                  <a:lnTo>
                    <a:pt x="831" y="188"/>
                  </a:lnTo>
                  <a:lnTo>
                    <a:pt x="841" y="193"/>
                  </a:lnTo>
                  <a:lnTo>
                    <a:pt x="850" y="199"/>
                  </a:lnTo>
                  <a:lnTo>
                    <a:pt x="860" y="207"/>
                  </a:lnTo>
                  <a:lnTo>
                    <a:pt x="867" y="211"/>
                  </a:lnTo>
                  <a:lnTo>
                    <a:pt x="875" y="218"/>
                  </a:lnTo>
                  <a:lnTo>
                    <a:pt x="880" y="224"/>
                  </a:lnTo>
                  <a:lnTo>
                    <a:pt x="888" y="233"/>
                  </a:lnTo>
                  <a:lnTo>
                    <a:pt x="894" y="239"/>
                  </a:lnTo>
                  <a:lnTo>
                    <a:pt x="901" y="247"/>
                  </a:lnTo>
                  <a:lnTo>
                    <a:pt x="907" y="254"/>
                  </a:lnTo>
                  <a:lnTo>
                    <a:pt x="911" y="264"/>
                  </a:lnTo>
                  <a:lnTo>
                    <a:pt x="915" y="271"/>
                  </a:lnTo>
                  <a:lnTo>
                    <a:pt x="919" y="279"/>
                  </a:lnTo>
                  <a:lnTo>
                    <a:pt x="924" y="287"/>
                  </a:lnTo>
                  <a:lnTo>
                    <a:pt x="928" y="294"/>
                  </a:lnTo>
                  <a:lnTo>
                    <a:pt x="930" y="304"/>
                  </a:lnTo>
                  <a:lnTo>
                    <a:pt x="934" y="311"/>
                  </a:lnTo>
                  <a:lnTo>
                    <a:pt x="938" y="321"/>
                  </a:lnTo>
                  <a:lnTo>
                    <a:pt x="939" y="332"/>
                  </a:lnTo>
                  <a:lnTo>
                    <a:pt x="941" y="340"/>
                  </a:lnTo>
                  <a:lnTo>
                    <a:pt x="941" y="349"/>
                  </a:lnTo>
                  <a:lnTo>
                    <a:pt x="941" y="359"/>
                  </a:lnTo>
                  <a:lnTo>
                    <a:pt x="943" y="368"/>
                  </a:lnTo>
                  <a:lnTo>
                    <a:pt x="943" y="378"/>
                  </a:lnTo>
                  <a:lnTo>
                    <a:pt x="943" y="389"/>
                  </a:lnTo>
                  <a:lnTo>
                    <a:pt x="943" y="399"/>
                  </a:lnTo>
                  <a:lnTo>
                    <a:pt x="945" y="408"/>
                  </a:lnTo>
                  <a:lnTo>
                    <a:pt x="943" y="418"/>
                  </a:lnTo>
                  <a:lnTo>
                    <a:pt x="941" y="429"/>
                  </a:lnTo>
                  <a:lnTo>
                    <a:pt x="941" y="439"/>
                  </a:lnTo>
                  <a:lnTo>
                    <a:pt x="941" y="448"/>
                  </a:lnTo>
                  <a:lnTo>
                    <a:pt x="939" y="458"/>
                  </a:lnTo>
                  <a:lnTo>
                    <a:pt x="938" y="469"/>
                  </a:lnTo>
                  <a:lnTo>
                    <a:pt x="938" y="479"/>
                  </a:lnTo>
                  <a:lnTo>
                    <a:pt x="936" y="492"/>
                  </a:lnTo>
                  <a:lnTo>
                    <a:pt x="932" y="501"/>
                  </a:lnTo>
                  <a:lnTo>
                    <a:pt x="930" y="511"/>
                  </a:lnTo>
                  <a:lnTo>
                    <a:pt x="928" y="522"/>
                  </a:lnTo>
                  <a:lnTo>
                    <a:pt x="924" y="532"/>
                  </a:lnTo>
                  <a:lnTo>
                    <a:pt x="922" y="541"/>
                  </a:lnTo>
                  <a:lnTo>
                    <a:pt x="919" y="553"/>
                  </a:lnTo>
                  <a:lnTo>
                    <a:pt x="917" y="562"/>
                  </a:lnTo>
                  <a:lnTo>
                    <a:pt x="915" y="576"/>
                  </a:lnTo>
                  <a:lnTo>
                    <a:pt x="911" y="583"/>
                  </a:lnTo>
                  <a:lnTo>
                    <a:pt x="907" y="597"/>
                  </a:lnTo>
                  <a:lnTo>
                    <a:pt x="903" y="606"/>
                  </a:lnTo>
                  <a:lnTo>
                    <a:pt x="901" y="617"/>
                  </a:lnTo>
                  <a:lnTo>
                    <a:pt x="898" y="627"/>
                  </a:lnTo>
                  <a:lnTo>
                    <a:pt x="894" y="638"/>
                  </a:lnTo>
                  <a:lnTo>
                    <a:pt x="892" y="648"/>
                  </a:lnTo>
                  <a:lnTo>
                    <a:pt x="888" y="659"/>
                  </a:lnTo>
                  <a:lnTo>
                    <a:pt x="392" y="1277"/>
                  </a:lnTo>
                  <a:lnTo>
                    <a:pt x="396" y="1285"/>
                  </a:lnTo>
                  <a:lnTo>
                    <a:pt x="401" y="1296"/>
                  </a:lnTo>
                  <a:lnTo>
                    <a:pt x="407" y="1308"/>
                  </a:lnTo>
                  <a:lnTo>
                    <a:pt x="413" y="1323"/>
                  </a:lnTo>
                  <a:lnTo>
                    <a:pt x="413" y="1329"/>
                  </a:lnTo>
                  <a:lnTo>
                    <a:pt x="417" y="1336"/>
                  </a:lnTo>
                  <a:lnTo>
                    <a:pt x="419" y="1344"/>
                  </a:lnTo>
                  <a:lnTo>
                    <a:pt x="422" y="1351"/>
                  </a:lnTo>
                  <a:lnTo>
                    <a:pt x="426" y="1359"/>
                  </a:lnTo>
                  <a:lnTo>
                    <a:pt x="428" y="1367"/>
                  </a:lnTo>
                  <a:lnTo>
                    <a:pt x="430" y="1376"/>
                  </a:lnTo>
                  <a:lnTo>
                    <a:pt x="434" y="1386"/>
                  </a:lnTo>
                  <a:lnTo>
                    <a:pt x="436" y="1393"/>
                  </a:lnTo>
                  <a:lnTo>
                    <a:pt x="438" y="1401"/>
                  </a:lnTo>
                  <a:lnTo>
                    <a:pt x="441" y="1410"/>
                  </a:lnTo>
                  <a:lnTo>
                    <a:pt x="445" y="1420"/>
                  </a:lnTo>
                  <a:lnTo>
                    <a:pt x="447" y="1429"/>
                  </a:lnTo>
                  <a:lnTo>
                    <a:pt x="449" y="1439"/>
                  </a:lnTo>
                  <a:lnTo>
                    <a:pt x="451" y="1448"/>
                  </a:lnTo>
                  <a:lnTo>
                    <a:pt x="457" y="1460"/>
                  </a:lnTo>
                  <a:lnTo>
                    <a:pt x="457" y="1467"/>
                  </a:lnTo>
                  <a:lnTo>
                    <a:pt x="460" y="1477"/>
                  </a:lnTo>
                  <a:lnTo>
                    <a:pt x="462" y="1486"/>
                  </a:lnTo>
                  <a:lnTo>
                    <a:pt x="464" y="1498"/>
                  </a:lnTo>
                  <a:lnTo>
                    <a:pt x="466" y="1507"/>
                  </a:lnTo>
                  <a:lnTo>
                    <a:pt x="470" y="1517"/>
                  </a:lnTo>
                  <a:lnTo>
                    <a:pt x="472" y="1526"/>
                  </a:lnTo>
                  <a:lnTo>
                    <a:pt x="476" y="1538"/>
                  </a:lnTo>
                  <a:lnTo>
                    <a:pt x="477" y="1545"/>
                  </a:lnTo>
                  <a:lnTo>
                    <a:pt x="479" y="1555"/>
                  </a:lnTo>
                  <a:lnTo>
                    <a:pt x="481" y="1564"/>
                  </a:lnTo>
                  <a:lnTo>
                    <a:pt x="483" y="1574"/>
                  </a:lnTo>
                  <a:lnTo>
                    <a:pt x="485" y="1581"/>
                  </a:lnTo>
                  <a:lnTo>
                    <a:pt x="487" y="1591"/>
                  </a:lnTo>
                  <a:lnTo>
                    <a:pt x="489" y="1600"/>
                  </a:lnTo>
                  <a:lnTo>
                    <a:pt x="491" y="1608"/>
                  </a:lnTo>
                  <a:lnTo>
                    <a:pt x="491" y="1618"/>
                  </a:lnTo>
                  <a:lnTo>
                    <a:pt x="495" y="1625"/>
                  </a:lnTo>
                  <a:lnTo>
                    <a:pt x="496" y="1633"/>
                  </a:lnTo>
                  <a:lnTo>
                    <a:pt x="498" y="1640"/>
                  </a:lnTo>
                  <a:lnTo>
                    <a:pt x="498" y="1648"/>
                  </a:lnTo>
                  <a:lnTo>
                    <a:pt x="500" y="1656"/>
                  </a:lnTo>
                  <a:lnTo>
                    <a:pt x="502" y="1661"/>
                  </a:lnTo>
                  <a:lnTo>
                    <a:pt x="504" y="1671"/>
                  </a:lnTo>
                  <a:lnTo>
                    <a:pt x="506" y="1680"/>
                  </a:lnTo>
                  <a:lnTo>
                    <a:pt x="508" y="1692"/>
                  </a:lnTo>
                  <a:lnTo>
                    <a:pt x="510" y="1703"/>
                  </a:lnTo>
                  <a:lnTo>
                    <a:pt x="514" y="1713"/>
                  </a:lnTo>
                  <a:lnTo>
                    <a:pt x="515" y="1722"/>
                  </a:lnTo>
                  <a:lnTo>
                    <a:pt x="517" y="1728"/>
                  </a:lnTo>
                  <a:lnTo>
                    <a:pt x="517" y="2080"/>
                  </a:lnTo>
                  <a:lnTo>
                    <a:pt x="692" y="2017"/>
                  </a:lnTo>
                  <a:lnTo>
                    <a:pt x="692" y="2013"/>
                  </a:lnTo>
                  <a:lnTo>
                    <a:pt x="692" y="2004"/>
                  </a:lnTo>
                  <a:lnTo>
                    <a:pt x="692" y="1996"/>
                  </a:lnTo>
                  <a:lnTo>
                    <a:pt x="692" y="1990"/>
                  </a:lnTo>
                  <a:lnTo>
                    <a:pt x="692" y="1981"/>
                  </a:lnTo>
                  <a:lnTo>
                    <a:pt x="692" y="1973"/>
                  </a:lnTo>
                  <a:lnTo>
                    <a:pt x="692" y="1960"/>
                  </a:lnTo>
                  <a:lnTo>
                    <a:pt x="692" y="1948"/>
                  </a:lnTo>
                  <a:lnTo>
                    <a:pt x="690" y="1933"/>
                  </a:lnTo>
                  <a:lnTo>
                    <a:pt x="690" y="1920"/>
                  </a:lnTo>
                  <a:lnTo>
                    <a:pt x="688" y="1912"/>
                  </a:lnTo>
                  <a:lnTo>
                    <a:pt x="688" y="1905"/>
                  </a:lnTo>
                  <a:lnTo>
                    <a:pt x="687" y="1897"/>
                  </a:lnTo>
                  <a:lnTo>
                    <a:pt x="687" y="1889"/>
                  </a:lnTo>
                  <a:lnTo>
                    <a:pt x="685" y="1880"/>
                  </a:lnTo>
                  <a:lnTo>
                    <a:pt x="683" y="1872"/>
                  </a:lnTo>
                  <a:lnTo>
                    <a:pt x="683" y="1863"/>
                  </a:lnTo>
                  <a:lnTo>
                    <a:pt x="683" y="1855"/>
                  </a:lnTo>
                  <a:lnTo>
                    <a:pt x="679" y="1844"/>
                  </a:lnTo>
                  <a:lnTo>
                    <a:pt x="679" y="1834"/>
                  </a:lnTo>
                  <a:lnTo>
                    <a:pt x="675" y="1823"/>
                  </a:lnTo>
                  <a:lnTo>
                    <a:pt x="675" y="1815"/>
                  </a:lnTo>
                  <a:lnTo>
                    <a:pt x="671" y="1802"/>
                  </a:lnTo>
                  <a:lnTo>
                    <a:pt x="669" y="1793"/>
                  </a:lnTo>
                  <a:lnTo>
                    <a:pt x="666" y="1781"/>
                  </a:lnTo>
                  <a:lnTo>
                    <a:pt x="666" y="1772"/>
                  </a:lnTo>
                  <a:lnTo>
                    <a:pt x="662" y="1760"/>
                  </a:lnTo>
                  <a:lnTo>
                    <a:pt x="658" y="1749"/>
                  </a:lnTo>
                  <a:lnTo>
                    <a:pt x="656" y="1737"/>
                  </a:lnTo>
                  <a:lnTo>
                    <a:pt x="652" y="1728"/>
                  </a:lnTo>
                  <a:lnTo>
                    <a:pt x="649" y="1715"/>
                  </a:lnTo>
                  <a:lnTo>
                    <a:pt x="647" y="1703"/>
                  </a:lnTo>
                  <a:lnTo>
                    <a:pt x="643" y="1692"/>
                  </a:lnTo>
                  <a:lnTo>
                    <a:pt x="639" y="1680"/>
                  </a:lnTo>
                  <a:lnTo>
                    <a:pt x="635" y="1667"/>
                  </a:lnTo>
                  <a:lnTo>
                    <a:pt x="631" y="1656"/>
                  </a:lnTo>
                  <a:lnTo>
                    <a:pt x="626" y="1642"/>
                  </a:lnTo>
                  <a:lnTo>
                    <a:pt x="622" y="1631"/>
                  </a:lnTo>
                  <a:lnTo>
                    <a:pt x="616" y="1618"/>
                  </a:lnTo>
                  <a:lnTo>
                    <a:pt x="611" y="1604"/>
                  </a:lnTo>
                  <a:lnTo>
                    <a:pt x="605" y="1591"/>
                  </a:lnTo>
                  <a:lnTo>
                    <a:pt x="601" y="1580"/>
                  </a:lnTo>
                  <a:lnTo>
                    <a:pt x="593" y="1564"/>
                  </a:lnTo>
                  <a:lnTo>
                    <a:pt x="588" y="1553"/>
                  </a:lnTo>
                  <a:lnTo>
                    <a:pt x="580" y="1538"/>
                  </a:lnTo>
                  <a:lnTo>
                    <a:pt x="574" y="1526"/>
                  </a:lnTo>
                  <a:lnTo>
                    <a:pt x="567" y="1511"/>
                  </a:lnTo>
                  <a:lnTo>
                    <a:pt x="561" y="1500"/>
                  </a:lnTo>
                  <a:lnTo>
                    <a:pt x="552" y="1486"/>
                  </a:lnTo>
                  <a:lnTo>
                    <a:pt x="546" y="1473"/>
                  </a:lnTo>
                  <a:lnTo>
                    <a:pt x="538" y="1460"/>
                  </a:lnTo>
                  <a:lnTo>
                    <a:pt x="533" y="1445"/>
                  </a:lnTo>
                  <a:lnTo>
                    <a:pt x="527" y="1429"/>
                  </a:lnTo>
                  <a:lnTo>
                    <a:pt x="525" y="1416"/>
                  </a:lnTo>
                  <a:lnTo>
                    <a:pt x="521" y="1401"/>
                  </a:lnTo>
                  <a:lnTo>
                    <a:pt x="523" y="1386"/>
                  </a:lnTo>
                  <a:lnTo>
                    <a:pt x="525" y="1370"/>
                  </a:lnTo>
                  <a:lnTo>
                    <a:pt x="529" y="1357"/>
                  </a:lnTo>
                  <a:lnTo>
                    <a:pt x="531" y="1340"/>
                  </a:lnTo>
                  <a:lnTo>
                    <a:pt x="536" y="1325"/>
                  </a:lnTo>
                  <a:lnTo>
                    <a:pt x="542" y="1310"/>
                  </a:lnTo>
                  <a:lnTo>
                    <a:pt x="550" y="1292"/>
                  </a:lnTo>
                  <a:lnTo>
                    <a:pt x="557" y="1277"/>
                  </a:lnTo>
                  <a:lnTo>
                    <a:pt x="565" y="1260"/>
                  </a:lnTo>
                  <a:lnTo>
                    <a:pt x="574" y="1245"/>
                  </a:lnTo>
                  <a:lnTo>
                    <a:pt x="588" y="1230"/>
                  </a:lnTo>
                  <a:lnTo>
                    <a:pt x="597" y="1213"/>
                  </a:lnTo>
                  <a:lnTo>
                    <a:pt x="609" y="1195"/>
                  </a:lnTo>
                  <a:lnTo>
                    <a:pt x="622" y="1178"/>
                  </a:lnTo>
                  <a:lnTo>
                    <a:pt x="635" y="1161"/>
                  </a:lnTo>
                  <a:lnTo>
                    <a:pt x="649" y="1142"/>
                  </a:lnTo>
                  <a:lnTo>
                    <a:pt x="664" y="1127"/>
                  </a:lnTo>
                  <a:lnTo>
                    <a:pt x="679" y="1108"/>
                  </a:lnTo>
                  <a:lnTo>
                    <a:pt x="696" y="1093"/>
                  </a:lnTo>
                  <a:lnTo>
                    <a:pt x="711" y="1074"/>
                  </a:lnTo>
                  <a:lnTo>
                    <a:pt x="727" y="1057"/>
                  </a:lnTo>
                  <a:lnTo>
                    <a:pt x="744" y="1038"/>
                  </a:lnTo>
                  <a:lnTo>
                    <a:pt x="761" y="1021"/>
                  </a:lnTo>
                  <a:lnTo>
                    <a:pt x="778" y="1002"/>
                  </a:lnTo>
                  <a:lnTo>
                    <a:pt x="795" y="984"/>
                  </a:lnTo>
                  <a:lnTo>
                    <a:pt x="812" y="965"/>
                  </a:lnTo>
                  <a:lnTo>
                    <a:pt x="831" y="948"/>
                  </a:lnTo>
                  <a:lnTo>
                    <a:pt x="846" y="927"/>
                  </a:lnTo>
                  <a:lnTo>
                    <a:pt x="863" y="910"/>
                  </a:lnTo>
                  <a:lnTo>
                    <a:pt x="880" y="889"/>
                  </a:lnTo>
                  <a:lnTo>
                    <a:pt x="898" y="870"/>
                  </a:lnTo>
                  <a:lnTo>
                    <a:pt x="915" y="851"/>
                  </a:lnTo>
                  <a:lnTo>
                    <a:pt x="930" y="832"/>
                  </a:lnTo>
                  <a:lnTo>
                    <a:pt x="945" y="813"/>
                  </a:lnTo>
                  <a:lnTo>
                    <a:pt x="962" y="794"/>
                  </a:lnTo>
                  <a:lnTo>
                    <a:pt x="977" y="775"/>
                  </a:lnTo>
                  <a:lnTo>
                    <a:pt x="995" y="756"/>
                  </a:lnTo>
                  <a:lnTo>
                    <a:pt x="1006" y="735"/>
                  </a:lnTo>
                  <a:lnTo>
                    <a:pt x="1021" y="716"/>
                  </a:lnTo>
                  <a:lnTo>
                    <a:pt x="1034" y="695"/>
                  </a:lnTo>
                  <a:lnTo>
                    <a:pt x="1048" y="676"/>
                  </a:lnTo>
                  <a:lnTo>
                    <a:pt x="1059" y="655"/>
                  </a:lnTo>
                  <a:lnTo>
                    <a:pt x="1072" y="636"/>
                  </a:lnTo>
                  <a:lnTo>
                    <a:pt x="1080" y="616"/>
                  </a:lnTo>
                  <a:lnTo>
                    <a:pt x="1091" y="597"/>
                  </a:lnTo>
                  <a:lnTo>
                    <a:pt x="1099" y="576"/>
                  </a:lnTo>
                  <a:lnTo>
                    <a:pt x="1107" y="557"/>
                  </a:lnTo>
                  <a:lnTo>
                    <a:pt x="1112" y="536"/>
                  </a:lnTo>
                  <a:lnTo>
                    <a:pt x="1120" y="515"/>
                  </a:lnTo>
                  <a:lnTo>
                    <a:pt x="1124" y="496"/>
                  </a:lnTo>
                  <a:lnTo>
                    <a:pt x="1130" y="475"/>
                  </a:lnTo>
                  <a:lnTo>
                    <a:pt x="1130" y="454"/>
                  </a:lnTo>
                  <a:lnTo>
                    <a:pt x="1131" y="433"/>
                  </a:lnTo>
                  <a:lnTo>
                    <a:pt x="1131" y="412"/>
                  </a:lnTo>
                  <a:lnTo>
                    <a:pt x="1131" y="393"/>
                  </a:lnTo>
                  <a:lnTo>
                    <a:pt x="1128" y="372"/>
                  </a:lnTo>
                  <a:lnTo>
                    <a:pt x="1124" y="351"/>
                  </a:lnTo>
                  <a:lnTo>
                    <a:pt x="1118" y="330"/>
                  </a:lnTo>
                  <a:lnTo>
                    <a:pt x="1112" y="311"/>
                  </a:lnTo>
                  <a:lnTo>
                    <a:pt x="1103" y="289"/>
                  </a:lnTo>
                  <a:lnTo>
                    <a:pt x="1093" y="269"/>
                  </a:lnTo>
                  <a:lnTo>
                    <a:pt x="1082" y="250"/>
                  </a:lnTo>
                  <a:lnTo>
                    <a:pt x="1072" y="233"/>
                  </a:lnTo>
                  <a:lnTo>
                    <a:pt x="1063" y="214"/>
                  </a:lnTo>
                  <a:lnTo>
                    <a:pt x="1052" y="199"/>
                  </a:lnTo>
                  <a:lnTo>
                    <a:pt x="1042" y="184"/>
                  </a:lnTo>
                  <a:lnTo>
                    <a:pt x="1031" y="171"/>
                  </a:lnTo>
                  <a:lnTo>
                    <a:pt x="1017" y="155"/>
                  </a:lnTo>
                  <a:lnTo>
                    <a:pt x="1006" y="142"/>
                  </a:lnTo>
                  <a:lnTo>
                    <a:pt x="993" y="131"/>
                  </a:lnTo>
                  <a:lnTo>
                    <a:pt x="981" y="117"/>
                  </a:lnTo>
                  <a:lnTo>
                    <a:pt x="968" y="106"/>
                  </a:lnTo>
                  <a:lnTo>
                    <a:pt x="955" y="96"/>
                  </a:lnTo>
                  <a:lnTo>
                    <a:pt x="941" y="87"/>
                  </a:lnTo>
                  <a:lnTo>
                    <a:pt x="928" y="79"/>
                  </a:lnTo>
                  <a:lnTo>
                    <a:pt x="913" y="70"/>
                  </a:lnTo>
                  <a:lnTo>
                    <a:pt x="898" y="62"/>
                  </a:lnTo>
                  <a:lnTo>
                    <a:pt x="884" y="55"/>
                  </a:lnTo>
                  <a:lnTo>
                    <a:pt x="869" y="47"/>
                  </a:lnTo>
                  <a:lnTo>
                    <a:pt x="854" y="41"/>
                  </a:lnTo>
                  <a:lnTo>
                    <a:pt x="841" y="36"/>
                  </a:lnTo>
                  <a:lnTo>
                    <a:pt x="825" y="30"/>
                  </a:lnTo>
                  <a:lnTo>
                    <a:pt x="810" y="26"/>
                  </a:lnTo>
                  <a:lnTo>
                    <a:pt x="795" y="22"/>
                  </a:lnTo>
                  <a:lnTo>
                    <a:pt x="780" y="17"/>
                  </a:lnTo>
                  <a:lnTo>
                    <a:pt x="766" y="15"/>
                  </a:lnTo>
                  <a:lnTo>
                    <a:pt x="753" y="13"/>
                  </a:lnTo>
                  <a:lnTo>
                    <a:pt x="736" y="9"/>
                  </a:lnTo>
                  <a:lnTo>
                    <a:pt x="723" y="7"/>
                  </a:lnTo>
                  <a:lnTo>
                    <a:pt x="707" y="5"/>
                  </a:lnTo>
                  <a:lnTo>
                    <a:pt x="694" y="5"/>
                  </a:lnTo>
                  <a:lnTo>
                    <a:pt x="679" y="3"/>
                  </a:lnTo>
                  <a:lnTo>
                    <a:pt x="666" y="1"/>
                  </a:lnTo>
                  <a:lnTo>
                    <a:pt x="650" y="1"/>
                  </a:lnTo>
                  <a:lnTo>
                    <a:pt x="637" y="1"/>
                  </a:lnTo>
                  <a:lnTo>
                    <a:pt x="622" y="0"/>
                  </a:lnTo>
                  <a:lnTo>
                    <a:pt x="609" y="0"/>
                  </a:lnTo>
                  <a:lnTo>
                    <a:pt x="595" y="1"/>
                  </a:lnTo>
                  <a:lnTo>
                    <a:pt x="584" y="3"/>
                  </a:lnTo>
                  <a:lnTo>
                    <a:pt x="571" y="3"/>
                  </a:lnTo>
                  <a:lnTo>
                    <a:pt x="557" y="3"/>
                  </a:lnTo>
                  <a:lnTo>
                    <a:pt x="546" y="3"/>
                  </a:lnTo>
                  <a:lnTo>
                    <a:pt x="534" y="5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2" y="11"/>
                  </a:lnTo>
                  <a:lnTo>
                    <a:pt x="495" y="13"/>
                  </a:lnTo>
                  <a:lnTo>
                    <a:pt x="483" y="13"/>
                  </a:lnTo>
                  <a:lnTo>
                    <a:pt x="474" y="17"/>
                  </a:lnTo>
                  <a:lnTo>
                    <a:pt x="466" y="17"/>
                  </a:lnTo>
                  <a:lnTo>
                    <a:pt x="458" y="20"/>
                  </a:lnTo>
                  <a:lnTo>
                    <a:pt x="451" y="20"/>
                  </a:lnTo>
                  <a:lnTo>
                    <a:pt x="443" y="22"/>
                  </a:lnTo>
                  <a:lnTo>
                    <a:pt x="436" y="24"/>
                  </a:lnTo>
                  <a:lnTo>
                    <a:pt x="432" y="26"/>
                  </a:lnTo>
                  <a:lnTo>
                    <a:pt x="420" y="28"/>
                  </a:lnTo>
                  <a:lnTo>
                    <a:pt x="415" y="30"/>
                  </a:lnTo>
                  <a:lnTo>
                    <a:pt x="409" y="32"/>
                  </a:lnTo>
                  <a:lnTo>
                    <a:pt x="409" y="34"/>
                  </a:lnTo>
                  <a:lnTo>
                    <a:pt x="0" y="404"/>
                  </a:lnTo>
                  <a:lnTo>
                    <a:pt x="50" y="644"/>
                  </a:lnTo>
                  <a:lnTo>
                    <a:pt x="50" y="644"/>
                  </a:lnTo>
                  <a:close/>
                </a:path>
              </a:pathLst>
            </a:custGeom>
            <a:solidFill>
              <a:srgbClr val="b5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110320" y="474120"/>
              <a:ext cx="404280" cy="368640"/>
            </a:xfrm>
            <a:custGeom>
              <a:avLst/>
              <a:gdLst/>
              <a:ahLst/>
              <a:rect l="l" t="t" r="r" b="b"/>
              <a:pathLst>
                <a:path w="2184" h="1989">
                  <a:moveTo>
                    <a:pt x="384" y="297"/>
                  </a:moveTo>
                  <a:lnTo>
                    <a:pt x="382" y="297"/>
                  </a:lnTo>
                  <a:lnTo>
                    <a:pt x="380" y="301"/>
                  </a:lnTo>
                  <a:lnTo>
                    <a:pt x="376" y="305"/>
                  </a:lnTo>
                  <a:lnTo>
                    <a:pt x="372" y="310"/>
                  </a:lnTo>
                  <a:lnTo>
                    <a:pt x="367" y="318"/>
                  </a:lnTo>
                  <a:lnTo>
                    <a:pt x="361" y="327"/>
                  </a:lnTo>
                  <a:lnTo>
                    <a:pt x="357" y="331"/>
                  </a:lnTo>
                  <a:lnTo>
                    <a:pt x="353" y="337"/>
                  </a:lnTo>
                  <a:lnTo>
                    <a:pt x="350" y="343"/>
                  </a:lnTo>
                  <a:lnTo>
                    <a:pt x="346" y="350"/>
                  </a:lnTo>
                  <a:lnTo>
                    <a:pt x="340" y="356"/>
                  </a:lnTo>
                  <a:lnTo>
                    <a:pt x="336" y="363"/>
                  </a:lnTo>
                  <a:lnTo>
                    <a:pt x="331" y="369"/>
                  </a:lnTo>
                  <a:lnTo>
                    <a:pt x="327" y="377"/>
                  </a:lnTo>
                  <a:lnTo>
                    <a:pt x="321" y="384"/>
                  </a:lnTo>
                  <a:lnTo>
                    <a:pt x="315" y="392"/>
                  </a:lnTo>
                  <a:lnTo>
                    <a:pt x="310" y="402"/>
                  </a:lnTo>
                  <a:lnTo>
                    <a:pt x="306" y="411"/>
                  </a:lnTo>
                  <a:lnTo>
                    <a:pt x="300" y="419"/>
                  </a:lnTo>
                  <a:lnTo>
                    <a:pt x="294" y="426"/>
                  </a:lnTo>
                  <a:lnTo>
                    <a:pt x="287" y="436"/>
                  </a:lnTo>
                  <a:lnTo>
                    <a:pt x="283" y="447"/>
                  </a:lnTo>
                  <a:lnTo>
                    <a:pt x="275" y="455"/>
                  </a:lnTo>
                  <a:lnTo>
                    <a:pt x="270" y="466"/>
                  </a:lnTo>
                  <a:lnTo>
                    <a:pt x="264" y="476"/>
                  </a:lnTo>
                  <a:lnTo>
                    <a:pt x="258" y="487"/>
                  </a:lnTo>
                  <a:lnTo>
                    <a:pt x="251" y="497"/>
                  </a:lnTo>
                  <a:lnTo>
                    <a:pt x="245" y="508"/>
                  </a:lnTo>
                  <a:lnTo>
                    <a:pt x="237" y="517"/>
                  </a:lnTo>
                  <a:lnTo>
                    <a:pt x="232" y="529"/>
                  </a:lnTo>
                  <a:lnTo>
                    <a:pt x="224" y="538"/>
                  </a:lnTo>
                  <a:lnTo>
                    <a:pt x="218" y="550"/>
                  </a:lnTo>
                  <a:lnTo>
                    <a:pt x="211" y="561"/>
                  </a:lnTo>
                  <a:lnTo>
                    <a:pt x="205" y="575"/>
                  </a:lnTo>
                  <a:lnTo>
                    <a:pt x="196" y="584"/>
                  </a:lnTo>
                  <a:lnTo>
                    <a:pt x="190" y="595"/>
                  </a:lnTo>
                  <a:lnTo>
                    <a:pt x="182" y="609"/>
                  </a:lnTo>
                  <a:lnTo>
                    <a:pt x="178" y="620"/>
                  </a:lnTo>
                  <a:lnTo>
                    <a:pt x="171" y="632"/>
                  </a:lnTo>
                  <a:lnTo>
                    <a:pt x="163" y="645"/>
                  </a:lnTo>
                  <a:lnTo>
                    <a:pt x="156" y="656"/>
                  </a:lnTo>
                  <a:lnTo>
                    <a:pt x="152" y="668"/>
                  </a:lnTo>
                  <a:lnTo>
                    <a:pt x="144" y="679"/>
                  </a:lnTo>
                  <a:lnTo>
                    <a:pt x="137" y="692"/>
                  </a:lnTo>
                  <a:lnTo>
                    <a:pt x="131" y="704"/>
                  </a:lnTo>
                  <a:lnTo>
                    <a:pt x="123" y="715"/>
                  </a:lnTo>
                  <a:lnTo>
                    <a:pt x="118" y="729"/>
                  </a:lnTo>
                  <a:lnTo>
                    <a:pt x="112" y="740"/>
                  </a:lnTo>
                  <a:lnTo>
                    <a:pt x="104" y="751"/>
                  </a:lnTo>
                  <a:lnTo>
                    <a:pt x="101" y="763"/>
                  </a:lnTo>
                  <a:lnTo>
                    <a:pt x="93" y="774"/>
                  </a:lnTo>
                  <a:lnTo>
                    <a:pt x="87" y="786"/>
                  </a:lnTo>
                  <a:lnTo>
                    <a:pt x="82" y="799"/>
                  </a:lnTo>
                  <a:lnTo>
                    <a:pt x="76" y="810"/>
                  </a:lnTo>
                  <a:lnTo>
                    <a:pt x="70" y="820"/>
                  </a:lnTo>
                  <a:lnTo>
                    <a:pt x="64" y="833"/>
                  </a:lnTo>
                  <a:lnTo>
                    <a:pt x="61" y="845"/>
                  </a:lnTo>
                  <a:lnTo>
                    <a:pt x="57" y="856"/>
                  </a:lnTo>
                  <a:lnTo>
                    <a:pt x="51" y="867"/>
                  </a:lnTo>
                  <a:lnTo>
                    <a:pt x="47" y="877"/>
                  </a:lnTo>
                  <a:lnTo>
                    <a:pt x="43" y="890"/>
                  </a:lnTo>
                  <a:lnTo>
                    <a:pt x="40" y="902"/>
                  </a:lnTo>
                  <a:lnTo>
                    <a:pt x="34" y="913"/>
                  </a:lnTo>
                  <a:lnTo>
                    <a:pt x="30" y="926"/>
                  </a:lnTo>
                  <a:lnTo>
                    <a:pt x="26" y="938"/>
                  </a:lnTo>
                  <a:lnTo>
                    <a:pt x="24" y="951"/>
                  </a:lnTo>
                  <a:lnTo>
                    <a:pt x="21" y="962"/>
                  </a:lnTo>
                  <a:lnTo>
                    <a:pt x="17" y="974"/>
                  </a:lnTo>
                  <a:lnTo>
                    <a:pt x="13" y="987"/>
                  </a:lnTo>
                  <a:lnTo>
                    <a:pt x="13" y="1000"/>
                  </a:lnTo>
                  <a:lnTo>
                    <a:pt x="9" y="1014"/>
                  </a:lnTo>
                  <a:lnTo>
                    <a:pt x="7" y="1029"/>
                  </a:lnTo>
                  <a:lnTo>
                    <a:pt x="5" y="1042"/>
                  </a:lnTo>
                  <a:lnTo>
                    <a:pt x="5" y="1057"/>
                  </a:lnTo>
                  <a:lnTo>
                    <a:pt x="4" y="1071"/>
                  </a:lnTo>
                  <a:lnTo>
                    <a:pt x="2" y="1084"/>
                  </a:lnTo>
                  <a:lnTo>
                    <a:pt x="2" y="1097"/>
                  </a:lnTo>
                  <a:lnTo>
                    <a:pt x="2" y="1113"/>
                  </a:lnTo>
                  <a:lnTo>
                    <a:pt x="0" y="1126"/>
                  </a:lnTo>
                  <a:lnTo>
                    <a:pt x="0" y="1141"/>
                  </a:lnTo>
                  <a:lnTo>
                    <a:pt x="0" y="1154"/>
                  </a:lnTo>
                  <a:lnTo>
                    <a:pt x="2" y="1172"/>
                  </a:lnTo>
                  <a:lnTo>
                    <a:pt x="2" y="1185"/>
                  </a:lnTo>
                  <a:lnTo>
                    <a:pt x="4" y="1200"/>
                  </a:lnTo>
                  <a:lnTo>
                    <a:pt x="4" y="1215"/>
                  </a:lnTo>
                  <a:lnTo>
                    <a:pt x="5" y="1231"/>
                  </a:lnTo>
                  <a:lnTo>
                    <a:pt x="7" y="1246"/>
                  </a:lnTo>
                  <a:lnTo>
                    <a:pt x="9" y="1261"/>
                  </a:lnTo>
                  <a:lnTo>
                    <a:pt x="11" y="1274"/>
                  </a:lnTo>
                  <a:lnTo>
                    <a:pt x="15" y="1291"/>
                  </a:lnTo>
                  <a:lnTo>
                    <a:pt x="17" y="1305"/>
                  </a:lnTo>
                  <a:lnTo>
                    <a:pt x="19" y="1320"/>
                  </a:lnTo>
                  <a:lnTo>
                    <a:pt x="21" y="1335"/>
                  </a:lnTo>
                  <a:lnTo>
                    <a:pt x="26" y="1350"/>
                  </a:lnTo>
                  <a:lnTo>
                    <a:pt x="28" y="1366"/>
                  </a:lnTo>
                  <a:lnTo>
                    <a:pt x="32" y="1379"/>
                  </a:lnTo>
                  <a:lnTo>
                    <a:pt x="36" y="1394"/>
                  </a:lnTo>
                  <a:lnTo>
                    <a:pt x="42" y="1409"/>
                  </a:lnTo>
                  <a:lnTo>
                    <a:pt x="45" y="1424"/>
                  </a:lnTo>
                  <a:lnTo>
                    <a:pt x="49" y="1440"/>
                  </a:lnTo>
                  <a:lnTo>
                    <a:pt x="55" y="1453"/>
                  </a:lnTo>
                  <a:lnTo>
                    <a:pt x="61" y="1468"/>
                  </a:lnTo>
                  <a:lnTo>
                    <a:pt x="64" y="1483"/>
                  </a:lnTo>
                  <a:lnTo>
                    <a:pt x="70" y="1497"/>
                  </a:lnTo>
                  <a:lnTo>
                    <a:pt x="76" y="1512"/>
                  </a:lnTo>
                  <a:lnTo>
                    <a:pt x="83" y="1529"/>
                  </a:lnTo>
                  <a:lnTo>
                    <a:pt x="89" y="1540"/>
                  </a:lnTo>
                  <a:lnTo>
                    <a:pt x="95" y="1556"/>
                  </a:lnTo>
                  <a:lnTo>
                    <a:pt x="102" y="1571"/>
                  </a:lnTo>
                  <a:lnTo>
                    <a:pt x="110" y="1586"/>
                  </a:lnTo>
                  <a:lnTo>
                    <a:pt x="118" y="1599"/>
                  </a:lnTo>
                  <a:lnTo>
                    <a:pt x="125" y="1613"/>
                  </a:lnTo>
                  <a:lnTo>
                    <a:pt x="133" y="1626"/>
                  </a:lnTo>
                  <a:lnTo>
                    <a:pt x="140" y="1641"/>
                  </a:lnTo>
                  <a:lnTo>
                    <a:pt x="148" y="1653"/>
                  </a:lnTo>
                  <a:lnTo>
                    <a:pt x="156" y="1668"/>
                  </a:lnTo>
                  <a:lnTo>
                    <a:pt x="165" y="1679"/>
                  </a:lnTo>
                  <a:lnTo>
                    <a:pt x="175" y="1694"/>
                  </a:lnTo>
                  <a:lnTo>
                    <a:pt x="182" y="1706"/>
                  </a:lnTo>
                  <a:lnTo>
                    <a:pt x="194" y="1719"/>
                  </a:lnTo>
                  <a:lnTo>
                    <a:pt x="203" y="1732"/>
                  </a:lnTo>
                  <a:lnTo>
                    <a:pt x="215" y="1746"/>
                  </a:lnTo>
                  <a:lnTo>
                    <a:pt x="224" y="1757"/>
                  </a:lnTo>
                  <a:lnTo>
                    <a:pt x="235" y="1769"/>
                  </a:lnTo>
                  <a:lnTo>
                    <a:pt x="247" y="1778"/>
                  </a:lnTo>
                  <a:lnTo>
                    <a:pt x="260" y="1790"/>
                  </a:lnTo>
                  <a:lnTo>
                    <a:pt x="272" y="1799"/>
                  </a:lnTo>
                  <a:lnTo>
                    <a:pt x="287" y="1810"/>
                  </a:lnTo>
                  <a:lnTo>
                    <a:pt x="300" y="1820"/>
                  </a:lnTo>
                  <a:lnTo>
                    <a:pt x="315" y="1831"/>
                  </a:lnTo>
                  <a:lnTo>
                    <a:pt x="331" y="1839"/>
                  </a:lnTo>
                  <a:lnTo>
                    <a:pt x="346" y="1847"/>
                  </a:lnTo>
                  <a:lnTo>
                    <a:pt x="363" y="1854"/>
                  </a:lnTo>
                  <a:lnTo>
                    <a:pt x="380" y="1864"/>
                  </a:lnTo>
                  <a:lnTo>
                    <a:pt x="397" y="1871"/>
                  </a:lnTo>
                  <a:lnTo>
                    <a:pt x="414" y="1879"/>
                  </a:lnTo>
                  <a:lnTo>
                    <a:pt x="431" y="1886"/>
                  </a:lnTo>
                  <a:lnTo>
                    <a:pt x="452" y="1894"/>
                  </a:lnTo>
                  <a:lnTo>
                    <a:pt x="469" y="1900"/>
                  </a:lnTo>
                  <a:lnTo>
                    <a:pt x="488" y="1906"/>
                  </a:lnTo>
                  <a:lnTo>
                    <a:pt x="507" y="1911"/>
                  </a:lnTo>
                  <a:lnTo>
                    <a:pt x="526" y="1917"/>
                  </a:lnTo>
                  <a:lnTo>
                    <a:pt x="545" y="1921"/>
                  </a:lnTo>
                  <a:lnTo>
                    <a:pt x="566" y="1926"/>
                  </a:lnTo>
                  <a:lnTo>
                    <a:pt x="585" y="1932"/>
                  </a:lnTo>
                  <a:lnTo>
                    <a:pt x="606" y="1938"/>
                  </a:lnTo>
                  <a:lnTo>
                    <a:pt x="625" y="1942"/>
                  </a:lnTo>
                  <a:lnTo>
                    <a:pt x="646" y="1945"/>
                  </a:lnTo>
                  <a:lnTo>
                    <a:pt x="665" y="1949"/>
                  </a:lnTo>
                  <a:lnTo>
                    <a:pt x="686" y="1953"/>
                  </a:lnTo>
                  <a:lnTo>
                    <a:pt x="705" y="1955"/>
                  </a:lnTo>
                  <a:lnTo>
                    <a:pt x="724" y="1959"/>
                  </a:lnTo>
                  <a:lnTo>
                    <a:pt x="745" y="1963"/>
                  </a:lnTo>
                  <a:lnTo>
                    <a:pt x="766" y="1966"/>
                  </a:lnTo>
                  <a:lnTo>
                    <a:pt x="785" y="1968"/>
                  </a:lnTo>
                  <a:lnTo>
                    <a:pt x="804" y="1970"/>
                  </a:lnTo>
                  <a:lnTo>
                    <a:pt x="821" y="1972"/>
                  </a:lnTo>
                  <a:lnTo>
                    <a:pt x="842" y="1974"/>
                  </a:lnTo>
                  <a:lnTo>
                    <a:pt x="859" y="1976"/>
                  </a:lnTo>
                  <a:lnTo>
                    <a:pt x="878" y="1976"/>
                  </a:lnTo>
                  <a:lnTo>
                    <a:pt x="895" y="1978"/>
                  </a:lnTo>
                  <a:lnTo>
                    <a:pt x="912" y="1982"/>
                  </a:lnTo>
                  <a:lnTo>
                    <a:pt x="929" y="1982"/>
                  </a:lnTo>
                  <a:lnTo>
                    <a:pt x="946" y="1982"/>
                  </a:lnTo>
                  <a:lnTo>
                    <a:pt x="962" y="1982"/>
                  </a:lnTo>
                  <a:lnTo>
                    <a:pt x="979" y="1983"/>
                  </a:lnTo>
                  <a:lnTo>
                    <a:pt x="994" y="1983"/>
                  </a:lnTo>
                  <a:lnTo>
                    <a:pt x="1009" y="1985"/>
                  </a:lnTo>
                  <a:lnTo>
                    <a:pt x="1023" y="1985"/>
                  </a:lnTo>
                  <a:lnTo>
                    <a:pt x="1038" y="1987"/>
                  </a:lnTo>
                  <a:lnTo>
                    <a:pt x="1049" y="1987"/>
                  </a:lnTo>
                  <a:lnTo>
                    <a:pt x="1061" y="1987"/>
                  </a:lnTo>
                  <a:lnTo>
                    <a:pt x="1074" y="1987"/>
                  </a:lnTo>
                  <a:lnTo>
                    <a:pt x="1085" y="1987"/>
                  </a:lnTo>
                  <a:lnTo>
                    <a:pt x="1095" y="1987"/>
                  </a:lnTo>
                  <a:lnTo>
                    <a:pt x="1104" y="1987"/>
                  </a:lnTo>
                  <a:lnTo>
                    <a:pt x="1114" y="1987"/>
                  </a:lnTo>
                  <a:lnTo>
                    <a:pt x="1123" y="1989"/>
                  </a:lnTo>
                  <a:lnTo>
                    <a:pt x="1129" y="1989"/>
                  </a:lnTo>
                  <a:lnTo>
                    <a:pt x="1135" y="1989"/>
                  </a:lnTo>
                  <a:lnTo>
                    <a:pt x="1140" y="1989"/>
                  </a:lnTo>
                  <a:lnTo>
                    <a:pt x="1146" y="1989"/>
                  </a:lnTo>
                  <a:lnTo>
                    <a:pt x="1154" y="1989"/>
                  </a:lnTo>
                  <a:lnTo>
                    <a:pt x="1156" y="1989"/>
                  </a:lnTo>
                  <a:lnTo>
                    <a:pt x="1798" y="1972"/>
                  </a:lnTo>
                  <a:lnTo>
                    <a:pt x="1798" y="1970"/>
                  </a:lnTo>
                  <a:lnTo>
                    <a:pt x="1802" y="1964"/>
                  </a:lnTo>
                  <a:lnTo>
                    <a:pt x="1808" y="1957"/>
                  </a:lnTo>
                  <a:lnTo>
                    <a:pt x="1817" y="1945"/>
                  </a:lnTo>
                  <a:lnTo>
                    <a:pt x="1821" y="1938"/>
                  </a:lnTo>
                  <a:lnTo>
                    <a:pt x="1827" y="1930"/>
                  </a:lnTo>
                  <a:lnTo>
                    <a:pt x="1830" y="1923"/>
                  </a:lnTo>
                  <a:lnTo>
                    <a:pt x="1838" y="1915"/>
                  </a:lnTo>
                  <a:lnTo>
                    <a:pt x="1844" y="1904"/>
                  </a:lnTo>
                  <a:lnTo>
                    <a:pt x="1851" y="1892"/>
                  </a:lnTo>
                  <a:lnTo>
                    <a:pt x="1859" y="1883"/>
                  </a:lnTo>
                  <a:lnTo>
                    <a:pt x="1867" y="1871"/>
                  </a:lnTo>
                  <a:lnTo>
                    <a:pt x="1874" y="1858"/>
                  </a:lnTo>
                  <a:lnTo>
                    <a:pt x="1884" y="1845"/>
                  </a:lnTo>
                  <a:lnTo>
                    <a:pt x="1891" y="1831"/>
                  </a:lnTo>
                  <a:lnTo>
                    <a:pt x="1901" y="1818"/>
                  </a:lnTo>
                  <a:lnTo>
                    <a:pt x="1908" y="1803"/>
                  </a:lnTo>
                  <a:lnTo>
                    <a:pt x="1918" y="1788"/>
                  </a:lnTo>
                  <a:lnTo>
                    <a:pt x="1927" y="1772"/>
                  </a:lnTo>
                  <a:lnTo>
                    <a:pt x="1937" y="1757"/>
                  </a:lnTo>
                  <a:lnTo>
                    <a:pt x="1945" y="1740"/>
                  </a:lnTo>
                  <a:lnTo>
                    <a:pt x="1956" y="1723"/>
                  </a:lnTo>
                  <a:lnTo>
                    <a:pt x="1965" y="1704"/>
                  </a:lnTo>
                  <a:lnTo>
                    <a:pt x="1975" y="1687"/>
                  </a:lnTo>
                  <a:lnTo>
                    <a:pt x="1984" y="1670"/>
                  </a:lnTo>
                  <a:lnTo>
                    <a:pt x="1996" y="1651"/>
                  </a:lnTo>
                  <a:lnTo>
                    <a:pt x="2005" y="1630"/>
                  </a:lnTo>
                  <a:lnTo>
                    <a:pt x="2017" y="1611"/>
                  </a:lnTo>
                  <a:lnTo>
                    <a:pt x="2024" y="1590"/>
                  </a:lnTo>
                  <a:lnTo>
                    <a:pt x="2036" y="1571"/>
                  </a:lnTo>
                  <a:lnTo>
                    <a:pt x="2043" y="1550"/>
                  </a:lnTo>
                  <a:lnTo>
                    <a:pt x="2053" y="1529"/>
                  </a:lnTo>
                  <a:lnTo>
                    <a:pt x="2062" y="1506"/>
                  </a:lnTo>
                  <a:lnTo>
                    <a:pt x="2072" y="1485"/>
                  </a:lnTo>
                  <a:lnTo>
                    <a:pt x="2079" y="1462"/>
                  </a:lnTo>
                  <a:lnTo>
                    <a:pt x="2091" y="1442"/>
                  </a:lnTo>
                  <a:lnTo>
                    <a:pt x="2099" y="1419"/>
                  </a:lnTo>
                  <a:lnTo>
                    <a:pt x="2106" y="1396"/>
                  </a:lnTo>
                  <a:lnTo>
                    <a:pt x="2114" y="1375"/>
                  </a:lnTo>
                  <a:lnTo>
                    <a:pt x="2123" y="1352"/>
                  </a:lnTo>
                  <a:lnTo>
                    <a:pt x="2129" y="1327"/>
                  </a:lnTo>
                  <a:lnTo>
                    <a:pt x="2137" y="1305"/>
                  </a:lnTo>
                  <a:lnTo>
                    <a:pt x="2144" y="1282"/>
                  </a:lnTo>
                  <a:lnTo>
                    <a:pt x="2150" y="1259"/>
                  </a:lnTo>
                  <a:lnTo>
                    <a:pt x="2156" y="1234"/>
                  </a:lnTo>
                  <a:lnTo>
                    <a:pt x="2161" y="1211"/>
                  </a:lnTo>
                  <a:lnTo>
                    <a:pt x="2165" y="1187"/>
                  </a:lnTo>
                  <a:lnTo>
                    <a:pt x="2171" y="1164"/>
                  </a:lnTo>
                  <a:lnTo>
                    <a:pt x="2173" y="1139"/>
                  </a:lnTo>
                  <a:lnTo>
                    <a:pt x="2176" y="1115"/>
                  </a:lnTo>
                  <a:lnTo>
                    <a:pt x="2180" y="1092"/>
                  </a:lnTo>
                  <a:lnTo>
                    <a:pt x="2182" y="1067"/>
                  </a:lnTo>
                  <a:lnTo>
                    <a:pt x="2182" y="1044"/>
                  </a:lnTo>
                  <a:lnTo>
                    <a:pt x="2184" y="1019"/>
                  </a:lnTo>
                  <a:lnTo>
                    <a:pt x="2184" y="997"/>
                  </a:lnTo>
                  <a:lnTo>
                    <a:pt x="2184" y="972"/>
                  </a:lnTo>
                  <a:lnTo>
                    <a:pt x="2182" y="947"/>
                  </a:lnTo>
                  <a:lnTo>
                    <a:pt x="2180" y="924"/>
                  </a:lnTo>
                  <a:lnTo>
                    <a:pt x="2178" y="900"/>
                  </a:lnTo>
                  <a:lnTo>
                    <a:pt x="2176" y="877"/>
                  </a:lnTo>
                  <a:lnTo>
                    <a:pt x="2171" y="854"/>
                  </a:lnTo>
                  <a:lnTo>
                    <a:pt x="2167" y="829"/>
                  </a:lnTo>
                  <a:lnTo>
                    <a:pt x="2163" y="806"/>
                  </a:lnTo>
                  <a:lnTo>
                    <a:pt x="2159" y="786"/>
                  </a:lnTo>
                  <a:lnTo>
                    <a:pt x="2156" y="761"/>
                  </a:lnTo>
                  <a:lnTo>
                    <a:pt x="2152" y="740"/>
                  </a:lnTo>
                  <a:lnTo>
                    <a:pt x="2148" y="717"/>
                  </a:lnTo>
                  <a:lnTo>
                    <a:pt x="2144" y="696"/>
                  </a:lnTo>
                  <a:lnTo>
                    <a:pt x="2138" y="673"/>
                  </a:lnTo>
                  <a:lnTo>
                    <a:pt x="2133" y="652"/>
                  </a:lnTo>
                  <a:lnTo>
                    <a:pt x="2127" y="632"/>
                  </a:lnTo>
                  <a:lnTo>
                    <a:pt x="2123" y="611"/>
                  </a:lnTo>
                  <a:lnTo>
                    <a:pt x="2116" y="590"/>
                  </a:lnTo>
                  <a:lnTo>
                    <a:pt x="2110" y="569"/>
                  </a:lnTo>
                  <a:lnTo>
                    <a:pt x="2106" y="550"/>
                  </a:lnTo>
                  <a:lnTo>
                    <a:pt x="2100" y="531"/>
                  </a:lnTo>
                  <a:lnTo>
                    <a:pt x="2093" y="512"/>
                  </a:lnTo>
                  <a:lnTo>
                    <a:pt x="2085" y="491"/>
                  </a:lnTo>
                  <a:lnTo>
                    <a:pt x="2078" y="474"/>
                  </a:lnTo>
                  <a:lnTo>
                    <a:pt x="2070" y="455"/>
                  </a:lnTo>
                  <a:lnTo>
                    <a:pt x="2062" y="436"/>
                  </a:lnTo>
                  <a:lnTo>
                    <a:pt x="2053" y="419"/>
                  </a:lnTo>
                  <a:lnTo>
                    <a:pt x="2043" y="402"/>
                  </a:lnTo>
                  <a:lnTo>
                    <a:pt x="2036" y="384"/>
                  </a:lnTo>
                  <a:lnTo>
                    <a:pt x="2026" y="367"/>
                  </a:lnTo>
                  <a:lnTo>
                    <a:pt x="2015" y="350"/>
                  </a:lnTo>
                  <a:lnTo>
                    <a:pt x="2005" y="335"/>
                  </a:lnTo>
                  <a:lnTo>
                    <a:pt x="1996" y="320"/>
                  </a:lnTo>
                  <a:lnTo>
                    <a:pt x="1983" y="303"/>
                  </a:lnTo>
                  <a:lnTo>
                    <a:pt x="1969" y="289"/>
                  </a:lnTo>
                  <a:lnTo>
                    <a:pt x="1958" y="274"/>
                  </a:lnTo>
                  <a:lnTo>
                    <a:pt x="1946" y="261"/>
                  </a:lnTo>
                  <a:lnTo>
                    <a:pt x="1931" y="244"/>
                  </a:lnTo>
                  <a:lnTo>
                    <a:pt x="1918" y="232"/>
                  </a:lnTo>
                  <a:lnTo>
                    <a:pt x="1901" y="217"/>
                  </a:lnTo>
                  <a:lnTo>
                    <a:pt x="1886" y="206"/>
                  </a:lnTo>
                  <a:lnTo>
                    <a:pt x="1868" y="192"/>
                  </a:lnTo>
                  <a:lnTo>
                    <a:pt x="1851" y="179"/>
                  </a:lnTo>
                  <a:lnTo>
                    <a:pt x="1834" y="166"/>
                  </a:lnTo>
                  <a:lnTo>
                    <a:pt x="1817" y="156"/>
                  </a:lnTo>
                  <a:lnTo>
                    <a:pt x="1796" y="143"/>
                  </a:lnTo>
                  <a:lnTo>
                    <a:pt x="1777" y="132"/>
                  </a:lnTo>
                  <a:lnTo>
                    <a:pt x="1756" y="122"/>
                  </a:lnTo>
                  <a:lnTo>
                    <a:pt x="1735" y="112"/>
                  </a:lnTo>
                  <a:lnTo>
                    <a:pt x="1713" y="103"/>
                  </a:lnTo>
                  <a:lnTo>
                    <a:pt x="1692" y="93"/>
                  </a:lnTo>
                  <a:lnTo>
                    <a:pt x="1667" y="86"/>
                  </a:lnTo>
                  <a:lnTo>
                    <a:pt x="1642" y="78"/>
                  </a:lnTo>
                  <a:lnTo>
                    <a:pt x="1616" y="69"/>
                  </a:lnTo>
                  <a:lnTo>
                    <a:pt x="1591" y="59"/>
                  </a:lnTo>
                  <a:lnTo>
                    <a:pt x="1564" y="54"/>
                  </a:lnTo>
                  <a:lnTo>
                    <a:pt x="1536" y="48"/>
                  </a:lnTo>
                  <a:lnTo>
                    <a:pt x="1507" y="40"/>
                  </a:lnTo>
                  <a:lnTo>
                    <a:pt x="1477" y="35"/>
                  </a:lnTo>
                  <a:lnTo>
                    <a:pt x="1446" y="29"/>
                  </a:lnTo>
                  <a:lnTo>
                    <a:pt x="1416" y="25"/>
                  </a:lnTo>
                  <a:lnTo>
                    <a:pt x="1380" y="21"/>
                  </a:lnTo>
                  <a:lnTo>
                    <a:pt x="1348" y="16"/>
                  </a:lnTo>
                  <a:lnTo>
                    <a:pt x="1311" y="12"/>
                  </a:lnTo>
                  <a:lnTo>
                    <a:pt x="1277" y="10"/>
                  </a:lnTo>
                  <a:lnTo>
                    <a:pt x="1241" y="6"/>
                  </a:lnTo>
                  <a:lnTo>
                    <a:pt x="1203" y="4"/>
                  </a:lnTo>
                  <a:lnTo>
                    <a:pt x="1163" y="2"/>
                  </a:lnTo>
                  <a:lnTo>
                    <a:pt x="1125" y="2"/>
                  </a:lnTo>
                  <a:lnTo>
                    <a:pt x="1083" y="2"/>
                  </a:lnTo>
                  <a:lnTo>
                    <a:pt x="1045" y="0"/>
                  </a:lnTo>
                  <a:lnTo>
                    <a:pt x="1007" y="0"/>
                  </a:lnTo>
                  <a:lnTo>
                    <a:pt x="973" y="2"/>
                  </a:lnTo>
                  <a:lnTo>
                    <a:pt x="937" y="2"/>
                  </a:lnTo>
                  <a:lnTo>
                    <a:pt x="905" y="2"/>
                  </a:lnTo>
                  <a:lnTo>
                    <a:pt x="872" y="4"/>
                  </a:lnTo>
                  <a:lnTo>
                    <a:pt x="844" y="8"/>
                  </a:lnTo>
                  <a:lnTo>
                    <a:pt x="812" y="10"/>
                  </a:lnTo>
                  <a:lnTo>
                    <a:pt x="785" y="12"/>
                  </a:lnTo>
                  <a:lnTo>
                    <a:pt x="756" y="16"/>
                  </a:lnTo>
                  <a:lnTo>
                    <a:pt x="734" y="21"/>
                  </a:lnTo>
                  <a:lnTo>
                    <a:pt x="707" y="25"/>
                  </a:lnTo>
                  <a:lnTo>
                    <a:pt x="686" y="29"/>
                  </a:lnTo>
                  <a:lnTo>
                    <a:pt x="661" y="33"/>
                  </a:lnTo>
                  <a:lnTo>
                    <a:pt x="642" y="38"/>
                  </a:lnTo>
                  <a:lnTo>
                    <a:pt x="620" y="42"/>
                  </a:lnTo>
                  <a:lnTo>
                    <a:pt x="602" y="48"/>
                  </a:lnTo>
                  <a:lnTo>
                    <a:pt x="581" y="54"/>
                  </a:lnTo>
                  <a:lnTo>
                    <a:pt x="566" y="59"/>
                  </a:lnTo>
                  <a:lnTo>
                    <a:pt x="549" y="65"/>
                  </a:lnTo>
                  <a:lnTo>
                    <a:pt x="534" y="73"/>
                  </a:lnTo>
                  <a:lnTo>
                    <a:pt x="519" y="78"/>
                  </a:lnTo>
                  <a:lnTo>
                    <a:pt x="507" y="86"/>
                  </a:lnTo>
                  <a:lnTo>
                    <a:pt x="494" y="92"/>
                  </a:lnTo>
                  <a:lnTo>
                    <a:pt x="483" y="99"/>
                  </a:lnTo>
                  <a:lnTo>
                    <a:pt x="471" y="105"/>
                  </a:lnTo>
                  <a:lnTo>
                    <a:pt x="462" y="112"/>
                  </a:lnTo>
                  <a:lnTo>
                    <a:pt x="450" y="120"/>
                  </a:lnTo>
                  <a:lnTo>
                    <a:pt x="443" y="126"/>
                  </a:lnTo>
                  <a:lnTo>
                    <a:pt x="435" y="135"/>
                  </a:lnTo>
                  <a:lnTo>
                    <a:pt x="427" y="143"/>
                  </a:lnTo>
                  <a:lnTo>
                    <a:pt x="420" y="149"/>
                  </a:lnTo>
                  <a:lnTo>
                    <a:pt x="414" y="156"/>
                  </a:lnTo>
                  <a:lnTo>
                    <a:pt x="407" y="162"/>
                  </a:lnTo>
                  <a:lnTo>
                    <a:pt x="403" y="170"/>
                  </a:lnTo>
                  <a:lnTo>
                    <a:pt x="397" y="175"/>
                  </a:lnTo>
                  <a:lnTo>
                    <a:pt x="393" y="183"/>
                  </a:lnTo>
                  <a:lnTo>
                    <a:pt x="391" y="189"/>
                  </a:lnTo>
                  <a:lnTo>
                    <a:pt x="388" y="196"/>
                  </a:lnTo>
                  <a:lnTo>
                    <a:pt x="382" y="209"/>
                  </a:lnTo>
                  <a:lnTo>
                    <a:pt x="380" y="223"/>
                  </a:lnTo>
                  <a:lnTo>
                    <a:pt x="376" y="236"/>
                  </a:lnTo>
                  <a:lnTo>
                    <a:pt x="376" y="247"/>
                  </a:lnTo>
                  <a:lnTo>
                    <a:pt x="376" y="257"/>
                  </a:lnTo>
                  <a:lnTo>
                    <a:pt x="376" y="267"/>
                  </a:lnTo>
                  <a:lnTo>
                    <a:pt x="376" y="276"/>
                  </a:lnTo>
                  <a:lnTo>
                    <a:pt x="380" y="284"/>
                  </a:lnTo>
                  <a:lnTo>
                    <a:pt x="380" y="293"/>
                  </a:lnTo>
                  <a:lnTo>
                    <a:pt x="384" y="297"/>
                  </a:lnTo>
                  <a:lnTo>
                    <a:pt x="384" y="297"/>
                  </a:lnTo>
                  <a:close/>
                </a:path>
              </a:pathLst>
            </a:custGeom>
            <a:solidFill>
              <a:srgbClr val="fff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363040" y="551160"/>
              <a:ext cx="112320" cy="260280"/>
            </a:xfrm>
            <a:custGeom>
              <a:avLst/>
              <a:gdLst/>
              <a:ahLst/>
              <a:rect l="l" t="t" r="r" b="b"/>
              <a:pathLst>
                <a:path w="604" h="1405">
                  <a:moveTo>
                    <a:pt x="465" y="68"/>
                  </a:moveTo>
                  <a:lnTo>
                    <a:pt x="463" y="70"/>
                  </a:lnTo>
                  <a:lnTo>
                    <a:pt x="462" y="78"/>
                  </a:lnTo>
                  <a:lnTo>
                    <a:pt x="458" y="81"/>
                  </a:lnTo>
                  <a:lnTo>
                    <a:pt x="456" y="91"/>
                  </a:lnTo>
                  <a:lnTo>
                    <a:pt x="454" y="99"/>
                  </a:lnTo>
                  <a:lnTo>
                    <a:pt x="450" y="110"/>
                  </a:lnTo>
                  <a:lnTo>
                    <a:pt x="446" y="121"/>
                  </a:lnTo>
                  <a:lnTo>
                    <a:pt x="443" y="135"/>
                  </a:lnTo>
                  <a:lnTo>
                    <a:pt x="441" y="140"/>
                  </a:lnTo>
                  <a:lnTo>
                    <a:pt x="439" y="146"/>
                  </a:lnTo>
                  <a:lnTo>
                    <a:pt x="435" y="154"/>
                  </a:lnTo>
                  <a:lnTo>
                    <a:pt x="435" y="161"/>
                  </a:lnTo>
                  <a:lnTo>
                    <a:pt x="431" y="169"/>
                  </a:lnTo>
                  <a:lnTo>
                    <a:pt x="429" y="177"/>
                  </a:lnTo>
                  <a:lnTo>
                    <a:pt x="427" y="184"/>
                  </a:lnTo>
                  <a:lnTo>
                    <a:pt x="425" y="194"/>
                  </a:lnTo>
                  <a:lnTo>
                    <a:pt x="422" y="201"/>
                  </a:lnTo>
                  <a:lnTo>
                    <a:pt x="420" y="211"/>
                  </a:lnTo>
                  <a:lnTo>
                    <a:pt x="418" y="218"/>
                  </a:lnTo>
                  <a:lnTo>
                    <a:pt x="416" y="230"/>
                  </a:lnTo>
                  <a:lnTo>
                    <a:pt x="412" y="237"/>
                  </a:lnTo>
                  <a:lnTo>
                    <a:pt x="410" y="247"/>
                  </a:lnTo>
                  <a:lnTo>
                    <a:pt x="406" y="256"/>
                  </a:lnTo>
                  <a:lnTo>
                    <a:pt x="405" y="268"/>
                  </a:lnTo>
                  <a:lnTo>
                    <a:pt x="403" y="277"/>
                  </a:lnTo>
                  <a:lnTo>
                    <a:pt x="401" y="289"/>
                  </a:lnTo>
                  <a:lnTo>
                    <a:pt x="397" y="298"/>
                  </a:lnTo>
                  <a:lnTo>
                    <a:pt x="397" y="312"/>
                  </a:lnTo>
                  <a:lnTo>
                    <a:pt x="391" y="321"/>
                  </a:lnTo>
                  <a:lnTo>
                    <a:pt x="391" y="332"/>
                  </a:lnTo>
                  <a:lnTo>
                    <a:pt x="387" y="342"/>
                  </a:lnTo>
                  <a:lnTo>
                    <a:pt x="387" y="355"/>
                  </a:lnTo>
                  <a:lnTo>
                    <a:pt x="384" y="367"/>
                  </a:lnTo>
                  <a:lnTo>
                    <a:pt x="384" y="378"/>
                  </a:lnTo>
                  <a:lnTo>
                    <a:pt x="380" y="389"/>
                  </a:lnTo>
                  <a:lnTo>
                    <a:pt x="378" y="403"/>
                  </a:lnTo>
                  <a:lnTo>
                    <a:pt x="374" y="416"/>
                  </a:lnTo>
                  <a:lnTo>
                    <a:pt x="374" y="428"/>
                  </a:lnTo>
                  <a:lnTo>
                    <a:pt x="370" y="439"/>
                  </a:lnTo>
                  <a:lnTo>
                    <a:pt x="370" y="452"/>
                  </a:lnTo>
                  <a:lnTo>
                    <a:pt x="366" y="466"/>
                  </a:lnTo>
                  <a:lnTo>
                    <a:pt x="366" y="479"/>
                  </a:lnTo>
                  <a:lnTo>
                    <a:pt x="363" y="492"/>
                  </a:lnTo>
                  <a:lnTo>
                    <a:pt x="363" y="504"/>
                  </a:lnTo>
                  <a:lnTo>
                    <a:pt x="361" y="517"/>
                  </a:lnTo>
                  <a:lnTo>
                    <a:pt x="359" y="530"/>
                  </a:lnTo>
                  <a:lnTo>
                    <a:pt x="357" y="544"/>
                  </a:lnTo>
                  <a:lnTo>
                    <a:pt x="357" y="557"/>
                  </a:lnTo>
                  <a:lnTo>
                    <a:pt x="357" y="570"/>
                  </a:lnTo>
                  <a:lnTo>
                    <a:pt x="355" y="585"/>
                  </a:lnTo>
                  <a:lnTo>
                    <a:pt x="355" y="599"/>
                  </a:lnTo>
                  <a:lnTo>
                    <a:pt x="355" y="614"/>
                  </a:lnTo>
                  <a:lnTo>
                    <a:pt x="353" y="625"/>
                  </a:lnTo>
                  <a:lnTo>
                    <a:pt x="353" y="640"/>
                  </a:lnTo>
                  <a:lnTo>
                    <a:pt x="353" y="654"/>
                  </a:lnTo>
                  <a:lnTo>
                    <a:pt x="353" y="667"/>
                  </a:lnTo>
                  <a:lnTo>
                    <a:pt x="353" y="680"/>
                  </a:lnTo>
                  <a:lnTo>
                    <a:pt x="357" y="696"/>
                  </a:lnTo>
                  <a:lnTo>
                    <a:pt x="357" y="709"/>
                  </a:lnTo>
                  <a:lnTo>
                    <a:pt x="361" y="724"/>
                  </a:lnTo>
                  <a:lnTo>
                    <a:pt x="361" y="737"/>
                  </a:lnTo>
                  <a:lnTo>
                    <a:pt x="365" y="753"/>
                  </a:lnTo>
                  <a:lnTo>
                    <a:pt x="366" y="766"/>
                  </a:lnTo>
                  <a:lnTo>
                    <a:pt x="370" y="781"/>
                  </a:lnTo>
                  <a:lnTo>
                    <a:pt x="374" y="794"/>
                  </a:lnTo>
                  <a:lnTo>
                    <a:pt x="378" y="808"/>
                  </a:lnTo>
                  <a:lnTo>
                    <a:pt x="382" y="823"/>
                  </a:lnTo>
                  <a:lnTo>
                    <a:pt x="387" y="838"/>
                  </a:lnTo>
                  <a:lnTo>
                    <a:pt x="391" y="852"/>
                  </a:lnTo>
                  <a:lnTo>
                    <a:pt x="395" y="865"/>
                  </a:lnTo>
                  <a:lnTo>
                    <a:pt x="399" y="878"/>
                  </a:lnTo>
                  <a:lnTo>
                    <a:pt x="405" y="891"/>
                  </a:lnTo>
                  <a:lnTo>
                    <a:pt x="408" y="905"/>
                  </a:lnTo>
                  <a:lnTo>
                    <a:pt x="414" y="918"/>
                  </a:lnTo>
                  <a:lnTo>
                    <a:pt x="418" y="931"/>
                  </a:lnTo>
                  <a:lnTo>
                    <a:pt x="425" y="947"/>
                  </a:lnTo>
                  <a:lnTo>
                    <a:pt x="431" y="958"/>
                  </a:lnTo>
                  <a:lnTo>
                    <a:pt x="437" y="971"/>
                  </a:lnTo>
                  <a:lnTo>
                    <a:pt x="443" y="985"/>
                  </a:lnTo>
                  <a:lnTo>
                    <a:pt x="448" y="998"/>
                  </a:lnTo>
                  <a:lnTo>
                    <a:pt x="454" y="1009"/>
                  </a:lnTo>
                  <a:lnTo>
                    <a:pt x="462" y="1023"/>
                  </a:lnTo>
                  <a:lnTo>
                    <a:pt x="465" y="1034"/>
                  </a:lnTo>
                  <a:lnTo>
                    <a:pt x="473" y="1047"/>
                  </a:lnTo>
                  <a:lnTo>
                    <a:pt x="479" y="1059"/>
                  </a:lnTo>
                  <a:lnTo>
                    <a:pt x="484" y="1068"/>
                  </a:lnTo>
                  <a:lnTo>
                    <a:pt x="488" y="1080"/>
                  </a:lnTo>
                  <a:lnTo>
                    <a:pt x="496" y="1091"/>
                  </a:lnTo>
                  <a:lnTo>
                    <a:pt x="501" y="1103"/>
                  </a:lnTo>
                  <a:lnTo>
                    <a:pt x="507" y="1112"/>
                  </a:lnTo>
                  <a:lnTo>
                    <a:pt x="513" y="1123"/>
                  </a:lnTo>
                  <a:lnTo>
                    <a:pt x="519" y="1133"/>
                  </a:lnTo>
                  <a:lnTo>
                    <a:pt x="524" y="1142"/>
                  </a:lnTo>
                  <a:lnTo>
                    <a:pt x="530" y="1150"/>
                  </a:lnTo>
                  <a:lnTo>
                    <a:pt x="536" y="1160"/>
                  </a:lnTo>
                  <a:lnTo>
                    <a:pt x="541" y="1169"/>
                  </a:lnTo>
                  <a:lnTo>
                    <a:pt x="545" y="1177"/>
                  </a:lnTo>
                  <a:lnTo>
                    <a:pt x="551" y="1186"/>
                  </a:lnTo>
                  <a:lnTo>
                    <a:pt x="557" y="1194"/>
                  </a:lnTo>
                  <a:lnTo>
                    <a:pt x="562" y="1201"/>
                  </a:lnTo>
                  <a:lnTo>
                    <a:pt x="566" y="1207"/>
                  </a:lnTo>
                  <a:lnTo>
                    <a:pt x="570" y="1213"/>
                  </a:lnTo>
                  <a:lnTo>
                    <a:pt x="574" y="1220"/>
                  </a:lnTo>
                  <a:lnTo>
                    <a:pt x="577" y="1226"/>
                  </a:lnTo>
                  <a:lnTo>
                    <a:pt x="583" y="1236"/>
                  </a:lnTo>
                  <a:lnTo>
                    <a:pt x="593" y="1245"/>
                  </a:lnTo>
                  <a:lnTo>
                    <a:pt x="597" y="1253"/>
                  </a:lnTo>
                  <a:lnTo>
                    <a:pt x="600" y="1257"/>
                  </a:lnTo>
                  <a:lnTo>
                    <a:pt x="602" y="1260"/>
                  </a:lnTo>
                  <a:lnTo>
                    <a:pt x="604" y="1262"/>
                  </a:lnTo>
                  <a:lnTo>
                    <a:pt x="406" y="1329"/>
                  </a:lnTo>
                  <a:lnTo>
                    <a:pt x="309" y="1405"/>
                  </a:lnTo>
                  <a:lnTo>
                    <a:pt x="308" y="1403"/>
                  </a:lnTo>
                  <a:lnTo>
                    <a:pt x="304" y="1401"/>
                  </a:lnTo>
                  <a:lnTo>
                    <a:pt x="296" y="1395"/>
                  </a:lnTo>
                  <a:lnTo>
                    <a:pt x="290" y="1388"/>
                  </a:lnTo>
                  <a:lnTo>
                    <a:pt x="285" y="1384"/>
                  </a:lnTo>
                  <a:lnTo>
                    <a:pt x="279" y="1380"/>
                  </a:lnTo>
                  <a:lnTo>
                    <a:pt x="273" y="1374"/>
                  </a:lnTo>
                  <a:lnTo>
                    <a:pt x="268" y="1369"/>
                  </a:lnTo>
                  <a:lnTo>
                    <a:pt x="260" y="1361"/>
                  </a:lnTo>
                  <a:lnTo>
                    <a:pt x="254" y="1355"/>
                  </a:lnTo>
                  <a:lnTo>
                    <a:pt x="247" y="1348"/>
                  </a:lnTo>
                  <a:lnTo>
                    <a:pt x="241" y="1342"/>
                  </a:lnTo>
                  <a:lnTo>
                    <a:pt x="233" y="1333"/>
                  </a:lnTo>
                  <a:lnTo>
                    <a:pt x="226" y="1325"/>
                  </a:lnTo>
                  <a:lnTo>
                    <a:pt x="216" y="1315"/>
                  </a:lnTo>
                  <a:lnTo>
                    <a:pt x="209" y="1308"/>
                  </a:lnTo>
                  <a:lnTo>
                    <a:pt x="199" y="1296"/>
                  </a:lnTo>
                  <a:lnTo>
                    <a:pt x="192" y="1287"/>
                  </a:lnTo>
                  <a:lnTo>
                    <a:pt x="182" y="1277"/>
                  </a:lnTo>
                  <a:lnTo>
                    <a:pt x="174" y="1268"/>
                  </a:lnTo>
                  <a:lnTo>
                    <a:pt x="165" y="1257"/>
                  </a:lnTo>
                  <a:lnTo>
                    <a:pt x="155" y="1243"/>
                  </a:lnTo>
                  <a:lnTo>
                    <a:pt x="148" y="1232"/>
                  </a:lnTo>
                  <a:lnTo>
                    <a:pt x="140" y="1220"/>
                  </a:lnTo>
                  <a:lnTo>
                    <a:pt x="131" y="1207"/>
                  </a:lnTo>
                  <a:lnTo>
                    <a:pt x="121" y="1194"/>
                  </a:lnTo>
                  <a:lnTo>
                    <a:pt x="114" y="1180"/>
                  </a:lnTo>
                  <a:lnTo>
                    <a:pt x="106" y="1167"/>
                  </a:lnTo>
                  <a:lnTo>
                    <a:pt x="97" y="1150"/>
                  </a:lnTo>
                  <a:lnTo>
                    <a:pt x="89" y="1137"/>
                  </a:lnTo>
                  <a:lnTo>
                    <a:pt x="81" y="1120"/>
                  </a:lnTo>
                  <a:lnTo>
                    <a:pt x="72" y="1106"/>
                  </a:lnTo>
                  <a:lnTo>
                    <a:pt x="64" y="1089"/>
                  </a:lnTo>
                  <a:lnTo>
                    <a:pt x="57" y="1072"/>
                  </a:lnTo>
                  <a:lnTo>
                    <a:pt x="51" y="1055"/>
                  </a:lnTo>
                  <a:lnTo>
                    <a:pt x="45" y="1040"/>
                  </a:lnTo>
                  <a:lnTo>
                    <a:pt x="38" y="1021"/>
                  </a:lnTo>
                  <a:lnTo>
                    <a:pt x="32" y="1002"/>
                  </a:lnTo>
                  <a:lnTo>
                    <a:pt x="26" y="983"/>
                  </a:lnTo>
                  <a:lnTo>
                    <a:pt x="22" y="966"/>
                  </a:lnTo>
                  <a:lnTo>
                    <a:pt x="17" y="947"/>
                  </a:lnTo>
                  <a:lnTo>
                    <a:pt x="13" y="928"/>
                  </a:lnTo>
                  <a:lnTo>
                    <a:pt x="9" y="909"/>
                  </a:lnTo>
                  <a:lnTo>
                    <a:pt x="7" y="890"/>
                  </a:lnTo>
                  <a:lnTo>
                    <a:pt x="3" y="869"/>
                  </a:lnTo>
                  <a:lnTo>
                    <a:pt x="3" y="848"/>
                  </a:lnTo>
                  <a:lnTo>
                    <a:pt x="0" y="825"/>
                  </a:lnTo>
                  <a:lnTo>
                    <a:pt x="0" y="806"/>
                  </a:lnTo>
                  <a:lnTo>
                    <a:pt x="0" y="783"/>
                  </a:lnTo>
                  <a:lnTo>
                    <a:pt x="0" y="762"/>
                  </a:lnTo>
                  <a:lnTo>
                    <a:pt x="1" y="739"/>
                  </a:lnTo>
                  <a:lnTo>
                    <a:pt x="5" y="718"/>
                  </a:lnTo>
                  <a:lnTo>
                    <a:pt x="7" y="694"/>
                  </a:lnTo>
                  <a:lnTo>
                    <a:pt x="11" y="671"/>
                  </a:lnTo>
                  <a:lnTo>
                    <a:pt x="15" y="646"/>
                  </a:lnTo>
                  <a:lnTo>
                    <a:pt x="20" y="623"/>
                  </a:lnTo>
                  <a:lnTo>
                    <a:pt x="26" y="599"/>
                  </a:lnTo>
                  <a:lnTo>
                    <a:pt x="34" y="574"/>
                  </a:lnTo>
                  <a:lnTo>
                    <a:pt x="41" y="551"/>
                  </a:lnTo>
                  <a:lnTo>
                    <a:pt x="51" y="526"/>
                  </a:lnTo>
                  <a:lnTo>
                    <a:pt x="249" y="0"/>
                  </a:lnTo>
                  <a:lnTo>
                    <a:pt x="376" y="51"/>
                  </a:lnTo>
                  <a:lnTo>
                    <a:pt x="465" y="68"/>
                  </a:lnTo>
                  <a:lnTo>
                    <a:pt x="465" y="68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007000" y="337680"/>
              <a:ext cx="191160" cy="252000"/>
            </a:xfrm>
            <a:custGeom>
              <a:avLst/>
              <a:gdLst/>
              <a:ahLst/>
              <a:rect l="l" t="t" r="r" b="b"/>
              <a:pathLst>
                <a:path w="1034" h="1360">
                  <a:moveTo>
                    <a:pt x="0" y="432"/>
                  </a:moveTo>
                  <a:lnTo>
                    <a:pt x="0" y="430"/>
                  </a:lnTo>
                  <a:lnTo>
                    <a:pt x="4" y="426"/>
                  </a:lnTo>
                  <a:lnTo>
                    <a:pt x="5" y="419"/>
                  </a:lnTo>
                  <a:lnTo>
                    <a:pt x="13" y="413"/>
                  </a:lnTo>
                  <a:lnTo>
                    <a:pt x="15" y="407"/>
                  </a:lnTo>
                  <a:lnTo>
                    <a:pt x="17" y="402"/>
                  </a:lnTo>
                  <a:lnTo>
                    <a:pt x="21" y="396"/>
                  </a:lnTo>
                  <a:lnTo>
                    <a:pt x="26" y="390"/>
                  </a:lnTo>
                  <a:lnTo>
                    <a:pt x="30" y="383"/>
                  </a:lnTo>
                  <a:lnTo>
                    <a:pt x="36" y="377"/>
                  </a:lnTo>
                  <a:lnTo>
                    <a:pt x="42" y="369"/>
                  </a:lnTo>
                  <a:lnTo>
                    <a:pt x="47" y="364"/>
                  </a:lnTo>
                  <a:lnTo>
                    <a:pt x="53" y="354"/>
                  </a:lnTo>
                  <a:lnTo>
                    <a:pt x="61" y="347"/>
                  </a:lnTo>
                  <a:lnTo>
                    <a:pt x="64" y="339"/>
                  </a:lnTo>
                  <a:lnTo>
                    <a:pt x="74" y="329"/>
                  </a:lnTo>
                  <a:lnTo>
                    <a:pt x="80" y="322"/>
                  </a:lnTo>
                  <a:lnTo>
                    <a:pt x="87" y="312"/>
                  </a:lnTo>
                  <a:lnTo>
                    <a:pt x="95" y="303"/>
                  </a:lnTo>
                  <a:lnTo>
                    <a:pt x="104" y="295"/>
                  </a:lnTo>
                  <a:lnTo>
                    <a:pt x="112" y="284"/>
                  </a:lnTo>
                  <a:lnTo>
                    <a:pt x="121" y="274"/>
                  </a:lnTo>
                  <a:lnTo>
                    <a:pt x="129" y="263"/>
                  </a:lnTo>
                  <a:lnTo>
                    <a:pt x="140" y="255"/>
                  </a:lnTo>
                  <a:lnTo>
                    <a:pt x="150" y="244"/>
                  </a:lnTo>
                  <a:lnTo>
                    <a:pt x="161" y="234"/>
                  </a:lnTo>
                  <a:lnTo>
                    <a:pt x="171" y="225"/>
                  </a:lnTo>
                  <a:lnTo>
                    <a:pt x="182" y="215"/>
                  </a:lnTo>
                  <a:lnTo>
                    <a:pt x="192" y="204"/>
                  </a:lnTo>
                  <a:lnTo>
                    <a:pt x="203" y="194"/>
                  </a:lnTo>
                  <a:lnTo>
                    <a:pt x="215" y="185"/>
                  </a:lnTo>
                  <a:lnTo>
                    <a:pt x="226" y="175"/>
                  </a:lnTo>
                  <a:lnTo>
                    <a:pt x="239" y="164"/>
                  </a:lnTo>
                  <a:lnTo>
                    <a:pt x="251" y="154"/>
                  </a:lnTo>
                  <a:lnTo>
                    <a:pt x="264" y="145"/>
                  </a:lnTo>
                  <a:lnTo>
                    <a:pt x="277" y="137"/>
                  </a:lnTo>
                  <a:lnTo>
                    <a:pt x="289" y="126"/>
                  </a:lnTo>
                  <a:lnTo>
                    <a:pt x="302" y="116"/>
                  </a:lnTo>
                  <a:lnTo>
                    <a:pt x="315" y="107"/>
                  </a:lnTo>
                  <a:lnTo>
                    <a:pt x="331" y="99"/>
                  </a:lnTo>
                  <a:lnTo>
                    <a:pt x="344" y="90"/>
                  </a:lnTo>
                  <a:lnTo>
                    <a:pt x="357" y="82"/>
                  </a:lnTo>
                  <a:lnTo>
                    <a:pt x="372" y="75"/>
                  </a:lnTo>
                  <a:lnTo>
                    <a:pt x="388" y="67"/>
                  </a:lnTo>
                  <a:lnTo>
                    <a:pt x="401" y="59"/>
                  </a:lnTo>
                  <a:lnTo>
                    <a:pt x="416" y="52"/>
                  </a:lnTo>
                  <a:lnTo>
                    <a:pt x="431" y="44"/>
                  </a:lnTo>
                  <a:lnTo>
                    <a:pt x="448" y="40"/>
                  </a:lnTo>
                  <a:lnTo>
                    <a:pt x="462" y="33"/>
                  </a:lnTo>
                  <a:lnTo>
                    <a:pt x="479" y="27"/>
                  </a:lnTo>
                  <a:lnTo>
                    <a:pt x="494" y="21"/>
                  </a:lnTo>
                  <a:lnTo>
                    <a:pt x="511" y="18"/>
                  </a:lnTo>
                  <a:lnTo>
                    <a:pt x="528" y="14"/>
                  </a:lnTo>
                  <a:lnTo>
                    <a:pt x="543" y="10"/>
                  </a:lnTo>
                  <a:lnTo>
                    <a:pt x="561" y="6"/>
                  </a:lnTo>
                  <a:lnTo>
                    <a:pt x="578" y="4"/>
                  </a:lnTo>
                  <a:lnTo>
                    <a:pt x="593" y="2"/>
                  </a:lnTo>
                  <a:lnTo>
                    <a:pt x="612" y="0"/>
                  </a:lnTo>
                  <a:lnTo>
                    <a:pt x="629" y="0"/>
                  </a:lnTo>
                  <a:lnTo>
                    <a:pt x="648" y="0"/>
                  </a:lnTo>
                  <a:lnTo>
                    <a:pt x="663" y="0"/>
                  </a:lnTo>
                  <a:lnTo>
                    <a:pt x="680" y="0"/>
                  </a:lnTo>
                  <a:lnTo>
                    <a:pt x="697" y="0"/>
                  </a:lnTo>
                  <a:lnTo>
                    <a:pt x="713" y="4"/>
                  </a:lnTo>
                  <a:lnTo>
                    <a:pt x="728" y="4"/>
                  </a:lnTo>
                  <a:lnTo>
                    <a:pt x="741" y="6"/>
                  </a:lnTo>
                  <a:lnTo>
                    <a:pt x="756" y="8"/>
                  </a:lnTo>
                  <a:lnTo>
                    <a:pt x="772" y="14"/>
                  </a:lnTo>
                  <a:lnTo>
                    <a:pt x="785" y="16"/>
                  </a:lnTo>
                  <a:lnTo>
                    <a:pt x="798" y="18"/>
                  </a:lnTo>
                  <a:lnTo>
                    <a:pt x="810" y="21"/>
                  </a:lnTo>
                  <a:lnTo>
                    <a:pt x="823" y="27"/>
                  </a:lnTo>
                  <a:lnTo>
                    <a:pt x="834" y="31"/>
                  </a:lnTo>
                  <a:lnTo>
                    <a:pt x="846" y="35"/>
                  </a:lnTo>
                  <a:lnTo>
                    <a:pt x="855" y="40"/>
                  </a:lnTo>
                  <a:lnTo>
                    <a:pt x="869" y="46"/>
                  </a:lnTo>
                  <a:lnTo>
                    <a:pt x="876" y="50"/>
                  </a:lnTo>
                  <a:lnTo>
                    <a:pt x="886" y="56"/>
                  </a:lnTo>
                  <a:lnTo>
                    <a:pt x="895" y="61"/>
                  </a:lnTo>
                  <a:lnTo>
                    <a:pt x="905" y="69"/>
                  </a:lnTo>
                  <a:lnTo>
                    <a:pt x="912" y="75"/>
                  </a:lnTo>
                  <a:lnTo>
                    <a:pt x="922" y="80"/>
                  </a:lnTo>
                  <a:lnTo>
                    <a:pt x="929" y="88"/>
                  </a:lnTo>
                  <a:lnTo>
                    <a:pt x="939" y="96"/>
                  </a:lnTo>
                  <a:lnTo>
                    <a:pt x="945" y="101"/>
                  </a:lnTo>
                  <a:lnTo>
                    <a:pt x="952" y="111"/>
                  </a:lnTo>
                  <a:lnTo>
                    <a:pt x="958" y="118"/>
                  </a:lnTo>
                  <a:lnTo>
                    <a:pt x="966" y="126"/>
                  </a:lnTo>
                  <a:lnTo>
                    <a:pt x="969" y="134"/>
                  </a:lnTo>
                  <a:lnTo>
                    <a:pt x="975" y="141"/>
                  </a:lnTo>
                  <a:lnTo>
                    <a:pt x="981" y="149"/>
                  </a:lnTo>
                  <a:lnTo>
                    <a:pt x="986" y="158"/>
                  </a:lnTo>
                  <a:lnTo>
                    <a:pt x="990" y="168"/>
                  </a:lnTo>
                  <a:lnTo>
                    <a:pt x="996" y="175"/>
                  </a:lnTo>
                  <a:lnTo>
                    <a:pt x="1000" y="183"/>
                  </a:lnTo>
                  <a:lnTo>
                    <a:pt x="1004" y="193"/>
                  </a:lnTo>
                  <a:lnTo>
                    <a:pt x="1005" y="200"/>
                  </a:lnTo>
                  <a:lnTo>
                    <a:pt x="1009" y="208"/>
                  </a:lnTo>
                  <a:lnTo>
                    <a:pt x="1013" y="217"/>
                  </a:lnTo>
                  <a:lnTo>
                    <a:pt x="1017" y="227"/>
                  </a:lnTo>
                  <a:lnTo>
                    <a:pt x="1017" y="234"/>
                  </a:lnTo>
                  <a:lnTo>
                    <a:pt x="1021" y="244"/>
                  </a:lnTo>
                  <a:lnTo>
                    <a:pt x="1023" y="253"/>
                  </a:lnTo>
                  <a:lnTo>
                    <a:pt x="1024" y="263"/>
                  </a:lnTo>
                  <a:lnTo>
                    <a:pt x="1026" y="270"/>
                  </a:lnTo>
                  <a:lnTo>
                    <a:pt x="1026" y="282"/>
                  </a:lnTo>
                  <a:lnTo>
                    <a:pt x="1028" y="289"/>
                  </a:lnTo>
                  <a:lnTo>
                    <a:pt x="1030" y="299"/>
                  </a:lnTo>
                  <a:lnTo>
                    <a:pt x="1030" y="308"/>
                  </a:lnTo>
                  <a:lnTo>
                    <a:pt x="1030" y="316"/>
                  </a:lnTo>
                  <a:lnTo>
                    <a:pt x="1030" y="326"/>
                  </a:lnTo>
                  <a:lnTo>
                    <a:pt x="1032" y="335"/>
                  </a:lnTo>
                  <a:lnTo>
                    <a:pt x="1032" y="343"/>
                  </a:lnTo>
                  <a:lnTo>
                    <a:pt x="1032" y="352"/>
                  </a:lnTo>
                  <a:lnTo>
                    <a:pt x="1032" y="360"/>
                  </a:lnTo>
                  <a:lnTo>
                    <a:pt x="1034" y="369"/>
                  </a:lnTo>
                  <a:lnTo>
                    <a:pt x="1032" y="377"/>
                  </a:lnTo>
                  <a:lnTo>
                    <a:pt x="1032" y="385"/>
                  </a:lnTo>
                  <a:lnTo>
                    <a:pt x="1030" y="392"/>
                  </a:lnTo>
                  <a:lnTo>
                    <a:pt x="1030" y="400"/>
                  </a:lnTo>
                  <a:lnTo>
                    <a:pt x="1030" y="409"/>
                  </a:lnTo>
                  <a:lnTo>
                    <a:pt x="1030" y="417"/>
                  </a:lnTo>
                  <a:lnTo>
                    <a:pt x="1028" y="424"/>
                  </a:lnTo>
                  <a:lnTo>
                    <a:pt x="1028" y="432"/>
                  </a:lnTo>
                  <a:lnTo>
                    <a:pt x="1026" y="440"/>
                  </a:lnTo>
                  <a:lnTo>
                    <a:pt x="1023" y="445"/>
                  </a:lnTo>
                  <a:lnTo>
                    <a:pt x="1021" y="453"/>
                  </a:lnTo>
                  <a:lnTo>
                    <a:pt x="1019" y="463"/>
                  </a:lnTo>
                  <a:lnTo>
                    <a:pt x="1015" y="470"/>
                  </a:lnTo>
                  <a:lnTo>
                    <a:pt x="1011" y="478"/>
                  </a:lnTo>
                  <a:lnTo>
                    <a:pt x="1007" y="487"/>
                  </a:lnTo>
                  <a:lnTo>
                    <a:pt x="1004" y="497"/>
                  </a:lnTo>
                  <a:lnTo>
                    <a:pt x="1000" y="504"/>
                  </a:lnTo>
                  <a:lnTo>
                    <a:pt x="996" y="512"/>
                  </a:lnTo>
                  <a:lnTo>
                    <a:pt x="990" y="521"/>
                  </a:lnTo>
                  <a:lnTo>
                    <a:pt x="985" y="533"/>
                  </a:lnTo>
                  <a:lnTo>
                    <a:pt x="977" y="540"/>
                  </a:lnTo>
                  <a:lnTo>
                    <a:pt x="973" y="552"/>
                  </a:lnTo>
                  <a:lnTo>
                    <a:pt x="967" y="561"/>
                  </a:lnTo>
                  <a:lnTo>
                    <a:pt x="962" y="573"/>
                  </a:lnTo>
                  <a:lnTo>
                    <a:pt x="954" y="580"/>
                  </a:lnTo>
                  <a:lnTo>
                    <a:pt x="947" y="592"/>
                  </a:lnTo>
                  <a:lnTo>
                    <a:pt x="939" y="601"/>
                  </a:lnTo>
                  <a:lnTo>
                    <a:pt x="933" y="611"/>
                  </a:lnTo>
                  <a:lnTo>
                    <a:pt x="926" y="622"/>
                  </a:lnTo>
                  <a:lnTo>
                    <a:pt x="916" y="634"/>
                  </a:lnTo>
                  <a:lnTo>
                    <a:pt x="908" y="643"/>
                  </a:lnTo>
                  <a:lnTo>
                    <a:pt x="903" y="655"/>
                  </a:lnTo>
                  <a:lnTo>
                    <a:pt x="893" y="664"/>
                  </a:lnTo>
                  <a:lnTo>
                    <a:pt x="886" y="675"/>
                  </a:lnTo>
                  <a:lnTo>
                    <a:pt x="876" y="687"/>
                  </a:lnTo>
                  <a:lnTo>
                    <a:pt x="869" y="698"/>
                  </a:lnTo>
                  <a:lnTo>
                    <a:pt x="861" y="708"/>
                  </a:lnTo>
                  <a:lnTo>
                    <a:pt x="851" y="721"/>
                  </a:lnTo>
                  <a:lnTo>
                    <a:pt x="844" y="731"/>
                  </a:lnTo>
                  <a:lnTo>
                    <a:pt x="836" y="744"/>
                  </a:lnTo>
                  <a:lnTo>
                    <a:pt x="827" y="752"/>
                  </a:lnTo>
                  <a:lnTo>
                    <a:pt x="817" y="765"/>
                  </a:lnTo>
                  <a:lnTo>
                    <a:pt x="808" y="774"/>
                  </a:lnTo>
                  <a:lnTo>
                    <a:pt x="800" y="786"/>
                  </a:lnTo>
                  <a:lnTo>
                    <a:pt x="791" y="795"/>
                  </a:lnTo>
                  <a:lnTo>
                    <a:pt x="781" y="807"/>
                  </a:lnTo>
                  <a:lnTo>
                    <a:pt x="774" y="818"/>
                  </a:lnTo>
                  <a:lnTo>
                    <a:pt x="766" y="829"/>
                  </a:lnTo>
                  <a:lnTo>
                    <a:pt x="756" y="839"/>
                  </a:lnTo>
                  <a:lnTo>
                    <a:pt x="747" y="848"/>
                  </a:lnTo>
                  <a:lnTo>
                    <a:pt x="737" y="860"/>
                  </a:lnTo>
                  <a:lnTo>
                    <a:pt x="730" y="871"/>
                  </a:lnTo>
                  <a:lnTo>
                    <a:pt x="722" y="879"/>
                  </a:lnTo>
                  <a:lnTo>
                    <a:pt x="715" y="890"/>
                  </a:lnTo>
                  <a:lnTo>
                    <a:pt x="707" y="902"/>
                  </a:lnTo>
                  <a:lnTo>
                    <a:pt x="699" y="911"/>
                  </a:lnTo>
                  <a:lnTo>
                    <a:pt x="692" y="919"/>
                  </a:lnTo>
                  <a:lnTo>
                    <a:pt x="684" y="930"/>
                  </a:lnTo>
                  <a:lnTo>
                    <a:pt x="677" y="938"/>
                  </a:lnTo>
                  <a:lnTo>
                    <a:pt x="669" y="949"/>
                  </a:lnTo>
                  <a:lnTo>
                    <a:pt x="661" y="957"/>
                  </a:lnTo>
                  <a:lnTo>
                    <a:pt x="656" y="966"/>
                  </a:lnTo>
                  <a:lnTo>
                    <a:pt x="648" y="976"/>
                  </a:lnTo>
                  <a:lnTo>
                    <a:pt x="642" y="985"/>
                  </a:lnTo>
                  <a:lnTo>
                    <a:pt x="635" y="993"/>
                  </a:lnTo>
                  <a:lnTo>
                    <a:pt x="629" y="1001"/>
                  </a:lnTo>
                  <a:lnTo>
                    <a:pt x="623" y="1008"/>
                  </a:lnTo>
                  <a:lnTo>
                    <a:pt x="620" y="1016"/>
                  </a:lnTo>
                  <a:lnTo>
                    <a:pt x="614" y="1023"/>
                  </a:lnTo>
                  <a:lnTo>
                    <a:pt x="610" y="1031"/>
                  </a:lnTo>
                  <a:lnTo>
                    <a:pt x="606" y="1039"/>
                  </a:lnTo>
                  <a:lnTo>
                    <a:pt x="602" y="1046"/>
                  </a:lnTo>
                  <a:lnTo>
                    <a:pt x="599" y="1052"/>
                  </a:lnTo>
                  <a:lnTo>
                    <a:pt x="595" y="1060"/>
                  </a:lnTo>
                  <a:lnTo>
                    <a:pt x="591" y="1065"/>
                  </a:lnTo>
                  <a:lnTo>
                    <a:pt x="587" y="1073"/>
                  </a:lnTo>
                  <a:lnTo>
                    <a:pt x="583" y="1079"/>
                  </a:lnTo>
                  <a:lnTo>
                    <a:pt x="580" y="1086"/>
                  </a:lnTo>
                  <a:lnTo>
                    <a:pt x="576" y="1092"/>
                  </a:lnTo>
                  <a:lnTo>
                    <a:pt x="574" y="1099"/>
                  </a:lnTo>
                  <a:lnTo>
                    <a:pt x="566" y="1113"/>
                  </a:lnTo>
                  <a:lnTo>
                    <a:pt x="562" y="1126"/>
                  </a:lnTo>
                  <a:lnTo>
                    <a:pt x="559" y="1139"/>
                  </a:lnTo>
                  <a:lnTo>
                    <a:pt x="555" y="1155"/>
                  </a:lnTo>
                  <a:lnTo>
                    <a:pt x="549" y="1166"/>
                  </a:lnTo>
                  <a:lnTo>
                    <a:pt x="545" y="1179"/>
                  </a:lnTo>
                  <a:lnTo>
                    <a:pt x="542" y="1193"/>
                  </a:lnTo>
                  <a:lnTo>
                    <a:pt x="536" y="1206"/>
                  </a:lnTo>
                  <a:lnTo>
                    <a:pt x="532" y="1217"/>
                  </a:lnTo>
                  <a:lnTo>
                    <a:pt x="530" y="1231"/>
                  </a:lnTo>
                  <a:lnTo>
                    <a:pt x="528" y="1242"/>
                  </a:lnTo>
                  <a:lnTo>
                    <a:pt x="526" y="1255"/>
                  </a:lnTo>
                  <a:lnTo>
                    <a:pt x="523" y="1267"/>
                  </a:lnTo>
                  <a:lnTo>
                    <a:pt x="521" y="1276"/>
                  </a:lnTo>
                  <a:lnTo>
                    <a:pt x="519" y="1286"/>
                  </a:lnTo>
                  <a:lnTo>
                    <a:pt x="519" y="1297"/>
                  </a:lnTo>
                  <a:lnTo>
                    <a:pt x="515" y="1305"/>
                  </a:lnTo>
                  <a:lnTo>
                    <a:pt x="515" y="1314"/>
                  </a:lnTo>
                  <a:lnTo>
                    <a:pt x="515" y="1322"/>
                  </a:lnTo>
                  <a:lnTo>
                    <a:pt x="515" y="1330"/>
                  </a:lnTo>
                  <a:lnTo>
                    <a:pt x="511" y="1341"/>
                  </a:lnTo>
                  <a:lnTo>
                    <a:pt x="511" y="1350"/>
                  </a:lnTo>
                  <a:lnTo>
                    <a:pt x="511" y="1358"/>
                  </a:lnTo>
                  <a:lnTo>
                    <a:pt x="511" y="1360"/>
                  </a:lnTo>
                  <a:lnTo>
                    <a:pt x="397" y="1084"/>
                  </a:lnTo>
                  <a:lnTo>
                    <a:pt x="397" y="1082"/>
                  </a:lnTo>
                  <a:lnTo>
                    <a:pt x="403" y="1079"/>
                  </a:lnTo>
                  <a:lnTo>
                    <a:pt x="410" y="1073"/>
                  </a:lnTo>
                  <a:lnTo>
                    <a:pt x="420" y="1065"/>
                  </a:lnTo>
                  <a:lnTo>
                    <a:pt x="424" y="1060"/>
                  </a:lnTo>
                  <a:lnTo>
                    <a:pt x="431" y="1056"/>
                  </a:lnTo>
                  <a:lnTo>
                    <a:pt x="439" y="1050"/>
                  </a:lnTo>
                  <a:lnTo>
                    <a:pt x="447" y="1044"/>
                  </a:lnTo>
                  <a:lnTo>
                    <a:pt x="454" y="1039"/>
                  </a:lnTo>
                  <a:lnTo>
                    <a:pt x="462" y="1031"/>
                  </a:lnTo>
                  <a:lnTo>
                    <a:pt x="471" y="1025"/>
                  </a:lnTo>
                  <a:lnTo>
                    <a:pt x="483" y="1018"/>
                  </a:lnTo>
                  <a:lnTo>
                    <a:pt x="490" y="1008"/>
                  </a:lnTo>
                  <a:lnTo>
                    <a:pt x="502" y="1001"/>
                  </a:lnTo>
                  <a:lnTo>
                    <a:pt x="511" y="991"/>
                  </a:lnTo>
                  <a:lnTo>
                    <a:pt x="524" y="982"/>
                  </a:lnTo>
                  <a:lnTo>
                    <a:pt x="534" y="972"/>
                  </a:lnTo>
                  <a:lnTo>
                    <a:pt x="545" y="963"/>
                  </a:lnTo>
                  <a:lnTo>
                    <a:pt x="559" y="953"/>
                  </a:lnTo>
                  <a:lnTo>
                    <a:pt x="570" y="944"/>
                  </a:lnTo>
                  <a:lnTo>
                    <a:pt x="582" y="932"/>
                  </a:lnTo>
                  <a:lnTo>
                    <a:pt x="593" y="921"/>
                  </a:lnTo>
                  <a:lnTo>
                    <a:pt x="606" y="909"/>
                  </a:lnTo>
                  <a:lnTo>
                    <a:pt x="620" y="900"/>
                  </a:lnTo>
                  <a:lnTo>
                    <a:pt x="633" y="888"/>
                  </a:lnTo>
                  <a:lnTo>
                    <a:pt x="646" y="875"/>
                  </a:lnTo>
                  <a:lnTo>
                    <a:pt x="659" y="864"/>
                  </a:lnTo>
                  <a:lnTo>
                    <a:pt x="673" y="854"/>
                  </a:lnTo>
                  <a:lnTo>
                    <a:pt x="686" y="839"/>
                  </a:lnTo>
                  <a:lnTo>
                    <a:pt x="697" y="828"/>
                  </a:lnTo>
                  <a:lnTo>
                    <a:pt x="711" y="814"/>
                  </a:lnTo>
                  <a:lnTo>
                    <a:pt x="724" y="801"/>
                  </a:lnTo>
                  <a:lnTo>
                    <a:pt x="735" y="788"/>
                  </a:lnTo>
                  <a:lnTo>
                    <a:pt x="749" y="774"/>
                  </a:lnTo>
                  <a:lnTo>
                    <a:pt x="762" y="761"/>
                  </a:lnTo>
                  <a:lnTo>
                    <a:pt x="775" y="748"/>
                  </a:lnTo>
                  <a:lnTo>
                    <a:pt x="785" y="734"/>
                  </a:lnTo>
                  <a:lnTo>
                    <a:pt x="798" y="721"/>
                  </a:lnTo>
                  <a:lnTo>
                    <a:pt x="810" y="708"/>
                  </a:lnTo>
                  <a:lnTo>
                    <a:pt x="821" y="694"/>
                  </a:lnTo>
                  <a:lnTo>
                    <a:pt x="832" y="679"/>
                  </a:lnTo>
                  <a:lnTo>
                    <a:pt x="844" y="668"/>
                  </a:lnTo>
                  <a:lnTo>
                    <a:pt x="855" y="653"/>
                  </a:lnTo>
                  <a:lnTo>
                    <a:pt x="865" y="641"/>
                  </a:lnTo>
                  <a:lnTo>
                    <a:pt x="874" y="626"/>
                  </a:lnTo>
                  <a:lnTo>
                    <a:pt x="884" y="613"/>
                  </a:lnTo>
                  <a:lnTo>
                    <a:pt x="891" y="598"/>
                  </a:lnTo>
                  <a:lnTo>
                    <a:pt x="901" y="584"/>
                  </a:lnTo>
                  <a:lnTo>
                    <a:pt x="908" y="571"/>
                  </a:lnTo>
                  <a:lnTo>
                    <a:pt x="916" y="558"/>
                  </a:lnTo>
                  <a:lnTo>
                    <a:pt x="922" y="544"/>
                  </a:lnTo>
                  <a:lnTo>
                    <a:pt x="929" y="533"/>
                  </a:lnTo>
                  <a:lnTo>
                    <a:pt x="935" y="520"/>
                  </a:lnTo>
                  <a:lnTo>
                    <a:pt x="941" y="506"/>
                  </a:lnTo>
                  <a:lnTo>
                    <a:pt x="945" y="493"/>
                  </a:lnTo>
                  <a:lnTo>
                    <a:pt x="948" y="480"/>
                  </a:lnTo>
                  <a:lnTo>
                    <a:pt x="952" y="466"/>
                  </a:lnTo>
                  <a:lnTo>
                    <a:pt x="954" y="455"/>
                  </a:lnTo>
                  <a:lnTo>
                    <a:pt x="956" y="443"/>
                  </a:lnTo>
                  <a:lnTo>
                    <a:pt x="958" y="432"/>
                  </a:lnTo>
                  <a:lnTo>
                    <a:pt x="956" y="421"/>
                  </a:lnTo>
                  <a:lnTo>
                    <a:pt x="956" y="409"/>
                  </a:lnTo>
                  <a:lnTo>
                    <a:pt x="956" y="396"/>
                  </a:lnTo>
                  <a:lnTo>
                    <a:pt x="956" y="385"/>
                  </a:lnTo>
                  <a:lnTo>
                    <a:pt x="954" y="373"/>
                  </a:lnTo>
                  <a:lnTo>
                    <a:pt x="952" y="362"/>
                  </a:lnTo>
                  <a:lnTo>
                    <a:pt x="952" y="352"/>
                  </a:lnTo>
                  <a:lnTo>
                    <a:pt x="950" y="343"/>
                  </a:lnTo>
                  <a:lnTo>
                    <a:pt x="947" y="329"/>
                  </a:lnTo>
                  <a:lnTo>
                    <a:pt x="945" y="322"/>
                  </a:lnTo>
                  <a:lnTo>
                    <a:pt x="943" y="310"/>
                  </a:lnTo>
                  <a:lnTo>
                    <a:pt x="941" y="303"/>
                  </a:lnTo>
                  <a:lnTo>
                    <a:pt x="937" y="291"/>
                  </a:lnTo>
                  <a:lnTo>
                    <a:pt x="935" y="282"/>
                  </a:lnTo>
                  <a:lnTo>
                    <a:pt x="929" y="274"/>
                  </a:lnTo>
                  <a:lnTo>
                    <a:pt x="927" y="267"/>
                  </a:lnTo>
                  <a:lnTo>
                    <a:pt x="922" y="257"/>
                  </a:lnTo>
                  <a:lnTo>
                    <a:pt x="918" y="248"/>
                  </a:lnTo>
                  <a:lnTo>
                    <a:pt x="912" y="240"/>
                  </a:lnTo>
                  <a:lnTo>
                    <a:pt x="908" y="232"/>
                  </a:lnTo>
                  <a:lnTo>
                    <a:pt x="903" y="225"/>
                  </a:lnTo>
                  <a:lnTo>
                    <a:pt x="899" y="215"/>
                  </a:lnTo>
                  <a:lnTo>
                    <a:pt x="893" y="208"/>
                  </a:lnTo>
                  <a:lnTo>
                    <a:pt x="889" y="202"/>
                  </a:lnTo>
                  <a:lnTo>
                    <a:pt x="882" y="193"/>
                  </a:lnTo>
                  <a:lnTo>
                    <a:pt x="876" y="187"/>
                  </a:lnTo>
                  <a:lnTo>
                    <a:pt x="869" y="181"/>
                  </a:lnTo>
                  <a:lnTo>
                    <a:pt x="865" y="175"/>
                  </a:lnTo>
                  <a:lnTo>
                    <a:pt x="855" y="168"/>
                  </a:lnTo>
                  <a:lnTo>
                    <a:pt x="851" y="162"/>
                  </a:lnTo>
                  <a:lnTo>
                    <a:pt x="842" y="156"/>
                  </a:lnTo>
                  <a:lnTo>
                    <a:pt x="838" y="153"/>
                  </a:lnTo>
                  <a:lnTo>
                    <a:pt x="829" y="145"/>
                  </a:lnTo>
                  <a:lnTo>
                    <a:pt x="821" y="141"/>
                  </a:lnTo>
                  <a:lnTo>
                    <a:pt x="813" y="135"/>
                  </a:lnTo>
                  <a:lnTo>
                    <a:pt x="806" y="132"/>
                  </a:lnTo>
                  <a:lnTo>
                    <a:pt x="798" y="126"/>
                  </a:lnTo>
                  <a:lnTo>
                    <a:pt x="791" y="122"/>
                  </a:lnTo>
                  <a:lnTo>
                    <a:pt x="781" y="118"/>
                  </a:lnTo>
                  <a:lnTo>
                    <a:pt x="774" y="115"/>
                  </a:lnTo>
                  <a:lnTo>
                    <a:pt x="764" y="111"/>
                  </a:lnTo>
                  <a:lnTo>
                    <a:pt x="755" y="105"/>
                  </a:lnTo>
                  <a:lnTo>
                    <a:pt x="747" y="103"/>
                  </a:lnTo>
                  <a:lnTo>
                    <a:pt x="737" y="101"/>
                  </a:lnTo>
                  <a:lnTo>
                    <a:pt x="728" y="97"/>
                  </a:lnTo>
                  <a:lnTo>
                    <a:pt x="720" y="96"/>
                  </a:lnTo>
                  <a:lnTo>
                    <a:pt x="709" y="92"/>
                  </a:lnTo>
                  <a:lnTo>
                    <a:pt x="701" y="92"/>
                  </a:lnTo>
                  <a:lnTo>
                    <a:pt x="690" y="88"/>
                  </a:lnTo>
                  <a:lnTo>
                    <a:pt x="680" y="88"/>
                  </a:lnTo>
                  <a:lnTo>
                    <a:pt x="671" y="84"/>
                  </a:lnTo>
                  <a:lnTo>
                    <a:pt x="661" y="84"/>
                  </a:lnTo>
                  <a:lnTo>
                    <a:pt x="650" y="82"/>
                  </a:lnTo>
                  <a:lnTo>
                    <a:pt x="640" y="82"/>
                  </a:lnTo>
                  <a:lnTo>
                    <a:pt x="631" y="82"/>
                  </a:lnTo>
                  <a:lnTo>
                    <a:pt x="621" y="82"/>
                  </a:lnTo>
                  <a:lnTo>
                    <a:pt x="610" y="80"/>
                  </a:lnTo>
                  <a:lnTo>
                    <a:pt x="601" y="80"/>
                  </a:lnTo>
                  <a:lnTo>
                    <a:pt x="589" y="80"/>
                  </a:lnTo>
                  <a:lnTo>
                    <a:pt x="580" y="82"/>
                  </a:lnTo>
                  <a:lnTo>
                    <a:pt x="566" y="82"/>
                  </a:lnTo>
                  <a:lnTo>
                    <a:pt x="559" y="84"/>
                  </a:lnTo>
                  <a:lnTo>
                    <a:pt x="545" y="84"/>
                  </a:lnTo>
                  <a:lnTo>
                    <a:pt x="536" y="88"/>
                  </a:lnTo>
                  <a:lnTo>
                    <a:pt x="524" y="88"/>
                  </a:lnTo>
                  <a:lnTo>
                    <a:pt x="515" y="90"/>
                  </a:lnTo>
                  <a:lnTo>
                    <a:pt x="502" y="92"/>
                  </a:lnTo>
                  <a:lnTo>
                    <a:pt x="492" y="97"/>
                  </a:lnTo>
                  <a:lnTo>
                    <a:pt x="479" y="99"/>
                  </a:lnTo>
                  <a:lnTo>
                    <a:pt x="469" y="103"/>
                  </a:lnTo>
                  <a:lnTo>
                    <a:pt x="458" y="109"/>
                  </a:lnTo>
                  <a:lnTo>
                    <a:pt x="447" y="115"/>
                  </a:lnTo>
                  <a:lnTo>
                    <a:pt x="435" y="118"/>
                  </a:lnTo>
                  <a:lnTo>
                    <a:pt x="424" y="126"/>
                  </a:lnTo>
                  <a:lnTo>
                    <a:pt x="412" y="132"/>
                  </a:lnTo>
                  <a:lnTo>
                    <a:pt x="401" y="141"/>
                  </a:lnTo>
                  <a:lnTo>
                    <a:pt x="390" y="147"/>
                  </a:lnTo>
                  <a:lnTo>
                    <a:pt x="380" y="154"/>
                  </a:lnTo>
                  <a:lnTo>
                    <a:pt x="369" y="164"/>
                  </a:lnTo>
                  <a:lnTo>
                    <a:pt x="357" y="173"/>
                  </a:lnTo>
                  <a:lnTo>
                    <a:pt x="346" y="181"/>
                  </a:lnTo>
                  <a:lnTo>
                    <a:pt x="334" y="189"/>
                  </a:lnTo>
                  <a:lnTo>
                    <a:pt x="325" y="198"/>
                  </a:lnTo>
                  <a:lnTo>
                    <a:pt x="313" y="210"/>
                  </a:lnTo>
                  <a:lnTo>
                    <a:pt x="302" y="219"/>
                  </a:lnTo>
                  <a:lnTo>
                    <a:pt x="293" y="229"/>
                  </a:lnTo>
                  <a:lnTo>
                    <a:pt x="281" y="238"/>
                  </a:lnTo>
                  <a:lnTo>
                    <a:pt x="272" y="251"/>
                  </a:lnTo>
                  <a:lnTo>
                    <a:pt x="260" y="259"/>
                  </a:lnTo>
                  <a:lnTo>
                    <a:pt x="251" y="270"/>
                  </a:lnTo>
                  <a:lnTo>
                    <a:pt x="239" y="282"/>
                  </a:lnTo>
                  <a:lnTo>
                    <a:pt x="230" y="293"/>
                  </a:lnTo>
                  <a:lnTo>
                    <a:pt x="220" y="303"/>
                  </a:lnTo>
                  <a:lnTo>
                    <a:pt x="211" y="314"/>
                  </a:lnTo>
                  <a:lnTo>
                    <a:pt x="201" y="326"/>
                  </a:lnTo>
                  <a:lnTo>
                    <a:pt x="194" y="337"/>
                  </a:lnTo>
                  <a:lnTo>
                    <a:pt x="182" y="347"/>
                  </a:lnTo>
                  <a:lnTo>
                    <a:pt x="175" y="356"/>
                  </a:lnTo>
                  <a:lnTo>
                    <a:pt x="165" y="367"/>
                  </a:lnTo>
                  <a:lnTo>
                    <a:pt x="156" y="379"/>
                  </a:lnTo>
                  <a:lnTo>
                    <a:pt x="148" y="388"/>
                  </a:lnTo>
                  <a:lnTo>
                    <a:pt x="139" y="400"/>
                  </a:lnTo>
                  <a:lnTo>
                    <a:pt x="131" y="409"/>
                  </a:lnTo>
                  <a:lnTo>
                    <a:pt x="125" y="421"/>
                  </a:lnTo>
                  <a:lnTo>
                    <a:pt x="118" y="430"/>
                  </a:lnTo>
                  <a:lnTo>
                    <a:pt x="108" y="440"/>
                  </a:lnTo>
                  <a:lnTo>
                    <a:pt x="101" y="449"/>
                  </a:lnTo>
                  <a:lnTo>
                    <a:pt x="95" y="459"/>
                  </a:lnTo>
                  <a:lnTo>
                    <a:pt x="87" y="466"/>
                  </a:lnTo>
                  <a:lnTo>
                    <a:pt x="82" y="476"/>
                  </a:lnTo>
                  <a:lnTo>
                    <a:pt x="76" y="483"/>
                  </a:lnTo>
                  <a:lnTo>
                    <a:pt x="72" y="493"/>
                  </a:lnTo>
                  <a:lnTo>
                    <a:pt x="64" y="501"/>
                  </a:lnTo>
                  <a:lnTo>
                    <a:pt x="61" y="508"/>
                  </a:lnTo>
                  <a:lnTo>
                    <a:pt x="55" y="514"/>
                  </a:lnTo>
                  <a:lnTo>
                    <a:pt x="51" y="521"/>
                  </a:lnTo>
                  <a:lnTo>
                    <a:pt x="47" y="527"/>
                  </a:lnTo>
                  <a:lnTo>
                    <a:pt x="44" y="533"/>
                  </a:lnTo>
                  <a:lnTo>
                    <a:pt x="40" y="539"/>
                  </a:lnTo>
                  <a:lnTo>
                    <a:pt x="38" y="544"/>
                  </a:lnTo>
                  <a:lnTo>
                    <a:pt x="30" y="550"/>
                  </a:lnTo>
                  <a:lnTo>
                    <a:pt x="28" y="558"/>
                  </a:lnTo>
                  <a:lnTo>
                    <a:pt x="25" y="561"/>
                  </a:lnTo>
                  <a:lnTo>
                    <a:pt x="25" y="563"/>
                  </a:lnTo>
                  <a:lnTo>
                    <a:pt x="0" y="43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8ac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093400" y="542520"/>
              <a:ext cx="44280" cy="167400"/>
            </a:xfrm>
            <a:custGeom>
              <a:avLst/>
              <a:gdLst/>
              <a:ahLst/>
              <a:rect l="l" t="t" r="r" b="b"/>
              <a:pathLst>
                <a:path w="239" h="905">
                  <a:moveTo>
                    <a:pt x="80" y="0"/>
                  </a:moveTo>
                  <a:lnTo>
                    <a:pt x="80" y="0"/>
                  </a:lnTo>
                  <a:lnTo>
                    <a:pt x="78" y="6"/>
                  </a:lnTo>
                  <a:lnTo>
                    <a:pt x="76" y="10"/>
                  </a:lnTo>
                  <a:lnTo>
                    <a:pt x="76" y="17"/>
                  </a:lnTo>
                  <a:lnTo>
                    <a:pt x="72" y="27"/>
                  </a:lnTo>
                  <a:lnTo>
                    <a:pt x="68" y="40"/>
                  </a:lnTo>
                  <a:lnTo>
                    <a:pt x="66" y="44"/>
                  </a:lnTo>
                  <a:lnTo>
                    <a:pt x="65" y="54"/>
                  </a:lnTo>
                  <a:lnTo>
                    <a:pt x="63" y="61"/>
                  </a:lnTo>
                  <a:lnTo>
                    <a:pt x="63" y="69"/>
                  </a:lnTo>
                  <a:lnTo>
                    <a:pt x="59" y="76"/>
                  </a:lnTo>
                  <a:lnTo>
                    <a:pt x="57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49" y="111"/>
                  </a:lnTo>
                  <a:lnTo>
                    <a:pt x="49" y="122"/>
                  </a:lnTo>
                  <a:lnTo>
                    <a:pt x="45" y="131"/>
                  </a:lnTo>
                  <a:lnTo>
                    <a:pt x="45" y="143"/>
                  </a:lnTo>
                  <a:lnTo>
                    <a:pt x="42" y="154"/>
                  </a:lnTo>
                  <a:lnTo>
                    <a:pt x="42" y="164"/>
                  </a:lnTo>
                  <a:lnTo>
                    <a:pt x="38" y="177"/>
                  </a:lnTo>
                  <a:lnTo>
                    <a:pt x="36" y="189"/>
                  </a:lnTo>
                  <a:lnTo>
                    <a:pt x="34" y="200"/>
                  </a:lnTo>
                  <a:lnTo>
                    <a:pt x="32" y="211"/>
                  </a:lnTo>
                  <a:lnTo>
                    <a:pt x="30" y="225"/>
                  </a:lnTo>
                  <a:lnTo>
                    <a:pt x="28" y="238"/>
                  </a:lnTo>
                  <a:lnTo>
                    <a:pt x="25" y="249"/>
                  </a:lnTo>
                  <a:lnTo>
                    <a:pt x="25" y="261"/>
                  </a:lnTo>
                  <a:lnTo>
                    <a:pt x="21" y="274"/>
                  </a:lnTo>
                  <a:lnTo>
                    <a:pt x="19" y="287"/>
                  </a:lnTo>
                  <a:lnTo>
                    <a:pt x="17" y="299"/>
                  </a:lnTo>
                  <a:lnTo>
                    <a:pt x="15" y="312"/>
                  </a:lnTo>
                  <a:lnTo>
                    <a:pt x="13" y="325"/>
                  </a:lnTo>
                  <a:lnTo>
                    <a:pt x="13" y="341"/>
                  </a:lnTo>
                  <a:lnTo>
                    <a:pt x="9" y="352"/>
                  </a:lnTo>
                  <a:lnTo>
                    <a:pt x="9" y="367"/>
                  </a:lnTo>
                  <a:lnTo>
                    <a:pt x="6" y="381"/>
                  </a:lnTo>
                  <a:lnTo>
                    <a:pt x="6" y="396"/>
                  </a:lnTo>
                  <a:lnTo>
                    <a:pt x="6" y="409"/>
                  </a:lnTo>
                  <a:lnTo>
                    <a:pt x="4" y="422"/>
                  </a:lnTo>
                  <a:lnTo>
                    <a:pt x="2" y="436"/>
                  </a:lnTo>
                  <a:lnTo>
                    <a:pt x="2" y="451"/>
                  </a:lnTo>
                  <a:lnTo>
                    <a:pt x="2" y="464"/>
                  </a:lnTo>
                  <a:lnTo>
                    <a:pt x="0" y="478"/>
                  </a:lnTo>
                  <a:lnTo>
                    <a:pt x="0" y="491"/>
                  </a:lnTo>
                  <a:lnTo>
                    <a:pt x="0" y="506"/>
                  </a:lnTo>
                  <a:lnTo>
                    <a:pt x="0" y="517"/>
                  </a:lnTo>
                  <a:lnTo>
                    <a:pt x="0" y="533"/>
                  </a:lnTo>
                  <a:lnTo>
                    <a:pt x="0" y="544"/>
                  </a:lnTo>
                  <a:lnTo>
                    <a:pt x="2" y="559"/>
                  </a:lnTo>
                  <a:lnTo>
                    <a:pt x="2" y="571"/>
                  </a:lnTo>
                  <a:lnTo>
                    <a:pt x="2" y="584"/>
                  </a:lnTo>
                  <a:lnTo>
                    <a:pt x="2" y="597"/>
                  </a:lnTo>
                  <a:lnTo>
                    <a:pt x="4" y="611"/>
                  </a:lnTo>
                  <a:lnTo>
                    <a:pt x="4" y="622"/>
                  </a:lnTo>
                  <a:lnTo>
                    <a:pt x="6" y="633"/>
                  </a:lnTo>
                  <a:lnTo>
                    <a:pt x="7" y="647"/>
                  </a:lnTo>
                  <a:lnTo>
                    <a:pt x="11" y="658"/>
                  </a:lnTo>
                  <a:lnTo>
                    <a:pt x="13" y="668"/>
                  </a:lnTo>
                  <a:lnTo>
                    <a:pt x="15" y="679"/>
                  </a:lnTo>
                  <a:lnTo>
                    <a:pt x="17" y="690"/>
                  </a:lnTo>
                  <a:lnTo>
                    <a:pt x="19" y="700"/>
                  </a:lnTo>
                  <a:lnTo>
                    <a:pt x="23" y="709"/>
                  </a:lnTo>
                  <a:lnTo>
                    <a:pt x="25" y="719"/>
                  </a:lnTo>
                  <a:lnTo>
                    <a:pt x="28" y="729"/>
                  </a:lnTo>
                  <a:lnTo>
                    <a:pt x="32" y="738"/>
                  </a:lnTo>
                  <a:lnTo>
                    <a:pt x="36" y="746"/>
                  </a:lnTo>
                  <a:lnTo>
                    <a:pt x="40" y="753"/>
                  </a:lnTo>
                  <a:lnTo>
                    <a:pt x="44" y="761"/>
                  </a:lnTo>
                  <a:lnTo>
                    <a:pt x="47" y="770"/>
                  </a:lnTo>
                  <a:lnTo>
                    <a:pt x="51" y="776"/>
                  </a:lnTo>
                  <a:lnTo>
                    <a:pt x="57" y="784"/>
                  </a:lnTo>
                  <a:lnTo>
                    <a:pt x="61" y="791"/>
                  </a:lnTo>
                  <a:lnTo>
                    <a:pt x="66" y="799"/>
                  </a:lnTo>
                  <a:lnTo>
                    <a:pt x="74" y="810"/>
                  </a:lnTo>
                  <a:lnTo>
                    <a:pt x="84" y="824"/>
                  </a:lnTo>
                  <a:lnTo>
                    <a:pt x="93" y="831"/>
                  </a:lnTo>
                  <a:lnTo>
                    <a:pt x="103" y="843"/>
                  </a:lnTo>
                  <a:lnTo>
                    <a:pt x="112" y="850"/>
                  </a:lnTo>
                  <a:lnTo>
                    <a:pt x="123" y="858"/>
                  </a:lnTo>
                  <a:lnTo>
                    <a:pt x="133" y="865"/>
                  </a:lnTo>
                  <a:lnTo>
                    <a:pt x="142" y="873"/>
                  </a:lnTo>
                  <a:lnTo>
                    <a:pt x="150" y="877"/>
                  </a:lnTo>
                  <a:lnTo>
                    <a:pt x="160" y="881"/>
                  </a:lnTo>
                  <a:lnTo>
                    <a:pt x="169" y="884"/>
                  </a:lnTo>
                  <a:lnTo>
                    <a:pt x="179" y="890"/>
                  </a:lnTo>
                  <a:lnTo>
                    <a:pt x="184" y="892"/>
                  </a:lnTo>
                  <a:lnTo>
                    <a:pt x="194" y="894"/>
                  </a:lnTo>
                  <a:lnTo>
                    <a:pt x="201" y="898"/>
                  </a:lnTo>
                  <a:lnTo>
                    <a:pt x="209" y="900"/>
                  </a:lnTo>
                  <a:lnTo>
                    <a:pt x="220" y="902"/>
                  </a:lnTo>
                  <a:lnTo>
                    <a:pt x="230" y="903"/>
                  </a:lnTo>
                  <a:lnTo>
                    <a:pt x="237" y="903"/>
                  </a:lnTo>
                  <a:lnTo>
                    <a:pt x="239" y="905"/>
                  </a:lnTo>
                  <a:lnTo>
                    <a:pt x="236" y="436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2129400" y="245520"/>
              <a:ext cx="360720" cy="320760"/>
            </a:xfrm>
            <a:custGeom>
              <a:avLst/>
              <a:gdLst/>
              <a:ahLst/>
              <a:rect l="l" t="t" r="r" b="b"/>
              <a:pathLst>
                <a:path w="1946" h="1732">
                  <a:moveTo>
                    <a:pt x="0" y="278"/>
                  </a:moveTo>
                  <a:lnTo>
                    <a:pt x="2" y="278"/>
                  </a:lnTo>
                  <a:lnTo>
                    <a:pt x="11" y="274"/>
                  </a:lnTo>
                  <a:lnTo>
                    <a:pt x="15" y="272"/>
                  </a:lnTo>
                  <a:lnTo>
                    <a:pt x="23" y="270"/>
                  </a:lnTo>
                  <a:lnTo>
                    <a:pt x="30" y="267"/>
                  </a:lnTo>
                  <a:lnTo>
                    <a:pt x="42" y="265"/>
                  </a:lnTo>
                  <a:lnTo>
                    <a:pt x="51" y="261"/>
                  </a:lnTo>
                  <a:lnTo>
                    <a:pt x="64" y="257"/>
                  </a:lnTo>
                  <a:lnTo>
                    <a:pt x="76" y="251"/>
                  </a:lnTo>
                  <a:lnTo>
                    <a:pt x="91" y="247"/>
                  </a:lnTo>
                  <a:lnTo>
                    <a:pt x="106" y="244"/>
                  </a:lnTo>
                  <a:lnTo>
                    <a:pt x="123" y="238"/>
                  </a:lnTo>
                  <a:lnTo>
                    <a:pt x="140" y="232"/>
                  </a:lnTo>
                  <a:lnTo>
                    <a:pt x="159" y="228"/>
                  </a:lnTo>
                  <a:lnTo>
                    <a:pt x="177" y="221"/>
                  </a:lnTo>
                  <a:lnTo>
                    <a:pt x="197" y="215"/>
                  </a:lnTo>
                  <a:lnTo>
                    <a:pt x="218" y="208"/>
                  </a:lnTo>
                  <a:lnTo>
                    <a:pt x="241" y="204"/>
                  </a:lnTo>
                  <a:lnTo>
                    <a:pt x="262" y="194"/>
                  </a:lnTo>
                  <a:lnTo>
                    <a:pt x="285" y="190"/>
                  </a:lnTo>
                  <a:lnTo>
                    <a:pt x="310" y="181"/>
                  </a:lnTo>
                  <a:lnTo>
                    <a:pt x="334" y="177"/>
                  </a:lnTo>
                  <a:lnTo>
                    <a:pt x="357" y="170"/>
                  </a:lnTo>
                  <a:lnTo>
                    <a:pt x="384" y="162"/>
                  </a:lnTo>
                  <a:lnTo>
                    <a:pt x="410" y="154"/>
                  </a:lnTo>
                  <a:lnTo>
                    <a:pt x="437" y="149"/>
                  </a:lnTo>
                  <a:lnTo>
                    <a:pt x="465" y="143"/>
                  </a:lnTo>
                  <a:lnTo>
                    <a:pt x="494" y="135"/>
                  </a:lnTo>
                  <a:lnTo>
                    <a:pt x="521" y="130"/>
                  </a:lnTo>
                  <a:lnTo>
                    <a:pt x="551" y="122"/>
                  </a:lnTo>
                  <a:lnTo>
                    <a:pt x="580" y="114"/>
                  </a:lnTo>
                  <a:lnTo>
                    <a:pt x="608" y="107"/>
                  </a:lnTo>
                  <a:lnTo>
                    <a:pt x="638" y="101"/>
                  </a:lnTo>
                  <a:lnTo>
                    <a:pt x="669" y="93"/>
                  </a:lnTo>
                  <a:lnTo>
                    <a:pt x="699" y="86"/>
                  </a:lnTo>
                  <a:lnTo>
                    <a:pt x="730" y="80"/>
                  </a:lnTo>
                  <a:lnTo>
                    <a:pt x="760" y="73"/>
                  </a:lnTo>
                  <a:lnTo>
                    <a:pt x="791" y="67"/>
                  </a:lnTo>
                  <a:lnTo>
                    <a:pt x="821" y="61"/>
                  </a:lnTo>
                  <a:lnTo>
                    <a:pt x="853" y="55"/>
                  </a:lnTo>
                  <a:lnTo>
                    <a:pt x="884" y="50"/>
                  </a:lnTo>
                  <a:lnTo>
                    <a:pt x="916" y="46"/>
                  </a:lnTo>
                  <a:lnTo>
                    <a:pt x="946" y="38"/>
                  </a:lnTo>
                  <a:lnTo>
                    <a:pt x="979" y="35"/>
                  </a:lnTo>
                  <a:lnTo>
                    <a:pt x="1009" y="31"/>
                  </a:lnTo>
                  <a:lnTo>
                    <a:pt x="1042" y="27"/>
                  </a:lnTo>
                  <a:lnTo>
                    <a:pt x="1070" y="21"/>
                  </a:lnTo>
                  <a:lnTo>
                    <a:pt x="1102" y="17"/>
                  </a:lnTo>
                  <a:lnTo>
                    <a:pt x="1131" y="14"/>
                  </a:lnTo>
                  <a:lnTo>
                    <a:pt x="1163" y="10"/>
                  </a:lnTo>
                  <a:lnTo>
                    <a:pt x="1194" y="6"/>
                  </a:lnTo>
                  <a:lnTo>
                    <a:pt x="1222" y="6"/>
                  </a:lnTo>
                  <a:lnTo>
                    <a:pt x="1251" y="2"/>
                  </a:lnTo>
                  <a:lnTo>
                    <a:pt x="1281" y="2"/>
                  </a:lnTo>
                  <a:lnTo>
                    <a:pt x="1310" y="0"/>
                  </a:lnTo>
                  <a:lnTo>
                    <a:pt x="1338" y="0"/>
                  </a:lnTo>
                  <a:lnTo>
                    <a:pt x="1367" y="0"/>
                  </a:lnTo>
                  <a:lnTo>
                    <a:pt x="1393" y="0"/>
                  </a:lnTo>
                  <a:lnTo>
                    <a:pt x="1420" y="0"/>
                  </a:lnTo>
                  <a:lnTo>
                    <a:pt x="1446" y="2"/>
                  </a:lnTo>
                  <a:lnTo>
                    <a:pt x="1473" y="4"/>
                  </a:lnTo>
                  <a:lnTo>
                    <a:pt x="1498" y="8"/>
                  </a:lnTo>
                  <a:lnTo>
                    <a:pt x="1521" y="10"/>
                  </a:lnTo>
                  <a:lnTo>
                    <a:pt x="1543" y="14"/>
                  </a:lnTo>
                  <a:lnTo>
                    <a:pt x="1564" y="17"/>
                  </a:lnTo>
                  <a:lnTo>
                    <a:pt x="1587" y="21"/>
                  </a:lnTo>
                  <a:lnTo>
                    <a:pt x="1604" y="25"/>
                  </a:lnTo>
                  <a:lnTo>
                    <a:pt x="1621" y="33"/>
                  </a:lnTo>
                  <a:lnTo>
                    <a:pt x="1638" y="36"/>
                  </a:lnTo>
                  <a:lnTo>
                    <a:pt x="1656" y="46"/>
                  </a:lnTo>
                  <a:lnTo>
                    <a:pt x="1669" y="50"/>
                  </a:lnTo>
                  <a:lnTo>
                    <a:pt x="1682" y="59"/>
                  </a:lnTo>
                  <a:lnTo>
                    <a:pt x="1694" y="67"/>
                  </a:lnTo>
                  <a:lnTo>
                    <a:pt x="1705" y="74"/>
                  </a:lnTo>
                  <a:lnTo>
                    <a:pt x="1714" y="82"/>
                  </a:lnTo>
                  <a:lnTo>
                    <a:pt x="1726" y="90"/>
                  </a:lnTo>
                  <a:lnTo>
                    <a:pt x="1733" y="99"/>
                  </a:lnTo>
                  <a:lnTo>
                    <a:pt x="1741" y="111"/>
                  </a:lnTo>
                  <a:lnTo>
                    <a:pt x="1747" y="118"/>
                  </a:lnTo>
                  <a:lnTo>
                    <a:pt x="1752" y="128"/>
                  </a:lnTo>
                  <a:lnTo>
                    <a:pt x="1756" y="137"/>
                  </a:lnTo>
                  <a:lnTo>
                    <a:pt x="1762" y="149"/>
                  </a:lnTo>
                  <a:lnTo>
                    <a:pt x="1764" y="158"/>
                  </a:lnTo>
                  <a:lnTo>
                    <a:pt x="1766" y="170"/>
                  </a:lnTo>
                  <a:lnTo>
                    <a:pt x="1768" y="179"/>
                  </a:lnTo>
                  <a:lnTo>
                    <a:pt x="1770" y="190"/>
                  </a:lnTo>
                  <a:lnTo>
                    <a:pt x="1770" y="202"/>
                  </a:lnTo>
                  <a:lnTo>
                    <a:pt x="1770" y="213"/>
                  </a:lnTo>
                  <a:lnTo>
                    <a:pt x="1770" y="223"/>
                  </a:lnTo>
                  <a:lnTo>
                    <a:pt x="1770" y="234"/>
                  </a:lnTo>
                  <a:lnTo>
                    <a:pt x="1766" y="246"/>
                  </a:lnTo>
                  <a:lnTo>
                    <a:pt x="1766" y="257"/>
                  </a:lnTo>
                  <a:lnTo>
                    <a:pt x="1762" y="270"/>
                  </a:lnTo>
                  <a:lnTo>
                    <a:pt x="1762" y="282"/>
                  </a:lnTo>
                  <a:lnTo>
                    <a:pt x="1756" y="291"/>
                  </a:lnTo>
                  <a:lnTo>
                    <a:pt x="1752" y="303"/>
                  </a:lnTo>
                  <a:lnTo>
                    <a:pt x="1749" y="314"/>
                  </a:lnTo>
                  <a:lnTo>
                    <a:pt x="1745" y="324"/>
                  </a:lnTo>
                  <a:lnTo>
                    <a:pt x="1739" y="335"/>
                  </a:lnTo>
                  <a:lnTo>
                    <a:pt x="1735" y="344"/>
                  </a:lnTo>
                  <a:lnTo>
                    <a:pt x="1730" y="356"/>
                  </a:lnTo>
                  <a:lnTo>
                    <a:pt x="1726" y="367"/>
                  </a:lnTo>
                  <a:lnTo>
                    <a:pt x="1718" y="377"/>
                  </a:lnTo>
                  <a:lnTo>
                    <a:pt x="1713" y="386"/>
                  </a:lnTo>
                  <a:lnTo>
                    <a:pt x="1709" y="396"/>
                  </a:lnTo>
                  <a:lnTo>
                    <a:pt x="1703" y="405"/>
                  </a:lnTo>
                  <a:lnTo>
                    <a:pt x="1695" y="415"/>
                  </a:lnTo>
                  <a:lnTo>
                    <a:pt x="1692" y="424"/>
                  </a:lnTo>
                  <a:lnTo>
                    <a:pt x="1686" y="432"/>
                  </a:lnTo>
                  <a:lnTo>
                    <a:pt x="1682" y="441"/>
                  </a:lnTo>
                  <a:lnTo>
                    <a:pt x="1675" y="449"/>
                  </a:lnTo>
                  <a:lnTo>
                    <a:pt x="1669" y="457"/>
                  </a:lnTo>
                  <a:lnTo>
                    <a:pt x="1665" y="462"/>
                  </a:lnTo>
                  <a:lnTo>
                    <a:pt x="1661" y="470"/>
                  </a:lnTo>
                  <a:lnTo>
                    <a:pt x="1656" y="476"/>
                  </a:lnTo>
                  <a:lnTo>
                    <a:pt x="1652" y="481"/>
                  </a:lnTo>
                  <a:lnTo>
                    <a:pt x="1648" y="487"/>
                  </a:lnTo>
                  <a:lnTo>
                    <a:pt x="1642" y="495"/>
                  </a:lnTo>
                  <a:lnTo>
                    <a:pt x="1635" y="500"/>
                  </a:lnTo>
                  <a:lnTo>
                    <a:pt x="1631" y="506"/>
                  </a:lnTo>
                  <a:lnTo>
                    <a:pt x="1629" y="512"/>
                  </a:lnTo>
                  <a:lnTo>
                    <a:pt x="1629" y="514"/>
                  </a:lnTo>
                  <a:lnTo>
                    <a:pt x="1627" y="516"/>
                  </a:lnTo>
                  <a:lnTo>
                    <a:pt x="1627" y="529"/>
                  </a:lnTo>
                  <a:lnTo>
                    <a:pt x="1627" y="535"/>
                  </a:lnTo>
                  <a:lnTo>
                    <a:pt x="1627" y="546"/>
                  </a:lnTo>
                  <a:lnTo>
                    <a:pt x="1627" y="556"/>
                  </a:lnTo>
                  <a:lnTo>
                    <a:pt x="1627" y="569"/>
                  </a:lnTo>
                  <a:lnTo>
                    <a:pt x="1625" y="575"/>
                  </a:lnTo>
                  <a:lnTo>
                    <a:pt x="1625" y="582"/>
                  </a:lnTo>
                  <a:lnTo>
                    <a:pt x="1625" y="590"/>
                  </a:lnTo>
                  <a:lnTo>
                    <a:pt x="1625" y="597"/>
                  </a:lnTo>
                  <a:lnTo>
                    <a:pt x="1625" y="605"/>
                  </a:lnTo>
                  <a:lnTo>
                    <a:pt x="1625" y="613"/>
                  </a:lnTo>
                  <a:lnTo>
                    <a:pt x="1625" y="620"/>
                  </a:lnTo>
                  <a:lnTo>
                    <a:pt x="1625" y="630"/>
                  </a:lnTo>
                  <a:lnTo>
                    <a:pt x="1625" y="639"/>
                  </a:lnTo>
                  <a:lnTo>
                    <a:pt x="1625" y="647"/>
                  </a:lnTo>
                  <a:lnTo>
                    <a:pt x="1625" y="656"/>
                  </a:lnTo>
                  <a:lnTo>
                    <a:pt x="1625" y="666"/>
                  </a:lnTo>
                  <a:lnTo>
                    <a:pt x="1625" y="675"/>
                  </a:lnTo>
                  <a:lnTo>
                    <a:pt x="1625" y="687"/>
                  </a:lnTo>
                  <a:lnTo>
                    <a:pt x="1625" y="696"/>
                  </a:lnTo>
                  <a:lnTo>
                    <a:pt x="1625" y="706"/>
                  </a:lnTo>
                  <a:lnTo>
                    <a:pt x="1616" y="713"/>
                  </a:lnTo>
                  <a:lnTo>
                    <a:pt x="1606" y="719"/>
                  </a:lnTo>
                  <a:lnTo>
                    <a:pt x="1595" y="727"/>
                  </a:lnTo>
                  <a:lnTo>
                    <a:pt x="1587" y="734"/>
                  </a:lnTo>
                  <a:lnTo>
                    <a:pt x="1576" y="740"/>
                  </a:lnTo>
                  <a:lnTo>
                    <a:pt x="1566" y="748"/>
                  </a:lnTo>
                  <a:lnTo>
                    <a:pt x="1557" y="755"/>
                  </a:lnTo>
                  <a:lnTo>
                    <a:pt x="1547" y="763"/>
                  </a:lnTo>
                  <a:lnTo>
                    <a:pt x="1536" y="770"/>
                  </a:lnTo>
                  <a:lnTo>
                    <a:pt x="1526" y="776"/>
                  </a:lnTo>
                  <a:lnTo>
                    <a:pt x="1517" y="784"/>
                  </a:lnTo>
                  <a:lnTo>
                    <a:pt x="1507" y="789"/>
                  </a:lnTo>
                  <a:lnTo>
                    <a:pt x="1498" y="797"/>
                  </a:lnTo>
                  <a:lnTo>
                    <a:pt x="1490" y="803"/>
                  </a:lnTo>
                  <a:lnTo>
                    <a:pt x="1481" y="810"/>
                  </a:lnTo>
                  <a:lnTo>
                    <a:pt x="1473" y="818"/>
                  </a:lnTo>
                  <a:lnTo>
                    <a:pt x="1464" y="824"/>
                  </a:lnTo>
                  <a:lnTo>
                    <a:pt x="1456" y="827"/>
                  </a:lnTo>
                  <a:lnTo>
                    <a:pt x="1448" y="833"/>
                  </a:lnTo>
                  <a:lnTo>
                    <a:pt x="1443" y="839"/>
                  </a:lnTo>
                  <a:lnTo>
                    <a:pt x="1433" y="843"/>
                  </a:lnTo>
                  <a:lnTo>
                    <a:pt x="1429" y="848"/>
                  </a:lnTo>
                  <a:lnTo>
                    <a:pt x="1422" y="852"/>
                  </a:lnTo>
                  <a:lnTo>
                    <a:pt x="1418" y="858"/>
                  </a:lnTo>
                  <a:lnTo>
                    <a:pt x="1408" y="864"/>
                  </a:lnTo>
                  <a:lnTo>
                    <a:pt x="1403" y="869"/>
                  </a:lnTo>
                  <a:lnTo>
                    <a:pt x="1397" y="871"/>
                  </a:lnTo>
                  <a:lnTo>
                    <a:pt x="1397" y="875"/>
                  </a:lnTo>
                  <a:lnTo>
                    <a:pt x="1395" y="877"/>
                  </a:lnTo>
                  <a:lnTo>
                    <a:pt x="1393" y="886"/>
                  </a:lnTo>
                  <a:lnTo>
                    <a:pt x="1393" y="892"/>
                  </a:lnTo>
                  <a:lnTo>
                    <a:pt x="1391" y="902"/>
                  </a:lnTo>
                  <a:lnTo>
                    <a:pt x="1389" y="909"/>
                  </a:lnTo>
                  <a:lnTo>
                    <a:pt x="1389" y="921"/>
                  </a:lnTo>
                  <a:lnTo>
                    <a:pt x="1389" y="930"/>
                  </a:lnTo>
                  <a:lnTo>
                    <a:pt x="1387" y="941"/>
                  </a:lnTo>
                  <a:lnTo>
                    <a:pt x="1387" y="955"/>
                  </a:lnTo>
                  <a:lnTo>
                    <a:pt x="1387" y="968"/>
                  </a:lnTo>
                  <a:lnTo>
                    <a:pt x="1386" y="981"/>
                  </a:lnTo>
                  <a:lnTo>
                    <a:pt x="1386" y="997"/>
                  </a:lnTo>
                  <a:lnTo>
                    <a:pt x="1386" y="1004"/>
                  </a:lnTo>
                  <a:lnTo>
                    <a:pt x="1387" y="1012"/>
                  </a:lnTo>
                  <a:lnTo>
                    <a:pt x="1387" y="1021"/>
                  </a:lnTo>
                  <a:lnTo>
                    <a:pt x="1389" y="1029"/>
                  </a:lnTo>
                  <a:lnTo>
                    <a:pt x="1389" y="1035"/>
                  </a:lnTo>
                  <a:lnTo>
                    <a:pt x="1389" y="1044"/>
                  </a:lnTo>
                  <a:lnTo>
                    <a:pt x="1389" y="1052"/>
                  </a:lnTo>
                  <a:lnTo>
                    <a:pt x="1391" y="1059"/>
                  </a:lnTo>
                  <a:lnTo>
                    <a:pt x="1391" y="1065"/>
                  </a:lnTo>
                  <a:lnTo>
                    <a:pt x="1393" y="1075"/>
                  </a:lnTo>
                  <a:lnTo>
                    <a:pt x="1393" y="1082"/>
                  </a:lnTo>
                  <a:lnTo>
                    <a:pt x="1397" y="1090"/>
                  </a:lnTo>
                  <a:lnTo>
                    <a:pt x="1397" y="1096"/>
                  </a:lnTo>
                  <a:lnTo>
                    <a:pt x="1399" y="1105"/>
                  </a:lnTo>
                  <a:lnTo>
                    <a:pt x="1401" y="1111"/>
                  </a:lnTo>
                  <a:lnTo>
                    <a:pt x="1403" y="1118"/>
                  </a:lnTo>
                  <a:lnTo>
                    <a:pt x="1407" y="1126"/>
                  </a:lnTo>
                  <a:lnTo>
                    <a:pt x="1408" y="1134"/>
                  </a:lnTo>
                  <a:lnTo>
                    <a:pt x="1412" y="1141"/>
                  </a:lnTo>
                  <a:lnTo>
                    <a:pt x="1416" y="1149"/>
                  </a:lnTo>
                  <a:lnTo>
                    <a:pt x="1420" y="1160"/>
                  </a:lnTo>
                  <a:lnTo>
                    <a:pt x="1429" y="1173"/>
                  </a:lnTo>
                  <a:lnTo>
                    <a:pt x="1435" y="1185"/>
                  </a:lnTo>
                  <a:lnTo>
                    <a:pt x="1446" y="1196"/>
                  </a:lnTo>
                  <a:lnTo>
                    <a:pt x="1456" y="1206"/>
                  </a:lnTo>
                  <a:lnTo>
                    <a:pt x="1467" y="1215"/>
                  </a:lnTo>
                  <a:lnTo>
                    <a:pt x="1473" y="1219"/>
                  </a:lnTo>
                  <a:lnTo>
                    <a:pt x="1479" y="1223"/>
                  </a:lnTo>
                  <a:lnTo>
                    <a:pt x="1486" y="1227"/>
                  </a:lnTo>
                  <a:lnTo>
                    <a:pt x="1494" y="1231"/>
                  </a:lnTo>
                  <a:lnTo>
                    <a:pt x="1500" y="1232"/>
                  </a:lnTo>
                  <a:lnTo>
                    <a:pt x="1507" y="1234"/>
                  </a:lnTo>
                  <a:lnTo>
                    <a:pt x="1517" y="1236"/>
                  </a:lnTo>
                  <a:lnTo>
                    <a:pt x="1524" y="1236"/>
                  </a:lnTo>
                  <a:lnTo>
                    <a:pt x="1530" y="1236"/>
                  </a:lnTo>
                  <a:lnTo>
                    <a:pt x="1538" y="1234"/>
                  </a:lnTo>
                  <a:lnTo>
                    <a:pt x="1545" y="1232"/>
                  </a:lnTo>
                  <a:lnTo>
                    <a:pt x="1551" y="1232"/>
                  </a:lnTo>
                  <a:lnTo>
                    <a:pt x="1562" y="1223"/>
                  </a:lnTo>
                  <a:lnTo>
                    <a:pt x="1574" y="1215"/>
                  </a:lnTo>
                  <a:lnTo>
                    <a:pt x="1583" y="1204"/>
                  </a:lnTo>
                  <a:lnTo>
                    <a:pt x="1595" y="1192"/>
                  </a:lnTo>
                  <a:lnTo>
                    <a:pt x="1597" y="1185"/>
                  </a:lnTo>
                  <a:lnTo>
                    <a:pt x="1600" y="1177"/>
                  </a:lnTo>
                  <a:lnTo>
                    <a:pt x="1604" y="1170"/>
                  </a:lnTo>
                  <a:lnTo>
                    <a:pt x="1608" y="1162"/>
                  </a:lnTo>
                  <a:lnTo>
                    <a:pt x="1612" y="1153"/>
                  </a:lnTo>
                  <a:lnTo>
                    <a:pt x="1614" y="1145"/>
                  </a:lnTo>
                  <a:lnTo>
                    <a:pt x="1618" y="1137"/>
                  </a:lnTo>
                  <a:lnTo>
                    <a:pt x="1621" y="1130"/>
                  </a:lnTo>
                  <a:lnTo>
                    <a:pt x="1621" y="1120"/>
                  </a:lnTo>
                  <a:lnTo>
                    <a:pt x="1625" y="1111"/>
                  </a:lnTo>
                  <a:lnTo>
                    <a:pt x="1625" y="1101"/>
                  </a:lnTo>
                  <a:lnTo>
                    <a:pt x="1629" y="1094"/>
                  </a:lnTo>
                  <a:lnTo>
                    <a:pt x="1629" y="1084"/>
                  </a:lnTo>
                  <a:lnTo>
                    <a:pt x="1633" y="1075"/>
                  </a:lnTo>
                  <a:lnTo>
                    <a:pt x="1635" y="1067"/>
                  </a:lnTo>
                  <a:lnTo>
                    <a:pt x="1637" y="1059"/>
                  </a:lnTo>
                  <a:lnTo>
                    <a:pt x="1640" y="1067"/>
                  </a:lnTo>
                  <a:lnTo>
                    <a:pt x="1648" y="1078"/>
                  </a:lnTo>
                  <a:lnTo>
                    <a:pt x="1652" y="1082"/>
                  </a:lnTo>
                  <a:lnTo>
                    <a:pt x="1656" y="1088"/>
                  </a:lnTo>
                  <a:lnTo>
                    <a:pt x="1661" y="1096"/>
                  </a:lnTo>
                  <a:lnTo>
                    <a:pt x="1665" y="1103"/>
                  </a:lnTo>
                  <a:lnTo>
                    <a:pt x="1669" y="1109"/>
                  </a:lnTo>
                  <a:lnTo>
                    <a:pt x="1673" y="1116"/>
                  </a:lnTo>
                  <a:lnTo>
                    <a:pt x="1678" y="1124"/>
                  </a:lnTo>
                  <a:lnTo>
                    <a:pt x="1682" y="1132"/>
                  </a:lnTo>
                  <a:lnTo>
                    <a:pt x="1688" y="1141"/>
                  </a:lnTo>
                  <a:lnTo>
                    <a:pt x="1694" y="1149"/>
                  </a:lnTo>
                  <a:lnTo>
                    <a:pt x="1699" y="1158"/>
                  </a:lnTo>
                  <a:lnTo>
                    <a:pt x="1705" y="1166"/>
                  </a:lnTo>
                  <a:lnTo>
                    <a:pt x="1709" y="1175"/>
                  </a:lnTo>
                  <a:lnTo>
                    <a:pt x="1716" y="1185"/>
                  </a:lnTo>
                  <a:lnTo>
                    <a:pt x="1722" y="1192"/>
                  </a:lnTo>
                  <a:lnTo>
                    <a:pt x="1728" y="1204"/>
                  </a:lnTo>
                  <a:lnTo>
                    <a:pt x="1733" y="1213"/>
                  </a:lnTo>
                  <a:lnTo>
                    <a:pt x="1739" y="1223"/>
                  </a:lnTo>
                  <a:lnTo>
                    <a:pt x="1745" y="1232"/>
                  </a:lnTo>
                  <a:lnTo>
                    <a:pt x="1752" y="1246"/>
                  </a:lnTo>
                  <a:lnTo>
                    <a:pt x="1756" y="1255"/>
                  </a:lnTo>
                  <a:lnTo>
                    <a:pt x="1764" y="1265"/>
                  </a:lnTo>
                  <a:lnTo>
                    <a:pt x="1770" y="1276"/>
                  </a:lnTo>
                  <a:lnTo>
                    <a:pt x="1775" y="1288"/>
                  </a:lnTo>
                  <a:lnTo>
                    <a:pt x="1781" y="1299"/>
                  </a:lnTo>
                  <a:lnTo>
                    <a:pt x="1789" y="1312"/>
                  </a:lnTo>
                  <a:lnTo>
                    <a:pt x="1794" y="1324"/>
                  </a:lnTo>
                  <a:lnTo>
                    <a:pt x="1802" y="1335"/>
                  </a:lnTo>
                  <a:lnTo>
                    <a:pt x="1808" y="1346"/>
                  </a:lnTo>
                  <a:lnTo>
                    <a:pt x="1813" y="1358"/>
                  </a:lnTo>
                  <a:lnTo>
                    <a:pt x="1819" y="1369"/>
                  </a:lnTo>
                  <a:lnTo>
                    <a:pt x="1827" y="1383"/>
                  </a:lnTo>
                  <a:lnTo>
                    <a:pt x="1830" y="1394"/>
                  </a:lnTo>
                  <a:lnTo>
                    <a:pt x="1838" y="1405"/>
                  </a:lnTo>
                  <a:lnTo>
                    <a:pt x="1844" y="1417"/>
                  </a:lnTo>
                  <a:lnTo>
                    <a:pt x="1849" y="1430"/>
                  </a:lnTo>
                  <a:lnTo>
                    <a:pt x="1853" y="1443"/>
                  </a:lnTo>
                  <a:lnTo>
                    <a:pt x="1861" y="1455"/>
                  </a:lnTo>
                  <a:lnTo>
                    <a:pt x="1865" y="1466"/>
                  </a:lnTo>
                  <a:lnTo>
                    <a:pt x="1870" y="1480"/>
                  </a:lnTo>
                  <a:lnTo>
                    <a:pt x="1874" y="1491"/>
                  </a:lnTo>
                  <a:lnTo>
                    <a:pt x="1882" y="1504"/>
                  </a:lnTo>
                  <a:lnTo>
                    <a:pt x="1886" y="1518"/>
                  </a:lnTo>
                  <a:lnTo>
                    <a:pt x="1893" y="1531"/>
                  </a:lnTo>
                  <a:lnTo>
                    <a:pt x="1897" y="1544"/>
                  </a:lnTo>
                  <a:lnTo>
                    <a:pt x="1901" y="1556"/>
                  </a:lnTo>
                  <a:lnTo>
                    <a:pt x="1905" y="1567"/>
                  </a:lnTo>
                  <a:lnTo>
                    <a:pt x="1908" y="1580"/>
                  </a:lnTo>
                  <a:lnTo>
                    <a:pt x="1914" y="1592"/>
                  </a:lnTo>
                  <a:lnTo>
                    <a:pt x="1918" y="1607"/>
                  </a:lnTo>
                  <a:lnTo>
                    <a:pt x="1922" y="1618"/>
                  </a:lnTo>
                  <a:lnTo>
                    <a:pt x="1925" y="1632"/>
                  </a:lnTo>
                  <a:lnTo>
                    <a:pt x="1927" y="1643"/>
                  </a:lnTo>
                  <a:lnTo>
                    <a:pt x="1931" y="1655"/>
                  </a:lnTo>
                  <a:lnTo>
                    <a:pt x="1933" y="1668"/>
                  </a:lnTo>
                  <a:lnTo>
                    <a:pt x="1937" y="1679"/>
                  </a:lnTo>
                  <a:lnTo>
                    <a:pt x="1939" y="1691"/>
                  </a:lnTo>
                  <a:lnTo>
                    <a:pt x="1941" y="1702"/>
                  </a:lnTo>
                  <a:lnTo>
                    <a:pt x="1944" y="1715"/>
                  </a:lnTo>
                  <a:lnTo>
                    <a:pt x="1946" y="1727"/>
                  </a:lnTo>
                  <a:lnTo>
                    <a:pt x="1944" y="1732"/>
                  </a:lnTo>
                  <a:lnTo>
                    <a:pt x="1939" y="1729"/>
                  </a:lnTo>
                  <a:lnTo>
                    <a:pt x="1933" y="1721"/>
                  </a:lnTo>
                  <a:lnTo>
                    <a:pt x="1927" y="1712"/>
                  </a:lnTo>
                  <a:lnTo>
                    <a:pt x="1922" y="1704"/>
                  </a:lnTo>
                  <a:lnTo>
                    <a:pt x="1918" y="1698"/>
                  </a:lnTo>
                  <a:lnTo>
                    <a:pt x="1912" y="1693"/>
                  </a:lnTo>
                  <a:lnTo>
                    <a:pt x="1908" y="1685"/>
                  </a:lnTo>
                  <a:lnTo>
                    <a:pt x="1901" y="1677"/>
                  </a:lnTo>
                  <a:lnTo>
                    <a:pt x="1895" y="1668"/>
                  </a:lnTo>
                  <a:lnTo>
                    <a:pt x="1887" y="1658"/>
                  </a:lnTo>
                  <a:lnTo>
                    <a:pt x="1882" y="1651"/>
                  </a:lnTo>
                  <a:lnTo>
                    <a:pt x="1874" y="1641"/>
                  </a:lnTo>
                  <a:lnTo>
                    <a:pt x="1867" y="1632"/>
                  </a:lnTo>
                  <a:lnTo>
                    <a:pt x="1857" y="1620"/>
                  </a:lnTo>
                  <a:lnTo>
                    <a:pt x="1848" y="1611"/>
                  </a:lnTo>
                  <a:lnTo>
                    <a:pt x="1838" y="1599"/>
                  </a:lnTo>
                  <a:lnTo>
                    <a:pt x="1827" y="1588"/>
                  </a:lnTo>
                  <a:lnTo>
                    <a:pt x="1817" y="1575"/>
                  </a:lnTo>
                  <a:lnTo>
                    <a:pt x="1806" y="1565"/>
                  </a:lnTo>
                  <a:lnTo>
                    <a:pt x="1792" y="1554"/>
                  </a:lnTo>
                  <a:lnTo>
                    <a:pt x="1781" y="1540"/>
                  </a:lnTo>
                  <a:lnTo>
                    <a:pt x="1768" y="1529"/>
                  </a:lnTo>
                  <a:lnTo>
                    <a:pt x="1756" y="1518"/>
                  </a:lnTo>
                  <a:lnTo>
                    <a:pt x="1739" y="1504"/>
                  </a:lnTo>
                  <a:lnTo>
                    <a:pt x="1726" y="1493"/>
                  </a:lnTo>
                  <a:lnTo>
                    <a:pt x="1709" y="1480"/>
                  </a:lnTo>
                  <a:lnTo>
                    <a:pt x="1694" y="1468"/>
                  </a:lnTo>
                  <a:lnTo>
                    <a:pt x="1675" y="1457"/>
                  </a:lnTo>
                  <a:lnTo>
                    <a:pt x="1657" y="1443"/>
                  </a:lnTo>
                  <a:lnTo>
                    <a:pt x="1638" y="1432"/>
                  </a:lnTo>
                  <a:lnTo>
                    <a:pt x="1621" y="1421"/>
                  </a:lnTo>
                  <a:lnTo>
                    <a:pt x="1600" y="1407"/>
                  </a:lnTo>
                  <a:lnTo>
                    <a:pt x="1581" y="1396"/>
                  </a:lnTo>
                  <a:lnTo>
                    <a:pt x="1560" y="1386"/>
                  </a:lnTo>
                  <a:lnTo>
                    <a:pt x="1538" y="1375"/>
                  </a:lnTo>
                  <a:lnTo>
                    <a:pt x="1517" y="1364"/>
                  </a:lnTo>
                  <a:lnTo>
                    <a:pt x="1494" y="1352"/>
                  </a:lnTo>
                  <a:lnTo>
                    <a:pt x="1469" y="1343"/>
                  </a:lnTo>
                  <a:lnTo>
                    <a:pt x="1446" y="1333"/>
                  </a:lnTo>
                  <a:lnTo>
                    <a:pt x="1420" y="1324"/>
                  </a:lnTo>
                  <a:lnTo>
                    <a:pt x="1393" y="1314"/>
                  </a:lnTo>
                  <a:lnTo>
                    <a:pt x="1365" y="1307"/>
                  </a:lnTo>
                  <a:lnTo>
                    <a:pt x="1338" y="1299"/>
                  </a:lnTo>
                  <a:lnTo>
                    <a:pt x="1310" y="1289"/>
                  </a:lnTo>
                  <a:lnTo>
                    <a:pt x="1281" y="1282"/>
                  </a:lnTo>
                  <a:lnTo>
                    <a:pt x="1251" y="1276"/>
                  </a:lnTo>
                  <a:lnTo>
                    <a:pt x="1220" y="1270"/>
                  </a:lnTo>
                  <a:lnTo>
                    <a:pt x="1186" y="1263"/>
                  </a:lnTo>
                  <a:lnTo>
                    <a:pt x="1154" y="1259"/>
                  </a:lnTo>
                  <a:lnTo>
                    <a:pt x="1119" y="1255"/>
                  </a:lnTo>
                  <a:lnTo>
                    <a:pt x="1087" y="1253"/>
                  </a:lnTo>
                  <a:lnTo>
                    <a:pt x="1051" y="1250"/>
                  </a:lnTo>
                  <a:lnTo>
                    <a:pt x="1017" y="1248"/>
                  </a:lnTo>
                  <a:lnTo>
                    <a:pt x="979" y="1248"/>
                  </a:lnTo>
                  <a:lnTo>
                    <a:pt x="943" y="1248"/>
                  </a:lnTo>
                  <a:lnTo>
                    <a:pt x="939" y="1246"/>
                  </a:lnTo>
                  <a:lnTo>
                    <a:pt x="937" y="1246"/>
                  </a:lnTo>
                  <a:lnTo>
                    <a:pt x="931" y="1246"/>
                  </a:lnTo>
                  <a:lnTo>
                    <a:pt x="924" y="1246"/>
                  </a:lnTo>
                  <a:lnTo>
                    <a:pt x="914" y="1246"/>
                  </a:lnTo>
                  <a:lnTo>
                    <a:pt x="903" y="1246"/>
                  </a:lnTo>
                  <a:lnTo>
                    <a:pt x="895" y="1246"/>
                  </a:lnTo>
                  <a:lnTo>
                    <a:pt x="889" y="1248"/>
                  </a:lnTo>
                  <a:lnTo>
                    <a:pt x="882" y="1248"/>
                  </a:lnTo>
                  <a:lnTo>
                    <a:pt x="874" y="1250"/>
                  </a:lnTo>
                  <a:lnTo>
                    <a:pt x="865" y="1250"/>
                  </a:lnTo>
                  <a:lnTo>
                    <a:pt x="857" y="1250"/>
                  </a:lnTo>
                  <a:lnTo>
                    <a:pt x="848" y="1250"/>
                  </a:lnTo>
                  <a:lnTo>
                    <a:pt x="838" y="1251"/>
                  </a:lnTo>
                  <a:lnTo>
                    <a:pt x="829" y="1251"/>
                  </a:lnTo>
                  <a:lnTo>
                    <a:pt x="819" y="1253"/>
                  </a:lnTo>
                  <a:lnTo>
                    <a:pt x="808" y="1255"/>
                  </a:lnTo>
                  <a:lnTo>
                    <a:pt x="800" y="1255"/>
                  </a:lnTo>
                  <a:lnTo>
                    <a:pt x="787" y="1255"/>
                  </a:lnTo>
                  <a:lnTo>
                    <a:pt x="775" y="1259"/>
                  </a:lnTo>
                  <a:lnTo>
                    <a:pt x="764" y="1259"/>
                  </a:lnTo>
                  <a:lnTo>
                    <a:pt x="753" y="1263"/>
                  </a:lnTo>
                  <a:lnTo>
                    <a:pt x="741" y="1263"/>
                  </a:lnTo>
                  <a:lnTo>
                    <a:pt x="730" y="1267"/>
                  </a:lnTo>
                  <a:lnTo>
                    <a:pt x="716" y="1267"/>
                  </a:lnTo>
                  <a:lnTo>
                    <a:pt x="705" y="1272"/>
                  </a:lnTo>
                  <a:lnTo>
                    <a:pt x="690" y="1272"/>
                  </a:lnTo>
                  <a:lnTo>
                    <a:pt x="678" y="1276"/>
                  </a:lnTo>
                  <a:lnTo>
                    <a:pt x="663" y="1278"/>
                  </a:lnTo>
                  <a:lnTo>
                    <a:pt x="652" y="1282"/>
                  </a:lnTo>
                  <a:lnTo>
                    <a:pt x="638" y="1286"/>
                  </a:lnTo>
                  <a:lnTo>
                    <a:pt x="625" y="1289"/>
                  </a:lnTo>
                  <a:lnTo>
                    <a:pt x="612" y="1293"/>
                  </a:lnTo>
                  <a:lnTo>
                    <a:pt x="599" y="1297"/>
                  </a:lnTo>
                  <a:lnTo>
                    <a:pt x="581" y="1301"/>
                  </a:lnTo>
                  <a:lnTo>
                    <a:pt x="568" y="1305"/>
                  </a:lnTo>
                  <a:lnTo>
                    <a:pt x="553" y="1308"/>
                  </a:lnTo>
                  <a:lnTo>
                    <a:pt x="540" y="1314"/>
                  </a:lnTo>
                  <a:lnTo>
                    <a:pt x="524" y="1318"/>
                  </a:lnTo>
                  <a:lnTo>
                    <a:pt x="511" y="1324"/>
                  </a:lnTo>
                  <a:lnTo>
                    <a:pt x="496" y="1329"/>
                  </a:lnTo>
                  <a:lnTo>
                    <a:pt x="483" y="1335"/>
                  </a:lnTo>
                  <a:lnTo>
                    <a:pt x="467" y="1339"/>
                  </a:lnTo>
                  <a:lnTo>
                    <a:pt x="452" y="1346"/>
                  </a:lnTo>
                  <a:lnTo>
                    <a:pt x="437" y="1352"/>
                  </a:lnTo>
                  <a:lnTo>
                    <a:pt x="424" y="1360"/>
                  </a:lnTo>
                  <a:lnTo>
                    <a:pt x="407" y="1366"/>
                  </a:lnTo>
                  <a:lnTo>
                    <a:pt x="393" y="1373"/>
                  </a:lnTo>
                  <a:lnTo>
                    <a:pt x="378" y="1383"/>
                  </a:lnTo>
                  <a:lnTo>
                    <a:pt x="365" y="1390"/>
                  </a:lnTo>
                  <a:lnTo>
                    <a:pt x="350" y="1398"/>
                  </a:lnTo>
                  <a:lnTo>
                    <a:pt x="336" y="1405"/>
                  </a:lnTo>
                  <a:lnTo>
                    <a:pt x="321" y="1413"/>
                  </a:lnTo>
                  <a:lnTo>
                    <a:pt x="308" y="1424"/>
                  </a:lnTo>
                  <a:lnTo>
                    <a:pt x="292" y="1432"/>
                  </a:lnTo>
                  <a:lnTo>
                    <a:pt x="279" y="1443"/>
                  </a:lnTo>
                  <a:lnTo>
                    <a:pt x="266" y="1453"/>
                  </a:lnTo>
                  <a:lnTo>
                    <a:pt x="253" y="1464"/>
                  </a:lnTo>
                  <a:lnTo>
                    <a:pt x="253" y="1459"/>
                  </a:lnTo>
                  <a:lnTo>
                    <a:pt x="258" y="1447"/>
                  </a:lnTo>
                  <a:lnTo>
                    <a:pt x="258" y="1440"/>
                  </a:lnTo>
                  <a:lnTo>
                    <a:pt x="262" y="1428"/>
                  </a:lnTo>
                  <a:lnTo>
                    <a:pt x="266" y="1417"/>
                  </a:lnTo>
                  <a:lnTo>
                    <a:pt x="272" y="1405"/>
                  </a:lnTo>
                  <a:lnTo>
                    <a:pt x="272" y="1398"/>
                  </a:lnTo>
                  <a:lnTo>
                    <a:pt x="273" y="1390"/>
                  </a:lnTo>
                  <a:lnTo>
                    <a:pt x="275" y="1383"/>
                  </a:lnTo>
                  <a:lnTo>
                    <a:pt x="277" y="1375"/>
                  </a:lnTo>
                  <a:lnTo>
                    <a:pt x="279" y="1366"/>
                  </a:lnTo>
                  <a:lnTo>
                    <a:pt x="281" y="1358"/>
                  </a:lnTo>
                  <a:lnTo>
                    <a:pt x="283" y="1348"/>
                  </a:lnTo>
                  <a:lnTo>
                    <a:pt x="287" y="1341"/>
                  </a:lnTo>
                  <a:lnTo>
                    <a:pt x="289" y="1329"/>
                  </a:lnTo>
                  <a:lnTo>
                    <a:pt x="291" y="1322"/>
                  </a:lnTo>
                  <a:lnTo>
                    <a:pt x="292" y="1312"/>
                  </a:lnTo>
                  <a:lnTo>
                    <a:pt x="296" y="1303"/>
                  </a:lnTo>
                  <a:lnTo>
                    <a:pt x="298" y="1293"/>
                  </a:lnTo>
                  <a:lnTo>
                    <a:pt x="302" y="1284"/>
                  </a:lnTo>
                  <a:lnTo>
                    <a:pt x="304" y="1272"/>
                  </a:lnTo>
                  <a:lnTo>
                    <a:pt x="308" y="1263"/>
                  </a:lnTo>
                  <a:lnTo>
                    <a:pt x="310" y="1251"/>
                  </a:lnTo>
                  <a:lnTo>
                    <a:pt x="312" y="1242"/>
                  </a:lnTo>
                  <a:lnTo>
                    <a:pt x="313" y="1229"/>
                  </a:lnTo>
                  <a:lnTo>
                    <a:pt x="317" y="1219"/>
                  </a:lnTo>
                  <a:lnTo>
                    <a:pt x="319" y="1206"/>
                  </a:lnTo>
                  <a:lnTo>
                    <a:pt x="321" y="1196"/>
                  </a:lnTo>
                  <a:lnTo>
                    <a:pt x="323" y="1185"/>
                  </a:lnTo>
                  <a:lnTo>
                    <a:pt x="327" y="1175"/>
                  </a:lnTo>
                  <a:lnTo>
                    <a:pt x="327" y="1162"/>
                  </a:lnTo>
                  <a:lnTo>
                    <a:pt x="329" y="1151"/>
                  </a:lnTo>
                  <a:lnTo>
                    <a:pt x="331" y="1139"/>
                  </a:lnTo>
                  <a:lnTo>
                    <a:pt x="332" y="1128"/>
                  </a:lnTo>
                  <a:lnTo>
                    <a:pt x="334" y="1116"/>
                  </a:lnTo>
                  <a:lnTo>
                    <a:pt x="336" y="1105"/>
                  </a:lnTo>
                  <a:lnTo>
                    <a:pt x="338" y="1096"/>
                  </a:lnTo>
                  <a:lnTo>
                    <a:pt x="340" y="1084"/>
                  </a:lnTo>
                  <a:lnTo>
                    <a:pt x="340" y="1073"/>
                  </a:lnTo>
                  <a:lnTo>
                    <a:pt x="342" y="1061"/>
                  </a:lnTo>
                  <a:lnTo>
                    <a:pt x="344" y="1050"/>
                  </a:lnTo>
                  <a:lnTo>
                    <a:pt x="346" y="1038"/>
                  </a:lnTo>
                  <a:lnTo>
                    <a:pt x="346" y="1027"/>
                  </a:lnTo>
                  <a:lnTo>
                    <a:pt x="346" y="1018"/>
                  </a:lnTo>
                  <a:lnTo>
                    <a:pt x="348" y="1006"/>
                  </a:lnTo>
                  <a:lnTo>
                    <a:pt x="350" y="997"/>
                  </a:lnTo>
                  <a:lnTo>
                    <a:pt x="350" y="985"/>
                  </a:lnTo>
                  <a:lnTo>
                    <a:pt x="350" y="978"/>
                  </a:lnTo>
                  <a:lnTo>
                    <a:pt x="350" y="966"/>
                  </a:lnTo>
                  <a:lnTo>
                    <a:pt x="350" y="957"/>
                  </a:lnTo>
                  <a:lnTo>
                    <a:pt x="348" y="947"/>
                  </a:lnTo>
                  <a:lnTo>
                    <a:pt x="348" y="938"/>
                  </a:lnTo>
                  <a:lnTo>
                    <a:pt x="348" y="930"/>
                  </a:lnTo>
                  <a:lnTo>
                    <a:pt x="348" y="921"/>
                  </a:lnTo>
                  <a:lnTo>
                    <a:pt x="346" y="911"/>
                  </a:lnTo>
                  <a:lnTo>
                    <a:pt x="344" y="902"/>
                  </a:lnTo>
                  <a:lnTo>
                    <a:pt x="340" y="890"/>
                  </a:lnTo>
                  <a:lnTo>
                    <a:pt x="340" y="881"/>
                  </a:lnTo>
                  <a:lnTo>
                    <a:pt x="336" y="869"/>
                  </a:lnTo>
                  <a:lnTo>
                    <a:pt x="332" y="860"/>
                  </a:lnTo>
                  <a:lnTo>
                    <a:pt x="327" y="848"/>
                  </a:lnTo>
                  <a:lnTo>
                    <a:pt x="325" y="837"/>
                  </a:lnTo>
                  <a:lnTo>
                    <a:pt x="319" y="826"/>
                  </a:lnTo>
                  <a:lnTo>
                    <a:pt x="315" y="814"/>
                  </a:lnTo>
                  <a:lnTo>
                    <a:pt x="310" y="801"/>
                  </a:lnTo>
                  <a:lnTo>
                    <a:pt x="306" y="789"/>
                  </a:lnTo>
                  <a:lnTo>
                    <a:pt x="300" y="776"/>
                  </a:lnTo>
                  <a:lnTo>
                    <a:pt x="294" y="765"/>
                  </a:lnTo>
                  <a:lnTo>
                    <a:pt x="289" y="751"/>
                  </a:lnTo>
                  <a:lnTo>
                    <a:pt x="283" y="740"/>
                  </a:lnTo>
                  <a:lnTo>
                    <a:pt x="275" y="725"/>
                  </a:lnTo>
                  <a:lnTo>
                    <a:pt x="270" y="713"/>
                  </a:lnTo>
                  <a:lnTo>
                    <a:pt x="262" y="698"/>
                  </a:lnTo>
                  <a:lnTo>
                    <a:pt x="256" y="687"/>
                  </a:lnTo>
                  <a:lnTo>
                    <a:pt x="249" y="671"/>
                  </a:lnTo>
                  <a:lnTo>
                    <a:pt x="241" y="660"/>
                  </a:lnTo>
                  <a:lnTo>
                    <a:pt x="234" y="645"/>
                  </a:lnTo>
                  <a:lnTo>
                    <a:pt x="228" y="633"/>
                  </a:lnTo>
                  <a:lnTo>
                    <a:pt x="218" y="618"/>
                  </a:lnTo>
                  <a:lnTo>
                    <a:pt x="211" y="605"/>
                  </a:lnTo>
                  <a:lnTo>
                    <a:pt x="203" y="592"/>
                  </a:lnTo>
                  <a:lnTo>
                    <a:pt x="197" y="578"/>
                  </a:lnTo>
                  <a:lnTo>
                    <a:pt x="188" y="565"/>
                  </a:lnTo>
                  <a:lnTo>
                    <a:pt x="180" y="552"/>
                  </a:lnTo>
                  <a:lnTo>
                    <a:pt x="173" y="540"/>
                  </a:lnTo>
                  <a:lnTo>
                    <a:pt x="167" y="529"/>
                  </a:lnTo>
                  <a:lnTo>
                    <a:pt x="158" y="516"/>
                  </a:lnTo>
                  <a:lnTo>
                    <a:pt x="150" y="502"/>
                  </a:lnTo>
                  <a:lnTo>
                    <a:pt x="142" y="489"/>
                  </a:lnTo>
                  <a:lnTo>
                    <a:pt x="135" y="476"/>
                  </a:lnTo>
                  <a:lnTo>
                    <a:pt x="127" y="464"/>
                  </a:lnTo>
                  <a:lnTo>
                    <a:pt x="118" y="453"/>
                  </a:lnTo>
                  <a:lnTo>
                    <a:pt x="110" y="441"/>
                  </a:lnTo>
                  <a:lnTo>
                    <a:pt x="104" y="430"/>
                  </a:lnTo>
                  <a:lnTo>
                    <a:pt x="97" y="419"/>
                  </a:lnTo>
                  <a:lnTo>
                    <a:pt x="87" y="407"/>
                  </a:lnTo>
                  <a:lnTo>
                    <a:pt x="81" y="398"/>
                  </a:lnTo>
                  <a:lnTo>
                    <a:pt x="74" y="388"/>
                  </a:lnTo>
                  <a:lnTo>
                    <a:pt x="66" y="377"/>
                  </a:lnTo>
                  <a:lnTo>
                    <a:pt x="61" y="367"/>
                  </a:lnTo>
                  <a:lnTo>
                    <a:pt x="55" y="360"/>
                  </a:lnTo>
                  <a:lnTo>
                    <a:pt x="51" y="352"/>
                  </a:lnTo>
                  <a:lnTo>
                    <a:pt x="43" y="343"/>
                  </a:lnTo>
                  <a:lnTo>
                    <a:pt x="40" y="335"/>
                  </a:lnTo>
                  <a:lnTo>
                    <a:pt x="34" y="327"/>
                  </a:lnTo>
                  <a:lnTo>
                    <a:pt x="30" y="320"/>
                  </a:lnTo>
                  <a:lnTo>
                    <a:pt x="21" y="308"/>
                  </a:lnTo>
                  <a:lnTo>
                    <a:pt x="13" y="297"/>
                  </a:lnTo>
                  <a:lnTo>
                    <a:pt x="7" y="287"/>
                  </a:lnTo>
                  <a:lnTo>
                    <a:pt x="4" y="284"/>
                  </a:lnTo>
                  <a:lnTo>
                    <a:pt x="0" y="278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c7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143080" y="473040"/>
              <a:ext cx="117720" cy="356760"/>
            </a:xfrm>
            <a:custGeom>
              <a:avLst/>
              <a:gdLst/>
              <a:ahLst/>
              <a:rect l="l" t="t" r="r" b="b"/>
              <a:pathLst>
                <a:path w="635" h="1926">
                  <a:moveTo>
                    <a:pt x="177" y="34"/>
                  </a:moveTo>
                  <a:lnTo>
                    <a:pt x="181" y="38"/>
                  </a:lnTo>
                  <a:lnTo>
                    <a:pt x="189" y="43"/>
                  </a:lnTo>
                  <a:lnTo>
                    <a:pt x="198" y="53"/>
                  </a:lnTo>
                  <a:lnTo>
                    <a:pt x="202" y="57"/>
                  </a:lnTo>
                  <a:lnTo>
                    <a:pt x="208" y="62"/>
                  </a:lnTo>
                  <a:lnTo>
                    <a:pt x="213" y="68"/>
                  </a:lnTo>
                  <a:lnTo>
                    <a:pt x="221" y="76"/>
                  </a:lnTo>
                  <a:lnTo>
                    <a:pt x="229" y="83"/>
                  </a:lnTo>
                  <a:lnTo>
                    <a:pt x="236" y="91"/>
                  </a:lnTo>
                  <a:lnTo>
                    <a:pt x="244" y="98"/>
                  </a:lnTo>
                  <a:lnTo>
                    <a:pt x="253" y="108"/>
                  </a:lnTo>
                  <a:lnTo>
                    <a:pt x="261" y="117"/>
                  </a:lnTo>
                  <a:lnTo>
                    <a:pt x="268" y="127"/>
                  </a:lnTo>
                  <a:lnTo>
                    <a:pt x="278" y="138"/>
                  </a:lnTo>
                  <a:lnTo>
                    <a:pt x="289" y="150"/>
                  </a:lnTo>
                  <a:lnTo>
                    <a:pt x="297" y="161"/>
                  </a:lnTo>
                  <a:lnTo>
                    <a:pt x="306" y="175"/>
                  </a:lnTo>
                  <a:lnTo>
                    <a:pt x="316" y="186"/>
                  </a:lnTo>
                  <a:lnTo>
                    <a:pt x="329" y="201"/>
                  </a:lnTo>
                  <a:lnTo>
                    <a:pt x="339" y="213"/>
                  </a:lnTo>
                  <a:lnTo>
                    <a:pt x="350" y="228"/>
                  </a:lnTo>
                  <a:lnTo>
                    <a:pt x="360" y="241"/>
                  </a:lnTo>
                  <a:lnTo>
                    <a:pt x="373" y="258"/>
                  </a:lnTo>
                  <a:lnTo>
                    <a:pt x="383" y="273"/>
                  </a:lnTo>
                  <a:lnTo>
                    <a:pt x="394" y="289"/>
                  </a:lnTo>
                  <a:lnTo>
                    <a:pt x="405" y="306"/>
                  </a:lnTo>
                  <a:lnTo>
                    <a:pt x="417" y="325"/>
                  </a:lnTo>
                  <a:lnTo>
                    <a:pt x="428" y="340"/>
                  </a:lnTo>
                  <a:lnTo>
                    <a:pt x="438" y="359"/>
                  </a:lnTo>
                  <a:lnTo>
                    <a:pt x="449" y="376"/>
                  </a:lnTo>
                  <a:lnTo>
                    <a:pt x="460" y="395"/>
                  </a:lnTo>
                  <a:lnTo>
                    <a:pt x="470" y="414"/>
                  </a:lnTo>
                  <a:lnTo>
                    <a:pt x="481" y="433"/>
                  </a:lnTo>
                  <a:lnTo>
                    <a:pt x="491" y="454"/>
                  </a:lnTo>
                  <a:lnTo>
                    <a:pt x="504" y="475"/>
                  </a:lnTo>
                  <a:lnTo>
                    <a:pt x="514" y="496"/>
                  </a:lnTo>
                  <a:lnTo>
                    <a:pt x="521" y="517"/>
                  </a:lnTo>
                  <a:lnTo>
                    <a:pt x="531" y="538"/>
                  </a:lnTo>
                  <a:lnTo>
                    <a:pt x="542" y="561"/>
                  </a:lnTo>
                  <a:lnTo>
                    <a:pt x="550" y="581"/>
                  </a:lnTo>
                  <a:lnTo>
                    <a:pt x="559" y="606"/>
                  </a:lnTo>
                  <a:lnTo>
                    <a:pt x="567" y="629"/>
                  </a:lnTo>
                  <a:lnTo>
                    <a:pt x="576" y="654"/>
                  </a:lnTo>
                  <a:lnTo>
                    <a:pt x="582" y="677"/>
                  </a:lnTo>
                  <a:lnTo>
                    <a:pt x="590" y="699"/>
                  </a:lnTo>
                  <a:lnTo>
                    <a:pt x="595" y="724"/>
                  </a:lnTo>
                  <a:lnTo>
                    <a:pt x="603" y="751"/>
                  </a:lnTo>
                  <a:lnTo>
                    <a:pt x="609" y="773"/>
                  </a:lnTo>
                  <a:lnTo>
                    <a:pt x="613" y="800"/>
                  </a:lnTo>
                  <a:lnTo>
                    <a:pt x="618" y="825"/>
                  </a:lnTo>
                  <a:lnTo>
                    <a:pt x="624" y="853"/>
                  </a:lnTo>
                  <a:lnTo>
                    <a:pt x="626" y="878"/>
                  </a:lnTo>
                  <a:lnTo>
                    <a:pt x="630" y="905"/>
                  </a:lnTo>
                  <a:lnTo>
                    <a:pt x="632" y="933"/>
                  </a:lnTo>
                  <a:lnTo>
                    <a:pt x="635" y="962"/>
                  </a:lnTo>
                  <a:lnTo>
                    <a:pt x="635" y="988"/>
                  </a:lnTo>
                  <a:lnTo>
                    <a:pt x="635" y="1015"/>
                  </a:lnTo>
                  <a:lnTo>
                    <a:pt x="635" y="1045"/>
                  </a:lnTo>
                  <a:lnTo>
                    <a:pt x="635" y="1074"/>
                  </a:lnTo>
                  <a:lnTo>
                    <a:pt x="633" y="1101"/>
                  </a:lnTo>
                  <a:lnTo>
                    <a:pt x="632" y="1129"/>
                  </a:lnTo>
                  <a:lnTo>
                    <a:pt x="628" y="1156"/>
                  </a:lnTo>
                  <a:lnTo>
                    <a:pt x="626" y="1182"/>
                  </a:lnTo>
                  <a:lnTo>
                    <a:pt x="620" y="1207"/>
                  </a:lnTo>
                  <a:lnTo>
                    <a:pt x="616" y="1234"/>
                  </a:lnTo>
                  <a:lnTo>
                    <a:pt x="611" y="1258"/>
                  </a:lnTo>
                  <a:lnTo>
                    <a:pt x="607" y="1283"/>
                  </a:lnTo>
                  <a:lnTo>
                    <a:pt x="599" y="1306"/>
                  </a:lnTo>
                  <a:lnTo>
                    <a:pt x="594" y="1331"/>
                  </a:lnTo>
                  <a:lnTo>
                    <a:pt x="588" y="1353"/>
                  </a:lnTo>
                  <a:lnTo>
                    <a:pt x="582" y="1376"/>
                  </a:lnTo>
                  <a:lnTo>
                    <a:pt x="575" y="1397"/>
                  </a:lnTo>
                  <a:lnTo>
                    <a:pt x="567" y="1420"/>
                  </a:lnTo>
                  <a:lnTo>
                    <a:pt x="559" y="1441"/>
                  </a:lnTo>
                  <a:lnTo>
                    <a:pt x="552" y="1462"/>
                  </a:lnTo>
                  <a:lnTo>
                    <a:pt x="544" y="1481"/>
                  </a:lnTo>
                  <a:lnTo>
                    <a:pt x="535" y="1502"/>
                  </a:lnTo>
                  <a:lnTo>
                    <a:pt x="525" y="1521"/>
                  </a:lnTo>
                  <a:lnTo>
                    <a:pt x="517" y="1538"/>
                  </a:lnTo>
                  <a:lnTo>
                    <a:pt x="508" y="1555"/>
                  </a:lnTo>
                  <a:lnTo>
                    <a:pt x="498" y="1574"/>
                  </a:lnTo>
                  <a:lnTo>
                    <a:pt x="489" y="1591"/>
                  </a:lnTo>
                  <a:lnTo>
                    <a:pt x="479" y="1608"/>
                  </a:lnTo>
                  <a:lnTo>
                    <a:pt x="468" y="1623"/>
                  </a:lnTo>
                  <a:lnTo>
                    <a:pt x="460" y="1639"/>
                  </a:lnTo>
                  <a:lnTo>
                    <a:pt x="449" y="1656"/>
                  </a:lnTo>
                  <a:lnTo>
                    <a:pt x="440" y="1671"/>
                  </a:lnTo>
                  <a:lnTo>
                    <a:pt x="430" y="1684"/>
                  </a:lnTo>
                  <a:lnTo>
                    <a:pt x="421" y="1699"/>
                  </a:lnTo>
                  <a:lnTo>
                    <a:pt x="411" y="1713"/>
                  </a:lnTo>
                  <a:lnTo>
                    <a:pt x="402" y="1726"/>
                  </a:lnTo>
                  <a:lnTo>
                    <a:pt x="390" y="1739"/>
                  </a:lnTo>
                  <a:lnTo>
                    <a:pt x="383" y="1751"/>
                  </a:lnTo>
                  <a:lnTo>
                    <a:pt x="371" y="1762"/>
                  </a:lnTo>
                  <a:lnTo>
                    <a:pt x="362" y="1776"/>
                  </a:lnTo>
                  <a:lnTo>
                    <a:pt x="352" y="1783"/>
                  </a:lnTo>
                  <a:lnTo>
                    <a:pt x="343" y="1795"/>
                  </a:lnTo>
                  <a:lnTo>
                    <a:pt x="331" y="1806"/>
                  </a:lnTo>
                  <a:lnTo>
                    <a:pt x="324" y="1815"/>
                  </a:lnTo>
                  <a:lnTo>
                    <a:pt x="312" y="1823"/>
                  </a:lnTo>
                  <a:lnTo>
                    <a:pt x="303" y="1833"/>
                  </a:lnTo>
                  <a:lnTo>
                    <a:pt x="295" y="1840"/>
                  </a:lnTo>
                  <a:lnTo>
                    <a:pt x="287" y="1850"/>
                  </a:lnTo>
                  <a:lnTo>
                    <a:pt x="278" y="1855"/>
                  </a:lnTo>
                  <a:lnTo>
                    <a:pt x="270" y="1863"/>
                  </a:lnTo>
                  <a:lnTo>
                    <a:pt x="263" y="1871"/>
                  </a:lnTo>
                  <a:lnTo>
                    <a:pt x="257" y="1878"/>
                  </a:lnTo>
                  <a:lnTo>
                    <a:pt x="249" y="1884"/>
                  </a:lnTo>
                  <a:lnTo>
                    <a:pt x="242" y="1890"/>
                  </a:lnTo>
                  <a:lnTo>
                    <a:pt x="234" y="1893"/>
                  </a:lnTo>
                  <a:lnTo>
                    <a:pt x="229" y="1897"/>
                  </a:lnTo>
                  <a:lnTo>
                    <a:pt x="217" y="1907"/>
                  </a:lnTo>
                  <a:lnTo>
                    <a:pt x="210" y="1914"/>
                  </a:lnTo>
                  <a:lnTo>
                    <a:pt x="200" y="1918"/>
                  </a:lnTo>
                  <a:lnTo>
                    <a:pt x="196" y="1922"/>
                  </a:lnTo>
                  <a:lnTo>
                    <a:pt x="192" y="1924"/>
                  </a:lnTo>
                  <a:lnTo>
                    <a:pt x="192" y="1926"/>
                  </a:lnTo>
                  <a:lnTo>
                    <a:pt x="0" y="1905"/>
                  </a:lnTo>
                  <a:lnTo>
                    <a:pt x="251" y="1120"/>
                  </a:lnTo>
                  <a:lnTo>
                    <a:pt x="263" y="1085"/>
                  </a:lnTo>
                  <a:lnTo>
                    <a:pt x="274" y="1051"/>
                  </a:lnTo>
                  <a:lnTo>
                    <a:pt x="286" y="1019"/>
                  </a:lnTo>
                  <a:lnTo>
                    <a:pt x="295" y="986"/>
                  </a:lnTo>
                  <a:lnTo>
                    <a:pt x="303" y="954"/>
                  </a:lnTo>
                  <a:lnTo>
                    <a:pt x="312" y="922"/>
                  </a:lnTo>
                  <a:lnTo>
                    <a:pt x="318" y="891"/>
                  </a:lnTo>
                  <a:lnTo>
                    <a:pt x="325" y="863"/>
                  </a:lnTo>
                  <a:lnTo>
                    <a:pt x="329" y="832"/>
                  </a:lnTo>
                  <a:lnTo>
                    <a:pt x="333" y="804"/>
                  </a:lnTo>
                  <a:lnTo>
                    <a:pt x="335" y="775"/>
                  </a:lnTo>
                  <a:lnTo>
                    <a:pt x="337" y="747"/>
                  </a:lnTo>
                  <a:lnTo>
                    <a:pt x="339" y="720"/>
                  </a:lnTo>
                  <a:lnTo>
                    <a:pt x="341" y="692"/>
                  </a:lnTo>
                  <a:lnTo>
                    <a:pt x="341" y="665"/>
                  </a:lnTo>
                  <a:lnTo>
                    <a:pt x="341" y="640"/>
                  </a:lnTo>
                  <a:lnTo>
                    <a:pt x="337" y="612"/>
                  </a:lnTo>
                  <a:lnTo>
                    <a:pt x="337" y="587"/>
                  </a:lnTo>
                  <a:lnTo>
                    <a:pt x="333" y="562"/>
                  </a:lnTo>
                  <a:lnTo>
                    <a:pt x="329" y="540"/>
                  </a:lnTo>
                  <a:lnTo>
                    <a:pt x="325" y="515"/>
                  </a:lnTo>
                  <a:lnTo>
                    <a:pt x="322" y="492"/>
                  </a:lnTo>
                  <a:lnTo>
                    <a:pt x="316" y="469"/>
                  </a:lnTo>
                  <a:lnTo>
                    <a:pt x="312" y="448"/>
                  </a:lnTo>
                  <a:lnTo>
                    <a:pt x="305" y="426"/>
                  </a:lnTo>
                  <a:lnTo>
                    <a:pt x="299" y="403"/>
                  </a:lnTo>
                  <a:lnTo>
                    <a:pt x="291" y="384"/>
                  </a:lnTo>
                  <a:lnTo>
                    <a:pt x="286" y="363"/>
                  </a:lnTo>
                  <a:lnTo>
                    <a:pt x="276" y="344"/>
                  </a:lnTo>
                  <a:lnTo>
                    <a:pt x="270" y="325"/>
                  </a:lnTo>
                  <a:lnTo>
                    <a:pt x="263" y="306"/>
                  </a:lnTo>
                  <a:lnTo>
                    <a:pt x="255" y="289"/>
                  </a:lnTo>
                  <a:lnTo>
                    <a:pt x="246" y="270"/>
                  </a:lnTo>
                  <a:lnTo>
                    <a:pt x="238" y="252"/>
                  </a:lnTo>
                  <a:lnTo>
                    <a:pt x="229" y="237"/>
                  </a:lnTo>
                  <a:lnTo>
                    <a:pt x="221" y="220"/>
                  </a:lnTo>
                  <a:lnTo>
                    <a:pt x="211" y="205"/>
                  </a:lnTo>
                  <a:lnTo>
                    <a:pt x="202" y="188"/>
                  </a:lnTo>
                  <a:lnTo>
                    <a:pt x="192" y="175"/>
                  </a:lnTo>
                  <a:lnTo>
                    <a:pt x="185" y="161"/>
                  </a:lnTo>
                  <a:lnTo>
                    <a:pt x="173" y="148"/>
                  </a:lnTo>
                  <a:lnTo>
                    <a:pt x="164" y="135"/>
                  </a:lnTo>
                  <a:lnTo>
                    <a:pt x="154" y="123"/>
                  </a:lnTo>
                  <a:lnTo>
                    <a:pt x="147" y="112"/>
                  </a:lnTo>
                  <a:lnTo>
                    <a:pt x="137" y="100"/>
                  </a:lnTo>
                  <a:lnTo>
                    <a:pt x="130" y="91"/>
                  </a:lnTo>
                  <a:lnTo>
                    <a:pt x="122" y="79"/>
                  </a:lnTo>
                  <a:lnTo>
                    <a:pt x="114" y="72"/>
                  </a:lnTo>
                  <a:lnTo>
                    <a:pt x="107" y="60"/>
                  </a:lnTo>
                  <a:lnTo>
                    <a:pt x="97" y="53"/>
                  </a:lnTo>
                  <a:lnTo>
                    <a:pt x="90" y="45"/>
                  </a:lnTo>
                  <a:lnTo>
                    <a:pt x="84" y="38"/>
                  </a:lnTo>
                  <a:lnTo>
                    <a:pt x="76" y="30"/>
                  </a:lnTo>
                  <a:lnTo>
                    <a:pt x="71" y="26"/>
                  </a:lnTo>
                  <a:lnTo>
                    <a:pt x="65" y="21"/>
                  </a:lnTo>
                  <a:lnTo>
                    <a:pt x="61" y="17"/>
                  </a:lnTo>
                  <a:lnTo>
                    <a:pt x="52" y="7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77" y="34"/>
                  </a:lnTo>
                  <a:lnTo>
                    <a:pt x="177" y="34"/>
                  </a:lnTo>
                  <a:close/>
                </a:path>
              </a:pathLst>
            </a:custGeom>
            <a:solidFill>
              <a:srgbClr val="ede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2178000" y="246960"/>
              <a:ext cx="109440" cy="231120"/>
            </a:xfrm>
            <a:custGeom>
              <a:avLst/>
              <a:gdLst/>
              <a:ahLst/>
              <a:rect l="l" t="t" r="r" b="b"/>
              <a:pathLst>
                <a:path w="593" h="1247">
                  <a:moveTo>
                    <a:pt x="66" y="6"/>
                  </a:moveTo>
                  <a:lnTo>
                    <a:pt x="0" y="1019"/>
                  </a:lnTo>
                  <a:lnTo>
                    <a:pt x="108" y="1207"/>
                  </a:lnTo>
                  <a:lnTo>
                    <a:pt x="329" y="1247"/>
                  </a:lnTo>
                  <a:lnTo>
                    <a:pt x="325" y="1245"/>
                  </a:lnTo>
                  <a:lnTo>
                    <a:pt x="319" y="1242"/>
                  </a:lnTo>
                  <a:lnTo>
                    <a:pt x="312" y="1238"/>
                  </a:lnTo>
                  <a:lnTo>
                    <a:pt x="306" y="1234"/>
                  </a:lnTo>
                  <a:lnTo>
                    <a:pt x="300" y="1228"/>
                  </a:lnTo>
                  <a:lnTo>
                    <a:pt x="293" y="1224"/>
                  </a:lnTo>
                  <a:lnTo>
                    <a:pt x="283" y="1215"/>
                  </a:lnTo>
                  <a:lnTo>
                    <a:pt x="275" y="1209"/>
                  </a:lnTo>
                  <a:lnTo>
                    <a:pt x="266" y="1200"/>
                  </a:lnTo>
                  <a:lnTo>
                    <a:pt x="256" y="1190"/>
                  </a:lnTo>
                  <a:lnTo>
                    <a:pt x="247" y="1179"/>
                  </a:lnTo>
                  <a:lnTo>
                    <a:pt x="237" y="1167"/>
                  </a:lnTo>
                  <a:lnTo>
                    <a:pt x="232" y="1162"/>
                  </a:lnTo>
                  <a:lnTo>
                    <a:pt x="228" y="1154"/>
                  </a:lnTo>
                  <a:lnTo>
                    <a:pt x="222" y="1148"/>
                  </a:lnTo>
                  <a:lnTo>
                    <a:pt x="218" y="1143"/>
                  </a:lnTo>
                  <a:lnTo>
                    <a:pt x="213" y="1133"/>
                  </a:lnTo>
                  <a:lnTo>
                    <a:pt x="209" y="1126"/>
                  </a:lnTo>
                  <a:lnTo>
                    <a:pt x="203" y="1118"/>
                  </a:lnTo>
                  <a:lnTo>
                    <a:pt x="199" y="1110"/>
                  </a:lnTo>
                  <a:lnTo>
                    <a:pt x="194" y="1101"/>
                  </a:lnTo>
                  <a:lnTo>
                    <a:pt x="188" y="1091"/>
                  </a:lnTo>
                  <a:lnTo>
                    <a:pt x="184" y="1082"/>
                  </a:lnTo>
                  <a:lnTo>
                    <a:pt x="180" y="1072"/>
                  </a:lnTo>
                  <a:lnTo>
                    <a:pt x="175" y="1063"/>
                  </a:lnTo>
                  <a:lnTo>
                    <a:pt x="171" y="1051"/>
                  </a:lnTo>
                  <a:lnTo>
                    <a:pt x="167" y="1040"/>
                  </a:lnTo>
                  <a:lnTo>
                    <a:pt x="163" y="1030"/>
                  </a:lnTo>
                  <a:lnTo>
                    <a:pt x="160" y="1017"/>
                  </a:lnTo>
                  <a:lnTo>
                    <a:pt x="158" y="1006"/>
                  </a:lnTo>
                  <a:lnTo>
                    <a:pt x="154" y="994"/>
                  </a:lnTo>
                  <a:lnTo>
                    <a:pt x="152" y="983"/>
                  </a:lnTo>
                  <a:lnTo>
                    <a:pt x="148" y="968"/>
                  </a:lnTo>
                  <a:lnTo>
                    <a:pt x="144" y="954"/>
                  </a:lnTo>
                  <a:lnTo>
                    <a:pt x="142" y="941"/>
                  </a:lnTo>
                  <a:lnTo>
                    <a:pt x="141" y="928"/>
                  </a:lnTo>
                  <a:lnTo>
                    <a:pt x="137" y="913"/>
                  </a:lnTo>
                  <a:lnTo>
                    <a:pt x="135" y="899"/>
                  </a:lnTo>
                  <a:lnTo>
                    <a:pt x="135" y="882"/>
                  </a:lnTo>
                  <a:lnTo>
                    <a:pt x="135" y="869"/>
                  </a:lnTo>
                  <a:lnTo>
                    <a:pt x="133" y="852"/>
                  </a:lnTo>
                  <a:lnTo>
                    <a:pt x="131" y="835"/>
                  </a:lnTo>
                  <a:lnTo>
                    <a:pt x="131" y="818"/>
                  </a:lnTo>
                  <a:lnTo>
                    <a:pt x="131" y="800"/>
                  </a:lnTo>
                  <a:lnTo>
                    <a:pt x="131" y="781"/>
                  </a:lnTo>
                  <a:lnTo>
                    <a:pt x="133" y="764"/>
                  </a:lnTo>
                  <a:lnTo>
                    <a:pt x="135" y="745"/>
                  </a:lnTo>
                  <a:lnTo>
                    <a:pt x="137" y="728"/>
                  </a:lnTo>
                  <a:lnTo>
                    <a:pt x="137" y="707"/>
                  </a:lnTo>
                  <a:lnTo>
                    <a:pt x="139" y="688"/>
                  </a:lnTo>
                  <a:lnTo>
                    <a:pt x="142" y="667"/>
                  </a:lnTo>
                  <a:lnTo>
                    <a:pt x="146" y="650"/>
                  </a:lnTo>
                  <a:lnTo>
                    <a:pt x="150" y="631"/>
                  </a:lnTo>
                  <a:lnTo>
                    <a:pt x="154" y="612"/>
                  </a:lnTo>
                  <a:lnTo>
                    <a:pt x="158" y="595"/>
                  </a:lnTo>
                  <a:lnTo>
                    <a:pt x="165" y="578"/>
                  </a:lnTo>
                  <a:lnTo>
                    <a:pt x="169" y="559"/>
                  </a:lnTo>
                  <a:lnTo>
                    <a:pt x="177" y="542"/>
                  </a:lnTo>
                  <a:lnTo>
                    <a:pt x="182" y="525"/>
                  </a:lnTo>
                  <a:lnTo>
                    <a:pt x="190" y="509"/>
                  </a:lnTo>
                  <a:lnTo>
                    <a:pt x="196" y="492"/>
                  </a:lnTo>
                  <a:lnTo>
                    <a:pt x="205" y="477"/>
                  </a:lnTo>
                  <a:lnTo>
                    <a:pt x="213" y="460"/>
                  </a:lnTo>
                  <a:lnTo>
                    <a:pt x="222" y="447"/>
                  </a:lnTo>
                  <a:lnTo>
                    <a:pt x="230" y="430"/>
                  </a:lnTo>
                  <a:lnTo>
                    <a:pt x="237" y="414"/>
                  </a:lnTo>
                  <a:lnTo>
                    <a:pt x="247" y="399"/>
                  </a:lnTo>
                  <a:lnTo>
                    <a:pt x="256" y="386"/>
                  </a:lnTo>
                  <a:lnTo>
                    <a:pt x="266" y="371"/>
                  </a:lnTo>
                  <a:lnTo>
                    <a:pt x="275" y="357"/>
                  </a:lnTo>
                  <a:lnTo>
                    <a:pt x="285" y="342"/>
                  </a:lnTo>
                  <a:lnTo>
                    <a:pt x="296" y="331"/>
                  </a:lnTo>
                  <a:lnTo>
                    <a:pt x="306" y="317"/>
                  </a:lnTo>
                  <a:lnTo>
                    <a:pt x="315" y="304"/>
                  </a:lnTo>
                  <a:lnTo>
                    <a:pt x="325" y="293"/>
                  </a:lnTo>
                  <a:lnTo>
                    <a:pt x="336" y="279"/>
                  </a:lnTo>
                  <a:lnTo>
                    <a:pt x="344" y="268"/>
                  </a:lnTo>
                  <a:lnTo>
                    <a:pt x="357" y="257"/>
                  </a:lnTo>
                  <a:lnTo>
                    <a:pt x="367" y="245"/>
                  </a:lnTo>
                  <a:lnTo>
                    <a:pt x="378" y="236"/>
                  </a:lnTo>
                  <a:lnTo>
                    <a:pt x="388" y="224"/>
                  </a:lnTo>
                  <a:lnTo>
                    <a:pt x="397" y="213"/>
                  </a:lnTo>
                  <a:lnTo>
                    <a:pt x="405" y="203"/>
                  </a:lnTo>
                  <a:lnTo>
                    <a:pt x="416" y="194"/>
                  </a:lnTo>
                  <a:lnTo>
                    <a:pt x="426" y="184"/>
                  </a:lnTo>
                  <a:lnTo>
                    <a:pt x="437" y="175"/>
                  </a:lnTo>
                  <a:lnTo>
                    <a:pt x="445" y="167"/>
                  </a:lnTo>
                  <a:lnTo>
                    <a:pt x="456" y="160"/>
                  </a:lnTo>
                  <a:lnTo>
                    <a:pt x="464" y="150"/>
                  </a:lnTo>
                  <a:lnTo>
                    <a:pt x="473" y="143"/>
                  </a:lnTo>
                  <a:lnTo>
                    <a:pt x="483" y="135"/>
                  </a:lnTo>
                  <a:lnTo>
                    <a:pt x="492" y="127"/>
                  </a:lnTo>
                  <a:lnTo>
                    <a:pt x="500" y="120"/>
                  </a:lnTo>
                  <a:lnTo>
                    <a:pt x="507" y="114"/>
                  </a:lnTo>
                  <a:lnTo>
                    <a:pt x="515" y="108"/>
                  </a:lnTo>
                  <a:lnTo>
                    <a:pt x="525" y="103"/>
                  </a:lnTo>
                  <a:lnTo>
                    <a:pt x="532" y="97"/>
                  </a:lnTo>
                  <a:lnTo>
                    <a:pt x="538" y="91"/>
                  </a:lnTo>
                  <a:lnTo>
                    <a:pt x="545" y="85"/>
                  </a:lnTo>
                  <a:lnTo>
                    <a:pt x="551" y="82"/>
                  </a:lnTo>
                  <a:lnTo>
                    <a:pt x="557" y="78"/>
                  </a:lnTo>
                  <a:lnTo>
                    <a:pt x="563" y="74"/>
                  </a:lnTo>
                  <a:lnTo>
                    <a:pt x="568" y="72"/>
                  </a:lnTo>
                  <a:lnTo>
                    <a:pt x="574" y="68"/>
                  </a:lnTo>
                  <a:lnTo>
                    <a:pt x="580" y="65"/>
                  </a:lnTo>
                  <a:lnTo>
                    <a:pt x="587" y="59"/>
                  </a:lnTo>
                  <a:lnTo>
                    <a:pt x="589" y="59"/>
                  </a:lnTo>
                  <a:lnTo>
                    <a:pt x="593" y="59"/>
                  </a:lnTo>
                  <a:lnTo>
                    <a:pt x="589" y="57"/>
                  </a:lnTo>
                  <a:lnTo>
                    <a:pt x="587" y="55"/>
                  </a:lnTo>
                  <a:lnTo>
                    <a:pt x="582" y="51"/>
                  </a:lnTo>
                  <a:lnTo>
                    <a:pt x="576" y="49"/>
                  </a:lnTo>
                  <a:lnTo>
                    <a:pt x="566" y="46"/>
                  </a:lnTo>
                  <a:lnTo>
                    <a:pt x="555" y="42"/>
                  </a:lnTo>
                  <a:lnTo>
                    <a:pt x="544" y="36"/>
                  </a:lnTo>
                  <a:lnTo>
                    <a:pt x="532" y="32"/>
                  </a:lnTo>
                  <a:lnTo>
                    <a:pt x="525" y="28"/>
                  </a:lnTo>
                  <a:lnTo>
                    <a:pt x="515" y="25"/>
                  </a:lnTo>
                  <a:lnTo>
                    <a:pt x="507" y="23"/>
                  </a:lnTo>
                  <a:lnTo>
                    <a:pt x="502" y="21"/>
                  </a:lnTo>
                  <a:lnTo>
                    <a:pt x="492" y="17"/>
                  </a:lnTo>
                  <a:lnTo>
                    <a:pt x="485" y="15"/>
                  </a:lnTo>
                  <a:lnTo>
                    <a:pt x="475" y="13"/>
                  </a:lnTo>
                  <a:lnTo>
                    <a:pt x="467" y="11"/>
                  </a:lnTo>
                  <a:lnTo>
                    <a:pt x="456" y="9"/>
                  </a:lnTo>
                  <a:lnTo>
                    <a:pt x="447" y="8"/>
                  </a:lnTo>
                  <a:lnTo>
                    <a:pt x="437" y="6"/>
                  </a:lnTo>
                  <a:lnTo>
                    <a:pt x="428" y="6"/>
                  </a:lnTo>
                  <a:lnTo>
                    <a:pt x="418" y="2"/>
                  </a:lnTo>
                  <a:lnTo>
                    <a:pt x="409" y="2"/>
                  </a:lnTo>
                  <a:lnTo>
                    <a:pt x="397" y="2"/>
                  </a:lnTo>
                  <a:lnTo>
                    <a:pt x="388" y="2"/>
                  </a:lnTo>
                  <a:lnTo>
                    <a:pt x="376" y="2"/>
                  </a:lnTo>
                  <a:lnTo>
                    <a:pt x="365" y="2"/>
                  </a:lnTo>
                  <a:lnTo>
                    <a:pt x="353" y="0"/>
                  </a:lnTo>
                  <a:lnTo>
                    <a:pt x="340" y="0"/>
                  </a:lnTo>
                  <a:lnTo>
                    <a:pt x="327" y="0"/>
                  </a:lnTo>
                  <a:lnTo>
                    <a:pt x="314" y="0"/>
                  </a:lnTo>
                  <a:lnTo>
                    <a:pt x="300" y="0"/>
                  </a:lnTo>
                  <a:lnTo>
                    <a:pt x="289" y="0"/>
                  </a:lnTo>
                  <a:lnTo>
                    <a:pt x="274" y="0"/>
                  </a:lnTo>
                  <a:lnTo>
                    <a:pt x="262" y="0"/>
                  </a:lnTo>
                  <a:lnTo>
                    <a:pt x="249" y="0"/>
                  </a:lnTo>
                  <a:lnTo>
                    <a:pt x="236" y="0"/>
                  </a:lnTo>
                  <a:lnTo>
                    <a:pt x="222" y="0"/>
                  </a:lnTo>
                  <a:lnTo>
                    <a:pt x="209" y="0"/>
                  </a:lnTo>
                  <a:lnTo>
                    <a:pt x="196" y="0"/>
                  </a:lnTo>
                  <a:lnTo>
                    <a:pt x="184" y="2"/>
                  </a:lnTo>
                  <a:lnTo>
                    <a:pt x="171" y="2"/>
                  </a:lnTo>
                  <a:lnTo>
                    <a:pt x="160" y="2"/>
                  </a:lnTo>
                  <a:lnTo>
                    <a:pt x="148" y="2"/>
                  </a:lnTo>
                  <a:lnTo>
                    <a:pt x="137" y="2"/>
                  </a:lnTo>
                  <a:lnTo>
                    <a:pt x="125" y="2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101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68" y="4"/>
                  </a:lnTo>
                  <a:lnTo>
                    <a:pt x="66" y="6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d6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188800" y="385200"/>
              <a:ext cx="40320" cy="79920"/>
            </a:xfrm>
            <a:custGeom>
              <a:avLst/>
              <a:gdLst/>
              <a:ahLst/>
              <a:rect l="l" t="t" r="r" b="b"/>
              <a:pathLst>
                <a:path w="218" h="434">
                  <a:moveTo>
                    <a:pt x="218" y="0"/>
                  </a:moveTo>
                  <a:lnTo>
                    <a:pt x="214" y="0"/>
                  </a:lnTo>
                  <a:lnTo>
                    <a:pt x="209" y="4"/>
                  </a:lnTo>
                  <a:lnTo>
                    <a:pt x="203" y="6"/>
                  </a:lnTo>
                  <a:lnTo>
                    <a:pt x="199" y="10"/>
                  </a:lnTo>
                  <a:lnTo>
                    <a:pt x="192" y="14"/>
                  </a:lnTo>
                  <a:lnTo>
                    <a:pt x="188" y="17"/>
                  </a:lnTo>
                  <a:lnTo>
                    <a:pt x="180" y="23"/>
                  </a:lnTo>
                  <a:lnTo>
                    <a:pt x="171" y="27"/>
                  </a:lnTo>
                  <a:lnTo>
                    <a:pt x="163" y="33"/>
                  </a:lnTo>
                  <a:lnTo>
                    <a:pt x="155" y="40"/>
                  </a:lnTo>
                  <a:lnTo>
                    <a:pt x="146" y="44"/>
                  </a:lnTo>
                  <a:lnTo>
                    <a:pt x="138" y="53"/>
                  </a:lnTo>
                  <a:lnTo>
                    <a:pt x="129" y="61"/>
                  </a:lnTo>
                  <a:lnTo>
                    <a:pt x="121" y="69"/>
                  </a:lnTo>
                  <a:lnTo>
                    <a:pt x="110" y="74"/>
                  </a:lnTo>
                  <a:lnTo>
                    <a:pt x="100" y="84"/>
                  </a:lnTo>
                  <a:lnTo>
                    <a:pt x="91" y="92"/>
                  </a:lnTo>
                  <a:lnTo>
                    <a:pt x="83" y="101"/>
                  </a:lnTo>
                  <a:lnTo>
                    <a:pt x="74" y="109"/>
                  </a:lnTo>
                  <a:lnTo>
                    <a:pt x="64" y="118"/>
                  </a:lnTo>
                  <a:lnTo>
                    <a:pt x="57" y="128"/>
                  </a:lnTo>
                  <a:lnTo>
                    <a:pt x="49" y="139"/>
                  </a:lnTo>
                  <a:lnTo>
                    <a:pt x="39" y="149"/>
                  </a:lnTo>
                  <a:lnTo>
                    <a:pt x="32" y="158"/>
                  </a:lnTo>
                  <a:lnTo>
                    <a:pt x="26" y="168"/>
                  </a:lnTo>
                  <a:lnTo>
                    <a:pt x="20" y="181"/>
                  </a:lnTo>
                  <a:lnTo>
                    <a:pt x="15" y="190"/>
                  </a:lnTo>
                  <a:lnTo>
                    <a:pt x="11" y="202"/>
                  </a:lnTo>
                  <a:lnTo>
                    <a:pt x="7" y="211"/>
                  </a:lnTo>
                  <a:lnTo>
                    <a:pt x="5" y="225"/>
                  </a:lnTo>
                  <a:lnTo>
                    <a:pt x="1" y="232"/>
                  </a:lnTo>
                  <a:lnTo>
                    <a:pt x="0" y="244"/>
                  </a:lnTo>
                  <a:lnTo>
                    <a:pt x="0" y="255"/>
                  </a:lnTo>
                  <a:lnTo>
                    <a:pt x="0" y="266"/>
                  </a:lnTo>
                  <a:lnTo>
                    <a:pt x="0" y="278"/>
                  </a:lnTo>
                  <a:lnTo>
                    <a:pt x="3" y="289"/>
                  </a:lnTo>
                  <a:lnTo>
                    <a:pt x="5" y="299"/>
                  </a:lnTo>
                  <a:lnTo>
                    <a:pt x="9" y="312"/>
                  </a:lnTo>
                  <a:lnTo>
                    <a:pt x="11" y="322"/>
                  </a:lnTo>
                  <a:lnTo>
                    <a:pt x="15" y="331"/>
                  </a:lnTo>
                  <a:lnTo>
                    <a:pt x="19" y="343"/>
                  </a:lnTo>
                  <a:lnTo>
                    <a:pt x="24" y="352"/>
                  </a:lnTo>
                  <a:lnTo>
                    <a:pt x="28" y="362"/>
                  </a:lnTo>
                  <a:lnTo>
                    <a:pt x="36" y="371"/>
                  </a:lnTo>
                  <a:lnTo>
                    <a:pt x="39" y="381"/>
                  </a:lnTo>
                  <a:lnTo>
                    <a:pt x="49" y="390"/>
                  </a:lnTo>
                  <a:lnTo>
                    <a:pt x="53" y="396"/>
                  </a:lnTo>
                  <a:lnTo>
                    <a:pt x="60" y="403"/>
                  </a:lnTo>
                  <a:lnTo>
                    <a:pt x="66" y="409"/>
                  </a:lnTo>
                  <a:lnTo>
                    <a:pt x="74" y="417"/>
                  </a:lnTo>
                  <a:lnTo>
                    <a:pt x="79" y="420"/>
                  </a:lnTo>
                  <a:lnTo>
                    <a:pt x="87" y="424"/>
                  </a:lnTo>
                  <a:lnTo>
                    <a:pt x="96" y="426"/>
                  </a:lnTo>
                  <a:lnTo>
                    <a:pt x="104" y="432"/>
                  </a:lnTo>
                  <a:lnTo>
                    <a:pt x="110" y="432"/>
                  </a:lnTo>
                  <a:lnTo>
                    <a:pt x="117" y="434"/>
                  </a:lnTo>
                  <a:lnTo>
                    <a:pt x="125" y="432"/>
                  </a:lnTo>
                  <a:lnTo>
                    <a:pt x="133" y="432"/>
                  </a:lnTo>
                  <a:lnTo>
                    <a:pt x="140" y="428"/>
                  </a:lnTo>
                  <a:lnTo>
                    <a:pt x="148" y="426"/>
                  </a:lnTo>
                  <a:lnTo>
                    <a:pt x="153" y="420"/>
                  </a:lnTo>
                  <a:lnTo>
                    <a:pt x="161" y="417"/>
                  </a:lnTo>
                  <a:lnTo>
                    <a:pt x="167" y="409"/>
                  </a:lnTo>
                  <a:lnTo>
                    <a:pt x="172" y="400"/>
                  </a:lnTo>
                  <a:lnTo>
                    <a:pt x="178" y="392"/>
                  </a:lnTo>
                  <a:lnTo>
                    <a:pt x="184" y="382"/>
                  </a:lnTo>
                  <a:lnTo>
                    <a:pt x="186" y="373"/>
                  </a:lnTo>
                  <a:lnTo>
                    <a:pt x="190" y="365"/>
                  </a:lnTo>
                  <a:lnTo>
                    <a:pt x="192" y="356"/>
                  </a:lnTo>
                  <a:lnTo>
                    <a:pt x="197" y="346"/>
                  </a:lnTo>
                  <a:lnTo>
                    <a:pt x="197" y="335"/>
                  </a:lnTo>
                  <a:lnTo>
                    <a:pt x="199" y="323"/>
                  </a:lnTo>
                  <a:lnTo>
                    <a:pt x="201" y="312"/>
                  </a:lnTo>
                  <a:lnTo>
                    <a:pt x="203" y="303"/>
                  </a:lnTo>
                  <a:lnTo>
                    <a:pt x="203" y="291"/>
                  </a:lnTo>
                  <a:lnTo>
                    <a:pt x="205" y="282"/>
                  </a:lnTo>
                  <a:lnTo>
                    <a:pt x="205" y="272"/>
                  </a:lnTo>
                  <a:lnTo>
                    <a:pt x="205" y="263"/>
                  </a:lnTo>
                  <a:lnTo>
                    <a:pt x="205" y="251"/>
                  </a:lnTo>
                  <a:lnTo>
                    <a:pt x="205" y="242"/>
                  </a:lnTo>
                  <a:lnTo>
                    <a:pt x="203" y="230"/>
                  </a:lnTo>
                  <a:lnTo>
                    <a:pt x="203" y="223"/>
                  </a:lnTo>
                  <a:lnTo>
                    <a:pt x="201" y="213"/>
                  </a:lnTo>
                  <a:lnTo>
                    <a:pt x="201" y="206"/>
                  </a:lnTo>
                  <a:lnTo>
                    <a:pt x="201" y="198"/>
                  </a:lnTo>
                  <a:lnTo>
                    <a:pt x="201" y="192"/>
                  </a:lnTo>
                  <a:lnTo>
                    <a:pt x="199" y="179"/>
                  </a:lnTo>
                  <a:lnTo>
                    <a:pt x="197" y="169"/>
                  </a:lnTo>
                  <a:lnTo>
                    <a:pt x="197" y="164"/>
                  </a:lnTo>
                  <a:lnTo>
                    <a:pt x="197" y="164"/>
                  </a:lnTo>
                  <a:lnTo>
                    <a:pt x="218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8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971720" y="306360"/>
              <a:ext cx="234000" cy="407160"/>
            </a:xfrm>
            <a:custGeom>
              <a:avLst/>
              <a:gdLst/>
              <a:ahLst/>
              <a:rect l="l" t="t" r="r" b="b"/>
              <a:pathLst>
                <a:path w="1262" h="2198">
                  <a:moveTo>
                    <a:pt x="979" y="1040"/>
                  </a:moveTo>
                  <a:lnTo>
                    <a:pt x="985" y="1031"/>
                  </a:lnTo>
                  <a:lnTo>
                    <a:pt x="992" y="1021"/>
                  </a:lnTo>
                  <a:lnTo>
                    <a:pt x="998" y="1014"/>
                  </a:lnTo>
                  <a:lnTo>
                    <a:pt x="1006" y="1006"/>
                  </a:lnTo>
                  <a:lnTo>
                    <a:pt x="1013" y="997"/>
                  </a:lnTo>
                  <a:lnTo>
                    <a:pt x="1021" y="987"/>
                  </a:lnTo>
                  <a:lnTo>
                    <a:pt x="1026" y="980"/>
                  </a:lnTo>
                  <a:lnTo>
                    <a:pt x="1036" y="972"/>
                  </a:lnTo>
                  <a:lnTo>
                    <a:pt x="1042" y="962"/>
                  </a:lnTo>
                  <a:lnTo>
                    <a:pt x="1049" y="953"/>
                  </a:lnTo>
                  <a:lnTo>
                    <a:pt x="1055" y="945"/>
                  </a:lnTo>
                  <a:lnTo>
                    <a:pt x="1063" y="936"/>
                  </a:lnTo>
                  <a:lnTo>
                    <a:pt x="1070" y="928"/>
                  </a:lnTo>
                  <a:lnTo>
                    <a:pt x="1078" y="919"/>
                  </a:lnTo>
                  <a:lnTo>
                    <a:pt x="1083" y="909"/>
                  </a:lnTo>
                  <a:lnTo>
                    <a:pt x="1093" y="902"/>
                  </a:lnTo>
                  <a:lnTo>
                    <a:pt x="1097" y="892"/>
                  </a:lnTo>
                  <a:lnTo>
                    <a:pt x="1104" y="884"/>
                  </a:lnTo>
                  <a:lnTo>
                    <a:pt x="1110" y="875"/>
                  </a:lnTo>
                  <a:lnTo>
                    <a:pt x="1118" y="865"/>
                  </a:lnTo>
                  <a:lnTo>
                    <a:pt x="1123" y="858"/>
                  </a:lnTo>
                  <a:lnTo>
                    <a:pt x="1131" y="848"/>
                  </a:lnTo>
                  <a:lnTo>
                    <a:pt x="1137" y="839"/>
                  </a:lnTo>
                  <a:lnTo>
                    <a:pt x="1144" y="831"/>
                  </a:lnTo>
                  <a:lnTo>
                    <a:pt x="1148" y="822"/>
                  </a:lnTo>
                  <a:lnTo>
                    <a:pt x="1154" y="814"/>
                  </a:lnTo>
                  <a:lnTo>
                    <a:pt x="1159" y="805"/>
                  </a:lnTo>
                  <a:lnTo>
                    <a:pt x="1167" y="795"/>
                  </a:lnTo>
                  <a:lnTo>
                    <a:pt x="1171" y="788"/>
                  </a:lnTo>
                  <a:lnTo>
                    <a:pt x="1179" y="778"/>
                  </a:lnTo>
                  <a:lnTo>
                    <a:pt x="1184" y="769"/>
                  </a:lnTo>
                  <a:lnTo>
                    <a:pt x="1190" y="761"/>
                  </a:lnTo>
                  <a:lnTo>
                    <a:pt x="1194" y="751"/>
                  </a:lnTo>
                  <a:lnTo>
                    <a:pt x="1199" y="742"/>
                  </a:lnTo>
                  <a:lnTo>
                    <a:pt x="1203" y="732"/>
                  </a:lnTo>
                  <a:lnTo>
                    <a:pt x="1209" y="725"/>
                  </a:lnTo>
                  <a:lnTo>
                    <a:pt x="1213" y="713"/>
                  </a:lnTo>
                  <a:lnTo>
                    <a:pt x="1217" y="704"/>
                  </a:lnTo>
                  <a:lnTo>
                    <a:pt x="1220" y="694"/>
                  </a:lnTo>
                  <a:lnTo>
                    <a:pt x="1226" y="687"/>
                  </a:lnTo>
                  <a:lnTo>
                    <a:pt x="1228" y="677"/>
                  </a:lnTo>
                  <a:lnTo>
                    <a:pt x="1232" y="668"/>
                  </a:lnTo>
                  <a:lnTo>
                    <a:pt x="1237" y="658"/>
                  </a:lnTo>
                  <a:lnTo>
                    <a:pt x="1241" y="649"/>
                  </a:lnTo>
                  <a:lnTo>
                    <a:pt x="1243" y="637"/>
                  </a:lnTo>
                  <a:lnTo>
                    <a:pt x="1245" y="630"/>
                  </a:lnTo>
                  <a:lnTo>
                    <a:pt x="1249" y="620"/>
                  </a:lnTo>
                  <a:lnTo>
                    <a:pt x="1253" y="611"/>
                  </a:lnTo>
                  <a:lnTo>
                    <a:pt x="1255" y="601"/>
                  </a:lnTo>
                  <a:lnTo>
                    <a:pt x="1255" y="592"/>
                  </a:lnTo>
                  <a:lnTo>
                    <a:pt x="1256" y="580"/>
                  </a:lnTo>
                  <a:lnTo>
                    <a:pt x="1258" y="571"/>
                  </a:lnTo>
                  <a:lnTo>
                    <a:pt x="1258" y="561"/>
                  </a:lnTo>
                  <a:lnTo>
                    <a:pt x="1260" y="552"/>
                  </a:lnTo>
                  <a:lnTo>
                    <a:pt x="1262" y="540"/>
                  </a:lnTo>
                  <a:lnTo>
                    <a:pt x="1262" y="533"/>
                  </a:lnTo>
                  <a:lnTo>
                    <a:pt x="1262" y="521"/>
                  </a:lnTo>
                  <a:lnTo>
                    <a:pt x="1262" y="510"/>
                  </a:lnTo>
                  <a:lnTo>
                    <a:pt x="1262" y="500"/>
                  </a:lnTo>
                  <a:lnTo>
                    <a:pt x="1262" y="491"/>
                  </a:lnTo>
                  <a:lnTo>
                    <a:pt x="1262" y="479"/>
                  </a:lnTo>
                  <a:lnTo>
                    <a:pt x="1262" y="470"/>
                  </a:lnTo>
                  <a:lnTo>
                    <a:pt x="1260" y="460"/>
                  </a:lnTo>
                  <a:lnTo>
                    <a:pt x="1260" y="451"/>
                  </a:lnTo>
                  <a:lnTo>
                    <a:pt x="1255" y="426"/>
                  </a:lnTo>
                  <a:lnTo>
                    <a:pt x="1251" y="405"/>
                  </a:lnTo>
                  <a:lnTo>
                    <a:pt x="1245" y="386"/>
                  </a:lnTo>
                  <a:lnTo>
                    <a:pt x="1239" y="365"/>
                  </a:lnTo>
                  <a:lnTo>
                    <a:pt x="1232" y="346"/>
                  </a:lnTo>
                  <a:lnTo>
                    <a:pt x="1224" y="329"/>
                  </a:lnTo>
                  <a:lnTo>
                    <a:pt x="1217" y="310"/>
                  </a:lnTo>
                  <a:lnTo>
                    <a:pt x="1209" y="293"/>
                  </a:lnTo>
                  <a:lnTo>
                    <a:pt x="1198" y="276"/>
                  </a:lnTo>
                  <a:lnTo>
                    <a:pt x="1188" y="261"/>
                  </a:lnTo>
                  <a:lnTo>
                    <a:pt x="1179" y="246"/>
                  </a:lnTo>
                  <a:lnTo>
                    <a:pt x="1169" y="232"/>
                  </a:lnTo>
                  <a:lnTo>
                    <a:pt x="1158" y="217"/>
                  </a:lnTo>
                  <a:lnTo>
                    <a:pt x="1144" y="204"/>
                  </a:lnTo>
                  <a:lnTo>
                    <a:pt x="1133" y="192"/>
                  </a:lnTo>
                  <a:lnTo>
                    <a:pt x="1121" y="179"/>
                  </a:lnTo>
                  <a:lnTo>
                    <a:pt x="1106" y="168"/>
                  </a:lnTo>
                  <a:lnTo>
                    <a:pt x="1093" y="156"/>
                  </a:lnTo>
                  <a:lnTo>
                    <a:pt x="1080" y="145"/>
                  </a:lnTo>
                  <a:lnTo>
                    <a:pt x="1066" y="135"/>
                  </a:lnTo>
                  <a:lnTo>
                    <a:pt x="1053" y="126"/>
                  </a:lnTo>
                  <a:lnTo>
                    <a:pt x="1038" y="116"/>
                  </a:lnTo>
                  <a:lnTo>
                    <a:pt x="1023" y="109"/>
                  </a:lnTo>
                  <a:lnTo>
                    <a:pt x="1009" y="101"/>
                  </a:lnTo>
                  <a:lnTo>
                    <a:pt x="994" y="92"/>
                  </a:lnTo>
                  <a:lnTo>
                    <a:pt x="979" y="84"/>
                  </a:lnTo>
                  <a:lnTo>
                    <a:pt x="964" y="76"/>
                  </a:lnTo>
                  <a:lnTo>
                    <a:pt x="948" y="71"/>
                  </a:lnTo>
                  <a:lnTo>
                    <a:pt x="933" y="63"/>
                  </a:lnTo>
                  <a:lnTo>
                    <a:pt x="918" y="57"/>
                  </a:lnTo>
                  <a:lnTo>
                    <a:pt x="903" y="54"/>
                  </a:lnTo>
                  <a:lnTo>
                    <a:pt x="888" y="48"/>
                  </a:lnTo>
                  <a:lnTo>
                    <a:pt x="872" y="44"/>
                  </a:lnTo>
                  <a:lnTo>
                    <a:pt x="855" y="38"/>
                  </a:lnTo>
                  <a:lnTo>
                    <a:pt x="840" y="35"/>
                  </a:lnTo>
                  <a:lnTo>
                    <a:pt x="825" y="31"/>
                  </a:lnTo>
                  <a:lnTo>
                    <a:pt x="810" y="27"/>
                  </a:lnTo>
                  <a:lnTo>
                    <a:pt x="795" y="21"/>
                  </a:lnTo>
                  <a:lnTo>
                    <a:pt x="781" y="19"/>
                  </a:lnTo>
                  <a:lnTo>
                    <a:pt x="768" y="17"/>
                  </a:lnTo>
                  <a:lnTo>
                    <a:pt x="753" y="14"/>
                  </a:lnTo>
                  <a:lnTo>
                    <a:pt x="739" y="14"/>
                  </a:lnTo>
                  <a:lnTo>
                    <a:pt x="726" y="10"/>
                  </a:lnTo>
                  <a:lnTo>
                    <a:pt x="713" y="8"/>
                  </a:lnTo>
                  <a:lnTo>
                    <a:pt x="699" y="8"/>
                  </a:lnTo>
                  <a:lnTo>
                    <a:pt x="688" y="6"/>
                  </a:lnTo>
                  <a:lnTo>
                    <a:pt x="677" y="4"/>
                  </a:lnTo>
                  <a:lnTo>
                    <a:pt x="665" y="4"/>
                  </a:lnTo>
                  <a:lnTo>
                    <a:pt x="654" y="4"/>
                  </a:lnTo>
                  <a:lnTo>
                    <a:pt x="642" y="2"/>
                  </a:lnTo>
                  <a:lnTo>
                    <a:pt x="633" y="0"/>
                  </a:lnTo>
                  <a:lnTo>
                    <a:pt x="623" y="0"/>
                  </a:lnTo>
                  <a:lnTo>
                    <a:pt x="614" y="0"/>
                  </a:lnTo>
                  <a:lnTo>
                    <a:pt x="606" y="0"/>
                  </a:lnTo>
                  <a:lnTo>
                    <a:pt x="599" y="0"/>
                  </a:lnTo>
                  <a:lnTo>
                    <a:pt x="593" y="0"/>
                  </a:lnTo>
                  <a:lnTo>
                    <a:pt x="580" y="0"/>
                  </a:lnTo>
                  <a:lnTo>
                    <a:pt x="572" y="0"/>
                  </a:lnTo>
                  <a:lnTo>
                    <a:pt x="566" y="0"/>
                  </a:lnTo>
                  <a:lnTo>
                    <a:pt x="564" y="2"/>
                  </a:lnTo>
                  <a:lnTo>
                    <a:pt x="551" y="4"/>
                  </a:lnTo>
                  <a:lnTo>
                    <a:pt x="542" y="12"/>
                  </a:lnTo>
                  <a:lnTo>
                    <a:pt x="0" y="447"/>
                  </a:lnTo>
                  <a:lnTo>
                    <a:pt x="51" y="512"/>
                  </a:lnTo>
                  <a:lnTo>
                    <a:pt x="582" y="86"/>
                  </a:lnTo>
                  <a:lnTo>
                    <a:pt x="589" y="84"/>
                  </a:lnTo>
                  <a:lnTo>
                    <a:pt x="601" y="84"/>
                  </a:lnTo>
                  <a:lnTo>
                    <a:pt x="606" y="84"/>
                  </a:lnTo>
                  <a:lnTo>
                    <a:pt x="612" y="84"/>
                  </a:lnTo>
                  <a:lnTo>
                    <a:pt x="620" y="84"/>
                  </a:lnTo>
                  <a:lnTo>
                    <a:pt x="629" y="84"/>
                  </a:lnTo>
                  <a:lnTo>
                    <a:pt x="637" y="84"/>
                  </a:lnTo>
                  <a:lnTo>
                    <a:pt x="644" y="84"/>
                  </a:lnTo>
                  <a:lnTo>
                    <a:pt x="652" y="84"/>
                  </a:lnTo>
                  <a:lnTo>
                    <a:pt x="661" y="86"/>
                  </a:lnTo>
                  <a:lnTo>
                    <a:pt x="669" y="86"/>
                  </a:lnTo>
                  <a:lnTo>
                    <a:pt x="680" y="88"/>
                  </a:lnTo>
                  <a:lnTo>
                    <a:pt x="690" y="88"/>
                  </a:lnTo>
                  <a:lnTo>
                    <a:pt x="701" y="92"/>
                  </a:lnTo>
                  <a:lnTo>
                    <a:pt x="711" y="92"/>
                  </a:lnTo>
                  <a:lnTo>
                    <a:pt x="720" y="92"/>
                  </a:lnTo>
                  <a:lnTo>
                    <a:pt x="732" y="94"/>
                  </a:lnTo>
                  <a:lnTo>
                    <a:pt x="743" y="97"/>
                  </a:lnTo>
                  <a:lnTo>
                    <a:pt x="756" y="97"/>
                  </a:lnTo>
                  <a:lnTo>
                    <a:pt x="768" y="101"/>
                  </a:lnTo>
                  <a:lnTo>
                    <a:pt x="779" y="101"/>
                  </a:lnTo>
                  <a:lnTo>
                    <a:pt x="791" y="105"/>
                  </a:lnTo>
                  <a:lnTo>
                    <a:pt x="804" y="109"/>
                  </a:lnTo>
                  <a:lnTo>
                    <a:pt x="815" y="111"/>
                  </a:lnTo>
                  <a:lnTo>
                    <a:pt x="827" y="114"/>
                  </a:lnTo>
                  <a:lnTo>
                    <a:pt x="838" y="118"/>
                  </a:lnTo>
                  <a:lnTo>
                    <a:pt x="852" y="122"/>
                  </a:lnTo>
                  <a:lnTo>
                    <a:pt x="865" y="126"/>
                  </a:lnTo>
                  <a:lnTo>
                    <a:pt x="876" y="130"/>
                  </a:lnTo>
                  <a:lnTo>
                    <a:pt x="890" y="135"/>
                  </a:lnTo>
                  <a:lnTo>
                    <a:pt x="901" y="139"/>
                  </a:lnTo>
                  <a:lnTo>
                    <a:pt x="912" y="143"/>
                  </a:lnTo>
                  <a:lnTo>
                    <a:pt x="926" y="149"/>
                  </a:lnTo>
                  <a:lnTo>
                    <a:pt x="937" y="154"/>
                  </a:lnTo>
                  <a:lnTo>
                    <a:pt x="948" y="158"/>
                  </a:lnTo>
                  <a:lnTo>
                    <a:pt x="962" y="166"/>
                  </a:lnTo>
                  <a:lnTo>
                    <a:pt x="973" y="171"/>
                  </a:lnTo>
                  <a:lnTo>
                    <a:pt x="985" y="179"/>
                  </a:lnTo>
                  <a:lnTo>
                    <a:pt x="996" y="187"/>
                  </a:lnTo>
                  <a:lnTo>
                    <a:pt x="1006" y="192"/>
                  </a:lnTo>
                  <a:lnTo>
                    <a:pt x="1017" y="202"/>
                  </a:lnTo>
                  <a:lnTo>
                    <a:pt x="1028" y="211"/>
                  </a:lnTo>
                  <a:lnTo>
                    <a:pt x="1040" y="219"/>
                  </a:lnTo>
                  <a:lnTo>
                    <a:pt x="1049" y="229"/>
                  </a:lnTo>
                  <a:lnTo>
                    <a:pt x="1061" y="238"/>
                  </a:lnTo>
                  <a:lnTo>
                    <a:pt x="1070" y="248"/>
                  </a:lnTo>
                  <a:lnTo>
                    <a:pt x="1080" y="257"/>
                  </a:lnTo>
                  <a:lnTo>
                    <a:pt x="1089" y="268"/>
                  </a:lnTo>
                  <a:lnTo>
                    <a:pt x="1097" y="278"/>
                  </a:lnTo>
                  <a:lnTo>
                    <a:pt x="1106" y="289"/>
                  </a:lnTo>
                  <a:lnTo>
                    <a:pt x="1114" y="301"/>
                  </a:lnTo>
                  <a:lnTo>
                    <a:pt x="1123" y="312"/>
                  </a:lnTo>
                  <a:lnTo>
                    <a:pt x="1129" y="325"/>
                  </a:lnTo>
                  <a:lnTo>
                    <a:pt x="1137" y="339"/>
                  </a:lnTo>
                  <a:lnTo>
                    <a:pt x="1142" y="352"/>
                  </a:lnTo>
                  <a:lnTo>
                    <a:pt x="1148" y="365"/>
                  </a:lnTo>
                  <a:lnTo>
                    <a:pt x="1154" y="381"/>
                  </a:lnTo>
                  <a:lnTo>
                    <a:pt x="1161" y="396"/>
                  </a:lnTo>
                  <a:lnTo>
                    <a:pt x="1165" y="413"/>
                  </a:lnTo>
                  <a:lnTo>
                    <a:pt x="1169" y="428"/>
                  </a:lnTo>
                  <a:lnTo>
                    <a:pt x="1173" y="443"/>
                  </a:lnTo>
                  <a:lnTo>
                    <a:pt x="1177" y="462"/>
                  </a:lnTo>
                  <a:lnTo>
                    <a:pt x="1177" y="470"/>
                  </a:lnTo>
                  <a:lnTo>
                    <a:pt x="1179" y="479"/>
                  </a:lnTo>
                  <a:lnTo>
                    <a:pt x="1179" y="487"/>
                  </a:lnTo>
                  <a:lnTo>
                    <a:pt x="1180" y="497"/>
                  </a:lnTo>
                  <a:lnTo>
                    <a:pt x="1179" y="504"/>
                  </a:lnTo>
                  <a:lnTo>
                    <a:pt x="1179" y="514"/>
                  </a:lnTo>
                  <a:lnTo>
                    <a:pt x="1179" y="521"/>
                  </a:lnTo>
                  <a:lnTo>
                    <a:pt x="1179" y="531"/>
                  </a:lnTo>
                  <a:lnTo>
                    <a:pt x="1177" y="538"/>
                  </a:lnTo>
                  <a:lnTo>
                    <a:pt x="1175" y="546"/>
                  </a:lnTo>
                  <a:lnTo>
                    <a:pt x="1175" y="554"/>
                  </a:lnTo>
                  <a:lnTo>
                    <a:pt x="1175" y="563"/>
                  </a:lnTo>
                  <a:lnTo>
                    <a:pt x="1171" y="571"/>
                  </a:lnTo>
                  <a:lnTo>
                    <a:pt x="1171" y="580"/>
                  </a:lnTo>
                  <a:lnTo>
                    <a:pt x="1169" y="588"/>
                  </a:lnTo>
                  <a:lnTo>
                    <a:pt x="1167" y="597"/>
                  </a:lnTo>
                  <a:lnTo>
                    <a:pt x="1163" y="605"/>
                  </a:lnTo>
                  <a:lnTo>
                    <a:pt x="1161" y="613"/>
                  </a:lnTo>
                  <a:lnTo>
                    <a:pt x="1158" y="620"/>
                  </a:lnTo>
                  <a:lnTo>
                    <a:pt x="1156" y="628"/>
                  </a:lnTo>
                  <a:lnTo>
                    <a:pt x="1152" y="637"/>
                  </a:lnTo>
                  <a:lnTo>
                    <a:pt x="1148" y="645"/>
                  </a:lnTo>
                  <a:lnTo>
                    <a:pt x="1146" y="653"/>
                  </a:lnTo>
                  <a:lnTo>
                    <a:pt x="1144" y="662"/>
                  </a:lnTo>
                  <a:lnTo>
                    <a:pt x="1140" y="670"/>
                  </a:lnTo>
                  <a:lnTo>
                    <a:pt x="1137" y="677"/>
                  </a:lnTo>
                  <a:lnTo>
                    <a:pt x="1131" y="685"/>
                  </a:lnTo>
                  <a:lnTo>
                    <a:pt x="1127" y="694"/>
                  </a:lnTo>
                  <a:lnTo>
                    <a:pt x="1123" y="704"/>
                  </a:lnTo>
                  <a:lnTo>
                    <a:pt x="1120" y="711"/>
                  </a:lnTo>
                  <a:lnTo>
                    <a:pt x="1116" y="719"/>
                  </a:lnTo>
                  <a:lnTo>
                    <a:pt x="1112" y="729"/>
                  </a:lnTo>
                  <a:lnTo>
                    <a:pt x="1106" y="736"/>
                  </a:lnTo>
                  <a:lnTo>
                    <a:pt x="1101" y="744"/>
                  </a:lnTo>
                  <a:lnTo>
                    <a:pt x="1095" y="751"/>
                  </a:lnTo>
                  <a:lnTo>
                    <a:pt x="1091" y="761"/>
                  </a:lnTo>
                  <a:lnTo>
                    <a:pt x="1083" y="769"/>
                  </a:lnTo>
                  <a:lnTo>
                    <a:pt x="1080" y="776"/>
                  </a:lnTo>
                  <a:lnTo>
                    <a:pt x="1074" y="784"/>
                  </a:lnTo>
                  <a:lnTo>
                    <a:pt x="1070" y="791"/>
                  </a:lnTo>
                  <a:lnTo>
                    <a:pt x="1063" y="799"/>
                  </a:lnTo>
                  <a:lnTo>
                    <a:pt x="1057" y="808"/>
                  </a:lnTo>
                  <a:lnTo>
                    <a:pt x="1051" y="816"/>
                  </a:lnTo>
                  <a:lnTo>
                    <a:pt x="1045" y="824"/>
                  </a:lnTo>
                  <a:lnTo>
                    <a:pt x="1040" y="831"/>
                  </a:lnTo>
                  <a:lnTo>
                    <a:pt x="1034" y="839"/>
                  </a:lnTo>
                  <a:lnTo>
                    <a:pt x="1026" y="848"/>
                  </a:lnTo>
                  <a:lnTo>
                    <a:pt x="1023" y="856"/>
                  </a:lnTo>
                  <a:lnTo>
                    <a:pt x="1013" y="864"/>
                  </a:lnTo>
                  <a:lnTo>
                    <a:pt x="1007" y="871"/>
                  </a:lnTo>
                  <a:lnTo>
                    <a:pt x="1000" y="879"/>
                  </a:lnTo>
                  <a:lnTo>
                    <a:pt x="996" y="888"/>
                  </a:lnTo>
                  <a:lnTo>
                    <a:pt x="987" y="896"/>
                  </a:lnTo>
                  <a:lnTo>
                    <a:pt x="981" y="904"/>
                  </a:lnTo>
                  <a:lnTo>
                    <a:pt x="975" y="911"/>
                  </a:lnTo>
                  <a:lnTo>
                    <a:pt x="969" y="919"/>
                  </a:lnTo>
                  <a:lnTo>
                    <a:pt x="962" y="928"/>
                  </a:lnTo>
                  <a:lnTo>
                    <a:pt x="954" y="936"/>
                  </a:lnTo>
                  <a:lnTo>
                    <a:pt x="948" y="943"/>
                  </a:lnTo>
                  <a:lnTo>
                    <a:pt x="941" y="951"/>
                  </a:lnTo>
                  <a:lnTo>
                    <a:pt x="933" y="959"/>
                  </a:lnTo>
                  <a:lnTo>
                    <a:pt x="928" y="966"/>
                  </a:lnTo>
                  <a:lnTo>
                    <a:pt x="920" y="976"/>
                  </a:lnTo>
                  <a:lnTo>
                    <a:pt x="914" y="985"/>
                  </a:lnTo>
                  <a:lnTo>
                    <a:pt x="905" y="993"/>
                  </a:lnTo>
                  <a:lnTo>
                    <a:pt x="895" y="1002"/>
                  </a:lnTo>
                  <a:lnTo>
                    <a:pt x="888" y="1012"/>
                  </a:lnTo>
                  <a:lnTo>
                    <a:pt x="880" y="1023"/>
                  </a:lnTo>
                  <a:lnTo>
                    <a:pt x="871" y="1033"/>
                  </a:lnTo>
                  <a:lnTo>
                    <a:pt x="861" y="1042"/>
                  </a:lnTo>
                  <a:lnTo>
                    <a:pt x="853" y="1052"/>
                  </a:lnTo>
                  <a:lnTo>
                    <a:pt x="846" y="1063"/>
                  </a:lnTo>
                  <a:lnTo>
                    <a:pt x="836" y="1073"/>
                  </a:lnTo>
                  <a:lnTo>
                    <a:pt x="829" y="1082"/>
                  </a:lnTo>
                  <a:lnTo>
                    <a:pt x="821" y="1092"/>
                  </a:lnTo>
                  <a:lnTo>
                    <a:pt x="812" y="1103"/>
                  </a:lnTo>
                  <a:lnTo>
                    <a:pt x="804" y="1113"/>
                  </a:lnTo>
                  <a:lnTo>
                    <a:pt x="796" y="1124"/>
                  </a:lnTo>
                  <a:lnTo>
                    <a:pt x="789" y="1134"/>
                  </a:lnTo>
                  <a:lnTo>
                    <a:pt x="781" y="1145"/>
                  </a:lnTo>
                  <a:lnTo>
                    <a:pt x="774" y="1154"/>
                  </a:lnTo>
                  <a:lnTo>
                    <a:pt x="764" y="1164"/>
                  </a:lnTo>
                  <a:lnTo>
                    <a:pt x="756" y="1175"/>
                  </a:lnTo>
                  <a:lnTo>
                    <a:pt x="749" y="1187"/>
                  </a:lnTo>
                  <a:lnTo>
                    <a:pt x="741" y="1196"/>
                  </a:lnTo>
                  <a:lnTo>
                    <a:pt x="734" y="1208"/>
                  </a:lnTo>
                  <a:lnTo>
                    <a:pt x="726" y="1217"/>
                  </a:lnTo>
                  <a:lnTo>
                    <a:pt x="720" y="1231"/>
                  </a:lnTo>
                  <a:lnTo>
                    <a:pt x="711" y="1240"/>
                  </a:lnTo>
                  <a:lnTo>
                    <a:pt x="703" y="1251"/>
                  </a:lnTo>
                  <a:lnTo>
                    <a:pt x="698" y="1261"/>
                  </a:lnTo>
                  <a:lnTo>
                    <a:pt x="692" y="1274"/>
                  </a:lnTo>
                  <a:lnTo>
                    <a:pt x="684" y="1284"/>
                  </a:lnTo>
                  <a:lnTo>
                    <a:pt x="679" y="1297"/>
                  </a:lnTo>
                  <a:lnTo>
                    <a:pt x="673" y="1309"/>
                  </a:lnTo>
                  <a:lnTo>
                    <a:pt x="669" y="1320"/>
                  </a:lnTo>
                  <a:lnTo>
                    <a:pt x="661" y="1331"/>
                  </a:lnTo>
                  <a:lnTo>
                    <a:pt x="656" y="1343"/>
                  </a:lnTo>
                  <a:lnTo>
                    <a:pt x="650" y="1354"/>
                  </a:lnTo>
                  <a:lnTo>
                    <a:pt x="646" y="1366"/>
                  </a:lnTo>
                  <a:lnTo>
                    <a:pt x="639" y="1377"/>
                  </a:lnTo>
                  <a:lnTo>
                    <a:pt x="635" y="1388"/>
                  </a:lnTo>
                  <a:lnTo>
                    <a:pt x="631" y="1402"/>
                  </a:lnTo>
                  <a:lnTo>
                    <a:pt x="627" y="1415"/>
                  </a:lnTo>
                  <a:lnTo>
                    <a:pt x="622" y="1426"/>
                  </a:lnTo>
                  <a:lnTo>
                    <a:pt x="618" y="1438"/>
                  </a:lnTo>
                  <a:lnTo>
                    <a:pt x="614" y="1451"/>
                  </a:lnTo>
                  <a:lnTo>
                    <a:pt x="612" y="1464"/>
                  </a:lnTo>
                  <a:lnTo>
                    <a:pt x="606" y="1476"/>
                  </a:lnTo>
                  <a:lnTo>
                    <a:pt x="606" y="1489"/>
                  </a:lnTo>
                  <a:lnTo>
                    <a:pt x="602" y="1502"/>
                  </a:lnTo>
                  <a:lnTo>
                    <a:pt x="602" y="1516"/>
                  </a:lnTo>
                  <a:lnTo>
                    <a:pt x="599" y="1527"/>
                  </a:lnTo>
                  <a:lnTo>
                    <a:pt x="599" y="1539"/>
                  </a:lnTo>
                  <a:lnTo>
                    <a:pt x="595" y="1552"/>
                  </a:lnTo>
                  <a:lnTo>
                    <a:pt x="595" y="1565"/>
                  </a:lnTo>
                  <a:lnTo>
                    <a:pt x="595" y="1579"/>
                  </a:lnTo>
                  <a:lnTo>
                    <a:pt x="595" y="1592"/>
                  </a:lnTo>
                  <a:lnTo>
                    <a:pt x="595" y="1605"/>
                  </a:lnTo>
                  <a:lnTo>
                    <a:pt x="595" y="1620"/>
                  </a:lnTo>
                  <a:lnTo>
                    <a:pt x="595" y="1634"/>
                  </a:lnTo>
                  <a:lnTo>
                    <a:pt x="595" y="1649"/>
                  </a:lnTo>
                  <a:lnTo>
                    <a:pt x="597" y="1662"/>
                  </a:lnTo>
                  <a:lnTo>
                    <a:pt x="599" y="1675"/>
                  </a:lnTo>
                  <a:lnTo>
                    <a:pt x="602" y="1689"/>
                  </a:lnTo>
                  <a:lnTo>
                    <a:pt x="604" y="1704"/>
                  </a:lnTo>
                  <a:lnTo>
                    <a:pt x="608" y="1719"/>
                  </a:lnTo>
                  <a:lnTo>
                    <a:pt x="612" y="1734"/>
                  </a:lnTo>
                  <a:lnTo>
                    <a:pt x="614" y="1740"/>
                  </a:lnTo>
                  <a:lnTo>
                    <a:pt x="618" y="1746"/>
                  </a:lnTo>
                  <a:lnTo>
                    <a:pt x="747" y="1959"/>
                  </a:lnTo>
                  <a:lnTo>
                    <a:pt x="751" y="1970"/>
                  </a:lnTo>
                  <a:lnTo>
                    <a:pt x="751" y="1982"/>
                  </a:lnTo>
                  <a:lnTo>
                    <a:pt x="751" y="1995"/>
                  </a:lnTo>
                  <a:lnTo>
                    <a:pt x="751" y="2008"/>
                  </a:lnTo>
                  <a:lnTo>
                    <a:pt x="747" y="2022"/>
                  </a:lnTo>
                  <a:lnTo>
                    <a:pt x="743" y="2035"/>
                  </a:lnTo>
                  <a:lnTo>
                    <a:pt x="737" y="2046"/>
                  </a:lnTo>
                  <a:lnTo>
                    <a:pt x="730" y="2058"/>
                  </a:lnTo>
                  <a:lnTo>
                    <a:pt x="722" y="2065"/>
                  </a:lnTo>
                  <a:lnTo>
                    <a:pt x="715" y="2073"/>
                  </a:lnTo>
                  <a:lnTo>
                    <a:pt x="705" y="2079"/>
                  </a:lnTo>
                  <a:lnTo>
                    <a:pt x="698" y="2084"/>
                  </a:lnTo>
                  <a:lnTo>
                    <a:pt x="686" y="2090"/>
                  </a:lnTo>
                  <a:lnTo>
                    <a:pt x="677" y="2096"/>
                  </a:lnTo>
                  <a:lnTo>
                    <a:pt x="667" y="2099"/>
                  </a:lnTo>
                  <a:lnTo>
                    <a:pt x="656" y="2105"/>
                  </a:lnTo>
                  <a:lnTo>
                    <a:pt x="642" y="2105"/>
                  </a:lnTo>
                  <a:lnTo>
                    <a:pt x="631" y="2109"/>
                  </a:lnTo>
                  <a:lnTo>
                    <a:pt x="618" y="2109"/>
                  </a:lnTo>
                  <a:lnTo>
                    <a:pt x="606" y="2113"/>
                  </a:lnTo>
                  <a:lnTo>
                    <a:pt x="599" y="2113"/>
                  </a:lnTo>
                  <a:lnTo>
                    <a:pt x="591" y="2113"/>
                  </a:lnTo>
                  <a:lnTo>
                    <a:pt x="583" y="2113"/>
                  </a:lnTo>
                  <a:lnTo>
                    <a:pt x="576" y="2113"/>
                  </a:lnTo>
                  <a:lnTo>
                    <a:pt x="563" y="2113"/>
                  </a:lnTo>
                  <a:lnTo>
                    <a:pt x="549" y="2113"/>
                  </a:lnTo>
                  <a:lnTo>
                    <a:pt x="540" y="2196"/>
                  </a:lnTo>
                  <a:lnTo>
                    <a:pt x="549" y="2196"/>
                  </a:lnTo>
                  <a:lnTo>
                    <a:pt x="559" y="2196"/>
                  </a:lnTo>
                  <a:lnTo>
                    <a:pt x="568" y="2196"/>
                  </a:lnTo>
                  <a:lnTo>
                    <a:pt x="578" y="2198"/>
                  </a:lnTo>
                  <a:lnTo>
                    <a:pt x="587" y="2198"/>
                  </a:lnTo>
                  <a:lnTo>
                    <a:pt x="599" y="2198"/>
                  </a:lnTo>
                  <a:lnTo>
                    <a:pt x="606" y="2198"/>
                  </a:lnTo>
                  <a:lnTo>
                    <a:pt x="618" y="2198"/>
                  </a:lnTo>
                  <a:lnTo>
                    <a:pt x="625" y="2195"/>
                  </a:lnTo>
                  <a:lnTo>
                    <a:pt x="635" y="2193"/>
                  </a:lnTo>
                  <a:lnTo>
                    <a:pt x="642" y="2193"/>
                  </a:lnTo>
                  <a:lnTo>
                    <a:pt x="652" y="2191"/>
                  </a:lnTo>
                  <a:lnTo>
                    <a:pt x="660" y="2189"/>
                  </a:lnTo>
                  <a:lnTo>
                    <a:pt x="669" y="2187"/>
                  </a:lnTo>
                  <a:lnTo>
                    <a:pt x="679" y="2185"/>
                  </a:lnTo>
                  <a:lnTo>
                    <a:pt x="688" y="2183"/>
                  </a:lnTo>
                  <a:lnTo>
                    <a:pt x="696" y="2179"/>
                  </a:lnTo>
                  <a:lnTo>
                    <a:pt x="703" y="2176"/>
                  </a:lnTo>
                  <a:lnTo>
                    <a:pt x="711" y="2172"/>
                  </a:lnTo>
                  <a:lnTo>
                    <a:pt x="718" y="2170"/>
                  </a:lnTo>
                  <a:lnTo>
                    <a:pt x="726" y="2164"/>
                  </a:lnTo>
                  <a:lnTo>
                    <a:pt x="734" y="2160"/>
                  </a:lnTo>
                  <a:lnTo>
                    <a:pt x="739" y="2157"/>
                  </a:lnTo>
                  <a:lnTo>
                    <a:pt x="747" y="2153"/>
                  </a:lnTo>
                  <a:lnTo>
                    <a:pt x="753" y="2147"/>
                  </a:lnTo>
                  <a:lnTo>
                    <a:pt x="760" y="2141"/>
                  </a:lnTo>
                  <a:lnTo>
                    <a:pt x="766" y="2136"/>
                  </a:lnTo>
                  <a:lnTo>
                    <a:pt x="774" y="2132"/>
                  </a:lnTo>
                  <a:lnTo>
                    <a:pt x="777" y="2126"/>
                  </a:lnTo>
                  <a:lnTo>
                    <a:pt x="785" y="2120"/>
                  </a:lnTo>
                  <a:lnTo>
                    <a:pt x="791" y="2115"/>
                  </a:lnTo>
                  <a:lnTo>
                    <a:pt x="796" y="2109"/>
                  </a:lnTo>
                  <a:lnTo>
                    <a:pt x="802" y="2099"/>
                  </a:lnTo>
                  <a:lnTo>
                    <a:pt x="808" y="2088"/>
                  </a:lnTo>
                  <a:lnTo>
                    <a:pt x="814" y="2079"/>
                  </a:lnTo>
                  <a:lnTo>
                    <a:pt x="821" y="2067"/>
                  </a:lnTo>
                  <a:lnTo>
                    <a:pt x="825" y="2056"/>
                  </a:lnTo>
                  <a:lnTo>
                    <a:pt x="829" y="2044"/>
                  </a:lnTo>
                  <a:lnTo>
                    <a:pt x="831" y="2031"/>
                  </a:lnTo>
                  <a:lnTo>
                    <a:pt x="834" y="2022"/>
                  </a:lnTo>
                  <a:lnTo>
                    <a:pt x="834" y="2008"/>
                  </a:lnTo>
                  <a:lnTo>
                    <a:pt x="836" y="1997"/>
                  </a:lnTo>
                  <a:lnTo>
                    <a:pt x="836" y="1985"/>
                  </a:lnTo>
                  <a:lnTo>
                    <a:pt x="836" y="1974"/>
                  </a:lnTo>
                  <a:lnTo>
                    <a:pt x="834" y="1961"/>
                  </a:lnTo>
                  <a:lnTo>
                    <a:pt x="833" y="1949"/>
                  </a:lnTo>
                  <a:lnTo>
                    <a:pt x="831" y="1938"/>
                  </a:lnTo>
                  <a:lnTo>
                    <a:pt x="827" y="1926"/>
                  </a:lnTo>
                  <a:lnTo>
                    <a:pt x="825" y="1923"/>
                  </a:lnTo>
                  <a:lnTo>
                    <a:pt x="823" y="1919"/>
                  </a:lnTo>
                  <a:lnTo>
                    <a:pt x="694" y="1708"/>
                  </a:lnTo>
                  <a:lnTo>
                    <a:pt x="690" y="1694"/>
                  </a:lnTo>
                  <a:lnTo>
                    <a:pt x="686" y="1683"/>
                  </a:lnTo>
                  <a:lnTo>
                    <a:pt x="684" y="1670"/>
                  </a:lnTo>
                  <a:lnTo>
                    <a:pt x="682" y="1656"/>
                  </a:lnTo>
                  <a:lnTo>
                    <a:pt x="680" y="1645"/>
                  </a:lnTo>
                  <a:lnTo>
                    <a:pt x="680" y="1634"/>
                  </a:lnTo>
                  <a:lnTo>
                    <a:pt x="680" y="1622"/>
                  </a:lnTo>
                  <a:lnTo>
                    <a:pt x="680" y="1611"/>
                  </a:lnTo>
                  <a:lnTo>
                    <a:pt x="679" y="1599"/>
                  </a:lnTo>
                  <a:lnTo>
                    <a:pt x="679" y="1586"/>
                  </a:lnTo>
                  <a:lnTo>
                    <a:pt x="679" y="1575"/>
                  </a:lnTo>
                  <a:lnTo>
                    <a:pt x="680" y="1563"/>
                  </a:lnTo>
                  <a:lnTo>
                    <a:pt x="680" y="1552"/>
                  </a:lnTo>
                  <a:lnTo>
                    <a:pt x="682" y="1540"/>
                  </a:lnTo>
                  <a:lnTo>
                    <a:pt x="684" y="1529"/>
                  </a:lnTo>
                  <a:lnTo>
                    <a:pt x="686" y="1520"/>
                  </a:lnTo>
                  <a:lnTo>
                    <a:pt x="686" y="1508"/>
                  </a:lnTo>
                  <a:lnTo>
                    <a:pt x="690" y="1495"/>
                  </a:lnTo>
                  <a:lnTo>
                    <a:pt x="690" y="1485"/>
                  </a:lnTo>
                  <a:lnTo>
                    <a:pt x="696" y="1474"/>
                  </a:lnTo>
                  <a:lnTo>
                    <a:pt x="698" y="1463"/>
                  </a:lnTo>
                  <a:lnTo>
                    <a:pt x="701" y="1451"/>
                  </a:lnTo>
                  <a:lnTo>
                    <a:pt x="705" y="1442"/>
                  </a:lnTo>
                  <a:lnTo>
                    <a:pt x="709" y="1432"/>
                  </a:lnTo>
                  <a:lnTo>
                    <a:pt x="713" y="1421"/>
                  </a:lnTo>
                  <a:lnTo>
                    <a:pt x="717" y="1411"/>
                  </a:lnTo>
                  <a:lnTo>
                    <a:pt x="720" y="1398"/>
                  </a:lnTo>
                  <a:lnTo>
                    <a:pt x="726" y="1388"/>
                  </a:lnTo>
                  <a:lnTo>
                    <a:pt x="730" y="1379"/>
                  </a:lnTo>
                  <a:lnTo>
                    <a:pt x="736" y="1369"/>
                  </a:lnTo>
                  <a:lnTo>
                    <a:pt x="741" y="1358"/>
                  </a:lnTo>
                  <a:lnTo>
                    <a:pt x="747" y="1350"/>
                  </a:lnTo>
                  <a:lnTo>
                    <a:pt x="751" y="1337"/>
                  </a:lnTo>
                  <a:lnTo>
                    <a:pt x="756" y="1328"/>
                  </a:lnTo>
                  <a:lnTo>
                    <a:pt x="762" y="1318"/>
                  </a:lnTo>
                  <a:lnTo>
                    <a:pt x="770" y="1309"/>
                  </a:lnTo>
                  <a:lnTo>
                    <a:pt x="774" y="1297"/>
                  </a:lnTo>
                  <a:lnTo>
                    <a:pt x="781" y="1288"/>
                  </a:lnTo>
                  <a:lnTo>
                    <a:pt x="787" y="1278"/>
                  </a:lnTo>
                  <a:lnTo>
                    <a:pt x="795" y="1269"/>
                  </a:lnTo>
                  <a:lnTo>
                    <a:pt x="800" y="1257"/>
                  </a:lnTo>
                  <a:lnTo>
                    <a:pt x="806" y="1248"/>
                  </a:lnTo>
                  <a:lnTo>
                    <a:pt x="812" y="1238"/>
                  </a:lnTo>
                  <a:lnTo>
                    <a:pt x="821" y="1229"/>
                  </a:lnTo>
                  <a:lnTo>
                    <a:pt x="827" y="1217"/>
                  </a:lnTo>
                  <a:lnTo>
                    <a:pt x="834" y="1210"/>
                  </a:lnTo>
                  <a:lnTo>
                    <a:pt x="844" y="1198"/>
                  </a:lnTo>
                  <a:lnTo>
                    <a:pt x="852" y="1191"/>
                  </a:lnTo>
                  <a:lnTo>
                    <a:pt x="857" y="1179"/>
                  </a:lnTo>
                  <a:lnTo>
                    <a:pt x="865" y="1170"/>
                  </a:lnTo>
                  <a:lnTo>
                    <a:pt x="872" y="1160"/>
                  </a:lnTo>
                  <a:lnTo>
                    <a:pt x="880" y="1151"/>
                  </a:lnTo>
                  <a:lnTo>
                    <a:pt x="888" y="1141"/>
                  </a:lnTo>
                  <a:lnTo>
                    <a:pt x="895" y="1134"/>
                  </a:lnTo>
                  <a:lnTo>
                    <a:pt x="905" y="1122"/>
                  </a:lnTo>
                  <a:lnTo>
                    <a:pt x="912" y="1115"/>
                  </a:lnTo>
                  <a:lnTo>
                    <a:pt x="920" y="1103"/>
                  </a:lnTo>
                  <a:lnTo>
                    <a:pt x="928" y="1094"/>
                  </a:lnTo>
                  <a:lnTo>
                    <a:pt x="935" y="1086"/>
                  </a:lnTo>
                  <a:lnTo>
                    <a:pt x="945" y="1077"/>
                  </a:lnTo>
                  <a:lnTo>
                    <a:pt x="952" y="1067"/>
                  </a:lnTo>
                  <a:lnTo>
                    <a:pt x="962" y="1058"/>
                  </a:lnTo>
                  <a:lnTo>
                    <a:pt x="969" y="1048"/>
                  </a:lnTo>
                  <a:lnTo>
                    <a:pt x="979" y="1040"/>
                  </a:lnTo>
                  <a:lnTo>
                    <a:pt x="979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089800" y="316800"/>
              <a:ext cx="106920" cy="550080"/>
            </a:xfrm>
            <a:custGeom>
              <a:avLst/>
              <a:gdLst/>
              <a:ahLst/>
              <a:rect l="l" t="t" r="r" b="b"/>
              <a:pathLst>
                <a:path w="578" h="2970">
                  <a:moveTo>
                    <a:pt x="116" y="0"/>
                  </a:moveTo>
                  <a:lnTo>
                    <a:pt x="0" y="573"/>
                  </a:lnTo>
                  <a:lnTo>
                    <a:pt x="0" y="575"/>
                  </a:lnTo>
                  <a:lnTo>
                    <a:pt x="6" y="580"/>
                  </a:lnTo>
                  <a:lnTo>
                    <a:pt x="10" y="584"/>
                  </a:lnTo>
                  <a:lnTo>
                    <a:pt x="14" y="590"/>
                  </a:lnTo>
                  <a:lnTo>
                    <a:pt x="18" y="597"/>
                  </a:lnTo>
                  <a:lnTo>
                    <a:pt x="25" y="605"/>
                  </a:lnTo>
                  <a:lnTo>
                    <a:pt x="29" y="611"/>
                  </a:lnTo>
                  <a:lnTo>
                    <a:pt x="37" y="620"/>
                  </a:lnTo>
                  <a:lnTo>
                    <a:pt x="44" y="628"/>
                  </a:lnTo>
                  <a:lnTo>
                    <a:pt x="52" y="641"/>
                  </a:lnTo>
                  <a:lnTo>
                    <a:pt x="59" y="651"/>
                  </a:lnTo>
                  <a:lnTo>
                    <a:pt x="69" y="664"/>
                  </a:lnTo>
                  <a:lnTo>
                    <a:pt x="78" y="677"/>
                  </a:lnTo>
                  <a:lnTo>
                    <a:pt x="90" y="692"/>
                  </a:lnTo>
                  <a:lnTo>
                    <a:pt x="97" y="706"/>
                  </a:lnTo>
                  <a:lnTo>
                    <a:pt x="107" y="721"/>
                  </a:lnTo>
                  <a:lnTo>
                    <a:pt x="118" y="736"/>
                  </a:lnTo>
                  <a:lnTo>
                    <a:pt x="130" y="753"/>
                  </a:lnTo>
                  <a:lnTo>
                    <a:pt x="141" y="769"/>
                  </a:lnTo>
                  <a:lnTo>
                    <a:pt x="153" y="788"/>
                  </a:lnTo>
                  <a:lnTo>
                    <a:pt x="164" y="807"/>
                  </a:lnTo>
                  <a:lnTo>
                    <a:pt x="177" y="827"/>
                  </a:lnTo>
                  <a:lnTo>
                    <a:pt x="189" y="847"/>
                  </a:lnTo>
                  <a:lnTo>
                    <a:pt x="200" y="866"/>
                  </a:lnTo>
                  <a:lnTo>
                    <a:pt x="213" y="888"/>
                  </a:lnTo>
                  <a:lnTo>
                    <a:pt x="227" y="909"/>
                  </a:lnTo>
                  <a:lnTo>
                    <a:pt x="238" y="932"/>
                  </a:lnTo>
                  <a:lnTo>
                    <a:pt x="251" y="955"/>
                  </a:lnTo>
                  <a:lnTo>
                    <a:pt x="265" y="980"/>
                  </a:lnTo>
                  <a:lnTo>
                    <a:pt x="278" y="1004"/>
                  </a:lnTo>
                  <a:lnTo>
                    <a:pt x="291" y="1029"/>
                  </a:lnTo>
                  <a:lnTo>
                    <a:pt x="303" y="1052"/>
                  </a:lnTo>
                  <a:lnTo>
                    <a:pt x="314" y="1077"/>
                  </a:lnTo>
                  <a:lnTo>
                    <a:pt x="327" y="1103"/>
                  </a:lnTo>
                  <a:lnTo>
                    <a:pt x="339" y="1130"/>
                  </a:lnTo>
                  <a:lnTo>
                    <a:pt x="352" y="1156"/>
                  </a:lnTo>
                  <a:lnTo>
                    <a:pt x="364" y="1183"/>
                  </a:lnTo>
                  <a:lnTo>
                    <a:pt x="377" y="1212"/>
                  </a:lnTo>
                  <a:lnTo>
                    <a:pt x="388" y="1240"/>
                  </a:lnTo>
                  <a:lnTo>
                    <a:pt x="400" y="1267"/>
                  </a:lnTo>
                  <a:lnTo>
                    <a:pt x="409" y="1295"/>
                  </a:lnTo>
                  <a:lnTo>
                    <a:pt x="423" y="1326"/>
                  </a:lnTo>
                  <a:lnTo>
                    <a:pt x="430" y="1354"/>
                  </a:lnTo>
                  <a:lnTo>
                    <a:pt x="442" y="1385"/>
                  </a:lnTo>
                  <a:lnTo>
                    <a:pt x="453" y="1415"/>
                  </a:lnTo>
                  <a:lnTo>
                    <a:pt x="462" y="1445"/>
                  </a:lnTo>
                  <a:lnTo>
                    <a:pt x="470" y="1476"/>
                  </a:lnTo>
                  <a:lnTo>
                    <a:pt x="480" y="1506"/>
                  </a:lnTo>
                  <a:lnTo>
                    <a:pt x="487" y="1539"/>
                  </a:lnTo>
                  <a:lnTo>
                    <a:pt x="495" y="1569"/>
                  </a:lnTo>
                  <a:lnTo>
                    <a:pt x="500" y="1599"/>
                  </a:lnTo>
                  <a:lnTo>
                    <a:pt x="506" y="1632"/>
                  </a:lnTo>
                  <a:lnTo>
                    <a:pt x="512" y="1664"/>
                  </a:lnTo>
                  <a:lnTo>
                    <a:pt x="519" y="1696"/>
                  </a:lnTo>
                  <a:lnTo>
                    <a:pt x="523" y="1729"/>
                  </a:lnTo>
                  <a:lnTo>
                    <a:pt x="527" y="1761"/>
                  </a:lnTo>
                  <a:lnTo>
                    <a:pt x="529" y="1793"/>
                  </a:lnTo>
                  <a:lnTo>
                    <a:pt x="533" y="1828"/>
                  </a:lnTo>
                  <a:lnTo>
                    <a:pt x="535" y="1860"/>
                  </a:lnTo>
                  <a:lnTo>
                    <a:pt x="537" y="1894"/>
                  </a:lnTo>
                  <a:lnTo>
                    <a:pt x="537" y="1926"/>
                  </a:lnTo>
                  <a:lnTo>
                    <a:pt x="537" y="1961"/>
                  </a:lnTo>
                  <a:lnTo>
                    <a:pt x="533" y="1993"/>
                  </a:lnTo>
                  <a:lnTo>
                    <a:pt x="531" y="2025"/>
                  </a:lnTo>
                  <a:lnTo>
                    <a:pt x="527" y="2056"/>
                  </a:lnTo>
                  <a:lnTo>
                    <a:pt x="525" y="2088"/>
                  </a:lnTo>
                  <a:lnTo>
                    <a:pt x="519" y="2117"/>
                  </a:lnTo>
                  <a:lnTo>
                    <a:pt x="516" y="2145"/>
                  </a:lnTo>
                  <a:lnTo>
                    <a:pt x="510" y="2176"/>
                  </a:lnTo>
                  <a:lnTo>
                    <a:pt x="506" y="2204"/>
                  </a:lnTo>
                  <a:lnTo>
                    <a:pt x="500" y="2231"/>
                  </a:lnTo>
                  <a:lnTo>
                    <a:pt x="493" y="2259"/>
                  </a:lnTo>
                  <a:lnTo>
                    <a:pt x="487" y="2286"/>
                  </a:lnTo>
                  <a:lnTo>
                    <a:pt x="480" y="2312"/>
                  </a:lnTo>
                  <a:lnTo>
                    <a:pt x="472" y="2337"/>
                  </a:lnTo>
                  <a:lnTo>
                    <a:pt x="464" y="2362"/>
                  </a:lnTo>
                  <a:lnTo>
                    <a:pt x="457" y="2387"/>
                  </a:lnTo>
                  <a:lnTo>
                    <a:pt x="449" y="2411"/>
                  </a:lnTo>
                  <a:lnTo>
                    <a:pt x="440" y="2432"/>
                  </a:lnTo>
                  <a:lnTo>
                    <a:pt x="430" y="2455"/>
                  </a:lnTo>
                  <a:lnTo>
                    <a:pt x="421" y="2476"/>
                  </a:lnTo>
                  <a:lnTo>
                    <a:pt x="411" y="2499"/>
                  </a:lnTo>
                  <a:lnTo>
                    <a:pt x="400" y="2520"/>
                  </a:lnTo>
                  <a:lnTo>
                    <a:pt x="392" y="2541"/>
                  </a:lnTo>
                  <a:lnTo>
                    <a:pt x="381" y="2560"/>
                  </a:lnTo>
                  <a:lnTo>
                    <a:pt x="371" y="2581"/>
                  </a:lnTo>
                  <a:lnTo>
                    <a:pt x="360" y="2598"/>
                  </a:lnTo>
                  <a:lnTo>
                    <a:pt x="348" y="2615"/>
                  </a:lnTo>
                  <a:lnTo>
                    <a:pt x="339" y="2634"/>
                  </a:lnTo>
                  <a:lnTo>
                    <a:pt x="327" y="2651"/>
                  </a:lnTo>
                  <a:lnTo>
                    <a:pt x="318" y="2668"/>
                  </a:lnTo>
                  <a:lnTo>
                    <a:pt x="307" y="2685"/>
                  </a:lnTo>
                  <a:lnTo>
                    <a:pt x="295" y="2700"/>
                  </a:lnTo>
                  <a:lnTo>
                    <a:pt x="286" y="2717"/>
                  </a:lnTo>
                  <a:lnTo>
                    <a:pt x="274" y="2731"/>
                  </a:lnTo>
                  <a:lnTo>
                    <a:pt x="261" y="2744"/>
                  </a:lnTo>
                  <a:lnTo>
                    <a:pt x="251" y="2757"/>
                  </a:lnTo>
                  <a:lnTo>
                    <a:pt x="240" y="2771"/>
                  </a:lnTo>
                  <a:lnTo>
                    <a:pt x="229" y="2782"/>
                  </a:lnTo>
                  <a:lnTo>
                    <a:pt x="217" y="2795"/>
                  </a:lnTo>
                  <a:lnTo>
                    <a:pt x="208" y="2807"/>
                  </a:lnTo>
                  <a:lnTo>
                    <a:pt x="198" y="2818"/>
                  </a:lnTo>
                  <a:lnTo>
                    <a:pt x="187" y="2828"/>
                  </a:lnTo>
                  <a:lnTo>
                    <a:pt x="177" y="2839"/>
                  </a:lnTo>
                  <a:lnTo>
                    <a:pt x="166" y="2849"/>
                  </a:lnTo>
                  <a:lnTo>
                    <a:pt x="158" y="2858"/>
                  </a:lnTo>
                  <a:lnTo>
                    <a:pt x="147" y="2866"/>
                  </a:lnTo>
                  <a:lnTo>
                    <a:pt x="139" y="2875"/>
                  </a:lnTo>
                  <a:lnTo>
                    <a:pt x="132" y="2883"/>
                  </a:lnTo>
                  <a:lnTo>
                    <a:pt x="124" y="2891"/>
                  </a:lnTo>
                  <a:lnTo>
                    <a:pt x="115" y="2896"/>
                  </a:lnTo>
                  <a:lnTo>
                    <a:pt x="107" y="2902"/>
                  </a:lnTo>
                  <a:lnTo>
                    <a:pt x="99" y="2908"/>
                  </a:lnTo>
                  <a:lnTo>
                    <a:pt x="94" y="2915"/>
                  </a:lnTo>
                  <a:lnTo>
                    <a:pt x="86" y="2919"/>
                  </a:lnTo>
                  <a:lnTo>
                    <a:pt x="80" y="2923"/>
                  </a:lnTo>
                  <a:lnTo>
                    <a:pt x="75" y="2927"/>
                  </a:lnTo>
                  <a:lnTo>
                    <a:pt x="71" y="2932"/>
                  </a:lnTo>
                  <a:lnTo>
                    <a:pt x="61" y="2938"/>
                  </a:lnTo>
                  <a:lnTo>
                    <a:pt x="56" y="2942"/>
                  </a:lnTo>
                  <a:lnTo>
                    <a:pt x="50" y="2946"/>
                  </a:lnTo>
                  <a:lnTo>
                    <a:pt x="50" y="2948"/>
                  </a:lnTo>
                  <a:lnTo>
                    <a:pt x="48" y="2949"/>
                  </a:lnTo>
                  <a:lnTo>
                    <a:pt x="48" y="2949"/>
                  </a:lnTo>
                  <a:lnTo>
                    <a:pt x="48" y="2949"/>
                  </a:lnTo>
                  <a:lnTo>
                    <a:pt x="113" y="2970"/>
                  </a:lnTo>
                  <a:lnTo>
                    <a:pt x="113" y="2968"/>
                  </a:lnTo>
                  <a:lnTo>
                    <a:pt x="118" y="2967"/>
                  </a:lnTo>
                  <a:lnTo>
                    <a:pt x="124" y="2961"/>
                  </a:lnTo>
                  <a:lnTo>
                    <a:pt x="134" y="2957"/>
                  </a:lnTo>
                  <a:lnTo>
                    <a:pt x="143" y="2948"/>
                  </a:lnTo>
                  <a:lnTo>
                    <a:pt x="154" y="2940"/>
                  </a:lnTo>
                  <a:lnTo>
                    <a:pt x="160" y="2932"/>
                  </a:lnTo>
                  <a:lnTo>
                    <a:pt x="168" y="2927"/>
                  </a:lnTo>
                  <a:lnTo>
                    <a:pt x="175" y="2921"/>
                  </a:lnTo>
                  <a:lnTo>
                    <a:pt x="183" y="2915"/>
                  </a:lnTo>
                  <a:lnTo>
                    <a:pt x="191" y="2908"/>
                  </a:lnTo>
                  <a:lnTo>
                    <a:pt x="200" y="2900"/>
                  </a:lnTo>
                  <a:lnTo>
                    <a:pt x="208" y="2892"/>
                  </a:lnTo>
                  <a:lnTo>
                    <a:pt x="217" y="2883"/>
                  </a:lnTo>
                  <a:lnTo>
                    <a:pt x="225" y="2873"/>
                  </a:lnTo>
                  <a:lnTo>
                    <a:pt x="234" y="2864"/>
                  </a:lnTo>
                  <a:lnTo>
                    <a:pt x="244" y="2852"/>
                  </a:lnTo>
                  <a:lnTo>
                    <a:pt x="255" y="2845"/>
                  </a:lnTo>
                  <a:lnTo>
                    <a:pt x="265" y="2832"/>
                  </a:lnTo>
                  <a:lnTo>
                    <a:pt x="274" y="2820"/>
                  </a:lnTo>
                  <a:lnTo>
                    <a:pt x="284" y="2809"/>
                  </a:lnTo>
                  <a:lnTo>
                    <a:pt x="295" y="2797"/>
                  </a:lnTo>
                  <a:lnTo>
                    <a:pt x="305" y="2782"/>
                  </a:lnTo>
                  <a:lnTo>
                    <a:pt x="316" y="2769"/>
                  </a:lnTo>
                  <a:lnTo>
                    <a:pt x="326" y="2756"/>
                  </a:lnTo>
                  <a:lnTo>
                    <a:pt x="337" y="2742"/>
                  </a:lnTo>
                  <a:lnTo>
                    <a:pt x="346" y="2727"/>
                  </a:lnTo>
                  <a:lnTo>
                    <a:pt x="356" y="2712"/>
                  </a:lnTo>
                  <a:lnTo>
                    <a:pt x="367" y="2695"/>
                  </a:lnTo>
                  <a:lnTo>
                    <a:pt x="379" y="2678"/>
                  </a:lnTo>
                  <a:lnTo>
                    <a:pt x="388" y="2660"/>
                  </a:lnTo>
                  <a:lnTo>
                    <a:pt x="398" y="2641"/>
                  </a:lnTo>
                  <a:lnTo>
                    <a:pt x="409" y="2624"/>
                  </a:lnTo>
                  <a:lnTo>
                    <a:pt x="419" y="2607"/>
                  </a:lnTo>
                  <a:lnTo>
                    <a:pt x="428" y="2586"/>
                  </a:lnTo>
                  <a:lnTo>
                    <a:pt x="438" y="2567"/>
                  </a:lnTo>
                  <a:lnTo>
                    <a:pt x="447" y="2546"/>
                  </a:lnTo>
                  <a:lnTo>
                    <a:pt x="457" y="2525"/>
                  </a:lnTo>
                  <a:lnTo>
                    <a:pt x="466" y="2503"/>
                  </a:lnTo>
                  <a:lnTo>
                    <a:pt x="476" y="2480"/>
                  </a:lnTo>
                  <a:lnTo>
                    <a:pt x="485" y="2457"/>
                  </a:lnTo>
                  <a:lnTo>
                    <a:pt x="495" y="2436"/>
                  </a:lnTo>
                  <a:lnTo>
                    <a:pt x="500" y="2409"/>
                  </a:lnTo>
                  <a:lnTo>
                    <a:pt x="510" y="2387"/>
                  </a:lnTo>
                  <a:lnTo>
                    <a:pt x="516" y="2360"/>
                  </a:lnTo>
                  <a:lnTo>
                    <a:pt x="523" y="2335"/>
                  </a:lnTo>
                  <a:lnTo>
                    <a:pt x="531" y="2307"/>
                  </a:lnTo>
                  <a:lnTo>
                    <a:pt x="537" y="2282"/>
                  </a:lnTo>
                  <a:lnTo>
                    <a:pt x="544" y="2254"/>
                  </a:lnTo>
                  <a:lnTo>
                    <a:pt x="550" y="2225"/>
                  </a:lnTo>
                  <a:lnTo>
                    <a:pt x="554" y="2195"/>
                  </a:lnTo>
                  <a:lnTo>
                    <a:pt x="559" y="2166"/>
                  </a:lnTo>
                  <a:lnTo>
                    <a:pt x="563" y="2136"/>
                  </a:lnTo>
                  <a:lnTo>
                    <a:pt x="567" y="2105"/>
                  </a:lnTo>
                  <a:lnTo>
                    <a:pt x="571" y="2075"/>
                  </a:lnTo>
                  <a:lnTo>
                    <a:pt x="573" y="2042"/>
                  </a:lnTo>
                  <a:lnTo>
                    <a:pt x="575" y="2008"/>
                  </a:lnTo>
                  <a:lnTo>
                    <a:pt x="578" y="1978"/>
                  </a:lnTo>
                  <a:lnTo>
                    <a:pt x="578" y="1944"/>
                  </a:lnTo>
                  <a:lnTo>
                    <a:pt x="578" y="1909"/>
                  </a:lnTo>
                  <a:lnTo>
                    <a:pt x="577" y="1875"/>
                  </a:lnTo>
                  <a:lnTo>
                    <a:pt x="575" y="1841"/>
                  </a:lnTo>
                  <a:lnTo>
                    <a:pt x="571" y="1807"/>
                  </a:lnTo>
                  <a:lnTo>
                    <a:pt x="569" y="1774"/>
                  </a:lnTo>
                  <a:lnTo>
                    <a:pt x="565" y="1740"/>
                  </a:lnTo>
                  <a:lnTo>
                    <a:pt x="561" y="1710"/>
                  </a:lnTo>
                  <a:lnTo>
                    <a:pt x="554" y="1676"/>
                  </a:lnTo>
                  <a:lnTo>
                    <a:pt x="550" y="1643"/>
                  </a:lnTo>
                  <a:lnTo>
                    <a:pt x="542" y="1611"/>
                  </a:lnTo>
                  <a:lnTo>
                    <a:pt x="537" y="1579"/>
                  </a:lnTo>
                  <a:lnTo>
                    <a:pt x="527" y="1546"/>
                  </a:lnTo>
                  <a:lnTo>
                    <a:pt x="519" y="1514"/>
                  </a:lnTo>
                  <a:lnTo>
                    <a:pt x="510" y="1483"/>
                  </a:lnTo>
                  <a:lnTo>
                    <a:pt x="502" y="1453"/>
                  </a:lnTo>
                  <a:lnTo>
                    <a:pt x="493" y="1421"/>
                  </a:lnTo>
                  <a:lnTo>
                    <a:pt x="481" y="1388"/>
                  </a:lnTo>
                  <a:lnTo>
                    <a:pt x="470" y="1358"/>
                  </a:lnTo>
                  <a:lnTo>
                    <a:pt x="461" y="1329"/>
                  </a:lnTo>
                  <a:lnTo>
                    <a:pt x="449" y="1299"/>
                  </a:lnTo>
                  <a:lnTo>
                    <a:pt x="440" y="1271"/>
                  </a:lnTo>
                  <a:lnTo>
                    <a:pt x="426" y="1242"/>
                  </a:lnTo>
                  <a:lnTo>
                    <a:pt x="417" y="1213"/>
                  </a:lnTo>
                  <a:lnTo>
                    <a:pt x="404" y="1187"/>
                  </a:lnTo>
                  <a:lnTo>
                    <a:pt x="392" y="1158"/>
                  </a:lnTo>
                  <a:lnTo>
                    <a:pt x="379" y="1130"/>
                  </a:lnTo>
                  <a:lnTo>
                    <a:pt x="367" y="1103"/>
                  </a:lnTo>
                  <a:lnTo>
                    <a:pt x="354" y="1077"/>
                  </a:lnTo>
                  <a:lnTo>
                    <a:pt x="343" y="1052"/>
                  </a:lnTo>
                  <a:lnTo>
                    <a:pt x="329" y="1027"/>
                  </a:lnTo>
                  <a:lnTo>
                    <a:pt x="318" y="1002"/>
                  </a:lnTo>
                  <a:lnTo>
                    <a:pt x="303" y="978"/>
                  </a:lnTo>
                  <a:lnTo>
                    <a:pt x="291" y="953"/>
                  </a:lnTo>
                  <a:lnTo>
                    <a:pt x="276" y="930"/>
                  </a:lnTo>
                  <a:lnTo>
                    <a:pt x="265" y="907"/>
                  </a:lnTo>
                  <a:lnTo>
                    <a:pt x="251" y="885"/>
                  </a:lnTo>
                  <a:lnTo>
                    <a:pt x="238" y="864"/>
                  </a:lnTo>
                  <a:lnTo>
                    <a:pt x="227" y="843"/>
                  </a:lnTo>
                  <a:lnTo>
                    <a:pt x="215" y="822"/>
                  </a:lnTo>
                  <a:lnTo>
                    <a:pt x="202" y="803"/>
                  </a:lnTo>
                  <a:lnTo>
                    <a:pt x="191" y="782"/>
                  </a:lnTo>
                  <a:lnTo>
                    <a:pt x="177" y="765"/>
                  </a:lnTo>
                  <a:lnTo>
                    <a:pt x="168" y="748"/>
                  </a:lnTo>
                  <a:lnTo>
                    <a:pt x="156" y="731"/>
                  </a:lnTo>
                  <a:lnTo>
                    <a:pt x="145" y="715"/>
                  </a:lnTo>
                  <a:lnTo>
                    <a:pt x="134" y="698"/>
                  </a:lnTo>
                  <a:lnTo>
                    <a:pt x="124" y="687"/>
                  </a:lnTo>
                  <a:lnTo>
                    <a:pt x="115" y="670"/>
                  </a:lnTo>
                  <a:lnTo>
                    <a:pt x="105" y="658"/>
                  </a:lnTo>
                  <a:lnTo>
                    <a:pt x="96" y="645"/>
                  </a:lnTo>
                  <a:lnTo>
                    <a:pt x="88" y="634"/>
                  </a:lnTo>
                  <a:lnTo>
                    <a:pt x="80" y="622"/>
                  </a:lnTo>
                  <a:lnTo>
                    <a:pt x="73" y="613"/>
                  </a:lnTo>
                  <a:lnTo>
                    <a:pt x="65" y="603"/>
                  </a:lnTo>
                  <a:lnTo>
                    <a:pt x="59" y="596"/>
                  </a:lnTo>
                  <a:lnTo>
                    <a:pt x="54" y="588"/>
                  </a:lnTo>
                  <a:lnTo>
                    <a:pt x="48" y="580"/>
                  </a:lnTo>
                  <a:lnTo>
                    <a:pt x="44" y="577"/>
                  </a:lnTo>
                  <a:lnTo>
                    <a:pt x="42" y="571"/>
                  </a:lnTo>
                  <a:lnTo>
                    <a:pt x="37" y="565"/>
                  </a:lnTo>
                  <a:lnTo>
                    <a:pt x="35" y="563"/>
                  </a:lnTo>
                  <a:lnTo>
                    <a:pt x="170" y="14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189880" y="399960"/>
              <a:ext cx="41400" cy="72720"/>
            </a:xfrm>
            <a:custGeom>
              <a:avLst/>
              <a:gdLst/>
              <a:ahLst/>
              <a:rect l="l" t="t" r="r" b="b"/>
              <a:pathLst>
                <a:path w="225" h="396">
                  <a:moveTo>
                    <a:pt x="93" y="0"/>
                  </a:moveTo>
                  <a:lnTo>
                    <a:pt x="82" y="4"/>
                  </a:lnTo>
                  <a:lnTo>
                    <a:pt x="72" y="13"/>
                  </a:lnTo>
                  <a:lnTo>
                    <a:pt x="63" y="21"/>
                  </a:lnTo>
                  <a:lnTo>
                    <a:pt x="53" y="32"/>
                  </a:lnTo>
                  <a:lnTo>
                    <a:pt x="50" y="36"/>
                  </a:lnTo>
                  <a:lnTo>
                    <a:pt x="44" y="42"/>
                  </a:lnTo>
                  <a:lnTo>
                    <a:pt x="40" y="48"/>
                  </a:lnTo>
                  <a:lnTo>
                    <a:pt x="36" y="55"/>
                  </a:lnTo>
                  <a:lnTo>
                    <a:pt x="33" y="61"/>
                  </a:lnTo>
                  <a:lnTo>
                    <a:pt x="27" y="69"/>
                  </a:lnTo>
                  <a:lnTo>
                    <a:pt x="25" y="76"/>
                  </a:lnTo>
                  <a:lnTo>
                    <a:pt x="23" y="84"/>
                  </a:lnTo>
                  <a:lnTo>
                    <a:pt x="19" y="91"/>
                  </a:lnTo>
                  <a:lnTo>
                    <a:pt x="14" y="99"/>
                  </a:lnTo>
                  <a:lnTo>
                    <a:pt x="12" y="107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6" y="133"/>
                  </a:lnTo>
                  <a:lnTo>
                    <a:pt x="4" y="143"/>
                  </a:lnTo>
                  <a:lnTo>
                    <a:pt x="4" y="152"/>
                  </a:lnTo>
                  <a:lnTo>
                    <a:pt x="2" y="162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4"/>
                  </a:lnTo>
                  <a:lnTo>
                    <a:pt x="0" y="205"/>
                  </a:lnTo>
                  <a:lnTo>
                    <a:pt x="0" y="217"/>
                  </a:lnTo>
                  <a:lnTo>
                    <a:pt x="2" y="228"/>
                  </a:lnTo>
                  <a:lnTo>
                    <a:pt x="6" y="242"/>
                  </a:lnTo>
                  <a:lnTo>
                    <a:pt x="6" y="253"/>
                  </a:lnTo>
                  <a:lnTo>
                    <a:pt x="8" y="266"/>
                  </a:lnTo>
                  <a:lnTo>
                    <a:pt x="10" y="278"/>
                  </a:lnTo>
                  <a:lnTo>
                    <a:pt x="14" y="289"/>
                  </a:lnTo>
                  <a:lnTo>
                    <a:pt x="17" y="301"/>
                  </a:lnTo>
                  <a:lnTo>
                    <a:pt x="21" y="312"/>
                  </a:lnTo>
                  <a:lnTo>
                    <a:pt x="27" y="321"/>
                  </a:lnTo>
                  <a:lnTo>
                    <a:pt x="33" y="333"/>
                  </a:lnTo>
                  <a:lnTo>
                    <a:pt x="36" y="340"/>
                  </a:lnTo>
                  <a:lnTo>
                    <a:pt x="40" y="348"/>
                  </a:lnTo>
                  <a:lnTo>
                    <a:pt x="46" y="356"/>
                  </a:lnTo>
                  <a:lnTo>
                    <a:pt x="53" y="363"/>
                  </a:lnTo>
                  <a:lnTo>
                    <a:pt x="59" y="369"/>
                  </a:lnTo>
                  <a:lnTo>
                    <a:pt x="67" y="377"/>
                  </a:lnTo>
                  <a:lnTo>
                    <a:pt x="74" y="382"/>
                  </a:lnTo>
                  <a:lnTo>
                    <a:pt x="84" y="386"/>
                  </a:lnTo>
                  <a:lnTo>
                    <a:pt x="91" y="390"/>
                  </a:lnTo>
                  <a:lnTo>
                    <a:pt x="101" y="392"/>
                  </a:lnTo>
                  <a:lnTo>
                    <a:pt x="110" y="394"/>
                  </a:lnTo>
                  <a:lnTo>
                    <a:pt x="120" y="396"/>
                  </a:lnTo>
                  <a:lnTo>
                    <a:pt x="128" y="394"/>
                  </a:lnTo>
                  <a:lnTo>
                    <a:pt x="139" y="392"/>
                  </a:lnTo>
                  <a:lnTo>
                    <a:pt x="147" y="390"/>
                  </a:lnTo>
                  <a:lnTo>
                    <a:pt x="158" y="386"/>
                  </a:lnTo>
                  <a:lnTo>
                    <a:pt x="164" y="380"/>
                  </a:lnTo>
                  <a:lnTo>
                    <a:pt x="171" y="375"/>
                  </a:lnTo>
                  <a:lnTo>
                    <a:pt x="179" y="367"/>
                  </a:lnTo>
                  <a:lnTo>
                    <a:pt x="188" y="359"/>
                  </a:lnTo>
                  <a:lnTo>
                    <a:pt x="194" y="348"/>
                  </a:lnTo>
                  <a:lnTo>
                    <a:pt x="200" y="339"/>
                  </a:lnTo>
                  <a:lnTo>
                    <a:pt x="206" y="325"/>
                  </a:lnTo>
                  <a:lnTo>
                    <a:pt x="211" y="316"/>
                  </a:lnTo>
                  <a:lnTo>
                    <a:pt x="215" y="302"/>
                  </a:lnTo>
                  <a:lnTo>
                    <a:pt x="219" y="289"/>
                  </a:lnTo>
                  <a:lnTo>
                    <a:pt x="221" y="276"/>
                  </a:lnTo>
                  <a:lnTo>
                    <a:pt x="225" y="263"/>
                  </a:lnTo>
                  <a:lnTo>
                    <a:pt x="225" y="255"/>
                  </a:lnTo>
                  <a:lnTo>
                    <a:pt x="225" y="247"/>
                  </a:lnTo>
                  <a:lnTo>
                    <a:pt x="225" y="240"/>
                  </a:lnTo>
                  <a:lnTo>
                    <a:pt x="225" y="232"/>
                  </a:lnTo>
                  <a:lnTo>
                    <a:pt x="225" y="219"/>
                  </a:lnTo>
                  <a:lnTo>
                    <a:pt x="225" y="205"/>
                  </a:lnTo>
                  <a:lnTo>
                    <a:pt x="198" y="209"/>
                  </a:lnTo>
                  <a:lnTo>
                    <a:pt x="198" y="221"/>
                  </a:lnTo>
                  <a:lnTo>
                    <a:pt x="198" y="232"/>
                  </a:lnTo>
                  <a:lnTo>
                    <a:pt x="196" y="245"/>
                  </a:lnTo>
                  <a:lnTo>
                    <a:pt x="196" y="257"/>
                  </a:lnTo>
                  <a:lnTo>
                    <a:pt x="194" y="268"/>
                  </a:lnTo>
                  <a:lnTo>
                    <a:pt x="192" y="280"/>
                  </a:lnTo>
                  <a:lnTo>
                    <a:pt x="188" y="289"/>
                  </a:lnTo>
                  <a:lnTo>
                    <a:pt x="186" y="302"/>
                  </a:lnTo>
                  <a:lnTo>
                    <a:pt x="181" y="312"/>
                  </a:lnTo>
                  <a:lnTo>
                    <a:pt x="177" y="320"/>
                  </a:lnTo>
                  <a:lnTo>
                    <a:pt x="171" y="329"/>
                  </a:lnTo>
                  <a:lnTo>
                    <a:pt x="167" y="339"/>
                  </a:lnTo>
                  <a:lnTo>
                    <a:pt x="160" y="344"/>
                  </a:lnTo>
                  <a:lnTo>
                    <a:pt x="154" y="352"/>
                  </a:lnTo>
                  <a:lnTo>
                    <a:pt x="148" y="358"/>
                  </a:lnTo>
                  <a:lnTo>
                    <a:pt x="145" y="363"/>
                  </a:lnTo>
                  <a:lnTo>
                    <a:pt x="131" y="367"/>
                  </a:lnTo>
                  <a:lnTo>
                    <a:pt x="120" y="369"/>
                  </a:lnTo>
                  <a:lnTo>
                    <a:pt x="109" y="365"/>
                  </a:lnTo>
                  <a:lnTo>
                    <a:pt x="97" y="361"/>
                  </a:lnTo>
                  <a:lnTo>
                    <a:pt x="88" y="356"/>
                  </a:lnTo>
                  <a:lnTo>
                    <a:pt x="84" y="352"/>
                  </a:lnTo>
                  <a:lnTo>
                    <a:pt x="76" y="346"/>
                  </a:lnTo>
                  <a:lnTo>
                    <a:pt x="72" y="342"/>
                  </a:lnTo>
                  <a:lnTo>
                    <a:pt x="67" y="335"/>
                  </a:lnTo>
                  <a:lnTo>
                    <a:pt x="63" y="329"/>
                  </a:lnTo>
                  <a:lnTo>
                    <a:pt x="57" y="321"/>
                  </a:lnTo>
                  <a:lnTo>
                    <a:pt x="53" y="316"/>
                  </a:lnTo>
                  <a:lnTo>
                    <a:pt x="50" y="306"/>
                  </a:lnTo>
                  <a:lnTo>
                    <a:pt x="46" y="299"/>
                  </a:lnTo>
                  <a:lnTo>
                    <a:pt x="42" y="289"/>
                  </a:lnTo>
                  <a:lnTo>
                    <a:pt x="40" y="280"/>
                  </a:lnTo>
                  <a:lnTo>
                    <a:pt x="36" y="268"/>
                  </a:lnTo>
                  <a:lnTo>
                    <a:pt x="36" y="259"/>
                  </a:lnTo>
                  <a:lnTo>
                    <a:pt x="33" y="247"/>
                  </a:lnTo>
                  <a:lnTo>
                    <a:pt x="33" y="238"/>
                  </a:lnTo>
                  <a:lnTo>
                    <a:pt x="31" y="224"/>
                  </a:lnTo>
                  <a:lnTo>
                    <a:pt x="29" y="215"/>
                  </a:lnTo>
                  <a:lnTo>
                    <a:pt x="29" y="205"/>
                  </a:lnTo>
                  <a:lnTo>
                    <a:pt x="29" y="196"/>
                  </a:lnTo>
                  <a:lnTo>
                    <a:pt x="27" y="185"/>
                  </a:lnTo>
                  <a:lnTo>
                    <a:pt x="27" y="175"/>
                  </a:lnTo>
                  <a:lnTo>
                    <a:pt x="29" y="167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3" y="141"/>
                  </a:lnTo>
                  <a:lnTo>
                    <a:pt x="33" y="133"/>
                  </a:lnTo>
                  <a:lnTo>
                    <a:pt x="36" y="126"/>
                  </a:lnTo>
                  <a:lnTo>
                    <a:pt x="36" y="118"/>
                  </a:lnTo>
                  <a:lnTo>
                    <a:pt x="40" y="108"/>
                  </a:lnTo>
                  <a:lnTo>
                    <a:pt x="42" y="103"/>
                  </a:lnTo>
                  <a:lnTo>
                    <a:pt x="46" y="97"/>
                  </a:lnTo>
                  <a:lnTo>
                    <a:pt x="50" y="84"/>
                  </a:lnTo>
                  <a:lnTo>
                    <a:pt x="57" y="72"/>
                  </a:lnTo>
                  <a:lnTo>
                    <a:pt x="65" y="61"/>
                  </a:lnTo>
                  <a:lnTo>
                    <a:pt x="72" y="51"/>
                  </a:lnTo>
                  <a:lnTo>
                    <a:pt x="80" y="42"/>
                  </a:lnTo>
                  <a:lnTo>
                    <a:pt x="88" y="34"/>
                  </a:lnTo>
                  <a:lnTo>
                    <a:pt x="97" y="29"/>
                  </a:lnTo>
                  <a:lnTo>
                    <a:pt x="107" y="2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341800" y="313200"/>
              <a:ext cx="112320" cy="510840"/>
            </a:xfrm>
            <a:custGeom>
              <a:avLst/>
              <a:gdLst/>
              <a:ahLst/>
              <a:rect l="l" t="t" r="r" b="b"/>
              <a:pathLst>
                <a:path w="606" h="2759">
                  <a:moveTo>
                    <a:pt x="89" y="0"/>
                  </a:moveTo>
                  <a:lnTo>
                    <a:pt x="321" y="1132"/>
                  </a:lnTo>
                  <a:lnTo>
                    <a:pt x="319" y="1132"/>
                  </a:lnTo>
                  <a:lnTo>
                    <a:pt x="317" y="1136"/>
                  </a:lnTo>
                  <a:lnTo>
                    <a:pt x="311" y="1139"/>
                  </a:lnTo>
                  <a:lnTo>
                    <a:pt x="304" y="1149"/>
                  </a:lnTo>
                  <a:lnTo>
                    <a:pt x="300" y="1153"/>
                  </a:lnTo>
                  <a:lnTo>
                    <a:pt x="294" y="1160"/>
                  </a:lnTo>
                  <a:lnTo>
                    <a:pt x="291" y="1166"/>
                  </a:lnTo>
                  <a:lnTo>
                    <a:pt x="285" y="1174"/>
                  </a:lnTo>
                  <a:lnTo>
                    <a:pt x="277" y="1179"/>
                  </a:lnTo>
                  <a:lnTo>
                    <a:pt x="273" y="1189"/>
                  </a:lnTo>
                  <a:lnTo>
                    <a:pt x="266" y="1196"/>
                  </a:lnTo>
                  <a:lnTo>
                    <a:pt x="260" y="1206"/>
                  </a:lnTo>
                  <a:lnTo>
                    <a:pt x="252" y="1215"/>
                  </a:lnTo>
                  <a:lnTo>
                    <a:pt x="247" y="1225"/>
                  </a:lnTo>
                  <a:lnTo>
                    <a:pt x="239" y="1234"/>
                  </a:lnTo>
                  <a:lnTo>
                    <a:pt x="232" y="1246"/>
                  </a:lnTo>
                  <a:lnTo>
                    <a:pt x="224" y="1257"/>
                  </a:lnTo>
                  <a:lnTo>
                    <a:pt x="216" y="1269"/>
                  </a:lnTo>
                  <a:lnTo>
                    <a:pt x="209" y="1280"/>
                  </a:lnTo>
                  <a:lnTo>
                    <a:pt x="201" y="1293"/>
                  </a:lnTo>
                  <a:lnTo>
                    <a:pt x="192" y="1307"/>
                  </a:lnTo>
                  <a:lnTo>
                    <a:pt x="184" y="1320"/>
                  </a:lnTo>
                  <a:lnTo>
                    <a:pt x="176" y="1333"/>
                  </a:lnTo>
                  <a:lnTo>
                    <a:pt x="169" y="1348"/>
                  </a:lnTo>
                  <a:lnTo>
                    <a:pt x="159" y="1364"/>
                  </a:lnTo>
                  <a:lnTo>
                    <a:pt x="152" y="1377"/>
                  </a:lnTo>
                  <a:lnTo>
                    <a:pt x="144" y="1394"/>
                  </a:lnTo>
                  <a:lnTo>
                    <a:pt x="137" y="1411"/>
                  </a:lnTo>
                  <a:lnTo>
                    <a:pt x="127" y="1426"/>
                  </a:lnTo>
                  <a:lnTo>
                    <a:pt x="119" y="1444"/>
                  </a:lnTo>
                  <a:lnTo>
                    <a:pt x="112" y="1459"/>
                  </a:lnTo>
                  <a:lnTo>
                    <a:pt x="102" y="1478"/>
                  </a:lnTo>
                  <a:lnTo>
                    <a:pt x="95" y="1493"/>
                  </a:lnTo>
                  <a:lnTo>
                    <a:pt x="87" y="1512"/>
                  </a:lnTo>
                  <a:lnTo>
                    <a:pt x="81" y="1531"/>
                  </a:lnTo>
                  <a:lnTo>
                    <a:pt x="74" y="1550"/>
                  </a:lnTo>
                  <a:lnTo>
                    <a:pt x="66" y="1569"/>
                  </a:lnTo>
                  <a:lnTo>
                    <a:pt x="59" y="1588"/>
                  </a:lnTo>
                  <a:lnTo>
                    <a:pt x="53" y="1607"/>
                  </a:lnTo>
                  <a:lnTo>
                    <a:pt x="47" y="1628"/>
                  </a:lnTo>
                  <a:lnTo>
                    <a:pt x="41" y="1647"/>
                  </a:lnTo>
                  <a:lnTo>
                    <a:pt x="36" y="1668"/>
                  </a:lnTo>
                  <a:lnTo>
                    <a:pt x="30" y="1689"/>
                  </a:lnTo>
                  <a:lnTo>
                    <a:pt x="26" y="1710"/>
                  </a:lnTo>
                  <a:lnTo>
                    <a:pt x="21" y="1729"/>
                  </a:lnTo>
                  <a:lnTo>
                    <a:pt x="17" y="1752"/>
                  </a:lnTo>
                  <a:lnTo>
                    <a:pt x="13" y="1772"/>
                  </a:lnTo>
                  <a:lnTo>
                    <a:pt x="9" y="1795"/>
                  </a:lnTo>
                  <a:lnTo>
                    <a:pt x="5" y="1816"/>
                  </a:lnTo>
                  <a:lnTo>
                    <a:pt x="3" y="1839"/>
                  </a:lnTo>
                  <a:lnTo>
                    <a:pt x="2" y="1860"/>
                  </a:lnTo>
                  <a:lnTo>
                    <a:pt x="2" y="1883"/>
                  </a:lnTo>
                  <a:lnTo>
                    <a:pt x="0" y="1906"/>
                  </a:lnTo>
                  <a:lnTo>
                    <a:pt x="0" y="1928"/>
                  </a:lnTo>
                  <a:lnTo>
                    <a:pt x="0" y="1951"/>
                  </a:lnTo>
                  <a:lnTo>
                    <a:pt x="2" y="1974"/>
                  </a:lnTo>
                  <a:lnTo>
                    <a:pt x="3" y="1997"/>
                  </a:lnTo>
                  <a:lnTo>
                    <a:pt x="5" y="2022"/>
                  </a:lnTo>
                  <a:lnTo>
                    <a:pt x="9" y="2044"/>
                  </a:lnTo>
                  <a:lnTo>
                    <a:pt x="13" y="2069"/>
                  </a:lnTo>
                  <a:lnTo>
                    <a:pt x="15" y="2092"/>
                  </a:lnTo>
                  <a:lnTo>
                    <a:pt x="21" y="2115"/>
                  </a:lnTo>
                  <a:lnTo>
                    <a:pt x="24" y="2136"/>
                  </a:lnTo>
                  <a:lnTo>
                    <a:pt x="30" y="2158"/>
                  </a:lnTo>
                  <a:lnTo>
                    <a:pt x="36" y="2179"/>
                  </a:lnTo>
                  <a:lnTo>
                    <a:pt x="41" y="2200"/>
                  </a:lnTo>
                  <a:lnTo>
                    <a:pt x="49" y="2221"/>
                  </a:lnTo>
                  <a:lnTo>
                    <a:pt x="57" y="2242"/>
                  </a:lnTo>
                  <a:lnTo>
                    <a:pt x="64" y="2261"/>
                  </a:lnTo>
                  <a:lnTo>
                    <a:pt x="72" y="2280"/>
                  </a:lnTo>
                  <a:lnTo>
                    <a:pt x="79" y="2299"/>
                  </a:lnTo>
                  <a:lnTo>
                    <a:pt x="89" y="2318"/>
                  </a:lnTo>
                  <a:lnTo>
                    <a:pt x="97" y="2335"/>
                  </a:lnTo>
                  <a:lnTo>
                    <a:pt x="106" y="2354"/>
                  </a:lnTo>
                  <a:lnTo>
                    <a:pt x="116" y="2371"/>
                  </a:lnTo>
                  <a:lnTo>
                    <a:pt x="125" y="2389"/>
                  </a:lnTo>
                  <a:lnTo>
                    <a:pt x="133" y="2402"/>
                  </a:lnTo>
                  <a:lnTo>
                    <a:pt x="144" y="2419"/>
                  </a:lnTo>
                  <a:lnTo>
                    <a:pt x="154" y="2434"/>
                  </a:lnTo>
                  <a:lnTo>
                    <a:pt x="165" y="2449"/>
                  </a:lnTo>
                  <a:lnTo>
                    <a:pt x="176" y="2463"/>
                  </a:lnTo>
                  <a:lnTo>
                    <a:pt x="186" y="2478"/>
                  </a:lnTo>
                  <a:lnTo>
                    <a:pt x="197" y="2493"/>
                  </a:lnTo>
                  <a:lnTo>
                    <a:pt x="209" y="2506"/>
                  </a:lnTo>
                  <a:lnTo>
                    <a:pt x="220" y="2520"/>
                  </a:lnTo>
                  <a:lnTo>
                    <a:pt x="230" y="2533"/>
                  </a:lnTo>
                  <a:lnTo>
                    <a:pt x="241" y="2544"/>
                  </a:lnTo>
                  <a:lnTo>
                    <a:pt x="252" y="2556"/>
                  </a:lnTo>
                  <a:lnTo>
                    <a:pt x="264" y="2567"/>
                  </a:lnTo>
                  <a:lnTo>
                    <a:pt x="275" y="2579"/>
                  </a:lnTo>
                  <a:lnTo>
                    <a:pt x="287" y="2590"/>
                  </a:lnTo>
                  <a:lnTo>
                    <a:pt x="298" y="2601"/>
                  </a:lnTo>
                  <a:lnTo>
                    <a:pt x="308" y="2611"/>
                  </a:lnTo>
                  <a:lnTo>
                    <a:pt x="319" y="2620"/>
                  </a:lnTo>
                  <a:lnTo>
                    <a:pt x="329" y="2630"/>
                  </a:lnTo>
                  <a:lnTo>
                    <a:pt x="340" y="2640"/>
                  </a:lnTo>
                  <a:lnTo>
                    <a:pt x="349" y="2647"/>
                  </a:lnTo>
                  <a:lnTo>
                    <a:pt x="361" y="2655"/>
                  </a:lnTo>
                  <a:lnTo>
                    <a:pt x="370" y="2662"/>
                  </a:lnTo>
                  <a:lnTo>
                    <a:pt x="382" y="2672"/>
                  </a:lnTo>
                  <a:lnTo>
                    <a:pt x="391" y="2679"/>
                  </a:lnTo>
                  <a:lnTo>
                    <a:pt x="401" y="2685"/>
                  </a:lnTo>
                  <a:lnTo>
                    <a:pt x="408" y="2691"/>
                  </a:lnTo>
                  <a:lnTo>
                    <a:pt x="420" y="2698"/>
                  </a:lnTo>
                  <a:lnTo>
                    <a:pt x="427" y="2704"/>
                  </a:lnTo>
                  <a:lnTo>
                    <a:pt x="437" y="2710"/>
                  </a:lnTo>
                  <a:lnTo>
                    <a:pt x="444" y="2714"/>
                  </a:lnTo>
                  <a:lnTo>
                    <a:pt x="454" y="2721"/>
                  </a:lnTo>
                  <a:lnTo>
                    <a:pt x="462" y="2725"/>
                  </a:lnTo>
                  <a:lnTo>
                    <a:pt x="469" y="2729"/>
                  </a:lnTo>
                  <a:lnTo>
                    <a:pt x="475" y="2733"/>
                  </a:lnTo>
                  <a:lnTo>
                    <a:pt x="483" y="2736"/>
                  </a:lnTo>
                  <a:lnTo>
                    <a:pt x="488" y="2740"/>
                  </a:lnTo>
                  <a:lnTo>
                    <a:pt x="494" y="2744"/>
                  </a:lnTo>
                  <a:lnTo>
                    <a:pt x="500" y="2746"/>
                  </a:lnTo>
                  <a:lnTo>
                    <a:pt x="505" y="2750"/>
                  </a:lnTo>
                  <a:lnTo>
                    <a:pt x="511" y="2754"/>
                  </a:lnTo>
                  <a:lnTo>
                    <a:pt x="519" y="2757"/>
                  </a:lnTo>
                  <a:lnTo>
                    <a:pt x="522" y="2757"/>
                  </a:lnTo>
                  <a:lnTo>
                    <a:pt x="524" y="2759"/>
                  </a:lnTo>
                  <a:lnTo>
                    <a:pt x="606" y="2759"/>
                  </a:lnTo>
                  <a:lnTo>
                    <a:pt x="604" y="2757"/>
                  </a:lnTo>
                  <a:lnTo>
                    <a:pt x="600" y="2755"/>
                  </a:lnTo>
                  <a:lnTo>
                    <a:pt x="593" y="2752"/>
                  </a:lnTo>
                  <a:lnTo>
                    <a:pt x="583" y="2748"/>
                  </a:lnTo>
                  <a:lnTo>
                    <a:pt x="576" y="2744"/>
                  </a:lnTo>
                  <a:lnTo>
                    <a:pt x="570" y="2740"/>
                  </a:lnTo>
                  <a:lnTo>
                    <a:pt x="564" y="2736"/>
                  </a:lnTo>
                  <a:lnTo>
                    <a:pt x="557" y="2735"/>
                  </a:lnTo>
                  <a:lnTo>
                    <a:pt x="549" y="2729"/>
                  </a:lnTo>
                  <a:lnTo>
                    <a:pt x="540" y="2725"/>
                  </a:lnTo>
                  <a:lnTo>
                    <a:pt x="532" y="2719"/>
                  </a:lnTo>
                  <a:lnTo>
                    <a:pt x="524" y="2716"/>
                  </a:lnTo>
                  <a:lnTo>
                    <a:pt x="515" y="2710"/>
                  </a:lnTo>
                  <a:lnTo>
                    <a:pt x="503" y="2702"/>
                  </a:lnTo>
                  <a:lnTo>
                    <a:pt x="492" y="2697"/>
                  </a:lnTo>
                  <a:lnTo>
                    <a:pt x="483" y="2691"/>
                  </a:lnTo>
                  <a:lnTo>
                    <a:pt x="473" y="2683"/>
                  </a:lnTo>
                  <a:lnTo>
                    <a:pt x="462" y="2674"/>
                  </a:lnTo>
                  <a:lnTo>
                    <a:pt x="450" y="2666"/>
                  </a:lnTo>
                  <a:lnTo>
                    <a:pt x="439" y="2660"/>
                  </a:lnTo>
                  <a:lnTo>
                    <a:pt x="427" y="2651"/>
                  </a:lnTo>
                  <a:lnTo>
                    <a:pt x="416" y="2643"/>
                  </a:lnTo>
                  <a:lnTo>
                    <a:pt x="405" y="2634"/>
                  </a:lnTo>
                  <a:lnTo>
                    <a:pt x="391" y="2624"/>
                  </a:lnTo>
                  <a:lnTo>
                    <a:pt x="380" y="2613"/>
                  </a:lnTo>
                  <a:lnTo>
                    <a:pt x="368" y="2603"/>
                  </a:lnTo>
                  <a:lnTo>
                    <a:pt x="357" y="2592"/>
                  </a:lnTo>
                  <a:lnTo>
                    <a:pt x="344" y="2582"/>
                  </a:lnTo>
                  <a:lnTo>
                    <a:pt x="330" y="2569"/>
                  </a:lnTo>
                  <a:lnTo>
                    <a:pt x="317" y="2558"/>
                  </a:lnTo>
                  <a:lnTo>
                    <a:pt x="304" y="2546"/>
                  </a:lnTo>
                  <a:lnTo>
                    <a:pt x="292" y="2533"/>
                  </a:lnTo>
                  <a:lnTo>
                    <a:pt x="279" y="2520"/>
                  </a:lnTo>
                  <a:lnTo>
                    <a:pt x="268" y="2506"/>
                  </a:lnTo>
                  <a:lnTo>
                    <a:pt x="256" y="2495"/>
                  </a:lnTo>
                  <a:lnTo>
                    <a:pt x="243" y="2480"/>
                  </a:lnTo>
                  <a:lnTo>
                    <a:pt x="232" y="2466"/>
                  </a:lnTo>
                  <a:lnTo>
                    <a:pt x="220" y="2451"/>
                  </a:lnTo>
                  <a:lnTo>
                    <a:pt x="209" y="2436"/>
                  </a:lnTo>
                  <a:lnTo>
                    <a:pt x="197" y="2421"/>
                  </a:lnTo>
                  <a:lnTo>
                    <a:pt x="186" y="2404"/>
                  </a:lnTo>
                  <a:lnTo>
                    <a:pt x="176" y="2389"/>
                  </a:lnTo>
                  <a:lnTo>
                    <a:pt x="165" y="2371"/>
                  </a:lnTo>
                  <a:lnTo>
                    <a:pt x="156" y="2356"/>
                  </a:lnTo>
                  <a:lnTo>
                    <a:pt x="146" y="2337"/>
                  </a:lnTo>
                  <a:lnTo>
                    <a:pt x="137" y="2318"/>
                  </a:lnTo>
                  <a:lnTo>
                    <a:pt x="127" y="2301"/>
                  </a:lnTo>
                  <a:lnTo>
                    <a:pt x="119" y="2284"/>
                  </a:lnTo>
                  <a:lnTo>
                    <a:pt x="112" y="2263"/>
                  </a:lnTo>
                  <a:lnTo>
                    <a:pt x="102" y="2244"/>
                  </a:lnTo>
                  <a:lnTo>
                    <a:pt x="95" y="2225"/>
                  </a:lnTo>
                  <a:lnTo>
                    <a:pt x="89" y="2206"/>
                  </a:lnTo>
                  <a:lnTo>
                    <a:pt x="83" y="2185"/>
                  </a:lnTo>
                  <a:lnTo>
                    <a:pt x="78" y="2164"/>
                  </a:lnTo>
                  <a:lnTo>
                    <a:pt x="72" y="2143"/>
                  </a:lnTo>
                  <a:lnTo>
                    <a:pt x="68" y="2122"/>
                  </a:lnTo>
                  <a:lnTo>
                    <a:pt x="64" y="2100"/>
                  </a:lnTo>
                  <a:lnTo>
                    <a:pt x="62" y="2077"/>
                  </a:lnTo>
                  <a:lnTo>
                    <a:pt x="59" y="2054"/>
                  </a:lnTo>
                  <a:lnTo>
                    <a:pt x="59" y="2033"/>
                  </a:lnTo>
                  <a:lnTo>
                    <a:pt x="57" y="2010"/>
                  </a:lnTo>
                  <a:lnTo>
                    <a:pt x="55" y="1987"/>
                  </a:lnTo>
                  <a:lnTo>
                    <a:pt x="55" y="1965"/>
                  </a:lnTo>
                  <a:lnTo>
                    <a:pt x="55" y="1944"/>
                  </a:lnTo>
                  <a:lnTo>
                    <a:pt x="55" y="1923"/>
                  </a:lnTo>
                  <a:lnTo>
                    <a:pt x="55" y="1902"/>
                  </a:lnTo>
                  <a:lnTo>
                    <a:pt x="55" y="1883"/>
                  </a:lnTo>
                  <a:lnTo>
                    <a:pt x="55" y="1864"/>
                  </a:lnTo>
                  <a:lnTo>
                    <a:pt x="55" y="1843"/>
                  </a:lnTo>
                  <a:lnTo>
                    <a:pt x="57" y="1826"/>
                  </a:lnTo>
                  <a:lnTo>
                    <a:pt x="59" y="1807"/>
                  </a:lnTo>
                  <a:lnTo>
                    <a:pt x="60" y="1790"/>
                  </a:lnTo>
                  <a:lnTo>
                    <a:pt x="60" y="1772"/>
                  </a:lnTo>
                  <a:lnTo>
                    <a:pt x="64" y="1755"/>
                  </a:lnTo>
                  <a:lnTo>
                    <a:pt x="66" y="1740"/>
                  </a:lnTo>
                  <a:lnTo>
                    <a:pt x="70" y="1725"/>
                  </a:lnTo>
                  <a:lnTo>
                    <a:pt x="72" y="1708"/>
                  </a:lnTo>
                  <a:lnTo>
                    <a:pt x="74" y="1693"/>
                  </a:lnTo>
                  <a:lnTo>
                    <a:pt x="78" y="1675"/>
                  </a:lnTo>
                  <a:lnTo>
                    <a:pt x="81" y="1662"/>
                  </a:lnTo>
                  <a:lnTo>
                    <a:pt x="85" y="1645"/>
                  </a:lnTo>
                  <a:lnTo>
                    <a:pt x="89" y="1632"/>
                  </a:lnTo>
                  <a:lnTo>
                    <a:pt x="93" y="1618"/>
                  </a:lnTo>
                  <a:lnTo>
                    <a:pt x="97" y="1605"/>
                  </a:lnTo>
                  <a:lnTo>
                    <a:pt x="100" y="1592"/>
                  </a:lnTo>
                  <a:lnTo>
                    <a:pt x="104" y="1579"/>
                  </a:lnTo>
                  <a:lnTo>
                    <a:pt x="110" y="1567"/>
                  </a:lnTo>
                  <a:lnTo>
                    <a:pt x="116" y="1554"/>
                  </a:lnTo>
                  <a:lnTo>
                    <a:pt x="119" y="1541"/>
                  </a:lnTo>
                  <a:lnTo>
                    <a:pt x="125" y="1529"/>
                  </a:lnTo>
                  <a:lnTo>
                    <a:pt x="129" y="1518"/>
                  </a:lnTo>
                  <a:lnTo>
                    <a:pt x="137" y="1506"/>
                  </a:lnTo>
                  <a:lnTo>
                    <a:pt x="140" y="1495"/>
                  </a:lnTo>
                  <a:lnTo>
                    <a:pt x="146" y="1483"/>
                  </a:lnTo>
                  <a:lnTo>
                    <a:pt x="152" y="1470"/>
                  </a:lnTo>
                  <a:lnTo>
                    <a:pt x="159" y="1459"/>
                  </a:lnTo>
                  <a:lnTo>
                    <a:pt x="163" y="1447"/>
                  </a:lnTo>
                  <a:lnTo>
                    <a:pt x="171" y="1436"/>
                  </a:lnTo>
                  <a:lnTo>
                    <a:pt x="176" y="1425"/>
                  </a:lnTo>
                  <a:lnTo>
                    <a:pt x="184" y="1413"/>
                  </a:lnTo>
                  <a:lnTo>
                    <a:pt x="190" y="1402"/>
                  </a:lnTo>
                  <a:lnTo>
                    <a:pt x="195" y="1390"/>
                  </a:lnTo>
                  <a:lnTo>
                    <a:pt x="203" y="1381"/>
                  </a:lnTo>
                  <a:lnTo>
                    <a:pt x="211" y="1369"/>
                  </a:lnTo>
                  <a:lnTo>
                    <a:pt x="216" y="1358"/>
                  </a:lnTo>
                  <a:lnTo>
                    <a:pt x="224" y="1347"/>
                  </a:lnTo>
                  <a:lnTo>
                    <a:pt x="232" y="1337"/>
                  </a:lnTo>
                  <a:lnTo>
                    <a:pt x="239" y="1326"/>
                  </a:lnTo>
                  <a:lnTo>
                    <a:pt x="247" y="1314"/>
                  </a:lnTo>
                  <a:lnTo>
                    <a:pt x="254" y="1303"/>
                  </a:lnTo>
                  <a:lnTo>
                    <a:pt x="260" y="1290"/>
                  </a:lnTo>
                  <a:lnTo>
                    <a:pt x="270" y="1280"/>
                  </a:lnTo>
                  <a:lnTo>
                    <a:pt x="275" y="1267"/>
                  </a:lnTo>
                  <a:lnTo>
                    <a:pt x="283" y="1255"/>
                  </a:lnTo>
                  <a:lnTo>
                    <a:pt x="291" y="1244"/>
                  </a:lnTo>
                  <a:lnTo>
                    <a:pt x="300" y="1232"/>
                  </a:lnTo>
                  <a:lnTo>
                    <a:pt x="308" y="1219"/>
                  </a:lnTo>
                  <a:lnTo>
                    <a:pt x="315" y="1208"/>
                  </a:lnTo>
                  <a:lnTo>
                    <a:pt x="323" y="1194"/>
                  </a:lnTo>
                  <a:lnTo>
                    <a:pt x="330" y="1183"/>
                  </a:lnTo>
                  <a:lnTo>
                    <a:pt x="340" y="1170"/>
                  </a:lnTo>
                  <a:lnTo>
                    <a:pt x="348" y="1156"/>
                  </a:lnTo>
                  <a:lnTo>
                    <a:pt x="355" y="1143"/>
                  </a:lnTo>
                  <a:lnTo>
                    <a:pt x="363" y="1132"/>
                  </a:lnTo>
                  <a:lnTo>
                    <a:pt x="207" y="10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190960" y="784440"/>
              <a:ext cx="228240" cy="65520"/>
            </a:xfrm>
            <a:custGeom>
              <a:avLst/>
              <a:gdLst/>
              <a:ahLst/>
              <a:rect l="l" t="t" r="r" b="b"/>
              <a:pathLst>
                <a:path w="1232" h="353">
                  <a:moveTo>
                    <a:pt x="1196" y="353"/>
                  </a:moveTo>
                  <a:lnTo>
                    <a:pt x="1196" y="349"/>
                  </a:lnTo>
                  <a:lnTo>
                    <a:pt x="1199" y="342"/>
                  </a:lnTo>
                  <a:lnTo>
                    <a:pt x="1203" y="336"/>
                  </a:lnTo>
                  <a:lnTo>
                    <a:pt x="1207" y="330"/>
                  </a:lnTo>
                  <a:lnTo>
                    <a:pt x="1211" y="325"/>
                  </a:lnTo>
                  <a:lnTo>
                    <a:pt x="1215" y="317"/>
                  </a:lnTo>
                  <a:lnTo>
                    <a:pt x="1217" y="308"/>
                  </a:lnTo>
                  <a:lnTo>
                    <a:pt x="1222" y="298"/>
                  </a:lnTo>
                  <a:lnTo>
                    <a:pt x="1224" y="289"/>
                  </a:lnTo>
                  <a:lnTo>
                    <a:pt x="1228" y="279"/>
                  </a:lnTo>
                  <a:lnTo>
                    <a:pt x="1230" y="268"/>
                  </a:lnTo>
                  <a:lnTo>
                    <a:pt x="1230" y="254"/>
                  </a:lnTo>
                  <a:lnTo>
                    <a:pt x="1230" y="243"/>
                  </a:lnTo>
                  <a:lnTo>
                    <a:pt x="1232" y="232"/>
                  </a:lnTo>
                  <a:lnTo>
                    <a:pt x="1228" y="218"/>
                  </a:lnTo>
                  <a:lnTo>
                    <a:pt x="1226" y="207"/>
                  </a:lnTo>
                  <a:lnTo>
                    <a:pt x="1220" y="193"/>
                  </a:lnTo>
                  <a:lnTo>
                    <a:pt x="1215" y="180"/>
                  </a:lnTo>
                  <a:lnTo>
                    <a:pt x="1209" y="173"/>
                  </a:lnTo>
                  <a:lnTo>
                    <a:pt x="1205" y="167"/>
                  </a:lnTo>
                  <a:lnTo>
                    <a:pt x="1201" y="159"/>
                  </a:lnTo>
                  <a:lnTo>
                    <a:pt x="1197" y="154"/>
                  </a:lnTo>
                  <a:lnTo>
                    <a:pt x="1190" y="148"/>
                  </a:lnTo>
                  <a:lnTo>
                    <a:pt x="1184" y="142"/>
                  </a:lnTo>
                  <a:lnTo>
                    <a:pt x="1178" y="136"/>
                  </a:lnTo>
                  <a:lnTo>
                    <a:pt x="1173" y="131"/>
                  </a:lnTo>
                  <a:lnTo>
                    <a:pt x="1163" y="123"/>
                  </a:lnTo>
                  <a:lnTo>
                    <a:pt x="1156" y="117"/>
                  </a:lnTo>
                  <a:lnTo>
                    <a:pt x="1146" y="110"/>
                  </a:lnTo>
                  <a:lnTo>
                    <a:pt x="1137" y="104"/>
                  </a:lnTo>
                  <a:lnTo>
                    <a:pt x="1125" y="98"/>
                  </a:lnTo>
                  <a:lnTo>
                    <a:pt x="1116" y="93"/>
                  </a:lnTo>
                  <a:lnTo>
                    <a:pt x="1104" y="87"/>
                  </a:lnTo>
                  <a:lnTo>
                    <a:pt x="1093" y="83"/>
                  </a:lnTo>
                  <a:lnTo>
                    <a:pt x="1078" y="76"/>
                  </a:lnTo>
                  <a:lnTo>
                    <a:pt x="1064" y="70"/>
                  </a:lnTo>
                  <a:lnTo>
                    <a:pt x="1051" y="66"/>
                  </a:lnTo>
                  <a:lnTo>
                    <a:pt x="1038" y="60"/>
                  </a:lnTo>
                  <a:lnTo>
                    <a:pt x="1021" y="57"/>
                  </a:lnTo>
                  <a:lnTo>
                    <a:pt x="1004" y="53"/>
                  </a:lnTo>
                  <a:lnTo>
                    <a:pt x="986" y="47"/>
                  </a:lnTo>
                  <a:lnTo>
                    <a:pt x="969" y="43"/>
                  </a:lnTo>
                  <a:lnTo>
                    <a:pt x="950" y="39"/>
                  </a:lnTo>
                  <a:lnTo>
                    <a:pt x="931" y="34"/>
                  </a:lnTo>
                  <a:lnTo>
                    <a:pt x="910" y="30"/>
                  </a:lnTo>
                  <a:lnTo>
                    <a:pt x="893" y="26"/>
                  </a:lnTo>
                  <a:lnTo>
                    <a:pt x="872" y="22"/>
                  </a:lnTo>
                  <a:lnTo>
                    <a:pt x="853" y="19"/>
                  </a:lnTo>
                  <a:lnTo>
                    <a:pt x="832" y="17"/>
                  </a:lnTo>
                  <a:lnTo>
                    <a:pt x="815" y="15"/>
                  </a:lnTo>
                  <a:lnTo>
                    <a:pt x="794" y="11"/>
                  </a:lnTo>
                  <a:lnTo>
                    <a:pt x="775" y="9"/>
                  </a:lnTo>
                  <a:lnTo>
                    <a:pt x="755" y="7"/>
                  </a:lnTo>
                  <a:lnTo>
                    <a:pt x="737" y="5"/>
                  </a:lnTo>
                  <a:lnTo>
                    <a:pt x="717" y="3"/>
                  </a:lnTo>
                  <a:lnTo>
                    <a:pt x="698" y="1"/>
                  </a:lnTo>
                  <a:lnTo>
                    <a:pt x="677" y="1"/>
                  </a:lnTo>
                  <a:lnTo>
                    <a:pt x="658" y="1"/>
                  </a:lnTo>
                  <a:lnTo>
                    <a:pt x="639" y="0"/>
                  </a:lnTo>
                  <a:lnTo>
                    <a:pt x="618" y="0"/>
                  </a:lnTo>
                  <a:lnTo>
                    <a:pt x="599" y="0"/>
                  </a:lnTo>
                  <a:lnTo>
                    <a:pt x="580" y="0"/>
                  </a:lnTo>
                  <a:lnTo>
                    <a:pt x="561" y="0"/>
                  </a:lnTo>
                  <a:lnTo>
                    <a:pt x="542" y="0"/>
                  </a:lnTo>
                  <a:lnTo>
                    <a:pt x="523" y="1"/>
                  </a:lnTo>
                  <a:lnTo>
                    <a:pt x="506" y="3"/>
                  </a:lnTo>
                  <a:lnTo>
                    <a:pt x="485" y="3"/>
                  </a:lnTo>
                  <a:lnTo>
                    <a:pt x="467" y="5"/>
                  </a:lnTo>
                  <a:lnTo>
                    <a:pt x="448" y="7"/>
                  </a:lnTo>
                  <a:lnTo>
                    <a:pt x="431" y="9"/>
                  </a:lnTo>
                  <a:lnTo>
                    <a:pt x="412" y="11"/>
                  </a:lnTo>
                  <a:lnTo>
                    <a:pt x="395" y="13"/>
                  </a:lnTo>
                  <a:lnTo>
                    <a:pt x="378" y="17"/>
                  </a:lnTo>
                  <a:lnTo>
                    <a:pt x="361" y="22"/>
                  </a:lnTo>
                  <a:lnTo>
                    <a:pt x="344" y="24"/>
                  </a:lnTo>
                  <a:lnTo>
                    <a:pt x="327" y="26"/>
                  </a:lnTo>
                  <a:lnTo>
                    <a:pt x="310" y="30"/>
                  </a:lnTo>
                  <a:lnTo>
                    <a:pt x="295" y="36"/>
                  </a:lnTo>
                  <a:lnTo>
                    <a:pt x="277" y="39"/>
                  </a:lnTo>
                  <a:lnTo>
                    <a:pt x="260" y="43"/>
                  </a:lnTo>
                  <a:lnTo>
                    <a:pt x="247" y="49"/>
                  </a:lnTo>
                  <a:lnTo>
                    <a:pt x="232" y="57"/>
                  </a:lnTo>
                  <a:lnTo>
                    <a:pt x="217" y="60"/>
                  </a:lnTo>
                  <a:lnTo>
                    <a:pt x="201" y="66"/>
                  </a:lnTo>
                  <a:lnTo>
                    <a:pt x="186" y="72"/>
                  </a:lnTo>
                  <a:lnTo>
                    <a:pt x="175" y="79"/>
                  </a:lnTo>
                  <a:lnTo>
                    <a:pt x="160" y="85"/>
                  </a:lnTo>
                  <a:lnTo>
                    <a:pt x="148" y="93"/>
                  </a:lnTo>
                  <a:lnTo>
                    <a:pt x="137" y="100"/>
                  </a:lnTo>
                  <a:lnTo>
                    <a:pt x="125" y="110"/>
                  </a:lnTo>
                  <a:lnTo>
                    <a:pt x="112" y="117"/>
                  </a:lnTo>
                  <a:lnTo>
                    <a:pt x="101" y="125"/>
                  </a:lnTo>
                  <a:lnTo>
                    <a:pt x="89" y="133"/>
                  </a:lnTo>
                  <a:lnTo>
                    <a:pt x="82" y="142"/>
                  </a:lnTo>
                  <a:lnTo>
                    <a:pt x="70" y="150"/>
                  </a:lnTo>
                  <a:lnTo>
                    <a:pt x="61" y="161"/>
                  </a:lnTo>
                  <a:lnTo>
                    <a:pt x="53" y="171"/>
                  </a:lnTo>
                  <a:lnTo>
                    <a:pt x="45" y="182"/>
                  </a:lnTo>
                  <a:lnTo>
                    <a:pt x="38" y="192"/>
                  </a:lnTo>
                  <a:lnTo>
                    <a:pt x="28" y="201"/>
                  </a:lnTo>
                  <a:lnTo>
                    <a:pt x="23" y="214"/>
                  </a:lnTo>
                  <a:lnTo>
                    <a:pt x="17" y="226"/>
                  </a:lnTo>
                  <a:lnTo>
                    <a:pt x="11" y="237"/>
                  </a:lnTo>
                  <a:lnTo>
                    <a:pt x="7" y="251"/>
                  </a:lnTo>
                  <a:lnTo>
                    <a:pt x="2" y="264"/>
                  </a:lnTo>
                  <a:lnTo>
                    <a:pt x="0" y="277"/>
                  </a:lnTo>
                  <a:lnTo>
                    <a:pt x="173" y="332"/>
                  </a:lnTo>
                  <a:lnTo>
                    <a:pt x="1196" y="353"/>
                  </a:lnTo>
                  <a:lnTo>
                    <a:pt x="1196" y="353"/>
                  </a:lnTo>
                  <a:close/>
                </a:path>
              </a:pathLst>
            </a:custGeom>
            <a:solidFill>
              <a:srgbClr val="edd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144880" y="297360"/>
              <a:ext cx="389520" cy="562680"/>
            </a:xfrm>
            <a:custGeom>
              <a:avLst/>
              <a:gdLst/>
              <a:ahLst/>
              <a:rect l="l" t="t" r="r" b="b"/>
              <a:pathLst>
                <a:path w="2105" h="3038">
                  <a:moveTo>
                    <a:pt x="698" y="2955"/>
                  </a:moveTo>
                  <a:lnTo>
                    <a:pt x="683" y="2949"/>
                  </a:lnTo>
                  <a:lnTo>
                    <a:pt x="666" y="2943"/>
                  </a:lnTo>
                  <a:lnTo>
                    <a:pt x="650" y="2936"/>
                  </a:lnTo>
                  <a:lnTo>
                    <a:pt x="635" y="2930"/>
                  </a:lnTo>
                  <a:lnTo>
                    <a:pt x="620" y="2922"/>
                  </a:lnTo>
                  <a:lnTo>
                    <a:pt x="605" y="2915"/>
                  </a:lnTo>
                  <a:lnTo>
                    <a:pt x="590" y="2907"/>
                  </a:lnTo>
                  <a:lnTo>
                    <a:pt x="574" y="2899"/>
                  </a:lnTo>
                  <a:lnTo>
                    <a:pt x="559" y="2890"/>
                  </a:lnTo>
                  <a:lnTo>
                    <a:pt x="544" y="2880"/>
                  </a:lnTo>
                  <a:lnTo>
                    <a:pt x="531" y="2871"/>
                  </a:lnTo>
                  <a:lnTo>
                    <a:pt x="515" y="2861"/>
                  </a:lnTo>
                  <a:lnTo>
                    <a:pt x="500" y="2852"/>
                  </a:lnTo>
                  <a:lnTo>
                    <a:pt x="487" y="2840"/>
                  </a:lnTo>
                  <a:lnTo>
                    <a:pt x="472" y="2829"/>
                  </a:lnTo>
                  <a:lnTo>
                    <a:pt x="458" y="2820"/>
                  </a:lnTo>
                  <a:lnTo>
                    <a:pt x="443" y="2806"/>
                  </a:lnTo>
                  <a:lnTo>
                    <a:pt x="430" y="2795"/>
                  </a:lnTo>
                  <a:lnTo>
                    <a:pt x="417" y="2782"/>
                  </a:lnTo>
                  <a:lnTo>
                    <a:pt x="403" y="2770"/>
                  </a:lnTo>
                  <a:lnTo>
                    <a:pt x="388" y="2757"/>
                  </a:lnTo>
                  <a:lnTo>
                    <a:pt x="375" y="2745"/>
                  </a:lnTo>
                  <a:lnTo>
                    <a:pt x="363" y="2732"/>
                  </a:lnTo>
                  <a:lnTo>
                    <a:pt x="352" y="2719"/>
                  </a:lnTo>
                  <a:lnTo>
                    <a:pt x="339" y="2705"/>
                  </a:lnTo>
                  <a:lnTo>
                    <a:pt x="325" y="2692"/>
                  </a:lnTo>
                  <a:lnTo>
                    <a:pt x="312" y="2677"/>
                  </a:lnTo>
                  <a:lnTo>
                    <a:pt x="301" y="2664"/>
                  </a:lnTo>
                  <a:lnTo>
                    <a:pt x="289" y="2650"/>
                  </a:lnTo>
                  <a:lnTo>
                    <a:pt x="278" y="2635"/>
                  </a:lnTo>
                  <a:lnTo>
                    <a:pt x="266" y="2622"/>
                  </a:lnTo>
                  <a:lnTo>
                    <a:pt x="255" y="2609"/>
                  </a:lnTo>
                  <a:lnTo>
                    <a:pt x="244" y="2591"/>
                  </a:lnTo>
                  <a:lnTo>
                    <a:pt x="232" y="2578"/>
                  </a:lnTo>
                  <a:lnTo>
                    <a:pt x="221" y="2563"/>
                  </a:lnTo>
                  <a:lnTo>
                    <a:pt x="211" y="2550"/>
                  </a:lnTo>
                  <a:lnTo>
                    <a:pt x="202" y="2534"/>
                  </a:lnTo>
                  <a:lnTo>
                    <a:pt x="192" y="2519"/>
                  </a:lnTo>
                  <a:lnTo>
                    <a:pt x="183" y="2504"/>
                  </a:lnTo>
                  <a:lnTo>
                    <a:pt x="175" y="2491"/>
                  </a:lnTo>
                  <a:lnTo>
                    <a:pt x="166" y="2475"/>
                  </a:lnTo>
                  <a:lnTo>
                    <a:pt x="156" y="2462"/>
                  </a:lnTo>
                  <a:lnTo>
                    <a:pt x="149" y="2447"/>
                  </a:lnTo>
                  <a:lnTo>
                    <a:pt x="141" y="2434"/>
                  </a:lnTo>
                  <a:lnTo>
                    <a:pt x="133" y="2418"/>
                  </a:lnTo>
                  <a:lnTo>
                    <a:pt x="128" y="2405"/>
                  </a:lnTo>
                  <a:lnTo>
                    <a:pt x="120" y="2390"/>
                  </a:lnTo>
                  <a:lnTo>
                    <a:pt x="114" y="2377"/>
                  </a:lnTo>
                  <a:lnTo>
                    <a:pt x="109" y="2363"/>
                  </a:lnTo>
                  <a:lnTo>
                    <a:pt x="103" y="2350"/>
                  </a:lnTo>
                  <a:lnTo>
                    <a:pt x="97" y="2335"/>
                  </a:lnTo>
                  <a:lnTo>
                    <a:pt x="93" y="2323"/>
                  </a:lnTo>
                  <a:lnTo>
                    <a:pt x="88" y="2310"/>
                  </a:lnTo>
                  <a:lnTo>
                    <a:pt x="84" y="2297"/>
                  </a:lnTo>
                  <a:lnTo>
                    <a:pt x="80" y="2285"/>
                  </a:lnTo>
                  <a:lnTo>
                    <a:pt x="78" y="2274"/>
                  </a:lnTo>
                  <a:lnTo>
                    <a:pt x="74" y="2262"/>
                  </a:lnTo>
                  <a:lnTo>
                    <a:pt x="73" y="2249"/>
                  </a:lnTo>
                  <a:lnTo>
                    <a:pt x="71" y="2238"/>
                  </a:lnTo>
                  <a:lnTo>
                    <a:pt x="69" y="2226"/>
                  </a:lnTo>
                  <a:lnTo>
                    <a:pt x="67" y="2215"/>
                  </a:lnTo>
                  <a:lnTo>
                    <a:pt x="67" y="2205"/>
                  </a:lnTo>
                  <a:lnTo>
                    <a:pt x="67" y="2196"/>
                  </a:lnTo>
                  <a:lnTo>
                    <a:pt x="69" y="2188"/>
                  </a:lnTo>
                  <a:lnTo>
                    <a:pt x="69" y="2171"/>
                  </a:lnTo>
                  <a:lnTo>
                    <a:pt x="69" y="2158"/>
                  </a:lnTo>
                  <a:lnTo>
                    <a:pt x="71" y="2143"/>
                  </a:lnTo>
                  <a:lnTo>
                    <a:pt x="73" y="2129"/>
                  </a:lnTo>
                  <a:lnTo>
                    <a:pt x="73" y="2114"/>
                  </a:lnTo>
                  <a:lnTo>
                    <a:pt x="74" y="2101"/>
                  </a:lnTo>
                  <a:lnTo>
                    <a:pt x="76" y="2086"/>
                  </a:lnTo>
                  <a:lnTo>
                    <a:pt x="78" y="2074"/>
                  </a:lnTo>
                  <a:lnTo>
                    <a:pt x="80" y="2059"/>
                  </a:lnTo>
                  <a:lnTo>
                    <a:pt x="82" y="2048"/>
                  </a:lnTo>
                  <a:lnTo>
                    <a:pt x="84" y="2034"/>
                  </a:lnTo>
                  <a:lnTo>
                    <a:pt x="86" y="2021"/>
                  </a:lnTo>
                  <a:lnTo>
                    <a:pt x="88" y="2008"/>
                  </a:lnTo>
                  <a:lnTo>
                    <a:pt x="90" y="1994"/>
                  </a:lnTo>
                  <a:lnTo>
                    <a:pt x="93" y="1981"/>
                  </a:lnTo>
                  <a:lnTo>
                    <a:pt x="97" y="1970"/>
                  </a:lnTo>
                  <a:lnTo>
                    <a:pt x="99" y="1956"/>
                  </a:lnTo>
                  <a:lnTo>
                    <a:pt x="103" y="1943"/>
                  </a:lnTo>
                  <a:lnTo>
                    <a:pt x="105" y="1930"/>
                  </a:lnTo>
                  <a:lnTo>
                    <a:pt x="109" y="1918"/>
                  </a:lnTo>
                  <a:lnTo>
                    <a:pt x="111" y="1907"/>
                  </a:lnTo>
                  <a:lnTo>
                    <a:pt x="114" y="1894"/>
                  </a:lnTo>
                  <a:lnTo>
                    <a:pt x="118" y="1882"/>
                  </a:lnTo>
                  <a:lnTo>
                    <a:pt x="122" y="1871"/>
                  </a:lnTo>
                  <a:lnTo>
                    <a:pt x="124" y="1857"/>
                  </a:lnTo>
                  <a:lnTo>
                    <a:pt x="128" y="1844"/>
                  </a:lnTo>
                  <a:lnTo>
                    <a:pt x="133" y="1833"/>
                  </a:lnTo>
                  <a:lnTo>
                    <a:pt x="137" y="1821"/>
                  </a:lnTo>
                  <a:lnTo>
                    <a:pt x="141" y="1810"/>
                  </a:lnTo>
                  <a:lnTo>
                    <a:pt x="145" y="1799"/>
                  </a:lnTo>
                  <a:lnTo>
                    <a:pt x="149" y="1787"/>
                  </a:lnTo>
                  <a:lnTo>
                    <a:pt x="154" y="1776"/>
                  </a:lnTo>
                  <a:lnTo>
                    <a:pt x="158" y="1764"/>
                  </a:lnTo>
                  <a:lnTo>
                    <a:pt x="162" y="1753"/>
                  </a:lnTo>
                  <a:lnTo>
                    <a:pt x="166" y="1740"/>
                  </a:lnTo>
                  <a:lnTo>
                    <a:pt x="169" y="1730"/>
                  </a:lnTo>
                  <a:lnTo>
                    <a:pt x="173" y="1717"/>
                  </a:lnTo>
                  <a:lnTo>
                    <a:pt x="179" y="1707"/>
                  </a:lnTo>
                  <a:lnTo>
                    <a:pt x="183" y="1696"/>
                  </a:lnTo>
                  <a:lnTo>
                    <a:pt x="189" y="1684"/>
                  </a:lnTo>
                  <a:lnTo>
                    <a:pt x="192" y="1673"/>
                  </a:lnTo>
                  <a:lnTo>
                    <a:pt x="198" y="1662"/>
                  </a:lnTo>
                  <a:lnTo>
                    <a:pt x="202" y="1652"/>
                  </a:lnTo>
                  <a:lnTo>
                    <a:pt x="208" y="1641"/>
                  </a:lnTo>
                  <a:lnTo>
                    <a:pt x="211" y="1629"/>
                  </a:lnTo>
                  <a:lnTo>
                    <a:pt x="217" y="1618"/>
                  </a:lnTo>
                  <a:lnTo>
                    <a:pt x="223" y="1608"/>
                  </a:lnTo>
                  <a:lnTo>
                    <a:pt x="228" y="1599"/>
                  </a:lnTo>
                  <a:lnTo>
                    <a:pt x="232" y="1586"/>
                  </a:lnTo>
                  <a:lnTo>
                    <a:pt x="238" y="1576"/>
                  </a:lnTo>
                  <a:lnTo>
                    <a:pt x="242" y="1565"/>
                  </a:lnTo>
                  <a:lnTo>
                    <a:pt x="247" y="1555"/>
                  </a:lnTo>
                  <a:lnTo>
                    <a:pt x="251" y="1544"/>
                  </a:lnTo>
                  <a:lnTo>
                    <a:pt x="257" y="1532"/>
                  </a:lnTo>
                  <a:lnTo>
                    <a:pt x="263" y="1523"/>
                  </a:lnTo>
                  <a:lnTo>
                    <a:pt x="268" y="1513"/>
                  </a:lnTo>
                  <a:lnTo>
                    <a:pt x="272" y="1502"/>
                  </a:lnTo>
                  <a:lnTo>
                    <a:pt x="278" y="1492"/>
                  </a:lnTo>
                  <a:lnTo>
                    <a:pt x="282" y="1479"/>
                  </a:lnTo>
                  <a:lnTo>
                    <a:pt x="289" y="1471"/>
                  </a:lnTo>
                  <a:lnTo>
                    <a:pt x="293" y="1460"/>
                  </a:lnTo>
                  <a:lnTo>
                    <a:pt x="299" y="1451"/>
                  </a:lnTo>
                  <a:lnTo>
                    <a:pt x="303" y="1441"/>
                  </a:lnTo>
                  <a:lnTo>
                    <a:pt x="310" y="1432"/>
                  </a:lnTo>
                  <a:lnTo>
                    <a:pt x="316" y="1416"/>
                  </a:lnTo>
                  <a:lnTo>
                    <a:pt x="322" y="1403"/>
                  </a:lnTo>
                  <a:lnTo>
                    <a:pt x="329" y="1390"/>
                  </a:lnTo>
                  <a:lnTo>
                    <a:pt x="335" y="1378"/>
                  </a:lnTo>
                  <a:lnTo>
                    <a:pt x="341" y="1363"/>
                  </a:lnTo>
                  <a:lnTo>
                    <a:pt x="348" y="1350"/>
                  </a:lnTo>
                  <a:lnTo>
                    <a:pt x="354" y="1336"/>
                  </a:lnTo>
                  <a:lnTo>
                    <a:pt x="362" y="1325"/>
                  </a:lnTo>
                  <a:lnTo>
                    <a:pt x="367" y="1312"/>
                  </a:lnTo>
                  <a:lnTo>
                    <a:pt x="373" y="1298"/>
                  </a:lnTo>
                  <a:lnTo>
                    <a:pt x="381" y="1285"/>
                  </a:lnTo>
                  <a:lnTo>
                    <a:pt x="386" y="1272"/>
                  </a:lnTo>
                  <a:lnTo>
                    <a:pt x="392" y="1259"/>
                  </a:lnTo>
                  <a:lnTo>
                    <a:pt x="400" y="1245"/>
                  </a:lnTo>
                  <a:lnTo>
                    <a:pt x="405" y="1232"/>
                  </a:lnTo>
                  <a:lnTo>
                    <a:pt x="413" y="1221"/>
                  </a:lnTo>
                  <a:lnTo>
                    <a:pt x="417" y="1205"/>
                  </a:lnTo>
                  <a:lnTo>
                    <a:pt x="422" y="1192"/>
                  </a:lnTo>
                  <a:lnTo>
                    <a:pt x="428" y="1179"/>
                  </a:lnTo>
                  <a:lnTo>
                    <a:pt x="434" y="1165"/>
                  </a:lnTo>
                  <a:lnTo>
                    <a:pt x="439" y="1150"/>
                  </a:lnTo>
                  <a:lnTo>
                    <a:pt x="445" y="1139"/>
                  </a:lnTo>
                  <a:lnTo>
                    <a:pt x="451" y="1124"/>
                  </a:lnTo>
                  <a:lnTo>
                    <a:pt x="457" y="1112"/>
                  </a:lnTo>
                  <a:lnTo>
                    <a:pt x="460" y="1097"/>
                  </a:lnTo>
                  <a:lnTo>
                    <a:pt x="466" y="1084"/>
                  </a:lnTo>
                  <a:lnTo>
                    <a:pt x="470" y="1070"/>
                  </a:lnTo>
                  <a:lnTo>
                    <a:pt x="476" y="1057"/>
                  </a:lnTo>
                  <a:lnTo>
                    <a:pt x="479" y="1042"/>
                  </a:lnTo>
                  <a:lnTo>
                    <a:pt x="485" y="1028"/>
                  </a:lnTo>
                  <a:lnTo>
                    <a:pt x="491" y="1015"/>
                  </a:lnTo>
                  <a:lnTo>
                    <a:pt x="495" y="1002"/>
                  </a:lnTo>
                  <a:lnTo>
                    <a:pt x="498" y="987"/>
                  </a:lnTo>
                  <a:lnTo>
                    <a:pt x="502" y="973"/>
                  </a:lnTo>
                  <a:lnTo>
                    <a:pt x="506" y="956"/>
                  </a:lnTo>
                  <a:lnTo>
                    <a:pt x="510" y="943"/>
                  </a:lnTo>
                  <a:lnTo>
                    <a:pt x="514" y="928"/>
                  </a:lnTo>
                  <a:lnTo>
                    <a:pt x="517" y="914"/>
                  </a:lnTo>
                  <a:lnTo>
                    <a:pt x="519" y="899"/>
                  </a:lnTo>
                  <a:lnTo>
                    <a:pt x="523" y="886"/>
                  </a:lnTo>
                  <a:lnTo>
                    <a:pt x="525" y="869"/>
                  </a:lnTo>
                  <a:lnTo>
                    <a:pt x="527" y="855"/>
                  </a:lnTo>
                  <a:lnTo>
                    <a:pt x="531" y="838"/>
                  </a:lnTo>
                  <a:lnTo>
                    <a:pt x="533" y="825"/>
                  </a:lnTo>
                  <a:lnTo>
                    <a:pt x="534" y="808"/>
                  </a:lnTo>
                  <a:lnTo>
                    <a:pt x="536" y="795"/>
                  </a:lnTo>
                  <a:lnTo>
                    <a:pt x="538" y="777"/>
                  </a:lnTo>
                  <a:lnTo>
                    <a:pt x="540" y="764"/>
                  </a:lnTo>
                  <a:lnTo>
                    <a:pt x="540" y="745"/>
                  </a:lnTo>
                  <a:lnTo>
                    <a:pt x="542" y="730"/>
                  </a:lnTo>
                  <a:lnTo>
                    <a:pt x="542" y="715"/>
                  </a:lnTo>
                  <a:lnTo>
                    <a:pt x="544" y="698"/>
                  </a:lnTo>
                  <a:lnTo>
                    <a:pt x="544" y="681"/>
                  </a:lnTo>
                  <a:lnTo>
                    <a:pt x="544" y="665"/>
                  </a:lnTo>
                  <a:lnTo>
                    <a:pt x="544" y="648"/>
                  </a:lnTo>
                  <a:lnTo>
                    <a:pt x="544" y="631"/>
                  </a:lnTo>
                  <a:lnTo>
                    <a:pt x="542" y="614"/>
                  </a:lnTo>
                  <a:lnTo>
                    <a:pt x="540" y="597"/>
                  </a:lnTo>
                  <a:lnTo>
                    <a:pt x="538" y="580"/>
                  </a:lnTo>
                  <a:lnTo>
                    <a:pt x="538" y="563"/>
                  </a:lnTo>
                  <a:lnTo>
                    <a:pt x="536" y="544"/>
                  </a:lnTo>
                  <a:lnTo>
                    <a:pt x="534" y="526"/>
                  </a:lnTo>
                  <a:lnTo>
                    <a:pt x="533" y="509"/>
                  </a:lnTo>
                  <a:lnTo>
                    <a:pt x="531" y="492"/>
                  </a:lnTo>
                  <a:lnTo>
                    <a:pt x="527" y="477"/>
                  </a:lnTo>
                  <a:lnTo>
                    <a:pt x="525" y="462"/>
                  </a:lnTo>
                  <a:lnTo>
                    <a:pt x="521" y="447"/>
                  </a:lnTo>
                  <a:lnTo>
                    <a:pt x="517" y="433"/>
                  </a:lnTo>
                  <a:lnTo>
                    <a:pt x="512" y="420"/>
                  </a:lnTo>
                  <a:lnTo>
                    <a:pt x="508" y="407"/>
                  </a:lnTo>
                  <a:lnTo>
                    <a:pt x="502" y="393"/>
                  </a:lnTo>
                  <a:lnTo>
                    <a:pt x="498" y="380"/>
                  </a:lnTo>
                  <a:lnTo>
                    <a:pt x="491" y="367"/>
                  </a:lnTo>
                  <a:lnTo>
                    <a:pt x="487" y="355"/>
                  </a:lnTo>
                  <a:lnTo>
                    <a:pt x="479" y="342"/>
                  </a:lnTo>
                  <a:lnTo>
                    <a:pt x="474" y="331"/>
                  </a:lnTo>
                  <a:lnTo>
                    <a:pt x="466" y="319"/>
                  </a:lnTo>
                  <a:lnTo>
                    <a:pt x="460" y="306"/>
                  </a:lnTo>
                  <a:lnTo>
                    <a:pt x="453" y="296"/>
                  </a:lnTo>
                  <a:lnTo>
                    <a:pt x="447" y="285"/>
                  </a:lnTo>
                  <a:lnTo>
                    <a:pt x="438" y="274"/>
                  </a:lnTo>
                  <a:lnTo>
                    <a:pt x="430" y="262"/>
                  </a:lnTo>
                  <a:lnTo>
                    <a:pt x="420" y="251"/>
                  </a:lnTo>
                  <a:lnTo>
                    <a:pt x="413" y="241"/>
                  </a:lnTo>
                  <a:lnTo>
                    <a:pt x="403" y="230"/>
                  </a:lnTo>
                  <a:lnTo>
                    <a:pt x="396" y="220"/>
                  </a:lnTo>
                  <a:lnTo>
                    <a:pt x="386" y="209"/>
                  </a:lnTo>
                  <a:lnTo>
                    <a:pt x="379" y="201"/>
                  </a:lnTo>
                  <a:lnTo>
                    <a:pt x="369" y="192"/>
                  </a:lnTo>
                  <a:lnTo>
                    <a:pt x="360" y="182"/>
                  </a:lnTo>
                  <a:lnTo>
                    <a:pt x="352" y="173"/>
                  </a:lnTo>
                  <a:lnTo>
                    <a:pt x="342" y="165"/>
                  </a:lnTo>
                  <a:lnTo>
                    <a:pt x="333" y="156"/>
                  </a:lnTo>
                  <a:lnTo>
                    <a:pt x="325" y="148"/>
                  </a:lnTo>
                  <a:lnTo>
                    <a:pt x="316" y="139"/>
                  </a:lnTo>
                  <a:lnTo>
                    <a:pt x="308" y="133"/>
                  </a:lnTo>
                  <a:lnTo>
                    <a:pt x="299" y="125"/>
                  </a:lnTo>
                  <a:lnTo>
                    <a:pt x="289" y="118"/>
                  </a:lnTo>
                  <a:lnTo>
                    <a:pt x="280" y="108"/>
                  </a:lnTo>
                  <a:lnTo>
                    <a:pt x="272" y="102"/>
                  </a:lnTo>
                  <a:lnTo>
                    <a:pt x="263" y="95"/>
                  </a:lnTo>
                  <a:lnTo>
                    <a:pt x="253" y="89"/>
                  </a:lnTo>
                  <a:lnTo>
                    <a:pt x="246" y="82"/>
                  </a:lnTo>
                  <a:lnTo>
                    <a:pt x="238" y="78"/>
                  </a:lnTo>
                  <a:lnTo>
                    <a:pt x="228" y="70"/>
                  </a:lnTo>
                  <a:lnTo>
                    <a:pt x="221" y="64"/>
                  </a:lnTo>
                  <a:lnTo>
                    <a:pt x="211" y="59"/>
                  </a:lnTo>
                  <a:lnTo>
                    <a:pt x="204" y="55"/>
                  </a:lnTo>
                  <a:lnTo>
                    <a:pt x="196" y="49"/>
                  </a:lnTo>
                  <a:lnTo>
                    <a:pt x="189" y="45"/>
                  </a:lnTo>
                  <a:lnTo>
                    <a:pt x="181" y="42"/>
                  </a:lnTo>
                  <a:lnTo>
                    <a:pt x="177" y="38"/>
                  </a:lnTo>
                  <a:lnTo>
                    <a:pt x="168" y="32"/>
                  </a:lnTo>
                  <a:lnTo>
                    <a:pt x="162" y="28"/>
                  </a:lnTo>
                  <a:lnTo>
                    <a:pt x="154" y="25"/>
                  </a:lnTo>
                  <a:lnTo>
                    <a:pt x="150" y="21"/>
                  </a:lnTo>
                  <a:lnTo>
                    <a:pt x="139" y="15"/>
                  </a:lnTo>
                  <a:lnTo>
                    <a:pt x="131" y="11"/>
                  </a:lnTo>
                  <a:lnTo>
                    <a:pt x="124" y="6"/>
                  </a:lnTo>
                  <a:lnTo>
                    <a:pt x="116" y="4"/>
                  </a:lnTo>
                  <a:lnTo>
                    <a:pt x="112" y="0"/>
                  </a:lnTo>
                  <a:lnTo>
                    <a:pt x="111" y="0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63" y="38"/>
                  </a:lnTo>
                  <a:lnTo>
                    <a:pt x="67" y="42"/>
                  </a:lnTo>
                  <a:lnTo>
                    <a:pt x="74" y="47"/>
                  </a:lnTo>
                  <a:lnTo>
                    <a:pt x="82" y="51"/>
                  </a:lnTo>
                  <a:lnTo>
                    <a:pt x="93" y="57"/>
                  </a:lnTo>
                  <a:lnTo>
                    <a:pt x="97" y="61"/>
                  </a:lnTo>
                  <a:lnTo>
                    <a:pt x="103" y="64"/>
                  </a:lnTo>
                  <a:lnTo>
                    <a:pt x="109" y="68"/>
                  </a:lnTo>
                  <a:lnTo>
                    <a:pt x="116" y="74"/>
                  </a:lnTo>
                  <a:lnTo>
                    <a:pt x="122" y="78"/>
                  </a:lnTo>
                  <a:lnTo>
                    <a:pt x="128" y="82"/>
                  </a:lnTo>
                  <a:lnTo>
                    <a:pt x="137" y="85"/>
                  </a:lnTo>
                  <a:lnTo>
                    <a:pt x="145" y="91"/>
                  </a:lnTo>
                  <a:lnTo>
                    <a:pt x="152" y="97"/>
                  </a:lnTo>
                  <a:lnTo>
                    <a:pt x="160" y="104"/>
                  </a:lnTo>
                  <a:lnTo>
                    <a:pt x="168" y="108"/>
                  </a:lnTo>
                  <a:lnTo>
                    <a:pt x="177" y="116"/>
                  </a:lnTo>
                  <a:lnTo>
                    <a:pt x="185" y="122"/>
                  </a:lnTo>
                  <a:lnTo>
                    <a:pt x="194" y="127"/>
                  </a:lnTo>
                  <a:lnTo>
                    <a:pt x="202" y="135"/>
                  </a:lnTo>
                  <a:lnTo>
                    <a:pt x="211" y="142"/>
                  </a:lnTo>
                  <a:lnTo>
                    <a:pt x="221" y="150"/>
                  </a:lnTo>
                  <a:lnTo>
                    <a:pt x="228" y="158"/>
                  </a:lnTo>
                  <a:lnTo>
                    <a:pt x="238" y="165"/>
                  </a:lnTo>
                  <a:lnTo>
                    <a:pt x="249" y="175"/>
                  </a:lnTo>
                  <a:lnTo>
                    <a:pt x="257" y="180"/>
                  </a:lnTo>
                  <a:lnTo>
                    <a:pt x="266" y="188"/>
                  </a:lnTo>
                  <a:lnTo>
                    <a:pt x="276" y="196"/>
                  </a:lnTo>
                  <a:lnTo>
                    <a:pt x="285" y="205"/>
                  </a:lnTo>
                  <a:lnTo>
                    <a:pt x="293" y="215"/>
                  </a:lnTo>
                  <a:lnTo>
                    <a:pt x="303" y="222"/>
                  </a:lnTo>
                  <a:lnTo>
                    <a:pt x="312" y="232"/>
                  </a:lnTo>
                  <a:lnTo>
                    <a:pt x="320" y="241"/>
                  </a:lnTo>
                  <a:lnTo>
                    <a:pt x="329" y="249"/>
                  </a:lnTo>
                  <a:lnTo>
                    <a:pt x="339" y="260"/>
                  </a:lnTo>
                  <a:lnTo>
                    <a:pt x="346" y="270"/>
                  </a:lnTo>
                  <a:lnTo>
                    <a:pt x="356" y="279"/>
                  </a:lnTo>
                  <a:lnTo>
                    <a:pt x="363" y="291"/>
                  </a:lnTo>
                  <a:lnTo>
                    <a:pt x="371" y="302"/>
                  </a:lnTo>
                  <a:lnTo>
                    <a:pt x="379" y="312"/>
                  </a:lnTo>
                  <a:lnTo>
                    <a:pt x="388" y="323"/>
                  </a:lnTo>
                  <a:lnTo>
                    <a:pt x="394" y="333"/>
                  </a:lnTo>
                  <a:lnTo>
                    <a:pt x="401" y="344"/>
                  </a:lnTo>
                  <a:lnTo>
                    <a:pt x="409" y="355"/>
                  </a:lnTo>
                  <a:lnTo>
                    <a:pt x="417" y="367"/>
                  </a:lnTo>
                  <a:lnTo>
                    <a:pt x="420" y="378"/>
                  </a:lnTo>
                  <a:lnTo>
                    <a:pt x="428" y="390"/>
                  </a:lnTo>
                  <a:lnTo>
                    <a:pt x="434" y="403"/>
                  </a:lnTo>
                  <a:lnTo>
                    <a:pt x="439" y="414"/>
                  </a:lnTo>
                  <a:lnTo>
                    <a:pt x="443" y="426"/>
                  </a:lnTo>
                  <a:lnTo>
                    <a:pt x="449" y="437"/>
                  </a:lnTo>
                  <a:lnTo>
                    <a:pt x="453" y="450"/>
                  </a:lnTo>
                  <a:lnTo>
                    <a:pt x="458" y="464"/>
                  </a:lnTo>
                  <a:lnTo>
                    <a:pt x="460" y="475"/>
                  </a:lnTo>
                  <a:lnTo>
                    <a:pt x="464" y="488"/>
                  </a:lnTo>
                  <a:lnTo>
                    <a:pt x="468" y="502"/>
                  </a:lnTo>
                  <a:lnTo>
                    <a:pt x="472" y="515"/>
                  </a:lnTo>
                  <a:lnTo>
                    <a:pt x="474" y="530"/>
                  </a:lnTo>
                  <a:lnTo>
                    <a:pt x="474" y="547"/>
                  </a:lnTo>
                  <a:lnTo>
                    <a:pt x="476" y="563"/>
                  </a:lnTo>
                  <a:lnTo>
                    <a:pt x="477" y="580"/>
                  </a:lnTo>
                  <a:lnTo>
                    <a:pt x="477" y="597"/>
                  </a:lnTo>
                  <a:lnTo>
                    <a:pt x="479" y="612"/>
                  </a:lnTo>
                  <a:lnTo>
                    <a:pt x="481" y="627"/>
                  </a:lnTo>
                  <a:lnTo>
                    <a:pt x="483" y="644"/>
                  </a:lnTo>
                  <a:lnTo>
                    <a:pt x="481" y="660"/>
                  </a:lnTo>
                  <a:lnTo>
                    <a:pt x="481" y="675"/>
                  </a:lnTo>
                  <a:lnTo>
                    <a:pt x="481" y="690"/>
                  </a:lnTo>
                  <a:lnTo>
                    <a:pt x="481" y="705"/>
                  </a:lnTo>
                  <a:lnTo>
                    <a:pt x="479" y="720"/>
                  </a:lnTo>
                  <a:lnTo>
                    <a:pt x="477" y="738"/>
                  </a:lnTo>
                  <a:lnTo>
                    <a:pt x="477" y="751"/>
                  </a:lnTo>
                  <a:lnTo>
                    <a:pt x="477" y="768"/>
                  </a:lnTo>
                  <a:lnTo>
                    <a:pt x="474" y="781"/>
                  </a:lnTo>
                  <a:lnTo>
                    <a:pt x="472" y="795"/>
                  </a:lnTo>
                  <a:lnTo>
                    <a:pt x="470" y="810"/>
                  </a:lnTo>
                  <a:lnTo>
                    <a:pt x="468" y="825"/>
                  </a:lnTo>
                  <a:lnTo>
                    <a:pt x="464" y="838"/>
                  </a:lnTo>
                  <a:lnTo>
                    <a:pt x="460" y="852"/>
                  </a:lnTo>
                  <a:lnTo>
                    <a:pt x="458" y="867"/>
                  </a:lnTo>
                  <a:lnTo>
                    <a:pt x="457" y="882"/>
                  </a:lnTo>
                  <a:lnTo>
                    <a:pt x="451" y="895"/>
                  </a:lnTo>
                  <a:lnTo>
                    <a:pt x="447" y="909"/>
                  </a:lnTo>
                  <a:lnTo>
                    <a:pt x="443" y="922"/>
                  </a:lnTo>
                  <a:lnTo>
                    <a:pt x="439" y="935"/>
                  </a:lnTo>
                  <a:lnTo>
                    <a:pt x="436" y="949"/>
                  </a:lnTo>
                  <a:lnTo>
                    <a:pt x="432" y="962"/>
                  </a:lnTo>
                  <a:lnTo>
                    <a:pt x="428" y="975"/>
                  </a:lnTo>
                  <a:lnTo>
                    <a:pt x="424" y="990"/>
                  </a:lnTo>
                  <a:lnTo>
                    <a:pt x="419" y="1002"/>
                  </a:lnTo>
                  <a:lnTo>
                    <a:pt x="413" y="1015"/>
                  </a:lnTo>
                  <a:lnTo>
                    <a:pt x="409" y="1027"/>
                  </a:lnTo>
                  <a:lnTo>
                    <a:pt x="403" y="1040"/>
                  </a:lnTo>
                  <a:lnTo>
                    <a:pt x="398" y="1053"/>
                  </a:lnTo>
                  <a:lnTo>
                    <a:pt x="392" y="1066"/>
                  </a:lnTo>
                  <a:lnTo>
                    <a:pt x="386" y="1080"/>
                  </a:lnTo>
                  <a:lnTo>
                    <a:pt x="382" y="1093"/>
                  </a:lnTo>
                  <a:lnTo>
                    <a:pt x="375" y="1105"/>
                  </a:lnTo>
                  <a:lnTo>
                    <a:pt x="369" y="1118"/>
                  </a:lnTo>
                  <a:lnTo>
                    <a:pt x="363" y="1129"/>
                  </a:lnTo>
                  <a:lnTo>
                    <a:pt x="358" y="1143"/>
                  </a:lnTo>
                  <a:lnTo>
                    <a:pt x="352" y="1154"/>
                  </a:lnTo>
                  <a:lnTo>
                    <a:pt x="346" y="1167"/>
                  </a:lnTo>
                  <a:lnTo>
                    <a:pt x="341" y="1181"/>
                  </a:lnTo>
                  <a:lnTo>
                    <a:pt x="335" y="1194"/>
                  </a:lnTo>
                  <a:lnTo>
                    <a:pt x="329" y="1205"/>
                  </a:lnTo>
                  <a:lnTo>
                    <a:pt x="322" y="1217"/>
                  </a:lnTo>
                  <a:lnTo>
                    <a:pt x="316" y="1230"/>
                  </a:lnTo>
                  <a:lnTo>
                    <a:pt x="310" y="1243"/>
                  </a:lnTo>
                  <a:lnTo>
                    <a:pt x="303" y="1255"/>
                  </a:lnTo>
                  <a:lnTo>
                    <a:pt x="297" y="1268"/>
                  </a:lnTo>
                  <a:lnTo>
                    <a:pt x="289" y="1279"/>
                  </a:lnTo>
                  <a:lnTo>
                    <a:pt x="285" y="1293"/>
                  </a:lnTo>
                  <a:lnTo>
                    <a:pt x="278" y="1304"/>
                  </a:lnTo>
                  <a:lnTo>
                    <a:pt x="272" y="1317"/>
                  </a:lnTo>
                  <a:lnTo>
                    <a:pt x="265" y="1329"/>
                  </a:lnTo>
                  <a:lnTo>
                    <a:pt x="259" y="1342"/>
                  </a:lnTo>
                  <a:lnTo>
                    <a:pt x="253" y="1354"/>
                  </a:lnTo>
                  <a:lnTo>
                    <a:pt x="247" y="1367"/>
                  </a:lnTo>
                  <a:lnTo>
                    <a:pt x="242" y="1380"/>
                  </a:lnTo>
                  <a:lnTo>
                    <a:pt x="236" y="1394"/>
                  </a:lnTo>
                  <a:lnTo>
                    <a:pt x="228" y="1403"/>
                  </a:lnTo>
                  <a:lnTo>
                    <a:pt x="225" y="1414"/>
                  </a:lnTo>
                  <a:lnTo>
                    <a:pt x="219" y="1424"/>
                  </a:lnTo>
                  <a:lnTo>
                    <a:pt x="213" y="1435"/>
                  </a:lnTo>
                  <a:lnTo>
                    <a:pt x="208" y="1445"/>
                  </a:lnTo>
                  <a:lnTo>
                    <a:pt x="202" y="1456"/>
                  </a:lnTo>
                  <a:lnTo>
                    <a:pt x="196" y="1468"/>
                  </a:lnTo>
                  <a:lnTo>
                    <a:pt x="192" y="1479"/>
                  </a:lnTo>
                  <a:lnTo>
                    <a:pt x="185" y="1489"/>
                  </a:lnTo>
                  <a:lnTo>
                    <a:pt x="181" y="1498"/>
                  </a:lnTo>
                  <a:lnTo>
                    <a:pt x="175" y="1510"/>
                  </a:lnTo>
                  <a:lnTo>
                    <a:pt x="171" y="1519"/>
                  </a:lnTo>
                  <a:lnTo>
                    <a:pt x="166" y="1530"/>
                  </a:lnTo>
                  <a:lnTo>
                    <a:pt x="160" y="1542"/>
                  </a:lnTo>
                  <a:lnTo>
                    <a:pt x="156" y="1551"/>
                  </a:lnTo>
                  <a:lnTo>
                    <a:pt x="152" y="1563"/>
                  </a:lnTo>
                  <a:lnTo>
                    <a:pt x="147" y="1574"/>
                  </a:lnTo>
                  <a:lnTo>
                    <a:pt x="141" y="1586"/>
                  </a:lnTo>
                  <a:lnTo>
                    <a:pt x="137" y="1595"/>
                  </a:lnTo>
                  <a:lnTo>
                    <a:pt x="133" y="1608"/>
                  </a:lnTo>
                  <a:lnTo>
                    <a:pt x="128" y="1618"/>
                  </a:lnTo>
                  <a:lnTo>
                    <a:pt x="122" y="1629"/>
                  </a:lnTo>
                  <a:lnTo>
                    <a:pt x="118" y="1639"/>
                  </a:lnTo>
                  <a:lnTo>
                    <a:pt x="114" y="1652"/>
                  </a:lnTo>
                  <a:lnTo>
                    <a:pt x="109" y="1662"/>
                  </a:lnTo>
                  <a:lnTo>
                    <a:pt x="105" y="1673"/>
                  </a:lnTo>
                  <a:lnTo>
                    <a:pt x="101" y="1683"/>
                  </a:lnTo>
                  <a:lnTo>
                    <a:pt x="97" y="1696"/>
                  </a:lnTo>
                  <a:lnTo>
                    <a:pt x="93" y="1707"/>
                  </a:lnTo>
                  <a:lnTo>
                    <a:pt x="88" y="1719"/>
                  </a:lnTo>
                  <a:lnTo>
                    <a:pt x="84" y="1730"/>
                  </a:lnTo>
                  <a:lnTo>
                    <a:pt x="80" y="1743"/>
                  </a:lnTo>
                  <a:lnTo>
                    <a:pt x="76" y="1753"/>
                  </a:lnTo>
                  <a:lnTo>
                    <a:pt x="73" y="1766"/>
                  </a:lnTo>
                  <a:lnTo>
                    <a:pt x="69" y="1776"/>
                  </a:lnTo>
                  <a:lnTo>
                    <a:pt x="65" y="1787"/>
                  </a:lnTo>
                  <a:lnTo>
                    <a:pt x="61" y="1800"/>
                  </a:lnTo>
                  <a:lnTo>
                    <a:pt x="57" y="1812"/>
                  </a:lnTo>
                  <a:lnTo>
                    <a:pt x="54" y="1823"/>
                  </a:lnTo>
                  <a:lnTo>
                    <a:pt x="52" y="1837"/>
                  </a:lnTo>
                  <a:lnTo>
                    <a:pt x="48" y="1850"/>
                  </a:lnTo>
                  <a:lnTo>
                    <a:pt x="44" y="1861"/>
                  </a:lnTo>
                  <a:lnTo>
                    <a:pt x="40" y="1873"/>
                  </a:lnTo>
                  <a:lnTo>
                    <a:pt x="38" y="1886"/>
                  </a:lnTo>
                  <a:lnTo>
                    <a:pt x="35" y="1897"/>
                  </a:lnTo>
                  <a:lnTo>
                    <a:pt x="33" y="1911"/>
                  </a:lnTo>
                  <a:lnTo>
                    <a:pt x="29" y="1924"/>
                  </a:lnTo>
                  <a:lnTo>
                    <a:pt x="27" y="1939"/>
                  </a:lnTo>
                  <a:lnTo>
                    <a:pt x="23" y="1951"/>
                  </a:lnTo>
                  <a:lnTo>
                    <a:pt x="23" y="1964"/>
                  </a:lnTo>
                  <a:lnTo>
                    <a:pt x="19" y="1977"/>
                  </a:lnTo>
                  <a:lnTo>
                    <a:pt x="17" y="1991"/>
                  </a:lnTo>
                  <a:lnTo>
                    <a:pt x="16" y="2004"/>
                  </a:lnTo>
                  <a:lnTo>
                    <a:pt x="14" y="2019"/>
                  </a:lnTo>
                  <a:lnTo>
                    <a:pt x="10" y="2032"/>
                  </a:lnTo>
                  <a:lnTo>
                    <a:pt x="10" y="2048"/>
                  </a:lnTo>
                  <a:lnTo>
                    <a:pt x="8" y="2059"/>
                  </a:lnTo>
                  <a:lnTo>
                    <a:pt x="6" y="2074"/>
                  </a:lnTo>
                  <a:lnTo>
                    <a:pt x="6" y="2089"/>
                  </a:lnTo>
                  <a:lnTo>
                    <a:pt x="4" y="2105"/>
                  </a:lnTo>
                  <a:lnTo>
                    <a:pt x="2" y="2118"/>
                  </a:lnTo>
                  <a:lnTo>
                    <a:pt x="2" y="2133"/>
                  </a:lnTo>
                  <a:lnTo>
                    <a:pt x="2" y="2148"/>
                  </a:lnTo>
                  <a:lnTo>
                    <a:pt x="2" y="2165"/>
                  </a:lnTo>
                  <a:lnTo>
                    <a:pt x="0" y="2175"/>
                  </a:lnTo>
                  <a:lnTo>
                    <a:pt x="0" y="2188"/>
                  </a:lnTo>
                  <a:lnTo>
                    <a:pt x="0" y="2200"/>
                  </a:lnTo>
                  <a:lnTo>
                    <a:pt x="2" y="2211"/>
                  </a:lnTo>
                  <a:lnTo>
                    <a:pt x="2" y="2223"/>
                  </a:lnTo>
                  <a:lnTo>
                    <a:pt x="4" y="2238"/>
                  </a:lnTo>
                  <a:lnTo>
                    <a:pt x="6" y="2251"/>
                  </a:lnTo>
                  <a:lnTo>
                    <a:pt x="10" y="2266"/>
                  </a:lnTo>
                  <a:lnTo>
                    <a:pt x="14" y="2280"/>
                  </a:lnTo>
                  <a:lnTo>
                    <a:pt x="16" y="2293"/>
                  </a:lnTo>
                  <a:lnTo>
                    <a:pt x="19" y="2308"/>
                  </a:lnTo>
                  <a:lnTo>
                    <a:pt x="25" y="2323"/>
                  </a:lnTo>
                  <a:lnTo>
                    <a:pt x="29" y="2339"/>
                  </a:lnTo>
                  <a:lnTo>
                    <a:pt x="35" y="2354"/>
                  </a:lnTo>
                  <a:lnTo>
                    <a:pt x="40" y="2371"/>
                  </a:lnTo>
                  <a:lnTo>
                    <a:pt x="48" y="2386"/>
                  </a:lnTo>
                  <a:lnTo>
                    <a:pt x="54" y="2401"/>
                  </a:lnTo>
                  <a:lnTo>
                    <a:pt x="59" y="2416"/>
                  </a:lnTo>
                  <a:lnTo>
                    <a:pt x="67" y="2434"/>
                  </a:lnTo>
                  <a:lnTo>
                    <a:pt x="76" y="2449"/>
                  </a:lnTo>
                  <a:lnTo>
                    <a:pt x="84" y="2464"/>
                  </a:lnTo>
                  <a:lnTo>
                    <a:pt x="92" y="2483"/>
                  </a:lnTo>
                  <a:lnTo>
                    <a:pt x="99" y="2498"/>
                  </a:lnTo>
                  <a:lnTo>
                    <a:pt x="111" y="2515"/>
                  </a:lnTo>
                  <a:lnTo>
                    <a:pt x="118" y="2531"/>
                  </a:lnTo>
                  <a:lnTo>
                    <a:pt x="128" y="2548"/>
                  </a:lnTo>
                  <a:lnTo>
                    <a:pt x="137" y="2565"/>
                  </a:lnTo>
                  <a:lnTo>
                    <a:pt x="149" y="2582"/>
                  </a:lnTo>
                  <a:lnTo>
                    <a:pt x="158" y="2597"/>
                  </a:lnTo>
                  <a:lnTo>
                    <a:pt x="169" y="2614"/>
                  </a:lnTo>
                  <a:lnTo>
                    <a:pt x="181" y="2631"/>
                  </a:lnTo>
                  <a:lnTo>
                    <a:pt x="194" y="2650"/>
                  </a:lnTo>
                  <a:lnTo>
                    <a:pt x="204" y="2664"/>
                  </a:lnTo>
                  <a:lnTo>
                    <a:pt x="215" y="2681"/>
                  </a:lnTo>
                  <a:lnTo>
                    <a:pt x="228" y="2696"/>
                  </a:lnTo>
                  <a:lnTo>
                    <a:pt x="242" y="2711"/>
                  </a:lnTo>
                  <a:lnTo>
                    <a:pt x="253" y="2726"/>
                  </a:lnTo>
                  <a:lnTo>
                    <a:pt x="266" y="2742"/>
                  </a:lnTo>
                  <a:lnTo>
                    <a:pt x="280" y="2759"/>
                  </a:lnTo>
                  <a:lnTo>
                    <a:pt x="295" y="2774"/>
                  </a:lnTo>
                  <a:lnTo>
                    <a:pt x="308" y="2789"/>
                  </a:lnTo>
                  <a:lnTo>
                    <a:pt x="322" y="2802"/>
                  </a:lnTo>
                  <a:lnTo>
                    <a:pt x="335" y="2818"/>
                  </a:lnTo>
                  <a:lnTo>
                    <a:pt x="352" y="2833"/>
                  </a:lnTo>
                  <a:lnTo>
                    <a:pt x="365" y="2846"/>
                  </a:lnTo>
                  <a:lnTo>
                    <a:pt x="381" y="2860"/>
                  </a:lnTo>
                  <a:lnTo>
                    <a:pt x="396" y="2873"/>
                  </a:lnTo>
                  <a:lnTo>
                    <a:pt x="413" y="2886"/>
                  </a:lnTo>
                  <a:lnTo>
                    <a:pt x="426" y="2899"/>
                  </a:lnTo>
                  <a:lnTo>
                    <a:pt x="443" y="2911"/>
                  </a:lnTo>
                  <a:lnTo>
                    <a:pt x="458" y="2922"/>
                  </a:lnTo>
                  <a:lnTo>
                    <a:pt x="474" y="2936"/>
                  </a:lnTo>
                  <a:lnTo>
                    <a:pt x="491" y="2945"/>
                  </a:lnTo>
                  <a:lnTo>
                    <a:pt x="506" y="2956"/>
                  </a:lnTo>
                  <a:lnTo>
                    <a:pt x="523" y="2966"/>
                  </a:lnTo>
                  <a:lnTo>
                    <a:pt x="540" y="2977"/>
                  </a:lnTo>
                  <a:lnTo>
                    <a:pt x="557" y="2985"/>
                  </a:lnTo>
                  <a:lnTo>
                    <a:pt x="574" y="2995"/>
                  </a:lnTo>
                  <a:lnTo>
                    <a:pt x="592" y="3002"/>
                  </a:lnTo>
                  <a:lnTo>
                    <a:pt x="609" y="3012"/>
                  </a:lnTo>
                  <a:lnTo>
                    <a:pt x="626" y="3019"/>
                  </a:lnTo>
                  <a:lnTo>
                    <a:pt x="645" y="3025"/>
                  </a:lnTo>
                  <a:lnTo>
                    <a:pt x="662" y="3031"/>
                  </a:lnTo>
                  <a:lnTo>
                    <a:pt x="679" y="3038"/>
                  </a:lnTo>
                  <a:lnTo>
                    <a:pt x="2105" y="3036"/>
                  </a:lnTo>
                  <a:lnTo>
                    <a:pt x="2090" y="2960"/>
                  </a:lnTo>
                  <a:lnTo>
                    <a:pt x="698" y="2955"/>
                  </a:lnTo>
                  <a:lnTo>
                    <a:pt x="698" y="2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135880" y="225360"/>
              <a:ext cx="400680" cy="137160"/>
            </a:xfrm>
            <a:custGeom>
              <a:avLst/>
              <a:gdLst/>
              <a:ahLst/>
              <a:rect l="l" t="t" r="r" b="b"/>
              <a:pathLst>
                <a:path w="2163" h="742">
                  <a:moveTo>
                    <a:pt x="2101" y="143"/>
                  </a:moveTo>
                  <a:lnTo>
                    <a:pt x="2087" y="129"/>
                  </a:lnTo>
                  <a:lnTo>
                    <a:pt x="2076" y="116"/>
                  </a:lnTo>
                  <a:lnTo>
                    <a:pt x="2063" y="107"/>
                  </a:lnTo>
                  <a:lnTo>
                    <a:pt x="2049" y="97"/>
                  </a:lnTo>
                  <a:lnTo>
                    <a:pt x="2034" y="86"/>
                  </a:lnTo>
                  <a:lnTo>
                    <a:pt x="2017" y="78"/>
                  </a:lnTo>
                  <a:lnTo>
                    <a:pt x="2002" y="70"/>
                  </a:lnTo>
                  <a:lnTo>
                    <a:pt x="1985" y="63"/>
                  </a:lnTo>
                  <a:lnTo>
                    <a:pt x="1968" y="55"/>
                  </a:lnTo>
                  <a:lnTo>
                    <a:pt x="1950" y="48"/>
                  </a:lnTo>
                  <a:lnTo>
                    <a:pt x="1930" y="42"/>
                  </a:lnTo>
                  <a:lnTo>
                    <a:pt x="1911" y="36"/>
                  </a:lnTo>
                  <a:lnTo>
                    <a:pt x="1892" y="30"/>
                  </a:lnTo>
                  <a:lnTo>
                    <a:pt x="1873" y="25"/>
                  </a:lnTo>
                  <a:lnTo>
                    <a:pt x="1850" y="21"/>
                  </a:lnTo>
                  <a:lnTo>
                    <a:pt x="1829" y="19"/>
                  </a:lnTo>
                  <a:lnTo>
                    <a:pt x="1806" y="15"/>
                  </a:lnTo>
                  <a:lnTo>
                    <a:pt x="1785" y="10"/>
                  </a:lnTo>
                  <a:lnTo>
                    <a:pt x="1760" y="8"/>
                  </a:lnTo>
                  <a:lnTo>
                    <a:pt x="1738" y="6"/>
                  </a:lnTo>
                  <a:lnTo>
                    <a:pt x="1713" y="2"/>
                  </a:lnTo>
                  <a:lnTo>
                    <a:pt x="1688" y="2"/>
                  </a:lnTo>
                  <a:lnTo>
                    <a:pt x="1663" y="2"/>
                  </a:lnTo>
                  <a:lnTo>
                    <a:pt x="1641" y="2"/>
                  </a:lnTo>
                  <a:lnTo>
                    <a:pt x="1614" y="0"/>
                  </a:lnTo>
                  <a:lnTo>
                    <a:pt x="1587" y="0"/>
                  </a:lnTo>
                  <a:lnTo>
                    <a:pt x="1563" y="0"/>
                  </a:lnTo>
                  <a:lnTo>
                    <a:pt x="1538" y="2"/>
                  </a:lnTo>
                  <a:lnTo>
                    <a:pt x="1509" y="2"/>
                  </a:lnTo>
                  <a:lnTo>
                    <a:pt x="1485" y="4"/>
                  </a:lnTo>
                  <a:lnTo>
                    <a:pt x="1456" y="6"/>
                  </a:lnTo>
                  <a:lnTo>
                    <a:pt x="1431" y="8"/>
                  </a:lnTo>
                  <a:lnTo>
                    <a:pt x="1405" y="10"/>
                  </a:lnTo>
                  <a:lnTo>
                    <a:pt x="1378" y="11"/>
                  </a:lnTo>
                  <a:lnTo>
                    <a:pt x="1350" y="13"/>
                  </a:lnTo>
                  <a:lnTo>
                    <a:pt x="1323" y="17"/>
                  </a:lnTo>
                  <a:lnTo>
                    <a:pt x="1295" y="19"/>
                  </a:lnTo>
                  <a:lnTo>
                    <a:pt x="1270" y="23"/>
                  </a:lnTo>
                  <a:lnTo>
                    <a:pt x="1241" y="29"/>
                  </a:lnTo>
                  <a:lnTo>
                    <a:pt x="1215" y="32"/>
                  </a:lnTo>
                  <a:lnTo>
                    <a:pt x="1186" y="36"/>
                  </a:lnTo>
                  <a:lnTo>
                    <a:pt x="1160" y="40"/>
                  </a:lnTo>
                  <a:lnTo>
                    <a:pt x="1133" y="44"/>
                  </a:lnTo>
                  <a:lnTo>
                    <a:pt x="1106" y="48"/>
                  </a:lnTo>
                  <a:lnTo>
                    <a:pt x="1080" y="51"/>
                  </a:lnTo>
                  <a:lnTo>
                    <a:pt x="1055" y="57"/>
                  </a:lnTo>
                  <a:lnTo>
                    <a:pt x="1028" y="63"/>
                  </a:lnTo>
                  <a:lnTo>
                    <a:pt x="1002" y="68"/>
                  </a:lnTo>
                  <a:lnTo>
                    <a:pt x="975" y="72"/>
                  </a:lnTo>
                  <a:lnTo>
                    <a:pt x="951" y="80"/>
                  </a:lnTo>
                  <a:lnTo>
                    <a:pt x="926" y="84"/>
                  </a:lnTo>
                  <a:lnTo>
                    <a:pt x="901" y="89"/>
                  </a:lnTo>
                  <a:lnTo>
                    <a:pt x="876" y="95"/>
                  </a:lnTo>
                  <a:lnTo>
                    <a:pt x="854" y="103"/>
                  </a:lnTo>
                  <a:lnTo>
                    <a:pt x="831" y="107"/>
                  </a:lnTo>
                  <a:lnTo>
                    <a:pt x="808" y="114"/>
                  </a:lnTo>
                  <a:lnTo>
                    <a:pt x="783" y="120"/>
                  </a:lnTo>
                  <a:lnTo>
                    <a:pt x="762" y="126"/>
                  </a:lnTo>
                  <a:lnTo>
                    <a:pt x="740" y="131"/>
                  </a:lnTo>
                  <a:lnTo>
                    <a:pt x="719" y="139"/>
                  </a:lnTo>
                  <a:lnTo>
                    <a:pt x="698" y="145"/>
                  </a:lnTo>
                  <a:lnTo>
                    <a:pt x="679" y="150"/>
                  </a:lnTo>
                  <a:lnTo>
                    <a:pt x="658" y="156"/>
                  </a:lnTo>
                  <a:lnTo>
                    <a:pt x="641" y="164"/>
                  </a:lnTo>
                  <a:lnTo>
                    <a:pt x="616" y="171"/>
                  </a:lnTo>
                  <a:lnTo>
                    <a:pt x="591" y="179"/>
                  </a:lnTo>
                  <a:lnTo>
                    <a:pt x="568" y="186"/>
                  </a:lnTo>
                  <a:lnTo>
                    <a:pt x="546" y="194"/>
                  </a:lnTo>
                  <a:lnTo>
                    <a:pt x="523" y="202"/>
                  </a:lnTo>
                  <a:lnTo>
                    <a:pt x="502" y="209"/>
                  </a:lnTo>
                  <a:lnTo>
                    <a:pt x="483" y="217"/>
                  </a:lnTo>
                  <a:lnTo>
                    <a:pt x="462" y="224"/>
                  </a:lnTo>
                  <a:lnTo>
                    <a:pt x="443" y="230"/>
                  </a:lnTo>
                  <a:lnTo>
                    <a:pt x="422" y="238"/>
                  </a:lnTo>
                  <a:lnTo>
                    <a:pt x="403" y="243"/>
                  </a:lnTo>
                  <a:lnTo>
                    <a:pt x="386" y="251"/>
                  </a:lnTo>
                  <a:lnTo>
                    <a:pt x="369" y="257"/>
                  </a:lnTo>
                  <a:lnTo>
                    <a:pt x="352" y="262"/>
                  </a:lnTo>
                  <a:lnTo>
                    <a:pt x="335" y="270"/>
                  </a:lnTo>
                  <a:lnTo>
                    <a:pt x="319" y="276"/>
                  </a:lnTo>
                  <a:lnTo>
                    <a:pt x="302" y="281"/>
                  </a:lnTo>
                  <a:lnTo>
                    <a:pt x="287" y="287"/>
                  </a:lnTo>
                  <a:lnTo>
                    <a:pt x="272" y="291"/>
                  </a:lnTo>
                  <a:lnTo>
                    <a:pt x="259" y="299"/>
                  </a:lnTo>
                  <a:lnTo>
                    <a:pt x="243" y="302"/>
                  </a:lnTo>
                  <a:lnTo>
                    <a:pt x="230" y="310"/>
                  </a:lnTo>
                  <a:lnTo>
                    <a:pt x="219" y="314"/>
                  </a:lnTo>
                  <a:lnTo>
                    <a:pt x="207" y="319"/>
                  </a:lnTo>
                  <a:lnTo>
                    <a:pt x="194" y="323"/>
                  </a:lnTo>
                  <a:lnTo>
                    <a:pt x="182" y="329"/>
                  </a:lnTo>
                  <a:lnTo>
                    <a:pt x="171" y="333"/>
                  </a:lnTo>
                  <a:lnTo>
                    <a:pt x="162" y="338"/>
                  </a:lnTo>
                  <a:lnTo>
                    <a:pt x="150" y="342"/>
                  </a:lnTo>
                  <a:lnTo>
                    <a:pt x="141" y="348"/>
                  </a:lnTo>
                  <a:lnTo>
                    <a:pt x="131" y="352"/>
                  </a:lnTo>
                  <a:lnTo>
                    <a:pt x="124" y="357"/>
                  </a:lnTo>
                  <a:lnTo>
                    <a:pt x="112" y="359"/>
                  </a:lnTo>
                  <a:lnTo>
                    <a:pt x="105" y="363"/>
                  </a:lnTo>
                  <a:lnTo>
                    <a:pt x="97" y="367"/>
                  </a:lnTo>
                  <a:lnTo>
                    <a:pt x="89" y="371"/>
                  </a:lnTo>
                  <a:lnTo>
                    <a:pt x="80" y="375"/>
                  </a:lnTo>
                  <a:lnTo>
                    <a:pt x="72" y="378"/>
                  </a:lnTo>
                  <a:lnTo>
                    <a:pt x="67" y="380"/>
                  </a:lnTo>
                  <a:lnTo>
                    <a:pt x="61" y="384"/>
                  </a:lnTo>
                  <a:lnTo>
                    <a:pt x="49" y="390"/>
                  </a:lnTo>
                  <a:lnTo>
                    <a:pt x="38" y="397"/>
                  </a:lnTo>
                  <a:lnTo>
                    <a:pt x="29" y="401"/>
                  </a:lnTo>
                  <a:lnTo>
                    <a:pt x="23" y="407"/>
                  </a:lnTo>
                  <a:lnTo>
                    <a:pt x="15" y="411"/>
                  </a:lnTo>
                  <a:lnTo>
                    <a:pt x="8" y="415"/>
                  </a:lnTo>
                  <a:lnTo>
                    <a:pt x="2" y="418"/>
                  </a:lnTo>
                  <a:lnTo>
                    <a:pt x="0" y="422"/>
                  </a:lnTo>
                  <a:lnTo>
                    <a:pt x="0" y="426"/>
                  </a:lnTo>
                  <a:lnTo>
                    <a:pt x="0" y="430"/>
                  </a:lnTo>
                  <a:lnTo>
                    <a:pt x="53" y="489"/>
                  </a:lnTo>
                  <a:lnTo>
                    <a:pt x="53" y="485"/>
                  </a:lnTo>
                  <a:lnTo>
                    <a:pt x="57" y="481"/>
                  </a:lnTo>
                  <a:lnTo>
                    <a:pt x="59" y="477"/>
                  </a:lnTo>
                  <a:lnTo>
                    <a:pt x="63" y="475"/>
                  </a:lnTo>
                  <a:lnTo>
                    <a:pt x="67" y="472"/>
                  </a:lnTo>
                  <a:lnTo>
                    <a:pt x="76" y="468"/>
                  </a:lnTo>
                  <a:lnTo>
                    <a:pt x="82" y="464"/>
                  </a:lnTo>
                  <a:lnTo>
                    <a:pt x="89" y="458"/>
                  </a:lnTo>
                  <a:lnTo>
                    <a:pt x="99" y="451"/>
                  </a:lnTo>
                  <a:lnTo>
                    <a:pt x="110" y="445"/>
                  </a:lnTo>
                  <a:lnTo>
                    <a:pt x="116" y="441"/>
                  </a:lnTo>
                  <a:lnTo>
                    <a:pt x="122" y="437"/>
                  </a:lnTo>
                  <a:lnTo>
                    <a:pt x="127" y="434"/>
                  </a:lnTo>
                  <a:lnTo>
                    <a:pt x="135" y="432"/>
                  </a:lnTo>
                  <a:lnTo>
                    <a:pt x="141" y="428"/>
                  </a:lnTo>
                  <a:lnTo>
                    <a:pt x="150" y="424"/>
                  </a:lnTo>
                  <a:lnTo>
                    <a:pt x="158" y="420"/>
                  </a:lnTo>
                  <a:lnTo>
                    <a:pt x="167" y="416"/>
                  </a:lnTo>
                  <a:lnTo>
                    <a:pt x="175" y="411"/>
                  </a:lnTo>
                  <a:lnTo>
                    <a:pt x="182" y="407"/>
                  </a:lnTo>
                  <a:lnTo>
                    <a:pt x="192" y="401"/>
                  </a:lnTo>
                  <a:lnTo>
                    <a:pt x="202" y="397"/>
                  </a:lnTo>
                  <a:lnTo>
                    <a:pt x="211" y="394"/>
                  </a:lnTo>
                  <a:lnTo>
                    <a:pt x="221" y="388"/>
                  </a:lnTo>
                  <a:lnTo>
                    <a:pt x="234" y="382"/>
                  </a:lnTo>
                  <a:lnTo>
                    <a:pt x="245" y="378"/>
                  </a:lnTo>
                  <a:lnTo>
                    <a:pt x="255" y="371"/>
                  </a:lnTo>
                  <a:lnTo>
                    <a:pt x="268" y="367"/>
                  </a:lnTo>
                  <a:lnTo>
                    <a:pt x="279" y="361"/>
                  </a:lnTo>
                  <a:lnTo>
                    <a:pt x="295" y="357"/>
                  </a:lnTo>
                  <a:lnTo>
                    <a:pt x="306" y="350"/>
                  </a:lnTo>
                  <a:lnTo>
                    <a:pt x="321" y="344"/>
                  </a:lnTo>
                  <a:lnTo>
                    <a:pt x="335" y="340"/>
                  </a:lnTo>
                  <a:lnTo>
                    <a:pt x="352" y="335"/>
                  </a:lnTo>
                  <a:lnTo>
                    <a:pt x="365" y="327"/>
                  </a:lnTo>
                  <a:lnTo>
                    <a:pt x="382" y="321"/>
                  </a:lnTo>
                  <a:lnTo>
                    <a:pt x="397" y="314"/>
                  </a:lnTo>
                  <a:lnTo>
                    <a:pt x="414" y="310"/>
                  </a:lnTo>
                  <a:lnTo>
                    <a:pt x="430" y="300"/>
                  </a:lnTo>
                  <a:lnTo>
                    <a:pt x="449" y="297"/>
                  </a:lnTo>
                  <a:lnTo>
                    <a:pt x="468" y="287"/>
                  </a:lnTo>
                  <a:lnTo>
                    <a:pt x="487" y="283"/>
                  </a:lnTo>
                  <a:lnTo>
                    <a:pt x="506" y="274"/>
                  </a:lnTo>
                  <a:lnTo>
                    <a:pt x="527" y="268"/>
                  </a:lnTo>
                  <a:lnTo>
                    <a:pt x="546" y="261"/>
                  </a:lnTo>
                  <a:lnTo>
                    <a:pt x="567" y="253"/>
                  </a:lnTo>
                  <a:lnTo>
                    <a:pt x="587" y="245"/>
                  </a:lnTo>
                  <a:lnTo>
                    <a:pt x="610" y="240"/>
                  </a:lnTo>
                  <a:lnTo>
                    <a:pt x="635" y="232"/>
                  </a:lnTo>
                  <a:lnTo>
                    <a:pt x="658" y="226"/>
                  </a:lnTo>
                  <a:lnTo>
                    <a:pt x="679" y="217"/>
                  </a:lnTo>
                  <a:lnTo>
                    <a:pt x="701" y="211"/>
                  </a:lnTo>
                  <a:lnTo>
                    <a:pt x="722" y="203"/>
                  </a:lnTo>
                  <a:lnTo>
                    <a:pt x="743" y="198"/>
                  </a:lnTo>
                  <a:lnTo>
                    <a:pt x="766" y="190"/>
                  </a:lnTo>
                  <a:lnTo>
                    <a:pt x="791" y="186"/>
                  </a:lnTo>
                  <a:lnTo>
                    <a:pt x="814" y="179"/>
                  </a:lnTo>
                  <a:lnTo>
                    <a:pt x="838" y="173"/>
                  </a:lnTo>
                  <a:lnTo>
                    <a:pt x="863" y="167"/>
                  </a:lnTo>
                  <a:lnTo>
                    <a:pt x="886" y="162"/>
                  </a:lnTo>
                  <a:lnTo>
                    <a:pt x="911" y="156"/>
                  </a:lnTo>
                  <a:lnTo>
                    <a:pt x="937" y="150"/>
                  </a:lnTo>
                  <a:lnTo>
                    <a:pt x="960" y="145"/>
                  </a:lnTo>
                  <a:lnTo>
                    <a:pt x="987" y="139"/>
                  </a:lnTo>
                  <a:lnTo>
                    <a:pt x="1011" y="135"/>
                  </a:lnTo>
                  <a:lnTo>
                    <a:pt x="1038" y="131"/>
                  </a:lnTo>
                  <a:lnTo>
                    <a:pt x="1063" y="126"/>
                  </a:lnTo>
                  <a:lnTo>
                    <a:pt x="1089" y="120"/>
                  </a:lnTo>
                  <a:lnTo>
                    <a:pt x="1114" y="116"/>
                  </a:lnTo>
                  <a:lnTo>
                    <a:pt x="1141" y="112"/>
                  </a:lnTo>
                  <a:lnTo>
                    <a:pt x="1165" y="108"/>
                  </a:lnTo>
                  <a:lnTo>
                    <a:pt x="1192" y="105"/>
                  </a:lnTo>
                  <a:lnTo>
                    <a:pt x="1219" y="101"/>
                  </a:lnTo>
                  <a:lnTo>
                    <a:pt x="1245" y="99"/>
                  </a:lnTo>
                  <a:lnTo>
                    <a:pt x="1270" y="93"/>
                  </a:lnTo>
                  <a:lnTo>
                    <a:pt x="1295" y="91"/>
                  </a:lnTo>
                  <a:lnTo>
                    <a:pt x="1321" y="89"/>
                  </a:lnTo>
                  <a:lnTo>
                    <a:pt x="1348" y="87"/>
                  </a:lnTo>
                  <a:lnTo>
                    <a:pt x="1373" y="84"/>
                  </a:lnTo>
                  <a:lnTo>
                    <a:pt x="1397" y="82"/>
                  </a:lnTo>
                  <a:lnTo>
                    <a:pt x="1422" y="80"/>
                  </a:lnTo>
                  <a:lnTo>
                    <a:pt x="1449" y="80"/>
                  </a:lnTo>
                  <a:lnTo>
                    <a:pt x="1473" y="78"/>
                  </a:lnTo>
                  <a:lnTo>
                    <a:pt x="1496" y="76"/>
                  </a:lnTo>
                  <a:lnTo>
                    <a:pt x="1521" y="76"/>
                  </a:lnTo>
                  <a:lnTo>
                    <a:pt x="1546" y="76"/>
                  </a:lnTo>
                  <a:lnTo>
                    <a:pt x="1568" y="76"/>
                  </a:lnTo>
                  <a:lnTo>
                    <a:pt x="1591" y="76"/>
                  </a:lnTo>
                  <a:lnTo>
                    <a:pt x="1616" y="76"/>
                  </a:lnTo>
                  <a:lnTo>
                    <a:pt x="1641" y="78"/>
                  </a:lnTo>
                  <a:lnTo>
                    <a:pt x="1662" y="78"/>
                  </a:lnTo>
                  <a:lnTo>
                    <a:pt x="1684" y="80"/>
                  </a:lnTo>
                  <a:lnTo>
                    <a:pt x="1705" y="80"/>
                  </a:lnTo>
                  <a:lnTo>
                    <a:pt x="1728" y="86"/>
                  </a:lnTo>
                  <a:lnTo>
                    <a:pt x="1747" y="86"/>
                  </a:lnTo>
                  <a:lnTo>
                    <a:pt x="1768" y="89"/>
                  </a:lnTo>
                  <a:lnTo>
                    <a:pt x="1789" y="93"/>
                  </a:lnTo>
                  <a:lnTo>
                    <a:pt x="1810" y="97"/>
                  </a:lnTo>
                  <a:lnTo>
                    <a:pt x="1827" y="99"/>
                  </a:lnTo>
                  <a:lnTo>
                    <a:pt x="1846" y="103"/>
                  </a:lnTo>
                  <a:lnTo>
                    <a:pt x="1863" y="107"/>
                  </a:lnTo>
                  <a:lnTo>
                    <a:pt x="1880" y="112"/>
                  </a:lnTo>
                  <a:lnTo>
                    <a:pt x="1897" y="116"/>
                  </a:lnTo>
                  <a:lnTo>
                    <a:pt x="1912" y="122"/>
                  </a:lnTo>
                  <a:lnTo>
                    <a:pt x="1928" y="127"/>
                  </a:lnTo>
                  <a:lnTo>
                    <a:pt x="1945" y="135"/>
                  </a:lnTo>
                  <a:lnTo>
                    <a:pt x="1958" y="141"/>
                  </a:lnTo>
                  <a:lnTo>
                    <a:pt x="1971" y="146"/>
                  </a:lnTo>
                  <a:lnTo>
                    <a:pt x="1983" y="156"/>
                  </a:lnTo>
                  <a:lnTo>
                    <a:pt x="1996" y="164"/>
                  </a:lnTo>
                  <a:lnTo>
                    <a:pt x="2007" y="171"/>
                  </a:lnTo>
                  <a:lnTo>
                    <a:pt x="2019" y="179"/>
                  </a:lnTo>
                  <a:lnTo>
                    <a:pt x="2028" y="188"/>
                  </a:lnTo>
                  <a:lnTo>
                    <a:pt x="2038" y="200"/>
                  </a:lnTo>
                  <a:lnTo>
                    <a:pt x="2042" y="203"/>
                  </a:lnTo>
                  <a:lnTo>
                    <a:pt x="2047" y="211"/>
                  </a:lnTo>
                  <a:lnTo>
                    <a:pt x="2051" y="217"/>
                  </a:lnTo>
                  <a:lnTo>
                    <a:pt x="2057" y="224"/>
                  </a:lnTo>
                  <a:lnTo>
                    <a:pt x="2059" y="230"/>
                  </a:lnTo>
                  <a:lnTo>
                    <a:pt x="2065" y="238"/>
                  </a:lnTo>
                  <a:lnTo>
                    <a:pt x="2066" y="243"/>
                  </a:lnTo>
                  <a:lnTo>
                    <a:pt x="2070" y="253"/>
                  </a:lnTo>
                  <a:lnTo>
                    <a:pt x="2072" y="259"/>
                  </a:lnTo>
                  <a:lnTo>
                    <a:pt x="2072" y="266"/>
                  </a:lnTo>
                  <a:lnTo>
                    <a:pt x="2074" y="274"/>
                  </a:lnTo>
                  <a:lnTo>
                    <a:pt x="2078" y="281"/>
                  </a:lnTo>
                  <a:lnTo>
                    <a:pt x="2078" y="289"/>
                  </a:lnTo>
                  <a:lnTo>
                    <a:pt x="2080" y="297"/>
                  </a:lnTo>
                  <a:lnTo>
                    <a:pt x="2080" y="304"/>
                  </a:lnTo>
                  <a:lnTo>
                    <a:pt x="2082" y="314"/>
                  </a:lnTo>
                  <a:lnTo>
                    <a:pt x="2080" y="319"/>
                  </a:lnTo>
                  <a:lnTo>
                    <a:pt x="2080" y="327"/>
                  </a:lnTo>
                  <a:lnTo>
                    <a:pt x="2078" y="335"/>
                  </a:lnTo>
                  <a:lnTo>
                    <a:pt x="2078" y="344"/>
                  </a:lnTo>
                  <a:lnTo>
                    <a:pt x="2074" y="352"/>
                  </a:lnTo>
                  <a:lnTo>
                    <a:pt x="2072" y="359"/>
                  </a:lnTo>
                  <a:lnTo>
                    <a:pt x="2072" y="367"/>
                  </a:lnTo>
                  <a:lnTo>
                    <a:pt x="2070" y="375"/>
                  </a:lnTo>
                  <a:lnTo>
                    <a:pt x="2068" y="382"/>
                  </a:lnTo>
                  <a:lnTo>
                    <a:pt x="2065" y="390"/>
                  </a:lnTo>
                  <a:lnTo>
                    <a:pt x="2063" y="397"/>
                  </a:lnTo>
                  <a:lnTo>
                    <a:pt x="2059" y="405"/>
                  </a:lnTo>
                  <a:lnTo>
                    <a:pt x="2055" y="415"/>
                  </a:lnTo>
                  <a:lnTo>
                    <a:pt x="2051" y="422"/>
                  </a:lnTo>
                  <a:lnTo>
                    <a:pt x="2047" y="430"/>
                  </a:lnTo>
                  <a:lnTo>
                    <a:pt x="2046" y="437"/>
                  </a:lnTo>
                  <a:lnTo>
                    <a:pt x="2040" y="445"/>
                  </a:lnTo>
                  <a:lnTo>
                    <a:pt x="2034" y="451"/>
                  </a:lnTo>
                  <a:lnTo>
                    <a:pt x="2028" y="458"/>
                  </a:lnTo>
                  <a:lnTo>
                    <a:pt x="2025" y="466"/>
                  </a:lnTo>
                  <a:lnTo>
                    <a:pt x="2021" y="472"/>
                  </a:lnTo>
                  <a:lnTo>
                    <a:pt x="2015" y="481"/>
                  </a:lnTo>
                  <a:lnTo>
                    <a:pt x="2009" y="487"/>
                  </a:lnTo>
                  <a:lnTo>
                    <a:pt x="2004" y="494"/>
                  </a:lnTo>
                  <a:lnTo>
                    <a:pt x="1998" y="502"/>
                  </a:lnTo>
                  <a:lnTo>
                    <a:pt x="1992" y="508"/>
                  </a:lnTo>
                  <a:lnTo>
                    <a:pt x="1985" y="515"/>
                  </a:lnTo>
                  <a:lnTo>
                    <a:pt x="1981" y="521"/>
                  </a:lnTo>
                  <a:lnTo>
                    <a:pt x="1973" y="529"/>
                  </a:lnTo>
                  <a:lnTo>
                    <a:pt x="1968" y="534"/>
                  </a:lnTo>
                  <a:lnTo>
                    <a:pt x="1960" y="542"/>
                  </a:lnTo>
                  <a:lnTo>
                    <a:pt x="1954" y="548"/>
                  </a:lnTo>
                  <a:lnTo>
                    <a:pt x="1947" y="553"/>
                  </a:lnTo>
                  <a:lnTo>
                    <a:pt x="1941" y="559"/>
                  </a:lnTo>
                  <a:lnTo>
                    <a:pt x="1933" y="565"/>
                  </a:lnTo>
                  <a:lnTo>
                    <a:pt x="1926" y="570"/>
                  </a:lnTo>
                  <a:lnTo>
                    <a:pt x="1918" y="574"/>
                  </a:lnTo>
                  <a:lnTo>
                    <a:pt x="1911" y="580"/>
                  </a:lnTo>
                  <a:lnTo>
                    <a:pt x="1905" y="586"/>
                  </a:lnTo>
                  <a:lnTo>
                    <a:pt x="1897" y="591"/>
                  </a:lnTo>
                  <a:lnTo>
                    <a:pt x="1890" y="595"/>
                  </a:lnTo>
                  <a:lnTo>
                    <a:pt x="1884" y="599"/>
                  </a:lnTo>
                  <a:lnTo>
                    <a:pt x="1876" y="603"/>
                  </a:lnTo>
                  <a:lnTo>
                    <a:pt x="1869" y="608"/>
                  </a:lnTo>
                  <a:lnTo>
                    <a:pt x="1861" y="610"/>
                  </a:lnTo>
                  <a:lnTo>
                    <a:pt x="1854" y="614"/>
                  </a:lnTo>
                  <a:lnTo>
                    <a:pt x="1848" y="618"/>
                  </a:lnTo>
                  <a:lnTo>
                    <a:pt x="1842" y="622"/>
                  </a:lnTo>
                  <a:lnTo>
                    <a:pt x="1821" y="627"/>
                  </a:lnTo>
                  <a:lnTo>
                    <a:pt x="1802" y="635"/>
                  </a:lnTo>
                  <a:lnTo>
                    <a:pt x="1783" y="639"/>
                  </a:lnTo>
                  <a:lnTo>
                    <a:pt x="1762" y="643"/>
                  </a:lnTo>
                  <a:lnTo>
                    <a:pt x="1741" y="648"/>
                  </a:lnTo>
                  <a:lnTo>
                    <a:pt x="1722" y="652"/>
                  </a:lnTo>
                  <a:lnTo>
                    <a:pt x="1701" y="654"/>
                  </a:lnTo>
                  <a:lnTo>
                    <a:pt x="1681" y="656"/>
                  </a:lnTo>
                  <a:lnTo>
                    <a:pt x="1658" y="658"/>
                  </a:lnTo>
                  <a:lnTo>
                    <a:pt x="1637" y="660"/>
                  </a:lnTo>
                  <a:lnTo>
                    <a:pt x="1614" y="662"/>
                  </a:lnTo>
                  <a:lnTo>
                    <a:pt x="1591" y="662"/>
                  </a:lnTo>
                  <a:lnTo>
                    <a:pt x="1568" y="662"/>
                  </a:lnTo>
                  <a:lnTo>
                    <a:pt x="1547" y="662"/>
                  </a:lnTo>
                  <a:lnTo>
                    <a:pt x="1523" y="660"/>
                  </a:lnTo>
                  <a:lnTo>
                    <a:pt x="1502" y="660"/>
                  </a:lnTo>
                  <a:lnTo>
                    <a:pt x="1479" y="656"/>
                  </a:lnTo>
                  <a:lnTo>
                    <a:pt x="1456" y="654"/>
                  </a:lnTo>
                  <a:lnTo>
                    <a:pt x="1431" y="652"/>
                  </a:lnTo>
                  <a:lnTo>
                    <a:pt x="1409" y="648"/>
                  </a:lnTo>
                  <a:lnTo>
                    <a:pt x="1386" y="645"/>
                  </a:lnTo>
                  <a:lnTo>
                    <a:pt x="1363" y="641"/>
                  </a:lnTo>
                  <a:lnTo>
                    <a:pt x="1338" y="637"/>
                  </a:lnTo>
                  <a:lnTo>
                    <a:pt x="1317" y="635"/>
                  </a:lnTo>
                  <a:lnTo>
                    <a:pt x="1293" y="629"/>
                  </a:lnTo>
                  <a:lnTo>
                    <a:pt x="1270" y="626"/>
                  </a:lnTo>
                  <a:lnTo>
                    <a:pt x="1247" y="620"/>
                  </a:lnTo>
                  <a:lnTo>
                    <a:pt x="1224" y="616"/>
                  </a:lnTo>
                  <a:lnTo>
                    <a:pt x="1203" y="608"/>
                  </a:lnTo>
                  <a:lnTo>
                    <a:pt x="1181" y="605"/>
                  </a:lnTo>
                  <a:lnTo>
                    <a:pt x="1160" y="599"/>
                  </a:lnTo>
                  <a:lnTo>
                    <a:pt x="1139" y="595"/>
                  </a:lnTo>
                  <a:lnTo>
                    <a:pt x="1116" y="588"/>
                  </a:lnTo>
                  <a:lnTo>
                    <a:pt x="1095" y="582"/>
                  </a:lnTo>
                  <a:lnTo>
                    <a:pt x="1076" y="574"/>
                  </a:lnTo>
                  <a:lnTo>
                    <a:pt x="1055" y="569"/>
                  </a:lnTo>
                  <a:lnTo>
                    <a:pt x="1036" y="563"/>
                  </a:lnTo>
                  <a:lnTo>
                    <a:pt x="1015" y="555"/>
                  </a:lnTo>
                  <a:lnTo>
                    <a:pt x="996" y="550"/>
                  </a:lnTo>
                  <a:lnTo>
                    <a:pt x="979" y="544"/>
                  </a:lnTo>
                  <a:lnTo>
                    <a:pt x="958" y="538"/>
                  </a:lnTo>
                  <a:lnTo>
                    <a:pt x="941" y="532"/>
                  </a:lnTo>
                  <a:lnTo>
                    <a:pt x="924" y="525"/>
                  </a:lnTo>
                  <a:lnTo>
                    <a:pt x="909" y="521"/>
                  </a:lnTo>
                  <a:lnTo>
                    <a:pt x="893" y="513"/>
                  </a:lnTo>
                  <a:lnTo>
                    <a:pt x="876" y="508"/>
                  </a:lnTo>
                  <a:lnTo>
                    <a:pt x="863" y="502"/>
                  </a:lnTo>
                  <a:lnTo>
                    <a:pt x="850" y="498"/>
                  </a:lnTo>
                  <a:lnTo>
                    <a:pt x="835" y="492"/>
                  </a:lnTo>
                  <a:lnTo>
                    <a:pt x="821" y="487"/>
                  </a:lnTo>
                  <a:lnTo>
                    <a:pt x="810" y="483"/>
                  </a:lnTo>
                  <a:lnTo>
                    <a:pt x="798" y="479"/>
                  </a:lnTo>
                  <a:lnTo>
                    <a:pt x="787" y="473"/>
                  </a:lnTo>
                  <a:lnTo>
                    <a:pt x="778" y="470"/>
                  </a:lnTo>
                  <a:lnTo>
                    <a:pt x="768" y="466"/>
                  </a:lnTo>
                  <a:lnTo>
                    <a:pt x="760" y="464"/>
                  </a:lnTo>
                  <a:lnTo>
                    <a:pt x="753" y="458"/>
                  </a:lnTo>
                  <a:lnTo>
                    <a:pt x="745" y="456"/>
                  </a:lnTo>
                  <a:lnTo>
                    <a:pt x="740" y="454"/>
                  </a:lnTo>
                  <a:lnTo>
                    <a:pt x="736" y="453"/>
                  </a:lnTo>
                  <a:lnTo>
                    <a:pt x="730" y="451"/>
                  </a:lnTo>
                  <a:lnTo>
                    <a:pt x="728" y="451"/>
                  </a:lnTo>
                  <a:lnTo>
                    <a:pt x="154" y="475"/>
                  </a:lnTo>
                  <a:lnTo>
                    <a:pt x="163" y="531"/>
                  </a:lnTo>
                  <a:lnTo>
                    <a:pt x="701" y="531"/>
                  </a:lnTo>
                  <a:lnTo>
                    <a:pt x="709" y="534"/>
                  </a:lnTo>
                  <a:lnTo>
                    <a:pt x="722" y="538"/>
                  </a:lnTo>
                  <a:lnTo>
                    <a:pt x="730" y="542"/>
                  </a:lnTo>
                  <a:lnTo>
                    <a:pt x="738" y="546"/>
                  </a:lnTo>
                  <a:lnTo>
                    <a:pt x="747" y="550"/>
                  </a:lnTo>
                  <a:lnTo>
                    <a:pt x="757" y="555"/>
                  </a:lnTo>
                  <a:lnTo>
                    <a:pt x="766" y="559"/>
                  </a:lnTo>
                  <a:lnTo>
                    <a:pt x="778" y="563"/>
                  </a:lnTo>
                  <a:lnTo>
                    <a:pt x="789" y="567"/>
                  </a:lnTo>
                  <a:lnTo>
                    <a:pt x="802" y="572"/>
                  </a:lnTo>
                  <a:lnTo>
                    <a:pt x="814" y="576"/>
                  </a:lnTo>
                  <a:lnTo>
                    <a:pt x="829" y="582"/>
                  </a:lnTo>
                  <a:lnTo>
                    <a:pt x="844" y="588"/>
                  </a:lnTo>
                  <a:lnTo>
                    <a:pt x="859" y="595"/>
                  </a:lnTo>
                  <a:lnTo>
                    <a:pt x="874" y="599"/>
                  </a:lnTo>
                  <a:lnTo>
                    <a:pt x="890" y="605"/>
                  </a:lnTo>
                  <a:lnTo>
                    <a:pt x="907" y="610"/>
                  </a:lnTo>
                  <a:lnTo>
                    <a:pt x="924" y="616"/>
                  </a:lnTo>
                  <a:lnTo>
                    <a:pt x="939" y="622"/>
                  </a:lnTo>
                  <a:lnTo>
                    <a:pt x="958" y="627"/>
                  </a:lnTo>
                  <a:lnTo>
                    <a:pt x="975" y="633"/>
                  </a:lnTo>
                  <a:lnTo>
                    <a:pt x="994" y="639"/>
                  </a:lnTo>
                  <a:lnTo>
                    <a:pt x="1013" y="645"/>
                  </a:lnTo>
                  <a:lnTo>
                    <a:pt x="1032" y="650"/>
                  </a:lnTo>
                  <a:lnTo>
                    <a:pt x="1051" y="656"/>
                  </a:lnTo>
                  <a:lnTo>
                    <a:pt x="1072" y="662"/>
                  </a:lnTo>
                  <a:lnTo>
                    <a:pt x="1093" y="667"/>
                  </a:lnTo>
                  <a:lnTo>
                    <a:pt x="1112" y="675"/>
                  </a:lnTo>
                  <a:lnTo>
                    <a:pt x="1133" y="679"/>
                  </a:lnTo>
                  <a:lnTo>
                    <a:pt x="1156" y="686"/>
                  </a:lnTo>
                  <a:lnTo>
                    <a:pt x="1177" y="690"/>
                  </a:lnTo>
                  <a:lnTo>
                    <a:pt x="1200" y="696"/>
                  </a:lnTo>
                  <a:lnTo>
                    <a:pt x="1220" y="700"/>
                  </a:lnTo>
                  <a:lnTo>
                    <a:pt x="1243" y="705"/>
                  </a:lnTo>
                  <a:lnTo>
                    <a:pt x="1264" y="709"/>
                  </a:lnTo>
                  <a:lnTo>
                    <a:pt x="1287" y="713"/>
                  </a:lnTo>
                  <a:lnTo>
                    <a:pt x="1308" y="717"/>
                  </a:lnTo>
                  <a:lnTo>
                    <a:pt x="1333" y="723"/>
                  </a:lnTo>
                  <a:lnTo>
                    <a:pt x="1355" y="724"/>
                  </a:lnTo>
                  <a:lnTo>
                    <a:pt x="1378" y="726"/>
                  </a:lnTo>
                  <a:lnTo>
                    <a:pt x="1399" y="730"/>
                  </a:lnTo>
                  <a:lnTo>
                    <a:pt x="1424" y="734"/>
                  </a:lnTo>
                  <a:lnTo>
                    <a:pt x="1447" y="736"/>
                  </a:lnTo>
                  <a:lnTo>
                    <a:pt x="1469" y="738"/>
                  </a:lnTo>
                  <a:lnTo>
                    <a:pt x="1494" y="740"/>
                  </a:lnTo>
                  <a:lnTo>
                    <a:pt x="1517" y="742"/>
                  </a:lnTo>
                  <a:lnTo>
                    <a:pt x="1540" y="742"/>
                  </a:lnTo>
                  <a:lnTo>
                    <a:pt x="1563" y="742"/>
                  </a:lnTo>
                  <a:lnTo>
                    <a:pt x="1585" y="742"/>
                  </a:lnTo>
                  <a:lnTo>
                    <a:pt x="1610" y="742"/>
                  </a:lnTo>
                  <a:lnTo>
                    <a:pt x="1631" y="740"/>
                  </a:lnTo>
                  <a:lnTo>
                    <a:pt x="1654" y="738"/>
                  </a:lnTo>
                  <a:lnTo>
                    <a:pt x="1677" y="736"/>
                  </a:lnTo>
                  <a:lnTo>
                    <a:pt x="1701" y="736"/>
                  </a:lnTo>
                  <a:lnTo>
                    <a:pt x="1722" y="730"/>
                  </a:lnTo>
                  <a:lnTo>
                    <a:pt x="1745" y="726"/>
                  </a:lnTo>
                  <a:lnTo>
                    <a:pt x="1766" y="723"/>
                  </a:lnTo>
                  <a:lnTo>
                    <a:pt x="1789" y="719"/>
                  </a:lnTo>
                  <a:lnTo>
                    <a:pt x="1810" y="713"/>
                  </a:lnTo>
                  <a:lnTo>
                    <a:pt x="1831" y="707"/>
                  </a:lnTo>
                  <a:lnTo>
                    <a:pt x="1852" y="700"/>
                  </a:lnTo>
                  <a:lnTo>
                    <a:pt x="1874" y="696"/>
                  </a:lnTo>
                  <a:lnTo>
                    <a:pt x="1882" y="690"/>
                  </a:lnTo>
                  <a:lnTo>
                    <a:pt x="1893" y="686"/>
                  </a:lnTo>
                  <a:lnTo>
                    <a:pt x="1901" y="681"/>
                  </a:lnTo>
                  <a:lnTo>
                    <a:pt x="1911" y="677"/>
                  </a:lnTo>
                  <a:lnTo>
                    <a:pt x="1920" y="671"/>
                  </a:lnTo>
                  <a:lnTo>
                    <a:pt x="1930" y="666"/>
                  </a:lnTo>
                  <a:lnTo>
                    <a:pt x="1939" y="662"/>
                  </a:lnTo>
                  <a:lnTo>
                    <a:pt x="1950" y="656"/>
                  </a:lnTo>
                  <a:lnTo>
                    <a:pt x="1958" y="648"/>
                  </a:lnTo>
                  <a:lnTo>
                    <a:pt x="1968" y="643"/>
                  </a:lnTo>
                  <a:lnTo>
                    <a:pt x="1975" y="635"/>
                  </a:lnTo>
                  <a:lnTo>
                    <a:pt x="1985" y="629"/>
                  </a:lnTo>
                  <a:lnTo>
                    <a:pt x="1992" y="622"/>
                  </a:lnTo>
                  <a:lnTo>
                    <a:pt x="2002" y="614"/>
                  </a:lnTo>
                  <a:lnTo>
                    <a:pt x="2011" y="608"/>
                  </a:lnTo>
                  <a:lnTo>
                    <a:pt x="2021" y="601"/>
                  </a:lnTo>
                  <a:lnTo>
                    <a:pt x="2026" y="591"/>
                  </a:lnTo>
                  <a:lnTo>
                    <a:pt x="2034" y="584"/>
                  </a:lnTo>
                  <a:lnTo>
                    <a:pt x="2042" y="576"/>
                  </a:lnTo>
                  <a:lnTo>
                    <a:pt x="2051" y="569"/>
                  </a:lnTo>
                  <a:lnTo>
                    <a:pt x="2057" y="559"/>
                  </a:lnTo>
                  <a:lnTo>
                    <a:pt x="2065" y="551"/>
                  </a:lnTo>
                  <a:lnTo>
                    <a:pt x="2072" y="542"/>
                  </a:lnTo>
                  <a:lnTo>
                    <a:pt x="2080" y="534"/>
                  </a:lnTo>
                  <a:lnTo>
                    <a:pt x="2085" y="523"/>
                  </a:lnTo>
                  <a:lnTo>
                    <a:pt x="2091" y="515"/>
                  </a:lnTo>
                  <a:lnTo>
                    <a:pt x="2097" y="504"/>
                  </a:lnTo>
                  <a:lnTo>
                    <a:pt x="2103" y="496"/>
                  </a:lnTo>
                  <a:lnTo>
                    <a:pt x="2108" y="485"/>
                  </a:lnTo>
                  <a:lnTo>
                    <a:pt x="2114" y="475"/>
                  </a:lnTo>
                  <a:lnTo>
                    <a:pt x="2120" y="468"/>
                  </a:lnTo>
                  <a:lnTo>
                    <a:pt x="2125" y="458"/>
                  </a:lnTo>
                  <a:lnTo>
                    <a:pt x="2129" y="447"/>
                  </a:lnTo>
                  <a:lnTo>
                    <a:pt x="2133" y="437"/>
                  </a:lnTo>
                  <a:lnTo>
                    <a:pt x="2139" y="426"/>
                  </a:lnTo>
                  <a:lnTo>
                    <a:pt x="2142" y="416"/>
                  </a:lnTo>
                  <a:lnTo>
                    <a:pt x="2144" y="405"/>
                  </a:lnTo>
                  <a:lnTo>
                    <a:pt x="2148" y="396"/>
                  </a:lnTo>
                  <a:lnTo>
                    <a:pt x="2152" y="384"/>
                  </a:lnTo>
                  <a:lnTo>
                    <a:pt x="2154" y="375"/>
                  </a:lnTo>
                  <a:lnTo>
                    <a:pt x="2156" y="363"/>
                  </a:lnTo>
                  <a:lnTo>
                    <a:pt x="2156" y="354"/>
                  </a:lnTo>
                  <a:lnTo>
                    <a:pt x="2158" y="342"/>
                  </a:lnTo>
                  <a:lnTo>
                    <a:pt x="2160" y="333"/>
                  </a:lnTo>
                  <a:lnTo>
                    <a:pt x="2160" y="323"/>
                  </a:lnTo>
                  <a:lnTo>
                    <a:pt x="2161" y="314"/>
                  </a:lnTo>
                  <a:lnTo>
                    <a:pt x="2161" y="302"/>
                  </a:lnTo>
                  <a:lnTo>
                    <a:pt x="2163" y="293"/>
                  </a:lnTo>
                  <a:lnTo>
                    <a:pt x="2161" y="281"/>
                  </a:lnTo>
                  <a:lnTo>
                    <a:pt x="2160" y="272"/>
                  </a:lnTo>
                  <a:lnTo>
                    <a:pt x="2158" y="261"/>
                  </a:lnTo>
                  <a:lnTo>
                    <a:pt x="2156" y="253"/>
                  </a:lnTo>
                  <a:lnTo>
                    <a:pt x="2154" y="242"/>
                  </a:lnTo>
                  <a:lnTo>
                    <a:pt x="2152" y="232"/>
                  </a:lnTo>
                  <a:lnTo>
                    <a:pt x="2148" y="221"/>
                  </a:lnTo>
                  <a:lnTo>
                    <a:pt x="2146" y="213"/>
                  </a:lnTo>
                  <a:lnTo>
                    <a:pt x="2141" y="203"/>
                  </a:lnTo>
                  <a:lnTo>
                    <a:pt x="2137" y="194"/>
                  </a:lnTo>
                  <a:lnTo>
                    <a:pt x="2131" y="184"/>
                  </a:lnTo>
                  <a:lnTo>
                    <a:pt x="2125" y="177"/>
                  </a:lnTo>
                  <a:lnTo>
                    <a:pt x="2120" y="167"/>
                  </a:lnTo>
                  <a:lnTo>
                    <a:pt x="2114" y="158"/>
                  </a:lnTo>
                  <a:lnTo>
                    <a:pt x="2108" y="150"/>
                  </a:lnTo>
                  <a:lnTo>
                    <a:pt x="2101" y="143"/>
                  </a:lnTo>
                  <a:lnTo>
                    <a:pt x="210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156760" y="473040"/>
              <a:ext cx="289800" cy="102240"/>
            </a:xfrm>
            <a:custGeom>
              <a:avLst/>
              <a:gdLst/>
              <a:ahLst/>
              <a:rect l="l" t="t" r="r" b="b"/>
              <a:pathLst>
                <a:path w="1564" h="551">
                  <a:moveTo>
                    <a:pt x="783" y="551"/>
                  </a:moveTo>
                  <a:lnTo>
                    <a:pt x="802" y="549"/>
                  </a:lnTo>
                  <a:lnTo>
                    <a:pt x="821" y="549"/>
                  </a:lnTo>
                  <a:lnTo>
                    <a:pt x="842" y="549"/>
                  </a:lnTo>
                  <a:lnTo>
                    <a:pt x="861" y="549"/>
                  </a:lnTo>
                  <a:lnTo>
                    <a:pt x="880" y="547"/>
                  </a:lnTo>
                  <a:lnTo>
                    <a:pt x="899" y="545"/>
                  </a:lnTo>
                  <a:lnTo>
                    <a:pt x="920" y="543"/>
                  </a:lnTo>
                  <a:lnTo>
                    <a:pt x="939" y="543"/>
                  </a:lnTo>
                  <a:lnTo>
                    <a:pt x="958" y="542"/>
                  </a:lnTo>
                  <a:lnTo>
                    <a:pt x="977" y="540"/>
                  </a:lnTo>
                  <a:lnTo>
                    <a:pt x="996" y="540"/>
                  </a:lnTo>
                  <a:lnTo>
                    <a:pt x="1015" y="538"/>
                  </a:lnTo>
                  <a:lnTo>
                    <a:pt x="1032" y="536"/>
                  </a:lnTo>
                  <a:lnTo>
                    <a:pt x="1051" y="534"/>
                  </a:lnTo>
                  <a:lnTo>
                    <a:pt x="1068" y="530"/>
                  </a:lnTo>
                  <a:lnTo>
                    <a:pt x="1087" y="530"/>
                  </a:lnTo>
                  <a:lnTo>
                    <a:pt x="1102" y="526"/>
                  </a:lnTo>
                  <a:lnTo>
                    <a:pt x="1119" y="522"/>
                  </a:lnTo>
                  <a:lnTo>
                    <a:pt x="1136" y="519"/>
                  </a:lnTo>
                  <a:lnTo>
                    <a:pt x="1154" y="517"/>
                  </a:lnTo>
                  <a:lnTo>
                    <a:pt x="1171" y="513"/>
                  </a:lnTo>
                  <a:lnTo>
                    <a:pt x="1186" y="509"/>
                  </a:lnTo>
                  <a:lnTo>
                    <a:pt x="1201" y="507"/>
                  </a:lnTo>
                  <a:lnTo>
                    <a:pt x="1218" y="503"/>
                  </a:lnTo>
                  <a:lnTo>
                    <a:pt x="1233" y="500"/>
                  </a:lnTo>
                  <a:lnTo>
                    <a:pt x="1249" y="496"/>
                  </a:lnTo>
                  <a:lnTo>
                    <a:pt x="1262" y="492"/>
                  </a:lnTo>
                  <a:lnTo>
                    <a:pt x="1279" y="488"/>
                  </a:lnTo>
                  <a:lnTo>
                    <a:pt x="1292" y="484"/>
                  </a:lnTo>
                  <a:lnTo>
                    <a:pt x="1306" y="481"/>
                  </a:lnTo>
                  <a:lnTo>
                    <a:pt x="1321" y="477"/>
                  </a:lnTo>
                  <a:lnTo>
                    <a:pt x="1336" y="473"/>
                  </a:lnTo>
                  <a:lnTo>
                    <a:pt x="1347" y="467"/>
                  </a:lnTo>
                  <a:lnTo>
                    <a:pt x="1359" y="462"/>
                  </a:lnTo>
                  <a:lnTo>
                    <a:pt x="1372" y="456"/>
                  </a:lnTo>
                  <a:lnTo>
                    <a:pt x="1386" y="452"/>
                  </a:lnTo>
                  <a:lnTo>
                    <a:pt x="1395" y="448"/>
                  </a:lnTo>
                  <a:lnTo>
                    <a:pt x="1406" y="443"/>
                  </a:lnTo>
                  <a:lnTo>
                    <a:pt x="1418" y="437"/>
                  </a:lnTo>
                  <a:lnTo>
                    <a:pt x="1429" y="433"/>
                  </a:lnTo>
                  <a:lnTo>
                    <a:pt x="1439" y="426"/>
                  </a:lnTo>
                  <a:lnTo>
                    <a:pt x="1448" y="422"/>
                  </a:lnTo>
                  <a:lnTo>
                    <a:pt x="1458" y="416"/>
                  </a:lnTo>
                  <a:lnTo>
                    <a:pt x="1467" y="410"/>
                  </a:lnTo>
                  <a:lnTo>
                    <a:pt x="1477" y="403"/>
                  </a:lnTo>
                  <a:lnTo>
                    <a:pt x="1484" y="399"/>
                  </a:lnTo>
                  <a:lnTo>
                    <a:pt x="1494" y="393"/>
                  </a:lnTo>
                  <a:lnTo>
                    <a:pt x="1503" y="389"/>
                  </a:lnTo>
                  <a:lnTo>
                    <a:pt x="1509" y="382"/>
                  </a:lnTo>
                  <a:lnTo>
                    <a:pt x="1517" y="376"/>
                  </a:lnTo>
                  <a:lnTo>
                    <a:pt x="1520" y="368"/>
                  </a:lnTo>
                  <a:lnTo>
                    <a:pt x="1528" y="363"/>
                  </a:lnTo>
                  <a:lnTo>
                    <a:pt x="1534" y="357"/>
                  </a:lnTo>
                  <a:lnTo>
                    <a:pt x="1538" y="351"/>
                  </a:lnTo>
                  <a:lnTo>
                    <a:pt x="1541" y="344"/>
                  </a:lnTo>
                  <a:lnTo>
                    <a:pt x="1547" y="338"/>
                  </a:lnTo>
                  <a:lnTo>
                    <a:pt x="1551" y="330"/>
                  </a:lnTo>
                  <a:lnTo>
                    <a:pt x="1555" y="325"/>
                  </a:lnTo>
                  <a:lnTo>
                    <a:pt x="1557" y="317"/>
                  </a:lnTo>
                  <a:lnTo>
                    <a:pt x="1560" y="311"/>
                  </a:lnTo>
                  <a:lnTo>
                    <a:pt x="1562" y="298"/>
                  </a:lnTo>
                  <a:lnTo>
                    <a:pt x="1564" y="287"/>
                  </a:lnTo>
                  <a:lnTo>
                    <a:pt x="1562" y="272"/>
                  </a:lnTo>
                  <a:lnTo>
                    <a:pt x="1559" y="258"/>
                  </a:lnTo>
                  <a:lnTo>
                    <a:pt x="1555" y="251"/>
                  </a:lnTo>
                  <a:lnTo>
                    <a:pt x="1551" y="245"/>
                  </a:lnTo>
                  <a:lnTo>
                    <a:pt x="1547" y="237"/>
                  </a:lnTo>
                  <a:lnTo>
                    <a:pt x="1543" y="232"/>
                  </a:lnTo>
                  <a:lnTo>
                    <a:pt x="1538" y="224"/>
                  </a:lnTo>
                  <a:lnTo>
                    <a:pt x="1532" y="218"/>
                  </a:lnTo>
                  <a:lnTo>
                    <a:pt x="1524" y="211"/>
                  </a:lnTo>
                  <a:lnTo>
                    <a:pt x="1519" y="205"/>
                  </a:lnTo>
                  <a:lnTo>
                    <a:pt x="1511" y="197"/>
                  </a:lnTo>
                  <a:lnTo>
                    <a:pt x="1503" y="192"/>
                  </a:lnTo>
                  <a:lnTo>
                    <a:pt x="1494" y="184"/>
                  </a:lnTo>
                  <a:lnTo>
                    <a:pt x="1486" y="178"/>
                  </a:lnTo>
                  <a:lnTo>
                    <a:pt x="1477" y="171"/>
                  </a:lnTo>
                  <a:lnTo>
                    <a:pt x="1465" y="167"/>
                  </a:lnTo>
                  <a:lnTo>
                    <a:pt x="1454" y="159"/>
                  </a:lnTo>
                  <a:lnTo>
                    <a:pt x="1444" y="154"/>
                  </a:lnTo>
                  <a:lnTo>
                    <a:pt x="1433" y="148"/>
                  </a:lnTo>
                  <a:lnTo>
                    <a:pt x="1420" y="142"/>
                  </a:lnTo>
                  <a:lnTo>
                    <a:pt x="1408" y="135"/>
                  </a:lnTo>
                  <a:lnTo>
                    <a:pt x="1397" y="131"/>
                  </a:lnTo>
                  <a:lnTo>
                    <a:pt x="1382" y="123"/>
                  </a:lnTo>
                  <a:lnTo>
                    <a:pt x="1368" y="117"/>
                  </a:lnTo>
                  <a:lnTo>
                    <a:pt x="1355" y="114"/>
                  </a:lnTo>
                  <a:lnTo>
                    <a:pt x="1340" y="108"/>
                  </a:lnTo>
                  <a:lnTo>
                    <a:pt x="1327" y="102"/>
                  </a:lnTo>
                  <a:lnTo>
                    <a:pt x="1311" y="97"/>
                  </a:lnTo>
                  <a:lnTo>
                    <a:pt x="1298" y="91"/>
                  </a:lnTo>
                  <a:lnTo>
                    <a:pt x="1283" y="87"/>
                  </a:lnTo>
                  <a:lnTo>
                    <a:pt x="1266" y="83"/>
                  </a:lnTo>
                  <a:lnTo>
                    <a:pt x="1249" y="78"/>
                  </a:lnTo>
                  <a:lnTo>
                    <a:pt x="1232" y="72"/>
                  </a:lnTo>
                  <a:lnTo>
                    <a:pt x="1216" y="68"/>
                  </a:lnTo>
                  <a:lnTo>
                    <a:pt x="1199" y="62"/>
                  </a:lnTo>
                  <a:lnTo>
                    <a:pt x="1182" y="59"/>
                  </a:lnTo>
                  <a:lnTo>
                    <a:pt x="1165" y="55"/>
                  </a:lnTo>
                  <a:lnTo>
                    <a:pt x="1148" y="51"/>
                  </a:lnTo>
                  <a:lnTo>
                    <a:pt x="1129" y="47"/>
                  </a:lnTo>
                  <a:lnTo>
                    <a:pt x="1110" y="43"/>
                  </a:lnTo>
                  <a:lnTo>
                    <a:pt x="1093" y="38"/>
                  </a:lnTo>
                  <a:lnTo>
                    <a:pt x="1074" y="34"/>
                  </a:lnTo>
                  <a:lnTo>
                    <a:pt x="1053" y="30"/>
                  </a:lnTo>
                  <a:lnTo>
                    <a:pt x="1036" y="28"/>
                  </a:lnTo>
                  <a:lnTo>
                    <a:pt x="1017" y="26"/>
                  </a:lnTo>
                  <a:lnTo>
                    <a:pt x="998" y="22"/>
                  </a:lnTo>
                  <a:lnTo>
                    <a:pt x="979" y="19"/>
                  </a:lnTo>
                  <a:lnTo>
                    <a:pt x="958" y="17"/>
                  </a:lnTo>
                  <a:lnTo>
                    <a:pt x="939" y="13"/>
                  </a:lnTo>
                  <a:lnTo>
                    <a:pt x="918" y="11"/>
                  </a:lnTo>
                  <a:lnTo>
                    <a:pt x="899" y="7"/>
                  </a:lnTo>
                  <a:lnTo>
                    <a:pt x="878" y="7"/>
                  </a:lnTo>
                  <a:lnTo>
                    <a:pt x="859" y="3"/>
                  </a:lnTo>
                  <a:lnTo>
                    <a:pt x="840" y="3"/>
                  </a:lnTo>
                  <a:lnTo>
                    <a:pt x="819" y="2"/>
                  </a:lnTo>
                  <a:lnTo>
                    <a:pt x="798" y="0"/>
                  </a:lnTo>
                  <a:lnTo>
                    <a:pt x="777" y="0"/>
                  </a:lnTo>
                  <a:lnTo>
                    <a:pt x="758" y="0"/>
                  </a:lnTo>
                  <a:lnTo>
                    <a:pt x="737" y="0"/>
                  </a:lnTo>
                  <a:lnTo>
                    <a:pt x="718" y="0"/>
                  </a:lnTo>
                  <a:lnTo>
                    <a:pt x="699" y="0"/>
                  </a:lnTo>
                  <a:lnTo>
                    <a:pt x="678" y="0"/>
                  </a:lnTo>
                  <a:lnTo>
                    <a:pt x="657" y="0"/>
                  </a:lnTo>
                  <a:lnTo>
                    <a:pt x="637" y="0"/>
                  </a:lnTo>
                  <a:lnTo>
                    <a:pt x="617" y="0"/>
                  </a:lnTo>
                  <a:lnTo>
                    <a:pt x="598" y="0"/>
                  </a:lnTo>
                  <a:lnTo>
                    <a:pt x="579" y="0"/>
                  </a:lnTo>
                  <a:lnTo>
                    <a:pt x="559" y="0"/>
                  </a:lnTo>
                  <a:lnTo>
                    <a:pt x="541" y="2"/>
                  </a:lnTo>
                  <a:lnTo>
                    <a:pt x="524" y="3"/>
                  </a:lnTo>
                  <a:lnTo>
                    <a:pt x="505" y="3"/>
                  </a:lnTo>
                  <a:lnTo>
                    <a:pt x="488" y="7"/>
                  </a:lnTo>
                  <a:lnTo>
                    <a:pt x="469" y="7"/>
                  </a:lnTo>
                  <a:lnTo>
                    <a:pt x="454" y="11"/>
                  </a:lnTo>
                  <a:lnTo>
                    <a:pt x="437" y="13"/>
                  </a:lnTo>
                  <a:lnTo>
                    <a:pt x="420" y="17"/>
                  </a:lnTo>
                  <a:lnTo>
                    <a:pt x="405" y="19"/>
                  </a:lnTo>
                  <a:lnTo>
                    <a:pt x="389" y="22"/>
                  </a:lnTo>
                  <a:lnTo>
                    <a:pt x="374" y="26"/>
                  </a:lnTo>
                  <a:lnTo>
                    <a:pt x="357" y="28"/>
                  </a:lnTo>
                  <a:lnTo>
                    <a:pt x="342" y="30"/>
                  </a:lnTo>
                  <a:lnTo>
                    <a:pt x="329" y="34"/>
                  </a:lnTo>
                  <a:lnTo>
                    <a:pt x="313" y="38"/>
                  </a:lnTo>
                  <a:lnTo>
                    <a:pt x="300" y="43"/>
                  </a:lnTo>
                  <a:lnTo>
                    <a:pt x="285" y="47"/>
                  </a:lnTo>
                  <a:lnTo>
                    <a:pt x="273" y="51"/>
                  </a:lnTo>
                  <a:lnTo>
                    <a:pt x="258" y="55"/>
                  </a:lnTo>
                  <a:lnTo>
                    <a:pt x="245" y="59"/>
                  </a:lnTo>
                  <a:lnTo>
                    <a:pt x="233" y="62"/>
                  </a:lnTo>
                  <a:lnTo>
                    <a:pt x="222" y="68"/>
                  </a:lnTo>
                  <a:lnTo>
                    <a:pt x="209" y="72"/>
                  </a:lnTo>
                  <a:lnTo>
                    <a:pt x="197" y="78"/>
                  </a:lnTo>
                  <a:lnTo>
                    <a:pt x="188" y="83"/>
                  </a:lnTo>
                  <a:lnTo>
                    <a:pt x="178" y="87"/>
                  </a:lnTo>
                  <a:lnTo>
                    <a:pt x="165" y="91"/>
                  </a:lnTo>
                  <a:lnTo>
                    <a:pt x="156" y="97"/>
                  </a:lnTo>
                  <a:lnTo>
                    <a:pt x="144" y="102"/>
                  </a:lnTo>
                  <a:lnTo>
                    <a:pt x="135" y="108"/>
                  </a:lnTo>
                  <a:lnTo>
                    <a:pt x="125" y="114"/>
                  </a:lnTo>
                  <a:lnTo>
                    <a:pt x="116" y="117"/>
                  </a:lnTo>
                  <a:lnTo>
                    <a:pt x="108" y="123"/>
                  </a:lnTo>
                  <a:lnTo>
                    <a:pt x="100" y="131"/>
                  </a:lnTo>
                  <a:lnTo>
                    <a:pt x="91" y="135"/>
                  </a:lnTo>
                  <a:lnTo>
                    <a:pt x="83" y="142"/>
                  </a:lnTo>
                  <a:lnTo>
                    <a:pt x="76" y="148"/>
                  </a:lnTo>
                  <a:lnTo>
                    <a:pt x="70" y="154"/>
                  </a:lnTo>
                  <a:lnTo>
                    <a:pt x="60" y="159"/>
                  </a:lnTo>
                  <a:lnTo>
                    <a:pt x="57" y="167"/>
                  </a:lnTo>
                  <a:lnTo>
                    <a:pt x="49" y="171"/>
                  </a:lnTo>
                  <a:lnTo>
                    <a:pt x="45" y="178"/>
                  </a:lnTo>
                  <a:lnTo>
                    <a:pt x="40" y="184"/>
                  </a:lnTo>
                  <a:lnTo>
                    <a:pt x="34" y="192"/>
                  </a:lnTo>
                  <a:lnTo>
                    <a:pt x="28" y="197"/>
                  </a:lnTo>
                  <a:lnTo>
                    <a:pt x="24" y="205"/>
                  </a:lnTo>
                  <a:lnTo>
                    <a:pt x="21" y="211"/>
                  </a:lnTo>
                  <a:lnTo>
                    <a:pt x="17" y="218"/>
                  </a:lnTo>
                  <a:lnTo>
                    <a:pt x="13" y="224"/>
                  </a:lnTo>
                  <a:lnTo>
                    <a:pt x="11" y="232"/>
                  </a:lnTo>
                  <a:lnTo>
                    <a:pt x="5" y="245"/>
                  </a:lnTo>
                  <a:lnTo>
                    <a:pt x="2" y="258"/>
                  </a:lnTo>
                  <a:lnTo>
                    <a:pt x="0" y="272"/>
                  </a:lnTo>
                  <a:lnTo>
                    <a:pt x="0" y="287"/>
                  </a:lnTo>
                  <a:lnTo>
                    <a:pt x="0" y="298"/>
                  </a:lnTo>
                  <a:lnTo>
                    <a:pt x="3" y="311"/>
                  </a:lnTo>
                  <a:lnTo>
                    <a:pt x="3" y="317"/>
                  </a:lnTo>
                  <a:lnTo>
                    <a:pt x="7" y="325"/>
                  </a:lnTo>
                  <a:lnTo>
                    <a:pt x="11" y="330"/>
                  </a:lnTo>
                  <a:lnTo>
                    <a:pt x="15" y="338"/>
                  </a:lnTo>
                  <a:lnTo>
                    <a:pt x="19" y="344"/>
                  </a:lnTo>
                  <a:lnTo>
                    <a:pt x="22" y="351"/>
                  </a:lnTo>
                  <a:lnTo>
                    <a:pt x="28" y="357"/>
                  </a:lnTo>
                  <a:lnTo>
                    <a:pt x="34" y="363"/>
                  </a:lnTo>
                  <a:lnTo>
                    <a:pt x="40" y="368"/>
                  </a:lnTo>
                  <a:lnTo>
                    <a:pt x="45" y="376"/>
                  </a:lnTo>
                  <a:lnTo>
                    <a:pt x="53" y="382"/>
                  </a:lnTo>
                  <a:lnTo>
                    <a:pt x="60" y="389"/>
                  </a:lnTo>
                  <a:lnTo>
                    <a:pt x="68" y="393"/>
                  </a:lnTo>
                  <a:lnTo>
                    <a:pt x="76" y="399"/>
                  </a:lnTo>
                  <a:lnTo>
                    <a:pt x="83" y="403"/>
                  </a:lnTo>
                  <a:lnTo>
                    <a:pt x="93" y="410"/>
                  </a:lnTo>
                  <a:lnTo>
                    <a:pt x="100" y="416"/>
                  </a:lnTo>
                  <a:lnTo>
                    <a:pt x="112" y="422"/>
                  </a:lnTo>
                  <a:lnTo>
                    <a:pt x="121" y="426"/>
                  </a:lnTo>
                  <a:lnTo>
                    <a:pt x="133" y="433"/>
                  </a:lnTo>
                  <a:lnTo>
                    <a:pt x="142" y="437"/>
                  </a:lnTo>
                  <a:lnTo>
                    <a:pt x="154" y="443"/>
                  </a:lnTo>
                  <a:lnTo>
                    <a:pt x="165" y="448"/>
                  </a:lnTo>
                  <a:lnTo>
                    <a:pt x="178" y="452"/>
                  </a:lnTo>
                  <a:lnTo>
                    <a:pt x="190" y="456"/>
                  </a:lnTo>
                  <a:lnTo>
                    <a:pt x="201" y="462"/>
                  </a:lnTo>
                  <a:lnTo>
                    <a:pt x="214" y="467"/>
                  </a:lnTo>
                  <a:lnTo>
                    <a:pt x="230" y="473"/>
                  </a:lnTo>
                  <a:lnTo>
                    <a:pt x="241" y="477"/>
                  </a:lnTo>
                  <a:lnTo>
                    <a:pt x="254" y="481"/>
                  </a:lnTo>
                  <a:lnTo>
                    <a:pt x="268" y="484"/>
                  </a:lnTo>
                  <a:lnTo>
                    <a:pt x="283" y="488"/>
                  </a:lnTo>
                  <a:lnTo>
                    <a:pt x="296" y="492"/>
                  </a:lnTo>
                  <a:lnTo>
                    <a:pt x="313" y="496"/>
                  </a:lnTo>
                  <a:lnTo>
                    <a:pt x="329" y="500"/>
                  </a:lnTo>
                  <a:lnTo>
                    <a:pt x="346" y="503"/>
                  </a:lnTo>
                  <a:lnTo>
                    <a:pt x="359" y="507"/>
                  </a:lnTo>
                  <a:lnTo>
                    <a:pt x="376" y="509"/>
                  </a:lnTo>
                  <a:lnTo>
                    <a:pt x="391" y="513"/>
                  </a:lnTo>
                  <a:lnTo>
                    <a:pt x="408" y="517"/>
                  </a:lnTo>
                  <a:lnTo>
                    <a:pt x="424" y="519"/>
                  </a:lnTo>
                  <a:lnTo>
                    <a:pt x="443" y="522"/>
                  </a:lnTo>
                  <a:lnTo>
                    <a:pt x="460" y="526"/>
                  </a:lnTo>
                  <a:lnTo>
                    <a:pt x="479" y="530"/>
                  </a:lnTo>
                  <a:lnTo>
                    <a:pt x="494" y="530"/>
                  </a:lnTo>
                  <a:lnTo>
                    <a:pt x="513" y="534"/>
                  </a:lnTo>
                  <a:lnTo>
                    <a:pt x="530" y="536"/>
                  </a:lnTo>
                  <a:lnTo>
                    <a:pt x="549" y="538"/>
                  </a:lnTo>
                  <a:lnTo>
                    <a:pt x="568" y="540"/>
                  </a:lnTo>
                  <a:lnTo>
                    <a:pt x="585" y="540"/>
                  </a:lnTo>
                  <a:lnTo>
                    <a:pt x="604" y="542"/>
                  </a:lnTo>
                  <a:lnTo>
                    <a:pt x="625" y="543"/>
                  </a:lnTo>
                  <a:lnTo>
                    <a:pt x="642" y="543"/>
                  </a:lnTo>
                  <a:lnTo>
                    <a:pt x="663" y="545"/>
                  </a:lnTo>
                  <a:lnTo>
                    <a:pt x="682" y="547"/>
                  </a:lnTo>
                  <a:lnTo>
                    <a:pt x="703" y="549"/>
                  </a:lnTo>
                  <a:lnTo>
                    <a:pt x="722" y="549"/>
                  </a:lnTo>
                  <a:lnTo>
                    <a:pt x="743" y="549"/>
                  </a:lnTo>
                  <a:lnTo>
                    <a:pt x="762" y="549"/>
                  </a:lnTo>
                  <a:lnTo>
                    <a:pt x="783" y="551"/>
                  </a:lnTo>
                  <a:lnTo>
                    <a:pt x="783" y="55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172240" y="776880"/>
              <a:ext cx="251640" cy="74160"/>
            </a:xfrm>
            <a:custGeom>
              <a:avLst/>
              <a:gdLst/>
              <a:ahLst/>
              <a:rect l="l" t="t" r="r" b="b"/>
              <a:pathLst>
                <a:path w="1360" h="403">
                  <a:moveTo>
                    <a:pt x="1360" y="249"/>
                  </a:moveTo>
                  <a:lnTo>
                    <a:pt x="1356" y="239"/>
                  </a:lnTo>
                  <a:lnTo>
                    <a:pt x="1350" y="230"/>
                  </a:lnTo>
                  <a:lnTo>
                    <a:pt x="1346" y="220"/>
                  </a:lnTo>
                  <a:lnTo>
                    <a:pt x="1342" y="213"/>
                  </a:lnTo>
                  <a:lnTo>
                    <a:pt x="1337" y="203"/>
                  </a:lnTo>
                  <a:lnTo>
                    <a:pt x="1331" y="195"/>
                  </a:lnTo>
                  <a:lnTo>
                    <a:pt x="1325" y="188"/>
                  </a:lnTo>
                  <a:lnTo>
                    <a:pt x="1320" y="180"/>
                  </a:lnTo>
                  <a:lnTo>
                    <a:pt x="1310" y="171"/>
                  </a:lnTo>
                  <a:lnTo>
                    <a:pt x="1303" y="163"/>
                  </a:lnTo>
                  <a:lnTo>
                    <a:pt x="1293" y="154"/>
                  </a:lnTo>
                  <a:lnTo>
                    <a:pt x="1285" y="146"/>
                  </a:lnTo>
                  <a:lnTo>
                    <a:pt x="1274" y="138"/>
                  </a:lnTo>
                  <a:lnTo>
                    <a:pt x="1265" y="131"/>
                  </a:lnTo>
                  <a:lnTo>
                    <a:pt x="1253" y="125"/>
                  </a:lnTo>
                  <a:lnTo>
                    <a:pt x="1242" y="117"/>
                  </a:lnTo>
                  <a:lnTo>
                    <a:pt x="1234" y="114"/>
                  </a:lnTo>
                  <a:lnTo>
                    <a:pt x="1228" y="110"/>
                  </a:lnTo>
                  <a:lnTo>
                    <a:pt x="1221" y="106"/>
                  </a:lnTo>
                  <a:lnTo>
                    <a:pt x="1215" y="102"/>
                  </a:lnTo>
                  <a:lnTo>
                    <a:pt x="1202" y="97"/>
                  </a:lnTo>
                  <a:lnTo>
                    <a:pt x="1188" y="91"/>
                  </a:lnTo>
                  <a:lnTo>
                    <a:pt x="1181" y="87"/>
                  </a:lnTo>
                  <a:lnTo>
                    <a:pt x="1173" y="83"/>
                  </a:lnTo>
                  <a:lnTo>
                    <a:pt x="1166" y="79"/>
                  </a:lnTo>
                  <a:lnTo>
                    <a:pt x="1158" y="78"/>
                  </a:lnTo>
                  <a:lnTo>
                    <a:pt x="1150" y="74"/>
                  </a:lnTo>
                  <a:lnTo>
                    <a:pt x="1143" y="70"/>
                  </a:lnTo>
                  <a:lnTo>
                    <a:pt x="1135" y="68"/>
                  </a:lnTo>
                  <a:lnTo>
                    <a:pt x="1128" y="66"/>
                  </a:lnTo>
                  <a:lnTo>
                    <a:pt x="1120" y="62"/>
                  </a:lnTo>
                  <a:lnTo>
                    <a:pt x="1111" y="60"/>
                  </a:lnTo>
                  <a:lnTo>
                    <a:pt x="1103" y="57"/>
                  </a:lnTo>
                  <a:lnTo>
                    <a:pt x="1093" y="55"/>
                  </a:lnTo>
                  <a:lnTo>
                    <a:pt x="1084" y="53"/>
                  </a:lnTo>
                  <a:lnTo>
                    <a:pt x="1076" y="49"/>
                  </a:lnTo>
                  <a:lnTo>
                    <a:pt x="1067" y="47"/>
                  </a:lnTo>
                  <a:lnTo>
                    <a:pt x="1059" y="45"/>
                  </a:lnTo>
                  <a:lnTo>
                    <a:pt x="1050" y="41"/>
                  </a:lnTo>
                  <a:lnTo>
                    <a:pt x="1040" y="40"/>
                  </a:lnTo>
                  <a:lnTo>
                    <a:pt x="1031" y="38"/>
                  </a:lnTo>
                  <a:lnTo>
                    <a:pt x="1023" y="36"/>
                  </a:lnTo>
                  <a:lnTo>
                    <a:pt x="1012" y="34"/>
                  </a:lnTo>
                  <a:lnTo>
                    <a:pt x="1004" y="32"/>
                  </a:lnTo>
                  <a:lnTo>
                    <a:pt x="993" y="30"/>
                  </a:lnTo>
                  <a:lnTo>
                    <a:pt x="985" y="30"/>
                  </a:lnTo>
                  <a:lnTo>
                    <a:pt x="968" y="26"/>
                  </a:lnTo>
                  <a:lnTo>
                    <a:pt x="953" y="22"/>
                  </a:lnTo>
                  <a:lnTo>
                    <a:pt x="936" y="19"/>
                  </a:lnTo>
                  <a:lnTo>
                    <a:pt x="920" y="17"/>
                  </a:lnTo>
                  <a:lnTo>
                    <a:pt x="905" y="13"/>
                  </a:lnTo>
                  <a:lnTo>
                    <a:pt x="888" y="13"/>
                  </a:lnTo>
                  <a:lnTo>
                    <a:pt x="873" y="9"/>
                  </a:lnTo>
                  <a:lnTo>
                    <a:pt x="858" y="9"/>
                  </a:lnTo>
                  <a:lnTo>
                    <a:pt x="841" y="7"/>
                  </a:lnTo>
                  <a:lnTo>
                    <a:pt x="823" y="5"/>
                  </a:lnTo>
                  <a:lnTo>
                    <a:pt x="806" y="3"/>
                  </a:lnTo>
                  <a:lnTo>
                    <a:pt x="791" y="3"/>
                  </a:lnTo>
                  <a:lnTo>
                    <a:pt x="774" y="2"/>
                  </a:lnTo>
                  <a:lnTo>
                    <a:pt x="757" y="2"/>
                  </a:lnTo>
                  <a:lnTo>
                    <a:pt x="742" y="2"/>
                  </a:lnTo>
                  <a:lnTo>
                    <a:pt x="727" y="2"/>
                  </a:lnTo>
                  <a:lnTo>
                    <a:pt x="709" y="0"/>
                  </a:lnTo>
                  <a:lnTo>
                    <a:pt x="692" y="0"/>
                  </a:lnTo>
                  <a:lnTo>
                    <a:pt x="675" y="0"/>
                  </a:lnTo>
                  <a:lnTo>
                    <a:pt x="660" y="0"/>
                  </a:lnTo>
                  <a:lnTo>
                    <a:pt x="643" y="0"/>
                  </a:lnTo>
                  <a:lnTo>
                    <a:pt x="628" y="0"/>
                  </a:lnTo>
                  <a:lnTo>
                    <a:pt x="612" y="2"/>
                  </a:lnTo>
                  <a:lnTo>
                    <a:pt x="595" y="3"/>
                  </a:lnTo>
                  <a:lnTo>
                    <a:pt x="578" y="3"/>
                  </a:lnTo>
                  <a:lnTo>
                    <a:pt x="563" y="3"/>
                  </a:lnTo>
                  <a:lnTo>
                    <a:pt x="548" y="5"/>
                  </a:lnTo>
                  <a:lnTo>
                    <a:pt x="531" y="7"/>
                  </a:lnTo>
                  <a:lnTo>
                    <a:pt x="516" y="9"/>
                  </a:lnTo>
                  <a:lnTo>
                    <a:pt x="500" y="11"/>
                  </a:lnTo>
                  <a:lnTo>
                    <a:pt x="485" y="13"/>
                  </a:lnTo>
                  <a:lnTo>
                    <a:pt x="470" y="15"/>
                  </a:lnTo>
                  <a:lnTo>
                    <a:pt x="455" y="17"/>
                  </a:lnTo>
                  <a:lnTo>
                    <a:pt x="438" y="19"/>
                  </a:lnTo>
                  <a:lnTo>
                    <a:pt x="424" y="21"/>
                  </a:lnTo>
                  <a:lnTo>
                    <a:pt x="409" y="22"/>
                  </a:lnTo>
                  <a:lnTo>
                    <a:pt x="394" y="26"/>
                  </a:lnTo>
                  <a:lnTo>
                    <a:pt x="379" y="28"/>
                  </a:lnTo>
                  <a:lnTo>
                    <a:pt x="363" y="30"/>
                  </a:lnTo>
                  <a:lnTo>
                    <a:pt x="350" y="36"/>
                  </a:lnTo>
                  <a:lnTo>
                    <a:pt x="335" y="38"/>
                  </a:lnTo>
                  <a:lnTo>
                    <a:pt x="322" y="40"/>
                  </a:lnTo>
                  <a:lnTo>
                    <a:pt x="306" y="43"/>
                  </a:lnTo>
                  <a:lnTo>
                    <a:pt x="295" y="47"/>
                  </a:lnTo>
                  <a:lnTo>
                    <a:pt x="280" y="51"/>
                  </a:lnTo>
                  <a:lnTo>
                    <a:pt x="266" y="55"/>
                  </a:lnTo>
                  <a:lnTo>
                    <a:pt x="255" y="59"/>
                  </a:lnTo>
                  <a:lnTo>
                    <a:pt x="244" y="64"/>
                  </a:lnTo>
                  <a:lnTo>
                    <a:pt x="230" y="68"/>
                  </a:lnTo>
                  <a:lnTo>
                    <a:pt x="219" y="72"/>
                  </a:lnTo>
                  <a:lnTo>
                    <a:pt x="206" y="76"/>
                  </a:lnTo>
                  <a:lnTo>
                    <a:pt x="194" y="79"/>
                  </a:lnTo>
                  <a:lnTo>
                    <a:pt x="183" y="83"/>
                  </a:lnTo>
                  <a:lnTo>
                    <a:pt x="171" y="89"/>
                  </a:lnTo>
                  <a:lnTo>
                    <a:pt x="160" y="95"/>
                  </a:lnTo>
                  <a:lnTo>
                    <a:pt x="151" y="100"/>
                  </a:lnTo>
                  <a:lnTo>
                    <a:pt x="141" y="104"/>
                  </a:lnTo>
                  <a:lnTo>
                    <a:pt x="132" y="110"/>
                  </a:lnTo>
                  <a:lnTo>
                    <a:pt x="120" y="114"/>
                  </a:lnTo>
                  <a:lnTo>
                    <a:pt x="112" y="121"/>
                  </a:lnTo>
                  <a:lnTo>
                    <a:pt x="103" y="127"/>
                  </a:lnTo>
                  <a:lnTo>
                    <a:pt x="93" y="133"/>
                  </a:lnTo>
                  <a:lnTo>
                    <a:pt x="86" y="138"/>
                  </a:lnTo>
                  <a:lnTo>
                    <a:pt x="80" y="146"/>
                  </a:lnTo>
                  <a:lnTo>
                    <a:pt x="69" y="154"/>
                  </a:lnTo>
                  <a:lnTo>
                    <a:pt x="61" y="161"/>
                  </a:lnTo>
                  <a:lnTo>
                    <a:pt x="54" y="169"/>
                  </a:lnTo>
                  <a:lnTo>
                    <a:pt x="44" y="178"/>
                  </a:lnTo>
                  <a:lnTo>
                    <a:pt x="36" y="186"/>
                  </a:lnTo>
                  <a:lnTo>
                    <a:pt x="31" y="197"/>
                  </a:lnTo>
                  <a:lnTo>
                    <a:pt x="23" y="207"/>
                  </a:lnTo>
                  <a:lnTo>
                    <a:pt x="19" y="216"/>
                  </a:lnTo>
                  <a:lnTo>
                    <a:pt x="14" y="226"/>
                  </a:lnTo>
                  <a:lnTo>
                    <a:pt x="10" y="235"/>
                  </a:lnTo>
                  <a:lnTo>
                    <a:pt x="6" y="245"/>
                  </a:lnTo>
                  <a:lnTo>
                    <a:pt x="4" y="254"/>
                  </a:lnTo>
                  <a:lnTo>
                    <a:pt x="0" y="264"/>
                  </a:lnTo>
                  <a:lnTo>
                    <a:pt x="0" y="273"/>
                  </a:lnTo>
                  <a:lnTo>
                    <a:pt x="0" y="283"/>
                  </a:lnTo>
                  <a:lnTo>
                    <a:pt x="2" y="292"/>
                  </a:lnTo>
                  <a:lnTo>
                    <a:pt x="31" y="287"/>
                  </a:lnTo>
                  <a:lnTo>
                    <a:pt x="29" y="279"/>
                  </a:lnTo>
                  <a:lnTo>
                    <a:pt x="29" y="272"/>
                  </a:lnTo>
                  <a:lnTo>
                    <a:pt x="29" y="264"/>
                  </a:lnTo>
                  <a:lnTo>
                    <a:pt x="31" y="258"/>
                  </a:lnTo>
                  <a:lnTo>
                    <a:pt x="35" y="251"/>
                  </a:lnTo>
                  <a:lnTo>
                    <a:pt x="36" y="241"/>
                  </a:lnTo>
                  <a:lnTo>
                    <a:pt x="40" y="233"/>
                  </a:lnTo>
                  <a:lnTo>
                    <a:pt x="46" y="226"/>
                  </a:lnTo>
                  <a:lnTo>
                    <a:pt x="50" y="218"/>
                  </a:lnTo>
                  <a:lnTo>
                    <a:pt x="55" y="211"/>
                  </a:lnTo>
                  <a:lnTo>
                    <a:pt x="61" y="201"/>
                  </a:lnTo>
                  <a:lnTo>
                    <a:pt x="67" y="194"/>
                  </a:lnTo>
                  <a:lnTo>
                    <a:pt x="73" y="186"/>
                  </a:lnTo>
                  <a:lnTo>
                    <a:pt x="80" y="180"/>
                  </a:lnTo>
                  <a:lnTo>
                    <a:pt x="88" y="173"/>
                  </a:lnTo>
                  <a:lnTo>
                    <a:pt x="97" y="169"/>
                  </a:lnTo>
                  <a:lnTo>
                    <a:pt x="103" y="163"/>
                  </a:lnTo>
                  <a:lnTo>
                    <a:pt x="111" y="157"/>
                  </a:lnTo>
                  <a:lnTo>
                    <a:pt x="118" y="150"/>
                  </a:lnTo>
                  <a:lnTo>
                    <a:pt x="128" y="144"/>
                  </a:lnTo>
                  <a:lnTo>
                    <a:pt x="135" y="140"/>
                  </a:lnTo>
                  <a:lnTo>
                    <a:pt x="147" y="135"/>
                  </a:lnTo>
                  <a:lnTo>
                    <a:pt x="156" y="129"/>
                  </a:lnTo>
                  <a:lnTo>
                    <a:pt x="168" y="125"/>
                  </a:lnTo>
                  <a:lnTo>
                    <a:pt x="175" y="119"/>
                  </a:lnTo>
                  <a:lnTo>
                    <a:pt x="187" y="114"/>
                  </a:lnTo>
                  <a:lnTo>
                    <a:pt x="198" y="110"/>
                  </a:lnTo>
                  <a:lnTo>
                    <a:pt x="209" y="106"/>
                  </a:lnTo>
                  <a:lnTo>
                    <a:pt x="219" y="100"/>
                  </a:lnTo>
                  <a:lnTo>
                    <a:pt x="232" y="97"/>
                  </a:lnTo>
                  <a:lnTo>
                    <a:pt x="244" y="93"/>
                  </a:lnTo>
                  <a:lnTo>
                    <a:pt x="257" y="89"/>
                  </a:lnTo>
                  <a:lnTo>
                    <a:pt x="268" y="85"/>
                  </a:lnTo>
                  <a:lnTo>
                    <a:pt x="280" y="81"/>
                  </a:lnTo>
                  <a:lnTo>
                    <a:pt x="293" y="78"/>
                  </a:lnTo>
                  <a:lnTo>
                    <a:pt x="306" y="74"/>
                  </a:lnTo>
                  <a:lnTo>
                    <a:pt x="318" y="70"/>
                  </a:lnTo>
                  <a:lnTo>
                    <a:pt x="333" y="66"/>
                  </a:lnTo>
                  <a:lnTo>
                    <a:pt x="346" y="64"/>
                  </a:lnTo>
                  <a:lnTo>
                    <a:pt x="360" y="62"/>
                  </a:lnTo>
                  <a:lnTo>
                    <a:pt x="373" y="57"/>
                  </a:lnTo>
                  <a:lnTo>
                    <a:pt x="388" y="55"/>
                  </a:lnTo>
                  <a:lnTo>
                    <a:pt x="401" y="53"/>
                  </a:lnTo>
                  <a:lnTo>
                    <a:pt x="417" y="49"/>
                  </a:lnTo>
                  <a:lnTo>
                    <a:pt x="430" y="47"/>
                  </a:lnTo>
                  <a:lnTo>
                    <a:pt x="445" y="45"/>
                  </a:lnTo>
                  <a:lnTo>
                    <a:pt x="460" y="43"/>
                  </a:lnTo>
                  <a:lnTo>
                    <a:pt x="477" y="41"/>
                  </a:lnTo>
                  <a:lnTo>
                    <a:pt x="491" y="40"/>
                  </a:lnTo>
                  <a:lnTo>
                    <a:pt x="506" y="38"/>
                  </a:lnTo>
                  <a:lnTo>
                    <a:pt x="521" y="36"/>
                  </a:lnTo>
                  <a:lnTo>
                    <a:pt x="536" y="34"/>
                  </a:lnTo>
                  <a:lnTo>
                    <a:pt x="552" y="32"/>
                  </a:lnTo>
                  <a:lnTo>
                    <a:pt x="567" y="30"/>
                  </a:lnTo>
                  <a:lnTo>
                    <a:pt x="582" y="30"/>
                  </a:lnTo>
                  <a:lnTo>
                    <a:pt x="599" y="30"/>
                  </a:lnTo>
                  <a:lnTo>
                    <a:pt x="614" y="28"/>
                  </a:lnTo>
                  <a:lnTo>
                    <a:pt x="630" y="28"/>
                  </a:lnTo>
                  <a:lnTo>
                    <a:pt x="647" y="28"/>
                  </a:lnTo>
                  <a:lnTo>
                    <a:pt x="662" y="28"/>
                  </a:lnTo>
                  <a:lnTo>
                    <a:pt x="677" y="28"/>
                  </a:lnTo>
                  <a:lnTo>
                    <a:pt x="694" y="28"/>
                  </a:lnTo>
                  <a:lnTo>
                    <a:pt x="709" y="28"/>
                  </a:lnTo>
                  <a:lnTo>
                    <a:pt x="727" y="30"/>
                  </a:lnTo>
                  <a:lnTo>
                    <a:pt x="742" y="30"/>
                  </a:lnTo>
                  <a:lnTo>
                    <a:pt x="757" y="30"/>
                  </a:lnTo>
                  <a:lnTo>
                    <a:pt x="774" y="30"/>
                  </a:lnTo>
                  <a:lnTo>
                    <a:pt x="789" y="32"/>
                  </a:lnTo>
                  <a:lnTo>
                    <a:pt x="804" y="32"/>
                  </a:lnTo>
                  <a:lnTo>
                    <a:pt x="822" y="34"/>
                  </a:lnTo>
                  <a:lnTo>
                    <a:pt x="837" y="36"/>
                  </a:lnTo>
                  <a:lnTo>
                    <a:pt x="852" y="38"/>
                  </a:lnTo>
                  <a:lnTo>
                    <a:pt x="867" y="40"/>
                  </a:lnTo>
                  <a:lnTo>
                    <a:pt x="882" y="41"/>
                  </a:lnTo>
                  <a:lnTo>
                    <a:pt x="900" y="43"/>
                  </a:lnTo>
                  <a:lnTo>
                    <a:pt x="915" y="45"/>
                  </a:lnTo>
                  <a:lnTo>
                    <a:pt x="932" y="47"/>
                  </a:lnTo>
                  <a:lnTo>
                    <a:pt x="947" y="51"/>
                  </a:lnTo>
                  <a:lnTo>
                    <a:pt x="962" y="53"/>
                  </a:lnTo>
                  <a:lnTo>
                    <a:pt x="979" y="57"/>
                  </a:lnTo>
                  <a:lnTo>
                    <a:pt x="987" y="57"/>
                  </a:lnTo>
                  <a:lnTo>
                    <a:pt x="996" y="60"/>
                  </a:lnTo>
                  <a:lnTo>
                    <a:pt x="1004" y="62"/>
                  </a:lnTo>
                  <a:lnTo>
                    <a:pt x="1014" y="64"/>
                  </a:lnTo>
                  <a:lnTo>
                    <a:pt x="1021" y="66"/>
                  </a:lnTo>
                  <a:lnTo>
                    <a:pt x="1031" y="68"/>
                  </a:lnTo>
                  <a:lnTo>
                    <a:pt x="1040" y="70"/>
                  </a:lnTo>
                  <a:lnTo>
                    <a:pt x="1050" y="72"/>
                  </a:lnTo>
                  <a:lnTo>
                    <a:pt x="1057" y="74"/>
                  </a:lnTo>
                  <a:lnTo>
                    <a:pt x="1065" y="76"/>
                  </a:lnTo>
                  <a:lnTo>
                    <a:pt x="1073" y="79"/>
                  </a:lnTo>
                  <a:lnTo>
                    <a:pt x="1082" y="81"/>
                  </a:lnTo>
                  <a:lnTo>
                    <a:pt x="1090" y="83"/>
                  </a:lnTo>
                  <a:lnTo>
                    <a:pt x="1097" y="87"/>
                  </a:lnTo>
                  <a:lnTo>
                    <a:pt x="1107" y="87"/>
                  </a:lnTo>
                  <a:lnTo>
                    <a:pt x="1114" y="93"/>
                  </a:lnTo>
                  <a:lnTo>
                    <a:pt x="1120" y="93"/>
                  </a:lnTo>
                  <a:lnTo>
                    <a:pt x="1128" y="97"/>
                  </a:lnTo>
                  <a:lnTo>
                    <a:pt x="1135" y="98"/>
                  </a:lnTo>
                  <a:lnTo>
                    <a:pt x="1143" y="100"/>
                  </a:lnTo>
                  <a:lnTo>
                    <a:pt x="1150" y="104"/>
                  </a:lnTo>
                  <a:lnTo>
                    <a:pt x="1158" y="106"/>
                  </a:lnTo>
                  <a:lnTo>
                    <a:pt x="1164" y="110"/>
                  </a:lnTo>
                  <a:lnTo>
                    <a:pt x="1171" y="114"/>
                  </a:lnTo>
                  <a:lnTo>
                    <a:pt x="1185" y="117"/>
                  </a:lnTo>
                  <a:lnTo>
                    <a:pt x="1198" y="125"/>
                  </a:lnTo>
                  <a:lnTo>
                    <a:pt x="1209" y="131"/>
                  </a:lnTo>
                  <a:lnTo>
                    <a:pt x="1223" y="138"/>
                  </a:lnTo>
                  <a:lnTo>
                    <a:pt x="1232" y="144"/>
                  </a:lnTo>
                  <a:lnTo>
                    <a:pt x="1242" y="150"/>
                  </a:lnTo>
                  <a:lnTo>
                    <a:pt x="1251" y="157"/>
                  </a:lnTo>
                  <a:lnTo>
                    <a:pt x="1263" y="165"/>
                  </a:lnTo>
                  <a:lnTo>
                    <a:pt x="1270" y="171"/>
                  </a:lnTo>
                  <a:lnTo>
                    <a:pt x="1280" y="178"/>
                  </a:lnTo>
                  <a:lnTo>
                    <a:pt x="1287" y="184"/>
                  </a:lnTo>
                  <a:lnTo>
                    <a:pt x="1295" y="194"/>
                  </a:lnTo>
                  <a:lnTo>
                    <a:pt x="1301" y="199"/>
                  </a:lnTo>
                  <a:lnTo>
                    <a:pt x="1308" y="207"/>
                  </a:lnTo>
                  <a:lnTo>
                    <a:pt x="1312" y="214"/>
                  </a:lnTo>
                  <a:lnTo>
                    <a:pt x="1318" y="224"/>
                  </a:lnTo>
                  <a:lnTo>
                    <a:pt x="1320" y="232"/>
                  </a:lnTo>
                  <a:lnTo>
                    <a:pt x="1325" y="239"/>
                  </a:lnTo>
                  <a:lnTo>
                    <a:pt x="1327" y="247"/>
                  </a:lnTo>
                  <a:lnTo>
                    <a:pt x="1331" y="254"/>
                  </a:lnTo>
                  <a:lnTo>
                    <a:pt x="1331" y="264"/>
                  </a:lnTo>
                  <a:lnTo>
                    <a:pt x="1333" y="273"/>
                  </a:lnTo>
                  <a:lnTo>
                    <a:pt x="1331" y="283"/>
                  </a:lnTo>
                  <a:lnTo>
                    <a:pt x="1331" y="292"/>
                  </a:lnTo>
                  <a:lnTo>
                    <a:pt x="1329" y="300"/>
                  </a:lnTo>
                  <a:lnTo>
                    <a:pt x="1325" y="310"/>
                  </a:lnTo>
                  <a:lnTo>
                    <a:pt x="1322" y="317"/>
                  </a:lnTo>
                  <a:lnTo>
                    <a:pt x="1318" y="327"/>
                  </a:lnTo>
                  <a:lnTo>
                    <a:pt x="1312" y="334"/>
                  </a:lnTo>
                  <a:lnTo>
                    <a:pt x="1306" y="342"/>
                  </a:lnTo>
                  <a:lnTo>
                    <a:pt x="1299" y="348"/>
                  </a:lnTo>
                  <a:lnTo>
                    <a:pt x="1295" y="355"/>
                  </a:lnTo>
                  <a:lnTo>
                    <a:pt x="1287" y="361"/>
                  </a:lnTo>
                  <a:lnTo>
                    <a:pt x="1282" y="368"/>
                  </a:lnTo>
                  <a:lnTo>
                    <a:pt x="1274" y="374"/>
                  </a:lnTo>
                  <a:lnTo>
                    <a:pt x="1268" y="382"/>
                  </a:lnTo>
                  <a:lnTo>
                    <a:pt x="1285" y="403"/>
                  </a:lnTo>
                  <a:lnTo>
                    <a:pt x="1289" y="395"/>
                  </a:lnTo>
                  <a:lnTo>
                    <a:pt x="1297" y="391"/>
                  </a:lnTo>
                  <a:lnTo>
                    <a:pt x="1303" y="386"/>
                  </a:lnTo>
                  <a:lnTo>
                    <a:pt x="1308" y="380"/>
                  </a:lnTo>
                  <a:lnTo>
                    <a:pt x="1320" y="368"/>
                  </a:lnTo>
                  <a:lnTo>
                    <a:pt x="1329" y="359"/>
                  </a:lnTo>
                  <a:lnTo>
                    <a:pt x="1335" y="348"/>
                  </a:lnTo>
                  <a:lnTo>
                    <a:pt x="1342" y="338"/>
                  </a:lnTo>
                  <a:lnTo>
                    <a:pt x="1348" y="327"/>
                  </a:lnTo>
                  <a:lnTo>
                    <a:pt x="1354" y="317"/>
                  </a:lnTo>
                  <a:lnTo>
                    <a:pt x="1356" y="308"/>
                  </a:lnTo>
                  <a:lnTo>
                    <a:pt x="1358" y="298"/>
                  </a:lnTo>
                  <a:lnTo>
                    <a:pt x="1360" y="287"/>
                  </a:lnTo>
                  <a:lnTo>
                    <a:pt x="1360" y="279"/>
                  </a:lnTo>
                  <a:lnTo>
                    <a:pt x="1360" y="272"/>
                  </a:lnTo>
                  <a:lnTo>
                    <a:pt x="1360" y="264"/>
                  </a:lnTo>
                  <a:lnTo>
                    <a:pt x="1360" y="254"/>
                  </a:lnTo>
                  <a:lnTo>
                    <a:pt x="1360" y="249"/>
                  </a:lnTo>
                  <a:lnTo>
                    <a:pt x="136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174040" y="473040"/>
              <a:ext cx="91080" cy="88560"/>
            </a:xfrm>
            <a:custGeom>
              <a:avLst/>
              <a:gdLst/>
              <a:ahLst/>
              <a:rect l="l" t="t" r="r" b="b"/>
              <a:pathLst>
                <a:path w="492" h="479">
                  <a:moveTo>
                    <a:pt x="207" y="41"/>
                  </a:moveTo>
                  <a:lnTo>
                    <a:pt x="209" y="41"/>
                  </a:lnTo>
                  <a:lnTo>
                    <a:pt x="216" y="47"/>
                  </a:lnTo>
                  <a:lnTo>
                    <a:pt x="220" y="49"/>
                  </a:lnTo>
                  <a:lnTo>
                    <a:pt x="226" y="53"/>
                  </a:lnTo>
                  <a:lnTo>
                    <a:pt x="234" y="59"/>
                  </a:lnTo>
                  <a:lnTo>
                    <a:pt x="243" y="64"/>
                  </a:lnTo>
                  <a:lnTo>
                    <a:pt x="251" y="70"/>
                  </a:lnTo>
                  <a:lnTo>
                    <a:pt x="260" y="78"/>
                  </a:lnTo>
                  <a:lnTo>
                    <a:pt x="270" y="85"/>
                  </a:lnTo>
                  <a:lnTo>
                    <a:pt x="281" y="97"/>
                  </a:lnTo>
                  <a:lnTo>
                    <a:pt x="292" y="104"/>
                  </a:lnTo>
                  <a:lnTo>
                    <a:pt x="304" y="114"/>
                  </a:lnTo>
                  <a:lnTo>
                    <a:pt x="310" y="119"/>
                  </a:lnTo>
                  <a:lnTo>
                    <a:pt x="315" y="127"/>
                  </a:lnTo>
                  <a:lnTo>
                    <a:pt x="321" y="131"/>
                  </a:lnTo>
                  <a:lnTo>
                    <a:pt x="327" y="138"/>
                  </a:lnTo>
                  <a:lnTo>
                    <a:pt x="332" y="142"/>
                  </a:lnTo>
                  <a:lnTo>
                    <a:pt x="340" y="148"/>
                  </a:lnTo>
                  <a:lnTo>
                    <a:pt x="346" y="154"/>
                  </a:lnTo>
                  <a:lnTo>
                    <a:pt x="351" y="161"/>
                  </a:lnTo>
                  <a:lnTo>
                    <a:pt x="357" y="167"/>
                  </a:lnTo>
                  <a:lnTo>
                    <a:pt x="363" y="175"/>
                  </a:lnTo>
                  <a:lnTo>
                    <a:pt x="368" y="182"/>
                  </a:lnTo>
                  <a:lnTo>
                    <a:pt x="376" y="190"/>
                  </a:lnTo>
                  <a:lnTo>
                    <a:pt x="380" y="197"/>
                  </a:lnTo>
                  <a:lnTo>
                    <a:pt x="388" y="205"/>
                  </a:lnTo>
                  <a:lnTo>
                    <a:pt x="393" y="213"/>
                  </a:lnTo>
                  <a:lnTo>
                    <a:pt x="399" y="220"/>
                  </a:lnTo>
                  <a:lnTo>
                    <a:pt x="405" y="228"/>
                  </a:lnTo>
                  <a:lnTo>
                    <a:pt x="410" y="237"/>
                  </a:lnTo>
                  <a:lnTo>
                    <a:pt x="416" y="245"/>
                  </a:lnTo>
                  <a:lnTo>
                    <a:pt x="424" y="254"/>
                  </a:lnTo>
                  <a:lnTo>
                    <a:pt x="427" y="262"/>
                  </a:lnTo>
                  <a:lnTo>
                    <a:pt x="433" y="270"/>
                  </a:lnTo>
                  <a:lnTo>
                    <a:pt x="437" y="279"/>
                  </a:lnTo>
                  <a:lnTo>
                    <a:pt x="445" y="289"/>
                  </a:lnTo>
                  <a:lnTo>
                    <a:pt x="448" y="298"/>
                  </a:lnTo>
                  <a:lnTo>
                    <a:pt x="454" y="308"/>
                  </a:lnTo>
                  <a:lnTo>
                    <a:pt x="458" y="317"/>
                  </a:lnTo>
                  <a:lnTo>
                    <a:pt x="464" y="329"/>
                  </a:lnTo>
                  <a:lnTo>
                    <a:pt x="467" y="338"/>
                  </a:lnTo>
                  <a:lnTo>
                    <a:pt x="471" y="348"/>
                  </a:lnTo>
                  <a:lnTo>
                    <a:pt x="475" y="359"/>
                  </a:lnTo>
                  <a:lnTo>
                    <a:pt x="481" y="368"/>
                  </a:lnTo>
                  <a:lnTo>
                    <a:pt x="483" y="380"/>
                  </a:lnTo>
                  <a:lnTo>
                    <a:pt x="486" y="389"/>
                  </a:lnTo>
                  <a:lnTo>
                    <a:pt x="488" y="403"/>
                  </a:lnTo>
                  <a:lnTo>
                    <a:pt x="492" y="414"/>
                  </a:lnTo>
                  <a:lnTo>
                    <a:pt x="346" y="479"/>
                  </a:lnTo>
                  <a:lnTo>
                    <a:pt x="0" y="0"/>
                  </a:lnTo>
                  <a:lnTo>
                    <a:pt x="207" y="41"/>
                  </a:lnTo>
                  <a:lnTo>
                    <a:pt x="207" y="41"/>
                  </a:lnTo>
                  <a:close/>
                </a:path>
              </a:pathLst>
            </a:cu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225160" y="480240"/>
              <a:ext cx="212040" cy="72000"/>
            </a:xfrm>
            <a:custGeom>
              <a:avLst/>
              <a:gdLst/>
              <a:ahLst/>
              <a:rect l="l" t="t" r="r" b="b"/>
              <a:pathLst>
                <a:path w="1146" h="389">
                  <a:moveTo>
                    <a:pt x="844" y="9"/>
                  </a:moveTo>
                  <a:lnTo>
                    <a:pt x="835" y="7"/>
                  </a:lnTo>
                  <a:lnTo>
                    <a:pt x="825" y="5"/>
                  </a:lnTo>
                  <a:lnTo>
                    <a:pt x="814" y="5"/>
                  </a:lnTo>
                  <a:lnTo>
                    <a:pt x="800" y="5"/>
                  </a:lnTo>
                  <a:lnTo>
                    <a:pt x="793" y="3"/>
                  </a:lnTo>
                  <a:lnTo>
                    <a:pt x="787" y="3"/>
                  </a:lnTo>
                  <a:lnTo>
                    <a:pt x="779" y="2"/>
                  </a:lnTo>
                  <a:lnTo>
                    <a:pt x="772" y="2"/>
                  </a:lnTo>
                  <a:lnTo>
                    <a:pt x="762" y="2"/>
                  </a:lnTo>
                  <a:lnTo>
                    <a:pt x="755" y="2"/>
                  </a:lnTo>
                  <a:lnTo>
                    <a:pt x="747" y="2"/>
                  </a:lnTo>
                  <a:lnTo>
                    <a:pt x="739" y="2"/>
                  </a:lnTo>
                  <a:lnTo>
                    <a:pt x="728" y="0"/>
                  </a:lnTo>
                  <a:lnTo>
                    <a:pt x="719" y="0"/>
                  </a:lnTo>
                  <a:lnTo>
                    <a:pt x="709" y="0"/>
                  </a:lnTo>
                  <a:lnTo>
                    <a:pt x="700" y="0"/>
                  </a:lnTo>
                  <a:lnTo>
                    <a:pt x="688" y="0"/>
                  </a:lnTo>
                  <a:lnTo>
                    <a:pt x="679" y="0"/>
                  </a:lnTo>
                  <a:lnTo>
                    <a:pt x="667" y="0"/>
                  </a:lnTo>
                  <a:lnTo>
                    <a:pt x="656" y="0"/>
                  </a:lnTo>
                  <a:lnTo>
                    <a:pt x="644" y="0"/>
                  </a:lnTo>
                  <a:lnTo>
                    <a:pt x="633" y="0"/>
                  </a:lnTo>
                  <a:lnTo>
                    <a:pt x="622" y="0"/>
                  </a:lnTo>
                  <a:lnTo>
                    <a:pt x="610" y="0"/>
                  </a:lnTo>
                  <a:lnTo>
                    <a:pt x="599" y="0"/>
                  </a:lnTo>
                  <a:lnTo>
                    <a:pt x="586" y="0"/>
                  </a:lnTo>
                  <a:lnTo>
                    <a:pt x="574" y="2"/>
                  </a:lnTo>
                  <a:lnTo>
                    <a:pt x="563" y="3"/>
                  </a:lnTo>
                  <a:lnTo>
                    <a:pt x="547" y="3"/>
                  </a:lnTo>
                  <a:lnTo>
                    <a:pt x="536" y="3"/>
                  </a:lnTo>
                  <a:lnTo>
                    <a:pt x="521" y="5"/>
                  </a:lnTo>
                  <a:lnTo>
                    <a:pt x="509" y="5"/>
                  </a:lnTo>
                  <a:lnTo>
                    <a:pt x="494" y="5"/>
                  </a:lnTo>
                  <a:lnTo>
                    <a:pt x="481" y="9"/>
                  </a:lnTo>
                  <a:lnTo>
                    <a:pt x="468" y="9"/>
                  </a:lnTo>
                  <a:lnTo>
                    <a:pt x="456" y="13"/>
                  </a:lnTo>
                  <a:lnTo>
                    <a:pt x="441" y="13"/>
                  </a:lnTo>
                  <a:lnTo>
                    <a:pt x="426" y="15"/>
                  </a:lnTo>
                  <a:lnTo>
                    <a:pt x="411" y="17"/>
                  </a:lnTo>
                  <a:lnTo>
                    <a:pt x="399" y="21"/>
                  </a:lnTo>
                  <a:lnTo>
                    <a:pt x="384" y="22"/>
                  </a:lnTo>
                  <a:lnTo>
                    <a:pt x="371" y="24"/>
                  </a:lnTo>
                  <a:lnTo>
                    <a:pt x="355" y="28"/>
                  </a:lnTo>
                  <a:lnTo>
                    <a:pt x="342" y="32"/>
                  </a:lnTo>
                  <a:lnTo>
                    <a:pt x="327" y="36"/>
                  </a:lnTo>
                  <a:lnTo>
                    <a:pt x="312" y="38"/>
                  </a:lnTo>
                  <a:lnTo>
                    <a:pt x="298" y="41"/>
                  </a:lnTo>
                  <a:lnTo>
                    <a:pt x="285" y="45"/>
                  </a:lnTo>
                  <a:lnTo>
                    <a:pt x="268" y="49"/>
                  </a:lnTo>
                  <a:lnTo>
                    <a:pt x="255" y="53"/>
                  </a:lnTo>
                  <a:lnTo>
                    <a:pt x="240" y="59"/>
                  </a:lnTo>
                  <a:lnTo>
                    <a:pt x="226" y="62"/>
                  </a:lnTo>
                  <a:lnTo>
                    <a:pt x="211" y="66"/>
                  </a:lnTo>
                  <a:lnTo>
                    <a:pt x="196" y="72"/>
                  </a:lnTo>
                  <a:lnTo>
                    <a:pt x="181" y="78"/>
                  </a:lnTo>
                  <a:lnTo>
                    <a:pt x="167" y="85"/>
                  </a:lnTo>
                  <a:lnTo>
                    <a:pt x="152" y="89"/>
                  </a:lnTo>
                  <a:lnTo>
                    <a:pt x="137" y="97"/>
                  </a:lnTo>
                  <a:lnTo>
                    <a:pt x="124" y="102"/>
                  </a:lnTo>
                  <a:lnTo>
                    <a:pt x="110" y="110"/>
                  </a:lnTo>
                  <a:lnTo>
                    <a:pt x="93" y="116"/>
                  </a:lnTo>
                  <a:lnTo>
                    <a:pt x="82" y="123"/>
                  </a:lnTo>
                  <a:lnTo>
                    <a:pt x="68" y="129"/>
                  </a:lnTo>
                  <a:lnTo>
                    <a:pt x="57" y="137"/>
                  </a:lnTo>
                  <a:lnTo>
                    <a:pt x="48" y="140"/>
                  </a:lnTo>
                  <a:lnTo>
                    <a:pt x="40" y="150"/>
                  </a:lnTo>
                  <a:lnTo>
                    <a:pt x="30" y="154"/>
                  </a:lnTo>
                  <a:lnTo>
                    <a:pt x="25" y="163"/>
                  </a:lnTo>
                  <a:lnTo>
                    <a:pt x="17" y="167"/>
                  </a:lnTo>
                  <a:lnTo>
                    <a:pt x="13" y="175"/>
                  </a:lnTo>
                  <a:lnTo>
                    <a:pt x="8" y="180"/>
                  </a:lnTo>
                  <a:lnTo>
                    <a:pt x="6" y="188"/>
                  </a:lnTo>
                  <a:lnTo>
                    <a:pt x="0" y="201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6" y="237"/>
                  </a:lnTo>
                  <a:lnTo>
                    <a:pt x="11" y="247"/>
                  </a:lnTo>
                  <a:lnTo>
                    <a:pt x="21" y="260"/>
                  </a:lnTo>
                  <a:lnTo>
                    <a:pt x="25" y="264"/>
                  </a:lnTo>
                  <a:lnTo>
                    <a:pt x="32" y="270"/>
                  </a:lnTo>
                  <a:lnTo>
                    <a:pt x="40" y="275"/>
                  </a:lnTo>
                  <a:lnTo>
                    <a:pt x="48" y="281"/>
                  </a:lnTo>
                  <a:lnTo>
                    <a:pt x="53" y="287"/>
                  </a:lnTo>
                  <a:lnTo>
                    <a:pt x="63" y="291"/>
                  </a:lnTo>
                  <a:lnTo>
                    <a:pt x="70" y="296"/>
                  </a:lnTo>
                  <a:lnTo>
                    <a:pt x="82" y="302"/>
                  </a:lnTo>
                  <a:lnTo>
                    <a:pt x="89" y="306"/>
                  </a:lnTo>
                  <a:lnTo>
                    <a:pt x="101" y="310"/>
                  </a:lnTo>
                  <a:lnTo>
                    <a:pt x="110" y="313"/>
                  </a:lnTo>
                  <a:lnTo>
                    <a:pt x="122" y="319"/>
                  </a:lnTo>
                  <a:lnTo>
                    <a:pt x="131" y="323"/>
                  </a:lnTo>
                  <a:lnTo>
                    <a:pt x="144" y="327"/>
                  </a:lnTo>
                  <a:lnTo>
                    <a:pt x="156" y="330"/>
                  </a:lnTo>
                  <a:lnTo>
                    <a:pt x="169" y="336"/>
                  </a:lnTo>
                  <a:lnTo>
                    <a:pt x="181" y="340"/>
                  </a:lnTo>
                  <a:lnTo>
                    <a:pt x="194" y="344"/>
                  </a:lnTo>
                  <a:lnTo>
                    <a:pt x="205" y="348"/>
                  </a:lnTo>
                  <a:lnTo>
                    <a:pt x="221" y="351"/>
                  </a:lnTo>
                  <a:lnTo>
                    <a:pt x="232" y="353"/>
                  </a:lnTo>
                  <a:lnTo>
                    <a:pt x="247" y="357"/>
                  </a:lnTo>
                  <a:lnTo>
                    <a:pt x="260" y="361"/>
                  </a:lnTo>
                  <a:lnTo>
                    <a:pt x="276" y="365"/>
                  </a:lnTo>
                  <a:lnTo>
                    <a:pt x="289" y="365"/>
                  </a:lnTo>
                  <a:lnTo>
                    <a:pt x="304" y="369"/>
                  </a:lnTo>
                  <a:lnTo>
                    <a:pt x="317" y="370"/>
                  </a:lnTo>
                  <a:lnTo>
                    <a:pt x="333" y="374"/>
                  </a:lnTo>
                  <a:lnTo>
                    <a:pt x="346" y="374"/>
                  </a:lnTo>
                  <a:lnTo>
                    <a:pt x="361" y="378"/>
                  </a:lnTo>
                  <a:lnTo>
                    <a:pt x="376" y="378"/>
                  </a:lnTo>
                  <a:lnTo>
                    <a:pt x="392" y="382"/>
                  </a:lnTo>
                  <a:lnTo>
                    <a:pt x="405" y="382"/>
                  </a:lnTo>
                  <a:lnTo>
                    <a:pt x="420" y="384"/>
                  </a:lnTo>
                  <a:lnTo>
                    <a:pt x="433" y="384"/>
                  </a:lnTo>
                  <a:lnTo>
                    <a:pt x="449" y="386"/>
                  </a:lnTo>
                  <a:lnTo>
                    <a:pt x="464" y="386"/>
                  </a:lnTo>
                  <a:lnTo>
                    <a:pt x="477" y="388"/>
                  </a:lnTo>
                  <a:lnTo>
                    <a:pt x="492" y="388"/>
                  </a:lnTo>
                  <a:lnTo>
                    <a:pt x="508" y="389"/>
                  </a:lnTo>
                  <a:lnTo>
                    <a:pt x="521" y="374"/>
                  </a:lnTo>
                  <a:lnTo>
                    <a:pt x="519" y="372"/>
                  </a:lnTo>
                  <a:lnTo>
                    <a:pt x="517" y="372"/>
                  </a:lnTo>
                  <a:lnTo>
                    <a:pt x="509" y="370"/>
                  </a:lnTo>
                  <a:lnTo>
                    <a:pt x="504" y="370"/>
                  </a:lnTo>
                  <a:lnTo>
                    <a:pt x="494" y="367"/>
                  </a:lnTo>
                  <a:lnTo>
                    <a:pt x="483" y="365"/>
                  </a:lnTo>
                  <a:lnTo>
                    <a:pt x="470" y="365"/>
                  </a:lnTo>
                  <a:lnTo>
                    <a:pt x="458" y="363"/>
                  </a:lnTo>
                  <a:lnTo>
                    <a:pt x="451" y="361"/>
                  </a:lnTo>
                  <a:lnTo>
                    <a:pt x="443" y="359"/>
                  </a:lnTo>
                  <a:lnTo>
                    <a:pt x="433" y="357"/>
                  </a:lnTo>
                  <a:lnTo>
                    <a:pt x="426" y="357"/>
                  </a:lnTo>
                  <a:lnTo>
                    <a:pt x="416" y="353"/>
                  </a:lnTo>
                  <a:lnTo>
                    <a:pt x="409" y="351"/>
                  </a:lnTo>
                  <a:lnTo>
                    <a:pt x="399" y="351"/>
                  </a:lnTo>
                  <a:lnTo>
                    <a:pt x="392" y="349"/>
                  </a:lnTo>
                  <a:lnTo>
                    <a:pt x="380" y="348"/>
                  </a:lnTo>
                  <a:lnTo>
                    <a:pt x="373" y="344"/>
                  </a:lnTo>
                  <a:lnTo>
                    <a:pt x="363" y="342"/>
                  </a:lnTo>
                  <a:lnTo>
                    <a:pt x="355" y="340"/>
                  </a:lnTo>
                  <a:lnTo>
                    <a:pt x="344" y="338"/>
                  </a:lnTo>
                  <a:lnTo>
                    <a:pt x="336" y="334"/>
                  </a:lnTo>
                  <a:lnTo>
                    <a:pt x="325" y="332"/>
                  </a:lnTo>
                  <a:lnTo>
                    <a:pt x="317" y="330"/>
                  </a:lnTo>
                  <a:lnTo>
                    <a:pt x="306" y="327"/>
                  </a:lnTo>
                  <a:lnTo>
                    <a:pt x="298" y="325"/>
                  </a:lnTo>
                  <a:lnTo>
                    <a:pt x="287" y="321"/>
                  </a:lnTo>
                  <a:lnTo>
                    <a:pt x="278" y="317"/>
                  </a:lnTo>
                  <a:lnTo>
                    <a:pt x="268" y="313"/>
                  </a:lnTo>
                  <a:lnTo>
                    <a:pt x="259" y="311"/>
                  </a:lnTo>
                  <a:lnTo>
                    <a:pt x="249" y="308"/>
                  </a:lnTo>
                  <a:lnTo>
                    <a:pt x="241" y="306"/>
                  </a:lnTo>
                  <a:lnTo>
                    <a:pt x="230" y="302"/>
                  </a:lnTo>
                  <a:lnTo>
                    <a:pt x="221" y="300"/>
                  </a:lnTo>
                  <a:lnTo>
                    <a:pt x="211" y="294"/>
                  </a:lnTo>
                  <a:lnTo>
                    <a:pt x="203" y="292"/>
                  </a:lnTo>
                  <a:lnTo>
                    <a:pt x="194" y="289"/>
                  </a:lnTo>
                  <a:lnTo>
                    <a:pt x="186" y="285"/>
                  </a:lnTo>
                  <a:lnTo>
                    <a:pt x="179" y="281"/>
                  </a:lnTo>
                  <a:lnTo>
                    <a:pt x="171" y="277"/>
                  </a:lnTo>
                  <a:lnTo>
                    <a:pt x="163" y="273"/>
                  </a:lnTo>
                  <a:lnTo>
                    <a:pt x="156" y="270"/>
                  </a:lnTo>
                  <a:lnTo>
                    <a:pt x="148" y="264"/>
                  </a:lnTo>
                  <a:lnTo>
                    <a:pt x="141" y="260"/>
                  </a:lnTo>
                  <a:lnTo>
                    <a:pt x="129" y="251"/>
                  </a:lnTo>
                  <a:lnTo>
                    <a:pt x="120" y="241"/>
                  </a:lnTo>
                  <a:lnTo>
                    <a:pt x="108" y="230"/>
                  </a:lnTo>
                  <a:lnTo>
                    <a:pt x="101" y="220"/>
                  </a:lnTo>
                  <a:lnTo>
                    <a:pt x="97" y="211"/>
                  </a:lnTo>
                  <a:lnTo>
                    <a:pt x="93" y="201"/>
                  </a:lnTo>
                  <a:lnTo>
                    <a:pt x="91" y="190"/>
                  </a:lnTo>
                  <a:lnTo>
                    <a:pt x="93" y="176"/>
                  </a:lnTo>
                  <a:lnTo>
                    <a:pt x="97" y="165"/>
                  </a:lnTo>
                  <a:lnTo>
                    <a:pt x="106" y="154"/>
                  </a:lnTo>
                  <a:lnTo>
                    <a:pt x="110" y="148"/>
                  </a:lnTo>
                  <a:lnTo>
                    <a:pt x="116" y="142"/>
                  </a:lnTo>
                  <a:lnTo>
                    <a:pt x="124" y="137"/>
                  </a:lnTo>
                  <a:lnTo>
                    <a:pt x="131" y="133"/>
                  </a:lnTo>
                  <a:lnTo>
                    <a:pt x="139" y="127"/>
                  </a:lnTo>
                  <a:lnTo>
                    <a:pt x="146" y="121"/>
                  </a:lnTo>
                  <a:lnTo>
                    <a:pt x="156" y="116"/>
                  </a:lnTo>
                  <a:lnTo>
                    <a:pt x="167" y="112"/>
                  </a:lnTo>
                  <a:lnTo>
                    <a:pt x="175" y="106"/>
                  </a:lnTo>
                  <a:lnTo>
                    <a:pt x="186" y="100"/>
                  </a:lnTo>
                  <a:lnTo>
                    <a:pt x="198" y="95"/>
                  </a:lnTo>
                  <a:lnTo>
                    <a:pt x="211" y="91"/>
                  </a:lnTo>
                  <a:lnTo>
                    <a:pt x="222" y="85"/>
                  </a:lnTo>
                  <a:lnTo>
                    <a:pt x="238" y="81"/>
                  </a:lnTo>
                  <a:lnTo>
                    <a:pt x="251" y="78"/>
                  </a:lnTo>
                  <a:lnTo>
                    <a:pt x="266" y="74"/>
                  </a:lnTo>
                  <a:lnTo>
                    <a:pt x="279" y="68"/>
                  </a:lnTo>
                  <a:lnTo>
                    <a:pt x="295" y="64"/>
                  </a:lnTo>
                  <a:lnTo>
                    <a:pt x="312" y="60"/>
                  </a:lnTo>
                  <a:lnTo>
                    <a:pt x="329" y="57"/>
                  </a:lnTo>
                  <a:lnTo>
                    <a:pt x="344" y="53"/>
                  </a:lnTo>
                  <a:lnTo>
                    <a:pt x="361" y="49"/>
                  </a:lnTo>
                  <a:lnTo>
                    <a:pt x="378" y="47"/>
                  </a:lnTo>
                  <a:lnTo>
                    <a:pt x="399" y="45"/>
                  </a:lnTo>
                  <a:lnTo>
                    <a:pt x="416" y="40"/>
                  </a:lnTo>
                  <a:lnTo>
                    <a:pt x="433" y="38"/>
                  </a:lnTo>
                  <a:lnTo>
                    <a:pt x="452" y="36"/>
                  </a:lnTo>
                  <a:lnTo>
                    <a:pt x="473" y="32"/>
                  </a:lnTo>
                  <a:lnTo>
                    <a:pt x="492" y="30"/>
                  </a:lnTo>
                  <a:lnTo>
                    <a:pt x="511" y="28"/>
                  </a:lnTo>
                  <a:lnTo>
                    <a:pt x="534" y="26"/>
                  </a:lnTo>
                  <a:lnTo>
                    <a:pt x="555" y="26"/>
                  </a:lnTo>
                  <a:lnTo>
                    <a:pt x="576" y="22"/>
                  </a:lnTo>
                  <a:lnTo>
                    <a:pt x="599" y="22"/>
                  </a:lnTo>
                  <a:lnTo>
                    <a:pt x="620" y="22"/>
                  </a:lnTo>
                  <a:lnTo>
                    <a:pt x="643" y="22"/>
                  </a:lnTo>
                  <a:lnTo>
                    <a:pt x="665" y="21"/>
                  </a:lnTo>
                  <a:lnTo>
                    <a:pt x="686" y="21"/>
                  </a:lnTo>
                  <a:lnTo>
                    <a:pt x="711" y="22"/>
                  </a:lnTo>
                  <a:lnTo>
                    <a:pt x="736" y="22"/>
                  </a:lnTo>
                  <a:lnTo>
                    <a:pt x="757" y="22"/>
                  </a:lnTo>
                  <a:lnTo>
                    <a:pt x="779" y="22"/>
                  </a:lnTo>
                  <a:lnTo>
                    <a:pt x="804" y="24"/>
                  </a:lnTo>
                  <a:lnTo>
                    <a:pt x="827" y="26"/>
                  </a:lnTo>
                  <a:lnTo>
                    <a:pt x="852" y="28"/>
                  </a:lnTo>
                  <a:lnTo>
                    <a:pt x="876" y="32"/>
                  </a:lnTo>
                  <a:lnTo>
                    <a:pt x="901" y="34"/>
                  </a:lnTo>
                  <a:lnTo>
                    <a:pt x="926" y="38"/>
                  </a:lnTo>
                  <a:lnTo>
                    <a:pt x="949" y="40"/>
                  </a:lnTo>
                  <a:lnTo>
                    <a:pt x="975" y="45"/>
                  </a:lnTo>
                  <a:lnTo>
                    <a:pt x="1000" y="49"/>
                  </a:lnTo>
                  <a:lnTo>
                    <a:pt x="1025" y="53"/>
                  </a:lnTo>
                  <a:lnTo>
                    <a:pt x="1049" y="59"/>
                  </a:lnTo>
                  <a:lnTo>
                    <a:pt x="1076" y="62"/>
                  </a:lnTo>
                  <a:lnTo>
                    <a:pt x="1101" y="68"/>
                  </a:lnTo>
                  <a:lnTo>
                    <a:pt x="1127" y="76"/>
                  </a:lnTo>
                  <a:lnTo>
                    <a:pt x="1146" y="57"/>
                  </a:lnTo>
                  <a:lnTo>
                    <a:pt x="1144" y="55"/>
                  </a:lnTo>
                  <a:lnTo>
                    <a:pt x="1137" y="53"/>
                  </a:lnTo>
                  <a:lnTo>
                    <a:pt x="1127" y="51"/>
                  </a:lnTo>
                  <a:lnTo>
                    <a:pt x="1116" y="49"/>
                  </a:lnTo>
                  <a:lnTo>
                    <a:pt x="1106" y="45"/>
                  </a:lnTo>
                  <a:lnTo>
                    <a:pt x="1099" y="45"/>
                  </a:lnTo>
                  <a:lnTo>
                    <a:pt x="1089" y="41"/>
                  </a:lnTo>
                  <a:lnTo>
                    <a:pt x="1080" y="40"/>
                  </a:lnTo>
                  <a:lnTo>
                    <a:pt x="1070" y="38"/>
                  </a:lnTo>
                  <a:lnTo>
                    <a:pt x="1059" y="36"/>
                  </a:lnTo>
                  <a:lnTo>
                    <a:pt x="1049" y="36"/>
                  </a:lnTo>
                  <a:lnTo>
                    <a:pt x="1038" y="34"/>
                  </a:lnTo>
                  <a:lnTo>
                    <a:pt x="1025" y="32"/>
                  </a:lnTo>
                  <a:lnTo>
                    <a:pt x="1013" y="28"/>
                  </a:lnTo>
                  <a:lnTo>
                    <a:pt x="1002" y="26"/>
                  </a:lnTo>
                  <a:lnTo>
                    <a:pt x="989" y="24"/>
                  </a:lnTo>
                  <a:lnTo>
                    <a:pt x="975" y="22"/>
                  </a:lnTo>
                  <a:lnTo>
                    <a:pt x="964" y="21"/>
                  </a:lnTo>
                  <a:lnTo>
                    <a:pt x="951" y="19"/>
                  </a:lnTo>
                  <a:lnTo>
                    <a:pt x="939" y="19"/>
                  </a:lnTo>
                  <a:lnTo>
                    <a:pt x="926" y="15"/>
                  </a:lnTo>
                  <a:lnTo>
                    <a:pt x="914" y="15"/>
                  </a:lnTo>
                  <a:lnTo>
                    <a:pt x="901" y="11"/>
                  </a:lnTo>
                  <a:lnTo>
                    <a:pt x="888" y="11"/>
                  </a:lnTo>
                  <a:lnTo>
                    <a:pt x="876" y="9"/>
                  </a:lnTo>
                  <a:lnTo>
                    <a:pt x="865" y="9"/>
                  </a:lnTo>
                  <a:lnTo>
                    <a:pt x="854" y="9"/>
                  </a:lnTo>
                  <a:lnTo>
                    <a:pt x="844" y="9"/>
                  </a:lnTo>
                  <a:lnTo>
                    <a:pt x="844" y="9"/>
                  </a:lnTo>
                  <a:close/>
                </a:path>
              </a:pathLst>
            </a:custGeom>
            <a:solidFill>
              <a:srgbClr val="edeb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390040" y="478800"/>
              <a:ext cx="29160" cy="80640"/>
            </a:xfrm>
            <a:custGeom>
              <a:avLst/>
              <a:gdLst/>
              <a:ahLst/>
              <a:rect l="l" t="t" r="r" b="b"/>
              <a:pathLst>
                <a:path w="158" h="437">
                  <a:moveTo>
                    <a:pt x="141" y="0"/>
                  </a:moveTo>
                  <a:lnTo>
                    <a:pt x="141" y="4"/>
                  </a:lnTo>
                  <a:lnTo>
                    <a:pt x="143" y="10"/>
                  </a:lnTo>
                  <a:lnTo>
                    <a:pt x="144" y="21"/>
                  </a:lnTo>
                  <a:lnTo>
                    <a:pt x="144" y="30"/>
                  </a:lnTo>
                  <a:lnTo>
                    <a:pt x="148" y="44"/>
                  </a:lnTo>
                  <a:lnTo>
                    <a:pt x="148" y="51"/>
                  </a:lnTo>
                  <a:lnTo>
                    <a:pt x="150" y="59"/>
                  </a:lnTo>
                  <a:lnTo>
                    <a:pt x="150" y="68"/>
                  </a:lnTo>
                  <a:lnTo>
                    <a:pt x="154" y="78"/>
                  </a:lnTo>
                  <a:lnTo>
                    <a:pt x="154" y="86"/>
                  </a:lnTo>
                  <a:lnTo>
                    <a:pt x="154" y="95"/>
                  </a:lnTo>
                  <a:lnTo>
                    <a:pt x="154" y="105"/>
                  </a:lnTo>
                  <a:lnTo>
                    <a:pt x="156" y="116"/>
                  </a:lnTo>
                  <a:lnTo>
                    <a:pt x="156" y="126"/>
                  </a:lnTo>
                  <a:lnTo>
                    <a:pt x="156" y="137"/>
                  </a:lnTo>
                  <a:lnTo>
                    <a:pt x="156" y="148"/>
                  </a:lnTo>
                  <a:lnTo>
                    <a:pt x="158" y="160"/>
                  </a:lnTo>
                  <a:lnTo>
                    <a:pt x="156" y="171"/>
                  </a:lnTo>
                  <a:lnTo>
                    <a:pt x="156" y="183"/>
                  </a:lnTo>
                  <a:lnTo>
                    <a:pt x="154" y="194"/>
                  </a:lnTo>
                  <a:lnTo>
                    <a:pt x="154" y="207"/>
                  </a:lnTo>
                  <a:lnTo>
                    <a:pt x="154" y="219"/>
                  </a:lnTo>
                  <a:lnTo>
                    <a:pt x="152" y="232"/>
                  </a:lnTo>
                  <a:lnTo>
                    <a:pt x="150" y="245"/>
                  </a:lnTo>
                  <a:lnTo>
                    <a:pt x="148" y="259"/>
                  </a:lnTo>
                  <a:lnTo>
                    <a:pt x="144" y="272"/>
                  </a:lnTo>
                  <a:lnTo>
                    <a:pt x="143" y="283"/>
                  </a:lnTo>
                  <a:lnTo>
                    <a:pt x="141" y="295"/>
                  </a:lnTo>
                  <a:lnTo>
                    <a:pt x="137" y="306"/>
                  </a:lnTo>
                  <a:lnTo>
                    <a:pt x="133" y="316"/>
                  </a:lnTo>
                  <a:lnTo>
                    <a:pt x="131" y="325"/>
                  </a:lnTo>
                  <a:lnTo>
                    <a:pt x="127" y="335"/>
                  </a:lnTo>
                  <a:lnTo>
                    <a:pt x="124" y="344"/>
                  </a:lnTo>
                  <a:lnTo>
                    <a:pt x="120" y="352"/>
                  </a:lnTo>
                  <a:lnTo>
                    <a:pt x="116" y="359"/>
                  </a:lnTo>
                  <a:lnTo>
                    <a:pt x="112" y="367"/>
                  </a:lnTo>
                  <a:lnTo>
                    <a:pt x="108" y="375"/>
                  </a:lnTo>
                  <a:lnTo>
                    <a:pt x="103" y="386"/>
                  </a:lnTo>
                  <a:lnTo>
                    <a:pt x="97" y="399"/>
                  </a:lnTo>
                  <a:lnTo>
                    <a:pt x="87" y="409"/>
                  </a:lnTo>
                  <a:lnTo>
                    <a:pt x="80" y="416"/>
                  </a:lnTo>
                  <a:lnTo>
                    <a:pt x="74" y="422"/>
                  </a:lnTo>
                  <a:lnTo>
                    <a:pt x="70" y="428"/>
                  </a:lnTo>
                  <a:lnTo>
                    <a:pt x="63" y="435"/>
                  </a:lnTo>
                  <a:lnTo>
                    <a:pt x="61" y="437"/>
                  </a:lnTo>
                  <a:lnTo>
                    <a:pt x="0" y="415"/>
                  </a:lnTo>
                  <a:lnTo>
                    <a:pt x="85" y="188"/>
                  </a:lnTo>
                  <a:lnTo>
                    <a:pt x="87" y="19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163960" y="465840"/>
              <a:ext cx="291960" cy="106560"/>
            </a:xfrm>
            <a:custGeom>
              <a:avLst/>
              <a:gdLst/>
              <a:ahLst/>
              <a:rect l="l" t="t" r="r" b="b"/>
              <a:pathLst>
                <a:path w="1576" h="576">
                  <a:moveTo>
                    <a:pt x="689" y="2"/>
                  </a:moveTo>
                  <a:lnTo>
                    <a:pt x="671" y="2"/>
                  </a:lnTo>
                  <a:lnTo>
                    <a:pt x="658" y="2"/>
                  </a:lnTo>
                  <a:lnTo>
                    <a:pt x="645" y="2"/>
                  </a:lnTo>
                  <a:lnTo>
                    <a:pt x="631" y="3"/>
                  </a:lnTo>
                  <a:lnTo>
                    <a:pt x="616" y="3"/>
                  </a:lnTo>
                  <a:lnTo>
                    <a:pt x="603" y="3"/>
                  </a:lnTo>
                  <a:lnTo>
                    <a:pt x="590" y="5"/>
                  </a:lnTo>
                  <a:lnTo>
                    <a:pt x="576" y="7"/>
                  </a:lnTo>
                  <a:lnTo>
                    <a:pt x="563" y="7"/>
                  </a:lnTo>
                  <a:lnTo>
                    <a:pt x="550" y="9"/>
                  </a:lnTo>
                  <a:lnTo>
                    <a:pt x="536" y="9"/>
                  </a:lnTo>
                  <a:lnTo>
                    <a:pt x="523" y="13"/>
                  </a:lnTo>
                  <a:lnTo>
                    <a:pt x="510" y="13"/>
                  </a:lnTo>
                  <a:lnTo>
                    <a:pt x="497" y="17"/>
                  </a:lnTo>
                  <a:lnTo>
                    <a:pt x="483" y="17"/>
                  </a:lnTo>
                  <a:lnTo>
                    <a:pt x="472" y="22"/>
                  </a:lnTo>
                  <a:lnTo>
                    <a:pt x="458" y="22"/>
                  </a:lnTo>
                  <a:lnTo>
                    <a:pt x="445" y="26"/>
                  </a:lnTo>
                  <a:lnTo>
                    <a:pt x="434" y="26"/>
                  </a:lnTo>
                  <a:lnTo>
                    <a:pt x="422" y="30"/>
                  </a:lnTo>
                  <a:lnTo>
                    <a:pt x="409" y="30"/>
                  </a:lnTo>
                  <a:lnTo>
                    <a:pt x="398" y="34"/>
                  </a:lnTo>
                  <a:lnTo>
                    <a:pt x="386" y="36"/>
                  </a:lnTo>
                  <a:lnTo>
                    <a:pt x="375" y="40"/>
                  </a:lnTo>
                  <a:lnTo>
                    <a:pt x="362" y="43"/>
                  </a:lnTo>
                  <a:lnTo>
                    <a:pt x="350" y="45"/>
                  </a:lnTo>
                  <a:lnTo>
                    <a:pt x="341" y="47"/>
                  </a:lnTo>
                  <a:lnTo>
                    <a:pt x="329" y="53"/>
                  </a:lnTo>
                  <a:lnTo>
                    <a:pt x="318" y="55"/>
                  </a:lnTo>
                  <a:lnTo>
                    <a:pt x="306" y="59"/>
                  </a:lnTo>
                  <a:lnTo>
                    <a:pt x="297" y="62"/>
                  </a:lnTo>
                  <a:lnTo>
                    <a:pt x="287" y="66"/>
                  </a:lnTo>
                  <a:lnTo>
                    <a:pt x="274" y="70"/>
                  </a:lnTo>
                  <a:lnTo>
                    <a:pt x="266" y="74"/>
                  </a:lnTo>
                  <a:lnTo>
                    <a:pt x="255" y="76"/>
                  </a:lnTo>
                  <a:lnTo>
                    <a:pt x="246" y="80"/>
                  </a:lnTo>
                  <a:lnTo>
                    <a:pt x="234" y="83"/>
                  </a:lnTo>
                  <a:lnTo>
                    <a:pt x="227" y="87"/>
                  </a:lnTo>
                  <a:lnTo>
                    <a:pt x="215" y="93"/>
                  </a:lnTo>
                  <a:lnTo>
                    <a:pt x="208" y="97"/>
                  </a:lnTo>
                  <a:lnTo>
                    <a:pt x="196" y="100"/>
                  </a:lnTo>
                  <a:lnTo>
                    <a:pt x="187" y="104"/>
                  </a:lnTo>
                  <a:lnTo>
                    <a:pt x="179" y="108"/>
                  </a:lnTo>
                  <a:lnTo>
                    <a:pt x="171" y="112"/>
                  </a:lnTo>
                  <a:lnTo>
                    <a:pt x="162" y="116"/>
                  </a:lnTo>
                  <a:lnTo>
                    <a:pt x="154" y="121"/>
                  </a:lnTo>
                  <a:lnTo>
                    <a:pt x="147" y="127"/>
                  </a:lnTo>
                  <a:lnTo>
                    <a:pt x="139" y="131"/>
                  </a:lnTo>
                  <a:lnTo>
                    <a:pt x="132" y="137"/>
                  </a:lnTo>
                  <a:lnTo>
                    <a:pt x="124" y="140"/>
                  </a:lnTo>
                  <a:lnTo>
                    <a:pt x="116" y="144"/>
                  </a:lnTo>
                  <a:lnTo>
                    <a:pt x="109" y="150"/>
                  </a:lnTo>
                  <a:lnTo>
                    <a:pt x="101" y="154"/>
                  </a:lnTo>
                  <a:lnTo>
                    <a:pt x="95" y="159"/>
                  </a:lnTo>
                  <a:lnTo>
                    <a:pt x="90" y="165"/>
                  </a:lnTo>
                  <a:lnTo>
                    <a:pt x="84" y="171"/>
                  </a:lnTo>
                  <a:lnTo>
                    <a:pt x="73" y="180"/>
                  </a:lnTo>
                  <a:lnTo>
                    <a:pt x="61" y="192"/>
                  </a:lnTo>
                  <a:lnTo>
                    <a:pt x="52" y="203"/>
                  </a:lnTo>
                  <a:lnTo>
                    <a:pt x="44" y="215"/>
                  </a:lnTo>
                  <a:lnTo>
                    <a:pt x="38" y="222"/>
                  </a:lnTo>
                  <a:lnTo>
                    <a:pt x="33" y="228"/>
                  </a:lnTo>
                  <a:lnTo>
                    <a:pt x="29" y="235"/>
                  </a:lnTo>
                  <a:lnTo>
                    <a:pt x="25" y="243"/>
                  </a:lnTo>
                  <a:lnTo>
                    <a:pt x="19" y="251"/>
                  </a:lnTo>
                  <a:lnTo>
                    <a:pt x="16" y="258"/>
                  </a:lnTo>
                  <a:lnTo>
                    <a:pt x="12" y="268"/>
                  </a:lnTo>
                  <a:lnTo>
                    <a:pt x="10" y="275"/>
                  </a:lnTo>
                  <a:lnTo>
                    <a:pt x="6" y="281"/>
                  </a:lnTo>
                  <a:lnTo>
                    <a:pt x="4" y="289"/>
                  </a:lnTo>
                  <a:lnTo>
                    <a:pt x="2" y="296"/>
                  </a:lnTo>
                  <a:lnTo>
                    <a:pt x="2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2" y="327"/>
                  </a:lnTo>
                  <a:lnTo>
                    <a:pt x="4" y="334"/>
                  </a:lnTo>
                  <a:lnTo>
                    <a:pt x="8" y="348"/>
                  </a:lnTo>
                  <a:lnTo>
                    <a:pt x="14" y="361"/>
                  </a:lnTo>
                  <a:lnTo>
                    <a:pt x="17" y="367"/>
                  </a:lnTo>
                  <a:lnTo>
                    <a:pt x="21" y="374"/>
                  </a:lnTo>
                  <a:lnTo>
                    <a:pt x="27" y="380"/>
                  </a:lnTo>
                  <a:lnTo>
                    <a:pt x="33" y="388"/>
                  </a:lnTo>
                  <a:lnTo>
                    <a:pt x="36" y="393"/>
                  </a:lnTo>
                  <a:lnTo>
                    <a:pt x="42" y="399"/>
                  </a:lnTo>
                  <a:lnTo>
                    <a:pt x="50" y="405"/>
                  </a:lnTo>
                  <a:lnTo>
                    <a:pt x="57" y="412"/>
                  </a:lnTo>
                  <a:lnTo>
                    <a:pt x="65" y="418"/>
                  </a:lnTo>
                  <a:lnTo>
                    <a:pt x="73" y="424"/>
                  </a:lnTo>
                  <a:lnTo>
                    <a:pt x="80" y="429"/>
                  </a:lnTo>
                  <a:lnTo>
                    <a:pt x="90" y="437"/>
                  </a:lnTo>
                  <a:lnTo>
                    <a:pt x="97" y="443"/>
                  </a:lnTo>
                  <a:lnTo>
                    <a:pt x="107" y="448"/>
                  </a:lnTo>
                  <a:lnTo>
                    <a:pt x="116" y="452"/>
                  </a:lnTo>
                  <a:lnTo>
                    <a:pt x="126" y="460"/>
                  </a:lnTo>
                  <a:lnTo>
                    <a:pt x="135" y="464"/>
                  </a:lnTo>
                  <a:lnTo>
                    <a:pt x="147" y="469"/>
                  </a:lnTo>
                  <a:lnTo>
                    <a:pt x="158" y="473"/>
                  </a:lnTo>
                  <a:lnTo>
                    <a:pt x="170" y="481"/>
                  </a:lnTo>
                  <a:lnTo>
                    <a:pt x="181" y="485"/>
                  </a:lnTo>
                  <a:lnTo>
                    <a:pt x="192" y="490"/>
                  </a:lnTo>
                  <a:lnTo>
                    <a:pt x="204" y="494"/>
                  </a:lnTo>
                  <a:lnTo>
                    <a:pt x="217" y="500"/>
                  </a:lnTo>
                  <a:lnTo>
                    <a:pt x="230" y="504"/>
                  </a:lnTo>
                  <a:lnTo>
                    <a:pt x="244" y="507"/>
                  </a:lnTo>
                  <a:lnTo>
                    <a:pt x="257" y="511"/>
                  </a:lnTo>
                  <a:lnTo>
                    <a:pt x="272" y="517"/>
                  </a:lnTo>
                  <a:lnTo>
                    <a:pt x="285" y="519"/>
                  </a:lnTo>
                  <a:lnTo>
                    <a:pt x="301" y="523"/>
                  </a:lnTo>
                  <a:lnTo>
                    <a:pt x="314" y="526"/>
                  </a:lnTo>
                  <a:lnTo>
                    <a:pt x="329" y="532"/>
                  </a:lnTo>
                  <a:lnTo>
                    <a:pt x="344" y="534"/>
                  </a:lnTo>
                  <a:lnTo>
                    <a:pt x="360" y="536"/>
                  </a:lnTo>
                  <a:lnTo>
                    <a:pt x="375" y="540"/>
                  </a:lnTo>
                  <a:lnTo>
                    <a:pt x="392" y="543"/>
                  </a:lnTo>
                  <a:lnTo>
                    <a:pt x="409" y="543"/>
                  </a:lnTo>
                  <a:lnTo>
                    <a:pt x="424" y="549"/>
                  </a:lnTo>
                  <a:lnTo>
                    <a:pt x="439" y="549"/>
                  </a:lnTo>
                  <a:lnTo>
                    <a:pt x="458" y="553"/>
                  </a:lnTo>
                  <a:lnTo>
                    <a:pt x="476" y="555"/>
                  </a:lnTo>
                  <a:lnTo>
                    <a:pt x="493" y="559"/>
                  </a:lnTo>
                  <a:lnTo>
                    <a:pt x="510" y="561"/>
                  </a:lnTo>
                  <a:lnTo>
                    <a:pt x="529" y="562"/>
                  </a:lnTo>
                  <a:lnTo>
                    <a:pt x="546" y="564"/>
                  </a:lnTo>
                  <a:lnTo>
                    <a:pt x="565" y="566"/>
                  </a:lnTo>
                  <a:lnTo>
                    <a:pt x="582" y="566"/>
                  </a:lnTo>
                  <a:lnTo>
                    <a:pt x="603" y="568"/>
                  </a:lnTo>
                  <a:lnTo>
                    <a:pt x="620" y="570"/>
                  </a:lnTo>
                  <a:lnTo>
                    <a:pt x="639" y="570"/>
                  </a:lnTo>
                  <a:lnTo>
                    <a:pt x="658" y="572"/>
                  </a:lnTo>
                  <a:lnTo>
                    <a:pt x="679" y="574"/>
                  </a:lnTo>
                  <a:lnTo>
                    <a:pt x="698" y="574"/>
                  </a:lnTo>
                  <a:lnTo>
                    <a:pt x="719" y="574"/>
                  </a:lnTo>
                  <a:lnTo>
                    <a:pt x="738" y="574"/>
                  </a:lnTo>
                  <a:lnTo>
                    <a:pt x="759" y="576"/>
                  </a:lnTo>
                  <a:lnTo>
                    <a:pt x="778" y="576"/>
                  </a:lnTo>
                  <a:lnTo>
                    <a:pt x="799" y="576"/>
                  </a:lnTo>
                  <a:lnTo>
                    <a:pt x="820" y="576"/>
                  </a:lnTo>
                  <a:lnTo>
                    <a:pt x="841" y="576"/>
                  </a:lnTo>
                  <a:lnTo>
                    <a:pt x="846" y="574"/>
                  </a:lnTo>
                  <a:lnTo>
                    <a:pt x="854" y="574"/>
                  </a:lnTo>
                  <a:lnTo>
                    <a:pt x="862" y="572"/>
                  </a:lnTo>
                  <a:lnTo>
                    <a:pt x="869" y="572"/>
                  </a:lnTo>
                  <a:lnTo>
                    <a:pt x="877" y="570"/>
                  </a:lnTo>
                  <a:lnTo>
                    <a:pt x="886" y="570"/>
                  </a:lnTo>
                  <a:lnTo>
                    <a:pt x="896" y="570"/>
                  </a:lnTo>
                  <a:lnTo>
                    <a:pt x="903" y="570"/>
                  </a:lnTo>
                  <a:lnTo>
                    <a:pt x="913" y="568"/>
                  </a:lnTo>
                  <a:lnTo>
                    <a:pt x="920" y="566"/>
                  </a:lnTo>
                  <a:lnTo>
                    <a:pt x="930" y="566"/>
                  </a:lnTo>
                  <a:lnTo>
                    <a:pt x="939" y="566"/>
                  </a:lnTo>
                  <a:lnTo>
                    <a:pt x="949" y="564"/>
                  </a:lnTo>
                  <a:lnTo>
                    <a:pt x="960" y="564"/>
                  </a:lnTo>
                  <a:lnTo>
                    <a:pt x="970" y="562"/>
                  </a:lnTo>
                  <a:lnTo>
                    <a:pt x="979" y="562"/>
                  </a:lnTo>
                  <a:lnTo>
                    <a:pt x="987" y="561"/>
                  </a:lnTo>
                  <a:lnTo>
                    <a:pt x="998" y="561"/>
                  </a:lnTo>
                  <a:lnTo>
                    <a:pt x="1006" y="559"/>
                  </a:lnTo>
                  <a:lnTo>
                    <a:pt x="1017" y="559"/>
                  </a:lnTo>
                  <a:lnTo>
                    <a:pt x="1025" y="557"/>
                  </a:lnTo>
                  <a:lnTo>
                    <a:pt x="1034" y="555"/>
                  </a:lnTo>
                  <a:lnTo>
                    <a:pt x="1044" y="553"/>
                  </a:lnTo>
                  <a:lnTo>
                    <a:pt x="1055" y="553"/>
                  </a:lnTo>
                  <a:lnTo>
                    <a:pt x="1063" y="553"/>
                  </a:lnTo>
                  <a:lnTo>
                    <a:pt x="1073" y="551"/>
                  </a:lnTo>
                  <a:lnTo>
                    <a:pt x="1080" y="549"/>
                  </a:lnTo>
                  <a:lnTo>
                    <a:pt x="1090" y="549"/>
                  </a:lnTo>
                  <a:lnTo>
                    <a:pt x="1095" y="549"/>
                  </a:lnTo>
                  <a:lnTo>
                    <a:pt x="1105" y="547"/>
                  </a:lnTo>
                  <a:lnTo>
                    <a:pt x="1112" y="545"/>
                  </a:lnTo>
                  <a:lnTo>
                    <a:pt x="1120" y="545"/>
                  </a:lnTo>
                  <a:lnTo>
                    <a:pt x="1116" y="519"/>
                  </a:lnTo>
                  <a:lnTo>
                    <a:pt x="1109" y="519"/>
                  </a:lnTo>
                  <a:lnTo>
                    <a:pt x="1101" y="519"/>
                  </a:lnTo>
                  <a:lnTo>
                    <a:pt x="1092" y="521"/>
                  </a:lnTo>
                  <a:lnTo>
                    <a:pt x="1086" y="523"/>
                  </a:lnTo>
                  <a:lnTo>
                    <a:pt x="1076" y="523"/>
                  </a:lnTo>
                  <a:lnTo>
                    <a:pt x="1069" y="523"/>
                  </a:lnTo>
                  <a:lnTo>
                    <a:pt x="1061" y="524"/>
                  </a:lnTo>
                  <a:lnTo>
                    <a:pt x="1052" y="526"/>
                  </a:lnTo>
                  <a:lnTo>
                    <a:pt x="1042" y="526"/>
                  </a:lnTo>
                  <a:lnTo>
                    <a:pt x="1033" y="526"/>
                  </a:lnTo>
                  <a:lnTo>
                    <a:pt x="1023" y="528"/>
                  </a:lnTo>
                  <a:lnTo>
                    <a:pt x="1014" y="530"/>
                  </a:lnTo>
                  <a:lnTo>
                    <a:pt x="1004" y="530"/>
                  </a:lnTo>
                  <a:lnTo>
                    <a:pt x="995" y="532"/>
                  </a:lnTo>
                  <a:lnTo>
                    <a:pt x="985" y="532"/>
                  </a:lnTo>
                  <a:lnTo>
                    <a:pt x="977" y="536"/>
                  </a:lnTo>
                  <a:lnTo>
                    <a:pt x="966" y="536"/>
                  </a:lnTo>
                  <a:lnTo>
                    <a:pt x="957" y="536"/>
                  </a:lnTo>
                  <a:lnTo>
                    <a:pt x="947" y="538"/>
                  </a:lnTo>
                  <a:lnTo>
                    <a:pt x="938" y="540"/>
                  </a:lnTo>
                  <a:lnTo>
                    <a:pt x="928" y="540"/>
                  </a:lnTo>
                  <a:lnTo>
                    <a:pt x="919" y="540"/>
                  </a:lnTo>
                  <a:lnTo>
                    <a:pt x="909" y="542"/>
                  </a:lnTo>
                  <a:lnTo>
                    <a:pt x="901" y="543"/>
                  </a:lnTo>
                  <a:lnTo>
                    <a:pt x="892" y="543"/>
                  </a:lnTo>
                  <a:lnTo>
                    <a:pt x="882" y="543"/>
                  </a:lnTo>
                  <a:lnTo>
                    <a:pt x="875" y="543"/>
                  </a:lnTo>
                  <a:lnTo>
                    <a:pt x="867" y="543"/>
                  </a:lnTo>
                  <a:lnTo>
                    <a:pt x="860" y="543"/>
                  </a:lnTo>
                  <a:lnTo>
                    <a:pt x="850" y="545"/>
                  </a:lnTo>
                  <a:lnTo>
                    <a:pt x="844" y="545"/>
                  </a:lnTo>
                  <a:lnTo>
                    <a:pt x="839" y="547"/>
                  </a:lnTo>
                  <a:lnTo>
                    <a:pt x="820" y="547"/>
                  </a:lnTo>
                  <a:lnTo>
                    <a:pt x="799" y="547"/>
                  </a:lnTo>
                  <a:lnTo>
                    <a:pt x="780" y="547"/>
                  </a:lnTo>
                  <a:lnTo>
                    <a:pt x="761" y="547"/>
                  </a:lnTo>
                  <a:lnTo>
                    <a:pt x="742" y="545"/>
                  </a:lnTo>
                  <a:lnTo>
                    <a:pt x="723" y="545"/>
                  </a:lnTo>
                  <a:lnTo>
                    <a:pt x="704" y="545"/>
                  </a:lnTo>
                  <a:lnTo>
                    <a:pt x="687" y="545"/>
                  </a:lnTo>
                  <a:lnTo>
                    <a:pt x="668" y="543"/>
                  </a:lnTo>
                  <a:lnTo>
                    <a:pt x="650" y="543"/>
                  </a:lnTo>
                  <a:lnTo>
                    <a:pt x="631" y="542"/>
                  </a:lnTo>
                  <a:lnTo>
                    <a:pt x="614" y="542"/>
                  </a:lnTo>
                  <a:lnTo>
                    <a:pt x="595" y="540"/>
                  </a:lnTo>
                  <a:lnTo>
                    <a:pt x="578" y="540"/>
                  </a:lnTo>
                  <a:lnTo>
                    <a:pt x="561" y="536"/>
                  </a:lnTo>
                  <a:lnTo>
                    <a:pt x="546" y="536"/>
                  </a:lnTo>
                  <a:lnTo>
                    <a:pt x="529" y="534"/>
                  </a:lnTo>
                  <a:lnTo>
                    <a:pt x="510" y="532"/>
                  </a:lnTo>
                  <a:lnTo>
                    <a:pt x="493" y="528"/>
                  </a:lnTo>
                  <a:lnTo>
                    <a:pt x="477" y="526"/>
                  </a:lnTo>
                  <a:lnTo>
                    <a:pt x="462" y="524"/>
                  </a:lnTo>
                  <a:lnTo>
                    <a:pt x="445" y="523"/>
                  </a:lnTo>
                  <a:lnTo>
                    <a:pt x="430" y="519"/>
                  </a:lnTo>
                  <a:lnTo>
                    <a:pt x="415" y="519"/>
                  </a:lnTo>
                  <a:lnTo>
                    <a:pt x="400" y="513"/>
                  </a:lnTo>
                  <a:lnTo>
                    <a:pt x="384" y="511"/>
                  </a:lnTo>
                  <a:lnTo>
                    <a:pt x="369" y="509"/>
                  </a:lnTo>
                  <a:lnTo>
                    <a:pt x="356" y="505"/>
                  </a:lnTo>
                  <a:lnTo>
                    <a:pt x="341" y="502"/>
                  </a:lnTo>
                  <a:lnTo>
                    <a:pt x="327" y="500"/>
                  </a:lnTo>
                  <a:lnTo>
                    <a:pt x="312" y="496"/>
                  </a:lnTo>
                  <a:lnTo>
                    <a:pt x="301" y="492"/>
                  </a:lnTo>
                  <a:lnTo>
                    <a:pt x="285" y="488"/>
                  </a:lnTo>
                  <a:lnTo>
                    <a:pt x="272" y="483"/>
                  </a:lnTo>
                  <a:lnTo>
                    <a:pt x="261" y="479"/>
                  </a:lnTo>
                  <a:lnTo>
                    <a:pt x="247" y="475"/>
                  </a:lnTo>
                  <a:lnTo>
                    <a:pt x="234" y="469"/>
                  </a:lnTo>
                  <a:lnTo>
                    <a:pt x="223" y="466"/>
                  </a:lnTo>
                  <a:lnTo>
                    <a:pt x="211" y="462"/>
                  </a:lnTo>
                  <a:lnTo>
                    <a:pt x="200" y="458"/>
                  </a:lnTo>
                  <a:lnTo>
                    <a:pt x="189" y="452"/>
                  </a:lnTo>
                  <a:lnTo>
                    <a:pt x="177" y="448"/>
                  </a:lnTo>
                  <a:lnTo>
                    <a:pt x="168" y="443"/>
                  </a:lnTo>
                  <a:lnTo>
                    <a:pt x="158" y="439"/>
                  </a:lnTo>
                  <a:lnTo>
                    <a:pt x="149" y="433"/>
                  </a:lnTo>
                  <a:lnTo>
                    <a:pt x="139" y="429"/>
                  </a:lnTo>
                  <a:lnTo>
                    <a:pt x="132" y="424"/>
                  </a:lnTo>
                  <a:lnTo>
                    <a:pt x="124" y="420"/>
                  </a:lnTo>
                  <a:lnTo>
                    <a:pt x="114" y="412"/>
                  </a:lnTo>
                  <a:lnTo>
                    <a:pt x="107" y="408"/>
                  </a:lnTo>
                  <a:lnTo>
                    <a:pt x="99" y="403"/>
                  </a:lnTo>
                  <a:lnTo>
                    <a:pt x="92" y="399"/>
                  </a:lnTo>
                  <a:lnTo>
                    <a:pt x="86" y="391"/>
                  </a:lnTo>
                  <a:lnTo>
                    <a:pt x="80" y="386"/>
                  </a:lnTo>
                  <a:lnTo>
                    <a:pt x="73" y="382"/>
                  </a:lnTo>
                  <a:lnTo>
                    <a:pt x="69" y="376"/>
                  </a:lnTo>
                  <a:lnTo>
                    <a:pt x="59" y="365"/>
                  </a:lnTo>
                  <a:lnTo>
                    <a:pt x="52" y="351"/>
                  </a:lnTo>
                  <a:lnTo>
                    <a:pt x="46" y="340"/>
                  </a:lnTo>
                  <a:lnTo>
                    <a:pt x="42" y="329"/>
                  </a:lnTo>
                  <a:lnTo>
                    <a:pt x="38" y="315"/>
                  </a:lnTo>
                  <a:lnTo>
                    <a:pt x="38" y="304"/>
                  </a:lnTo>
                  <a:lnTo>
                    <a:pt x="38" y="292"/>
                  </a:lnTo>
                  <a:lnTo>
                    <a:pt x="42" y="281"/>
                  </a:lnTo>
                  <a:lnTo>
                    <a:pt x="46" y="268"/>
                  </a:lnTo>
                  <a:lnTo>
                    <a:pt x="52" y="256"/>
                  </a:lnTo>
                  <a:lnTo>
                    <a:pt x="57" y="245"/>
                  </a:lnTo>
                  <a:lnTo>
                    <a:pt x="67" y="232"/>
                  </a:lnTo>
                  <a:lnTo>
                    <a:pt x="73" y="224"/>
                  </a:lnTo>
                  <a:lnTo>
                    <a:pt x="82" y="215"/>
                  </a:lnTo>
                  <a:lnTo>
                    <a:pt x="90" y="205"/>
                  </a:lnTo>
                  <a:lnTo>
                    <a:pt x="99" y="197"/>
                  </a:lnTo>
                  <a:lnTo>
                    <a:pt x="111" y="188"/>
                  </a:lnTo>
                  <a:lnTo>
                    <a:pt x="122" y="178"/>
                  </a:lnTo>
                  <a:lnTo>
                    <a:pt x="128" y="175"/>
                  </a:lnTo>
                  <a:lnTo>
                    <a:pt x="135" y="171"/>
                  </a:lnTo>
                  <a:lnTo>
                    <a:pt x="143" y="167"/>
                  </a:lnTo>
                  <a:lnTo>
                    <a:pt x="151" y="163"/>
                  </a:lnTo>
                  <a:lnTo>
                    <a:pt x="156" y="157"/>
                  </a:lnTo>
                  <a:lnTo>
                    <a:pt x="164" y="154"/>
                  </a:lnTo>
                  <a:lnTo>
                    <a:pt x="171" y="150"/>
                  </a:lnTo>
                  <a:lnTo>
                    <a:pt x="179" y="146"/>
                  </a:lnTo>
                  <a:lnTo>
                    <a:pt x="187" y="142"/>
                  </a:lnTo>
                  <a:lnTo>
                    <a:pt x="194" y="138"/>
                  </a:lnTo>
                  <a:lnTo>
                    <a:pt x="204" y="135"/>
                  </a:lnTo>
                  <a:lnTo>
                    <a:pt x="213" y="131"/>
                  </a:lnTo>
                  <a:lnTo>
                    <a:pt x="221" y="127"/>
                  </a:lnTo>
                  <a:lnTo>
                    <a:pt x="228" y="123"/>
                  </a:lnTo>
                  <a:lnTo>
                    <a:pt x="238" y="118"/>
                  </a:lnTo>
                  <a:lnTo>
                    <a:pt x="247" y="114"/>
                  </a:lnTo>
                  <a:lnTo>
                    <a:pt x="257" y="110"/>
                  </a:lnTo>
                  <a:lnTo>
                    <a:pt x="268" y="108"/>
                  </a:lnTo>
                  <a:lnTo>
                    <a:pt x="278" y="104"/>
                  </a:lnTo>
                  <a:lnTo>
                    <a:pt x="289" y="102"/>
                  </a:lnTo>
                  <a:lnTo>
                    <a:pt x="299" y="99"/>
                  </a:lnTo>
                  <a:lnTo>
                    <a:pt x="308" y="95"/>
                  </a:lnTo>
                  <a:lnTo>
                    <a:pt x="318" y="91"/>
                  </a:lnTo>
                  <a:lnTo>
                    <a:pt x="331" y="87"/>
                  </a:lnTo>
                  <a:lnTo>
                    <a:pt x="341" y="83"/>
                  </a:lnTo>
                  <a:lnTo>
                    <a:pt x="354" y="81"/>
                  </a:lnTo>
                  <a:lnTo>
                    <a:pt x="365" y="78"/>
                  </a:lnTo>
                  <a:lnTo>
                    <a:pt x="377" y="78"/>
                  </a:lnTo>
                  <a:lnTo>
                    <a:pt x="388" y="74"/>
                  </a:lnTo>
                  <a:lnTo>
                    <a:pt x="401" y="70"/>
                  </a:lnTo>
                  <a:lnTo>
                    <a:pt x="413" y="68"/>
                  </a:lnTo>
                  <a:lnTo>
                    <a:pt x="424" y="66"/>
                  </a:lnTo>
                  <a:lnTo>
                    <a:pt x="436" y="62"/>
                  </a:lnTo>
                  <a:lnTo>
                    <a:pt x="449" y="61"/>
                  </a:lnTo>
                  <a:lnTo>
                    <a:pt x="462" y="59"/>
                  </a:lnTo>
                  <a:lnTo>
                    <a:pt x="476" y="57"/>
                  </a:lnTo>
                  <a:lnTo>
                    <a:pt x="489" y="53"/>
                  </a:lnTo>
                  <a:lnTo>
                    <a:pt x="502" y="53"/>
                  </a:lnTo>
                  <a:lnTo>
                    <a:pt x="514" y="49"/>
                  </a:lnTo>
                  <a:lnTo>
                    <a:pt x="529" y="47"/>
                  </a:lnTo>
                  <a:lnTo>
                    <a:pt x="542" y="45"/>
                  </a:lnTo>
                  <a:lnTo>
                    <a:pt x="557" y="45"/>
                  </a:lnTo>
                  <a:lnTo>
                    <a:pt x="571" y="43"/>
                  </a:lnTo>
                  <a:lnTo>
                    <a:pt x="586" y="43"/>
                  </a:lnTo>
                  <a:lnTo>
                    <a:pt x="601" y="40"/>
                  </a:lnTo>
                  <a:lnTo>
                    <a:pt x="614" y="40"/>
                  </a:lnTo>
                  <a:lnTo>
                    <a:pt x="630" y="38"/>
                  </a:lnTo>
                  <a:lnTo>
                    <a:pt x="645" y="38"/>
                  </a:lnTo>
                  <a:lnTo>
                    <a:pt x="660" y="36"/>
                  </a:lnTo>
                  <a:lnTo>
                    <a:pt x="677" y="36"/>
                  </a:lnTo>
                  <a:lnTo>
                    <a:pt x="692" y="36"/>
                  </a:lnTo>
                  <a:lnTo>
                    <a:pt x="708" y="36"/>
                  </a:lnTo>
                  <a:lnTo>
                    <a:pt x="727" y="34"/>
                  </a:lnTo>
                  <a:lnTo>
                    <a:pt x="746" y="34"/>
                  </a:lnTo>
                  <a:lnTo>
                    <a:pt x="765" y="34"/>
                  </a:lnTo>
                  <a:lnTo>
                    <a:pt x="782" y="34"/>
                  </a:lnTo>
                  <a:lnTo>
                    <a:pt x="801" y="34"/>
                  </a:lnTo>
                  <a:lnTo>
                    <a:pt x="820" y="34"/>
                  </a:lnTo>
                  <a:lnTo>
                    <a:pt x="839" y="34"/>
                  </a:lnTo>
                  <a:lnTo>
                    <a:pt x="858" y="36"/>
                  </a:lnTo>
                  <a:lnTo>
                    <a:pt x="875" y="36"/>
                  </a:lnTo>
                  <a:lnTo>
                    <a:pt x="896" y="38"/>
                  </a:lnTo>
                  <a:lnTo>
                    <a:pt x="913" y="40"/>
                  </a:lnTo>
                  <a:lnTo>
                    <a:pt x="932" y="40"/>
                  </a:lnTo>
                  <a:lnTo>
                    <a:pt x="949" y="42"/>
                  </a:lnTo>
                  <a:lnTo>
                    <a:pt x="968" y="43"/>
                  </a:lnTo>
                  <a:lnTo>
                    <a:pt x="987" y="45"/>
                  </a:lnTo>
                  <a:lnTo>
                    <a:pt x="1004" y="47"/>
                  </a:lnTo>
                  <a:lnTo>
                    <a:pt x="1021" y="49"/>
                  </a:lnTo>
                  <a:lnTo>
                    <a:pt x="1040" y="53"/>
                  </a:lnTo>
                  <a:lnTo>
                    <a:pt x="1055" y="53"/>
                  </a:lnTo>
                  <a:lnTo>
                    <a:pt x="1074" y="57"/>
                  </a:lnTo>
                  <a:lnTo>
                    <a:pt x="1090" y="59"/>
                  </a:lnTo>
                  <a:lnTo>
                    <a:pt x="1107" y="61"/>
                  </a:lnTo>
                  <a:lnTo>
                    <a:pt x="1124" y="64"/>
                  </a:lnTo>
                  <a:lnTo>
                    <a:pt x="1141" y="68"/>
                  </a:lnTo>
                  <a:lnTo>
                    <a:pt x="1156" y="70"/>
                  </a:lnTo>
                  <a:lnTo>
                    <a:pt x="1173" y="74"/>
                  </a:lnTo>
                  <a:lnTo>
                    <a:pt x="1188" y="78"/>
                  </a:lnTo>
                  <a:lnTo>
                    <a:pt x="1206" y="81"/>
                  </a:lnTo>
                  <a:lnTo>
                    <a:pt x="1221" y="85"/>
                  </a:lnTo>
                  <a:lnTo>
                    <a:pt x="1236" y="89"/>
                  </a:lnTo>
                  <a:lnTo>
                    <a:pt x="1251" y="93"/>
                  </a:lnTo>
                  <a:lnTo>
                    <a:pt x="1266" y="97"/>
                  </a:lnTo>
                  <a:lnTo>
                    <a:pt x="1280" y="100"/>
                  </a:lnTo>
                  <a:lnTo>
                    <a:pt x="1293" y="104"/>
                  </a:lnTo>
                  <a:lnTo>
                    <a:pt x="1306" y="110"/>
                  </a:lnTo>
                  <a:lnTo>
                    <a:pt x="1322" y="114"/>
                  </a:lnTo>
                  <a:lnTo>
                    <a:pt x="1335" y="118"/>
                  </a:lnTo>
                  <a:lnTo>
                    <a:pt x="1348" y="123"/>
                  </a:lnTo>
                  <a:lnTo>
                    <a:pt x="1360" y="127"/>
                  </a:lnTo>
                  <a:lnTo>
                    <a:pt x="1373" y="131"/>
                  </a:lnTo>
                  <a:lnTo>
                    <a:pt x="1384" y="137"/>
                  </a:lnTo>
                  <a:lnTo>
                    <a:pt x="1396" y="140"/>
                  </a:lnTo>
                  <a:lnTo>
                    <a:pt x="1407" y="146"/>
                  </a:lnTo>
                  <a:lnTo>
                    <a:pt x="1419" y="152"/>
                  </a:lnTo>
                  <a:lnTo>
                    <a:pt x="1428" y="157"/>
                  </a:lnTo>
                  <a:lnTo>
                    <a:pt x="1438" y="163"/>
                  </a:lnTo>
                  <a:lnTo>
                    <a:pt x="1449" y="167"/>
                  </a:lnTo>
                  <a:lnTo>
                    <a:pt x="1458" y="175"/>
                  </a:lnTo>
                  <a:lnTo>
                    <a:pt x="1468" y="178"/>
                  </a:lnTo>
                  <a:lnTo>
                    <a:pt x="1476" y="184"/>
                  </a:lnTo>
                  <a:lnTo>
                    <a:pt x="1483" y="188"/>
                  </a:lnTo>
                  <a:lnTo>
                    <a:pt x="1491" y="196"/>
                  </a:lnTo>
                  <a:lnTo>
                    <a:pt x="1498" y="201"/>
                  </a:lnTo>
                  <a:lnTo>
                    <a:pt x="1506" y="207"/>
                  </a:lnTo>
                  <a:lnTo>
                    <a:pt x="1512" y="213"/>
                  </a:lnTo>
                  <a:lnTo>
                    <a:pt x="1519" y="220"/>
                  </a:lnTo>
                  <a:lnTo>
                    <a:pt x="1529" y="232"/>
                  </a:lnTo>
                  <a:lnTo>
                    <a:pt x="1536" y="245"/>
                  </a:lnTo>
                  <a:lnTo>
                    <a:pt x="1540" y="251"/>
                  </a:lnTo>
                  <a:lnTo>
                    <a:pt x="1544" y="258"/>
                  </a:lnTo>
                  <a:lnTo>
                    <a:pt x="1546" y="264"/>
                  </a:lnTo>
                  <a:lnTo>
                    <a:pt x="1550" y="272"/>
                  </a:lnTo>
                  <a:lnTo>
                    <a:pt x="1576" y="264"/>
                  </a:lnTo>
                  <a:lnTo>
                    <a:pt x="1572" y="254"/>
                  </a:lnTo>
                  <a:lnTo>
                    <a:pt x="1569" y="247"/>
                  </a:lnTo>
                  <a:lnTo>
                    <a:pt x="1565" y="241"/>
                  </a:lnTo>
                  <a:lnTo>
                    <a:pt x="1563" y="234"/>
                  </a:lnTo>
                  <a:lnTo>
                    <a:pt x="1557" y="226"/>
                  </a:lnTo>
                  <a:lnTo>
                    <a:pt x="1553" y="218"/>
                  </a:lnTo>
                  <a:lnTo>
                    <a:pt x="1548" y="213"/>
                  </a:lnTo>
                  <a:lnTo>
                    <a:pt x="1542" y="207"/>
                  </a:lnTo>
                  <a:lnTo>
                    <a:pt x="1536" y="197"/>
                  </a:lnTo>
                  <a:lnTo>
                    <a:pt x="1529" y="192"/>
                  </a:lnTo>
                  <a:lnTo>
                    <a:pt x="1521" y="184"/>
                  </a:lnTo>
                  <a:lnTo>
                    <a:pt x="1515" y="178"/>
                  </a:lnTo>
                  <a:lnTo>
                    <a:pt x="1506" y="171"/>
                  </a:lnTo>
                  <a:lnTo>
                    <a:pt x="1498" y="167"/>
                  </a:lnTo>
                  <a:lnTo>
                    <a:pt x="1489" y="159"/>
                  </a:lnTo>
                  <a:lnTo>
                    <a:pt x="1481" y="154"/>
                  </a:lnTo>
                  <a:lnTo>
                    <a:pt x="1470" y="148"/>
                  </a:lnTo>
                  <a:lnTo>
                    <a:pt x="1458" y="142"/>
                  </a:lnTo>
                  <a:lnTo>
                    <a:pt x="1447" y="137"/>
                  </a:lnTo>
                  <a:lnTo>
                    <a:pt x="1438" y="131"/>
                  </a:lnTo>
                  <a:lnTo>
                    <a:pt x="1424" y="123"/>
                  </a:lnTo>
                  <a:lnTo>
                    <a:pt x="1413" y="118"/>
                  </a:lnTo>
                  <a:lnTo>
                    <a:pt x="1401" y="112"/>
                  </a:lnTo>
                  <a:lnTo>
                    <a:pt x="1390" y="108"/>
                  </a:lnTo>
                  <a:lnTo>
                    <a:pt x="1377" y="102"/>
                  </a:lnTo>
                  <a:lnTo>
                    <a:pt x="1361" y="97"/>
                  </a:lnTo>
                  <a:lnTo>
                    <a:pt x="1350" y="93"/>
                  </a:lnTo>
                  <a:lnTo>
                    <a:pt x="1337" y="87"/>
                  </a:lnTo>
                  <a:lnTo>
                    <a:pt x="1322" y="83"/>
                  </a:lnTo>
                  <a:lnTo>
                    <a:pt x="1306" y="78"/>
                  </a:lnTo>
                  <a:lnTo>
                    <a:pt x="1293" y="74"/>
                  </a:lnTo>
                  <a:lnTo>
                    <a:pt x="1280" y="70"/>
                  </a:lnTo>
                  <a:lnTo>
                    <a:pt x="1263" y="64"/>
                  </a:lnTo>
                  <a:lnTo>
                    <a:pt x="1246" y="61"/>
                  </a:lnTo>
                  <a:lnTo>
                    <a:pt x="1230" y="57"/>
                  </a:lnTo>
                  <a:lnTo>
                    <a:pt x="1213" y="53"/>
                  </a:lnTo>
                  <a:lnTo>
                    <a:pt x="1196" y="47"/>
                  </a:lnTo>
                  <a:lnTo>
                    <a:pt x="1179" y="43"/>
                  </a:lnTo>
                  <a:lnTo>
                    <a:pt x="1162" y="40"/>
                  </a:lnTo>
                  <a:lnTo>
                    <a:pt x="1147" y="38"/>
                  </a:lnTo>
                  <a:lnTo>
                    <a:pt x="1128" y="34"/>
                  </a:lnTo>
                  <a:lnTo>
                    <a:pt x="1111" y="30"/>
                  </a:lnTo>
                  <a:lnTo>
                    <a:pt x="1093" y="26"/>
                  </a:lnTo>
                  <a:lnTo>
                    <a:pt x="1076" y="24"/>
                  </a:lnTo>
                  <a:lnTo>
                    <a:pt x="1057" y="21"/>
                  </a:lnTo>
                  <a:lnTo>
                    <a:pt x="1040" y="19"/>
                  </a:lnTo>
                  <a:lnTo>
                    <a:pt x="1021" y="17"/>
                  </a:lnTo>
                  <a:lnTo>
                    <a:pt x="1004" y="15"/>
                  </a:lnTo>
                  <a:lnTo>
                    <a:pt x="983" y="11"/>
                  </a:lnTo>
                  <a:lnTo>
                    <a:pt x="964" y="9"/>
                  </a:lnTo>
                  <a:lnTo>
                    <a:pt x="943" y="7"/>
                  </a:lnTo>
                  <a:lnTo>
                    <a:pt x="926" y="5"/>
                  </a:lnTo>
                  <a:lnTo>
                    <a:pt x="905" y="3"/>
                  </a:lnTo>
                  <a:lnTo>
                    <a:pt x="886" y="3"/>
                  </a:lnTo>
                  <a:lnTo>
                    <a:pt x="865" y="2"/>
                  </a:lnTo>
                  <a:lnTo>
                    <a:pt x="846" y="2"/>
                  </a:lnTo>
                  <a:lnTo>
                    <a:pt x="827" y="0"/>
                  </a:lnTo>
                  <a:lnTo>
                    <a:pt x="808" y="0"/>
                  </a:lnTo>
                  <a:lnTo>
                    <a:pt x="787" y="0"/>
                  </a:lnTo>
                  <a:lnTo>
                    <a:pt x="768" y="0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2"/>
                  </a:lnTo>
                  <a:lnTo>
                    <a:pt x="6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215800" y="244800"/>
              <a:ext cx="52200" cy="91080"/>
            </a:xfrm>
            <a:custGeom>
              <a:avLst/>
              <a:gdLst/>
              <a:ahLst/>
              <a:rect l="l" t="t" r="r" b="b"/>
              <a:pathLst>
                <a:path w="282" h="492">
                  <a:moveTo>
                    <a:pt x="111" y="5"/>
                  </a:moveTo>
                  <a:lnTo>
                    <a:pt x="0" y="492"/>
                  </a:lnTo>
                  <a:lnTo>
                    <a:pt x="282" y="0"/>
                  </a:lnTo>
                  <a:lnTo>
                    <a:pt x="212" y="0"/>
                  </a:lnTo>
                  <a:lnTo>
                    <a:pt x="111" y="5"/>
                  </a:lnTo>
                  <a:lnTo>
                    <a:pt x="1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108160" y="566280"/>
              <a:ext cx="30600" cy="136080"/>
            </a:xfrm>
            <a:custGeom>
              <a:avLst/>
              <a:gdLst/>
              <a:ahLst/>
              <a:rect l="l" t="t" r="r" b="b"/>
              <a:pathLst>
                <a:path w="166" h="736">
                  <a:moveTo>
                    <a:pt x="160" y="375"/>
                  </a:moveTo>
                  <a:lnTo>
                    <a:pt x="160" y="385"/>
                  </a:lnTo>
                  <a:lnTo>
                    <a:pt x="162" y="396"/>
                  </a:lnTo>
                  <a:lnTo>
                    <a:pt x="164" y="405"/>
                  </a:lnTo>
                  <a:lnTo>
                    <a:pt x="166" y="419"/>
                  </a:lnTo>
                  <a:lnTo>
                    <a:pt x="166" y="428"/>
                  </a:lnTo>
                  <a:lnTo>
                    <a:pt x="166" y="440"/>
                  </a:lnTo>
                  <a:lnTo>
                    <a:pt x="166" y="451"/>
                  </a:lnTo>
                  <a:lnTo>
                    <a:pt x="166" y="463"/>
                  </a:lnTo>
                  <a:lnTo>
                    <a:pt x="164" y="474"/>
                  </a:lnTo>
                  <a:lnTo>
                    <a:pt x="164" y="485"/>
                  </a:lnTo>
                  <a:lnTo>
                    <a:pt x="162" y="497"/>
                  </a:lnTo>
                  <a:lnTo>
                    <a:pt x="162" y="508"/>
                  </a:lnTo>
                  <a:lnTo>
                    <a:pt x="160" y="520"/>
                  </a:lnTo>
                  <a:lnTo>
                    <a:pt x="160" y="531"/>
                  </a:lnTo>
                  <a:lnTo>
                    <a:pt x="158" y="542"/>
                  </a:lnTo>
                  <a:lnTo>
                    <a:pt x="158" y="556"/>
                  </a:lnTo>
                  <a:lnTo>
                    <a:pt x="156" y="565"/>
                  </a:lnTo>
                  <a:lnTo>
                    <a:pt x="152" y="577"/>
                  </a:lnTo>
                  <a:lnTo>
                    <a:pt x="150" y="588"/>
                  </a:lnTo>
                  <a:lnTo>
                    <a:pt x="148" y="599"/>
                  </a:lnTo>
                  <a:lnTo>
                    <a:pt x="147" y="611"/>
                  </a:lnTo>
                  <a:lnTo>
                    <a:pt x="145" y="622"/>
                  </a:lnTo>
                  <a:lnTo>
                    <a:pt x="143" y="634"/>
                  </a:lnTo>
                  <a:lnTo>
                    <a:pt x="141" y="647"/>
                  </a:lnTo>
                  <a:lnTo>
                    <a:pt x="139" y="656"/>
                  </a:lnTo>
                  <a:lnTo>
                    <a:pt x="135" y="670"/>
                  </a:lnTo>
                  <a:lnTo>
                    <a:pt x="133" y="679"/>
                  </a:lnTo>
                  <a:lnTo>
                    <a:pt x="131" y="693"/>
                  </a:lnTo>
                  <a:lnTo>
                    <a:pt x="129" y="702"/>
                  </a:lnTo>
                  <a:lnTo>
                    <a:pt x="128" y="713"/>
                  </a:lnTo>
                  <a:lnTo>
                    <a:pt x="126" y="725"/>
                  </a:lnTo>
                  <a:lnTo>
                    <a:pt x="124" y="736"/>
                  </a:lnTo>
                  <a:lnTo>
                    <a:pt x="114" y="729"/>
                  </a:lnTo>
                  <a:lnTo>
                    <a:pt x="105" y="721"/>
                  </a:lnTo>
                  <a:lnTo>
                    <a:pt x="95" y="713"/>
                  </a:lnTo>
                  <a:lnTo>
                    <a:pt x="88" y="704"/>
                  </a:lnTo>
                  <a:lnTo>
                    <a:pt x="80" y="694"/>
                  </a:lnTo>
                  <a:lnTo>
                    <a:pt x="72" y="685"/>
                  </a:lnTo>
                  <a:lnTo>
                    <a:pt x="65" y="674"/>
                  </a:lnTo>
                  <a:lnTo>
                    <a:pt x="57" y="662"/>
                  </a:lnTo>
                  <a:lnTo>
                    <a:pt x="53" y="656"/>
                  </a:lnTo>
                  <a:lnTo>
                    <a:pt x="50" y="649"/>
                  </a:lnTo>
                  <a:lnTo>
                    <a:pt x="46" y="643"/>
                  </a:lnTo>
                  <a:lnTo>
                    <a:pt x="42" y="636"/>
                  </a:lnTo>
                  <a:lnTo>
                    <a:pt x="38" y="628"/>
                  </a:lnTo>
                  <a:lnTo>
                    <a:pt x="34" y="622"/>
                  </a:lnTo>
                  <a:lnTo>
                    <a:pt x="32" y="613"/>
                  </a:lnTo>
                  <a:lnTo>
                    <a:pt x="31" y="607"/>
                  </a:lnTo>
                  <a:lnTo>
                    <a:pt x="25" y="598"/>
                  </a:lnTo>
                  <a:lnTo>
                    <a:pt x="23" y="590"/>
                  </a:lnTo>
                  <a:lnTo>
                    <a:pt x="21" y="580"/>
                  </a:lnTo>
                  <a:lnTo>
                    <a:pt x="17" y="573"/>
                  </a:lnTo>
                  <a:lnTo>
                    <a:pt x="15" y="563"/>
                  </a:lnTo>
                  <a:lnTo>
                    <a:pt x="13" y="554"/>
                  </a:lnTo>
                  <a:lnTo>
                    <a:pt x="12" y="544"/>
                  </a:lnTo>
                  <a:lnTo>
                    <a:pt x="12" y="535"/>
                  </a:lnTo>
                  <a:lnTo>
                    <a:pt x="8" y="527"/>
                  </a:lnTo>
                  <a:lnTo>
                    <a:pt x="8" y="520"/>
                  </a:lnTo>
                  <a:lnTo>
                    <a:pt x="6" y="512"/>
                  </a:lnTo>
                  <a:lnTo>
                    <a:pt x="4" y="502"/>
                  </a:lnTo>
                  <a:lnTo>
                    <a:pt x="4" y="495"/>
                  </a:lnTo>
                  <a:lnTo>
                    <a:pt x="2" y="487"/>
                  </a:lnTo>
                  <a:lnTo>
                    <a:pt x="2" y="480"/>
                  </a:lnTo>
                  <a:lnTo>
                    <a:pt x="2" y="472"/>
                  </a:lnTo>
                  <a:lnTo>
                    <a:pt x="0" y="463"/>
                  </a:lnTo>
                  <a:lnTo>
                    <a:pt x="0" y="455"/>
                  </a:lnTo>
                  <a:lnTo>
                    <a:pt x="0" y="445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19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5"/>
                  </a:lnTo>
                  <a:lnTo>
                    <a:pt x="0" y="375"/>
                  </a:lnTo>
                  <a:lnTo>
                    <a:pt x="0" y="367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0" y="341"/>
                  </a:lnTo>
                  <a:lnTo>
                    <a:pt x="0" y="331"/>
                  </a:lnTo>
                  <a:lnTo>
                    <a:pt x="0" y="322"/>
                  </a:lnTo>
                  <a:lnTo>
                    <a:pt x="0" y="314"/>
                  </a:lnTo>
                  <a:lnTo>
                    <a:pt x="2" y="305"/>
                  </a:lnTo>
                  <a:lnTo>
                    <a:pt x="4" y="295"/>
                  </a:lnTo>
                  <a:lnTo>
                    <a:pt x="4" y="288"/>
                  </a:lnTo>
                  <a:lnTo>
                    <a:pt x="4" y="278"/>
                  </a:lnTo>
                  <a:lnTo>
                    <a:pt x="6" y="269"/>
                  </a:lnTo>
                  <a:lnTo>
                    <a:pt x="8" y="261"/>
                  </a:lnTo>
                  <a:lnTo>
                    <a:pt x="8" y="250"/>
                  </a:lnTo>
                  <a:lnTo>
                    <a:pt x="8" y="240"/>
                  </a:lnTo>
                  <a:lnTo>
                    <a:pt x="10" y="231"/>
                  </a:lnTo>
                  <a:lnTo>
                    <a:pt x="12" y="223"/>
                  </a:lnTo>
                  <a:lnTo>
                    <a:pt x="12" y="213"/>
                  </a:lnTo>
                  <a:lnTo>
                    <a:pt x="12" y="204"/>
                  </a:lnTo>
                  <a:lnTo>
                    <a:pt x="13" y="194"/>
                  </a:lnTo>
                  <a:lnTo>
                    <a:pt x="15" y="187"/>
                  </a:lnTo>
                  <a:lnTo>
                    <a:pt x="15" y="177"/>
                  </a:lnTo>
                  <a:lnTo>
                    <a:pt x="17" y="168"/>
                  </a:lnTo>
                  <a:lnTo>
                    <a:pt x="17" y="160"/>
                  </a:lnTo>
                  <a:lnTo>
                    <a:pt x="21" y="151"/>
                  </a:lnTo>
                  <a:lnTo>
                    <a:pt x="21" y="143"/>
                  </a:lnTo>
                  <a:lnTo>
                    <a:pt x="23" y="135"/>
                  </a:lnTo>
                  <a:lnTo>
                    <a:pt x="25" y="128"/>
                  </a:lnTo>
                  <a:lnTo>
                    <a:pt x="27" y="120"/>
                  </a:lnTo>
                  <a:lnTo>
                    <a:pt x="27" y="111"/>
                  </a:lnTo>
                  <a:lnTo>
                    <a:pt x="29" y="103"/>
                  </a:lnTo>
                  <a:lnTo>
                    <a:pt x="31" y="94"/>
                  </a:lnTo>
                  <a:lnTo>
                    <a:pt x="31" y="86"/>
                  </a:lnTo>
                  <a:lnTo>
                    <a:pt x="32" y="78"/>
                  </a:lnTo>
                  <a:lnTo>
                    <a:pt x="34" y="71"/>
                  </a:lnTo>
                  <a:lnTo>
                    <a:pt x="34" y="63"/>
                  </a:lnTo>
                  <a:lnTo>
                    <a:pt x="38" y="56"/>
                  </a:lnTo>
                  <a:lnTo>
                    <a:pt x="38" y="48"/>
                  </a:lnTo>
                  <a:lnTo>
                    <a:pt x="40" y="40"/>
                  </a:lnTo>
                  <a:lnTo>
                    <a:pt x="42" y="33"/>
                  </a:lnTo>
                  <a:lnTo>
                    <a:pt x="44" y="27"/>
                  </a:lnTo>
                  <a:lnTo>
                    <a:pt x="48" y="12"/>
                  </a:lnTo>
                  <a:lnTo>
                    <a:pt x="51" y="0"/>
                  </a:lnTo>
                  <a:lnTo>
                    <a:pt x="53" y="10"/>
                  </a:lnTo>
                  <a:lnTo>
                    <a:pt x="57" y="19"/>
                  </a:lnTo>
                  <a:lnTo>
                    <a:pt x="61" y="31"/>
                  </a:lnTo>
                  <a:lnTo>
                    <a:pt x="65" y="42"/>
                  </a:lnTo>
                  <a:lnTo>
                    <a:pt x="69" y="54"/>
                  </a:lnTo>
                  <a:lnTo>
                    <a:pt x="74" y="63"/>
                  </a:lnTo>
                  <a:lnTo>
                    <a:pt x="78" y="75"/>
                  </a:lnTo>
                  <a:lnTo>
                    <a:pt x="82" y="86"/>
                  </a:lnTo>
                  <a:lnTo>
                    <a:pt x="86" y="97"/>
                  </a:lnTo>
                  <a:lnTo>
                    <a:pt x="90" y="107"/>
                  </a:lnTo>
                  <a:lnTo>
                    <a:pt x="93" y="118"/>
                  </a:lnTo>
                  <a:lnTo>
                    <a:pt x="97" y="130"/>
                  </a:lnTo>
                  <a:lnTo>
                    <a:pt x="101" y="141"/>
                  </a:lnTo>
                  <a:lnTo>
                    <a:pt x="105" y="153"/>
                  </a:lnTo>
                  <a:lnTo>
                    <a:pt x="109" y="164"/>
                  </a:lnTo>
                  <a:lnTo>
                    <a:pt x="112" y="177"/>
                  </a:lnTo>
                  <a:lnTo>
                    <a:pt x="116" y="187"/>
                  </a:lnTo>
                  <a:lnTo>
                    <a:pt x="118" y="200"/>
                  </a:lnTo>
                  <a:lnTo>
                    <a:pt x="122" y="212"/>
                  </a:lnTo>
                  <a:lnTo>
                    <a:pt x="126" y="223"/>
                  </a:lnTo>
                  <a:lnTo>
                    <a:pt x="128" y="234"/>
                  </a:lnTo>
                  <a:lnTo>
                    <a:pt x="131" y="248"/>
                  </a:lnTo>
                  <a:lnTo>
                    <a:pt x="135" y="259"/>
                  </a:lnTo>
                  <a:lnTo>
                    <a:pt x="139" y="272"/>
                  </a:lnTo>
                  <a:lnTo>
                    <a:pt x="141" y="284"/>
                  </a:lnTo>
                  <a:lnTo>
                    <a:pt x="143" y="295"/>
                  </a:lnTo>
                  <a:lnTo>
                    <a:pt x="147" y="308"/>
                  </a:lnTo>
                  <a:lnTo>
                    <a:pt x="150" y="322"/>
                  </a:lnTo>
                  <a:lnTo>
                    <a:pt x="152" y="335"/>
                  </a:lnTo>
                  <a:lnTo>
                    <a:pt x="156" y="348"/>
                  </a:lnTo>
                  <a:lnTo>
                    <a:pt x="156" y="362"/>
                  </a:lnTo>
                  <a:lnTo>
                    <a:pt x="160" y="375"/>
                  </a:lnTo>
                  <a:lnTo>
                    <a:pt x="160" y="375"/>
                  </a:lnTo>
                  <a:close/>
                </a:path>
              </a:pathLst>
            </a:custGeom>
            <a:solidFill>
              <a:srgbClr val="dbe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012760" y="348840"/>
              <a:ext cx="179640" cy="344160"/>
            </a:xfrm>
            <a:custGeom>
              <a:avLst/>
              <a:gdLst/>
              <a:ahLst/>
              <a:rect l="l" t="t" r="r" b="b"/>
              <a:pathLst>
                <a:path w="972" h="1858">
                  <a:moveTo>
                    <a:pt x="27" y="499"/>
                  </a:moveTo>
                  <a:lnTo>
                    <a:pt x="29" y="483"/>
                  </a:lnTo>
                  <a:lnTo>
                    <a:pt x="33" y="470"/>
                  </a:lnTo>
                  <a:lnTo>
                    <a:pt x="38" y="455"/>
                  </a:lnTo>
                  <a:lnTo>
                    <a:pt x="46" y="443"/>
                  </a:lnTo>
                  <a:lnTo>
                    <a:pt x="48" y="434"/>
                  </a:lnTo>
                  <a:lnTo>
                    <a:pt x="52" y="428"/>
                  </a:lnTo>
                  <a:lnTo>
                    <a:pt x="54" y="421"/>
                  </a:lnTo>
                  <a:lnTo>
                    <a:pt x="59" y="415"/>
                  </a:lnTo>
                  <a:lnTo>
                    <a:pt x="63" y="407"/>
                  </a:lnTo>
                  <a:lnTo>
                    <a:pt x="67" y="402"/>
                  </a:lnTo>
                  <a:lnTo>
                    <a:pt x="71" y="394"/>
                  </a:lnTo>
                  <a:lnTo>
                    <a:pt x="76" y="388"/>
                  </a:lnTo>
                  <a:lnTo>
                    <a:pt x="80" y="381"/>
                  </a:lnTo>
                  <a:lnTo>
                    <a:pt x="84" y="373"/>
                  </a:lnTo>
                  <a:lnTo>
                    <a:pt x="88" y="367"/>
                  </a:lnTo>
                  <a:lnTo>
                    <a:pt x="93" y="360"/>
                  </a:lnTo>
                  <a:lnTo>
                    <a:pt x="97" y="352"/>
                  </a:lnTo>
                  <a:lnTo>
                    <a:pt x="101" y="346"/>
                  </a:lnTo>
                  <a:lnTo>
                    <a:pt x="107" y="339"/>
                  </a:lnTo>
                  <a:lnTo>
                    <a:pt x="114" y="333"/>
                  </a:lnTo>
                  <a:lnTo>
                    <a:pt x="118" y="324"/>
                  </a:lnTo>
                  <a:lnTo>
                    <a:pt x="124" y="318"/>
                  </a:lnTo>
                  <a:lnTo>
                    <a:pt x="128" y="310"/>
                  </a:lnTo>
                  <a:lnTo>
                    <a:pt x="135" y="305"/>
                  </a:lnTo>
                  <a:lnTo>
                    <a:pt x="141" y="297"/>
                  </a:lnTo>
                  <a:lnTo>
                    <a:pt x="147" y="289"/>
                  </a:lnTo>
                  <a:lnTo>
                    <a:pt x="152" y="284"/>
                  </a:lnTo>
                  <a:lnTo>
                    <a:pt x="160" y="278"/>
                  </a:lnTo>
                  <a:lnTo>
                    <a:pt x="166" y="270"/>
                  </a:lnTo>
                  <a:lnTo>
                    <a:pt x="171" y="263"/>
                  </a:lnTo>
                  <a:lnTo>
                    <a:pt x="177" y="257"/>
                  </a:lnTo>
                  <a:lnTo>
                    <a:pt x="185" y="249"/>
                  </a:lnTo>
                  <a:lnTo>
                    <a:pt x="190" y="242"/>
                  </a:lnTo>
                  <a:lnTo>
                    <a:pt x="198" y="236"/>
                  </a:lnTo>
                  <a:lnTo>
                    <a:pt x="202" y="229"/>
                  </a:lnTo>
                  <a:lnTo>
                    <a:pt x="211" y="223"/>
                  </a:lnTo>
                  <a:lnTo>
                    <a:pt x="217" y="215"/>
                  </a:lnTo>
                  <a:lnTo>
                    <a:pt x="225" y="210"/>
                  </a:lnTo>
                  <a:lnTo>
                    <a:pt x="230" y="204"/>
                  </a:lnTo>
                  <a:lnTo>
                    <a:pt x="238" y="198"/>
                  </a:lnTo>
                  <a:lnTo>
                    <a:pt x="246" y="192"/>
                  </a:lnTo>
                  <a:lnTo>
                    <a:pt x="251" y="187"/>
                  </a:lnTo>
                  <a:lnTo>
                    <a:pt x="259" y="179"/>
                  </a:lnTo>
                  <a:lnTo>
                    <a:pt x="268" y="175"/>
                  </a:lnTo>
                  <a:lnTo>
                    <a:pt x="274" y="170"/>
                  </a:lnTo>
                  <a:lnTo>
                    <a:pt x="282" y="164"/>
                  </a:lnTo>
                  <a:lnTo>
                    <a:pt x="287" y="156"/>
                  </a:lnTo>
                  <a:lnTo>
                    <a:pt x="295" y="153"/>
                  </a:lnTo>
                  <a:lnTo>
                    <a:pt x="303" y="145"/>
                  </a:lnTo>
                  <a:lnTo>
                    <a:pt x="312" y="141"/>
                  </a:lnTo>
                  <a:lnTo>
                    <a:pt x="320" y="134"/>
                  </a:lnTo>
                  <a:lnTo>
                    <a:pt x="327" y="130"/>
                  </a:lnTo>
                  <a:lnTo>
                    <a:pt x="335" y="126"/>
                  </a:lnTo>
                  <a:lnTo>
                    <a:pt x="342" y="120"/>
                  </a:lnTo>
                  <a:lnTo>
                    <a:pt x="352" y="114"/>
                  </a:lnTo>
                  <a:lnTo>
                    <a:pt x="360" y="111"/>
                  </a:lnTo>
                  <a:lnTo>
                    <a:pt x="367" y="107"/>
                  </a:lnTo>
                  <a:lnTo>
                    <a:pt x="375" y="103"/>
                  </a:lnTo>
                  <a:lnTo>
                    <a:pt x="382" y="99"/>
                  </a:lnTo>
                  <a:lnTo>
                    <a:pt x="390" y="95"/>
                  </a:lnTo>
                  <a:lnTo>
                    <a:pt x="398" y="90"/>
                  </a:lnTo>
                  <a:lnTo>
                    <a:pt x="405" y="86"/>
                  </a:lnTo>
                  <a:lnTo>
                    <a:pt x="413" y="82"/>
                  </a:lnTo>
                  <a:lnTo>
                    <a:pt x="420" y="78"/>
                  </a:lnTo>
                  <a:lnTo>
                    <a:pt x="430" y="73"/>
                  </a:lnTo>
                  <a:lnTo>
                    <a:pt x="438" y="69"/>
                  </a:lnTo>
                  <a:lnTo>
                    <a:pt x="447" y="65"/>
                  </a:lnTo>
                  <a:lnTo>
                    <a:pt x="457" y="63"/>
                  </a:lnTo>
                  <a:lnTo>
                    <a:pt x="464" y="59"/>
                  </a:lnTo>
                  <a:lnTo>
                    <a:pt x="474" y="56"/>
                  </a:lnTo>
                  <a:lnTo>
                    <a:pt x="481" y="52"/>
                  </a:lnTo>
                  <a:lnTo>
                    <a:pt x="491" y="48"/>
                  </a:lnTo>
                  <a:lnTo>
                    <a:pt x="500" y="44"/>
                  </a:lnTo>
                  <a:lnTo>
                    <a:pt x="512" y="42"/>
                  </a:lnTo>
                  <a:lnTo>
                    <a:pt x="521" y="40"/>
                  </a:lnTo>
                  <a:lnTo>
                    <a:pt x="531" y="38"/>
                  </a:lnTo>
                  <a:lnTo>
                    <a:pt x="538" y="35"/>
                  </a:lnTo>
                  <a:lnTo>
                    <a:pt x="550" y="33"/>
                  </a:lnTo>
                  <a:lnTo>
                    <a:pt x="559" y="31"/>
                  </a:lnTo>
                  <a:lnTo>
                    <a:pt x="571" y="31"/>
                  </a:lnTo>
                  <a:lnTo>
                    <a:pt x="578" y="29"/>
                  </a:lnTo>
                  <a:lnTo>
                    <a:pt x="590" y="29"/>
                  </a:lnTo>
                  <a:lnTo>
                    <a:pt x="601" y="29"/>
                  </a:lnTo>
                  <a:lnTo>
                    <a:pt x="611" y="29"/>
                  </a:lnTo>
                  <a:lnTo>
                    <a:pt x="620" y="29"/>
                  </a:lnTo>
                  <a:lnTo>
                    <a:pt x="631" y="29"/>
                  </a:lnTo>
                  <a:lnTo>
                    <a:pt x="641" y="29"/>
                  </a:lnTo>
                  <a:lnTo>
                    <a:pt x="652" y="33"/>
                  </a:lnTo>
                  <a:lnTo>
                    <a:pt x="662" y="33"/>
                  </a:lnTo>
                  <a:lnTo>
                    <a:pt x="673" y="37"/>
                  </a:lnTo>
                  <a:lnTo>
                    <a:pt x="683" y="38"/>
                  </a:lnTo>
                  <a:lnTo>
                    <a:pt x="694" y="42"/>
                  </a:lnTo>
                  <a:lnTo>
                    <a:pt x="706" y="46"/>
                  </a:lnTo>
                  <a:lnTo>
                    <a:pt x="719" y="52"/>
                  </a:lnTo>
                  <a:lnTo>
                    <a:pt x="730" y="56"/>
                  </a:lnTo>
                  <a:lnTo>
                    <a:pt x="744" y="59"/>
                  </a:lnTo>
                  <a:lnTo>
                    <a:pt x="753" y="63"/>
                  </a:lnTo>
                  <a:lnTo>
                    <a:pt x="766" y="71"/>
                  </a:lnTo>
                  <a:lnTo>
                    <a:pt x="776" y="76"/>
                  </a:lnTo>
                  <a:lnTo>
                    <a:pt x="787" y="82"/>
                  </a:lnTo>
                  <a:lnTo>
                    <a:pt x="797" y="86"/>
                  </a:lnTo>
                  <a:lnTo>
                    <a:pt x="806" y="94"/>
                  </a:lnTo>
                  <a:lnTo>
                    <a:pt x="816" y="99"/>
                  </a:lnTo>
                  <a:lnTo>
                    <a:pt x="827" y="107"/>
                  </a:lnTo>
                  <a:lnTo>
                    <a:pt x="835" y="113"/>
                  </a:lnTo>
                  <a:lnTo>
                    <a:pt x="842" y="118"/>
                  </a:lnTo>
                  <a:lnTo>
                    <a:pt x="850" y="126"/>
                  </a:lnTo>
                  <a:lnTo>
                    <a:pt x="860" y="134"/>
                  </a:lnTo>
                  <a:lnTo>
                    <a:pt x="867" y="141"/>
                  </a:lnTo>
                  <a:lnTo>
                    <a:pt x="873" y="149"/>
                  </a:lnTo>
                  <a:lnTo>
                    <a:pt x="880" y="156"/>
                  </a:lnTo>
                  <a:lnTo>
                    <a:pt x="886" y="166"/>
                  </a:lnTo>
                  <a:lnTo>
                    <a:pt x="892" y="173"/>
                  </a:lnTo>
                  <a:lnTo>
                    <a:pt x="898" y="181"/>
                  </a:lnTo>
                  <a:lnTo>
                    <a:pt x="903" y="191"/>
                  </a:lnTo>
                  <a:lnTo>
                    <a:pt x="911" y="200"/>
                  </a:lnTo>
                  <a:lnTo>
                    <a:pt x="915" y="208"/>
                  </a:lnTo>
                  <a:lnTo>
                    <a:pt x="919" y="215"/>
                  </a:lnTo>
                  <a:lnTo>
                    <a:pt x="922" y="225"/>
                  </a:lnTo>
                  <a:lnTo>
                    <a:pt x="926" y="236"/>
                  </a:lnTo>
                  <a:lnTo>
                    <a:pt x="928" y="244"/>
                  </a:lnTo>
                  <a:lnTo>
                    <a:pt x="932" y="255"/>
                  </a:lnTo>
                  <a:lnTo>
                    <a:pt x="936" y="265"/>
                  </a:lnTo>
                  <a:lnTo>
                    <a:pt x="939" y="276"/>
                  </a:lnTo>
                  <a:lnTo>
                    <a:pt x="939" y="284"/>
                  </a:lnTo>
                  <a:lnTo>
                    <a:pt x="941" y="295"/>
                  </a:lnTo>
                  <a:lnTo>
                    <a:pt x="941" y="303"/>
                  </a:lnTo>
                  <a:lnTo>
                    <a:pt x="943" y="314"/>
                  </a:lnTo>
                  <a:lnTo>
                    <a:pt x="943" y="324"/>
                  </a:lnTo>
                  <a:lnTo>
                    <a:pt x="943" y="333"/>
                  </a:lnTo>
                  <a:lnTo>
                    <a:pt x="943" y="343"/>
                  </a:lnTo>
                  <a:lnTo>
                    <a:pt x="943" y="354"/>
                  </a:lnTo>
                  <a:lnTo>
                    <a:pt x="941" y="364"/>
                  </a:lnTo>
                  <a:lnTo>
                    <a:pt x="941" y="373"/>
                  </a:lnTo>
                  <a:lnTo>
                    <a:pt x="941" y="383"/>
                  </a:lnTo>
                  <a:lnTo>
                    <a:pt x="939" y="394"/>
                  </a:lnTo>
                  <a:lnTo>
                    <a:pt x="938" y="404"/>
                  </a:lnTo>
                  <a:lnTo>
                    <a:pt x="936" y="413"/>
                  </a:lnTo>
                  <a:lnTo>
                    <a:pt x="934" y="423"/>
                  </a:lnTo>
                  <a:lnTo>
                    <a:pt x="932" y="434"/>
                  </a:lnTo>
                  <a:lnTo>
                    <a:pt x="928" y="443"/>
                  </a:lnTo>
                  <a:lnTo>
                    <a:pt x="926" y="455"/>
                  </a:lnTo>
                  <a:lnTo>
                    <a:pt x="924" y="464"/>
                  </a:lnTo>
                  <a:lnTo>
                    <a:pt x="920" y="476"/>
                  </a:lnTo>
                  <a:lnTo>
                    <a:pt x="917" y="485"/>
                  </a:lnTo>
                  <a:lnTo>
                    <a:pt x="913" y="495"/>
                  </a:lnTo>
                  <a:lnTo>
                    <a:pt x="909" y="506"/>
                  </a:lnTo>
                  <a:lnTo>
                    <a:pt x="907" y="518"/>
                  </a:lnTo>
                  <a:lnTo>
                    <a:pt x="901" y="525"/>
                  </a:lnTo>
                  <a:lnTo>
                    <a:pt x="898" y="537"/>
                  </a:lnTo>
                  <a:lnTo>
                    <a:pt x="894" y="548"/>
                  </a:lnTo>
                  <a:lnTo>
                    <a:pt x="888" y="558"/>
                  </a:lnTo>
                  <a:lnTo>
                    <a:pt x="884" y="567"/>
                  </a:lnTo>
                  <a:lnTo>
                    <a:pt x="879" y="578"/>
                  </a:lnTo>
                  <a:lnTo>
                    <a:pt x="873" y="588"/>
                  </a:lnTo>
                  <a:lnTo>
                    <a:pt x="869" y="601"/>
                  </a:lnTo>
                  <a:lnTo>
                    <a:pt x="863" y="609"/>
                  </a:lnTo>
                  <a:lnTo>
                    <a:pt x="856" y="618"/>
                  </a:lnTo>
                  <a:lnTo>
                    <a:pt x="848" y="628"/>
                  </a:lnTo>
                  <a:lnTo>
                    <a:pt x="844" y="639"/>
                  </a:lnTo>
                  <a:lnTo>
                    <a:pt x="837" y="649"/>
                  </a:lnTo>
                  <a:lnTo>
                    <a:pt x="831" y="658"/>
                  </a:lnTo>
                  <a:lnTo>
                    <a:pt x="823" y="668"/>
                  </a:lnTo>
                  <a:lnTo>
                    <a:pt x="818" y="679"/>
                  </a:lnTo>
                  <a:lnTo>
                    <a:pt x="810" y="687"/>
                  </a:lnTo>
                  <a:lnTo>
                    <a:pt x="804" y="698"/>
                  </a:lnTo>
                  <a:lnTo>
                    <a:pt x="797" y="706"/>
                  </a:lnTo>
                  <a:lnTo>
                    <a:pt x="791" y="715"/>
                  </a:lnTo>
                  <a:lnTo>
                    <a:pt x="784" y="725"/>
                  </a:lnTo>
                  <a:lnTo>
                    <a:pt x="776" y="734"/>
                  </a:lnTo>
                  <a:lnTo>
                    <a:pt x="770" y="744"/>
                  </a:lnTo>
                  <a:lnTo>
                    <a:pt x="763" y="755"/>
                  </a:lnTo>
                  <a:lnTo>
                    <a:pt x="755" y="763"/>
                  </a:lnTo>
                  <a:lnTo>
                    <a:pt x="747" y="772"/>
                  </a:lnTo>
                  <a:lnTo>
                    <a:pt x="740" y="780"/>
                  </a:lnTo>
                  <a:lnTo>
                    <a:pt x="732" y="789"/>
                  </a:lnTo>
                  <a:lnTo>
                    <a:pt x="723" y="797"/>
                  </a:lnTo>
                  <a:lnTo>
                    <a:pt x="715" y="805"/>
                  </a:lnTo>
                  <a:lnTo>
                    <a:pt x="707" y="812"/>
                  </a:lnTo>
                  <a:lnTo>
                    <a:pt x="702" y="822"/>
                  </a:lnTo>
                  <a:lnTo>
                    <a:pt x="692" y="829"/>
                  </a:lnTo>
                  <a:lnTo>
                    <a:pt x="685" y="839"/>
                  </a:lnTo>
                  <a:lnTo>
                    <a:pt x="677" y="847"/>
                  </a:lnTo>
                  <a:lnTo>
                    <a:pt x="669" y="854"/>
                  </a:lnTo>
                  <a:lnTo>
                    <a:pt x="662" y="860"/>
                  </a:lnTo>
                  <a:lnTo>
                    <a:pt x="652" y="869"/>
                  </a:lnTo>
                  <a:lnTo>
                    <a:pt x="645" y="877"/>
                  </a:lnTo>
                  <a:lnTo>
                    <a:pt x="637" y="885"/>
                  </a:lnTo>
                  <a:lnTo>
                    <a:pt x="626" y="892"/>
                  </a:lnTo>
                  <a:lnTo>
                    <a:pt x="614" y="902"/>
                  </a:lnTo>
                  <a:lnTo>
                    <a:pt x="605" y="911"/>
                  </a:lnTo>
                  <a:lnTo>
                    <a:pt x="595" y="921"/>
                  </a:lnTo>
                  <a:lnTo>
                    <a:pt x="582" y="930"/>
                  </a:lnTo>
                  <a:lnTo>
                    <a:pt x="574" y="942"/>
                  </a:lnTo>
                  <a:lnTo>
                    <a:pt x="565" y="951"/>
                  </a:lnTo>
                  <a:lnTo>
                    <a:pt x="557" y="963"/>
                  </a:lnTo>
                  <a:lnTo>
                    <a:pt x="546" y="972"/>
                  </a:lnTo>
                  <a:lnTo>
                    <a:pt x="536" y="983"/>
                  </a:lnTo>
                  <a:lnTo>
                    <a:pt x="529" y="993"/>
                  </a:lnTo>
                  <a:lnTo>
                    <a:pt x="521" y="1004"/>
                  </a:lnTo>
                  <a:lnTo>
                    <a:pt x="514" y="1016"/>
                  </a:lnTo>
                  <a:lnTo>
                    <a:pt x="504" y="1027"/>
                  </a:lnTo>
                  <a:lnTo>
                    <a:pt x="496" y="1039"/>
                  </a:lnTo>
                  <a:lnTo>
                    <a:pt x="491" y="1050"/>
                  </a:lnTo>
                  <a:lnTo>
                    <a:pt x="481" y="1061"/>
                  </a:lnTo>
                  <a:lnTo>
                    <a:pt x="474" y="1073"/>
                  </a:lnTo>
                  <a:lnTo>
                    <a:pt x="466" y="1084"/>
                  </a:lnTo>
                  <a:lnTo>
                    <a:pt x="460" y="1096"/>
                  </a:lnTo>
                  <a:lnTo>
                    <a:pt x="451" y="1107"/>
                  </a:lnTo>
                  <a:lnTo>
                    <a:pt x="447" y="1120"/>
                  </a:lnTo>
                  <a:lnTo>
                    <a:pt x="439" y="1132"/>
                  </a:lnTo>
                  <a:lnTo>
                    <a:pt x="434" y="1143"/>
                  </a:lnTo>
                  <a:lnTo>
                    <a:pt x="426" y="1155"/>
                  </a:lnTo>
                  <a:lnTo>
                    <a:pt x="420" y="1168"/>
                  </a:lnTo>
                  <a:lnTo>
                    <a:pt x="415" y="1179"/>
                  </a:lnTo>
                  <a:lnTo>
                    <a:pt x="411" y="1191"/>
                  </a:lnTo>
                  <a:lnTo>
                    <a:pt x="403" y="1202"/>
                  </a:lnTo>
                  <a:lnTo>
                    <a:pt x="400" y="1215"/>
                  </a:lnTo>
                  <a:lnTo>
                    <a:pt x="396" y="1227"/>
                  </a:lnTo>
                  <a:lnTo>
                    <a:pt x="390" y="1240"/>
                  </a:lnTo>
                  <a:lnTo>
                    <a:pt x="386" y="1252"/>
                  </a:lnTo>
                  <a:lnTo>
                    <a:pt x="381" y="1265"/>
                  </a:lnTo>
                  <a:lnTo>
                    <a:pt x="375" y="1276"/>
                  </a:lnTo>
                  <a:lnTo>
                    <a:pt x="371" y="1288"/>
                  </a:lnTo>
                  <a:lnTo>
                    <a:pt x="367" y="1299"/>
                  </a:lnTo>
                  <a:lnTo>
                    <a:pt x="363" y="1312"/>
                  </a:lnTo>
                  <a:lnTo>
                    <a:pt x="360" y="1324"/>
                  </a:lnTo>
                  <a:lnTo>
                    <a:pt x="356" y="1335"/>
                  </a:lnTo>
                  <a:lnTo>
                    <a:pt x="352" y="1347"/>
                  </a:lnTo>
                  <a:lnTo>
                    <a:pt x="348" y="1358"/>
                  </a:lnTo>
                  <a:lnTo>
                    <a:pt x="346" y="1369"/>
                  </a:lnTo>
                  <a:lnTo>
                    <a:pt x="342" y="1383"/>
                  </a:lnTo>
                  <a:lnTo>
                    <a:pt x="339" y="1394"/>
                  </a:lnTo>
                  <a:lnTo>
                    <a:pt x="337" y="1406"/>
                  </a:lnTo>
                  <a:lnTo>
                    <a:pt x="333" y="1419"/>
                  </a:lnTo>
                  <a:lnTo>
                    <a:pt x="333" y="1430"/>
                  </a:lnTo>
                  <a:lnTo>
                    <a:pt x="329" y="1440"/>
                  </a:lnTo>
                  <a:lnTo>
                    <a:pt x="327" y="1453"/>
                  </a:lnTo>
                  <a:lnTo>
                    <a:pt x="325" y="1463"/>
                  </a:lnTo>
                  <a:lnTo>
                    <a:pt x="323" y="1476"/>
                  </a:lnTo>
                  <a:lnTo>
                    <a:pt x="322" y="1485"/>
                  </a:lnTo>
                  <a:lnTo>
                    <a:pt x="322" y="1497"/>
                  </a:lnTo>
                  <a:lnTo>
                    <a:pt x="318" y="1508"/>
                  </a:lnTo>
                  <a:lnTo>
                    <a:pt x="318" y="1520"/>
                  </a:lnTo>
                  <a:lnTo>
                    <a:pt x="316" y="1529"/>
                  </a:lnTo>
                  <a:lnTo>
                    <a:pt x="316" y="1541"/>
                  </a:lnTo>
                  <a:lnTo>
                    <a:pt x="314" y="1550"/>
                  </a:lnTo>
                  <a:lnTo>
                    <a:pt x="314" y="1563"/>
                  </a:lnTo>
                  <a:lnTo>
                    <a:pt x="312" y="1573"/>
                  </a:lnTo>
                  <a:lnTo>
                    <a:pt x="312" y="1582"/>
                  </a:lnTo>
                  <a:lnTo>
                    <a:pt x="312" y="1594"/>
                  </a:lnTo>
                  <a:lnTo>
                    <a:pt x="312" y="1603"/>
                  </a:lnTo>
                  <a:lnTo>
                    <a:pt x="312" y="1617"/>
                  </a:lnTo>
                  <a:lnTo>
                    <a:pt x="312" y="1630"/>
                  </a:lnTo>
                  <a:lnTo>
                    <a:pt x="312" y="1641"/>
                  </a:lnTo>
                  <a:lnTo>
                    <a:pt x="312" y="1657"/>
                  </a:lnTo>
                  <a:lnTo>
                    <a:pt x="312" y="1668"/>
                  </a:lnTo>
                  <a:lnTo>
                    <a:pt x="314" y="1679"/>
                  </a:lnTo>
                  <a:lnTo>
                    <a:pt x="316" y="1691"/>
                  </a:lnTo>
                  <a:lnTo>
                    <a:pt x="318" y="1704"/>
                  </a:lnTo>
                  <a:lnTo>
                    <a:pt x="318" y="1714"/>
                  </a:lnTo>
                  <a:lnTo>
                    <a:pt x="322" y="1725"/>
                  </a:lnTo>
                  <a:lnTo>
                    <a:pt x="322" y="1734"/>
                  </a:lnTo>
                  <a:lnTo>
                    <a:pt x="325" y="1746"/>
                  </a:lnTo>
                  <a:lnTo>
                    <a:pt x="325" y="1755"/>
                  </a:lnTo>
                  <a:lnTo>
                    <a:pt x="329" y="1765"/>
                  </a:lnTo>
                  <a:lnTo>
                    <a:pt x="331" y="1774"/>
                  </a:lnTo>
                  <a:lnTo>
                    <a:pt x="335" y="1784"/>
                  </a:lnTo>
                  <a:lnTo>
                    <a:pt x="337" y="1792"/>
                  </a:lnTo>
                  <a:lnTo>
                    <a:pt x="339" y="1799"/>
                  </a:lnTo>
                  <a:lnTo>
                    <a:pt x="342" y="1805"/>
                  </a:lnTo>
                  <a:lnTo>
                    <a:pt x="344" y="1814"/>
                  </a:lnTo>
                  <a:lnTo>
                    <a:pt x="348" y="1826"/>
                  </a:lnTo>
                  <a:lnTo>
                    <a:pt x="354" y="1837"/>
                  </a:lnTo>
                  <a:lnTo>
                    <a:pt x="356" y="1845"/>
                  </a:lnTo>
                  <a:lnTo>
                    <a:pt x="360" y="1852"/>
                  </a:lnTo>
                  <a:lnTo>
                    <a:pt x="362" y="1854"/>
                  </a:lnTo>
                  <a:lnTo>
                    <a:pt x="365" y="1858"/>
                  </a:lnTo>
                  <a:lnTo>
                    <a:pt x="388" y="1845"/>
                  </a:lnTo>
                  <a:lnTo>
                    <a:pt x="386" y="1843"/>
                  </a:lnTo>
                  <a:lnTo>
                    <a:pt x="386" y="1839"/>
                  </a:lnTo>
                  <a:lnTo>
                    <a:pt x="382" y="1831"/>
                  </a:lnTo>
                  <a:lnTo>
                    <a:pt x="379" y="1826"/>
                  </a:lnTo>
                  <a:lnTo>
                    <a:pt x="375" y="1814"/>
                  </a:lnTo>
                  <a:lnTo>
                    <a:pt x="371" y="1805"/>
                  </a:lnTo>
                  <a:lnTo>
                    <a:pt x="369" y="1797"/>
                  </a:lnTo>
                  <a:lnTo>
                    <a:pt x="365" y="1792"/>
                  </a:lnTo>
                  <a:lnTo>
                    <a:pt x="363" y="1782"/>
                  </a:lnTo>
                  <a:lnTo>
                    <a:pt x="362" y="1776"/>
                  </a:lnTo>
                  <a:lnTo>
                    <a:pt x="358" y="1767"/>
                  </a:lnTo>
                  <a:lnTo>
                    <a:pt x="356" y="1759"/>
                  </a:lnTo>
                  <a:lnTo>
                    <a:pt x="354" y="1750"/>
                  </a:lnTo>
                  <a:lnTo>
                    <a:pt x="352" y="1740"/>
                  </a:lnTo>
                  <a:lnTo>
                    <a:pt x="350" y="1731"/>
                  </a:lnTo>
                  <a:lnTo>
                    <a:pt x="348" y="1721"/>
                  </a:lnTo>
                  <a:lnTo>
                    <a:pt x="346" y="1710"/>
                  </a:lnTo>
                  <a:lnTo>
                    <a:pt x="344" y="1700"/>
                  </a:lnTo>
                  <a:lnTo>
                    <a:pt x="342" y="1689"/>
                  </a:lnTo>
                  <a:lnTo>
                    <a:pt x="341" y="1677"/>
                  </a:lnTo>
                  <a:lnTo>
                    <a:pt x="341" y="1664"/>
                  </a:lnTo>
                  <a:lnTo>
                    <a:pt x="341" y="1655"/>
                  </a:lnTo>
                  <a:lnTo>
                    <a:pt x="339" y="1641"/>
                  </a:lnTo>
                  <a:lnTo>
                    <a:pt x="339" y="1630"/>
                  </a:lnTo>
                  <a:lnTo>
                    <a:pt x="339" y="1617"/>
                  </a:lnTo>
                  <a:lnTo>
                    <a:pt x="341" y="1605"/>
                  </a:lnTo>
                  <a:lnTo>
                    <a:pt x="341" y="1594"/>
                  </a:lnTo>
                  <a:lnTo>
                    <a:pt x="341" y="1584"/>
                  </a:lnTo>
                  <a:lnTo>
                    <a:pt x="341" y="1573"/>
                  </a:lnTo>
                  <a:lnTo>
                    <a:pt x="342" y="1563"/>
                  </a:lnTo>
                  <a:lnTo>
                    <a:pt x="342" y="1554"/>
                  </a:lnTo>
                  <a:lnTo>
                    <a:pt x="342" y="1542"/>
                  </a:lnTo>
                  <a:lnTo>
                    <a:pt x="344" y="1533"/>
                  </a:lnTo>
                  <a:lnTo>
                    <a:pt x="346" y="1523"/>
                  </a:lnTo>
                  <a:lnTo>
                    <a:pt x="346" y="1510"/>
                  </a:lnTo>
                  <a:lnTo>
                    <a:pt x="348" y="1501"/>
                  </a:lnTo>
                  <a:lnTo>
                    <a:pt x="348" y="1489"/>
                  </a:lnTo>
                  <a:lnTo>
                    <a:pt x="352" y="1480"/>
                  </a:lnTo>
                  <a:lnTo>
                    <a:pt x="352" y="1468"/>
                  </a:lnTo>
                  <a:lnTo>
                    <a:pt x="356" y="1457"/>
                  </a:lnTo>
                  <a:lnTo>
                    <a:pt x="356" y="1447"/>
                  </a:lnTo>
                  <a:lnTo>
                    <a:pt x="360" y="1436"/>
                  </a:lnTo>
                  <a:lnTo>
                    <a:pt x="362" y="1425"/>
                  </a:lnTo>
                  <a:lnTo>
                    <a:pt x="365" y="1413"/>
                  </a:lnTo>
                  <a:lnTo>
                    <a:pt x="365" y="1402"/>
                  </a:lnTo>
                  <a:lnTo>
                    <a:pt x="369" y="1390"/>
                  </a:lnTo>
                  <a:lnTo>
                    <a:pt x="373" y="1379"/>
                  </a:lnTo>
                  <a:lnTo>
                    <a:pt x="375" y="1366"/>
                  </a:lnTo>
                  <a:lnTo>
                    <a:pt x="379" y="1354"/>
                  </a:lnTo>
                  <a:lnTo>
                    <a:pt x="382" y="1343"/>
                  </a:lnTo>
                  <a:lnTo>
                    <a:pt x="386" y="1331"/>
                  </a:lnTo>
                  <a:lnTo>
                    <a:pt x="390" y="1320"/>
                  </a:lnTo>
                  <a:lnTo>
                    <a:pt x="394" y="1309"/>
                  </a:lnTo>
                  <a:lnTo>
                    <a:pt x="398" y="1297"/>
                  </a:lnTo>
                  <a:lnTo>
                    <a:pt x="401" y="1286"/>
                  </a:lnTo>
                  <a:lnTo>
                    <a:pt x="405" y="1272"/>
                  </a:lnTo>
                  <a:lnTo>
                    <a:pt x="411" y="1261"/>
                  </a:lnTo>
                  <a:lnTo>
                    <a:pt x="417" y="1252"/>
                  </a:lnTo>
                  <a:lnTo>
                    <a:pt x="420" y="1238"/>
                  </a:lnTo>
                  <a:lnTo>
                    <a:pt x="424" y="1227"/>
                  </a:lnTo>
                  <a:lnTo>
                    <a:pt x="430" y="1215"/>
                  </a:lnTo>
                  <a:lnTo>
                    <a:pt x="434" y="1202"/>
                  </a:lnTo>
                  <a:lnTo>
                    <a:pt x="439" y="1191"/>
                  </a:lnTo>
                  <a:lnTo>
                    <a:pt x="447" y="1179"/>
                  </a:lnTo>
                  <a:lnTo>
                    <a:pt x="451" y="1168"/>
                  </a:lnTo>
                  <a:lnTo>
                    <a:pt x="458" y="1156"/>
                  </a:lnTo>
                  <a:lnTo>
                    <a:pt x="464" y="1145"/>
                  </a:lnTo>
                  <a:lnTo>
                    <a:pt x="470" y="1132"/>
                  </a:lnTo>
                  <a:lnTo>
                    <a:pt x="476" y="1120"/>
                  </a:lnTo>
                  <a:lnTo>
                    <a:pt x="483" y="1111"/>
                  </a:lnTo>
                  <a:lnTo>
                    <a:pt x="491" y="1098"/>
                  </a:lnTo>
                  <a:lnTo>
                    <a:pt x="496" y="1088"/>
                  </a:lnTo>
                  <a:lnTo>
                    <a:pt x="504" y="1077"/>
                  </a:lnTo>
                  <a:lnTo>
                    <a:pt x="514" y="1067"/>
                  </a:lnTo>
                  <a:lnTo>
                    <a:pt x="519" y="1054"/>
                  </a:lnTo>
                  <a:lnTo>
                    <a:pt x="527" y="1044"/>
                  </a:lnTo>
                  <a:lnTo>
                    <a:pt x="534" y="1033"/>
                  </a:lnTo>
                  <a:lnTo>
                    <a:pt x="544" y="1023"/>
                  </a:lnTo>
                  <a:lnTo>
                    <a:pt x="552" y="1010"/>
                  </a:lnTo>
                  <a:lnTo>
                    <a:pt x="559" y="1001"/>
                  </a:lnTo>
                  <a:lnTo>
                    <a:pt x="569" y="991"/>
                  </a:lnTo>
                  <a:lnTo>
                    <a:pt x="578" y="982"/>
                  </a:lnTo>
                  <a:lnTo>
                    <a:pt x="586" y="970"/>
                  </a:lnTo>
                  <a:lnTo>
                    <a:pt x="595" y="961"/>
                  </a:lnTo>
                  <a:lnTo>
                    <a:pt x="605" y="951"/>
                  </a:lnTo>
                  <a:lnTo>
                    <a:pt x="614" y="942"/>
                  </a:lnTo>
                  <a:lnTo>
                    <a:pt x="624" y="932"/>
                  </a:lnTo>
                  <a:lnTo>
                    <a:pt x="635" y="923"/>
                  </a:lnTo>
                  <a:lnTo>
                    <a:pt x="643" y="913"/>
                  </a:lnTo>
                  <a:lnTo>
                    <a:pt x="656" y="905"/>
                  </a:lnTo>
                  <a:lnTo>
                    <a:pt x="664" y="898"/>
                  </a:lnTo>
                  <a:lnTo>
                    <a:pt x="671" y="890"/>
                  </a:lnTo>
                  <a:lnTo>
                    <a:pt x="679" y="883"/>
                  </a:lnTo>
                  <a:lnTo>
                    <a:pt x="688" y="873"/>
                  </a:lnTo>
                  <a:lnTo>
                    <a:pt x="696" y="866"/>
                  </a:lnTo>
                  <a:lnTo>
                    <a:pt x="706" y="858"/>
                  </a:lnTo>
                  <a:lnTo>
                    <a:pt x="713" y="850"/>
                  </a:lnTo>
                  <a:lnTo>
                    <a:pt x="723" y="843"/>
                  </a:lnTo>
                  <a:lnTo>
                    <a:pt x="730" y="833"/>
                  </a:lnTo>
                  <a:lnTo>
                    <a:pt x="738" y="824"/>
                  </a:lnTo>
                  <a:lnTo>
                    <a:pt x="746" y="814"/>
                  </a:lnTo>
                  <a:lnTo>
                    <a:pt x="753" y="807"/>
                  </a:lnTo>
                  <a:lnTo>
                    <a:pt x="763" y="797"/>
                  </a:lnTo>
                  <a:lnTo>
                    <a:pt x="770" y="788"/>
                  </a:lnTo>
                  <a:lnTo>
                    <a:pt x="778" y="778"/>
                  </a:lnTo>
                  <a:lnTo>
                    <a:pt x="785" y="770"/>
                  </a:lnTo>
                  <a:lnTo>
                    <a:pt x="793" y="759"/>
                  </a:lnTo>
                  <a:lnTo>
                    <a:pt x="801" y="750"/>
                  </a:lnTo>
                  <a:lnTo>
                    <a:pt x="806" y="740"/>
                  </a:lnTo>
                  <a:lnTo>
                    <a:pt x="814" y="731"/>
                  </a:lnTo>
                  <a:lnTo>
                    <a:pt x="822" y="719"/>
                  </a:lnTo>
                  <a:lnTo>
                    <a:pt x="829" y="710"/>
                  </a:lnTo>
                  <a:lnTo>
                    <a:pt x="837" y="702"/>
                  </a:lnTo>
                  <a:lnTo>
                    <a:pt x="844" y="693"/>
                  </a:lnTo>
                  <a:lnTo>
                    <a:pt x="848" y="679"/>
                  </a:lnTo>
                  <a:lnTo>
                    <a:pt x="856" y="672"/>
                  </a:lnTo>
                  <a:lnTo>
                    <a:pt x="863" y="660"/>
                  </a:lnTo>
                  <a:lnTo>
                    <a:pt x="869" y="651"/>
                  </a:lnTo>
                  <a:lnTo>
                    <a:pt x="875" y="639"/>
                  </a:lnTo>
                  <a:lnTo>
                    <a:pt x="880" y="630"/>
                  </a:lnTo>
                  <a:lnTo>
                    <a:pt x="888" y="618"/>
                  </a:lnTo>
                  <a:lnTo>
                    <a:pt x="894" y="609"/>
                  </a:lnTo>
                  <a:lnTo>
                    <a:pt x="898" y="597"/>
                  </a:lnTo>
                  <a:lnTo>
                    <a:pt x="903" y="588"/>
                  </a:lnTo>
                  <a:lnTo>
                    <a:pt x="909" y="577"/>
                  </a:lnTo>
                  <a:lnTo>
                    <a:pt x="915" y="565"/>
                  </a:lnTo>
                  <a:lnTo>
                    <a:pt x="919" y="554"/>
                  </a:lnTo>
                  <a:lnTo>
                    <a:pt x="924" y="544"/>
                  </a:lnTo>
                  <a:lnTo>
                    <a:pt x="928" y="533"/>
                  </a:lnTo>
                  <a:lnTo>
                    <a:pt x="932" y="523"/>
                  </a:lnTo>
                  <a:lnTo>
                    <a:pt x="938" y="512"/>
                  </a:lnTo>
                  <a:lnTo>
                    <a:pt x="941" y="500"/>
                  </a:lnTo>
                  <a:lnTo>
                    <a:pt x="945" y="491"/>
                  </a:lnTo>
                  <a:lnTo>
                    <a:pt x="949" y="480"/>
                  </a:lnTo>
                  <a:lnTo>
                    <a:pt x="951" y="468"/>
                  </a:lnTo>
                  <a:lnTo>
                    <a:pt x="955" y="457"/>
                  </a:lnTo>
                  <a:lnTo>
                    <a:pt x="957" y="447"/>
                  </a:lnTo>
                  <a:lnTo>
                    <a:pt x="960" y="438"/>
                  </a:lnTo>
                  <a:lnTo>
                    <a:pt x="962" y="424"/>
                  </a:lnTo>
                  <a:lnTo>
                    <a:pt x="964" y="415"/>
                  </a:lnTo>
                  <a:lnTo>
                    <a:pt x="966" y="404"/>
                  </a:lnTo>
                  <a:lnTo>
                    <a:pt x="968" y="394"/>
                  </a:lnTo>
                  <a:lnTo>
                    <a:pt x="968" y="383"/>
                  </a:lnTo>
                  <a:lnTo>
                    <a:pt x="970" y="373"/>
                  </a:lnTo>
                  <a:lnTo>
                    <a:pt x="972" y="362"/>
                  </a:lnTo>
                  <a:lnTo>
                    <a:pt x="972" y="352"/>
                  </a:lnTo>
                  <a:lnTo>
                    <a:pt x="972" y="341"/>
                  </a:lnTo>
                  <a:lnTo>
                    <a:pt x="972" y="331"/>
                  </a:lnTo>
                  <a:lnTo>
                    <a:pt x="972" y="320"/>
                  </a:lnTo>
                  <a:lnTo>
                    <a:pt x="972" y="310"/>
                  </a:lnTo>
                  <a:lnTo>
                    <a:pt x="970" y="301"/>
                  </a:lnTo>
                  <a:lnTo>
                    <a:pt x="970" y="291"/>
                  </a:lnTo>
                  <a:lnTo>
                    <a:pt x="968" y="280"/>
                  </a:lnTo>
                  <a:lnTo>
                    <a:pt x="968" y="270"/>
                  </a:lnTo>
                  <a:lnTo>
                    <a:pt x="962" y="259"/>
                  </a:lnTo>
                  <a:lnTo>
                    <a:pt x="960" y="248"/>
                  </a:lnTo>
                  <a:lnTo>
                    <a:pt x="957" y="236"/>
                  </a:lnTo>
                  <a:lnTo>
                    <a:pt x="955" y="227"/>
                  </a:lnTo>
                  <a:lnTo>
                    <a:pt x="949" y="213"/>
                  </a:lnTo>
                  <a:lnTo>
                    <a:pt x="945" y="204"/>
                  </a:lnTo>
                  <a:lnTo>
                    <a:pt x="939" y="194"/>
                  </a:lnTo>
                  <a:lnTo>
                    <a:pt x="936" y="187"/>
                  </a:lnTo>
                  <a:lnTo>
                    <a:pt x="928" y="175"/>
                  </a:lnTo>
                  <a:lnTo>
                    <a:pt x="922" y="166"/>
                  </a:lnTo>
                  <a:lnTo>
                    <a:pt x="915" y="156"/>
                  </a:lnTo>
                  <a:lnTo>
                    <a:pt x="911" y="149"/>
                  </a:lnTo>
                  <a:lnTo>
                    <a:pt x="901" y="139"/>
                  </a:lnTo>
                  <a:lnTo>
                    <a:pt x="896" y="132"/>
                  </a:lnTo>
                  <a:lnTo>
                    <a:pt x="888" y="124"/>
                  </a:lnTo>
                  <a:lnTo>
                    <a:pt x="880" y="116"/>
                  </a:lnTo>
                  <a:lnTo>
                    <a:pt x="871" y="109"/>
                  </a:lnTo>
                  <a:lnTo>
                    <a:pt x="863" y="99"/>
                  </a:lnTo>
                  <a:lnTo>
                    <a:pt x="854" y="92"/>
                  </a:lnTo>
                  <a:lnTo>
                    <a:pt x="844" y="86"/>
                  </a:lnTo>
                  <a:lnTo>
                    <a:pt x="833" y="78"/>
                  </a:lnTo>
                  <a:lnTo>
                    <a:pt x="823" y="71"/>
                  </a:lnTo>
                  <a:lnTo>
                    <a:pt x="814" y="63"/>
                  </a:lnTo>
                  <a:lnTo>
                    <a:pt x="803" y="59"/>
                  </a:lnTo>
                  <a:lnTo>
                    <a:pt x="791" y="52"/>
                  </a:lnTo>
                  <a:lnTo>
                    <a:pt x="780" y="46"/>
                  </a:lnTo>
                  <a:lnTo>
                    <a:pt x="766" y="38"/>
                  </a:lnTo>
                  <a:lnTo>
                    <a:pt x="755" y="35"/>
                  </a:lnTo>
                  <a:lnTo>
                    <a:pt x="742" y="29"/>
                  </a:lnTo>
                  <a:lnTo>
                    <a:pt x="730" y="25"/>
                  </a:lnTo>
                  <a:lnTo>
                    <a:pt x="717" y="19"/>
                  </a:lnTo>
                  <a:lnTo>
                    <a:pt x="704" y="16"/>
                  </a:lnTo>
                  <a:lnTo>
                    <a:pt x="692" y="12"/>
                  </a:lnTo>
                  <a:lnTo>
                    <a:pt x="685" y="10"/>
                  </a:lnTo>
                  <a:lnTo>
                    <a:pt x="675" y="8"/>
                  </a:lnTo>
                  <a:lnTo>
                    <a:pt x="666" y="8"/>
                  </a:lnTo>
                  <a:lnTo>
                    <a:pt x="656" y="4"/>
                  </a:lnTo>
                  <a:lnTo>
                    <a:pt x="647" y="2"/>
                  </a:lnTo>
                  <a:lnTo>
                    <a:pt x="637" y="2"/>
                  </a:lnTo>
                  <a:lnTo>
                    <a:pt x="628" y="2"/>
                  </a:lnTo>
                  <a:lnTo>
                    <a:pt x="618" y="0"/>
                  </a:lnTo>
                  <a:lnTo>
                    <a:pt x="609" y="0"/>
                  </a:lnTo>
                  <a:lnTo>
                    <a:pt x="597" y="0"/>
                  </a:lnTo>
                  <a:lnTo>
                    <a:pt x="588" y="2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59" y="4"/>
                  </a:lnTo>
                  <a:lnTo>
                    <a:pt x="550" y="8"/>
                  </a:lnTo>
                  <a:lnTo>
                    <a:pt x="538" y="8"/>
                  </a:lnTo>
                  <a:lnTo>
                    <a:pt x="527" y="10"/>
                  </a:lnTo>
                  <a:lnTo>
                    <a:pt x="517" y="12"/>
                  </a:lnTo>
                  <a:lnTo>
                    <a:pt x="508" y="16"/>
                  </a:lnTo>
                  <a:lnTo>
                    <a:pt x="496" y="18"/>
                  </a:lnTo>
                  <a:lnTo>
                    <a:pt x="485" y="19"/>
                  </a:lnTo>
                  <a:lnTo>
                    <a:pt x="474" y="25"/>
                  </a:lnTo>
                  <a:lnTo>
                    <a:pt x="464" y="29"/>
                  </a:lnTo>
                  <a:lnTo>
                    <a:pt x="453" y="33"/>
                  </a:lnTo>
                  <a:lnTo>
                    <a:pt x="443" y="37"/>
                  </a:lnTo>
                  <a:lnTo>
                    <a:pt x="432" y="40"/>
                  </a:lnTo>
                  <a:lnTo>
                    <a:pt x="420" y="46"/>
                  </a:lnTo>
                  <a:lnTo>
                    <a:pt x="409" y="50"/>
                  </a:lnTo>
                  <a:lnTo>
                    <a:pt x="400" y="56"/>
                  </a:lnTo>
                  <a:lnTo>
                    <a:pt x="388" y="61"/>
                  </a:lnTo>
                  <a:lnTo>
                    <a:pt x="377" y="69"/>
                  </a:lnTo>
                  <a:lnTo>
                    <a:pt x="369" y="73"/>
                  </a:lnTo>
                  <a:lnTo>
                    <a:pt x="360" y="78"/>
                  </a:lnTo>
                  <a:lnTo>
                    <a:pt x="352" y="82"/>
                  </a:lnTo>
                  <a:lnTo>
                    <a:pt x="344" y="86"/>
                  </a:lnTo>
                  <a:lnTo>
                    <a:pt x="335" y="90"/>
                  </a:lnTo>
                  <a:lnTo>
                    <a:pt x="327" y="95"/>
                  </a:lnTo>
                  <a:lnTo>
                    <a:pt x="320" y="101"/>
                  </a:lnTo>
                  <a:lnTo>
                    <a:pt x="312" y="107"/>
                  </a:lnTo>
                  <a:lnTo>
                    <a:pt x="303" y="111"/>
                  </a:lnTo>
                  <a:lnTo>
                    <a:pt x="295" y="118"/>
                  </a:lnTo>
                  <a:lnTo>
                    <a:pt x="287" y="122"/>
                  </a:lnTo>
                  <a:lnTo>
                    <a:pt x="280" y="130"/>
                  </a:lnTo>
                  <a:lnTo>
                    <a:pt x="272" y="134"/>
                  </a:lnTo>
                  <a:lnTo>
                    <a:pt x="265" y="141"/>
                  </a:lnTo>
                  <a:lnTo>
                    <a:pt x="255" y="147"/>
                  </a:lnTo>
                  <a:lnTo>
                    <a:pt x="249" y="153"/>
                  </a:lnTo>
                  <a:lnTo>
                    <a:pt x="242" y="158"/>
                  </a:lnTo>
                  <a:lnTo>
                    <a:pt x="232" y="166"/>
                  </a:lnTo>
                  <a:lnTo>
                    <a:pt x="225" y="170"/>
                  </a:lnTo>
                  <a:lnTo>
                    <a:pt x="219" y="177"/>
                  </a:lnTo>
                  <a:lnTo>
                    <a:pt x="211" y="183"/>
                  </a:lnTo>
                  <a:lnTo>
                    <a:pt x="204" y="191"/>
                  </a:lnTo>
                  <a:lnTo>
                    <a:pt x="198" y="196"/>
                  </a:lnTo>
                  <a:lnTo>
                    <a:pt x="190" y="204"/>
                  </a:lnTo>
                  <a:lnTo>
                    <a:pt x="183" y="210"/>
                  </a:lnTo>
                  <a:lnTo>
                    <a:pt x="177" y="217"/>
                  </a:lnTo>
                  <a:lnTo>
                    <a:pt x="169" y="223"/>
                  </a:lnTo>
                  <a:lnTo>
                    <a:pt x="164" y="232"/>
                  </a:lnTo>
                  <a:lnTo>
                    <a:pt x="154" y="238"/>
                  </a:lnTo>
                  <a:lnTo>
                    <a:pt x="150" y="244"/>
                  </a:lnTo>
                  <a:lnTo>
                    <a:pt x="143" y="251"/>
                  </a:lnTo>
                  <a:lnTo>
                    <a:pt x="137" y="259"/>
                  </a:lnTo>
                  <a:lnTo>
                    <a:pt x="130" y="267"/>
                  </a:lnTo>
                  <a:lnTo>
                    <a:pt x="124" y="272"/>
                  </a:lnTo>
                  <a:lnTo>
                    <a:pt x="118" y="280"/>
                  </a:lnTo>
                  <a:lnTo>
                    <a:pt x="112" y="288"/>
                  </a:lnTo>
                  <a:lnTo>
                    <a:pt x="107" y="293"/>
                  </a:lnTo>
                  <a:lnTo>
                    <a:pt x="101" y="301"/>
                  </a:lnTo>
                  <a:lnTo>
                    <a:pt x="93" y="308"/>
                  </a:lnTo>
                  <a:lnTo>
                    <a:pt x="90" y="316"/>
                  </a:lnTo>
                  <a:lnTo>
                    <a:pt x="84" y="324"/>
                  </a:lnTo>
                  <a:lnTo>
                    <a:pt x="78" y="329"/>
                  </a:lnTo>
                  <a:lnTo>
                    <a:pt x="73" y="337"/>
                  </a:lnTo>
                  <a:lnTo>
                    <a:pt x="69" y="345"/>
                  </a:lnTo>
                  <a:lnTo>
                    <a:pt x="63" y="350"/>
                  </a:lnTo>
                  <a:lnTo>
                    <a:pt x="59" y="360"/>
                  </a:lnTo>
                  <a:lnTo>
                    <a:pt x="54" y="367"/>
                  </a:lnTo>
                  <a:lnTo>
                    <a:pt x="50" y="375"/>
                  </a:lnTo>
                  <a:lnTo>
                    <a:pt x="46" y="381"/>
                  </a:lnTo>
                  <a:lnTo>
                    <a:pt x="40" y="388"/>
                  </a:lnTo>
                  <a:lnTo>
                    <a:pt x="36" y="396"/>
                  </a:lnTo>
                  <a:lnTo>
                    <a:pt x="33" y="404"/>
                  </a:lnTo>
                  <a:lnTo>
                    <a:pt x="29" y="411"/>
                  </a:lnTo>
                  <a:lnTo>
                    <a:pt x="25" y="417"/>
                  </a:lnTo>
                  <a:lnTo>
                    <a:pt x="21" y="424"/>
                  </a:lnTo>
                  <a:lnTo>
                    <a:pt x="19" y="434"/>
                  </a:lnTo>
                  <a:lnTo>
                    <a:pt x="12" y="447"/>
                  </a:lnTo>
                  <a:lnTo>
                    <a:pt x="6" y="461"/>
                  </a:lnTo>
                  <a:lnTo>
                    <a:pt x="4" y="468"/>
                  </a:lnTo>
                  <a:lnTo>
                    <a:pt x="2" y="476"/>
                  </a:lnTo>
                  <a:lnTo>
                    <a:pt x="0" y="481"/>
                  </a:lnTo>
                  <a:lnTo>
                    <a:pt x="0" y="491"/>
                  </a:lnTo>
                  <a:lnTo>
                    <a:pt x="27" y="499"/>
                  </a:lnTo>
                  <a:lnTo>
                    <a:pt x="27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6585120" y="1074600"/>
            <a:ext cx="726840" cy="1013040"/>
          </a:xfrm>
          <a:prstGeom prst="rect">
            <a:avLst/>
          </a:prstGeom>
          <a:ln w="0">
            <a:noFill/>
          </a:ln>
        </p:spPr>
      </p:pic>
      <p:grpSp>
        <p:nvGrpSpPr>
          <p:cNvPr id="680" name=""/>
          <p:cNvGrpSpPr/>
          <p:nvPr/>
        </p:nvGrpSpPr>
        <p:grpSpPr>
          <a:xfrm>
            <a:off x="7583400" y="1106640"/>
            <a:ext cx="668160" cy="990360"/>
            <a:chOff x="7583400" y="1106640"/>
            <a:chExt cx="668160" cy="990360"/>
          </a:xfrm>
        </p:grpSpPr>
        <p:sp>
          <p:nvSpPr>
            <p:cNvPr id="681" name=""/>
            <p:cNvSpPr/>
            <p:nvPr/>
          </p:nvSpPr>
          <p:spPr>
            <a:xfrm>
              <a:off x="7584840" y="1106640"/>
              <a:ext cx="666720" cy="990360"/>
            </a:xfrm>
            <a:custGeom>
              <a:avLst/>
              <a:gdLst/>
              <a:ahLst/>
              <a:rect l="l" t="t" r="r" b="b"/>
              <a:pathLst>
                <a:path w="1543" h="2289">
                  <a:moveTo>
                    <a:pt x="1194" y="76"/>
                  </a:moveTo>
                  <a:lnTo>
                    <a:pt x="1477" y="235"/>
                  </a:lnTo>
                  <a:lnTo>
                    <a:pt x="1502" y="284"/>
                  </a:lnTo>
                  <a:lnTo>
                    <a:pt x="1522" y="332"/>
                  </a:lnTo>
                  <a:lnTo>
                    <a:pt x="1536" y="380"/>
                  </a:lnTo>
                  <a:lnTo>
                    <a:pt x="1543" y="430"/>
                  </a:lnTo>
                  <a:lnTo>
                    <a:pt x="1542" y="479"/>
                  </a:lnTo>
                  <a:lnTo>
                    <a:pt x="1532" y="528"/>
                  </a:lnTo>
                  <a:lnTo>
                    <a:pt x="1514" y="576"/>
                  </a:lnTo>
                  <a:lnTo>
                    <a:pt x="1486" y="625"/>
                  </a:lnTo>
                  <a:lnTo>
                    <a:pt x="1455" y="741"/>
                  </a:lnTo>
                  <a:lnTo>
                    <a:pt x="1194" y="1175"/>
                  </a:lnTo>
                  <a:lnTo>
                    <a:pt x="1154" y="1244"/>
                  </a:lnTo>
                  <a:lnTo>
                    <a:pt x="1114" y="1314"/>
                  </a:lnTo>
                  <a:lnTo>
                    <a:pt x="1074" y="1383"/>
                  </a:lnTo>
                  <a:lnTo>
                    <a:pt x="1035" y="1451"/>
                  </a:lnTo>
                  <a:lnTo>
                    <a:pt x="995" y="1519"/>
                  </a:lnTo>
                  <a:lnTo>
                    <a:pt x="953" y="1585"/>
                  </a:lnTo>
                  <a:lnTo>
                    <a:pt x="912" y="1652"/>
                  </a:lnTo>
                  <a:lnTo>
                    <a:pt x="869" y="1718"/>
                  </a:lnTo>
                  <a:lnTo>
                    <a:pt x="825" y="1782"/>
                  </a:lnTo>
                  <a:lnTo>
                    <a:pt x="779" y="1847"/>
                  </a:lnTo>
                  <a:lnTo>
                    <a:pt x="733" y="1909"/>
                  </a:lnTo>
                  <a:lnTo>
                    <a:pt x="684" y="1971"/>
                  </a:lnTo>
                  <a:lnTo>
                    <a:pt x="633" y="2031"/>
                  </a:lnTo>
                  <a:lnTo>
                    <a:pt x="580" y="2090"/>
                  </a:lnTo>
                  <a:lnTo>
                    <a:pt x="525" y="2148"/>
                  </a:lnTo>
                  <a:lnTo>
                    <a:pt x="467" y="2203"/>
                  </a:lnTo>
                  <a:lnTo>
                    <a:pt x="450" y="2216"/>
                  </a:lnTo>
                  <a:lnTo>
                    <a:pt x="434" y="2227"/>
                  </a:lnTo>
                  <a:lnTo>
                    <a:pt x="417" y="2238"/>
                  </a:lnTo>
                  <a:lnTo>
                    <a:pt x="402" y="2247"/>
                  </a:lnTo>
                  <a:lnTo>
                    <a:pt x="386" y="2256"/>
                  </a:lnTo>
                  <a:lnTo>
                    <a:pt x="372" y="2263"/>
                  </a:lnTo>
                  <a:lnTo>
                    <a:pt x="357" y="2269"/>
                  </a:lnTo>
                  <a:lnTo>
                    <a:pt x="343" y="2274"/>
                  </a:lnTo>
                  <a:lnTo>
                    <a:pt x="329" y="2279"/>
                  </a:lnTo>
                  <a:lnTo>
                    <a:pt x="316" y="2282"/>
                  </a:lnTo>
                  <a:lnTo>
                    <a:pt x="304" y="2286"/>
                  </a:lnTo>
                  <a:lnTo>
                    <a:pt x="291" y="2287"/>
                  </a:lnTo>
                  <a:lnTo>
                    <a:pt x="280" y="2288"/>
                  </a:lnTo>
                  <a:lnTo>
                    <a:pt x="268" y="2289"/>
                  </a:lnTo>
                  <a:lnTo>
                    <a:pt x="257" y="2289"/>
                  </a:lnTo>
                  <a:lnTo>
                    <a:pt x="246" y="2288"/>
                  </a:lnTo>
                  <a:lnTo>
                    <a:pt x="216" y="2286"/>
                  </a:lnTo>
                  <a:lnTo>
                    <a:pt x="189" y="2282"/>
                  </a:lnTo>
                  <a:lnTo>
                    <a:pt x="162" y="2277"/>
                  </a:lnTo>
                  <a:lnTo>
                    <a:pt x="139" y="2269"/>
                  </a:lnTo>
                  <a:lnTo>
                    <a:pt x="117" y="2259"/>
                  </a:lnTo>
                  <a:lnTo>
                    <a:pt x="98" y="2249"/>
                  </a:lnTo>
                  <a:lnTo>
                    <a:pt x="80" y="2236"/>
                  </a:lnTo>
                  <a:lnTo>
                    <a:pt x="64" y="2223"/>
                  </a:lnTo>
                  <a:lnTo>
                    <a:pt x="39" y="2191"/>
                  </a:lnTo>
                  <a:lnTo>
                    <a:pt x="21" y="2155"/>
                  </a:lnTo>
                  <a:lnTo>
                    <a:pt x="9" y="2114"/>
                  </a:lnTo>
                  <a:lnTo>
                    <a:pt x="2" y="2069"/>
                  </a:lnTo>
                  <a:lnTo>
                    <a:pt x="0" y="2022"/>
                  </a:lnTo>
                  <a:lnTo>
                    <a:pt x="3" y="1971"/>
                  </a:lnTo>
                  <a:lnTo>
                    <a:pt x="11" y="1918"/>
                  </a:lnTo>
                  <a:lnTo>
                    <a:pt x="23" y="1863"/>
                  </a:lnTo>
                  <a:lnTo>
                    <a:pt x="55" y="1776"/>
                  </a:lnTo>
                  <a:lnTo>
                    <a:pt x="87" y="1690"/>
                  </a:lnTo>
                  <a:lnTo>
                    <a:pt x="118" y="1607"/>
                  </a:lnTo>
                  <a:lnTo>
                    <a:pt x="151" y="1527"/>
                  </a:lnTo>
                  <a:lnTo>
                    <a:pt x="184" y="1448"/>
                  </a:lnTo>
                  <a:lnTo>
                    <a:pt x="217" y="1371"/>
                  </a:lnTo>
                  <a:lnTo>
                    <a:pt x="253" y="1296"/>
                  </a:lnTo>
                  <a:lnTo>
                    <a:pt x="290" y="1224"/>
                  </a:lnTo>
                  <a:lnTo>
                    <a:pt x="329" y="1152"/>
                  </a:lnTo>
                  <a:lnTo>
                    <a:pt x="369" y="1083"/>
                  </a:lnTo>
                  <a:lnTo>
                    <a:pt x="413" y="1015"/>
                  </a:lnTo>
                  <a:lnTo>
                    <a:pt x="459" y="950"/>
                  </a:lnTo>
                  <a:lnTo>
                    <a:pt x="509" y="885"/>
                  </a:lnTo>
                  <a:lnTo>
                    <a:pt x="561" y="822"/>
                  </a:lnTo>
                  <a:lnTo>
                    <a:pt x="617" y="759"/>
                  </a:lnTo>
                  <a:lnTo>
                    <a:pt x="678" y="700"/>
                  </a:lnTo>
                  <a:lnTo>
                    <a:pt x="688" y="614"/>
                  </a:lnTo>
                  <a:lnTo>
                    <a:pt x="668" y="521"/>
                  </a:lnTo>
                  <a:lnTo>
                    <a:pt x="673" y="483"/>
                  </a:lnTo>
                  <a:lnTo>
                    <a:pt x="679" y="445"/>
                  </a:lnTo>
                  <a:lnTo>
                    <a:pt x="685" y="408"/>
                  </a:lnTo>
                  <a:lnTo>
                    <a:pt x="692" y="371"/>
                  </a:lnTo>
                  <a:lnTo>
                    <a:pt x="698" y="335"/>
                  </a:lnTo>
                  <a:lnTo>
                    <a:pt x="706" y="301"/>
                  </a:lnTo>
                  <a:lnTo>
                    <a:pt x="714" y="267"/>
                  </a:lnTo>
                  <a:lnTo>
                    <a:pt x="724" y="235"/>
                  </a:lnTo>
                  <a:lnTo>
                    <a:pt x="737" y="203"/>
                  </a:lnTo>
                  <a:lnTo>
                    <a:pt x="751" y="173"/>
                  </a:lnTo>
                  <a:lnTo>
                    <a:pt x="767" y="144"/>
                  </a:lnTo>
                  <a:lnTo>
                    <a:pt x="786" y="117"/>
                  </a:lnTo>
                  <a:lnTo>
                    <a:pt x="809" y="91"/>
                  </a:lnTo>
                  <a:lnTo>
                    <a:pt x="836" y="67"/>
                  </a:lnTo>
                  <a:lnTo>
                    <a:pt x="866" y="44"/>
                  </a:lnTo>
                  <a:lnTo>
                    <a:pt x="899" y="23"/>
                  </a:lnTo>
                  <a:lnTo>
                    <a:pt x="926" y="16"/>
                  </a:lnTo>
                  <a:lnTo>
                    <a:pt x="950" y="11"/>
                  </a:lnTo>
                  <a:lnTo>
                    <a:pt x="972" y="6"/>
                  </a:lnTo>
                  <a:lnTo>
                    <a:pt x="990" y="2"/>
                  </a:lnTo>
                  <a:lnTo>
                    <a:pt x="1008" y="1"/>
                  </a:lnTo>
                  <a:lnTo>
                    <a:pt x="1023" y="0"/>
                  </a:lnTo>
                  <a:lnTo>
                    <a:pt x="1038" y="1"/>
                  </a:lnTo>
                  <a:lnTo>
                    <a:pt x="1053" y="4"/>
                  </a:lnTo>
                  <a:lnTo>
                    <a:pt x="1067" y="8"/>
                  </a:lnTo>
                  <a:lnTo>
                    <a:pt x="1082" y="13"/>
                  </a:lnTo>
                  <a:lnTo>
                    <a:pt x="1097" y="20"/>
                  </a:lnTo>
                  <a:lnTo>
                    <a:pt x="1113" y="28"/>
                  </a:lnTo>
                  <a:lnTo>
                    <a:pt x="1131" y="38"/>
                  </a:lnTo>
                  <a:lnTo>
                    <a:pt x="1149" y="49"/>
                  </a:lnTo>
                  <a:lnTo>
                    <a:pt x="1170" y="62"/>
                  </a:lnTo>
                  <a:lnTo>
                    <a:pt x="1194" y="76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83400" y="1188720"/>
              <a:ext cx="325080" cy="788040"/>
            </a:xfrm>
            <a:custGeom>
              <a:avLst/>
              <a:gdLst/>
              <a:ahLst/>
              <a:rect l="l" t="t" r="r" b="b"/>
              <a:pathLst>
                <a:path w="752" h="1823">
                  <a:moveTo>
                    <a:pt x="723" y="44"/>
                  </a:moveTo>
                  <a:lnTo>
                    <a:pt x="674" y="317"/>
                  </a:lnTo>
                  <a:lnTo>
                    <a:pt x="703" y="409"/>
                  </a:lnTo>
                  <a:lnTo>
                    <a:pt x="695" y="496"/>
                  </a:lnTo>
                  <a:lnTo>
                    <a:pt x="638" y="567"/>
                  </a:lnTo>
                  <a:lnTo>
                    <a:pt x="604" y="607"/>
                  </a:lnTo>
                  <a:lnTo>
                    <a:pt x="570" y="647"/>
                  </a:lnTo>
                  <a:lnTo>
                    <a:pt x="538" y="685"/>
                  </a:lnTo>
                  <a:lnTo>
                    <a:pt x="508" y="723"/>
                  </a:lnTo>
                  <a:lnTo>
                    <a:pt x="479" y="761"/>
                  </a:lnTo>
                  <a:lnTo>
                    <a:pt x="453" y="798"/>
                  </a:lnTo>
                  <a:lnTo>
                    <a:pt x="425" y="836"/>
                  </a:lnTo>
                  <a:lnTo>
                    <a:pt x="400" y="872"/>
                  </a:lnTo>
                  <a:lnTo>
                    <a:pt x="375" y="910"/>
                  </a:lnTo>
                  <a:lnTo>
                    <a:pt x="350" y="950"/>
                  </a:lnTo>
                  <a:lnTo>
                    <a:pt x="326" y="990"/>
                  </a:lnTo>
                  <a:lnTo>
                    <a:pt x="301" y="1030"/>
                  </a:lnTo>
                  <a:lnTo>
                    <a:pt x="277" y="1073"/>
                  </a:lnTo>
                  <a:lnTo>
                    <a:pt x="253" y="1117"/>
                  </a:lnTo>
                  <a:lnTo>
                    <a:pt x="227" y="1162"/>
                  </a:lnTo>
                  <a:lnTo>
                    <a:pt x="201" y="1209"/>
                  </a:lnTo>
                  <a:lnTo>
                    <a:pt x="187" y="1236"/>
                  </a:lnTo>
                  <a:lnTo>
                    <a:pt x="172" y="1268"/>
                  </a:lnTo>
                  <a:lnTo>
                    <a:pt x="157" y="1301"/>
                  </a:lnTo>
                  <a:lnTo>
                    <a:pt x="141" y="1336"/>
                  </a:lnTo>
                  <a:lnTo>
                    <a:pt x="126" y="1372"/>
                  </a:lnTo>
                  <a:lnTo>
                    <a:pt x="111" y="1410"/>
                  </a:lnTo>
                  <a:lnTo>
                    <a:pt x="96" y="1451"/>
                  </a:lnTo>
                  <a:lnTo>
                    <a:pt x="82" y="1491"/>
                  </a:lnTo>
                  <a:lnTo>
                    <a:pt x="67" y="1534"/>
                  </a:lnTo>
                  <a:lnTo>
                    <a:pt x="54" y="1575"/>
                  </a:lnTo>
                  <a:lnTo>
                    <a:pt x="43" y="1618"/>
                  </a:lnTo>
                  <a:lnTo>
                    <a:pt x="31" y="1659"/>
                  </a:lnTo>
                  <a:lnTo>
                    <a:pt x="21" y="1702"/>
                  </a:lnTo>
                  <a:lnTo>
                    <a:pt x="13" y="1743"/>
                  </a:lnTo>
                  <a:lnTo>
                    <a:pt x="6" y="1784"/>
                  </a:lnTo>
                  <a:lnTo>
                    <a:pt x="0" y="1823"/>
                  </a:lnTo>
                  <a:lnTo>
                    <a:pt x="231" y="1669"/>
                  </a:lnTo>
                  <a:lnTo>
                    <a:pt x="258" y="1621"/>
                  </a:lnTo>
                  <a:lnTo>
                    <a:pt x="286" y="1567"/>
                  </a:lnTo>
                  <a:lnTo>
                    <a:pt x="314" y="1506"/>
                  </a:lnTo>
                  <a:lnTo>
                    <a:pt x="341" y="1440"/>
                  </a:lnTo>
                  <a:lnTo>
                    <a:pt x="369" y="1369"/>
                  </a:lnTo>
                  <a:lnTo>
                    <a:pt x="396" y="1295"/>
                  </a:lnTo>
                  <a:lnTo>
                    <a:pt x="424" y="1219"/>
                  </a:lnTo>
                  <a:lnTo>
                    <a:pt x="453" y="1143"/>
                  </a:lnTo>
                  <a:lnTo>
                    <a:pt x="481" y="1066"/>
                  </a:lnTo>
                  <a:lnTo>
                    <a:pt x="509" y="991"/>
                  </a:lnTo>
                  <a:lnTo>
                    <a:pt x="538" y="919"/>
                  </a:lnTo>
                  <a:lnTo>
                    <a:pt x="568" y="849"/>
                  </a:lnTo>
                  <a:lnTo>
                    <a:pt x="597" y="785"/>
                  </a:lnTo>
                  <a:lnTo>
                    <a:pt x="627" y="726"/>
                  </a:lnTo>
                  <a:lnTo>
                    <a:pt x="657" y="675"/>
                  </a:lnTo>
                  <a:lnTo>
                    <a:pt x="688" y="632"/>
                  </a:lnTo>
                  <a:lnTo>
                    <a:pt x="723" y="524"/>
                  </a:lnTo>
                  <a:lnTo>
                    <a:pt x="740" y="445"/>
                  </a:lnTo>
                  <a:lnTo>
                    <a:pt x="710" y="332"/>
                  </a:lnTo>
                  <a:lnTo>
                    <a:pt x="723" y="217"/>
                  </a:lnTo>
                  <a:lnTo>
                    <a:pt x="745" y="159"/>
                  </a:lnTo>
                  <a:lnTo>
                    <a:pt x="752" y="0"/>
                  </a:lnTo>
                  <a:lnTo>
                    <a:pt x="723" y="44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84120" y="1186200"/>
              <a:ext cx="325800" cy="786960"/>
            </a:xfrm>
            <a:custGeom>
              <a:avLst/>
              <a:gdLst/>
              <a:ahLst/>
              <a:rect l="l" t="t" r="r" b="b"/>
              <a:pathLst>
                <a:path w="755" h="1822">
                  <a:moveTo>
                    <a:pt x="723" y="48"/>
                  </a:moveTo>
                  <a:lnTo>
                    <a:pt x="716" y="82"/>
                  </a:lnTo>
                  <a:lnTo>
                    <a:pt x="710" y="117"/>
                  </a:lnTo>
                  <a:lnTo>
                    <a:pt x="703" y="151"/>
                  </a:lnTo>
                  <a:lnTo>
                    <a:pt x="697" y="186"/>
                  </a:lnTo>
                  <a:lnTo>
                    <a:pt x="690" y="220"/>
                  </a:lnTo>
                  <a:lnTo>
                    <a:pt x="685" y="255"/>
                  </a:lnTo>
                  <a:lnTo>
                    <a:pt x="678" y="290"/>
                  </a:lnTo>
                  <a:lnTo>
                    <a:pt x="672" y="324"/>
                  </a:lnTo>
                  <a:lnTo>
                    <a:pt x="679" y="348"/>
                  </a:lnTo>
                  <a:lnTo>
                    <a:pt x="686" y="370"/>
                  </a:lnTo>
                  <a:lnTo>
                    <a:pt x="693" y="393"/>
                  </a:lnTo>
                  <a:lnTo>
                    <a:pt x="700" y="416"/>
                  </a:lnTo>
                  <a:lnTo>
                    <a:pt x="698" y="438"/>
                  </a:lnTo>
                  <a:lnTo>
                    <a:pt x="696" y="459"/>
                  </a:lnTo>
                  <a:lnTo>
                    <a:pt x="695" y="481"/>
                  </a:lnTo>
                  <a:lnTo>
                    <a:pt x="693" y="503"/>
                  </a:lnTo>
                  <a:lnTo>
                    <a:pt x="686" y="512"/>
                  </a:lnTo>
                  <a:lnTo>
                    <a:pt x="679" y="520"/>
                  </a:lnTo>
                  <a:lnTo>
                    <a:pt x="672" y="529"/>
                  </a:lnTo>
                  <a:lnTo>
                    <a:pt x="665" y="537"/>
                  </a:lnTo>
                  <a:lnTo>
                    <a:pt x="657" y="546"/>
                  </a:lnTo>
                  <a:lnTo>
                    <a:pt x="650" y="555"/>
                  </a:lnTo>
                  <a:lnTo>
                    <a:pt x="643" y="564"/>
                  </a:lnTo>
                  <a:lnTo>
                    <a:pt x="636" y="573"/>
                  </a:lnTo>
                  <a:lnTo>
                    <a:pt x="602" y="613"/>
                  </a:lnTo>
                  <a:lnTo>
                    <a:pt x="568" y="652"/>
                  </a:lnTo>
                  <a:lnTo>
                    <a:pt x="536" y="690"/>
                  </a:lnTo>
                  <a:lnTo>
                    <a:pt x="506" y="728"/>
                  </a:lnTo>
                  <a:lnTo>
                    <a:pt x="477" y="765"/>
                  </a:lnTo>
                  <a:lnTo>
                    <a:pt x="451" y="802"/>
                  </a:lnTo>
                  <a:lnTo>
                    <a:pt x="423" y="840"/>
                  </a:lnTo>
                  <a:lnTo>
                    <a:pt x="398" y="877"/>
                  </a:lnTo>
                  <a:lnTo>
                    <a:pt x="373" y="915"/>
                  </a:lnTo>
                  <a:lnTo>
                    <a:pt x="348" y="954"/>
                  </a:lnTo>
                  <a:lnTo>
                    <a:pt x="324" y="993"/>
                  </a:lnTo>
                  <a:lnTo>
                    <a:pt x="299" y="1035"/>
                  </a:lnTo>
                  <a:lnTo>
                    <a:pt x="275" y="1076"/>
                  </a:lnTo>
                  <a:lnTo>
                    <a:pt x="251" y="1121"/>
                  </a:lnTo>
                  <a:lnTo>
                    <a:pt x="225" y="1166"/>
                  </a:lnTo>
                  <a:lnTo>
                    <a:pt x="199" y="1215"/>
                  </a:lnTo>
                  <a:lnTo>
                    <a:pt x="185" y="1242"/>
                  </a:lnTo>
                  <a:lnTo>
                    <a:pt x="170" y="1272"/>
                  </a:lnTo>
                  <a:lnTo>
                    <a:pt x="155" y="1306"/>
                  </a:lnTo>
                  <a:lnTo>
                    <a:pt x="140" y="1340"/>
                  </a:lnTo>
                  <a:lnTo>
                    <a:pt x="125" y="1376"/>
                  </a:lnTo>
                  <a:lnTo>
                    <a:pt x="110" y="1414"/>
                  </a:lnTo>
                  <a:lnTo>
                    <a:pt x="95" y="1453"/>
                  </a:lnTo>
                  <a:lnTo>
                    <a:pt x="81" y="1492"/>
                  </a:lnTo>
                  <a:lnTo>
                    <a:pt x="67" y="1534"/>
                  </a:lnTo>
                  <a:lnTo>
                    <a:pt x="55" y="1575"/>
                  </a:lnTo>
                  <a:lnTo>
                    <a:pt x="43" y="1617"/>
                  </a:lnTo>
                  <a:lnTo>
                    <a:pt x="32" y="1658"/>
                  </a:lnTo>
                  <a:lnTo>
                    <a:pt x="21" y="1700"/>
                  </a:lnTo>
                  <a:lnTo>
                    <a:pt x="13" y="1741"/>
                  </a:lnTo>
                  <a:lnTo>
                    <a:pt x="5" y="1782"/>
                  </a:lnTo>
                  <a:lnTo>
                    <a:pt x="0" y="1822"/>
                  </a:lnTo>
                  <a:lnTo>
                    <a:pt x="13" y="1810"/>
                  </a:lnTo>
                  <a:lnTo>
                    <a:pt x="27" y="1799"/>
                  </a:lnTo>
                  <a:lnTo>
                    <a:pt x="41" y="1788"/>
                  </a:lnTo>
                  <a:lnTo>
                    <a:pt x="56" y="1779"/>
                  </a:lnTo>
                  <a:lnTo>
                    <a:pt x="70" y="1769"/>
                  </a:lnTo>
                  <a:lnTo>
                    <a:pt x="84" y="1760"/>
                  </a:lnTo>
                  <a:lnTo>
                    <a:pt x="99" y="1750"/>
                  </a:lnTo>
                  <a:lnTo>
                    <a:pt x="112" y="1740"/>
                  </a:lnTo>
                  <a:lnTo>
                    <a:pt x="127" y="1731"/>
                  </a:lnTo>
                  <a:lnTo>
                    <a:pt x="142" y="1720"/>
                  </a:lnTo>
                  <a:lnTo>
                    <a:pt x="157" y="1709"/>
                  </a:lnTo>
                  <a:lnTo>
                    <a:pt x="171" y="1699"/>
                  </a:lnTo>
                  <a:lnTo>
                    <a:pt x="186" y="1686"/>
                  </a:lnTo>
                  <a:lnTo>
                    <a:pt x="202" y="1673"/>
                  </a:lnTo>
                  <a:lnTo>
                    <a:pt x="217" y="1658"/>
                  </a:lnTo>
                  <a:lnTo>
                    <a:pt x="232" y="1643"/>
                  </a:lnTo>
                  <a:lnTo>
                    <a:pt x="259" y="1597"/>
                  </a:lnTo>
                  <a:lnTo>
                    <a:pt x="286" y="1544"/>
                  </a:lnTo>
                  <a:lnTo>
                    <a:pt x="313" y="1484"/>
                  </a:lnTo>
                  <a:lnTo>
                    <a:pt x="339" y="1420"/>
                  </a:lnTo>
                  <a:lnTo>
                    <a:pt x="366" y="1352"/>
                  </a:lnTo>
                  <a:lnTo>
                    <a:pt x="393" y="1280"/>
                  </a:lnTo>
                  <a:lnTo>
                    <a:pt x="420" y="1208"/>
                  </a:lnTo>
                  <a:lnTo>
                    <a:pt x="447" y="1133"/>
                  </a:lnTo>
                  <a:lnTo>
                    <a:pt x="475" y="1059"/>
                  </a:lnTo>
                  <a:lnTo>
                    <a:pt x="503" y="987"/>
                  </a:lnTo>
                  <a:lnTo>
                    <a:pt x="531" y="916"/>
                  </a:lnTo>
                  <a:lnTo>
                    <a:pt x="560" y="849"/>
                  </a:lnTo>
                  <a:lnTo>
                    <a:pt x="589" y="786"/>
                  </a:lnTo>
                  <a:lnTo>
                    <a:pt x="619" y="730"/>
                  </a:lnTo>
                  <a:lnTo>
                    <a:pt x="649" y="679"/>
                  </a:lnTo>
                  <a:lnTo>
                    <a:pt x="680" y="635"/>
                  </a:lnTo>
                  <a:lnTo>
                    <a:pt x="685" y="623"/>
                  </a:lnTo>
                  <a:lnTo>
                    <a:pt x="689" y="609"/>
                  </a:lnTo>
                  <a:lnTo>
                    <a:pt x="695" y="596"/>
                  </a:lnTo>
                  <a:lnTo>
                    <a:pt x="700" y="582"/>
                  </a:lnTo>
                  <a:lnTo>
                    <a:pt x="704" y="570"/>
                  </a:lnTo>
                  <a:lnTo>
                    <a:pt x="710" y="557"/>
                  </a:lnTo>
                  <a:lnTo>
                    <a:pt x="715" y="543"/>
                  </a:lnTo>
                  <a:lnTo>
                    <a:pt x="719" y="530"/>
                  </a:lnTo>
                  <a:lnTo>
                    <a:pt x="723" y="511"/>
                  </a:lnTo>
                  <a:lnTo>
                    <a:pt x="726" y="490"/>
                  </a:lnTo>
                  <a:lnTo>
                    <a:pt x="730" y="470"/>
                  </a:lnTo>
                  <a:lnTo>
                    <a:pt x="733" y="451"/>
                  </a:lnTo>
                  <a:lnTo>
                    <a:pt x="726" y="422"/>
                  </a:lnTo>
                  <a:lnTo>
                    <a:pt x="720" y="392"/>
                  </a:lnTo>
                  <a:lnTo>
                    <a:pt x="713" y="363"/>
                  </a:lnTo>
                  <a:lnTo>
                    <a:pt x="707" y="336"/>
                  </a:lnTo>
                  <a:lnTo>
                    <a:pt x="710" y="307"/>
                  </a:lnTo>
                  <a:lnTo>
                    <a:pt x="713" y="278"/>
                  </a:lnTo>
                  <a:lnTo>
                    <a:pt x="717" y="250"/>
                  </a:lnTo>
                  <a:lnTo>
                    <a:pt x="720" y="222"/>
                  </a:lnTo>
                  <a:lnTo>
                    <a:pt x="726" y="207"/>
                  </a:lnTo>
                  <a:lnTo>
                    <a:pt x="732" y="190"/>
                  </a:lnTo>
                  <a:lnTo>
                    <a:pt x="738" y="175"/>
                  </a:lnTo>
                  <a:lnTo>
                    <a:pt x="742" y="161"/>
                  </a:lnTo>
                  <a:lnTo>
                    <a:pt x="746" y="120"/>
                  </a:lnTo>
                  <a:lnTo>
                    <a:pt x="749" y="80"/>
                  </a:lnTo>
                  <a:lnTo>
                    <a:pt x="751" y="41"/>
                  </a:lnTo>
                  <a:lnTo>
                    <a:pt x="755" y="0"/>
                  </a:lnTo>
                  <a:lnTo>
                    <a:pt x="748" y="10"/>
                  </a:lnTo>
                  <a:lnTo>
                    <a:pt x="740" y="21"/>
                  </a:lnTo>
                  <a:lnTo>
                    <a:pt x="732" y="34"/>
                  </a:lnTo>
                  <a:lnTo>
                    <a:pt x="723" y="48"/>
                  </a:lnTo>
                  <a:close/>
                </a:path>
              </a:pathLst>
            </a:custGeom>
            <a:solidFill>
              <a:srgbClr val="a8a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84840" y="1182600"/>
              <a:ext cx="326880" cy="786960"/>
            </a:xfrm>
            <a:custGeom>
              <a:avLst/>
              <a:gdLst/>
              <a:ahLst/>
              <a:rect l="l" t="t" r="r" b="b"/>
              <a:pathLst>
                <a:path w="756" h="1821">
                  <a:moveTo>
                    <a:pt x="721" y="52"/>
                  </a:moveTo>
                  <a:lnTo>
                    <a:pt x="714" y="87"/>
                  </a:lnTo>
                  <a:lnTo>
                    <a:pt x="708" y="122"/>
                  </a:lnTo>
                  <a:lnTo>
                    <a:pt x="701" y="157"/>
                  </a:lnTo>
                  <a:lnTo>
                    <a:pt x="695" y="192"/>
                  </a:lnTo>
                  <a:lnTo>
                    <a:pt x="688" y="227"/>
                  </a:lnTo>
                  <a:lnTo>
                    <a:pt x="683" y="262"/>
                  </a:lnTo>
                  <a:lnTo>
                    <a:pt x="676" y="298"/>
                  </a:lnTo>
                  <a:lnTo>
                    <a:pt x="670" y="332"/>
                  </a:lnTo>
                  <a:lnTo>
                    <a:pt x="677" y="356"/>
                  </a:lnTo>
                  <a:lnTo>
                    <a:pt x="684" y="378"/>
                  </a:lnTo>
                  <a:lnTo>
                    <a:pt x="691" y="401"/>
                  </a:lnTo>
                  <a:lnTo>
                    <a:pt x="696" y="425"/>
                  </a:lnTo>
                  <a:lnTo>
                    <a:pt x="695" y="446"/>
                  </a:lnTo>
                  <a:lnTo>
                    <a:pt x="694" y="468"/>
                  </a:lnTo>
                  <a:lnTo>
                    <a:pt x="692" y="489"/>
                  </a:lnTo>
                  <a:lnTo>
                    <a:pt x="691" y="511"/>
                  </a:lnTo>
                  <a:lnTo>
                    <a:pt x="684" y="519"/>
                  </a:lnTo>
                  <a:lnTo>
                    <a:pt x="677" y="527"/>
                  </a:lnTo>
                  <a:lnTo>
                    <a:pt x="670" y="536"/>
                  </a:lnTo>
                  <a:lnTo>
                    <a:pt x="663" y="544"/>
                  </a:lnTo>
                  <a:lnTo>
                    <a:pt x="655" y="553"/>
                  </a:lnTo>
                  <a:lnTo>
                    <a:pt x="648" y="561"/>
                  </a:lnTo>
                  <a:lnTo>
                    <a:pt x="641" y="571"/>
                  </a:lnTo>
                  <a:lnTo>
                    <a:pt x="634" y="579"/>
                  </a:lnTo>
                  <a:lnTo>
                    <a:pt x="600" y="619"/>
                  </a:lnTo>
                  <a:lnTo>
                    <a:pt x="566" y="658"/>
                  </a:lnTo>
                  <a:lnTo>
                    <a:pt x="534" y="696"/>
                  </a:lnTo>
                  <a:lnTo>
                    <a:pt x="504" y="734"/>
                  </a:lnTo>
                  <a:lnTo>
                    <a:pt x="477" y="771"/>
                  </a:lnTo>
                  <a:lnTo>
                    <a:pt x="449" y="808"/>
                  </a:lnTo>
                  <a:lnTo>
                    <a:pt x="422" y="845"/>
                  </a:lnTo>
                  <a:lnTo>
                    <a:pt x="397" y="883"/>
                  </a:lnTo>
                  <a:lnTo>
                    <a:pt x="372" y="921"/>
                  </a:lnTo>
                  <a:lnTo>
                    <a:pt x="346" y="959"/>
                  </a:lnTo>
                  <a:lnTo>
                    <a:pt x="322" y="999"/>
                  </a:lnTo>
                  <a:lnTo>
                    <a:pt x="298" y="1039"/>
                  </a:lnTo>
                  <a:lnTo>
                    <a:pt x="273" y="1083"/>
                  </a:lnTo>
                  <a:lnTo>
                    <a:pt x="249" y="1127"/>
                  </a:lnTo>
                  <a:lnTo>
                    <a:pt x="223" y="1174"/>
                  </a:lnTo>
                  <a:lnTo>
                    <a:pt x="197" y="1223"/>
                  </a:lnTo>
                  <a:lnTo>
                    <a:pt x="183" y="1250"/>
                  </a:lnTo>
                  <a:lnTo>
                    <a:pt x="168" y="1280"/>
                  </a:lnTo>
                  <a:lnTo>
                    <a:pt x="154" y="1313"/>
                  </a:lnTo>
                  <a:lnTo>
                    <a:pt x="139" y="1346"/>
                  </a:lnTo>
                  <a:lnTo>
                    <a:pt x="124" y="1382"/>
                  </a:lnTo>
                  <a:lnTo>
                    <a:pt x="110" y="1419"/>
                  </a:lnTo>
                  <a:lnTo>
                    <a:pt x="95" y="1457"/>
                  </a:lnTo>
                  <a:lnTo>
                    <a:pt x="82" y="1496"/>
                  </a:lnTo>
                  <a:lnTo>
                    <a:pt x="69" y="1536"/>
                  </a:lnTo>
                  <a:lnTo>
                    <a:pt x="56" y="1576"/>
                  </a:lnTo>
                  <a:lnTo>
                    <a:pt x="44" y="1617"/>
                  </a:lnTo>
                  <a:lnTo>
                    <a:pt x="33" y="1658"/>
                  </a:lnTo>
                  <a:lnTo>
                    <a:pt x="23" y="1700"/>
                  </a:lnTo>
                  <a:lnTo>
                    <a:pt x="14" y="1740"/>
                  </a:lnTo>
                  <a:lnTo>
                    <a:pt x="7" y="1780"/>
                  </a:lnTo>
                  <a:lnTo>
                    <a:pt x="0" y="1821"/>
                  </a:lnTo>
                  <a:lnTo>
                    <a:pt x="14" y="1807"/>
                  </a:lnTo>
                  <a:lnTo>
                    <a:pt x="26" y="1795"/>
                  </a:lnTo>
                  <a:lnTo>
                    <a:pt x="40" y="1784"/>
                  </a:lnTo>
                  <a:lnTo>
                    <a:pt x="54" y="1775"/>
                  </a:lnTo>
                  <a:lnTo>
                    <a:pt x="68" y="1764"/>
                  </a:lnTo>
                  <a:lnTo>
                    <a:pt x="82" y="1755"/>
                  </a:lnTo>
                  <a:lnTo>
                    <a:pt x="97" y="1746"/>
                  </a:lnTo>
                  <a:lnTo>
                    <a:pt x="110" y="1737"/>
                  </a:lnTo>
                  <a:lnTo>
                    <a:pt x="125" y="1726"/>
                  </a:lnTo>
                  <a:lnTo>
                    <a:pt x="140" y="1716"/>
                  </a:lnTo>
                  <a:lnTo>
                    <a:pt x="155" y="1704"/>
                  </a:lnTo>
                  <a:lnTo>
                    <a:pt x="171" y="1690"/>
                  </a:lnTo>
                  <a:lnTo>
                    <a:pt x="186" y="1675"/>
                  </a:lnTo>
                  <a:lnTo>
                    <a:pt x="202" y="1659"/>
                  </a:lnTo>
                  <a:lnTo>
                    <a:pt x="219" y="1641"/>
                  </a:lnTo>
                  <a:lnTo>
                    <a:pt x="235" y="1619"/>
                  </a:lnTo>
                  <a:lnTo>
                    <a:pt x="261" y="1573"/>
                  </a:lnTo>
                  <a:lnTo>
                    <a:pt x="288" y="1521"/>
                  </a:lnTo>
                  <a:lnTo>
                    <a:pt x="313" y="1463"/>
                  </a:lnTo>
                  <a:lnTo>
                    <a:pt x="339" y="1401"/>
                  </a:lnTo>
                  <a:lnTo>
                    <a:pt x="365" y="1334"/>
                  </a:lnTo>
                  <a:lnTo>
                    <a:pt x="391" y="1266"/>
                  </a:lnTo>
                  <a:lnTo>
                    <a:pt x="417" y="1195"/>
                  </a:lnTo>
                  <a:lnTo>
                    <a:pt x="443" y="1124"/>
                  </a:lnTo>
                  <a:lnTo>
                    <a:pt x="470" y="1052"/>
                  </a:lnTo>
                  <a:lnTo>
                    <a:pt x="497" y="982"/>
                  </a:lnTo>
                  <a:lnTo>
                    <a:pt x="525" y="914"/>
                  </a:lnTo>
                  <a:lnTo>
                    <a:pt x="553" y="849"/>
                  </a:lnTo>
                  <a:lnTo>
                    <a:pt x="581" y="788"/>
                  </a:lnTo>
                  <a:lnTo>
                    <a:pt x="611" y="733"/>
                  </a:lnTo>
                  <a:lnTo>
                    <a:pt x="641" y="682"/>
                  </a:lnTo>
                  <a:lnTo>
                    <a:pt x="672" y="640"/>
                  </a:lnTo>
                  <a:lnTo>
                    <a:pt x="678" y="627"/>
                  </a:lnTo>
                  <a:lnTo>
                    <a:pt x="683" y="614"/>
                  </a:lnTo>
                  <a:lnTo>
                    <a:pt x="688" y="602"/>
                  </a:lnTo>
                  <a:lnTo>
                    <a:pt x="694" y="588"/>
                  </a:lnTo>
                  <a:lnTo>
                    <a:pt x="699" y="575"/>
                  </a:lnTo>
                  <a:lnTo>
                    <a:pt x="705" y="563"/>
                  </a:lnTo>
                  <a:lnTo>
                    <a:pt x="709" y="550"/>
                  </a:lnTo>
                  <a:lnTo>
                    <a:pt x="715" y="537"/>
                  </a:lnTo>
                  <a:lnTo>
                    <a:pt x="718" y="518"/>
                  </a:lnTo>
                  <a:lnTo>
                    <a:pt x="722" y="498"/>
                  </a:lnTo>
                  <a:lnTo>
                    <a:pt x="725" y="478"/>
                  </a:lnTo>
                  <a:lnTo>
                    <a:pt x="729" y="459"/>
                  </a:lnTo>
                  <a:lnTo>
                    <a:pt x="723" y="429"/>
                  </a:lnTo>
                  <a:lnTo>
                    <a:pt x="716" y="399"/>
                  </a:lnTo>
                  <a:lnTo>
                    <a:pt x="709" y="370"/>
                  </a:lnTo>
                  <a:lnTo>
                    <a:pt x="703" y="341"/>
                  </a:lnTo>
                  <a:lnTo>
                    <a:pt x="707" y="313"/>
                  </a:lnTo>
                  <a:lnTo>
                    <a:pt x="710" y="284"/>
                  </a:lnTo>
                  <a:lnTo>
                    <a:pt x="714" y="256"/>
                  </a:lnTo>
                  <a:lnTo>
                    <a:pt x="717" y="227"/>
                  </a:lnTo>
                  <a:lnTo>
                    <a:pt x="723" y="211"/>
                  </a:lnTo>
                  <a:lnTo>
                    <a:pt x="729" y="195"/>
                  </a:lnTo>
                  <a:lnTo>
                    <a:pt x="734" y="180"/>
                  </a:lnTo>
                  <a:lnTo>
                    <a:pt x="740" y="164"/>
                  </a:lnTo>
                  <a:lnTo>
                    <a:pt x="745" y="124"/>
                  </a:lnTo>
                  <a:lnTo>
                    <a:pt x="748" y="82"/>
                  </a:lnTo>
                  <a:lnTo>
                    <a:pt x="752" y="42"/>
                  </a:lnTo>
                  <a:lnTo>
                    <a:pt x="756" y="0"/>
                  </a:lnTo>
                  <a:lnTo>
                    <a:pt x="753" y="4"/>
                  </a:lnTo>
                  <a:lnTo>
                    <a:pt x="749" y="8"/>
                  </a:lnTo>
                  <a:lnTo>
                    <a:pt x="746" y="14"/>
                  </a:lnTo>
                  <a:lnTo>
                    <a:pt x="741" y="21"/>
                  </a:lnTo>
                  <a:lnTo>
                    <a:pt x="737" y="28"/>
                  </a:lnTo>
                  <a:lnTo>
                    <a:pt x="731" y="36"/>
                  </a:lnTo>
                  <a:lnTo>
                    <a:pt x="726" y="44"/>
                  </a:lnTo>
                  <a:lnTo>
                    <a:pt x="721" y="52"/>
                  </a:lnTo>
                  <a:close/>
                </a:path>
              </a:pathLst>
            </a:custGeom>
            <a:solidFill>
              <a:srgbClr val="a09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584840" y="1179000"/>
              <a:ext cx="328680" cy="786960"/>
            </a:xfrm>
            <a:custGeom>
              <a:avLst/>
              <a:gdLst/>
              <a:ahLst/>
              <a:rect l="l" t="t" r="r" b="b"/>
              <a:pathLst>
                <a:path w="760" h="1820">
                  <a:moveTo>
                    <a:pt x="720" y="56"/>
                  </a:moveTo>
                  <a:lnTo>
                    <a:pt x="713" y="91"/>
                  </a:lnTo>
                  <a:lnTo>
                    <a:pt x="707" y="126"/>
                  </a:lnTo>
                  <a:lnTo>
                    <a:pt x="701" y="162"/>
                  </a:lnTo>
                  <a:lnTo>
                    <a:pt x="694" y="197"/>
                  </a:lnTo>
                  <a:lnTo>
                    <a:pt x="689" y="233"/>
                  </a:lnTo>
                  <a:lnTo>
                    <a:pt x="683" y="268"/>
                  </a:lnTo>
                  <a:lnTo>
                    <a:pt x="676" y="303"/>
                  </a:lnTo>
                  <a:lnTo>
                    <a:pt x="669" y="339"/>
                  </a:lnTo>
                  <a:lnTo>
                    <a:pt x="676" y="363"/>
                  </a:lnTo>
                  <a:lnTo>
                    <a:pt x="683" y="386"/>
                  </a:lnTo>
                  <a:lnTo>
                    <a:pt x="689" y="409"/>
                  </a:lnTo>
                  <a:lnTo>
                    <a:pt x="695" y="432"/>
                  </a:lnTo>
                  <a:lnTo>
                    <a:pt x="694" y="454"/>
                  </a:lnTo>
                  <a:lnTo>
                    <a:pt x="693" y="475"/>
                  </a:lnTo>
                  <a:lnTo>
                    <a:pt x="691" y="496"/>
                  </a:lnTo>
                  <a:lnTo>
                    <a:pt x="690" y="518"/>
                  </a:lnTo>
                  <a:lnTo>
                    <a:pt x="683" y="526"/>
                  </a:lnTo>
                  <a:lnTo>
                    <a:pt x="676" y="534"/>
                  </a:lnTo>
                  <a:lnTo>
                    <a:pt x="669" y="542"/>
                  </a:lnTo>
                  <a:lnTo>
                    <a:pt x="662" y="551"/>
                  </a:lnTo>
                  <a:lnTo>
                    <a:pt x="654" y="559"/>
                  </a:lnTo>
                  <a:lnTo>
                    <a:pt x="647" y="567"/>
                  </a:lnTo>
                  <a:lnTo>
                    <a:pt x="640" y="576"/>
                  </a:lnTo>
                  <a:lnTo>
                    <a:pt x="633" y="585"/>
                  </a:lnTo>
                  <a:lnTo>
                    <a:pt x="599" y="625"/>
                  </a:lnTo>
                  <a:lnTo>
                    <a:pt x="565" y="664"/>
                  </a:lnTo>
                  <a:lnTo>
                    <a:pt x="533" y="702"/>
                  </a:lnTo>
                  <a:lnTo>
                    <a:pt x="503" y="739"/>
                  </a:lnTo>
                  <a:lnTo>
                    <a:pt x="476" y="777"/>
                  </a:lnTo>
                  <a:lnTo>
                    <a:pt x="448" y="813"/>
                  </a:lnTo>
                  <a:lnTo>
                    <a:pt x="421" y="849"/>
                  </a:lnTo>
                  <a:lnTo>
                    <a:pt x="396" y="888"/>
                  </a:lnTo>
                  <a:lnTo>
                    <a:pt x="371" y="926"/>
                  </a:lnTo>
                  <a:lnTo>
                    <a:pt x="345" y="964"/>
                  </a:lnTo>
                  <a:lnTo>
                    <a:pt x="321" y="1004"/>
                  </a:lnTo>
                  <a:lnTo>
                    <a:pt x="297" y="1045"/>
                  </a:lnTo>
                  <a:lnTo>
                    <a:pt x="272" y="1088"/>
                  </a:lnTo>
                  <a:lnTo>
                    <a:pt x="248" y="1133"/>
                  </a:lnTo>
                  <a:lnTo>
                    <a:pt x="222" y="1180"/>
                  </a:lnTo>
                  <a:lnTo>
                    <a:pt x="196" y="1230"/>
                  </a:lnTo>
                  <a:lnTo>
                    <a:pt x="182" y="1257"/>
                  </a:lnTo>
                  <a:lnTo>
                    <a:pt x="168" y="1287"/>
                  </a:lnTo>
                  <a:lnTo>
                    <a:pt x="153" y="1318"/>
                  </a:lnTo>
                  <a:lnTo>
                    <a:pt x="139" y="1352"/>
                  </a:lnTo>
                  <a:lnTo>
                    <a:pt x="124" y="1386"/>
                  </a:lnTo>
                  <a:lnTo>
                    <a:pt x="111" y="1422"/>
                  </a:lnTo>
                  <a:lnTo>
                    <a:pt x="97" y="1459"/>
                  </a:lnTo>
                  <a:lnTo>
                    <a:pt x="83" y="1497"/>
                  </a:lnTo>
                  <a:lnTo>
                    <a:pt x="69" y="1536"/>
                  </a:lnTo>
                  <a:lnTo>
                    <a:pt x="56" y="1576"/>
                  </a:lnTo>
                  <a:lnTo>
                    <a:pt x="45" y="1617"/>
                  </a:lnTo>
                  <a:lnTo>
                    <a:pt x="35" y="1657"/>
                  </a:lnTo>
                  <a:lnTo>
                    <a:pt x="24" y="1697"/>
                  </a:lnTo>
                  <a:lnTo>
                    <a:pt x="15" y="1739"/>
                  </a:lnTo>
                  <a:lnTo>
                    <a:pt x="7" y="1779"/>
                  </a:lnTo>
                  <a:lnTo>
                    <a:pt x="0" y="1820"/>
                  </a:lnTo>
                  <a:lnTo>
                    <a:pt x="13" y="1805"/>
                  </a:lnTo>
                  <a:lnTo>
                    <a:pt x="25" y="1791"/>
                  </a:lnTo>
                  <a:lnTo>
                    <a:pt x="39" y="1779"/>
                  </a:lnTo>
                  <a:lnTo>
                    <a:pt x="53" y="1769"/>
                  </a:lnTo>
                  <a:lnTo>
                    <a:pt x="67" y="1760"/>
                  </a:lnTo>
                  <a:lnTo>
                    <a:pt x="81" y="1750"/>
                  </a:lnTo>
                  <a:lnTo>
                    <a:pt x="94" y="1741"/>
                  </a:lnTo>
                  <a:lnTo>
                    <a:pt x="109" y="1732"/>
                  </a:lnTo>
                  <a:lnTo>
                    <a:pt x="124" y="1722"/>
                  </a:lnTo>
                  <a:lnTo>
                    <a:pt x="139" y="1710"/>
                  </a:lnTo>
                  <a:lnTo>
                    <a:pt x="155" y="1697"/>
                  </a:lnTo>
                  <a:lnTo>
                    <a:pt x="172" y="1682"/>
                  </a:lnTo>
                  <a:lnTo>
                    <a:pt x="188" y="1665"/>
                  </a:lnTo>
                  <a:lnTo>
                    <a:pt x="204" y="1644"/>
                  </a:lnTo>
                  <a:lnTo>
                    <a:pt x="220" y="1621"/>
                  </a:lnTo>
                  <a:lnTo>
                    <a:pt x="237" y="1594"/>
                  </a:lnTo>
                  <a:lnTo>
                    <a:pt x="262" y="1549"/>
                  </a:lnTo>
                  <a:lnTo>
                    <a:pt x="289" y="1498"/>
                  </a:lnTo>
                  <a:lnTo>
                    <a:pt x="314" y="1442"/>
                  </a:lnTo>
                  <a:lnTo>
                    <a:pt x="338" y="1381"/>
                  </a:lnTo>
                  <a:lnTo>
                    <a:pt x="364" y="1317"/>
                  </a:lnTo>
                  <a:lnTo>
                    <a:pt x="389" y="1250"/>
                  </a:lnTo>
                  <a:lnTo>
                    <a:pt x="414" y="1182"/>
                  </a:lnTo>
                  <a:lnTo>
                    <a:pt x="440" y="1113"/>
                  </a:lnTo>
                  <a:lnTo>
                    <a:pt x="465" y="1045"/>
                  </a:lnTo>
                  <a:lnTo>
                    <a:pt x="492" y="977"/>
                  </a:lnTo>
                  <a:lnTo>
                    <a:pt x="519" y="912"/>
                  </a:lnTo>
                  <a:lnTo>
                    <a:pt x="546" y="848"/>
                  </a:lnTo>
                  <a:lnTo>
                    <a:pt x="575" y="790"/>
                  </a:lnTo>
                  <a:lnTo>
                    <a:pt x="603" y="734"/>
                  </a:lnTo>
                  <a:lnTo>
                    <a:pt x="634" y="685"/>
                  </a:lnTo>
                  <a:lnTo>
                    <a:pt x="666" y="642"/>
                  </a:lnTo>
                  <a:lnTo>
                    <a:pt x="671" y="629"/>
                  </a:lnTo>
                  <a:lnTo>
                    <a:pt x="677" y="618"/>
                  </a:lnTo>
                  <a:lnTo>
                    <a:pt x="683" y="605"/>
                  </a:lnTo>
                  <a:lnTo>
                    <a:pt x="689" y="593"/>
                  </a:lnTo>
                  <a:lnTo>
                    <a:pt x="694" y="581"/>
                  </a:lnTo>
                  <a:lnTo>
                    <a:pt x="700" y="568"/>
                  </a:lnTo>
                  <a:lnTo>
                    <a:pt x="706" y="557"/>
                  </a:lnTo>
                  <a:lnTo>
                    <a:pt x="712" y="544"/>
                  </a:lnTo>
                  <a:lnTo>
                    <a:pt x="715" y="525"/>
                  </a:lnTo>
                  <a:lnTo>
                    <a:pt x="718" y="504"/>
                  </a:lnTo>
                  <a:lnTo>
                    <a:pt x="722" y="484"/>
                  </a:lnTo>
                  <a:lnTo>
                    <a:pt x="725" y="465"/>
                  </a:lnTo>
                  <a:lnTo>
                    <a:pt x="720" y="435"/>
                  </a:lnTo>
                  <a:lnTo>
                    <a:pt x="713" y="405"/>
                  </a:lnTo>
                  <a:lnTo>
                    <a:pt x="706" y="375"/>
                  </a:lnTo>
                  <a:lnTo>
                    <a:pt x="700" y="346"/>
                  </a:lnTo>
                  <a:lnTo>
                    <a:pt x="704" y="317"/>
                  </a:lnTo>
                  <a:lnTo>
                    <a:pt x="708" y="290"/>
                  </a:lnTo>
                  <a:lnTo>
                    <a:pt x="712" y="261"/>
                  </a:lnTo>
                  <a:lnTo>
                    <a:pt x="715" y="233"/>
                  </a:lnTo>
                  <a:lnTo>
                    <a:pt x="721" y="216"/>
                  </a:lnTo>
                  <a:lnTo>
                    <a:pt x="727" y="200"/>
                  </a:lnTo>
                  <a:lnTo>
                    <a:pt x="732" y="182"/>
                  </a:lnTo>
                  <a:lnTo>
                    <a:pt x="738" y="166"/>
                  </a:lnTo>
                  <a:lnTo>
                    <a:pt x="744" y="125"/>
                  </a:lnTo>
                  <a:lnTo>
                    <a:pt x="750" y="83"/>
                  </a:lnTo>
                  <a:lnTo>
                    <a:pt x="754" y="42"/>
                  </a:lnTo>
                  <a:lnTo>
                    <a:pt x="760" y="0"/>
                  </a:lnTo>
                  <a:lnTo>
                    <a:pt x="756" y="3"/>
                  </a:lnTo>
                  <a:lnTo>
                    <a:pt x="753" y="7"/>
                  </a:lnTo>
                  <a:lnTo>
                    <a:pt x="748" y="13"/>
                  </a:lnTo>
                  <a:lnTo>
                    <a:pt x="744" y="19"/>
                  </a:lnTo>
                  <a:lnTo>
                    <a:pt x="738" y="27"/>
                  </a:lnTo>
                  <a:lnTo>
                    <a:pt x="732" y="36"/>
                  </a:lnTo>
                  <a:lnTo>
                    <a:pt x="725" y="45"/>
                  </a:lnTo>
                  <a:lnTo>
                    <a:pt x="720" y="56"/>
                  </a:lnTo>
                  <a:close/>
                </a:path>
              </a:pathLst>
            </a:custGeom>
            <a:solidFill>
              <a:srgbClr val="969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85920" y="1176480"/>
              <a:ext cx="329400" cy="786240"/>
            </a:xfrm>
            <a:custGeom>
              <a:avLst/>
              <a:gdLst/>
              <a:ahLst/>
              <a:rect l="l" t="t" r="r" b="b"/>
              <a:pathLst>
                <a:path w="762" h="1818">
                  <a:moveTo>
                    <a:pt x="720" y="59"/>
                  </a:moveTo>
                  <a:lnTo>
                    <a:pt x="713" y="95"/>
                  </a:lnTo>
                  <a:lnTo>
                    <a:pt x="707" y="131"/>
                  </a:lnTo>
                  <a:lnTo>
                    <a:pt x="700" y="166"/>
                  </a:lnTo>
                  <a:lnTo>
                    <a:pt x="694" y="202"/>
                  </a:lnTo>
                  <a:lnTo>
                    <a:pt x="688" y="239"/>
                  </a:lnTo>
                  <a:lnTo>
                    <a:pt x="682" y="275"/>
                  </a:lnTo>
                  <a:lnTo>
                    <a:pt x="675" y="310"/>
                  </a:lnTo>
                  <a:lnTo>
                    <a:pt x="668" y="346"/>
                  </a:lnTo>
                  <a:lnTo>
                    <a:pt x="675" y="370"/>
                  </a:lnTo>
                  <a:lnTo>
                    <a:pt x="681" y="393"/>
                  </a:lnTo>
                  <a:lnTo>
                    <a:pt x="688" y="416"/>
                  </a:lnTo>
                  <a:lnTo>
                    <a:pt x="693" y="441"/>
                  </a:lnTo>
                  <a:lnTo>
                    <a:pt x="692" y="461"/>
                  </a:lnTo>
                  <a:lnTo>
                    <a:pt x="691" y="482"/>
                  </a:lnTo>
                  <a:lnTo>
                    <a:pt x="690" y="503"/>
                  </a:lnTo>
                  <a:lnTo>
                    <a:pt x="689" y="525"/>
                  </a:lnTo>
                  <a:lnTo>
                    <a:pt x="682" y="533"/>
                  </a:lnTo>
                  <a:lnTo>
                    <a:pt x="675" y="541"/>
                  </a:lnTo>
                  <a:lnTo>
                    <a:pt x="668" y="549"/>
                  </a:lnTo>
                  <a:lnTo>
                    <a:pt x="661" y="557"/>
                  </a:lnTo>
                  <a:lnTo>
                    <a:pt x="653" y="565"/>
                  </a:lnTo>
                  <a:lnTo>
                    <a:pt x="646" y="573"/>
                  </a:lnTo>
                  <a:lnTo>
                    <a:pt x="639" y="581"/>
                  </a:lnTo>
                  <a:lnTo>
                    <a:pt x="632" y="589"/>
                  </a:lnTo>
                  <a:lnTo>
                    <a:pt x="598" y="630"/>
                  </a:lnTo>
                  <a:lnTo>
                    <a:pt x="564" y="669"/>
                  </a:lnTo>
                  <a:lnTo>
                    <a:pt x="533" y="707"/>
                  </a:lnTo>
                  <a:lnTo>
                    <a:pt x="503" y="745"/>
                  </a:lnTo>
                  <a:lnTo>
                    <a:pt x="475" y="782"/>
                  </a:lnTo>
                  <a:lnTo>
                    <a:pt x="447" y="817"/>
                  </a:lnTo>
                  <a:lnTo>
                    <a:pt x="420" y="854"/>
                  </a:lnTo>
                  <a:lnTo>
                    <a:pt x="395" y="891"/>
                  </a:lnTo>
                  <a:lnTo>
                    <a:pt x="370" y="929"/>
                  </a:lnTo>
                  <a:lnTo>
                    <a:pt x="346" y="968"/>
                  </a:lnTo>
                  <a:lnTo>
                    <a:pt x="320" y="1007"/>
                  </a:lnTo>
                  <a:lnTo>
                    <a:pt x="296" y="1049"/>
                  </a:lnTo>
                  <a:lnTo>
                    <a:pt x="272" y="1093"/>
                  </a:lnTo>
                  <a:lnTo>
                    <a:pt x="247" y="1138"/>
                  </a:lnTo>
                  <a:lnTo>
                    <a:pt x="221" y="1185"/>
                  </a:lnTo>
                  <a:lnTo>
                    <a:pt x="195" y="1236"/>
                  </a:lnTo>
                  <a:lnTo>
                    <a:pt x="181" y="1263"/>
                  </a:lnTo>
                  <a:lnTo>
                    <a:pt x="167" y="1293"/>
                  </a:lnTo>
                  <a:lnTo>
                    <a:pt x="153" y="1324"/>
                  </a:lnTo>
                  <a:lnTo>
                    <a:pt x="138" y="1356"/>
                  </a:lnTo>
                  <a:lnTo>
                    <a:pt x="124" y="1390"/>
                  </a:lnTo>
                  <a:lnTo>
                    <a:pt x="111" y="1426"/>
                  </a:lnTo>
                  <a:lnTo>
                    <a:pt x="97" y="1461"/>
                  </a:lnTo>
                  <a:lnTo>
                    <a:pt x="84" y="1499"/>
                  </a:lnTo>
                  <a:lnTo>
                    <a:pt x="70" y="1537"/>
                  </a:lnTo>
                  <a:lnTo>
                    <a:pt x="58" y="1577"/>
                  </a:lnTo>
                  <a:lnTo>
                    <a:pt x="46" y="1616"/>
                  </a:lnTo>
                  <a:lnTo>
                    <a:pt x="36" y="1656"/>
                  </a:lnTo>
                  <a:lnTo>
                    <a:pt x="25" y="1696"/>
                  </a:lnTo>
                  <a:lnTo>
                    <a:pt x="16" y="1737"/>
                  </a:lnTo>
                  <a:lnTo>
                    <a:pt x="7" y="1778"/>
                  </a:lnTo>
                  <a:lnTo>
                    <a:pt x="0" y="1818"/>
                  </a:lnTo>
                  <a:lnTo>
                    <a:pt x="13" y="1801"/>
                  </a:lnTo>
                  <a:lnTo>
                    <a:pt x="25" y="1786"/>
                  </a:lnTo>
                  <a:lnTo>
                    <a:pt x="38" y="1775"/>
                  </a:lnTo>
                  <a:lnTo>
                    <a:pt x="51" y="1763"/>
                  </a:lnTo>
                  <a:lnTo>
                    <a:pt x="65" y="1754"/>
                  </a:lnTo>
                  <a:lnTo>
                    <a:pt x="80" y="1745"/>
                  </a:lnTo>
                  <a:lnTo>
                    <a:pt x="93" y="1737"/>
                  </a:lnTo>
                  <a:lnTo>
                    <a:pt x="108" y="1727"/>
                  </a:lnTo>
                  <a:lnTo>
                    <a:pt x="123" y="1717"/>
                  </a:lnTo>
                  <a:lnTo>
                    <a:pt x="139" y="1704"/>
                  </a:lnTo>
                  <a:lnTo>
                    <a:pt x="156" y="1691"/>
                  </a:lnTo>
                  <a:lnTo>
                    <a:pt x="172" y="1674"/>
                  </a:lnTo>
                  <a:lnTo>
                    <a:pt x="188" y="1654"/>
                  </a:lnTo>
                  <a:lnTo>
                    <a:pt x="205" y="1630"/>
                  </a:lnTo>
                  <a:lnTo>
                    <a:pt x="222" y="1602"/>
                  </a:lnTo>
                  <a:lnTo>
                    <a:pt x="241" y="1568"/>
                  </a:lnTo>
                  <a:lnTo>
                    <a:pt x="266" y="1525"/>
                  </a:lnTo>
                  <a:lnTo>
                    <a:pt x="291" y="1474"/>
                  </a:lnTo>
                  <a:lnTo>
                    <a:pt x="316" y="1420"/>
                  </a:lnTo>
                  <a:lnTo>
                    <a:pt x="340" y="1361"/>
                  </a:lnTo>
                  <a:lnTo>
                    <a:pt x="364" y="1300"/>
                  </a:lnTo>
                  <a:lnTo>
                    <a:pt x="388" y="1236"/>
                  </a:lnTo>
                  <a:lnTo>
                    <a:pt x="412" y="1170"/>
                  </a:lnTo>
                  <a:lnTo>
                    <a:pt x="437" y="1104"/>
                  </a:lnTo>
                  <a:lnTo>
                    <a:pt x="461" y="1039"/>
                  </a:lnTo>
                  <a:lnTo>
                    <a:pt x="487" y="973"/>
                  </a:lnTo>
                  <a:lnTo>
                    <a:pt x="513" y="909"/>
                  </a:lnTo>
                  <a:lnTo>
                    <a:pt x="540" y="848"/>
                  </a:lnTo>
                  <a:lnTo>
                    <a:pt x="568" y="791"/>
                  </a:lnTo>
                  <a:lnTo>
                    <a:pt x="597" y="737"/>
                  </a:lnTo>
                  <a:lnTo>
                    <a:pt x="628" y="688"/>
                  </a:lnTo>
                  <a:lnTo>
                    <a:pt x="659" y="646"/>
                  </a:lnTo>
                  <a:lnTo>
                    <a:pt x="665" y="634"/>
                  </a:lnTo>
                  <a:lnTo>
                    <a:pt x="671" y="621"/>
                  </a:lnTo>
                  <a:lnTo>
                    <a:pt x="677" y="610"/>
                  </a:lnTo>
                  <a:lnTo>
                    <a:pt x="684" y="597"/>
                  </a:lnTo>
                  <a:lnTo>
                    <a:pt x="690" y="586"/>
                  </a:lnTo>
                  <a:lnTo>
                    <a:pt x="697" y="574"/>
                  </a:lnTo>
                  <a:lnTo>
                    <a:pt x="703" y="562"/>
                  </a:lnTo>
                  <a:lnTo>
                    <a:pt x="709" y="550"/>
                  </a:lnTo>
                  <a:lnTo>
                    <a:pt x="712" y="530"/>
                  </a:lnTo>
                  <a:lnTo>
                    <a:pt x="715" y="511"/>
                  </a:lnTo>
                  <a:lnTo>
                    <a:pt x="719" y="491"/>
                  </a:lnTo>
                  <a:lnTo>
                    <a:pt x="721" y="472"/>
                  </a:lnTo>
                  <a:lnTo>
                    <a:pt x="715" y="441"/>
                  </a:lnTo>
                  <a:lnTo>
                    <a:pt x="709" y="409"/>
                  </a:lnTo>
                  <a:lnTo>
                    <a:pt x="704" y="380"/>
                  </a:lnTo>
                  <a:lnTo>
                    <a:pt x="698" y="351"/>
                  </a:lnTo>
                  <a:lnTo>
                    <a:pt x="701" y="322"/>
                  </a:lnTo>
                  <a:lnTo>
                    <a:pt x="705" y="294"/>
                  </a:lnTo>
                  <a:lnTo>
                    <a:pt x="708" y="265"/>
                  </a:lnTo>
                  <a:lnTo>
                    <a:pt x="713" y="238"/>
                  </a:lnTo>
                  <a:lnTo>
                    <a:pt x="719" y="221"/>
                  </a:lnTo>
                  <a:lnTo>
                    <a:pt x="726" y="202"/>
                  </a:lnTo>
                  <a:lnTo>
                    <a:pt x="731" y="185"/>
                  </a:lnTo>
                  <a:lnTo>
                    <a:pt x="737" y="168"/>
                  </a:lnTo>
                  <a:lnTo>
                    <a:pt x="743" y="126"/>
                  </a:lnTo>
                  <a:lnTo>
                    <a:pt x="750" y="83"/>
                  </a:lnTo>
                  <a:lnTo>
                    <a:pt x="757" y="42"/>
                  </a:lnTo>
                  <a:lnTo>
                    <a:pt x="762" y="0"/>
                  </a:lnTo>
                  <a:lnTo>
                    <a:pt x="760" y="2"/>
                  </a:lnTo>
                  <a:lnTo>
                    <a:pt x="757" y="6"/>
                  </a:lnTo>
                  <a:lnTo>
                    <a:pt x="751" y="11"/>
                  </a:lnTo>
                  <a:lnTo>
                    <a:pt x="746" y="19"/>
                  </a:lnTo>
                  <a:lnTo>
                    <a:pt x="739" y="27"/>
                  </a:lnTo>
                  <a:lnTo>
                    <a:pt x="734" y="37"/>
                  </a:lnTo>
                  <a:lnTo>
                    <a:pt x="727" y="48"/>
                  </a:lnTo>
                  <a:lnTo>
                    <a:pt x="720" y="59"/>
                  </a:lnTo>
                  <a:close/>
                </a:path>
              </a:pathLst>
            </a:custGeom>
            <a:solidFill>
              <a:srgbClr val="8c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86640" y="1172880"/>
              <a:ext cx="330120" cy="785160"/>
            </a:xfrm>
            <a:custGeom>
              <a:avLst/>
              <a:gdLst/>
              <a:ahLst/>
              <a:rect l="l" t="t" r="r" b="b"/>
              <a:pathLst>
                <a:path w="766" h="1817">
                  <a:moveTo>
                    <a:pt x="719" y="65"/>
                  </a:moveTo>
                  <a:lnTo>
                    <a:pt x="712" y="101"/>
                  </a:lnTo>
                  <a:lnTo>
                    <a:pt x="706" y="136"/>
                  </a:lnTo>
                  <a:lnTo>
                    <a:pt x="699" y="173"/>
                  </a:lnTo>
                  <a:lnTo>
                    <a:pt x="693" y="209"/>
                  </a:lnTo>
                  <a:lnTo>
                    <a:pt x="687" y="246"/>
                  </a:lnTo>
                  <a:lnTo>
                    <a:pt x="681" y="282"/>
                  </a:lnTo>
                  <a:lnTo>
                    <a:pt x="674" y="318"/>
                  </a:lnTo>
                  <a:lnTo>
                    <a:pt x="667" y="354"/>
                  </a:lnTo>
                  <a:lnTo>
                    <a:pt x="673" y="378"/>
                  </a:lnTo>
                  <a:lnTo>
                    <a:pt x="680" y="401"/>
                  </a:lnTo>
                  <a:lnTo>
                    <a:pt x="685" y="424"/>
                  </a:lnTo>
                  <a:lnTo>
                    <a:pt x="692" y="449"/>
                  </a:lnTo>
                  <a:lnTo>
                    <a:pt x="691" y="470"/>
                  </a:lnTo>
                  <a:lnTo>
                    <a:pt x="690" y="491"/>
                  </a:lnTo>
                  <a:lnTo>
                    <a:pt x="689" y="512"/>
                  </a:lnTo>
                  <a:lnTo>
                    <a:pt x="688" y="533"/>
                  </a:lnTo>
                  <a:lnTo>
                    <a:pt x="681" y="541"/>
                  </a:lnTo>
                  <a:lnTo>
                    <a:pt x="674" y="549"/>
                  </a:lnTo>
                  <a:lnTo>
                    <a:pt x="667" y="556"/>
                  </a:lnTo>
                  <a:lnTo>
                    <a:pt x="660" y="564"/>
                  </a:lnTo>
                  <a:lnTo>
                    <a:pt x="652" y="572"/>
                  </a:lnTo>
                  <a:lnTo>
                    <a:pt x="645" y="580"/>
                  </a:lnTo>
                  <a:lnTo>
                    <a:pt x="638" y="588"/>
                  </a:lnTo>
                  <a:lnTo>
                    <a:pt x="631" y="596"/>
                  </a:lnTo>
                  <a:lnTo>
                    <a:pt x="597" y="636"/>
                  </a:lnTo>
                  <a:lnTo>
                    <a:pt x="563" y="676"/>
                  </a:lnTo>
                  <a:lnTo>
                    <a:pt x="532" y="714"/>
                  </a:lnTo>
                  <a:lnTo>
                    <a:pt x="502" y="750"/>
                  </a:lnTo>
                  <a:lnTo>
                    <a:pt x="474" y="787"/>
                  </a:lnTo>
                  <a:lnTo>
                    <a:pt x="446" y="824"/>
                  </a:lnTo>
                  <a:lnTo>
                    <a:pt x="419" y="860"/>
                  </a:lnTo>
                  <a:lnTo>
                    <a:pt x="394" y="897"/>
                  </a:lnTo>
                  <a:lnTo>
                    <a:pt x="370" y="935"/>
                  </a:lnTo>
                  <a:lnTo>
                    <a:pt x="345" y="974"/>
                  </a:lnTo>
                  <a:lnTo>
                    <a:pt x="320" y="1013"/>
                  </a:lnTo>
                  <a:lnTo>
                    <a:pt x="296" y="1056"/>
                  </a:lnTo>
                  <a:lnTo>
                    <a:pt x="271" y="1098"/>
                  </a:lnTo>
                  <a:lnTo>
                    <a:pt x="246" y="1144"/>
                  </a:lnTo>
                  <a:lnTo>
                    <a:pt x="220" y="1193"/>
                  </a:lnTo>
                  <a:lnTo>
                    <a:pt x="194" y="1244"/>
                  </a:lnTo>
                  <a:lnTo>
                    <a:pt x="180" y="1271"/>
                  </a:lnTo>
                  <a:lnTo>
                    <a:pt x="166" y="1300"/>
                  </a:lnTo>
                  <a:lnTo>
                    <a:pt x="152" y="1330"/>
                  </a:lnTo>
                  <a:lnTo>
                    <a:pt x="138" y="1362"/>
                  </a:lnTo>
                  <a:lnTo>
                    <a:pt x="125" y="1396"/>
                  </a:lnTo>
                  <a:lnTo>
                    <a:pt x="112" y="1429"/>
                  </a:lnTo>
                  <a:lnTo>
                    <a:pt x="98" y="1465"/>
                  </a:lnTo>
                  <a:lnTo>
                    <a:pt x="85" y="1500"/>
                  </a:lnTo>
                  <a:lnTo>
                    <a:pt x="72" y="1538"/>
                  </a:lnTo>
                  <a:lnTo>
                    <a:pt x="60" y="1576"/>
                  </a:lnTo>
                  <a:lnTo>
                    <a:pt x="49" y="1616"/>
                  </a:lnTo>
                  <a:lnTo>
                    <a:pt x="37" y="1655"/>
                  </a:lnTo>
                  <a:lnTo>
                    <a:pt x="27" y="1695"/>
                  </a:lnTo>
                  <a:lnTo>
                    <a:pt x="16" y="1735"/>
                  </a:lnTo>
                  <a:lnTo>
                    <a:pt x="8" y="1776"/>
                  </a:lnTo>
                  <a:lnTo>
                    <a:pt x="0" y="1817"/>
                  </a:lnTo>
                  <a:lnTo>
                    <a:pt x="12" y="1798"/>
                  </a:lnTo>
                  <a:lnTo>
                    <a:pt x="24" y="1783"/>
                  </a:lnTo>
                  <a:lnTo>
                    <a:pt x="37" y="1770"/>
                  </a:lnTo>
                  <a:lnTo>
                    <a:pt x="50" y="1759"/>
                  </a:lnTo>
                  <a:lnTo>
                    <a:pt x="64" y="1749"/>
                  </a:lnTo>
                  <a:lnTo>
                    <a:pt x="77" y="1741"/>
                  </a:lnTo>
                  <a:lnTo>
                    <a:pt x="92" y="1732"/>
                  </a:lnTo>
                  <a:lnTo>
                    <a:pt x="107" y="1723"/>
                  </a:lnTo>
                  <a:lnTo>
                    <a:pt x="122" y="1712"/>
                  </a:lnTo>
                  <a:lnTo>
                    <a:pt x="138" y="1700"/>
                  </a:lnTo>
                  <a:lnTo>
                    <a:pt x="155" y="1685"/>
                  </a:lnTo>
                  <a:lnTo>
                    <a:pt x="172" y="1666"/>
                  </a:lnTo>
                  <a:lnTo>
                    <a:pt x="188" y="1643"/>
                  </a:lnTo>
                  <a:lnTo>
                    <a:pt x="206" y="1616"/>
                  </a:lnTo>
                  <a:lnTo>
                    <a:pt x="225" y="1583"/>
                  </a:lnTo>
                  <a:lnTo>
                    <a:pt x="243" y="1544"/>
                  </a:lnTo>
                  <a:lnTo>
                    <a:pt x="269" y="1500"/>
                  </a:lnTo>
                  <a:lnTo>
                    <a:pt x="293" y="1452"/>
                  </a:lnTo>
                  <a:lnTo>
                    <a:pt x="316" y="1399"/>
                  </a:lnTo>
                  <a:lnTo>
                    <a:pt x="339" y="1341"/>
                  </a:lnTo>
                  <a:lnTo>
                    <a:pt x="363" y="1283"/>
                  </a:lnTo>
                  <a:lnTo>
                    <a:pt x="386" y="1220"/>
                  </a:lnTo>
                  <a:lnTo>
                    <a:pt x="409" y="1158"/>
                  </a:lnTo>
                  <a:lnTo>
                    <a:pt x="432" y="1095"/>
                  </a:lnTo>
                  <a:lnTo>
                    <a:pt x="456" y="1030"/>
                  </a:lnTo>
                  <a:lnTo>
                    <a:pt x="482" y="968"/>
                  </a:lnTo>
                  <a:lnTo>
                    <a:pt x="507" y="907"/>
                  </a:lnTo>
                  <a:lnTo>
                    <a:pt x="533" y="848"/>
                  </a:lnTo>
                  <a:lnTo>
                    <a:pt x="561" y="792"/>
                  </a:lnTo>
                  <a:lnTo>
                    <a:pt x="590" y="740"/>
                  </a:lnTo>
                  <a:lnTo>
                    <a:pt x="620" y="692"/>
                  </a:lnTo>
                  <a:lnTo>
                    <a:pt x="652" y="649"/>
                  </a:lnTo>
                  <a:lnTo>
                    <a:pt x="659" y="638"/>
                  </a:lnTo>
                  <a:lnTo>
                    <a:pt x="665" y="626"/>
                  </a:lnTo>
                  <a:lnTo>
                    <a:pt x="672" y="614"/>
                  </a:lnTo>
                  <a:lnTo>
                    <a:pt x="678" y="603"/>
                  </a:lnTo>
                  <a:lnTo>
                    <a:pt x="685" y="593"/>
                  </a:lnTo>
                  <a:lnTo>
                    <a:pt x="692" y="581"/>
                  </a:lnTo>
                  <a:lnTo>
                    <a:pt x="698" y="570"/>
                  </a:lnTo>
                  <a:lnTo>
                    <a:pt x="705" y="558"/>
                  </a:lnTo>
                  <a:lnTo>
                    <a:pt x="708" y="538"/>
                  </a:lnTo>
                  <a:lnTo>
                    <a:pt x="712" y="518"/>
                  </a:lnTo>
                  <a:lnTo>
                    <a:pt x="714" y="498"/>
                  </a:lnTo>
                  <a:lnTo>
                    <a:pt x="718" y="479"/>
                  </a:lnTo>
                  <a:lnTo>
                    <a:pt x="712" y="447"/>
                  </a:lnTo>
                  <a:lnTo>
                    <a:pt x="707" y="416"/>
                  </a:lnTo>
                  <a:lnTo>
                    <a:pt x="702" y="385"/>
                  </a:lnTo>
                  <a:lnTo>
                    <a:pt x="696" y="355"/>
                  </a:lnTo>
                  <a:lnTo>
                    <a:pt x="699" y="328"/>
                  </a:lnTo>
                  <a:lnTo>
                    <a:pt x="703" y="299"/>
                  </a:lnTo>
                  <a:lnTo>
                    <a:pt x="706" y="271"/>
                  </a:lnTo>
                  <a:lnTo>
                    <a:pt x="710" y="244"/>
                  </a:lnTo>
                  <a:lnTo>
                    <a:pt x="716" y="225"/>
                  </a:lnTo>
                  <a:lnTo>
                    <a:pt x="722" y="207"/>
                  </a:lnTo>
                  <a:lnTo>
                    <a:pt x="729" y="189"/>
                  </a:lnTo>
                  <a:lnTo>
                    <a:pt x="735" y="171"/>
                  </a:lnTo>
                  <a:lnTo>
                    <a:pt x="743" y="128"/>
                  </a:lnTo>
                  <a:lnTo>
                    <a:pt x="751" y="86"/>
                  </a:lnTo>
                  <a:lnTo>
                    <a:pt x="758" y="43"/>
                  </a:lnTo>
                  <a:lnTo>
                    <a:pt x="766" y="0"/>
                  </a:lnTo>
                  <a:lnTo>
                    <a:pt x="764" y="2"/>
                  </a:lnTo>
                  <a:lnTo>
                    <a:pt x="759" y="5"/>
                  </a:lnTo>
                  <a:lnTo>
                    <a:pt x="754" y="11"/>
                  </a:lnTo>
                  <a:lnTo>
                    <a:pt x="749" y="19"/>
                  </a:lnTo>
                  <a:lnTo>
                    <a:pt x="742" y="28"/>
                  </a:lnTo>
                  <a:lnTo>
                    <a:pt x="734" y="40"/>
                  </a:lnTo>
                  <a:lnTo>
                    <a:pt x="727" y="51"/>
                  </a:lnTo>
                  <a:lnTo>
                    <a:pt x="719" y="65"/>
                  </a:lnTo>
                  <a:close/>
                </a:path>
              </a:pathLst>
            </a:custGeom>
            <a:solidFill>
              <a:srgbClr val="82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86640" y="1169640"/>
              <a:ext cx="331920" cy="785160"/>
            </a:xfrm>
            <a:custGeom>
              <a:avLst/>
              <a:gdLst/>
              <a:ahLst/>
              <a:rect l="l" t="t" r="r" b="b"/>
              <a:pathLst>
                <a:path w="768" h="1815">
                  <a:moveTo>
                    <a:pt x="718" y="67"/>
                  </a:moveTo>
                  <a:lnTo>
                    <a:pt x="711" y="104"/>
                  </a:lnTo>
                  <a:lnTo>
                    <a:pt x="705" y="141"/>
                  </a:lnTo>
                  <a:lnTo>
                    <a:pt x="698" y="177"/>
                  </a:lnTo>
                  <a:lnTo>
                    <a:pt x="692" y="214"/>
                  </a:lnTo>
                  <a:lnTo>
                    <a:pt x="686" y="251"/>
                  </a:lnTo>
                  <a:lnTo>
                    <a:pt x="680" y="286"/>
                  </a:lnTo>
                  <a:lnTo>
                    <a:pt x="673" y="323"/>
                  </a:lnTo>
                  <a:lnTo>
                    <a:pt x="666" y="360"/>
                  </a:lnTo>
                  <a:lnTo>
                    <a:pt x="672" y="384"/>
                  </a:lnTo>
                  <a:lnTo>
                    <a:pt x="679" y="409"/>
                  </a:lnTo>
                  <a:lnTo>
                    <a:pt x="684" y="432"/>
                  </a:lnTo>
                  <a:lnTo>
                    <a:pt x="690" y="456"/>
                  </a:lnTo>
                  <a:lnTo>
                    <a:pt x="689" y="476"/>
                  </a:lnTo>
                  <a:lnTo>
                    <a:pt x="689" y="497"/>
                  </a:lnTo>
                  <a:lnTo>
                    <a:pt x="688" y="518"/>
                  </a:lnTo>
                  <a:lnTo>
                    <a:pt x="687" y="539"/>
                  </a:lnTo>
                  <a:lnTo>
                    <a:pt x="680" y="547"/>
                  </a:lnTo>
                  <a:lnTo>
                    <a:pt x="673" y="554"/>
                  </a:lnTo>
                  <a:lnTo>
                    <a:pt x="666" y="562"/>
                  </a:lnTo>
                  <a:lnTo>
                    <a:pt x="659" y="569"/>
                  </a:lnTo>
                  <a:lnTo>
                    <a:pt x="651" y="577"/>
                  </a:lnTo>
                  <a:lnTo>
                    <a:pt x="644" y="585"/>
                  </a:lnTo>
                  <a:lnTo>
                    <a:pt x="637" y="592"/>
                  </a:lnTo>
                  <a:lnTo>
                    <a:pt x="630" y="600"/>
                  </a:lnTo>
                  <a:lnTo>
                    <a:pt x="596" y="640"/>
                  </a:lnTo>
                  <a:lnTo>
                    <a:pt x="562" y="679"/>
                  </a:lnTo>
                  <a:lnTo>
                    <a:pt x="531" y="717"/>
                  </a:lnTo>
                  <a:lnTo>
                    <a:pt x="501" y="754"/>
                  </a:lnTo>
                  <a:lnTo>
                    <a:pt x="473" y="791"/>
                  </a:lnTo>
                  <a:lnTo>
                    <a:pt x="445" y="827"/>
                  </a:lnTo>
                  <a:lnTo>
                    <a:pt x="418" y="864"/>
                  </a:lnTo>
                  <a:lnTo>
                    <a:pt x="393" y="900"/>
                  </a:lnTo>
                  <a:lnTo>
                    <a:pt x="369" y="938"/>
                  </a:lnTo>
                  <a:lnTo>
                    <a:pt x="344" y="976"/>
                  </a:lnTo>
                  <a:lnTo>
                    <a:pt x="319" y="1017"/>
                  </a:lnTo>
                  <a:lnTo>
                    <a:pt x="295" y="1058"/>
                  </a:lnTo>
                  <a:lnTo>
                    <a:pt x="270" y="1102"/>
                  </a:lnTo>
                  <a:lnTo>
                    <a:pt x="245" y="1148"/>
                  </a:lnTo>
                  <a:lnTo>
                    <a:pt x="219" y="1198"/>
                  </a:lnTo>
                  <a:lnTo>
                    <a:pt x="193" y="1250"/>
                  </a:lnTo>
                  <a:lnTo>
                    <a:pt x="179" y="1277"/>
                  </a:lnTo>
                  <a:lnTo>
                    <a:pt x="166" y="1305"/>
                  </a:lnTo>
                  <a:lnTo>
                    <a:pt x="152" y="1335"/>
                  </a:lnTo>
                  <a:lnTo>
                    <a:pt x="139" y="1366"/>
                  </a:lnTo>
                  <a:lnTo>
                    <a:pt x="125" y="1398"/>
                  </a:lnTo>
                  <a:lnTo>
                    <a:pt x="112" y="1432"/>
                  </a:lnTo>
                  <a:lnTo>
                    <a:pt x="98" y="1466"/>
                  </a:lnTo>
                  <a:lnTo>
                    <a:pt x="86" y="1502"/>
                  </a:lnTo>
                  <a:lnTo>
                    <a:pt x="73" y="1538"/>
                  </a:lnTo>
                  <a:lnTo>
                    <a:pt x="61" y="1576"/>
                  </a:lnTo>
                  <a:lnTo>
                    <a:pt x="50" y="1614"/>
                  </a:lnTo>
                  <a:lnTo>
                    <a:pt x="38" y="1653"/>
                  </a:lnTo>
                  <a:lnTo>
                    <a:pt x="28" y="1692"/>
                  </a:lnTo>
                  <a:lnTo>
                    <a:pt x="18" y="1732"/>
                  </a:lnTo>
                  <a:lnTo>
                    <a:pt x="8" y="1774"/>
                  </a:lnTo>
                  <a:lnTo>
                    <a:pt x="0" y="1815"/>
                  </a:lnTo>
                  <a:lnTo>
                    <a:pt x="12" y="1794"/>
                  </a:lnTo>
                  <a:lnTo>
                    <a:pt x="23" y="1777"/>
                  </a:lnTo>
                  <a:lnTo>
                    <a:pt x="36" y="1763"/>
                  </a:lnTo>
                  <a:lnTo>
                    <a:pt x="49" y="1753"/>
                  </a:lnTo>
                  <a:lnTo>
                    <a:pt x="63" y="1744"/>
                  </a:lnTo>
                  <a:lnTo>
                    <a:pt x="76" y="1735"/>
                  </a:lnTo>
                  <a:lnTo>
                    <a:pt x="90" y="1726"/>
                  </a:lnTo>
                  <a:lnTo>
                    <a:pt x="105" y="1717"/>
                  </a:lnTo>
                  <a:lnTo>
                    <a:pt x="121" y="1707"/>
                  </a:lnTo>
                  <a:lnTo>
                    <a:pt x="137" y="1694"/>
                  </a:lnTo>
                  <a:lnTo>
                    <a:pt x="154" y="1677"/>
                  </a:lnTo>
                  <a:lnTo>
                    <a:pt x="172" y="1657"/>
                  </a:lnTo>
                  <a:lnTo>
                    <a:pt x="189" y="1632"/>
                  </a:lnTo>
                  <a:lnTo>
                    <a:pt x="208" y="1601"/>
                  </a:lnTo>
                  <a:lnTo>
                    <a:pt x="227" y="1563"/>
                  </a:lnTo>
                  <a:lnTo>
                    <a:pt x="247" y="1518"/>
                  </a:lnTo>
                  <a:lnTo>
                    <a:pt x="271" y="1474"/>
                  </a:lnTo>
                  <a:lnTo>
                    <a:pt x="295" y="1427"/>
                  </a:lnTo>
                  <a:lnTo>
                    <a:pt x="317" y="1375"/>
                  </a:lnTo>
                  <a:lnTo>
                    <a:pt x="340" y="1321"/>
                  </a:lnTo>
                  <a:lnTo>
                    <a:pt x="362" y="1263"/>
                  </a:lnTo>
                  <a:lnTo>
                    <a:pt x="384" y="1205"/>
                  </a:lnTo>
                  <a:lnTo>
                    <a:pt x="407" y="1145"/>
                  </a:lnTo>
                  <a:lnTo>
                    <a:pt x="429" y="1084"/>
                  </a:lnTo>
                  <a:lnTo>
                    <a:pt x="452" y="1023"/>
                  </a:lnTo>
                  <a:lnTo>
                    <a:pt x="476" y="963"/>
                  </a:lnTo>
                  <a:lnTo>
                    <a:pt x="501" y="904"/>
                  </a:lnTo>
                  <a:lnTo>
                    <a:pt x="527" y="846"/>
                  </a:lnTo>
                  <a:lnTo>
                    <a:pt x="554" y="792"/>
                  </a:lnTo>
                  <a:lnTo>
                    <a:pt x="583" y="741"/>
                  </a:lnTo>
                  <a:lnTo>
                    <a:pt x="613" y="694"/>
                  </a:lnTo>
                  <a:lnTo>
                    <a:pt x="645" y="652"/>
                  </a:lnTo>
                  <a:lnTo>
                    <a:pt x="652" y="640"/>
                  </a:lnTo>
                  <a:lnTo>
                    <a:pt x="659" y="630"/>
                  </a:lnTo>
                  <a:lnTo>
                    <a:pt x="667" y="618"/>
                  </a:lnTo>
                  <a:lnTo>
                    <a:pt x="674" y="607"/>
                  </a:lnTo>
                  <a:lnTo>
                    <a:pt x="681" y="596"/>
                  </a:lnTo>
                  <a:lnTo>
                    <a:pt x="688" y="585"/>
                  </a:lnTo>
                  <a:lnTo>
                    <a:pt x="695" y="574"/>
                  </a:lnTo>
                  <a:lnTo>
                    <a:pt x="702" y="563"/>
                  </a:lnTo>
                  <a:lnTo>
                    <a:pt x="705" y="543"/>
                  </a:lnTo>
                  <a:lnTo>
                    <a:pt x="709" y="523"/>
                  </a:lnTo>
                  <a:lnTo>
                    <a:pt x="711" y="503"/>
                  </a:lnTo>
                  <a:lnTo>
                    <a:pt x="714" y="483"/>
                  </a:lnTo>
                  <a:lnTo>
                    <a:pt x="710" y="452"/>
                  </a:lnTo>
                  <a:lnTo>
                    <a:pt x="704" y="421"/>
                  </a:lnTo>
                  <a:lnTo>
                    <a:pt x="699" y="390"/>
                  </a:lnTo>
                  <a:lnTo>
                    <a:pt x="694" y="359"/>
                  </a:lnTo>
                  <a:lnTo>
                    <a:pt x="697" y="331"/>
                  </a:lnTo>
                  <a:lnTo>
                    <a:pt x="701" y="304"/>
                  </a:lnTo>
                  <a:lnTo>
                    <a:pt x="704" y="276"/>
                  </a:lnTo>
                  <a:lnTo>
                    <a:pt x="707" y="247"/>
                  </a:lnTo>
                  <a:lnTo>
                    <a:pt x="714" y="228"/>
                  </a:lnTo>
                  <a:lnTo>
                    <a:pt x="721" y="209"/>
                  </a:lnTo>
                  <a:lnTo>
                    <a:pt x="727" y="190"/>
                  </a:lnTo>
                  <a:lnTo>
                    <a:pt x="734" y="171"/>
                  </a:lnTo>
                  <a:lnTo>
                    <a:pt x="739" y="149"/>
                  </a:lnTo>
                  <a:lnTo>
                    <a:pt x="743" y="129"/>
                  </a:lnTo>
                  <a:lnTo>
                    <a:pt x="747" y="107"/>
                  </a:lnTo>
                  <a:lnTo>
                    <a:pt x="751" y="85"/>
                  </a:lnTo>
                  <a:lnTo>
                    <a:pt x="756" y="64"/>
                  </a:lnTo>
                  <a:lnTo>
                    <a:pt x="760" y="42"/>
                  </a:lnTo>
                  <a:lnTo>
                    <a:pt x="764" y="21"/>
                  </a:lnTo>
                  <a:lnTo>
                    <a:pt x="768" y="0"/>
                  </a:lnTo>
                  <a:lnTo>
                    <a:pt x="766" y="0"/>
                  </a:lnTo>
                  <a:lnTo>
                    <a:pt x="763" y="2"/>
                  </a:lnTo>
                  <a:lnTo>
                    <a:pt x="757" y="8"/>
                  </a:lnTo>
                  <a:lnTo>
                    <a:pt x="751" y="16"/>
                  </a:lnTo>
                  <a:lnTo>
                    <a:pt x="743" y="27"/>
                  </a:lnTo>
                  <a:lnTo>
                    <a:pt x="735" y="39"/>
                  </a:lnTo>
                  <a:lnTo>
                    <a:pt x="727" y="53"/>
                  </a:lnTo>
                  <a:lnTo>
                    <a:pt x="718" y="67"/>
                  </a:lnTo>
                  <a:close/>
                </a:path>
              </a:pathLst>
            </a:custGeom>
            <a:solidFill>
              <a:srgbClr val="777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87360" y="1166040"/>
              <a:ext cx="333720" cy="785160"/>
            </a:xfrm>
            <a:custGeom>
              <a:avLst/>
              <a:gdLst/>
              <a:ahLst/>
              <a:rect l="l" t="t" r="r" b="b"/>
              <a:pathLst>
                <a:path w="771" h="1816">
                  <a:moveTo>
                    <a:pt x="717" y="73"/>
                  </a:moveTo>
                  <a:lnTo>
                    <a:pt x="710" y="110"/>
                  </a:lnTo>
                  <a:lnTo>
                    <a:pt x="703" y="147"/>
                  </a:lnTo>
                  <a:lnTo>
                    <a:pt x="697" y="184"/>
                  </a:lnTo>
                  <a:lnTo>
                    <a:pt x="690" y="220"/>
                  </a:lnTo>
                  <a:lnTo>
                    <a:pt x="684" y="259"/>
                  </a:lnTo>
                  <a:lnTo>
                    <a:pt x="678" y="295"/>
                  </a:lnTo>
                  <a:lnTo>
                    <a:pt x="671" y="332"/>
                  </a:lnTo>
                  <a:lnTo>
                    <a:pt x="664" y="369"/>
                  </a:lnTo>
                  <a:lnTo>
                    <a:pt x="670" y="393"/>
                  </a:lnTo>
                  <a:lnTo>
                    <a:pt x="677" y="418"/>
                  </a:lnTo>
                  <a:lnTo>
                    <a:pt x="682" y="442"/>
                  </a:lnTo>
                  <a:lnTo>
                    <a:pt x="688" y="466"/>
                  </a:lnTo>
                  <a:lnTo>
                    <a:pt x="687" y="485"/>
                  </a:lnTo>
                  <a:lnTo>
                    <a:pt x="687" y="506"/>
                  </a:lnTo>
                  <a:lnTo>
                    <a:pt x="686" y="527"/>
                  </a:lnTo>
                  <a:lnTo>
                    <a:pt x="685" y="548"/>
                  </a:lnTo>
                  <a:lnTo>
                    <a:pt x="678" y="555"/>
                  </a:lnTo>
                  <a:lnTo>
                    <a:pt x="671" y="563"/>
                  </a:lnTo>
                  <a:lnTo>
                    <a:pt x="664" y="570"/>
                  </a:lnTo>
                  <a:lnTo>
                    <a:pt x="657" y="578"/>
                  </a:lnTo>
                  <a:lnTo>
                    <a:pt x="649" y="586"/>
                  </a:lnTo>
                  <a:lnTo>
                    <a:pt x="642" y="593"/>
                  </a:lnTo>
                  <a:lnTo>
                    <a:pt x="635" y="601"/>
                  </a:lnTo>
                  <a:lnTo>
                    <a:pt x="628" y="608"/>
                  </a:lnTo>
                  <a:lnTo>
                    <a:pt x="594" y="648"/>
                  </a:lnTo>
                  <a:lnTo>
                    <a:pt x="560" y="687"/>
                  </a:lnTo>
                  <a:lnTo>
                    <a:pt x="529" y="725"/>
                  </a:lnTo>
                  <a:lnTo>
                    <a:pt x="499" y="762"/>
                  </a:lnTo>
                  <a:lnTo>
                    <a:pt x="471" y="798"/>
                  </a:lnTo>
                  <a:lnTo>
                    <a:pt x="444" y="835"/>
                  </a:lnTo>
                  <a:lnTo>
                    <a:pt x="418" y="870"/>
                  </a:lnTo>
                  <a:lnTo>
                    <a:pt x="392" y="907"/>
                  </a:lnTo>
                  <a:lnTo>
                    <a:pt x="367" y="944"/>
                  </a:lnTo>
                  <a:lnTo>
                    <a:pt x="343" y="983"/>
                  </a:lnTo>
                  <a:lnTo>
                    <a:pt x="317" y="1023"/>
                  </a:lnTo>
                  <a:lnTo>
                    <a:pt x="293" y="1065"/>
                  </a:lnTo>
                  <a:lnTo>
                    <a:pt x="269" y="1109"/>
                  </a:lnTo>
                  <a:lnTo>
                    <a:pt x="244" y="1156"/>
                  </a:lnTo>
                  <a:lnTo>
                    <a:pt x="217" y="1204"/>
                  </a:lnTo>
                  <a:lnTo>
                    <a:pt x="191" y="1257"/>
                  </a:lnTo>
                  <a:lnTo>
                    <a:pt x="178" y="1285"/>
                  </a:lnTo>
                  <a:lnTo>
                    <a:pt x="164" y="1313"/>
                  </a:lnTo>
                  <a:lnTo>
                    <a:pt x="150" y="1343"/>
                  </a:lnTo>
                  <a:lnTo>
                    <a:pt x="138" y="1373"/>
                  </a:lnTo>
                  <a:lnTo>
                    <a:pt x="124" y="1405"/>
                  </a:lnTo>
                  <a:lnTo>
                    <a:pt x="111" y="1437"/>
                  </a:lnTo>
                  <a:lnTo>
                    <a:pt x="99" y="1471"/>
                  </a:lnTo>
                  <a:lnTo>
                    <a:pt x="86" y="1505"/>
                  </a:lnTo>
                  <a:lnTo>
                    <a:pt x="73" y="1541"/>
                  </a:lnTo>
                  <a:lnTo>
                    <a:pt x="62" y="1578"/>
                  </a:lnTo>
                  <a:lnTo>
                    <a:pt x="49" y="1615"/>
                  </a:lnTo>
                  <a:lnTo>
                    <a:pt x="39" y="1654"/>
                  </a:lnTo>
                  <a:lnTo>
                    <a:pt x="28" y="1693"/>
                  </a:lnTo>
                  <a:lnTo>
                    <a:pt x="18" y="1733"/>
                  </a:lnTo>
                  <a:lnTo>
                    <a:pt x="9" y="1774"/>
                  </a:lnTo>
                  <a:lnTo>
                    <a:pt x="0" y="1816"/>
                  </a:lnTo>
                  <a:lnTo>
                    <a:pt x="10" y="1793"/>
                  </a:lnTo>
                  <a:lnTo>
                    <a:pt x="21" y="1775"/>
                  </a:lnTo>
                  <a:lnTo>
                    <a:pt x="34" y="1760"/>
                  </a:lnTo>
                  <a:lnTo>
                    <a:pt x="47" y="1748"/>
                  </a:lnTo>
                  <a:lnTo>
                    <a:pt x="59" y="1739"/>
                  </a:lnTo>
                  <a:lnTo>
                    <a:pt x="73" y="1731"/>
                  </a:lnTo>
                  <a:lnTo>
                    <a:pt x="88" y="1723"/>
                  </a:lnTo>
                  <a:lnTo>
                    <a:pt x="103" y="1714"/>
                  </a:lnTo>
                  <a:lnTo>
                    <a:pt x="119" y="1703"/>
                  </a:lnTo>
                  <a:lnTo>
                    <a:pt x="135" y="1689"/>
                  </a:lnTo>
                  <a:lnTo>
                    <a:pt x="153" y="1672"/>
                  </a:lnTo>
                  <a:lnTo>
                    <a:pt x="170" y="1650"/>
                  </a:lnTo>
                  <a:lnTo>
                    <a:pt x="188" y="1623"/>
                  </a:lnTo>
                  <a:lnTo>
                    <a:pt x="208" y="1588"/>
                  </a:lnTo>
                  <a:lnTo>
                    <a:pt x="228" y="1545"/>
                  </a:lnTo>
                  <a:lnTo>
                    <a:pt x="248" y="1495"/>
                  </a:lnTo>
                  <a:lnTo>
                    <a:pt x="272" y="1452"/>
                  </a:lnTo>
                  <a:lnTo>
                    <a:pt x="295" y="1405"/>
                  </a:lnTo>
                  <a:lnTo>
                    <a:pt x="317" y="1355"/>
                  </a:lnTo>
                  <a:lnTo>
                    <a:pt x="339" y="1302"/>
                  </a:lnTo>
                  <a:lnTo>
                    <a:pt x="360" y="1248"/>
                  </a:lnTo>
                  <a:lnTo>
                    <a:pt x="381" y="1192"/>
                  </a:lnTo>
                  <a:lnTo>
                    <a:pt x="403" y="1134"/>
                  </a:lnTo>
                  <a:lnTo>
                    <a:pt x="424" y="1075"/>
                  </a:lnTo>
                  <a:lnTo>
                    <a:pt x="446" y="1017"/>
                  </a:lnTo>
                  <a:lnTo>
                    <a:pt x="469" y="959"/>
                  </a:lnTo>
                  <a:lnTo>
                    <a:pt x="494" y="903"/>
                  </a:lnTo>
                  <a:lnTo>
                    <a:pt x="519" y="848"/>
                  </a:lnTo>
                  <a:lnTo>
                    <a:pt x="547" y="795"/>
                  </a:lnTo>
                  <a:lnTo>
                    <a:pt x="574" y="746"/>
                  </a:lnTo>
                  <a:lnTo>
                    <a:pt x="605" y="699"/>
                  </a:lnTo>
                  <a:lnTo>
                    <a:pt x="637" y="656"/>
                  </a:lnTo>
                  <a:lnTo>
                    <a:pt x="644" y="646"/>
                  </a:lnTo>
                  <a:lnTo>
                    <a:pt x="652" y="635"/>
                  </a:lnTo>
                  <a:lnTo>
                    <a:pt x="659" y="625"/>
                  </a:lnTo>
                  <a:lnTo>
                    <a:pt x="667" y="613"/>
                  </a:lnTo>
                  <a:lnTo>
                    <a:pt x="675" y="603"/>
                  </a:lnTo>
                  <a:lnTo>
                    <a:pt x="682" y="593"/>
                  </a:lnTo>
                  <a:lnTo>
                    <a:pt x="690" y="582"/>
                  </a:lnTo>
                  <a:lnTo>
                    <a:pt x="697" y="572"/>
                  </a:lnTo>
                  <a:lnTo>
                    <a:pt x="701" y="552"/>
                  </a:lnTo>
                  <a:lnTo>
                    <a:pt x="704" y="532"/>
                  </a:lnTo>
                  <a:lnTo>
                    <a:pt x="707" y="512"/>
                  </a:lnTo>
                  <a:lnTo>
                    <a:pt x="710" y="492"/>
                  </a:lnTo>
                  <a:lnTo>
                    <a:pt x="705" y="460"/>
                  </a:lnTo>
                  <a:lnTo>
                    <a:pt x="700" y="428"/>
                  </a:lnTo>
                  <a:lnTo>
                    <a:pt x="695" y="397"/>
                  </a:lnTo>
                  <a:lnTo>
                    <a:pt x="690" y="366"/>
                  </a:lnTo>
                  <a:lnTo>
                    <a:pt x="694" y="338"/>
                  </a:lnTo>
                  <a:lnTo>
                    <a:pt x="697" y="310"/>
                  </a:lnTo>
                  <a:lnTo>
                    <a:pt x="701" y="283"/>
                  </a:lnTo>
                  <a:lnTo>
                    <a:pt x="705" y="255"/>
                  </a:lnTo>
                  <a:lnTo>
                    <a:pt x="711" y="235"/>
                  </a:lnTo>
                  <a:lnTo>
                    <a:pt x="718" y="215"/>
                  </a:lnTo>
                  <a:lnTo>
                    <a:pt x="724" y="195"/>
                  </a:lnTo>
                  <a:lnTo>
                    <a:pt x="731" y="176"/>
                  </a:lnTo>
                  <a:lnTo>
                    <a:pt x="735" y="154"/>
                  </a:lnTo>
                  <a:lnTo>
                    <a:pt x="741" y="132"/>
                  </a:lnTo>
                  <a:lnTo>
                    <a:pt x="746" y="110"/>
                  </a:lnTo>
                  <a:lnTo>
                    <a:pt x="751" y="88"/>
                  </a:lnTo>
                  <a:lnTo>
                    <a:pt x="756" y="66"/>
                  </a:lnTo>
                  <a:lnTo>
                    <a:pt x="761" y="45"/>
                  </a:lnTo>
                  <a:lnTo>
                    <a:pt x="766" y="23"/>
                  </a:lnTo>
                  <a:lnTo>
                    <a:pt x="771" y="2"/>
                  </a:lnTo>
                  <a:lnTo>
                    <a:pt x="769" y="0"/>
                  </a:lnTo>
                  <a:lnTo>
                    <a:pt x="765" y="3"/>
                  </a:lnTo>
                  <a:lnTo>
                    <a:pt x="760" y="9"/>
                  </a:lnTo>
                  <a:lnTo>
                    <a:pt x="753" y="17"/>
                  </a:lnTo>
                  <a:lnTo>
                    <a:pt x="745" y="28"/>
                  </a:lnTo>
                  <a:lnTo>
                    <a:pt x="735" y="42"/>
                  </a:lnTo>
                  <a:lnTo>
                    <a:pt x="726" y="57"/>
                  </a:lnTo>
                  <a:lnTo>
                    <a:pt x="717" y="73"/>
                  </a:lnTo>
                  <a:close/>
                </a:path>
              </a:pathLst>
            </a:custGeom>
            <a:solidFill>
              <a:srgbClr val="6d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87360" y="1162800"/>
              <a:ext cx="335520" cy="784440"/>
            </a:xfrm>
            <a:custGeom>
              <a:avLst/>
              <a:gdLst/>
              <a:ahLst/>
              <a:rect l="l" t="t" r="r" b="b"/>
              <a:pathLst>
                <a:path w="775" h="1816">
                  <a:moveTo>
                    <a:pt x="716" y="79"/>
                  </a:moveTo>
                  <a:lnTo>
                    <a:pt x="709" y="117"/>
                  </a:lnTo>
                  <a:lnTo>
                    <a:pt x="703" y="153"/>
                  </a:lnTo>
                  <a:lnTo>
                    <a:pt x="696" y="191"/>
                  </a:lnTo>
                  <a:lnTo>
                    <a:pt x="689" y="228"/>
                  </a:lnTo>
                  <a:lnTo>
                    <a:pt x="684" y="266"/>
                  </a:lnTo>
                  <a:lnTo>
                    <a:pt x="677" y="303"/>
                  </a:lnTo>
                  <a:lnTo>
                    <a:pt x="670" y="341"/>
                  </a:lnTo>
                  <a:lnTo>
                    <a:pt x="663" y="378"/>
                  </a:lnTo>
                  <a:lnTo>
                    <a:pt x="669" y="402"/>
                  </a:lnTo>
                  <a:lnTo>
                    <a:pt x="674" y="427"/>
                  </a:lnTo>
                  <a:lnTo>
                    <a:pt x="680" y="451"/>
                  </a:lnTo>
                  <a:lnTo>
                    <a:pt x="686" y="475"/>
                  </a:lnTo>
                  <a:lnTo>
                    <a:pt x="685" y="496"/>
                  </a:lnTo>
                  <a:lnTo>
                    <a:pt x="685" y="515"/>
                  </a:lnTo>
                  <a:lnTo>
                    <a:pt x="685" y="536"/>
                  </a:lnTo>
                  <a:lnTo>
                    <a:pt x="684" y="557"/>
                  </a:lnTo>
                  <a:lnTo>
                    <a:pt x="677" y="564"/>
                  </a:lnTo>
                  <a:lnTo>
                    <a:pt x="670" y="572"/>
                  </a:lnTo>
                  <a:lnTo>
                    <a:pt x="663" y="579"/>
                  </a:lnTo>
                  <a:lnTo>
                    <a:pt x="656" y="585"/>
                  </a:lnTo>
                  <a:lnTo>
                    <a:pt x="648" y="594"/>
                  </a:lnTo>
                  <a:lnTo>
                    <a:pt x="641" y="600"/>
                  </a:lnTo>
                  <a:lnTo>
                    <a:pt x="634" y="609"/>
                  </a:lnTo>
                  <a:lnTo>
                    <a:pt x="627" y="615"/>
                  </a:lnTo>
                  <a:lnTo>
                    <a:pt x="593" y="656"/>
                  </a:lnTo>
                  <a:lnTo>
                    <a:pt x="559" y="695"/>
                  </a:lnTo>
                  <a:lnTo>
                    <a:pt x="528" y="733"/>
                  </a:lnTo>
                  <a:lnTo>
                    <a:pt x="498" y="769"/>
                  </a:lnTo>
                  <a:lnTo>
                    <a:pt x="470" y="806"/>
                  </a:lnTo>
                  <a:lnTo>
                    <a:pt x="443" y="841"/>
                  </a:lnTo>
                  <a:lnTo>
                    <a:pt x="417" y="877"/>
                  </a:lnTo>
                  <a:lnTo>
                    <a:pt x="391" y="914"/>
                  </a:lnTo>
                  <a:lnTo>
                    <a:pt x="366" y="951"/>
                  </a:lnTo>
                  <a:lnTo>
                    <a:pt x="342" y="990"/>
                  </a:lnTo>
                  <a:lnTo>
                    <a:pt x="316" y="1030"/>
                  </a:lnTo>
                  <a:lnTo>
                    <a:pt x="292" y="1072"/>
                  </a:lnTo>
                  <a:lnTo>
                    <a:pt x="268" y="1117"/>
                  </a:lnTo>
                  <a:lnTo>
                    <a:pt x="243" y="1163"/>
                  </a:lnTo>
                  <a:lnTo>
                    <a:pt x="216" y="1213"/>
                  </a:lnTo>
                  <a:lnTo>
                    <a:pt x="190" y="1266"/>
                  </a:lnTo>
                  <a:lnTo>
                    <a:pt x="177" y="1293"/>
                  </a:lnTo>
                  <a:lnTo>
                    <a:pt x="163" y="1322"/>
                  </a:lnTo>
                  <a:lnTo>
                    <a:pt x="151" y="1350"/>
                  </a:lnTo>
                  <a:lnTo>
                    <a:pt x="137" y="1380"/>
                  </a:lnTo>
                  <a:lnTo>
                    <a:pt x="124" y="1410"/>
                  </a:lnTo>
                  <a:lnTo>
                    <a:pt x="111" y="1443"/>
                  </a:lnTo>
                  <a:lnTo>
                    <a:pt x="99" y="1475"/>
                  </a:lnTo>
                  <a:lnTo>
                    <a:pt x="86" y="1508"/>
                  </a:lnTo>
                  <a:lnTo>
                    <a:pt x="75" y="1543"/>
                  </a:lnTo>
                  <a:lnTo>
                    <a:pt x="63" y="1579"/>
                  </a:lnTo>
                  <a:lnTo>
                    <a:pt x="52" y="1615"/>
                  </a:lnTo>
                  <a:lnTo>
                    <a:pt x="40" y="1653"/>
                  </a:lnTo>
                  <a:lnTo>
                    <a:pt x="30" y="1693"/>
                  </a:lnTo>
                  <a:lnTo>
                    <a:pt x="19" y="1733"/>
                  </a:lnTo>
                  <a:lnTo>
                    <a:pt x="9" y="1773"/>
                  </a:lnTo>
                  <a:lnTo>
                    <a:pt x="0" y="1816"/>
                  </a:lnTo>
                  <a:lnTo>
                    <a:pt x="10" y="1791"/>
                  </a:lnTo>
                  <a:lnTo>
                    <a:pt x="20" y="1772"/>
                  </a:lnTo>
                  <a:lnTo>
                    <a:pt x="33" y="1757"/>
                  </a:lnTo>
                  <a:lnTo>
                    <a:pt x="45" y="1746"/>
                  </a:lnTo>
                  <a:lnTo>
                    <a:pt x="58" y="1736"/>
                  </a:lnTo>
                  <a:lnTo>
                    <a:pt x="72" y="1728"/>
                  </a:lnTo>
                  <a:lnTo>
                    <a:pt x="86" y="1720"/>
                  </a:lnTo>
                  <a:lnTo>
                    <a:pt x="102" y="1711"/>
                  </a:lnTo>
                  <a:lnTo>
                    <a:pt x="117" y="1701"/>
                  </a:lnTo>
                  <a:lnTo>
                    <a:pt x="134" y="1686"/>
                  </a:lnTo>
                  <a:lnTo>
                    <a:pt x="152" y="1667"/>
                  </a:lnTo>
                  <a:lnTo>
                    <a:pt x="170" y="1644"/>
                  </a:lnTo>
                  <a:lnTo>
                    <a:pt x="190" y="1613"/>
                  </a:lnTo>
                  <a:lnTo>
                    <a:pt x="209" y="1575"/>
                  </a:lnTo>
                  <a:lnTo>
                    <a:pt x="230" y="1528"/>
                  </a:lnTo>
                  <a:lnTo>
                    <a:pt x="252" y="1471"/>
                  </a:lnTo>
                  <a:lnTo>
                    <a:pt x="275" y="1430"/>
                  </a:lnTo>
                  <a:lnTo>
                    <a:pt x="298" y="1384"/>
                  </a:lnTo>
                  <a:lnTo>
                    <a:pt x="319" y="1335"/>
                  </a:lnTo>
                  <a:lnTo>
                    <a:pt x="339" y="1285"/>
                  </a:lnTo>
                  <a:lnTo>
                    <a:pt x="360" y="1232"/>
                  </a:lnTo>
                  <a:lnTo>
                    <a:pt x="380" y="1178"/>
                  </a:lnTo>
                  <a:lnTo>
                    <a:pt x="400" y="1124"/>
                  </a:lnTo>
                  <a:lnTo>
                    <a:pt x="421" y="1067"/>
                  </a:lnTo>
                  <a:lnTo>
                    <a:pt x="442" y="1012"/>
                  </a:lnTo>
                  <a:lnTo>
                    <a:pt x="465" y="956"/>
                  </a:lnTo>
                  <a:lnTo>
                    <a:pt x="488" y="902"/>
                  </a:lnTo>
                  <a:lnTo>
                    <a:pt x="513" y="849"/>
                  </a:lnTo>
                  <a:lnTo>
                    <a:pt x="539" y="799"/>
                  </a:lnTo>
                  <a:lnTo>
                    <a:pt x="567" y="750"/>
                  </a:lnTo>
                  <a:lnTo>
                    <a:pt x="597" y="704"/>
                  </a:lnTo>
                  <a:lnTo>
                    <a:pt x="631" y="662"/>
                  </a:lnTo>
                  <a:lnTo>
                    <a:pt x="639" y="651"/>
                  </a:lnTo>
                  <a:lnTo>
                    <a:pt x="647" y="641"/>
                  </a:lnTo>
                  <a:lnTo>
                    <a:pt x="655" y="630"/>
                  </a:lnTo>
                  <a:lnTo>
                    <a:pt x="663" y="620"/>
                  </a:lnTo>
                  <a:lnTo>
                    <a:pt x="670" y="611"/>
                  </a:lnTo>
                  <a:lnTo>
                    <a:pt x="678" y="600"/>
                  </a:lnTo>
                  <a:lnTo>
                    <a:pt x="686" y="590"/>
                  </a:lnTo>
                  <a:lnTo>
                    <a:pt x="694" y="580"/>
                  </a:lnTo>
                  <a:lnTo>
                    <a:pt x="696" y="560"/>
                  </a:lnTo>
                  <a:lnTo>
                    <a:pt x="700" y="539"/>
                  </a:lnTo>
                  <a:lnTo>
                    <a:pt x="703" y="520"/>
                  </a:lnTo>
                  <a:lnTo>
                    <a:pt x="706" y="500"/>
                  </a:lnTo>
                  <a:lnTo>
                    <a:pt x="701" y="468"/>
                  </a:lnTo>
                  <a:lnTo>
                    <a:pt x="698" y="436"/>
                  </a:lnTo>
                  <a:lnTo>
                    <a:pt x="693" y="403"/>
                  </a:lnTo>
                  <a:lnTo>
                    <a:pt x="688" y="371"/>
                  </a:lnTo>
                  <a:lnTo>
                    <a:pt x="692" y="344"/>
                  </a:lnTo>
                  <a:lnTo>
                    <a:pt x="695" y="316"/>
                  </a:lnTo>
                  <a:lnTo>
                    <a:pt x="699" y="289"/>
                  </a:lnTo>
                  <a:lnTo>
                    <a:pt x="702" y="262"/>
                  </a:lnTo>
                  <a:lnTo>
                    <a:pt x="709" y="241"/>
                  </a:lnTo>
                  <a:lnTo>
                    <a:pt x="716" y="220"/>
                  </a:lnTo>
                  <a:lnTo>
                    <a:pt x="723" y="200"/>
                  </a:lnTo>
                  <a:lnTo>
                    <a:pt x="730" y="179"/>
                  </a:lnTo>
                  <a:lnTo>
                    <a:pt x="736" y="157"/>
                  </a:lnTo>
                  <a:lnTo>
                    <a:pt x="740" y="135"/>
                  </a:lnTo>
                  <a:lnTo>
                    <a:pt x="746" y="113"/>
                  </a:lnTo>
                  <a:lnTo>
                    <a:pt x="752" y="90"/>
                  </a:lnTo>
                  <a:lnTo>
                    <a:pt x="757" y="68"/>
                  </a:lnTo>
                  <a:lnTo>
                    <a:pt x="763" y="46"/>
                  </a:lnTo>
                  <a:lnTo>
                    <a:pt x="769" y="24"/>
                  </a:lnTo>
                  <a:lnTo>
                    <a:pt x="775" y="3"/>
                  </a:lnTo>
                  <a:lnTo>
                    <a:pt x="773" y="0"/>
                  </a:lnTo>
                  <a:lnTo>
                    <a:pt x="769" y="3"/>
                  </a:lnTo>
                  <a:lnTo>
                    <a:pt x="763" y="8"/>
                  </a:lnTo>
                  <a:lnTo>
                    <a:pt x="755" y="18"/>
                  </a:lnTo>
                  <a:lnTo>
                    <a:pt x="746" y="30"/>
                  </a:lnTo>
                  <a:lnTo>
                    <a:pt x="737" y="44"/>
                  </a:lnTo>
                  <a:lnTo>
                    <a:pt x="726" y="60"/>
                  </a:lnTo>
                  <a:lnTo>
                    <a:pt x="716" y="79"/>
                  </a:lnTo>
                  <a:close/>
                </a:path>
              </a:pathLst>
            </a:custGeom>
            <a:solidFill>
              <a:srgbClr val="636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88440" y="1159200"/>
              <a:ext cx="336240" cy="784440"/>
            </a:xfrm>
            <a:custGeom>
              <a:avLst/>
              <a:gdLst/>
              <a:ahLst/>
              <a:rect l="l" t="t" r="r" b="b"/>
              <a:pathLst>
                <a:path w="777" h="1816">
                  <a:moveTo>
                    <a:pt x="715" y="83"/>
                  </a:moveTo>
                  <a:lnTo>
                    <a:pt x="708" y="121"/>
                  </a:lnTo>
                  <a:lnTo>
                    <a:pt x="702" y="159"/>
                  </a:lnTo>
                  <a:lnTo>
                    <a:pt x="695" y="197"/>
                  </a:lnTo>
                  <a:lnTo>
                    <a:pt x="688" y="235"/>
                  </a:lnTo>
                  <a:lnTo>
                    <a:pt x="683" y="273"/>
                  </a:lnTo>
                  <a:lnTo>
                    <a:pt x="676" y="311"/>
                  </a:lnTo>
                  <a:lnTo>
                    <a:pt x="669" y="348"/>
                  </a:lnTo>
                  <a:lnTo>
                    <a:pt x="662" y="386"/>
                  </a:lnTo>
                  <a:lnTo>
                    <a:pt x="668" y="410"/>
                  </a:lnTo>
                  <a:lnTo>
                    <a:pt x="673" y="435"/>
                  </a:lnTo>
                  <a:lnTo>
                    <a:pt x="679" y="460"/>
                  </a:lnTo>
                  <a:lnTo>
                    <a:pt x="684" y="484"/>
                  </a:lnTo>
                  <a:lnTo>
                    <a:pt x="684" y="504"/>
                  </a:lnTo>
                  <a:lnTo>
                    <a:pt x="684" y="524"/>
                  </a:lnTo>
                  <a:lnTo>
                    <a:pt x="684" y="544"/>
                  </a:lnTo>
                  <a:lnTo>
                    <a:pt x="683" y="565"/>
                  </a:lnTo>
                  <a:lnTo>
                    <a:pt x="676" y="572"/>
                  </a:lnTo>
                  <a:lnTo>
                    <a:pt x="669" y="579"/>
                  </a:lnTo>
                  <a:lnTo>
                    <a:pt x="662" y="585"/>
                  </a:lnTo>
                  <a:lnTo>
                    <a:pt x="655" y="592"/>
                  </a:lnTo>
                  <a:lnTo>
                    <a:pt x="647" y="600"/>
                  </a:lnTo>
                  <a:lnTo>
                    <a:pt x="640" y="607"/>
                  </a:lnTo>
                  <a:lnTo>
                    <a:pt x="633" y="614"/>
                  </a:lnTo>
                  <a:lnTo>
                    <a:pt x="626" y="621"/>
                  </a:lnTo>
                  <a:lnTo>
                    <a:pt x="592" y="661"/>
                  </a:lnTo>
                  <a:lnTo>
                    <a:pt x="558" y="701"/>
                  </a:lnTo>
                  <a:lnTo>
                    <a:pt x="527" y="739"/>
                  </a:lnTo>
                  <a:lnTo>
                    <a:pt x="497" y="774"/>
                  </a:lnTo>
                  <a:lnTo>
                    <a:pt x="469" y="811"/>
                  </a:lnTo>
                  <a:lnTo>
                    <a:pt x="442" y="847"/>
                  </a:lnTo>
                  <a:lnTo>
                    <a:pt x="416" y="883"/>
                  </a:lnTo>
                  <a:lnTo>
                    <a:pt x="390" y="918"/>
                  </a:lnTo>
                  <a:lnTo>
                    <a:pt x="365" y="956"/>
                  </a:lnTo>
                  <a:lnTo>
                    <a:pt x="341" y="994"/>
                  </a:lnTo>
                  <a:lnTo>
                    <a:pt x="317" y="1035"/>
                  </a:lnTo>
                  <a:lnTo>
                    <a:pt x="291" y="1077"/>
                  </a:lnTo>
                  <a:lnTo>
                    <a:pt x="267" y="1122"/>
                  </a:lnTo>
                  <a:lnTo>
                    <a:pt x="242" y="1170"/>
                  </a:lnTo>
                  <a:lnTo>
                    <a:pt x="215" y="1220"/>
                  </a:lnTo>
                  <a:lnTo>
                    <a:pt x="189" y="1274"/>
                  </a:lnTo>
                  <a:lnTo>
                    <a:pt x="176" y="1301"/>
                  </a:lnTo>
                  <a:lnTo>
                    <a:pt x="163" y="1329"/>
                  </a:lnTo>
                  <a:lnTo>
                    <a:pt x="150" y="1357"/>
                  </a:lnTo>
                  <a:lnTo>
                    <a:pt x="137" y="1386"/>
                  </a:lnTo>
                  <a:lnTo>
                    <a:pt x="124" y="1416"/>
                  </a:lnTo>
                  <a:lnTo>
                    <a:pt x="113" y="1447"/>
                  </a:lnTo>
                  <a:lnTo>
                    <a:pt x="100" y="1478"/>
                  </a:lnTo>
                  <a:lnTo>
                    <a:pt x="87" y="1512"/>
                  </a:lnTo>
                  <a:lnTo>
                    <a:pt x="76" y="1545"/>
                  </a:lnTo>
                  <a:lnTo>
                    <a:pt x="64" y="1580"/>
                  </a:lnTo>
                  <a:lnTo>
                    <a:pt x="53" y="1617"/>
                  </a:lnTo>
                  <a:lnTo>
                    <a:pt x="41" y="1653"/>
                  </a:lnTo>
                  <a:lnTo>
                    <a:pt x="31" y="1693"/>
                  </a:lnTo>
                  <a:lnTo>
                    <a:pt x="21" y="1732"/>
                  </a:lnTo>
                  <a:lnTo>
                    <a:pt x="10" y="1773"/>
                  </a:lnTo>
                  <a:lnTo>
                    <a:pt x="0" y="1816"/>
                  </a:lnTo>
                  <a:lnTo>
                    <a:pt x="10" y="1789"/>
                  </a:lnTo>
                  <a:lnTo>
                    <a:pt x="21" y="1769"/>
                  </a:lnTo>
                  <a:lnTo>
                    <a:pt x="32" y="1752"/>
                  </a:lnTo>
                  <a:lnTo>
                    <a:pt x="44" y="1741"/>
                  </a:lnTo>
                  <a:lnTo>
                    <a:pt x="56" y="1732"/>
                  </a:lnTo>
                  <a:lnTo>
                    <a:pt x="70" y="1725"/>
                  </a:lnTo>
                  <a:lnTo>
                    <a:pt x="85" y="1717"/>
                  </a:lnTo>
                  <a:lnTo>
                    <a:pt x="100" y="1708"/>
                  </a:lnTo>
                  <a:lnTo>
                    <a:pt x="116" y="1697"/>
                  </a:lnTo>
                  <a:lnTo>
                    <a:pt x="133" y="1682"/>
                  </a:lnTo>
                  <a:lnTo>
                    <a:pt x="152" y="1663"/>
                  </a:lnTo>
                  <a:lnTo>
                    <a:pt x="170" y="1636"/>
                  </a:lnTo>
                  <a:lnTo>
                    <a:pt x="191" y="1604"/>
                  </a:lnTo>
                  <a:lnTo>
                    <a:pt x="212" y="1561"/>
                  </a:lnTo>
                  <a:lnTo>
                    <a:pt x="232" y="1509"/>
                  </a:lnTo>
                  <a:lnTo>
                    <a:pt x="255" y="1447"/>
                  </a:lnTo>
                  <a:lnTo>
                    <a:pt x="279" y="1406"/>
                  </a:lnTo>
                  <a:lnTo>
                    <a:pt x="299" y="1362"/>
                  </a:lnTo>
                  <a:lnTo>
                    <a:pt x="320" y="1315"/>
                  </a:lnTo>
                  <a:lnTo>
                    <a:pt x="340" y="1266"/>
                  </a:lnTo>
                  <a:lnTo>
                    <a:pt x="359" y="1216"/>
                  </a:lnTo>
                  <a:lnTo>
                    <a:pt x="379" y="1164"/>
                  </a:lnTo>
                  <a:lnTo>
                    <a:pt x="398" y="1111"/>
                  </a:lnTo>
                  <a:lnTo>
                    <a:pt x="418" y="1058"/>
                  </a:lnTo>
                  <a:lnTo>
                    <a:pt x="439" y="1005"/>
                  </a:lnTo>
                  <a:lnTo>
                    <a:pt x="459" y="953"/>
                  </a:lnTo>
                  <a:lnTo>
                    <a:pt x="482" y="900"/>
                  </a:lnTo>
                  <a:lnTo>
                    <a:pt x="507" y="849"/>
                  </a:lnTo>
                  <a:lnTo>
                    <a:pt x="532" y="800"/>
                  </a:lnTo>
                  <a:lnTo>
                    <a:pt x="559" y="752"/>
                  </a:lnTo>
                  <a:lnTo>
                    <a:pt x="591" y="708"/>
                  </a:lnTo>
                  <a:lnTo>
                    <a:pt x="623" y="665"/>
                  </a:lnTo>
                  <a:lnTo>
                    <a:pt x="631" y="656"/>
                  </a:lnTo>
                  <a:lnTo>
                    <a:pt x="640" y="645"/>
                  </a:lnTo>
                  <a:lnTo>
                    <a:pt x="648" y="636"/>
                  </a:lnTo>
                  <a:lnTo>
                    <a:pt x="657" y="626"/>
                  </a:lnTo>
                  <a:lnTo>
                    <a:pt x="665" y="617"/>
                  </a:lnTo>
                  <a:lnTo>
                    <a:pt x="675" y="606"/>
                  </a:lnTo>
                  <a:lnTo>
                    <a:pt x="683" y="597"/>
                  </a:lnTo>
                  <a:lnTo>
                    <a:pt x="691" y="587"/>
                  </a:lnTo>
                  <a:lnTo>
                    <a:pt x="693" y="567"/>
                  </a:lnTo>
                  <a:lnTo>
                    <a:pt x="697" y="547"/>
                  </a:lnTo>
                  <a:lnTo>
                    <a:pt x="700" y="528"/>
                  </a:lnTo>
                  <a:lnTo>
                    <a:pt x="703" y="508"/>
                  </a:lnTo>
                  <a:lnTo>
                    <a:pt x="699" y="475"/>
                  </a:lnTo>
                  <a:lnTo>
                    <a:pt x="694" y="443"/>
                  </a:lnTo>
                  <a:lnTo>
                    <a:pt x="690" y="409"/>
                  </a:lnTo>
                  <a:lnTo>
                    <a:pt x="685" y="377"/>
                  </a:lnTo>
                  <a:lnTo>
                    <a:pt x="690" y="349"/>
                  </a:lnTo>
                  <a:lnTo>
                    <a:pt x="693" y="322"/>
                  </a:lnTo>
                  <a:lnTo>
                    <a:pt x="697" y="295"/>
                  </a:lnTo>
                  <a:lnTo>
                    <a:pt x="700" y="267"/>
                  </a:lnTo>
                  <a:lnTo>
                    <a:pt x="707" y="246"/>
                  </a:lnTo>
                  <a:lnTo>
                    <a:pt x="714" y="225"/>
                  </a:lnTo>
                  <a:lnTo>
                    <a:pt x="721" y="204"/>
                  </a:lnTo>
                  <a:lnTo>
                    <a:pt x="728" y="182"/>
                  </a:lnTo>
                  <a:lnTo>
                    <a:pt x="733" y="160"/>
                  </a:lnTo>
                  <a:lnTo>
                    <a:pt x="740" y="137"/>
                  </a:lnTo>
                  <a:lnTo>
                    <a:pt x="746" y="115"/>
                  </a:lnTo>
                  <a:lnTo>
                    <a:pt x="753" y="92"/>
                  </a:lnTo>
                  <a:lnTo>
                    <a:pt x="759" y="70"/>
                  </a:lnTo>
                  <a:lnTo>
                    <a:pt x="764" y="49"/>
                  </a:lnTo>
                  <a:lnTo>
                    <a:pt x="771" y="26"/>
                  </a:lnTo>
                  <a:lnTo>
                    <a:pt x="777" y="4"/>
                  </a:lnTo>
                  <a:lnTo>
                    <a:pt x="776" y="0"/>
                  </a:lnTo>
                  <a:lnTo>
                    <a:pt x="771" y="2"/>
                  </a:lnTo>
                  <a:lnTo>
                    <a:pt x="766" y="8"/>
                  </a:lnTo>
                  <a:lnTo>
                    <a:pt x="758" y="17"/>
                  </a:lnTo>
                  <a:lnTo>
                    <a:pt x="748" y="31"/>
                  </a:lnTo>
                  <a:lnTo>
                    <a:pt x="737" y="46"/>
                  </a:lnTo>
                  <a:lnTo>
                    <a:pt x="726" y="64"/>
                  </a:lnTo>
                  <a:lnTo>
                    <a:pt x="715" y="83"/>
                  </a:lnTo>
                  <a:close/>
                </a:path>
              </a:pathLst>
            </a:custGeom>
            <a:solidFill>
              <a:srgbClr val="596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89160" y="1155600"/>
              <a:ext cx="336240" cy="784440"/>
            </a:xfrm>
            <a:custGeom>
              <a:avLst/>
              <a:gdLst/>
              <a:ahLst/>
              <a:rect l="l" t="t" r="r" b="b"/>
              <a:pathLst>
                <a:path w="779" h="1816">
                  <a:moveTo>
                    <a:pt x="714" y="88"/>
                  </a:moveTo>
                  <a:lnTo>
                    <a:pt x="707" y="126"/>
                  </a:lnTo>
                  <a:lnTo>
                    <a:pt x="700" y="165"/>
                  </a:lnTo>
                  <a:lnTo>
                    <a:pt x="693" y="203"/>
                  </a:lnTo>
                  <a:lnTo>
                    <a:pt x="688" y="241"/>
                  </a:lnTo>
                  <a:lnTo>
                    <a:pt x="681" y="280"/>
                  </a:lnTo>
                  <a:lnTo>
                    <a:pt x="674" y="318"/>
                  </a:lnTo>
                  <a:lnTo>
                    <a:pt x="667" y="356"/>
                  </a:lnTo>
                  <a:lnTo>
                    <a:pt x="660" y="394"/>
                  </a:lnTo>
                  <a:lnTo>
                    <a:pt x="666" y="418"/>
                  </a:lnTo>
                  <a:lnTo>
                    <a:pt x="670" y="443"/>
                  </a:lnTo>
                  <a:lnTo>
                    <a:pt x="676" y="468"/>
                  </a:lnTo>
                  <a:lnTo>
                    <a:pt x="682" y="492"/>
                  </a:lnTo>
                  <a:lnTo>
                    <a:pt x="682" y="512"/>
                  </a:lnTo>
                  <a:lnTo>
                    <a:pt x="682" y="532"/>
                  </a:lnTo>
                  <a:lnTo>
                    <a:pt x="682" y="553"/>
                  </a:lnTo>
                  <a:lnTo>
                    <a:pt x="681" y="573"/>
                  </a:lnTo>
                  <a:lnTo>
                    <a:pt x="674" y="580"/>
                  </a:lnTo>
                  <a:lnTo>
                    <a:pt x="667" y="587"/>
                  </a:lnTo>
                  <a:lnTo>
                    <a:pt x="660" y="593"/>
                  </a:lnTo>
                  <a:lnTo>
                    <a:pt x="653" y="600"/>
                  </a:lnTo>
                  <a:lnTo>
                    <a:pt x="645" y="607"/>
                  </a:lnTo>
                  <a:lnTo>
                    <a:pt x="638" y="614"/>
                  </a:lnTo>
                  <a:lnTo>
                    <a:pt x="631" y="621"/>
                  </a:lnTo>
                  <a:lnTo>
                    <a:pt x="624" y="628"/>
                  </a:lnTo>
                  <a:lnTo>
                    <a:pt x="590" y="668"/>
                  </a:lnTo>
                  <a:lnTo>
                    <a:pt x="556" y="707"/>
                  </a:lnTo>
                  <a:lnTo>
                    <a:pt x="525" y="744"/>
                  </a:lnTo>
                  <a:lnTo>
                    <a:pt x="495" y="781"/>
                  </a:lnTo>
                  <a:lnTo>
                    <a:pt x="467" y="817"/>
                  </a:lnTo>
                  <a:lnTo>
                    <a:pt x="440" y="853"/>
                  </a:lnTo>
                  <a:lnTo>
                    <a:pt x="414" y="888"/>
                  </a:lnTo>
                  <a:lnTo>
                    <a:pt x="388" y="924"/>
                  </a:lnTo>
                  <a:lnTo>
                    <a:pt x="363" y="962"/>
                  </a:lnTo>
                  <a:lnTo>
                    <a:pt x="339" y="1000"/>
                  </a:lnTo>
                  <a:lnTo>
                    <a:pt x="315" y="1040"/>
                  </a:lnTo>
                  <a:lnTo>
                    <a:pt x="289" y="1083"/>
                  </a:lnTo>
                  <a:lnTo>
                    <a:pt x="265" y="1128"/>
                  </a:lnTo>
                  <a:lnTo>
                    <a:pt x="240" y="1176"/>
                  </a:lnTo>
                  <a:lnTo>
                    <a:pt x="213" y="1227"/>
                  </a:lnTo>
                  <a:lnTo>
                    <a:pt x="187" y="1282"/>
                  </a:lnTo>
                  <a:lnTo>
                    <a:pt x="174" y="1309"/>
                  </a:lnTo>
                  <a:lnTo>
                    <a:pt x="161" y="1337"/>
                  </a:lnTo>
                  <a:lnTo>
                    <a:pt x="149" y="1364"/>
                  </a:lnTo>
                  <a:lnTo>
                    <a:pt x="136" y="1393"/>
                  </a:lnTo>
                  <a:lnTo>
                    <a:pt x="125" y="1422"/>
                  </a:lnTo>
                  <a:lnTo>
                    <a:pt x="112" y="1452"/>
                  </a:lnTo>
                  <a:lnTo>
                    <a:pt x="100" y="1483"/>
                  </a:lnTo>
                  <a:lnTo>
                    <a:pt x="89" y="1514"/>
                  </a:lnTo>
                  <a:lnTo>
                    <a:pt x="76" y="1547"/>
                  </a:lnTo>
                  <a:lnTo>
                    <a:pt x="65" y="1581"/>
                  </a:lnTo>
                  <a:lnTo>
                    <a:pt x="54" y="1616"/>
                  </a:lnTo>
                  <a:lnTo>
                    <a:pt x="43" y="1653"/>
                  </a:lnTo>
                  <a:lnTo>
                    <a:pt x="31" y="1691"/>
                  </a:lnTo>
                  <a:lnTo>
                    <a:pt x="21" y="1732"/>
                  </a:lnTo>
                  <a:lnTo>
                    <a:pt x="11" y="1773"/>
                  </a:lnTo>
                  <a:lnTo>
                    <a:pt x="0" y="1816"/>
                  </a:lnTo>
                  <a:lnTo>
                    <a:pt x="9" y="1787"/>
                  </a:lnTo>
                  <a:lnTo>
                    <a:pt x="20" y="1765"/>
                  </a:lnTo>
                  <a:lnTo>
                    <a:pt x="30" y="1749"/>
                  </a:lnTo>
                  <a:lnTo>
                    <a:pt x="42" y="1737"/>
                  </a:lnTo>
                  <a:lnTo>
                    <a:pt x="54" y="1728"/>
                  </a:lnTo>
                  <a:lnTo>
                    <a:pt x="68" y="1720"/>
                  </a:lnTo>
                  <a:lnTo>
                    <a:pt x="82" y="1713"/>
                  </a:lnTo>
                  <a:lnTo>
                    <a:pt x="98" y="1704"/>
                  </a:lnTo>
                  <a:lnTo>
                    <a:pt x="114" y="1693"/>
                  </a:lnTo>
                  <a:lnTo>
                    <a:pt x="131" y="1678"/>
                  </a:lnTo>
                  <a:lnTo>
                    <a:pt x="150" y="1657"/>
                  </a:lnTo>
                  <a:lnTo>
                    <a:pt x="169" y="1629"/>
                  </a:lnTo>
                  <a:lnTo>
                    <a:pt x="190" y="1593"/>
                  </a:lnTo>
                  <a:lnTo>
                    <a:pt x="211" y="1547"/>
                  </a:lnTo>
                  <a:lnTo>
                    <a:pt x="234" y="1492"/>
                  </a:lnTo>
                  <a:lnTo>
                    <a:pt x="257" y="1423"/>
                  </a:lnTo>
                  <a:lnTo>
                    <a:pt x="279" y="1381"/>
                  </a:lnTo>
                  <a:lnTo>
                    <a:pt x="300" y="1339"/>
                  </a:lnTo>
                  <a:lnTo>
                    <a:pt x="319" y="1294"/>
                  </a:lnTo>
                  <a:lnTo>
                    <a:pt x="339" y="1247"/>
                  </a:lnTo>
                  <a:lnTo>
                    <a:pt x="357" y="1198"/>
                  </a:lnTo>
                  <a:lnTo>
                    <a:pt x="376" y="1149"/>
                  </a:lnTo>
                  <a:lnTo>
                    <a:pt x="394" y="1099"/>
                  </a:lnTo>
                  <a:lnTo>
                    <a:pt x="412" y="1048"/>
                  </a:lnTo>
                  <a:lnTo>
                    <a:pt x="432" y="998"/>
                  </a:lnTo>
                  <a:lnTo>
                    <a:pt x="453" y="948"/>
                  </a:lnTo>
                  <a:lnTo>
                    <a:pt x="475" y="899"/>
                  </a:lnTo>
                  <a:lnTo>
                    <a:pt x="499" y="849"/>
                  </a:lnTo>
                  <a:lnTo>
                    <a:pt x="524" y="802"/>
                  </a:lnTo>
                  <a:lnTo>
                    <a:pt x="552" y="756"/>
                  </a:lnTo>
                  <a:lnTo>
                    <a:pt x="582" y="712"/>
                  </a:lnTo>
                  <a:lnTo>
                    <a:pt x="615" y="669"/>
                  </a:lnTo>
                  <a:lnTo>
                    <a:pt x="624" y="660"/>
                  </a:lnTo>
                  <a:lnTo>
                    <a:pt x="633" y="651"/>
                  </a:lnTo>
                  <a:lnTo>
                    <a:pt x="642" y="642"/>
                  </a:lnTo>
                  <a:lnTo>
                    <a:pt x="651" y="631"/>
                  </a:lnTo>
                  <a:lnTo>
                    <a:pt x="660" y="622"/>
                  </a:lnTo>
                  <a:lnTo>
                    <a:pt x="668" y="613"/>
                  </a:lnTo>
                  <a:lnTo>
                    <a:pt x="677" y="604"/>
                  </a:lnTo>
                  <a:lnTo>
                    <a:pt x="686" y="595"/>
                  </a:lnTo>
                  <a:lnTo>
                    <a:pt x="689" y="575"/>
                  </a:lnTo>
                  <a:lnTo>
                    <a:pt x="692" y="554"/>
                  </a:lnTo>
                  <a:lnTo>
                    <a:pt x="695" y="535"/>
                  </a:lnTo>
                  <a:lnTo>
                    <a:pt x="698" y="515"/>
                  </a:lnTo>
                  <a:lnTo>
                    <a:pt x="693" y="482"/>
                  </a:lnTo>
                  <a:lnTo>
                    <a:pt x="690" y="448"/>
                  </a:lnTo>
                  <a:lnTo>
                    <a:pt x="686" y="416"/>
                  </a:lnTo>
                  <a:lnTo>
                    <a:pt x="682" y="383"/>
                  </a:lnTo>
                  <a:lnTo>
                    <a:pt x="685" y="355"/>
                  </a:lnTo>
                  <a:lnTo>
                    <a:pt x="690" y="327"/>
                  </a:lnTo>
                  <a:lnTo>
                    <a:pt x="693" y="301"/>
                  </a:lnTo>
                  <a:lnTo>
                    <a:pt x="697" y="273"/>
                  </a:lnTo>
                  <a:lnTo>
                    <a:pt x="704" y="251"/>
                  </a:lnTo>
                  <a:lnTo>
                    <a:pt x="711" y="229"/>
                  </a:lnTo>
                  <a:lnTo>
                    <a:pt x="718" y="207"/>
                  </a:lnTo>
                  <a:lnTo>
                    <a:pt x="726" y="186"/>
                  </a:lnTo>
                  <a:lnTo>
                    <a:pt x="733" y="163"/>
                  </a:lnTo>
                  <a:lnTo>
                    <a:pt x="738" y="140"/>
                  </a:lnTo>
                  <a:lnTo>
                    <a:pt x="745" y="118"/>
                  </a:lnTo>
                  <a:lnTo>
                    <a:pt x="752" y="95"/>
                  </a:lnTo>
                  <a:lnTo>
                    <a:pt x="759" y="72"/>
                  </a:lnTo>
                  <a:lnTo>
                    <a:pt x="766" y="50"/>
                  </a:lnTo>
                  <a:lnTo>
                    <a:pt x="772" y="27"/>
                  </a:lnTo>
                  <a:lnTo>
                    <a:pt x="779" y="4"/>
                  </a:lnTo>
                  <a:lnTo>
                    <a:pt x="777" y="0"/>
                  </a:lnTo>
                  <a:lnTo>
                    <a:pt x="774" y="1"/>
                  </a:lnTo>
                  <a:lnTo>
                    <a:pt x="767" y="7"/>
                  </a:lnTo>
                  <a:lnTo>
                    <a:pt x="759" y="17"/>
                  </a:lnTo>
                  <a:lnTo>
                    <a:pt x="749" y="31"/>
                  </a:lnTo>
                  <a:lnTo>
                    <a:pt x="737" y="47"/>
                  </a:lnTo>
                  <a:lnTo>
                    <a:pt x="726" y="67"/>
                  </a:lnTo>
                  <a:lnTo>
                    <a:pt x="714" y="88"/>
                  </a:lnTo>
                  <a:close/>
                </a:path>
              </a:pathLst>
            </a:custGeom>
            <a:solidFill>
              <a:srgbClr val="515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90240" y="1152360"/>
              <a:ext cx="338040" cy="784440"/>
            </a:xfrm>
            <a:custGeom>
              <a:avLst/>
              <a:gdLst/>
              <a:ahLst/>
              <a:rect l="l" t="t" r="r" b="b"/>
              <a:pathLst>
                <a:path w="782" h="1815">
                  <a:moveTo>
                    <a:pt x="713" y="93"/>
                  </a:moveTo>
                  <a:lnTo>
                    <a:pt x="659" y="402"/>
                  </a:lnTo>
                  <a:lnTo>
                    <a:pt x="680" y="501"/>
                  </a:lnTo>
                  <a:lnTo>
                    <a:pt x="680" y="581"/>
                  </a:lnTo>
                  <a:lnTo>
                    <a:pt x="623" y="634"/>
                  </a:lnTo>
                  <a:lnTo>
                    <a:pt x="589" y="675"/>
                  </a:lnTo>
                  <a:lnTo>
                    <a:pt x="555" y="713"/>
                  </a:lnTo>
                  <a:lnTo>
                    <a:pt x="524" y="751"/>
                  </a:lnTo>
                  <a:lnTo>
                    <a:pt x="494" y="788"/>
                  </a:lnTo>
                  <a:lnTo>
                    <a:pt x="467" y="824"/>
                  </a:lnTo>
                  <a:lnTo>
                    <a:pt x="439" y="858"/>
                  </a:lnTo>
                  <a:lnTo>
                    <a:pt x="413" y="894"/>
                  </a:lnTo>
                  <a:lnTo>
                    <a:pt x="387" y="930"/>
                  </a:lnTo>
                  <a:lnTo>
                    <a:pt x="363" y="968"/>
                  </a:lnTo>
                  <a:lnTo>
                    <a:pt x="338" y="1006"/>
                  </a:lnTo>
                  <a:lnTo>
                    <a:pt x="314" y="1046"/>
                  </a:lnTo>
                  <a:lnTo>
                    <a:pt x="289" y="1089"/>
                  </a:lnTo>
                  <a:lnTo>
                    <a:pt x="264" y="1134"/>
                  </a:lnTo>
                  <a:lnTo>
                    <a:pt x="239" y="1182"/>
                  </a:lnTo>
                  <a:lnTo>
                    <a:pt x="213" y="1234"/>
                  </a:lnTo>
                  <a:lnTo>
                    <a:pt x="186" y="1289"/>
                  </a:lnTo>
                  <a:lnTo>
                    <a:pt x="173" y="1316"/>
                  </a:lnTo>
                  <a:lnTo>
                    <a:pt x="160" y="1342"/>
                  </a:lnTo>
                  <a:lnTo>
                    <a:pt x="148" y="1370"/>
                  </a:lnTo>
                  <a:lnTo>
                    <a:pt x="136" y="1398"/>
                  </a:lnTo>
                  <a:lnTo>
                    <a:pt x="124" y="1426"/>
                  </a:lnTo>
                  <a:lnTo>
                    <a:pt x="112" y="1455"/>
                  </a:lnTo>
                  <a:lnTo>
                    <a:pt x="101" y="1485"/>
                  </a:lnTo>
                  <a:lnTo>
                    <a:pt x="89" y="1516"/>
                  </a:lnTo>
                  <a:lnTo>
                    <a:pt x="77" y="1548"/>
                  </a:lnTo>
                  <a:lnTo>
                    <a:pt x="66" y="1582"/>
                  </a:lnTo>
                  <a:lnTo>
                    <a:pt x="54" y="1616"/>
                  </a:lnTo>
                  <a:lnTo>
                    <a:pt x="44" y="1652"/>
                  </a:lnTo>
                  <a:lnTo>
                    <a:pt x="33" y="1690"/>
                  </a:lnTo>
                  <a:lnTo>
                    <a:pt x="22" y="1729"/>
                  </a:lnTo>
                  <a:lnTo>
                    <a:pt x="11" y="1771"/>
                  </a:lnTo>
                  <a:lnTo>
                    <a:pt x="0" y="1815"/>
                  </a:lnTo>
                  <a:lnTo>
                    <a:pt x="10" y="1783"/>
                  </a:lnTo>
                  <a:lnTo>
                    <a:pt x="19" y="1760"/>
                  </a:lnTo>
                  <a:lnTo>
                    <a:pt x="29" y="1744"/>
                  </a:lnTo>
                  <a:lnTo>
                    <a:pt x="41" y="1732"/>
                  </a:lnTo>
                  <a:lnTo>
                    <a:pt x="53" y="1724"/>
                  </a:lnTo>
                  <a:lnTo>
                    <a:pt x="67" y="1715"/>
                  </a:lnTo>
                  <a:lnTo>
                    <a:pt x="81" y="1709"/>
                  </a:lnTo>
                  <a:lnTo>
                    <a:pt x="97" y="1699"/>
                  </a:lnTo>
                  <a:lnTo>
                    <a:pt x="113" y="1688"/>
                  </a:lnTo>
                  <a:lnTo>
                    <a:pt x="132" y="1673"/>
                  </a:lnTo>
                  <a:lnTo>
                    <a:pt x="150" y="1651"/>
                  </a:lnTo>
                  <a:lnTo>
                    <a:pt x="170" y="1621"/>
                  </a:lnTo>
                  <a:lnTo>
                    <a:pt x="190" y="1583"/>
                  </a:lnTo>
                  <a:lnTo>
                    <a:pt x="213" y="1533"/>
                  </a:lnTo>
                  <a:lnTo>
                    <a:pt x="236" y="1474"/>
                  </a:lnTo>
                  <a:lnTo>
                    <a:pt x="261" y="1399"/>
                  </a:lnTo>
                  <a:lnTo>
                    <a:pt x="282" y="1358"/>
                  </a:lnTo>
                  <a:lnTo>
                    <a:pt x="302" y="1317"/>
                  </a:lnTo>
                  <a:lnTo>
                    <a:pt x="322" y="1273"/>
                  </a:lnTo>
                  <a:lnTo>
                    <a:pt x="339" y="1228"/>
                  </a:lnTo>
                  <a:lnTo>
                    <a:pt x="356" y="1182"/>
                  </a:lnTo>
                  <a:lnTo>
                    <a:pt x="375" y="1135"/>
                  </a:lnTo>
                  <a:lnTo>
                    <a:pt x="392" y="1088"/>
                  </a:lnTo>
                  <a:lnTo>
                    <a:pt x="409" y="1040"/>
                  </a:lnTo>
                  <a:lnTo>
                    <a:pt x="428" y="992"/>
                  </a:lnTo>
                  <a:lnTo>
                    <a:pt x="448" y="945"/>
                  </a:lnTo>
                  <a:lnTo>
                    <a:pt x="469" y="898"/>
                  </a:lnTo>
                  <a:lnTo>
                    <a:pt x="492" y="850"/>
                  </a:lnTo>
                  <a:lnTo>
                    <a:pt x="517" y="804"/>
                  </a:lnTo>
                  <a:lnTo>
                    <a:pt x="545" y="759"/>
                  </a:lnTo>
                  <a:lnTo>
                    <a:pt x="575" y="717"/>
                  </a:lnTo>
                  <a:lnTo>
                    <a:pt x="608" y="674"/>
                  </a:lnTo>
                  <a:lnTo>
                    <a:pt x="683" y="601"/>
                  </a:lnTo>
                  <a:lnTo>
                    <a:pt x="694" y="522"/>
                  </a:lnTo>
                  <a:lnTo>
                    <a:pt x="680" y="387"/>
                  </a:lnTo>
                  <a:lnTo>
                    <a:pt x="695" y="280"/>
                  </a:lnTo>
                  <a:lnTo>
                    <a:pt x="725" y="188"/>
                  </a:lnTo>
                  <a:lnTo>
                    <a:pt x="782" y="5"/>
                  </a:lnTo>
                  <a:lnTo>
                    <a:pt x="781" y="0"/>
                  </a:lnTo>
                  <a:lnTo>
                    <a:pt x="778" y="0"/>
                  </a:lnTo>
                  <a:lnTo>
                    <a:pt x="771" y="7"/>
                  </a:lnTo>
                  <a:lnTo>
                    <a:pt x="761" y="17"/>
                  </a:lnTo>
                  <a:lnTo>
                    <a:pt x="751" y="31"/>
                  </a:lnTo>
                  <a:lnTo>
                    <a:pt x="738" y="50"/>
                  </a:lnTo>
                  <a:lnTo>
                    <a:pt x="726" y="70"/>
                  </a:lnTo>
                  <a:lnTo>
                    <a:pt x="713" y="93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03440" y="1108080"/>
              <a:ext cx="347760" cy="212760"/>
            </a:xfrm>
            <a:custGeom>
              <a:avLst/>
              <a:gdLst/>
              <a:ahLst/>
              <a:rect l="l" t="t" r="r" b="b"/>
              <a:pathLst>
                <a:path w="802" h="492">
                  <a:moveTo>
                    <a:pt x="0" y="348"/>
                  </a:moveTo>
                  <a:lnTo>
                    <a:pt x="9" y="366"/>
                  </a:lnTo>
                  <a:lnTo>
                    <a:pt x="20" y="384"/>
                  </a:lnTo>
                  <a:lnTo>
                    <a:pt x="33" y="401"/>
                  </a:lnTo>
                  <a:lnTo>
                    <a:pt x="48" y="417"/>
                  </a:lnTo>
                  <a:lnTo>
                    <a:pt x="65" y="431"/>
                  </a:lnTo>
                  <a:lnTo>
                    <a:pt x="84" y="444"/>
                  </a:lnTo>
                  <a:lnTo>
                    <a:pt x="105" y="456"/>
                  </a:lnTo>
                  <a:lnTo>
                    <a:pt x="128" y="466"/>
                  </a:lnTo>
                  <a:lnTo>
                    <a:pt x="152" y="474"/>
                  </a:lnTo>
                  <a:lnTo>
                    <a:pt x="177" y="481"/>
                  </a:lnTo>
                  <a:lnTo>
                    <a:pt x="205" y="487"/>
                  </a:lnTo>
                  <a:lnTo>
                    <a:pt x="233" y="490"/>
                  </a:lnTo>
                  <a:lnTo>
                    <a:pt x="263" y="492"/>
                  </a:lnTo>
                  <a:lnTo>
                    <a:pt x="296" y="492"/>
                  </a:lnTo>
                  <a:lnTo>
                    <a:pt x="328" y="488"/>
                  </a:lnTo>
                  <a:lnTo>
                    <a:pt x="362" y="484"/>
                  </a:lnTo>
                  <a:lnTo>
                    <a:pt x="428" y="443"/>
                  </a:lnTo>
                  <a:lnTo>
                    <a:pt x="467" y="428"/>
                  </a:lnTo>
                  <a:lnTo>
                    <a:pt x="539" y="428"/>
                  </a:lnTo>
                  <a:lnTo>
                    <a:pt x="557" y="432"/>
                  </a:lnTo>
                  <a:lnTo>
                    <a:pt x="580" y="435"/>
                  </a:lnTo>
                  <a:lnTo>
                    <a:pt x="604" y="436"/>
                  </a:lnTo>
                  <a:lnTo>
                    <a:pt x="631" y="436"/>
                  </a:lnTo>
                  <a:lnTo>
                    <a:pt x="658" y="435"/>
                  </a:lnTo>
                  <a:lnTo>
                    <a:pt x="685" y="432"/>
                  </a:lnTo>
                  <a:lnTo>
                    <a:pt x="711" y="427"/>
                  </a:lnTo>
                  <a:lnTo>
                    <a:pt x="736" y="419"/>
                  </a:lnTo>
                  <a:lnTo>
                    <a:pt x="757" y="410"/>
                  </a:lnTo>
                  <a:lnTo>
                    <a:pt x="776" y="398"/>
                  </a:lnTo>
                  <a:lnTo>
                    <a:pt x="790" y="384"/>
                  </a:lnTo>
                  <a:lnTo>
                    <a:pt x="799" y="367"/>
                  </a:lnTo>
                  <a:lnTo>
                    <a:pt x="802" y="346"/>
                  </a:lnTo>
                  <a:lnTo>
                    <a:pt x="799" y="323"/>
                  </a:lnTo>
                  <a:lnTo>
                    <a:pt x="787" y="296"/>
                  </a:lnTo>
                  <a:lnTo>
                    <a:pt x="768" y="266"/>
                  </a:lnTo>
                  <a:lnTo>
                    <a:pt x="342" y="2"/>
                  </a:lnTo>
                  <a:lnTo>
                    <a:pt x="304" y="1"/>
                  </a:lnTo>
                  <a:lnTo>
                    <a:pt x="270" y="0"/>
                  </a:lnTo>
                  <a:lnTo>
                    <a:pt x="239" y="0"/>
                  </a:lnTo>
                  <a:lnTo>
                    <a:pt x="213" y="0"/>
                  </a:lnTo>
                  <a:lnTo>
                    <a:pt x="189" y="1"/>
                  </a:lnTo>
                  <a:lnTo>
                    <a:pt x="167" y="4"/>
                  </a:lnTo>
                  <a:lnTo>
                    <a:pt x="147" y="9"/>
                  </a:lnTo>
                  <a:lnTo>
                    <a:pt x="130" y="16"/>
                  </a:lnTo>
                  <a:lnTo>
                    <a:pt x="114" y="25"/>
                  </a:lnTo>
                  <a:lnTo>
                    <a:pt x="99" y="37"/>
                  </a:lnTo>
                  <a:lnTo>
                    <a:pt x="85" y="53"/>
                  </a:lnTo>
                  <a:lnTo>
                    <a:pt x="72" y="71"/>
                  </a:lnTo>
                  <a:lnTo>
                    <a:pt x="60" y="93"/>
                  </a:lnTo>
                  <a:lnTo>
                    <a:pt x="47" y="119"/>
                  </a:lnTo>
                  <a:lnTo>
                    <a:pt x="33" y="149"/>
                  </a:lnTo>
                  <a:lnTo>
                    <a:pt x="19" y="185"/>
                  </a:lnTo>
                  <a:lnTo>
                    <a:pt x="10" y="215"/>
                  </a:lnTo>
                  <a:lnTo>
                    <a:pt x="6" y="252"/>
                  </a:lnTo>
                  <a:lnTo>
                    <a:pt x="6" y="291"/>
                  </a:lnTo>
                  <a:lnTo>
                    <a:pt x="7" y="328"/>
                  </a:lnTo>
                  <a:lnTo>
                    <a:pt x="8" y="357"/>
                  </a:lnTo>
                  <a:lnTo>
                    <a:pt x="8" y="373"/>
                  </a:lnTo>
                  <a:lnTo>
                    <a:pt x="6" y="372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4c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929360" y="1294920"/>
              <a:ext cx="141480" cy="124560"/>
            </a:xfrm>
            <a:custGeom>
              <a:avLst/>
              <a:gdLst/>
              <a:ahLst/>
              <a:rect l="l" t="t" r="r" b="b"/>
              <a:pathLst>
                <a:path w="327" h="287">
                  <a:moveTo>
                    <a:pt x="0" y="0"/>
                  </a:moveTo>
                  <a:lnTo>
                    <a:pt x="0" y="230"/>
                  </a:lnTo>
                  <a:lnTo>
                    <a:pt x="19" y="242"/>
                  </a:lnTo>
                  <a:lnTo>
                    <a:pt x="39" y="251"/>
                  </a:lnTo>
                  <a:lnTo>
                    <a:pt x="57" y="260"/>
                  </a:lnTo>
                  <a:lnTo>
                    <a:pt x="77" y="267"/>
                  </a:lnTo>
                  <a:lnTo>
                    <a:pt x="96" y="273"/>
                  </a:lnTo>
                  <a:lnTo>
                    <a:pt x="115" y="279"/>
                  </a:lnTo>
                  <a:lnTo>
                    <a:pt x="134" y="282"/>
                  </a:lnTo>
                  <a:lnTo>
                    <a:pt x="155" y="284"/>
                  </a:lnTo>
                  <a:lnTo>
                    <a:pt x="175" y="287"/>
                  </a:lnTo>
                  <a:lnTo>
                    <a:pt x="195" y="287"/>
                  </a:lnTo>
                  <a:lnTo>
                    <a:pt x="216" y="287"/>
                  </a:lnTo>
                  <a:lnTo>
                    <a:pt x="237" y="286"/>
                  </a:lnTo>
                  <a:lnTo>
                    <a:pt x="259" y="283"/>
                  </a:lnTo>
                  <a:lnTo>
                    <a:pt x="281" y="280"/>
                  </a:lnTo>
                  <a:lnTo>
                    <a:pt x="304" y="275"/>
                  </a:lnTo>
                  <a:lnTo>
                    <a:pt x="327" y="269"/>
                  </a:lnTo>
                  <a:lnTo>
                    <a:pt x="322" y="175"/>
                  </a:lnTo>
                  <a:lnTo>
                    <a:pt x="317" y="36"/>
                  </a:lnTo>
                  <a:lnTo>
                    <a:pt x="298" y="40"/>
                  </a:lnTo>
                  <a:lnTo>
                    <a:pt x="278" y="45"/>
                  </a:lnTo>
                  <a:lnTo>
                    <a:pt x="258" y="47"/>
                  </a:lnTo>
                  <a:lnTo>
                    <a:pt x="237" y="49"/>
                  </a:lnTo>
                  <a:lnTo>
                    <a:pt x="217" y="49"/>
                  </a:lnTo>
                  <a:lnTo>
                    <a:pt x="197" y="49"/>
                  </a:lnTo>
                  <a:lnTo>
                    <a:pt x="176" y="48"/>
                  </a:lnTo>
                  <a:lnTo>
                    <a:pt x="156" y="46"/>
                  </a:lnTo>
                  <a:lnTo>
                    <a:pt x="135" y="42"/>
                  </a:lnTo>
                  <a:lnTo>
                    <a:pt x="116" y="39"/>
                  </a:lnTo>
                  <a:lnTo>
                    <a:pt x="95" y="34"/>
                  </a:lnTo>
                  <a:lnTo>
                    <a:pt x="76" y="29"/>
                  </a:lnTo>
                  <a:lnTo>
                    <a:pt x="56" y="23"/>
                  </a:lnTo>
                  <a:lnTo>
                    <a:pt x="38" y="16"/>
                  </a:lnTo>
                  <a:lnTo>
                    <a:pt x="18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72640" y="1288080"/>
              <a:ext cx="143280" cy="128880"/>
            </a:xfrm>
            <a:custGeom>
              <a:avLst/>
              <a:gdLst/>
              <a:ahLst/>
              <a:rect l="l" t="t" r="r" b="b"/>
              <a:pathLst>
                <a:path w="332" h="297">
                  <a:moveTo>
                    <a:pt x="103" y="0"/>
                  </a:moveTo>
                  <a:lnTo>
                    <a:pt x="88" y="25"/>
                  </a:lnTo>
                  <a:lnTo>
                    <a:pt x="76" y="48"/>
                  </a:lnTo>
                  <a:lnTo>
                    <a:pt x="67" y="71"/>
                  </a:lnTo>
                  <a:lnTo>
                    <a:pt x="60" y="94"/>
                  </a:lnTo>
                  <a:lnTo>
                    <a:pt x="54" y="117"/>
                  </a:lnTo>
                  <a:lnTo>
                    <a:pt x="51" y="141"/>
                  </a:lnTo>
                  <a:lnTo>
                    <a:pt x="49" y="168"/>
                  </a:lnTo>
                  <a:lnTo>
                    <a:pt x="46" y="197"/>
                  </a:lnTo>
                  <a:lnTo>
                    <a:pt x="0" y="297"/>
                  </a:lnTo>
                  <a:lnTo>
                    <a:pt x="99" y="270"/>
                  </a:lnTo>
                  <a:lnTo>
                    <a:pt x="122" y="269"/>
                  </a:lnTo>
                  <a:lnTo>
                    <a:pt x="143" y="269"/>
                  </a:lnTo>
                  <a:lnTo>
                    <a:pt x="163" y="268"/>
                  </a:lnTo>
                  <a:lnTo>
                    <a:pt x="181" y="266"/>
                  </a:lnTo>
                  <a:lnTo>
                    <a:pt x="199" y="264"/>
                  </a:lnTo>
                  <a:lnTo>
                    <a:pt x="218" y="259"/>
                  </a:lnTo>
                  <a:lnTo>
                    <a:pt x="237" y="253"/>
                  </a:lnTo>
                  <a:lnTo>
                    <a:pt x="258" y="244"/>
                  </a:lnTo>
                  <a:lnTo>
                    <a:pt x="294" y="125"/>
                  </a:lnTo>
                  <a:lnTo>
                    <a:pt x="332" y="11"/>
                  </a:lnTo>
                  <a:lnTo>
                    <a:pt x="316" y="15"/>
                  </a:lnTo>
                  <a:lnTo>
                    <a:pt x="301" y="18"/>
                  </a:lnTo>
                  <a:lnTo>
                    <a:pt x="286" y="19"/>
                  </a:lnTo>
                  <a:lnTo>
                    <a:pt x="271" y="20"/>
                  </a:lnTo>
                  <a:lnTo>
                    <a:pt x="257" y="20"/>
                  </a:lnTo>
                  <a:lnTo>
                    <a:pt x="243" y="19"/>
                  </a:lnTo>
                  <a:lnTo>
                    <a:pt x="231" y="18"/>
                  </a:lnTo>
                  <a:lnTo>
                    <a:pt x="217" y="17"/>
                  </a:lnTo>
                  <a:lnTo>
                    <a:pt x="204" y="15"/>
                  </a:lnTo>
                  <a:lnTo>
                    <a:pt x="190" y="12"/>
                  </a:lnTo>
                  <a:lnTo>
                    <a:pt x="176" y="10"/>
                  </a:lnTo>
                  <a:lnTo>
                    <a:pt x="163" y="8"/>
                  </a:lnTo>
                  <a:lnTo>
                    <a:pt x="149" y="5"/>
                  </a:lnTo>
                  <a:lnTo>
                    <a:pt x="134" y="3"/>
                  </a:lnTo>
                  <a:lnTo>
                    <a:pt x="119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076240" y="1288080"/>
              <a:ext cx="138240" cy="127800"/>
            </a:xfrm>
            <a:custGeom>
              <a:avLst/>
              <a:gdLst/>
              <a:ahLst/>
              <a:rect l="l" t="t" r="r" b="b"/>
              <a:pathLst>
                <a:path w="320" h="295">
                  <a:moveTo>
                    <a:pt x="103" y="0"/>
                  </a:moveTo>
                  <a:lnTo>
                    <a:pt x="88" y="25"/>
                  </a:lnTo>
                  <a:lnTo>
                    <a:pt x="76" y="48"/>
                  </a:lnTo>
                  <a:lnTo>
                    <a:pt x="67" y="70"/>
                  </a:lnTo>
                  <a:lnTo>
                    <a:pt x="61" y="91"/>
                  </a:lnTo>
                  <a:lnTo>
                    <a:pt x="57" y="113"/>
                  </a:lnTo>
                  <a:lnTo>
                    <a:pt x="53" y="136"/>
                  </a:lnTo>
                  <a:lnTo>
                    <a:pt x="50" y="161"/>
                  </a:lnTo>
                  <a:lnTo>
                    <a:pt x="48" y="190"/>
                  </a:lnTo>
                  <a:lnTo>
                    <a:pt x="42" y="204"/>
                  </a:lnTo>
                  <a:lnTo>
                    <a:pt x="36" y="216"/>
                  </a:lnTo>
                  <a:lnTo>
                    <a:pt x="30" y="230"/>
                  </a:lnTo>
                  <a:lnTo>
                    <a:pt x="24" y="243"/>
                  </a:lnTo>
                  <a:lnTo>
                    <a:pt x="18" y="255"/>
                  </a:lnTo>
                  <a:lnTo>
                    <a:pt x="12" y="268"/>
                  </a:lnTo>
                  <a:lnTo>
                    <a:pt x="6" y="282"/>
                  </a:lnTo>
                  <a:lnTo>
                    <a:pt x="0" y="295"/>
                  </a:lnTo>
                  <a:lnTo>
                    <a:pt x="12" y="291"/>
                  </a:lnTo>
                  <a:lnTo>
                    <a:pt x="23" y="289"/>
                  </a:lnTo>
                  <a:lnTo>
                    <a:pt x="35" y="285"/>
                  </a:lnTo>
                  <a:lnTo>
                    <a:pt x="46" y="283"/>
                  </a:lnTo>
                  <a:lnTo>
                    <a:pt x="58" y="280"/>
                  </a:lnTo>
                  <a:lnTo>
                    <a:pt x="68" y="277"/>
                  </a:lnTo>
                  <a:lnTo>
                    <a:pt x="80" y="274"/>
                  </a:lnTo>
                  <a:lnTo>
                    <a:pt x="91" y="272"/>
                  </a:lnTo>
                  <a:lnTo>
                    <a:pt x="114" y="270"/>
                  </a:lnTo>
                  <a:lnTo>
                    <a:pt x="134" y="269"/>
                  </a:lnTo>
                  <a:lnTo>
                    <a:pt x="151" y="268"/>
                  </a:lnTo>
                  <a:lnTo>
                    <a:pt x="167" y="267"/>
                  </a:lnTo>
                  <a:lnTo>
                    <a:pt x="185" y="265"/>
                  </a:lnTo>
                  <a:lnTo>
                    <a:pt x="201" y="261"/>
                  </a:lnTo>
                  <a:lnTo>
                    <a:pt x="219" y="254"/>
                  </a:lnTo>
                  <a:lnTo>
                    <a:pt x="240" y="246"/>
                  </a:lnTo>
                  <a:lnTo>
                    <a:pt x="244" y="231"/>
                  </a:lnTo>
                  <a:lnTo>
                    <a:pt x="249" y="215"/>
                  </a:lnTo>
                  <a:lnTo>
                    <a:pt x="254" y="200"/>
                  </a:lnTo>
                  <a:lnTo>
                    <a:pt x="259" y="185"/>
                  </a:lnTo>
                  <a:lnTo>
                    <a:pt x="264" y="169"/>
                  </a:lnTo>
                  <a:lnTo>
                    <a:pt x="269" y="154"/>
                  </a:lnTo>
                  <a:lnTo>
                    <a:pt x="273" y="139"/>
                  </a:lnTo>
                  <a:lnTo>
                    <a:pt x="278" y="124"/>
                  </a:lnTo>
                  <a:lnTo>
                    <a:pt x="284" y="110"/>
                  </a:lnTo>
                  <a:lnTo>
                    <a:pt x="288" y="96"/>
                  </a:lnTo>
                  <a:lnTo>
                    <a:pt x="294" y="83"/>
                  </a:lnTo>
                  <a:lnTo>
                    <a:pt x="299" y="68"/>
                  </a:lnTo>
                  <a:lnTo>
                    <a:pt x="304" y="54"/>
                  </a:lnTo>
                  <a:lnTo>
                    <a:pt x="309" y="39"/>
                  </a:lnTo>
                  <a:lnTo>
                    <a:pt x="315" y="25"/>
                  </a:lnTo>
                  <a:lnTo>
                    <a:pt x="320" y="10"/>
                  </a:lnTo>
                  <a:lnTo>
                    <a:pt x="304" y="14"/>
                  </a:lnTo>
                  <a:lnTo>
                    <a:pt x="289" y="17"/>
                  </a:lnTo>
                  <a:lnTo>
                    <a:pt x="274" y="18"/>
                  </a:lnTo>
                  <a:lnTo>
                    <a:pt x="261" y="19"/>
                  </a:lnTo>
                  <a:lnTo>
                    <a:pt x="248" y="19"/>
                  </a:lnTo>
                  <a:lnTo>
                    <a:pt x="234" y="19"/>
                  </a:lnTo>
                  <a:lnTo>
                    <a:pt x="221" y="18"/>
                  </a:lnTo>
                  <a:lnTo>
                    <a:pt x="209" y="17"/>
                  </a:lnTo>
                  <a:lnTo>
                    <a:pt x="196" y="15"/>
                  </a:lnTo>
                  <a:lnTo>
                    <a:pt x="185" y="12"/>
                  </a:lnTo>
                  <a:lnTo>
                    <a:pt x="172" y="10"/>
                  </a:lnTo>
                  <a:lnTo>
                    <a:pt x="158" y="8"/>
                  </a:lnTo>
                  <a:lnTo>
                    <a:pt x="145" y="5"/>
                  </a:lnTo>
                  <a:lnTo>
                    <a:pt x="132" y="3"/>
                  </a:lnTo>
                  <a:lnTo>
                    <a:pt x="118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a5a0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79840" y="1288800"/>
              <a:ext cx="133200" cy="126000"/>
            </a:xfrm>
            <a:custGeom>
              <a:avLst/>
              <a:gdLst/>
              <a:ahLst/>
              <a:rect l="l" t="t" r="r" b="b"/>
              <a:pathLst>
                <a:path w="309" h="291">
                  <a:moveTo>
                    <a:pt x="103" y="0"/>
                  </a:moveTo>
                  <a:lnTo>
                    <a:pt x="88" y="24"/>
                  </a:lnTo>
                  <a:lnTo>
                    <a:pt x="76" y="47"/>
                  </a:lnTo>
                  <a:lnTo>
                    <a:pt x="67" y="68"/>
                  </a:lnTo>
                  <a:lnTo>
                    <a:pt x="61" y="87"/>
                  </a:lnTo>
                  <a:lnTo>
                    <a:pt x="56" y="108"/>
                  </a:lnTo>
                  <a:lnTo>
                    <a:pt x="52" y="130"/>
                  </a:lnTo>
                  <a:lnTo>
                    <a:pt x="50" y="155"/>
                  </a:lnTo>
                  <a:lnTo>
                    <a:pt x="48" y="183"/>
                  </a:lnTo>
                  <a:lnTo>
                    <a:pt x="42" y="197"/>
                  </a:lnTo>
                  <a:lnTo>
                    <a:pt x="36" y="210"/>
                  </a:lnTo>
                  <a:lnTo>
                    <a:pt x="29" y="223"/>
                  </a:lnTo>
                  <a:lnTo>
                    <a:pt x="23" y="237"/>
                  </a:lnTo>
                  <a:lnTo>
                    <a:pt x="18" y="251"/>
                  </a:lnTo>
                  <a:lnTo>
                    <a:pt x="12" y="265"/>
                  </a:lnTo>
                  <a:lnTo>
                    <a:pt x="6" y="278"/>
                  </a:lnTo>
                  <a:lnTo>
                    <a:pt x="0" y="291"/>
                  </a:lnTo>
                  <a:lnTo>
                    <a:pt x="11" y="289"/>
                  </a:lnTo>
                  <a:lnTo>
                    <a:pt x="21" y="286"/>
                  </a:lnTo>
                  <a:lnTo>
                    <a:pt x="31" y="283"/>
                  </a:lnTo>
                  <a:lnTo>
                    <a:pt x="42" y="281"/>
                  </a:lnTo>
                  <a:lnTo>
                    <a:pt x="52" y="279"/>
                  </a:lnTo>
                  <a:lnTo>
                    <a:pt x="63" y="275"/>
                  </a:lnTo>
                  <a:lnTo>
                    <a:pt x="73" y="273"/>
                  </a:lnTo>
                  <a:lnTo>
                    <a:pt x="83" y="271"/>
                  </a:lnTo>
                  <a:lnTo>
                    <a:pt x="105" y="269"/>
                  </a:lnTo>
                  <a:lnTo>
                    <a:pt x="124" y="268"/>
                  </a:lnTo>
                  <a:lnTo>
                    <a:pt x="140" y="268"/>
                  </a:lnTo>
                  <a:lnTo>
                    <a:pt x="155" y="267"/>
                  </a:lnTo>
                  <a:lnTo>
                    <a:pt x="168" y="265"/>
                  </a:lnTo>
                  <a:lnTo>
                    <a:pt x="185" y="261"/>
                  </a:lnTo>
                  <a:lnTo>
                    <a:pt x="201" y="256"/>
                  </a:lnTo>
                  <a:lnTo>
                    <a:pt x="221" y="246"/>
                  </a:lnTo>
                  <a:lnTo>
                    <a:pt x="227" y="231"/>
                  </a:lnTo>
                  <a:lnTo>
                    <a:pt x="232" y="215"/>
                  </a:lnTo>
                  <a:lnTo>
                    <a:pt x="238" y="200"/>
                  </a:lnTo>
                  <a:lnTo>
                    <a:pt x="242" y="184"/>
                  </a:lnTo>
                  <a:lnTo>
                    <a:pt x="248" y="169"/>
                  </a:lnTo>
                  <a:lnTo>
                    <a:pt x="253" y="153"/>
                  </a:lnTo>
                  <a:lnTo>
                    <a:pt x="258" y="138"/>
                  </a:lnTo>
                  <a:lnTo>
                    <a:pt x="263" y="123"/>
                  </a:lnTo>
                  <a:lnTo>
                    <a:pt x="269" y="109"/>
                  </a:lnTo>
                  <a:lnTo>
                    <a:pt x="274" y="94"/>
                  </a:lnTo>
                  <a:lnTo>
                    <a:pt x="280" y="81"/>
                  </a:lnTo>
                  <a:lnTo>
                    <a:pt x="286" y="66"/>
                  </a:lnTo>
                  <a:lnTo>
                    <a:pt x="292" y="52"/>
                  </a:lnTo>
                  <a:lnTo>
                    <a:pt x="297" y="37"/>
                  </a:lnTo>
                  <a:lnTo>
                    <a:pt x="303" y="23"/>
                  </a:lnTo>
                  <a:lnTo>
                    <a:pt x="309" y="8"/>
                  </a:lnTo>
                  <a:lnTo>
                    <a:pt x="293" y="11"/>
                  </a:lnTo>
                  <a:lnTo>
                    <a:pt x="278" y="15"/>
                  </a:lnTo>
                  <a:lnTo>
                    <a:pt x="264" y="16"/>
                  </a:lnTo>
                  <a:lnTo>
                    <a:pt x="250" y="17"/>
                  </a:lnTo>
                  <a:lnTo>
                    <a:pt x="238" y="17"/>
                  </a:lnTo>
                  <a:lnTo>
                    <a:pt x="225" y="17"/>
                  </a:lnTo>
                  <a:lnTo>
                    <a:pt x="213" y="16"/>
                  </a:lnTo>
                  <a:lnTo>
                    <a:pt x="202" y="15"/>
                  </a:lnTo>
                  <a:lnTo>
                    <a:pt x="190" y="14"/>
                  </a:lnTo>
                  <a:lnTo>
                    <a:pt x="179" y="11"/>
                  </a:lnTo>
                  <a:lnTo>
                    <a:pt x="166" y="9"/>
                  </a:lnTo>
                  <a:lnTo>
                    <a:pt x="155" y="7"/>
                  </a:lnTo>
                  <a:lnTo>
                    <a:pt x="143" y="6"/>
                  </a:lnTo>
                  <a:lnTo>
                    <a:pt x="130" y="3"/>
                  </a:lnTo>
                  <a:lnTo>
                    <a:pt x="117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9b9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83080" y="1289880"/>
              <a:ext cx="128520" cy="124560"/>
            </a:xfrm>
            <a:custGeom>
              <a:avLst/>
              <a:gdLst/>
              <a:ahLst/>
              <a:rect l="l" t="t" r="r" b="b"/>
              <a:pathLst>
                <a:path w="298" h="288">
                  <a:moveTo>
                    <a:pt x="104" y="0"/>
                  </a:moveTo>
                  <a:lnTo>
                    <a:pt x="89" y="24"/>
                  </a:lnTo>
                  <a:lnTo>
                    <a:pt x="77" y="46"/>
                  </a:lnTo>
                  <a:lnTo>
                    <a:pt x="69" y="65"/>
                  </a:lnTo>
                  <a:lnTo>
                    <a:pt x="62" y="84"/>
                  </a:lnTo>
                  <a:lnTo>
                    <a:pt x="58" y="103"/>
                  </a:lnTo>
                  <a:lnTo>
                    <a:pt x="54" y="123"/>
                  </a:lnTo>
                  <a:lnTo>
                    <a:pt x="52" y="147"/>
                  </a:lnTo>
                  <a:lnTo>
                    <a:pt x="50" y="175"/>
                  </a:lnTo>
                  <a:lnTo>
                    <a:pt x="44" y="189"/>
                  </a:lnTo>
                  <a:lnTo>
                    <a:pt x="37" y="204"/>
                  </a:lnTo>
                  <a:lnTo>
                    <a:pt x="31" y="218"/>
                  </a:lnTo>
                  <a:lnTo>
                    <a:pt x="26" y="232"/>
                  </a:lnTo>
                  <a:lnTo>
                    <a:pt x="19" y="245"/>
                  </a:lnTo>
                  <a:lnTo>
                    <a:pt x="13" y="259"/>
                  </a:lnTo>
                  <a:lnTo>
                    <a:pt x="6" y="274"/>
                  </a:lnTo>
                  <a:lnTo>
                    <a:pt x="0" y="288"/>
                  </a:lnTo>
                  <a:lnTo>
                    <a:pt x="9" y="286"/>
                  </a:lnTo>
                  <a:lnTo>
                    <a:pt x="20" y="283"/>
                  </a:lnTo>
                  <a:lnTo>
                    <a:pt x="29" y="281"/>
                  </a:lnTo>
                  <a:lnTo>
                    <a:pt x="38" y="279"/>
                  </a:lnTo>
                  <a:lnTo>
                    <a:pt x="47" y="277"/>
                  </a:lnTo>
                  <a:lnTo>
                    <a:pt x="58" y="274"/>
                  </a:lnTo>
                  <a:lnTo>
                    <a:pt x="67" y="272"/>
                  </a:lnTo>
                  <a:lnTo>
                    <a:pt x="76" y="270"/>
                  </a:lnTo>
                  <a:lnTo>
                    <a:pt x="98" y="268"/>
                  </a:lnTo>
                  <a:lnTo>
                    <a:pt x="115" y="268"/>
                  </a:lnTo>
                  <a:lnTo>
                    <a:pt x="129" y="268"/>
                  </a:lnTo>
                  <a:lnTo>
                    <a:pt x="142" y="267"/>
                  </a:lnTo>
                  <a:lnTo>
                    <a:pt x="155" y="266"/>
                  </a:lnTo>
                  <a:lnTo>
                    <a:pt x="168" y="263"/>
                  </a:lnTo>
                  <a:lnTo>
                    <a:pt x="184" y="257"/>
                  </a:lnTo>
                  <a:lnTo>
                    <a:pt x="204" y="248"/>
                  </a:lnTo>
                  <a:lnTo>
                    <a:pt x="210" y="232"/>
                  </a:lnTo>
                  <a:lnTo>
                    <a:pt x="216" y="215"/>
                  </a:lnTo>
                  <a:lnTo>
                    <a:pt x="221" y="199"/>
                  </a:lnTo>
                  <a:lnTo>
                    <a:pt x="227" y="184"/>
                  </a:lnTo>
                  <a:lnTo>
                    <a:pt x="232" y="168"/>
                  </a:lnTo>
                  <a:lnTo>
                    <a:pt x="237" y="153"/>
                  </a:lnTo>
                  <a:lnTo>
                    <a:pt x="243" y="137"/>
                  </a:lnTo>
                  <a:lnTo>
                    <a:pt x="249" y="122"/>
                  </a:lnTo>
                  <a:lnTo>
                    <a:pt x="256" y="107"/>
                  </a:lnTo>
                  <a:lnTo>
                    <a:pt x="262" y="93"/>
                  </a:lnTo>
                  <a:lnTo>
                    <a:pt x="267" y="78"/>
                  </a:lnTo>
                  <a:lnTo>
                    <a:pt x="274" y="63"/>
                  </a:lnTo>
                  <a:lnTo>
                    <a:pt x="280" y="50"/>
                  </a:lnTo>
                  <a:lnTo>
                    <a:pt x="286" y="35"/>
                  </a:lnTo>
                  <a:lnTo>
                    <a:pt x="292" y="21"/>
                  </a:lnTo>
                  <a:lnTo>
                    <a:pt x="298" y="6"/>
                  </a:lnTo>
                  <a:lnTo>
                    <a:pt x="282" y="9"/>
                  </a:lnTo>
                  <a:lnTo>
                    <a:pt x="269" y="13"/>
                  </a:lnTo>
                  <a:lnTo>
                    <a:pt x="255" y="14"/>
                  </a:lnTo>
                  <a:lnTo>
                    <a:pt x="242" y="15"/>
                  </a:lnTo>
                  <a:lnTo>
                    <a:pt x="229" y="16"/>
                  </a:lnTo>
                  <a:lnTo>
                    <a:pt x="218" y="16"/>
                  </a:lnTo>
                  <a:lnTo>
                    <a:pt x="206" y="15"/>
                  </a:lnTo>
                  <a:lnTo>
                    <a:pt x="195" y="14"/>
                  </a:lnTo>
                  <a:lnTo>
                    <a:pt x="184" y="13"/>
                  </a:lnTo>
                  <a:lnTo>
                    <a:pt x="174" y="10"/>
                  </a:lnTo>
                  <a:lnTo>
                    <a:pt x="163" y="9"/>
                  </a:lnTo>
                  <a:lnTo>
                    <a:pt x="152" y="7"/>
                  </a:lnTo>
                  <a:lnTo>
                    <a:pt x="141" y="5"/>
                  </a:lnTo>
                  <a:lnTo>
                    <a:pt x="129" y="3"/>
                  </a:lnTo>
                  <a:lnTo>
                    <a:pt x="117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8e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086680" y="1289880"/>
              <a:ext cx="124200" cy="122760"/>
            </a:xfrm>
            <a:custGeom>
              <a:avLst/>
              <a:gdLst/>
              <a:ahLst/>
              <a:rect l="l" t="t" r="r" b="b"/>
              <a:pathLst>
                <a:path w="288" h="285">
                  <a:moveTo>
                    <a:pt x="104" y="0"/>
                  </a:moveTo>
                  <a:lnTo>
                    <a:pt x="89" y="24"/>
                  </a:lnTo>
                  <a:lnTo>
                    <a:pt x="77" y="44"/>
                  </a:lnTo>
                  <a:lnTo>
                    <a:pt x="69" y="62"/>
                  </a:lnTo>
                  <a:lnTo>
                    <a:pt x="63" y="80"/>
                  </a:lnTo>
                  <a:lnTo>
                    <a:pt x="58" y="97"/>
                  </a:lnTo>
                  <a:lnTo>
                    <a:pt x="54" y="117"/>
                  </a:lnTo>
                  <a:lnTo>
                    <a:pt x="52" y="140"/>
                  </a:lnTo>
                  <a:lnTo>
                    <a:pt x="50" y="167"/>
                  </a:lnTo>
                  <a:lnTo>
                    <a:pt x="44" y="182"/>
                  </a:lnTo>
                  <a:lnTo>
                    <a:pt x="37" y="196"/>
                  </a:lnTo>
                  <a:lnTo>
                    <a:pt x="31" y="211"/>
                  </a:lnTo>
                  <a:lnTo>
                    <a:pt x="26" y="226"/>
                  </a:lnTo>
                  <a:lnTo>
                    <a:pt x="19" y="241"/>
                  </a:lnTo>
                  <a:lnTo>
                    <a:pt x="13" y="255"/>
                  </a:lnTo>
                  <a:lnTo>
                    <a:pt x="6" y="270"/>
                  </a:lnTo>
                  <a:lnTo>
                    <a:pt x="0" y="285"/>
                  </a:lnTo>
                  <a:lnTo>
                    <a:pt x="8" y="282"/>
                  </a:lnTo>
                  <a:lnTo>
                    <a:pt x="16" y="280"/>
                  </a:lnTo>
                  <a:lnTo>
                    <a:pt x="26" y="279"/>
                  </a:lnTo>
                  <a:lnTo>
                    <a:pt x="34" y="277"/>
                  </a:lnTo>
                  <a:lnTo>
                    <a:pt x="43" y="276"/>
                  </a:lnTo>
                  <a:lnTo>
                    <a:pt x="51" y="273"/>
                  </a:lnTo>
                  <a:lnTo>
                    <a:pt x="60" y="272"/>
                  </a:lnTo>
                  <a:lnTo>
                    <a:pt x="68" y="270"/>
                  </a:lnTo>
                  <a:lnTo>
                    <a:pt x="89" y="269"/>
                  </a:lnTo>
                  <a:lnTo>
                    <a:pt x="106" y="269"/>
                  </a:lnTo>
                  <a:lnTo>
                    <a:pt x="119" y="269"/>
                  </a:lnTo>
                  <a:lnTo>
                    <a:pt x="129" y="267"/>
                  </a:lnTo>
                  <a:lnTo>
                    <a:pt x="141" y="266"/>
                  </a:lnTo>
                  <a:lnTo>
                    <a:pt x="152" y="263"/>
                  </a:lnTo>
                  <a:lnTo>
                    <a:pt x="167" y="257"/>
                  </a:lnTo>
                  <a:lnTo>
                    <a:pt x="186" y="249"/>
                  </a:lnTo>
                  <a:lnTo>
                    <a:pt x="191" y="232"/>
                  </a:lnTo>
                  <a:lnTo>
                    <a:pt x="197" y="216"/>
                  </a:lnTo>
                  <a:lnTo>
                    <a:pt x="203" y="199"/>
                  </a:lnTo>
                  <a:lnTo>
                    <a:pt x="210" y="182"/>
                  </a:lnTo>
                  <a:lnTo>
                    <a:pt x="216" y="166"/>
                  </a:lnTo>
                  <a:lnTo>
                    <a:pt x="221" y="150"/>
                  </a:lnTo>
                  <a:lnTo>
                    <a:pt x="227" y="135"/>
                  </a:lnTo>
                  <a:lnTo>
                    <a:pt x="233" y="119"/>
                  </a:lnTo>
                  <a:lnTo>
                    <a:pt x="240" y="105"/>
                  </a:lnTo>
                  <a:lnTo>
                    <a:pt x="247" y="90"/>
                  </a:lnTo>
                  <a:lnTo>
                    <a:pt x="254" y="76"/>
                  </a:lnTo>
                  <a:lnTo>
                    <a:pt x="261" y="61"/>
                  </a:lnTo>
                  <a:lnTo>
                    <a:pt x="267" y="47"/>
                  </a:lnTo>
                  <a:lnTo>
                    <a:pt x="274" y="32"/>
                  </a:lnTo>
                  <a:lnTo>
                    <a:pt x="281" y="19"/>
                  </a:lnTo>
                  <a:lnTo>
                    <a:pt x="288" y="4"/>
                  </a:lnTo>
                  <a:lnTo>
                    <a:pt x="272" y="7"/>
                  </a:lnTo>
                  <a:lnTo>
                    <a:pt x="258" y="11"/>
                  </a:lnTo>
                  <a:lnTo>
                    <a:pt x="244" y="13"/>
                  </a:lnTo>
                  <a:lnTo>
                    <a:pt x="232" y="14"/>
                  </a:lnTo>
                  <a:lnTo>
                    <a:pt x="219" y="14"/>
                  </a:lnTo>
                  <a:lnTo>
                    <a:pt x="209" y="14"/>
                  </a:lnTo>
                  <a:lnTo>
                    <a:pt x="197" y="14"/>
                  </a:lnTo>
                  <a:lnTo>
                    <a:pt x="188" y="13"/>
                  </a:lnTo>
                  <a:lnTo>
                    <a:pt x="178" y="12"/>
                  </a:lnTo>
                  <a:lnTo>
                    <a:pt x="167" y="11"/>
                  </a:lnTo>
                  <a:lnTo>
                    <a:pt x="158" y="8"/>
                  </a:lnTo>
                  <a:lnTo>
                    <a:pt x="148" y="7"/>
                  </a:lnTo>
                  <a:lnTo>
                    <a:pt x="137" y="5"/>
                  </a:lnTo>
                  <a:lnTo>
                    <a:pt x="127" y="4"/>
                  </a:lnTo>
                  <a:lnTo>
                    <a:pt x="115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827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89920" y="1290600"/>
              <a:ext cx="119160" cy="120960"/>
            </a:xfrm>
            <a:custGeom>
              <a:avLst/>
              <a:gdLst/>
              <a:ahLst/>
              <a:rect l="l" t="t" r="r" b="b"/>
              <a:pathLst>
                <a:path w="277" h="281">
                  <a:moveTo>
                    <a:pt x="104" y="0"/>
                  </a:moveTo>
                  <a:lnTo>
                    <a:pt x="89" y="23"/>
                  </a:lnTo>
                  <a:lnTo>
                    <a:pt x="78" y="43"/>
                  </a:lnTo>
                  <a:lnTo>
                    <a:pt x="69" y="60"/>
                  </a:lnTo>
                  <a:lnTo>
                    <a:pt x="64" y="76"/>
                  </a:lnTo>
                  <a:lnTo>
                    <a:pt x="59" y="92"/>
                  </a:lnTo>
                  <a:lnTo>
                    <a:pt x="56" y="111"/>
                  </a:lnTo>
                  <a:lnTo>
                    <a:pt x="53" y="133"/>
                  </a:lnTo>
                  <a:lnTo>
                    <a:pt x="51" y="160"/>
                  </a:lnTo>
                  <a:lnTo>
                    <a:pt x="44" y="175"/>
                  </a:lnTo>
                  <a:lnTo>
                    <a:pt x="38" y="190"/>
                  </a:lnTo>
                  <a:lnTo>
                    <a:pt x="31" y="205"/>
                  </a:lnTo>
                  <a:lnTo>
                    <a:pt x="26" y="220"/>
                  </a:lnTo>
                  <a:lnTo>
                    <a:pt x="19" y="236"/>
                  </a:lnTo>
                  <a:lnTo>
                    <a:pt x="13" y="251"/>
                  </a:lnTo>
                  <a:lnTo>
                    <a:pt x="6" y="266"/>
                  </a:lnTo>
                  <a:lnTo>
                    <a:pt x="0" y="281"/>
                  </a:lnTo>
                  <a:lnTo>
                    <a:pt x="7" y="280"/>
                  </a:lnTo>
                  <a:lnTo>
                    <a:pt x="15" y="278"/>
                  </a:lnTo>
                  <a:lnTo>
                    <a:pt x="22" y="277"/>
                  </a:lnTo>
                  <a:lnTo>
                    <a:pt x="30" y="275"/>
                  </a:lnTo>
                  <a:lnTo>
                    <a:pt x="37" y="273"/>
                  </a:lnTo>
                  <a:lnTo>
                    <a:pt x="45" y="271"/>
                  </a:lnTo>
                  <a:lnTo>
                    <a:pt x="52" y="270"/>
                  </a:lnTo>
                  <a:lnTo>
                    <a:pt x="60" y="269"/>
                  </a:lnTo>
                  <a:lnTo>
                    <a:pt x="81" y="268"/>
                  </a:lnTo>
                  <a:lnTo>
                    <a:pt x="96" y="268"/>
                  </a:lnTo>
                  <a:lnTo>
                    <a:pt x="107" y="268"/>
                  </a:lnTo>
                  <a:lnTo>
                    <a:pt x="116" y="268"/>
                  </a:lnTo>
                  <a:lnTo>
                    <a:pt x="125" y="266"/>
                  </a:lnTo>
                  <a:lnTo>
                    <a:pt x="135" y="263"/>
                  </a:lnTo>
                  <a:lnTo>
                    <a:pt x="149" y="257"/>
                  </a:lnTo>
                  <a:lnTo>
                    <a:pt x="167" y="249"/>
                  </a:lnTo>
                  <a:lnTo>
                    <a:pt x="174" y="232"/>
                  </a:lnTo>
                  <a:lnTo>
                    <a:pt x="180" y="216"/>
                  </a:lnTo>
                  <a:lnTo>
                    <a:pt x="187" y="198"/>
                  </a:lnTo>
                  <a:lnTo>
                    <a:pt x="193" y="182"/>
                  </a:lnTo>
                  <a:lnTo>
                    <a:pt x="198" y="165"/>
                  </a:lnTo>
                  <a:lnTo>
                    <a:pt x="205" y="149"/>
                  </a:lnTo>
                  <a:lnTo>
                    <a:pt x="211" y="133"/>
                  </a:lnTo>
                  <a:lnTo>
                    <a:pt x="218" y="117"/>
                  </a:lnTo>
                  <a:lnTo>
                    <a:pt x="226" y="103"/>
                  </a:lnTo>
                  <a:lnTo>
                    <a:pt x="233" y="88"/>
                  </a:lnTo>
                  <a:lnTo>
                    <a:pt x="241" y="74"/>
                  </a:lnTo>
                  <a:lnTo>
                    <a:pt x="248" y="59"/>
                  </a:lnTo>
                  <a:lnTo>
                    <a:pt x="256" y="45"/>
                  </a:lnTo>
                  <a:lnTo>
                    <a:pt x="263" y="31"/>
                  </a:lnTo>
                  <a:lnTo>
                    <a:pt x="270" y="16"/>
                  </a:lnTo>
                  <a:lnTo>
                    <a:pt x="277" y="3"/>
                  </a:lnTo>
                  <a:lnTo>
                    <a:pt x="247" y="10"/>
                  </a:lnTo>
                  <a:lnTo>
                    <a:pt x="221" y="12"/>
                  </a:lnTo>
                  <a:lnTo>
                    <a:pt x="200" y="13"/>
                  </a:lnTo>
                  <a:lnTo>
                    <a:pt x="180" y="12"/>
                  </a:lnTo>
                  <a:lnTo>
                    <a:pt x="163" y="10"/>
                  </a:lnTo>
                  <a:lnTo>
                    <a:pt x="144" y="6"/>
                  </a:lnTo>
                  <a:lnTo>
                    <a:pt x="125" y="3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757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2800" y="1290600"/>
              <a:ext cx="114840" cy="11916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105" y="0"/>
                  </a:moveTo>
                  <a:lnTo>
                    <a:pt x="90" y="24"/>
                  </a:lnTo>
                  <a:lnTo>
                    <a:pt x="80" y="42"/>
                  </a:lnTo>
                  <a:lnTo>
                    <a:pt x="71" y="58"/>
                  </a:lnTo>
                  <a:lnTo>
                    <a:pt x="65" y="72"/>
                  </a:lnTo>
                  <a:lnTo>
                    <a:pt x="60" y="87"/>
                  </a:lnTo>
                  <a:lnTo>
                    <a:pt x="57" y="104"/>
                  </a:lnTo>
                  <a:lnTo>
                    <a:pt x="56" y="126"/>
                  </a:lnTo>
                  <a:lnTo>
                    <a:pt x="53" y="153"/>
                  </a:lnTo>
                  <a:lnTo>
                    <a:pt x="46" y="168"/>
                  </a:lnTo>
                  <a:lnTo>
                    <a:pt x="39" y="184"/>
                  </a:lnTo>
                  <a:lnTo>
                    <a:pt x="33" y="199"/>
                  </a:lnTo>
                  <a:lnTo>
                    <a:pt x="27" y="215"/>
                  </a:lnTo>
                  <a:lnTo>
                    <a:pt x="20" y="230"/>
                  </a:lnTo>
                  <a:lnTo>
                    <a:pt x="13" y="246"/>
                  </a:lnTo>
                  <a:lnTo>
                    <a:pt x="7" y="261"/>
                  </a:lnTo>
                  <a:lnTo>
                    <a:pt x="0" y="277"/>
                  </a:lnTo>
                  <a:lnTo>
                    <a:pt x="7" y="276"/>
                  </a:lnTo>
                  <a:lnTo>
                    <a:pt x="13" y="275"/>
                  </a:lnTo>
                  <a:lnTo>
                    <a:pt x="20" y="274"/>
                  </a:lnTo>
                  <a:lnTo>
                    <a:pt x="27" y="272"/>
                  </a:lnTo>
                  <a:lnTo>
                    <a:pt x="34" y="271"/>
                  </a:lnTo>
                  <a:lnTo>
                    <a:pt x="41" y="270"/>
                  </a:lnTo>
                  <a:lnTo>
                    <a:pt x="46" y="269"/>
                  </a:lnTo>
                  <a:lnTo>
                    <a:pt x="53" y="268"/>
                  </a:lnTo>
                  <a:lnTo>
                    <a:pt x="74" y="267"/>
                  </a:lnTo>
                  <a:lnTo>
                    <a:pt x="88" y="268"/>
                  </a:lnTo>
                  <a:lnTo>
                    <a:pt x="97" y="268"/>
                  </a:lnTo>
                  <a:lnTo>
                    <a:pt x="104" y="268"/>
                  </a:lnTo>
                  <a:lnTo>
                    <a:pt x="111" y="267"/>
                  </a:lnTo>
                  <a:lnTo>
                    <a:pt x="119" y="264"/>
                  </a:lnTo>
                  <a:lnTo>
                    <a:pt x="132" y="259"/>
                  </a:lnTo>
                  <a:lnTo>
                    <a:pt x="150" y="250"/>
                  </a:lnTo>
                  <a:lnTo>
                    <a:pt x="157" y="233"/>
                  </a:lnTo>
                  <a:lnTo>
                    <a:pt x="164" y="216"/>
                  </a:lnTo>
                  <a:lnTo>
                    <a:pt x="171" y="199"/>
                  </a:lnTo>
                  <a:lnTo>
                    <a:pt x="176" y="181"/>
                  </a:lnTo>
                  <a:lnTo>
                    <a:pt x="183" y="164"/>
                  </a:lnTo>
                  <a:lnTo>
                    <a:pt x="190" y="148"/>
                  </a:lnTo>
                  <a:lnTo>
                    <a:pt x="196" y="131"/>
                  </a:lnTo>
                  <a:lnTo>
                    <a:pt x="203" y="115"/>
                  </a:lnTo>
                  <a:lnTo>
                    <a:pt x="211" y="101"/>
                  </a:lnTo>
                  <a:lnTo>
                    <a:pt x="219" y="86"/>
                  </a:lnTo>
                  <a:lnTo>
                    <a:pt x="227" y="72"/>
                  </a:lnTo>
                  <a:lnTo>
                    <a:pt x="235" y="57"/>
                  </a:lnTo>
                  <a:lnTo>
                    <a:pt x="243" y="43"/>
                  </a:lnTo>
                  <a:lnTo>
                    <a:pt x="251" y="29"/>
                  </a:lnTo>
                  <a:lnTo>
                    <a:pt x="259" y="14"/>
                  </a:lnTo>
                  <a:lnTo>
                    <a:pt x="266" y="0"/>
                  </a:lnTo>
                  <a:lnTo>
                    <a:pt x="236" y="7"/>
                  </a:lnTo>
                  <a:lnTo>
                    <a:pt x="212" y="11"/>
                  </a:lnTo>
                  <a:lnTo>
                    <a:pt x="191" y="12"/>
                  </a:lnTo>
                  <a:lnTo>
                    <a:pt x="174" y="11"/>
                  </a:lnTo>
                  <a:lnTo>
                    <a:pt x="157" y="9"/>
                  </a:lnTo>
                  <a:lnTo>
                    <a:pt x="141" y="6"/>
                  </a:lnTo>
                  <a:lnTo>
                    <a:pt x="125" y="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6d6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096040" y="1290600"/>
              <a:ext cx="109800" cy="11844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07" y="1"/>
                  </a:moveTo>
                  <a:lnTo>
                    <a:pt x="92" y="25"/>
                  </a:lnTo>
                  <a:lnTo>
                    <a:pt x="81" y="43"/>
                  </a:lnTo>
                  <a:lnTo>
                    <a:pt x="73" y="58"/>
                  </a:lnTo>
                  <a:lnTo>
                    <a:pt x="66" y="71"/>
                  </a:lnTo>
                  <a:lnTo>
                    <a:pt x="61" y="84"/>
                  </a:lnTo>
                  <a:lnTo>
                    <a:pt x="59" y="101"/>
                  </a:lnTo>
                  <a:lnTo>
                    <a:pt x="57" y="121"/>
                  </a:lnTo>
                  <a:lnTo>
                    <a:pt x="54" y="148"/>
                  </a:lnTo>
                  <a:lnTo>
                    <a:pt x="47" y="164"/>
                  </a:lnTo>
                  <a:lnTo>
                    <a:pt x="42" y="180"/>
                  </a:lnTo>
                  <a:lnTo>
                    <a:pt x="35" y="196"/>
                  </a:lnTo>
                  <a:lnTo>
                    <a:pt x="28" y="211"/>
                  </a:lnTo>
                  <a:lnTo>
                    <a:pt x="21" y="227"/>
                  </a:lnTo>
                  <a:lnTo>
                    <a:pt x="14" y="243"/>
                  </a:lnTo>
                  <a:lnTo>
                    <a:pt x="7" y="260"/>
                  </a:lnTo>
                  <a:lnTo>
                    <a:pt x="0" y="276"/>
                  </a:lnTo>
                  <a:lnTo>
                    <a:pt x="6" y="275"/>
                  </a:lnTo>
                  <a:lnTo>
                    <a:pt x="12" y="275"/>
                  </a:lnTo>
                  <a:lnTo>
                    <a:pt x="19" y="273"/>
                  </a:lnTo>
                  <a:lnTo>
                    <a:pt x="24" y="272"/>
                  </a:lnTo>
                  <a:lnTo>
                    <a:pt x="30" y="271"/>
                  </a:lnTo>
                  <a:lnTo>
                    <a:pt x="36" y="271"/>
                  </a:lnTo>
                  <a:lnTo>
                    <a:pt x="41" y="270"/>
                  </a:lnTo>
                  <a:lnTo>
                    <a:pt x="46" y="270"/>
                  </a:lnTo>
                  <a:lnTo>
                    <a:pt x="66" y="269"/>
                  </a:lnTo>
                  <a:lnTo>
                    <a:pt x="79" y="269"/>
                  </a:lnTo>
                  <a:lnTo>
                    <a:pt x="87" y="270"/>
                  </a:lnTo>
                  <a:lnTo>
                    <a:pt x="91" y="270"/>
                  </a:lnTo>
                  <a:lnTo>
                    <a:pt x="97" y="269"/>
                  </a:lnTo>
                  <a:lnTo>
                    <a:pt x="104" y="266"/>
                  </a:lnTo>
                  <a:lnTo>
                    <a:pt x="114" y="262"/>
                  </a:lnTo>
                  <a:lnTo>
                    <a:pt x="133" y="254"/>
                  </a:lnTo>
                  <a:lnTo>
                    <a:pt x="140" y="236"/>
                  </a:lnTo>
                  <a:lnTo>
                    <a:pt x="146" y="218"/>
                  </a:lnTo>
                  <a:lnTo>
                    <a:pt x="153" y="201"/>
                  </a:lnTo>
                  <a:lnTo>
                    <a:pt x="161" y="183"/>
                  </a:lnTo>
                  <a:lnTo>
                    <a:pt x="168" y="166"/>
                  </a:lnTo>
                  <a:lnTo>
                    <a:pt x="175" y="149"/>
                  </a:lnTo>
                  <a:lnTo>
                    <a:pt x="182" y="132"/>
                  </a:lnTo>
                  <a:lnTo>
                    <a:pt x="189" y="114"/>
                  </a:lnTo>
                  <a:lnTo>
                    <a:pt x="197" y="101"/>
                  </a:lnTo>
                  <a:lnTo>
                    <a:pt x="206" y="86"/>
                  </a:lnTo>
                  <a:lnTo>
                    <a:pt x="214" y="72"/>
                  </a:lnTo>
                  <a:lnTo>
                    <a:pt x="224" y="57"/>
                  </a:lnTo>
                  <a:lnTo>
                    <a:pt x="232" y="43"/>
                  </a:lnTo>
                  <a:lnTo>
                    <a:pt x="240" y="29"/>
                  </a:lnTo>
                  <a:lnTo>
                    <a:pt x="248" y="14"/>
                  </a:lnTo>
                  <a:lnTo>
                    <a:pt x="256" y="0"/>
                  </a:lnTo>
                  <a:lnTo>
                    <a:pt x="227" y="7"/>
                  </a:lnTo>
                  <a:lnTo>
                    <a:pt x="203" y="11"/>
                  </a:lnTo>
                  <a:lnTo>
                    <a:pt x="183" y="12"/>
                  </a:lnTo>
                  <a:lnTo>
                    <a:pt x="167" y="12"/>
                  </a:lnTo>
                  <a:lnTo>
                    <a:pt x="152" y="10"/>
                  </a:lnTo>
                  <a:lnTo>
                    <a:pt x="138" y="7"/>
                  </a:lnTo>
                  <a:lnTo>
                    <a:pt x="123" y="4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605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099640" y="1289880"/>
              <a:ext cx="105480" cy="118440"/>
            </a:xfrm>
            <a:custGeom>
              <a:avLst/>
              <a:gdLst/>
              <a:ahLst/>
              <a:rect l="l" t="t" r="r" b="b"/>
              <a:pathLst>
                <a:path w="245" h="274">
                  <a:moveTo>
                    <a:pt x="106" y="4"/>
                  </a:moveTo>
                  <a:lnTo>
                    <a:pt x="91" y="27"/>
                  </a:lnTo>
                  <a:lnTo>
                    <a:pt x="80" y="44"/>
                  </a:lnTo>
                  <a:lnTo>
                    <a:pt x="72" y="57"/>
                  </a:lnTo>
                  <a:lnTo>
                    <a:pt x="65" y="69"/>
                  </a:lnTo>
                  <a:lnTo>
                    <a:pt x="61" y="81"/>
                  </a:lnTo>
                  <a:lnTo>
                    <a:pt x="58" y="96"/>
                  </a:lnTo>
                  <a:lnTo>
                    <a:pt x="56" y="115"/>
                  </a:lnTo>
                  <a:lnTo>
                    <a:pt x="55" y="142"/>
                  </a:lnTo>
                  <a:lnTo>
                    <a:pt x="48" y="158"/>
                  </a:lnTo>
                  <a:lnTo>
                    <a:pt x="41" y="175"/>
                  </a:lnTo>
                  <a:lnTo>
                    <a:pt x="34" y="191"/>
                  </a:lnTo>
                  <a:lnTo>
                    <a:pt x="27" y="208"/>
                  </a:lnTo>
                  <a:lnTo>
                    <a:pt x="20" y="225"/>
                  </a:lnTo>
                  <a:lnTo>
                    <a:pt x="13" y="241"/>
                  </a:lnTo>
                  <a:lnTo>
                    <a:pt x="7" y="258"/>
                  </a:lnTo>
                  <a:lnTo>
                    <a:pt x="0" y="274"/>
                  </a:lnTo>
                  <a:lnTo>
                    <a:pt x="5" y="274"/>
                  </a:lnTo>
                  <a:lnTo>
                    <a:pt x="10" y="273"/>
                  </a:lnTo>
                  <a:lnTo>
                    <a:pt x="14" y="273"/>
                  </a:lnTo>
                  <a:lnTo>
                    <a:pt x="19" y="272"/>
                  </a:lnTo>
                  <a:lnTo>
                    <a:pt x="23" y="272"/>
                  </a:lnTo>
                  <a:lnTo>
                    <a:pt x="28" y="272"/>
                  </a:lnTo>
                  <a:lnTo>
                    <a:pt x="33" y="271"/>
                  </a:lnTo>
                  <a:lnTo>
                    <a:pt x="37" y="271"/>
                  </a:lnTo>
                  <a:lnTo>
                    <a:pt x="57" y="270"/>
                  </a:lnTo>
                  <a:lnTo>
                    <a:pt x="68" y="271"/>
                  </a:lnTo>
                  <a:lnTo>
                    <a:pt x="74" y="271"/>
                  </a:lnTo>
                  <a:lnTo>
                    <a:pt x="78" y="272"/>
                  </a:lnTo>
                  <a:lnTo>
                    <a:pt x="80" y="272"/>
                  </a:lnTo>
                  <a:lnTo>
                    <a:pt x="86" y="270"/>
                  </a:lnTo>
                  <a:lnTo>
                    <a:pt x="96" y="264"/>
                  </a:lnTo>
                  <a:lnTo>
                    <a:pt x="113" y="256"/>
                  </a:lnTo>
                  <a:lnTo>
                    <a:pt x="120" y="237"/>
                  </a:lnTo>
                  <a:lnTo>
                    <a:pt x="128" y="220"/>
                  </a:lnTo>
                  <a:lnTo>
                    <a:pt x="135" y="202"/>
                  </a:lnTo>
                  <a:lnTo>
                    <a:pt x="143" y="183"/>
                  </a:lnTo>
                  <a:lnTo>
                    <a:pt x="151" y="166"/>
                  </a:lnTo>
                  <a:lnTo>
                    <a:pt x="158" y="149"/>
                  </a:lnTo>
                  <a:lnTo>
                    <a:pt x="166" y="132"/>
                  </a:lnTo>
                  <a:lnTo>
                    <a:pt x="173" y="114"/>
                  </a:lnTo>
                  <a:lnTo>
                    <a:pt x="182" y="100"/>
                  </a:lnTo>
                  <a:lnTo>
                    <a:pt x="192" y="85"/>
                  </a:lnTo>
                  <a:lnTo>
                    <a:pt x="201" y="72"/>
                  </a:lnTo>
                  <a:lnTo>
                    <a:pt x="209" y="57"/>
                  </a:lnTo>
                  <a:lnTo>
                    <a:pt x="218" y="43"/>
                  </a:lnTo>
                  <a:lnTo>
                    <a:pt x="227" y="29"/>
                  </a:lnTo>
                  <a:lnTo>
                    <a:pt x="235" y="14"/>
                  </a:lnTo>
                  <a:lnTo>
                    <a:pt x="245" y="0"/>
                  </a:lnTo>
                  <a:lnTo>
                    <a:pt x="216" y="7"/>
                  </a:lnTo>
                  <a:lnTo>
                    <a:pt x="192" y="11"/>
                  </a:lnTo>
                  <a:lnTo>
                    <a:pt x="173" y="13"/>
                  </a:lnTo>
                  <a:lnTo>
                    <a:pt x="158" y="13"/>
                  </a:lnTo>
                  <a:lnTo>
                    <a:pt x="145" y="12"/>
                  </a:lnTo>
                  <a:lnTo>
                    <a:pt x="134" y="9"/>
                  </a:lnTo>
                  <a:lnTo>
                    <a:pt x="121" y="6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54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102880" y="1289880"/>
              <a:ext cx="101160" cy="118440"/>
            </a:xfrm>
            <a:custGeom>
              <a:avLst/>
              <a:gdLst/>
              <a:ahLst/>
              <a:rect l="l" t="t" r="r" b="b"/>
              <a:pathLst>
                <a:path w="234" h="274">
                  <a:moveTo>
                    <a:pt x="107" y="6"/>
                  </a:moveTo>
                  <a:lnTo>
                    <a:pt x="94" y="28"/>
                  </a:lnTo>
                  <a:lnTo>
                    <a:pt x="82" y="45"/>
                  </a:lnTo>
                  <a:lnTo>
                    <a:pt x="74" y="56"/>
                  </a:lnTo>
                  <a:lnTo>
                    <a:pt x="68" y="67"/>
                  </a:lnTo>
                  <a:lnTo>
                    <a:pt x="64" y="78"/>
                  </a:lnTo>
                  <a:lnTo>
                    <a:pt x="60" y="91"/>
                  </a:lnTo>
                  <a:lnTo>
                    <a:pt x="58" y="111"/>
                  </a:lnTo>
                  <a:lnTo>
                    <a:pt x="56" y="136"/>
                  </a:lnTo>
                  <a:lnTo>
                    <a:pt x="49" y="153"/>
                  </a:lnTo>
                  <a:lnTo>
                    <a:pt x="42" y="171"/>
                  </a:lnTo>
                  <a:lnTo>
                    <a:pt x="35" y="188"/>
                  </a:lnTo>
                  <a:lnTo>
                    <a:pt x="28" y="204"/>
                  </a:lnTo>
                  <a:lnTo>
                    <a:pt x="21" y="221"/>
                  </a:lnTo>
                  <a:lnTo>
                    <a:pt x="14" y="238"/>
                  </a:lnTo>
                  <a:lnTo>
                    <a:pt x="7" y="256"/>
                  </a:lnTo>
                  <a:lnTo>
                    <a:pt x="0" y="273"/>
                  </a:lnTo>
                  <a:lnTo>
                    <a:pt x="7" y="273"/>
                  </a:lnTo>
                  <a:lnTo>
                    <a:pt x="15" y="272"/>
                  </a:lnTo>
                  <a:lnTo>
                    <a:pt x="22" y="272"/>
                  </a:lnTo>
                  <a:lnTo>
                    <a:pt x="30" y="272"/>
                  </a:lnTo>
                  <a:lnTo>
                    <a:pt x="49" y="272"/>
                  </a:lnTo>
                  <a:lnTo>
                    <a:pt x="59" y="272"/>
                  </a:lnTo>
                  <a:lnTo>
                    <a:pt x="64" y="273"/>
                  </a:lnTo>
                  <a:lnTo>
                    <a:pt x="65" y="274"/>
                  </a:lnTo>
                  <a:lnTo>
                    <a:pt x="66" y="274"/>
                  </a:lnTo>
                  <a:lnTo>
                    <a:pt x="69" y="272"/>
                  </a:lnTo>
                  <a:lnTo>
                    <a:pt x="79" y="267"/>
                  </a:lnTo>
                  <a:lnTo>
                    <a:pt x="96" y="259"/>
                  </a:lnTo>
                  <a:lnTo>
                    <a:pt x="104" y="241"/>
                  </a:lnTo>
                  <a:lnTo>
                    <a:pt x="112" y="222"/>
                  </a:lnTo>
                  <a:lnTo>
                    <a:pt x="119" y="204"/>
                  </a:lnTo>
                  <a:lnTo>
                    <a:pt x="127" y="185"/>
                  </a:lnTo>
                  <a:lnTo>
                    <a:pt x="135" y="167"/>
                  </a:lnTo>
                  <a:lnTo>
                    <a:pt x="143" y="149"/>
                  </a:lnTo>
                  <a:lnTo>
                    <a:pt x="150" y="130"/>
                  </a:lnTo>
                  <a:lnTo>
                    <a:pt x="158" y="113"/>
                  </a:lnTo>
                  <a:lnTo>
                    <a:pt x="168" y="99"/>
                  </a:lnTo>
                  <a:lnTo>
                    <a:pt x="178" y="85"/>
                  </a:lnTo>
                  <a:lnTo>
                    <a:pt x="188" y="71"/>
                  </a:lnTo>
                  <a:lnTo>
                    <a:pt x="197" y="56"/>
                  </a:lnTo>
                  <a:lnTo>
                    <a:pt x="206" y="43"/>
                  </a:lnTo>
                  <a:lnTo>
                    <a:pt x="216" y="29"/>
                  </a:lnTo>
                  <a:lnTo>
                    <a:pt x="225" y="14"/>
                  </a:lnTo>
                  <a:lnTo>
                    <a:pt x="234" y="0"/>
                  </a:lnTo>
                  <a:lnTo>
                    <a:pt x="205" y="7"/>
                  </a:lnTo>
                  <a:lnTo>
                    <a:pt x="182" y="12"/>
                  </a:lnTo>
                  <a:lnTo>
                    <a:pt x="165" y="14"/>
                  </a:lnTo>
                  <a:lnTo>
                    <a:pt x="152" y="14"/>
                  </a:lnTo>
                  <a:lnTo>
                    <a:pt x="141" y="13"/>
                  </a:lnTo>
                  <a:lnTo>
                    <a:pt x="130" y="10"/>
                  </a:lnTo>
                  <a:lnTo>
                    <a:pt x="120" y="8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47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105760" y="1288800"/>
              <a:ext cx="96840" cy="119160"/>
            </a:xfrm>
            <a:custGeom>
              <a:avLst/>
              <a:gdLst/>
              <a:ahLst/>
              <a:rect l="l" t="t" r="r" b="b"/>
              <a:pathLst>
                <a:path w="224" h="276">
                  <a:moveTo>
                    <a:pt x="108" y="8"/>
                  </a:moveTo>
                  <a:lnTo>
                    <a:pt x="93" y="30"/>
                  </a:lnTo>
                  <a:lnTo>
                    <a:pt x="83" y="45"/>
                  </a:lnTo>
                  <a:lnTo>
                    <a:pt x="75" y="56"/>
                  </a:lnTo>
                  <a:lnTo>
                    <a:pt x="69" y="66"/>
                  </a:lnTo>
                  <a:lnTo>
                    <a:pt x="65" y="75"/>
                  </a:lnTo>
                  <a:lnTo>
                    <a:pt x="62" y="87"/>
                  </a:lnTo>
                  <a:lnTo>
                    <a:pt x="60" y="106"/>
                  </a:lnTo>
                  <a:lnTo>
                    <a:pt x="58" y="131"/>
                  </a:lnTo>
                  <a:lnTo>
                    <a:pt x="51" y="148"/>
                  </a:lnTo>
                  <a:lnTo>
                    <a:pt x="43" y="166"/>
                  </a:lnTo>
                  <a:lnTo>
                    <a:pt x="36" y="183"/>
                  </a:lnTo>
                  <a:lnTo>
                    <a:pt x="29" y="201"/>
                  </a:lnTo>
                  <a:lnTo>
                    <a:pt x="22" y="219"/>
                  </a:lnTo>
                  <a:lnTo>
                    <a:pt x="15" y="236"/>
                  </a:lnTo>
                  <a:lnTo>
                    <a:pt x="7" y="254"/>
                  </a:lnTo>
                  <a:lnTo>
                    <a:pt x="0" y="272"/>
                  </a:lnTo>
                  <a:lnTo>
                    <a:pt x="7" y="272"/>
                  </a:lnTo>
                  <a:lnTo>
                    <a:pt x="12" y="273"/>
                  </a:lnTo>
                  <a:lnTo>
                    <a:pt x="18" y="273"/>
                  </a:lnTo>
                  <a:lnTo>
                    <a:pt x="23" y="274"/>
                  </a:lnTo>
                  <a:lnTo>
                    <a:pt x="42" y="273"/>
                  </a:lnTo>
                  <a:lnTo>
                    <a:pt x="51" y="274"/>
                  </a:lnTo>
                  <a:lnTo>
                    <a:pt x="53" y="275"/>
                  </a:lnTo>
                  <a:lnTo>
                    <a:pt x="53" y="276"/>
                  </a:lnTo>
                  <a:lnTo>
                    <a:pt x="52" y="276"/>
                  </a:lnTo>
                  <a:lnTo>
                    <a:pt x="54" y="274"/>
                  </a:lnTo>
                  <a:lnTo>
                    <a:pt x="62" y="269"/>
                  </a:lnTo>
                  <a:lnTo>
                    <a:pt x="79" y="261"/>
                  </a:lnTo>
                  <a:lnTo>
                    <a:pt x="87" y="243"/>
                  </a:lnTo>
                  <a:lnTo>
                    <a:pt x="95" y="225"/>
                  </a:lnTo>
                  <a:lnTo>
                    <a:pt x="103" y="205"/>
                  </a:lnTo>
                  <a:lnTo>
                    <a:pt x="112" y="186"/>
                  </a:lnTo>
                  <a:lnTo>
                    <a:pt x="120" y="168"/>
                  </a:lnTo>
                  <a:lnTo>
                    <a:pt x="128" y="150"/>
                  </a:lnTo>
                  <a:lnTo>
                    <a:pt x="136" y="131"/>
                  </a:lnTo>
                  <a:lnTo>
                    <a:pt x="144" y="113"/>
                  </a:lnTo>
                  <a:lnTo>
                    <a:pt x="155" y="99"/>
                  </a:lnTo>
                  <a:lnTo>
                    <a:pt x="165" y="85"/>
                  </a:lnTo>
                  <a:lnTo>
                    <a:pt x="175" y="71"/>
                  </a:lnTo>
                  <a:lnTo>
                    <a:pt x="184" y="56"/>
                  </a:lnTo>
                  <a:lnTo>
                    <a:pt x="195" y="42"/>
                  </a:lnTo>
                  <a:lnTo>
                    <a:pt x="204" y="29"/>
                  </a:lnTo>
                  <a:lnTo>
                    <a:pt x="214" y="14"/>
                  </a:lnTo>
                  <a:lnTo>
                    <a:pt x="224" y="0"/>
                  </a:lnTo>
                  <a:lnTo>
                    <a:pt x="195" y="7"/>
                  </a:lnTo>
                  <a:lnTo>
                    <a:pt x="173" y="11"/>
                  </a:lnTo>
                  <a:lnTo>
                    <a:pt x="157" y="14"/>
                  </a:lnTo>
                  <a:lnTo>
                    <a:pt x="145" y="15"/>
                  </a:lnTo>
                  <a:lnTo>
                    <a:pt x="135" y="14"/>
                  </a:lnTo>
                  <a:lnTo>
                    <a:pt x="127" y="13"/>
                  </a:lnTo>
                  <a:lnTo>
                    <a:pt x="119" y="10"/>
                  </a:lnTo>
                  <a:lnTo>
                    <a:pt x="108" y="8"/>
                  </a:lnTo>
                  <a:close/>
                </a:path>
              </a:pathLst>
            </a:custGeom>
            <a:solidFill>
              <a:srgbClr val="3d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10080" y="1288080"/>
              <a:ext cx="91440" cy="120960"/>
            </a:xfrm>
            <a:custGeom>
              <a:avLst/>
              <a:gdLst/>
              <a:ahLst/>
              <a:rect l="l" t="t" r="r" b="b"/>
              <a:pathLst>
                <a:path w="213" h="279">
                  <a:moveTo>
                    <a:pt x="108" y="10"/>
                  </a:moveTo>
                  <a:lnTo>
                    <a:pt x="93" y="32"/>
                  </a:lnTo>
                  <a:lnTo>
                    <a:pt x="82" y="46"/>
                  </a:lnTo>
                  <a:lnTo>
                    <a:pt x="74" y="56"/>
                  </a:lnTo>
                  <a:lnTo>
                    <a:pt x="68" y="63"/>
                  </a:lnTo>
                  <a:lnTo>
                    <a:pt x="64" y="71"/>
                  </a:lnTo>
                  <a:lnTo>
                    <a:pt x="61" y="83"/>
                  </a:lnTo>
                  <a:lnTo>
                    <a:pt x="59" y="100"/>
                  </a:lnTo>
                  <a:lnTo>
                    <a:pt x="57" y="125"/>
                  </a:lnTo>
                  <a:lnTo>
                    <a:pt x="0" y="270"/>
                  </a:lnTo>
                  <a:lnTo>
                    <a:pt x="14" y="275"/>
                  </a:lnTo>
                  <a:lnTo>
                    <a:pt x="33" y="274"/>
                  </a:lnTo>
                  <a:lnTo>
                    <a:pt x="41" y="275"/>
                  </a:lnTo>
                  <a:lnTo>
                    <a:pt x="42" y="277"/>
                  </a:lnTo>
                  <a:lnTo>
                    <a:pt x="38" y="279"/>
                  </a:lnTo>
                  <a:lnTo>
                    <a:pt x="36" y="279"/>
                  </a:lnTo>
                  <a:lnTo>
                    <a:pt x="36" y="277"/>
                  </a:lnTo>
                  <a:lnTo>
                    <a:pt x="43" y="273"/>
                  </a:lnTo>
                  <a:lnTo>
                    <a:pt x="59" y="265"/>
                  </a:lnTo>
                  <a:lnTo>
                    <a:pt x="128" y="113"/>
                  </a:lnTo>
                  <a:lnTo>
                    <a:pt x="213" y="0"/>
                  </a:lnTo>
                  <a:lnTo>
                    <a:pt x="185" y="7"/>
                  </a:lnTo>
                  <a:lnTo>
                    <a:pt x="163" y="12"/>
                  </a:lnTo>
                  <a:lnTo>
                    <a:pt x="148" y="15"/>
                  </a:lnTo>
                  <a:lnTo>
                    <a:pt x="137" y="16"/>
                  </a:lnTo>
                  <a:lnTo>
                    <a:pt x="129" y="16"/>
                  </a:lnTo>
                  <a:lnTo>
                    <a:pt x="122" y="15"/>
                  </a:lnTo>
                  <a:lnTo>
                    <a:pt x="116" y="12"/>
                  </a:lnTo>
                  <a:lnTo>
                    <a:pt x="108" y="10"/>
                  </a:lnTo>
                  <a:close/>
                </a:path>
              </a:pathLst>
            </a:custGeom>
            <a:solidFill>
              <a:srgbClr val="3033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90960" y="1366920"/>
              <a:ext cx="597600" cy="720720"/>
            </a:xfrm>
            <a:custGeom>
              <a:avLst/>
              <a:gdLst/>
              <a:ahLst/>
              <a:rect l="l" t="t" r="r" b="b"/>
              <a:pathLst>
                <a:path w="1382" h="1665">
                  <a:moveTo>
                    <a:pt x="726" y="70"/>
                  </a:moveTo>
                  <a:lnTo>
                    <a:pt x="726" y="136"/>
                  </a:lnTo>
                  <a:lnTo>
                    <a:pt x="740" y="181"/>
                  </a:lnTo>
                  <a:lnTo>
                    <a:pt x="704" y="279"/>
                  </a:lnTo>
                  <a:lnTo>
                    <a:pt x="694" y="311"/>
                  </a:lnTo>
                  <a:lnTo>
                    <a:pt x="687" y="334"/>
                  </a:lnTo>
                  <a:lnTo>
                    <a:pt x="684" y="351"/>
                  </a:lnTo>
                  <a:lnTo>
                    <a:pt x="683" y="366"/>
                  </a:lnTo>
                  <a:lnTo>
                    <a:pt x="686" y="380"/>
                  </a:lnTo>
                  <a:lnTo>
                    <a:pt x="693" y="397"/>
                  </a:lnTo>
                  <a:lnTo>
                    <a:pt x="704" y="419"/>
                  </a:lnTo>
                  <a:lnTo>
                    <a:pt x="719" y="448"/>
                  </a:lnTo>
                  <a:lnTo>
                    <a:pt x="631" y="511"/>
                  </a:lnTo>
                  <a:lnTo>
                    <a:pt x="434" y="978"/>
                  </a:lnTo>
                  <a:lnTo>
                    <a:pt x="0" y="1408"/>
                  </a:lnTo>
                  <a:lnTo>
                    <a:pt x="15" y="1525"/>
                  </a:lnTo>
                  <a:lnTo>
                    <a:pt x="120" y="1639"/>
                  </a:lnTo>
                  <a:lnTo>
                    <a:pt x="242" y="1665"/>
                  </a:lnTo>
                  <a:lnTo>
                    <a:pt x="377" y="1587"/>
                  </a:lnTo>
                  <a:lnTo>
                    <a:pt x="510" y="1489"/>
                  </a:lnTo>
                  <a:lnTo>
                    <a:pt x="686" y="1312"/>
                  </a:lnTo>
                  <a:lnTo>
                    <a:pt x="715" y="1257"/>
                  </a:lnTo>
                  <a:lnTo>
                    <a:pt x="745" y="1200"/>
                  </a:lnTo>
                  <a:lnTo>
                    <a:pt x="774" y="1146"/>
                  </a:lnTo>
                  <a:lnTo>
                    <a:pt x="803" y="1091"/>
                  </a:lnTo>
                  <a:lnTo>
                    <a:pt x="832" y="1037"/>
                  </a:lnTo>
                  <a:lnTo>
                    <a:pt x="862" y="982"/>
                  </a:lnTo>
                  <a:lnTo>
                    <a:pt x="892" y="928"/>
                  </a:lnTo>
                  <a:lnTo>
                    <a:pt x="922" y="874"/>
                  </a:lnTo>
                  <a:lnTo>
                    <a:pt x="953" y="820"/>
                  </a:lnTo>
                  <a:lnTo>
                    <a:pt x="983" y="767"/>
                  </a:lnTo>
                  <a:lnTo>
                    <a:pt x="1014" y="713"/>
                  </a:lnTo>
                  <a:lnTo>
                    <a:pt x="1046" y="660"/>
                  </a:lnTo>
                  <a:lnTo>
                    <a:pt x="1078" y="606"/>
                  </a:lnTo>
                  <a:lnTo>
                    <a:pt x="1110" y="553"/>
                  </a:lnTo>
                  <a:lnTo>
                    <a:pt x="1142" y="499"/>
                  </a:lnTo>
                  <a:lnTo>
                    <a:pt x="1175" y="446"/>
                  </a:lnTo>
                  <a:lnTo>
                    <a:pt x="1189" y="416"/>
                  </a:lnTo>
                  <a:lnTo>
                    <a:pt x="1203" y="389"/>
                  </a:lnTo>
                  <a:lnTo>
                    <a:pt x="1215" y="366"/>
                  </a:lnTo>
                  <a:lnTo>
                    <a:pt x="1225" y="347"/>
                  </a:lnTo>
                  <a:lnTo>
                    <a:pt x="1233" y="329"/>
                  </a:lnTo>
                  <a:lnTo>
                    <a:pt x="1239" y="315"/>
                  </a:lnTo>
                  <a:lnTo>
                    <a:pt x="1242" y="303"/>
                  </a:lnTo>
                  <a:lnTo>
                    <a:pt x="1243" y="292"/>
                  </a:lnTo>
                  <a:lnTo>
                    <a:pt x="1240" y="284"/>
                  </a:lnTo>
                  <a:lnTo>
                    <a:pt x="1234" y="276"/>
                  </a:lnTo>
                  <a:lnTo>
                    <a:pt x="1224" y="269"/>
                  </a:lnTo>
                  <a:lnTo>
                    <a:pt x="1210" y="262"/>
                  </a:lnTo>
                  <a:lnTo>
                    <a:pt x="1192" y="255"/>
                  </a:lnTo>
                  <a:lnTo>
                    <a:pt x="1169" y="249"/>
                  </a:lnTo>
                  <a:lnTo>
                    <a:pt x="1140" y="242"/>
                  </a:lnTo>
                  <a:lnTo>
                    <a:pt x="1106" y="232"/>
                  </a:lnTo>
                  <a:lnTo>
                    <a:pt x="1106" y="219"/>
                  </a:lnTo>
                  <a:lnTo>
                    <a:pt x="1172" y="199"/>
                  </a:lnTo>
                  <a:lnTo>
                    <a:pt x="1225" y="161"/>
                  </a:lnTo>
                  <a:lnTo>
                    <a:pt x="1331" y="136"/>
                  </a:lnTo>
                  <a:lnTo>
                    <a:pt x="1382" y="55"/>
                  </a:lnTo>
                  <a:lnTo>
                    <a:pt x="1131" y="102"/>
                  </a:lnTo>
                  <a:lnTo>
                    <a:pt x="1109" y="106"/>
                  </a:lnTo>
                  <a:lnTo>
                    <a:pt x="1086" y="108"/>
                  </a:lnTo>
                  <a:lnTo>
                    <a:pt x="1063" y="110"/>
                  </a:lnTo>
                  <a:lnTo>
                    <a:pt x="1040" y="111"/>
                  </a:lnTo>
                  <a:lnTo>
                    <a:pt x="1017" y="113"/>
                  </a:lnTo>
                  <a:lnTo>
                    <a:pt x="993" y="113"/>
                  </a:lnTo>
                  <a:lnTo>
                    <a:pt x="970" y="111"/>
                  </a:lnTo>
                  <a:lnTo>
                    <a:pt x="947" y="109"/>
                  </a:lnTo>
                  <a:lnTo>
                    <a:pt x="926" y="106"/>
                  </a:lnTo>
                  <a:lnTo>
                    <a:pt x="903" y="102"/>
                  </a:lnTo>
                  <a:lnTo>
                    <a:pt x="882" y="97"/>
                  </a:lnTo>
                  <a:lnTo>
                    <a:pt x="860" y="91"/>
                  </a:lnTo>
                  <a:lnTo>
                    <a:pt x="839" y="83"/>
                  </a:lnTo>
                  <a:lnTo>
                    <a:pt x="820" y="73"/>
                  </a:lnTo>
                  <a:lnTo>
                    <a:pt x="800" y="63"/>
                  </a:lnTo>
                  <a:lnTo>
                    <a:pt x="782" y="50"/>
                  </a:lnTo>
                  <a:lnTo>
                    <a:pt x="706" y="0"/>
                  </a:lnTo>
                  <a:lnTo>
                    <a:pt x="726" y="70"/>
                  </a:lnTo>
                  <a:close/>
                </a:path>
              </a:pathLst>
            </a:custGeom>
            <a:solidFill>
              <a:srgbClr val="b2a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95280" y="1369440"/>
              <a:ext cx="588960" cy="711000"/>
            </a:xfrm>
            <a:custGeom>
              <a:avLst/>
              <a:gdLst/>
              <a:ahLst/>
              <a:rect l="l" t="t" r="r" b="b"/>
              <a:pathLst>
                <a:path w="1361" h="1643">
                  <a:moveTo>
                    <a:pt x="725" y="71"/>
                  </a:moveTo>
                  <a:lnTo>
                    <a:pt x="725" y="87"/>
                  </a:lnTo>
                  <a:lnTo>
                    <a:pt x="725" y="104"/>
                  </a:lnTo>
                  <a:lnTo>
                    <a:pt x="725" y="121"/>
                  </a:lnTo>
                  <a:lnTo>
                    <a:pt x="725" y="138"/>
                  </a:lnTo>
                  <a:lnTo>
                    <a:pt x="730" y="149"/>
                  </a:lnTo>
                  <a:lnTo>
                    <a:pt x="735" y="159"/>
                  </a:lnTo>
                  <a:lnTo>
                    <a:pt x="739" y="171"/>
                  </a:lnTo>
                  <a:lnTo>
                    <a:pt x="744" y="183"/>
                  </a:lnTo>
                  <a:lnTo>
                    <a:pt x="736" y="207"/>
                  </a:lnTo>
                  <a:lnTo>
                    <a:pt x="728" y="231"/>
                  </a:lnTo>
                  <a:lnTo>
                    <a:pt x="720" y="256"/>
                  </a:lnTo>
                  <a:lnTo>
                    <a:pt x="712" y="280"/>
                  </a:lnTo>
                  <a:lnTo>
                    <a:pt x="701" y="313"/>
                  </a:lnTo>
                  <a:lnTo>
                    <a:pt x="693" y="336"/>
                  </a:lnTo>
                  <a:lnTo>
                    <a:pt x="690" y="353"/>
                  </a:lnTo>
                  <a:lnTo>
                    <a:pt x="689" y="367"/>
                  </a:lnTo>
                  <a:lnTo>
                    <a:pt x="691" y="381"/>
                  </a:lnTo>
                  <a:lnTo>
                    <a:pt x="698" y="397"/>
                  </a:lnTo>
                  <a:lnTo>
                    <a:pt x="708" y="419"/>
                  </a:lnTo>
                  <a:lnTo>
                    <a:pt x="723" y="448"/>
                  </a:lnTo>
                  <a:lnTo>
                    <a:pt x="712" y="457"/>
                  </a:lnTo>
                  <a:lnTo>
                    <a:pt x="700" y="466"/>
                  </a:lnTo>
                  <a:lnTo>
                    <a:pt x="687" y="476"/>
                  </a:lnTo>
                  <a:lnTo>
                    <a:pt x="676" y="486"/>
                  </a:lnTo>
                  <a:lnTo>
                    <a:pt x="664" y="495"/>
                  </a:lnTo>
                  <a:lnTo>
                    <a:pt x="652" y="504"/>
                  </a:lnTo>
                  <a:lnTo>
                    <a:pt x="640" y="514"/>
                  </a:lnTo>
                  <a:lnTo>
                    <a:pt x="629" y="524"/>
                  </a:lnTo>
                  <a:lnTo>
                    <a:pt x="616" y="552"/>
                  </a:lnTo>
                  <a:lnTo>
                    <a:pt x="605" y="581"/>
                  </a:lnTo>
                  <a:lnTo>
                    <a:pt x="592" y="610"/>
                  </a:lnTo>
                  <a:lnTo>
                    <a:pt x="579" y="639"/>
                  </a:lnTo>
                  <a:lnTo>
                    <a:pt x="567" y="668"/>
                  </a:lnTo>
                  <a:lnTo>
                    <a:pt x="555" y="696"/>
                  </a:lnTo>
                  <a:lnTo>
                    <a:pt x="542" y="725"/>
                  </a:lnTo>
                  <a:lnTo>
                    <a:pt x="530" y="753"/>
                  </a:lnTo>
                  <a:lnTo>
                    <a:pt x="517" y="782"/>
                  </a:lnTo>
                  <a:lnTo>
                    <a:pt x="504" y="810"/>
                  </a:lnTo>
                  <a:lnTo>
                    <a:pt x="493" y="839"/>
                  </a:lnTo>
                  <a:lnTo>
                    <a:pt x="480" y="868"/>
                  </a:lnTo>
                  <a:lnTo>
                    <a:pt x="467" y="897"/>
                  </a:lnTo>
                  <a:lnTo>
                    <a:pt x="455" y="926"/>
                  </a:lnTo>
                  <a:lnTo>
                    <a:pt x="443" y="954"/>
                  </a:lnTo>
                  <a:lnTo>
                    <a:pt x="431" y="983"/>
                  </a:lnTo>
                  <a:lnTo>
                    <a:pt x="404" y="1010"/>
                  </a:lnTo>
                  <a:lnTo>
                    <a:pt x="377" y="1035"/>
                  </a:lnTo>
                  <a:lnTo>
                    <a:pt x="350" y="1062"/>
                  </a:lnTo>
                  <a:lnTo>
                    <a:pt x="322" y="1088"/>
                  </a:lnTo>
                  <a:lnTo>
                    <a:pt x="296" y="1113"/>
                  </a:lnTo>
                  <a:lnTo>
                    <a:pt x="269" y="1140"/>
                  </a:lnTo>
                  <a:lnTo>
                    <a:pt x="242" y="1166"/>
                  </a:lnTo>
                  <a:lnTo>
                    <a:pt x="215" y="1192"/>
                  </a:lnTo>
                  <a:lnTo>
                    <a:pt x="189" y="1218"/>
                  </a:lnTo>
                  <a:lnTo>
                    <a:pt x="161" y="1245"/>
                  </a:lnTo>
                  <a:lnTo>
                    <a:pt x="135" y="1271"/>
                  </a:lnTo>
                  <a:lnTo>
                    <a:pt x="108" y="1297"/>
                  </a:lnTo>
                  <a:lnTo>
                    <a:pt x="81" y="1323"/>
                  </a:lnTo>
                  <a:lnTo>
                    <a:pt x="54" y="1350"/>
                  </a:lnTo>
                  <a:lnTo>
                    <a:pt x="26" y="1375"/>
                  </a:lnTo>
                  <a:lnTo>
                    <a:pt x="0" y="1401"/>
                  </a:lnTo>
                  <a:lnTo>
                    <a:pt x="5" y="1431"/>
                  </a:lnTo>
                  <a:lnTo>
                    <a:pt x="8" y="1460"/>
                  </a:lnTo>
                  <a:lnTo>
                    <a:pt x="12" y="1490"/>
                  </a:lnTo>
                  <a:lnTo>
                    <a:pt x="16" y="1520"/>
                  </a:lnTo>
                  <a:lnTo>
                    <a:pt x="29" y="1533"/>
                  </a:lnTo>
                  <a:lnTo>
                    <a:pt x="41" y="1547"/>
                  </a:lnTo>
                  <a:lnTo>
                    <a:pt x="53" y="1559"/>
                  </a:lnTo>
                  <a:lnTo>
                    <a:pt x="66" y="1572"/>
                  </a:lnTo>
                  <a:lnTo>
                    <a:pt x="78" y="1586"/>
                  </a:lnTo>
                  <a:lnTo>
                    <a:pt x="90" y="1598"/>
                  </a:lnTo>
                  <a:lnTo>
                    <a:pt x="102" y="1612"/>
                  </a:lnTo>
                  <a:lnTo>
                    <a:pt x="115" y="1625"/>
                  </a:lnTo>
                  <a:lnTo>
                    <a:pt x="130" y="1627"/>
                  </a:lnTo>
                  <a:lnTo>
                    <a:pt x="145" y="1630"/>
                  </a:lnTo>
                  <a:lnTo>
                    <a:pt x="160" y="1632"/>
                  </a:lnTo>
                  <a:lnTo>
                    <a:pt x="176" y="1634"/>
                  </a:lnTo>
                  <a:lnTo>
                    <a:pt x="191" y="1636"/>
                  </a:lnTo>
                  <a:lnTo>
                    <a:pt x="206" y="1639"/>
                  </a:lnTo>
                  <a:lnTo>
                    <a:pt x="221" y="1641"/>
                  </a:lnTo>
                  <a:lnTo>
                    <a:pt x="236" y="1643"/>
                  </a:lnTo>
                  <a:lnTo>
                    <a:pt x="252" y="1634"/>
                  </a:lnTo>
                  <a:lnTo>
                    <a:pt x="268" y="1624"/>
                  </a:lnTo>
                  <a:lnTo>
                    <a:pt x="284" y="1615"/>
                  </a:lnTo>
                  <a:lnTo>
                    <a:pt x="302" y="1604"/>
                  </a:lnTo>
                  <a:lnTo>
                    <a:pt x="318" y="1595"/>
                  </a:lnTo>
                  <a:lnTo>
                    <a:pt x="334" y="1586"/>
                  </a:lnTo>
                  <a:lnTo>
                    <a:pt x="350" y="1575"/>
                  </a:lnTo>
                  <a:lnTo>
                    <a:pt x="366" y="1566"/>
                  </a:lnTo>
                  <a:lnTo>
                    <a:pt x="382" y="1555"/>
                  </a:lnTo>
                  <a:lnTo>
                    <a:pt x="398" y="1543"/>
                  </a:lnTo>
                  <a:lnTo>
                    <a:pt x="415" y="1532"/>
                  </a:lnTo>
                  <a:lnTo>
                    <a:pt x="431" y="1520"/>
                  </a:lnTo>
                  <a:lnTo>
                    <a:pt x="447" y="1509"/>
                  </a:lnTo>
                  <a:lnTo>
                    <a:pt x="463" y="1496"/>
                  </a:lnTo>
                  <a:lnTo>
                    <a:pt x="479" y="1484"/>
                  </a:lnTo>
                  <a:lnTo>
                    <a:pt x="495" y="1473"/>
                  </a:lnTo>
                  <a:lnTo>
                    <a:pt x="517" y="1450"/>
                  </a:lnTo>
                  <a:lnTo>
                    <a:pt x="539" y="1427"/>
                  </a:lnTo>
                  <a:lnTo>
                    <a:pt x="561" y="1404"/>
                  </a:lnTo>
                  <a:lnTo>
                    <a:pt x="583" y="1382"/>
                  </a:lnTo>
                  <a:lnTo>
                    <a:pt x="605" y="1359"/>
                  </a:lnTo>
                  <a:lnTo>
                    <a:pt x="626" y="1336"/>
                  </a:lnTo>
                  <a:lnTo>
                    <a:pt x="648" y="1314"/>
                  </a:lnTo>
                  <a:lnTo>
                    <a:pt x="670" y="1291"/>
                  </a:lnTo>
                  <a:lnTo>
                    <a:pt x="699" y="1236"/>
                  </a:lnTo>
                  <a:lnTo>
                    <a:pt x="728" y="1180"/>
                  </a:lnTo>
                  <a:lnTo>
                    <a:pt x="756" y="1127"/>
                  </a:lnTo>
                  <a:lnTo>
                    <a:pt x="785" y="1073"/>
                  </a:lnTo>
                  <a:lnTo>
                    <a:pt x="814" y="1020"/>
                  </a:lnTo>
                  <a:lnTo>
                    <a:pt x="842" y="968"/>
                  </a:lnTo>
                  <a:lnTo>
                    <a:pt x="870" y="916"/>
                  </a:lnTo>
                  <a:lnTo>
                    <a:pt x="899" y="865"/>
                  </a:lnTo>
                  <a:lnTo>
                    <a:pt x="928" y="813"/>
                  </a:lnTo>
                  <a:lnTo>
                    <a:pt x="958" y="761"/>
                  </a:lnTo>
                  <a:lnTo>
                    <a:pt x="988" y="710"/>
                  </a:lnTo>
                  <a:lnTo>
                    <a:pt x="1018" y="658"/>
                  </a:lnTo>
                  <a:lnTo>
                    <a:pt x="1049" y="605"/>
                  </a:lnTo>
                  <a:lnTo>
                    <a:pt x="1080" y="553"/>
                  </a:lnTo>
                  <a:lnTo>
                    <a:pt x="1112" y="501"/>
                  </a:lnTo>
                  <a:lnTo>
                    <a:pt x="1145" y="448"/>
                  </a:lnTo>
                  <a:lnTo>
                    <a:pt x="1160" y="416"/>
                  </a:lnTo>
                  <a:lnTo>
                    <a:pt x="1172" y="390"/>
                  </a:lnTo>
                  <a:lnTo>
                    <a:pt x="1185" y="367"/>
                  </a:lnTo>
                  <a:lnTo>
                    <a:pt x="1196" y="347"/>
                  </a:lnTo>
                  <a:lnTo>
                    <a:pt x="1204" y="330"/>
                  </a:lnTo>
                  <a:lnTo>
                    <a:pt x="1211" y="316"/>
                  </a:lnTo>
                  <a:lnTo>
                    <a:pt x="1216" y="303"/>
                  </a:lnTo>
                  <a:lnTo>
                    <a:pt x="1217" y="293"/>
                  </a:lnTo>
                  <a:lnTo>
                    <a:pt x="1215" y="284"/>
                  </a:lnTo>
                  <a:lnTo>
                    <a:pt x="1209" y="276"/>
                  </a:lnTo>
                  <a:lnTo>
                    <a:pt x="1200" y="269"/>
                  </a:lnTo>
                  <a:lnTo>
                    <a:pt x="1186" y="262"/>
                  </a:lnTo>
                  <a:lnTo>
                    <a:pt x="1169" y="255"/>
                  </a:lnTo>
                  <a:lnTo>
                    <a:pt x="1146" y="248"/>
                  </a:lnTo>
                  <a:lnTo>
                    <a:pt x="1117" y="241"/>
                  </a:lnTo>
                  <a:lnTo>
                    <a:pt x="1084" y="232"/>
                  </a:lnTo>
                  <a:lnTo>
                    <a:pt x="1085" y="226"/>
                  </a:lnTo>
                  <a:lnTo>
                    <a:pt x="1086" y="221"/>
                  </a:lnTo>
                  <a:lnTo>
                    <a:pt x="1086" y="215"/>
                  </a:lnTo>
                  <a:lnTo>
                    <a:pt x="1087" y="209"/>
                  </a:lnTo>
                  <a:lnTo>
                    <a:pt x="1095" y="207"/>
                  </a:lnTo>
                  <a:lnTo>
                    <a:pt x="1103" y="203"/>
                  </a:lnTo>
                  <a:lnTo>
                    <a:pt x="1112" y="201"/>
                  </a:lnTo>
                  <a:lnTo>
                    <a:pt x="1120" y="199"/>
                  </a:lnTo>
                  <a:lnTo>
                    <a:pt x="1128" y="196"/>
                  </a:lnTo>
                  <a:lnTo>
                    <a:pt x="1138" y="193"/>
                  </a:lnTo>
                  <a:lnTo>
                    <a:pt x="1146" y="191"/>
                  </a:lnTo>
                  <a:lnTo>
                    <a:pt x="1154" y="188"/>
                  </a:lnTo>
                  <a:lnTo>
                    <a:pt x="1161" y="184"/>
                  </a:lnTo>
                  <a:lnTo>
                    <a:pt x="1168" y="179"/>
                  </a:lnTo>
                  <a:lnTo>
                    <a:pt x="1174" y="176"/>
                  </a:lnTo>
                  <a:lnTo>
                    <a:pt x="1180" y="171"/>
                  </a:lnTo>
                  <a:lnTo>
                    <a:pt x="1187" y="166"/>
                  </a:lnTo>
                  <a:lnTo>
                    <a:pt x="1194" y="162"/>
                  </a:lnTo>
                  <a:lnTo>
                    <a:pt x="1200" y="158"/>
                  </a:lnTo>
                  <a:lnTo>
                    <a:pt x="1207" y="154"/>
                  </a:lnTo>
                  <a:lnTo>
                    <a:pt x="1221" y="150"/>
                  </a:lnTo>
                  <a:lnTo>
                    <a:pt x="1233" y="147"/>
                  </a:lnTo>
                  <a:lnTo>
                    <a:pt x="1247" y="143"/>
                  </a:lnTo>
                  <a:lnTo>
                    <a:pt x="1260" y="141"/>
                  </a:lnTo>
                  <a:lnTo>
                    <a:pt x="1272" y="138"/>
                  </a:lnTo>
                  <a:lnTo>
                    <a:pt x="1286" y="134"/>
                  </a:lnTo>
                  <a:lnTo>
                    <a:pt x="1299" y="132"/>
                  </a:lnTo>
                  <a:lnTo>
                    <a:pt x="1313" y="128"/>
                  </a:lnTo>
                  <a:lnTo>
                    <a:pt x="1318" y="119"/>
                  </a:lnTo>
                  <a:lnTo>
                    <a:pt x="1325" y="109"/>
                  </a:lnTo>
                  <a:lnTo>
                    <a:pt x="1331" y="100"/>
                  </a:lnTo>
                  <a:lnTo>
                    <a:pt x="1337" y="90"/>
                  </a:lnTo>
                  <a:lnTo>
                    <a:pt x="1343" y="81"/>
                  </a:lnTo>
                  <a:lnTo>
                    <a:pt x="1349" y="71"/>
                  </a:lnTo>
                  <a:lnTo>
                    <a:pt x="1355" y="62"/>
                  </a:lnTo>
                  <a:lnTo>
                    <a:pt x="1361" y="52"/>
                  </a:lnTo>
                  <a:lnTo>
                    <a:pt x="1346" y="55"/>
                  </a:lnTo>
                  <a:lnTo>
                    <a:pt x="1331" y="58"/>
                  </a:lnTo>
                  <a:lnTo>
                    <a:pt x="1316" y="60"/>
                  </a:lnTo>
                  <a:lnTo>
                    <a:pt x="1301" y="64"/>
                  </a:lnTo>
                  <a:lnTo>
                    <a:pt x="1285" y="66"/>
                  </a:lnTo>
                  <a:lnTo>
                    <a:pt x="1270" y="70"/>
                  </a:lnTo>
                  <a:lnTo>
                    <a:pt x="1255" y="72"/>
                  </a:lnTo>
                  <a:lnTo>
                    <a:pt x="1240" y="75"/>
                  </a:lnTo>
                  <a:lnTo>
                    <a:pt x="1225" y="79"/>
                  </a:lnTo>
                  <a:lnTo>
                    <a:pt x="1210" y="81"/>
                  </a:lnTo>
                  <a:lnTo>
                    <a:pt x="1195" y="85"/>
                  </a:lnTo>
                  <a:lnTo>
                    <a:pt x="1180" y="87"/>
                  </a:lnTo>
                  <a:lnTo>
                    <a:pt x="1164" y="90"/>
                  </a:lnTo>
                  <a:lnTo>
                    <a:pt x="1149" y="93"/>
                  </a:lnTo>
                  <a:lnTo>
                    <a:pt x="1134" y="96"/>
                  </a:lnTo>
                  <a:lnTo>
                    <a:pt x="1119" y="98"/>
                  </a:lnTo>
                  <a:lnTo>
                    <a:pt x="1096" y="102"/>
                  </a:lnTo>
                  <a:lnTo>
                    <a:pt x="1074" y="104"/>
                  </a:lnTo>
                  <a:lnTo>
                    <a:pt x="1051" y="106"/>
                  </a:lnTo>
                  <a:lnTo>
                    <a:pt x="1029" y="108"/>
                  </a:lnTo>
                  <a:lnTo>
                    <a:pt x="1006" y="109"/>
                  </a:lnTo>
                  <a:lnTo>
                    <a:pt x="984" y="109"/>
                  </a:lnTo>
                  <a:lnTo>
                    <a:pt x="963" y="108"/>
                  </a:lnTo>
                  <a:lnTo>
                    <a:pt x="941" y="105"/>
                  </a:lnTo>
                  <a:lnTo>
                    <a:pt x="919" y="103"/>
                  </a:lnTo>
                  <a:lnTo>
                    <a:pt x="898" y="98"/>
                  </a:lnTo>
                  <a:lnTo>
                    <a:pt x="877" y="94"/>
                  </a:lnTo>
                  <a:lnTo>
                    <a:pt x="857" y="88"/>
                  </a:lnTo>
                  <a:lnTo>
                    <a:pt x="836" y="80"/>
                  </a:lnTo>
                  <a:lnTo>
                    <a:pt x="816" y="71"/>
                  </a:lnTo>
                  <a:lnTo>
                    <a:pt x="797" y="60"/>
                  </a:lnTo>
                  <a:lnTo>
                    <a:pt x="777" y="49"/>
                  </a:lnTo>
                  <a:lnTo>
                    <a:pt x="768" y="43"/>
                  </a:lnTo>
                  <a:lnTo>
                    <a:pt x="759" y="36"/>
                  </a:lnTo>
                  <a:lnTo>
                    <a:pt x="750" y="30"/>
                  </a:lnTo>
                  <a:lnTo>
                    <a:pt x="740" y="25"/>
                  </a:lnTo>
                  <a:lnTo>
                    <a:pt x="731" y="19"/>
                  </a:lnTo>
                  <a:lnTo>
                    <a:pt x="722" y="12"/>
                  </a:lnTo>
                  <a:lnTo>
                    <a:pt x="713" y="6"/>
                  </a:lnTo>
                  <a:lnTo>
                    <a:pt x="704" y="0"/>
                  </a:lnTo>
                  <a:lnTo>
                    <a:pt x="709" y="19"/>
                  </a:lnTo>
                  <a:lnTo>
                    <a:pt x="715" y="36"/>
                  </a:lnTo>
                  <a:lnTo>
                    <a:pt x="720" y="53"/>
                  </a:lnTo>
                  <a:lnTo>
                    <a:pt x="725" y="71"/>
                  </a:lnTo>
                  <a:close/>
                </a:path>
              </a:pathLst>
            </a:custGeom>
            <a:solidFill>
              <a:srgbClr val="a5a0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99600" y="1373040"/>
              <a:ext cx="579600" cy="699840"/>
            </a:xfrm>
            <a:custGeom>
              <a:avLst/>
              <a:gdLst/>
              <a:ahLst/>
              <a:rect l="l" t="t" r="r" b="b"/>
              <a:pathLst>
                <a:path w="1342" h="1619">
                  <a:moveTo>
                    <a:pt x="723" y="71"/>
                  </a:moveTo>
                  <a:lnTo>
                    <a:pt x="723" y="87"/>
                  </a:lnTo>
                  <a:lnTo>
                    <a:pt x="723" y="103"/>
                  </a:lnTo>
                  <a:lnTo>
                    <a:pt x="723" y="120"/>
                  </a:lnTo>
                  <a:lnTo>
                    <a:pt x="723" y="136"/>
                  </a:lnTo>
                  <a:lnTo>
                    <a:pt x="729" y="148"/>
                  </a:lnTo>
                  <a:lnTo>
                    <a:pt x="736" y="159"/>
                  </a:lnTo>
                  <a:lnTo>
                    <a:pt x="742" y="171"/>
                  </a:lnTo>
                  <a:lnTo>
                    <a:pt x="749" y="182"/>
                  </a:lnTo>
                  <a:lnTo>
                    <a:pt x="741" y="207"/>
                  </a:lnTo>
                  <a:lnTo>
                    <a:pt x="733" y="231"/>
                  </a:lnTo>
                  <a:lnTo>
                    <a:pt x="724" y="256"/>
                  </a:lnTo>
                  <a:lnTo>
                    <a:pt x="716" y="280"/>
                  </a:lnTo>
                  <a:lnTo>
                    <a:pt x="706" y="313"/>
                  </a:lnTo>
                  <a:lnTo>
                    <a:pt x="699" y="336"/>
                  </a:lnTo>
                  <a:lnTo>
                    <a:pt x="695" y="353"/>
                  </a:lnTo>
                  <a:lnTo>
                    <a:pt x="695" y="366"/>
                  </a:lnTo>
                  <a:lnTo>
                    <a:pt x="697" y="379"/>
                  </a:lnTo>
                  <a:lnTo>
                    <a:pt x="703" y="394"/>
                  </a:lnTo>
                  <a:lnTo>
                    <a:pt x="713" y="415"/>
                  </a:lnTo>
                  <a:lnTo>
                    <a:pt x="728" y="444"/>
                  </a:lnTo>
                  <a:lnTo>
                    <a:pt x="715" y="455"/>
                  </a:lnTo>
                  <a:lnTo>
                    <a:pt x="703" y="466"/>
                  </a:lnTo>
                  <a:lnTo>
                    <a:pt x="690" y="477"/>
                  </a:lnTo>
                  <a:lnTo>
                    <a:pt x="677" y="489"/>
                  </a:lnTo>
                  <a:lnTo>
                    <a:pt x="665" y="500"/>
                  </a:lnTo>
                  <a:lnTo>
                    <a:pt x="652" y="511"/>
                  </a:lnTo>
                  <a:lnTo>
                    <a:pt x="639" y="522"/>
                  </a:lnTo>
                  <a:lnTo>
                    <a:pt x="627" y="534"/>
                  </a:lnTo>
                  <a:lnTo>
                    <a:pt x="614" y="563"/>
                  </a:lnTo>
                  <a:lnTo>
                    <a:pt x="602" y="590"/>
                  </a:lnTo>
                  <a:lnTo>
                    <a:pt x="590" y="619"/>
                  </a:lnTo>
                  <a:lnTo>
                    <a:pt x="577" y="647"/>
                  </a:lnTo>
                  <a:lnTo>
                    <a:pt x="564" y="676"/>
                  </a:lnTo>
                  <a:lnTo>
                    <a:pt x="553" y="703"/>
                  </a:lnTo>
                  <a:lnTo>
                    <a:pt x="540" y="732"/>
                  </a:lnTo>
                  <a:lnTo>
                    <a:pt x="528" y="760"/>
                  </a:lnTo>
                  <a:lnTo>
                    <a:pt x="515" y="788"/>
                  </a:lnTo>
                  <a:lnTo>
                    <a:pt x="502" y="817"/>
                  </a:lnTo>
                  <a:lnTo>
                    <a:pt x="490" y="845"/>
                  </a:lnTo>
                  <a:lnTo>
                    <a:pt x="477" y="874"/>
                  </a:lnTo>
                  <a:lnTo>
                    <a:pt x="465" y="901"/>
                  </a:lnTo>
                  <a:lnTo>
                    <a:pt x="453" y="930"/>
                  </a:lnTo>
                  <a:lnTo>
                    <a:pt x="440" y="958"/>
                  </a:lnTo>
                  <a:lnTo>
                    <a:pt x="427" y="987"/>
                  </a:lnTo>
                  <a:lnTo>
                    <a:pt x="401" y="1012"/>
                  </a:lnTo>
                  <a:lnTo>
                    <a:pt x="374" y="1037"/>
                  </a:lnTo>
                  <a:lnTo>
                    <a:pt x="347" y="1063"/>
                  </a:lnTo>
                  <a:lnTo>
                    <a:pt x="320" y="1088"/>
                  </a:lnTo>
                  <a:lnTo>
                    <a:pt x="294" y="1114"/>
                  </a:lnTo>
                  <a:lnTo>
                    <a:pt x="267" y="1140"/>
                  </a:lnTo>
                  <a:lnTo>
                    <a:pt x="241" y="1165"/>
                  </a:lnTo>
                  <a:lnTo>
                    <a:pt x="214" y="1191"/>
                  </a:lnTo>
                  <a:lnTo>
                    <a:pt x="187" y="1216"/>
                  </a:lnTo>
                  <a:lnTo>
                    <a:pt x="160" y="1241"/>
                  </a:lnTo>
                  <a:lnTo>
                    <a:pt x="134" y="1267"/>
                  </a:lnTo>
                  <a:lnTo>
                    <a:pt x="107" y="1292"/>
                  </a:lnTo>
                  <a:lnTo>
                    <a:pt x="81" y="1318"/>
                  </a:lnTo>
                  <a:lnTo>
                    <a:pt x="53" y="1344"/>
                  </a:lnTo>
                  <a:lnTo>
                    <a:pt x="27" y="1369"/>
                  </a:lnTo>
                  <a:lnTo>
                    <a:pt x="0" y="1394"/>
                  </a:lnTo>
                  <a:lnTo>
                    <a:pt x="5" y="1424"/>
                  </a:lnTo>
                  <a:lnTo>
                    <a:pt x="9" y="1453"/>
                  </a:lnTo>
                  <a:lnTo>
                    <a:pt x="13" y="1483"/>
                  </a:lnTo>
                  <a:lnTo>
                    <a:pt x="17" y="1513"/>
                  </a:lnTo>
                  <a:lnTo>
                    <a:pt x="29" y="1525"/>
                  </a:lnTo>
                  <a:lnTo>
                    <a:pt x="41" y="1537"/>
                  </a:lnTo>
                  <a:lnTo>
                    <a:pt x="52" y="1549"/>
                  </a:lnTo>
                  <a:lnTo>
                    <a:pt x="65" y="1561"/>
                  </a:lnTo>
                  <a:lnTo>
                    <a:pt x="76" y="1573"/>
                  </a:lnTo>
                  <a:lnTo>
                    <a:pt x="88" y="1586"/>
                  </a:lnTo>
                  <a:lnTo>
                    <a:pt x="99" y="1597"/>
                  </a:lnTo>
                  <a:lnTo>
                    <a:pt x="111" y="1610"/>
                  </a:lnTo>
                  <a:lnTo>
                    <a:pt x="126" y="1611"/>
                  </a:lnTo>
                  <a:lnTo>
                    <a:pt x="141" y="1612"/>
                  </a:lnTo>
                  <a:lnTo>
                    <a:pt x="156" y="1613"/>
                  </a:lnTo>
                  <a:lnTo>
                    <a:pt x="172" y="1614"/>
                  </a:lnTo>
                  <a:lnTo>
                    <a:pt x="187" y="1616"/>
                  </a:lnTo>
                  <a:lnTo>
                    <a:pt x="202" y="1617"/>
                  </a:lnTo>
                  <a:lnTo>
                    <a:pt x="217" y="1618"/>
                  </a:lnTo>
                  <a:lnTo>
                    <a:pt x="232" y="1619"/>
                  </a:lnTo>
                  <a:lnTo>
                    <a:pt x="247" y="1610"/>
                  </a:lnTo>
                  <a:lnTo>
                    <a:pt x="262" y="1601"/>
                  </a:lnTo>
                  <a:lnTo>
                    <a:pt x="278" y="1591"/>
                  </a:lnTo>
                  <a:lnTo>
                    <a:pt x="293" y="1582"/>
                  </a:lnTo>
                  <a:lnTo>
                    <a:pt x="309" y="1574"/>
                  </a:lnTo>
                  <a:lnTo>
                    <a:pt x="324" y="1565"/>
                  </a:lnTo>
                  <a:lnTo>
                    <a:pt x="340" y="1556"/>
                  </a:lnTo>
                  <a:lnTo>
                    <a:pt x="355" y="1547"/>
                  </a:lnTo>
                  <a:lnTo>
                    <a:pt x="371" y="1535"/>
                  </a:lnTo>
                  <a:lnTo>
                    <a:pt x="387" y="1523"/>
                  </a:lnTo>
                  <a:lnTo>
                    <a:pt x="402" y="1512"/>
                  </a:lnTo>
                  <a:lnTo>
                    <a:pt x="418" y="1500"/>
                  </a:lnTo>
                  <a:lnTo>
                    <a:pt x="434" y="1489"/>
                  </a:lnTo>
                  <a:lnTo>
                    <a:pt x="449" y="1477"/>
                  </a:lnTo>
                  <a:lnTo>
                    <a:pt x="465" y="1466"/>
                  </a:lnTo>
                  <a:lnTo>
                    <a:pt x="482" y="1454"/>
                  </a:lnTo>
                  <a:lnTo>
                    <a:pt x="503" y="1431"/>
                  </a:lnTo>
                  <a:lnTo>
                    <a:pt x="525" y="1407"/>
                  </a:lnTo>
                  <a:lnTo>
                    <a:pt x="546" y="1384"/>
                  </a:lnTo>
                  <a:lnTo>
                    <a:pt x="568" y="1361"/>
                  </a:lnTo>
                  <a:lnTo>
                    <a:pt x="590" y="1338"/>
                  </a:lnTo>
                  <a:lnTo>
                    <a:pt x="612" y="1314"/>
                  </a:lnTo>
                  <a:lnTo>
                    <a:pt x="634" y="1291"/>
                  </a:lnTo>
                  <a:lnTo>
                    <a:pt x="655" y="1268"/>
                  </a:lnTo>
                  <a:lnTo>
                    <a:pt x="684" y="1212"/>
                  </a:lnTo>
                  <a:lnTo>
                    <a:pt x="712" y="1158"/>
                  </a:lnTo>
                  <a:lnTo>
                    <a:pt x="739" y="1105"/>
                  </a:lnTo>
                  <a:lnTo>
                    <a:pt x="767" y="1055"/>
                  </a:lnTo>
                  <a:lnTo>
                    <a:pt x="795" y="1003"/>
                  </a:lnTo>
                  <a:lnTo>
                    <a:pt x="822" y="953"/>
                  </a:lnTo>
                  <a:lnTo>
                    <a:pt x="850" y="902"/>
                  </a:lnTo>
                  <a:lnTo>
                    <a:pt x="878" y="853"/>
                  </a:lnTo>
                  <a:lnTo>
                    <a:pt x="905" y="805"/>
                  </a:lnTo>
                  <a:lnTo>
                    <a:pt x="933" y="755"/>
                  </a:lnTo>
                  <a:lnTo>
                    <a:pt x="962" y="705"/>
                  </a:lnTo>
                  <a:lnTo>
                    <a:pt x="990" y="655"/>
                  </a:lnTo>
                  <a:lnTo>
                    <a:pt x="1020" y="605"/>
                  </a:lnTo>
                  <a:lnTo>
                    <a:pt x="1051" y="553"/>
                  </a:lnTo>
                  <a:lnTo>
                    <a:pt x="1084" y="502"/>
                  </a:lnTo>
                  <a:lnTo>
                    <a:pt x="1116" y="449"/>
                  </a:lnTo>
                  <a:lnTo>
                    <a:pt x="1131" y="417"/>
                  </a:lnTo>
                  <a:lnTo>
                    <a:pt x="1144" y="391"/>
                  </a:lnTo>
                  <a:lnTo>
                    <a:pt x="1156" y="368"/>
                  </a:lnTo>
                  <a:lnTo>
                    <a:pt x="1168" y="347"/>
                  </a:lnTo>
                  <a:lnTo>
                    <a:pt x="1177" y="330"/>
                  </a:lnTo>
                  <a:lnTo>
                    <a:pt x="1185" y="315"/>
                  </a:lnTo>
                  <a:lnTo>
                    <a:pt x="1190" y="302"/>
                  </a:lnTo>
                  <a:lnTo>
                    <a:pt x="1191" y="292"/>
                  </a:lnTo>
                  <a:lnTo>
                    <a:pt x="1190" y="283"/>
                  </a:lnTo>
                  <a:lnTo>
                    <a:pt x="1185" y="275"/>
                  </a:lnTo>
                  <a:lnTo>
                    <a:pt x="1176" y="267"/>
                  </a:lnTo>
                  <a:lnTo>
                    <a:pt x="1163" y="260"/>
                  </a:lnTo>
                  <a:lnTo>
                    <a:pt x="1146" y="253"/>
                  </a:lnTo>
                  <a:lnTo>
                    <a:pt x="1123" y="246"/>
                  </a:lnTo>
                  <a:lnTo>
                    <a:pt x="1095" y="238"/>
                  </a:lnTo>
                  <a:lnTo>
                    <a:pt x="1062" y="229"/>
                  </a:lnTo>
                  <a:lnTo>
                    <a:pt x="1063" y="220"/>
                  </a:lnTo>
                  <a:lnTo>
                    <a:pt x="1064" y="212"/>
                  </a:lnTo>
                  <a:lnTo>
                    <a:pt x="1065" y="204"/>
                  </a:lnTo>
                  <a:lnTo>
                    <a:pt x="1066" y="196"/>
                  </a:lnTo>
                  <a:lnTo>
                    <a:pt x="1076" y="194"/>
                  </a:lnTo>
                  <a:lnTo>
                    <a:pt x="1084" y="191"/>
                  </a:lnTo>
                  <a:lnTo>
                    <a:pt x="1093" y="188"/>
                  </a:lnTo>
                  <a:lnTo>
                    <a:pt x="1101" y="186"/>
                  </a:lnTo>
                  <a:lnTo>
                    <a:pt x="1110" y="184"/>
                  </a:lnTo>
                  <a:lnTo>
                    <a:pt x="1118" y="180"/>
                  </a:lnTo>
                  <a:lnTo>
                    <a:pt x="1127" y="178"/>
                  </a:lnTo>
                  <a:lnTo>
                    <a:pt x="1136" y="176"/>
                  </a:lnTo>
                  <a:lnTo>
                    <a:pt x="1142" y="172"/>
                  </a:lnTo>
                  <a:lnTo>
                    <a:pt x="1148" y="167"/>
                  </a:lnTo>
                  <a:lnTo>
                    <a:pt x="1155" y="164"/>
                  </a:lnTo>
                  <a:lnTo>
                    <a:pt x="1162" y="159"/>
                  </a:lnTo>
                  <a:lnTo>
                    <a:pt x="1169" y="156"/>
                  </a:lnTo>
                  <a:lnTo>
                    <a:pt x="1176" y="152"/>
                  </a:lnTo>
                  <a:lnTo>
                    <a:pt x="1182" y="148"/>
                  </a:lnTo>
                  <a:lnTo>
                    <a:pt x="1189" y="144"/>
                  </a:lnTo>
                  <a:lnTo>
                    <a:pt x="1202" y="141"/>
                  </a:lnTo>
                  <a:lnTo>
                    <a:pt x="1215" y="138"/>
                  </a:lnTo>
                  <a:lnTo>
                    <a:pt x="1229" y="134"/>
                  </a:lnTo>
                  <a:lnTo>
                    <a:pt x="1241" y="131"/>
                  </a:lnTo>
                  <a:lnTo>
                    <a:pt x="1254" y="127"/>
                  </a:lnTo>
                  <a:lnTo>
                    <a:pt x="1267" y="124"/>
                  </a:lnTo>
                  <a:lnTo>
                    <a:pt x="1281" y="121"/>
                  </a:lnTo>
                  <a:lnTo>
                    <a:pt x="1293" y="118"/>
                  </a:lnTo>
                  <a:lnTo>
                    <a:pt x="1299" y="109"/>
                  </a:lnTo>
                  <a:lnTo>
                    <a:pt x="1306" y="101"/>
                  </a:lnTo>
                  <a:lnTo>
                    <a:pt x="1312" y="91"/>
                  </a:lnTo>
                  <a:lnTo>
                    <a:pt x="1317" y="83"/>
                  </a:lnTo>
                  <a:lnTo>
                    <a:pt x="1323" y="74"/>
                  </a:lnTo>
                  <a:lnTo>
                    <a:pt x="1330" y="66"/>
                  </a:lnTo>
                  <a:lnTo>
                    <a:pt x="1336" y="57"/>
                  </a:lnTo>
                  <a:lnTo>
                    <a:pt x="1342" y="49"/>
                  </a:lnTo>
                  <a:lnTo>
                    <a:pt x="1327" y="51"/>
                  </a:lnTo>
                  <a:lnTo>
                    <a:pt x="1313" y="55"/>
                  </a:lnTo>
                  <a:lnTo>
                    <a:pt x="1298" y="57"/>
                  </a:lnTo>
                  <a:lnTo>
                    <a:pt x="1283" y="59"/>
                  </a:lnTo>
                  <a:lnTo>
                    <a:pt x="1268" y="61"/>
                  </a:lnTo>
                  <a:lnTo>
                    <a:pt x="1254" y="65"/>
                  </a:lnTo>
                  <a:lnTo>
                    <a:pt x="1239" y="67"/>
                  </a:lnTo>
                  <a:lnTo>
                    <a:pt x="1224" y="70"/>
                  </a:lnTo>
                  <a:lnTo>
                    <a:pt x="1209" y="72"/>
                  </a:lnTo>
                  <a:lnTo>
                    <a:pt x="1195" y="75"/>
                  </a:lnTo>
                  <a:lnTo>
                    <a:pt x="1180" y="78"/>
                  </a:lnTo>
                  <a:lnTo>
                    <a:pt x="1165" y="80"/>
                  </a:lnTo>
                  <a:lnTo>
                    <a:pt x="1151" y="83"/>
                  </a:lnTo>
                  <a:lnTo>
                    <a:pt x="1137" y="86"/>
                  </a:lnTo>
                  <a:lnTo>
                    <a:pt x="1122" y="89"/>
                  </a:lnTo>
                  <a:lnTo>
                    <a:pt x="1107" y="91"/>
                  </a:lnTo>
                  <a:lnTo>
                    <a:pt x="1084" y="95"/>
                  </a:lnTo>
                  <a:lnTo>
                    <a:pt x="1061" y="97"/>
                  </a:lnTo>
                  <a:lnTo>
                    <a:pt x="1039" y="99"/>
                  </a:lnTo>
                  <a:lnTo>
                    <a:pt x="1016" y="101"/>
                  </a:lnTo>
                  <a:lnTo>
                    <a:pt x="995" y="102"/>
                  </a:lnTo>
                  <a:lnTo>
                    <a:pt x="973" y="102"/>
                  </a:lnTo>
                  <a:lnTo>
                    <a:pt x="952" y="102"/>
                  </a:lnTo>
                  <a:lnTo>
                    <a:pt x="932" y="101"/>
                  </a:lnTo>
                  <a:lnTo>
                    <a:pt x="911" y="98"/>
                  </a:lnTo>
                  <a:lnTo>
                    <a:pt x="891" y="95"/>
                  </a:lnTo>
                  <a:lnTo>
                    <a:pt x="871" y="89"/>
                  </a:lnTo>
                  <a:lnTo>
                    <a:pt x="851" y="83"/>
                  </a:lnTo>
                  <a:lnTo>
                    <a:pt x="832" y="76"/>
                  </a:lnTo>
                  <a:lnTo>
                    <a:pt x="811" y="67"/>
                  </a:lnTo>
                  <a:lnTo>
                    <a:pt x="791" y="57"/>
                  </a:lnTo>
                  <a:lnTo>
                    <a:pt x="772" y="45"/>
                  </a:lnTo>
                  <a:lnTo>
                    <a:pt x="762" y="40"/>
                  </a:lnTo>
                  <a:lnTo>
                    <a:pt x="754" y="34"/>
                  </a:lnTo>
                  <a:lnTo>
                    <a:pt x="745" y="28"/>
                  </a:lnTo>
                  <a:lnTo>
                    <a:pt x="737" y="22"/>
                  </a:lnTo>
                  <a:lnTo>
                    <a:pt x="728" y="18"/>
                  </a:lnTo>
                  <a:lnTo>
                    <a:pt x="720" y="12"/>
                  </a:lnTo>
                  <a:lnTo>
                    <a:pt x="711" y="6"/>
                  </a:lnTo>
                  <a:lnTo>
                    <a:pt x="701" y="0"/>
                  </a:lnTo>
                  <a:lnTo>
                    <a:pt x="707" y="18"/>
                  </a:lnTo>
                  <a:lnTo>
                    <a:pt x="713" y="35"/>
                  </a:lnTo>
                  <a:lnTo>
                    <a:pt x="718" y="52"/>
                  </a:lnTo>
                  <a:lnTo>
                    <a:pt x="723" y="71"/>
                  </a:lnTo>
                  <a:close/>
                </a:path>
              </a:pathLst>
            </a:custGeom>
            <a:solidFill>
              <a:srgbClr val="9b9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03200" y="1375560"/>
              <a:ext cx="571320" cy="690120"/>
            </a:xfrm>
            <a:custGeom>
              <a:avLst/>
              <a:gdLst/>
              <a:ahLst/>
              <a:rect l="l" t="t" r="r" b="b"/>
              <a:pathLst>
                <a:path w="1321" h="1597">
                  <a:moveTo>
                    <a:pt x="722" y="70"/>
                  </a:moveTo>
                  <a:lnTo>
                    <a:pt x="722" y="87"/>
                  </a:lnTo>
                  <a:lnTo>
                    <a:pt x="722" y="103"/>
                  </a:lnTo>
                  <a:lnTo>
                    <a:pt x="722" y="120"/>
                  </a:lnTo>
                  <a:lnTo>
                    <a:pt x="722" y="136"/>
                  </a:lnTo>
                  <a:lnTo>
                    <a:pt x="729" y="148"/>
                  </a:lnTo>
                  <a:lnTo>
                    <a:pt x="737" y="159"/>
                  </a:lnTo>
                  <a:lnTo>
                    <a:pt x="744" y="171"/>
                  </a:lnTo>
                  <a:lnTo>
                    <a:pt x="751" y="182"/>
                  </a:lnTo>
                  <a:lnTo>
                    <a:pt x="744" y="208"/>
                  </a:lnTo>
                  <a:lnTo>
                    <a:pt x="737" y="232"/>
                  </a:lnTo>
                  <a:lnTo>
                    <a:pt x="729" y="257"/>
                  </a:lnTo>
                  <a:lnTo>
                    <a:pt x="722" y="282"/>
                  </a:lnTo>
                  <a:lnTo>
                    <a:pt x="713" y="314"/>
                  </a:lnTo>
                  <a:lnTo>
                    <a:pt x="705" y="337"/>
                  </a:lnTo>
                  <a:lnTo>
                    <a:pt x="702" y="353"/>
                  </a:lnTo>
                  <a:lnTo>
                    <a:pt x="701" y="365"/>
                  </a:lnTo>
                  <a:lnTo>
                    <a:pt x="702" y="378"/>
                  </a:lnTo>
                  <a:lnTo>
                    <a:pt x="709" y="393"/>
                  </a:lnTo>
                  <a:lnTo>
                    <a:pt x="718" y="414"/>
                  </a:lnTo>
                  <a:lnTo>
                    <a:pt x="733" y="443"/>
                  </a:lnTo>
                  <a:lnTo>
                    <a:pt x="719" y="455"/>
                  </a:lnTo>
                  <a:lnTo>
                    <a:pt x="706" y="468"/>
                  </a:lnTo>
                  <a:lnTo>
                    <a:pt x="692" y="481"/>
                  </a:lnTo>
                  <a:lnTo>
                    <a:pt x="680" y="493"/>
                  </a:lnTo>
                  <a:lnTo>
                    <a:pt x="666" y="506"/>
                  </a:lnTo>
                  <a:lnTo>
                    <a:pt x="652" y="519"/>
                  </a:lnTo>
                  <a:lnTo>
                    <a:pt x="639" y="531"/>
                  </a:lnTo>
                  <a:lnTo>
                    <a:pt x="626" y="544"/>
                  </a:lnTo>
                  <a:lnTo>
                    <a:pt x="613" y="572"/>
                  </a:lnTo>
                  <a:lnTo>
                    <a:pt x="600" y="600"/>
                  </a:lnTo>
                  <a:lnTo>
                    <a:pt x="588" y="628"/>
                  </a:lnTo>
                  <a:lnTo>
                    <a:pt x="575" y="656"/>
                  </a:lnTo>
                  <a:lnTo>
                    <a:pt x="562" y="685"/>
                  </a:lnTo>
                  <a:lnTo>
                    <a:pt x="550" y="712"/>
                  </a:lnTo>
                  <a:lnTo>
                    <a:pt x="537" y="740"/>
                  </a:lnTo>
                  <a:lnTo>
                    <a:pt x="524" y="767"/>
                  </a:lnTo>
                  <a:lnTo>
                    <a:pt x="512" y="796"/>
                  </a:lnTo>
                  <a:lnTo>
                    <a:pt x="499" y="824"/>
                  </a:lnTo>
                  <a:lnTo>
                    <a:pt x="486" y="852"/>
                  </a:lnTo>
                  <a:lnTo>
                    <a:pt x="474" y="879"/>
                  </a:lnTo>
                  <a:lnTo>
                    <a:pt x="461" y="907"/>
                  </a:lnTo>
                  <a:lnTo>
                    <a:pt x="448" y="936"/>
                  </a:lnTo>
                  <a:lnTo>
                    <a:pt x="436" y="963"/>
                  </a:lnTo>
                  <a:lnTo>
                    <a:pt x="423" y="991"/>
                  </a:lnTo>
                  <a:lnTo>
                    <a:pt x="397" y="1016"/>
                  </a:lnTo>
                  <a:lnTo>
                    <a:pt x="370" y="1041"/>
                  </a:lnTo>
                  <a:lnTo>
                    <a:pt x="344" y="1066"/>
                  </a:lnTo>
                  <a:lnTo>
                    <a:pt x="317" y="1090"/>
                  </a:lnTo>
                  <a:lnTo>
                    <a:pt x="291" y="1115"/>
                  </a:lnTo>
                  <a:lnTo>
                    <a:pt x="264" y="1140"/>
                  </a:lnTo>
                  <a:lnTo>
                    <a:pt x="238" y="1164"/>
                  </a:lnTo>
                  <a:lnTo>
                    <a:pt x="212" y="1189"/>
                  </a:lnTo>
                  <a:lnTo>
                    <a:pt x="186" y="1213"/>
                  </a:lnTo>
                  <a:lnTo>
                    <a:pt x="159" y="1239"/>
                  </a:lnTo>
                  <a:lnTo>
                    <a:pt x="133" y="1263"/>
                  </a:lnTo>
                  <a:lnTo>
                    <a:pt x="106" y="1287"/>
                  </a:lnTo>
                  <a:lnTo>
                    <a:pt x="80" y="1312"/>
                  </a:lnTo>
                  <a:lnTo>
                    <a:pt x="53" y="1337"/>
                  </a:lnTo>
                  <a:lnTo>
                    <a:pt x="27" y="1362"/>
                  </a:lnTo>
                  <a:lnTo>
                    <a:pt x="0" y="1386"/>
                  </a:lnTo>
                  <a:lnTo>
                    <a:pt x="5" y="1417"/>
                  </a:lnTo>
                  <a:lnTo>
                    <a:pt x="10" y="1447"/>
                  </a:lnTo>
                  <a:lnTo>
                    <a:pt x="14" y="1477"/>
                  </a:lnTo>
                  <a:lnTo>
                    <a:pt x="19" y="1507"/>
                  </a:lnTo>
                  <a:lnTo>
                    <a:pt x="29" y="1517"/>
                  </a:lnTo>
                  <a:lnTo>
                    <a:pt x="41" y="1529"/>
                  </a:lnTo>
                  <a:lnTo>
                    <a:pt x="51" y="1539"/>
                  </a:lnTo>
                  <a:lnTo>
                    <a:pt x="63" y="1551"/>
                  </a:lnTo>
                  <a:lnTo>
                    <a:pt x="73" y="1562"/>
                  </a:lnTo>
                  <a:lnTo>
                    <a:pt x="84" y="1573"/>
                  </a:lnTo>
                  <a:lnTo>
                    <a:pt x="95" y="1584"/>
                  </a:lnTo>
                  <a:lnTo>
                    <a:pt x="106" y="1595"/>
                  </a:lnTo>
                  <a:lnTo>
                    <a:pt x="121" y="1595"/>
                  </a:lnTo>
                  <a:lnTo>
                    <a:pt x="136" y="1596"/>
                  </a:lnTo>
                  <a:lnTo>
                    <a:pt x="151" y="1596"/>
                  </a:lnTo>
                  <a:lnTo>
                    <a:pt x="166" y="1596"/>
                  </a:lnTo>
                  <a:lnTo>
                    <a:pt x="181" y="1597"/>
                  </a:lnTo>
                  <a:lnTo>
                    <a:pt x="196" y="1597"/>
                  </a:lnTo>
                  <a:lnTo>
                    <a:pt x="211" y="1597"/>
                  </a:lnTo>
                  <a:lnTo>
                    <a:pt x="226" y="1597"/>
                  </a:lnTo>
                  <a:lnTo>
                    <a:pt x="241" y="1588"/>
                  </a:lnTo>
                  <a:lnTo>
                    <a:pt x="256" y="1580"/>
                  </a:lnTo>
                  <a:lnTo>
                    <a:pt x="270" y="1570"/>
                  </a:lnTo>
                  <a:lnTo>
                    <a:pt x="285" y="1561"/>
                  </a:lnTo>
                  <a:lnTo>
                    <a:pt x="300" y="1553"/>
                  </a:lnTo>
                  <a:lnTo>
                    <a:pt x="315" y="1544"/>
                  </a:lnTo>
                  <a:lnTo>
                    <a:pt x="329" y="1535"/>
                  </a:lnTo>
                  <a:lnTo>
                    <a:pt x="344" y="1526"/>
                  </a:lnTo>
                  <a:lnTo>
                    <a:pt x="360" y="1514"/>
                  </a:lnTo>
                  <a:lnTo>
                    <a:pt x="375" y="1504"/>
                  </a:lnTo>
                  <a:lnTo>
                    <a:pt x="391" y="1492"/>
                  </a:lnTo>
                  <a:lnTo>
                    <a:pt x="406" y="1481"/>
                  </a:lnTo>
                  <a:lnTo>
                    <a:pt x="422" y="1470"/>
                  </a:lnTo>
                  <a:lnTo>
                    <a:pt x="437" y="1459"/>
                  </a:lnTo>
                  <a:lnTo>
                    <a:pt x="453" y="1448"/>
                  </a:lnTo>
                  <a:lnTo>
                    <a:pt x="468" y="1437"/>
                  </a:lnTo>
                  <a:lnTo>
                    <a:pt x="489" y="1413"/>
                  </a:lnTo>
                  <a:lnTo>
                    <a:pt x="511" y="1390"/>
                  </a:lnTo>
                  <a:lnTo>
                    <a:pt x="531" y="1365"/>
                  </a:lnTo>
                  <a:lnTo>
                    <a:pt x="553" y="1341"/>
                  </a:lnTo>
                  <a:lnTo>
                    <a:pt x="575" y="1317"/>
                  </a:lnTo>
                  <a:lnTo>
                    <a:pt x="596" y="1293"/>
                  </a:lnTo>
                  <a:lnTo>
                    <a:pt x="618" y="1270"/>
                  </a:lnTo>
                  <a:lnTo>
                    <a:pt x="638" y="1246"/>
                  </a:lnTo>
                  <a:lnTo>
                    <a:pt x="667" y="1190"/>
                  </a:lnTo>
                  <a:lnTo>
                    <a:pt x="695" y="1137"/>
                  </a:lnTo>
                  <a:lnTo>
                    <a:pt x="722" y="1085"/>
                  </a:lnTo>
                  <a:lnTo>
                    <a:pt x="749" y="1036"/>
                  </a:lnTo>
                  <a:lnTo>
                    <a:pt x="775" y="986"/>
                  </a:lnTo>
                  <a:lnTo>
                    <a:pt x="802" y="938"/>
                  </a:lnTo>
                  <a:lnTo>
                    <a:pt x="828" y="890"/>
                  </a:lnTo>
                  <a:lnTo>
                    <a:pt x="854" y="842"/>
                  </a:lnTo>
                  <a:lnTo>
                    <a:pt x="880" y="795"/>
                  </a:lnTo>
                  <a:lnTo>
                    <a:pt x="908" y="748"/>
                  </a:lnTo>
                  <a:lnTo>
                    <a:pt x="935" y="701"/>
                  </a:lnTo>
                  <a:lnTo>
                    <a:pt x="963" y="652"/>
                  </a:lnTo>
                  <a:lnTo>
                    <a:pt x="992" y="604"/>
                  </a:lnTo>
                  <a:lnTo>
                    <a:pt x="1023" y="553"/>
                  </a:lnTo>
                  <a:lnTo>
                    <a:pt x="1054" y="502"/>
                  </a:lnTo>
                  <a:lnTo>
                    <a:pt x="1086" y="449"/>
                  </a:lnTo>
                  <a:lnTo>
                    <a:pt x="1101" y="418"/>
                  </a:lnTo>
                  <a:lnTo>
                    <a:pt x="1115" y="392"/>
                  </a:lnTo>
                  <a:lnTo>
                    <a:pt x="1128" y="369"/>
                  </a:lnTo>
                  <a:lnTo>
                    <a:pt x="1139" y="348"/>
                  </a:lnTo>
                  <a:lnTo>
                    <a:pt x="1150" y="331"/>
                  </a:lnTo>
                  <a:lnTo>
                    <a:pt x="1158" y="316"/>
                  </a:lnTo>
                  <a:lnTo>
                    <a:pt x="1162" y="303"/>
                  </a:lnTo>
                  <a:lnTo>
                    <a:pt x="1166" y="292"/>
                  </a:lnTo>
                  <a:lnTo>
                    <a:pt x="1165" y="282"/>
                  </a:lnTo>
                  <a:lnTo>
                    <a:pt x="1160" y="273"/>
                  </a:lnTo>
                  <a:lnTo>
                    <a:pt x="1152" y="265"/>
                  </a:lnTo>
                  <a:lnTo>
                    <a:pt x="1140" y="258"/>
                  </a:lnTo>
                  <a:lnTo>
                    <a:pt x="1123" y="251"/>
                  </a:lnTo>
                  <a:lnTo>
                    <a:pt x="1101" y="243"/>
                  </a:lnTo>
                  <a:lnTo>
                    <a:pt x="1074" y="236"/>
                  </a:lnTo>
                  <a:lnTo>
                    <a:pt x="1040" y="227"/>
                  </a:lnTo>
                  <a:lnTo>
                    <a:pt x="1042" y="217"/>
                  </a:lnTo>
                  <a:lnTo>
                    <a:pt x="1044" y="206"/>
                  </a:lnTo>
                  <a:lnTo>
                    <a:pt x="1046" y="196"/>
                  </a:lnTo>
                  <a:lnTo>
                    <a:pt x="1047" y="186"/>
                  </a:lnTo>
                  <a:lnTo>
                    <a:pt x="1056" y="182"/>
                  </a:lnTo>
                  <a:lnTo>
                    <a:pt x="1064" y="180"/>
                  </a:lnTo>
                  <a:lnTo>
                    <a:pt x="1074" y="176"/>
                  </a:lnTo>
                  <a:lnTo>
                    <a:pt x="1083" y="174"/>
                  </a:lnTo>
                  <a:lnTo>
                    <a:pt x="1091" y="172"/>
                  </a:lnTo>
                  <a:lnTo>
                    <a:pt x="1100" y="170"/>
                  </a:lnTo>
                  <a:lnTo>
                    <a:pt x="1108" y="166"/>
                  </a:lnTo>
                  <a:lnTo>
                    <a:pt x="1117" y="164"/>
                  </a:lnTo>
                  <a:lnTo>
                    <a:pt x="1124" y="160"/>
                  </a:lnTo>
                  <a:lnTo>
                    <a:pt x="1130" y="157"/>
                  </a:lnTo>
                  <a:lnTo>
                    <a:pt x="1137" y="153"/>
                  </a:lnTo>
                  <a:lnTo>
                    <a:pt x="1144" y="149"/>
                  </a:lnTo>
                  <a:lnTo>
                    <a:pt x="1151" y="145"/>
                  </a:lnTo>
                  <a:lnTo>
                    <a:pt x="1158" y="142"/>
                  </a:lnTo>
                  <a:lnTo>
                    <a:pt x="1165" y="138"/>
                  </a:lnTo>
                  <a:lnTo>
                    <a:pt x="1171" y="135"/>
                  </a:lnTo>
                  <a:lnTo>
                    <a:pt x="1184" y="132"/>
                  </a:lnTo>
                  <a:lnTo>
                    <a:pt x="1197" y="128"/>
                  </a:lnTo>
                  <a:lnTo>
                    <a:pt x="1209" y="125"/>
                  </a:lnTo>
                  <a:lnTo>
                    <a:pt x="1223" y="121"/>
                  </a:lnTo>
                  <a:lnTo>
                    <a:pt x="1236" y="119"/>
                  </a:lnTo>
                  <a:lnTo>
                    <a:pt x="1249" y="115"/>
                  </a:lnTo>
                  <a:lnTo>
                    <a:pt x="1262" y="112"/>
                  </a:lnTo>
                  <a:lnTo>
                    <a:pt x="1275" y="108"/>
                  </a:lnTo>
                  <a:lnTo>
                    <a:pt x="1281" y="100"/>
                  </a:lnTo>
                  <a:lnTo>
                    <a:pt x="1287" y="92"/>
                  </a:lnTo>
                  <a:lnTo>
                    <a:pt x="1292" y="84"/>
                  </a:lnTo>
                  <a:lnTo>
                    <a:pt x="1298" y="76"/>
                  </a:lnTo>
                  <a:lnTo>
                    <a:pt x="1304" y="69"/>
                  </a:lnTo>
                  <a:lnTo>
                    <a:pt x="1310" y="61"/>
                  </a:lnTo>
                  <a:lnTo>
                    <a:pt x="1315" y="53"/>
                  </a:lnTo>
                  <a:lnTo>
                    <a:pt x="1321" y="45"/>
                  </a:lnTo>
                  <a:lnTo>
                    <a:pt x="1307" y="47"/>
                  </a:lnTo>
                  <a:lnTo>
                    <a:pt x="1292" y="50"/>
                  </a:lnTo>
                  <a:lnTo>
                    <a:pt x="1279" y="53"/>
                  </a:lnTo>
                  <a:lnTo>
                    <a:pt x="1265" y="55"/>
                  </a:lnTo>
                  <a:lnTo>
                    <a:pt x="1251" y="58"/>
                  </a:lnTo>
                  <a:lnTo>
                    <a:pt x="1236" y="60"/>
                  </a:lnTo>
                  <a:lnTo>
                    <a:pt x="1222" y="62"/>
                  </a:lnTo>
                  <a:lnTo>
                    <a:pt x="1208" y="65"/>
                  </a:lnTo>
                  <a:lnTo>
                    <a:pt x="1194" y="68"/>
                  </a:lnTo>
                  <a:lnTo>
                    <a:pt x="1180" y="70"/>
                  </a:lnTo>
                  <a:lnTo>
                    <a:pt x="1166" y="73"/>
                  </a:lnTo>
                  <a:lnTo>
                    <a:pt x="1152" y="75"/>
                  </a:lnTo>
                  <a:lnTo>
                    <a:pt x="1137" y="77"/>
                  </a:lnTo>
                  <a:lnTo>
                    <a:pt x="1123" y="81"/>
                  </a:lnTo>
                  <a:lnTo>
                    <a:pt x="1109" y="83"/>
                  </a:lnTo>
                  <a:lnTo>
                    <a:pt x="1094" y="85"/>
                  </a:lnTo>
                  <a:lnTo>
                    <a:pt x="1070" y="89"/>
                  </a:lnTo>
                  <a:lnTo>
                    <a:pt x="1048" y="91"/>
                  </a:lnTo>
                  <a:lnTo>
                    <a:pt x="1025" y="93"/>
                  </a:lnTo>
                  <a:lnTo>
                    <a:pt x="1004" y="96"/>
                  </a:lnTo>
                  <a:lnTo>
                    <a:pt x="984" y="97"/>
                  </a:lnTo>
                  <a:lnTo>
                    <a:pt x="963" y="97"/>
                  </a:lnTo>
                  <a:lnTo>
                    <a:pt x="943" y="97"/>
                  </a:lnTo>
                  <a:lnTo>
                    <a:pt x="924" y="96"/>
                  </a:lnTo>
                  <a:lnTo>
                    <a:pt x="904" y="93"/>
                  </a:lnTo>
                  <a:lnTo>
                    <a:pt x="886" y="90"/>
                  </a:lnTo>
                  <a:lnTo>
                    <a:pt x="866" y="85"/>
                  </a:lnTo>
                  <a:lnTo>
                    <a:pt x="847" y="80"/>
                  </a:lnTo>
                  <a:lnTo>
                    <a:pt x="827" y="73"/>
                  </a:lnTo>
                  <a:lnTo>
                    <a:pt x="808" y="65"/>
                  </a:lnTo>
                  <a:lnTo>
                    <a:pt x="788" y="54"/>
                  </a:lnTo>
                  <a:lnTo>
                    <a:pt x="767" y="43"/>
                  </a:lnTo>
                  <a:lnTo>
                    <a:pt x="758" y="37"/>
                  </a:lnTo>
                  <a:lnTo>
                    <a:pt x="749" y="32"/>
                  </a:lnTo>
                  <a:lnTo>
                    <a:pt x="741" y="27"/>
                  </a:lnTo>
                  <a:lnTo>
                    <a:pt x="732" y="22"/>
                  </a:lnTo>
                  <a:lnTo>
                    <a:pt x="724" y="16"/>
                  </a:lnTo>
                  <a:lnTo>
                    <a:pt x="714" y="12"/>
                  </a:lnTo>
                  <a:lnTo>
                    <a:pt x="706" y="6"/>
                  </a:lnTo>
                  <a:lnTo>
                    <a:pt x="697" y="0"/>
                  </a:lnTo>
                  <a:lnTo>
                    <a:pt x="703" y="19"/>
                  </a:lnTo>
                  <a:lnTo>
                    <a:pt x="710" y="36"/>
                  </a:lnTo>
                  <a:lnTo>
                    <a:pt x="717" y="53"/>
                  </a:lnTo>
                  <a:lnTo>
                    <a:pt x="722" y="70"/>
                  </a:lnTo>
                  <a:close/>
                </a:path>
              </a:pathLst>
            </a:custGeom>
            <a:solidFill>
              <a:srgbClr val="8e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07520" y="1378080"/>
              <a:ext cx="561960" cy="683280"/>
            </a:xfrm>
            <a:custGeom>
              <a:avLst/>
              <a:gdLst/>
              <a:ahLst/>
              <a:rect l="l" t="t" r="r" b="b"/>
              <a:pathLst>
                <a:path w="1301" h="1580">
                  <a:moveTo>
                    <a:pt x="720" y="69"/>
                  </a:moveTo>
                  <a:lnTo>
                    <a:pt x="720" y="85"/>
                  </a:lnTo>
                  <a:lnTo>
                    <a:pt x="720" y="101"/>
                  </a:lnTo>
                  <a:lnTo>
                    <a:pt x="720" y="119"/>
                  </a:lnTo>
                  <a:lnTo>
                    <a:pt x="720" y="135"/>
                  </a:lnTo>
                  <a:lnTo>
                    <a:pt x="728" y="146"/>
                  </a:lnTo>
                  <a:lnTo>
                    <a:pt x="737" y="158"/>
                  </a:lnTo>
                  <a:lnTo>
                    <a:pt x="745" y="171"/>
                  </a:lnTo>
                  <a:lnTo>
                    <a:pt x="753" y="182"/>
                  </a:lnTo>
                  <a:lnTo>
                    <a:pt x="747" y="207"/>
                  </a:lnTo>
                  <a:lnTo>
                    <a:pt x="741" y="232"/>
                  </a:lnTo>
                  <a:lnTo>
                    <a:pt x="735" y="257"/>
                  </a:lnTo>
                  <a:lnTo>
                    <a:pt x="730" y="282"/>
                  </a:lnTo>
                  <a:lnTo>
                    <a:pt x="719" y="313"/>
                  </a:lnTo>
                  <a:lnTo>
                    <a:pt x="711" y="336"/>
                  </a:lnTo>
                  <a:lnTo>
                    <a:pt x="705" y="351"/>
                  </a:lnTo>
                  <a:lnTo>
                    <a:pt x="704" y="364"/>
                  </a:lnTo>
                  <a:lnTo>
                    <a:pt x="707" y="377"/>
                  </a:lnTo>
                  <a:lnTo>
                    <a:pt x="712" y="391"/>
                  </a:lnTo>
                  <a:lnTo>
                    <a:pt x="722" y="411"/>
                  </a:lnTo>
                  <a:lnTo>
                    <a:pt x="737" y="440"/>
                  </a:lnTo>
                  <a:lnTo>
                    <a:pt x="723" y="454"/>
                  </a:lnTo>
                  <a:lnTo>
                    <a:pt x="708" y="469"/>
                  </a:lnTo>
                  <a:lnTo>
                    <a:pt x="694" y="483"/>
                  </a:lnTo>
                  <a:lnTo>
                    <a:pt x="680" y="497"/>
                  </a:lnTo>
                  <a:lnTo>
                    <a:pt x="665" y="512"/>
                  </a:lnTo>
                  <a:lnTo>
                    <a:pt x="651" y="525"/>
                  </a:lnTo>
                  <a:lnTo>
                    <a:pt x="636" y="540"/>
                  </a:lnTo>
                  <a:lnTo>
                    <a:pt x="623" y="554"/>
                  </a:lnTo>
                  <a:lnTo>
                    <a:pt x="610" y="582"/>
                  </a:lnTo>
                  <a:lnTo>
                    <a:pt x="597" y="610"/>
                  </a:lnTo>
                  <a:lnTo>
                    <a:pt x="585" y="637"/>
                  </a:lnTo>
                  <a:lnTo>
                    <a:pt x="572" y="665"/>
                  </a:lnTo>
                  <a:lnTo>
                    <a:pt x="559" y="692"/>
                  </a:lnTo>
                  <a:lnTo>
                    <a:pt x="547" y="720"/>
                  </a:lnTo>
                  <a:lnTo>
                    <a:pt x="534" y="748"/>
                  </a:lnTo>
                  <a:lnTo>
                    <a:pt x="521" y="774"/>
                  </a:lnTo>
                  <a:lnTo>
                    <a:pt x="507" y="802"/>
                  </a:lnTo>
                  <a:lnTo>
                    <a:pt x="495" y="830"/>
                  </a:lnTo>
                  <a:lnTo>
                    <a:pt x="482" y="857"/>
                  </a:lnTo>
                  <a:lnTo>
                    <a:pt x="469" y="885"/>
                  </a:lnTo>
                  <a:lnTo>
                    <a:pt x="457" y="913"/>
                  </a:lnTo>
                  <a:lnTo>
                    <a:pt x="444" y="939"/>
                  </a:lnTo>
                  <a:lnTo>
                    <a:pt x="431" y="967"/>
                  </a:lnTo>
                  <a:lnTo>
                    <a:pt x="419" y="994"/>
                  </a:lnTo>
                  <a:lnTo>
                    <a:pt x="392" y="1019"/>
                  </a:lnTo>
                  <a:lnTo>
                    <a:pt x="367" y="1043"/>
                  </a:lnTo>
                  <a:lnTo>
                    <a:pt x="340" y="1067"/>
                  </a:lnTo>
                  <a:lnTo>
                    <a:pt x="314" y="1091"/>
                  </a:lnTo>
                  <a:lnTo>
                    <a:pt x="287" y="1115"/>
                  </a:lnTo>
                  <a:lnTo>
                    <a:pt x="262" y="1139"/>
                  </a:lnTo>
                  <a:lnTo>
                    <a:pt x="236" y="1164"/>
                  </a:lnTo>
                  <a:lnTo>
                    <a:pt x="209" y="1187"/>
                  </a:lnTo>
                  <a:lnTo>
                    <a:pt x="183" y="1211"/>
                  </a:lnTo>
                  <a:lnTo>
                    <a:pt x="156" y="1235"/>
                  </a:lnTo>
                  <a:lnTo>
                    <a:pt x="131" y="1259"/>
                  </a:lnTo>
                  <a:lnTo>
                    <a:pt x="104" y="1284"/>
                  </a:lnTo>
                  <a:lnTo>
                    <a:pt x="78" y="1308"/>
                  </a:lnTo>
                  <a:lnTo>
                    <a:pt x="51" y="1331"/>
                  </a:lnTo>
                  <a:lnTo>
                    <a:pt x="26" y="1355"/>
                  </a:lnTo>
                  <a:lnTo>
                    <a:pt x="0" y="1379"/>
                  </a:lnTo>
                  <a:lnTo>
                    <a:pt x="4" y="1409"/>
                  </a:lnTo>
                  <a:lnTo>
                    <a:pt x="9" y="1439"/>
                  </a:lnTo>
                  <a:lnTo>
                    <a:pt x="15" y="1470"/>
                  </a:lnTo>
                  <a:lnTo>
                    <a:pt x="19" y="1500"/>
                  </a:lnTo>
                  <a:lnTo>
                    <a:pt x="30" y="1510"/>
                  </a:lnTo>
                  <a:lnTo>
                    <a:pt x="39" y="1520"/>
                  </a:lnTo>
                  <a:lnTo>
                    <a:pt x="49" y="1530"/>
                  </a:lnTo>
                  <a:lnTo>
                    <a:pt x="60" y="1539"/>
                  </a:lnTo>
                  <a:lnTo>
                    <a:pt x="70" y="1550"/>
                  </a:lnTo>
                  <a:lnTo>
                    <a:pt x="80" y="1560"/>
                  </a:lnTo>
                  <a:lnTo>
                    <a:pt x="89" y="1569"/>
                  </a:lnTo>
                  <a:lnTo>
                    <a:pt x="100" y="1580"/>
                  </a:lnTo>
                  <a:lnTo>
                    <a:pt x="115" y="1578"/>
                  </a:lnTo>
                  <a:lnTo>
                    <a:pt x="130" y="1578"/>
                  </a:lnTo>
                  <a:lnTo>
                    <a:pt x="145" y="1577"/>
                  </a:lnTo>
                  <a:lnTo>
                    <a:pt x="160" y="1576"/>
                  </a:lnTo>
                  <a:lnTo>
                    <a:pt x="175" y="1576"/>
                  </a:lnTo>
                  <a:lnTo>
                    <a:pt x="190" y="1575"/>
                  </a:lnTo>
                  <a:lnTo>
                    <a:pt x="205" y="1575"/>
                  </a:lnTo>
                  <a:lnTo>
                    <a:pt x="220" y="1574"/>
                  </a:lnTo>
                  <a:lnTo>
                    <a:pt x="233" y="1565"/>
                  </a:lnTo>
                  <a:lnTo>
                    <a:pt x="247" y="1557"/>
                  </a:lnTo>
                  <a:lnTo>
                    <a:pt x="261" y="1547"/>
                  </a:lnTo>
                  <a:lnTo>
                    <a:pt x="276" y="1539"/>
                  </a:lnTo>
                  <a:lnTo>
                    <a:pt x="290" y="1530"/>
                  </a:lnTo>
                  <a:lnTo>
                    <a:pt x="304" y="1522"/>
                  </a:lnTo>
                  <a:lnTo>
                    <a:pt x="317" y="1513"/>
                  </a:lnTo>
                  <a:lnTo>
                    <a:pt x="331" y="1505"/>
                  </a:lnTo>
                  <a:lnTo>
                    <a:pt x="346" y="1493"/>
                  </a:lnTo>
                  <a:lnTo>
                    <a:pt x="361" y="1483"/>
                  </a:lnTo>
                  <a:lnTo>
                    <a:pt x="376" y="1471"/>
                  </a:lnTo>
                  <a:lnTo>
                    <a:pt x="392" y="1461"/>
                  </a:lnTo>
                  <a:lnTo>
                    <a:pt x="407" y="1451"/>
                  </a:lnTo>
                  <a:lnTo>
                    <a:pt x="422" y="1440"/>
                  </a:lnTo>
                  <a:lnTo>
                    <a:pt x="437" y="1429"/>
                  </a:lnTo>
                  <a:lnTo>
                    <a:pt x="452" y="1418"/>
                  </a:lnTo>
                  <a:lnTo>
                    <a:pt x="473" y="1394"/>
                  </a:lnTo>
                  <a:lnTo>
                    <a:pt x="495" y="1369"/>
                  </a:lnTo>
                  <a:lnTo>
                    <a:pt x="515" y="1345"/>
                  </a:lnTo>
                  <a:lnTo>
                    <a:pt x="537" y="1320"/>
                  </a:lnTo>
                  <a:lnTo>
                    <a:pt x="558" y="1296"/>
                  </a:lnTo>
                  <a:lnTo>
                    <a:pt x="579" y="1272"/>
                  </a:lnTo>
                  <a:lnTo>
                    <a:pt x="601" y="1247"/>
                  </a:lnTo>
                  <a:lnTo>
                    <a:pt x="621" y="1222"/>
                  </a:lnTo>
                  <a:lnTo>
                    <a:pt x="650" y="1168"/>
                  </a:lnTo>
                  <a:lnTo>
                    <a:pt x="678" y="1115"/>
                  </a:lnTo>
                  <a:lnTo>
                    <a:pt x="704" y="1065"/>
                  </a:lnTo>
                  <a:lnTo>
                    <a:pt x="731" y="1016"/>
                  </a:lnTo>
                  <a:lnTo>
                    <a:pt x="756" y="969"/>
                  </a:lnTo>
                  <a:lnTo>
                    <a:pt x="780" y="923"/>
                  </a:lnTo>
                  <a:lnTo>
                    <a:pt x="806" y="877"/>
                  </a:lnTo>
                  <a:lnTo>
                    <a:pt x="831" y="832"/>
                  </a:lnTo>
                  <a:lnTo>
                    <a:pt x="856" y="787"/>
                  </a:lnTo>
                  <a:lnTo>
                    <a:pt x="882" y="741"/>
                  </a:lnTo>
                  <a:lnTo>
                    <a:pt x="908" y="696"/>
                  </a:lnTo>
                  <a:lnTo>
                    <a:pt x="935" y="649"/>
                  </a:lnTo>
                  <a:lnTo>
                    <a:pt x="963" y="601"/>
                  </a:lnTo>
                  <a:lnTo>
                    <a:pt x="992" y="553"/>
                  </a:lnTo>
                  <a:lnTo>
                    <a:pt x="1023" y="502"/>
                  </a:lnTo>
                  <a:lnTo>
                    <a:pt x="1056" y="449"/>
                  </a:lnTo>
                  <a:lnTo>
                    <a:pt x="1070" y="418"/>
                  </a:lnTo>
                  <a:lnTo>
                    <a:pt x="1084" y="392"/>
                  </a:lnTo>
                  <a:lnTo>
                    <a:pt x="1098" y="369"/>
                  </a:lnTo>
                  <a:lnTo>
                    <a:pt x="1110" y="348"/>
                  </a:lnTo>
                  <a:lnTo>
                    <a:pt x="1120" y="330"/>
                  </a:lnTo>
                  <a:lnTo>
                    <a:pt x="1129" y="315"/>
                  </a:lnTo>
                  <a:lnTo>
                    <a:pt x="1135" y="302"/>
                  </a:lnTo>
                  <a:lnTo>
                    <a:pt x="1138" y="290"/>
                  </a:lnTo>
                  <a:lnTo>
                    <a:pt x="1138" y="280"/>
                  </a:lnTo>
                  <a:lnTo>
                    <a:pt x="1135" y="272"/>
                  </a:lnTo>
                  <a:lnTo>
                    <a:pt x="1128" y="264"/>
                  </a:lnTo>
                  <a:lnTo>
                    <a:pt x="1117" y="256"/>
                  </a:lnTo>
                  <a:lnTo>
                    <a:pt x="1099" y="248"/>
                  </a:lnTo>
                  <a:lnTo>
                    <a:pt x="1077" y="241"/>
                  </a:lnTo>
                  <a:lnTo>
                    <a:pt x="1051" y="233"/>
                  </a:lnTo>
                  <a:lnTo>
                    <a:pt x="1018" y="224"/>
                  </a:lnTo>
                  <a:lnTo>
                    <a:pt x="1020" y="211"/>
                  </a:lnTo>
                  <a:lnTo>
                    <a:pt x="1022" y="198"/>
                  </a:lnTo>
                  <a:lnTo>
                    <a:pt x="1024" y="186"/>
                  </a:lnTo>
                  <a:lnTo>
                    <a:pt x="1027" y="173"/>
                  </a:lnTo>
                  <a:lnTo>
                    <a:pt x="1036" y="171"/>
                  </a:lnTo>
                  <a:lnTo>
                    <a:pt x="1044" y="167"/>
                  </a:lnTo>
                  <a:lnTo>
                    <a:pt x="1053" y="165"/>
                  </a:lnTo>
                  <a:lnTo>
                    <a:pt x="1062" y="161"/>
                  </a:lnTo>
                  <a:lnTo>
                    <a:pt x="1070" y="159"/>
                  </a:lnTo>
                  <a:lnTo>
                    <a:pt x="1080" y="157"/>
                  </a:lnTo>
                  <a:lnTo>
                    <a:pt x="1089" y="153"/>
                  </a:lnTo>
                  <a:lnTo>
                    <a:pt x="1098" y="151"/>
                  </a:lnTo>
                  <a:lnTo>
                    <a:pt x="1105" y="148"/>
                  </a:lnTo>
                  <a:lnTo>
                    <a:pt x="1111" y="145"/>
                  </a:lnTo>
                  <a:lnTo>
                    <a:pt x="1118" y="142"/>
                  </a:lnTo>
                  <a:lnTo>
                    <a:pt x="1125" y="138"/>
                  </a:lnTo>
                  <a:lnTo>
                    <a:pt x="1132" y="135"/>
                  </a:lnTo>
                  <a:lnTo>
                    <a:pt x="1138" y="131"/>
                  </a:lnTo>
                  <a:lnTo>
                    <a:pt x="1144" y="129"/>
                  </a:lnTo>
                  <a:lnTo>
                    <a:pt x="1151" y="126"/>
                  </a:lnTo>
                  <a:lnTo>
                    <a:pt x="1165" y="122"/>
                  </a:lnTo>
                  <a:lnTo>
                    <a:pt x="1178" y="119"/>
                  </a:lnTo>
                  <a:lnTo>
                    <a:pt x="1190" y="115"/>
                  </a:lnTo>
                  <a:lnTo>
                    <a:pt x="1204" y="112"/>
                  </a:lnTo>
                  <a:lnTo>
                    <a:pt x="1217" y="108"/>
                  </a:lnTo>
                  <a:lnTo>
                    <a:pt x="1229" y="105"/>
                  </a:lnTo>
                  <a:lnTo>
                    <a:pt x="1243" y="101"/>
                  </a:lnTo>
                  <a:lnTo>
                    <a:pt x="1257" y="98"/>
                  </a:lnTo>
                  <a:lnTo>
                    <a:pt x="1263" y="91"/>
                  </a:lnTo>
                  <a:lnTo>
                    <a:pt x="1267" y="84"/>
                  </a:lnTo>
                  <a:lnTo>
                    <a:pt x="1273" y="77"/>
                  </a:lnTo>
                  <a:lnTo>
                    <a:pt x="1279" y="69"/>
                  </a:lnTo>
                  <a:lnTo>
                    <a:pt x="1283" y="62"/>
                  </a:lnTo>
                  <a:lnTo>
                    <a:pt x="1289" y="55"/>
                  </a:lnTo>
                  <a:lnTo>
                    <a:pt x="1295" y="48"/>
                  </a:lnTo>
                  <a:lnTo>
                    <a:pt x="1301" y="42"/>
                  </a:lnTo>
                  <a:lnTo>
                    <a:pt x="1287" y="44"/>
                  </a:lnTo>
                  <a:lnTo>
                    <a:pt x="1273" y="46"/>
                  </a:lnTo>
                  <a:lnTo>
                    <a:pt x="1259" y="48"/>
                  </a:lnTo>
                  <a:lnTo>
                    <a:pt x="1245" y="51"/>
                  </a:lnTo>
                  <a:lnTo>
                    <a:pt x="1232" y="53"/>
                  </a:lnTo>
                  <a:lnTo>
                    <a:pt x="1218" y="55"/>
                  </a:lnTo>
                  <a:lnTo>
                    <a:pt x="1204" y="58"/>
                  </a:lnTo>
                  <a:lnTo>
                    <a:pt x="1191" y="60"/>
                  </a:lnTo>
                  <a:lnTo>
                    <a:pt x="1178" y="62"/>
                  </a:lnTo>
                  <a:lnTo>
                    <a:pt x="1164" y="65"/>
                  </a:lnTo>
                  <a:lnTo>
                    <a:pt x="1150" y="67"/>
                  </a:lnTo>
                  <a:lnTo>
                    <a:pt x="1136" y="69"/>
                  </a:lnTo>
                  <a:lnTo>
                    <a:pt x="1122" y="72"/>
                  </a:lnTo>
                  <a:lnTo>
                    <a:pt x="1110" y="74"/>
                  </a:lnTo>
                  <a:lnTo>
                    <a:pt x="1096" y="76"/>
                  </a:lnTo>
                  <a:lnTo>
                    <a:pt x="1082" y="78"/>
                  </a:lnTo>
                  <a:lnTo>
                    <a:pt x="1058" y="82"/>
                  </a:lnTo>
                  <a:lnTo>
                    <a:pt x="1035" y="84"/>
                  </a:lnTo>
                  <a:lnTo>
                    <a:pt x="1013" y="86"/>
                  </a:lnTo>
                  <a:lnTo>
                    <a:pt x="992" y="89"/>
                  </a:lnTo>
                  <a:lnTo>
                    <a:pt x="971" y="90"/>
                  </a:lnTo>
                  <a:lnTo>
                    <a:pt x="952" y="91"/>
                  </a:lnTo>
                  <a:lnTo>
                    <a:pt x="933" y="91"/>
                  </a:lnTo>
                  <a:lnTo>
                    <a:pt x="915" y="90"/>
                  </a:lnTo>
                  <a:lnTo>
                    <a:pt x="897" y="89"/>
                  </a:lnTo>
                  <a:lnTo>
                    <a:pt x="878" y="85"/>
                  </a:lnTo>
                  <a:lnTo>
                    <a:pt x="860" y="82"/>
                  </a:lnTo>
                  <a:lnTo>
                    <a:pt x="841" y="76"/>
                  </a:lnTo>
                  <a:lnTo>
                    <a:pt x="822" y="69"/>
                  </a:lnTo>
                  <a:lnTo>
                    <a:pt x="802" y="61"/>
                  </a:lnTo>
                  <a:lnTo>
                    <a:pt x="783" y="51"/>
                  </a:lnTo>
                  <a:lnTo>
                    <a:pt x="761" y="39"/>
                  </a:lnTo>
                  <a:lnTo>
                    <a:pt x="753" y="35"/>
                  </a:lnTo>
                  <a:lnTo>
                    <a:pt x="745" y="30"/>
                  </a:lnTo>
                  <a:lnTo>
                    <a:pt x="735" y="24"/>
                  </a:lnTo>
                  <a:lnTo>
                    <a:pt x="727" y="20"/>
                  </a:lnTo>
                  <a:lnTo>
                    <a:pt x="718" y="15"/>
                  </a:lnTo>
                  <a:lnTo>
                    <a:pt x="710" y="9"/>
                  </a:lnTo>
                  <a:lnTo>
                    <a:pt x="701" y="5"/>
                  </a:lnTo>
                  <a:lnTo>
                    <a:pt x="693" y="0"/>
                  </a:lnTo>
                  <a:lnTo>
                    <a:pt x="700" y="17"/>
                  </a:lnTo>
                  <a:lnTo>
                    <a:pt x="707" y="35"/>
                  </a:lnTo>
                  <a:lnTo>
                    <a:pt x="714" y="52"/>
                  </a:lnTo>
                  <a:lnTo>
                    <a:pt x="720" y="69"/>
                  </a:lnTo>
                  <a:close/>
                </a:path>
              </a:pathLst>
            </a:custGeom>
            <a:solidFill>
              <a:srgbClr val="827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10760" y="1380600"/>
              <a:ext cx="554400" cy="676080"/>
            </a:xfrm>
            <a:custGeom>
              <a:avLst/>
              <a:gdLst/>
              <a:ahLst/>
              <a:rect l="l" t="t" r="r" b="b"/>
              <a:pathLst>
                <a:path w="1280" h="1563">
                  <a:moveTo>
                    <a:pt x="721" y="68"/>
                  </a:moveTo>
                  <a:lnTo>
                    <a:pt x="721" y="84"/>
                  </a:lnTo>
                  <a:lnTo>
                    <a:pt x="721" y="100"/>
                  </a:lnTo>
                  <a:lnTo>
                    <a:pt x="721" y="118"/>
                  </a:lnTo>
                  <a:lnTo>
                    <a:pt x="721" y="134"/>
                  </a:lnTo>
                  <a:lnTo>
                    <a:pt x="725" y="139"/>
                  </a:lnTo>
                  <a:lnTo>
                    <a:pt x="730" y="145"/>
                  </a:lnTo>
                  <a:lnTo>
                    <a:pt x="733" y="152"/>
                  </a:lnTo>
                  <a:lnTo>
                    <a:pt x="738" y="158"/>
                  </a:lnTo>
                  <a:lnTo>
                    <a:pt x="743" y="164"/>
                  </a:lnTo>
                  <a:lnTo>
                    <a:pt x="747" y="169"/>
                  </a:lnTo>
                  <a:lnTo>
                    <a:pt x="752" y="176"/>
                  </a:lnTo>
                  <a:lnTo>
                    <a:pt x="756" y="182"/>
                  </a:lnTo>
                  <a:lnTo>
                    <a:pt x="751" y="207"/>
                  </a:lnTo>
                  <a:lnTo>
                    <a:pt x="746" y="233"/>
                  </a:lnTo>
                  <a:lnTo>
                    <a:pt x="740" y="258"/>
                  </a:lnTo>
                  <a:lnTo>
                    <a:pt x="734" y="283"/>
                  </a:lnTo>
                  <a:lnTo>
                    <a:pt x="724" y="315"/>
                  </a:lnTo>
                  <a:lnTo>
                    <a:pt x="717" y="336"/>
                  </a:lnTo>
                  <a:lnTo>
                    <a:pt x="713" y="351"/>
                  </a:lnTo>
                  <a:lnTo>
                    <a:pt x="710" y="364"/>
                  </a:lnTo>
                  <a:lnTo>
                    <a:pt x="713" y="376"/>
                  </a:lnTo>
                  <a:lnTo>
                    <a:pt x="718" y="389"/>
                  </a:lnTo>
                  <a:lnTo>
                    <a:pt x="728" y="409"/>
                  </a:lnTo>
                  <a:lnTo>
                    <a:pt x="743" y="438"/>
                  </a:lnTo>
                  <a:lnTo>
                    <a:pt x="728" y="454"/>
                  </a:lnTo>
                  <a:lnTo>
                    <a:pt x="713" y="470"/>
                  </a:lnTo>
                  <a:lnTo>
                    <a:pt x="698" y="485"/>
                  </a:lnTo>
                  <a:lnTo>
                    <a:pt x="683" y="501"/>
                  </a:lnTo>
                  <a:lnTo>
                    <a:pt x="667" y="517"/>
                  </a:lnTo>
                  <a:lnTo>
                    <a:pt x="652" y="532"/>
                  </a:lnTo>
                  <a:lnTo>
                    <a:pt x="637" y="548"/>
                  </a:lnTo>
                  <a:lnTo>
                    <a:pt x="622" y="565"/>
                  </a:lnTo>
                  <a:lnTo>
                    <a:pt x="609" y="591"/>
                  </a:lnTo>
                  <a:lnTo>
                    <a:pt x="596" y="619"/>
                  </a:lnTo>
                  <a:lnTo>
                    <a:pt x="582" y="645"/>
                  </a:lnTo>
                  <a:lnTo>
                    <a:pt x="570" y="673"/>
                  </a:lnTo>
                  <a:lnTo>
                    <a:pt x="557" y="699"/>
                  </a:lnTo>
                  <a:lnTo>
                    <a:pt x="544" y="727"/>
                  </a:lnTo>
                  <a:lnTo>
                    <a:pt x="532" y="755"/>
                  </a:lnTo>
                  <a:lnTo>
                    <a:pt x="519" y="781"/>
                  </a:lnTo>
                  <a:lnTo>
                    <a:pt x="505" y="809"/>
                  </a:lnTo>
                  <a:lnTo>
                    <a:pt x="493" y="835"/>
                  </a:lnTo>
                  <a:lnTo>
                    <a:pt x="480" y="863"/>
                  </a:lnTo>
                  <a:lnTo>
                    <a:pt x="467" y="891"/>
                  </a:lnTo>
                  <a:lnTo>
                    <a:pt x="455" y="917"/>
                  </a:lnTo>
                  <a:lnTo>
                    <a:pt x="441" y="945"/>
                  </a:lnTo>
                  <a:lnTo>
                    <a:pt x="428" y="971"/>
                  </a:lnTo>
                  <a:lnTo>
                    <a:pt x="416" y="999"/>
                  </a:lnTo>
                  <a:lnTo>
                    <a:pt x="389" y="1022"/>
                  </a:lnTo>
                  <a:lnTo>
                    <a:pt x="364" y="1045"/>
                  </a:lnTo>
                  <a:lnTo>
                    <a:pt x="337" y="1069"/>
                  </a:lnTo>
                  <a:lnTo>
                    <a:pt x="312" y="1092"/>
                  </a:lnTo>
                  <a:lnTo>
                    <a:pt x="285" y="1115"/>
                  </a:lnTo>
                  <a:lnTo>
                    <a:pt x="260" y="1138"/>
                  </a:lnTo>
                  <a:lnTo>
                    <a:pt x="234" y="1162"/>
                  </a:lnTo>
                  <a:lnTo>
                    <a:pt x="208" y="1185"/>
                  </a:lnTo>
                  <a:lnTo>
                    <a:pt x="182" y="1209"/>
                  </a:lnTo>
                  <a:lnTo>
                    <a:pt x="155" y="1232"/>
                  </a:lnTo>
                  <a:lnTo>
                    <a:pt x="130" y="1256"/>
                  </a:lnTo>
                  <a:lnTo>
                    <a:pt x="103" y="1279"/>
                  </a:lnTo>
                  <a:lnTo>
                    <a:pt x="78" y="1302"/>
                  </a:lnTo>
                  <a:lnTo>
                    <a:pt x="52" y="1325"/>
                  </a:lnTo>
                  <a:lnTo>
                    <a:pt x="26" y="1349"/>
                  </a:lnTo>
                  <a:lnTo>
                    <a:pt x="0" y="1372"/>
                  </a:lnTo>
                  <a:lnTo>
                    <a:pt x="6" y="1402"/>
                  </a:lnTo>
                  <a:lnTo>
                    <a:pt x="10" y="1432"/>
                  </a:lnTo>
                  <a:lnTo>
                    <a:pt x="16" y="1463"/>
                  </a:lnTo>
                  <a:lnTo>
                    <a:pt x="21" y="1493"/>
                  </a:lnTo>
                  <a:lnTo>
                    <a:pt x="30" y="1502"/>
                  </a:lnTo>
                  <a:lnTo>
                    <a:pt x="39" y="1510"/>
                  </a:lnTo>
                  <a:lnTo>
                    <a:pt x="48" y="1520"/>
                  </a:lnTo>
                  <a:lnTo>
                    <a:pt x="59" y="1528"/>
                  </a:lnTo>
                  <a:lnTo>
                    <a:pt x="68" y="1537"/>
                  </a:lnTo>
                  <a:lnTo>
                    <a:pt x="77" y="1545"/>
                  </a:lnTo>
                  <a:lnTo>
                    <a:pt x="86" y="1554"/>
                  </a:lnTo>
                  <a:lnTo>
                    <a:pt x="95" y="1563"/>
                  </a:lnTo>
                  <a:lnTo>
                    <a:pt x="110" y="1562"/>
                  </a:lnTo>
                  <a:lnTo>
                    <a:pt x="125" y="1560"/>
                  </a:lnTo>
                  <a:lnTo>
                    <a:pt x="140" y="1559"/>
                  </a:lnTo>
                  <a:lnTo>
                    <a:pt x="155" y="1556"/>
                  </a:lnTo>
                  <a:lnTo>
                    <a:pt x="170" y="1555"/>
                  </a:lnTo>
                  <a:lnTo>
                    <a:pt x="184" y="1554"/>
                  </a:lnTo>
                  <a:lnTo>
                    <a:pt x="199" y="1552"/>
                  </a:lnTo>
                  <a:lnTo>
                    <a:pt x="214" y="1551"/>
                  </a:lnTo>
                  <a:lnTo>
                    <a:pt x="228" y="1543"/>
                  </a:lnTo>
                  <a:lnTo>
                    <a:pt x="240" y="1533"/>
                  </a:lnTo>
                  <a:lnTo>
                    <a:pt x="254" y="1525"/>
                  </a:lnTo>
                  <a:lnTo>
                    <a:pt x="267" y="1516"/>
                  </a:lnTo>
                  <a:lnTo>
                    <a:pt x="281" y="1508"/>
                  </a:lnTo>
                  <a:lnTo>
                    <a:pt x="293" y="1500"/>
                  </a:lnTo>
                  <a:lnTo>
                    <a:pt x="307" y="1491"/>
                  </a:lnTo>
                  <a:lnTo>
                    <a:pt x="320" y="1483"/>
                  </a:lnTo>
                  <a:lnTo>
                    <a:pt x="335" y="1472"/>
                  </a:lnTo>
                  <a:lnTo>
                    <a:pt x="350" y="1462"/>
                  </a:lnTo>
                  <a:lnTo>
                    <a:pt x="365" y="1452"/>
                  </a:lnTo>
                  <a:lnTo>
                    <a:pt x="380" y="1441"/>
                  </a:lnTo>
                  <a:lnTo>
                    <a:pt x="395" y="1431"/>
                  </a:lnTo>
                  <a:lnTo>
                    <a:pt x="409" y="1421"/>
                  </a:lnTo>
                  <a:lnTo>
                    <a:pt x="424" y="1410"/>
                  </a:lnTo>
                  <a:lnTo>
                    <a:pt x="439" y="1400"/>
                  </a:lnTo>
                  <a:lnTo>
                    <a:pt x="459" y="1374"/>
                  </a:lnTo>
                  <a:lnTo>
                    <a:pt x="480" y="1349"/>
                  </a:lnTo>
                  <a:lnTo>
                    <a:pt x="501" y="1325"/>
                  </a:lnTo>
                  <a:lnTo>
                    <a:pt x="523" y="1300"/>
                  </a:lnTo>
                  <a:lnTo>
                    <a:pt x="543" y="1274"/>
                  </a:lnTo>
                  <a:lnTo>
                    <a:pt x="564" y="1249"/>
                  </a:lnTo>
                  <a:lnTo>
                    <a:pt x="585" y="1225"/>
                  </a:lnTo>
                  <a:lnTo>
                    <a:pt x="606" y="1199"/>
                  </a:lnTo>
                  <a:lnTo>
                    <a:pt x="634" y="1145"/>
                  </a:lnTo>
                  <a:lnTo>
                    <a:pt x="661" y="1093"/>
                  </a:lnTo>
                  <a:lnTo>
                    <a:pt x="687" y="1044"/>
                  </a:lnTo>
                  <a:lnTo>
                    <a:pt x="711" y="997"/>
                  </a:lnTo>
                  <a:lnTo>
                    <a:pt x="736" y="950"/>
                  </a:lnTo>
                  <a:lnTo>
                    <a:pt x="760" y="907"/>
                  </a:lnTo>
                  <a:lnTo>
                    <a:pt x="784" y="863"/>
                  </a:lnTo>
                  <a:lnTo>
                    <a:pt x="807" y="820"/>
                  </a:lnTo>
                  <a:lnTo>
                    <a:pt x="831" y="778"/>
                  </a:lnTo>
                  <a:lnTo>
                    <a:pt x="855" y="734"/>
                  </a:lnTo>
                  <a:lnTo>
                    <a:pt x="881" y="690"/>
                  </a:lnTo>
                  <a:lnTo>
                    <a:pt x="907" y="646"/>
                  </a:lnTo>
                  <a:lnTo>
                    <a:pt x="935" y="600"/>
                  </a:lnTo>
                  <a:lnTo>
                    <a:pt x="964" y="553"/>
                  </a:lnTo>
                  <a:lnTo>
                    <a:pt x="994" y="502"/>
                  </a:lnTo>
                  <a:lnTo>
                    <a:pt x="1026" y="450"/>
                  </a:lnTo>
                  <a:lnTo>
                    <a:pt x="1041" y="419"/>
                  </a:lnTo>
                  <a:lnTo>
                    <a:pt x="1056" y="393"/>
                  </a:lnTo>
                  <a:lnTo>
                    <a:pt x="1070" y="369"/>
                  </a:lnTo>
                  <a:lnTo>
                    <a:pt x="1082" y="348"/>
                  </a:lnTo>
                  <a:lnTo>
                    <a:pt x="1093" y="331"/>
                  </a:lnTo>
                  <a:lnTo>
                    <a:pt x="1102" y="315"/>
                  </a:lnTo>
                  <a:lnTo>
                    <a:pt x="1109" y="302"/>
                  </a:lnTo>
                  <a:lnTo>
                    <a:pt x="1113" y="289"/>
                  </a:lnTo>
                  <a:lnTo>
                    <a:pt x="1113" y="279"/>
                  </a:lnTo>
                  <a:lnTo>
                    <a:pt x="1111" y="270"/>
                  </a:lnTo>
                  <a:lnTo>
                    <a:pt x="1104" y="262"/>
                  </a:lnTo>
                  <a:lnTo>
                    <a:pt x="1093" y="253"/>
                  </a:lnTo>
                  <a:lnTo>
                    <a:pt x="1076" y="247"/>
                  </a:lnTo>
                  <a:lnTo>
                    <a:pt x="1056" y="238"/>
                  </a:lnTo>
                  <a:lnTo>
                    <a:pt x="1028" y="230"/>
                  </a:lnTo>
                  <a:lnTo>
                    <a:pt x="995" y="221"/>
                  </a:lnTo>
                  <a:lnTo>
                    <a:pt x="998" y="206"/>
                  </a:lnTo>
                  <a:lnTo>
                    <a:pt x="1000" y="191"/>
                  </a:lnTo>
                  <a:lnTo>
                    <a:pt x="1004" y="176"/>
                  </a:lnTo>
                  <a:lnTo>
                    <a:pt x="1006" y="161"/>
                  </a:lnTo>
                  <a:lnTo>
                    <a:pt x="1015" y="158"/>
                  </a:lnTo>
                  <a:lnTo>
                    <a:pt x="1025" y="156"/>
                  </a:lnTo>
                  <a:lnTo>
                    <a:pt x="1034" y="152"/>
                  </a:lnTo>
                  <a:lnTo>
                    <a:pt x="1043" y="150"/>
                  </a:lnTo>
                  <a:lnTo>
                    <a:pt x="1052" y="147"/>
                  </a:lnTo>
                  <a:lnTo>
                    <a:pt x="1061" y="144"/>
                  </a:lnTo>
                  <a:lnTo>
                    <a:pt x="1071" y="142"/>
                  </a:lnTo>
                  <a:lnTo>
                    <a:pt x="1080" y="138"/>
                  </a:lnTo>
                  <a:lnTo>
                    <a:pt x="1087" y="135"/>
                  </a:lnTo>
                  <a:lnTo>
                    <a:pt x="1093" y="132"/>
                  </a:lnTo>
                  <a:lnTo>
                    <a:pt x="1099" y="129"/>
                  </a:lnTo>
                  <a:lnTo>
                    <a:pt x="1106" y="127"/>
                  </a:lnTo>
                  <a:lnTo>
                    <a:pt x="1113" y="124"/>
                  </a:lnTo>
                  <a:lnTo>
                    <a:pt x="1120" y="121"/>
                  </a:lnTo>
                  <a:lnTo>
                    <a:pt x="1126" y="119"/>
                  </a:lnTo>
                  <a:lnTo>
                    <a:pt x="1133" y="115"/>
                  </a:lnTo>
                  <a:lnTo>
                    <a:pt x="1146" y="112"/>
                  </a:lnTo>
                  <a:lnTo>
                    <a:pt x="1159" y="108"/>
                  </a:lnTo>
                  <a:lnTo>
                    <a:pt x="1172" y="105"/>
                  </a:lnTo>
                  <a:lnTo>
                    <a:pt x="1185" y="101"/>
                  </a:lnTo>
                  <a:lnTo>
                    <a:pt x="1197" y="98"/>
                  </a:lnTo>
                  <a:lnTo>
                    <a:pt x="1211" y="94"/>
                  </a:lnTo>
                  <a:lnTo>
                    <a:pt x="1224" y="91"/>
                  </a:lnTo>
                  <a:lnTo>
                    <a:pt x="1236" y="88"/>
                  </a:lnTo>
                  <a:lnTo>
                    <a:pt x="1242" y="82"/>
                  </a:lnTo>
                  <a:lnTo>
                    <a:pt x="1248" y="75"/>
                  </a:lnTo>
                  <a:lnTo>
                    <a:pt x="1253" y="69"/>
                  </a:lnTo>
                  <a:lnTo>
                    <a:pt x="1258" y="62"/>
                  </a:lnTo>
                  <a:lnTo>
                    <a:pt x="1264" y="56"/>
                  </a:lnTo>
                  <a:lnTo>
                    <a:pt x="1269" y="50"/>
                  </a:lnTo>
                  <a:lnTo>
                    <a:pt x="1274" y="44"/>
                  </a:lnTo>
                  <a:lnTo>
                    <a:pt x="1280" y="37"/>
                  </a:lnTo>
                  <a:lnTo>
                    <a:pt x="1268" y="39"/>
                  </a:lnTo>
                  <a:lnTo>
                    <a:pt x="1254" y="41"/>
                  </a:lnTo>
                  <a:lnTo>
                    <a:pt x="1241" y="44"/>
                  </a:lnTo>
                  <a:lnTo>
                    <a:pt x="1227" y="46"/>
                  </a:lnTo>
                  <a:lnTo>
                    <a:pt x="1215" y="47"/>
                  </a:lnTo>
                  <a:lnTo>
                    <a:pt x="1201" y="50"/>
                  </a:lnTo>
                  <a:lnTo>
                    <a:pt x="1188" y="52"/>
                  </a:lnTo>
                  <a:lnTo>
                    <a:pt x="1175" y="54"/>
                  </a:lnTo>
                  <a:lnTo>
                    <a:pt x="1162" y="56"/>
                  </a:lnTo>
                  <a:lnTo>
                    <a:pt x="1149" y="59"/>
                  </a:lnTo>
                  <a:lnTo>
                    <a:pt x="1135" y="61"/>
                  </a:lnTo>
                  <a:lnTo>
                    <a:pt x="1123" y="63"/>
                  </a:lnTo>
                  <a:lnTo>
                    <a:pt x="1109" y="66"/>
                  </a:lnTo>
                  <a:lnTo>
                    <a:pt x="1096" y="68"/>
                  </a:lnTo>
                  <a:lnTo>
                    <a:pt x="1082" y="70"/>
                  </a:lnTo>
                  <a:lnTo>
                    <a:pt x="1070" y="73"/>
                  </a:lnTo>
                  <a:lnTo>
                    <a:pt x="1044" y="76"/>
                  </a:lnTo>
                  <a:lnTo>
                    <a:pt x="1021" y="78"/>
                  </a:lnTo>
                  <a:lnTo>
                    <a:pt x="999" y="81"/>
                  </a:lnTo>
                  <a:lnTo>
                    <a:pt x="980" y="83"/>
                  </a:lnTo>
                  <a:lnTo>
                    <a:pt x="960" y="84"/>
                  </a:lnTo>
                  <a:lnTo>
                    <a:pt x="942" y="85"/>
                  </a:lnTo>
                  <a:lnTo>
                    <a:pt x="923" y="85"/>
                  </a:lnTo>
                  <a:lnTo>
                    <a:pt x="906" y="85"/>
                  </a:lnTo>
                  <a:lnTo>
                    <a:pt x="889" y="83"/>
                  </a:lnTo>
                  <a:lnTo>
                    <a:pt x="873" y="81"/>
                  </a:lnTo>
                  <a:lnTo>
                    <a:pt x="854" y="77"/>
                  </a:lnTo>
                  <a:lnTo>
                    <a:pt x="837" y="71"/>
                  </a:lnTo>
                  <a:lnTo>
                    <a:pt x="819" y="66"/>
                  </a:lnTo>
                  <a:lnTo>
                    <a:pt x="799" y="58"/>
                  </a:lnTo>
                  <a:lnTo>
                    <a:pt x="778" y="48"/>
                  </a:lnTo>
                  <a:lnTo>
                    <a:pt x="756" y="37"/>
                  </a:lnTo>
                  <a:lnTo>
                    <a:pt x="748" y="32"/>
                  </a:lnTo>
                  <a:lnTo>
                    <a:pt x="740" y="28"/>
                  </a:lnTo>
                  <a:lnTo>
                    <a:pt x="731" y="23"/>
                  </a:lnTo>
                  <a:lnTo>
                    <a:pt x="723" y="18"/>
                  </a:lnTo>
                  <a:lnTo>
                    <a:pt x="715" y="14"/>
                  </a:lnTo>
                  <a:lnTo>
                    <a:pt x="706" y="9"/>
                  </a:lnTo>
                  <a:lnTo>
                    <a:pt x="698" y="5"/>
                  </a:lnTo>
                  <a:lnTo>
                    <a:pt x="690" y="0"/>
                  </a:lnTo>
                  <a:lnTo>
                    <a:pt x="698" y="16"/>
                  </a:lnTo>
                  <a:lnTo>
                    <a:pt x="705" y="33"/>
                  </a:lnTo>
                  <a:lnTo>
                    <a:pt x="713" y="51"/>
                  </a:lnTo>
                  <a:lnTo>
                    <a:pt x="721" y="68"/>
                  </a:lnTo>
                  <a:close/>
                </a:path>
              </a:pathLst>
            </a:custGeom>
            <a:solidFill>
              <a:srgbClr val="757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15080" y="1383120"/>
              <a:ext cx="545040" cy="670320"/>
            </a:xfrm>
            <a:custGeom>
              <a:avLst/>
              <a:gdLst/>
              <a:ahLst/>
              <a:rect l="l" t="t" r="r" b="b"/>
              <a:pathLst>
                <a:path w="1260" h="1549">
                  <a:moveTo>
                    <a:pt x="717" y="68"/>
                  </a:moveTo>
                  <a:lnTo>
                    <a:pt x="717" y="84"/>
                  </a:lnTo>
                  <a:lnTo>
                    <a:pt x="717" y="101"/>
                  </a:lnTo>
                  <a:lnTo>
                    <a:pt x="717" y="118"/>
                  </a:lnTo>
                  <a:lnTo>
                    <a:pt x="717" y="135"/>
                  </a:lnTo>
                  <a:lnTo>
                    <a:pt x="723" y="140"/>
                  </a:lnTo>
                  <a:lnTo>
                    <a:pt x="729" y="146"/>
                  </a:lnTo>
                  <a:lnTo>
                    <a:pt x="734" y="152"/>
                  </a:lnTo>
                  <a:lnTo>
                    <a:pt x="739" y="158"/>
                  </a:lnTo>
                  <a:lnTo>
                    <a:pt x="744" y="163"/>
                  </a:lnTo>
                  <a:lnTo>
                    <a:pt x="750" y="170"/>
                  </a:lnTo>
                  <a:lnTo>
                    <a:pt x="754" y="176"/>
                  </a:lnTo>
                  <a:lnTo>
                    <a:pt x="760" y="182"/>
                  </a:lnTo>
                  <a:lnTo>
                    <a:pt x="755" y="207"/>
                  </a:lnTo>
                  <a:lnTo>
                    <a:pt x="751" y="232"/>
                  </a:lnTo>
                  <a:lnTo>
                    <a:pt x="745" y="259"/>
                  </a:lnTo>
                  <a:lnTo>
                    <a:pt x="740" y="284"/>
                  </a:lnTo>
                  <a:lnTo>
                    <a:pt x="730" y="315"/>
                  </a:lnTo>
                  <a:lnTo>
                    <a:pt x="723" y="337"/>
                  </a:lnTo>
                  <a:lnTo>
                    <a:pt x="719" y="352"/>
                  </a:lnTo>
                  <a:lnTo>
                    <a:pt x="716" y="364"/>
                  </a:lnTo>
                  <a:lnTo>
                    <a:pt x="717" y="374"/>
                  </a:lnTo>
                  <a:lnTo>
                    <a:pt x="723" y="388"/>
                  </a:lnTo>
                  <a:lnTo>
                    <a:pt x="734" y="408"/>
                  </a:lnTo>
                  <a:lnTo>
                    <a:pt x="747" y="436"/>
                  </a:lnTo>
                  <a:lnTo>
                    <a:pt x="731" y="454"/>
                  </a:lnTo>
                  <a:lnTo>
                    <a:pt x="715" y="471"/>
                  </a:lnTo>
                  <a:lnTo>
                    <a:pt x="700" y="488"/>
                  </a:lnTo>
                  <a:lnTo>
                    <a:pt x="684" y="506"/>
                  </a:lnTo>
                  <a:lnTo>
                    <a:pt x="668" y="523"/>
                  </a:lnTo>
                  <a:lnTo>
                    <a:pt x="652" y="540"/>
                  </a:lnTo>
                  <a:lnTo>
                    <a:pt x="636" y="559"/>
                  </a:lnTo>
                  <a:lnTo>
                    <a:pt x="620" y="576"/>
                  </a:lnTo>
                  <a:lnTo>
                    <a:pt x="607" y="602"/>
                  </a:lnTo>
                  <a:lnTo>
                    <a:pt x="594" y="629"/>
                  </a:lnTo>
                  <a:lnTo>
                    <a:pt x="580" y="655"/>
                  </a:lnTo>
                  <a:lnTo>
                    <a:pt x="568" y="682"/>
                  </a:lnTo>
                  <a:lnTo>
                    <a:pt x="555" y="709"/>
                  </a:lnTo>
                  <a:lnTo>
                    <a:pt x="542" y="736"/>
                  </a:lnTo>
                  <a:lnTo>
                    <a:pt x="529" y="762"/>
                  </a:lnTo>
                  <a:lnTo>
                    <a:pt x="516" y="789"/>
                  </a:lnTo>
                  <a:lnTo>
                    <a:pt x="503" y="815"/>
                  </a:lnTo>
                  <a:lnTo>
                    <a:pt x="491" y="843"/>
                  </a:lnTo>
                  <a:lnTo>
                    <a:pt x="477" y="870"/>
                  </a:lnTo>
                  <a:lnTo>
                    <a:pt x="464" y="896"/>
                  </a:lnTo>
                  <a:lnTo>
                    <a:pt x="451" y="923"/>
                  </a:lnTo>
                  <a:lnTo>
                    <a:pt x="439" y="950"/>
                  </a:lnTo>
                  <a:lnTo>
                    <a:pt x="425" y="977"/>
                  </a:lnTo>
                  <a:lnTo>
                    <a:pt x="412" y="1003"/>
                  </a:lnTo>
                  <a:lnTo>
                    <a:pt x="387" y="1026"/>
                  </a:lnTo>
                  <a:lnTo>
                    <a:pt x="360" y="1048"/>
                  </a:lnTo>
                  <a:lnTo>
                    <a:pt x="335" y="1071"/>
                  </a:lnTo>
                  <a:lnTo>
                    <a:pt x="309" y="1094"/>
                  </a:lnTo>
                  <a:lnTo>
                    <a:pt x="283" y="1116"/>
                  </a:lnTo>
                  <a:lnTo>
                    <a:pt x="257" y="1139"/>
                  </a:lnTo>
                  <a:lnTo>
                    <a:pt x="231" y="1161"/>
                  </a:lnTo>
                  <a:lnTo>
                    <a:pt x="206" y="1184"/>
                  </a:lnTo>
                  <a:lnTo>
                    <a:pt x="180" y="1207"/>
                  </a:lnTo>
                  <a:lnTo>
                    <a:pt x="154" y="1229"/>
                  </a:lnTo>
                  <a:lnTo>
                    <a:pt x="129" y="1252"/>
                  </a:lnTo>
                  <a:lnTo>
                    <a:pt x="103" y="1274"/>
                  </a:lnTo>
                  <a:lnTo>
                    <a:pt x="77" y="1297"/>
                  </a:lnTo>
                  <a:lnTo>
                    <a:pt x="52" y="1320"/>
                  </a:lnTo>
                  <a:lnTo>
                    <a:pt x="25" y="1342"/>
                  </a:lnTo>
                  <a:lnTo>
                    <a:pt x="0" y="1365"/>
                  </a:lnTo>
                  <a:lnTo>
                    <a:pt x="6" y="1395"/>
                  </a:lnTo>
                  <a:lnTo>
                    <a:pt x="10" y="1426"/>
                  </a:lnTo>
                  <a:lnTo>
                    <a:pt x="16" y="1456"/>
                  </a:lnTo>
                  <a:lnTo>
                    <a:pt x="22" y="1487"/>
                  </a:lnTo>
                  <a:lnTo>
                    <a:pt x="31" y="1495"/>
                  </a:lnTo>
                  <a:lnTo>
                    <a:pt x="39" y="1502"/>
                  </a:lnTo>
                  <a:lnTo>
                    <a:pt x="48" y="1510"/>
                  </a:lnTo>
                  <a:lnTo>
                    <a:pt x="56" y="1518"/>
                  </a:lnTo>
                  <a:lnTo>
                    <a:pt x="66" y="1526"/>
                  </a:lnTo>
                  <a:lnTo>
                    <a:pt x="74" y="1533"/>
                  </a:lnTo>
                  <a:lnTo>
                    <a:pt x="83" y="1541"/>
                  </a:lnTo>
                  <a:lnTo>
                    <a:pt x="91" y="1549"/>
                  </a:lnTo>
                  <a:lnTo>
                    <a:pt x="106" y="1547"/>
                  </a:lnTo>
                  <a:lnTo>
                    <a:pt x="121" y="1544"/>
                  </a:lnTo>
                  <a:lnTo>
                    <a:pt x="135" y="1541"/>
                  </a:lnTo>
                  <a:lnTo>
                    <a:pt x="150" y="1539"/>
                  </a:lnTo>
                  <a:lnTo>
                    <a:pt x="165" y="1537"/>
                  </a:lnTo>
                  <a:lnTo>
                    <a:pt x="180" y="1533"/>
                  </a:lnTo>
                  <a:lnTo>
                    <a:pt x="195" y="1531"/>
                  </a:lnTo>
                  <a:lnTo>
                    <a:pt x="210" y="1529"/>
                  </a:lnTo>
                  <a:lnTo>
                    <a:pt x="222" y="1521"/>
                  </a:lnTo>
                  <a:lnTo>
                    <a:pt x="235" y="1512"/>
                  </a:lnTo>
                  <a:lnTo>
                    <a:pt x="248" y="1504"/>
                  </a:lnTo>
                  <a:lnTo>
                    <a:pt x="260" y="1495"/>
                  </a:lnTo>
                  <a:lnTo>
                    <a:pt x="272" y="1487"/>
                  </a:lnTo>
                  <a:lnTo>
                    <a:pt x="284" y="1479"/>
                  </a:lnTo>
                  <a:lnTo>
                    <a:pt x="297" y="1470"/>
                  </a:lnTo>
                  <a:lnTo>
                    <a:pt x="310" y="1462"/>
                  </a:lnTo>
                  <a:lnTo>
                    <a:pt x="324" y="1451"/>
                  </a:lnTo>
                  <a:lnTo>
                    <a:pt x="339" y="1442"/>
                  </a:lnTo>
                  <a:lnTo>
                    <a:pt x="352" y="1432"/>
                  </a:lnTo>
                  <a:lnTo>
                    <a:pt x="367" y="1421"/>
                  </a:lnTo>
                  <a:lnTo>
                    <a:pt x="381" y="1412"/>
                  </a:lnTo>
                  <a:lnTo>
                    <a:pt x="395" y="1402"/>
                  </a:lnTo>
                  <a:lnTo>
                    <a:pt x="410" y="1393"/>
                  </a:lnTo>
                  <a:lnTo>
                    <a:pt x="424" y="1382"/>
                  </a:lnTo>
                  <a:lnTo>
                    <a:pt x="445" y="1357"/>
                  </a:lnTo>
                  <a:lnTo>
                    <a:pt x="465" y="1332"/>
                  </a:lnTo>
                  <a:lnTo>
                    <a:pt x="486" y="1305"/>
                  </a:lnTo>
                  <a:lnTo>
                    <a:pt x="507" y="1280"/>
                  </a:lnTo>
                  <a:lnTo>
                    <a:pt x="527" y="1254"/>
                  </a:lnTo>
                  <a:lnTo>
                    <a:pt x="548" y="1228"/>
                  </a:lnTo>
                  <a:lnTo>
                    <a:pt x="569" y="1203"/>
                  </a:lnTo>
                  <a:lnTo>
                    <a:pt x="590" y="1177"/>
                  </a:lnTo>
                  <a:lnTo>
                    <a:pt x="618" y="1123"/>
                  </a:lnTo>
                  <a:lnTo>
                    <a:pt x="645" y="1072"/>
                  </a:lnTo>
                  <a:lnTo>
                    <a:pt x="670" y="1024"/>
                  </a:lnTo>
                  <a:lnTo>
                    <a:pt x="693" y="978"/>
                  </a:lnTo>
                  <a:lnTo>
                    <a:pt x="717" y="934"/>
                  </a:lnTo>
                  <a:lnTo>
                    <a:pt x="739" y="891"/>
                  </a:lnTo>
                  <a:lnTo>
                    <a:pt x="762" y="850"/>
                  </a:lnTo>
                  <a:lnTo>
                    <a:pt x="784" y="810"/>
                  </a:lnTo>
                  <a:lnTo>
                    <a:pt x="807" y="769"/>
                  </a:lnTo>
                  <a:lnTo>
                    <a:pt x="830" y="728"/>
                  </a:lnTo>
                  <a:lnTo>
                    <a:pt x="854" y="686"/>
                  </a:lnTo>
                  <a:lnTo>
                    <a:pt x="880" y="644"/>
                  </a:lnTo>
                  <a:lnTo>
                    <a:pt x="906" y="599"/>
                  </a:lnTo>
                  <a:lnTo>
                    <a:pt x="934" y="553"/>
                  </a:lnTo>
                  <a:lnTo>
                    <a:pt x="964" y="503"/>
                  </a:lnTo>
                  <a:lnTo>
                    <a:pt x="996" y="451"/>
                  </a:lnTo>
                  <a:lnTo>
                    <a:pt x="1011" y="420"/>
                  </a:lnTo>
                  <a:lnTo>
                    <a:pt x="1026" y="394"/>
                  </a:lnTo>
                  <a:lnTo>
                    <a:pt x="1040" y="370"/>
                  </a:lnTo>
                  <a:lnTo>
                    <a:pt x="1052" y="349"/>
                  </a:lnTo>
                  <a:lnTo>
                    <a:pt x="1065" y="330"/>
                  </a:lnTo>
                  <a:lnTo>
                    <a:pt x="1074" y="314"/>
                  </a:lnTo>
                  <a:lnTo>
                    <a:pt x="1082" y="300"/>
                  </a:lnTo>
                  <a:lnTo>
                    <a:pt x="1087" y="289"/>
                  </a:lnTo>
                  <a:lnTo>
                    <a:pt x="1089" y="279"/>
                  </a:lnTo>
                  <a:lnTo>
                    <a:pt x="1087" y="269"/>
                  </a:lnTo>
                  <a:lnTo>
                    <a:pt x="1081" y="260"/>
                  </a:lnTo>
                  <a:lnTo>
                    <a:pt x="1070" y="252"/>
                  </a:lnTo>
                  <a:lnTo>
                    <a:pt x="1055" y="245"/>
                  </a:lnTo>
                  <a:lnTo>
                    <a:pt x="1033" y="237"/>
                  </a:lnTo>
                  <a:lnTo>
                    <a:pt x="1006" y="229"/>
                  </a:lnTo>
                  <a:lnTo>
                    <a:pt x="973" y="220"/>
                  </a:lnTo>
                  <a:lnTo>
                    <a:pt x="976" y="201"/>
                  </a:lnTo>
                  <a:lnTo>
                    <a:pt x="980" y="184"/>
                  </a:lnTo>
                  <a:lnTo>
                    <a:pt x="983" y="167"/>
                  </a:lnTo>
                  <a:lnTo>
                    <a:pt x="987" y="150"/>
                  </a:lnTo>
                  <a:lnTo>
                    <a:pt x="996" y="146"/>
                  </a:lnTo>
                  <a:lnTo>
                    <a:pt x="1005" y="144"/>
                  </a:lnTo>
                  <a:lnTo>
                    <a:pt x="1014" y="140"/>
                  </a:lnTo>
                  <a:lnTo>
                    <a:pt x="1024" y="138"/>
                  </a:lnTo>
                  <a:lnTo>
                    <a:pt x="1033" y="136"/>
                  </a:lnTo>
                  <a:lnTo>
                    <a:pt x="1042" y="132"/>
                  </a:lnTo>
                  <a:lnTo>
                    <a:pt x="1051" y="130"/>
                  </a:lnTo>
                  <a:lnTo>
                    <a:pt x="1061" y="126"/>
                  </a:lnTo>
                  <a:lnTo>
                    <a:pt x="1067" y="124"/>
                  </a:lnTo>
                  <a:lnTo>
                    <a:pt x="1074" y="122"/>
                  </a:lnTo>
                  <a:lnTo>
                    <a:pt x="1081" y="120"/>
                  </a:lnTo>
                  <a:lnTo>
                    <a:pt x="1088" y="116"/>
                  </a:lnTo>
                  <a:lnTo>
                    <a:pt x="1095" y="114"/>
                  </a:lnTo>
                  <a:lnTo>
                    <a:pt x="1102" y="112"/>
                  </a:lnTo>
                  <a:lnTo>
                    <a:pt x="1108" y="109"/>
                  </a:lnTo>
                  <a:lnTo>
                    <a:pt x="1115" y="107"/>
                  </a:lnTo>
                  <a:lnTo>
                    <a:pt x="1127" y="103"/>
                  </a:lnTo>
                  <a:lnTo>
                    <a:pt x="1141" y="100"/>
                  </a:lnTo>
                  <a:lnTo>
                    <a:pt x="1154" y="97"/>
                  </a:lnTo>
                  <a:lnTo>
                    <a:pt x="1166" y="93"/>
                  </a:lnTo>
                  <a:lnTo>
                    <a:pt x="1179" y="90"/>
                  </a:lnTo>
                  <a:lnTo>
                    <a:pt x="1193" y="86"/>
                  </a:lnTo>
                  <a:lnTo>
                    <a:pt x="1206" y="83"/>
                  </a:lnTo>
                  <a:lnTo>
                    <a:pt x="1218" y="79"/>
                  </a:lnTo>
                  <a:lnTo>
                    <a:pt x="1224" y="73"/>
                  </a:lnTo>
                  <a:lnTo>
                    <a:pt x="1229" y="68"/>
                  </a:lnTo>
                  <a:lnTo>
                    <a:pt x="1234" y="62"/>
                  </a:lnTo>
                  <a:lnTo>
                    <a:pt x="1239" y="56"/>
                  </a:lnTo>
                  <a:lnTo>
                    <a:pt x="1245" y="50"/>
                  </a:lnTo>
                  <a:lnTo>
                    <a:pt x="1249" y="45"/>
                  </a:lnTo>
                  <a:lnTo>
                    <a:pt x="1255" y="39"/>
                  </a:lnTo>
                  <a:lnTo>
                    <a:pt x="1260" y="33"/>
                  </a:lnTo>
                  <a:lnTo>
                    <a:pt x="1247" y="35"/>
                  </a:lnTo>
                  <a:lnTo>
                    <a:pt x="1234" y="38"/>
                  </a:lnTo>
                  <a:lnTo>
                    <a:pt x="1222" y="40"/>
                  </a:lnTo>
                  <a:lnTo>
                    <a:pt x="1209" y="41"/>
                  </a:lnTo>
                  <a:lnTo>
                    <a:pt x="1196" y="44"/>
                  </a:lnTo>
                  <a:lnTo>
                    <a:pt x="1184" y="46"/>
                  </a:lnTo>
                  <a:lnTo>
                    <a:pt x="1171" y="48"/>
                  </a:lnTo>
                  <a:lnTo>
                    <a:pt x="1160" y="49"/>
                  </a:lnTo>
                  <a:lnTo>
                    <a:pt x="1147" y="52"/>
                  </a:lnTo>
                  <a:lnTo>
                    <a:pt x="1134" y="54"/>
                  </a:lnTo>
                  <a:lnTo>
                    <a:pt x="1122" y="56"/>
                  </a:lnTo>
                  <a:lnTo>
                    <a:pt x="1109" y="59"/>
                  </a:lnTo>
                  <a:lnTo>
                    <a:pt x="1096" y="60"/>
                  </a:lnTo>
                  <a:lnTo>
                    <a:pt x="1084" y="62"/>
                  </a:lnTo>
                  <a:lnTo>
                    <a:pt x="1071" y="64"/>
                  </a:lnTo>
                  <a:lnTo>
                    <a:pt x="1058" y="67"/>
                  </a:lnTo>
                  <a:lnTo>
                    <a:pt x="1033" y="70"/>
                  </a:lnTo>
                  <a:lnTo>
                    <a:pt x="1009" y="72"/>
                  </a:lnTo>
                  <a:lnTo>
                    <a:pt x="988" y="75"/>
                  </a:lnTo>
                  <a:lnTo>
                    <a:pt x="967" y="77"/>
                  </a:lnTo>
                  <a:lnTo>
                    <a:pt x="949" y="79"/>
                  </a:lnTo>
                  <a:lnTo>
                    <a:pt x="932" y="80"/>
                  </a:lnTo>
                  <a:lnTo>
                    <a:pt x="915" y="82"/>
                  </a:lnTo>
                  <a:lnTo>
                    <a:pt x="898" y="80"/>
                  </a:lnTo>
                  <a:lnTo>
                    <a:pt x="882" y="79"/>
                  </a:lnTo>
                  <a:lnTo>
                    <a:pt x="866" y="77"/>
                  </a:lnTo>
                  <a:lnTo>
                    <a:pt x="850" y="73"/>
                  </a:lnTo>
                  <a:lnTo>
                    <a:pt x="833" y="69"/>
                  </a:lnTo>
                  <a:lnTo>
                    <a:pt x="814" y="63"/>
                  </a:lnTo>
                  <a:lnTo>
                    <a:pt x="796" y="55"/>
                  </a:lnTo>
                  <a:lnTo>
                    <a:pt x="775" y="46"/>
                  </a:lnTo>
                  <a:lnTo>
                    <a:pt x="752" y="34"/>
                  </a:lnTo>
                  <a:lnTo>
                    <a:pt x="744" y="30"/>
                  </a:lnTo>
                  <a:lnTo>
                    <a:pt x="736" y="25"/>
                  </a:lnTo>
                  <a:lnTo>
                    <a:pt x="728" y="22"/>
                  </a:lnTo>
                  <a:lnTo>
                    <a:pt x="720" y="17"/>
                  </a:lnTo>
                  <a:lnTo>
                    <a:pt x="710" y="12"/>
                  </a:lnTo>
                  <a:lnTo>
                    <a:pt x="702" y="8"/>
                  </a:lnTo>
                  <a:lnTo>
                    <a:pt x="694" y="4"/>
                  </a:lnTo>
                  <a:lnTo>
                    <a:pt x="686" y="0"/>
                  </a:lnTo>
                  <a:lnTo>
                    <a:pt x="694" y="17"/>
                  </a:lnTo>
                  <a:lnTo>
                    <a:pt x="702" y="34"/>
                  </a:lnTo>
                  <a:lnTo>
                    <a:pt x="709" y="52"/>
                  </a:lnTo>
                  <a:lnTo>
                    <a:pt x="717" y="68"/>
                  </a:lnTo>
                  <a:close/>
                </a:path>
              </a:pathLst>
            </a:custGeom>
            <a:solidFill>
              <a:srgbClr val="6d6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19400" y="1386720"/>
              <a:ext cx="536040" cy="663480"/>
            </a:xfrm>
            <a:custGeom>
              <a:avLst/>
              <a:gdLst/>
              <a:ahLst/>
              <a:rect l="l" t="t" r="r" b="b"/>
              <a:pathLst>
                <a:path w="1240" h="1533">
                  <a:moveTo>
                    <a:pt x="716" y="68"/>
                  </a:moveTo>
                  <a:lnTo>
                    <a:pt x="716" y="84"/>
                  </a:lnTo>
                  <a:lnTo>
                    <a:pt x="716" y="100"/>
                  </a:lnTo>
                  <a:lnTo>
                    <a:pt x="716" y="117"/>
                  </a:lnTo>
                  <a:lnTo>
                    <a:pt x="716" y="133"/>
                  </a:lnTo>
                  <a:lnTo>
                    <a:pt x="722" y="139"/>
                  </a:lnTo>
                  <a:lnTo>
                    <a:pt x="728" y="145"/>
                  </a:lnTo>
                  <a:lnTo>
                    <a:pt x="734" y="152"/>
                  </a:lnTo>
                  <a:lnTo>
                    <a:pt x="741" y="158"/>
                  </a:lnTo>
                  <a:lnTo>
                    <a:pt x="746" y="163"/>
                  </a:lnTo>
                  <a:lnTo>
                    <a:pt x="752" y="169"/>
                  </a:lnTo>
                  <a:lnTo>
                    <a:pt x="758" y="176"/>
                  </a:lnTo>
                  <a:lnTo>
                    <a:pt x="764" y="182"/>
                  </a:lnTo>
                  <a:lnTo>
                    <a:pt x="759" y="207"/>
                  </a:lnTo>
                  <a:lnTo>
                    <a:pt x="756" y="234"/>
                  </a:lnTo>
                  <a:lnTo>
                    <a:pt x="752" y="259"/>
                  </a:lnTo>
                  <a:lnTo>
                    <a:pt x="748" y="284"/>
                  </a:lnTo>
                  <a:lnTo>
                    <a:pt x="737" y="315"/>
                  </a:lnTo>
                  <a:lnTo>
                    <a:pt x="729" y="337"/>
                  </a:lnTo>
                  <a:lnTo>
                    <a:pt x="723" y="351"/>
                  </a:lnTo>
                  <a:lnTo>
                    <a:pt x="721" y="363"/>
                  </a:lnTo>
                  <a:lnTo>
                    <a:pt x="723" y="373"/>
                  </a:lnTo>
                  <a:lnTo>
                    <a:pt x="729" y="386"/>
                  </a:lnTo>
                  <a:lnTo>
                    <a:pt x="738" y="405"/>
                  </a:lnTo>
                  <a:lnTo>
                    <a:pt x="753" y="433"/>
                  </a:lnTo>
                  <a:lnTo>
                    <a:pt x="736" y="451"/>
                  </a:lnTo>
                  <a:lnTo>
                    <a:pt x="719" y="471"/>
                  </a:lnTo>
                  <a:lnTo>
                    <a:pt x="701" y="489"/>
                  </a:lnTo>
                  <a:lnTo>
                    <a:pt x="685" y="509"/>
                  </a:lnTo>
                  <a:lnTo>
                    <a:pt x="668" y="527"/>
                  </a:lnTo>
                  <a:lnTo>
                    <a:pt x="651" y="547"/>
                  </a:lnTo>
                  <a:lnTo>
                    <a:pt x="635" y="565"/>
                  </a:lnTo>
                  <a:lnTo>
                    <a:pt x="617" y="585"/>
                  </a:lnTo>
                  <a:lnTo>
                    <a:pt x="605" y="611"/>
                  </a:lnTo>
                  <a:lnTo>
                    <a:pt x="591" y="638"/>
                  </a:lnTo>
                  <a:lnTo>
                    <a:pt x="578" y="664"/>
                  </a:lnTo>
                  <a:lnTo>
                    <a:pt x="566" y="690"/>
                  </a:lnTo>
                  <a:lnTo>
                    <a:pt x="553" y="716"/>
                  </a:lnTo>
                  <a:lnTo>
                    <a:pt x="539" y="743"/>
                  </a:lnTo>
                  <a:lnTo>
                    <a:pt x="526" y="769"/>
                  </a:lnTo>
                  <a:lnTo>
                    <a:pt x="514" y="796"/>
                  </a:lnTo>
                  <a:lnTo>
                    <a:pt x="500" y="822"/>
                  </a:lnTo>
                  <a:lnTo>
                    <a:pt x="487" y="849"/>
                  </a:lnTo>
                  <a:lnTo>
                    <a:pt x="474" y="875"/>
                  </a:lnTo>
                  <a:lnTo>
                    <a:pt x="461" y="901"/>
                  </a:lnTo>
                  <a:lnTo>
                    <a:pt x="448" y="927"/>
                  </a:lnTo>
                  <a:lnTo>
                    <a:pt x="436" y="954"/>
                  </a:lnTo>
                  <a:lnTo>
                    <a:pt x="422" y="980"/>
                  </a:lnTo>
                  <a:lnTo>
                    <a:pt x="409" y="1007"/>
                  </a:lnTo>
                  <a:lnTo>
                    <a:pt x="384" y="1028"/>
                  </a:lnTo>
                  <a:lnTo>
                    <a:pt x="357" y="1050"/>
                  </a:lnTo>
                  <a:lnTo>
                    <a:pt x="332" y="1072"/>
                  </a:lnTo>
                  <a:lnTo>
                    <a:pt x="307" y="1094"/>
                  </a:lnTo>
                  <a:lnTo>
                    <a:pt x="281" y="1116"/>
                  </a:lnTo>
                  <a:lnTo>
                    <a:pt x="255" y="1138"/>
                  </a:lnTo>
                  <a:lnTo>
                    <a:pt x="229" y="1160"/>
                  </a:lnTo>
                  <a:lnTo>
                    <a:pt x="204" y="1182"/>
                  </a:lnTo>
                  <a:lnTo>
                    <a:pt x="179" y="1205"/>
                  </a:lnTo>
                  <a:lnTo>
                    <a:pt x="153" y="1227"/>
                  </a:lnTo>
                  <a:lnTo>
                    <a:pt x="128" y="1249"/>
                  </a:lnTo>
                  <a:lnTo>
                    <a:pt x="103" y="1270"/>
                  </a:lnTo>
                  <a:lnTo>
                    <a:pt x="76" y="1292"/>
                  </a:lnTo>
                  <a:lnTo>
                    <a:pt x="51" y="1314"/>
                  </a:lnTo>
                  <a:lnTo>
                    <a:pt x="26" y="1336"/>
                  </a:lnTo>
                  <a:lnTo>
                    <a:pt x="0" y="1358"/>
                  </a:lnTo>
                  <a:lnTo>
                    <a:pt x="6" y="1388"/>
                  </a:lnTo>
                  <a:lnTo>
                    <a:pt x="12" y="1418"/>
                  </a:lnTo>
                  <a:lnTo>
                    <a:pt x="18" y="1448"/>
                  </a:lnTo>
                  <a:lnTo>
                    <a:pt x="23" y="1478"/>
                  </a:lnTo>
                  <a:lnTo>
                    <a:pt x="31" y="1485"/>
                  </a:lnTo>
                  <a:lnTo>
                    <a:pt x="39" y="1493"/>
                  </a:lnTo>
                  <a:lnTo>
                    <a:pt x="46" y="1500"/>
                  </a:lnTo>
                  <a:lnTo>
                    <a:pt x="54" y="1507"/>
                  </a:lnTo>
                  <a:lnTo>
                    <a:pt x="62" y="1514"/>
                  </a:lnTo>
                  <a:lnTo>
                    <a:pt x="71" y="1520"/>
                  </a:lnTo>
                  <a:lnTo>
                    <a:pt x="79" y="1526"/>
                  </a:lnTo>
                  <a:lnTo>
                    <a:pt x="87" y="1533"/>
                  </a:lnTo>
                  <a:lnTo>
                    <a:pt x="102" y="1530"/>
                  </a:lnTo>
                  <a:lnTo>
                    <a:pt x="117" y="1526"/>
                  </a:lnTo>
                  <a:lnTo>
                    <a:pt x="130" y="1523"/>
                  </a:lnTo>
                  <a:lnTo>
                    <a:pt x="145" y="1519"/>
                  </a:lnTo>
                  <a:lnTo>
                    <a:pt x="160" y="1516"/>
                  </a:lnTo>
                  <a:lnTo>
                    <a:pt x="175" y="1511"/>
                  </a:lnTo>
                  <a:lnTo>
                    <a:pt x="189" y="1508"/>
                  </a:lnTo>
                  <a:lnTo>
                    <a:pt x="204" y="1503"/>
                  </a:lnTo>
                  <a:lnTo>
                    <a:pt x="216" y="1496"/>
                  </a:lnTo>
                  <a:lnTo>
                    <a:pt x="227" y="1488"/>
                  </a:lnTo>
                  <a:lnTo>
                    <a:pt x="239" y="1480"/>
                  </a:lnTo>
                  <a:lnTo>
                    <a:pt x="251" y="1473"/>
                  </a:lnTo>
                  <a:lnTo>
                    <a:pt x="263" y="1465"/>
                  </a:lnTo>
                  <a:lnTo>
                    <a:pt x="274" y="1457"/>
                  </a:lnTo>
                  <a:lnTo>
                    <a:pt x="287" y="1449"/>
                  </a:lnTo>
                  <a:lnTo>
                    <a:pt x="298" y="1441"/>
                  </a:lnTo>
                  <a:lnTo>
                    <a:pt x="312" y="1432"/>
                  </a:lnTo>
                  <a:lnTo>
                    <a:pt x="326" y="1421"/>
                  </a:lnTo>
                  <a:lnTo>
                    <a:pt x="340" y="1412"/>
                  </a:lnTo>
                  <a:lnTo>
                    <a:pt x="355" y="1402"/>
                  </a:lnTo>
                  <a:lnTo>
                    <a:pt x="369" y="1393"/>
                  </a:lnTo>
                  <a:lnTo>
                    <a:pt x="383" y="1383"/>
                  </a:lnTo>
                  <a:lnTo>
                    <a:pt x="396" y="1373"/>
                  </a:lnTo>
                  <a:lnTo>
                    <a:pt x="410" y="1364"/>
                  </a:lnTo>
                  <a:lnTo>
                    <a:pt x="431" y="1337"/>
                  </a:lnTo>
                  <a:lnTo>
                    <a:pt x="450" y="1311"/>
                  </a:lnTo>
                  <a:lnTo>
                    <a:pt x="471" y="1285"/>
                  </a:lnTo>
                  <a:lnTo>
                    <a:pt x="492" y="1259"/>
                  </a:lnTo>
                  <a:lnTo>
                    <a:pt x="513" y="1232"/>
                  </a:lnTo>
                  <a:lnTo>
                    <a:pt x="533" y="1207"/>
                  </a:lnTo>
                  <a:lnTo>
                    <a:pt x="553" y="1181"/>
                  </a:lnTo>
                  <a:lnTo>
                    <a:pt x="574" y="1154"/>
                  </a:lnTo>
                  <a:lnTo>
                    <a:pt x="602" y="1100"/>
                  </a:lnTo>
                  <a:lnTo>
                    <a:pt x="628" y="1050"/>
                  </a:lnTo>
                  <a:lnTo>
                    <a:pt x="653" y="1003"/>
                  </a:lnTo>
                  <a:lnTo>
                    <a:pt x="676" y="958"/>
                  </a:lnTo>
                  <a:lnTo>
                    <a:pt x="698" y="917"/>
                  </a:lnTo>
                  <a:lnTo>
                    <a:pt x="720" y="876"/>
                  </a:lnTo>
                  <a:lnTo>
                    <a:pt x="742" y="837"/>
                  </a:lnTo>
                  <a:lnTo>
                    <a:pt x="763" y="798"/>
                  </a:lnTo>
                  <a:lnTo>
                    <a:pt x="783" y="760"/>
                  </a:lnTo>
                  <a:lnTo>
                    <a:pt x="806" y="721"/>
                  </a:lnTo>
                  <a:lnTo>
                    <a:pt x="828" y="682"/>
                  </a:lnTo>
                  <a:lnTo>
                    <a:pt x="852" y="640"/>
                  </a:lnTo>
                  <a:lnTo>
                    <a:pt x="879" y="598"/>
                  </a:lnTo>
                  <a:lnTo>
                    <a:pt x="905" y="553"/>
                  </a:lnTo>
                  <a:lnTo>
                    <a:pt x="935" y="504"/>
                  </a:lnTo>
                  <a:lnTo>
                    <a:pt x="967" y="452"/>
                  </a:lnTo>
                  <a:lnTo>
                    <a:pt x="982" y="421"/>
                  </a:lnTo>
                  <a:lnTo>
                    <a:pt x="997" y="394"/>
                  </a:lnTo>
                  <a:lnTo>
                    <a:pt x="1011" y="369"/>
                  </a:lnTo>
                  <a:lnTo>
                    <a:pt x="1025" y="349"/>
                  </a:lnTo>
                  <a:lnTo>
                    <a:pt x="1037" y="330"/>
                  </a:lnTo>
                  <a:lnTo>
                    <a:pt x="1047" y="314"/>
                  </a:lnTo>
                  <a:lnTo>
                    <a:pt x="1055" y="300"/>
                  </a:lnTo>
                  <a:lnTo>
                    <a:pt x="1061" y="288"/>
                  </a:lnTo>
                  <a:lnTo>
                    <a:pt x="1063" y="277"/>
                  </a:lnTo>
                  <a:lnTo>
                    <a:pt x="1062" y="267"/>
                  </a:lnTo>
                  <a:lnTo>
                    <a:pt x="1056" y="258"/>
                  </a:lnTo>
                  <a:lnTo>
                    <a:pt x="1046" y="250"/>
                  </a:lnTo>
                  <a:lnTo>
                    <a:pt x="1031" y="242"/>
                  </a:lnTo>
                  <a:lnTo>
                    <a:pt x="1011" y="234"/>
                  </a:lnTo>
                  <a:lnTo>
                    <a:pt x="985" y="225"/>
                  </a:lnTo>
                  <a:lnTo>
                    <a:pt x="951" y="216"/>
                  </a:lnTo>
                  <a:lnTo>
                    <a:pt x="955" y="197"/>
                  </a:lnTo>
                  <a:lnTo>
                    <a:pt x="959" y="177"/>
                  </a:lnTo>
                  <a:lnTo>
                    <a:pt x="963" y="158"/>
                  </a:lnTo>
                  <a:lnTo>
                    <a:pt x="967" y="138"/>
                  </a:lnTo>
                  <a:lnTo>
                    <a:pt x="977" y="134"/>
                  </a:lnTo>
                  <a:lnTo>
                    <a:pt x="986" y="132"/>
                  </a:lnTo>
                  <a:lnTo>
                    <a:pt x="995" y="129"/>
                  </a:lnTo>
                  <a:lnTo>
                    <a:pt x="1005" y="125"/>
                  </a:lnTo>
                  <a:lnTo>
                    <a:pt x="1015" y="123"/>
                  </a:lnTo>
                  <a:lnTo>
                    <a:pt x="1024" y="119"/>
                  </a:lnTo>
                  <a:lnTo>
                    <a:pt x="1033" y="117"/>
                  </a:lnTo>
                  <a:lnTo>
                    <a:pt x="1042" y="114"/>
                  </a:lnTo>
                  <a:lnTo>
                    <a:pt x="1049" y="111"/>
                  </a:lnTo>
                  <a:lnTo>
                    <a:pt x="1056" y="109"/>
                  </a:lnTo>
                  <a:lnTo>
                    <a:pt x="1063" y="107"/>
                  </a:lnTo>
                  <a:lnTo>
                    <a:pt x="1070" y="106"/>
                  </a:lnTo>
                  <a:lnTo>
                    <a:pt x="1077" y="103"/>
                  </a:lnTo>
                  <a:lnTo>
                    <a:pt x="1084" y="101"/>
                  </a:lnTo>
                  <a:lnTo>
                    <a:pt x="1090" y="100"/>
                  </a:lnTo>
                  <a:lnTo>
                    <a:pt x="1096" y="98"/>
                  </a:lnTo>
                  <a:lnTo>
                    <a:pt x="1109" y="94"/>
                  </a:lnTo>
                  <a:lnTo>
                    <a:pt x="1123" y="90"/>
                  </a:lnTo>
                  <a:lnTo>
                    <a:pt x="1136" y="86"/>
                  </a:lnTo>
                  <a:lnTo>
                    <a:pt x="1148" y="83"/>
                  </a:lnTo>
                  <a:lnTo>
                    <a:pt x="1161" y="79"/>
                  </a:lnTo>
                  <a:lnTo>
                    <a:pt x="1175" y="76"/>
                  </a:lnTo>
                  <a:lnTo>
                    <a:pt x="1187" y="72"/>
                  </a:lnTo>
                  <a:lnTo>
                    <a:pt x="1200" y="69"/>
                  </a:lnTo>
                  <a:lnTo>
                    <a:pt x="1205" y="64"/>
                  </a:lnTo>
                  <a:lnTo>
                    <a:pt x="1209" y="58"/>
                  </a:lnTo>
                  <a:lnTo>
                    <a:pt x="1215" y="54"/>
                  </a:lnTo>
                  <a:lnTo>
                    <a:pt x="1220" y="49"/>
                  </a:lnTo>
                  <a:lnTo>
                    <a:pt x="1225" y="43"/>
                  </a:lnTo>
                  <a:lnTo>
                    <a:pt x="1230" y="39"/>
                  </a:lnTo>
                  <a:lnTo>
                    <a:pt x="1236" y="34"/>
                  </a:lnTo>
                  <a:lnTo>
                    <a:pt x="1240" y="30"/>
                  </a:lnTo>
                  <a:lnTo>
                    <a:pt x="1228" y="32"/>
                  </a:lnTo>
                  <a:lnTo>
                    <a:pt x="1216" y="33"/>
                  </a:lnTo>
                  <a:lnTo>
                    <a:pt x="1204" y="35"/>
                  </a:lnTo>
                  <a:lnTo>
                    <a:pt x="1192" y="38"/>
                  </a:lnTo>
                  <a:lnTo>
                    <a:pt x="1179" y="39"/>
                  </a:lnTo>
                  <a:lnTo>
                    <a:pt x="1168" y="41"/>
                  </a:lnTo>
                  <a:lnTo>
                    <a:pt x="1155" y="42"/>
                  </a:lnTo>
                  <a:lnTo>
                    <a:pt x="1144" y="45"/>
                  </a:lnTo>
                  <a:lnTo>
                    <a:pt x="1131" y="47"/>
                  </a:lnTo>
                  <a:lnTo>
                    <a:pt x="1119" y="48"/>
                  </a:lnTo>
                  <a:lnTo>
                    <a:pt x="1107" y="50"/>
                  </a:lnTo>
                  <a:lnTo>
                    <a:pt x="1095" y="52"/>
                  </a:lnTo>
                  <a:lnTo>
                    <a:pt x="1083" y="54"/>
                  </a:lnTo>
                  <a:lnTo>
                    <a:pt x="1070" y="56"/>
                  </a:lnTo>
                  <a:lnTo>
                    <a:pt x="1058" y="57"/>
                  </a:lnTo>
                  <a:lnTo>
                    <a:pt x="1046" y="60"/>
                  </a:lnTo>
                  <a:lnTo>
                    <a:pt x="1019" y="63"/>
                  </a:lnTo>
                  <a:lnTo>
                    <a:pt x="996" y="65"/>
                  </a:lnTo>
                  <a:lnTo>
                    <a:pt x="976" y="69"/>
                  </a:lnTo>
                  <a:lnTo>
                    <a:pt x="956" y="71"/>
                  </a:lnTo>
                  <a:lnTo>
                    <a:pt x="938" y="72"/>
                  </a:lnTo>
                  <a:lnTo>
                    <a:pt x="921" y="75"/>
                  </a:lnTo>
                  <a:lnTo>
                    <a:pt x="905" y="75"/>
                  </a:lnTo>
                  <a:lnTo>
                    <a:pt x="890" y="75"/>
                  </a:lnTo>
                  <a:lnTo>
                    <a:pt x="875" y="75"/>
                  </a:lnTo>
                  <a:lnTo>
                    <a:pt x="860" y="72"/>
                  </a:lnTo>
                  <a:lnTo>
                    <a:pt x="844" y="69"/>
                  </a:lnTo>
                  <a:lnTo>
                    <a:pt x="828" y="64"/>
                  </a:lnTo>
                  <a:lnTo>
                    <a:pt x="810" y="58"/>
                  </a:lnTo>
                  <a:lnTo>
                    <a:pt x="791" y="50"/>
                  </a:lnTo>
                  <a:lnTo>
                    <a:pt x="769" y="41"/>
                  </a:lnTo>
                  <a:lnTo>
                    <a:pt x="746" y="31"/>
                  </a:lnTo>
                  <a:lnTo>
                    <a:pt x="738" y="27"/>
                  </a:lnTo>
                  <a:lnTo>
                    <a:pt x="731" y="23"/>
                  </a:lnTo>
                  <a:lnTo>
                    <a:pt x="723" y="19"/>
                  </a:lnTo>
                  <a:lnTo>
                    <a:pt x="715" y="15"/>
                  </a:lnTo>
                  <a:lnTo>
                    <a:pt x="707" y="11"/>
                  </a:lnTo>
                  <a:lnTo>
                    <a:pt x="700" y="8"/>
                  </a:lnTo>
                  <a:lnTo>
                    <a:pt x="692" y="3"/>
                  </a:lnTo>
                  <a:lnTo>
                    <a:pt x="684" y="0"/>
                  </a:lnTo>
                  <a:lnTo>
                    <a:pt x="692" y="16"/>
                  </a:lnTo>
                  <a:lnTo>
                    <a:pt x="700" y="33"/>
                  </a:lnTo>
                  <a:lnTo>
                    <a:pt x="708" y="50"/>
                  </a:lnTo>
                  <a:lnTo>
                    <a:pt x="716" y="68"/>
                  </a:lnTo>
                  <a:close/>
                </a:path>
              </a:pathLst>
            </a:custGeom>
            <a:solidFill>
              <a:srgbClr val="605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23000" y="1389240"/>
              <a:ext cx="528120" cy="657360"/>
            </a:xfrm>
            <a:custGeom>
              <a:avLst/>
              <a:gdLst/>
              <a:ahLst/>
              <a:rect l="l" t="t" r="r" b="b"/>
              <a:pathLst>
                <a:path w="1221" h="1520">
                  <a:moveTo>
                    <a:pt x="716" y="68"/>
                  </a:moveTo>
                  <a:lnTo>
                    <a:pt x="716" y="85"/>
                  </a:lnTo>
                  <a:lnTo>
                    <a:pt x="716" y="101"/>
                  </a:lnTo>
                  <a:lnTo>
                    <a:pt x="716" y="118"/>
                  </a:lnTo>
                  <a:lnTo>
                    <a:pt x="716" y="134"/>
                  </a:lnTo>
                  <a:lnTo>
                    <a:pt x="722" y="140"/>
                  </a:lnTo>
                  <a:lnTo>
                    <a:pt x="728" y="147"/>
                  </a:lnTo>
                  <a:lnTo>
                    <a:pt x="735" y="153"/>
                  </a:lnTo>
                  <a:lnTo>
                    <a:pt x="742" y="158"/>
                  </a:lnTo>
                  <a:lnTo>
                    <a:pt x="748" y="164"/>
                  </a:lnTo>
                  <a:lnTo>
                    <a:pt x="755" y="171"/>
                  </a:lnTo>
                  <a:lnTo>
                    <a:pt x="760" y="177"/>
                  </a:lnTo>
                  <a:lnTo>
                    <a:pt x="767" y="184"/>
                  </a:lnTo>
                  <a:lnTo>
                    <a:pt x="764" y="209"/>
                  </a:lnTo>
                  <a:lnTo>
                    <a:pt x="760" y="235"/>
                  </a:lnTo>
                  <a:lnTo>
                    <a:pt x="757" y="261"/>
                  </a:lnTo>
                  <a:lnTo>
                    <a:pt x="754" y="287"/>
                  </a:lnTo>
                  <a:lnTo>
                    <a:pt x="743" y="318"/>
                  </a:lnTo>
                  <a:lnTo>
                    <a:pt x="735" y="339"/>
                  </a:lnTo>
                  <a:lnTo>
                    <a:pt x="729" y="353"/>
                  </a:lnTo>
                  <a:lnTo>
                    <a:pt x="727" y="363"/>
                  </a:lnTo>
                  <a:lnTo>
                    <a:pt x="728" y="374"/>
                  </a:lnTo>
                  <a:lnTo>
                    <a:pt x="733" y="385"/>
                  </a:lnTo>
                  <a:lnTo>
                    <a:pt x="743" y="405"/>
                  </a:lnTo>
                  <a:lnTo>
                    <a:pt x="757" y="432"/>
                  </a:lnTo>
                  <a:lnTo>
                    <a:pt x="740" y="453"/>
                  </a:lnTo>
                  <a:lnTo>
                    <a:pt x="721" y="474"/>
                  </a:lnTo>
                  <a:lnTo>
                    <a:pt x="704" y="495"/>
                  </a:lnTo>
                  <a:lnTo>
                    <a:pt x="687" y="515"/>
                  </a:lnTo>
                  <a:lnTo>
                    <a:pt x="669" y="536"/>
                  </a:lnTo>
                  <a:lnTo>
                    <a:pt x="652" y="557"/>
                  </a:lnTo>
                  <a:lnTo>
                    <a:pt x="634" y="576"/>
                  </a:lnTo>
                  <a:lnTo>
                    <a:pt x="617" y="597"/>
                  </a:lnTo>
                  <a:lnTo>
                    <a:pt x="604" y="623"/>
                  </a:lnTo>
                  <a:lnTo>
                    <a:pt x="590" y="649"/>
                  </a:lnTo>
                  <a:lnTo>
                    <a:pt x="577" y="674"/>
                  </a:lnTo>
                  <a:lnTo>
                    <a:pt x="564" y="701"/>
                  </a:lnTo>
                  <a:lnTo>
                    <a:pt x="551" y="726"/>
                  </a:lnTo>
                  <a:lnTo>
                    <a:pt x="537" y="753"/>
                  </a:lnTo>
                  <a:lnTo>
                    <a:pt x="524" y="778"/>
                  </a:lnTo>
                  <a:lnTo>
                    <a:pt x="511" y="805"/>
                  </a:lnTo>
                  <a:lnTo>
                    <a:pt x="497" y="830"/>
                  </a:lnTo>
                  <a:lnTo>
                    <a:pt x="484" y="856"/>
                  </a:lnTo>
                  <a:lnTo>
                    <a:pt x="470" y="882"/>
                  </a:lnTo>
                  <a:lnTo>
                    <a:pt x="458" y="908"/>
                  </a:lnTo>
                  <a:lnTo>
                    <a:pt x="444" y="934"/>
                  </a:lnTo>
                  <a:lnTo>
                    <a:pt x="431" y="960"/>
                  </a:lnTo>
                  <a:lnTo>
                    <a:pt x="417" y="985"/>
                  </a:lnTo>
                  <a:lnTo>
                    <a:pt x="405" y="1012"/>
                  </a:lnTo>
                  <a:lnTo>
                    <a:pt x="379" y="1034"/>
                  </a:lnTo>
                  <a:lnTo>
                    <a:pt x="354" y="1055"/>
                  </a:lnTo>
                  <a:lnTo>
                    <a:pt x="329" y="1076"/>
                  </a:lnTo>
                  <a:lnTo>
                    <a:pt x="303" y="1097"/>
                  </a:lnTo>
                  <a:lnTo>
                    <a:pt x="278" y="1119"/>
                  </a:lnTo>
                  <a:lnTo>
                    <a:pt x="253" y="1140"/>
                  </a:lnTo>
                  <a:lnTo>
                    <a:pt x="227" y="1161"/>
                  </a:lnTo>
                  <a:lnTo>
                    <a:pt x="203" y="1182"/>
                  </a:lnTo>
                  <a:lnTo>
                    <a:pt x="178" y="1203"/>
                  </a:lnTo>
                  <a:lnTo>
                    <a:pt x="152" y="1225"/>
                  </a:lnTo>
                  <a:lnTo>
                    <a:pt x="127" y="1246"/>
                  </a:lnTo>
                  <a:lnTo>
                    <a:pt x="102" y="1267"/>
                  </a:lnTo>
                  <a:lnTo>
                    <a:pt x="76" y="1288"/>
                  </a:lnTo>
                  <a:lnTo>
                    <a:pt x="51" y="1309"/>
                  </a:lnTo>
                  <a:lnTo>
                    <a:pt x="26" y="1331"/>
                  </a:lnTo>
                  <a:lnTo>
                    <a:pt x="0" y="1352"/>
                  </a:lnTo>
                  <a:lnTo>
                    <a:pt x="6" y="1383"/>
                  </a:lnTo>
                  <a:lnTo>
                    <a:pt x="13" y="1413"/>
                  </a:lnTo>
                  <a:lnTo>
                    <a:pt x="19" y="1443"/>
                  </a:lnTo>
                  <a:lnTo>
                    <a:pt x="25" y="1473"/>
                  </a:lnTo>
                  <a:lnTo>
                    <a:pt x="32" y="1479"/>
                  </a:lnTo>
                  <a:lnTo>
                    <a:pt x="38" y="1484"/>
                  </a:lnTo>
                  <a:lnTo>
                    <a:pt x="45" y="1491"/>
                  </a:lnTo>
                  <a:lnTo>
                    <a:pt x="53" y="1497"/>
                  </a:lnTo>
                  <a:lnTo>
                    <a:pt x="60" y="1503"/>
                  </a:lnTo>
                  <a:lnTo>
                    <a:pt x="67" y="1509"/>
                  </a:lnTo>
                  <a:lnTo>
                    <a:pt x="75" y="1514"/>
                  </a:lnTo>
                  <a:lnTo>
                    <a:pt x="82" y="1520"/>
                  </a:lnTo>
                  <a:lnTo>
                    <a:pt x="96" y="1515"/>
                  </a:lnTo>
                  <a:lnTo>
                    <a:pt x="111" y="1511"/>
                  </a:lnTo>
                  <a:lnTo>
                    <a:pt x="125" y="1506"/>
                  </a:lnTo>
                  <a:lnTo>
                    <a:pt x="140" y="1502"/>
                  </a:lnTo>
                  <a:lnTo>
                    <a:pt x="155" y="1497"/>
                  </a:lnTo>
                  <a:lnTo>
                    <a:pt x="170" y="1492"/>
                  </a:lnTo>
                  <a:lnTo>
                    <a:pt x="184" y="1488"/>
                  </a:lnTo>
                  <a:lnTo>
                    <a:pt x="199" y="1483"/>
                  </a:lnTo>
                  <a:lnTo>
                    <a:pt x="210" y="1475"/>
                  </a:lnTo>
                  <a:lnTo>
                    <a:pt x="220" y="1468"/>
                  </a:lnTo>
                  <a:lnTo>
                    <a:pt x="232" y="1460"/>
                  </a:lnTo>
                  <a:lnTo>
                    <a:pt x="243" y="1452"/>
                  </a:lnTo>
                  <a:lnTo>
                    <a:pt x="254" y="1445"/>
                  </a:lnTo>
                  <a:lnTo>
                    <a:pt x="265" y="1437"/>
                  </a:lnTo>
                  <a:lnTo>
                    <a:pt x="276" y="1430"/>
                  </a:lnTo>
                  <a:lnTo>
                    <a:pt x="287" y="1422"/>
                  </a:lnTo>
                  <a:lnTo>
                    <a:pt x="301" y="1413"/>
                  </a:lnTo>
                  <a:lnTo>
                    <a:pt x="314" y="1404"/>
                  </a:lnTo>
                  <a:lnTo>
                    <a:pt x="327" y="1394"/>
                  </a:lnTo>
                  <a:lnTo>
                    <a:pt x="341" y="1384"/>
                  </a:lnTo>
                  <a:lnTo>
                    <a:pt x="355" y="1375"/>
                  </a:lnTo>
                  <a:lnTo>
                    <a:pt x="369" y="1366"/>
                  </a:lnTo>
                  <a:lnTo>
                    <a:pt x="383" y="1356"/>
                  </a:lnTo>
                  <a:lnTo>
                    <a:pt x="397" y="1347"/>
                  </a:lnTo>
                  <a:lnTo>
                    <a:pt x="417" y="1321"/>
                  </a:lnTo>
                  <a:lnTo>
                    <a:pt x="437" y="1293"/>
                  </a:lnTo>
                  <a:lnTo>
                    <a:pt x="458" y="1267"/>
                  </a:lnTo>
                  <a:lnTo>
                    <a:pt x="477" y="1240"/>
                  </a:lnTo>
                  <a:lnTo>
                    <a:pt x="497" y="1214"/>
                  </a:lnTo>
                  <a:lnTo>
                    <a:pt x="517" y="1186"/>
                  </a:lnTo>
                  <a:lnTo>
                    <a:pt x="537" y="1159"/>
                  </a:lnTo>
                  <a:lnTo>
                    <a:pt x="558" y="1133"/>
                  </a:lnTo>
                  <a:lnTo>
                    <a:pt x="585" y="1079"/>
                  </a:lnTo>
                  <a:lnTo>
                    <a:pt x="612" y="1030"/>
                  </a:lnTo>
                  <a:lnTo>
                    <a:pt x="636" y="984"/>
                  </a:lnTo>
                  <a:lnTo>
                    <a:pt x="658" y="942"/>
                  </a:lnTo>
                  <a:lnTo>
                    <a:pt x="680" y="901"/>
                  </a:lnTo>
                  <a:lnTo>
                    <a:pt x="701" y="862"/>
                  </a:lnTo>
                  <a:lnTo>
                    <a:pt x="720" y="825"/>
                  </a:lnTo>
                  <a:lnTo>
                    <a:pt x="740" y="788"/>
                  </a:lnTo>
                  <a:lnTo>
                    <a:pt x="760" y="753"/>
                  </a:lnTo>
                  <a:lnTo>
                    <a:pt x="781" y="716"/>
                  </a:lnTo>
                  <a:lnTo>
                    <a:pt x="802" y="678"/>
                  </a:lnTo>
                  <a:lnTo>
                    <a:pt x="825" y="639"/>
                  </a:lnTo>
                  <a:lnTo>
                    <a:pt x="849" y="597"/>
                  </a:lnTo>
                  <a:lnTo>
                    <a:pt x="877" y="553"/>
                  </a:lnTo>
                  <a:lnTo>
                    <a:pt x="906" y="506"/>
                  </a:lnTo>
                  <a:lnTo>
                    <a:pt x="937" y="454"/>
                  </a:lnTo>
                  <a:lnTo>
                    <a:pt x="952" y="423"/>
                  </a:lnTo>
                  <a:lnTo>
                    <a:pt x="967" y="397"/>
                  </a:lnTo>
                  <a:lnTo>
                    <a:pt x="982" y="373"/>
                  </a:lnTo>
                  <a:lnTo>
                    <a:pt x="995" y="351"/>
                  </a:lnTo>
                  <a:lnTo>
                    <a:pt x="1009" y="332"/>
                  </a:lnTo>
                  <a:lnTo>
                    <a:pt x="1020" y="315"/>
                  </a:lnTo>
                  <a:lnTo>
                    <a:pt x="1029" y="301"/>
                  </a:lnTo>
                  <a:lnTo>
                    <a:pt x="1034" y="288"/>
                  </a:lnTo>
                  <a:lnTo>
                    <a:pt x="1038" y="277"/>
                  </a:lnTo>
                  <a:lnTo>
                    <a:pt x="1037" y="268"/>
                  </a:lnTo>
                  <a:lnTo>
                    <a:pt x="1032" y="258"/>
                  </a:lnTo>
                  <a:lnTo>
                    <a:pt x="1023" y="249"/>
                  </a:lnTo>
                  <a:lnTo>
                    <a:pt x="1008" y="241"/>
                  </a:lnTo>
                  <a:lnTo>
                    <a:pt x="988" y="233"/>
                  </a:lnTo>
                  <a:lnTo>
                    <a:pt x="962" y="225"/>
                  </a:lnTo>
                  <a:lnTo>
                    <a:pt x="929" y="216"/>
                  </a:lnTo>
                  <a:lnTo>
                    <a:pt x="933" y="194"/>
                  </a:lnTo>
                  <a:lnTo>
                    <a:pt x="938" y="171"/>
                  </a:lnTo>
                  <a:lnTo>
                    <a:pt x="942" y="149"/>
                  </a:lnTo>
                  <a:lnTo>
                    <a:pt x="947" y="127"/>
                  </a:lnTo>
                  <a:lnTo>
                    <a:pt x="957" y="124"/>
                  </a:lnTo>
                  <a:lnTo>
                    <a:pt x="967" y="121"/>
                  </a:lnTo>
                  <a:lnTo>
                    <a:pt x="977" y="118"/>
                  </a:lnTo>
                  <a:lnTo>
                    <a:pt x="986" y="114"/>
                  </a:lnTo>
                  <a:lnTo>
                    <a:pt x="995" y="112"/>
                  </a:lnTo>
                  <a:lnTo>
                    <a:pt x="1005" y="109"/>
                  </a:lnTo>
                  <a:lnTo>
                    <a:pt x="1015" y="106"/>
                  </a:lnTo>
                  <a:lnTo>
                    <a:pt x="1024" y="103"/>
                  </a:lnTo>
                  <a:lnTo>
                    <a:pt x="1031" y="101"/>
                  </a:lnTo>
                  <a:lnTo>
                    <a:pt x="1038" y="100"/>
                  </a:lnTo>
                  <a:lnTo>
                    <a:pt x="1045" y="97"/>
                  </a:lnTo>
                  <a:lnTo>
                    <a:pt x="1052" y="96"/>
                  </a:lnTo>
                  <a:lnTo>
                    <a:pt x="1059" y="94"/>
                  </a:lnTo>
                  <a:lnTo>
                    <a:pt x="1066" y="93"/>
                  </a:lnTo>
                  <a:lnTo>
                    <a:pt x="1072" y="90"/>
                  </a:lnTo>
                  <a:lnTo>
                    <a:pt x="1079" y="89"/>
                  </a:lnTo>
                  <a:lnTo>
                    <a:pt x="1092" y="86"/>
                  </a:lnTo>
                  <a:lnTo>
                    <a:pt x="1105" y="82"/>
                  </a:lnTo>
                  <a:lnTo>
                    <a:pt x="1117" y="79"/>
                  </a:lnTo>
                  <a:lnTo>
                    <a:pt x="1130" y="74"/>
                  </a:lnTo>
                  <a:lnTo>
                    <a:pt x="1143" y="71"/>
                  </a:lnTo>
                  <a:lnTo>
                    <a:pt x="1155" y="67"/>
                  </a:lnTo>
                  <a:lnTo>
                    <a:pt x="1168" y="64"/>
                  </a:lnTo>
                  <a:lnTo>
                    <a:pt x="1181" y="60"/>
                  </a:lnTo>
                  <a:lnTo>
                    <a:pt x="1185" y="56"/>
                  </a:lnTo>
                  <a:lnTo>
                    <a:pt x="1191" y="52"/>
                  </a:lnTo>
                  <a:lnTo>
                    <a:pt x="1196" y="48"/>
                  </a:lnTo>
                  <a:lnTo>
                    <a:pt x="1201" y="43"/>
                  </a:lnTo>
                  <a:lnTo>
                    <a:pt x="1206" y="40"/>
                  </a:lnTo>
                  <a:lnTo>
                    <a:pt x="1211" y="35"/>
                  </a:lnTo>
                  <a:lnTo>
                    <a:pt x="1216" y="32"/>
                  </a:lnTo>
                  <a:lnTo>
                    <a:pt x="1221" y="27"/>
                  </a:lnTo>
                  <a:lnTo>
                    <a:pt x="1209" y="28"/>
                  </a:lnTo>
                  <a:lnTo>
                    <a:pt x="1198" y="30"/>
                  </a:lnTo>
                  <a:lnTo>
                    <a:pt x="1186" y="32"/>
                  </a:lnTo>
                  <a:lnTo>
                    <a:pt x="1175" y="34"/>
                  </a:lnTo>
                  <a:lnTo>
                    <a:pt x="1162" y="35"/>
                  </a:lnTo>
                  <a:lnTo>
                    <a:pt x="1151" y="37"/>
                  </a:lnTo>
                  <a:lnTo>
                    <a:pt x="1139" y="38"/>
                  </a:lnTo>
                  <a:lnTo>
                    <a:pt x="1128" y="41"/>
                  </a:lnTo>
                  <a:lnTo>
                    <a:pt x="1116" y="42"/>
                  </a:lnTo>
                  <a:lnTo>
                    <a:pt x="1105" y="44"/>
                  </a:lnTo>
                  <a:lnTo>
                    <a:pt x="1093" y="45"/>
                  </a:lnTo>
                  <a:lnTo>
                    <a:pt x="1082" y="48"/>
                  </a:lnTo>
                  <a:lnTo>
                    <a:pt x="1069" y="49"/>
                  </a:lnTo>
                  <a:lnTo>
                    <a:pt x="1058" y="51"/>
                  </a:lnTo>
                  <a:lnTo>
                    <a:pt x="1046" y="52"/>
                  </a:lnTo>
                  <a:lnTo>
                    <a:pt x="1034" y="55"/>
                  </a:lnTo>
                  <a:lnTo>
                    <a:pt x="1008" y="58"/>
                  </a:lnTo>
                  <a:lnTo>
                    <a:pt x="984" y="60"/>
                  </a:lnTo>
                  <a:lnTo>
                    <a:pt x="963" y="64"/>
                  </a:lnTo>
                  <a:lnTo>
                    <a:pt x="945" y="66"/>
                  </a:lnTo>
                  <a:lnTo>
                    <a:pt x="927" y="68"/>
                  </a:lnTo>
                  <a:lnTo>
                    <a:pt x="911" y="70"/>
                  </a:lnTo>
                  <a:lnTo>
                    <a:pt x="896" y="71"/>
                  </a:lnTo>
                  <a:lnTo>
                    <a:pt x="882" y="71"/>
                  </a:lnTo>
                  <a:lnTo>
                    <a:pt x="869" y="71"/>
                  </a:lnTo>
                  <a:lnTo>
                    <a:pt x="855" y="68"/>
                  </a:lnTo>
                  <a:lnTo>
                    <a:pt x="840" y="66"/>
                  </a:lnTo>
                  <a:lnTo>
                    <a:pt x="824" y="61"/>
                  </a:lnTo>
                  <a:lnTo>
                    <a:pt x="806" y="56"/>
                  </a:lnTo>
                  <a:lnTo>
                    <a:pt x="787" y="49"/>
                  </a:lnTo>
                  <a:lnTo>
                    <a:pt x="766" y="40"/>
                  </a:lnTo>
                  <a:lnTo>
                    <a:pt x="742" y="29"/>
                  </a:lnTo>
                  <a:lnTo>
                    <a:pt x="734" y="26"/>
                  </a:lnTo>
                  <a:lnTo>
                    <a:pt x="727" y="22"/>
                  </a:lnTo>
                  <a:lnTo>
                    <a:pt x="719" y="19"/>
                  </a:lnTo>
                  <a:lnTo>
                    <a:pt x="711" y="15"/>
                  </a:lnTo>
                  <a:lnTo>
                    <a:pt x="703" y="12"/>
                  </a:lnTo>
                  <a:lnTo>
                    <a:pt x="696" y="8"/>
                  </a:lnTo>
                  <a:lnTo>
                    <a:pt x="688" y="4"/>
                  </a:lnTo>
                  <a:lnTo>
                    <a:pt x="681" y="0"/>
                  </a:lnTo>
                  <a:lnTo>
                    <a:pt x="686" y="8"/>
                  </a:lnTo>
                  <a:lnTo>
                    <a:pt x="690" y="18"/>
                  </a:lnTo>
                  <a:lnTo>
                    <a:pt x="695" y="26"/>
                  </a:lnTo>
                  <a:lnTo>
                    <a:pt x="698" y="34"/>
                  </a:lnTo>
                  <a:lnTo>
                    <a:pt x="703" y="43"/>
                  </a:lnTo>
                  <a:lnTo>
                    <a:pt x="707" y="51"/>
                  </a:lnTo>
                  <a:lnTo>
                    <a:pt x="711" y="60"/>
                  </a:lnTo>
                  <a:lnTo>
                    <a:pt x="716" y="68"/>
                  </a:lnTo>
                  <a:close/>
                </a:path>
              </a:pathLst>
            </a:custGeom>
            <a:solidFill>
              <a:srgbClr val="54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27320" y="1391760"/>
              <a:ext cx="518760" cy="650520"/>
            </a:xfrm>
            <a:custGeom>
              <a:avLst/>
              <a:gdLst/>
              <a:ahLst/>
              <a:rect l="l" t="t" r="r" b="b"/>
              <a:pathLst>
                <a:path w="1199" h="1504">
                  <a:moveTo>
                    <a:pt x="714" y="67"/>
                  </a:moveTo>
                  <a:lnTo>
                    <a:pt x="714" y="83"/>
                  </a:lnTo>
                  <a:lnTo>
                    <a:pt x="714" y="99"/>
                  </a:lnTo>
                  <a:lnTo>
                    <a:pt x="714" y="117"/>
                  </a:lnTo>
                  <a:lnTo>
                    <a:pt x="714" y="133"/>
                  </a:lnTo>
                  <a:lnTo>
                    <a:pt x="720" y="140"/>
                  </a:lnTo>
                  <a:lnTo>
                    <a:pt x="727" y="146"/>
                  </a:lnTo>
                  <a:lnTo>
                    <a:pt x="734" y="152"/>
                  </a:lnTo>
                  <a:lnTo>
                    <a:pt x="741" y="158"/>
                  </a:lnTo>
                  <a:lnTo>
                    <a:pt x="748" y="164"/>
                  </a:lnTo>
                  <a:lnTo>
                    <a:pt x="755" y="170"/>
                  </a:lnTo>
                  <a:lnTo>
                    <a:pt x="763" y="177"/>
                  </a:lnTo>
                  <a:lnTo>
                    <a:pt x="770" y="182"/>
                  </a:lnTo>
                  <a:lnTo>
                    <a:pt x="767" y="209"/>
                  </a:lnTo>
                  <a:lnTo>
                    <a:pt x="764" y="235"/>
                  </a:lnTo>
                  <a:lnTo>
                    <a:pt x="761" y="261"/>
                  </a:lnTo>
                  <a:lnTo>
                    <a:pt x="758" y="287"/>
                  </a:lnTo>
                  <a:lnTo>
                    <a:pt x="748" y="318"/>
                  </a:lnTo>
                  <a:lnTo>
                    <a:pt x="740" y="339"/>
                  </a:lnTo>
                  <a:lnTo>
                    <a:pt x="734" y="352"/>
                  </a:lnTo>
                  <a:lnTo>
                    <a:pt x="732" y="362"/>
                  </a:lnTo>
                  <a:lnTo>
                    <a:pt x="732" y="371"/>
                  </a:lnTo>
                  <a:lnTo>
                    <a:pt x="738" y="383"/>
                  </a:lnTo>
                  <a:lnTo>
                    <a:pt x="747" y="402"/>
                  </a:lnTo>
                  <a:lnTo>
                    <a:pt x="761" y="430"/>
                  </a:lnTo>
                  <a:lnTo>
                    <a:pt x="742" y="452"/>
                  </a:lnTo>
                  <a:lnTo>
                    <a:pt x="724" y="474"/>
                  </a:lnTo>
                  <a:lnTo>
                    <a:pt x="706" y="497"/>
                  </a:lnTo>
                  <a:lnTo>
                    <a:pt x="687" y="519"/>
                  </a:lnTo>
                  <a:lnTo>
                    <a:pt x="669" y="541"/>
                  </a:lnTo>
                  <a:lnTo>
                    <a:pt x="650" y="564"/>
                  </a:lnTo>
                  <a:lnTo>
                    <a:pt x="632" y="586"/>
                  </a:lnTo>
                  <a:lnTo>
                    <a:pt x="613" y="607"/>
                  </a:lnTo>
                  <a:lnTo>
                    <a:pt x="600" y="633"/>
                  </a:lnTo>
                  <a:lnTo>
                    <a:pt x="587" y="658"/>
                  </a:lnTo>
                  <a:lnTo>
                    <a:pt x="573" y="684"/>
                  </a:lnTo>
                  <a:lnTo>
                    <a:pt x="560" y="709"/>
                  </a:lnTo>
                  <a:lnTo>
                    <a:pt x="547" y="735"/>
                  </a:lnTo>
                  <a:lnTo>
                    <a:pt x="534" y="761"/>
                  </a:lnTo>
                  <a:lnTo>
                    <a:pt x="520" y="786"/>
                  </a:lnTo>
                  <a:lnTo>
                    <a:pt x="507" y="811"/>
                  </a:lnTo>
                  <a:lnTo>
                    <a:pt x="494" y="837"/>
                  </a:lnTo>
                  <a:lnTo>
                    <a:pt x="480" y="862"/>
                  </a:lnTo>
                  <a:lnTo>
                    <a:pt x="467" y="887"/>
                  </a:lnTo>
                  <a:lnTo>
                    <a:pt x="453" y="913"/>
                  </a:lnTo>
                  <a:lnTo>
                    <a:pt x="441" y="939"/>
                  </a:lnTo>
                  <a:lnTo>
                    <a:pt x="427" y="965"/>
                  </a:lnTo>
                  <a:lnTo>
                    <a:pt x="414" y="990"/>
                  </a:lnTo>
                  <a:lnTo>
                    <a:pt x="400" y="1015"/>
                  </a:lnTo>
                  <a:lnTo>
                    <a:pt x="375" y="1036"/>
                  </a:lnTo>
                  <a:lnTo>
                    <a:pt x="351" y="1057"/>
                  </a:lnTo>
                  <a:lnTo>
                    <a:pt x="326" y="1076"/>
                  </a:lnTo>
                  <a:lnTo>
                    <a:pt x="300" y="1097"/>
                  </a:lnTo>
                  <a:lnTo>
                    <a:pt x="275" y="1118"/>
                  </a:lnTo>
                  <a:lnTo>
                    <a:pt x="251" y="1139"/>
                  </a:lnTo>
                  <a:lnTo>
                    <a:pt x="225" y="1159"/>
                  </a:lnTo>
                  <a:lnTo>
                    <a:pt x="200" y="1180"/>
                  </a:lnTo>
                  <a:lnTo>
                    <a:pt x="175" y="1200"/>
                  </a:lnTo>
                  <a:lnTo>
                    <a:pt x="151" y="1220"/>
                  </a:lnTo>
                  <a:lnTo>
                    <a:pt x="125" y="1241"/>
                  </a:lnTo>
                  <a:lnTo>
                    <a:pt x="100" y="1262"/>
                  </a:lnTo>
                  <a:lnTo>
                    <a:pt x="75" y="1283"/>
                  </a:lnTo>
                  <a:lnTo>
                    <a:pt x="50" y="1303"/>
                  </a:lnTo>
                  <a:lnTo>
                    <a:pt x="25" y="1324"/>
                  </a:lnTo>
                  <a:lnTo>
                    <a:pt x="0" y="1345"/>
                  </a:lnTo>
                  <a:lnTo>
                    <a:pt x="5" y="1375"/>
                  </a:lnTo>
                  <a:lnTo>
                    <a:pt x="12" y="1406"/>
                  </a:lnTo>
                  <a:lnTo>
                    <a:pt x="18" y="1436"/>
                  </a:lnTo>
                  <a:lnTo>
                    <a:pt x="24" y="1466"/>
                  </a:lnTo>
                  <a:lnTo>
                    <a:pt x="31" y="1470"/>
                  </a:lnTo>
                  <a:lnTo>
                    <a:pt x="37" y="1476"/>
                  </a:lnTo>
                  <a:lnTo>
                    <a:pt x="43" y="1481"/>
                  </a:lnTo>
                  <a:lnTo>
                    <a:pt x="50" y="1485"/>
                  </a:lnTo>
                  <a:lnTo>
                    <a:pt x="56" y="1490"/>
                  </a:lnTo>
                  <a:lnTo>
                    <a:pt x="63" y="1495"/>
                  </a:lnTo>
                  <a:lnTo>
                    <a:pt x="69" y="1499"/>
                  </a:lnTo>
                  <a:lnTo>
                    <a:pt x="76" y="1504"/>
                  </a:lnTo>
                  <a:lnTo>
                    <a:pt x="91" y="1498"/>
                  </a:lnTo>
                  <a:lnTo>
                    <a:pt x="104" y="1492"/>
                  </a:lnTo>
                  <a:lnTo>
                    <a:pt x="119" y="1488"/>
                  </a:lnTo>
                  <a:lnTo>
                    <a:pt x="134" y="1482"/>
                  </a:lnTo>
                  <a:lnTo>
                    <a:pt x="149" y="1476"/>
                  </a:lnTo>
                  <a:lnTo>
                    <a:pt x="163" y="1472"/>
                  </a:lnTo>
                  <a:lnTo>
                    <a:pt x="178" y="1466"/>
                  </a:lnTo>
                  <a:lnTo>
                    <a:pt x="192" y="1460"/>
                  </a:lnTo>
                  <a:lnTo>
                    <a:pt x="202" y="1453"/>
                  </a:lnTo>
                  <a:lnTo>
                    <a:pt x="213" y="1445"/>
                  </a:lnTo>
                  <a:lnTo>
                    <a:pt x="223" y="1437"/>
                  </a:lnTo>
                  <a:lnTo>
                    <a:pt x="233" y="1430"/>
                  </a:lnTo>
                  <a:lnTo>
                    <a:pt x="244" y="1422"/>
                  </a:lnTo>
                  <a:lnTo>
                    <a:pt x="254" y="1414"/>
                  </a:lnTo>
                  <a:lnTo>
                    <a:pt x="265" y="1407"/>
                  </a:lnTo>
                  <a:lnTo>
                    <a:pt x="275" y="1400"/>
                  </a:lnTo>
                  <a:lnTo>
                    <a:pt x="289" y="1391"/>
                  </a:lnTo>
                  <a:lnTo>
                    <a:pt x="301" y="1382"/>
                  </a:lnTo>
                  <a:lnTo>
                    <a:pt x="315" y="1374"/>
                  </a:lnTo>
                  <a:lnTo>
                    <a:pt x="328" y="1364"/>
                  </a:lnTo>
                  <a:lnTo>
                    <a:pt x="342" y="1355"/>
                  </a:lnTo>
                  <a:lnTo>
                    <a:pt x="354" y="1347"/>
                  </a:lnTo>
                  <a:lnTo>
                    <a:pt x="368" y="1338"/>
                  </a:lnTo>
                  <a:lnTo>
                    <a:pt x="381" y="1329"/>
                  </a:lnTo>
                  <a:lnTo>
                    <a:pt x="402" y="1301"/>
                  </a:lnTo>
                  <a:lnTo>
                    <a:pt x="421" y="1275"/>
                  </a:lnTo>
                  <a:lnTo>
                    <a:pt x="442" y="1247"/>
                  </a:lnTo>
                  <a:lnTo>
                    <a:pt x="461" y="1219"/>
                  </a:lnTo>
                  <a:lnTo>
                    <a:pt x="481" y="1192"/>
                  </a:lnTo>
                  <a:lnTo>
                    <a:pt x="502" y="1164"/>
                  </a:lnTo>
                  <a:lnTo>
                    <a:pt x="521" y="1137"/>
                  </a:lnTo>
                  <a:lnTo>
                    <a:pt x="542" y="1110"/>
                  </a:lnTo>
                  <a:lnTo>
                    <a:pt x="570" y="1057"/>
                  </a:lnTo>
                  <a:lnTo>
                    <a:pt x="595" y="1007"/>
                  </a:lnTo>
                  <a:lnTo>
                    <a:pt x="618" y="963"/>
                  </a:lnTo>
                  <a:lnTo>
                    <a:pt x="640" y="922"/>
                  </a:lnTo>
                  <a:lnTo>
                    <a:pt x="659" y="883"/>
                  </a:lnTo>
                  <a:lnTo>
                    <a:pt x="679" y="847"/>
                  </a:lnTo>
                  <a:lnTo>
                    <a:pt x="697" y="811"/>
                  </a:lnTo>
                  <a:lnTo>
                    <a:pt x="716" y="778"/>
                  </a:lnTo>
                  <a:lnTo>
                    <a:pt x="735" y="743"/>
                  </a:lnTo>
                  <a:lnTo>
                    <a:pt x="754" y="709"/>
                  </a:lnTo>
                  <a:lnTo>
                    <a:pt x="775" y="673"/>
                  </a:lnTo>
                  <a:lnTo>
                    <a:pt x="796" y="636"/>
                  </a:lnTo>
                  <a:lnTo>
                    <a:pt x="821" y="596"/>
                  </a:lnTo>
                  <a:lnTo>
                    <a:pt x="846" y="552"/>
                  </a:lnTo>
                  <a:lnTo>
                    <a:pt x="875" y="506"/>
                  </a:lnTo>
                  <a:lnTo>
                    <a:pt x="906" y="454"/>
                  </a:lnTo>
                  <a:lnTo>
                    <a:pt x="921" y="423"/>
                  </a:lnTo>
                  <a:lnTo>
                    <a:pt x="937" y="396"/>
                  </a:lnTo>
                  <a:lnTo>
                    <a:pt x="952" y="371"/>
                  </a:lnTo>
                  <a:lnTo>
                    <a:pt x="967" y="351"/>
                  </a:lnTo>
                  <a:lnTo>
                    <a:pt x="981" y="331"/>
                  </a:lnTo>
                  <a:lnTo>
                    <a:pt x="992" y="315"/>
                  </a:lnTo>
                  <a:lnTo>
                    <a:pt x="1001" y="300"/>
                  </a:lnTo>
                  <a:lnTo>
                    <a:pt x="1008" y="287"/>
                  </a:lnTo>
                  <a:lnTo>
                    <a:pt x="1012" y="276"/>
                  </a:lnTo>
                  <a:lnTo>
                    <a:pt x="1012" y="265"/>
                  </a:lnTo>
                  <a:lnTo>
                    <a:pt x="1008" y="256"/>
                  </a:lnTo>
                  <a:lnTo>
                    <a:pt x="999" y="247"/>
                  </a:lnTo>
                  <a:lnTo>
                    <a:pt x="985" y="239"/>
                  </a:lnTo>
                  <a:lnTo>
                    <a:pt x="965" y="230"/>
                  </a:lnTo>
                  <a:lnTo>
                    <a:pt x="939" y="222"/>
                  </a:lnTo>
                  <a:lnTo>
                    <a:pt x="906" y="212"/>
                  </a:lnTo>
                  <a:lnTo>
                    <a:pt x="912" y="188"/>
                  </a:lnTo>
                  <a:lnTo>
                    <a:pt x="916" y="164"/>
                  </a:lnTo>
                  <a:lnTo>
                    <a:pt x="922" y="140"/>
                  </a:lnTo>
                  <a:lnTo>
                    <a:pt x="927" y="114"/>
                  </a:lnTo>
                  <a:lnTo>
                    <a:pt x="937" y="111"/>
                  </a:lnTo>
                  <a:lnTo>
                    <a:pt x="946" y="109"/>
                  </a:lnTo>
                  <a:lnTo>
                    <a:pt x="957" y="105"/>
                  </a:lnTo>
                  <a:lnTo>
                    <a:pt x="966" y="102"/>
                  </a:lnTo>
                  <a:lnTo>
                    <a:pt x="975" y="99"/>
                  </a:lnTo>
                  <a:lnTo>
                    <a:pt x="985" y="96"/>
                  </a:lnTo>
                  <a:lnTo>
                    <a:pt x="995" y="94"/>
                  </a:lnTo>
                  <a:lnTo>
                    <a:pt x="1005" y="90"/>
                  </a:lnTo>
                  <a:lnTo>
                    <a:pt x="1012" y="89"/>
                  </a:lnTo>
                  <a:lnTo>
                    <a:pt x="1019" y="88"/>
                  </a:lnTo>
                  <a:lnTo>
                    <a:pt x="1026" y="87"/>
                  </a:lnTo>
                  <a:lnTo>
                    <a:pt x="1033" y="84"/>
                  </a:lnTo>
                  <a:lnTo>
                    <a:pt x="1039" y="83"/>
                  </a:lnTo>
                  <a:lnTo>
                    <a:pt x="1046" y="82"/>
                  </a:lnTo>
                  <a:lnTo>
                    <a:pt x="1052" y="81"/>
                  </a:lnTo>
                  <a:lnTo>
                    <a:pt x="1059" y="80"/>
                  </a:lnTo>
                  <a:lnTo>
                    <a:pt x="1072" y="76"/>
                  </a:lnTo>
                  <a:lnTo>
                    <a:pt x="1084" y="72"/>
                  </a:lnTo>
                  <a:lnTo>
                    <a:pt x="1097" y="68"/>
                  </a:lnTo>
                  <a:lnTo>
                    <a:pt x="1111" y="65"/>
                  </a:lnTo>
                  <a:lnTo>
                    <a:pt x="1124" y="61"/>
                  </a:lnTo>
                  <a:lnTo>
                    <a:pt x="1136" y="58"/>
                  </a:lnTo>
                  <a:lnTo>
                    <a:pt x="1149" y="53"/>
                  </a:lnTo>
                  <a:lnTo>
                    <a:pt x="1162" y="50"/>
                  </a:lnTo>
                  <a:lnTo>
                    <a:pt x="1166" y="46"/>
                  </a:lnTo>
                  <a:lnTo>
                    <a:pt x="1171" y="43"/>
                  </a:lnTo>
                  <a:lnTo>
                    <a:pt x="1175" y="40"/>
                  </a:lnTo>
                  <a:lnTo>
                    <a:pt x="1181" y="36"/>
                  </a:lnTo>
                  <a:lnTo>
                    <a:pt x="1186" y="33"/>
                  </a:lnTo>
                  <a:lnTo>
                    <a:pt x="1190" y="29"/>
                  </a:lnTo>
                  <a:lnTo>
                    <a:pt x="1195" y="27"/>
                  </a:lnTo>
                  <a:lnTo>
                    <a:pt x="1199" y="23"/>
                  </a:lnTo>
                  <a:lnTo>
                    <a:pt x="1178" y="27"/>
                  </a:lnTo>
                  <a:lnTo>
                    <a:pt x="1156" y="29"/>
                  </a:lnTo>
                  <a:lnTo>
                    <a:pt x="1133" y="33"/>
                  </a:lnTo>
                  <a:lnTo>
                    <a:pt x="1111" y="35"/>
                  </a:lnTo>
                  <a:lnTo>
                    <a:pt x="1089" y="38"/>
                  </a:lnTo>
                  <a:lnTo>
                    <a:pt x="1066" y="42"/>
                  </a:lnTo>
                  <a:lnTo>
                    <a:pt x="1044" y="44"/>
                  </a:lnTo>
                  <a:lnTo>
                    <a:pt x="1022" y="48"/>
                  </a:lnTo>
                  <a:lnTo>
                    <a:pt x="995" y="51"/>
                  </a:lnTo>
                  <a:lnTo>
                    <a:pt x="972" y="53"/>
                  </a:lnTo>
                  <a:lnTo>
                    <a:pt x="950" y="57"/>
                  </a:lnTo>
                  <a:lnTo>
                    <a:pt x="931" y="60"/>
                  </a:lnTo>
                  <a:lnTo>
                    <a:pt x="915" y="63"/>
                  </a:lnTo>
                  <a:lnTo>
                    <a:pt x="900" y="64"/>
                  </a:lnTo>
                  <a:lnTo>
                    <a:pt x="886" y="66"/>
                  </a:lnTo>
                  <a:lnTo>
                    <a:pt x="874" y="66"/>
                  </a:lnTo>
                  <a:lnTo>
                    <a:pt x="861" y="66"/>
                  </a:lnTo>
                  <a:lnTo>
                    <a:pt x="847" y="64"/>
                  </a:lnTo>
                  <a:lnTo>
                    <a:pt x="833" y="61"/>
                  </a:lnTo>
                  <a:lnTo>
                    <a:pt x="818" y="58"/>
                  </a:lnTo>
                  <a:lnTo>
                    <a:pt x="801" y="52"/>
                  </a:lnTo>
                  <a:lnTo>
                    <a:pt x="782" y="45"/>
                  </a:lnTo>
                  <a:lnTo>
                    <a:pt x="761" y="36"/>
                  </a:lnTo>
                  <a:lnTo>
                    <a:pt x="735" y="26"/>
                  </a:lnTo>
                  <a:lnTo>
                    <a:pt x="729" y="22"/>
                  </a:lnTo>
                  <a:lnTo>
                    <a:pt x="720" y="20"/>
                  </a:lnTo>
                  <a:lnTo>
                    <a:pt x="714" y="16"/>
                  </a:lnTo>
                  <a:lnTo>
                    <a:pt x="707" y="13"/>
                  </a:lnTo>
                  <a:lnTo>
                    <a:pt x="699" y="10"/>
                  </a:lnTo>
                  <a:lnTo>
                    <a:pt x="692" y="6"/>
                  </a:lnTo>
                  <a:lnTo>
                    <a:pt x="684" y="4"/>
                  </a:lnTo>
                  <a:lnTo>
                    <a:pt x="677" y="0"/>
                  </a:lnTo>
                  <a:lnTo>
                    <a:pt x="681" y="8"/>
                  </a:lnTo>
                  <a:lnTo>
                    <a:pt x="686" y="16"/>
                  </a:lnTo>
                  <a:lnTo>
                    <a:pt x="691" y="26"/>
                  </a:lnTo>
                  <a:lnTo>
                    <a:pt x="695" y="34"/>
                  </a:lnTo>
                  <a:lnTo>
                    <a:pt x="700" y="42"/>
                  </a:lnTo>
                  <a:lnTo>
                    <a:pt x="704" y="51"/>
                  </a:lnTo>
                  <a:lnTo>
                    <a:pt x="709" y="59"/>
                  </a:lnTo>
                  <a:lnTo>
                    <a:pt x="714" y="67"/>
                  </a:lnTo>
                  <a:close/>
                </a:path>
              </a:pathLst>
            </a:custGeom>
            <a:solidFill>
              <a:srgbClr val="47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30920" y="1395360"/>
              <a:ext cx="510840" cy="643320"/>
            </a:xfrm>
            <a:custGeom>
              <a:avLst/>
              <a:gdLst/>
              <a:ahLst/>
              <a:rect l="l" t="t" r="r" b="b"/>
              <a:pathLst>
                <a:path w="1180" h="1489">
                  <a:moveTo>
                    <a:pt x="713" y="66"/>
                  </a:moveTo>
                  <a:lnTo>
                    <a:pt x="713" y="82"/>
                  </a:lnTo>
                  <a:lnTo>
                    <a:pt x="713" y="98"/>
                  </a:lnTo>
                  <a:lnTo>
                    <a:pt x="713" y="115"/>
                  </a:lnTo>
                  <a:lnTo>
                    <a:pt x="713" y="132"/>
                  </a:lnTo>
                  <a:lnTo>
                    <a:pt x="720" y="139"/>
                  </a:lnTo>
                  <a:lnTo>
                    <a:pt x="728" y="144"/>
                  </a:lnTo>
                  <a:lnTo>
                    <a:pt x="735" y="151"/>
                  </a:lnTo>
                  <a:lnTo>
                    <a:pt x="743" y="157"/>
                  </a:lnTo>
                  <a:lnTo>
                    <a:pt x="751" y="163"/>
                  </a:lnTo>
                  <a:lnTo>
                    <a:pt x="758" y="170"/>
                  </a:lnTo>
                  <a:lnTo>
                    <a:pt x="766" y="175"/>
                  </a:lnTo>
                  <a:lnTo>
                    <a:pt x="773" y="182"/>
                  </a:lnTo>
                  <a:lnTo>
                    <a:pt x="771" y="209"/>
                  </a:lnTo>
                  <a:lnTo>
                    <a:pt x="769" y="235"/>
                  </a:lnTo>
                  <a:lnTo>
                    <a:pt x="767" y="262"/>
                  </a:lnTo>
                  <a:lnTo>
                    <a:pt x="764" y="288"/>
                  </a:lnTo>
                  <a:lnTo>
                    <a:pt x="754" y="319"/>
                  </a:lnTo>
                  <a:lnTo>
                    <a:pt x="746" y="339"/>
                  </a:lnTo>
                  <a:lnTo>
                    <a:pt x="740" y="352"/>
                  </a:lnTo>
                  <a:lnTo>
                    <a:pt x="737" y="361"/>
                  </a:lnTo>
                  <a:lnTo>
                    <a:pt x="738" y="370"/>
                  </a:lnTo>
                  <a:lnTo>
                    <a:pt x="743" y="382"/>
                  </a:lnTo>
                  <a:lnTo>
                    <a:pt x="752" y="400"/>
                  </a:lnTo>
                  <a:lnTo>
                    <a:pt x="767" y="428"/>
                  </a:lnTo>
                  <a:lnTo>
                    <a:pt x="747" y="452"/>
                  </a:lnTo>
                  <a:lnTo>
                    <a:pt x="728" y="475"/>
                  </a:lnTo>
                  <a:lnTo>
                    <a:pt x="708" y="499"/>
                  </a:lnTo>
                  <a:lnTo>
                    <a:pt x="690" y="522"/>
                  </a:lnTo>
                  <a:lnTo>
                    <a:pt x="670" y="546"/>
                  </a:lnTo>
                  <a:lnTo>
                    <a:pt x="650" y="571"/>
                  </a:lnTo>
                  <a:lnTo>
                    <a:pt x="631" y="594"/>
                  </a:lnTo>
                  <a:lnTo>
                    <a:pt x="611" y="618"/>
                  </a:lnTo>
                  <a:lnTo>
                    <a:pt x="598" y="643"/>
                  </a:lnTo>
                  <a:lnTo>
                    <a:pt x="585" y="668"/>
                  </a:lnTo>
                  <a:lnTo>
                    <a:pt x="571" y="693"/>
                  </a:lnTo>
                  <a:lnTo>
                    <a:pt x="558" y="718"/>
                  </a:lnTo>
                  <a:lnTo>
                    <a:pt x="545" y="743"/>
                  </a:lnTo>
                  <a:lnTo>
                    <a:pt x="531" y="769"/>
                  </a:lnTo>
                  <a:lnTo>
                    <a:pt x="518" y="793"/>
                  </a:lnTo>
                  <a:lnTo>
                    <a:pt x="504" y="818"/>
                  </a:lnTo>
                  <a:lnTo>
                    <a:pt x="490" y="844"/>
                  </a:lnTo>
                  <a:lnTo>
                    <a:pt x="478" y="869"/>
                  </a:lnTo>
                  <a:lnTo>
                    <a:pt x="464" y="894"/>
                  </a:lnTo>
                  <a:lnTo>
                    <a:pt x="451" y="918"/>
                  </a:lnTo>
                  <a:lnTo>
                    <a:pt x="437" y="944"/>
                  </a:lnTo>
                  <a:lnTo>
                    <a:pt x="424" y="969"/>
                  </a:lnTo>
                  <a:lnTo>
                    <a:pt x="411" y="995"/>
                  </a:lnTo>
                  <a:lnTo>
                    <a:pt x="397" y="1020"/>
                  </a:lnTo>
                  <a:lnTo>
                    <a:pt x="372" y="1039"/>
                  </a:lnTo>
                  <a:lnTo>
                    <a:pt x="348" y="1059"/>
                  </a:lnTo>
                  <a:lnTo>
                    <a:pt x="322" y="1079"/>
                  </a:lnTo>
                  <a:lnTo>
                    <a:pt x="298" y="1098"/>
                  </a:lnTo>
                  <a:lnTo>
                    <a:pt x="273" y="1118"/>
                  </a:lnTo>
                  <a:lnTo>
                    <a:pt x="249" y="1137"/>
                  </a:lnTo>
                  <a:lnTo>
                    <a:pt x="223" y="1158"/>
                  </a:lnTo>
                  <a:lnTo>
                    <a:pt x="199" y="1178"/>
                  </a:lnTo>
                  <a:lnTo>
                    <a:pt x="174" y="1197"/>
                  </a:lnTo>
                  <a:lnTo>
                    <a:pt x="148" y="1217"/>
                  </a:lnTo>
                  <a:lnTo>
                    <a:pt x="124" y="1238"/>
                  </a:lnTo>
                  <a:lnTo>
                    <a:pt x="99" y="1257"/>
                  </a:lnTo>
                  <a:lnTo>
                    <a:pt x="75" y="1277"/>
                  </a:lnTo>
                  <a:lnTo>
                    <a:pt x="49" y="1296"/>
                  </a:lnTo>
                  <a:lnTo>
                    <a:pt x="25" y="1317"/>
                  </a:lnTo>
                  <a:lnTo>
                    <a:pt x="0" y="1337"/>
                  </a:lnTo>
                  <a:lnTo>
                    <a:pt x="6" y="1368"/>
                  </a:lnTo>
                  <a:lnTo>
                    <a:pt x="13" y="1399"/>
                  </a:lnTo>
                  <a:lnTo>
                    <a:pt x="19" y="1429"/>
                  </a:lnTo>
                  <a:lnTo>
                    <a:pt x="25" y="1459"/>
                  </a:lnTo>
                  <a:lnTo>
                    <a:pt x="31" y="1462"/>
                  </a:lnTo>
                  <a:lnTo>
                    <a:pt x="37" y="1467"/>
                  </a:lnTo>
                  <a:lnTo>
                    <a:pt x="43" y="1470"/>
                  </a:lnTo>
                  <a:lnTo>
                    <a:pt x="48" y="1474"/>
                  </a:lnTo>
                  <a:lnTo>
                    <a:pt x="54" y="1478"/>
                  </a:lnTo>
                  <a:lnTo>
                    <a:pt x="60" y="1482"/>
                  </a:lnTo>
                  <a:lnTo>
                    <a:pt x="66" y="1485"/>
                  </a:lnTo>
                  <a:lnTo>
                    <a:pt x="71" y="1489"/>
                  </a:lnTo>
                  <a:lnTo>
                    <a:pt x="86" y="1482"/>
                  </a:lnTo>
                  <a:lnTo>
                    <a:pt x="100" y="1476"/>
                  </a:lnTo>
                  <a:lnTo>
                    <a:pt x="115" y="1469"/>
                  </a:lnTo>
                  <a:lnTo>
                    <a:pt x="130" y="1462"/>
                  </a:lnTo>
                  <a:lnTo>
                    <a:pt x="144" y="1456"/>
                  </a:lnTo>
                  <a:lnTo>
                    <a:pt x="159" y="1450"/>
                  </a:lnTo>
                  <a:lnTo>
                    <a:pt x="173" y="1443"/>
                  </a:lnTo>
                  <a:lnTo>
                    <a:pt x="188" y="1436"/>
                  </a:lnTo>
                  <a:lnTo>
                    <a:pt x="197" y="1429"/>
                  </a:lnTo>
                  <a:lnTo>
                    <a:pt x="207" y="1422"/>
                  </a:lnTo>
                  <a:lnTo>
                    <a:pt x="216" y="1415"/>
                  </a:lnTo>
                  <a:lnTo>
                    <a:pt x="226" y="1407"/>
                  </a:lnTo>
                  <a:lnTo>
                    <a:pt x="235" y="1400"/>
                  </a:lnTo>
                  <a:lnTo>
                    <a:pt x="245" y="1393"/>
                  </a:lnTo>
                  <a:lnTo>
                    <a:pt x="254" y="1386"/>
                  </a:lnTo>
                  <a:lnTo>
                    <a:pt x="264" y="1379"/>
                  </a:lnTo>
                  <a:lnTo>
                    <a:pt x="276" y="1370"/>
                  </a:lnTo>
                  <a:lnTo>
                    <a:pt x="290" y="1362"/>
                  </a:lnTo>
                  <a:lnTo>
                    <a:pt x="303" y="1353"/>
                  </a:lnTo>
                  <a:lnTo>
                    <a:pt x="315" y="1345"/>
                  </a:lnTo>
                  <a:lnTo>
                    <a:pt x="328" y="1336"/>
                  </a:lnTo>
                  <a:lnTo>
                    <a:pt x="342" y="1327"/>
                  </a:lnTo>
                  <a:lnTo>
                    <a:pt x="355" y="1318"/>
                  </a:lnTo>
                  <a:lnTo>
                    <a:pt x="367" y="1310"/>
                  </a:lnTo>
                  <a:lnTo>
                    <a:pt x="387" y="1283"/>
                  </a:lnTo>
                  <a:lnTo>
                    <a:pt x="406" y="1254"/>
                  </a:lnTo>
                  <a:lnTo>
                    <a:pt x="426" y="1226"/>
                  </a:lnTo>
                  <a:lnTo>
                    <a:pt x="447" y="1198"/>
                  </a:lnTo>
                  <a:lnTo>
                    <a:pt x="466" y="1171"/>
                  </a:lnTo>
                  <a:lnTo>
                    <a:pt x="486" y="1143"/>
                  </a:lnTo>
                  <a:lnTo>
                    <a:pt x="505" y="1114"/>
                  </a:lnTo>
                  <a:lnTo>
                    <a:pt x="525" y="1087"/>
                  </a:lnTo>
                  <a:lnTo>
                    <a:pt x="553" y="1034"/>
                  </a:lnTo>
                  <a:lnTo>
                    <a:pt x="578" y="985"/>
                  </a:lnTo>
                  <a:lnTo>
                    <a:pt x="601" y="943"/>
                  </a:lnTo>
                  <a:lnTo>
                    <a:pt x="622" y="902"/>
                  </a:lnTo>
                  <a:lnTo>
                    <a:pt x="640" y="865"/>
                  </a:lnTo>
                  <a:lnTo>
                    <a:pt x="659" y="831"/>
                  </a:lnTo>
                  <a:lnTo>
                    <a:pt x="676" y="799"/>
                  </a:lnTo>
                  <a:lnTo>
                    <a:pt x="693" y="766"/>
                  </a:lnTo>
                  <a:lnTo>
                    <a:pt x="710" y="734"/>
                  </a:lnTo>
                  <a:lnTo>
                    <a:pt x="729" y="702"/>
                  </a:lnTo>
                  <a:lnTo>
                    <a:pt x="748" y="668"/>
                  </a:lnTo>
                  <a:lnTo>
                    <a:pt x="769" y="633"/>
                  </a:lnTo>
                  <a:lnTo>
                    <a:pt x="792" y="594"/>
                  </a:lnTo>
                  <a:lnTo>
                    <a:pt x="817" y="552"/>
                  </a:lnTo>
                  <a:lnTo>
                    <a:pt x="845" y="506"/>
                  </a:lnTo>
                  <a:lnTo>
                    <a:pt x="876" y="455"/>
                  </a:lnTo>
                  <a:lnTo>
                    <a:pt x="891" y="424"/>
                  </a:lnTo>
                  <a:lnTo>
                    <a:pt x="907" y="397"/>
                  </a:lnTo>
                  <a:lnTo>
                    <a:pt x="923" y="372"/>
                  </a:lnTo>
                  <a:lnTo>
                    <a:pt x="938" y="350"/>
                  </a:lnTo>
                  <a:lnTo>
                    <a:pt x="952" y="331"/>
                  </a:lnTo>
                  <a:lnTo>
                    <a:pt x="965" y="314"/>
                  </a:lnTo>
                  <a:lnTo>
                    <a:pt x="975" y="299"/>
                  </a:lnTo>
                  <a:lnTo>
                    <a:pt x="982" y="286"/>
                  </a:lnTo>
                  <a:lnTo>
                    <a:pt x="987" y="274"/>
                  </a:lnTo>
                  <a:lnTo>
                    <a:pt x="988" y="264"/>
                  </a:lnTo>
                  <a:lnTo>
                    <a:pt x="984" y="254"/>
                  </a:lnTo>
                  <a:lnTo>
                    <a:pt x="975" y="244"/>
                  </a:lnTo>
                  <a:lnTo>
                    <a:pt x="963" y="236"/>
                  </a:lnTo>
                  <a:lnTo>
                    <a:pt x="943" y="228"/>
                  </a:lnTo>
                  <a:lnTo>
                    <a:pt x="916" y="219"/>
                  </a:lnTo>
                  <a:lnTo>
                    <a:pt x="884" y="210"/>
                  </a:lnTo>
                  <a:lnTo>
                    <a:pt x="890" y="183"/>
                  </a:lnTo>
                  <a:lnTo>
                    <a:pt x="896" y="156"/>
                  </a:lnTo>
                  <a:lnTo>
                    <a:pt x="901" y="129"/>
                  </a:lnTo>
                  <a:lnTo>
                    <a:pt x="907" y="103"/>
                  </a:lnTo>
                  <a:lnTo>
                    <a:pt x="918" y="99"/>
                  </a:lnTo>
                  <a:lnTo>
                    <a:pt x="927" y="97"/>
                  </a:lnTo>
                  <a:lnTo>
                    <a:pt x="937" y="94"/>
                  </a:lnTo>
                  <a:lnTo>
                    <a:pt x="948" y="90"/>
                  </a:lnTo>
                  <a:lnTo>
                    <a:pt x="957" y="88"/>
                  </a:lnTo>
                  <a:lnTo>
                    <a:pt x="967" y="84"/>
                  </a:lnTo>
                  <a:lnTo>
                    <a:pt x="977" y="81"/>
                  </a:lnTo>
                  <a:lnTo>
                    <a:pt x="988" y="77"/>
                  </a:lnTo>
                  <a:lnTo>
                    <a:pt x="995" y="76"/>
                  </a:lnTo>
                  <a:lnTo>
                    <a:pt x="1001" y="75"/>
                  </a:lnTo>
                  <a:lnTo>
                    <a:pt x="1007" y="75"/>
                  </a:lnTo>
                  <a:lnTo>
                    <a:pt x="1014" y="74"/>
                  </a:lnTo>
                  <a:lnTo>
                    <a:pt x="1021" y="73"/>
                  </a:lnTo>
                  <a:lnTo>
                    <a:pt x="1028" y="72"/>
                  </a:lnTo>
                  <a:lnTo>
                    <a:pt x="1035" y="71"/>
                  </a:lnTo>
                  <a:lnTo>
                    <a:pt x="1042" y="69"/>
                  </a:lnTo>
                  <a:lnTo>
                    <a:pt x="1055" y="66"/>
                  </a:lnTo>
                  <a:lnTo>
                    <a:pt x="1067" y="62"/>
                  </a:lnTo>
                  <a:lnTo>
                    <a:pt x="1080" y="59"/>
                  </a:lnTo>
                  <a:lnTo>
                    <a:pt x="1093" y="54"/>
                  </a:lnTo>
                  <a:lnTo>
                    <a:pt x="1104" y="51"/>
                  </a:lnTo>
                  <a:lnTo>
                    <a:pt x="1117" y="47"/>
                  </a:lnTo>
                  <a:lnTo>
                    <a:pt x="1129" y="43"/>
                  </a:lnTo>
                  <a:lnTo>
                    <a:pt x="1142" y="39"/>
                  </a:lnTo>
                  <a:lnTo>
                    <a:pt x="1147" y="37"/>
                  </a:lnTo>
                  <a:lnTo>
                    <a:pt x="1151" y="34"/>
                  </a:lnTo>
                  <a:lnTo>
                    <a:pt x="1156" y="31"/>
                  </a:lnTo>
                  <a:lnTo>
                    <a:pt x="1162" y="29"/>
                  </a:lnTo>
                  <a:lnTo>
                    <a:pt x="1166" y="27"/>
                  </a:lnTo>
                  <a:lnTo>
                    <a:pt x="1171" y="23"/>
                  </a:lnTo>
                  <a:lnTo>
                    <a:pt x="1176" y="21"/>
                  </a:lnTo>
                  <a:lnTo>
                    <a:pt x="1180" y="19"/>
                  </a:lnTo>
                  <a:lnTo>
                    <a:pt x="1158" y="22"/>
                  </a:lnTo>
                  <a:lnTo>
                    <a:pt x="1138" y="24"/>
                  </a:lnTo>
                  <a:lnTo>
                    <a:pt x="1116" y="28"/>
                  </a:lnTo>
                  <a:lnTo>
                    <a:pt x="1095" y="30"/>
                  </a:lnTo>
                  <a:lnTo>
                    <a:pt x="1073" y="33"/>
                  </a:lnTo>
                  <a:lnTo>
                    <a:pt x="1052" y="36"/>
                  </a:lnTo>
                  <a:lnTo>
                    <a:pt x="1032" y="38"/>
                  </a:lnTo>
                  <a:lnTo>
                    <a:pt x="1011" y="42"/>
                  </a:lnTo>
                  <a:lnTo>
                    <a:pt x="983" y="45"/>
                  </a:lnTo>
                  <a:lnTo>
                    <a:pt x="959" y="47"/>
                  </a:lnTo>
                  <a:lnTo>
                    <a:pt x="938" y="51"/>
                  </a:lnTo>
                  <a:lnTo>
                    <a:pt x="920" y="53"/>
                  </a:lnTo>
                  <a:lnTo>
                    <a:pt x="905" y="57"/>
                  </a:lnTo>
                  <a:lnTo>
                    <a:pt x="891" y="58"/>
                  </a:lnTo>
                  <a:lnTo>
                    <a:pt x="877" y="60"/>
                  </a:lnTo>
                  <a:lnTo>
                    <a:pt x="866" y="60"/>
                  </a:lnTo>
                  <a:lnTo>
                    <a:pt x="854" y="60"/>
                  </a:lnTo>
                  <a:lnTo>
                    <a:pt x="842" y="59"/>
                  </a:lnTo>
                  <a:lnTo>
                    <a:pt x="829" y="57"/>
                  </a:lnTo>
                  <a:lnTo>
                    <a:pt x="814" y="53"/>
                  </a:lnTo>
                  <a:lnTo>
                    <a:pt x="798" y="49"/>
                  </a:lnTo>
                  <a:lnTo>
                    <a:pt x="778" y="42"/>
                  </a:lnTo>
                  <a:lnTo>
                    <a:pt x="756" y="34"/>
                  </a:lnTo>
                  <a:lnTo>
                    <a:pt x="731" y="23"/>
                  </a:lnTo>
                  <a:lnTo>
                    <a:pt x="724" y="20"/>
                  </a:lnTo>
                  <a:lnTo>
                    <a:pt x="716" y="18"/>
                  </a:lnTo>
                  <a:lnTo>
                    <a:pt x="709" y="14"/>
                  </a:lnTo>
                  <a:lnTo>
                    <a:pt x="702" y="12"/>
                  </a:lnTo>
                  <a:lnTo>
                    <a:pt x="695" y="8"/>
                  </a:lnTo>
                  <a:lnTo>
                    <a:pt x="688" y="6"/>
                  </a:lnTo>
                  <a:lnTo>
                    <a:pt x="682" y="3"/>
                  </a:lnTo>
                  <a:lnTo>
                    <a:pt x="675" y="0"/>
                  </a:lnTo>
                  <a:lnTo>
                    <a:pt x="679" y="8"/>
                  </a:lnTo>
                  <a:lnTo>
                    <a:pt x="684" y="16"/>
                  </a:lnTo>
                  <a:lnTo>
                    <a:pt x="688" y="24"/>
                  </a:lnTo>
                  <a:lnTo>
                    <a:pt x="693" y="33"/>
                  </a:lnTo>
                  <a:lnTo>
                    <a:pt x="698" y="42"/>
                  </a:lnTo>
                  <a:lnTo>
                    <a:pt x="703" y="50"/>
                  </a:lnTo>
                  <a:lnTo>
                    <a:pt x="708" y="58"/>
                  </a:lnTo>
                  <a:lnTo>
                    <a:pt x="713" y="66"/>
                  </a:lnTo>
                  <a:close/>
                </a:path>
              </a:pathLst>
            </a:custGeom>
            <a:solidFill>
              <a:srgbClr val="3d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635240" y="1397880"/>
              <a:ext cx="501480" cy="636480"/>
            </a:xfrm>
            <a:custGeom>
              <a:avLst/>
              <a:gdLst/>
              <a:ahLst/>
              <a:rect l="l" t="t" r="r" b="b"/>
              <a:pathLst>
                <a:path w="1160" h="1474">
                  <a:moveTo>
                    <a:pt x="711" y="66"/>
                  </a:moveTo>
                  <a:lnTo>
                    <a:pt x="711" y="133"/>
                  </a:lnTo>
                  <a:lnTo>
                    <a:pt x="776" y="183"/>
                  </a:lnTo>
                  <a:lnTo>
                    <a:pt x="772" y="289"/>
                  </a:lnTo>
                  <a:lnTo>
                    <a:pt x="761" y="320"/>
                  </a:lnTo>
                  <a:lnTo>
                    <a:pt x="752" y="340"/>
                  </a:lnTo>
                  <a:lnTo>
                    <a:pt x="746" y="353"/>
                  </a:lnTo>
                  <a:lnTo>
                    <a:pt x="743" y="361"/>
                  </a:lnTo>
                  <a:lnTo>
                    <a:pt x="744" y="369"/>
                  </a:lnTo>
                  <a:lnTo>
                    <a:pt x="749" y="380"/>
                  </a:lnTo>
                  <a:lnTo>
                    <a:pt x="758" y="399"/>
                  </a:lnTo>
                  <a:lnTo>
                    <a:pt x="772" y="426"/>
                  </a:lnTo>
                  <a:lnTo>
                    <a:pt x="610" y="629"/>
                  </a:lnTo>
                  <a:lnTo>
                    <a:pt x="394" y="1024"/>
                  </a:lnTo>
                  <a:lnTo>
                    <a:pt x="0" y="1330"/>
                  </a:lnTo>
                  <a:lnTo>
                    <a:pt x="27" y="1453"/>
                  </a:lnTo>
                  <a:lnTo>
                    <a:pt x="67" y="1474"/>
                  </a:lnTo>
                  <a:lnTo>
                    <a:pt x="182" y="1415"/>
                  </a:lnTo>
                  <a:lnTo>
                    <a:pt x="252" y="1357"/>
                  </a:lnTo>
                  <a:lnTo>
                    <a:pt x="354" y="1293"/>
                  </a:lnTo>
                  <a:lnTo>
                    <a:pt x="509" y="1065"/>
                  </a:lnTo>
                  <a:lnTo>
                    <a:pt x="537" y="1012"/>
                  </a:lnTo>
                  <a:lnTo>
                    <a:pt x="561" y="964"/>
                  </a:lnTo>
                  <a:lnTo>
                    <a:pt x="583" y="922"/>
                  </a:lnTo>
                  <a:lnTo>
                    <a:pt x="603" y="884"/>
                  </a:lnTo>
                  <a:lnTo>
                    <a:pt x="621" y="849"/>
                  </a:lnTo>
                  <a:lnTo>
                    <a:pt x="638" y="817"/>
                  </a:lnTo>
                  <a:lnTo>
                    <a:pt x="654" y="786"/>
                  </a:lnTo>
                  <a:lnTo>
                    <a:pt x="670" y="756"/>
                  </a:lnTo>
                  <a:lnTo>
                    <a:pt x="686" y="726"/>
                  </a:lnTo>
                  <a:lnTo>
                    <a:pt x="704" y="696"/>
                  </a:lnTo>
                  <a:lnTo>
                    <a:pt x="722" y="664"/>
                  </a:lnTo>
                  <a:lnTo>
                    <a:pt x="742" y="630"/>
                  </a:lnTo>
                  <a:lnTo>
                    <a:pt x="764" y="593"/>
                  </a:lnTo>
                  <a:lnTo>
                    <a:pt x="788" y="552"/>
                  </a:lnTo>
                  <a:lnTo>
                    <a:pt x="815" y="507"/>
                  </a:lnTo>
                  <a:lnTo>
                    <a:pt x="846" y="456"/>
                  </a:lnTo>
                  <a:lnTo>
                    <a:pt x="861" y="425"/>
                  </a:lnTo>
                  <a:lnTo>
                    <a:pt x="878" y="397"/>
                  </a:lnTo>
                  <a:lnTo>
                    <a:pt x="894" y="373"/>
                  </a:lnTo>
                  <a:lnTo>
                    <a:pt x="910" y="351"/>
                  </a:lnTo>
                  <a:lnTo>
                    <a:pt x="925" y="332"/>
                  </a:lnTo>
                  <a:lnTo>
                    <a:pt x="937" y="315"/>
                  </a:lnTo>
                  <a:lnTo>
                    <a:pt x="949" y="300"/>
                  </a:lnTo>
                  <a:lnTo>
                    <a:pt x="957" y="286"/>
                  </a:lnTo>
                  <a:lnTo>
                    <a:pt x="962" y="274"/>
                  </a:lnTo>
                  <a:lnTo>
                    <a:pt x="964" y="263"/>
                  </a:lnTo>
                  <a:lnTo>
                    <a:pt x="960" y="253"/>
                  </a:lnTo>
                  <a:lnTo>
                    <a:pt x="952" y="243"/>
                  </a:lnTo>
                  <a:lnTo>
                    <a:pt x="940" y="235"/>
                  </a:lnTo>
                  <a:lnTo>
                    <a:pt x="920" y="226"/>
                  </a:lnTo>
                  <a:lnTo>
                    <a:pt x="895" y="218"/>
                  </a:lnTo>
                  <a:lnTo>
                    <a:pt x="863" y="209"/>
                  </a:lnTo>
                  <a:lnTo>
                    <a:pt x="887" y="91"/>
                  </a:lnTo>
                  <a:lnTo>
                    <a:pt x="967" y="66"/>
                  </a:lnTo>
                  <a:lnTo>
                    <a:pt x="1024" y="61"/>
                  </a:lnTo>
                  <a:lnTo>
                    <a:pt x="1124" y="31"/>
                  </a:lnTo>
                  <a:lnTo>
                    <a:pt x="1160" y="15"/>
                  </a:lnTo>
                  <a:lnTo>
                    <a:pt x="998" y="36"/>
                  </a:lnTo>
                  <a:lnTo>
                    <a:pt x="970" y="39"/>
                  </a:lnTo>
                  <a:lnTo>
                    <a:pt x="945" y="43"/>
                  </a:lnTo>
                  <a:lnTo>
                    <a:pt x="926" y="45"/>
                  </a:lnTo>
                  <a:lnTo>
                    <a:pt x="909" y="48"/>
                  </a:lnTo>
                  <a:lnTo>
                    <a:pt x="894" y="52"/>
                  </a:lnTo>
                  <a:lnTo>
                    <a:pt x="880" y="54"/>
                  </a:lnTo>
                  <a:lnTo>
                    <a:pt x="868" y="55"/>
                  </a:lnTo>
                  <a:lnTo>
                    <a:pt x="858" y="56"/>
                  </a:lnTo>
                  <a:lnTo>
                    <a:pt x="846" y="56"/>
                  </a:lnTo>
                  <a:lnTo>
                    <a:pt x="836" y="56"/>
                  </a:lnTo>
                  <a:lnTo>
                    <a:pt x="823" y="54"/>
                  </a:lnTo>
                  <a:lnTo>
                    <a:pt x="810" y="51"/>
                  </a:lnTo>
                  <a:lnTo>
                    <a:pt x="793" y="46"/>
                  </a:lnTo>
                  <a:lnTo>
                    <a:pt x="774" y="39"/>
                  </a:lnTo>
                  <a:lnTo>
                    <a:pt x="752" y="31"/>
                  </a:lnTo>
                  <a:lnTo>
                    <a:pt x="726" y="21"/>
                  </a:lnTo>
                  <a:lnTo>
                    <a:pt x="670" y="0"/>
                  </a:lnTo>
                  <a:lnTo>
                    <a:pt x="711" y="66"/>
                  </a:lnTo>
                  <a:close/>
                </a:path>
              </a:pathLst>
            </a:custGeom>
            <a:solidFill>
              <a:srgbClr val="3033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12080" y="1106640"/>
              <a:ext cx="335520" cy="198000"/>
            </a:xfrm>
            <a:custGeom>
              <a:avLst/>
              <a:gdLst/>
              <a:ahLst/>
              <a:rect l="l" t="t" r="r" b="b"/>
              <a:pathLst>
                <a:path w="776" h="460">
                  <a:moveTo>
                    <a:pt x="62" y="71"/>
                  </a:moveTo>
                  <a:lnTo>
                    <a:pt x="62" y="115"/>
                  </a:lnTo>
                  <a:lnTo>
                    <a:pt x="49" y="182"/>
                  </a:lnTo>
                  <a:lnTo>
                    <a:pt x="5" y="244"/>
                  </a:lnTo>
                  <a:lnTo>
                    <a:pt x="0" y="289"/>
                  </a:lnTo>
                  <a:lnTo>
                    <a:pt x="1" y="325"/>
                  </a:lnTo>
                  <a:lnTo>
                    <a:pt x="7" y="354"/>
                  </a:lnTo>
                  <a:lnTo>
                    <a:pt x="19" y="377"/>
                  </a:lnTo>
                  <a:lnTo>
                    <a:pt x="37" y="396"/>
                  </a:lnTo>
                  <a:lnTo>
                    <a:pt x="62" y="412"/>
                  </a:lnTo>
                  <a:lnTo>
                    <a:pt x="95" y="429"/>
                  </a:lnTo>
                  <a:lnTo>
                    <a:pt x="134" y="446"/>
                  </a:lnTo>
                  <a:lnTo>
                    <a:pt x="152" y="449"/>
                  </a:lnTo>
                  <a:lnTo>
                    <a:pt x="169" y="452"/>
                  </a:lnTo>
                  <a:lnTo>
                    <a:pt x="187" y="454"/>
                  </a:lnTo>
                  <a:lnTo>
                    <a:pt x="203" y="456"/>
                  </a:lnTo>
                  <a:lnTo>
                    <a:pt x="219" y="457"/>
                  </a:lnTo>
                  <a:lnTo>
                    <a:pt x="235" y="459"/>
                  </a:lnTo>
                  <a:lnTo>
                    <a:pt x="250" y="460"/>
                  </a:lnTo>
                  <a:lnTo>
                    <a:pt x="266" y="460"/>
                  </a:lnTo>
                  <a:lnTo>
                    <a:pt x="281" y="459"/>
                  </a:lnTo>
                  <a:lnTo>
                    <a:pt x="296" y="457"/>
                  </a:lnTo>
                  <a:lnTo>
                    <a:pt x="312" y="454"/>
                  </a:lnTo>
                  <a:lnTo>
                    <a:pt x="327" y="451"/>
                  </a:lnTo>
                  <a:lnTo>
                    <a:pt x="343" y="447"/>
                  </a:lnTo>
                  <a:lnTo>
                    <a:pt x="358" y="441"/>
                  </a:lnTo>
                  <a:lnTo>
                    <a:pt x="376" y="434"/>
                  </a:lnTo>
                  <a:lnTo>
                    <a:pt x="392" y="426"/>
                  </a:lnTo>
                  <a:lnTo>
                    <a:pt x="435" y="393"/>
                  </a:lnTo>
                  <a:lnTo>
                    <a:pt x="484" y="393"/>
                  </a:lnTo>
                  <a:lnTo>
                    <a:pt x="566" y="417"/>
                  </a:lnTo>
                  <a:lnTo>
                    <a:pt x="589" y="417"/>
                  </a:lnTo>
                  <a:lnTo>
                    <a:pt x="610" y="417"/>
                  </a:lnTo>
                  <a:lnTo>
                    <a:pt x="630" y="417"/>
                  </a:lnTo>
                  <a:lnTo>
                    <a:pt x="648" y="416"/>
                  </a:lnTo>
                  <a:lnTo>
                    <a:pt x="666" y="415"/>
                  </a:lnTo>
                  <a:lnTo>
                    <a:pt x="682" y="414"/>
                  </a:lnTo>
                  <a:lnTo>
                    <a:pt x="696" y="411"/>
                  </a:lnTo>
                  <a:lnTo>
                    <a:pt x="708" y="409"/>
                  </a:lnTo>
                  <a:lnTo>
                    <a:pt x="720" y="404"/>
                  </a:lnTo>
                  <a:lnTo>
                    <a:pt x="731" y="400"/>
                  </a:lnTo>
                  <a:lnTo>
                    <a:pt x="741" y="393"/>
                  </a:lnTo>
                  <a:lnTo>
                    <a:pt x="750" y="385"/>
                  </a:lnTo>
                  <a:lnTo>
                    <a:pt x="757" y="376"/>
                  </a:lnTo>
                  <a:lnTo>
                    <a:pt x="765" y="364"/>
                  </a:lnTo>
                  <a:lnTo>
                    <a:pt x="770" y="350"/>
                  </a:lnTo>
                  <a:lnTo>
                    <a:pt x="776" y="335"/>
                  </a:lnTo>
                  <a:lnTo>
                    <a:pt x="765" y="306"/>
                  </a:lnTo>
                  <a:lnTo>
                    <a:pt x="751" y="281"/>
                  </a:lnTo>
                  <a:lnTo>
                    <a:pt x="737" y="259"/>
                  </a:lnTo>
                  <a:lnTo>
                    <a:pt x="721" y="240"/>
                  </a:lnTo>
                  <a:lnTo>
                    <a:pt x="705" y="225"/>
                  </a:lnTo>
                  <a:lnTo>
                    <a:pt x="688" y="212"/>
                  </a:lnTo>
                  <a:lnTo>
                    <a:pt x="669" y="203"/>
                  </a:lnTo>
                  <a:lnTo>
                    <a:pt x="651" y="196"/>
                  </a:lnTo>
                  <a:lnTo>
                    <a:pt x="311" y="9"/>
                  </a:lnTo>
                  <a:lnTo>
                    <a:pt x="287" y="7"/>
                  </a:lnTo>
                  <a:lnTo>
                    <a:pt x="265" y="6"/>
                  </a:lnTo>
                  <a:lnTo>
                    <a:pt x="245" y="3"/>
                  </a:lnTo>
                  <a:lnTo>
                    <a:pt x="228" y="2"/>
                  </a:lnTo>
                  <a:lnTo>
                    <a:pt x="212" y="0"/>
                  </a:lnTo>
                  <a:lnTo>
                    <a:pt x="197" y="0"/>
                  </a:lnTo>
                  <a:lnTo>
                    <a:pt x="183" y="0"/>
                  </a:lnTo>
                  <a:lnTo>
                    <a:pt x="171" y="1"/>
                  </a:lnTo>
                  <a:lnTo>
                    <a:pt x="158" y="3"/>
                  </a:lnTo>
                  <a:lnTo>
                    <a:pt x="146" y="8"/>
                  </a:lnTo>
                  <a:lnTo>
                    <a:pt x="134" y="14"/>
                  </a:lnTo>
                  <a:lnTo>
                    <a:pt x="122" y="21"/>
                  </a:lnTo>
                  <a:lnTo>
                    <a:pt x="108" y="30"/>
                  </a:lnTo>
                  <a:lnTo>
                    <a:pt x="95" y="42"/>
                  </a:lnTo>
                  <a:lnTo>
                    <a:pt x="80" y="55"/>
                  </a:lnTo>
                  <a:lnTo>
                    <a:pt x="62" y="71"/>
                  </a:lnTo>
                  <a:close/>
                </a:path>
              </a:pathLst>
            </a:cu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28280" y="1201680"/>
              <a:ext cx="144360" cy="93240"/>
            </a:xfrm>
            <a:custGeom>
              <a:avLst/>
              <a:gdLst/>
              <a:ahLst/>
              <a:rect l="l" t="t" r="r" b="b"/>
              <a:pathLst>
                <a:path w="335" h="217">
                  <a:moveTo>
                    <a:pt x="168" y="0"/>
                  </a:moveTo>
                  <a:lnTo>
                    <a:pt x="202" y="2"/>
                  </a:lnTo>
                  <a:lnTo>
                    <a:pt x="233" y="8"/>
                  </a:lnTo>
                  <a:lnTo>
                    <a:pt x="262" y="19"/>
                  </a:lnTo>
                  <a:lnTo>
                    <a:pt x="287" y="31"/>
                  </a:lnTo>
                  <a:lnTo>
                    <a:pt x="306" y="47"/>
                  </a:lnTo>
                  <a:lnTo>
                    <a:pt x="323" y="66"/>
                  </a:lnTo>
                  <a:lnTo>
                    <a:pt x="332" y="86"/>
                  </a:lnTo>
                  <a:lnTo>
                    <a:pt x="335" y="108"/>
                  </a:lnTo>
                  <a:lnTo>
                    <a:pt x="332" y="130"/>
                  </a:lnTo>
                  <a:lnTo>
                    <a:pt x="323" y="151"/>
                  </a:lnTo>
                  <a:lnTo>
                    <a:pt x="306" y="169"/>
                  </a:lnTo>
                  <a:lnTo>
                    <a:pt x="287" y="184"/>
                  </a:lnTo>
                  <a:lnTo>
                    <a:pt x="262" y="198"/>
                  </a:lnTo>
                  <a:lnTo>
                    <a:pt x="233" y="209"/>
                  </a:lnTo>
                  <a:lnTo>
                    <a:pt x="202" y="214"/>
                  </a:lnTo>
                  <a:lnTo>
                    <a:pt x="168" y="217"/>
                  </a:lnTo>
                  <a:lnTo>
                    <a:pt x="135" y="214"/>
                  </a:lnTo>
                  <a:lnTo>
                    <a:pt x="103" y="209"/>
                  </a:lnTo>
                  <a:lnTo>
                    <a:pt x="75" y="198"/>
                  </a:lnTo>
                  <a:lnTo>
                    <a:pt x="50" y="184"/>
                  </a:lnTo>
                  <a:lnTo>
                    <a:pt x="29" y="169"/>
                  </a:lnTo>
                  <a:lnTo>
                    <a:pt x="14" y="151"/>
                  </a:lnTo>
                  <a:lnTo>
                    <a:pt x="4" y="130"/>
                  </a:lnTo>
                  <a:lnTo>
                    <a:pt x="0" y="108"/>
                  </a:lnTo>
                  <a:lnTo>
                    <a:pt x="4" y="86"/>
                  </a:lnTo>
                  <a:lnTo>
                    <a:pt x="14" y="66"/>
                  </a:lnTo>
                  <a:lnTo>
                    <a:pt x="29" y="47"/>
                  </a:lnTo>
                  <a:lnTo>
                    <a:pt x="50" y="31"/>
                  </a:lnTo>
                  <a:lnTo>
                    <a:pt x="75" y="19"/>
                  </a:lnTo>
                  <a:lnTo>
                    <a:pt x="103" y="8"/>
                  </a:lnTo>
                  <a:lnTo>
                    <a:pt x="135" y="2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51680" y="1108080"/>
              <a:ext cx="144360" cy="73440"/>
            </a:xfrm>
            <a:custGeom>
              <a:avLst/>
              <a:gdLst/>
              <a:ahLst/>
              <a:rect l="l" t="t" r="r" b="b"/>
              <a:pathLst>
                <a:path w="335" h="169">
                  <a:moveTo>
                    <a:pt x="167" y="1"/>
                  </a:moveTo>
                  <a:lnTo>
                    <a:pt x="201" y="5"/>
                  </a:lnTo>
                  <a:lnTo>
                    <a:pt x="233" y="12"/>
                  </a:lnTo>
                  <a:lnTo>
                    <a:pt x="261" y="23"/>
                  </a:lnTo>
                  <a:lnTo>
                    <a:pt x="286" y="34"/>
                  </a:lnTo>
                  <a:lnTo>
                    <a:pt x="307" y="48"/>
                  </a:lnTo>
                  <a:lnTo>
                    <a:pt x="322" y="64"/>
                  </a:lnTo>
                  <a:lnTo>
                    <a:pt x="332" y="80"/>
                  </a:lnTo>
                  <a:lnTo>
                    <a:pt x="335" y="98"/>
                  </a:lnTo>
                  <a:lnTo>
                    <a:pt x="332" y="114"/>
                  </a:lnTo>
                  <a:lnTo>
                    <a:pt x="322" y="129"/>
                  </a:lnTo>
                  <a:lnTo>
                    <a:pt x="307" y="143"/>
                  </a:lnTo>
                  <a:lnTo>
                    <a:pt x="286" y="153"/>
                  </a:lnTo>
                  <a:lnTo>
                    <a:pt x="261" y="161"/>
                  </a:lnTo>
                  <a:lnTo>
                    <a:pt x="233" y="167"/>
                  </a:lnTo>
                  <a:lnTo>
                    <a:pt x="201" y="169"/>
                  </a:lnTo>
                  <a:lnTo>
                    <a:pt x="167" y="168"/>
                  </a:lnTo>
                  <a:lnTo>
                    <a:pt x="134" y="163"/>
                  </a:lnTo>
                  <a:lnTo>
                    <a:pt x="103" y="156"/>
                  </a:lnTo>
                  <a:lnTo>
                    <a:pt x="74" y="146"/>
                  </a:lnTo>
                  <a:lnTo>
                    <a:pt x="50" y="134"/>
                  </a:lnTo>
                  <a:lnTo>
                    <a:pt x="29" y="121"/>
                  </a:lnTo>
                  <a:lnTo>
                    <a:pt x="14" y="104"/>
                  </a:lnTo>
                  <a:lnTo>
                    <a:pt x="4" y="88"/>
                  </a:lnTo>
                  <a:lnTo>
                    <a:pt x="0" y="71"/>
                  </a:lnTo>
                  <a:lnTo>
                    <a:pt x="4" y="55"/>
                  </a:lnTo>
                  <a:lnTo>
                    <a:pt x="14" y="40"/>
                  </a:lnTo>
                  <a:lnTo>
                    <a:pt x="29" y="27"/>
                  </a:lnTo>
                  <a:lnTo>
                    <a:pt x="50" y="16"/>
                  </a:lnTo>
                  <a:lnTo>
                    <a:pt x="74" y="8"/>
                  </a:lnTo>
                  <a:lnTo>
                    <a:pt x="103" y="2"/>
                  </a:lnTo>
                  <a:lnTo>
                    <a:pt x="134" y="0"/>
                  </a:lnTo>
                  <a:lnTo>
                    <a:pt x="167" y="1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089920" y="1187640"/>
              <a:ext cx="143280" cy="82080"/>
            </a:xfrm>
            <a:custGeom>
              <a:avLst/>
              <a:gdLst/>
              <a:ahLst/>
              <a:rect l="l" t="t" r="r" b="b"/>
              <a:pathLst>
                <a:path w="333" h="190">
                  <a:moveTo>
                    <a:pt x="167" y="5"/>
                  </a:moveTo>
                  <a:lnTo>
                    <a:pt x="201" y="13"/>
                  </a:lnTo>
                  <a:lnTo>
                    <a:pt x="232" y="23"/>
                  </a:lnTo>
                  <a:lnTo>
                    <a:pt x="261" y="36"/>
                  </a:lnTo>
                  <a:lnTo>
                    <a:pt x="285" y="52"/>
                  </a:lnTo>
                  <a:lnTo>
                    <a:pt x="306" y="68"/>
                  </a:lnTo>
                  <a:lnTo>
                    <a:pt x="320" y="86"/>
                  </a:lnTo>
                  <a:lnTo>
                    <a:pt x="330" y="105"/>
                  </a:lnTo>
                  <a:lnTo>
                    <a:pt x="333" y="124"/>
                  </a:lnTo>
                  <a:lnTo>
                    <a:pt x="330" y="142"/>
                  </a:lnTo>
                  <a:lnTo>
                    <a:pt x="320" y="157"/>
                  </a:lnTo>
                  <a:lnTo>
                    <a:pt x="306" y="169"/>
                  </a:lnTo>
                  <a:lnTo>
                    <a:pt x="285" y="180"/>
                  </a:lnTo>
                  <a:lnTo>
                    <a:pt x="261" y="187"/>
                  </a:lnTo>
                  <a:lnTo>
                    <a:pt x="232" y="190"/>
                  </a:lnTo>
                  <a:lnTo>
                    <a:pt x="201" y="190"/>
                  </a:lnTo>
                  <a:lnTo>
                    <a:pt x="167" y="185"/>
                  </a:lnTo>
                  <a:lnTo>
                    <a:pt x="134" y="179"/>
                  </a:lnTo>
                  <a:lnTo>
                    <a:pt x="103" y="167"/>
                  </a:lnTo>
                  <a:lnTo>
                    <a:pt x="74" y="154"/>
                  </a:lnTo>
                  <a:lnTo>
                    <a:pt x="50" y="139"/>
                  </a:lnTo>
                  <a:lnTo>
                    <a:pt x="29" y="122"/>
                  </a:lnTo>
                  <a:lnTo>
                    <a:pt x="13" y="104"/>
                  </a:lnTo>
                  <a:lnTo>
                    <a:pt x="4" y="85"/>
                  </a:lnTo>
                  <a:lnTo>
                    <a:pt x="0" y="67"/>
                  </a:lnTo>
                  <a:lnTo>
                    <a:pt x="4" y="48"/>
                  </a:lnTo>
                  <a:lnTo>
                    <a:pt x="13" y="33"/>
                  </a:lnTo>
                  <a:lnTo>
                    <a:pt x="29" y="21"/>
                  </a:lnTo>
                  <a:lnTo>
                    <a:pt x="50" y="10"/>
                  </a:lnTo>
                  <a:lnTo>
                    <a:pt x="74" y="3"/>
                  </a:lnTo>
                  <a:lnTo>
                    <a:pt x="103" y="0"/>
                  </a:lnTo>
                  <a:lnTo>
                    <a:pt x="134" y="0"/>
                  </a:lnTo>
                  <a:lnTo>
                    <a:pt x="167" y="5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28280" y="1201680"/>
              <a:ext cx="144360" cy="80280"/>
            </a:xfrm>
            <a:custGeom>
              <a:avLst/>
              <a:gdLst/>
              <a:ahLst/>
              <a:rect l="l" t="t" r="r" b="b"/>
              <a:pathLst>
                <a:path w="335" h="188">
                  <a:moveTo>
                    <a:pt x="168" y="0"/>
                  </a:moveTo>
                  <a:lnTo>
                    <a:pt x="202" y="2"/>
                  </a:lnTo>
                  <a:lnTo>
                    <a:pt x="233" y="7"/>
                  </a:lnTo>
                  <a:lnTo>
                    <a:pt x="262" y="16"/>
                  </a:lnTo>
                  <a:lnTo>
                    <a:pt x="286" y="28"/>
                  </a:lnTo>
                  <a:lnTo>
                    <a:pt x="306" y="42"/>
                  </a:lnTo>
                  <a:lnTo>
                    <a:pt x="321" y="58"/>
                  </a:lnTo>
                  <a:lnTo>
                    <a:pt x="332" y="76"/>
                  </a:lnTo>
                  <a:lnTo>
                    <a:pt x="335" y="95"/>
                  </a:lnTo>
                  <a:lnTo>
                    <a:pt x="332" y="113"/>
                  </a:lnTo>
                  <a:lnTo>
                    <a:pt x="321" y="130"/>
                  </a:lnTo>
                  <a:lnTo>
                    <a:pt x="306" y="146"/>
                  </a:lnTo>
                  <a:lnTo>
                    <a:pt x="286" y="160"/>
                  </a:lnTo>
                  <a:lnTo>
                    <a:pt x="262" y="172"/>
                  </a:lnTo>
                  <a:lnTo>
                    <a:pt x="233" y="181"/>
                  </a:lnTo>
                  <a:lnTo>
                    <a:pt x="202" y="186"/>
                  </a:lnTo>
                  <a:lnTo>
                    <a:pt x="168" y="188"/>
                  </a:lnTo>
                  <a:lnTo>
                    <a:pt x="135" y="186"/>
                  </a:lnTo>
                  <a:lnTo>
                    <a:pt x="103" y="181"/>
                  </a:lnTo>
                  <a:lnTo>
                    <a:pt x="75" y="172"/>
                  </a:lnTo>
                  <a:lnTo>
                    <a:pt x="50" y="160"/>
                  </a:lnTo>
                  <a:lnTo>
                    <a:pt x="29" y="146"/>
                  </a:lnTo>
                  <a:lnTo>
                    <a:pt x="14" y="130"/>
                  </a:lnTo>
                  <a:lnTo>
                    <a:pt x="4" y="113"/>
                  </a:lnTo>
                  <a:lnTo>
                    <a:pt x="0" y="95"/>
                  </a:lnTo>
                  <a:lnTo>
                    <a:pt x="4" y="76"/>
                  </a:lnTo>
                  <a:lnTo>
                    <a:pt x="14" y="58"/>
                  </a:lnTo>
                  <a:lnTo>
                    <a:pt x="29" y="42"/>
                  </a:lnTo>
                  <a:lnTo>
                    <a:pt x="50" y="28"/>
                  </a:lnTo>
                  <a:lnTo>
                    <a:pt x="75" y="16"/>
                  </a:lnTo>
                  <a:lnTo>
                    <a:pt x="103" y="7"/>
                  </a:lnTo>
                  <a:lnTo>
                    <a:pt x="135" y="2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1680" y="1108080"/>
              <a:ext cx="144360" cy="63720"/>
            </a:xfrm>
            <a:custGeom>
              <a:avLst/>
              <a:gdLst/>
              <a:ahLst/>
              <a:rect l="l" t="t" r="r" b="b"/>
              <a:pathLst>
                <a:path w="335" h="147">
                  <a:moveTo>
                    <a:pt x="167" y="1"/>
                  </a:moveTo>
                  <a:lnTo>
                    <a:pt x="201" y="5"/>
                  </a:lnTo>
                  <a:lnTo>
                    <a:pt x="233" y="11"/>
                  </a:lnTo>
                  <a:lnTo>
                    <a:pt x="261" y="20"/>
                  </a:lnTo>
                  <a:lnTo>
                    <a:pt x="286" y="32"/>
                  </a:lnTo>
                  <a:lnTo>
                    <a:pt x="307" y="43"/>
                  </a:lnTo>
                  <a:lnTo>
                    <a:pt x="322" y="57"/>
                  </a:lnTo>
                  <a:lnTo>
                    <a:pt x="332" y="72"/>
                  </a:lnTo>
                  <a:lnTo>
                    <a:pt x="335" y="87"/>
                  </a:lnTo>
                  <a:lnTo>
                    <a:pt x="332" y="101"/>
                  </a:lnTo>
                  <a:lnTo>
                    <a:pt x="322" y="114"/>
                  </a:lnTo>
                  <a:lnTo>
                    <a:pt x="307" y="125"/>
                  </a:lnTo>
                  <a:lnTo>
                    <a:pt x="286" y="133"/>
                  </a:lnTo>
                  <a:lnTo>
                    <a:pt x="261" y="140"/>
                  </a:lnTo>
                  <a:lnTo>
                    <a:pt x="233" y="145"/>
                  </a:lnTo>
                  <a:lnTo>
                    <a:pt x="201" y="147"/>
                  </a:lnTo>
                  <a:lnTo>
                    <a:pt x="167" y="146"/>
                  </a:lnTo>
                  <a:lnTo>
                    <a:pt x="134" y="141"/>
                  </a:lnTo>
                  <a:lnTo>
                    <a:pt x="103" y="136"/>
                  </a:lnTo>
                  <a:lnTo>
                    <a:pt x="74" y="126"/>
                  </a:lnTo>
                  <a:lnTo>
                    <a:pt x="50" y="115"/>
                  </a:lnTo>
                  <a:lnTo>
                    <a:pt x="29" y="103"/>
                  </a:lnTo>
                  <a:lnTo>
                    <a:pt x="14" y="90"/>
                  </a:lnTo>
                  <a:lnTo>
                    <a:pt x="4" y="76"/>
                  </a:lnTo>
                  <a:lnTo>
                    <a:pt x="0" y="61"/>
                  </a:lnTo>
                  <a:lnTo>
                    <a:pt x="4" y="46"/>
                  </a:lnTo>
                  <a:lnTo>
                    <a:pt x="14" y="33"/>
                  </a:lnTo>
                  <a:lnTo>
                    <a:pt x="29" y="23"/>
                  </a:lnTo>
                  <a:lnTo>
                    <a:pt x="50" y="13"/>
                  </a:lnTo>
                  <a:lnTo>
                    <a:pt x="74" y="7"/>
                  </a:lnTo>
                  <a:lnTo>
                    <a:pt x="103" y="2"/>
                  </a:lnTo>
                  <a:lnTo>
                    <a:pt x="134" y="0"/>
                  </a:lnTo>
                  <a:lnTo>
                    <a:pt x="167" y="1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89920" y="1187640"/>
              <a:ext cx="143280" cy="72720"/>
            </a:xfrm>
            <a:custGeom>
              <a:avLst/>
              <a:gdLst/>
              <a:ahLst/>
              <a:rect l="l" t="t" r="r" b="b"/>
              <a:pathLst>
                <a:path w="333" h="167">
                  <a:moveTo>
                    <a:pt x="167" y="5"/>
                  </a:moveTo>
                  <a:lnTo>
                    <a:pt x="201" y="12"/>
                  </a:lnTo>
                  <a:lnTo>
                    <a:pt x="232" y="22"/>
                  </a:lnTo>
                  <a:lnTo>
                    <a:pt x="261" y="35"/>
                  </a:lnTo>
                  <a:lnTo>
                    <a:pt x="285" y="48"/>
                  </a:lnTo>
                  <a:lnTo>
                    <a:pt x="306" y="63"/>
                  </a:lnTo>
                  <a:lnTo>
                    <a:pt x="320" y="79"/>
                  </a:lnTo>
                  <a:lnTo>
                    <a:pt x="330" y="96"/>
                  </a:lnTo>
                  <a:lnTo>
                    <a:pt x="333" y="112"/>
                  </a:lnTo>
                  <a:lnTo>
                    <a:pt x="330" y="127"/>
                  </a:lnTo>
                  <a:lnTo>
                    <a:pt x="320" y="141"/>
                  </a:lnTo>
                  <a:lnTo>
                    <a:pt x="306" y="151"/>
                  </a:lnTo>
                  <a:lnTo>
                    <a:pt x="285" y="159"/>
                  </a:lnTo>
                  <a:lnTo>
                    <a:pt x="261" y="165"/>
                  </a:lnTo>
                  <a:lnTo>
                    <a:pt x="232" y="167"/>
                  </a:lnTo>
                  <a:lnTo>
                    <a:pt x="201" y="166"/>
                  </a:lnTo>
                  <a:lnTo>
                    <a:pt x="167" y="161"/>
                  </a:lnTo>
                  <a:lnTo>
                    <a:pt x="134" y="154"/>
                  </a:lnTo>
                  <a:lnTo>
                    <a:pt x="103" y="144"/>
                  </a:lnTo>
                  <a:lnTo>
                    <a:pt x="74" y="132"/>
                  </a:lnTo>
                  <a:lnTo>
                    <a:pt x="50" y="119"/>
                  </a:lnTo>
                  <a:lnTo>
                    <a:pt x="29" y="104"/>
                  </a:lnTo>
                  <a:lnTo>
                    <a:pt x="13" y="88"/>
                  </a:lnTo>
                  <a:lnTo>
                    <a:pt x="4" y="70"/>
                  </a:lnTo>
                  <a:lnTo>
                    <a:pt x="0" y="54"/>
                  </a:lnTo>
                  <a:lnTo>
                    <a:pt x="4" y="39"/>
                  </a:lnTo>
                  <a:lnTo>
                    <a:pt x="13" y="26"/>
                  </a:lnTo>
                  <a:lnTo>
                    <a:pt x="29" y="15"/>
                  </a:lnTo>
                  <a:lnTo>
                    <a:pt x="50" y="7"/>
                  </a:lnTo>
                  <a:lnTo>
                    <a:pt x="74" y="2"/>
                  </a:lnTo>
                  <a:lnTo>
                    <a:pt x="103" y="0"/>
                  </a:lnTo>
                  <a:lnTo>
                    <a:pt x="134" y="0"/>
                  </a:lnTo>
                  <a:lnTo>
                    <a:pt x="167" y="5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50960" y="1213920"/>
              <a:ext cx="99360" cy="55080"/>
            </a:xfrm>
            <a:custGeom>
              <a:avLst/>
              <a:gdLst/>
              <a:ahLst/>
              <a:rect l="l" t="t" r="r" b="b"/>
              <a:pathLst>
                <a:path w="230" h="129">
                  <a:moveTo>
                    <a:pt x="115" y="0"/>
                  </a:moveTo>
                  <a:lnTo>
                    <a:pt x="138" y="1"/>
                  </a:lnTo>
                  <a:lnTo>
                    <a:pt x="160" y="5"/>
                  </a:lnTo>
                  <a:lnTo>
                    <a:pt x="180" y="11"/>
                  </a:lnTo>
                  <a:lnTo>
                    <a:pt x="197" y="18"/>
                  </a:lnTo>
                  <a:lnTo>
                    <a:pt x="211" y="29"/>
                  </a:lnTo>
                  <a:lnTo>
                    <a:pt x="221" y="39"/>
                  </a:lnTo>
                  <a:lnTo>
                    <a:pt x="228" y="52"/>
                  </a:lnTo>
                  <a:lnTo>
                    <a:pt x="230" y="64"/>
                  </a:lnTo>
                  <a:lnTo>
                    <a:pt x="228" y="77"/>
                  </a:lnTo>
                  <a:lnTo>
                    <a:pt x="221" y="90"/>
                  </a:lnTo>
                  <a:lnTo>
                    <a:pt x="211" y="100"/>
                  </a:lnTo>
                  <a:lnTo>
                    <a:pt x="197" y="110"/>
                  </a:lnTo>
                  <a:lnTo>
                    <a:pt x="180" y="117"/>
                  </a:lnTo>
                  <a:lnTo>
                    <a:pt x="160" y="124"/>
                  </a:lnTo>
                  <a:lnTo>
                    <a:pt x="138" y="128"/>
                  </a:lnTo>
                  <a:lnTo>
                    <a:pt x="115" y="129"/>
                  </a:lnTo>
                  <a:lnTo>
                    <a:pt x="92" y="128"/>
                  </a:lnTo>
                  <a:lnTo>
                    <a:pt x="70" y="124"/>
                  </a:lnTo>
                  <a:lnTo>
                    <a:pt x="51" y="117"/>
                  </a:lnTo>
                  <a:lnTo>
                    <a:pt x="34" y="110"/>
                  </a:lnTo>
                  <a:lnTo>
                    <a:pt x="20" y="100"/>
                  </a:lnTo>
                  <a:lnTo>
                    <a:pt x="9" y="90"/>
                  </a:lnTo>
                  <a:lnTo>
                    <a:pt x="2" y="77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9" y="39"/>
                  </a:lnTo>
                  <a:lnTo>
                    <a:pt x="20" y="29"/>
                  </a:lnTo>
                  <a:lnTo>
                    <a:pt x="34" y="18"/>
                  </a:lnTo>
                  <a:lnTo>
                    <a:pt x="51" y="11"/>
                  </a:lnTo>
                  <a:lnTo>
                    <a:pt x="70" y="5"/>
                  </a:lnTo>
                  <a:lnTo>
                    <a:pt x="92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74000" y="1117800"/>
              <a:ext cx="99360" cy="43920"/>
            </a:xfrm>
            <a:custGeom>
              <a:avLst/>
              <a:gdLst/>
              <a:ahLst/>
              <a:rect l="l" t="t" r="r" b="b"/>
              <a:pathLst>
                <a:path w="231" h="101">
                  <a:moveTo>
                    <a:pt x="115" y="1"/>
                  </a:moveTo>
                  <a:lnTo>
                    <a:pt x="138" y="3"/>
                  </a:lnTo>
                  <a:lnTo>
                    <a:pt x="160" y="8"/>
                  </a:lnTo>
                  <a:lnTo>
                    <a:pt x="180" y="15"/>
                  </a:lnTo>
                  <a:lnTo>
                    <a:pt x="197" y="22"/>
                  </a:lnTo>
                  <a:lnTo>
                    <a:pt x="211" y="30"/>
                  </a:lnTo>
                  <a:lnTo>
                    <a:pt x="221" y="39"/>
                  </a:lnTo>
                  <a:lnTo>
                    <a:pt x="228" y="49"/>
                  </a:lnTo>
                  <a:lnTo>
                    <a:pt x="231" y="60"/>
                  </a:lnTo>
                  <a:lnTo>
                    <a:pt x="228" y="70"/>
                  </a:lnTo>
                  <a:lnTo>
                    <a:pt x="221" y="78"/>
                  </a:lnTo>
                  <a:lnTo>
                    <a:pt x="211" y="86"/>
                  </a:lnTo>
                  <a:lnTo>
                    <a:pt x="197" y="92"/>
                  </a:lnTo>
                  <a:lnTo>
                    <a:pt x="180" y="96"/>
                  </a:lnTo>
                  <a:lnTo>
                    <a:pt x="160" y="100"/>
                  </a:lnTo>
                  <a:lnTo>
                    <a:pt x="138" y="101"/>
                  </a:lnTo>
                  <a:lnTo>
                    <a:pt x="115" y="100"/>
                  </a:lnTo>
                  <a:lnTo>
                    <a:pt x="92" y="98"/>
                  </a:lnTo>
                  <a:lnTo>
                    <a:pt x="70" y="93"/>
                  </a:lnTo>
                  <a:lnTo>
                    <a:pt x="51" y="86"/>
                  </a:lnTo>
                  <a:lnTo>
                    <a:pt x="34" y="79"/>
                  </a:lnTo>
                  <a:lnTo>
                    <a:pt x="20" y="71"/>
                  </a:lnTo>
                  <a:lnTo>
                    <a:pt x="9" y="62"/>
                  </a:lnTo>
                  <a:lnTo>
                    <a:pt x="3" y="52"/>
                  </a:lnTo>
                  <a:lnTo>
                    <a:pt x="0" y="41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20" y="15"/>
                  </a:lnTo>
                  <a:lnTo>
                    <a:pt x="34" y="9"/>
                  </a:lnTo>
                  <a:lnTo>
                    <a:pt x="51" y="4"/>
                  </a:lnTo>
                  <a:lnTo>
                    <a:pt x="70" y="1"/>
                  </a:lnTo>
                  <a:lnTo>
                    <a:pt x="92" y="0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12600" y="1199160"/>
              <a:ext cx="98640" cy="48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115" y="4"/>
                  </a:moveTo>
                  <a:lnTo>
                    <a:pt x="138" y="10"/>
                  </a:lnTo>
                  <a:lnTo>
                    <a:pt x="160" y="16"/>
                  </a:lnTo>
                  <a:lnTo>
                    <a:pt x="179" y="25"/>
                  </a:lnTo>
                  <a:lnTo>
                    <a:pt x="196" y="34"/>
                  </a:lnTo>
                  <a:lnTo>
                    <a:pt x="209" y="44"/>
                  </a:lnTo>
                  <a:lnTo>
                    <a:pt x="219" y="54"/>
                  </a:lnTo>
                  <a:lnTo>
                    <a:pt x="226" y="66"/>
                  </a:lnTo>
                  <a:lnTo>
                    <a:pt x="228" y="78"/>
                  </a:lnTo>
                  <a:lnTo>
                    <a:pt x="226" y="88"/>
                  </a:lnTo>
                  <a:lnTo>
                    <a:pt x="219" y="97"/>
                  </a:lnTo>
                  <a:lnTo>
                    <a:pt x="209" y="105"/>
                  </a:lnTo>
                  <a:lnTo>
                    <a:pt x="196" y="110"/>
                  </a:lnTo>
                  <a:lnTo>
                    <a:pt x="179" y="114"/>
                  </a:lnTo>
                  <a:lnTo>
                    <a:pt x="160" y="116"/>
                  </a:lnTo>
                  <a:lnTo>
                    <a:pt x="138" y="116"/>
                  </a:lnTo>
                  <a:lnTo>
                    <a:pt x="115" y="112"/>
                  </a:lnTo>
                  <a:lnTo>
                    <a:pt x="92" y="107"/>
                  </a:lnTo>
                  <a:lnTo>
                    <a:pt x="70" y="101"/>
                  </a:lnTo>
                  <a:lnTo>
                    <a:pt x="51" y="92"/>
                  </a:lnTo>
                  <a:lnTo>
                    <a:pt x="34" y="82"/>
                  </a:lnTo>
                  <a:lnTo>
                    <a:pt x="20" y="72"/>
                  </a:lnTo>
                  <a:lnTo>
                    <a:pt x="9" y="61"/>
                  </a:lnTo>
                  <a:lnTo>
                    <a:pt x="3" y="50"/>
                  </a:lnTo>
                  <a:lnTo>
                    <a:pt x="0" y="38"/>
                  </a:lnTo>
                  <a:lnTo>
                    <a:pt x="3" y="28"/>
                  </a:lnTo>
                  <a:lnTo>
                    <a:pt x="9" y="19"/>
                  </a:lnTo>
                  <a:lnTo>
                    <a:pt x="20" y="12"/>
                  </a:lnTo>
                  <a:lnTo>
                    <a:pt x="34" y="6"/>
                  </a:lnTo>
                  <a:lnTo>
                    <a:pt x="51" y="3"/>
                  </a:lnTo>
                  <a:lnTo>
                    <a:pt x="70" y="0"/>
                  </a:lnTo>
                  <a:lnTo>
                    <a:pt x="92" y="1"/>
                  </a:lnTo>
                  <a:lnTo>
                    <a:pt x="115" y="4"/>
                  </a:lnTo>
                  <a:close/>
                </a:path>
              </a:pathLst>
            </a:custGeom>
            <a:solidFill>
              <a:srgbClr val="1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57800" y="1222560"/>
              <a:ext cx="83520" cy="46440"/>
            </a:xfrm>
            <a:custGeom>
              <a:avLst/>
              <a:gdLst/>
              <a:ahLst/>
              <a:rect l="l" t="t" r="r" b="b"/>
              <a:pathLst>
                <a:path w="196" h="110">
                  <a:moveTo>
                    <a:pt x="98" y="0"/>
                  </a:moveTo>
                  <a:lnTo>
                    <a:pt x="118" y="2"/>
                  </a:lnTo>
                  <a:lnTo>
                    <a:pt x="136" y="5"/>
                  </a:lnTo>
                  <a:lnTo>
                    <a:pt x="153" y="10"/>
                  </a:lnTo>
                  <a:lnTo>
                    <a:pt x="167" y="17"/>
                  </a:lnTo>
                  <a:lnTo>
                    <a:pt x="179" y="25"/>
                  </a:lnTo>
                  <a:lnTo>
                    <a:pt x="188" y="34"/>
                  </a:lnTo>
                  <a:lnTo>
                    <a:pt x="194" y="44"/>
                  </a:lnTo>
                  <a:lnTo>
                    <a:pt x="196" y="56"/>
                  </a:lnTo>
                  <a:lnTo>
                    <a:pt x="194" y="66"/>
                  </a:lnTo>
                  <a:lnTo>
                    <a:pt x="188" y="77"/>
                  </a:lnTo>
                  <a:lnTo>
                    <a:pt x="179" y="86"/>
                  </a:lnTo>
                  <a:lnTo>
                    <a:pt x="167" y="94"/>
                  </a:lnTo>
                  <a:lnTo>
                    <a:pt x="153" y="101"/>
                  </a:lnTo>
                  <a:lnTo>
                    <a:pt x="136" y="105"/>
                  </a:lnTo>
                  <a:lnTo>
                    <a:pt x="118" y="109"/>
                  </a:lnTo>
                  <a:lnTo>
                    <a:pt x="98" y="110"/>
                  </a:lnTo>
                  <a:lnTo>
                    <a:pt x="78" y="109"/>
                  </a:lnTo>
                  <a:lnTo>
                    <a:pt x="60" y="105"/>
                  </a:lnTo>
                  <a:lnTo>
                    <a:pt x="43" y="101"/>
                  </a:lnTo>
                  <a:lnTo>
                    <a:pt x="29" y="94"/>
                  </a:lnTo>
                  <a:lnTo>
                    <a:pt x="17" y="86"/>
                  </a:lnTo>
                  <a:lnTo>
                    <a:pt x="8" y="77"/>
                  </a:lnTo>
                  <a:lnTo>
                    <a:pt x="2" y="66"/>
                  </a:lnTo>
                  <a:lnTo>
                    <a:pt x="0" y="56"/>
                  </a:lnTo>
                  <a:lnTo>
                    <a:pt x="2" y="44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9" y="17"/>
                  </a:lnTo>
                  <a:lnTo>
                    <a:pt x="43" y="10"/>
                  </a:lnTo>
                  <a:lnTo>
                    <a:pt x="60" y="5"/>
                  </a:lnTo>
                  <a:lnTo>
                    <a:pt x="78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0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80120" y="1124640"/>
              <a:ext cx="84600" cy="36720"/>
            </a:xfrm>
            <a:custGeom>
              <a:avLst/>
              <a:gdLst/>
              <a:ahLst/>
              <a:rect l="l" t="t" r="r" b="b"/>
              <a:pathLst>
                <a:path w="197" h="86">
                  <a:moveTo>
                    <a:pt x="99" y="0"/>
                  </a:moveTo>
                  <a:lnTo>
                    <a:pt x="119" y="2"/>
                  </a:lnTo>
                  <a:lnTo>
                    <a:pt x="137" y="7"/>
                  </a:lnTo>
                  <a:lnTo>
                    <a:pt x="153" y="11"/>
                  </a:lnTo>
                  <a:lnTo>
                    <a:pt x="168" y="18"/>
                  </a:lnTo>
                  <a:lnTo>
                    <a:pt x="180" y="25"/>
                  </a:lnTo>
                  <a:lnTo>
                    <a:pt x="189" y="33"/>
                  </a:lnTo>
                  <a:lnTo>
                    <a:pt x="195" y="42"/>
                  </a:lnTo>
                  <a:lnTo>
                    <a:pt x="197" y="50"/>
                  </a:lnTo>
                  <a:lnTo>
                    <a:pt x="195" y="58"/>
                  </a:lnTo>
                  <a:lnTo>
                    <a:pt x="189" y="66"/>
                  </a:lnTo>
                  <a:lnTo>
                    <a:pt x="180" y="72"/>
                  </a:lnTo>
                  <a:lnTo>
                    <a:pt x="168" y="78"/>
                  </a:lnTo>
                  <a:lnTo>
                    <a:pt x="153" y="83"/>
                  </a:lnTo>
                  <a:lnTo>
                    <a:pt x="137" y="85"/>
                  </a:lnTo>
                  <a:lnTo>
                    <a:pt x="119" y="86"/>
                  </a:lnTo>
                  <a:lnTo>
                    <a:pt x="99" y="85"/>
                  </a:lnTo>
                  <a:lnTo>
                    <a:pt x="80" y="83"/>
                  </a:lnTo>
                  <a:lnTo>
                    <a:pt x="61" y="78"/>
                  </a:lnTo>
                  <a:lnTo>
                    <a:pt x="44" y="73"/>
                  </a:lnTo>
                  <a:lnTo>
                    <a:pt x="29" y="66"/>
                  </a:lnTo>
                  <a:lnTo>
                    <a:pt x="17" y="60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8" y="18"/>
                  </a:lnTo>
                  <a:lnTo>
                    <a:pt x="17" y="12"/>
                  </a:lnTo>
                  <a:lnTo>
                    <a:pt x="29" y="7"/>
                  </a:lnTo>
                  <a:lnTo>
                    <a:pt x="44" y="3"/>
                  </a:lnTo>
                  <a:lnTo>
                    <a:pt x="61" y="1"/>
                  </a:lnTo>
                  <a:lnTo>
                    <a:pt x="80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a0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118720" y="1206000"/>
              <a:ext cx="83880" cy="42120"/>
            </a:xfrm>
            <a:custGeom>
              <a:avLst/>
              <a:gdLst/>
              <a:ahLst/>
              <a:rect l="l" t="t" r="r" b="b"/>
              <a:pathLst>
                <a:path w="194" h="98">
                  <a:moveTo>
                    <a:pt x="98" y="4"/>
                  </a:moveTo>
                  <a:lnTo>
                    <a:pt x="118" y="9"/>
                  </a:lnTo>
                  <a:lnTo>
                    <a:pt x="136" y="14"/>
                  </a:lnTo>
                  <a:lnTo>
                    <a:pt x="152" y="21"/>
                  </a:lnTo>
                  <a:lnTo>
                    <a:pt x="166" y="29"/>
                  </a:lnTo>
                  <a:lnTo>
                    <a:pt x="177" y="37"/>
                  </a:lnTo>
                  <a:lnTo>
                    <a:pt x="187" y="47"/>
                  </a:lnTo>
                  <a:lnTo>
                    <a:pt x="191" y="57"/>
                  </a:lnTo>
                  <a:lnTo>
                    <a:pt x="194" y="66"/>
                  </a:lnTo>
                  <a:lnTo>
                    <a:pt x="191" y="75"/>
                  </a:lnTo>
                  <a:lnTo>
                    <a:pt x="187" y="82"/>
                  </a:lnTo>
                  <a:lnTo>
                    <a:pt x="177" y="89"/>
                  </a:lnTo>
                  <a:lnTo>
                    <a:pt x="166" y="94"/>
                  </a:lnTo>
                  <a:lnTo>
                    <a:pt x="152" y="97"/>
                  </a:lnTo>
                  <a:lnTo>
                    <a:pt x="136" y="98"/>
                  </a:lnTo>
                  <a:lnTo>
                    <a:pt x="118" y="98"/>
                  </a:lnTo>
                  <a:lnTo>
                    <a:pt x="98" y="96"/>
                  </a:lnTo>
                  <a:lnTo>
                    <a:pt x="78" y="91"/>
                  </a:lnTo>
                  <a:lnTo>
                    <a:pt x="60" y="86"/>
                  </a:lnTo>
                  <a:lnTo>
                    <a:pt x="43" y="79"/>
                  </a:lnTo>
                  <a:lnTo>
                    <a:pt x="29" y="71"/>
                  </a:lnTo>
                  <a:lnTo>
                    <a:pt x="17" y="62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8" y="17"/>
                  </a:lnTo>
                  <a:lnTo>
                    <a:pt x="17" y="10"/>
                  </a:lnTo>
                  <a:lnTo>
                    <a:pt x="29" y="5"/>
                  </a:lnTo>
                  <a:lnTo>
                    <a:pt x="43" y="3"/>
                  </a:lnTo>
                  <a:lnTo>
                    <a:pt x="60" y="0"/>
                  </a:lnTo>
                  <a:lnTo>
                    <a:pt x="78" y="2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a0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27320" y="1569240"/>
              <a:ext cx="267840" cy="401040"/>
            </a:xfrm>
            <a:custGeom>
              <a:avLst/>
              <a:gdLst/>
              <a:ahLst/>
              <a:rect l="l" t="t" r="r" b="b"/>
              <a:pathLst>
                <a:path w="618" h="929">
                  <a:moveTo>
                    <a:pt x="129" y="545"/>
                  </a:moveTo>
                  <a:lnTo>
                    <a:pt x="344" y="163"/>
                  </a:lnTo>
                  <a:lnTo>
                    <a:pt x="364" y="135"/>
                  </a:lnTo>
                  <a:lnTo>
                    <a:pt x="382" y="110"/>
                  </a:lnTo>
                  <a:lnTo>
                    <a:pt x="399" y="84"/>
                  </a:lnTo>
                  <a:lnTo>
                    <a:pt x="417" y="61"/>
                  </a:lnTo>
                  <a:lnTo>
                    <a:pt x="433" y="42"/>
                  </a:lnTo>
                  <a:lnTo>
                    <a:pt x="449" y="25"/>
                  </a:lnTo>
                  <a:lnTo>
                    <a:pt x="467" y="12"/>
                  </a:lnTo>
                  <a:lnTo>
                    <a:pt x="486" y="5"/>
                  </a:lnTo>
                  <a:lnTo>
                    <a:pt x="531" y="0"/>
                  </a:lnTo>
                  <a:lnTo>
                    <a:pt x="565" y="7"/>
                  </a:lnTo>
                  <a:lnTo>
                    <a:pt x="592" y="26"/>
                  </a:lnTo>
                  <a:lnTo>
                    <a:pt x="608" y="54"/>
                  </a:lnTo>
                  <a:lnTo>
                    <a:pt x="617" y="92"/>
                  </a:lnTo>
                  <a:lnTo>
                    <a:pt x="618" y="137"/>
                  </a:lnTo>
                  <a:lnTo>
                    <a:pt x="611" y="190"/>
                  </a:lnTo>
                  <a:lnTo>
                    <a:pt x="599" y="248"/>
                  </a:lnTo>
                  <a:lnTo>
                    <a:pt x="573" y="296"/>
                  </a:lnTo>
                  <a:lnTo>
                    <a:pt x="549" y="346"/>
                  </a:lnTo>
                  <a:lnTo>
                    <a:pt x="524" y="395"/>
                  </a:lnTo>
                  <a:lnTo>
                    <a:pt x="498" y="444"/>
                  </a:lnTo>
                  <a:lnTo>
                    <a:pt x="474" y="493"/>
                  </a:lnTo>
                  <a:lnTo>
                    <a:pt x="449" y="542"/>
                  </a:lnTo>
                  <a:lnTo>
                    <a:pt x="424" y="588"/>
                  </a:lnTo>
                  <a:lnTo>
                    <a:pt x="398" y="634"/>
                  </a:lnTo>
                  <a:lnTo>
                    <a:pt x="373" y="678"/>
                  </a:lnTo>
                  <a:lnTo>
                    <a:pt x="346" y="720"/>
                  </a:lnTo>
                  <a:lnTo>
                    <a:pt x="320" y="761"/>
                  </a:lnTo>
                  <a:lnTo>
                    <a:pt x="293" y="798"/>
                  </a:lnTo>
                  <a:lnTo>
                    <a:pt x="267" y="832"/>
                  </a:lnTo>
                  <a:lnTo>
                    <a:pt x="239" y="863"/>
                  </a:lnTo>
                  <a:lnTo>
                    <a:pt x="211" y="892"/>
                  </a:lnTo>
                  <a:lnTo>
                    <a:pt x="182" y="916"/>
                  </a:lnTo>
                  <a:lnTo>
                    <a:pt x="161" y="921"/>
                  </a:lnTo>
                  <a:lnTo>
                    <a:pt x="143" y="924"/>
                  </a:lnTo>
                  <a:lnTo>
                    <a:pt x="124" y="928"/>
                  </a:lnTo>
                  <a:lnTo>
                    <a:pt x="107" y="929"/>
                  </a:lnTo>
                  <a:lnTo>
                    <a:pt x="90" y="929"/>
                  </a:lnTo>
                  <a:lnTo>
                    <a:pt x="75" y="927"/>
                  </a:lnTo>
                  <a:lnTo>
                    <a:pt x="61" y="924"/>
                  </a:lnTo>
                  <a:lnTo>
                    <a:pt x="48" y="920"/>
                  </a:lnTo>
                  <a:lnTo>
                    <a:pt x="37" y="914"/>
                  </a:lnTo>
                  <a:lnTo>
                    <a:pt x="27" y="906"/>
                  </a:lnTo>
                  <a:lnTo>
                    <a:pt x="18" y="897"/>
                  </a:lnTo>
                  <a:lnTo>
                    <a:pt x="11" y="886"/>
                  </a:lnTo>
                  <a:lnTo>
                    <a:pt x="7" y="872"/>
                  </a:lnTo>
                  <a:lnTo>
                    <a:pt x="2" y="859"/>
                  </a:lnTo>
                  <a:lnTo>
                    <a:pt x="0" y="841"/>
                  </a:lnTo>
                  <a:lnTo>
                    <a:pt x="0" y="823"/>
                  </a:lnTo>
                  <a:lnTo>
                    <a:pt x="129" y="545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35240" y="1573560"/>
              <a:ext cx="250560" cy="376200"/>
            </a:xfrm>
            <a:custGeom>
              <a:avLst/>
              <a:gdLst/>
              <a:ahLst/>
              <a:rect l="l" t="t" r="r" b="b"/>
              <a:pathLst>
                <a:path w="580" h="871">
                  <a:moveTo>
                    <a:pt x="105" y="534"/>
                  </a:moveTo>
                  <a:lnTo>
                    <a:pt x="327" y="152"/>
                  </a:lnTo>
                  <a:lnTo>
                    <a:pt x="347" y="120"/>
                  </a:lnTo>
                  <a:lnTo>
                    <a:pt x="366" y="88"/>
                  </a:lnTo>
                  <a:lnTo>
                    <a:pt x="385" y="61"/>
                  </a:lnTo>
                  <a:lnTo>
                    <a:pt x="404" y="38"/>
                  </a:lnTo>
                  <a:lnTo>
                    <a:pt x="423" y="18"/>
                  </a:lnTo>
                  <a:lnTo>
                    <a:pt x="442" y="5"/>
                  </a:lnTo>
                  <a:lnTo>
                    <a:pt x="462" y="0"/>
                  </a:lnTo>
                  <a:lnTo>
                    <a:pt x="483" y="1"/>
                  </a:lnTo>
                  <a:lnTo>
                    <a:pt x="526" y="16"/>
                  </a:lnTo>
                  <a:lnTo>
                    <a:pt x="556" y="38"/>
                  </a:lnTo>
                  <a:lnTo>
                    <a:pt x="574" y="67"/>
                  </a:lnTo>
                  <a:lnTo>
                    <a:pt x="580" y="99"/>
                  </a:lnTo>
                  <a:lnTo>
                    <a:pt x="579" y="134"/>
                  </a:lnTo>
                  <a:lnTo>
                    <a:pt x="571" y="171"/>
                  </a:lnTo>
                  <a:lnTo>
                    <a:pt x="560" y="208"/>
                  </a:lnTo>
                  <a:lnTo>
                    <a:pt x="544" y="243"/>
                  </a:lnTo>
                  <a:lnTo>
                    <a:pt x="518" y="290"/>
                  </a:lnTo>
                  <a:lnTo>
                    <a:pt x="495" y="336"/>
                  </a:lnTo>
                  <a:lnTo>
                    <a:pt x="471" y="380"/>
                  </a:lnTo>
                  <a:lnTo>
                    <a:pt x="449" y="423"/>
                  </a:lnTo>
                  <a:lnTo>
                    <a:pt x="426" y="464"/>
                  </a:lnTo>
                  <a:lnTo>
                    <a:pt x="404" y="504"/>
                  </a:lnTo>
                  <a:lnTo>
                    <a:pt x="382" y="542"/>
                  </a:lnTo>
                  <a:lnTo>
                    <a:pt x="361" y="580"/>
                  </a:lnTo>
                  <a:lnTo>
                    <a:pt x="337" y="616"/>
                  </a:lnTo>
                  <a:lnTo>
                    <a:pt x="314" y="652"/>
                  </a:lnTo>
                  <a:lnTo>
                    <a:pt x="291" y="687"/>
                  </a:lnTo>
                  <a:lnTo>
                    <a:pt x="267" y="721"/>
                  </a:lnTo>
                  <a:lnTo>
                    <a:pt x="242" y="755"/>
                  </a:lnTo>
                  <a:lnTo>
                    <a:pt x="217" y="788"/>
                  </a:lnTo>
                  <a:lnTo>
                    <a:pt x="189" y="821"/>
                  </a:lnTo>
                  <a:lnTo>
                    <a:pt x="160" y="853"/>
                  </a:lnTo>
                  <a:lnTo>
                    <a:pt x="149" y="861"/>
                  </a:lnTo>
                  <a:lnTo>
                    <a:pt x="136" y="867"/>
                  </a:lnTo>
                  <a:lnTo>
                    <a:pt x="121" y="870"/>
                  </a:lnTo>
                  <a:lnTo>
                    <a:pt x="106" y="871"/>
                  </a:lnTo>
                  <a:lnTo>
                    <a:pt x="90" y="870"/>
                  </a:lnTo>
                  <a:lnTo>
                    <a:pt x="74" y="866"/>
                  </a:lnTo>
                  <a:lnTo>
                    <a:pt x="58" y="860"/>
                  </a:lnTo>
                  <a:lnTo>
                    <a:pt x="43" y="852"/>
                  </a:lnTo>
                  <a:lnTo>
                    <a:pt x="30" y="843"/>
                  </a:lnTo>
                  <a:lnTo>
                    <a:pt x="19" y="832"/>
                  </a:lnTo>
                  <a:lnTo>
                    <a:pt x="9" y="818"/>
                  </a:lnTo>
                  <a:lnTo>
                    <a:pt x="2" y="803"/>
                  </a:lnTo>
                  <a:lnTo>
                    <a:pt x="0" y="787"/>
                  </a:lnTo>
                  <a:lnTo>
                    <a:pt x="0" y="768"/>
                  </a:lnTo>
                  <a:lnTo>
                    <a:pt x="6" y="749"/>
                  </a:lnTo>
                  <a:lnTo>
                    <a:pt x="15" y="728"/>
                  </a:lnTo>
                  <a:lnTo>
                    <a:pt x="105" y="534"/>
                  </a:lnTo>
                  <a:close/>
                </a:path>
              </a:pathLst>
            </a:custGeom>
            <a:solidFill>
              <a:srgbClr val="7f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31880" y="1296720"/>
              <a:ext cx="136440" cy="122760"/>
            </a:xfrm>
            <a:custGeom>
              <a:avLst/>
              <a:gdLst/>
              <a:ahLst/>
              <a:rect l="l" t="t" r="r" b="b"/>
              <a:pathLst>
                <a:path w="317" h="285">
                  <a:moveTo>
                    <a:pt x="0" y="0"/>
                  </a:moveTo>
                  <a:lnTo>
                    <a:pt x="0" y="58"/>
                  </a:lnTo>
                  <a:lnTo>
                    <a:pt x="0" y="115"/>
                  </a:lnTo>
                  <a:lnTo>
                    <a:pt x="0" y="172"/>
                  </a:lnTo>
                  <a:lnTo>
                    <a:pt x="0" y="231"/>
                  </a:lnTo>
                  <a:lnTo>
                    <a:pt x="19" y="241"/>
                  </a:lnTo>
                  <a:lnTo>
                    <a:pt x="38" y="250"/>
                  </a:lnTo>
                  <a:lnTo>
                    <a:pt x="57" y="258"/>
                  </a:lnTo>
                  <a:lnTo>
                    <a:pt x="75" y="265"/>
                  </a:lnTo>
                  <a:lnTo>
                    <a:pt x="93" y="271"/>
                  </a:lnTo>
                  <a:lnTo>
                    <a:pt x="113" y="277"/>
                  </a:lnTo>
                  <a:lnTo>
                    <a:pt x="131" y="280"/>
                  </a:lnTo>
                  <a:lnTo>
                    <a:pt x="151" y="282"/>
                  </a:lnTo>
                  <a:lnTo>
                    <a:pt x="171" y="285"/>
                  </a:lnTo>
                  <a:lnTo>
                    <a:pt x="190" y="285"/>
                  </a:lnTo>
                  <a:lnTo>
                    <a:pt x="210" y="285"/>
                  </a:lnTo>
                  <a:lnTo>
                    <a:pt x="231" y="284"/>
                  </a:lnTo>
                  <a:lnTo>
                    <a:pt x="251" y="280"/>
                  </a:lnTo>
                  <a:lnTo>
                    <a:pt x="272" y="277"/>
                  </a:lnTo>
                  <a:lnTo>
                    <a:pt x="294" y="273"/>
                  </a:lnTo>
                  <a:lnTo>
                    <a:pt x="317" y="267"/>
                  </a:lnTo>
                  <a:lnTo>
                    <a:pt x="317" y="244"/>
                  </a:lnTo>
                  <a:lnTo>
                    <a:pt x="316" y="220"/>
                  </a:lnTo>
                  <a:lnTo>
                    <a:pt x="313" y="197"/>
                  </a:lnTo>
                  <a:lnTo>
                    <a:pt x="312" y="174"/>
                  </a:lnTo>
                  <a:lnTo>
                    <a:pt x="311" y="140"/>
                  </a:lnTo>
                  <a:lnTo>
                    <a:pt x="310" y="104"/>
                  </a:lnTo>
                  <a:lnTo>
                    <a:pt x="309" y="69"/>
                  </a:lnTo>
                  <a:lnTo>
                    <a:pt x="308" y="35"/>
                  </a:lnTo>
                  <a:lnTo>
                    <a:pt x="288" y="39"/>
                  </a:lnTo>
                  <a:lnTo>
                    <a:pt x="270" y="43"/>
                  </a:lnTo>
                  <a:lnTo>
                    <a:pt x="250" y="46"/>
                  </a:lnTo>
                  <a:lnTo>
                    <a:pt x="231" y="47"/>
                  </a:lnTo>
                  <a:lnTo>
                    <a:pt x="211" y="49"/>
                  </a:lnTo>
                  <a:lnTo>
                    <a:pt x="191" y="47"/>
                  </a:lnTo>
                  <a:lnTo>
                    <a:pt x="172" y="46"/>
                  </a:lnTo>
                  <a:lnTo>
                    <a:pt x="152" y="44"/>
                  </a:lnTo>
                  <a:lnTo>
                    <a:pt x="133" y="42"/>
                  </a:lnTo>
                  <a:lnTo>
                    <a:pt x="113" y="37"/>
                  </a:lnTo>
                  <a:lnTo>
                    <a:pt x="93" y="32"/>
                  </a:lnTo>
                  <a:lnTo>
                    <a:pt x="75" y="28"/>
                  </a:lnTo>
                  <a:lnTo>
                    <a:pt x="55" y="22"/>
                  </a:lnTo>
                  <a:lnTo>
                    <a:pt x="37" y="15"/>
                  </a:lnTo>
                  <a:lnTo>
                    <a:pt x="1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32600" y="1296720"/>
              <a:ext cx="132840" cy="122760"/>
            </a:xfrm>
            <a:custGeom>
              <a:avLst/>
              <a:gdLst/>
              <a:ahLst/>
              <a:rect l="l" t="t" r="r" b="b"/>
              <a:pathLst>
                <a:path w="307" h="284">
                  <a:moveTo>
                    <a:pt x="2" y="0"/>
                  </a:moveTo>
                  <a:lnTo>
                    <a:pt x="2" y="58"/>
                  </a:lnTo>
                  <a:lnTo>
                    <a:pt x="1" y="116"/>
                  </a:lnTo>
                  <a:lnTo>
                    <a:pt x="0" y="173"/>
                  </a:lnTo>
                  <a:lnTo>
                    <a:pt x="0" y="231"/>
                  </a:lnTo>
                  <a:lnTo>
                    <a:pt x="18" y="241"/>
                  </a:lnTo>
                  <a:lnTo>
                    <a:pt x="37" y="250"/>
                  </a:lnTo>
                  <a:lnTo>
                    <a:pt x="54" y="257"/>
                  </a:lnTo>
                  <a:lnTo>
                    <a:pt x="72" y="264"/>
                  </a:lnTo>
                  <a:lnTo>
                    <a:pt x="91" y="270"/>
                  </a:lnTo>
                  <a:lnTo>
                    <a:pt x="109" y="276"/>
                  </a:lnTo>
                  <a:lnTo>
                    <a:pt x="127" y="279"/>
                  </a:lnTo>
                  <a:lnTo>
                    <a:pt x="146" y="281"/>
                  </a:lnTo>
                  <a:lnTo>
                    <a:pt x="164" y="284"/>
                  </a:lnTo>
                  <a:lnTo>
                    <a:pt x="184" y="284"/>
                  </a:lnTo>
                  <a:lnTo>
                    <a:pt x="203" y="284"/>
                  </a:lnTo>
                  <a:lnTo>
                    <a:pt x="223" y="283"/>
                  </a:lnTo>
                  <a:lnTo>
                    <a:pt x="244" y="280"/>
                  </a:lnTo>
                  <a:lnTo>
                    <a:pt x="265" y="277"/>
                  </a:lnTo>
                  <a:lnTo>
                    <a:pt x="285" y="272"/>
                  </a:lnTo>
                  <a:lnTo>
                    <a:pt x="307" y="268"/>
                  </a:lnTo>
                  <a:lnTo>
                    <a:pt x="306" y="245"/>
                  </a:lnTo>
                  <a:lnTo>
                    <a:pt x="305" y="220"/>
                  </a:lnTo>
                  <a:lnTo>
                    <a:pt x="304" y="197"/>
                  </a:lnTo>
                  <a:lnTo>
                    <a:pt x="303" y="174"/>
                  </a:lnTo>
                  <a:lnTo>
                    <a:pt x="301" y="139"/>
                  </a:lnTo>
                  <a:lnTo>
                    <a:pt x="300" y="104"/>
                  </a:lnTo>
                  <a:lnTo>
                    <a:pt x="299" y="68"/>
                  </a:lnTo>
                  <a:lnTo>
                    <a:pt x="298" y="34"/>
                  </a:lnTo>
                  <a:lnTo>
                    <a:pt x="279" y="38"/>
                  </a:lnTo>
                  <a:lnTo>
                    <a:pt x="261" y="42"/>
                  </a:lnTo>
                  <a:lnTo>
                    <a:pt x="243" y="44"/>
                  </a:lnTo>
                  <a:lnTo>
                    <a:pt x="224" y="46"/>
                  </a:lnTo>
                  <a:lnTo>
                    <a:pt x="205" y="46"/>
                  </a:lnTo>
                  <a:lnTo>
                    <a:pt x="186" y="46"/>
                  </a:lnTo>
                  <a:lnTo>
                    <a:pt x="168" y="45"/>
                  </a:lnTo>
                  <a:lnTo>
                    <a:pt x="148" y="43"/>
                  </a:lnTo>
                  <a:lnTo>
                    <a:pt x="130" y="39"/>
                  </a:lnTo>
                  <a:lnTo>
                    <a:pt x="111" y="36"/>
                  </a:lnTo>
                  <a:lnTo>
                    <a:pt x="93" y="33"/>
                  </a:lnTo>
                  <a:lnTo>
                    <a:pt x="75" y="27"/>
                  </a:lnTo>
                  <a:lnTo>
                    <a:pt x="56" y="21"/>
                  </a:lnTo>
                  <a:lnTo>
                    <a:pt x="38" y="15"/>
                  </a:lnTo>
                  <a:lnTo>
                    <a:pt x="19" y="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5a0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35480" y="1297440"/>
              <a:ext cx="127800" cy="121680"/>
            </a:xfrm>
            <a:custGeom>
              <a:avLst/>
              <a:gdLst/>
              <a:ahLst/>
              <a:rect l="l" t="t" r="r" b="b"/>
              <a:pathLst>
                <a:path w="297" h="284">
                  <a:moveTo>
                    <a:pt x="1" y="0"/>
                  </a:moveTo>
                  <a:lnTo>
                    <a:pt x="0" y="59"/>
                  </a:lnTo>
                  <a:lnTo>
                    <a:pt x="0" y="116"/>
                  </a:lnTo>
                  <a:lnTo>
                    <a:pt x="0" y="173"/>
                  </a:lnTo>
                  <a:lnTo>
                    <a:pt x="0" y="232"/>
                  </a:lnTo>
                  <a:lnTo>
                    <a:pt x="18" y="241"/>
                  </a:lnTo>
                  <a:lnTo>
                    <a:pt x="35" y="250"/>
                  </a:lnTo>
                  <a:lnTo>
                    <a:pt x="52" y="257"/>
                  </a:lnTo>
                  <a:lnTo>
                    <a:pt x="71" y="264"/>
                  </a:lnTo>
                  <a:lnTo>
                    <a:pt x="88" y="270"/>
                  </a:lnTo>
                  <a:lnTo>
                    <a:pt x="105" y="275"/>
                  </a:lnTo>
                  <a:lnTo>
                    <a:pt x="123" y="278"/>
                  </a:lnTo>
                  <a:lnTo>
                    <a:pt x="141" y="280"/>
                  </a:lnTo>
                  <a:lnTo>
                    <a:pt x="159" y="283"/>
                  </a:lnTo>
                  <a:lnTo>
                    <a:pt x="178" y="284"/>
                  </a:lnTo>
                  <a:lnTo>
                    <a:pt x="197" y="283"/>
                  </a:lnTo>
                  <a:lnTo>
                    <a:pt x="216" y="282"/>
                  </a:lnTo>
                  <a:lnTo>
                    <a:pt x="235" y="279"/>
                  </a:lnTo>
                  <a:lnTo>
                    <a:pt x="256" y="277"/>
                  </a:lnTo>
                  <a:lnTo>
                    <a:pt x="277" y="272"/>
                  </a:lnTo>
                  <a:lnTo>
                    <a:pt x="297" y="268"/>
                  </a:lnTo>
                  <a:lnTo>
                    <a:pt x="296" y="245"/>
                  </a:lnTo>
                  <a:lnTo>
                    <a:pt x="295" y="220"/>
                  </a:lnTo>
                  <a:lnTo>
                    <a:pt x="294" y="196"/>
                  </a:lnTo>
                  <a:lnTo>
                    <a:pt x="293" y="173"/>
                  </a:lnTo>
                  <a:lnTo>
                    <a:pt x="292" y="139"/>
                  </a:lnTo>
                  <a:lnTo>
                    <a:pt x="290" y="103"/>
                  </a:lnTo>
                  <a:lnTo>
                    <a:pt x="289" y="68"/>
                  </a:lnTo>
                  <a:lnTo>
                    <a:pt x="288" y="33"/>
                  </a:lnTo>
                  <a:lnTo>
                    <a:pt x="271" y="37"/>
                  </a:lnTo>
                  <a:lnTo>
                    <a:pt x="252" y="41"/>
                  </a:lnTo>
                  <a:lnTo>
                    <a:pt x="235" y="43"/>
                  </a:lnTo>
                  <a:lnTo>
                    <a:pt x="217" y="44"/>
                  </a:lnTo>
                  <a:lnTo>
                    <a:pt x="198" y="45"/>
                  </a:lnTo>
                  <a:lnTo>
                    <a:pt x="181" y="44"/>
                  </a:lnTo>
                  <a:lnTo>
                    <a:pt x="163" y="43"/>
                  </a:lnTo>
                  <a:lnTo>
                    <a:pt x="144" y="42"/>
                  </a:lnTo>
                  <a:lnTo>
                    <a:pt x="126" y="38"/>
                  </a:lnTo>
                  <a:lnTo>
                    <a:pt x="109" y="35"/>
                  </a:lnTo>
                  <a:lnTo>
                    <a:pt x="90" y="32"/>
                  </a:lnTo>
                  <a:lnTo>
                    <a:pt x="72" y="26"/>
                  </a:lnTo>
                  <a:lnTo>
                    <a:pt x="54" y="21"/>
                  </a:lnTo>
                  <a:lnTo>
                    <a:pt x="36" y="14"/>
                  </a:lnTo>
                  <a:lnTo>
                    <a:pt x="19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36200" y="1297440"/>
              <a:ext cx="124200" cy="121680"/>
            </a:xfrm>
            <a:custGeom>
              <a:avLst/>
              <a:gdLst/>
              <a:ahLst/>
              <a:rect l="l" t="t" r="r" b="b"/>
              <a:pathLst>
                <a:path w="288" h="281">
                  <a:moveTo>
                    <a:pt x="2" y="0"/>
                  </a:moveTo>
                  <a:lnTo>
                    <a:pt x="1" y="58"/>
                  </a:lnTo>
                  <a:lnTo>
                    <a:pt x="1" y="116"/>
                  </a:lnTo>
                  <a:lnTo>
                    <a:pt x="1" y="174"/>
                  </a:lnTo>
                  <a:lnTo>
                    <a:pt x="0" y="231"/>
                  </a:lnTo>
                  <a:lnTo>
                    <a:pt x="17" y="240"/>
                  </a:lnTo>
                  <a:lnTo>
                    <a:pt x="33" y="248"/>
                  </a:lnTo>
                  <a:lnTo>
                    <a:pt x="50" y="257"/>
                  </a:lnTo>
                  <a:lnTo>
                    <a:pt x="68" y="262"/>
                  </a:lnTo>
                  <a:lnTo>
                    <a:pt x="84" y="268"/>
                  </a:lnTo>
                  <a:lnTo>
                    <a:pt x="101" y="273"/>
                  </a:lnTo>
                  <a:lnTo>
                    <a:pt x="118" y="276"/>
                  </a:lnTo>
                  <a:lnTo>
                    <a:pt x="137" y="278"/>
                  </a:lnTo>
                  <a:lnTo>
                    <a:pt x="154" y="281"/>
                  </a:lnTo>
                  <a:lnTo>
                    <a:pt x="172" y="281"/>
                  </a:lnTo>
                  <a:lnTo>
                    <a:pt x="191" y="281"/>
                  </a:lnTo>
                  <a:lnTo>
                    <a:pt x="209" y="280"/>
                  </a:lnTo>
                  <a:lnTo>
                    <a:pt x="228" y="277"/>
                  </a:lnTo>
                  <a:lnTo>
                    <a:pt x="247" y="275"/>
                  </a:lnTo>
                  <a:lnTo>
                    <a:pt x="267" y="270"/>
                  </a:lnTo>
                  <a:lnTo>
                    <a:pt x="288" y="266"/>
                  </a:lnTo>
                  <a:lnTo>
                    <a:pt x="286" y="243"/>
                  </a:lnTo>
                  <a:lnTo>
                    <a:pt x="285" y="218"/>
                  </a:lnTo>
                  <a:lnTo>
                    <a:pt x="284" y="195"/>
                  </a:lnTo>
                  <a:lnTo>
                    <a:pt x="283" y="172"/>
                  </a:lnTo>
                  <a:lnTo>
                    <a:pt x="282" y="137"/>
                  </a:lnTo>
                  <a:lnTo>
                    <a:pt x="281" y="102"/>
                  </a:lnTo>
                  <a:lnTo>
                    <a:pt x="280" y="68"/>
                  </a:lnTo>
                  <a:lnTo>
                    <a:pt x="278" y="32"/>
                  </a:lnTo>
                  <a:lnTo>
                    <a:pt x="261" y="36"/>
                  </a:lnTo>
                  <a:lnTo>
                    <a:pt x="244" y="40"/>
                  </a:lnTo>
                  <a:lnTo>
                    <a:pt x="228" y="41"/>
                  </a:lnTo>
                  <a:lnTo>
                    <a:pt x="210" y="43"/>
                  </a:lnTo>
                  <a:lnTo>
                    <a:pt x="192" y="43"/>
                  </a:lnTo>
                  <a:lnTo>
                    <a:pt x="175" y="43"/>
                  </a:lnTo>
                  <a:lnTo>
                    <a:pt x="157" y="42"/>
                  </a:lnTo>
                  <a:lnTo>
                    <a:pt x="140" y="40"/>
                  </a:lnTo>
                  <a:lnTo>
                    <a:pt x="123" y="38"/>
                  </a:lnTo>
                  <a:lnTo>
                    <a:pt x="106" y="34"/>
                  </a:lnTo>
                  <a:lnTo>
                    <a:pt x="88" y="30"/>
                  </a:lnTo>
                  <a:lnTo>
                    <a:pt x="70" y="25"/>
                  </a:lnTo>
                  <a:lnTo>
                    <a:pt x="53" y="19"/>
                  </a:lnTo>
                  <a:lnTo>
                    <a:pt x="37" y="13"/>
                  </a:lnTo>
                  <a:lnTo>
                    <a:pt x="19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9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938720" y="1298520"/>
              <a:ext cx="119160" cy="12096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3" y="0"/>
                  </a:moveTo>
                  <a:lnTo>
                    <a:pt x="1" y="58"/>
                  </a:lnTo>
                  <a:lnTo>
                    <a:pt x="1" y="115"/>
                  </a:lnTo>
                  <a:lnTo>
                    <a:pt x="0" y="173"/>
                  </a:lnTo>
                  <a:lnTo>
                    <a:pt x="0" y="231"/>
                  </a:lnTo>
                  <a:lnTo>
                    <a:pt x="16" y="241"/>
                  </a:lnTo>
                  <a:lnTo>
                    <a:pt x="33" y="248"/>
                  </a:lnTo>
                  <a:lnTo>
                    <a:pt x="49" y="255"/>
                  </a:lnTo>
                  <a:lnTo>
                    <a:pt x="65" y="261"/>
                  </a:lnTo>
                  <a:lnTo>
                    <a:pt x="82" y="266"/>
                  </a:lnTo>
                  <a:lnTo>
                    <a:pt x="98" y="271"/>
                  </a:lnTo>
                  <a:lnTo>
                    <a:pt x="114" y="274"/>
                  </a:lnTo>
                  <a:lnTo>
                    <a:pt x="132" y="276"/>
                  </a:lnTo>
                  <a:lnTo>
                    <a:pt x="149" y="279"/>
                  </a:lnTo>
                  <a:lnTo>
                    <a:pt x="166" y="279"/>
                  </a:lnTo>
                  <a:lnTo>
                    <a:pt x="183" y="279"/>
                  </a:lnTo>
                  <a:lnTo>
                    <a:pt x="202" y="278"/>
                  </a:lnTo>
                  <a:lnTo>
                    <a:pt x="220" y="276"/>
                  </a:lnTo>
                  <a:lnTo>
                    <a:pt x="239" y="273"/>
                  </a:lnTo>
                  <a:lnTo>
                    <a:pt x="258" y="269"/>
                  </a:lnTo>
                  <a:lnTo>
                    <a:pt x="278" y="265"/>
                  </a:lnTo>
                  <a:lnTo>
                    <a:pt x="278" y="242"/>
                  </a:lnTo>
                  <a:lnTo>
                    <a:pt x="277" y="218"/>
                  </a:lnTo>
                  <a:lnTo>
                    <a:pt x="274" y="195"/>
                  </a:lnTo>
                  <a:lnTo>
                    <a:pt x="273" y="172"/>
                  </a:lnTo>
                  <a:lnTo>
                    <a:pt x="272" y="136"/>
                  </a:lnTo>
                  <a:lnTo>
                    <a:pt x="271" y="100"/>
                  </a:lnTo>
                  <a:lnTo>
                    <a:pt x="270" y="66"/>
                  </a:lnTo>
                  <a:lnTo>
                    <a:pt x="269" y="30"/>
                  </a:lnTo>
                  <a:lnTo>
                    <a:pt x="253" y="34"/>
                  </a:lnTo>
                  <a:lnTo>
                    <a:pt x="236" y="37"/>
                  </a:lnTo>
                  <a:lnTo>
                    <a:pt x="219" y="39"/>
                  </a:lnTo>
                  <a:lnTo>
                    <a:pt x="203" y="40"/>
                  </a:lnTo>
                  <a:lnTo>
                    <a:pt x="186" y="41"/>
                  </a:lnTo>
                  <a:lnTo>
                    <a:pt x="170" y="40"/>
                  </a:lnTo>
                  <a:lnTo>
                    <a:pt x="152" y="39"/>
                  </a:lnTo>
                  <a:lnTo>
                    <a:pt x="136" y="38"/>
                  </a:lnTo>
                  <a:lnTo>
                    <a:pt x="119" y="36"/>
                  </a:lnTo>
                  <a:lnTo>
                    <a:pt x="103" y="32"/>
                  </a:lnTo>
                  <a:lnTo>
                    <a:pt x="86" y="28"/>
                  </a:lnTo>
                  <a:lnTo>
                    <a:pt x="69" y="24"/>
                  </a:lnTo>
                  <a:lnTo>
                    <a:pt x="52" y="18"/>
                  </a:lnTo>
                  <a:lnTo>
                    <a:pt x="36" y="13"/>
                  </a:lnTo>
                  <a:lnTo>
                    <a:pt x="19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18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939800" y="1299240"/>
              <a:ext cx="116640" cy="120240"/>
            </a:xfrm>
            <a:custGeom>
              <a:avLst/>
              <a:gdLst/>
              <a:ahLst/>
              <a:rect l="l" t="t" r="r" b="b"/>
              <a:pathLst>
                <a:path w="268" h="279">
                  <a:moveTo>
                    <a:pt x="3" y="0"/>
                  </a:moveTo>
                  <a:lnTo>
                    <a:pt x="2" y="59"/>
                  </a:lnTo>
                  <a:lnTo>
                    <a:pt x="2" y="115"/>
                  </a:lnTo>
                  <a:lnTo>
                    <a:pt x="1" y="173"/>
                  </a:lnTo>
                  <a:lnTo>
                    <a:pt x="0" y="232"/>
                  </a:lnTo>
                  <a:lnTo>
                    <a:pt x="16" y="240"/>
                  </a:lnTo>
                  <a:lnTo>
                    <a:pt x="31" y="248"/>
                  </a:lnTo>
                  <a:lnTo>
                    <a:pt x="47" y="255"/>
                  </a:lnTo>
                  <a:lnTo>
                    <a:pt x="62" y="260"/>
                  </a:lnTo>
                  <a:lnTo>
                    <a:pt x="78" y="265"/>
                  </a:lnTo>
                  <a:lnTo>
                    <a:pt x="94" y="270"/>
                  </a:lnTo>
                  <a:lnTo>
                    <a:pt x="110" y="273"/>
                  </a:lnTo>
                  <a:lnTo>
                    <a:pt x="128" y="275"/>
                  </a:lnTo>
                  <a:lnTo>
                    <a:pt x="144" y="278"/>
                  </a:lnTo>
                  <a:lnTo>
                    <a:pt x="161" y="278"/>
                  </a:lnTo>
                  <a:lnTo>
                    <a:pt x="177" y="279"/>
                  </a:lnTo>
                  <a:lnTo>
                    <a:pt x="196" y="278"/>
                  </a:lnTo>
                  <a:lnTo>
                    <a:pt x="213" y="275"/>
                  </a:lnTo>
                  <a:lnTo>
                    <a:pt x="231" y="273"/>
                  </a:lnTo>
                  <a:lnTo>
                    <a:pt x="250" y="270"/>
                  </a:lnTo>
                  <a:lnTo>
                    <a:pt x="268" y="265"/>
                  </a:lnTo>
                  <a:lnTo>
                    <a:pt x="267" y="241"/>
                  </a:lnTo>
                  <a:lnTo>
                    <a:pt x="266" y="218"/>
                  </a:lnTo>
                  <a:lnTo>
                    <a:pt x="265" y="194"/>
                  </a:lnTo>
                  <a:lnTo>
                    <a:pt x="263" y="171"/>
                  </a:lnTo>
                  <a:lnTo>
                    <a:pt x="262" y="135"/>
                  </a:lnTo>
                  <a:lnTo>
                    <a:pt x="261" y="100"/>
                  </a:lnTo>
                  <a:lnTo>
                    <a:pt x="260" y="66"/>
                  </a:lnTo>
                  <a:lnTo>
                    <a:pt x="259" y="30"/>
                  </a:lnTo>
                  <a:lnTo>
                    <a:pt x="243" y="33"/>
                  </a:lnTo>
                  <a:lnTo>
                    <a:pt x="228" y="37"/>
                  </a:lnTo>
                  <a:lnTo>
                    <a:pt x="212" y="38"/>
                  </a:lnTo>
                  <a:lnTo>
                    <a:pt x="196" y="39"/>
                  </a:lnTo>
                  <a:lnTo>
                    <a:pt x="181" y="40"/>
                  </a:lnTo>
                  <a:lnTo>
                    <a:pt x="164" y="39"/>
                  </a:lnTo>
                  <a:lnTo>
                    <a:pt x="148" y="38"/>
                  </a:lnTo>
                  <a:lnTo>
                    <a:pt x="132" y="37"/>
                  </a:lnTo>
                  <a:lnTo>
                    <a:pt x="116" y="35"/>
                  </a:lnTo>
                  <a:lnTo>
                    <a:pt x="100" y="31"/>
                  </a:lnTo>
                  <a:lnTo>
                    <a:pt x="84" y="28"/>
                  </a:lnTo>
                  <a:lnTo>
                    <a:pt x="68" y="23"/>
                  </a:lnTo>
                  <a:lnTo>
                    <a:pt x="52" y="18"/>
                  </a:lnTo>
                  <a:lnTo>
                    <a:pt x="35" y="13"/>
                  </a:lnTo>
                  <a:lnTo>
                    <a:pt x="19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42320" y="1300320"/>
              <a:ext cx="111600" cy="119160"/>
            </a:xfrm>
            <a:custGeom>
              <a:avLst/>
              <a:gdLst/>
              <a:ahLst/>
              <a:rect l="l" t="t" r="r" b="b"/>
              <a:pathLst>
                <a:path w="258" h="278">
                  <a:moveTo>
                    <a:pt x="5" y="0"/>
                  </a:moveTo>
                  <a:lnTo>
                    <a:pt x="4" y="59"/>
                  </a:lnTo>
                  <a:lnTo>
                    <a:pt x="3" y="117"/>
                  </a:lnTo>
                  <a:lnTo>
                    <a:pt x="2" y="174"/>
                  </a:lnTo>
                  <a:lnTo>
                    <a:pt x="0" y="232"/>
                  </a:lnTo>
                  <a:lnTo>
                    <a:pt x="15" y="240"/>
                  </a:lnTo>
                  <a:lnTo>
                    <a:pt x="30" y="247"/>
                  </a:lnTo>
                  <a:lnTo>
                    <a:pt x="45" y="254"/>
                  </a:lnTo>
                  <a:lnTo>
                    <a:pt x="60" y="259"/>
                  </a:lnTo>
                  <a:lnTo>
                    <a:pt x="76" y="264"/>
                  </a:lnTo>
                  <a:lnTo>
                    <a:pt x="91" y="269"/>
                  </a:lnTo>
                  <a:lnTo>
                    <a:pt x="107" y="272"/>
                  </a:lnTo>
                  <a:lnTo>
                    <a:pt x="122" y="274"/>
                  </a:lnTo>
                  <a:lnTo>
                    <a:pt x="139" y="277"/>
                  </a:lnTo>
                  <a:lnTo>
                    <a:pt x="155" y="278"/>
                  </a:lnTo>
                  <a:lnTo>
                    <a:pt x="172" y="278"/>
                  </a:lnTo>
                  <a:lnTo>
                    <a:pt x="188" y="277"/>
                  </a:lnTo>
                  <a:lnTo>
                    <a:pt x="205" y="274"/>
                  </a:lnTo>
                  <a:lnTo>
                    <a:pt x="223" y="272"/>
                  </a:lnTo>
                  <a:lnTo>
                    <a:pt x="240" y="269"/>
                  </a:lnTo>
                  <a:lnTo>
                    <a:pt x="258" y="264"/>
                  </a:lnTo>
                  <a:lnTo>
                    <a:pt x="257" y="241"/>
                  </a:lnTo>
                  <a:lnTo>
                    <a:pt x="256" y="217"/>
                  </a:lnTo>
                  <a:lnTo>
                    <a:pt x="255" y="194"/>
                  </a:lnTo>
                  <a:lnTo>
                    <a:pt x="254" y="171"/>
                  </a:lnTo>
                  <a:lnTo>
                    <a:pt x="253" y="135"/>
                  </a:lnTo>
                  <a:lnTo>
                    <a:pt x="251" y="99"/>
                  </a:lnTo>
                  <a:lnTo>
                    <a:pt x="250" y="65"/>
                  </a:lnTo>
                  <a:lnTo>
                    <a:pt x="249" y="29"/>
                  </a:lnTo>
                  <a:lnTo>
                    <a:pt x="234" y="32"/>
                  </a:lnTo>
                  <a:lnTo>
                    <a:pt x="219" y="36"/>
                  </a:lnTo>
                  <a:lnTo>
                    <a:pt x="204" y="37"/>
                  </a:lnTo>
                  <a:lnTo>
                    <a:pt x="189" y="38"/>
                  </a:lnTo>
                  <a:lnTo>
                    <a:pt x="174" y="39"/>
                  </a:lnTo>
                  <a:lnTo>
                    <a:pt x="158" y="38"/>
                  </a:lnTo>
                  <a:lnTo>
                    <a:pt x="143" y="37"/>
                  </a:lnTo>
                  <a:lnTo>
                    <a:pt x="128" y="36"/>
                  </a:lnTo>
                  <a:lnTo>
                    <a:pt x="112" y="34"/>
                  </a:lnTo>
                  <a:lnTo>
                    <a:pt x="97" y="30"/>
                  </a:lnTo>
                  <a:lnTo>
                    <a:pt x="82" y="27"/>
                  </a:lnTo>
                  <a:lnTo>
                    <a:pt x="66" y="22"/>
                  </a:lnTo>
                  <a:lnTo>
                    <a:pt x="51" y="17"/>
                  </a:lnTo>
                  <a:lnTo>
                    <a:pt x="36" y="12"/>
                  </a:lnTo>
                  <a:lnTo>
                    <a:pt x="2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78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4120" y="1300320"/>
              <a:ext cx="107280" cy="119160"/>
            </a:xfrm>
            <a:custGeom>
              <a:avLst/>
              <a:gdLst/>
              <a:ahLst/>
              <a:rect l="l" t="t" r="r" b="b"/>
              <a:pathLst>
                <a:path w="248" h="277">
                  <a:moveTo>
                    <a:pt x="3" y="0"/>
                  </a:moveTo>
                  <a:lnTo>
                    <a:pt x="2" y="59"/>
                  </a:lnTo>
                  <a:lnTo>
                    <a:pt x="1" y="117"/>
                  </a:lnTo>
                  <a:lnTo>
                    <a:pt x="0" y="174"/>
                  </a:lnTo>
                  <a:lnTo>
                    <a:pt x="0" y="233"/>
                  </a:lnTo>
                  <a:lnTo>
                    <a:pt x="14" y="240"/>
                  </a:lnTo>
                  <a:lnTo>
                    <a:pt x="29" y="247"/>
                  </a:lnTo>
                  <a:lnTo>
                    <a:pt x="43" y="254"/>
                  </a:lnTo>
                  <a:lnTo>
                    <a:pt x="58" y="258"/>
                  </a:lnTo>
                  <a:lnTo>
                    <a:pt x="71" y="264"/>
                  </a:lnTo>
                  <a:lnTo>
                    <a:pt x="86" y="268"/>
                  </a:lnTo>
                  <a:lnTo>
                    <a:pt x="101" y="271"/>
                  </a:lnTo>
                  <a:lnTo>
                    <a:pt x="117" y="273"/>
                  </a:lnTo>
                  <a:lnTo>
                    <a:pt x="132" y="276"/>
                  </a:lnTo>
                  <a:lnTo>
                    <a:pt x="149" y="277"/>
                  </a:lnTo>
                  <a:lnTo>
                    <a:pt x="164" y="277"/>
                  </a:lnTo>
                  <a:lnTo>
                    <a:pt x="180" y="276"/>
                  </a:lnTo>
                  <a:lnTo>
                    <a:pt x="197" y="275"/>
                  </a:lnTo>
                  <a:lnTo>
                    <a:pt x="213" y="272"/>
                  </a:lnTo>
                  <a:lnTo>
                    <a:pt x="230" y="269"/>
                  </a:lnTo>
                  <a:lnTo>
                    <a:pt x="248" y="264"/>
                  </a:lnTo>
                  <a:lnTo>
                    <a:pt x="246" y="241"/>
                  </a:lnTo>
                  <a:lnTo>
                    <a:pt x="245" y="217"/>
                  </a:lnTo>
                  <a:lnTo>
                    <a:pt x="244" y="194"/>
                  </a:lnTo>
                  <a:lnTo>
                    <a:pt x="243" y="170"/>
                  </a:lnTo>
                  <a:lnTo>
                    <a:pt x="242" y="134"/>
                  </a:lnTo>
                  <a:lnTo>
                    <a:pt x="241" y="99"/>
                  </a:lnTo>
                  <a:lnTo>
                    <a:pt x="240" y="65"/>
                  </a:lnTo>
                  <a:lnTo>
                    <a:pt x="240" y="29"/>
                  </a:lnTo>
                  <a:lnTo>
                    <a:pt x="225" y="33"/>
                  </a:lnTo>
                  <a:lnTo>
                    <a:pt x="211" y="35"/>
                  </a:lnTo>
                  <a:lnTo>
                    <a:pt x="196" y="36"/>
                  </a:lnTo>
                  <a:lnTo>
                    <a:pt x="182" y="37"/>
                  </a:lnTo>
                  <a:lnTo>
                    <a:pt x="167" y="38"/>
                  </a:lnTo>
                  <a:lnTo>
                    <a:pt x="152" y="37"/>
                  </a:lnTo>
                  <a:lnTo>
                    <a:pt x="137" y="36"/>
                  </a:lnTo>
                  <a:lnTo>
                    <a:pt x="123" y="35"/>
                  </a:lnTo>
                  <a:lnTo>
                    <a:pt x="108" y="33"/>
                  </a:lnTo>
                  <a:lnTo>
                    <a:pt x="93" y="29"/>
                  </a:lnTo>
                  <a:lnTo>
                    <a:pt x="78" y="26"/>
                  </a:lnTo>
                  <a:lnTo>
                    <a:pt x="63" y="22"/>
                  </a:lnTo>
                  <a:lnTo>
                    <a:pt x="48" y="18"/>
                  </a:lnTo>
                  <a:lnTo>
                    <a:pt x="33" y="12"/>
                  </a:lnTo>
                  <a:lnTo>
                    <a:pt x="18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27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45560" y="1301040"/>
              <a:ext cx="102960" cy="118440"/>
            </a:xfrm>
            <a:custGeom>
              <a:avLst/>
              <a:gdLst/>
              <a:ahLst/>
              <a:rect l="l" t="t" r="r" b="b"/>
              <a:pathLst>
                <a:path w="239" h="274">
                  <a:moveTo>
                    <a:pt x="5" y="0"/>
                  </a:moveTo>
                  <a:lnTo>
                    <a:pt x="4" y="58"/>
                  </a:lnTo>
                  <a:lnTo>
                    <a:pt x="3" y="115"/>
                  </a:lnTo>
                  <a:lnTo>
                    <a:pt x="2" y="172"/>
                  </a:lnTo>
                  <a:lnTo>
                    <a:pt x="0" y="231"/>
                  </a:lnTo>
                  <a:lnTo>
                    <a:pt x="14" y="238"/>
                  </a:lnTo>
                  <a:lnTo>
                    <a:pt x="28" y="245"/>
                  </a:lnTo>
                  <a:lnTo>
                    <a:pt x="42" y="251"/>
                  </a:lnTo>
                  <a:lnTo>
                    <a:pt x="56" y="255"/>
                  </a:lnTo>
                  <a:lnTo>
                    <a:pt x="70" y="261"/>
                  </a:lnTo>
                  <a:lnTo>
                    <a:pt x="85" y="265"/>
                  </a:lnTo>
                  <a:lnTo>
                    <a:pt x="98" y="268"/>
                  </a:lnTo>
                  <a:lnTo>
                    <a:pt x="113" y="270"/>
                  </a:lnTo>
                  <a:lnTo>
                    <a:pt x="128" y="273"/>
                  </a:lnTo>
                  <a:lnTo>
                    <a:pt x="143" y="273"/>
                  </a:lnTo>
                  <a:lnTo>
                    <a:pt x="159" y="274"/>
                  </a:lnTo>
                  <a:lnTo>
                    <a:pt x="174" y="273"/>
                  </a:lnTo>
                  <a:lnTo>
                    <a:pt x="190" y="272"/>
                  </a:lnTo>
                  <a:lnTo>
                    <a:pt x="207" y="269"/>
                  </a:lnTo>
                  <a:lnTo>
                    <a:pt x="223" y="266"/>
                  </a:lnTo>
                  <a:lnTo>
                    <a:pt x="239" y="261"/>
                  </a:lnTo>
                  <a:lnTo>
                    <a:pt x="239" y="238"/>
                  </a:lnTo>
                  <a:lnTo>
                    <a:pt x="238" y="214"/>
                  </a:lnTo>
                  <a:lnTo>
                    <a:pt x="235" y="191"/>
                  </a:lnTo>
                  <a:lnTo>
                    <a:pt x="234" y="168"/>
                  </a:lnTo>
                  <a:lnTo>
                    <a:pt x="233" y="132"/>
                  </a:lnTo>
                  <a:lnTo>
                    <a:pt x="232" y="96"/>
                  </a:lnTo>
                  <a:lnTo>
                    <a:pt x="231" y="62"/>
                  </a:lnTo>
                  <a:lnTo>
                    <a:pt x="230" y="26"/>
                  </a:lnTo>
                  <a:lnTo>
                    <a:pt x="216" y="30"/>
                  </a:lnTo>
                  <a:lnTo>
                    <a:pt x="202" y="32"/>
                  </a:lnTo>
                  <a:lnTo>
                    <a:pt x="188" y="34"/>
                  </a:lnTo>
                  <a:lnTo>
                    <a:pt x="175" y="34"/>
                  </a:lnTo>
                  <a:lnTo>
                    <a:pt x="162" y="35"/>
                  </a:lnTo>
                  <a:lnTo>
                    <a:pt x="148" y="34"/>
                  </a:lnTo>
                  <a:lnTo>
                    <a:pt x="133" y="33"/>
                  </a:lnTo>
                  <a:lnTo>
                    <a:pt x="119" y="32"/>
                  </a:lnTo>
                  <a:lnTo>
                    <a:pt x="105" y="30"/>
                  </a:lnTo>
                  <a:lnTo>
                    <a:pt x="91" y="27"/>
                  </a:lnTo>
                  <a:lnTo>
                    <a:pt x="78" y="24"/>
                  </a:lnTo>
                  <a:lnTo>
                    <a:pt x="63" y="19"/>
                  </a:lnTo>
                  <a:lnTo>
                    <a:pt x="49" y="16"/>
                  </a:lnTo>
                  <a:lnTo>
                    <a:pt x="34" y="10"/>
                  </a:lnTo>
                  <a:lnTo>
                    <a:pt x="2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a7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946640" y="1302120"/>
              <a:ext cx="99360" cy="117360"/>
            </a:xfrm>
            <a:custGeom>
              <a:avLst/>
              <a:gdLst/>
              <a:ahLst/>
              <a:rect l="l" t="t" r="r" b="b"/>
              <a:pathLst>
                <a:path w="229" h="273">
                  <a:moveTo>
                    <a:pt x="6" y="0"/>
                  </a:moveTo>
                  <a:lnTo>
                    <a:pt x="5" y="59"/>
                  </a:lnTo>
                  <a:lnTo>
                    <a:pt x="3" y="116"/>
                  </a:lnTo>
                  <a:lnTo>
                    <a:pt x="1" y="174"/>
                  </a:lnTo>
                  <a:lnTo>
                    <a:pt x="0" y="233"/>
                  </a:lnTo>
                  <a:lnTo>
                    <a:pt x="13" y="239"/>
                  </a:lnTo>
                  <a:lnTo>
                    <a:pt x="26" y="245"/>
                  </a:lnTo>
                  <a:lnTo>
                    <a:pt x="39" y="251"/>
                  </a:lnTo>
                  <a:lnTo>
                    <a:pt x="53" y="256"/>
                  </a:lnTo>
                  <a:lnTo>
                    <a:pt x="67" y="260"/>
                  </a:lnTo>
                  <a:lnTo>
                    <a:pt x="81" y="265"/>
                  </a:lnTo>
                  <a:lnTo>
                    <a:pt x="94" y="267"/>
                  </a:lnTo>
                  <a:lnTo>
                    <a:pt x="109" y="269"/>
                  </a:lnTo>
                  <a:lnTo>
                    <a:pt x="123" y="272"/>
                  </a:lnTo>
                  <a:lnTo>
                    <a:pt x="138" y="273"/>
                  </a:lnTo>
                  <a:lnTo>
                    <a:pt x="153" y="273"/>
                  </a:lnTo>
                  <a:lnTo>
                    <a:pt x="168" y="272"/>
                  </a:lnTo>
                  <a:lnTo>
                    <a:pt x="183" y="271"/>
                  </a:lnTo>
                  <a:lnTo>
                    <a:pt x="198" y="268"/>
                  </a:lnTo>
                  <a:lnTo>
                    <a:pt x="213" y="266"/>
                  </a:lnTo>
                  <a:lnTo>
                    <a:pt x="229" y="261"/>
                  </a:lnTo>
                  <a:lnTo>
                    <a:pt x="228" y="238"/>
                  </a:lnTo>
                  <a:lnTo>
                    <a:pt x="227" y="214"/>
                  </a:lnTo>
                  <a:lnTo>
                    <a:pt x="226" y="191"/>
                  </a:lnTo>
                  <a:lnTo>
                    <a:pt x="224" y="168"/>
                  </a:lnTo>
                  <a:lnTo>
                    <a:pt x="223" y="132"/>
                  </a:lnTo>
                  <a:lnTo>
                    <a:pt x="222" y="97"/>
                  </a:lnTo>
                  <a:lnTo>
                    <a:pt x="221" y="61"/>
                  </a:lnTo>
                  <a:lnTo>
                    <a:pt x="220" y="25"/>
                  </a:lnTo>
                  <a:lnTo>
                    <a:pt x="207" y="29"/>
                  </a:lnTo>
                  <a:lnTo>
                    <a:pt x="195" y="31"/>
                  </a:lnTo>
                  <a:lnTo>
                    <a:pt x="182" y="32"/>
                  </a:lnTo>
                  <a:lnTo>
                    <a:pt x="168" y="33"/>
                  </a:lnTo>
                  <a:lnTo>
                    <a:pt x="155" y="33"/>
                  </a:lnTo>
                  <a:lnTo>
                    <a:pt x="143" y="33"/>
                  </a:lnTo>
                  <a:lnTo>
                    <a:pt x="129" y="32"/>
                  </a:lnTo>
                  <a:lnTo>
                    <a:pt x="116" y="31"/>
                  </a:lnTo>
                  <a:lnTo>
                    <a:pt x="102" y="29"/>
                  </a:lnTo>
                  <a:lnTo>
                    <a:pt x="89" y="26"/>
                  </a:lnTo>
                  <a:lnTo>
                    <a:pt x="76" y="23"/>
                  </a:lnTo>
                  <a:lnTo>
                    <a:pt x="62" y="19"/>
                  </a:lnTo>
                  <a:lnTo>
                    <a:pt x="48" y="15"/>
                  </a:lnTo>
                  <a:lnTo>
                    <a:pt x="34" y="10"/>
                  </a:lnTo>
                  <a:lnTo>
                    <a:pt x="19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57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9160" y="1302120"/>
              <a:ext cx="93960" cy="117360"/>
            </a:xfrm>
            <a:custGeom>
              <a:avLst/>
              <a:gdLst/>
              <a:ahLst/>
              <a:rect l="l" t="t" r="r" b="b"/>
              <a:pathLst>
                <a:path w="218" h="272">
                  <a:moveTo>
                    <a:pt x="5" y="0"/>
                  </a:moveTo>
                  <a:lnTo>
                    <a:pt x="4" y="59"/>
                  </a:lnTo>
                  <a:lnTo>
                    <a:pt x="3" y="116"/>
                  </a:lnTo>
                  <a:lnTo>
                    <a:pt x="1" y="174"/>
                  </a:lnTo>
                  <a:lnTo>
                    <a:pt x="0" y="233"/>
                  </a:lnTo>
                  <a:lnTo>
                    <a:pt x="12" y="238"/>
                  </a:lnTo>
                  <a:lnTo>
                    <a:pt x="24" y="244"/>
                  </a:lnTo>
                  <a:lnTo>
                    <a:pt x="36" y="250"/>
                  </a:lnTo>
                  <a:lnTo>
                    <a:pt x="49" y="255"/>
                  </a:lnTo>
                  <a:lnTo>
                    <a:pt x="63" y="259"/>
                  </a:lnTo>
                  <a:lnTo>
                    <a:pt x="76" y="263"/>
                  </a:lnTo>
                  <a:lnTo>
                    <a:pt x="89" y="266"/>
                  </a:lnTo>
                  <a:lnTo>
                    <a:pt x="103" y="268"/>
                  </a:lnTo>
                  <a:lnTo>
                    <a:pt x="117" y="270"/>
                  </a:lnTo>
                  <a:lnTo>
                    <a:pt x="131" y="271"/>
                  </a:lnTo>
                  <a:lnTo>
                    <a:pt x="145" y="272"/>
                  </a:lnTo>
                  <a:lnTo>
                    <a:pt x="160" y="271"/>
                  </a:lnTo>
                  <a:lnTo>
                    <a:pt x="173" y="270"/>
                  </a:lnTo>
                  <a:lnTo>
                    <a:pt x="188" y="268"/>
                  </a:lnTo>
                  <a:lnTo>
                    <a:pt x="203" y="265"/>
                  </a:lnTo>
                  <a:lnTo>
                    <a:pt x="218" y="261"/>
                  </a:lnTo>
                  <a:lnTo>
                    <a:pt x="217" y="238"/>
                  </a:lnTo>
                  <a:lnTo>
                    <a:pt x="216" y="214"/>
                  </a:lnTo>
                  <a:lnTo>
                    <a:pt x="215" y="190"/>
                  </a:lnTo>
                  <a:lnTo>
                    <a:pt x="214" y="167"/>
                  </a:lnTo>
                  <a:lnTo>
                    <a:pt x="213" y="131"/>
                  </a:lnTo>
                  <a:lnTo>
                    <a:pt x="211" y="96"/>
                  </a:lnTo>
                  <a:lnTo>
                    <a:pt x="210" y="61"/>
                  </a:lnTo>
                  <a:lnTo>
                    <a:pt x="209" y="25"/>
                  </a:lnTo>
                  <a:lnTo>
                    <a:pt x="196" y="28"/>
                  </a:lnTo>
                  <a:lnTo>
                    <a:pt x="185" y="30"/>
                  </a:lnTo>
                  <a:lnTo>
                    <a:pt x="172" y="31"/>
                  </a:lnTo>
                  <a:lnTo>
                    <a:pt x="161" y="32"/>
                  </a:lnTo>
                  <a:lnTo>
                    <a:pt x="148" y="32"/>
                  </a:lnTo>
                  <a:lnTo>
                    <a:pt x="135" y="32"/>
                  </a:lnTo>
                  <a:lnTo>
                    <a:pt x="123" y="31"/>
                  </a:lnTo>
                  <a:lnTo>
                    <a:pt x="111" y="30"/>
                  </a:lnTo>
                  <a:lnTo>
                    <a:pt x="97" y="28"/>
                  </a:lnTo>
                  <a:lnTo>
                    <a:pt x="85" y="25"/>
                  </a:lnTo>
                  <a:lnTo>
                    <a:pt x="72" y="22"/>
                  </a:lnTo>
                  <a:lnTo>
                    <a:pt x="59" y="18"/>
                  </a:lnTo>
                  <a:lnTo>
                    <a:pt x="46" y="15"/>
                  </a:lnTo>
                  <a:lnTo>
                    <a:pt x="33" y="10"/>
                  </a:lnTo>
                  <a:lnTo>
                    <a:pt x="19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6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950960" y="1302840"/>
              <a:ext cx="90000" cy="116640"/>
            </a:xfrm>
            <a:custGeom>
              <a:avLst/>
              <a:gdLst/>
              <a:ahLst/>
              <a:rect l="l" t="t" r="r" b="b"/>
              <a:pathLst>
                <a:path w="209" h="271">
                  <a:moveTo>
                    <a:pt x="6" y="0"/>
                  </a:moveTo>
                  <a:lnTo>
                    <a:pt x="5" y="59"/>
                  </a:lnTo>
                  <a:lnTo>
                    <a:pt x="2" y="118"/>
                  </a:lnTo>
                  <a:lnTo>
                    <a:pt x="1" y="175"/>
                  </a:lnTo>
                  <a:lnTo>
                    <a:pt x="0" y="234"/>
                  </a:lnTo>
                  <a:lnTo>
                    <a:pt x="12" y="240"/>
                  </a:lnTo>
                  <a:lnTo>
                    <a:pt x="23" y="246"/>
                  </a:lnTo>
                  <a:lnTo>
                    <a:pt x="36" y="250"/>
                  </a:lnTo>
                  <a:lnTo>
                    <a:pt x="47" y="255"/>
                  </a:lnTo>
                  <a:lnTo>
                    <a:pt x="60" y="258"/>
                  </a:lnTo>
                  <a:lnTo>
                    <a:pt x="73" y="262"/>
                  </a:lnTo>
                  <a:lnTo>
                    <a:pt x="85" y="265"/>
                  </a:lnTo>
                  <a:lnTo>
                    <a:pt x="99" y="267"/>
                  </a:lnTo>
                  <a:lnTo>
                    <a:pt x="112" y="269"/>
                  </a:lnTo>
                  <a:lnTo>
                    <a:pt x="126" y="270"/>
                  </a:lnTo>
                  <a:lnTo>
                    <a:pt x="138" y="271"/>
                  </a:lnTo>
                  <a:lnTo>
                    <a:pt x="152" y="270"/>
                  </a:lnTo>
                  <a:lnTo>
                    <a:pt x="166" y="269"/>
                  </a:lnTo>
                  <a:lnTo>
                    <a:pt x="180" y="267"/>
                  </a:lnTo>
                  <a:lnTo>
                    <a:pt x="195" y="264"/>
                  </a:lnTo>
                  <a:lnTo>
                    <a:pt x="209" y="260"/>
                  </a:lnTo>
                  <a:lnTo>
                    <a:pt x="207" y="237"/>
                  </a:lnTo>
                  <a:lnTo>
                    <a:pt x="206" y="213"/>
                  </a:lnTo>
                  <a:lnTo>
                    <a:pt x="205" y="190"/>
                  </a:lnTo>
                  <a:lnTo>
                    <a:pt x="204" y="167"/>
                  </a:lnTo>
                  <a:lnTo>
                    <a:pt x="203" y="131"/>
                  </a:lnTo>
                  <a:lnTo>
                    <a:pt x="202" y="96"/>
                  </a:lnTo>
                  <a:lnTo>
                    <a:pt x="200" y="60"/>
                  </a:lnTo>
                  <a:lnTo>
                    <a:pt x="200" y="24"/>
                  </a:lnTo>
                  <a:lnTo>
                    <a:pt x="189" y="27"/>
                  </a:lnTo>
                  <a:lnTo>
                    <a:pt x="177" y="29"/>
                  </a:lnTo>
                  <a:lnTo>
                    <a:pt x="166" y="30"/>
                  </a:lnTo>
                  <a:lnTo>
                    <a:pt x="154" y="31"/>
                  </a:lnTo>
                  <a:lnTo>
                    <a:pt x="142" y="31"/>
                  </a:lnTo>
                  <a:lnTo>
                    <a:pt x="130" y="31"/>
                  </a:lnTo>
                  <a:lnTo>
                    <a:pt x="119" y="30"/>
                  </a:lnTo>
                  <a:lnTo>
                    <a:pt x="107" y="29"/>
                  </a:lnTo>
                  <a:lnTo>
                    <a:pt x="95" y="27"/>
                  </a:lnTo>
                  <a:lnTo>
                    <a:pt x="82" y="24"/>
                  </a:lnTo>
                  <a:lnTo>
                    <a:pt x="70" y="21"/>
                  </a:lnTo>
                  <a:lnTo>
                    <a:pt x="58" y="17"/>
                  </a:lnTo>
                  <a:lnTo>
                    <a:pt x="45" y="14"/>
                  </a:lnTo>
                  <a:lnTo>
                    <a:pt x="32" y="9"/>
                  </a:lnTo>
                  <a:lnTo>
                    <a:pt x="2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52400" y="1303560"/>
              <a:ext cx="85680" cy="115920"/>
            </a:xfrm>
            <a:custGeom>
              <a:avLst/>
              <a:gdLst/>
              <a:ahLst/>
              <a:rect l="l" t="t" r="r" b="b"/>
              <a:pathLst>
                <a:path w="199" h="269">
                  <a:moveTo>
                    <a:pt x="5" y="0"/>
                  </a:moveTo>
                  <a:lnTo>
                    <a:pt x="5" y="59"/>
                  </a:lnTo>
                  <a:lnTo>
                    <a:pt x="3" y="117"/>
                  </a:lnTo>
                  <a:lnTo>
                    <a:pt x="2" y="174"/>
                  </a:lnTo>
                  <a:lnTo>
                    <a:pt x="0" y="233"/>
                  </a:lnTo>
                  <a:lnTo>
                    <a:pt x="10" y="239"/>
                  </a:lnTo>
                  <a:lnTo>
                    <a:pt x="21" y="244"/>
                  </a:lnTo>
                  <a:lnTo>
                    <a:pt x="33" y="248"/>
                  </a:lnTo>
                  <a:lnTo>
                    <a:pt x="44" y="253"/>
                  </a:lnTo>
                  <a:lnTo>
                    <a:pt x="57" y="256"/>
                  </a:lnTo>
                  <a:lnTo>
                    <a:pt x="69" y="260"/>
                  </a:lnTo>
                  <a:lnTo>
                    <a:pt x="81" y="263"/>
                  </a:lnTo>
                  <a:lnTo>
                    <a:pt x="94" y="265"/>
                  </a:lnTo>
                  <a:lnTo>
                    <a:pt x="107" y="267"/>
                  </a:lnTo>
                  <a:lnTo>
                    <a:pt x="119" y="268"/>
                  </a:lnTo>
                  <a:lnTo>
                    <a:pt x="132" y="269"/>
                  </a:lnTo>
                  <a:lnTo>
                    <a:pt x="145" y="269"/>
                  </a:lnTo>
                  <a:lnTo>
                    <a:pt x="158" y="268"/>
                  </a:lnTo>
                  <a:lnTo>
                    <a:pt x="172" y="265"/>
                  </a:lnTo>
                  <a:lnTo>
                    <a:pt x="185" y="263"/>
                  </a:lnTo>
                  <a:lnTo>
                    <a:pt x="199" y="260"/>
                  </a:lnTo>
                  <a:lnTo>
                    <a:pt x="198" y="237"/>
                  </a:lnTo>
                  <a:lnTo>
                    <a:pt x="196" y="212"/>
                  </a:lnTo>
                  <a:lnTo>
                    <a:pt x="195" y="189"/>
                  </a:lnTo>
                  <a:lnTo>
                    <a:pt x="194" y="166"/>
                  </a:lnTo>
                  <a:lnTo>
                    <a:pt x="193" y="131"/>
                  </a:lnTo>
                  <a:lnTo>
                    <a:pt x="192" y="95"/>
                  </a:lnTo>
                  <a:lnTo>
                    <a:pt x="191" y="59"/>
                  </a:lnTo>
                  <a:lnTo>
                    <a:pt x="190" y="23"/>
                  </a:lnTo>
                  <a:lnTo>
                    <a:pt x="179" y="26"/>
                  </a:lnTo>
                  <a:lnTo>
                    <a:pt x="168" y="27"/>
                  </a:lnTo>
                  <a:lnTo>
                    <a:pt x="157" y="28"/>
                  </a:lnTo>
                  <a:lnTo>
                    <a:pt x="147" y="29"/>
                  </a:lnTo>
                  <a:lnTo>
                    <a:pt x="135" y="29"/>
                  </a:lnTo>
                  <a:lnTo>
                    <a:pt x="125" y="29"/>
                  </a:lnTo>
                  <a:lnTo>
                    <a:pt x="115" y="28"/>
                  </a:lnTo>
                  <a:lnTo>
                    <a:pt x="103" y="27"/>
                  </a:lnTo>
                  <a:lnTo>
                    <a:pt x="92" y="25"/>
                  </a:lnTo>
                  <a:lnTo>
                    <a:pt x="80" y="22"/>
                  </a:lnTo>
                  <a:lnTo>
                    <a:pt x="69" y="20"/>
                  </a:lnTo>
                  <a:lnTo>
                    <a:pt x="57" y="17"/>
                  </a:lnTo>
                  <a:lnTo>
                    <a:pt x="44" y="13"/>
                  </a:lnTo>
                  <a:lnTo>
                    <a:pt x="32" y="10"/>
                  </a:lnTo>
                  <a:lnTo>
                    <a:pt x="19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5280" y="1304640"/>
              <a:ext cx="81360" cy="114840"/>
            </a:xfrm>
            <a:custGeom>
              <a:avLst/>
              <a:gdLst/>
              <a:ahLst/>
              <a:rect l="l" t="t" r="r" b="b"/>
              <a:pathLst>
                <a:path w="188" h="267">
                  <a:moveTo>
                    <a:pt x="5" y="0"/>
                  </a:moveTo>
                  <a:lnTo>
                    <a:pt x="4" y="58"/>
                  </a:lnTo>
                  <a:lnTo>
                    <a:pt x="3" y="116"/>
                  </a:lnTo>
                  <a:lnTo>
                    <a:pt x="1" y="175"/>
                  </a:lnTo>
                  <a:lnTo>
                    <a:pt x="0" y="233"/>
                  </a:lnTo>
                  <a:lnTo>
                    <a:pt x="11" y="238"/>
                  </a:lnTo>
                  <a:lnTo>
                    <a:pt x="21" y="243"/>
                  </a:lnTo>
                  <a:lnTo>
                    <a:pt x="31" y="247"/>
                  </a:lnTo>
                  <a:lnTo>
                    <a:pt x="43" y="252"/>
                  </a:lnTo>
                  <a:lnTo>
                    <a:pt x="53" y="255"/>
                  </a:lnTo>
                  <a:lnTo>
                    <a:pt x="65" y="259"/>
                  </a:lnTo>
                  <a:lnTo>
                    <a:pt x="76" y="261"/>
                  </a:lnTo>
                  <a:lnTo>
                    <a:pt x="89" y="263"/>
                  </a:lnTo>
                  <a:lnTo>
                    <a:pt x="101" y="266"/>
                  </a:lnTo>
                  <a:lnTo>
                    <a:pt x="113" y="267"/>
                  </a:lnTo>
                  <a:lnTo>
                    <a:pt x="125" y="267"/>
                  </a:lnTo>
                  <a:lnTo>
                    <a:pt x="137" y="267"/>
                  </a:lnTo>
                  <a:lnTo>
                    <a:pt x="150" y="266"/>
                  </a:lnTo>
                  <a:lnTo>
                    <a:pt x="163" y="265"/>
                  </a:lnTo>
                  <a:lnTo>
                    <a:pt x="175" y="262"/>
                  </a:lnTo>
                  <a:lnTo>
                    <a:pt x="188" y="259"/>
                  </a:lnTo>
                  <a:lnTo>
                    <a:pt x="187" y="235"/>
                  </a:lnTo>
                  <a:lnTo>
                    <a:pt x="186" y="212"/>
                  </a:lnTo>
                  <a:lnTo>
                    <a:pt x="185" y="187"/>
                  </a:lnTo>
                  <a:lnTo>
                    <a:pt x="183" y="164"/>
                  </a:lnTo>
                  <a:lnTo>
                    <a:pt x="182" y="129"/>
                  </a:lnTo>
                  <a:lnTo>
                    <a:pt x="181" y="93"/>
                  </a:lnTo>
                  <a:lnTo>
                    <a:pt x="180" y="57"/>
                  </a:lnTo>
                  <a:lnTo>
                    <a:pt x="179" y="21"/>
                  </a:lnTo>
                  <a:lnTo>
                    <a:pt x="158" y="25"/>
                  </a:lnTo>
                  <a:lnTo>
                    <a:pt x="139" y="27"/>
                  </a:lnTo>
                  <a:lnTo>
                    <a:pt x="118" y="26"/>
                  </a:lnTo>
                  <a:lnTo>
                    <a:pt x="97" y="24"/>
                  </a:lnTo>
                  <a:lnTo>
                    <a:pt x="76" y="20"/>
                  </a:lnTo>
                  <a:lnTo>
                    <a:pt x="53" y="15"/>
                  </a:lnTo>
                  <a:lnTo>
                    <a:pt x="30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56000" y="1304640"/>
              <a:ext cx="77760" cy="114840"/>
            </a:xfrm>
            <a:custGeom>
              <a:avLst/>
              <a:gdLst/>
              <a:ahLst/>
              <a:rect l="l" t="t" r="r" b="b"/>
              <a:pathLst>
                <a:path w="179" h="266">
                  <a:moveTo>
                    <a:pt x="7" y="0"/>
                  </a:moveTo>
                  <a:lnTo>
                    <a:pt x="5" y="58"/>
                  </a:lnTo>
                  <a:lnTo>
                    <a:pt x="3" y="117"/>
                  </a:lnTo>
                  <a:lnTo>
                    <a:pt x="2" y="175"/>
                  </a:lnTo>
                  <a:lnTo>
                    <a:pt x="0" y="234"/>
                  </a:lnTo>
                  <a:lnTo>
                    <a:pt x="19" y="243"/>
                  </a:lnTo>
                  <a:lnTo>
                    <a:pt x="40" y="251"/>
                  </a:lnTo>
                  <a:lnTo>
                    <a:pt x="62" y="257"/>
                  </a:lnTo>
                  <a:lnTo>
                    <a:pt x="85" y="262"/>
                  </a:lnTo>
                  <a:lnTo>
                    <a:pt x="108" y="265"/>
                  </a:lnTo>
                  <a:lnTo>
                    <a:pt x="132" y="266"/>
                  </a:lnTo>
                  <a:lnTo>
                    <a:pt x="155" y="264"/>
                  </a:lnTo>
                  <a:lnTo>
                    <a:pt x="179" y="258"/>
                  </a:lnTo>
                  <a:lnTo>
                    <a:pt x="178" y="235"/>
                  </a:lnTo>
                  <a:lnTo>
                    <a:pt x="177" y="211"/>
                  </a:lnTo>
                  <a:lnTo>
                    <a:pt x="176" y="188"/>
                  </a:lnTo>
                  <a:lnTo>
                    <a:pt x="175" y="164"/>
                  </a:lnTo>
                  <a:lnTo>
                    <a:pt x="174" y="129"/>
                  </a:lnTo>
                  <a:lnTo>
                    <a:pt x="172" y="93"/>
                  </a:lnTo>
                  <a:lnTo>
                    <a:pt x="171" y="57"/>
                  </a:lnTo>
                  <a:lnTo>
                    <a:pt x="170" y="20"/>
                  </a:lnTo>
                  <a:lnTo>
                    <a:pt x="152" y="24"/>
                  </a:lnTo>
                  <a:lnTo>
                    <a:pt x="132" y="26"/>
                  </a:lnTo>
                  <a:lnTo>
                    <a:pt x="114" y="25"/>
                  </a:lnTo>
                  <a:lnTo>
                    <a:pt x="94" y="24"/>
                  </a:lnTo>
                  <a:lnTo>
                    <a:pt x="74" y="19"/>
                  </a:lnTo>
                  <a:lnTo>
                    <a:pt x="53" y="15"/>
                  </a:lnTo>
                  <a:lnTo>
                    <a:pt x="3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957800" y="1306440"/>
              <a:ext cx="73080" cy="113040"/>
            </a:xfrm>
            <a:custGeom>
              <a:avLst/>
              <a:gdLst/>
              <a:ahLst/>
              <a:rect l="l" t="t" r="r" b="b"/>
              <a:pathLst>
                <a:path w="170" h="264">
                  <a:moveTo>
                    <a:pt x="7" y="0"/>
                  </a:moveTo>
                  <a:lnTo>
                    <a:pt x="6" y="59"/>
                  </a:lnTo>
                  <a:lnTo>
                    <a:pt x="4" y="116"/>
                  </a:lnTo>
                  <a:lnTo>
                    <a:pt x="3" y="174"/>
                  </a:lnTo>
                  <a:lnTo>
                    <a:pt x="0" y="233"/>
                  </a:lnTo>
                  <a:lnTo>
                    <a:pt x="19" y="241"/>
                  </a:lnTo>
                  <a:lnTo>
                    <a:pt x="38" y="249"/>
                  </a:lnTo>
                  <a:lnTo>
                    <a:pt x="59" y="255"/>
                  </a:lnTo>
                  <a:lnTo>
                    <a:pt x="80" y="260"/>
                  </a:lnTo>
                  <a:lnTo>
                    <a:pt x="102" y="263"/>
                  </a:lnTo>
                  <a:lnTo>
                    <a:pt x="125" y="264"/>
                  </a:lnTo>
                  <a:lnTo>
                    <a:pt x="146" y="262"/>
                  </a:lnTo>
                  <a:lnTo>
                    <a:pt x="170" y="257"/>
                  </a:lnTo>
                  <a:lnTo>
                    <a:pt x="168" y="234"/>
                  </a:lnTo>
                  <a:lnTo>
                    <a:pt x="167" y="210"/>
                  </a:lnTo>
                  <a:lnTo>
                    <a:pt x="166" y="187"/>
                  </a:lnTo>
                  <a:lnTo>
                    <a:pt x="165" y="162"/>
                  </a:lnTo>
                  <a:lnTo>
                    <a:pt x="164" y="127"/>
                  </a:lnTo>
                  <a:lnTo>
                    <a:pt x="163" y="91"/>
                  </a:lnTo>
                  <a:lnTo>
                    <a:pt x="161" y="55"/>
                  </a:lnTo>
                  <a:lnTo>
                    <a:pt x="161" y="20"/>
                  </a:lnTo>
                  <a:lnTo>
                    <a:pt x="143" y="23"/>
                  </a:lnTo>
                  <a:lnTo>
                    <a:pt x="126" y="24"/>
                  </a:lnTo>
                  <a:lnTo>
                    <a:pt x="108" y="23"/>
                  </a:lnTo>
                  <a:lnTo>
                    <a:pt x="90" y="22"/>
                  </a:lnTo>
                  <a:lnTo>
                    <a:pt x="72" y="18"/>
                  </a:lnTo>
                  <a:lnTo>
                    <a:pt x="52" y="14"/>
                  </a:lnTo>
                  <a:lnTo>
                    <a:pt x="3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59600" y="1306440"/>
              <a:ext cx="69120" cy="113040"/>
            </a:xfrm>
            <a:custGeom>
              <a:avLst/>
              <a:gdLst/>
              <a:ahLst/>
              <a:rect l="l" t="t" r="r" b="b"/>
              <a:pathLst>
                <a:path w="160" h="263">
                  <a:moveTo>
                    <a:pt x="8" y="0"/>
                  </a:moveTo>
                  <a:lnTo>
                    <a:pt x="5" y="59"/>
                  </a:lnTo>
                  <a:lnTo>
                    <a:pt x="4" y="117"/>
                  </a:lnTo>
                  <a:lnTo>
                    <a:pt x="2" y="175"/>
                  </a:lnTo>
                  <a:lnTo>
                    <a:pt x="0" y="234"/>
                  </a:lnTo>
                  <a:lnTo>
                    <a:pt x="17" y="241"/>
                  </a:lnTo>
                  <a:lnTo>
                    <a:pt x="35" y="248"/>
                  </a:lnTo>
                  <a:lnTo>
                    <a:pt x="55" y="254"/>
                  </a:lnTo>
                  <a:lnTo>
                    <a:pt x="76" y="258"/>
                  </a:lnTo>
                  <a:lnTo>
                    <a:pt x="96" y="262"/>
                  </a:lnTo>
                  <a:lnTo>
                    <a:pt x="117" y="263"/>
                  </a:lnTo>
                  <a:lnTo>
                    <a:pt x="139" y="261"/>
                  </a:lnTo>
                  <a:lnTo>
                    <a:pt x="160" y="256"/>
                  </a:lnTo>
                  <a:lnTo>
                    <a:pt x="159" y="233"/>
                  </a:lnTo>
                  <a:lnTo>
                    <a:pt x="159" y="209"/>
                  </a:lnTo>
                  <a:lnTo>
                    <a:pt x="157" y="186"/>
                  </a:lnTo>
                  <a:lnTo>
                    <a:pt x="156" y="163"/>
                  </a:lnTo>
                  <a:lnTo>
                    <a:pt x="155" y="127"/>
                  </a:lnTo>
                  <a:lnTo>
                    <a:pt x="154" y="91"/>
                  </a:lnTo>
                  <a:lnTo>
                    <a:pt x="152" y="55"/>
                  </a:lnTo>
                  <a:lnTo>
                    <a:pt x="151" y="19"/>
                  </a:lnTo>
                  <a:lnTo>
                    <a:pt x="134" y="21"/>
                  </a:lnTo>
                  <a:lnTo>
                    <a:pt x="119" y="22"/>
                  </a:lnTo>
                  <a:lnTo>
                    <a:pt x="103" y="22"/>
                  </a:lnTo>
                  <a:lnTo>
                    <a:pt x="86" y="20"/>
                  </a:lnTo>
                  <a:lnTo>
                    <a:pt x="69" y="17"/>
                  </a:lnTo>
                  <a:lnTo>
                    <a:pt x="50" y="13"/>
                  </a:lnTo>
                  <a:lnTo>
                    <a:pt x="30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9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61040" y="1307160"/>
              <a:ext cx="65520" cy="112320"/>
            </a:xfrm>
            <a:custGeom>
              <a:avLst/>
              <a:gdLst/>
              <a:ahLst/>
              <a:rect l="l" t="t" r="r" b="b"/>
              <a:pathLst>
                <a:path w="151" h="262">
                  <a:moveTo>
                    <a:pt x="10" y="0"/>
                  </a:moveTo>
                  <a:lnTo>
                    <a:pt x="7" y="59"/>
                  </a:lnTo>
                  <a:lnTo>
                    <a:pt x="5" y="117"/>
                  </a:lnTo>
                  <a:lnTo>
                    <a:pt x="3" y="175"/>
                  </a:lnTo>
                  <a:lnTo>
                    <a:pt x="0" y="234"/>
                  </a:lnTo>
                  <a:lnTo>
                    <a:pt x="16" y="241"/>
                  </a:lnTo>
                  <a:lnTo>
                    <a:pt x="34" y="247"/>
                  </a:lnTo>
                  <a:lnTo>
                    <a:pt x="52" y="254"/>
                  </a:lnTo>
                  <a:lnTo>
                    <a:pt x="72" y="258"/>
                  </a:lnTo>
                  <a:lnTo>
                    <a:pt x="91" y="262"/>
                  </a:lnTo>
                  <a:lnTo>
                    <a:pt x="111" y="262"/>
                  </a:lnTo>
                  <a:lnTo>
                    <a:pt x="132" y="261"/>
                  </a:lnTo>
                  <a:lnTo>
                    <a:pt x="151" y="256"/>
                  </a:lnTo>
                  <a:lnTo>
                    <a:pt x="150" y="233"/>
                  </a:lnTo>
                  <a:lnTo>
                    <a:pt x="149" y="209"/>
                  </a:lnTo>
                  <a:lnTo>
                    <a:pt x="147" y="186"/>
                  </a:lnTo>
                  <a:lnTo>
                    <a:pt x="145" y="163"/>
                  </a:lnTo>
                  <a:lnTo>
                    <a:pt x="144" y="126"/>
                  </a:lnTo>
                  <a:lnTo>
                    <a:pt x="143" y="90"/>
                  </a:lnTo>
                  <a:lnTo>
                    <a:pt x="142" y="54"/>
                  </a:lnTo>
                  <a:lnTo>
                    <a:pt x="141" y="19"/>
                  </a:lnTo>
                  <a:lnTo>
                    <a:pt x="126" y="21"/>
                  </a:lnTo>
                  <a:lnTo>
                    <a:pt x="112" y="22"/>
                  </a:lnTo>
                  <a:lnTo>
                    <a:pt x="97" y="21"/>
                  </a:lnTo>
                  <a:lnTo>
                    <a:pt x="82" y="20"/>
                  </a:lnTo>
                  <a:lnTo>
                    <a:pt x="67" y="16"/>
                  </a:lnTo>
                  <a:lnTo>
                    <a:pt x="50" y="12"/>
                  </a:lnTo>
                  <a:lnTo>
                    <a:pt x="3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44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62840" y="1307160"/>
              <a:ext cx="60480" cy="113040"/>
            </a:xfrm>
            <a:custGeom>
              <a:avLst/>
              <a:gdLst/>
              <a:ahLst/>
              <a:rect l="l" t="t" r="r" b="b"/>
              <a:pathLst>
                <a:path w="140" h="262">
                  <a:moveTo>
                    <a:pt x="9" y="0"/>
                  </a:moveTo>
                  <a:lnTo>
                    <a:pt x="7" y="59"/>
                  </a:lnTo>
                  <a:lnTo>
                    <a:pt x="6" y="118"/>
                  </a:lnTo>
                  <a:lnTo>
                    <a:pt x="3" y="177"/>
                  </a:lnTo>
                  <a:lnTo>
                    <a:pt x="0" y="236"/>
                  </a:lnTo>
                  <a:lnTo>
                    <a:pt x="15" y="241"/>
                  </a:lnTo>
                  <a:lnTo>
                    <a:pt x="31" y="247"/>
                  </a:lnTo>
                  <a:lnTo>
                    <a:pt x="48" y="253"/>
                  </a:lnTo>
                  <a:lnTo>
                    <a:pt x="67" y="257"/>
                  </a:lnTo>
                  <a:lnTo>
                    <a:pt x="85" y="261"/>
                  </a:lnTo>
                  <a:lnTo>
                    <a:pt x="103" y="262"/>
                  </a:lnTo>
                  <a:lnTo>
                    <a:pt x="122" y="261"/>
                  </a:lnTo>
                  <a:lnTo>
                    <a:pt x="140" y="256"/>
                  </a:lnTo>
                  <a:lnTo>
                    <a:pt x="139" y="233"/>
                  </a:lnTo>
                  <a:lnTo>
                    <a:pt x="138" y="209"/>
                  </a:lnTo>
                  <a:lnTo>
                    <a:pt x="137" y="185"/>
                  </a:lnTo>
                  <a:lnTo>
                    <a:pt x="136" y="162"/>
                  </a:lnTo>
                  <a:lnTo>
                    <a:pt x="134" y="126"/>
                  </a:lnTo>
                  <a:lnTo>
                    <a:pt x="133" y="90"/>
                  </a:lnTo>
                  <a:lnTo>
                    <a:pt x="132" y="55"/>
                  </a:lnTo>
                  <a:lnTo>
                    <a:pt x="131" y="18"/>
                  </a:lnTo>
                  <a:lnTo>
                    <a:pt x="118" y="20"/>
                  </a:lnTo>
                  <a:lnTo>
                    <a:pt x="105" y="20"/>
                  </a:lnTo>
                  <a:lnTo>
                    <a:pt x="92" y="20"/>
                  </a:lnTo>
                  <a:lnTo>
                    <a:pt x="78" y="18"/>
                  </a:lnTo>
                  <a:lnTo>
                    <a:pt x="63" y="15"/>
                  </a:lnTo>
                  <a:lnTo>
                    <a:pt x="47" y="12"/>
                  </a:lnTo>
                  <a:lnTo>
                    <a:pt x="3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65360" y="1307880"/>
              <a:ext cx="55440" cy="112320"/>
            </a:xfrm>
            <a:custGeom>
              <a:avLst/>
              <a:gdLst/>
              <a:ahLst/>
              <a:rect l="l" t="t" r="r" b="b"/>
              <a:pathLst>
                <a:path w="128" h="259">
                  <a:moveTo>
                    <a:pt x="8" y="0"/>
                  </a:moveTo>
                  <a:lnTo>
                    <a:pt x="5" y="59"/>
                  </a:lnTo>
                  <a:lnTo>
                    <a:pt x="3" y="116"/>
                  </a:lnTo>
                  <a:lnTo>
                    <a:pt x="2" y="175"/>
                  </a:lnTo>
                  <a:lnTo>
                    <a:pt x="0" y="234"/>
                  </a:lnTo>
                  <a:lnTo>
                    <a:pt x="12" y="238"/>
                  </a:lnTo>
                  <a:lnTo>
                    <a:pt x="27" y="244"/>
                  </a:lnTo>
                  <a:lnTo>
                    <a:pt x="43" y="249"/>
                  </a:lnTo>
                  <a:lnTo>
                    <a:pt x="61" y="253"/>
                  </a:lnTo>
                  <a:lnTo>
                    <a:pt x="78" y="257"/>
                  </a:lnTo>
                  <a:lnTo>
                    <a:pt x="95" y="259"/>
                  </a:lnTo>
                  <a:lnTo>
                    <a:pt x="112" y="258"/>
                  </a:lnTo>
                  <a:lnTo>
                    <a:pt x="128" y="253"/>
                  </a:lnTo>
                  <a:lnTo>
                    <a:pt x="127" y="230"/>
                  </a:lnTo>
                  <a:lnTo>
                    <a:pt x="126" y="206"/>
                  </a:lnTo>
                  <a:lnTo>
                    <a:pt x="125" y="183"/>
                  </a:lnTo>
                  <a:lnTo>
                    <a:pt x="124" y="160"/>
                  </a:lnTo>
                  <a:lnTo>
                    <a:pt x="123" y="123"/>
                  </a:lnTo>
                  <a:lnTo>
                    <a:pt x="122" y="87"/>
                  </a:lnTo>
                  <a:lnTo>
                    <a:pt x="120" y="52"/>
                  </a:lnTo>
                  <a:lnTo>
                    <a:pt x="119" y="16"/>
                  </a:lnTo>
                  <a:lnTo>
                    <a:pt x="108" y="17"/>
                  </a:lnTo>
                  <a:lnTo>
                    <a:pt x="96" y="18"/>
                  </a:lnTo>
                  <a:lnTo>
                    <a:pt x="85" y="17"/>
                  </a:lnTo>
                  <a:lnTo>
                    <a:pt x="72" y="16"/>
                  </a:lnTo>
                  <a:lnTo>
                    <a:pt x="58" y="12"/>
                  </a:lnTo>
                  <a:lnTo>
                    <a:pt x="43" y="9"/>
                  </a:lnTo>
                  <a:lnTo>
                    <a:pt x="2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66440" y="1308960"/>
              <a:ext cx="51480" cy="111600"/>
            </a:xfrm>
            <a:custGeom>
              <a:avLst/>
              <a:gdLst/>
              <a:ahLst/>
              <a:rect l="l" t="t" r="r" b="b"/>
              <a:pathLst>
                <a:path w="121" h="258">
                  <a:moveTo>
                    <a:pt x="10" y="0"/>
                  </a:moveTo>
                  <a:lnTo>
                    <a:pt x="0" y="235"/>
                  </a:lnTo>
                  <a:lnTo>
                    <a:pt x="12" y="240"/>
                  </a:lnTo>
                  <a:lnTo>
                    <a:pt x="26" y="244"/>
                  </a:lnTo>
                  <a:lnTo>
                    <a:pt x="41" y="249"/>
                  </a:lnTo>
                  <a:lnTo>
                    <a:pt x="57" y="253"/>
                  </a:lnTo>
                  <a:lnTo>
                    <a:pt x="74" y="257"/>
                  </a:lnTo>
                  <a:lnTo>
                    <a:pt x="90" y="258"/>
                  </a:lnTo>
                  <a:lnTo>
                    <a:pt x="106" y="257"/>
                  </a:lnTo>
                  <a:lnTo>
                    <a:pt x="121" y="253"/>
                  </a:lnTo>
                  <a:lnTo>
                    <a:pt x="117" y="160"/>
                  </a:lnTo>
                  <a:lnTo>
                    <a:pt x="112" y="15"/>
                  </a:lnTo>
                  <a:lnTo>
                    <a:pt x="101" y="16"/>
                  </a:lnTo>
                  <a:lnTo>
                    <a:pt x="91" y="16"/>
                  </a:lnTo>
                  <a:lnTo>
                    <a:pt x="80" y="16"/>
                  </a:lnTo>
                  <a:lnTo>
                    <a:pt x="70" y="14"/>
                  </a:lnTo>
                  <a:lnTo>
                    <a:pt x="57" y="11"/>
                  </a:lnTo>
                  <a:lnTo>
                    <a:pt x="45" y="9"/>
                  </a:lnTo>
                  <a:lnTo>
                    <a:pt x="2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033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877520" y="1343520"/>
              <a:ext cx="340560" cy="84600"/>
            </a:xfrm>
            <a:custGeom>
              <a:avLst/>
              <a:gdLst/>
              <a:ahLst/>
              <a:rect l="l" t="t" r="r" b="b"/>
              <a:pathLst>
                <a:path w="788" h="197">
                  <a:moveTo>
                    <a:pt x="33" y="38"/>
                  </a:moveTo>
                  <a:lnTo>
                    <a:pt x="131" y="120"/>
                  </a:lnTo>
                  <a:lnTo>
                    <a:pt x="206" y="148"/>
                  </a:lnTo>
                  <a:lnTo>
                    <a:pt x="276" y="170"/>
                  </a:lnTo>
                  <a:lnTo>
                    <a:pt x="374" y="164"/>
                  </a:lnTo>
                  <a:lnTo>
                    <a:pt x="514" y="136"/>
                  </a:lnTo>
                  <a:lnTo>
                    <a:pt x="623" y="126"/>
                  </a:lnTo>
                  <a:lnTo>
                    <a:pt x="645" y="123"/>
                  </a:lnTo>
                  <a:lnTo>
                    <a:pt x="666" y="119"/>
                  </a:lnTo>
                  <a:lnTo>
                    <a:pt x="687" y="116"/>
                  </a:lnTo>
                  <a:lnTo>
                    <a:pt x="708" y="111"/>
                  </a:lnTo>
                  <a:lnTo>
                    <a:pt x="727" y="106"/>
                  </a:lnTo>
                  <a:lnTo>
                    <a:pt x="748" y="101"/>
                  </a:lnTo>
                  <a:lnTo>
                    <a:pt x="768" y="95"/>
                  </a:lnTo>
                  <a:lnTo>
                    <a:pt x="788" y="88"/>
                  </a:lnTo>
                  <a:lnTo>
                    <a:pt x="783" y="96"/>
                  </a:lnTo>
                  <a:lnTo>
                    <a:pt x="773" y="105"/>
                  </a:lnTo>
                  <a:lnTo>
                    <a:pt x="761" y="113"/>
                  </a:lnTo>
                  <a:lnTo>
                    <a:pt x="746" y="123"/>
                  </a:lnTo>
                  <a:lnTo>
                    <a:pt x="727" y="131"/>
                  </a:lnTo>
                  <a:lnTo>
                    <a:pt x="707" y="138"/>
                  </a:lnTo>
                  <a:lnTo>
                    <a:pt x="683" y="143"/>
                  </a:lnTo>
                  <a:lnTo>
                    <a:pt x="656" y="148"/>
                  </a:lnTo>
                  <a:lnTo>
                    <a:pt x="510" y="164"/>
                  </a:lnTo>
                  <a:lnTo>
                    <a:pt x="336" y="197"/>
                  </a:lnTo>
                  <a:lnTo>
                    <a:pt x="206" y="197"/>
                  </a:lnTo>
                  <a:lnTo>
                    <a:pt x="119" y="154"/>
                  </a:lnTo>
                  <a:lnTo>
                    <a:pt x="65" y="98"/>
                  </a:lnTo>
                  <a:lnTo>
                    <a:pt x="0" y="0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752960" y="1591920"/>
              <a:ext cx="116640" cy="165960"/>
            </a:xfrm>
            <a:custGeom>
              <a:avLst/>
              <a:gdLst/>
              <a:ahLst/>
              <a:rect l="l" t="t" r="r" b="b"/>
              <a:pathLst>
                <a:path w="269" h="385">
                  <a:moveTo>
                    <a:pt x="236" y="9"/>
                  </a:moveTo>
                  <a:lnTo>
                    <a:pt x="236" y="9"/>
                  </a:lnTo>
                  <a:lnTo>
                    <a:pt x="249" y="20"/>
                  </a:lnTo>
                  <a:lnTo>
                    <a:pt x="258" y="34"/>
                  </a:lnTo>
                  <a:lnTo>
                    <a:pt x="265" y="51"/>
                  </a:lnTo>
                  <a:lnTo>
                    <a:pt x="268" y="69"/>
                  </a:lnTo>
                  <a:lnTo>
                    <a:pt x="269" y="89"/>
                  </a:lnTo>
                  <a:lnTo>
                    <a:pt x="267" y="108"/>
                  </a:lnTo>
                  <a:lnTo>
                    <a:pt x="261" y="129"/>
                  </a:lnTo>
                  <a:lnTo>
                    <a:pt x="252" y="150"/>
                  </a:lnTo>
                  <a:lnTo>
                    <a:pt x="155" y="324"/>
                  </a:lnTo>
                  <a:lnTo>
                    <a:pt x="143" y="342"/>
                  </a:lnTo>
                  <a:lnTo>
                    <a:pt x="129" y="357"/>
                  </a:lnTo>
                  <a:lnTo>
                    <a:pt x="114" y="370"/>
                  </a:lnTo>
                  <a:lnTo>
                    <a:pt x="98" y="379"/>
                  </a:lnTo>
                  <a:lnTo>
                    <a:pt x="80" y="384"/>
                  </a:lnTo>
                  <a:lnTo>
                    <a:pt x="64" y="385"/>
                  </a:lnTo>
                  <a:lnTo>
                    <a:pt x="48" y="383"/>
                  </a:lnTo>
                  <a:lnTo>
                    <a:pt x="33" y="376"/>
                  </a:lnTo>
                  <a:lnTo>
                    <a:pt x="33" y="376"/>
                  </a:lnTo>
                  <a:lnTo>
                    <a:pt x="21" y="365"/>
                  </a:lnTo>
                  <a:lnTo>
                    <a:pt x="10" y="352"/>
                  </a:lnTo>
                  <a:lnTo>
                    <a:pt x="3" y="334"/>
                  </a:lnTo>
                  <a:lnTo>
                    <a:pt x="0" y="316"/>
                  </a:lnTo>
                  <a:lnTo>
                    <a:pt x="0" y="296"/>
                  </a:lnTo>
                  <a:lnTo>
                    <a:pt x="2" y="277"/>
                  </a:lnTo>
                  <a:lnTo>
                    <a:pt x="8" y="256"/>
                  </a:lnTo>
                  <a:lnTo>
                    <a:pt x="17" y="235"/>
                  </a:lnTo>
                  <a:lnTo>
                    <a:pt x="114" y="61"/>
                  </a:lnTo>
                  <a:lnTo>
                    <a:pt x="125" y="43"/>
                  </a:lnTo>
                  <a:lnTo>
                    <a:pt x="139" y="28"/>
                  </a:lnTo>
                  <a:lnTo>
                    <a:pt x="155" y="15"/>
                  </a:lnTo>
                  <a:lnTo>
                    <a:pt x="171" y="6"/>
                  </a:lnTo>
                  <a:lnTo>
                    <a:pt x="189" y="1"/>
                  </a:lnTo>
                  <a:lnTo>
                    <a:pt x="205" y="0"/>
                  </a:lnTo>
                  <a:lnTo>
                    <a:pt x="221" y="2"/>
                  </a:lnTo>
                  <a:lnTo>
                    <a:pt x="236" y="9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60520" y="1611720"/>
              <a:ext cx="105480" cy="151200"/>
            </a:xfrm>
            <a:custGeom>
              <a:avLst/>
              <a:gdLst/>
              <a:ahLst/>
              <a:rect l="l" t="t" r="r" b="b"/>
              <a:pathLst>
                <a:path w="244" h="352">
                  <a:moveTo>
                    <a:pt x="214" y="9"/>
                  </a:moveTo>
                  <a:lnTo>
                    <a:pt x="214" y="9"/>
                  </a:lnTo>
                  <a:lnTo>
                    <a:pt x="226" y="20"/>
                  </a:lnTo>
                  <a:lnTo>
                    <a:pt x="235" y="31"/>
                  </a:lnTo>
                  <a:lnTo>
                    <a:pt x="241" y="46"/>
                  </a:lnTo>
                  <a:lnTo>
                    <a:pt x="244" y="64"/>
                  </a:lnTo>
                  <a:lnTo>
                    <a:pt x="244" y="81"/>
                  </a:lnTo>
                  <a:lnTo>
                    <a:pt x="242" y="100"/>
                  </a:lnTo>
                  <a:lnTo>
                    <a:pt x="236" y="119"/>
                  </a:lnTo>
                  <a:lnTo>
                    <a:pt x="228" y="137"/>
                  </a:lnTo>
                  <a:lnTo>
                    <a:pt x="141" y="295"/>
                  </a:lnTo>
                  <a:lnTo>
                    <a:pt x="130" y="312"/>
                  </a:lnTo>
                  <a:lnTo>
                    <a:pt x="118" y="326"/>
                  </a:lnTo>
                  <a:lnTo>
                    <a:pt x="103" y="337"/>
                  </a:lnTo>
                  <a:lnTo>
                    <a:pt x="89" y="345"/>
                  </a:lnTo>
                  <a:lnTo>
                    <a:pt x="73" y="349"/>
                  </a:lnTo>
                  <a:lnTo>
                    <a:pt x="58" y="352"/>
                  </a:lnTo>
                  <a:lnTo>
                    <a:pt x="44" y="348"/>
                  </a:lnTo>
                  <a:lnTo>
                    <a:pt x="30" y="342"/>
                  </a:lnTo>
                  <a:lnTo>
                    <a:pt x="30" y="342"/>
                  </a:lnTo>
                  <a:lnTo>
                    <a:pt x="19" y="332"/>
                  </a:lnTo>
                  <a:lnTo>
                    <a:pt x="9" y="321"/>
                  </a:lnTo>
                  <a:lnTo>
                    <a:pt x="4" y="306"/>
                  </a:lnTo>
                  <a:lnTo>
                    <a:pt x="0" y="288"/>
                  </a:lnTo>
                  <a:lnTo>
                    <a:pt x="0" y="271"/>
                  </a:lnTo>
                  <a:lnTo>
                    <a:pt x="3" y="251"/>
                  </a:lnTo>
                  <a:lnTo>
                    <a:pt x="8" y="233"/>
                  </a:lnTo>
                  <a:lnTo>
                    <a:pt x="16" y="215"/>
                  </a:lnTo>
                  <a:lnTo>
                    <a:pt x="104" y="57"/>
                  </a:lnTo>
                  <a:lnTo>
                    <a:pt x="114" y="39"/>
                  </a:lnTo>
                  <a:lnTo>
                    <a:pt x="127" y="26"/>
                  </a:lnTo>
                  <a:lnTo>
                    <a:pt x="142" y="15"/>
                  </a:lnTo>
                  <a:lnTo>
                    <a:pt x="156" y="7"/>
                  </a:lnTo>
                  <a:lnTo>
                    <a:pt x="172" y="3"/>
                  </a:lnTo>
                  <a:lnTo>
                    <a:pt x="187" y="0"/>
                  </a:lnTo>
                  <a:lnTo>
                    <a:pt x="201" y="4"/>
                  </a:lnTo>
                  <a:lnTo>
                    <a:pt x="214" y="9"/>
                  </a:lnTo>
                  <a:close/>
                </a:path>
              </a:pathLst>
            </a:custGeom>
            <a:solidFill>
              <a:srgbClr val="8e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80680" y="1667880"/>
              <a:ext cx="61200" cy="42840"/>
            </a:xfrm>
            <a:custGeom>
              <a:avLst/>
              <a:gdLst/>
              <a:ahLst/>
              <a:rect l="l" t="t" r="r" b="b"/>
              <a:pathLst>
                <a:path w="143" h="102">
                  <a:moveTo>
                    <a:pt x="19" y="0"/>
                  </a:moveTo>
                  <a:lnTo>
                    <a:pt x="143" y="80"/>
                  </a:lnTo>
                  <a:lnTo>
                    <a:pt x="129" y="102"/>
                  </a:lnTo>
                  <a:lnTo>
                    <a:pt x="0" y="3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03720" y="1611720"/>
              <a:ext cx="66240" cy="143280"/>
            </a:xfrm>
            <a:custGeom>
              <a:avLst/>
              <a:gdLst/>
              <a:ahLst/>
              <a:rect l="l" t="t" r="r" b="b"/>
              <a:pathLst>
                <a:path w="154" h="333">
                  <a:moveTo>
                    <a:pt x="149" y="0"/>
                  </a:moveTo>
                  <a:lnTo>
                    <a:pt x="154" y="30"/>
                  </a:lnTo>
                  <a:lnTo>
                    <a:pt x="154" y="54"/>
                  </a:lnTo>
                  <a:lnTo>
                    <a:pt x="149" y="79"/>
                  </a:lnTo>
                  <a:lnTo>
                    <a:pt x="142" y="112"/>
                  </a:lnTo>
                  <a:lnTo>
                    <a:pt x="131" y="136"/>
                  </a:lnTo>
                  <a:lnTo>
                    <a:pt x="118" y="162"/>
                  </a:lnTo>
                  <a:lnTo>
                    <a:pt x="104" y="188"/>
                  </a:lnTo>
                  <a:lnTo>
                    <a:pt x="88" y="215"/>
                  </a:lnTo>
                  <a:lnTo>
                    <a:pt x="73" y="242"/>
                  </a:lnTo>
                  <a:lnTo>
                    <a:pt x="57" y="270"/>
                  </a:lnTo>
                  <a:lnTo>
                    <a:pt x="42" y="297"/>
                  </a:lnTo>
                  <a:lnTo>
                    <a:pt x="27" y="324"/>
                  </a:lnTo>
                  <a:lnTo>
                    <a:pt x="0" y="333"/>
                  </a:lnTo>
                  <a:lnTo>
                    <a:pt x="102" y="163"/>
                  </a:lnTo>
                  <a:lnTo>
                    <a:pt x="112" y="140"/>
                  </a:lnTo>
                  <a:lnTo>
                    <a:pt x="120" y="119"/>
                  </a:lnTo>
                  <a:lnTo>
                    <a:pt x="128" y="100"/>
                  </a:lnTo>
                  <a:lnTo>
                    <a:pt x="134" y="82"/>
                  </a:lnTo>
                  <a:lnTo>
                    <a:pt x="139" y="64"/>
                  </a:lnTo>
                  <a:lnTo>
                    <a:pt x="142" y="44"/>
                  </a:lnTo>
                  <a:lnTo>
                    <a:pt x="146" y="23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a0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732080" y="1775160"/>
              <a:ext cx="36720" cy="4104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42" y="0"/>
                  </a:moveTo>
                  <a:lnTo>
                    <a:pt x="50" y="1"/>
                  </a:lnTo>
                  <a:lnTo>
                    <a:pt x="58" y="4"/>
                  </a:lnTo>
                  <a:lnTo>
                    <a:pt x="65" y="8"/>
                  </a:lnTo>
                  <a:lnTo>
                    <a:pt x="72" y="14"/>
                  </a:lnTo>
                  <a:lnTo>
                    <a:pt x="78" y="22"/>
                  </a:lnTo>
                  <a:lnTo>
                    <a:pt x="81" y="30"/>
                  </a:lnTo>
                  <a:lnTo>
                    <a:pt x="84" y="39"/>
                  </a:lnTo>
                  <a:lnTo>
                    <a:pt x="85" y="49"/>
                  </a:lnTo>
                  <a:lnTo>
                    <a:pt x="84" y="58"/>
                  </a:lnTo>
                  <a:lnTo>
                    <a:pt x="81" y="67"/>
                  </a:lnTo>
                  <a:lnTo>
                    <a:pt x="78" y="75"/>
                  </a:lnTo>
                  <a:lnTo>
                    <a:pt x="72" y="82"/>
                  </a:lnTo>
                  <a:lnTo>
                    <a:pt x="65" y="88"/>
                  </a:lnTo>
                  <a:lnTo>
                    <a:pt x="58" y="92"/>
                  </a:lnTo>
                  <a:lnTo>
                    <a:pt x="50" y="95"/>
                  </a:lnTo>
                  <a:lnTo>
                    <a:pt x="42" y="96"/>
                  </a:lnTo>
                  <a:lnTo>
                    <a:pt x="34" y="95"/>
                  </a:lnTo>
                  <a:lnTo>
                    <a:pt x="26" y="92"/>
                  </a:lnTo>
                  <a:lnTo>
                    <a:pt x="19" y="88"/>
                  </a:lnTo>
                  <a:lnTo>
                    <a:pt x="12" y="82"/>
                  </a:lnTo>
                  <a:lnTo>
                    <a:pt x="7" y="75"/>
                  </a:lnTo>
                  <a:lnTo>
                    <a:pt x="3" y="67"/>
                  </a:lnTo>
                  <a:lnTo>
                    <a:pt x="1" y="58"/>
                  </a:lnTo>
                  <a:lnTo>
                    <a:pt x="0" y="49"/>
                  </a:lnTo>
                  <a:lnTo>
                    <a:pt x="1" y="39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21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00040" y="1844280"/>
              <a:ext cx="36720" cy="40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3" y="0"/>
                  </a:moveTo>
                  <a:lnTo>
                    <a:pt x="51" y="1"/>
                  </a:lnTo>
                  <a:lnTo>
                    <a:pt x="59" y="4"/>
                  </a:lnTo>
                  <a:lnTo>
                    <a:pt x="66" y="8"/>
                  </a:lnTo>
                  <a:lnTo>
                    <a:pt x="72" y="14"/>
                  </a:lnTo>
                  <a:lnTo>
                    <a:pt x="77" y="22"/>
                  </a:lnTo>
                  <a:lnTo>
                    <a:pt x="81" y="30"/>
                  </a:lnTo>
                  <a:lnTo>
                    <a:pt x="83" y="39"/>
                  </a:lnTo>
                  <a:lnTo>
                    <a:pt x="84" y="49"/>
                  </a:lnTo>
                  <a:lnTo>
                    <a:pt x="83" y="58"/>
                  </a:lnTo>
                  <a:lnTo>
                    <a:pt x="81" y="67"/>
                  </a:lnTo>
                  <a:lnTo>
                    <a:pt x="77" y="75"/>
                  </a:lnTo>
                  <a:lnTo>
                    <a:pt x="72" y="82"/>
                  </a:lnTo>
                  <a:lnTo>
                    <a:pt x="66" y="88"/>
                  </a:lnTo>
                  <a:lnTo>
                    <a:pt x="59" y="92"/>
                  </a:lnTo>
                  <a:lnTo>
                    <a:pt x="51" y="95"/>
                  </a:lnTo>
                  <a:lnTo>
                    <a:pt x="43" y="96"/>
                  </a:lnTo>
                  <a:lnTo>
                    <a:pt x="34" y="95"/>
                  </a:lnTo>
                  <a:lnTo>
                    <a:pt x="26" y="92"/>
                  </a:lnTo>
                  <a:lnTo>
                    <a:pt x="20" y="88"/>
                  </a:lnTo>
                  <a:lnTo>
                    <a:pt x="13" y="82"/>
                  </a:lnTo>
                  <a:lnTo>
                    <a:pt x="7" y="75"/>
                  </a:lnTo>
                  <a:lnTo>
                    <a:pt x="3" y="67"/>
                  </a:lnTo>
                  <a:lnTo>
                    <a:pt x="1" y="58"/>
                  </a:lnTo>
                  <a:lnTo>
                    <a:pt x="0" y="49"/>
                  </a:lnTo>
                  <a:lnTo>
                    <a:pt x="1" y="39"/>
                  </a:lnTo>
                  <a:lnTo>
                    <a:pt x="3" y="30"/>
                  </a:lnTo>
                  <a:lnTo>
                    <a:pt x="7" y="22"/>
                  </a:lnTo>
                  <a:lnTo>
                    <a:pt x="13" y="14"/>
                  </a:lnTo>
                  <a:lnTo>
                    <a:pt x="20" y="8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21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711200" y="1261080"/>
              <a:ext cx="538560" cy="834840"/>
            </a:xfrm>
            <a:custGeom>
              <a:avLst/>
              <a:gdLst/>
              <a:ahLst/>
              <a:rect l="l" t="t" r="r" b="b"/>
              <a:pathLst>
                <a:path w="1246" h="1930">
                  <a:moveTo>
                    <a:pt x="1223" y="51"/>
                  </a:moveTo>
                  <a:lnTo>
                    <a:pt x="1223" y="103"/>
                  </a:lnTo>
                  <a:lnTo>
                    <a:pt x="1184" y="222"/>
                  </a:lnTo>
                  <a:lnTo>
                    <a:pt x="1111" y="278"/>
                  </a:lnTo>
                  <a:lnTo>
                    <a:pt x="1172" y="278"/>
                  </a:lnTo>
                  <a:lnTo>
                    <a:pt x="1167" y="324"/>
                  </a:lnTo>
                  <a:lnTo>
                    <a:pt x="1082" y="405"/>
                  </a:lnTo>
                  <a:lnTo>
                    <a:pt x="992" y="445"/>
                  </a:lnTo>
                  <a:lnTo>
                    <a:pt x="992" y="474"/>
                  </a:lnTo>
                  <a:lnTo>
                    <a:pt x="1015" y="509"/>
                  </a:lnTo>
                  <a:lnTo>
                    <a:pt x="1015" y="553"/>
                  </a:lnTo>
                  <a:lnTo>
                    <a:pt x="969" y="640"/>
                  </a:lnTo>
                  <a:lnTo>
                    <a:pt x="944" y="681"/>
                  </a:lnTo>
                  <a:lnTo>
                    <a:pt x="920" y="724"/>
                  </a:lnTo>
                  <a:lnTo>
                    <a:pt x="897" y="764"/>
                  </a:lnTo>
                  <a:lnTo>
                    <a:pt x="873" y="806"/>
                  </a:lnTo>
                  <a:lnTo>
                    <a:pt x="850" y="846"/>
                  </a:lnTo>
                  <a:lnTo>
                    <a:pt x="827" y="886"/>
                  </a:lnTo>
                  <a:lnTo>
                    <a:pt x="804" y="927"/>
                  </a:lnTo>
                  <a:lnTo>
                    <a:pt x="782" y="966"/>
                  </a:lnTo>
                  <a:lnTo>
                    <a:pt x="759" y="1005"/>
                  </a:lnTo>
                  <a:lnTo>
                    <a:pt x="736" y="1044"/>
                  </a:lnTo>
                  <a:lnTo>
                    <a:pt x="713" y="1083"/>
                  </a:lnTo>
                  <a:lnTo>
                    <a:pt x="690" y="1121"/>
                  </a:lnTo>
                  <a:lnTo>
                    <a:pt x="667" y="1161"/>
                  </a:lnTo>
                  <a:lnTo>
                    <a:pt x="644" y="1199"/>
                  </a:lnTo>
                  <a:lnTo>
                    <a:pt x="620" y="1236"/>
                  </a:lnTo>
                  <a:lnTo>
                    <a:pt x="597" y="1274"/>
                  </a:lnTo>
                  <a:lnTo>
                    <a:pt x="572" y="1310"/>
                  </a:lnTo>
                  <a:lnTo>
                    <a:pt x="548" y="1347"/>
                  </a:lnTo>
                  <a:lnTo>
                    <a:pt x="523" y="1384"/>
                  </a:lnTo>
                  <a:lnTo>
                    <a:pt x="498" y="1420"/>
                  </a:lnTo>
                  <a:lnTo>
                    <a:pt x="471" y="1456"/>
                  </a:lnTo>
                  <a:lnTo>
                    <a:pt x="446" y="1492"/>
                  </a:lnTo>
                  <a:lnTo>
                    <a:pt x="418" y="1527"/>
                  </a:lnTo>
                  <a:lnTo>
                    <a:pt x="390" y="1563"/>
                  </a:lnTo>
                  <a:lnTo>
                    <a:pt x="363" y="1598"/>
                  </a:lnTo>
                  <a:lnTo>
                    <a:pt x="334" y="1633"/>
                  </a:lnTo>
                  <a:lnTo>
                    <a:pt x="304" y="1668"/>
                  </a:lnTo>
                  <a:lnTo>
                    <a:pt x="273" y="1702"/>
                  </a:lnTo>
                  <a:lnTo>
                    <a:pt x="242" y="1737"/>
                  </a:lnTo>
                  <a:lnTo>
                    <a:pt x="210" y="1770"/>
                  </a:lnTo>
                  <a:lnTo>
                    <a:pt x="177" y="1805"/>
                  </a:lnTo>
                  <a:lnTo>
                    <a:pt x="143" y="1838"/>
                  </a:lnTo>
                  <a:lnTo>
                    <a:pt x="0" y="1930"/>
                  </a:lnTo>
                  <a:lnTo>
                    <a:pt x="62" y="1919"/>
                  </a:lnTo>
                  <a:lnTo>
                    <a:pt x="205" y="1827"/>
                  </a:lnTo>
                  <a:lnTo>
                    <a:pt x="232" y="1798"/>
                  </a:lnTo>
                  <a:lnTo>
                    <a:pt x="258" y="1769"/>
                  </a:lnTo>
                  <a:lnTo>
                    <a:pt x="283" y="1740"/>
                  </a:lnTo>
                  <a:lnTo>
                    <a:pt x="309" y="1711"/>
                  </a:lnTo>
                  <a:lnTo>
                    <a:pt x="333" y="1683"/>
                  </a:lnTo>
                  <a:lnTo>
                    <a:pt x="357" y="1654"/>
                  </a:lnTo>
                  <a:lnTo>
                    <a:pt x="380" y="1625"/>
                  </a:lnTo>
                  <a:lnTo>
                    <a:pt x="404" y="1595"/>
                  </a:lnTo>
                  <a:lnTo>
                    <a:pt x="427" y="1566"/>
                  </a:lnTo>
                  <a:lnTo>
                    <a:pt x="450" y="1536"/>
                  </a:lnTo>
                  <a:lnTo>
                    <a:pt x="473" y="1506"/>
                  </a:lnTo>
                  <a:lnTo>
                    <a:pt x="496" y="1476"/>
                  </a:lnTo>
                  <a:lnTo>
                    <a:pt x="519" y="1445"/>
                  </a:lnTo>
                  <a:lnTo>
                    <a:pt x="542" y="1414"/>
                  </a:lnTo>
                  <a:lnTo>
                    <a:pt x="565" y="1383"/>
                  </a:lnTo>
                  <a:lnTo>
                    <a:pt x="589" y="1351"/>
                  </a:lnTo>
                  <a:lnTo>
                    <a:pt x="618" y="1300"/>
                  </a:lnTo>
                  <a:lnTo>
                    <a:pt x="648" y="1248"/>
                  </a:lnTo>
                  <a:lnTo>
                    <a:pt x="678" y="1198"/>
                  </a:lnTo>
                  <a:lnTo>
                    <a:pt x="708" y="1147"/>
                  </a:lnTo>
                  <a:lnTo>
                    <a:pt x="739" y="1095"/>
                  </a:lnTo>
                  <a:lnTo>
                    <a:pt x="769" y="1044"/>
                  </a:lnTo>
                  <a:lnTo>
                    <a:pt x="799" y="994"/>
                  </a:lnTo>
                  <a:lnTo>
                    <a:pt x="830" y="943"/>
                  </a:lnTo>
                  <a:lnTo>
                    <a:pt x="860" y="892"/>
                  </a:lnTo>
                  <a:lnTo>
                    <a:pt x="891" y="840"/>
                  </a:lnTo>
                  <a:lnTo>
                    <a:pt x="922" y="790"/>
                  </a:lnTo>
                  <a:lnTo>
                    <a:pt x="954" y="739"/>
                  </a:lnTo>
                  <a:lnTo>
                    <a:pt x="985" y="688"/>
                  </a:lnTo>
                  <a:lnTo>
                    <a:pt x="1016" y="638"/>
                  </a:lnTo>
                  <a:lnTo>
                    <a:pt x="1047" y="587"/>
                  </a:lnTo>
                  <a:lnTo>
                    <a:pt x="1078" y="536"/>
                  </a:lnTo>
                  <a:lnTo>
                    <a:pt x="1129" y="445"/>
                  </a:lnTo>
                  <a:lnTo>
                    <a:pt x="1167" y="393"/>
                  </a:lnTo>
                  <a:lnTo>
                    <a:pt x="1178" y="336"/>
                  </a:lnTo>
                  <a:lnTo>
                    <a:pt x="1194" y="262"/>
                  </a:lnTo>
                  <a:lnTo>
                    <a:pt x="1234" y="187"/>
                  </a:lnTo>
                  <a:lnTo>
                    <a:pt x="1246" y="126"/>
                  </a:lnTo>
                  <a:lnTo>
                    <a:pt x="1246" y="0"/>
                  </a:lnTo>
                  <a:lnTo>
                    <a:pt x="1223" y="51"/>
                  </a:lnTo>
                  <a:close/>
                </a:path>
              </a:pathLst>
            </a:custGeom>
            <a:solidFill>
              <a:srgbClr val="b5b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7326360" y="1085760"/>
            <a:ext cx="129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|    </a:t>
            </a:r>
            <a:r>
              <a:rPr b="1" lang="en-CA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57480" y="1060560"/>
            <a:ext cx="594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Quantum Occam’s Razor Theorem”</a:t>
            </a:r>
            <a:br>
              <a:rPr sz="2600"/>
            </a:b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[A. 2006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6724800" y="4843440"/>
            <a:ext cx="2023920" cy="162252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28600" y="4848120"/>
            <a:ext cx="645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y contrast, traditional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quantum state tomography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requires ~4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measurements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ecord so far: n=8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ohibitive for much larger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2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1" dur="2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800" y="1370160"/>
            <a:ext cx="83854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several notorious open problems about the limitations of quantum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evidence that collision-resistant hash functions can still exist in a quantum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 the first direct product theorem for quantum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evidence against “golden states” for NP-complet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d open problems about classical local optimization using quantum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 quantum coding lower bound to propose a new learning algorithm, with possible experimental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mmary of Contribu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90520" y="490320"/>
            <a:ext cx="86788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en Research Directions I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Didn’t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Tell You About Toda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66840" y="1536840"/>
            <a:ext cx="3341520" cy="1099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dressing skepticism of quantum computing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, STOC 200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4840" y="2824200"/>
            <a:ext cx="3889080" cy="109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over search with finite speed of light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-Ambainis, FOCS 200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9760" y="4597560"/>
            <a:ext cx="3889440" cy="1099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antum versus classical proofs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-Kuperberg, CCC 200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38640" y="5145120"/>
            <a:ext cx="4662360" cy="1099800"/>
          </a:xfrm>
          <a:prstGeom prst="rect">
            <a:avLst/>
          </a:prstGeom>
          <a:solidFill>
            <a:srgbClr val="c4ea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“uncompute garbage” in quantum algorith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., QIC 200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965840" y="1617840"/>
            <a:ext cx="3889080" cy="1099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al simulation of stabilizer quantum circuits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-Gottesman, Phys Rev A 200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541760" y="3379680"/>
            <a:ext cx="3889440" cy="1099800"/>
          </a:xfrm>
          <a:prstGeom prst="rect">
            <a:avLst/>
          </a:prstGeom>
          <a:solidFill>
            <a:srgbClr val="e3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antum software copy-protection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, in prepara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98760" y="2193840"/>
            <a:ext cx="4262400" cy="109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antum computers with anthropic postselection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,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Proc. Roy. Soc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200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030320" y="3657600"/>
            <a:ext cx="3889440" cy="1099800"/>
          </a:xfrm>
          <a:prstGeom prst="rect">
            <a:avLst/>
          </a:prstGeom>
          <a:solidFill>
            <a:srgbClr val="dacf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antum computers with closed timelike curves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-Watrous, in prepara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96000" y="4116240"/>
            <a:ext cx="3889080" cy="1099800"/>
          </a:xfrm>
          <a:prstGeom prst="rect">
            <a:avLst/>
          </a:prstGeom>
          <a:solidFill>
            <a:srgbClr val="ecf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vably-nonrelativizing circuit lower bounds</a:t>
            </a:r>
            <a:br>
              <a:rPr sz="24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[A., CCC 200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79480" y="5489640"/>
            <a:ext cx="4029120" cy="1099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of Bayesian agreement protocol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., STOC 200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8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035000" y="295128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www.scottaaronson.com/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547560" y="1803240"/>
            <a:ext cx="955440" cy="1219320"/>
            <a:chOff x="547560" y="1803240"/>
            <a:chExt cx="955440" cy="1219320"/>
          </a:xfrm>
        </p:grpSpPr>
        <p:sp>
          <p:nvSpPr>
            <p:cNvPr id="786" name=""/>
            <p:cNvSpPr/>
            <p:nvPr/>
          </p:nvSpPr>
          <p:spPr>
            <a:xfrm flipV="1">
              <a:off x="758520" y="1830240"/>
              <a:ext cx="507960" cy="119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" descr=""/>
            <p:cNvPicPr/>
            <p:nvPr/>
          </p:nvPicPr>
          <p:blipFill>
            <a:blip r:embed="rId1"/>
            <a:stretch/>
          </p:blipFill>
          <p:spPr>
            <a:xfrm>
              <a:off x="547560" y="1830240"/>
              <a:ext cx="9554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 rot="16200000">
              <a:off x="933840" y="23706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626760" y="2016000"/>
              <a:ext cx="398160" cy="312480"/>
              <a:chOff x="626760" y="2016000"/>
              <a:chExt cx="398160" cy="312480"/>
            </a:xfrm>
          </p:grpSpPr>
          <p:sp>
            <p:nvSpPr>
              <p:cNvPr id="790" name=""/>
              <p:cNvSpPr/>
              <p:nvPr/>
            </p:nvSpPr>
            <p:spPr>
              <a:xfrm>
                <a:off x="639360" y="2101320"/>
                <a:ext cx="369000" cy="2271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7440" y="2126880"/>
                <a:ext cx="312840" cy="17748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45560" y="214020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32320" y="218556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26760" y="2087280"/>
                <a:ext cx="52200" cy="576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85440" y="204948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50240" y="202572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72000" y="209232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927000" y="205272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75520" y="20275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12520" y="201600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077840" y="2016000"/>
              <a:ext cx="397800" cy="312480"/>
              <a:chOff x="1077840" y="2016000"/>
              <a:chExt cx="397800" cy="312480"/>
            </a:xfrm>
          </p:grpSpPr>
          <p:sp>
            <p:nvSpPr>
              <p:cNvPr id="802" name=""/>
              <p:cNvSpPr/>
              <p:nvPr/>
            </p:nvSpPr>
            <p:spPr>
              <a:xfrm>
                <a:off x="1090440" y="2101320"/>
                <a:ext cx="368640" cy="2271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18160" y="2126880"/>
                <a:ext cx="312480" cy="17748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96640" y="214020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283400" y="218556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077840" y="2087280"/>
                <a:ext cx="52200" cy="576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136160" y="204948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200960" y="202572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422720" y="209232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77720" y="205272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26240" y="20275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63600" y="201600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 flipV="1">
              <a:off x="1023840" y="1803240"/>
              <a:ext cx="26496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7519680" y="1866600"/>
            <a:ext cx="909720" cy="1143360"/>
            <a:chOff x="7519680" y="1866600"/>
            <a:chExt cx="909720" cy="1143360"/>
          </a:xfrm>
        </p:grpSpPr>
        <p:sp>
          <p:nvSpPr>
            <p:cNvPr id="815" name=""/>
            <p:cNvSpPr/>
            <p:nvPr/>
          </p:nvSpPr>
          <p:spPr>
            <a:xfrm flipH="1" flipV="1">
              <a:off x="7754760" y="1892520"/>
              <a:ext cx="47628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6" name="" descr=""/>
            <p:cNvPicPr/>
            <p:nvPr/>
          </p:nvPicPr>
          <p:blipFill>
            <a:blip r:embed="rId2"/>
            <a:stretch/>
          </p:blipFill>
          <p:spPr>
            <a:xfrm flipH="1">
              <a:off x="7519680" y="1892520"/>
              <a:ext cx="909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 flipH="1" rot="5400000">
              <a:off x="7887600" y="2392200"/>
              <a:ext cx="15876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7997400" y="2146680"/>
              <a:ext cx="344520" cy="212400"/>
              <a:chOff x="7997400" y="2146680"/>
              <a:chExt cx="344520" cy="212400"/>
            </a:xfrm>
          </p:grpSpPr>
          <p:sp>
            <p:nvSpPr>
              <p:cNvPr id="819" name=""/>
              <p:cNvSpPr/>
              <p:nvPr/>
            </p:nvSpPr>
            <p:spPr>
              <a:xfrm flipH="1">
                <a:off x="7997040" y="2146680"/>
                <a:ext cx="344520" cy="2124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8023320" y="2170440"/>
                <a:ext cx="291960" cy="16524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8101440" y="2183400"/>
                <a:ext cx="141120" cy="14004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8138520" y="222480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7575120" y="2146680"/>
              <a:ext cx="344520" cy="212400"/>
              <a:chOff x="7575120" y="2146680"/>
              <a:chExt cx="344520" cy="21240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7574760" y="2146680"/>
                <a:ext cx="344520" cy="2124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601040" y="2170440"/>
                <a:ext cx="291960" cy="16524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679160" y="2183400"/>
                <a:ext cx="141120" cy="14004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716240" y="222480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 flipH="1" flipV="1">
              <a:off x="7734240" y="1866600"/>
              <a:ext cx="247680" cy="55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3520" y="453600"/>
            <a:ext cx="692964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Shor’s factoring algorithm presents us with a choic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546280"/>
            <a:ext cx="8237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ded Church-Turing Thesis is fal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quantum mechanics is fals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n efficient classical factoring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1600" y="4608360"/>
            <a:ext cx="682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hree seem like crackpot spe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one of them is tr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6191280" y="264960"/>
            <a:ext cx="11523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752400" y="2806560"/>
            <a:ext cx="7464240" cy="4051440"/>
            <a:chOff x="752400" y="2806560"/>
            <a:chExt cx="7464240" cy="4051440"/>
          </a:xfrm>
        </p:grpSpPr>
        <p:grpSp>
          <p:nvGrpSpPr>
            <p:cNvPr id="105" name=""/>
            <p:cNvGrpSpPr/>
            <p:nvPr/>
          </p:nvGrpSpPr>
          <p:grpSpPr>
            <a:xfrm>
              <a:off x="5340240" y="3622320"/>
              <a:ext cx="2876400" cy="3235680"/>
              <a:chOff x="5340240" y="3622320"/>
              <a:chExt cx="2876400" cy="323568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40240" y="3772080"/>
                <a:ext cx="287640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6183000" y="3952800"/>
                <a:ext cx="708120" cy="735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0957400">
                <a:off x="6132240" y="3678120"/>
                <a:ext cx="695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6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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752400" y="2806560"/>
              <a:ext cx="4511520" cy="2597400"/>
            </a:xfrm>
            <a:prstGeom prst="wedgeEllipseCallout">
              <a:avLst>
                <a:gd name="adj1" fmla="val 62773"/>
                <a:gd name="adj2" fmla="val 354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That’s why YOU should care about quantum comput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7040" y="1900080"/>
            <a:ext cx="20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1280" y="309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y Spiel In On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1287360"/>
            <a:ext cx="832356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1. Ignoring quantum mechanics won’t make it go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 Quantum computing is not a panacea—and that makes it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mor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teresting rather than l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3. On our current understanding, quantum computers could “merely” break RSA, simulate quantum physics, etc.—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olve generic search problems exponentially fa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4. So then why do I worry about quantum computing?  Because I’m interested in fundamental limits on what can efficiently be computed in the physical world. That makes me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professionally obligated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o car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1280" y="1598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ere Do I Come In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2600" y="1000080"/>
            <a:ext cx="864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y work, over the last seven years, has deepened our understanding of the limitations of quantum compu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1960" y="2222640"/>
            <a:ext cx="8458200" cy="1648440"/>
          </a:xfrm>
          <a:prstGeom prst="rect">
            <a:avLst/>
          </a:prstGeom>
          <a:solidFill>
            <a:srgbClr val="ff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lved some of the field’s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notorious open probl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Lower bound for finding collisions in hash 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Direct product theorem” for quantum 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2880" y="4265640"/>
            <a:ext cx="8482320" cy="1648440"/>
          </a:xfrm>
          <a:prstGeom prst="rect">
            <a:avLst/>
          </a:prstGeom>
          <a:solidFill>
            <a:srgbClr val="e5ff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de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unexpected conne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Classical lower bounds proved by quantum argu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Quantum-state learning algorithm from a lower bo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52440"/>
            <a:ext cx="9144000" cy="6097680"/>
          </a:xfrm>
          <a:prstGeom prst="verticalScroll">
            <a:avLst>
              <a:gd name="adj" fmla="val 7662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7240" y="836640"/>
            <a:ext cx="785196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eufb10"/>
              </a:rPr>
              <a:t>Plan of Tal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Gospel According to Sh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Limitations of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collisions in hash fun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Solving NP-complete problems with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inding local opt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urning Lemons into Lemon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pproximately learning quantum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y of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7a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Quantum Mechanics Say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4191120"/>
            <a:ext cx="4952880" cy="2394720"/>
            <a:chOff x="304920" y="4191120"/>
            <a:chExt cx="4952880" cy="2394720"/>
          </a:xfrm>
        </p:grpSpPr>
        <p:sp>
          <p:nvSpPr>
            <p:cNvPr id="121" name=""/>
            <p:cNvSpPr/>
            <p:nvPr/>
          </p:nvSpPr>
          <p:spPr>
            <a:xfrm>
              <a:off x="304920" y="419112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we observ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63868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o whichever outcome we s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4920" y="1143000"/>
            <a:ext cx="77468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can be in two distinguishable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52880" y="2133720"/>
            <a:ext cx="3595680" cy="3657600"/>
            <a:chOff x="4952880" y="2133720"/>
            <a:chExt cx="3595680" cy="3657600"/>
          </a:xfrm>
        </p:grpSpPr>
        <p:sp>
          <p:nvSpPr>
            <p:cNvPr id="125" name=""/>
            <p:cNvSpPr/>
            <p:nvPr/>
          </p:nvSpPr>
          <p:spPr>
            <a:xfrm>
              <a:off x="4952880" y="274320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426708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77120" y="2743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8001000" y="388620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01000" y="388620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6265800" y="213372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65800" y="213372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7391520" y="259092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91520" y="2590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 flipV="1">
            <a:off x="6471000" y="3196080"/>
            <a:ext cx="1078560" cy="1076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743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67760" y="2752920"/>
            <a:ext cx="20160" cy="151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990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666880" y="1523880"/>
          <a:ext cx="160020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16002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741760" y="3962520"/>
          <a:ext cx="198432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1760" y="3962520"/>
                    <a:ext cx="1984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219320" y="29718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ultiply vector of amplitudes by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—one that p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04-25T19:53:40Z</dcterms:modified>
  <cp:revision>158</cp:revision>
  <dc:subject/>
  <dc:title>Slide 1</dc:title>
</cp:coreProperties>
</file>