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CD9-ACB3-4A03-8F4C-E8B009A0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89E-5938-455D-9C3B-2F61EA3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4E7-DF4B-43E9-B4EA-F38BFC2F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AE8-7251-4611-91CD-385BEECA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71D-C8E1-4466-8A14-A425C1A7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C617-DB28-467D-89E8-C23C020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804-95D8-4362-9CD4-472E158C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0EC-93E4-40C0-9CC5-BD54CD72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2E7-7343-46D0-B26D-9654B884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7C1-720F-4626-A106-1BCCACD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534-70C8-4E8A-A5D0-745CA9DF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DB2-23FF-49A8-A7BC-1C306EDB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7E05-5520-4F00-A593-271BCA9B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racles Are Subtle But Not Malic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 affil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9480"/>
            <a:ext cx="7848720" cy="54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you frustrated by the scarcity of nonrelativizing circuit lower bound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satisfied by results that apply only to made-up classes like “M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hunger for an oracle relative to which PP has linear-size circui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… do you feel like it’s easy to construct a relativized world whe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yth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rue—like you never get more out of oracle results than you put in to the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answered “yes” to any of these questions, take a look at ECCC TR05-04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815364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cle where PP has linear-size circui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ompetitors can only promise this for MA and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cle where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 = P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roof that in the unrelativized world, PP does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linear-size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60093"/>
                </a:solidFill>
                <a:latin typeface="Arial"/>
              </a:rPr>
              <a:t>Bonus!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P doesn’t have linear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ircuits either</a:t>
            </a:r>
            <a:br>
              <a:rPr sz="3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Extra 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t even quantum circuits with quantum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171720" y="-774720"/>
            <a:ext cx="9601560" cy="8627760"/>
            <a:chOff x="-171720" y="-774720"/>
            <a:chExt cx="9601560" cy="8627760"/>
          </a:xfrm>
        </p:grpSpPr>
        <p:sp>
          <p:nvSpPr>
            <p:cNvPr id="47" name=""/>
            <p:cNvSpPr/>
            <p:nvPr/>
          </p:nvSpPr>
          <p:spPr>
            <a:xfrm rot="982200">
              <a:off x="598320" y="226800"/>
              <a:ext cx="8061480" cy="6624360"/>
            </a:xfrm>
            <a:prstGeom prst="irregularSeal2">
              <a:avLst/>
            </a:prstGeom>
            <a:solidFill>
              <a:srgbClr val="c5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9680" y="2133720"/>
              <a:ext cx="4114800" cy="27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are you waiting for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"/>
                </a:rPr>
                <a:t>DOWNLOAD NOW!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servers are standing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81532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acle where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has linear-size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P=NP, then given any Boolean function f with polynomial-size circuits, you can learn such a circuit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 implications are endles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ational learning theory (Bshouty et al.’s algorithm), circuit minimization, Karp-Lipton collaps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352680" y="380880"/>
                <a:ext cx="20574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52680" y="2514600"/>
                <a:ext cx="150192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21:39:34Z</dcterms:created>
  <dc:creator>Scott Aaronson</dc:creator>
  <dc:description/>
  <dc:language>en-US</dc:language>
  <cp:lastModifiedBy>Scott Aaronson</cp:lastModifiedBy>
  <dcterms:modified xsi:type="dcterms:W3CDTF">2006-06-26T16:06:10Z</dcterms:modified>
  <cp:revision>12</cp:revision>
  <dc:subject/>
  <dc:title>Oracles Are Subtle But Not Malicious</dc:title>
</cp:coreProperties>
</file>