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B08-7725-4237-B5FF-AEFF139D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6EE-9E94-4BE5-AF5C-4CF14FC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5C2-0D7E-4C69-A80D-2863BCE6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503-3880-48D2-A645-98FFC326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249-0C7D-4F2E-A8C5-D8037CC8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B7C-903A-4974-8596-867CF998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110-AFF7-43C3-913C-021EB06C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CFB-BDCB-47CB-8DCD-0A5B249E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360-FBE1-4E65-98D7-74A9F55A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D02-D17A-43B4-B7BE-E7758A1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E81-2890-47E1-AD20-4B4A462B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62F-8269-4E2A-B509-8997198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200-E635-435C-92F2-7EBD64574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racles Are Subtle But Not Mali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 affil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609480"/>
            <a:ext cx="7848720" cy="54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you frustrated by the scarcity of nonrelativizing circuit lower bound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satisfied by results that apply only to made-up classes like “M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hunger for an oracle relative to which PP has linear-size circui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… do you feel like it’s easy to construct a relativized world wher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yth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rue—like you never get more out of oracle results than you put in to th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you answered “yes” to any of these questions, take a look at ECCC TR05-04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09680"/>
            <a:ext cx="815364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acle where PP has linear-size circui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competitors can only promise this for MA and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acle where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 = PEX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roof that in the unrelativized world, PP does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linear-size circu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d60093"/>
                </a:solidFill>
                <a:latin typeface="Arial"/>
              </a:rPr>
              <a:t>Bonus!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P doesn’t have linear-siz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ircuits either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Extra 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t even quantum circuits with quantum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171720" y="-774720"/>
            <a:ext cx="9601560" cy="8627760"/>
            <a:chOff x="-171720" y="-774720"/>
            <a:chExt cx="9601560" cy="8627760"/>
          </a:xfrm>
        </p:grpSpPr>
        <p:sp>
          <p:nvSpPr>
            <p:cNvPr id="47" name=""/>
            <p:cNvSpPr/>
            <p:nvPr/>
          </p:nvSpPr>
          <p:spPr>
            <a:xfrm rot="982200">
              <a:off x="598320" y="226800"/>
              <a:ext cx="8061480" cy="6624360"/>
            </a:xfrm>
            <a:prstGeom prst="irregularSeal2">
              <a:avLst/>
            </a:prstGeom>
            <a:solidFill>
              <a:srgbClr val="c5ff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09680" y="2133720"/>
              <a:ext cx="4114800" cy="27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are you waiting for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"/>
                </a:rPr>
                <a:t>DOWNLOAD NOW!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servers are standing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81532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acle where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has linear-size circu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P=NP, then given any Boolean function f with polynomial-size circuits, you can learn such a circuit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implications are endles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ational learning theory (Bshouty et al.’s algorithm), circuit minimization, Karp-Lipton collaps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352680" y="380880"/>
                <a:ext cx="20574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352680" y="2514600"/>
                <a:ext cx="150192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4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21:39:34Z</dcterms:created>
  <dc:creator>Scott Aaronson</dc:creator>
  <dc:description/>
  <dc:language>en-US</dc:language>
  <cp:lastModifiedBy>Scott Aaronson</cp:lastModifiedBy>
  <dcterms:modified xsi:type="dcterms:W3CDTF">2006-06-26T16:06:10Z</dcterms:modified>
  <cp:revision>12</cp:revision>
  <dc:subject/>
  <dc:title>Oracles Are Subtle But Not Malicious</dc:title>
</cp:coreProperties>
</file>