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E179-414D-49E1-B5E0-CF8D6F5EC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0E85-2A21-47FE-BC46-00F9E530BA4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6E9E-6B3C-4D47-896F-AFC801148120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B7B9-6792-4630-9745-AD2940DD3DE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6888-8C9D-4F90-8926-331DFBB560A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8DD0-9738-455F-AB36-28D5439242B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6997-C8D6-4B96-B701-DA6DFE557F0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9060-1047-4E9E-9585-9BB7FDE2E5D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022D-14AA-48BF-BA8D-FB67E68C561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B129-7E9C-4888-B98F-83A5562D26D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5B95-C238-4468-9F75-F0D7D5023C5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FAE-8713-4FB5-BAF9-46D64A30E90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F168-9C4D-48E2-A5FC-31C66468BD3E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6F2B-5033-458E-B586-F764BF149A20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4851-06F0-42EE-9DAE-835983483F3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782-BD74-498F-A080-B77BB926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BFD-4925-4055-B830-4AA41A4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045-ABBE-400E-A8B0-5696C682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FF0-4F15-4836-887A-E0F30B81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617-F69F-4BE7-8367-2ADA0CB6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7E5-B2B9-4E78-82B4-10F9C912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BDB-6FB4-47D0-AC63-DDFA6F30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CDB-9344-487C-96D0-F56FF151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E9D-1B43-4B1C-8652-5CE9828F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6F7-1F04-42E5-AE73-CACE0E37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3DB-FC8F-4839-A274-7BFFAE6C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E75-A83A-417A-BDE2-229E1F12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8037-8EC2-4A65-A253-6F8B60DC3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360" y="3805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The Search for Physical Correlates of Consciousness: Lessons from the Failure of Integrated Information Theor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QXi, Tuscany, July 24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74680" y="2819520"/>
            <a:ext cx="8610480" cy="134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Scott\AppData\Local\Microsoft\Windows\INetCache\IE\NZ76OA0Z\brain-1color[1].png"/>
          <p:cNvPicPr/>
          <p:nvPr/>
        </p:nvPicPr>
        <p:blipFill>
          <a:blip r:embed="rId2"/>
          <a:stretch/>
        </p:blipFill>
        <p:spPr>
          <a:xfrm>
            <a:off x="6934320" y="2847960"/>
            <a:ext cx="1716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Scott\AppData\Local\Microsoft\Windows\INetCache\IE\V1PN6FUD\A6yKo[1].gif"/>
          <p:cNvPicPr/>
          <p:nvPr/>
        </p:nvPicPr>
        <p:blipFill>
          <a:blip r:embed="rId3"/>
          <a:stretch/>
        </p:blipFill>
        <p:spPr>
          <a:xfrm>
            <a:off x="1635120" y="277344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80880" y="5335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ononi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449440" y="1328760"/>
            <a:ext cx="4168800" cy="3319560"/>
            <a:chOff x="2449440" y="1328760"/>
            <a:chExt cx="4168800" cy="3319560"/>
          </a:xfrm>
        </p:grpSpPr>
        <p:pic>
          <p:nvPicPr>
            <p:cNvPr id="167" name="Picture 2" descr="C:\Users\Scott\AppData\Local\Microsoft\Windows\INetCache\IE\QAJWYYJ4\bitebullet-logo[1].jpg"/>
            <p:cNvPicPr/>
            <p:nvPr/>
          </p:nvPicPr>
          <p:blipFill>
            <a:blip r:embed="rId1"/>
            <a:stretch/>
          </p:blipFill>
          <p:spPr>
            <a:xfrm>
              <a:off x="2449440" y="1328760"/>
              <a:ext cx="4168800" cy="33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1"/>
            <p:cNvSpPr/>
            <p:nvPr/>
          </p:nvSpPr>
          <p:spPr>
            <a:xfrm>
              <a:off x="2620440" y="3200400"/>
              <a:ext cx="2361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5"/>
          <p:cNvSpPr/>
          <p:nvPr/>
        </p:nvSpPr>
        <p:spPr>
          <a:xfrm>
            <a:off x="442800" y="4648320"/>
            <a:ext cx="826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Yes, the XOR-gri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have superhuman consciousness!  Who are you to say otherwise?  You’re privileging your personal intuitions over our best scientific theory, IIT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19040" y="304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228600" y="100332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n testing a proposed solution to the Pretty-Hard Problem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what do we have to go 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 besides intuitions like “humans are more conscious than blank walls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228600" y="250812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f a solution gets those cases wrong, then what’s left for it to get righ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271440" y="3733920"/>
            <a:ext cx="4529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rucially, even Tononi seems to agree—e.g., when he us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cerebrum) &gt;&gt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cerebellum) as evidence i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fav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of IIT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Image result for cerebellum"/>
          <p:cNvPicPr/>
          <p:nvPr/>
        </p:nvPicPr>
        <p:blipFill>
          <a:blip r:embed="rId1"/>
          <a:stretch/>
        </p:blipFill>
        <p:spPr>
          <a:xfrm>
            <a:off x="4998960" y="3459240"/>
            <a:ext cx="360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19040" y="40968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42800" y="40384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Any proposed solution to the Pretty-Hard Problem must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constantly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be checked against reductio ad absurd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5760" y="1371600"/>
            <a:ext cx="83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Any theory of the form “sufficient complicatedness / interconnection / etc.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consciousness” is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doomed to fail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b050"/>
                </a:solidFill>
                <a:latin typeface="Calibri"/>
                <a:ea typeface="Arial"/>
              </a:rPr>
              <a:t>Not just some technical problem with the details of I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97000" y="5335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What Are Other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Possible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 Necessary Conditions for Consciousn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19040" y="1752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Intelligent behavior (passing some sort of Turing T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26960" y="2590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Unpredictability to outside observers, ability to su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26960" y="3429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Not being a giant lookup table or Boltzmann br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11120" y="4191120"/>
            <a:ext cx="842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ull participation in the thermodynamic Arrow of Time”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Arial"/>
              </a:rPr>
              <a:t>(Constantly amplifying microscopic degrees of </a:t>
            </a: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Arial"/>
              </a:rPr>
              <a:t>freedom into permanent rec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819520" y="5727600"/>
            <a:ext cx="5894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f. my “Ghost in the Quantum Turing Machine” essay: arXiv:1306.01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Callout 11"/>
          <p:cNvSpPr/>
          <p:nvPr/>
        </p:nvSpPr>
        <p:spPr>
          <a:xfrm>
            <a:off x="4800600" y="3733920"/>
            <a:ext cx="3962520" cy="1371600"/>
          </a:xfrm>
          <a:prstGeom prst="wedgeEllipseCallout">
            <a:avLst>
              <a:gd name="adj1" fmla="val 59675"/>
              <a:gd name="adj2" fmla="val 63324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Callout 10"/>
          <p:cNvSpPr/>
          <p:nvPr/>
        </p:nvSpPr>
        <p:spPr>
          <a:xfrm>
            <a:off x="4495680" y="2373480"/>
            <a:ext cx="4267440" cy="1218960"/>
          </a:xfrm>
          <a:prstGeom prst="wedgeEllipseCallout">
            <a:avLst>
              <a:gd name="adj1" fmla="val 59675"/>
              <a:gd name="adj2" fmla="val 63324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Callout 9"/>
          <p:cNvSpPr/>
          <p:nvPr/>
        </p:nvSpPr>
        <p:spPr>
          <a:xfrm>
            <a:off x="304920" y="3733920"/>
            <a:ext cx="4343400" cy="1371600"/>
          </a:xfrm>
          <a:prstGeom prst="wedgeEllipseCallout">
            <a:avLst>
              <a:gd name="adj1" fmla="val -56412"/>
              <a:gd name="adj2" fmla="val 92171"/>
            </a:avLst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Callout 1"/>
          <p:cNvSpPr/>
          <p:nvPr/>
        </p:nvSpPr>
        <p:spPr>
          <a:xfrm>
            <a:off x="228600" y="2514600"/>
            <a:ext cx="4038480" cy="914400"/>
          </a:xfrm>
          <a:prstGeom prst="wedgeEllipseCallout">
            <a:avLst>
              <a:gd name="adj1" fmla="val -56412"/>
              <a:gd name="adj2" fmla="val 92171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492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oncluding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43080" y="1141560"/>
            <a:ext cx="8305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If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vs.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or quantum gravity were treated like the Pretty-Hard Problem of Consciousnes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49440" y="2703600"/>
            <a:ext cx="33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It’s a non-probl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800600" y="2722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e answer is trivi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90680" y="3886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It’s fundamentally beyond the human mi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2880" y="3962520"/>
            <a:ext cx="36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My pet theory has totally solved 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143000" y="53118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e know from history that there can be deep things to say, even when it will be centuries before anyone thinks to say the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19040" y="4572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Hard Problem of Consciousness”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(Chal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letus"/>
          <p:cNvPicPr/>
          <p:nvPr/>
        </p:nvPicPr>
        <p:blipFill>
          <a:blip r:embed="rId1"/>
          <a:stretch/>
        </p:blipFill>
        <p:spPr>
          <a:xfrm>
            <a:off x="7888320" y="1905120"/>
            <a:ext cx="1192320" cy="37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33520" y="192564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Central Difficulty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iven any proposed description of the world, can “zombify” with no effect on observable pheno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except that now there are no “observers”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C:\Users\Scott\AppData\Local\Microsoft\Windows\INetCache\IE\4W3MHCY4\090712_zombie[1].png"/>
          <p:cNvPicPr/>
          <p:nvPr/>
        </p:nvPicPr>
        <p:blipFill>
          <a:blip r:embed="rId2"/>
          <a:stretch/>
        </p:blipFill>
        <p:spPr>
          <a:xfrm>
            <a:off x="3048120" y="391968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Pretty-Hard Problem of Consciousness”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(A.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419040" y="1771560"/>
            <a:ext cx="8267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ive a criterion for which physical systems are and aren’t associated with conscious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Better yet: what kind of consciousness, how much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Scott\AppData\Local\Microsoft\Windows\INetCache\IE\NZ76OA0Z\Jumping-Bottlenose-Dolphin1[1].jpg"/>
          <p:cNvPicPr/>
          <p:nvPr/>
        </p:nvPicPr>
        <p:blipFill>
          <a:blip r:embed="rId1"/>
          <a:srcRect l="0" t="0" r="7268" b="0"/>
          <a:stretch/>
        </p:blipFill>
        <p:spPr>
          <a:xfrm>
            <a:off x="368280" y="3622680"/>
            <a:ext cx="1554120" cy="143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Scott\AppData\Local\Microsoft\Windows\INetCache\IE\4W3MHCY4\black_ant_by_yuminette[1].jpg"/>
          <p:cNvPicPr/>
          <p:nvPr/>
        </p:nvPicPr>
        <p:blipFill>
          <a:blip r:embed="rId2"/>
          <a:stretch/>
        </p:blipFill>
        <p:spPr>
          <a:xfrm rot="1692600">
            <a:off x="3336840" y="3628800"/>
            <a:ext cx="1868400" cy="104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Scott\AppData\Local\Microsoft\Windows\INetCache\IE\4W3MHCY4\virus-gripe[1].jpg"/>
          <p:cNvPicPr/>
          <p:nvPr/>
        </p:nvPicPr>
        <p:blipFill>
          <a:blip r:embed="rId3"/>
          <a:srcRect l="11909" t="0" r="11901" b="0"/>
          <a:stretch/>
        </p:blipFill>
        <p:spPr>
          <a:xfrm>
            <a:off x="5151600" y="3557520"/>
            <a:ext cx="1463400" cy="131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Users\Scott\AppData\Local\Microsoft\Windows\INetCache\IE\QAJWYYJ4\fetus-20-week-sucking-thumb[1].jpg"/>
          <p:cNvPicPr/>
          <p:nvPr/>
        </p:nvPicPr>
        <p:blipFill>
          <a:blip r:embed="rId4"/>
          <a:stretch/>
        </p:blipFill>
        <p:spPr>
          <a:xfrm>
            <a:off x="843120" y="5259240"/>
            <a:ext cx="2184120" cy="148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C:\Users\Scott\AppData\Local\Microsoft\Windows\INetCache\IE\V1PN6FUD\Cartoon-Robot[1].png"/>
          <p:cNvPicPr/>
          <p:nvPr/>
        </p:nvPicPr>
        <p:blipFill>
          <a:blip r:embed="rId5"/>
          <a:stretch/>
        </p:blipFill>
        <p:spPr>
          <a:xfrm>
            <a:off x="6489720" y="3429000"/>
            <a:ext cx="2444760" cy="2878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C:\Users\Scott\AppData\Local\Microsoft\Windows\INetCache\IE\QAJWYYJ4\life_support_1[1].jpg"/>
          <p:cNvPicPr/>
          <p:nvPr/>
        </p:nvPicPr>
        <p:blipFill>
          <a:blip r:embed="rId6"/>
          <a:stretch/>
        </p:blipFill>
        <p:spPr>
          <a:xfrm>
            <a:off x="3581280" y="5243400"/>
            <a:ext cx="2560680" cy="1405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C:\Users\Scott\AppData\Local\Microsoft\Windows\INetCache\IE\V1PN6FUD\459px-Mouse_sideways_schematic.svg[1].png"/>
          <p:cNvPicPr/>
          <p:nvPr/>
        </p:nvPicPr>
        <p:blipFill>
          <a:blip r:embed="rId7"/>
          <a:stretch/>
        </p:blipFill>
        <p:spPr>
          <a:xfrm rot="379200">
            <a:off x="2076120" y="3755520"/>
            <a:ext cx="190332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bvious Dilemma: How Could We Ever Test A Proposed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609480" y="2146320"/>
            <a:ext cx="510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o independent consciousness- meter with which to calibrate prediction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C:\Users\Scott\AppData\Local\Microsoft\Windows\INetCache\IE\V1PN6FUD\Water_meter_register[1].jpg"/>
          <p:cNvPicPr/>
          <p:nvPr/>
        </p:nvPicPr>
        <p:blipFill>
          <a:blip r:embed="rId1"/>
          <a:stretch/>
        </p:blipFill>
        <p:spPr>
          <a:xfrm>
            <a:off x="6119640" y="1785960"/>
            <a:ext cx="2605320" cy="277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1990800" cy="133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404640" y="4724280"/>
            <a:ext cx="8282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Seem to need some combination of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ogic, simplicity, agreement with how people used the word “consciousness” in relatively clear-cut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80880" y="4572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IT: Integrated Information Theory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(Tononi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399960" y="1523880"/>
            <a:ext cx="826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Proposed solution to the Pretty-Hard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41360" y="3357720"/>
            <a:ext cx="826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n gives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numerical measure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 of “information integration,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quantify how conscious a system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99960" y="2209680"/>
            <a:ext cx="8386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sts 5 “axioms of experience” (intrinsic existence, composition, information, integration, exclus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61880" y="4522680"/>
            <a:ext cx="8267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definition o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claimed to follow from the axioms. 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Nothing resembling a derivation is ever giv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(in any case, the definition has often chang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41360" y="6183360"/>
            <a:ext cx="826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ut let’s set that aside and see one defini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80880" y="228600"/>
            <a:ext cx="8305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ne Definition of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399960" y="841320"/>
            <a:ext cx="82677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Given a finite set S (say {0,1}), we consider a system with an </a:t>
            </a: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Calibri"/>
              </a:rPr>
              <a:t>initial state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 x=(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 and an </a:t>
            </a: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Calibri"/>
              </a:rPr>
              <a:t>updating functi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 f: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720720" y="4362480"/>
            <a:ext cx="7827840" cy="45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2"/>
          <a:stretch/>
        </p:blipFill>
        <p:spPr>
          <a:xfrm>
            <a:off x="966960" y="5108400"/>
            <a:ext cx="7476840" cy="45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671400" y="5840280"/>
            <a:ext cx="8066160" cy="693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419040" y="2286000"/>
            <a:ext cx="82677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measures how well x can be partitioned into two roughly equal-sized pieces,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 and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 such that calculating (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)=f(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) induces little “cross-dependence” between the A and B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61800" y="304920"/>
            <a:ext cx="8305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438120" y="1028880"/>
            <a:ext cx="826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ot clear what to do if multiple (A,B)’s achieve the minimum—but we won’t worry about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384800" cy="609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447840" y="3048120"/>
            <a:ext cx="8267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will be close to 0 if f splits x=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 into two weakly-interacting “hemispher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47840" y="4216320"/>
            <a:ext cx="48099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be large: the graph of dependencies among the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’s should be what computer scientists call an “expande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Ramanujan expander graph G(V, E X ) = X 5,17 with 18 nodes where each node has 6 neighbors including self loops and multi-edges. Self loops and multi-edges are not shown in this figure. Â "/>
          <p:cNvPicPr/>
          <p:nvPr/>
        </p:nvPicPr>
        <p:blipFill>
          <a:blip r:embed="rId2"/>
          <a:stretch/>
        </p:blipFill>
        <p:spPr>
          <a:xfrm>
            <a:off x="5921280" y="3643200"/>
            <a:ext cx="27432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80880" y="228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My “Counterexamp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99960" y="1008000"/>
            <a:ext cx="8363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Expander graphs appear constantly in CS, for reasons having nothing obviously to do with intelligence or consciousness (e.g., error-correcting codes)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57200" y="253224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concreteness, consider the Vandermonde transformation over the finite field with p elem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57200" y="593244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a slight variant, can pr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8077320" cy="19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5334120" y="6012000"/>
            <a:ext cx="250668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C:\Users\Scott\AppData\Local\Microsoft\Windows\INetCache\IE\V1PN6FUD\A6yKo[1].gif"/>
          <p:cNvPicPr/>
          <p:nvPr/>
        </p:nvPicPr>
        <p:blipFill>
          <a:blip r:embed="rId1"/>
          <a:stretch/>
        </p:blipFill>
        <p:spPr>
          <a:xfrm>
            <a:off x="950760" y="1295280"/>
            <a:ext cx="3706920" cy="3581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419040" y="380880"/>
            <a:ext cx="8305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Even Simpler Counter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5029200" y="129528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2D grid of XOR g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"/>
          <p:cNvSpPr/>
          <p:nvPr/>
        </p:nvSpPr>
        <p:spPr>
          <a:xfrm>
            <a:off x="95076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144792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194472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244152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293832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343548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93228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6"/>
          <p:cNvSpPr/>
          <p:nvPr/>
        </p:nvSpPr>
        <p:spPr>
          <a:xfrm>
            <a:off x="442908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95076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144792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94472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244152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293832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343548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4"/>
          <p:cNvSpPr/>
          <p:nvPr/>
        </p:nvSpPr>
        <p:spPr>
          <a:xfrm>
            <a:off x="393228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5"/>
          <p:cNvSpPr/>
          <p:nvPr/>
        </p:nvSpPr>
        <p:spPr>
          <a:xfrm>
            <a:off x="442908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95076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7"/>
          <p:cNvSpPr/>
          <p:nvPr/>
        </p:nvSpPr>
        <p:spPr>
          <a:xfrm>
            <a:off x="144792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8"/>
          <p:cNvSpPr/>
          <p:nvPr/>
        </p:nvSpPr>
        <p:spPr>
          <a:xfrm>
            <a:off x="194472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244152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0"/>
          <p:cNvSpPr/>
          <p:nvPr/>
        </p:nvSpPr>
        <p:spPr>
          <a:xfrm>
            <a:off x="293832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1"/>
          <p:cNvSpPr/>
          <p:nvPr/>
        </p:nvSpPr>
        <p:spPr>
          <a:xfrm>
            <a:off x="343548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2"/>
          <p:cNvSpPr/>
          <p:nvPr/>
        </p:nvSpPr>
        <p:spPr>
          <a:xfrm>
            <a:off x="393228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442908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4"/>
          <p:cNvSpPr/>
          <p:nvPr/>
        </p:nvSpPr>
        <p:spPr>
          <a:xfrm>
            <a:off x="95076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144792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6"/>
          <p:cNvSpPr/>
          <p:nvPr/>
        </p:nvSpPr>
        <p:spPr>
          <a:xfrm>
            <a:off x="194472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7"/>
          <p:cNvSpPr/>
          <p:nvPr/>
        </p:nvSpPr>
        <p:spPr>
          <a:xfrm>
            <a:off x="244152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8"/>
          <p:cNvSpPr/>
          <p:nvPr/>
        </p:nvSpPr>
        <p:spPr>
          <a:xfrm>
            <a:off x="293832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9"/>
          <p:cNvSpPr/>
          <p:nvPr/>
        </p:nvSpPr>
        <p:spPr>
          <a:xfrm>
            <a:off x="343548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0"/>
          <p:cNvSpPr/>
          <p:nvPr/>
        </p:nvSpPr>
        <p:spPr>
          <a:xfrm>
            <a:off x="393228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1"/>
          <p:cNvSpPr/>
          <p:nvPr/>
        </p:nvSpPr>
        <p:spPr>
          <a:xfrm>
            <a:off x="442908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2"/>
          <p:cNvSpPr/>
          <p:nvPr/>
        </p:nvSpPr>
        <p:spPr>
          <a:xfrm>
            <a:off x="95076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3"/>
          <p:cNvSpPr/>
          <p:nvPr/>
        </p:nvSpPr>
        <p:spPr>
          <a:xfrm>
            <a:off x="144792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4"/>
          <p:cNvSpPr/>
          <p:nvPr/>
        </p:nvSpPr>
        <p:spPr>
          <a:xfrm>
            <a:off x="194472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5"/>
          <p:cNvSpPr/>
          <p:nvPr/>
        </p:nvSpPr>
        <p:spPr>
          <a:xfrm>
            <a:off x="244152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6"/>
          <p:cNvSpPr/>
          <p:nvPr/>
        </p:nvSpPr>
        <p:spPr>
          <a:xfrm>
            <a:off x="293832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7"/>
          <p:cNvSpPr/>
          <p:nvPr/>
        </p:nvSpPr>
        <p:spPr>
          <a:xfrm>
            <a:off x="343548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8"/>
          <p:cNvSpPr/>
          <p:nvPr/>
        </p:nvSpPr>
        <p:spPr>
          <a:xfrm>
            <a:off x="393228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9"/>
          <p:cNvSpPr/>
          <p:nvPr/>
        </p:nvSpPr>
        <p:spPr>
          <a:xfrm>
            <a:off x="442908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0"/>
          <p:cNvSpPr/>
          <p:nvPr/>
        </p:nvSpPr>
        <p:spPr>
          <a:xfrm>
            <a:off x="95076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1"/>
          <p:cNvSpPr/>
          <p:nvPr/>
        </p:nvSpPr>
        <p:spPr>
          <a:xfrm>
            <a:off x="144792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2"/>
          <p:cNvSpPr/>
          <p:nvPr/>
        </p:nvSpPr>
        <p:spPr>
          <a:xfrm>
            <a:off x="194472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3"/>
          <p:cNvSpPr/>
          <p:nvPr/>
        </p:nvSpPr>
        <p:spPr>
          <a:xfrm>
            <a:off x="244152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4"/>
          <p:cNvSpPr/>
          <p:nvPr/>
        </p:nvSpPr>
        <p:spPr>
          <a:xfrm>
            <a:off x="293832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5"/>
          <p:cNvSpPr/>
          <p:nvPr/>
        </p:nvSpPr>
        <p:spPr>
          <a:xfrm>
            <a:off x="343548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6"/>
          <p:cNvSpPr/>
          <p:nvPr/>
        </p:nvSpPr>
        <p:spPr>
          <a:xfrm>
            <a:off x="393228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7"/>
          <p:cNvSpPr/>
          <p:nvPr/>
        </p:nvSpPr>
        <p:spPr>
          <a:xfrm>
            <a:off x="442908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8"/>
          <p:cNvSpPr/>
          <p:nvPr/>
        </p:nvSpPr>
        <p:spPr>
          <a:xfrm>
            <a:off x="95076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9"/>
          <p:cNvSpPr/>
          <p:nvPr/>
        </p:nvSpPr>
        <p:spPr>
          <a:xfrm>
            <a:off x="144792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0"/>
          <p:cNvSpPr/>
          <p:nvPr/>
        </p:nvSpPr>
        <p:spPr>
          <a:xfrm>
            <a:off x="194472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1"/>
          <p:cNvSpPr/>
          <p:nvPr/>
        </p:nvSpPr>
        <p:spPr>
          <a:xfrm>
            <a:off x="244152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2"/>
          <p:cNvSpPr/>
          <p:nvPr/>
        </p:nvSpPr>
        <p:spPr>
          <a:xfrm>
            <a:off x="293832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3"/>
          <p:cNvSpPr/>
          <p:nvPr/>
        </p:nvSpPr>
        <p:spPr>
          <a:xfrm>
            <a:off x="343548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4"/>
          <p:cNvSpPr/>
          <p:nvPr/>
        </p:nvSpPr>
        <p:spPr>
          <a:xfrm>
            <a:off x="393228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5"/>
          <p:cNvSpPr/>
          <p:nvPr/>
        </p:nvSpPr>
        <p:spPr>
          <a:xfrm>
            <a:off x="442908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6"/>
          <p:cNvSpPr/>
          <p:nvPr/>
        </p:nvSpPr>
        <p:spPr>
          <a:xfrm>
            <a:off x="95076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7"/>
          <p:cNvSpPr/>
          <p:nvPr/>
        </p:nvSpPr>
        <p:spPr>
          <a:xfrm>
            <a:off x="144792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8"/>
          <p:cNvSpPr/>
          <p:nvPr/>
        </p:nvSpPr>
        <p:spPr>
          <a:xfrm>
            <a:off x="194472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9"/>
          <p:cNvSpPr/>
          <p:nvPr/>
        </p:nvSpPr>
        <p:spPr>
          <a:xfrm>
            <a:off x="244152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0"/>
          <p:cNvSpPr/>
          <p:nvPr/>
        </p:nvSpPr>
        <p:spPr>
          <a:xfrm>
            <a:off x="293832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1"/>
          <p:cNvSpPr/>
          <p:nvPr/>
        </p:nvSpPr>
        <p:spPr>
          <a:xfrm>
            <a:off x="343548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2"/>
          <p:cNvSpPr/>
          <p:nvPr/>
        </p:nvSpPr>
        <p:spPr>
          <a:xfrm>
            <a:off x="393228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3"/>
          <p:cNvSpPr/>
          <p:nvPr/>
        </p:nvSpPr>
        <p:spPr>
          <a:xfrm>
            <a:off x="442908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3" descr=""/>
          <p:cNvPicPr/>
          <p:nvPr/>
        </p:nvPicPr>
        <p:blipFill>
          <a:blip r:embed="rId2"/>
          <a:stretch/>
        </p:blipFill>
        <p:spPr>
          <a:xfrm>
            <a:off x="5278320" y="2222640"/>
            <a:ext cx="2930760" cy="7603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4"/>
          <p:cNvSpPr/>
          <p:nvPr/>
        </p:nvSpPr>
        <p:spPr>
          <a:xfrm>
            <a:off x="5113440" y="3257640"/>
            <a:ext cx="372564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y letting be n large enough, could easily make thi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&gt;&gt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HumanB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5"/>
          <p:cNvSpPr/>
          <p:nvPr/>
        </p:nvSpPr>
        <p:spPr>
          <a:xfrm>
            <a:off x="1562040" y="5553000"/>
            <a:ext cx="605016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, is this XOR-grid to humans as humans are to bacteri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9-07-24T05:54:47Z</dcterms:modified>
  <cp:revision>341</cp:revision>
  <dc:subject/>
  <dc:title>The Future of Computer Science</dc:title>
</cp:coreProperties>
</file>