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56E0-71EB-42F3-9310-FCBF45CB7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731-D735-4F29-ACC2-43B1DE51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6860-A396-41BB-BE7C-6DE756743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2227-A5A7-454B-AD0D-3B8340A4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1301-5263-4955-A294-470369F6A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7F5-9F7D-4A5B-85E2-C961A64EF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6014-DC1A-4B65-B1A9-E63D3C16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E1AE-2A4D-4286-B0C7-17654F7F6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C58B-8009-458F-BF6A-9B99BB35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4CBA-CD52-46EF-B096-EC0103AD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B814-6B3C-49D8-9DB3-2B327B3C3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CC5-0F83-4FCF-8EE1-F4F8BFEF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0FA-629C-498E-88C4-77705E64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398B-0B21-4B2E-BC56-7E132314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30D4-9016-4933-ADED-1549C0C92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FF39-CD0F-4D97-BE1D-C5AB36CD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D5E4-F74D-445A-84C2-5C75A521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6C2-045B-4388-8642-F87C6EBA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006-E3A1-42C2-988C-521A531F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C5F-ED1C-4E50-AE16-02C8F2FB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B1F-4803-4CA5-8FB1-61069918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2E9-F1AB-4BDC-BC37-3F33977D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48B-C906-4F0B-8564-448E172B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22D-3266-4E81-83EF-D12E0CB5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658-EDEB-469B-AAF4-74D2BFC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71B-E87F-4CB6-ACB4-5912B60C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EC2-520A-4C8F-91F5-F8541A0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8DF-43CC-437E-AA81-A2B88FE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766-D5D9-4881-BA17-30E887E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DDDF-B6D0-4D97-8B6C-42682D4EC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Cryptographic Hardness of Decoding Hawking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requires at least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, even with a QC (A. 200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Zhandry 2013).  For explicit f,g, we can’t prove unconditional hardness, but solving it would give Graph Isomorphism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 (and indeed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B register decoheres all entanglement between R and H, leaving only classical corr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"/>
              <p:cNvSpPr txBox="1"/>
              <p:nvPr/>
            </p:nvSpPr>
            <p:spPr>
              <a:xfrm>
                <a:off x="339840" y="1030320"/>
                <a:ext cx="8513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H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y Alternative Hardness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4"/>
          <p:cNvSpPr/>
          <p:nvPr/>
        </p:nvSpPr>
        <p:spPr>
          <a:xfrm>
            <a:off x="233280" y="5372280"/>
            <a:ext cx="8682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uppose there’s a poly-time quantum algorithm for the HH decoding problem.  Then there’s also a poly-time quantum algorithm to invert any injective OW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ubtitle 4"/>
          <p:cNvSpPr/>
          <p:nvPr/>
        </p:nvSpPr>
        <p:spPr>
          <a:xfrm>
            <a:off x="326880" y="1219320"/>
            <a:ext cx="8817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One-Way Function (OWF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collection of functions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p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(one for each n) such th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(x) is computable in poly(n)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or all polynomial-time adversaries 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"/>
              <p:cNvSpPr txBox="1"/>
              <p:nvPr/>
            </p:nvSpPr>
            <p:spPr>
              <a:xfrm>
                <a:off x="1828800" y="2971800"/>
                <a:ext cx="5149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Subtitle 4"/>
          <p:cNvSpPr/>
          <p:nvPr/>
        </p:nvSpPr>
        <p:spPr>
          <a:xfrm>
            <a:off x="914400" y="4114800"/>
            <a:ext cx="792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Calibri"/>
              </a:rPr>
              <a:t>“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Calibri"/>
              </a:rPr>
              <a:t>Standard workhorses” of modern cryptography.  Widely believed that there exist OWFs secure even against Q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44280" y="750960"/>
                <a:ext cx="91504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H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" name="Subtitle 4"/>
          <p:cNvSpPr/>
          <p:nvPr/>
        </p:nvSpPr>
        <p:spPr>
          <a:xfrm>
            <a:off x="293760" y="2381400"/>
            <a:ext cx="85104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pplyi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R decodes an EPR pair between R and H.  Then for some states {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must 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87360" y="3371760"/>
                <a:ext cx="8494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357120" y="5067360"/>
                <a:ext cx="350856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⟩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Subtitle 4"/>
          <p:cNvSpPr/>
          <p:nvPr/>
        </p:nvSpPr>
        <p:spPr>
          <a:xfrm>
            <a:off x="325440" y="4381560"/>
            <a:ext cx="851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 from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can get unitaries V,W such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4095720" y="5448240"/>
                <a:ext cx="47084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2"/>
          <p:cNvSpPr/>
          <p:nvPr/>
        </p:nvSpPr>
        <p:spPr>
          <a:xfrm>
            <a:off x="35712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y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2819520" y="188604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again, easy to prepare in poly(n) time given 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eralization to Arbitrary OW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ubtitle 4"/>
          <p:cNvSpPr/>
          <p:nvPr/>
        </p:nvSpPr>
        <p:spPr>
          <a:xfrm>
            <a:off x="316080" y="12193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Known Classical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ny OWF f, it’s possible to produce another OWF g that, with probability at least ~1/n, is injective on at least a ~1/n fraction of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"/>
              <p:cNvSpPr txBox="1"/>
              <p:nvPr/>
            </p:nvSpPr>
            <p:spPr>
              <a:xfrm>
                <a:off x="568440" y="2700360"/>
                <a:ext cx="7878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|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p>
                                        <m:r>
                                          <m:t xml:space="preserve">p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0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1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sSub>
                                  <m:e>
                                    <m:r>
                                      <m:t xml:space="preserve">⟩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Subtitle 4"/>
          <p:cNvSpPr/>
          <p:nvPr/>
        </p:nvSpPr>
        <p:spPr>
          <a:xfrm>
            <a:off x="403200" y="4419720"/>
            <a:ext cx="7977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H is many qubits, not jus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a more complicated argument shows that, if we can distill even 1 EPR pair between R and H, we must be able to invert g, and hence 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mparison of Arg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ubtitle 4"/>
          <p:cNvSpPr/>
          <p:nvPr/>
        </p:nvSpPr>
        <p:spPr>
          <a:xfrm>
            <a:off x="519120" y="1447920"/>
            <a:ext cx="7977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dvantages of my argu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istence of OWFs is a “safer” assumption than hardness of finding coll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rks even against “nonuniform” algorithms (which spend exponential preparation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black hole is form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dvantage of HH argu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rks even if Alice gets access to H as well as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1608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316080" y="107460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’s good evidence that decoding Hawking radiation requires an exponentially-long quantum comp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ttedly, “real” black holes won’t produce states that look anything l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ubtitle 4"/>
          <p:cNvSpPr/>
          <p:nvPr/>
        </p:nvSpPr>
        <p:spPr>
          <a:xfrm>
            <a:off x="316080" y="434340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intuitively, greater genericity seems like it should only make Alice’s decoding task harder!  Would be great to formalize thi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connections to quantum money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uld also be great if computational considerations could give any clues about the black hole interio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"/>
              <p:cNvSpPr txBox="1"/>
              <p:nvPr/>
            </p:nvSpPr>
            <p:spPr>
              <a:xfrm>
                <a:off x="519120" y="3048120"/>
                <a:ext cx="83851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H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 Curious Open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’ve seen what computational powers ar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ice to solve the HH decoding problem (inverting one-way functions, solving Set Equ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computational powers would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suff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let her solve it in quantum polynomial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Not obvious how to do it even if given, say, an oracle for the halting problem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last year by Harlow &amp; Hay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Interior of “Old” Black H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Just-Emitted Hawking Rad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3352680" y="2438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38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1"/>
          <p:cNvSpPr/>
          <p:nvPr/>
        </p:nvSpPr>
        <p:spPr>
          <a:xfrm>
            <a:off x="304920" y="38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H, would require exponential time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1"/>
          <p:cNvSpPr/>
          <p:nvPr/>
        </p:nvSpPr>
        <p:spPr>
          <a:xfrm>
            <a:off x="304920" y="2895480"/>
            <a:ext cx="8534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wo obvious ques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Who cares if this is tr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t true?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decoding task require exponential tim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1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1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1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3429000" y="1828800"/>
                <a:ext cx="2394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H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1"/>
          <p:cNvSpPr/>
          <p:nvPr/>
        </p:nvSpPr>
        <p:spPr>
          <a:xfrm>
            <a:off x="533520" y="2362320"/>
            <a:ext cx="830556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Page’s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Page’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09:33:19Z</dcterms:created>
  <dc:creator>Scott</dc:creator>
  <dc:description/>
  <dc:language>en-US</dc:language>
  <cp:lastModifiedBy>Scott</cp:lastModifiedBy>
  <dcterms:modified xsi:type="dcterms:W3CDTF">2014-04-01T12:27:06Z</dcterms:modified>
  <cp:revision>28</cp:revision>
  <dc:subject/>
  <dc:title>The Cryptographic Hardness of Decoding Hawking Radiation</dc:title>
</cp:coreProperties>
</file>