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859B-0487-45AF-AC71-A609757423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E257-2096-4718-A52A-651E06349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2363-BAFB-4D0A-8665-0CDF30EB1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CC18-E2F5-40DA-9C1A-C74A9AEDE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73D7-23B8-4CB8-86A7-34A1D83AB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3A46-B817-48EE-BF92-CD27256F4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14D9-DB4C-4ECF-A516-563399E19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C353-36D8-4377-BB20-987B6370A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DFF7-AD1C-463A-8435-4E1974D56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F897-88CF-4AC0-90F3-C00733940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83D3-9308-4FCD-8251-08716AE0C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7391-2134-4986-8CFA-95CF3ECC4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ABD9-CF84-495C-87D7-F208EE46D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6C0C-7888-475F-82D0-BD2FEF69C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370F-1433-4333-94DE-0AF8E99C0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5E7D-F145-4C9A-9F7B-7FE9CFEF8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20C6-228B-4C23-9AC1-5F8F03C67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1365-A268-4A44-B67B-0F07C2C84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993D-EBF1-4B29-BF83-12465040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ECF0-577E-4DFF-954A-ACC670D84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6F39-3EDA-49C5-8A1D-298E214F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512C-9F06-4B9D-85C6-8EC04318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F3BB-A2BB-4574-8E88-841919D6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FB37-6F5E-45AD-80F7-BCAC1C90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DB64-3B61-4D90-8B8B-37F14776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D562-165B-4098-A960-1B5525C8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14CA-7F7A-4B4D-9A34-864523BA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C1B7-C9AE-4CB0-B70D-198052B7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F0CA-C0D4-43FD-8F86-0F08272F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CCE8-A1E1-4480-BCA8-658552005F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The Cryptographic Hardness of Decoding Hawking 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1"/>
          <p:cNvSpPr/>
          <p:nvPr/>
        </p:nvSpPr>
        <p:spPr>
          <a:xfrm>
            <a:off x="380880" y="1295280"/>
            <a:ext cx="853452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Set Equalit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two efficiently-computable injective functions f,g: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p(n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Promised that Range(f) and Range(g) are either equal or disjoint.  Decide whi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 the “black-box” setting, this problem requires at least ~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/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teps, even with a QC (A. 2002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Zhandry 2013).  For explicit f,g, we can’t prove unconditional hardness, but solving it would give Graph Isomorphism,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Z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Theorem (Harlow-Hayden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uppose there’s a polynomial-time quantum algorithm for HH decoding.  Then there’s also a polynomial-time quantum algorithm for Set Equality (and indeed,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QSZ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HH Hardness Resu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1"/>
          <p:cNvSpPr/>
          <p:nvPr/>
        </p:nvSpPr>
        <p:spPr>
          <a:xfrm>
            <a:off x="325440" y="2514600"/>
            <a:ext cx="858996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Intui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Range(f) and Range(g) are disjoint, then the B register decoheres all entanglement between R and H, leaving only classical corre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, on the other hand, Range(f)=Range(g), then there’s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ermutation of the |x,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tates that puts the last qubit of R into an EPR pair with 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us, if we had a reliable way to distill EPR pairs whenever possible, then we could also decide Set E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330120" y="2286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HH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1"/>
              <p:cNvSpPr txBox="1"/>
              <p:nvPr/>
            </p:nvSpPr>
            <p:spPr>
              <a:xfrm>
                <a:off x="339840" y="1030320"/>
                <a:ext cx="851364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⟩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H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ra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0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9" name="Subtitle 4"/>
          <p:cNvSpPr/>
          <p:nvPr/>
        </p:nvSpPr>
        <p:spPr>
          <a:xfrm>
            <a:off x="2720880" y="1905120"/>
            <a:ext cx="617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Calibri"/>
              </a:rPr>
              <a:t>(easy to prepare in poly(n) time given f,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My Alternative Hardness Resu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ubtitle 4"/>
          <p:cNvSpPr/>
          <p:nvPr/>
        </p:nvSpPr>
        <p:spPr>
          <a:xfrm>
            <a:off x="233280" y="5372280"/>
            <a:ext cx="8682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Theorem (A. 2013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Suppose there’s a poly-time quantum algorithm for the HH decoding problem.  Then there’s also a poly-time quantum algorithm to invert any injective OW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ubtitle 4"/>
          <p:cNvSpPr/>
          <p:nvPr/>
        </p:nvSpPr>
        <p:spPr>
          <a:xfrm>
            <a:off x="326880" y="1219320"/>
            <a:ext cx="8817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One-Way Function (OWF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 collection of functions f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p(n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(one for each n) such tha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f(x) is computable in poly(n) ti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For all polynomial-time adversaries A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1"/>
              <p:cNvSpPr txBox="1"/>
              <p:nvPr/>
            </p:nvSpPr>
            <p:spPr>
              <a:xfrm>
                <a:off x="1828800" y="2971800"/>
                <a:ext cx="51498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&l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ol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" name="Subtitle 4"/>
          <p:cNvSpPr/>
          <p:nvPr/>
        </p:nvSpPr>
        <p:spPr>
          <a:xfrm>
            <a:off x="914400" y="4114800"/>
            <a:ext cx="7929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Calibri"/>
                <a:ea typeface="Calibri"/>
              </a:rPr>
              <a:t>“</a:t>
            </a:r>
            <a:r>
              <a:rPr b="0" lang="en-US" sz="2600" spc="-1" strike="noStrike">
                <a:solidFill>
                  <a:srgbClr val="00b050"/>
                </a:solidFill>
                <a:latin typeface="Calibri"/>
                <a:ea typeface="Calibri"/>
              </a:rPr>
              <a:t>Standard workhorses” of modern cryptography.  Widely believed that there exist OWFs secure even against QC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5" name="Object 2"/>
              <p:cNvSpPr txBox="1"/>
              <p:nvPr/>
            </p:nvSpPr>
            <p:spPr>
              <a:xfrm>
                <a:off x="44280" y="750960"/>
                <a:ext cx="915048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⟩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H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ra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n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0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r>
                          <m:t xml:space="preserve">x</m:t>
                        </m:r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6" name="Subtitle 4"/>
          <p:cNvSpPr/>
          <p:nvPr/>
        </p:nvSpPr>
        <p:spPr>
          <a:xfrm>
            <a:off x="293760" y="2381400"/>
            <a:ext cx="85104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applying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o R decodes an EPR pair between R and H.  Then for some states {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}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we must h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7"/>
              <p:cNvSpPr txBox="1"/>
              <p:nvPr/>
            </p:nvSpPr>
            <p:spPr>
              <a:xfrm>
                <a:off x="387360" y="3371760"/>
                <a:ext cx="84945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|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⟩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8"/>
              <p:cNvSpPr txBox="1"/>
              <p:nvPr/>
            </p:nvSpPr>
            <p:spPr>
              <a:xfrm>
                <a:off x="357120" y="5067360"/>
                <a:ext cx="350856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⟩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⟩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⟩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⟩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" name="Subtitle 4"/>
          <p:cNvSpPr/>
          <p:nvPr/>
        </p:nvSpPr>
        <p:spPr>
          <a:xfrm>
            <a:off x="325440" y="4381560"/>
            <a:ext cx="8510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o from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we can get unitaries V,W such th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1"/>
              <p:cNvSpPr txBox="1"/>
              <p:nvPr/>
            </p:nvSpPr>
            <p:spPr>
              <a:xfrm>
                <a:off x="4095720" y="5448240"/>
                <a:ext cx="470844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W</m:t>
                    </m:r>
                    <m:r>
                      <m:t xml:space="preserve">|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⟩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Text Box 2"/>
          <p:cNvSpPr/>
          <p:nvPr/>
        </p:nvSpPr>
        <p:spPr>
          <a:xfrm>
            <a:off x="35712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My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ubtitle 4"/>
          <p:cNvSpPr/>
          <p:nvPr/>
        </p:nvSpPr>
        <p:spPr>
          <a:xfrm>
            <a:off x="2819520" y="1886040"/>
            <a:ext cx="617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Calibri"/>
              </a:rPr>
              <a:t>(again, easy to prepare in poly(n) time given f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eralization to Arbitrary OWF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ubtitle 4"/>
          <p:cNvSpPr/>
          <p:nvPr/>
        </p:nvSpPr>
        <p:spPr>
          <a:xfrm>
            <a:off x="316080" y="1219320"/>
            <a:ext cx="83818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Known Classical Fact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iven any OWF f, it’s possible to produce another OWF g that, with probability at least ~1/n, is injective on at least a ~1/n fraction of its 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1"/>
              <p:cNvSpPr txBox="1"/>
              <p:nvPr/>
            </p:nvSpPr>
            <p:spPr>
              <a:xfrm>
                <a:off x="568440" y="2700360"/>
                <a:ext cx="787860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p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  <m:sup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</m:e>
                                </m:rad>
                              </m:den>
                            </m:f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∈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0,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|</m:t>
                                    </m:r>
                                    <m:r>
                                      <m:t xml:space="preserve">x</m:t>
                                    </m:r>
                                    <m:sSup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  <m:sup>
                                        <m:r>
                                          <m:t xml:space="preserve">p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</m:d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n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r>
                                      <m:t xml:space="preserve">0</m:t>
                                    </m:r>
                                    <m:sSub>
                                      <m:e>
                                        <m:r>
                                          <m:t xml:space="preserve">⟩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|</m:t>
                                    </m:r>
                                    <m:r>
                                      <m:t xml:space="preserve">0</m:t>
                                    </m:r>
                                    <m:sSub>
                                      <m:e>
                                        <m:r>
                                          <m:t xml:space="preserve">⟩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|</m:t>
                                    </m:r>
                                    <m:r>
                                      <m:t xml:space="preserve">g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d>
                                    <m:r>
                                      <m:t xml:space="preserve">,</m:t>
                                    </m:r>
                                    <m:r>
                                      <m:t xml:space="preserve">1</m:t>
                                    </m:r>
                                    <m:sSub>
                                      <m:e>
                                        <m:r>
                                          <m:t xml:space="preserve">⟩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|</m:t>
                                    </m:r>
                                    <m:r>
                                      <m:t xml:space="preserve">1</m:t>
                                    </m:r>
                                    <m:sSub>
                                      <m:e>
                                        <m:r>
                                          <m:t xml:space="preserve">⟩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sSub>
                                  <m:e>
                                    <m:r>
                                      <m:t xml:space="preserve">⟩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⊗</m:t>
                        </m:r>
                        <m:r>
                          <m:rPr>
                            <m:lit/>
                            <m:nor/>
                          </m:rPr>
                          <m:t xml:space="preserve">c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6" name="Subtitle 4"/>
          <p:cNvSpPr/>
          <p:nvPr/>
        </p:nvSpPr>
        <p:spPr>
          <a:xfrm>
            <a:off x="403200" y="4419720"/>
            <a:ext cx="7977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ow H is many qubits, not just 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ut a more complicated argument shows that, if we can distill even 1 EPR pair between R and H, we must be able to invert g, and hence 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Comparison of Arg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ubtitle 4"/>
          <p:cNvSpPr/>
          <p:nvPr/>
        </p:nvSpPr>
        <p:spPr>
          <a:xfrm>
            <a:off x="519120" y="1447920"/>
            <a:ext cx="7977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Advantages of my argu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xistence of OWFs is a “safer” assumption than hardness of finding coll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orks even against “nonuniform” algorithms (which spend exponential preparation tim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efo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he black hole is form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Advantage of HH argu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orks even if Alice gets access to H as well as 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16080" y="22860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Concluding Rema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ubtitle 4"/>
          <p:cNvSpPr/>
          <p:nvPr/>
        </p:nvSpPr>
        <p:spPr>
          <a:xfrm>
            <a:off x="316080" y="1074600"/>
            <a:ext cx="8381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re’s good evidence that decoding Hawking radiation requires an exponentially-long quantum compu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dmittedly, “real” black holes won’t produce states that look anything l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ubtitle 4"/>
          <p:cNvSpPr/>
          <p:nvPr/>
        </p:nvSpPr>
        <p:spPr>
          <a:xfrm>
            <a:off x="316080" y="4343400"/>
            <a:ext cx="8381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ut intuitively, greater genericity seems like it should only make Alice’s decoding task harder!  Would be great to formalize this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Calibri"/>
              </a:rPr>
              <a:t>(connections to quantum money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ould also be great if computational considerations could give any clues about the black hole interior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1"/>
              <p:cNvSpPr txBox="1"/>
              <p:nvPr/>
            </p:nvSpPr>
            <p:spPr>
              <a:xfrm>
                <a:off x="519120" y="3048120"/>
                <a:ext cx="838512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⟩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H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ra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n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0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r>
                          <m:t xml:space="preserve">x</m:t>
                        </m:r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A Curious Open 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ubtitle 4"/>
          <p:cNvSpPr/>
          <p:nvPr/>
        </p:nvSpPr>
        <p:spPr>
          <a:xfrm>
            <a:off x="480960" y="1295280"/>
            <a:ext cx="79772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e’ve seen what computational powers are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necessa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or Alice to solve the HH decoding problem (inverting one-way functions, solving Set Equali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at computational powers would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suffi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o let her solve it in quantum polynomial tim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Calibri"/>
              </a:rPr>
              <a:t>(Not obvious how to do it even if given, say, an oracle for the halting problem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16080" y="380880"/>
            <a:ext cx="838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lack Holes and Computational Complexity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ubtitle 4"/>
          <p:cNvSpPr/>
          <p:nvPr/>
        </p:nvSpPr>
        <p:spPr>
          <a:xfrm>
            <a:off x="228600" y="4800600"/>
            <a:ext cx="8663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mazing connection made last year by Harlow &amp; Hay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ut first, let’s review 40 years of black hole hi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http://www.physics.ntua.gr/~lpapa/images/black_hole.jpg"/>
          <p:cNvPicPr/>
          <p:nvPr/>
        </p:nvPicPr>
        <p:blipFill>
          <a:blip r:embed="rId1"/>
          <a:stretch/>
        </p:blipFill>
        <p:spPr>
          <a:xfrm>
            <a:off x="743040" y="1981080"/>
            <a:ext cx="350676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Subtitle 4"/>
          <p:cNvSpPr/>
          <p:nvPr/>
        </p:nvSpPr>
        <p:spPr>
          <a:xfrm>
            <a:off x="5489640" y="314964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SZ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ubtitle 4"/>
          <p:cNvSpPr/>
          <p:nvPr/>
        </p:nvSpPr>
        <p:spPr>
          <a:xfrm>
            <a:off x="6686640" y="256068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QSZ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ubtitle 4"/>
          <p:cNvSpPr/>
          <p:nvPr/>
        </p:nvSpPr>
        <p:spPr>
          <a:xfrm>
            <a:off x="5477040" y="4014720"/>
            <a:ext cx="10569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BP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ubtitle 4"/>
          <p:cNvSpPr/>
          <p:nvPr/>
        </p:nvSpPr>
        <p:spPr>
          <a:xfrm>
            <a:off x="6686640" y="349884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BQ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ubtitle 4"/>
          <p:cNvSpPr/>
          <p:nvPr/>
        </p:nvSpPr>
        <p:spPr>
          <a:xfrm>
            <a:off x="5489640" y="212076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traight Connector 2"/>
          <p:cNvSpPr/>
          <p:nvPr/>
        </p:nvSpPr>
        <p:spPr>
          <a:xfrm>
            <a:off x="6019920" y="2560680"/>
            <a:ext cx="0" cy="58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aight Connector 13"/>
          <p:cNvSpPr/>
          <p:nvPr/>
        </p:nvSpPr>
        <p:spPr>
          <a:xfrm>
            <a:off x="6005520" y="3597120"/>
            <a:ext cx="0" cy="560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traight Connector 18"/>
          <p:cNvSpPr/>
          <p:nvPr/>
        </p:nvSpPr>
        <p:spPr>
          <a:xfrm>
            <a:off x="7216920" y="3038400"/>
            <a:ext cx="0" cy="55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traight Connector 19"/>
          <p:cNvSpPr/>
          <p:nvPr/>
        </p:nvSpPr>
        <p:spPr>
          <a:xfrm flipH="1">
            <a:off x="6275160" y="2960640"/>
            <a:ext cx="533160" cy="27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traight Connector 21"/>
          <p:cNvSpPr/>
          <p:nvPr/>
        </p:nvSpPr>
        <p:spPr>
          <a:xfrm flipH="1">
            <a:off x="6281640" y="3881520"/>
            <a:ext cx="533520" cy="27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ubtitle 4"/>
          <p:cNvSpPr/>
          <p:nvPr/>
        </p:nvSpPr>
        <p:spPr>
          <a:xfrm>
            <a:off x="6686640" y="162396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Q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traight Connector 23"/>
          <p:cNvSpPr/>
          <p:nvPr/>
        </p:nvSpPr>
        <p:spPr>
          <a:xfrm>
            <a:off x="7216920" y="2065320"/>
            <a:ext cx="0" cy="58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traight Connector 24"/>
          <p:cNvSpPr/>
          <p:nvPr/>
        </p:nvSpPr>
        <p:spPr>
          <a:xfrm flipH="1">
            <a:off x="6294240" y="1981080"/>
            <a:ext cx="533160" cy="27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ubtitle 4"/>
          <p:cNvSpPr/>
          <p:nvPr/>
        </p:nvSpPr>
        <p:spPr>
          <a:xfrm>
            <a:off x="328680" y="304920"/>
            <a:ext cx="8510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Bekenstein, Hawking 1970s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Black holes have entropy and temperature!  They emit radi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The Information Loss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 Calculations suggest that Hawking radiation is thermal—uncorrelated with whatever fell in.  So, is infalling information lost forever?  Would violate the unitarity / reversibility of Q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OK then, assume the information somehow gets out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The Xeroxing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How could the same qubit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 fall inexorably toward the singularity,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emerge in Hawking radiation?  Would violate the No-Cloning Theore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Black Hole Complementarity (Susskind, ‘t Hooft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An external observer can describe everything unitarily without including the interior at all!  Interior should be seen as “just a scrambled re-encoding” of the exterior degrees of freedo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www.spacetelescope.org/static/archives/images/screen/heic0211h.jpg"/>
          <p:cNvPicPr/>
          <p:nvPr/>
        </p:nvPicPr>
        <p:blipFill>
          <a:blip r:embed="rId1"/>
          <a:stretch/>
        </p:blipFill>
        <p:spPr>
          <a:xfrm>
            <a:off x="0" y="-461880"/>
            <a:ext cx="9144000" cy="73198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1"/>
          <p:cNvSpPr/>
          <p:nvPr/>
        </p:nvSpPr>
        <p:spPr>
          <a:xfrm>
            <a:off x="380880" y="5562720"/>
            <a:ext cx="8305920" cy="1007640"/>
          </a:xfrm>
          <a:prstGeom prst="rect">
            <a:avLst/>
          </a:prstGeom>
          <a:solidFill>
            <a:srgbClr val="ffffbb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Violates monogamy of entanglement!  The same qubit can’t be maximally entangled with 2 thing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228600" y="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The Firewall Paradox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(AMPS 201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val 4"/>
          <p:cNvSpPr/>
          <p:nvPr/>
        </p:nvSpPr>
        <p:spPr>
          <a:xfrm>
            <a:off x="3352680" y="1981080"/>
            <a:ext cx="2514600" cy="251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val 5"/>
          <p:cNvSpPr/>
          <p:nvPr/>
        </p:nvSpPr>
        <p:spPr>
          <a:xfrm>
            <a:off x="2666880" y="1295280"/>
            <a:ext cx="3886200" cy="3886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41"/>
          <p:cNvSpPr/>
          <p:nvPr/>
        </p:nvSpPr>
        <p:spPr>
          <a:xfrm>
            <a:off x="3733920" y="2590920"/>
            <a:ext cx="1752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  <a:ea typeface="Arial"/>
              </a:rPr>
              <a:t>B = Interior of “Old” Black H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1"/>
          <p:cNvSpPr/>
          <p:nvPr/>
        </p:nvSpPr>
        <p:spPr>
          <a:xfrm>
            <a:off x="228600" y="838080"/>
            <a:ext cx="4800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  <a:ea typeface="Arial"/>
              </a:rPr>
              <a:t>R = Faraway Hawking Radi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41"/>
          <p:cNvSpPr/>
          <p:nvPr/>
        </p:nvSpPr>
        <p:spPr>
          <a:xfrm>
            <a:off x="2057400" y="1523880"/>
            <a:ext cx="5334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  <a:ea typeface="Arial"/>
              </a:rPr>
              <a:t>H = Just-Emitted Hawking Radi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reeform 16"/>
          <p:cNvSpPr/>
          <p:nvPr/>
        </p:nvSpPr>
        <p:spPr>
          <a:xfrm flipH="1" rot="4500000">
            <a:off x="3800880" y="3408480"/>
            <a:ext cx="304920" cy="1477800"/>
          </a:xfrm>
          <a:custGeom>
            <a:avLst/>
            <a:gdLst>
              <a:gd name="textAreaLeft" fmla="*/ -360 w 304920"/>
              <a:gd name="textAreaRight" fmla="*/ 304920 w 304920"/>
              <a:gd name="textAreaTop" fmla="*/ 0 h 1477800"/>
              <a:gd name="textAreaBottom" fmla="*/ 1478160 h 147780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5cf"/>
          </a:solidFill>
          <a:ln w="38160">
            <a:solidFill>
              <a:srgbClr val="ffd4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reeform 16"/>
          <p:cNvSpPr/>
          <p:nvPr/>
        </p:nvSpPr>
        <p:spPr>
          <a:xfrm flipH="1" rot="5400000">
            <a:off x="2262240" y="2613600"/>
            <a:ext cx="304920" cy="1477800"/>
          </a:xfrm>
          <a:custGeom>
            <a:avLst/>
            <a:gdLst>
              <a:gd name="textAreaLeft" fmla="*/ -360 w 304920"/>
              <a:gd name="textAreaRight" fmla="*/ 304920 w 304920"/>
              <a:gd name="textAreaTop" fmla="*/ 0 h 1477800"/>
              <a:gd name="textAreaBottom" fmla="*/ 1478160 h 147780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5cf"/>
          </a:solidFill>
          <a:ln w="38160">
            <a:solidFill>
              <a:srgbClr val="ffd4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8" descr="alice"/>
          <p:cNvPicPr/>
          <p:nvPr/>
        </p:nvPicPr>
        <p:blipFill>
          <a:blip r:embed="rId2"/>
          <a:stretch/>
        </p:blipFill>
        <p:spPr>
          <a:xfrm>
            <a:off x="609480" y="1523880"/>
            <a:ext cx="1076400" cy="12477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41"/>
          <p:cNvSpPr/>
          <p:nvPr/>
        </p:nvSpPr>
        <p:spPr>
          <a:xfrm>
            <a:off x="380880" y="3505320"/>
            <a:ext cx="2362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Arial"/>
              </a:rPr>
              <a:t>Near-maximal entangl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41"/>
          <p:cNvSpPr/>
          <p:nvPr/>
        </p:nvSpPr>
        <p:spPr>
          <a:xfrm>
            <a:off x="3048120" y="4343400"/>
            <a:ext cx="3124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Arial"/>
              </a:rPr>
              <a:t>Also near-maximal entangl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3" descr="C:\Users\owner\AppData\Local\Microsoft\Windows\Temporary Internet Files\Content.IE5\V550YIX2\MP900438774[1].jpg"/>
          <p:cNvPicPr/>
          <p:nvPr/>
        </p:nvPicPr>
        <p:blipFill>
          <a:blip r:embed="rId3"/>
          <a:stretch/>
        </p:blipFill>
        <p:spPr>
          <a:xfrm>
            <a:off x="3352680" y="2438280"/>
            <a:ext cx="12780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44444E-006 L 0.19948 0.0757 E">
                                      <p:cBhvr>
                                        <p:cTn id="30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948 0.0757 L 0.32448 0.12014 E">
                                      <p:cBhvr>
                                        <p:cTn id="38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44444E-006 L 0.27448 0.13125 E">
                                      <p:cBhvr>
                                        <p:cTn id="50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1"/>
          <p:cNvSpPr/>
          <p:nvPr/>
        </p:nvSpPr>
        <p:spPr>
          <a:xfrm>
            <a:off x="304920" y="380880"/>
            <a:ext cx="8534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Harlow-Hayden 2013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Arial"/>
              </a:rPr>
              <a:t>(arXiv:1301.4504):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triking argument that Alice’s first task, decoding the entanglement between R and H, would require exponential time</a:t>
            </a: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Complexity theory to the rescue of quantum field theory?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41"/>
          <p:cNvSpPr/>
          <p:nvPr/>
        </p:nvSpPr>
        <p:spPr>
          <a:xfrm>
            <a:off x="304920" y="2895480"/>
            <a:ext cx="85341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Two obvious question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1) Who cares if this is tru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2)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t true?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e decoding task require exponential time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Caveats of Complexity Arg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ubtitle 4"/>
          <p:cNvSpPr/>
          <p:nvPr/>
        </p:nvSpPr>
        <p:spPr>
          <a:xfrm>
            <a:off x="480960" y="1295280"/>
            <a:ext cx="79772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236520" indent="-236520">
              <a:spcBef>
                <a:spcPts val="700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Asympto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21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.g., 8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8 chess takes O(1) time!  Only for 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 chess can we give evidence of hardness.  But for black holes, 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7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spcBef>
                <a:spcPts val="700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(Usually) Conjectu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21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ight now, we can’t even prove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Calibri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≠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Calibri"/>
              </a:rPr>
              <a:t>N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!  To get where we want, we almost always need to make assumptions.  Question is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assump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spcBef>
                <a:spcPts val="700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Worst-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21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e can argue that a natural formalization of Alice’s decoding task is “generically” hard.  We can’t rule out that a future quantum gravity theory would make her task easy, for deep reasons not captured by our formaliz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Quantum Circu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://ej.iop.org/images/1367-2630/14/10/103017/Full/nj432858f1_online.jpg"/>
          <p:cNvPicPr/>
          <p:nvPr/>
        </p:nvPicPr>
        <p:blipFill>
          <a:blip r:embed="rId1"/>
          <a:stretch/>
        </p:blipFill>
        <p:spPr>
          <a:xfrm>
            <a:off x="533520" y="1447920"/>
            <a:ext cx="8047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1"/>
          <p:cNvSpPr/>
          <p:nvPr/>
        </p:nvSpPr>
        <p:spPr>
          <a:xfrm>
            <a:off x="609480" y="1295280"/>
            <a:ext cx="8305920" cy="51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description of a quantum circuit C, such th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mised that, by acting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R (the “Hawking radiation part”), it’s possible to distill an EPR pai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etween R and 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Distill such an EPR pair, by applying a unitary transformation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the qubits in 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HH Decoding 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1"/>
              <p:cNvSpPr txBox="1"/>
              <p:nvPr/>
            </p:nvSpPr>
            <p:spPr>
              <a:xfrm>
                <a:off x="3537000" y="3581280"/>
                <a:ext cx="194004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|</m:t>
                        </m:r>
                        <m:r>
                          <m:t xml:space="preserve">0</m:t>
                        </m:r>
                        <m:r>
                          <m:t xml:space="preserve">⟩</m:t>
                        </m:r>
                        <m:r>
                          <m:t xml:space="preserve">|</m:t>
                        </m:r>
                        <m:r>
                          <m:t xml:space="preserve">0</m:t>
                        </m:r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⟩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⟩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5"/>
              <p:cNvSpPr txBox="1"/>
              <p:nvPr/>
            </p:nvSpPr>
            <p:spPr>
              <a:xfrm>
                <a:off x="3429000" y="1828800"/>
                <a:ext cx="2394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⟩</m:t>
                        </m:r>
                      </m:e>
                      <m:sup>
                        <m:r>
                          <m:t xml:space="preserve">⊗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⟩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H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1"/>
          <p:cNvSpPr/>
          <p:nvPr/>
        </p:nvSpPr>
        <p:spPr>
          <a:xfrm>
            <a:off x="533520" y="2362320"/>
            <a:ext cx="8305560" cy="36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at would require waiting until the black hole was fully evaporated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(</a:t>
            </a:r>
            <a:r>
              <a:rPr b="0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 no more firewall prob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en the BH is “merely” &gt;50% evaporated, we know from Page’s argument that “generically,” there will exist a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at distills an EPR pair between R and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interestingly, Page’s argument doesn’t suggest any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efficient procedu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find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r apply it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Isn’t the Decoding Task Trivia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41"/>
          <p:cNvSpPr/>
          <p:nvPr/>
        </p:nvSpPr>
        <p:spPr>
          <a:xfrm>
            <a:off x="533520" y="13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Just invert C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2T09:33:19Z</dcterms:created>
  <dc:creator>Scott</dc:creator>
  <dc:description/>
  <dc:language>en-US</dc:language>
  <cp:lastModifiedBy>Scott</cp:lastModifiedBy>
  <dcterms:modified xsi:type="dcterms:W3CDTF">2014-04-01T12:27:06Z</dcterms:modified>
  <cp:revision>28</cp:revision>
  <dc:subject/>
  <dc:title>The Cryptographic Hardness of Decoding Hawking Radiation</dc:title>
</cp:coreProperties>
</file>