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2.wmf" ContentType="image/x-wmf"/>
  <Override PartName="/ppt/media/image1.gif" ContentType="image/gif"/>
  <Override PartName="/ppt/media/image7.wmf" ContentType="image/x-wmf"/>
  <Override PartName="/ppt/media/image11.wmf" ContentType="image/x-wmf"/>
  <Override PartName="/ppt/media/image6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4972-1583-4B4A-B15F-F89AA922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447-E4C8-4971-826E-3446E6DC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6E81-5053-40D7-8D7B-74F4F8DD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4458-C628-4217-8326-C715D448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7C3A-DA82-4C9D-BBE0-E7BB0BC8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A23-64EC-4452-ABF9-BC8B6475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A30-7303-45A0-BE7D-DF6FA650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ABAF-328A-4C31-97CD-36EA4BE0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4753-47BB-41A6-89CE-CCF3F555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BF0-2971-46E6-B901-A0CEA2BC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F9BF-78DE-4EEA-9382-EBB60642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36F-0029-4113-B901-D32F7413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0094-1F11-4D95-AB5A-59D071504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Quantum Lower Bounds You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obably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Haven’t Seen Before</a:t>
            </a:r>
            <a:br>
              <a:rPr sz="4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which doesn’t imply that you don’t know OF th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, UC Berke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/24/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antum Certificate 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447920"/>
            <a:ext cx="7696080" cy="56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:{0,1}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{0,1} is a total Boolean fun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deterministic query complexity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zero-error randomized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bounded-error randomized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buClr>
                <a:srgbClr val="000000"/>
              </a:buClr>
              <a:buFont typeface="Symbol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bounded-error quantum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zero-error quantum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exact quantum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895480" y="1600200"/>
          <a:ext cx="3316320" cy="7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600200"/>
                    <a:ext cx="331632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38080" y="2438280"/>
          <a:ext cx="3276720" cy="25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438280"/>
                    <a:ext cx="327672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952880" y="2563920"/>
          <a:ext cx="3276720" cy="234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2563920"/>
                    <a:ext cx="327672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228600"/>
            <a:ext cx="8229600" cy="65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Certificate Complex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(f) = ma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 = min # of queries needed to distinguish X from every Y s.t. f(Y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Block Sensitiv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s(f) = ma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 = max # of disjoint blocks B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 s.t. flipping B changes f(X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Example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f=MAJ(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 letting X=11110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11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111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AJ)=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AJ)=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838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(f) and bs(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5029200"/>
            <a:ext cx="914400" cy="609480"/>
          </a:xfrm>
          <a:prstGeom prst="flowChartAlternateProcess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5029200"/>
            <a:ext cx="533520" cy="609480"/>
          </a:xfrm>
          <a:prstGeom prst="flowChartAlternateProcess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5029200"/>
            <a:ext cx="533520" cy="609480"/>
          </a:xfrm>
          <a:prstGeom prst="flowChartAlternateProcess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762120"/>
            <a:ext cx="8915400" cy="55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Randomized Certificate Complexit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C(f) = ma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C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f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f) = min # of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randomize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queries needed to distinguish X from any Y s.t. f(Y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(X) with ½ prob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Quantum Certificate Complexit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QC(f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Arial"/>
              </a:rPr>
              <a:t>Example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For f=MAJ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, letting X=00…0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MAJ) =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Arial"/>
              </a:rPr>
              <a:t>Different notions of nondeterministic quantum query complexity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Watrous 2000, de Wolf 200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838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C(f) and QC(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1828800"/>
            <a:ext cx="83059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distributions over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),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s.t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ks “locally similar” to every 1-input,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ks “locally similar” to every 0-in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dversary Method</a:t>
            </a:r>
            <a:br>
              <a:rPr sz="4000"/>
            </a:b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(special cas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95280" y="3352680"/>
          <a:ext cx="5943600" cy="28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5943600" cy="28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533520"/>
            <a:ext cx="7924680" cy="52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Claim: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randomized certificate for input X can be mad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nada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minimax theorem, exists distribution over {Y:f(Y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} s.t. for all i,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.p. O(1/RC(f)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ersary method then yield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upper bound, use “weighted Grover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362320" y="457200"/>
          <a:ext cx="411480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4114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6095880" y="4114800"/>
          <a:ext cx="2362320" cy="90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4114800"/>
                    <a:ext cx="23623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761760" y="914400"/>
            <a:ext cx="6858360" cy="1523880"/>
            <a:chOff x="761760" y="914400"/>
            <a:chExt cx="6858360" cy="1523880"/>
          </a:xfrm>
        </p:grpSpPr>
        <p:sp>
          <p:nvSpPr>
            <p:cNvPr id="116" name=""/>
            <p:cNvSpPr/>
            <p:nvPr/>
          </p:nvSpPr>
          <p:spPr>
            <a:xfrm>
              <a:off x="4038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61760" y="1447920"/>
              <a:ext cx="3429360" cy="990360"/>
              <a:chOff x="761760" y="1447920"/>
              <a:chExt cx="3429360" cy="990360"/>
            </a:xfrm>
          </p:grpSpPr>
          <p:sp>
            <p:nvSpPr>
              <p:cNvPr id="118" name=""/>
              <p:cNvSpPr/>
              <p:nvPr/>
            </p:nvSpPr>
            <p:spPr>
              <a:xfrm flipH="1">
                <a:off x="761760" y="1447920"/>
                <a:ext cx="3429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1067040" y="1447920"/>
                <a:ext cx="312408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1371600" y="1447920"/>
                <a:ext cx="281916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1676160" y="1447920"/>
                <a:ext cx="2514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1905120" y="1447920"/>
                <a:ext cx="2286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133360" y="1447920"/>
                <a:ext cx="2057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2362320" y="1447920"/>
                <a:ext cx="1828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590560" y="1447920"/>
                <a:ext cx="1600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2819520" y="1447920"/>
                <a:ext cx="1371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047760" y="1447920"/>
                <a:ext cx="1143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276720" y="1447920"/>
                <a:ext cx="914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504960" y="1447920"/>
                <a:ext cx="685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733920" y="1447920"/>
                <a:ext cx="457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962160" y="1447920"/>
                <a:ext cx="228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flipH="1">
              <a:off x="4191120" y="1447920"/>
              <a:ext cx="14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190760" y="1447920"/>
              <a:ext cx="3429360" cy="990360"/>
              <a:chOff x="4190760" y="1447920"/>
              <a:chExt cx="3429360" cy="990360"/>
            </a:xfrm>
          </p:grpSpPr>
          <p:sp>
            <p:nvSpPr>
              <p:cNvPr id="134" name=""/>
              <p:cNvSpPr/>
              <p:nvPr/>
            </p:nvSpPr>
            <p:spPr>
              <a:xfrm>
                <a:off x="4191120" y="1447920"/>
                <a:ext cx="3429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90760" y="1447920"/>
                <a:ext cx="312408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91120" y="1447920"/>
                <a:ext cx="281916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91120" y="1447920"/>
                <a:ext cx="2514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90760" y="1447920"/>
                <a:ext cx="2286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1120" y="1447920"/>
                <a:ext cx="2057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190760" y="1447920"/>
                <a:ext cx="1828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191120" y="1447920"/>
                <a:ext cx="1600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90760" y="1447920"/>
                <a:ext cx="1371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191120" y="1447920"/>
                <a:ext cx="1143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90760" y="1447920"/>
                <a:ext cx="914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191120" y="1447920"/>
                <a:ext cx="685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190760" y="1447920"/>
                <a:ext cx="457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191120" y="1447920"/>
                <a:ext cx="228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 flipH="1">
            <a:off x="1828440" y="4038480"/>
            <a:ext cx="60948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28240" y="2286000"/>
            <a:ext cx="6858360" cy="1523880"/>
            <a:chOff x="228240" y="2286000"/>
            <a:chExt cx="6858360" cy="1523880"/>
          </a:xfrm>
        </p:grpSpPr>
        <p:sp>
          <p:nvSpPr>
            <p:cNvPr id="150" name=""/>
            <p:cNvSpPr/>
            <p:nvPr/>
          </p:nvSpPr>
          <p:spPr>
            <a:xfrm>
              <a:off x="3504960" y="22860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228240" y="2819520"/>
              <a:ext cx="3429360" cy="990360"/>
              <a:chOff x="228240" y="2819520"/>
              <a:chExt cx="3429360" cy="990360"/>
            </a:xfrm>
          </p:grpSpPr>
          <p:sp>
            <p:nvSpPr>
              <p:cNvPr id="152" name=""/>
              <p:cNvSpPr/>
              <p:nvPr/>
            </p:nvSpPr>
            <p:spPr>
              <a:xfrm flipH="1">
                <a:off x="228240" y="2819520"/>
                <a:ext cx="3429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533520" y="2819520"/>
                <a:ext cx="312408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838080" y="2819520"/>
                <a:ext cx="281916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1142640" y="2819520"/>
                <a:ext cx="2514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1371600" y="2819520"/>
                <a:ext cx="2286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1599840" y="2819520"/>
                <a:ext cx="2057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1828800" y="2819520"/>
                <a:ext cx="1828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057040" y="2819520"/>
                <a:ext cx="1600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286000" y="2819520"/>
                <a:ext cx="1371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2514240" y="2819520"/>
                <a:ext cx="1143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743200" y="2819520"/>
                <a:ext cx="914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971440" y="2819520"/>
                <a:ext cx="685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3200400" y="2819520"/>
                <a:ext cx="457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3428640" y="2819520"/>
                <a:ext cx="228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 flipH="1">
              <a:off x="3657600" y="2819520"/>
              <a:ext cx="14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657240" y="2819520"/>
              <a:ext cx="3429360" cy="990360"/>
              <a:chOff x="3657240" y="2819520"/>
              <a:chExt cx="3429360" cy="990360"/>
            </a:xfrm>
          </p:grpSpPr>
          <p:sp>
            <p:nvSpPr>
              <p:cNvPr id="168" name=""/>
              <p:cNvSpPr/>
              <p:nvPr/>
            </p:nvSpPr>
            <p:spPr>
              <a:xfrm>
                <a:off x="3657600" y="2819520"/>
                <a:ext cx="3429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657240" y="2819520"/>
                <a:ext cx="312408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657600" y="2819520"/>
                <a:ext cx="281916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57600" y="2819520"/>
                <a:ext cx="2514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57240" y="2819520"/>
                <a:ext cx="2286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57600" y="2819520"/>
                <a:ext cx="2057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57240" y="2819520"/>
                <a:ext cx="1828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57600" y="2819520"/>
                <a:ext cx="1600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57240" y="2819520"/>
                <a:ext cx="1371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57600" y="2819520"/>
                <a:ext cx="11430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57240" y="2819520"/>
                <a:ext cx="914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657600" y="2819520"/>
                <a:ext cx="6858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657240" y="2819520"/>
                <a:ext cx="4572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657600" y="2819520"/>
                <a:ext cx="2286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3657600" y="4191120"/>
            <a:ext cx="5181480" cy="2514600"/>
            <a:chOff x="3657600" y="4191120"/>
            <a:chExt cx="5181480" cy="2514600"/>
          </a:xfrm>
        </p:grpSpPr>
        <p:graphicFrame>
          <p:nvGraphicFramePr>
            <p:cNvPr id="183" name=""/>
            <p:cNvGraphicFramePr/>
            <p:nvPr/>
          </p:nvGraphicFramePr>
          <p:xfrm>
            <a:off x="3657600" y="4191120"/>
            <a:ext cx="5105520" cy="24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57600" y="4191120"/>
                      <a:ext cx="5105520" cy="24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5" name=""/>
            <p:cNvSpPr/>
            <p:nvPr/>
          </p:nvSpPr>
          <p:spPr>
            <a:xfrm>
              <a:off x="8305920" y="4495680"/>
              <a:ext cx="533160" cy="221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Example where C(f) =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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(QC(f)</a:t>
            </a:r>
            <a:r>
              <a:rPr b="1" lang="en-US" sz="4000" spc="-1" strike="noStrike" baseline="30000">
                <a:solidFill>
                  <a:srgbClr val="3333cc"/>
                </a:solidFill>
                <a:latin typeface="Arial"/>
              </a:rPr>
              <a:t>2.205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New Quantum/Classical Re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857240" y="2149560"/>
          <a:ext cx="6066000" cy="17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149560"/>
                    <a:ext cx="606600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533520" y="1676520"/>
            <a:ext cx="8076960" cy="49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total f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ndeg(f) = min degree of poly p s.t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(X)=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reviou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f)=O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de Wolf)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f)=O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Beals et al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380880"/>
            <a:ext cx="853452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dea (follows Buhrman-de Wolf)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t p be s.t. p(X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f(X)=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  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2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re “maxonomials”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Nisan-Smolensky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For every 0-input X and maxonomial M of p, X has a sensitive block whose variables are all in 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Consequenc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Randomized 0-certificate must intersect each maxonomial w.p.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½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Randomized algorith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Keep querying a randomized 0-certificate, until either one no longer exists or p=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61760" y="1676520"/>
            <a:ext cx="7390800" cy="3663360"/>
            <a:chOff x="761760" y="1676520"/>
            <a:chExt cx="7390800" cy="3663360"/>
          </a:xfrm>
        </p:grpSpPr>
        <p:pic>
          <p:nvPicPr>
            <p:cNvPr id="44" name="battle" descr=""/>
            <p:cNvPicPr/>
            <p:nvPr/>
          </p:nvPicPr>
          <p:blipFill>
            <a:blip r:embed="rId1"/>
            <a:stretch/>
          </p:blipFill>
          <p:spPr>
            <a:xfrm>
              <a:off x="4343040" y="2209680"/>
              <a:ext cx="2911320" cy="30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battle2" descr=""/>
            <p:cNvPicPr/>
            <p:nvPr/>
          </p:nvPicPr>
          <p:blipFill>
            <a:blip r:embed="rId2"/>
            <a:stretch/>
          </p:blipFill>
          <p:spPr>
            <a:xfrm>
              <a:off x="1752480" y="2742840"/>
              <a:ext cx="3315960" cy="25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flipH="1">
              <a:off x="761400" y="1676520"/>
              <a:ext cx="3276360" cy="1218960"/>
            </a:xfrm>
            <a:prstGeom prst="wedgeEllipseCallout">
              <a:avLst>
                <a:gd name="adj1" fmla="val -30236"/>
                <a:gd name="adj2" fmla="val 7460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800080"/>
                  </a:solidFill>
                  <a:latin typeface="Arial"/>
                </a:rPr>
                <a:t>QUANTUM ARGUM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4875840" y="1752480"/>
              <a:ext cx="3276360" cy="1218600"/>
            </a:xfrm>
            <a:prstGeom prst="wedgeEllipseCallout">
              <a:avLst>
                <a:gd name="adj1" fmla="val 21171"/>
                <a:gd name="adj2" fmla="val 733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Arial"/>
                </a:rPr>
                <a:t>POLYNOMIALARGUM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522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 History of Quantum Lower B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600" y="152280"/>
            <a:ext cx="8686800" cy="72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Lemma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(ndeg(f) log n) iterations suffice w.h.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Proof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Let S be current set of monomials, 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ially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S)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ndeg(f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ndeg(f)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’re done when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S)=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Arial"/>
              </a:rPr>
              <a:t>Clai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ach iteration decreases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S) by expected amoun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S)/4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Arial"/>
              </a:rPr>
              <a:t>Reason: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1/e o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concentrated on maxonomials,  each of which decreases in degree w.p.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½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362320" y="1600200"/>
          <a:ext cx="396216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00200"/>
                    <a:ext cx="39621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cursive Fourier Sampling</a:t>
            </a:r>
            <a:br>
              <a:rPr sz="4400"/>
            </a:b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(quant-ph/0209060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Fourier Samp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219320"/>
            <a:ext cx="8229600" cy="37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A: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Promis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(x)=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(mod 2) for some 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Retur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(s), for some known g: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 (possibly partial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Classicall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 queries need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Quantuml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2 qu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133720" y="5105520"/>
          <a:ext cx="6248160" cy="13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5105520"/>
                    <a:ext cx="624816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H="1">
            <a:off x="2133720" y="3733920"/>
            <a:ext cx="380880" cy="53316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cc"/>
                </a:solidFill>
                <a:latin typeface="Arial"/>
              </a:rPr>
              <a:t>Recursive Fourier Sampling (RFS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61760" y="1143000"/>
            <a:ext cx="6858360" cy="1297800"/>
            <a:chOff x="761760" y="1143000"/>
            <a:chExt cx="6858360" cy="1297800"/>
          </a:xfrm>
        </p:grpSpPr>
        <p:sp>
          <p:nvSpPr>
            <p:cNvPr id="203" name=""/>
            <p:cNvSpPr/>
            <p:nvPr/>
          </p:nvSpPr>
          <p:spPr>
            <a:xfrm>
              <a:off x="3733920" y="11430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Arial"/>
                </a:rPr>
                <a:t>g(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761760" y="1676520"/>
              <a:ext cx="3429360" cy="761760"/>
              <a:chOff x="761760" y="1676520"/>
              <a:chExt cx="3429360" cy="761760"/>
            </a:xfrm>
          </p:grpSpPr>
          <p:sp>
            <p:nvSpPr>
              <p:cNvPr id="205" name=""/>
              <p:cNvSpPr/>
              <p:nvPr/>
            </p:nvSpPr>
            <p:spPr>
              <a:xfrm flipH="1">
                <a:off x="761760" y="1676520"/>
                <a:ext cx="34290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1067040" y="1676520"/>
                <a:ext cx="312408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1371600" y="1676520"/>
                <a:ext cx="281916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676160" y="1676520"/>
                <a:ext cx="25146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1905120" y="1676520"/>
                <a:ext cx="22860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2133360" y="1676520"/>
                <a:ext cx="20574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2362320" y="1676520"/>
                <a:ext cx="18288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2590560" y="1676520"/>
                <a:ext cx="16002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2819520" y="1676520"/>
                <a:ext cx="13716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3047760" y="1676520"/>
                <a:ext cx="11430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276720" y="1676520"/>
                <a:ext cx="9144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3504960" y="1676520"/>
                <a:ext cx="6858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3733920" y="1676520"/>
                <a:ext cx="4572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3962160" y="1676520"/>
                <a:ext cx="2286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 flipH="1">
              <a:off x="4191120" y="1676520"/>
              <a:ext cx="1440" cy="761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4190760" y="1676520"/>
              <a:ext cx="3429360" cy="761760"/>
              <a:chOff x="4190760" y="1676520"/>
              <a:chExt cx="3429360" cy="761760"/>
            </a:xfrm>
          </p:grpSpPr>
          <p:sp>
            <p:nvSpPr>
              <p:cNvPr id="221" name=""/>
              <p:cNvSpPr/>
              <p:nvPr/>
            </p:nvSpPr>
            <p:spPr>
              <a:xfrm>
                <a:off x="4191120" y="1676520"/>
                <a:ext cx="34290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190760" y="1676520"/>
                <a:ext cx="312408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191120" y="1676520"/>
                <a:ext cx="281916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191120" y="1676520"/>
                <a:ext cx="25146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90760" y="1676520"/>
                <a:ext cx="22860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91120" y="1676520"/>
                <a:ext cx="20574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90760" y="1676520"/>
                <a:ext cx="18288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191120" y="1676520"/>
                <a:ext cx="16002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190760" y="1676520"/>
                <a:ext cx="13716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191120" y="1676520"/>
                <a:ext cx="11430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90760" y="1676520"/>
                <a:ext cx="9144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91120" y="1676520"/>
                <a:ext cx="6858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190760" y="1676520"/>
                <a:ext cx="4572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191120" y="1676520"/>
                <a:ext cx="228600" cy="761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2057400" y="1981080"/>
              <a:ext cx="441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Arial"/>
                </a:rPr>
                <a:t>x’s for which we can get s</a:t>
              </a:r>
              <a:r>
                <a:rPr b="1" lang="en-US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·</a:t>
              </a:r>
              <a:r>
                <a:rPr b="1" lang="en-US" sz="2400" spc="-1" strike="noStrike">
                  <a:solidFill>
                    <a:srgbClr val="ff99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2767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g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04560" y="2895480"/>
            <a:ext cx="3429360" cy="762120"/>
            <a:chOff x="304560" y="2895480"/>
            <a:chExt cx="3429360" cy="762120"/>
          </a:xfrm>
        </p:grpSpPr>
        <p:sp>
          <p:nvSpPr>
            <p:cNvPr id="238" name=""/>
            <p:cNvSpPr/>
            <p:nvPr/>
          </p:nvSpPr>
          <p:spPr>
            <a:xfrm flipH="1">
              <a:off x="304560" y="2895480"/>
              <a:ext cx="34290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09840" y="2895480"/>
              <a:ext cx="312408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914400" y="2895480"/>
              <a:ext cx="281916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1218960" y="2895480"/>
              <a:ext cx="25146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1447920" y="2895480"/>
              <a:ext cx="22860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676160" y="2895480"/>
              <a:ext cx="20574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905120" y="2895480"/>
              <a:ext cx="18288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133360" y="2895480"/>
              <a:ext cx="16002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362320" y="2895480"/>
              <a:ext cx="13716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590560" y="2895480"/>
              <a:ext cx="11430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9520" y="2895480"/>
              <a:ext cx="9144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047760" y="2895480"/>
              <a:ext cx="6858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276720" y="2895480"/>
              <a:ext cx="4572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3504960" y="2895480"/>
              <a:ext cx="2286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 flipH="1">
            <a:off x="3733920" y="2895480"/>
            <a:ext cx="1440" cy="7621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733560" y="2895480"/>
            <a:ext cx="3429360" cy="762120"/>
            <a:chOff x="3733560" y="2895480"/>
            <a:chExt cx="3429360" cy="762120"/>
          </a:xfrm>
        </p:grpSpPr>
        <p:sp>
          <p:nvSpPr>
            <p:cNvPr id="254" name=""/>
            <p:cNvSpPr/>
            <p:nvPr/>
          </p:nvSpPr>
          <p:spPr>
            <a:xfrm>
              <a:off x="3733920" y="2895480"/>
              <a:ext cx="34290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33560" y="2895480"/>
              <a:ext cx="312408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33920" y="2895480"/>
              <a:ext cx="281916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33920" y="2895480"/>
              <a:ext cx="25146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33560" y="2895480"/>
              <a:ext cx="22860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33920" y="2895480"/>
              <a:ext cx="20574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33560" y="2895480"/>
              <a:ext cx="18288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33920" y="2895480"/>
              <a:ext cx="16002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33560" y="2895480"/>
              <a:ext cx="13716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33920" y="2895480"/>
              <a:ext cx="11430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3560" y="2895480"/>
              <a:ext cx="9144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33920" y="2895480"/>
              <a:ext cx="6858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33560" y="2895480"/>
              <a:ext cx="4572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33920" y="2895480"/>
              <a:ext cx="2286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600200" y="3200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x’s for which we can get s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·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4495680"/>
            <a:ext cx="792504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ier sampling composed log n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assical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log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Quantum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log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 queries—or few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1295280"/>
            <a:ext cx="8382240" cy="53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ernstein-Vazirani 199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FS puts BQ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relative to ora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 for BQ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it put (say) BQ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[polylog]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Is uncomputing necessary? 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FS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or c&gt;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= tree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oub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g(s) is a parity fun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F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Plan of At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143000"/>
            <a:ext cx="8382240" cy="54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define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onparity coeffici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the function g,</a:t>
            </a:r>
            <a:br>
              <a:rPr sz="2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0,¾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s how uncorrelated g is with parity of any subset of input bit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Exampl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arity)=0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od 3)=¾–O(1/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then prove a lower boun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g) is close to 0, this bound is useless.  But we show that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if </a:t>
            </a:r>
            <a:r>
              <a:rPr b="1" lang="en-US" sz="26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(g)&lt;0.146 then g is a parity fun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438280" y="4343400"/>
          <a:ext cx="434340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343400"/>
                    <a:ext cx="43434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he Nonparity Coefficient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(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2057400"/>
            <a:ext cx="85341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s.t. for some distribu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 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)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 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)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33520" y="4038480"/>
          <a:ext cx="838188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038480"/>
                    <a:ext cx="83818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7621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RFS lower b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228600"/>
            <a:ext cx="4419720" cy="48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Proof Ide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ses Ambainis’ “most general” bou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(x,y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 if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0)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“differ minimally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ight inputs by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nonparity coeffici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 for all i and (x*,y*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438280" y="228600"/>
          <a:ext cx="434340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28600"/>
                    <a:ext cx="43434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4" name=""/>
          <p:cNvGrpSpPr/>
          <p:nvPr/>
        </p:nvGrpSpPr>
        <p:grpSpPr>
          <a:xfrm>
            <a:off x="4952520" y="1752480"/>
            <a:ext cx="3657960" cy="3200400"/>
            <a:chOff x="4952520" y="1752480"/>
            <a:chExt cx="3657960" cy="3200400"/>
          </a:xfrm>
        </p:grpSpPr>
        <p:sp>
          <p:nvSpPr>
            <p:cNvPr id="285" name=""/>
            <p:cNvSpPr/>
            <p:nvPr/>
          </p:nvSpPr>
          <p:spPr>
            <a:xfrm flipH="1">
              <a:off x="5486400" y="4419360"/>
              <a:ext cx="380880" cy="53352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53080" y="17524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Arial"/>
                </a:rPr>
                <a:t>g(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5409720" y="2285640"/>
              <a:ext cx="16002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638680" y="2285640"/>
              <a:ext cx="13716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866920" y="2285640"/>
              <a:ext cx="11430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095880" y="2285640"/>
              <a:ext cx="9144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324120" y="2285640"/>
              <a:ext cx="6858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553080" y="2285640"/>
              <a:ext cx="4572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781320" y="2285640"/>
              <a:ext cx="2286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7010280" y="2285640"/>
              <a:ext cx="144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0280" y="2285640"/>
              <a:ext cx="16002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10280" y="2285640"/>
              <a:ext cx="13716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10280" y="2285640"/>
              <a:ext cx="11430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10280" y="2285640"/>
              <a:ext cx="9144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10280" y="2285640"/>
              <a:ext cx="6858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10280" y="2285640"/>
              <a:ext cx="4572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10280" y="2285640"/>
              <a:ext cx="2286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95880" y="297144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Arial"/>
                </a:rPr>
                <a:t>g(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4952520" y="3504960"/>
              <a:ext cx="16002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5181480" y="3504960"/>
              <a:ext cx="13716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5409720" y="3504960"/>
              <a:ext cx="11430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638680" y="3504960"/>
              <a:ext cx="9144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5866920" y="3504960"/>
              <a:ext cx="6858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6095880" y="3504960"/>
              <a:ext cx="4572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6324120" y="3504960"/>
              <a:ext cx="2286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6553080" y="3504960"/>
              <a:ext cx="144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53080" y="3504960"/>
              <a:ext cx="16002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53080" y="3504960"/>
              <a:ext cx="13716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53080" y="3504960"/>
              <a:ext cx="11430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53080" y="3504960"/>
              <a:ext cx="9144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53080" y="3504960"/>
              <a:ext cx="685800" cy="762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53080" y="3504960"/>
              <a:ext cx="4572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53080" y="3504960"/>
              <a:ext cx="2286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8" name=""/>
          <p:cNvGraphicFramePr/>
          <p:nvPr/>
        </p:nvGraphicFramePr>
        <p:xfrm>
          <a:off x="533520" y="5410080"/>
          <a:ext cx="8312040" cy="9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410080"/>
                    <a:ext cx="831204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seudoparity” Functions Don’t Exis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57200" y="1295280"/>
            <a:ext cx="8229600" cy="5117400"/>
            <a:chOff x="457200" y="1295280"/>
            <a:chExt cx="8229600" cy="5117400"/>
          </a:xfrm>
        </p:grpSpPr>
        <p:sp>
          <p:nvSpPr>
            <p:cNvPr id="322" name=""/>
            <p:cNvSpPr/>
            <p:nvPr/>
          </p:nvSpPr>
          <p:spPr>
            <a:xfrm>
              <a:off x="457200" y="1295280"/>
              <a:ext cx="8229600" cy="51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Theorem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n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g)=0 (i.e. g is a parity function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 eith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adversary method gives a good quantum lower bound, 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re exists an efficient classical algorithm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23" name=""/>
            <p:cNvGraphicFramePr/>
            <p:nvPr/>
          </p:nvGraphicFramePr>
          <p:xfrm>
            <a:off x="2743200" y="1599840"/>
            <a:ext cx="3505320" cy="1044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1599840"/>
                      <a:ext cx="3505320" cy="10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In general, when can we do better for tree functions than by recursing on subtre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257800" y="1295280"/>
            <a:ext cx="2971800" cy="4458600"/>
            <a:chOff x="5257800" y="1295280"/>
            <a:chExt cx="2971800" cy="4458600"/>
          </a:xfrm>
        </p:grpSpPr>
        <p:sp>
          <p:nvSpPr>
            <p:cNvPr id="327" name=""/>
            <p:cNvSpPr/>
            <p:nvPr/>
          </p:nvSpPr>
          <p:spPr>
            <a:xfrm>
              <a:off x="5791320" y="12952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95880" y="22096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867280" y="2743200"/>
              <a:ext cx="5335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24480" y="18288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29400" y="31240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81680" y="27432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410080" y="1828800"/>
              <a:ext cx="5335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38880" y="3657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248160" y="3657600"/>
              <a:ext cx="5331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34320" y="403848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96080" y="45720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6629400" y="4572000"/>
              <a:ext cx="5335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5181480"/>
              <a:ext cx="228600" cy="4572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57800" y="23619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15000" y="32763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4190760"/>
              <a:ext cx="6098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77120" y="5105160"/>
              <a:ext cx="6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4" name=""/>
          <p:cNvGraphicFramePr/>
          <p:nvPr/>
        </p:nvGraphicFramePr>
        <p:xfrm>
          <a:off x="5486400" y="5638680"/>
          <a:ext cx="280188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5638680"/>
                    <a:ext cx="280188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6" name=""/>
          <p:cNvGrpSpPr/>
          <p:nvPr/>
        </p:nvGrpSpPr>
        <p:grpSpPr>
          <a:xfrm>
            <a:off x="304920" y="1295280"/>
            <a:ext cx="3809880" cy="3048120"/>
            <a:chOff x="304920" y="1295280"/>
            <a:chExt cx="3809880" cy="3048120"/>
          </a:xfrm>
        </p:grpSpPr>
        <p:sp>
          <p:nvSpPr>
            <p:cNvPr id="347" name=""/>
            <p:cNvSpPr/>
            <p:nvPr/>
          </p:nvSpPr>
          <p:spPr>
            <a:xfrm>
              <a:off x="1752840" y="12952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7600" y="3886200"/>
              <a:ext cx="228600" cy="4572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1218960" y="18288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685440" y="2209680"/>
              <a:ext cx="1143360" cy="1143000"/>
              <a:chOff x="685440" y="2209680"/>
              <a:chExt cx="1143360" cy="1143000"/>
            </a:xfrm>
          </p:grpSpPr>
          <p:sp>
            <p:nvSpPr>
              <p:cNvPr id="351" name=""/>
              <p:cNvSpPr/>
              <p:nvPr/>
            </p:nvSpPr>
            <p:spPr>
              <a:xfrm>
                <a:off x="685800" y="220968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</a:rPr>
                  <a:t>AN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447920" y="2743200"/>
                <a:ext cx="3045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685440" y="2743200"/>
                <a:ext cx="30492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2514240" y="2209680"/>
              <a:ext cx="1143360" cy="1143000"/>
              <a:chOff x="2514240" y="2209680"/>
              <a:chExt cx="1143360" cy="1143000"/>
            </a:xfrm>
          </p:grpSpPr>
          <p:sp>
            <p:nvSpPr>
              <p:cNvPr id="355" name=""/>
              <p:cNvSpPr/>
              <p:nvPr/>
            </p:nvSpPr>
            <p:spPr>
              <a:xfrm>
                <a:off x="2514600" y="220968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</a:rPr>
                  <a:t>AN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76720" y="2743200"/>
                <a:ext cx="30456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2514240" y="2743200"/>
                <a:ext cx="30492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2286000" y="1828800"/>
              <a:ext cx="7621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4920" y="3276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95640" y="3276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10040" y="3276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00400" y="3276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456840" y="3886200"/>
              <a:ext cx="228600" cy="4572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4" name=""/>
          <p:cNvGraphicFramePr/>
          <p:nvPr/>
        </p:nvGraphicFramePr>
        <p:xfrm>
          <a:off x="609480" y="4419720"/>
          <a:ext cx="3048120" cy="74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419720"/>
                    <a:ext cx="304812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457200" y="51055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Saks-Wigderson, Santh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57800" y="6324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D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ürr-Høyer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727200" y="5529240"/>
          <a:ext cx="2811240" cy="81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7200" y="5529240"/>
                    <a:ext cx="281124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0" y="62485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Barnum-Saks: holds for any AND-OR tr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attle2" descr=""/>
          <p:cNvPicPr/>
          <p:nvPr/>
        </p:nvPicPr>
        <p:blipFill>
          <a:blip r:embed="rId1"/>
          <a:stretch/>
        </p:blipFill>
        <p:spPr>
          <a:xfrm>
            <a:off x="2514600" y="2743200"/>
            <a:ext cx="3316320" cy="2597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523880" y="1676520"/>
            <a:ext cx="3276720" cy="1218960"/>
          </a:xfrm>
          <a:prstGeom prst="wedgeEllipseCallout">
            <a:avLst>
              <a:gd name="adj1" fmla="val -30236"/>
              <a:gd name="adj2" fmla="val 74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QUANTUM ARGU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 History of Quantum Lower B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5486400"/>
            <a:ext cx="8763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BBV’94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) lower bound for searching a list of n elements (i.e. Grover’s algorithm is optim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85800" y="17524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 (A’2000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s, modulo three “degeneracies”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762120" y="3048120"/>
            <a:ext cx="2133360" cy="2057400"/>
            <a:chOff x="762120" y="3048120"/>
            <a:chExt cx="2133360" cy="2057400"/>
          </a:xfrm>
        </p:grpSpPr>
        <p:sp>
          <p:nvSpPr>
            <p:cNvPr id="373" name=""/>
            <p:cNvSpPr/>
            <p:nvPr/>
          </p:nvSpPr>
          <p:spPr>
            <a:xfrm>
              <a:off x="1447920" y="30481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762120" y="3581280"/>
              <a:ext cx="83808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05120" y="39625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676520" y="4495680"/>
              <a:ext cx="457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14600" y="44956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57400" y="358128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352320" y="3048120"/>
            <a:ext cx="2210400" cy="2057400"/>
            <a:chOff x="3352320" y="3048120"/>
            <a:chExt cx="2210400" cy="2057400"/>
          </a:xfrm>
        </p:grpSpPr>
        <p:sp>
          <p:nvSpPr>
            <p:cNvPr id="380" name=""/>
            <p:cNvSpPr/>
            <p:nvPr/>
          </p:nvSpPr>
          <p:spPr>
            <a:xfrm>
              <a:off x="3962520" y="30481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3352320" y="3581280"/>
              <a:ext cx="8384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19720" y="39625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4267080" y="4495680"/>
              <a:ext cx="457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05520" y="44956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48320" y="358128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943600" y="3048120"/>
            <a:ext cx="2133720" cy="2057400"/>
            <a:chOff x="5943600" y="3048120"/>
            <a:chExt cx="2133720" cy="2057400"/>
          </a:xfrm>
        </p:grpSpPr>
        <p:sp>
          <p:nvSpPr>
            <p:cNvPr id="387" name=""/>
            <p:cNvSpPr/>
            <p:nvPr/>
          </p:nvSpPr>
          <p:spPr>
            <a:xfrm>
              <a:off x="6477120" y="30481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X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5943600" y="3581280"/>
              <a:ext cx="83808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10280" y="396252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X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858000" y="4495680"/>
              <a:ext cx="4572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96080" y="44956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38880" y="358128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Does every Boolean function 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have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a unique tre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ery Complexity &amp; Quantum Gra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505320" y="4419720"/>
            <a:ext cx="51814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surface area of 3D reg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Planck areas, 7.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7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# of bits it cont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for black h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Holographic Principle</a:t>
            </a:r>
            <a:br>
              <a:rPr sz="4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‘t Hooft, Susskind, Bekenstein, Bousso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1905120"/>
            <a:ext cx="2743200" cy="27432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886200" y="1752480"/>
          <a:ext cx="3962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1752480"/>
                    <a:ext cx="3962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505320" y="4419720"/>
            <a:ext cx="51814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surface area of 3D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ime needed to search it for a marked item (given finite speed of ligh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The Query Complexity Holographic Princi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" y="1905120"/>
            <a:ext cx="2743200" cy="27432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3924360" y="2171880"/>
          <a:ext cx="388620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2171880"/>
                    <a:ext cx="38862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Grover Search on a 2D Lat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352680" y="2514600"/>
          <a:ext cx="2514600" cy="2619360"/>
        </p:xfrm>
        <a:graphic>
          <a:graphicData uri="http://schemas.openxmlformats.org/drawingml/2006/table">
            <a:tbl>
              <a:tblPr/>
              <a:tblGrid>
                <a:gridCol w="503280"/>
                <a:gridCol w="503280"/>
                <a:gridCol w="50184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5410080" y="411480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39625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arked i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429000" y="2590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31240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19720" y="2590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29000" y="36576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429000" y="31240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2590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514600"/>
            <a:ext cx="2666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Arial"/>
              </a:rPr>
              <a:t>Quantum compu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2438280"/>
            <a:ext cx="152640" cy="2743200"/>
          </a:xfrm>
          <a:custGeom>
            <a:avLst/>
            <a:gdLst>
              <a:gd name="textAreaLeft" fmla="*/ 97560 w 152640"/>
              <a:gd name="textAreaRight" fmla="*/ 153000 w 1526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403848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 rot="5400000">
            <a:off x="4572000" y="989280"/>
            <a:ext cx="152280" cy="2743200"/>
          </a:xfrm>
          <a:custGeom>
            <a:avLst/>
            <a:gdLst>
              <a:gd name="textAreaLeft" fmla="*/ 97200 w 152280"/>
              <a:gd name="textAreaRight" fmla="*/ 152640 w 1522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19920" y="228600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457200" y="762120"/>
            <a:ext cx="8305920" cy="55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do in O(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3/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time: searching a row classically take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time; combining the results using Grover takes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 dimensions, can do in O(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/2+1/2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ies “query complexity holographic principle”—when d=3,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/2+1/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O(A), in the case where A is minimized (a spher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onjectur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/2+1/2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optimal.  Would imply “holographic” bound is tight for spheres (such as black holes…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676520"/>
            <a:ext cx="7391520" cy="3663360"/>
            <a:chOff x="152280" y="1676520"/>
            <a:chExt cx="7391520" cy="3663360"/>
          </a:xfrm>
        </p:grpSpPr>
        <p:pic>
          <p:nvPicPr>
            <p:cNvPr id="54" name="battle" descr=""/>
            <p:cNvPicPr/>
            <p:nvPr/>
          </p:nvPicPr>
          <p:blipFill>
            <a:blip r:embed="rId1"/>
            <a:stretch/>
          </p:blipFill>
          <p:spPr>
            <a:xfrm>
              <a:off x="3733560" y="2209680"/>
              <a:ext cx="2911680" cy="30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battle2" descr=""/>
            <p:cNvPicPr/>
            <p:nvPr/>
          </p:nvPicPr>
          <p:blipFill>
            <a:blip r:embed="rId2"/>
            <a:stretch/>
          </p:blipFill>
          <p:spPr>
            <a:xfrm>
              <a:off x="1143000" y="2742840"/>
              <a:ext cx="3316320" cy="25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152280" y="1676520"/>
              <a:ext cx="3276720" cy="1218960"/>
            </a:xfrm>
            <a:prstGeom prst="wedgeEllipseCallout">
              <a:avLst>
                <a:gd name="adj1" fmla="val -30236"/>
                <a:gd name="adj2" fmla="val 7460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800080"/>
                  </a:solidFill>
                  <a:latin typeface="Arial"/>
                </a:rPr>
                <a:t>QUANTUM ARGUM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267080" y="1752480"/>
              <a:ext cx="3276720" cy="1218600"/>
            </a:xfrm>
            <a:prstGeom prst="wedgeEllipseCallout">
              <a:avLst>
                <a:gd name="adj1" fmla="val 21171"/>
                <a:gd name="adj2" fmla="val 733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Arial"/>
                </a:rPr>
                <a:t>POLYNOMIALARGUM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522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 History of Quantum Lower B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5562720"/>
            <a:ext cx="8763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BCMW’98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und fo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ymmetric Boolean function f(|X|) with f(k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k+1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914400"/>
            <a:ext cx="22860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276720" y="5562720"/>
          <a:ext cx="2286000" cy="61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5562720"/>
                    <a:ext cx="228600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1523880" y="1676520"/>
            <a:ext cx="7391520" cy="3663360"/>
            <a:chOff x="1523880" y="1676520"/>
            <a:chExt cx="7391520" cy="3663360"/>
          </a:xfrm>
        </p:grpSpPr>
        <p:pic>
          <p:nvPicPr>
            <p:cNvPr id="64" name="battle" descr=""/>
            <p:cNvPicPr/>
            <p:nvPr/>
          </p:nvPicPr>
          <p:blipFill>
            <a:blip r:embed="rId1"/>
            <a:stretch/>
          </p:blipFill>
          <p:spPr>
            <a:xfrm>
              <a:off x="5105160" y="2209680"/>
              <a:ext cx="2911680" cy="30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battle2" descr=""/>
            <p:cNvPicPr/>
            <p:nvPr/>
          </p:nvPicPr>
          <p:blipFill>
            <a:blip r:embed="rId2"/>
            <a:stretch/>
          </p:blipFill>
          <p:spPr>
            <a:xfrm>
              <a:off x="2514600" y="2742840"/>
              <a:ext cx="3316320" cy="25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 flipH="1">
              <a:off x="1523880" y="1676520"/>
              <a:ext cx="3276720" cy="1218960"/>
            </a:xfrm>
            <a:prstGeom prst="wedgeEllipseCallout">
              <a:avLst>
                <a:gd name="adj1" fmla="val -30236"/>
                <a:gd name="adj2" fmla="val 7460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800080"/>
                  </a:solidFill>
                  <a:latin typeface="Arial"/>
                </a:rPr>
                <a:t>QUANTUM ARGUM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5638680" y="1752480"/>
              <a:ext cx="3276720" cy="1218600"/>
            </a:xfrm>
            <a:prstGeom prst="wedgeEllipseCallout">
              <a:avLst>
                <a:gd name="adj1" fmla="val 21171"/>
                <a:gd name="adj2" fmla="val 733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Arial"/>
                </a:rPr>
                <a:t>POLYNOMIALARGUM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522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 History of Quantum Lower B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486400"/>
            <a:ext cx="8763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bainis’00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) bounds for evaluating an AND-OR tree and for finding the ‘1’ in a permu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152280" y="1676520"/>
            <a:ext cx="7391520" cy="3663360"/>
            <a:chOff x="152280" y="1676520"/>
            <a:chExt cx="7391520" cy="3663360"/>
          </a:xfrm>
        </p:grpSpPr>
        <p:pic>
          <p:nvPicPr>
            <p:cNvPr id="71" name="battle" descr=""/>
            <p:cNvPicPr/>
            <p:nvPr/>
          </p:nvPicPr>
          <p:blipFill>
            <a:blip r:embed="rId1"/>
            <a:stretch/>
          </p:blipFill>
          <p:spPr>
            <a:xfrm>
              <a:off x="3733560" y="2209680"/>
              <a:ext cx="2911680" cy="30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battle2" descr=""/>
            <p:cNvPicPr/>
            <p:nvPr/>
          </p:nvPicPr>
          <p:blipFill>
            <a:blip r:embed="rId2"/>
            <a:stretch/>
          </p:blipFill>
          <p:spPr>
            <a:xfrm>
              <a:off x="1143000" y="2742840"/>
              <a:ext cx="3316320" cy="25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 flipH="1">
              <a:off x="152280" y="1676520"/>
              <a:ext cx="3276720" cy="1218960"/>
            </a:xfrm>
            <a:prstGeom prst="wedgeEllipseCallout">
              <a:avLst>
                <a:gd name="adj1" fmla="val -30236"/>
                <a:gd name="adj2" fmla="val 7460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800080"/>
                  </a:solidFill>
                  <a:latin typeface="Arial"/>
                </a:rPr>
                <a:t>QUANTUM ARGUM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4267080" y="1752480"/>
              <a:ext cx="3276720" cy="1218600"/>
            </a:xfrm>
            <a:prstGeom prst="wedgeEllipseCallout">
              <a:avLst>
                <a:gd name="adj1" fmla="val 21171"/>
                <a:gd name="adj2" fmla="val 733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Arial"/>
                </a:rPr>
                <a:t>POLYNOMIALARGUM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522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 History of Quantum Lower B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5218200"/>
            <a:ext cx="8763120" cy="15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’02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bound for the collision problem (deciding whether f:{1…n}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1…n} is 1-to-1 or 2-to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’02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bound for collision with large rang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or element distinc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1523880" y="1676520"/>
            <a:ext cx="7391520" cy="3663360"/>
            <a:chOff x="1523880" y="1676520"/>
            <a:chExt cx="7391520" cy="3663360"/>
          </a:xfrm>
        </p:grpSpPr>
        <p:pic>
          <p:nvPicPr>
            <p:cNvPr id="78" name="battle" descr=""/>
            <p:cNvPicPr/>
            <p:nvPr/>
          </p:nvPicPr>
          <p:blipFill>
            <a:blip r:embed="rId1"/>
            <a:stretch/>
          </p:blipFill>
          <p:spPr>
            <a:xfrm>
              <a:off x="5105160" y="2209680"/>
              <a:ext cx="2911680" cy="30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battle2" descr=""/>
            <p:cNvPicPr/>
            <p:nvPr/>
          </p:nvPicPr>
          <p:blipFill>
            <a:blip r:embed="rId2"/>
            <a:stretch/>
          </p:blipFill>
          <p:spPr>
            <a:xfrm>
              <a:off x="2514600" y="2742840"/>
              <a:ext cx="3316320" cy="25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 flipH="1">
              <a:off x="1523880" y="1676520"/>
              <a:ext cx="3276720" cy="1218960"/>
            </a:xfrm>
            <a:prstGeom prst="wedgeEllipseCallout">
              <a:avLst>
                <a:gd name="adj1" fmla="val -30236"/>
                <a:gd name="adj2" fmla="val 7460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800080"/>
                  </a:solidFill>
                  <a:latin typeface="Arial"/>
                </a:rPr>
                <a:t>QUANTUM ARGUM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638680" y="1752480"/>
              <a:ext cx="3276720" cy="1218600"/>
            </a:xfrm>
            <a:prstGeom prst="wedgeEllipseCallout">
              <a:avLst>
                <a:gd name="adj1" fmla="val 21171"/>
                <a:gd name="adj2" fmla="val 733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8000"/>
                  </a:solidFill>
                  <a:latin typeface="Arial"/>
                </a:rPr>
                <a:t>POLYNOMIALARGUMEN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522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 History of Quantum Lower B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486400"/>
            <a:ext cx="8763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ther results, including what I’ll talk about toda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380880"/>
            <a:ext cx="8001000" cy="601992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1219320"/>
            <a:ext cx="24382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eufm7"/>
              </a:rPr>
              <a:t>Truce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2286000"/>
            <a:ext cx="52578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forth polynomial arguments shall be used for highly symmetric problems and for zero-error bounds, and quantum arguments otherw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soever disobeys, must post to quant-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2057400"/>
            <a:ext cx="792504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71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Quantum Certificate Complex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71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cursive Fourier Sampl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Query Complexity &amp; Quantum Gravity</a:t>
            </a:r>
            <a:br>
              <a:rPr sz="33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special treat for Dave Bac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alk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20:12:09Z</dcterms:created>
  <dc:creator>Avaya User</dc:creator>
  <dc:description/>
  <dc:language>en-US</dc:language>
  <cp:lastModifiedBy>Avaya User</cp:lastModifiedBy>
  <dcterms:modified xsi:type="dcterms:W3CDTF">2002-09-26T02:02:47Z</dcterms:modified>
  <cp:revision>28</cp:revision>
  <dc:subject/>
  <dc:title>Quantum Lower Bounds You probably Haven’t Seen Before</dc:title>
</cp:coreProperties>
</file>