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2.png" ContentType="image/png"/>
  <Override PartName="/ppt/media/image22.gif" ContentType="image/gi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24.png" ContentType="image/png"/>
  <Override PartName="/ppt/media/image11.wmf" ContentType="image/x-wmf"/>
  <Override PartName="/ppt/media/image23.png" ContentType="image/png"/>
  <Override PartName="/ppt/media/image21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6.wmf" ContentType="image/x-wmf"/>
  <Override PartName="/ppt/media/image19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A63-C8A3-4E9B-8BFA-73318940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CA57-C5D2-4B85-BC35-88232FF3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B53-70E7-417D-B3BD-EC489FD6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52D-5DDF-4D90-A5D3-F79E63AF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E15-253F-4588-B957-EF7D6507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9E3A-1A3D-4E9B-95B9-FAE13E31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A7BB-A0D5-4D04-AB43-B66F4961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6B6-5D44-4160-85D1-164829AE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71DE-7876-4DBC-95EA-9A167342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E5D-55F6-41A1-9821-9AB11BE7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561-E18C-405A-9940-62221620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831-107C-441D-A02F-5E3017AB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76F7-D3EA-4808-8470-A9E52EF2F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9196" t="22074" r="25190" b="38068"/>
          <a:stretch/>
        </p:blipFill>
        <p:spPr>
          <a:xfrm>
            <a:off x="0" y="-90360"/>
            <a:ext cx="9148680" cy="6948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1"/>
                </a:solidFill>
                <a:latin typeface="Arial"/>
              </a:rPr>
              <a:t>What Google Won’t Find:</a:t>
            </a:r>
            <a:br>
              <a:rPr sz="4000"/>
            </a:br>
            <a:r>
              <a:rPr b="1" lang="en-US" sz="3600" spc="-1" strike="noStrike">
                <a:solidFill>
                  <a:srgbClr val="ffffc1"/>
                </a:solidFill>
                <a:latin typeface="Arial"/>
              </a:rPr>
              <a:t>The Ultimate Physical Limits of Search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666520" y="5737320"/>
            <a:ext cx="38862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cott Aaron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versity of Waterl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612880" y="2084400"/>
            <a:ext cx="39402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0">
                                      <p:cBhvr>
                                        <p:cTn id="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maybe there’s some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hysical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that solves an NP-complete problem just by “relaxing” to its lowest energy state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5280" y="228600"/>
            <a:ext cx="7620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p two glass plates with pegs between them into soapy wa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447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t the soap bubbles form a minimum Steiner tree connecting the pe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8120" y="2819520"/>
            <a:ext cx="2841480" cy="3668760"/>
            <a:chOff x="3048120" y="2819520"/>
            <a:chExt cx="2841480" cy="3668760"/>
          </a:xfrm>
        </p:grpSpPr>
        <p:sp>
          <p:nvSpPr>
            <p:cNvPr id="121" name=""/>
            <p:cNvSpPr/>
            <p:nvPr/>
          </p:nvSpPr>
          <p:spPr>
            <a:xfrm flipV="1">
              <a:off x="3098880" y="5930640"/>
              <a:ext cx="20304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486400" y="4842000"/>
              <a:ext cx="347760" cy="79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5113440" y="2883960"/>
              <a:ext cx="720720" cy="19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3103200" y="5627520"/>
              <a:ext cx="20628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5627520"/>
              <a:ext cx="33480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309840" y="5640120"/>
              <a:ext cx="218916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051520" y="2819520"/>
              <a:ext cx="129960" cy="131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757840" y="4784760"/>
              <a:ext cx="131760" cy="131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048120" y="6356520"/>
              <a:ext cx="131760" cy="131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048120" y="5570640"/>
              <a:ext cx="131760" cy="131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757840" y="5964120"/>
              <a:ext cx="131760" cy="130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9800" y="32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ther Physical System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1828800"/>
            <a:ext cx="259056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00"/>
                </a:solidFill>
                <a:latin typeface="Arial"/>
              </a:rPr>
              <a:t>Well-known to admit “metastable” sta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75248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in g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ding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51055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DNA computer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Just highly parallel ordinary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1828800"/>
            <a:ext cx="761760" cy="2438280"/>
          </a:xfrm>
          <a:custGeom>
            <a:avLst/>
            <a:gdLst>
              <a:gd name="textAreaLeft" fmla="*/ 0 w 761760"/>
              <a:gd name="textAreaRight" fmla="*/ 275040 w 7617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t’s Quantum Tim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04920" y="4191120"/>
            <a:ext cx="4952880" cy="2394720"/>
            <a:chOff x="304920" y="4191120"/>
            <a:chExt cx="4952880" cy="2394720"/>
          </a:xfrm>
        </p:grpSpPr>
        <p:sp>
          <p:nvSpPr>
            <p:cNvPr id="139" name=""/>
            <p:cNvSpPr/>
            <p:nvPr/>
          </p:nvSpPr>
          <p:spPr>
            <a:xfrm>
              <a:off x="304920" y="4191120"/>
              <a:ext cx="4343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f we observe, we see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with probability 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with probability 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5638680"/>
              <a:ext cx="4952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so, the object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ollapse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to whichever outcome we se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04920" y="1143000"/>
            <a:ext cx="86104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object can be in two stat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it can also be in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er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cc33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|0</a:t>
            </a:r>
            <a:r>
              <a:rPr b="1" lang="en-US" sz="4000" spc="-1" strike="noStrike">
                <a:solidFill>
                  <a:srgbClr val="33cc33"/>
                </a:solidFill>
                <a:latin typeface="Symbol"/>
                <a:ea typeface="Symbol"/>
              </a:rPr>
              <a:t>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 + </a:t>
            </a:r>
            <a:r>
              <a:rPr b="1" lang="en-US" sz="4000" spc="-1" strike="noStrike">
                <a:solidFill>
                  <a:srgbClr val="33cc33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|1</a:t>
            </a:r>
            <a:r>
              <a:rPr b="1" lang="en-US" sz="4000" spc="-1" strike="noStrike">
                <a:solidFill>
                  <a:srgbClr val="33cc33"/>
                </a:solidFill>
                <a:latin typeface="Symbol"/>
                <a:ea typeface="Symbol"/>
              </a:rPr>
              <a:t>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952880" y="2133720"/>
            <a:ext cx="3595680" cy="3657600"/>
            <a:chOff x="4952880" y="2133720"/>
            <a:chExt cx="3595680" cy="3657600"/>
          </a:xfrm>
        </p:grpSpPr>
        <p:sp>
          <p:nvSpPr>
            <p:cNvPr id="143" name=""/>
            <p:cNvSpPr/>
            <p:nvPr/>
          </p:nvSpPr>
          <p:spPr>
            <a:xfrm>
              <a:off x="4952880" y="2743200"/>
              <a:ext cx="304812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52880" y="4267080"/>
              <a:ext cx="30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274320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8001000" y="3886200"/>
            <a:ext cx="54756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001000" y="388620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6265800" y="2133720"/>
            <a:ext cx="5130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65800" y="2133720"/>
                      <a:ext cx="5130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7391520" y="2590920"/>
            <a:ext cx="868320" cy="73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391520" y="259092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2" name=""/>
          <p:cNvSpPr/>
          <p:nvPr/>
        </p:nvSpPr>
        <p:spPr>
          <a:xfrm flipV="1">
            <a:off x="6471000" y="3196080"/>
            <a:ext cx="1078560" cy="1076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74320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lex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plitu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isfying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467760" y="2752920"/>
            <a:ext cx="20160" cy="151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23840" y="183960"/>
            <a:ext cx="797040" cy="1017000"/>
            <a:chOff x="1023840" y="183960"/>
            <a:chExt cx="797040" cy="1017000"/>
          </a:xfrm>
        </p:grpSpPr>
        <p:sp>
          <p:nvSpPr>
            <p:cNvPr id="156" name=""/>
            <p:cNvSpPr/>
            <p:nvPr/>
          </p:nvSpPr>
          <p:spPr>
            <a:xfrm flipV="1">
              <a:off x="1199880" y="206280"/>
              <a:ext cx="424080" cy="99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7"/>
            <a:stretch/>
          </p:blipFill>
          <p:spPr>
            <a:xfrm>
              <a:off x="1023840" y="206640"/>
              <a:ext cx="79704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6200000">
              <a:off x="1303920" y="545760"/>
              <a:ext cx="234000" cy="46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090080" y="361440"/>
              <a:ext cx="332280" cy="260640"/>
              <a:chOff x="1090080" y="361440"/>
              <a:chExt cx="332280" cy="260640"/>
            </a:xfrm>
          </p:grpSpPr>
          <p:sp>
            <p:nvSpPr>
              <p:cNvPr id="160" name=""/>
              <p:cNvSpPr/>
              <p:nvPr/>
            </p:nvSpPr>
            <p:spPr>
              <a:xfrm>
                <a:off x="1100520" y="432720"/>
                <a:ext cx="307440" cy="18936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123920" y="453960"/>
                <a:ext cx="260640" cy="14796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189080" y="465120"/>
                <a:ext cx="125640" cy="1252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61440" y="502920"/>
                <a:ext cx="20160" cy="208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90080" y="420840"/>
                <a:ext cx="43560" cy="4788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38680" y="389160"/>
                <a:ext cx="33480" cy="5220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93040" y="369720"/>
                <a:ext cx="21600" cy="5328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378080" y="425160"/>
                <a:ext cx="44280" cy="4716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340640" y="392040"/>
                <a:ext cx="34560" cy="5184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297440" y="371160"/>
                <a:ext cx="23040" cy="5400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44880" y="361440"/>
                <a:ext cx="18720" cy="540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466280" y="361440"/>
              <a:ext cx="332280" cy="260640"/>
              <a:chOff x="1466280" y="361440"/>
              <a:chExt cx="332280" cy="260640"/>
            </a:xfrm>
          </p:grpSpPr>
          <p:sp>
            <p:nvSpPr>
              <p:cNvPr id="172" name=""/>
              <p:cNvSpPr/>
              <p:nvPr/>
            </p:nvSpPr>
            <p:spPr>
              <a:xfrm>
                <a:off x="1476720" y="432720"/>
                <a:ext cx="307440" cy="18936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00120" y="453960"/>
                <a:ext cx="260640" cy="14796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565280" y="465120"/>
                <a:ext cx="125640" cy="1252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37640" y="502920"/>
                <a:ext cx="20160" cy="208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66280" y="420840"/>
                <a:ext cx="43560" cy="4788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14880" y="389160"/>
                <a:ext cx="33480" cy="5220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569240" y="369720"/>
                <a:ext cx="21600" cy="5328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754280" y="425160"/>
                <a:ext cx="44280" cy="4716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16840" y="392040"/>
                <a:ext cx="34560" cy="5184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673640" y="371160"/>
                <a:ext cx="23040" cy="5400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621080" y="361440"/>
                <a:ext cx="18720" cy="540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 flipV="1">
              <a:off x="1421280" y="183960"/>
              <a:ext cx="221040" cy="49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296120" y="169920"/>
            <a:ext cx="781200" cy="982080"/>
            <a:chOff x="7296120" y="169920"/>
            <a:chExt cx="781200" cy="982080"/>
          </a:xfrm>
        </p:grpSpPr>
        <p:sp>
          <p:nvSpPr>
            <p:cNvPr id="185" name=""/>
            <p:cNvSpPr/>
            <p:nvPr/>
          </p:nvSpPr>
          <p:spPr>
            <a:xfrm flipH="1" flipV="1">
              <a:off x="7497720" y="191520"/>
              <a:ext cx="409320" cy="96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8"/>
            <a:stretch/>
          </p:blipFill>
          <p:spPr>
            <a:xfrm flipH="1">
              <a:off x="7296120" y="1915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 flipH="1" rot="5400000">
              <a:off x="7569720" y="613440"/>
              <a:ext cx="225720" cy="32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7706880" y="409680"/>
              <a:ext cx="296280" cy="183240"/>
              <a:chOff x="7706880" y="409680"/>
              <a:chExt cx="296280" cy="18324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7706520" y="409680"/>
                <a:ext cx="296280" cy="18324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7729560" y="430200"/>
                <a:ext cx="250920" cy="14256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7796160" y="441360"/>
                <a:ext cx="121320" cy="12096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7828200" y="477000"/>
                <a:ext cx="19800" cy="205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7343280" y="409680"/>
              <a:ext cx="296280" cy="183240"/>
              <a:chOff x="7343280" y="409680"/>
              <a:chExt cx="296280" cy="18324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7342920" y="409680"/>
                <a:ext cx="296280" cy="18324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7365960" y="430200"/>
                <a:ext cx="250920" cy="14256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7432560" y="441360"/>
                <a:ext cx="121320" cy="12096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7464600" y="477000"/>
                <a:ext cx="19800" cy="205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H="1" flipV="1">
              <a:off x="7479720" y="169920"/>
              <a:ext cx="213480" cy="48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43000" y="9907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odify a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666880" y="1523880"/>
          <a:ext cx="1600200" cy="13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160020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2741760" y="3962520"/>
          <a:ext cx="1984320" cy="12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1760" y="3962520"/>
                    <a:ext cx="198432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219320" y="297180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multiply the vector of amplitudes by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it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rix—one that pres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57200" y="1981080"/>
          <a:ext cx="3578400" cy="19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357840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4562640" y="990720"/>
            <a:ext cx="4138560" cy="3657600"/>
            <a:chOff x="4562640" y="990720"/>
            <a:chExt cx="4138560" cy="3657600"/>
          </a:xfrm>
        </p:grpSpPr>
        <p:sp>
          <p:nvSpPr>
            <p:cNvPr id="208" name=""/>
            <p:cNvSpPr/>
            <p:nvPr/>
          </p:nvSpPr>
          <p:spPr>
            <a:xfrm>
              <a:off x="5105520" y="1600200"/>
              <a:ext cx="304776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05520" y="3124440"/>
              <a:ext cx="304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29400" y="160020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1" name=""/>
            <p:cNvGraphicFramePr/>
            <p:nvPr/>
          </p:nvGraphicFramePr>
          <p:xfrm>
            <a:off x="8153280" y="2743200"/>
            <a:ext cx="54792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53280" y="2743200"/>
                      <a:ext cx="5479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"/>
            <p:cNvGraphicFramePr/>
            <p:nvPr/>
          </p:nvGraphicFramePr>
          <p:xfrm>
            <a:off x="6418440" y="990720"/>
            <a:ext cx="51264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18440" y="990720"/>
                      <a:ext cx="5126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5" name=""/>
            <p:cNvGraphicFramePr/>
            <p:nvPr/>
          </p:nvGraphicFramePr>
          <p:xfrm>
            <a:off x="7543800" y="1447920"/>
            <a:ext cx="868320" cy="73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43800" y="144792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7" name=""/>
            <p:cNvGraphicFramePr/>
            <p:nvPr/>
          </p:nvGraphicFramePr>
          <p:xfrm>
            <a:off x="4562640" y="1436760"/>
            <a:ext cx="1041120" cy="762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562640" y="1436760"/>
                      <a:ext cx="104112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9" name=""/>
          <p:cNvGrpSpPr/>
          <p:nvPr/>
        </p:nvGrpSpPr>
        <p:grpSpPr>
          <a:xfrm>
            <a:off x="5105520" y="3048120"/>
            <a:ext cx="3047760" cy="228600"/>
            <a:chOff x="5105520" y="3048120"/>
            <a:chExt cx="3047760" cy="228600"/>
          </a:xfrm>
        </p:grpSpPr>
        <p:sp>
          <p:nvSpPr>
            <p:cNvPr id="220" name=""/>
            <p:cNvSpPr/>
            <p:nvPr/>
          </p:nvSpPr>
          <p:spPr>
            <a:xfrm>
              <a:off x="6629400" y="3124440"/>
              <a:ext cx="1523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05520" y="3048120"/>
              <a:ext cx="152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457200" y="1981080"/>
          <a:ext cx="3578400" cy="1954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1981080"/>
                    <a:ext cx="357840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457200" y="5105520"/>
            <a:ext cx="784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re seein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positive and negative amplitudes—the source of all “quantum weird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335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antum state of n “qubits” take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x numbers to describ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971800" y="2514600"/>
          <a:ext cx="2590920" cy="14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514600"/>
                    <a:ext cx="259092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1911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quantum computing is to exploit this exponentiality in N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635120" y="228600"/>
            <a:ext cx="509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or 199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ntum computers can factor integers in polynomi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0" t="0" r="0" b="15999"/>
          <a:stretch/>
        </p:blipFill>
        <p:spPr>
          <a:xfrm>
            <a:off x="434880" y="382680"/>
            <a:ext cx="1046160" cy="13176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7120" y="1898640"/>
            <a:ext cx="81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at about NP-complet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96720" y="3060720"/>
            <a:ext cx="8331120" cy="3408840"/>
            <a:chOff x="396720" y="3060720"/>
            <a:chExt cx="8331120" cy="3408840"/>
          </a:xfrm>
        </p:grpSpPr>
        <p:sp>
          <p:nvSpPr>
            <p:cNvPr id="234" name=""/>
            <p:cNvSpPr/>
            <p:nvPr/>
          </p:nvSpPr>
          <p:spPr>
            <a:xfrm>
              <a:off x="396720" y="3060720"/>
              <a:ext cx="7904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Bennett, Bernstein, Brassard, Vazirani 1994: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“Quantum magic” won’t be enoug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98240" y="4424040"/>
              <a:ext cx="8229600" cy="304920"/>
              <a:chOff x="498240" y="4424040"/>
              <a:chExt cx="8229600" cy="304920"/>
            </a:xfrm>
          </p:grpSpPr>
          <p:sp>
            <p:nvSpPr>
              <p:cNvPr id="236" name=""/>
              <p:cNvSpPr/>
              <p:nvPr/>
            </p:nvSpPr>
            <p:spPr>
              <a:xfrm>
                <a:off x="498240" y="442404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0280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0772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12640" y="442404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71720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02212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27040" y="442404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3160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93652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41440" y="442404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46000" y="4424040"/>
                <a:ext cx="304920" cy="304920"/>
              </a:xfrm>
              <a:prstGeom prst="rect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85092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155840" y="442404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46040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76532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070240" y="442404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37480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67972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84640" y="442404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8920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59412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899040" y="442404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20360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50852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813440" y="442404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11800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42292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6800" y="4913280"/>
              <a:ext cx="79041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ven a quantum computer would need ~2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n/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queries to search an unsorted array of size 2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for a single “marked” ite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888080" y="182520"/>
            <a:ext cx="4255920" cy="2684520"/>
            <a:chOff x="4888080" y="182520"/>
            <a:chExt cx="4255920" cy="268452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rcRect l="1304" t="25263" r="50878" b="20210"/>
            <a:stretch/>
          </p:blipFill>
          <p:spPr>
            <a:xfrm>
              <a:off x="7761240" y="831600"/>
              <a:ext cx="138276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888080" y="182520"/>
              <a:ext cx="3406680" cy="817560"/>
            </a:xfrm>
            <a:prstGeom prst="cloudCallout">
              <a:avLst>
                <a:gd name="adj1" fmla="val 53027"/>
                <a:gd name="adj2" fmla="val 892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ter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Relativity Computing”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3048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762120" y="2895480"/>
            <a:ext cx="1980720" cy="1866600"/>
            <a:chOff x="762120" y="2895480"/>
            <a:chExt cx="1980720" cy="1866600"/>
          </a:xfrm>
        </p:grpSpPr>
        <p:sp>
          <p:nvSpPr>
            <p:cNvPr id="271" name=""/>
            <p:cNvSpPr/>
            <p:nvPr/>
          </p:nvSpPr>
          <p:spPr>
            <a:xfrm>
              <a:off x="1075320" y="2940120"/>
              <a:ext cx="1087560" cy="1033200"/>
            </a:xfrm>
            <a:custGeom>
              <a:avLst/>
              <a:gdLst/>
              <a:ahLst/>
              <a:rect l="l" t="t" r="r" b="b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lnTo>
                    <a:pt x="227" y="1524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08520" y="3083760"/>
              <a:ext cx="756360" cy="729000"/>
            </a:xfrm>
            <a:custGeom>
              <a:avLst/>
              <a:gdLst/>
              <a:ahLst/>
              <a:rect l="l" t="t" r="r" b="b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lnTo>
                    <a:pt x="32" y="641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21560" y="4018320"/>
              <a:ext cx="668160" cy="120240"/>
            </a:xfrm>
            <a:custGeom>
              <a:avLst/>
              <a:gdLst/>
              <a:ahLst/>
              <a:rect l="l" t="t" r="r" b="b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88400" y="3486240"/>
              <a:ext cx="171720" cy="218160"/>
            </a:xfrm>
            <a:custGeom>
              <a:avLst/>
              <a:gdLst/>
              <a:ahLst/>
              <a:rect l="l" t="t" r="r" b="b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lnTo>
                    <a:pt x="192" y="44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23440" y="4367160"/>
              <a:ext cx="406800" cy="278280"/>
            </a:xfrm>
            <a:custGeom>
              <a:avLst/>
              <a:gdLst/>
              <a:ahLst/>
              <a:rect l="l" t="t" r="r" b="b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lnTo>
                    <a:pt x="16" y="135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23440" y="4416840"/>
              <a:ext cx="415080" cy="244080"/>
            </a:xfrm>
            <a:custGeom>
              <a:avLst/>
              <a:gdLst/>
              <a:ahLst/>
              <a:rect l="l" t="t" r="r" b="b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29560" y="4528800"/>
              <a:ext cx="395640" cy="132120"/>
            </a:xfrm>
            <a:custGeom>
              <a:avLst/>
              <a:gdLst/>
              <a:ahLst/>
              <a:rect l="l" t="t" r="r" b="b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34240" y="4437000"/>
              <a:ext cx="97560" cy="55440"/>
            </a:xfrm>
            <a:custGeom>
              <a:avLst/>
              <a:gdLst/>
              <a:ahLst/>
              <a:rect l="l" t="t" r="r" b="b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35920" y="4471200"/>
              <a:ext cx="106920" cy="181440"/>
            </a:xfrm>
            <a:custGeom>
              <a:avLst/>
              <a:gdLst/>
              <a:ahLst/>
              <a:rect l="l" t="t" r="r" b="b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08320" y="4365000"/>
              <a:ext cx="353520" cy="292320"/>
            </a:xfrm>
            <a:custGeom>
              <a:avLst/>
              <a:gdLst/>
              <a:ahLst/>
              <a:rect l="l" t="t" r="r" b="b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lnTo>
                    <a:pt x="504" y="114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53480" y="4500360"/>
              <a:ext cx="101520" cy="127440"/>
            </a:xfrm>
            <a:custGeom>
              <a:avLst/>
              <a:gdLst/>
              <a:ahLst/>
              <a:rect l="l" t="t" r="r" b="b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37920" y="4404960"/>
              <a:ext cx="156600" cy="90720"/>
            </a:xfrm>
            <a:custGeom>
              <a:avLst/>
              <a:gdLst/>
              <a:ahLst/>
              <a:rect l="l" t="t" r="r" b="b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lnTo>
                    <a:pt x="222" y="1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89320" y="4387320"/>
              <a:ext cx="103680" cy="23400"/>
            </a:xfrm>
            <a:custGeom>
              <a:avLst/>
              <a:gdLst/>
              <a:ahLst/>
              <a:rect l="l" t="t" r="r" b="b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30560" y="4545360"/>
              <a:ext cx="488880" cy="216720"/>
            </a:xfrm>
            <a:custGeom>
              <a:avLst/>
              <a:gdLst/>
              <a:ahLst/>
              <a:rect l="l" t="t" r="r" b="b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89840" y="4285800"/>
              <a:ext cx="1465200" cy="302760"/>
            </a:xfrm>
            <a:custGeom>
              <a:avLst/>
              <a:gdLst/>
              <a:ahLst/>
              <a:rect l="l" t="t" r="r" b="b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78920" y="4110120"/>
              <a:ext cx="1122840" cy="295920"/>
            </a:xfrm>
            <a:custGeom>
              <a:avLst/>
              <a:gdLst/>
              <a:ahLst/>
              <a:rect l="l" t="t" r="r" b="b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71240" y="3972240"/>
              <a:ext cx="610560" cy="128160"/>
            </a:xfrm>
            <a:custGeom>
              <a:avLst/>
              <a:gdLst/>
              <a:ahLst/>
              <a:rect l="l" t="t" r="r" b="b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53280" y="3124080"/>
              <a:ext cx="285120" cy="872640"/>
            </a:xfrm>
            <a:custGeom>
              <a:avLst/>
              <a:gdLst/>
              <a:ahLst/>
              <a:rect l="l" t="t" r="r" b="b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lnTo>
                    <a:pt x="50" y="1260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24080" y="3834000"/>
              <a:ext cx="544320" cy="86040"/>
            </a:xfrm>
            <a:custGeom>
              <a:avLst/>
              <a:gdLst/>
              <a:ahLst/>
              <a:rect l="l" t="t" r="r" b="b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43720" y="3028680"/>
              <a:ext cx="840240" cy="754560"/>
            </a:xfrm>
            <a:custGeom>
              <a:avLst/>
              <a:gdLst/>
              <a:ahLst/>
              <a:rect l="l" t="t" r="r" b="b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lnTo>
                    <a:pt x="203" y="1143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95680" y="4159800"/>
              <a:ext cx="360360" cy="126000"/>
            </a:xfrm>
            <a:custGeom>
              <a:avLst/>
              <a:gdLst/>
              <a:ahLst/>
              <a:rect l="l" t="t" r="r" b="b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33560" y="4218480"/>
              <a:ext cx="175320" cy="76680"/>
            </a:xfrm>
            <a:custGeom>
              <a:avLst/>
              <a:gdLst/>
              <a:ahLst/>
              <a:rect l="l" t="t" r="r" b="b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6160" y="4501800"/>
              <a:ext cx="1461240" cy="89280"/>
            </a:xfrm>
            <a:custGeom>
              <a:avLst/>
              <a:gdLst/>
              <a:ahLst/>
              <a:rect l="l" t="t" r="r" b="b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62360" y="4066560"/>
              <a:ext cx="1157040" cy="90360"/>
            </a:xfrm>
            <a:custGeom>
              <a:avLst/>
              <a:gdLst/>
              <a:ahLst/>
              <a:rect l="l" t="t" r="r" b="b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lnTo>
                    <a:pt x="11" y="114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58560" y="4077000"/>
              <a:ext cx="73080" cy="339480"/>
            </a:xfrm>
            <a:custGeom>
              <a:avLst/>
              <a:gdLst/>
              <a:ahLst/>
              <a:rect l="l" t="t" r="r" b="b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86320" y="4169160"/>
              <a:ext cx="32760" cy="113400"/>
            </a:xfrm>
            <a:custGeom>
              <a:avLst/>
              <a:gdLst/>
              <a:ahLst/>
              <a:rect l="l" t="t" r="r" b="b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lnTo>
                    <a:pt x="48" y="21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98920" y="4152600"/>
              <a:ext cx="362880" cy="29160"/>
            </a:xfrm>
            <a:custGeom>
              <a:avLst/>
              <a:gdLst/>
              <a:ahLst/>
              <a:rect l="l" t="t" r="r" b="b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25280" y="4215240"/>
              <a:ext cx="204840" cy="56520"/>
            </a:xfrm>
            <a:custGeom>
              <a:avLst/>
              <a:gdLst/>
              <a:ahLst/>
              <a:rect l="l" t="t" r="r" b="b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90360" y="4249440"/>
              <a:ext cx="1106640" cy="74160"/>
            </a:xfrm>
            <a:custGeom>
              <a:avLst/>
              <a:gdLst/>
              <a:ahLst/>
              <a:rect l="l" t="t" r="r" b="b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5480" y="4475880"/>
              <a:ext cx="1008720" cy="56160"/>
            </a:xfrm>
            <a:custGeom>
              <a:avLst/>
              <a:gdLst/>
              <a:ahLst/>
              <a:rect l="l" t="t" r="r" b="b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27960" y="4312080"/>
              <a:ext cx="133200" cy="190800"/>
            </a:xfrm>
            <a:custGeom>
              <a:avLst/>
              <a:gdLst/>
              <a:ahLst/>
              <a:rect l="l" t="t" r="r" b="b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89160" y="4520520"/>
              <a:ext cx="77760" cy="7416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lnTo>
                    <a:pt x="112" y="14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99560" y="4547880"/>
              <a:ext cx="1414080" cy="55080"/>
            </a:xfrm>
            <a:custGeom>
              <a:avLst/>
              <a:gdLst/>
              <a:ahLst/>
              <a:rect l="l" t="t" r="r" b="b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65960" y="4321440"/>
              <a:ext cx="753120" cy="76680"/>
            </a:xfrm>
            <a:custGeom>
              <a:avLst/>
              <a:gdLst/>
              <a:ahLst/>
              <a:rect l="l" t="t" r="r" b="b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28160" y="4389840"/>
              <a:ext cx="547920" cy="56520"/>
            </a:xfrm>
            <a:custGeom>
              <a:avLst/>
              <a:gdLst/>
              <a:ahLst/>
              <a:rect l="l" t="t" r="r" b="b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26360" y="4373280"/>
              <a:ext cx="164880" cy="30600"/>
            </a:xfrm>
            <a:custGeom>
              <a:avLst/>
              <a:gdLst/>
              <a:ahLst/>
              <a:rect l="l" t="t" r="r" b="b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64160" y="4414320"/>
              <a:ext cx="167040" cy="27000"/>
            </a:xfrm>
            <a:custGeom>
              <a:avLst/>
              <a:gdLst/>
              <a:ahLst/>
              <a:rect l="l" t="t" r="r" b="b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77120" y="4460400"/>
              <a:ext cx="194400" cy="33120"/>
            </a:xfrm>
            <a:custGeom>
              <a:avLst/>
              <a:gdLst/>
              <a:ahLst/>
              <a:rect l="l" t="t" r="r" b="b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38960" y="2895480"/>
              <a:ext cx="1028880" cy="270000"/>
            </a:xfrm>
            <a:custGeom>
              <a:avLst/>
              <a:gdLst/>
              <a:ahLst/>
              <a:rect l="l" t="t" r="r" b="b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04200" y="2916360"/>
              <a:ext cx="105840" cy="153000"/>
            </a:xfrm>
            <a:custGeom>
              <a:avLst/>
              <a:gdLst/>
              <a:ahLst/>
              <a:rect l="l" t="t" r="r" b="b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33640" y="3047400"/>
              <a:ext cx="178920" cy="897120"/>
            </a:xfrm>
            <a:custGeom>
              <a:avLst/>
              <a:gdLst/>
              <a:ahLst/>
              <a:rect l="l" t="t" r="r" b="b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lnTo>
                    <a:pt x="259" y="24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86480" y="2976480"/>
              <a:ext cx="114120" cy="812520"/>
            </a:xfrm>
            <a:custGeom>
              <a:avLst/>
              <a:gdLst/>
              <a:ahLst/>
              <a:rect l="l" t="t" r="r" b="b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lnTo>
                    <a:pt x="167" y="17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37520" y="3187800"/>
              <a:ext cx="199080" cy="756000"/>
            </a:xfrm>
            <a:custGeom>
              <a:avLst/>
              <a:gdLst/>
              <a:ahLst/>
              <a:rect l="l" t="t" r="r" b="b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55680" y="3949560"/>
              <a:ext cx="648360" cy="38880"/>
            </a:xfrm>
            <a:custGeom>
              <a:avLst/>
              <a:gdLst/>
              <a:ahLst/>
              <a:rect l="l" t="t" r="r" b="b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17000" y="3950640"/>
              <a:ext cx="123480" cy="42480"/>
            </a:xfrm>
            <a:custGeom>
              <a:avLst/>
              <a:gdLst/>
              <a:ahLst/>
              <a:rect l="l" t="t" r="r" b="b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21560" y="3958200"/>
              <a:ext cx="97560" cy="1285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65400" y="4077000"/>
              <a:ext cx="46800" cy="5904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lnTo>
                    <a:pt x="20" y="83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05040" y="3955680"/>
              <a:ext cx="143640" cy="84960"/>
            </a:xfrm>
            <a:custGeom>
              <a:avLst/>
              <a:gdLst/>
              <a:ahLst/>
              <a:rect l="l" t="t" r="r" b="b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68840" y="4018320"/>
              <a:ext cx="22320" cy="76320"/>
            </a:xfrm>
            <a:custGeom>
              <a:avLst/>
              <a:gdLst/>
              <a:ahLst/>
              <a:rect l="l" t="t" r="r" b="b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08960" y="3862440"/>
              <a:ext cx="30240" cy="62280"/>
            </a:xfrm>
            <a:custGeom>
              <a:avLst/>
              <a:gdLst/>
              <a:ahLst/>
              <a:rect l="l" t="t" r="r" b="b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1120" y="3823560"/>
              <a:ext cx="572760" cy="54000"/>
            </a:xfrm>
            <a:custGeom>
              <a:avLst/>
              <a:gdLst/>
              <a:ahLst/>
              <a:rect l="l" t="t" r="r" b="b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7320" y="3825720"/>
              <a:ext cx="20880" cy="71640"/>
            </a:xfrm>
            <a:custGeom>
              <a:avLst/>
              <a:gdLst/>
              <a:ahLst/>
              <a:rect l="l" t="t" r="r" b="b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49600" y="3854160"/>
              <a:ext cx="20880" cy="55080"/>
            </a:xfrm>
            <a:custGeom>
              <a:avLst/>
              <a:gdLst/>
              <a:ahLst/>
              <a:rect l="l" t="t" r="r" b="b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42320" y="3853080"/>
              <a:ext cx="25920" cy="55440"/>
            </a:xfrm>
            <a:custGeom>
              <a:avLst/>
              <a:gdLst/>
              <a:ahLst/>
              <a:rect l="l" t="t" r="r" b="b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18480" y="3849480"/>
              <a:ext cx="24480" cy="57600"/>
            </a:xfrm>
            <a:custGeom>
              <a:avLst/>
              <a:gdLst/>
              <a:ahLst/>
              <a:rect l="l" t="t" r="r" b="b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411200" y="3855240"/>
              <a:ext cx="25920" cy="6228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24760" y="3083760"/>
              <a:ext cx="207360" cy="83520"/>
            </a:xfrm>
            <a:custGeom>
              <a:avLst/>
              <a:gdLst/>
              <a:ahLst/>
              <a:rect l="l" t="t" r="r" b="b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53080" y="3342240"/>
              <a:ext cx="165960" cy="449280"/>
            </a:xfrm>
            <a:custGeom>
              <a:avLst/>
              <a:gdLst/>
              <a:ahLst/>
              <a:rect l="l" t="t" r="r" b="b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15800" y="3727080"/>
              <a:ext cx="588240" cy="82080"/>
            </a:xfrm>
            <a:custGeom>
              <a:avLst/>
              <a:gdLst/>
              <a:ahLst/>
              <a:rect l="l" t="t" r="r" b="b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lnTo>
                    <a:pt x="26" y="92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66240" y="3061800"/>
              <a:ext cx="122400" cy="699120"/>
            </a:xfrm>
            <a:custGeom>
              <a:avLst/>
              <a:gdLst/>
              <a:ahLst/>
              <a:rect l="l" t="t" r="r" b="b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lnTo>
                    <a:pt x="166" y="14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2120" y="4488840"/>
              <a:ext cx="61200" cy="79920"/>
            </a:xfrm>
            <a:custGeom>
              <a:avLst/>
              <a:gdLst/>
              <a:ahLst/>
              <a:rect l="l" t="t" r="r" b="b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52000" y="3055680"/>
              <a:ext cx="804960" cy="210960"/>
            </a:xfrm>
            <a:custGeom>
              <a:avLst/>
              <a:gdLst/>
              <a:ahLst/>
              <a:rect l="l" t="t" r="r" b="b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05280" y="3116880"/>
              <a:ext cx="328680" cy="353880"/>
            </a:xfrm>
            <a:custGeom>
              <a:avLst/>
              <a:gdLst/>
              <a:ahLst/>
              <a:rect l="l" t="t" r="r" b="b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54080" y="4140720"/>
              <a:ext cx="29160" cy="119160"/>
            </a:xfrm>
            <a:custGeom>
              <a:avLst/>
              <a:gdLst/>
              <a:ahLst/>
              <a:rect l="l" t="t" r="r" b="b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438280" y="3124080"/>
            <a:ext cx="703440" cy="76212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4300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6037E-006 C 0.00174 -0.06326 0.06129 -0.15666 0.1441 -0.18354 C 0.22691 -0.21043 0.41563 -0.20625 0.49671 -0.16106 C 0.57778 -0.11587 0.64462 0.0146 0.63056 0.0883 C 0.6165 0.162 0.4948 0.26258 0.41198 0.28065 C 0.32917 0.29873 0.20209 0.24427 0.13403 0.19676 C 0.06598 0.14925 -0.00815 0.06999 -4.72222E-006 -3.36037E-006 Z">
                                      <p:cBhvr>
                                        <p:cTn id="110" dur="1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1600" y="239400"/>
            <a:ext cx="82296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nalog Computing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2640" y="1319040"/>
            <a:ext cx="799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first step of a computation in 1 sec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in ½ sec, the third in ¼ sec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6280" y="2525760"/>
            <a:ext cx="82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in “Malament-Hogarth spacetimes,” which have naked singu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4200" y="3755880"/>
            <a:ext cx="8261280" cy="2887560"/>
            <a:chOff x="484200" y="3755880"/>
            <a:chExt cx="8261280" cy="2887560"/>
          </a:xfrm>
        </p:grpSpPr>
        <p:sp>
          <p:nvSpPr>
            <p:cNvPr id="341" name=""/>
            <p:cNvSpPr/>
            <p:nvPr/>
          </p:nvSpPr>
          <p:spPr>
            <a:xfrm>
              <a:off x="484200" y="3755880"/>
              <a:ext cx="8261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Problem: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The Planck scale (10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-33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cm, 10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-43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sec) seems to impose a fundamental limit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1"/>
            <a:srcRect l="5475" t="49626" r="5475" b="6472"/>
            <a:stretch/>
          </p:blipFill>
          <p:spPr>
            <a:xfrm>
              <a:off x="2112840" y="4782960"/>
              <a:ext cx="4461120" cy="186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121" dur="3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3000" fill="hold"/>
                                        <p:tgtEl>
                                          <p:spTgt spid="343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76360" y="3870360"/>
            <a:ext cx="7991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field—theoretical computer science—is directly concerned with the question of how to distinguish God from mortal impos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1760" y="343080"/>
            <a:ext cx="831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Why Am I Speaking Her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95240" y="1738440"/>
            <a:ext cx="8510760" cy="1549440"/>
            <a:chOff x="795240" y="1738440"/>
            <a:chExt cx="8510760" cy="1549440"/>
          </a:xfrm>
        </p:grpSpPr>
        <p:sp>
          <p:nvSpPr>
            <p:cNvPr id="48" name=""/>
            <p:cNvSpPr/>
            <p:nvPr/>
          </p:nvSpPr>
          <p:spPr>
            <a:xfrm>
              <a:off x="825480" y="1765440"/>
              <a:ext cx="8318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cc00cc"/>
                  </a:solidFill>
                  <a:latin typeface="Arial"/>
                </a:rPr>
                <a:t>“</a:t>
              </a:r>
              <a:r>
                <a:rPr b="0" lang="en-US" sz="5000" spc="-1" strike="noStrike">
                  <a:solidFill>
                    <a:srgbClr val="cc00cc"/>
                  </a:solidFill>
                  <a:latin typeface="Arial"/>
                </a:rPr>
                <a:t>Is Google God?”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25480" y="2604960"/>
              <a:ext cx="75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—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omas Friedman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NY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 6/29/20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795240" y="1738440"/>
              <a:ext cx="1470240" cy="1549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ime Travel Computing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63600" y="896760"/>
            <a:ext cx="820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aïve ide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the first step of a computation, then go back in time and do the next step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53880" y="3240000"/>
            <a:ext cx="856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solution (Deutsch 1991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probability or quantum theory.  E.g. you’re born with ½ probability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’re born you go back and kill your grandfather, ergo you’re born with ½ probabilit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52440" y="1876320"/>
            <a:ext cx="8204040" cy="1252800"/>
            <a:chOff x="352440" y="1876320"/>
            <a:chExt cx="8204040" cy="1252800"/>
          </a:xfrm>
        </p:grpSpPr>
        <p:sp>
          <p:nvSpPr>
            <p:cNvPr id="348" name=""/>
            <p:cNvSpPr/>
            <p:nvPr/>
          </p:nvSpPr>
          <p:spPr>
            <a:xfrm>
              <a:off x="352440" y="2173320"/>
              <a:ext cx="820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roblem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Grandfather paradox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"/>
            <a:stretch/>
          </p:blipFill>
          <p:spPr>
            <a:xfrm>
              <a:off x="6006960" y="1876320"/>
              <a:ext cx="1397160" cy="125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>
            <a:off x="393840" y="5234040"/>
            <a:ext cx="8204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ly suggests a model of computation, which can be shown to be exactly as powerful as the class PSPACE (A.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Gravit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7340760" y="2690640"/>
            <a:ext cx="1191960" cy="3780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77720" y="1441440"/>
            <a:ext cx="66643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reedman, Kitaev, Wang 2000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“Topological quantum field theories,” a particular class of (2+1)-dimensional quantum gravity theories, yield no more power than ordinary quantum compu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5760" y="4511520"/>
            <a:ext cx="6664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ing theory?  Loop quantum gravity?  It’d help if the physicists themselves understood these things better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96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nthropic Computing”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9600" y="1212840"/>
            <a:ext cx="779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 a solution to an NP-complete problem.  If it’s wrong, kill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9600" y="2541600"/>
            <a:ext cx="7731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 you could kill yourself in all universes where a quantum computer fails, then condition on remaining alive.  What’s the class of problems you could then solve in polynomial ti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6120" y="5099040"/>
            <a:ext cx="7869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. 2005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t’s exactly the classical complexity class PP (Probabilistic Polynomial-Time), which is believed to be strictly larger than N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22200" y="490680"/>
            <a:ext cx="4110120" cy="29350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2480" y="140328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Law of Ther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46520" y="3438360"/>
            <a:ext cx="4110120" cy="29354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06800" y="435132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Counter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348000" y="3244680"/>
            <a:ext cx="1506600" cy="11080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4221000" y="2638440"/>
            <a:ext cx="1339920" cy="10684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2200" y="490680"/>
            <a:ext cx="4110120" cy="29350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82480" y="146844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Superluminal Sign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46520" y="3438360"/>
            <a:ext cx="4110120" cy="29354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906800" y="435132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Counter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48000" y="3244680"/>
            <a:ext cx="1506600" cy="11080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4221000" y="2638440"/>
            <a:ext cx="1339920" cy="10684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22200" y="490680"/>
            <a:ext cx="4110120" cy="29350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2480" y="1224000"/>
            <a:ext cx="367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actability of NP-complet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46520" y="3438360"/>
            <a:ext cx="4110120" cy="29354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06800" y="435132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Counter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348000" y="3244680"/>
            <a:ext cx="1506600" cy="11080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4221000" y="2638440"/>
            <a:ext cx="1339920" cy="10684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603000">
            <a:off x="5949720" y="-257040"/>
            <a:ext cx="19047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cc00cc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luding Remark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30240" y="2116080"/>
            <a:ext cx="72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know this talk seemed pessimisti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39600" y="321624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’m an optim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040" y="1165320"/>
            <a:ext cx="8427960" cy="53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3300"/>
                </a:solidFill>
                <a:latin typeface="Arial"/>
              </a:rPr>
              <a:t>Problem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“Given the Internet, are at least 50% of web pages all reachable from one another?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ach particular Internet is an </a:t>
            </a:r>
            <a:r>
              <a:rPr b="1" lang="en-US" sz="3100" spc="-1" strike="noStrike">
                <a:solidFill>
                  <a:srgbClr val="ff3300"/>
                </a:solidFill>
                <a:latin typeface="Arial"/>
              </a:rPr>
              <a:t>insta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100" spc="-1" strike="noStrike">
                <a:solidFill>
                  <a:srgbClr val="ff3300"/>
                </a:solidFill>
                <a:latin typeface="Arial"/>
              </a:rPr>
              <a:t>siz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of the instance, n, is the number of bits needed to specify i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 algorithm is </a:t>
            </a:r>
            <a:r>
              <a:rPr b="1" lang="en-US" sz="3100" spc="-1" strike="noStrike">
                <a:solidFill>
                  <a:srgbClr val="ff3300"/>
                </a:solidFill>
                <a:latin typeface="Arial"/>
              </a:rPr>
              <a:t>polynomial-tim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f it uses at most kn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steps, for some constants k,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the class of all problems that have polynomial-time algorith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S Theory in On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P: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Nondeterministic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Polynomial Tim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51460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379765951771766953797024914793741172726275933019504626889963674936650784536994217766359204092298415904323398509069628960404170720961978805136508024164948216028859271269686294643130473534263952048819204754561291633050938469681196839122324054336880515678623037853371491842811969677438058008308154426799037209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752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6480" y="5334120"/>
            <a:ext cx="57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a factor ending in 7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P-hard: If you can solve it, you can solve everything in NP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P-complete: NP-hard and in 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514240" y="4495680"/>
            <a:ext cx="20574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14240" y="3276720"/>
            <a:ext cx="2286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34340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819520" y="5638320"/>
            <a:ext cx="19047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434340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819520" y="4495680"/>
            <a:ext cx="175248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990720" y="33526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327672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4572000"/>
            <a:ext cx="2057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066680" y="4572000"/>
            <a:ext cx="15242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579132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41972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434340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31240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5410080"/>
            <a:ext cx="38124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5562720"/>
            <a:ext cx="38124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64000" y="3151080"/>
            <a:ext cx="32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there a Hamilton cycle (tour that visits each vertex exactly once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90360" y="3336480"/>
            <a:ext cx="3780000" cy="2691360"/>
            <a:chOff x="990360" y="3336480"/>
            <a:chExt cx="3780000" cy="2691360"/>
          </a:xfrm>
        </p:grpSpPr>
        <p:sp>
          <p:nvSpPr>
            <p:cNvPr id="78" name=""/>
            <p:cNvSpPr/>
            <p:nvPr/>
          </p:nvSpPr>
          <p:spPr>
            <a:xfrm flipH="1" flipV="1">
              <a:off x="990360" y="4336920"/>
              <a:ext cx="68040" cy="13939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050840" y="4571640"/>
              <a:ext cx="1540080" cy="11574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920" y="4578480"/>
              <a:ext cx="2179440" cy="10443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803320" y="5632560"/>
              <a:ext cx="1958760" cy="3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2803680" y="4503600"/>
              <a:ext cx="1768320" cy="15242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2827440" y="3336480"/>
              <a:ext cx="1744560" cy="11746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998640" y="3344760"/>
              <a:ext cx="1828800" cy="9986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22480" y="1295280"/>
            <a:ext cx="3005280" cy="5181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78320" y="5181480"/>
            <a:ext cx="1965240" cy="685800"/>
          </a:xfrm>
          <a:custGeom>
            <a:avLst/>
            <a:gdLst/>
            <a:ahLst/>
            <a:rect l="l" t="t" r="r" b="b"/>
            <a:pathLst>
              <a:path w="1392" h="536">
                <a:moveTo>
                  <a:pt x="0" y="536"/>
                </a:moveTo>
                <a:cubicBezTo>
                  <a:pt x="220" y="276"/>
                  <a:pt x="440" y="16"/>
                  <a:pt x="672" y="8"/>
                </a:cubicBezTo>
                <a:cubicBezTo>
                  <a:pt x="904" y="0"/>
                  <a:pt x="1148" y="244"/>
                  <a:pt x="1392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46120" y="0"/>
            <a:ext cx="5867640" cy="2819520"/>
          </a:xfrm>
          <a:custGeom>
            <a:avLst/>
            <a:gdLst/>
            <a:ahLst/>
            <a:rect l="l" t="t" r="r" b="b"/>
            <a:pathLst>
              <a:path w="4320" h="1632">
                <a:moveTo>
                  <a:pt x="0" y="0"/>
                </a:moveTo>
                <a:cubicBezTo>
                  <a:pt x="744" y="816"/>
                  <a:pt x="1488" y="1632"/>
                  <a:pt x="2208" y="1632"/>
                </a:cubicBezTo>
                <a:cubicBezTo>
                  <a:pt x="2928" y="1632"/>
                  <a:pt x="3624" y="816"/>
                  <a:pt x="43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7040" y="5410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440" y="3276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N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51240" y="1295280"/>
            <a:ext cx="22096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00"/>
                </a:solidFill>
                <a:latin typeface="Arial"/>
              </a:rPr>
              <a:t>NP-comple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2640" y="2286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NP-h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8120" y="4573440"/>
            <a:ext cx="3811680" cy="1557000"/>
            <a:chOff x="168120" y="4573440"/>
            <a:chExt cx="3811680" cy="1557000"/>
          </a:xfrm>
        </p:grpSpPr>
        <p:sp>
          <p:nvSpPr>
            <p:cNvPr id="93" name=""/>
            <p:cNvSpPr/>
            <p:nvPr/>
          </p:nvSpPr>
          <p:spPr>
            <a:xfrm>
              <a:off x="2909880" y="5357880"/>
              <a:ext cx="106992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8120" y="4573440"/>
              <a:ext cx="2986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connectivit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imality tes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ar programm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022800" y="860040"/>
            <a:ext cx="3121200" cy="1874160"/>
            <a:chOff x="6022800" y="860040"/>
            <a:chExt cx="3121200" cy="1874160"/>
          </a:xfrm>
        </p:grpSpPr>
        <p:sp>
          <p:nvSpPr>
            <p:cNvPr id="96" name=""/>
            <p:cNvSpPr/>
            <p:nvPr/>
          </p:nvSpPr>
          <p:spPr>
            <a:xfrm flipH="1" flipV="1">
              <a:off x="6022800" y="860040"/>
              <a:ext cx="1005120" cy="74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57800" y="1542960"/>
              <a:ext cx="29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lting problem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ing problem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79280" y="1260360"/>
            <a:ext cx="3592800" cy="1922760"/>
            <a:chOff x="179280" y="1260360"/>
            <a:chExt cx="3592800" cy="1922760"/>
          </a:xfrm>
        </p:grpSpPr>
        <p:sp>
          <p:nvSpPr>
            <p:cNvPr id="99" name=""/>
            <p:cNvSpPr/>
            <p:nvPr/>
          </p:nvSpPr>
          <p:spPr>
            <a:xfrm flipV="1">
              <a:off x="2459160" y="1827360"/>
              <a:ext cx="131292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9280" y="1260360"/>
              <a:ext cx="28702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milton cyc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3-color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tisfiabilit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ximum cliqu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209920" y="3227400"/>
            <a:ext cx="3934080" cy="1191240"/>
            <a:chOff x="5209920" y="3227400"/>
            <a:chExt cx="3934080" cy="1191240"/>
          </a:xfrm>
        </p:grpSpPr>
        <p:sp>
          <p:nvSpPr>
            <p:cNvPr id="102" name=""/>
            <p:cNvSpPr/>
            <p:nvPr/>
          </p:nvSpPr>
          <p:spPr>
            <a:xfrm flipH="1">
              <a:off x="5209920" y="3693960"/>
              <a:ext cx="965160" cy="2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57800" y="3227400"/>
              <a:ext cx="29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actor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isomorphism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8920" y="366840"/>
            <a:ext cx="853416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Arial"/>
              </a:rPr>
              <a:t>Audience Exam</a:t>
            </a:r>
            <a:endParaRPr b="1" lang="en-US" sz="5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1640" y="49230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credit: Prove i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ou’ll win at least $1,000,000 if you 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5200" y="148284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es P=NP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7440" y="3246480"/>
            <a:ext cx="474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could we do if we could solve NP-complete problems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12500" t="0" r="7500" b="11043"/>
          <a:stretch/>
        </p:blipFill>
        <p:spPr>
          <a:xfrm>
            <a:off x="609480" y="1676520"/>
            <a:ext cx="1957680" cy="2463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477120" y="1981080"/>
            <a:ext cx="1790640" cy="2190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429000" y="1905120"/>
            <a:ext cx="2286000" cy="2274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52440" y="4456080"/>
            <a:ext cx="85914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there actually were a machine with [running time] ~Kn (or even only with ~Kn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, this would have consequences of the greatest magnitude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—G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l to von Neumann, 195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49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n why is it so hard to prove P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P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1400" y="2097000"/>
            <a:ext cx="784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gorithms can be </a:t>
            </a: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very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clev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1400" y="316404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l/Turing-style diagonalization arguments don’t seem powerful enoug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1400" y="476424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binatorial arguments face the “Razborov-Rudich barrier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cott Aaronson</cp:lastModifiedBy>
  <dcterms:modified xsi:type="dcterms:W3CDTF">2005-08-24T20:32:53Z</dcterms:modified>
  <cp:revision>47</cp:revision>
  <dc:subject/>
  <dc:title>Slide 1</dc:title>
</cp:coreProperties>
</file>