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A031-5B75-4CB2-BA71-0B9A2FC2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E90-DDC1-4A7F-9C42-E0AE2764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964-2C09-40A6-84F9-6EDCB13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A99-853C-4EC5-A599-1B25B4BC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2BD-0F03-4EA5-BF88-9BFF3FAD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290-D811-4C86-9AB8-2200E6D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752-813E-4C29-8506-770A8C40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B99-F085-4EBE-A30B-62DA3BA5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DB1-1EF6-4B80-AEE5-715DA5F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F8F-B653-4B9D-9716-103C20A2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EE4-2D44-4894-A755-05A7C92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975-F10A-4BA5-8097-4A822F8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45F-ABFD-46DC-BBFB-587CFA1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BB3-E04D-4B79-84C8-03EAFB86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U.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51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52280" y="914400"/>
            <a:ext cx="899172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gorithm for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Dimen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4969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8600" y="4097160"/>
            <a:ext cx="8915400" cy="2508840"/>
            <a:chOff x="228600" y="4097160"/>
            <a:chExt cx="8915400" cy="2508840"/>
          </a:xfrm>
        </p:grpSpPr>
        <p:sp>
          <p:nvSpPr>
            <p:cNvPr id="423" name=""/>
            <p:cNvSpPr/>
            <p:nvPr/>
          </p:nvSpPr>
          <p:spPr>
            <a:xfrm>
              <a:off x="2971800" y="4097160"/>
              <a:ext cx="6172200" cy="14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(n)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T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4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+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d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) = 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5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)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(1-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2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-1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4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-1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we show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egligib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8600" y="4114800"/>
              <a:ext cx="7772400" cy="24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0000"/>
                  </a:solidFill>
                  <a:latin typeface="Arial"/>
                </a:rPr>
                <a:t>Running Time: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0000"/>
                  </a:solidFill>
                  <a:latin typeface="Arial"/>
                </a:rPr>
                <a:t>Success Prob: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Amplify whole algorithm 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22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times to get </a:t>
              </a:r>
              <a:br>
                <a:rPr sz="2900"/>
              </a:b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(n) = 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22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5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 = O(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),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) =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Boun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04920" y="990720"/>
          <a:ext cx="8610480" cy="2979720"/>
        </p:xfrm>
        <a:graphic>
          <a:graphicData uri="http://schemas.openxmlformats.org/drawingml/2006/table">
            <a:tbl>
              <a:tblPr/>
              <a:tblGrid>
                <a:gridCol w="3505320"/>
                <a:gridCol w="3047760"/>
                <a:gridCol w="205740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marked it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marked i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/ k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-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itrary grap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2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 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itrary graph, h possible marked i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n/h)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n/h)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2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 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304920" y="4114800"/>
            <a:ext cx="8610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d=2, time for Grover search matches radius of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rbitrary graph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-dimens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for any vertex v, number of vertices at distance r from v 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in{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n}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are h possible marked items with known locations, the worst case is that they’re evenly scatte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*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435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436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450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1600200" y="723888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23888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7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4191120"/>
            <a:ext cx="73915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,z(A),z(B)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cent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1219320"/>
            <a:ext cx="845820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lds-Goldsto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tial search by quantum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d=3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 for d=4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d&gt;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time not competitive with ours in low dimensions, but less memory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bainis-Kem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crete walk with 2-bit c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 for d=2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to Dirac eq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Search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21932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200" y="2362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09680" y="1904760"/>
            <a:ext cx="60984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362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4640" y="1904760"/>
            <a:ext cx="68580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429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0384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 quantu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648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BBV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410080"/>
            <a:ext cx="701028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combinatorial search—but can it help with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b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185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389240"/>
            <a:ext cx="83822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workspace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|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-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(i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 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73915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915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715000" y="7238880"/>
          <a:ext cx="360036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7238880"/>
                    <a:ext cx="3600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3880" y="1752480"/>
            <a:ext cx="1143000" cy="9907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990720"/>
            <a:ext cx="35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ecompos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6002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59092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59092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905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8800" y="1905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29718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is a product of commuting edgewis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2362320"/>
            <a:ext cx="1143000" cy="99036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91440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2) Zero pattern of U respects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20968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220968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32004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32004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25146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76400" y="25146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086600" y="1905120"/>
          <a:ext cx="1600200" cy="1822320"/>
        </p:xfrm>
        <a:graphic>
          <a:graphicData uri="http://schemas.openxmlformats.org/drawingml/2006/table">
            <a:tbl>
              <a:tblPr/>
              <a:tblGrid>
                <a:gridCol w="381240"/>
                <a:gridCol w="419040"/>
                <a:gridCol w="399960"/>
                <a:gridCol w="39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 rot="16200000">
            <a:off x="5638680" y="327636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 rot="16200000">
            <a:off x="5637960" y="17514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905120"/>
            <a:ext cx="175284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962520"/>
            <a:ext cx="426708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3) Zero pattern of Hamiltonian H respects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U = e</a:t>
            </a:r>
            <a:r>
              <a:rPr b="1" lang="en-US" sz="4400" spc="-1" strike="noStrike" baseline="30000">
                <a:solidFill>
                  <a:srgbClr val="009900"/>
                </a:solidFill>
                <a:latin typeface="Arial"/>
              </a:rPr>
              <a:t>i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has bounded eigen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19720" y="914400"/>
            <a:ext cx="0" cy="5943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38480"/>
            <a:ext cx="41911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2),(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per bounds work for (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wer bounds for (2),(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ther they’re equivalent is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72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380880"/>
            <a:ext cx="8381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database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1337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ne can do asymptotically is store data on a 2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/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986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5334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search a 2D region in less than n ste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04920" y="1447920"/>
            <a:ext cx="8839080" cy="5046480"/>
            <a:chOff x="304920" y="1447920"/>
            <a:chExt cx="8839080" cy="5046480"/>
          </a:xfrm>
        </p:grpSpPr>
        <p:sp>
          <p:nvSpPr>
            <p:cNvPr id="285" name=""/>
            <p:cNvSpPr/>
            <p:nvPr/>
          </p:nvSpPr>
          <p:spPr>
            <a:xfrm>
              <a:off x="4114800" y="2743200"/>
              <a:ext cx="480060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time to move across grid is needed for subroutine anyway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y adding more levels of recursion, can make running time O(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/2+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1447920"/>
              <a:ext cx="88390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Examp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ake a classical subroutine that searches a square of siz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steps</a:t>
              </a:r>
              <a:br>
                <a:rPr sz="28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u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copies in superposition and use Grover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O(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/4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33520" y="3048120"/>
              <a:ext cx="3352680" cy="3446280"/>
              <a:chOff x="533520" y="3048120"/>
              <a:chExt cx="3352680" cy="3446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33520" y="3048120"/>
                <a:ext cx="3352680" cy="3446280"/>
                <a:chOff x="533520" y="3048120"/>
                <a:chExt cx="3352680" cy="344628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533520" y="3048120"/>
                  <a:ext cx="3327120" cy="3446280"/>
                  <a:chOff x="533520" y="3048120"/>
                  <a:chExt cx="3327120" cy="34462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49092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12084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75112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38104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1276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64304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27296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90324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335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9092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12084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75112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38104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01276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4304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27296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90324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335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49092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2084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75112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38104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01276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64304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27296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90324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335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49092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2084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75112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38104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01276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64304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27296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90324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335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9092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12084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75112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38104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01276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4304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27296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90324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335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49092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12084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75112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38104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01276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64304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27296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90324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335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49092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2084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75112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38104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01276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64304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27296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90324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335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49092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2084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75112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38104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01276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64304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27296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90324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335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092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12084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75112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38104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01276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64304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27296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90324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35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3352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352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3352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352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352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3352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3352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3352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3352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3352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3352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032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27296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6430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1276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3810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751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1208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490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86064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274320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3352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12408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67652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74320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3352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7652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74320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67652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3352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91440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33520" y="3048120"/>
                <a:ext cx="3352680" cy="2286000"/>
                <a:chOff x="533520" y="3048120"/>
                <a:chExt cx="3352680" cy="228600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533520" y="3048120"/>
                  <a:ext cx="3352680" cy="2286000"/>
                  <a:chOff x="533520" y="3048120"/>
                  <a:chExt cx="3352680" cy="22860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74320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3352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>
                  <a:off x="91440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2408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5334120"/>
            <a:ext cx="396252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 we do better? Sa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mplitude Amplification</a:t>
            </a:r>
            <a:br>
              <a:rPr sz="40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ssard, 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øyer, Mosca, Tapp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447920" y="2692440"/>
            <a:ext cx="6248160" cy="4165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85800" y="12952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has success probability p and returns a certificate, then by invoking it m times, m=O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), we can amplify success probability to (1-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/3)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61722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of Iter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8354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ccess Proba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333760" y="3962160"/>
            <a:ext cx="68580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3657600"/>
            <a:ext cx="2286000" cy="947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minishing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124080" y="5562720"/>
            <a:ext cx="182880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5105520"/>
            <a:ext cx="3200400" cy="825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etter to keep prob low &amp; amplif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19:28Z</dcterms:created>
  <dc:creator>Avaya User</dc:creator>
  <dc:description/>
  <dc:language>en-US</dc:language>
  <cp:lastModifiedBy>aaronson</cp:lastModifiedBy>
  <dcterms:modified xsi:type="dcterms:W3CDTF">2003-10-08T07:34:58Z</dcterms:modified>
  <cp:revision>22</cp:revision>
  <dc:subject/>
  <dc:title>Quantum Search of Spatial Regions</dc:title>
</cp:coreProperties>
</file>