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BEC5-02E6-49A9-9870-05FEB7AFD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sil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5FA9-726F-421B-9436-0A489B609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CBA9-9A98-4BA2-B85F-788570EC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11E0-6165-4E4A-B164-5CFAE7520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BCA8-916B-46EF-9D8F-FC4943E35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0693-8EEC-4EDE-B878-F3146AA6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0C55-C468-46C4-9028-EC4AAFE4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27ED-D059-4D76-93EB-94E32DC9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11FC-81DD-446F-9B73-4EC61D60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E2B0-45ED-4E79-818A-2BF2C452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F381-8B92-413F-8F2E-613A7D54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3D44-242F-40DC-A495-AD3CFD47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B828-096A-4021-8A1F-D12405C4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3E1F-B87E-4CDC-9380-544C444C3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Quantum Search of Spatial Regions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54100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ott Aaronson (UC Berkele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oint work with Andris Ambainis (U. Latvi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819520" y="1600200"/>
            <a:ext cx="3352680" cy="3446280"/>
            <a:chOff x="2819520" y="1600200"/>
            <a:chExt cx="3352680" cy="3446280"/>
          </a:xfrm>
        </p:grpSpPr>
        <p:grpSp>
          <p:nvGrpSpPr>
            <p:cNvPr id="51" name=""/>
            <p:cNvGrpSpPr/>
            <p:nvPr/>
          </p:nvGrpSpPr>
          <p:grpSpPr>
            <a:xfrm>
              <a:off x="2819520" y="1600200"/>
              <a:ext cx="3352680" cy="3446280"/>
              <a:chOff x="2819520" y="1600200"/>
              <a:chExt cx="3352680" cy="344628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2819520" y="1600200"/>
                <a:ext cx="3327120" cy="3446280"/>
                <a:chOff x="2819520" y="1600200"/>
                <a:chExt cx="3327120" cy="344628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5776920" y="466380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406840" y="466380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037120" y="466380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4667040" y="466380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4298760" y="4663800"/>
                  <a:ext cx="3679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3929040" y="466380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3558960" y="466380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189240" y="466380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2819520" y="466380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5776920" y="428112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5406840" y="428112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5037120" y="428112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4667040" y="428112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4298760" y="4281120"/>
                  <a:ext cx="3679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3929040" y="428112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3558960" y="428112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3189240" y="428112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2819520" y="428112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5776920" y="3897000"/>
                  <a:ext cx="3693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5406840" y="3897000"/>
                  <a:ext cx="3697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037120" y="3897000"/>
                  <a:ext cx="3693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4667040" y="3897000"/>
                  <a:ext cx="3697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4298760" y="3897000"/>
                  <a:ext cx="3679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929040" y="3897000"/>
                  <a:ext cx="3693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558960" y="3897000"/>
                  <a:ext cx="3697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189240" y="3897000"/>
                  <a:ext cx="3693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819520" y="3897000"/>
                  <a:ext cx="36972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776920" y="351432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406840" y="351432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5037120" y="351432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4667040" y="351432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4298760" y="3514320"/>
                  <a:ext cx="3679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3929040" y="351432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558960" y="351432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3189240" y="351432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819520" y="351432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5776920" y="313164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5406840" y="313164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5037120" y="313164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667040" y="313164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298760" y="3131640"/>
                  <a:ext cx="3679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929040" y="313164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558960" y="313164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189240" y="313164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819520" y="313164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776920" y="2749320"/>
                  <a:ext cx="36936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5406840" y="2749320"/>
                  <a:ext cx="3697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037120" y="2749320"/>
                  <a:ext cx="36936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667040" y="2749320"/>
                  <a:ext cx="3697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298760" y="2749320"/>
                  <a:ext cx="3679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929040" y="2749320"/>
                  <a:ext cx="36936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558960" y="2749320"/>
                  <a:ext cx="3697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189240" y="2749320"/>
                  <a:ext cx="36936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819520" y="2749320"/>
                  <a:ext cx="3697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776920" y="2364840"/>
                  <a:ext cx="36936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5406840" y="2364840"/>
                  <a:ext cx="36972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037120" y="2364840"/>
                  <a:ext cx="36936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667040" y="2364840"/>
                  <a:ext cx="36972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4298760" y="2364840"/>
                  <a:ext cx="36792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929040" y="2364840"/>
                  <a:ext cx="36936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558960" y="2364840"/>
                  <a:ext cx="36972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189240" y="2364840"/>
                  <a:ext cx="36936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819520" y="2364840"/>
                  <a:ext cx="36972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5776920" y="1982520"/>
                  <a:ext cx="36936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406840" y="1982520"/>
                  <a:ext cx="3697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037120" y="1982520"/>
                  <a:ext cx="36936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667040" y="1982520"/>
                  <a:ext cx="3697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298760" y="1982520"/>
                  <a:ext cx="3679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929040" y="1982520"/>
                  <a:ext cx="36936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558960" y="1982520"/>
                  <a:ext cx="3697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189240" y="1982520"/>
                  <a:ext cx="36936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819520" y="1982520"/>
                  <a:ext cx="36972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776920" y="160020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5406840" y="160020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037120" y="160020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667040" y="160020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298760" y="1600200"/>
                  <a:ext cx="3679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929040" y="160020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558960" y="160020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189240" y="1600200"/>
                  <a:ext cx="36936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819520" y="1600200"/>
                  <a:ext cx="369720" cy="38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819520" y="1600200"/>
                  <a:ext cx="332712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819520" y="1982520"/>
                  <a:ext cx="3327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819520" y="2364840"/>
                  <a:ext cx="3327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819520" y="2749320"/>
                  <a:ext cx="3327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819520" y="3131640"/>
                  <a:ext cx="3327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819520" y="3514320"/>
                  <a:ext cx="3327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2819520" y="3897000"/>
                  <a:ext cx="3327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819520" y="4281120"/>
                  <a:ext cx="3327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819520" y="4663800"/>
                  <a:ext cx="3327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819520" y="5046480"/>
                  <a:ext cx="332712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819520" y="1600200"/>
                  <a:ext cx="0" cy="344628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189240" y="1600200"/>
                  <a:ext cx="0" cy="3446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558960" y="1600200"/>
                  <a:ext cx="0" cy="3446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929040" y="1600200"/>
                  <a:ext cx="0" cy="3446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298760" y="1600200"/>
                  <a:ext cx="0" cy="3446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667040" y="1600200"/>
                  <a:ext cx="0" cy="3446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037120" y="1600200"/>
                  <a:ext cx="0" cy="3446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406840" y="1600200"/>
                  <a:ext cx="0" cy="3446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776920" y="1600200"/>
                  <a:ext cx="0" cy="3446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146640" y="1600200"/>
                  <a:ext cx="0" cy="344628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5029200" y="2743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819520" y="3886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410080" y="3504960"/>
                <a:ext cx="381240" cy="3812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962520" y="3886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029200" y="3886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819520" y="2743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962520" y="1600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029200" y="1600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962520" y="2743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819520" y="1600200"/>
                <a:ext cx="1143000" cy="1143000"/>
              </a:xfrm>
              <a:prstGeom prst="roundRect">
                <a:avLst>
                  <a:gd name="adj" fmla="val 27917"/>
                </a:avLst>
              </a:prstGeom>
              <a:solidFill>
                <a:srgbClr val="00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00400" y="1981080"/>
                <a:ext cx="380880" cy="3808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2819520" y="1600200"/>
              <a:ext cx="3352680" cy="2286000"/>
              <a:chOff x="2819520" y="1600200"/>
              <a:chExt cx="3352680" cy="228600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2819520" y="1600200"/>
                <a:ext cx="3352680" cy="2286000"/>
                <a:chOff x="2819520" y="1600200"/>
                <a:chExt cx="3352680" cy="228600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5029200" y="274320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cc66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819520" y="160020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cc66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3200400" y="1981080"/>
                <a:ext cx="380880" cy="3808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410080" y="3504960"/>
                <a:ext cx="381240" cy="3812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52280" y="914400"/>
            <a:ext cx="8991720" cy="29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ssume there’s a unique marked ite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ivide into n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1/5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subcubes, each of size n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4/5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lgorithm </a:t>
            </a:r>
            <a:r>
              <a:rPr b="1" lang="en-US" sz="29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=1, check whether you’re at a marked i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 pick a random subcube and ru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y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Algorithm for d</a:t>
            </a:r>
            <a:r>
              <a:rPr b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3 Dimension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62120" y="249696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228600" y="4097160"/>
            <a:ext cx="8915400" cy="2508840"/>
            <a:chOff x="228600" y="4097160"/>
            <a:chExt cx="8915400" cy="2508840"/>
          </a:xfrm>
        </p:grpSpPr>
        <p:sp>
          <p:nvSpPr>
            <p:cNvPr id="423" name=""/>
            <p:cNvSpPr/>
            <p:nvPr/>
          </p:nvSpPr>
          <p:spPr>
            <a:xfrm>
              <a:off x="2971800" y="4097160"/>
              <a:ext cx="6172200" cy="14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T(n) </a:t>
              </a:r>
              <a:r>
                <a:rPr b="0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 n</a:t>
              </a:r>
              <a:r>
                <a:rPr b="0" lang="en-US" sz="2900" spc="-1" strike="noStrike" baseline="30000">
                  <a:solidFill>
                    <a:srgbClr val="000000"/>
                  </a:solidFill>
                  <a:latin typeface="Arial"/>
                </a:rPr>
                <a:t>1/11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(T(n</a:t>
              </a:r>
              <a:r>
                <a:rPr b="0" lang="en-US" sz="2900" spc="-1" strike="noStrike" baseline="30000">
                  <a:solidFill>
                    <a:srgbClr val="000000"/>
                  </a:solidFill>
                  <a:latin typeface="Arial"/>
                </a:rPr>
                <a:t>4/5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)+O(n</a:t>
              </a:r>
              <a:r>
                <a:rPr b="0" lang="en-US" sz="2900" spc="-1" strike="noStrike" baseline="30000">
                  <a:solidFill>
                    <a:srgbClr val="000000"/>
                  </a:solidFill>
                  <a:latin typeface="Arial"/>
                </a:rPr>
                <a:t>1/d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)) = O(n</a:t>
              </a:r>
              <a:r>
                <a:rPr b="0" lang="en-US" sz="2900" spc="-1" strike="noStrike" baseline="30000">
                  <a:solidFill>
                    <a:srgbClr val="000000"/>
                  </a:solidFill>
                  <a:latin typeface="Arial"/>
                </a:rPr>
                <a:t>5/11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P(n) </a:t>
              </a:r>
              <a:r>
                <a:rPr b="0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 (1-</a:t>
              </a:r>
              <a:r>
                <a:rPr b="0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)n</a:t>
              </a:r>
              <a:r>
                <a:rPr b="0" lang="en-US" sz="2900" spc="-1" strike="noStrike" baseline="30000">
                  <a:solidFill>
                    <a:srgbClr val="000000"/>
                  </a:solidFill>
                  <a:latin typeface="Arial"/>
                </a:rPr>
                <a:t>2/11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900" spc="-1" strike="noStrike" baseline="30000">
                  <a:solidFill>
                    <a:srgbClr val="000000"/>
                  </a:solidFill>
                  <a:latin typeface="Arial"/>
                </a:rPr>
                <a:t>-1/5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P(n</a:t>
              </a:r>
              <a:r>
                <a:rPr b="0" lang="en-US" sz="2900" spc="-1" strike="noStrike" baseline="30000">
                  <a:solidFill>
                    <a:srgbClr val="000000"/>
                  </a:solidFill>
                  <a:latin typeface="Arial"/>
                </a:rPr>
                <a:t>4/5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) = </a:t>
              </a:r>
              <a:r>
                <a:rPr b="0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(n</a:t>
              </a:r>
              <a:r>
                <a:rPr b="0" lang="en-US" sz="2900" spc="-1" strike="noStrike" baseline="30000">
                  <a:solidFill>
                    <a:srgbClr val="000000"/>
                  </a:solidFill>
                  <a:latin typeface="Arial"/>
                </a:rPr>
                <a:t>-1/11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we show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s negligibl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8600" y="4114800"/>
              <a:ext cx="7772400" cy="24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0000"/>
                  </a:solidFill>
                  <a:latin typeface="Arial"/>
                </a:rPr>
                <a:t>Running Time: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0000"/>
                  </a:solidFill>
                  <a:latin typeface="Arial"/>
                </a:rPr>
                <a:t>Success Prob: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Amplify whole algorithm n</a:t>
              </a:r>
              <a:r>
                <a:rPr b="0" lang="en-US" sz="2900" spc="-1" strike="noStrike" baseline="30000">
                  <a:solidFill>
                    <a:srgbClr val="000000"/>
                  </a:solidFill>
                  <a:latin typeface="Arial"/>
                </a:rPr>
                <a:t>1/22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 times to get </a:t>
              </a:r>
              <a:br>
                <a:rPr sz="2900"/>
              </a:b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T(n) = O(n</a:t>
              </a:r>
              <a:r>
                <a:rPr b="0" lang="en-US" sz="2900" spc="-1" strike="noStrike" baseline="30000">
                  <a:solidFill>
                    <a:srgbClr val="000000"/>
                  </a:solidFill>
                  <a:latin typeface="Arial"/>
                </a:rPr>
                <a:t>1/22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900" spc="-1" strike="noStrike" baseline="30000">
                  <a:solidFill>
                    <a:srgbClr val="000000"/>
                  </a:solidFill>
                  <a:latin typeface="Arial"/>
                </a:rPr>
                <a:t>5/11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) = O(</a:t>
              </a:r>
              <a:r>
                <a:rPr b="0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n),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P(n) = </a:t>
              </a:r>
              <a:r>
                <a:rPr b="0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ummary of Bound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304920" y="990720"/>
          <a:ext cx="8610480" cy="2979720"/>
        </p:xfrm>
        <a:graphic>
          <a:graphicData uri="http://schemas.openxmlformats.org/drawingml/2006/table">
            <a:tbl>
              <a:tblPr/>
              <a:tblGrid>
                <a:gridCol w="3505320"/>
                <a:gridCol w="3047760"/>
                <a:gridCol w="2057400"/>
              </a:tblGrid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=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que marked ite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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log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 marked item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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/ k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/2-1/d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log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bitrary graph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log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2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O(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log n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bitrary graph, h possible marked item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(n/h)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/d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og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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(n/h)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/d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2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O(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log n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7" name=""/>
          <p:cNvSpPr/>
          <p:nvPr/>
        </p:nvSpPr>
        <p:spPr>
          <a:xfrm>
            <a:off x="304920" y="4114800"/>
            <a:ext cx="861048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d=2, time for Grover search matches radius of gr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arbitrary graph is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d-dimension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for any vertex v, number of vertices at distance r from v i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min{r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n}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there are h possible marked items with known locations, the worst case is that they’re evenly scatter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457200" y="518148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Razborov 2002: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57200" y="1600200"/>
            <a:ext cx="83818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bl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ice has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ob has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They want to know if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 for som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Application: Disjointnes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57200" y="28195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qubits must they communica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3581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uhrman, Cleve, Wigderson 1998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log 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57200" y="43434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er, de Wolf 2002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log*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"/>
          <p:cNvGrpSpPr/>
          <p:nvPr/>
        </p:nvGrpSpPr>
        <p:grpSpPr>
          <a:xfrm>
            <a:off x="1371600" y="1523520"/>
            <a:ext cx="6400440" cy="1829160"/>
            <a:chOff x="1371600" y="1523520"/>
            <a:chExt cx="6400440" cy="1829160"/>
          </a:xfrm>
        </p:grpSpPr>
        <p:grpSp>
          <p:nvGrpSpPr>
            <p:cNvPr id="435" name=""/>
            <p:cNvGrpSpPr/>
            <p:nvPr/>
          </p:nvGrpSpPr>
          <p:grpSpPr>
            <a:xfrm>
              <a:off x="1371600" y="1599840"/>
              <a:ext cx="1752480" cy="1752840"/>
              <a:chOff x="1371600" y="1599840"/>
              <a:chExt cx="1752480" cy="1752840"/>
            </a:xfrm>
          </p:grpSpPr>
          <p:sp>
            <p:nvSpPr>
              <p:cNvPr id="436" name=""/>
              <p:cNvSpPr/>
              <p:nvPr/>
            </p:nvSpPr>
            <p:spPr>
              <a:xfrm>
                <a:off x="1371600" y="1600200"/>
                <a:ext cx="1752480" cy="1752480"/>
              </a:xfrm>
              <a:prstGeom prst="cube">
                <a:avLst>
                  <a:gd name="adj" fmla="val 33967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371600" y="259056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371600" y="297144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V="1">
                <a:off x="1752480" y="220968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>
                <a:off x="2133720" y="220968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>
                <a:off x="1752480" y="1599840"/>
                <a:ext cx="60984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2133720" y="1599840"/>
                <a:ext cx="60948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600200" y="198108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781280" y="179208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2514600" y="1981080"/>
                <a:ext cx="60948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>
                <a:off x="2514600" y="2361960"/>
                <a:ext cx="60948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2743200" y="198108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>
                <a:off x="2951280" y="180144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6019560" y="1523520"/>
              <a:ext cx="1752480" cy="1752840"/>
              <a:chOff x="6019560" y="1523520"/>
              <a:chExt cx="1752480" cy="1752840"/>
            </a:xfrm>
          </p:grpSpPr>
          <p:sp>
            <p:nvSpPr>
              <p:cNvPr id="450" name=""/>
              <p:cNvSpPr/>
              <p:nvPr/>
            </p:nvSpPr>
            <p:spPr>
              <a:xfrm>
                <a:off x="6019560" y="1523880"/>
                <a:ext cx="1752480" cy="1752480"/>
              </a:xfrm>
              <a:prstGeom prst="cube">
                <a:avLst>
                  <a:gd name="adj" fmla="val 33967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019560" y="251424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019560" y="289512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6400440" y="213336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V="1">
                <a:off x="6781680" y="213336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V="1">
                <a:off x="6400440" y="1523520"/>
                <a:ext cx="60984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6781680" y="1523520"/>
                <a:ext cx="60948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248160" y="190476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429240" y="171576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7162560" y="1904760"/>
                <a:ext cx="60948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7162560" y="2285640"/>
                <a:ext cx="60948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7391160" y="190476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7599240" y="172512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>
              <a:off x="1371600" y="2209680"/>
              <a:ext cx="114300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400" spc="-1" strike="noStrike">
                  <a:solidFill>
                    <a:srgbClr val="cc00ff"/>
                  </a:solidFill>
                  <a:latin typeface="Arial"/>
                </a:rPr>
                <a:t>A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19560" y="2133360"/>
              <a:ext cx="114300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400" spc="-1" strike="noStrike">
                  <a:solidFill>
                    <a:srgbClr val="cc00ff"/>
                  </a:solidFill>
                  <a:latin typeface="Arial"/>
                </a:rPr>
                <a:t>B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124080" y="2438280"/>
              <a:ext cx="28954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66" name=""/>
          <p:cNvGraphicFramePr/>
          <p:nvPr/>
        </p:nvGraphicFramePr>
        <p:xfrm>
          <a:off x="1600200" y="7238880"/>
          <a:ext cx="6408720" cy="10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7238880"/>
                    <a:ext cx="640872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"/>
          <p:cNvSpPr/>
          <p:nvPr/>
        </p:nvSpPr>
        <p:spPr>
          <a:xfrm>
            <a:off x="609480" y="358128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ate at any ti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9480" y="54100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ng one of 6 directions takes only 3 qu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Disjointness in O(</a:t>
            </a:r>
            <a:r>
              <a:rPr b="1" lang="en-US" sz="3700" spc="-1" strike="noStrike">
                <a:solidFill>
                  <a:srgbClr val="3333cc"/>
                </a:solidFill>
                <a:latin typeface="Symbol"/>
                <a:ea typeface="Symbol"/>
              </a:rPr>
              <a:t></a:t>
            </a: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n) Communic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143000" y="4191120"/>
            <a:ext cx="739152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Arial"/>
              </a:rPr>
              <a:t>i,z(A),z(B)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|v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5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|v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5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380880" y="30492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Recent Prog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80880" y="1219320"/>
            <a:ext cx="8458200" cy="45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ilds-Goldston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atial search by quantum w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/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for d=3, 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log n) for d=4, 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) for d&gt;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ning time not competitive with ours in low dimensions, but less memory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mbainis-Kemp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crete walk with 2-bit c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log n) for d=2, 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) for 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 to Dirac equ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Grover’s Search Algorithm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523880" y="1219320"/>
          <a:ext cx="6019920" cy="660240"/>
        </p:xfrm>
        <a:graphic>
          <a:graphicData uri="http://schemas.openxmlformats.org/drawingml/2006/table">
            <a:tbl>
              <a:tblPr/>
              <a:tblGrid>
                <a:gridCol w="752760"/>
                <a:gridCol w="752400"/>
                <a:gridCol w="752400"/>
                <a:gridCol w="752400"/>
                <a:gridCol w="752400"/>
                <a:gridCol w="752760"/>
                <a:gridCol w="752400"/>
                <a:gridCol w="75240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457200" y="236232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orted database of n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209680" y="1904760"/>
            <a:ext cx="609840" cy="5331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236232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nd one “marked” i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5714640" y="1904760"/>
            <a:ext cx="685800" cy="5331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342900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cally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) queries to database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403848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Grover 1996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) queries quantum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464832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BBBV 1996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over’s algorithm is opti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5410080"/>
            <a:ext cx="7010280" cy="1068840"/>
          </a:xfrm>
          <a:prstGeom prst="rect">
            <a:avLst/>
          </a:prstGeom>
          <a:solidFill>
            <a:srgbClr val="cc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for combinatorial search—but can it help with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hysic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taba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3808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even a dumb computer scientist kn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71600" y="990720"/>
            <a:ext cx="7162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ff66"/>
                </a:solidFill>
                <a:latin typeface="Arial"/>
              </a:rPr>
              <a:t>THE SPEED OF LIGHT IS FINIT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33520" y="1828800"/>
            <a:ext cx="8458200" cy="4757040"/>
            <a:chOff x="533520" y="1828800"/>
            <a:chExt cx="8458200" cy="4757040"/>
          </a:xfrm>
        </p:grpSpPr>
        <p:sp>
          <p:nvSpPr>
            <p:cNvPr id="185" name=""/>
            <p:cNvSpPr/>
            <p:nvPr/>
          </p:nvSpPr>
          <p:spPr>
            <a:xfrm>
              <a:off x="5516640" y="4952880"/>
              <a:ext cx="503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13360" y="4952880"/>
              <a:ext cx="503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11520" y="4952880"/>
              <a:ext cx="5018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008600" y="4952880"/>
              <a:ext cx="5029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505320" y="4952880"/>
              <a:ext cx="503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16640" y="4403880"/>
              <a:ext cx="5032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13360" y="4403880"/>
              <a:ext cx="5032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11520" y="4403880"/>
              <a:ext cx="5018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08600" y="4403880"/>
              <a:ext cx="5029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05320" y="4403880"/>
              <a:ext cx="5032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16640" y="3886200"/>
              <a:ext cx="503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13360" y="3886200"/>
              <a:ext cx="503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11520" y="3886200"/>
              <a:ext cx="5018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008600" y="3886200"/>
              <a:ext cx="5029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05320" y="3886200"/>
              <a:ext cx="503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16640" y="3336840"/>
              <a:ext cx="503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13360" y="3336840"/>
              <a:ext cx="503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11520" y="3336840"/>
              <a:ext cx="5018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08600" y="3336840"/>
              <a:ext cx="5029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05320" y="3336840"/>
              <a:ext cx="503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16640" y="2819520"/>
              <a:ext cx="5032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13360" y="2819520"/>
              <a:ext cx="5032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511520" y="2819520"/>
              <a:ext cx="5018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008600" y="2819520"/>
              <a:ext cx="5029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05320" y="2819520"/>
              <a:ext cx="5032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05320" y="2819520"/>
              <a:ext cx="25146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05320" y="3336840"/>
              <a:ext cx="2514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505320" y="3886200"/>
              <a:ext cx="2514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05320" y="4403880"/>
              <a:ext cx="2514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505320" y="4952880"/>
              <a:ext cx="2514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05320" y="5470560"/>
              <a:ext cx="25146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505320" y="2819520"/>
              <a:ext cx="0" cy="26510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08600" y="2819520"/>
              <a:ext cx="0" cy="265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11520" y="2819520"/>
              <a:ext cx="0" cy="265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3360" y="2819520"/>
              <a:ext cx="0" cy="265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16640" y="2819520"/>
              <a:ext cx="0" cy="265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19920" y="2819520"/>
              <a:ext cx="0" cy="26510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62720" y="44197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95880" y="4267080"/>
              <a:ext cx="2667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Marked item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14800" y="3429000"/>
              <a:ext cx="380880" cy="38088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572000" y="2895480"/>
              <a:ext cx="380880" cy="38124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1280" y="3962520"/>
              <a:ext cx="381240" cy="38088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81280" y="3429000"/>
              <a:ext cx="381240" cy="38088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114800" y="2895480"/>
              <a:ext cx="380880" cy="38124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5800" y="2819520"/>
              <a:ext cx="2666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66ff"/>
                  </a:solidFill>
                  <a:latin typeface="Arial"/>
                </a:rPr>
                <a:t>Robo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76720" y="2743200"/>
              <a:ext cx="152280" cy="2743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43200" y="4343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</a:t>
              </a: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 rot="5400000">
              <a:off x="4724280" y="1294200"/>
              <a:ext cx="152280" cy="27432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72200" y="259092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</a:t>
              </a: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3520" y="1828800"/>
              <a:ext cx="838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sider a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Arial"/>
                </a:rPr>
                <a:t> quantum robot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 searching a 2D grid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81280" y="2895480"/>
              <a:ext cx="381240" cy="381240"/>
            </a:xfrm>
            <a:prstGeom prst="smileyFace">
              <a:avLst>
                <a:gd name="adj" fmla="val 9282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9480" y="5638680"/>
              <a:ext cx="8382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e need </a:t>
              </a:r>
              <a:r>
                <a:rPr b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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n Grover iterations, each of which takes </a:t>
              </a:r>
              <a:r>
                <a:rPr b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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n time, so we’re screwed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80880" y="1389240"/>
            <a:ext cx="8382240" cy="56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directed connected graph G=(V,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t 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t each vertex v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Goal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mpute some Boolean f(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0,1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 can have arbitrary workspace z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50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5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Arial"/>
              </a:rPr>
              <a:t>i,z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 |v</a:t>
            </a:r>
            <a:r>
              <a:rPr b="0" lang="en-US" sz="5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0" lang="en-US" sz="5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ernate query transforms |v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-1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x(i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|v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‘local’ unitaries 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What does ‘local’ mean?  Depends on your religion</a:t>
            </a:r>
            <a:br>
              <a:rPr sz="30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0" y="7391520"/>
          <a:ext cx="4989600" cy="112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391520"/>
                    <a:ext cx="498960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5715000" y="7238880"/>
          <a:ext cx="3600360" cy="78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7238880"/>
                    <a:ext cx="360036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What’s the Model?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523880" y="1752480"/>
            <a:ext cx="1143000" cy="99072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Defining Locality: 3 Choices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990720"/>
            <a:ext cx="3581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Decomposabil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1600200"/>
            <a:ext cx="304920" cy="3049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14600" y="1600200"/>
            <a:ext cx="304920" cy="3049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71600" y="2590920"/>
            <a:ext cx="304920" cy="304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2590920"/>
            <a:ext cx="304920" cy="304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1905120"/>
            <a:ext cx="228600" cy="685800"/>
          </a:xfrm>
          <a:custGeom>
            <a:avLst/>
            <a:gdLst/>
            <a:ahLst/>
            <a:rect l="l" t="t" r="r" b="b"/>
            <a:pathLst>
              <a:path w="144" h="432">
                <a:moveTo>
                  <a:pt x="144" y="0"/>
                </a:moveTo>
                <a:cubicBezTo>
                  <a:pt x="72" y="84"/>
                  <a:pt x="0" y="168"/>
                  <a:pt x="0" y="240"/>
                </a:cubicBezTo>
                <a:cubicBezTo>
                  <a:pt x="0" y="312"/>
                  <a:pt x="72" y="372"/>
                  <a:pt x="144" y="432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818800" y="1905120"/>
            <a:ext cx="228600" cy="685800"/>
          </a:xfrm>
          <a:custGeom>
            <a:avLst/>
            <a:gdLst/>
            <a:ahLst/>
            <a:rect l="l" t="t" r="r" b="b"/>
            <a:pathLst>
              <a:path w="144" h="432">
                <a:moveTo>
                  <a:pt x="144" y="0"/>
                </a:moveTo>
                <a:cubicBezTo>
                  <a:pt x="72" y="84"/>
                  <a:pt x="0" y="168"/>
                  <a:pt x="0" y="240"/>
                </a:cubicBezTo>
                <a:cubicBezTo>
                  <a:pt x="0" y="312"/>
                  <a:pt x="72" y="372"/>
                  <a:pt x="144" y="432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" y="297180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is a product of commuting edgewise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81480" y="2362320"/>
            <a:ext cx="1143000" cy="99036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95680" y="914400"/>
            <a:ext cx="4496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(2) Zero pattern of U respects grap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29200" y="2209680"/>
            <a:ext cx="304920" cy="3049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72200" y="2209680"/>
            <a:ext cx="304920" cy="3049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29200" y="3200400"/>
            <a:ext cx="304920" cy="3049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72200" y="3200400"/>
            <a:ext cx="304920" cy="3049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00600" y="2514600"/>
            <a:ext cx="228600" cy="685800"/>
          </a:xfrm>
          <a:custGeom>
            <a:avLst/>
            <a:gdLst/>
            <a:ahLst/>
            <a:rect l="l" t="t" r="r" b="b"/>
            <a:pathLst>
              <a:path w="144" h="432">
                <a:moveTo>
                  <a:pt x="144" y="0"/>
                </a:moveTo>
                <a:cubicBezTo>
                  <a:pt x="72" y="84"/>
                  <a:pt x="0" y="168"/>
                  <a:pt x="0" y="240"/>
                </a:cubicBezTo>
                <a:cubicBezTo>
                  <a:pt x="0" y="312"/>
                  <a:pt x="72" y="372"/>
                  <a:pt x="144" y="432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6476400" y="2514600"/>
            <a:ext cx="228600" cy="685800"/>
          </a:xfrm>
          <a:custGeom>
            <a:avLst/>
            <a:gdLst/>
            <a:ahLst/>
            <a:rect l="l" t="t" r="r" b="b"/>
            <a:pathLst>
              <a:path w="144" h="432">
                <a:moveTo>
                  <a:pt x="144" y="0"/>
                </a:moveTo>
                <a:cubicBezTo>
                  <a:pt x="72" y="84"/>
                  <a:pt x="0" y="168"/>
                  <a:pt x="0" y="240"/>
                </a:cubicBezTo>
                <a:cubicBezTo>
                  <a:pt x="0" y="312"/>
                  <a:pt x="72" y="372"/>
                  <a:pt x="144" y="432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7086600" y="1905120"/>
          <a:ext cx="1600200" cy="1822320"/>
        </p:xfrm>
        <a:graphic>
          <a:graphicData uri="http://schemas.openxmlformats.org/drawingml/2006/table">
            <a:tbl>
              <a:tblPr/>
              <a:tblGrid>
                <a:gridCol w="381240"/>
                <a:gridCol w="419040"/>
                <a:gridCol w="399960"/>
                <a:gridCol w="399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 rot="16200000">
            <a:off x="5638680" y="3276360"/>
            <a:ext cx="228600" cy="685800"/>
          </a:xfrm>
          <a:custGeom>
            <a:avLst/>
            <a:gdLst/>
            <a:ahLst/>
            <a:rect l="l" t="t" r="r" b="b"/>
            <a:pathLst>
              <a:path w="144" h="432">
                <a:moveTo>
                  <a:pt x="144" y="0"/>
                </a:moveTo>
                <a:cubicBezTo>
                  <a:pt x="72" y="84"/>
                  <a:pt x="0" y="168"/>
                  <a:pt x="0" y="240"/>
                </a:cubicBezTo>
                <a:cubicBezTo>
                  <a:pt x="0" y="312"/>
                  <a:pt x="72" y="372"/>
                  <a:pt x="144" y="432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 rot="16200000">
            <a:off x="5637960" y="1751400"/>
            <a:ext cx="228600" cy="685800"/>
          </a:xfrm>
          <a:custGeom>
            <a:avLst/>
            <a:gdLst/>
            <a:ahLst/>
            <a:rect l="l" t="t" r="r" b="b"/>
            <a:pathLst>
              <a:path w="144" h="432">
                <a:moveTo>
                  <a:pt x="144" y="0"/>
                </a:moveTo>
                <a:cubicBezTo>
                  <a:pt x="72" y="84"/>
                  <a:pt x="0" y="168"/>
                  <a:pt x="0" y="240"/>
                </a:cubicBezTo>
                <a:cubicBezTo>
                  <a:pt x="0" y="312"/>
                  <a:pt x="72" y="372"/>
                  <a:pt x="144" y="432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10280" y="1905120"/>
            <a:ext cx="1752840" cy="18288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3962520"/>
            <a:ext cx="4267080" cy="26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(3) Zero pattern of Hamiltonian H respects grap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U = e</a:t>
            </a:r>
            <a:r>
              <a:rPr b="1" lang="en-US" sz="4400" spc="-1" strike="noStrike" baseline="30000">
                <a:solidFill>
                  <a:srgbClr val="009900"/>
                </a:solidFill>
                <a:latin typeface="Arial"/>
              </a:rPr>
              <a:t>i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has bounded eigen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419720" y="914400"/>
            <a:ext cx="0" cy="5943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4038480"/>
            <a:ext cx="4191120" cy="25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(2),(3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pper bounds work for (1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ower bounds for (2),(3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ether they’re equivalent is op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533520" y="68580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Arial"/>
              </a:rPr>
              <a:t>So why not pack data in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300" spc="-1" strike="noStrike">
                <a:solidFill>
                  <a:srgbClr val="3333cc"/>
                </a:solidFill>
                <a:latin typeface="Arial"/>
              </a:rPr>
              <a:t> dimensions?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66680" y="1523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complexity would b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/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31480" y="2819520"/>
            <a:ext cx="8656920" cy="1523880"/>
            <a:chOff x="231480" y="2819520"/>
            <a:chExt cx="8656920" cy="1523880"/>
          </a:xfrm>
        </p:grpSpPr>
        <p:sp>
          <p:nvSpPr>
            <p:cNvPr id="272" name=""/>
            <p:cNvSpPr/>
            <p:nvPr/>
          </p:nvSpPr>
          <p:spPr>
            <a:xfrm>
              <a:off x="4114800" y="3505320"/>
              <a:ext cx="838080" cy="838080"/>
            </a:xfrm>
            <a:prstGeom prst="cube">
              <a:avLst>
                <a:gd name="adj" fmla="val 3359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1480" y="2819520"/>
              <a:ext cx="865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Trouble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Suppose our “hard disk” has mass density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3809880" y="2819520"/>
            <a:ext cx="1828800" cy="1752480"/>
          </a:xfrm>
          <a:prstGeom prst="cube">
            <a:avLst>
              <a:gd name="adj" fmla="val 3359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2280" y="228600"/>
            <a:ext cx="9220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saw Grover search of a 2D grid presented a problem…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00200" y="457200"/>
            <a:ext cx="6172200" cy="5867280"/>
          </a:xfrm>
          <a:prstGeom prst="cube">
            <a:avLst>
              <a:gd name="adj" fmla="val 3359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-2590920"/>
            <a:ext cx="11887200" cy="10058400"/>
          </a:xfrm>
          <a:prstGeom prst="cube">
            <a:avLst>
              <a:gd name="adj" fmla="val 242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04920" y="380880"/>
            <a:ext cx="83818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radius exceeds Schwarzschild bound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database collapses to form a black hol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s things harder to retriev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213372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olographic Principle: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one can do asymptotically is store data on a 2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rf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1.4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/mete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39862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Quantum Mechanics and General Rela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oth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ield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lower bound on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920" y="53341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can we search a 2D region in less than n step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Benioff (2001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uess we can’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28600" y="228600"/>
            <a:ext cx="8686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0000"/>
                </a:solidFill>
                <a:latin typeface="Arial"/>
              </a:rPr>
              <a:t>REVENGE OF COMPUTER SCIENC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04920" y="9144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304920" y="1447920"/>
            <a:ext cx="8839080" cy="5046480"/>
            <a:chOff x="304920" y="1447920"/>
            <a:chExt cx="8839080" cy="5046480"/>
          </a:xfrm>
        </p:grpSpPr>
        <p:sp>
          <p:nvSpPr>
            <p:cNvPr id="285" name=""/>
            <p:cNvSpPr/>
            <p:nvPr/>
          </p:nvSpPr>
          <p:spPr>
            <a:xfrm>
              <a:off x="4114800" y="2743200"/>
              <a:ext cx="4800600" cy="238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n time to move across grid is needed for subroutine anyway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y adding more levels of recursion, can make running time O(n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1/2+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04920" y="1447920"/>
              <a:ext cx="8839080" cy="13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buClr>
                  <a:srgbClr val="33cc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cc33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33cc33"/>
                  </a:solidFill>
                  <a:latin typeface="Arial"/>
                </a:rPr>
                <a:t>Example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Take a classical subroutine that searches a square of size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 in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 steps</a:t>
              </a:r>
              <a:br>
                <a:rPr sz="2800"/>
              </a:b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un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n copies in superposition and use Grover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O(n</a:t>
              </a:r>
              <a:r>
                <a:rPr b="0" lang="en-US" sz="2600" spc="-1" strike="noStrike" baseline="30000">
                  <a:solidFill>
                    <a:srgbClr val="000000"/>
                  </a:solidFill>
                  <a:latin typeface="Arial"/>
                </a:rPr>
                <a:t>3/4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533520" y="3048120"/>
              <a:ext cx="3352680" cy="3446280"/>
              <a:chOff x="533520" y="3048120"/>
              <a:chExt cx="3352680" cy="3446280"/>
            </a:xfrm>
          </p:grpSpPr>
          <p:grpSp>
            <p:nvGrpSpPr>
              <p:cNvPr id="288" name=""/>
              <p:cNvGrpSpPr/>
              <p:nvPr/>
            </p:nvGrpSpPr>
            <p:grpSpPr>
              <a:xfrm>
                <a:off x="533520" y="3048120"/>
                <a:ext cx="3352680" cy="3446280"/>
                <a:chOff x="533520" y="3048120"/>
                <a:chExt cx="3352680" cy="3446280"/>
              </a:xfrm>
            </p:grpSpPr>
            <p:grpSp>
              <p:nvGrpSpPr>
                <p:cNvPr id="289" name=""/>
                <p:cNvGrpSpPr/>
                <p:nvPr/>
              </p:nvGrpSpPr>
              <p:grpSpPr>
                <a:xfrm>
                  <a:off x="533520" y="3048120"/>
                  <a:ext cx="3327120" cy="3446280"/>
                  <a:chOff x="533520" y="3048120"/>
                  <a:chExt cx="3327120" cy="344628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>
                    <a:off x="3490920" y="611172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3120840" y="611172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2751120" y="611172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2381040" y="611172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2012760" y="6111720"/>
                    <a:ext cx="3679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1643040" y="611172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1272960" y="611172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903240" y="611172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533520" y="611172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3490920" y="572904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3120840" y="572904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2751120" y="572904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2381040" y="572904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2012760" y="5729040"/>
                    <a:ext cx="3679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1643040" y="572904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1272960" y="572904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903240" y="572904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533520" y="572904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3490920" y="5344920"/>
                    <a:ext cx="36936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3120840" y="5344920"/>
                    <a:ext cx="36972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2751120" y="5344920"/>
                    <a:ext cx="36936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2381040" y="5344920"/>
                    <a:ext cx="36972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2012760" y="5344920"/>
                    <a:ext cx="36792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1643040" y="5344920"/>
                    <a:ext cx="36936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1272960" y="5344920"/>
                    <a:ext cx="36972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903240" y="5344920"/>
                    <a:ext cx="36936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533520" y="5344920"/>
                    <a:ext cx="369720" cy="38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3490920" y="496224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3120840" y="496224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2751120" y="496224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2381040" y="496224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2012760" y="4962240"/>
                    <a:ext cx="3679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1643040" y="496224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1272960" y="496224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903240" y="496224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533520" y="496224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3490920" y="457956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3120840" y="457956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2751120" y="457956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2381040" y="457956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2012760" y="4579560"/>
                    <a:ext cx="3679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1643040" y="457956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1272960" y="457956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903240" y="457956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533520" y="457956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3490920" y="4197240"/>
                    <a:ext cx="36936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3120840" y="4197240"/>
                    <a:ext cx="3697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2751120" y="4197240"/>
                    <a:ext cx="36936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2381040" y="4197240"/>
                    <a:ext cx="3697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2012760" y="4197240"/>
                    <a:ext cx="3679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1643040" y="4197240"/>
                    <a:ext cx="36936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1272960" y="4197240"/>
                    <a:ext cx="3697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903240" y="4197240"/>
                    <a:ext cx="36936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533520" y="4197240"/>
                    <a:ext cx="3697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3490920" y="3812760"/>
                    <a:ext cx="36936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3120840" y="3812760"/>
                    <a:ext cx="36972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751120" y="3812760"/>
                    <a:ext cx="36936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2381040" y="3812760"/>
                    <a:ext cx="36972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2012760" y="3812760"/>
                    <a:ext cx="36792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1643040" y="3812760"/>
                    <a:ext cx="36936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1272960" y="3812760"/>
                    <a:ext cx="36972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903240" y="3812760"/>
                    <a:ext cx="36936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533520" y="3812760"/>
                    <a:ext cx="369720" cy="38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3490920" y="3430440"/>
                    <a:ext cx="36936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3120840" y="3430440"/>
                    <a:ext cx="3697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2751120" y="3430440"/>
                    <a:ext cx="36936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2381040" y="3430440"/>
                    <a:ext cx="3697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2012760" y="3430440"/>
                    <a:ext cx="3679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1643040" y="3430440"/>
                    <a:ext cx="36936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1272960" y="3430440"/>
                    <a:ext cx="3697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903240" y="3430440"/>
                    <a:ext cx="36936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533520" y="3430440"/>
                    <a:ext cx="369720" cy="38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3490920" y="304812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3120840" y="304812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2751120" y="304812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2381040" y="304812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2012760" y="3048120"/>
                    <a:ext cx="3679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1643040" y="304812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1272960" y="304812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903240" y="3048120"/>
                    <a:ext cx="36936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533520" y="3048120"/>
                    <a:ext cx="369720" cy="38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533520" y="3048120"/>
                    <a:ext cx="3327120" cy="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533520" y="3430440"/>
                    <a:ext cx="3327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533520" y="3812760"/>
                    <a:ext cx="3327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533520" y="4197240"/>
                    <a:ext cx="3327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533520" y="4579560"/>
                    <a:ext cx="3327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533520" y="4962240"/>
                    <a:ext cx="3327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533520" y="5344920"/>
                    <a:ext cx="3327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533520" y="5729040"/>
                    <a:ext cx="3327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533520" y="6111720"/>
                    <a:ext cx="3327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533520" y="6494400"/>
                    <a:ext cx="3327120" cy="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533520" y="3048120"/>
                    <a:ext cx="0" cy="344628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903240" y="3048120"/>
                    <a:ext cx="0" cy="344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1272960" y="3048120"/>
                    <a:ext cx="0" cy="344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1643040" y="3048120"/>
                    <a:ext cx="0" cy="344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2012760" y="3048120"/>
                    <a:ext cx="0" cy="344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2381040" y="3048120"/>
                    <a:ext cx="0" cy="344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2751120" y="3048120"/>
                    <a:ext cx="0" cy="344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3120840" y="3048120"/>
                    <a:ext cx="0" cy="344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3490920" y="3048120"/>
                    <a:ext cx="0" cy="344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3860640" y="3048120"/>
                    <a:ext cx="0" cy="344628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1" name=""/>
                <p:cNvSpPr/>
                <p:nvPr/>
              </p:nvSpPr>
              <p:spPr>
                <a:xfrm>
                  <a:off x="2743200" y="4191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533520" y="5334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3124080" y="4952880"/>
                  <a:ext cx="381240" cy="381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1676520" y="5334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743200" y="5334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533520" y="4191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1676520" y="3048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743200" y="3048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1676520" y="4191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533520" y="3048120"/>
                  <a:ext cx="1143000" cy="1143000"/>
                </a:xfrm>
                <a:prstGeom prst="roundRect">
                  <a:avLst>
                    <a:gd name="adj" fmla="val 27917"/>
                  </a:avLst>
                </a:prstGeom>
                <a:solidFill>
                  <a:srgbClr val="00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914400" y="3429000"/>
                  <a:ext cx="380880" cy="38088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533520" y="3048120"/>
                <a:ext cx="3352680" cy="2286000"/>
                <a:chOff x="533520" y="3048120"/>
                <a:chExt cx="3352680" cy="2286000"/>
              </a:xfrm>
            </p:grpSpPr>
            <p:grpSp>
              <p:nvGrpSpPr>
                <p:cNvPr id="403" name=""/>
                <p:cNvGrpSpPr/>
                <p:nvPr/>
              </p:nvGrpSpPr>
              <p:grpSpPr>
                <a:xfrm>
                  <a:off x="533520" y="3048120"/>
                  <a:ext cx="3352680" cy="2286000"/>
                  <a:chOff x="533520" y="3048120"/>
                  <a:chExt cx="3352680" cy="228600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>
                    <a:off x="2743200" y="4191120"/>
                    <a:ext cx="1143000" cy="1143000"/>
                  </a:xfrm>
                  <a:prstGeom prst="roundRect">
                    <a:avLst>
                      <a:gd name="adj" fmla="val 27917"/>
                    </a:avLst>
                  </a:prstGeom>
                  <a:solidFill>
                    <a:srgbClr val="cc66f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533520" y="3048120"/>
                    <a:ext cx="1143000" cy="1143000"/>
                  </a:xfrm>
                  <a:prstGeom prst="roundRect">
                    <a:avLst>
                      <a:gd name="adj" fmla="val 27917"/>
                    </a:avLst>
                  </a:prstGeom>
                  <a:solidFill>
                    <a:srgbClr val="cc66f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6" name=""/>
                <p:cNvSpPr/>
                <p:nvPr/>
              </p:nvSpPr>
              <p:spPr>
                <a:xfrm>
                  <a:off x="914400" y="3429000"/>
                  <a:ext cx="380880" cy="38088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3124080" y="4952880"/>
                  <a:ext cx="381240" cy="38124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880" y="716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Revenge of computer science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800600" y="5334120"/>
            <a:ext cx="3962520" cy="1068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an we do better? Say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Amplitude Amplification</a:t>
            </a:r>
            <a:br>
              <a:rPr sz="40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rassard, H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øyer, Mosca, Tapp 2002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1447920" y="2692440"/>
            <a:ext cx="6248160" cy="416556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685800" y="1295280"/>
            <a:ext cx="792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a quantum algorithm has success probability p and returns a certificate, then by invoking it m times, m=O(1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), we can amplify success probability to (1-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/3)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505320" y="6172200"/>
            <a:ext cx="259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of Iterat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383544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ccess Probabili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 flipV="1">
            <a:off x="5333760" y="3962160"/>
            <a:ext cx="685800" cy="2286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019920" y="3657600"/>
            <a:ext cx="2286000" cy="9471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Diminishing retu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3124080" y="5562720"/>
            <a:ext cx="1828800" cy="4572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5105520"/>
            <a:ext cx="3200400" cy="82548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Better to keep prob low &amp; amplify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05:19:28Z</dcterms:created>
  <dc:creator>Avaya User</dc:creator>
  <dc:description/>
  <dc:language>en-US</dc:language>
  <cp:lastModifiedBy>aaronson</cp:lastModifiedBy>
  <dcterms:modified xsi:type="dcterms:W3CDTF">2003-10-08T07:34:58Z</dcterms:modified>
  <cp:revision>22</cp:revision>
  <dc:subject/>
  <dc:title>Quantum Search of Spatial Regions</dc:title>
</cp:coreProperties>
</file>