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gif" ContentType="image/gi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76E-1534-44A0-9140-A18F6717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E84-3E1C-42E5-A8A4-BFEE716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546-74DD-4029-821F-B813E0D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14D-7D70-4D64-9F58-1338C006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DAA-1956-4520-9864-5F1255D4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560-6D62-44B7-A5C1-E374D0A6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3E5-5342-45E8-952F-64D9F387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870-93FC-49F1-B762-E4B1406B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E8F-125D-4DF2-9D37-F3BFF7E2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4CE-49B8-4673-AEF6-75CD939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94D-8CD9-46FD-9D5F-34D7389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104-6D8E-4013-B999-722B869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E23-C97E-4A7B-9D1D-356B11D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1B65-6388-4FE7-B1BE-33ACCCC4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IAS / U.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51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38088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ard disk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886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care 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1337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worse—ev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d disk would collapse once radius exc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!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D hard disk would not collaps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8006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 of radiation of radius r has energ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 but entr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6094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of space can’t store more than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rfac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057400"/>
            <a:ext cx="8458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pace had d&gt;3 dimensions, then relativ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 would be weaker: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(d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bou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hie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Apparently not, since even stronger limit (Bekenstein’s) applies for weakly-gravit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W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Wil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Achiev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002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 ~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are scattered in a 3D ball of radius r (where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nd bits’ locations are known), search tim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c+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polylog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“radiation disk” (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saturating holographic boun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olylog n), bits would need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ent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2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bjections to 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eed 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ing elements to maintain a quantum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ght have n “passive elements,” but many fewer “active elements” (i.e. robots), which we wish to place in superposition ove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ust consider effects of time d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upper bounds, will have in mind weakly-gravitating systems, for which time dilation is by at most a constan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we do anything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5181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 to the Main Issu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= maximum radius of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3808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2952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057400"/>
            <a:ext cx="8381880" cy="4437000"/>
            <a:chOff x="304920" y="2057400"/>
            <a:chExt cx="8381880" cy="4437000"/>
          </a:xfrm>
        </p:grpSpPr>
        <p:sp>
          <p:nvSpPr>
            <p:cNvPr id="318" name=""/>
            <p:cNvSpPr/>
            <p:nvPr/>
          </p:nvSpPr>
          <p:spPr>
            <a:xfrm>
              <a:off x="4800600" y="2666880"/>
              <a:ext cx="380988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sing amplitude amplification techniques of BHMT’2002, we get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2D gr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3 and higher dimensio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57400"/>
              <a:ext cx="8381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33cc33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Recursively divide into sub-squa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66680" y="3048120"/>
              <a:ext cx="3352680" cy="3446280"/>
              <a:chOff x="1066680" y="3048120"/>
              <a:chExt cx="3352680" cy="34462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066680" y="3048120"/>
                <a:ext cx="3352680" cy="3446280"/>
                <a:chOff x="1066680" y="3048120"/>
                <a:chExt cx="3352680" cy="344628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1066680" y="3048120"/>
                  <a:ext cx="3327120" cy="3446280"/>
                  <a:chOff x="1066680" y="3048120"/>
                  <a:chExt cx="3327120" cy="34462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40240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6540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842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142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54592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762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8061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4364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06668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240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6540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2842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9142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54592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762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8061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4364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06668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0240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6540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2842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9142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54592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762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061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4364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6668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0240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40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842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9142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4592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762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8061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4364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6668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0240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6540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842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9142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54592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762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8061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4364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06668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0240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6540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842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9142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54592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762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8061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4364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6668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0240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40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2842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142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54592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762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8061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364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06668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0240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540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2842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9142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54592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762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8061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4364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06668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0240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6540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842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9142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54592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762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8061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4364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06668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06668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06668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06668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06668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06668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06668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6668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6668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06668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06668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06668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4364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806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76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545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14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842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6540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0240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39380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327636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66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09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7636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066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209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27636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09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066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066680" y="3048120"/>
                <a:ext cx="3352680" cy="2286000"/>
                <a:chOff x="1066680" y="3048120"/>
                <a:chExt cx="3352680" cy="228600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1066680" y="3048120"/>
                  <a:ext cx="3352680" cy="2286000"/>
                  <a:chOff x="1066680" y="3048120"/>
                  <a:chExt cx="3352680" cy="22860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27636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06668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0880" y="138924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ancilla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74920" y="35053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35053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334120" y="4800600"/>
          <a:ext cx="3600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800600"/>
                    <a:ext cx="3600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3818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Unitary must b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ompo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commuting local operations, each acting on a single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Just don’t “send amplitude” between non-adjacent vertices: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Take U=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re H has eigenvalues of absolute value at mo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),(3).  Upper bounds will work for (1); lower bounds for (2),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731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ity relig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002120" y="3048120"/>
          <a:ext cx="2624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2120" y="3048120"/>
                    <a:ext cx="2624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5675400" y="4648320"/>
          <a:ext cx="2705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5400" y="4648320"/>
                    <a:ext cx="2705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5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sp>
          <p:nvSpPr>
            <p:cNvPr id="456" name=""/>
            <p:cNvSpPr/>
            <p:nvPr/>
          </p:nvSpPr>
          <p:spPr>
            <a:xfrm>
              <a:off x="0" y="0"/>
              <a:ext cx="9144000" cy="7086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2438280" y="2286000"/>
              <a:ext cx="4267440" cy="329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457200" y="1371600"/>
              <a:ext cx="8153280" cy="121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3348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FARHIOLOG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457200" y="4343400"/>
              <a:ext cx="8305920" cy="205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21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THERE IS ONLY THE HAMILTONI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0880" y="1752480"/>
            <a:ext cx="85345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ization of Grover 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quantum algorithm has success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by invoking it 2m+1 times (m=O(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), we can make the success prob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plitude Amplification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ssard, 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øyer, Mosca, Tapp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638360" y="4343400"/>
          <a:ext cx="53704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4343400"/>
                    <a:ext cx="53704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0880" y="1389240"/>
            <a:ext cx="876312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imes using amplitude ampl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ning ti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200400" y="4800600"/>
          <a:ext cx="5467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5467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 More Detail: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29718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238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tro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37160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ver’s O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) Quantum Search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binatorial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t help search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038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r scient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king such a 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1523880"/>
            <a:ext cx="8763120" cy="77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probability (unamplifi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mpl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li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whole algorithm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14600" y="2133720"/>
          <a:ext cx="347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33720"/>
                    <a:ext cx="347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514600" y="3352680"/>
          <a:ext cx="529128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52680"/>
                    <a:ext cx="52912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09480" y="5791320"/>
          <a:ext cx="809640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80964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80880" y="1389240"/>
            <a:ext cx="838224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diameter of grid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ches time for Grove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to recurse more, breaking into squares of size n/log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time suffers corresponding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st we could g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=2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666880" y="4038480"/>
          <a:ext cx="4260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038480"/>
                    <a:ext cx="4260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0880" y="1066680"/>
            <a:ext cx="838224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xactly r marked ite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Basically optima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t le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 marked items, can use “doubling trick” o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BBHT’98 to get same bound 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For d=2 we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ple Marked It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276720" y="1447920"/>
          <a:ext cx="350496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47920"/>
                    <a:ext cx="35049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276720" y="3276720"/>
          <a:ext cx="38862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38862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3276720" y="5510160"/>
          <a:ext cx="373356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510160"/>
                    <a:ext cx="3733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1371600"/>
            <a:ext cx="8763120" cy="52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algorithm can be adapted t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 with good expansion properties (not just hypercub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G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-dimens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for any v, number of vertices at distance r from v 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in{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n}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earch i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ain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ild tree of subgraphs bottom-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arch on Irregular Graph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981080" y="4267080"/>
          <a:ext cx="5257800" cy="15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267080"/>
                    <a:ext cx="52578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1371600"/>
            <a:ext cx="83822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G is &gt;2-dimensional, and has 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d items (whose locations are known)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ui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st case is when bits are scattered uniformly in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its Scattered on a Grap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447920" y="2286000"/>
          <a:ext cx="61102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61102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661080" y="3505320"/>
          <a:ext cx="19051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1080" y="3505320"/>
                    <a:ext cx="1905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72000" y="4267080"/>
          <a:ext cx="18144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267080"/>
                    <a:ext cx="1814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3537000" y="5105520"/>
          <a:ext cx="117936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7000" y="5105520"/>
                    <a:ext cx="11793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510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511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525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1139760" y="411480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411480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5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quantum walk search a 2D grid efficiently?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ybe ev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ime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597204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ising numerical evidence (courtesy N. Shenv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763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143000"/>
            <a:ext cx="838224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a graph of diamet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hat tak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ime to search (by BBBV’96 hybrid argumen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it also ta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ime to decide i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ery r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 2D grid has a marked ite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819520" y="2019960"/>
            <a:ext cx="3428640" cy="3236760"/>
            <a:chOff x="2819520" y="2019960"/>
            <a:chExt cx="3428640" cy="3236760"/>
          </a:xfrm>
        </p:grpSpPr>
        <p:grpSp>
          <p:nvGrpSpPr>
            <p:cNvPr id="554" name=""/>
            <p:cNvGrpSpPr/>
            <p:nvPr/>
          </p:nvGrpSpPr>
          <p:grpSpPr>
            <a:xfrm>
              <a:off x="2819520" y="2369880"/>
              <a:ext cx="3428640" cy="2886840"/>
              <a:chOff x="2819520" y="2369880"/>
              <a:chExt cx="3428640" cy="288684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3450600" y="2460240"/>
                <a:ext cx="2165400" cy="270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50960" y="2460240"/>
                <a:ext cx="2165400" cy="270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909880" y="3813840"/>
                <a:ext cx="3247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1952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6060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90204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8492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52600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6744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04560" y="41742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65640" y="462564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26000" y="50767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82760" y="41742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1680" y="462564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60600" y="50767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4560" y="327240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65640" y="28206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26000" y="236988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4348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82760" y="327240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21680" y="28206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60600" y="236988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 rot="2224200">
              <a:off x="4621320" y="1980720"/>
              <a:ext cx="457200" cy="1749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45360 h 1749240"/>
                <a:gd name="textAreaBottom" fmla="*/ 1703880 h 17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48320" y="206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tarfis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1371600"/>
            <a:ext cx="838224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ological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ype-Ia supernova observ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its accessible to any one observer is at most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ousso 2000, Lloyd 200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any of those ~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2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bits could a computer “use” before they recede past its horiz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sult shows a quantum computer coul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of the bits than a classical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bout using them as mem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2D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178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peed of light is fini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3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1523880"/>
            <a:ext cx="8382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2D Turing machin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(n) time, a square worktape, and a separate input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it can do with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worktape that it can’t do with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workta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a quantum T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2D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4495680"/>
            <a:ext cx="8229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ated to Feige’s embedding 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n checkers o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heckerboard, can we move them to an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board so that no 2 checkers become farther apart in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57200" y="1447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stacle to quantum speedup for search of physic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2666880"/>
            <a:ext cx="8686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look for oth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pu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 theory questions inspired by laws of physic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um computing is just one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066680" y="5029200"/>
            <a:ext cx="6858000" cy="1050840"/>
            <a:chOff x="1066680" y="5029200"/>
            <a:chExt cx="6858000" cy="1050840"/>
          </a:xfrm>
        </p:grpSpPr>
        <p:pic>
          <p:nvPicPr>
            <p:cNvPr id="591" name="string" descr=""/>
            <p:cNvPicPr/>
            <p:nvPr/>
          </p:nvPicPr>
          <p:blipFill>
            <a:blip r:embed="rId1"/>
            <a:stretch/>
          </p:blipFill>
          <p:spPr>
            <a:xfrm>
              <a:off x="1066680" y="5029200"/>
              <a:ext cx="1668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352680" y="52578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all strings have n b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137160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57200" y="28195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33720" y="2057400"/>
            <a:ext cx="68580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8195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715000" y="205740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4038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n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724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or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791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BBV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990720" y="2361960"/>
            <a:ext cx="7391160" cy="1523880"/>
            <a:chOff x="990720" y="2361960"/>
            <a:chExt cx="7391160" cy="1523880"/>
          </a:xfrm>
        </p:grpSpPr>
        <p:sp>
          <p:nvSpPr>
            <p:cNvPr id="241" name=""/>
            <p:cNvSpPr/>
            <p:nvPr/>
          </p:nvSpPr>
          <p:spPr>
            <a:xfrm flipV="1">
              <a:off x="24382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96252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100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934320" y="2361960"/>
              <a:ext cx="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3818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99072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720" y="16002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89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V="1">
            <a:off x="24382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96252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934320" y="388584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3818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9072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litude of Solution State 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8920" y="34290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6934320" y="380520"/>
            <a:ext cx="0" cy="351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0720" y="3352680"/>
            <a:ext cx="7391160" cy="503280"/>
            <a:chOff x="990720" y="3352680"/>
            <a:chExt cx="7391160" cy="503280"/>
          </a:xfrm>
        </p:grpSpPr>
        <p:sp>
          <p:nvSpPr>
            <p:cNvPr id="273" name=""/>
            <p:cNvSpPr/>
            <p:nvPr/>
          </p:nvSpPr>
          <p:spPr>
            <a:xfrm flipV="1">
              <a:off x="24382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6252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00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3818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99072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800" y="1600200"/>
            <a:ext cx="54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mplitudes Inverted About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89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s of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for Spac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sjointness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92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3:50:00Z</dcterms:created>
  <dc:creator>Avaya User</dc:creator>
  <dc:description/>
  <dc:language>en-US</dc:language>
  <cp:lastModifiedBy>aaronson</cp:lastModifiedBy>
  <dcterms:modified xsi:type="dcterms:W3CDTF">2003-03-11T08:04:22Z</dcterms:modified>
  <cp:revision>3</cp:revision>
  <dc:subject/>
  <dc:title>Quantum Search of Spatial Regions</dc:title>
</cp:coreProperties>
</file>