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1.gif" ContentType="image/gif"/>
  <Override PartName="/ppt/media/image20.png" ContentType="image/png"/>
  <Override PartName="/ppt/media/image2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95110-2767-436D-8DD5-AE015097DA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sil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754F-37E7-406D-B840-0C857442E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831B-644A-46A4-874D-AAB6F315D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7814-8734-491E-91FB-1DAD75D7E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D917-ADCD-4BA8-AB7A-74362F1E6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48A2-3937-45B7-9C5C-9A05AF5AA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BAFB-3DBA-4DE8-BA39-949C720A0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A516-BABB-4301-995A-8C9302D24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36E3-AB02-4D25-8A3A-308E194C9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29D7-CF64-4503-BC7C-EC7EC4086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C5A6-FF27-463E-9983-C98765C1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F5FC-1368-4AA2-94B8-7298DC4B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27EA-FC1B-41AC-A1D2-C5F6B2B2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5C62B-87BE-4802-9BFC-EF9166AC21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Quantum Search of Spatial Regions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54100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ott Aaronson (UC Berkele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oint work with Andris Ambainis (IAS / U. Latvi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819520" y="1600200"/>
            <a:ext cx="3352680" cy="3446280"/>
            <a:chOff x="2819520" y="1600200"/>
            <a:chExt cx="3352680" cy="3446280"/>
          </a:xfrm>
        </p:grpSpPr>
        <p:grpSp>
          <p:nvGrpSpPr>
            <p:cNvPr id="51" name=""/>
            <p:cNvGrpSpPr/>
            <p:nvPr/>
          </p:nvGrpSpPr>
          <p:grpSpPr>
            <a:xfrm>
              <a:off x="2819520" y="1600200"/>
              <a:ext cx="3352680" cy="3446280"/>
              <a:chOff x="2819520" y="1600200"/>
              <a:chExt cx="3352680" cy="3446280"/>
            </a:xfrm>
          </p:grpSpPr>
          <p:grpSp>
            <p:nvGrpSpPr>
              <p:cNvPr id="52" name=""/>
              <p:cNvGrpSpPr/>
              <p:nvPr/>
            </p:nvGrpSpPr>
            <p:grpSpPr>
              <a:xfrm>
                <a:off x="2819520" y="1600200"/>
                <a:ext cx="3327120" cy="3446280"/>
                <a:chOff x="2819520" y="1600200"/>
                <a:chExt cx="3327120" cy="344628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5776920" y="466380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406840" y="466380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5037120" y="466380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4667040" y="466380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4298760" y="4663800"/>
                  <a:ext cx="3679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3929040" y="466380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3558960" y="466380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189240" y="466380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2819520" y="466380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5776920" y="428112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5406840" y="428112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5037120" y="428112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4667040" y="428112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4298760" y="4281120"/>
                  <a:ext cx="3679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3929040" y="428112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3558960" y="428112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3189240" y="428112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2819520" y="428112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5776920" y="3897000"/>
                  <a:ext cx="3693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5406840" y="3897000"/>
                  <a:ext cx="3697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037120" y="3897000"/>
                  <a:ext cx="3693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4667040" y="3897000"/>
                  <a:ext cx="3697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4298760" y="3897000"/>
                  <a:ext cx="3679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3929040" y="3897000"/>
                  <a:ext cx="3693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3558960" y="3897000"/>
                  <a:ext cx="3697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3189240" y="3897000"/>
                  <a:ext cx="3693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2819520" y="3897000"/>
                  <a:ext cx="3697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5776920" y="351432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5406840" y="351432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5037120" y="351432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4667040" y="351432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4298760" y="3514320"/>
                  <a:ext cx="3679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3929040" y="351432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3558960" y="351432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3189240" y="351432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819520" y="351432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5776920" y="313164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5406840" y="313164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5037120" y="313164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4667040" y="313164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4298760" y="3131640"/>
                  <a:ext cx="3679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3929040" y="313164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3558960" y="313164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3189240" y="313164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2819520" y="313164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5776920" y="2749320"/>
                  <a:ext cx="36936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5406840" y="2749320"/>
                  <a:ext cx="36972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5037120" y="2749320"/>
                  <a:ext cx="36936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4667040" y="2749320"/>
                  <a:ext cx="36972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4298760" y="2749320"/>
                  <a:ext cx="36792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3929040" y="2749320"/>
                  <a:ext cx="36936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3558960" y="2749320"/>
                  <a:ext cx="36972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189240" y="2749320"/>
                  <a:ext cx="36936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819520" y="2749320"/>
                  <a:ext cx="36972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5776920" y="2364840"/>
                  <a:ext cx="369360" cy="38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5406840" y="2364840"/>
                  <a:ext cx="369720" cy="38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5037120" y="2364840"/>
                  <a:ext cx="369360" cy="38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4667040" y="2364840"/>
                  <a:ext cx="369720" cy="38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4298760" y="2364840"/>
                  <a:ext cx="367920" cy="38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929040" y="2364840"/>
                  <a:ext cx="369360" cy="38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3558960" y="2364840"/>
                  <a:ext cx="369720" cy="38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3189240" y="2364840"/>
                  <a:ext cx="369360" cy="38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2819520" y="2364840"/>
                  <a:ext cx="369720" cy="38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5776920" y="1982520"/>
                  <a:ext cx="36936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5406840" y="1982520"/>
                  <a:ext cx="36972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5037120" y="1982520"/>
                  <a:ext cx="36936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667040" y="1982520"/>
                  <a:ext cx="36972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298760" y="1982520"/>
                  <a:ext cx="36792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929040" y="1982520"/>
                  <a:ext cx="36936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3558960" y="1982520"/>
                  <a:ext cx="36972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3189240" y="1982520"/>
                  <a:ext cx="36936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2819520" y="1982520"/>
                  <a:ext cx="36972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776920" y="160020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5406840" y="160020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5037120" y="160020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4667040" y="160020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4298760" y="1600200"/>
                  <a:ext cx="3679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3929040" y="160020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558960" y="160020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3189240" y="160020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2819520" y="160020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819520" y="1600200"/>
                  <a:ext cx="3327120" cy="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819520" y="1982520"/>
                  <a:ext cx="3327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819520" y="2364840"/>
                  <a:ext cx="3327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2819520" y="2749320"/>
                  <a:ext cx="3327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819520" y="3131640"/>
                  <a:ext cx="3327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819520" y="3514320"/>
                  <a:ext cx="3327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2819520" y="3897000"/>
                  <a:ext cx="3327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2819520" y="4281120"/>
                  <a:ext cx="3327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2819520" y="4663800"/>
                  <a:ext cx="3327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2819520" y="5046480"/>
                  <a:ext cx="3327120" cy="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2819520" y="1600200"/>
                  <a:ext cx="0" cy="344628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189240" y="1600200"/>
                  <a:ext cx="0" cy="3446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558960" y="1600200"/>
                  <a:ext cx="0" cy="3446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929040" y="1600200"/>
                  <a:ext cx="0" cy="3446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4298760" y="1600200"/>
                  <a:ext cx="0" cy="3446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667040" y="1600200"/>
                  <a:ext cx="0" cy="3446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037120" y="1600200"/>
                  <a:ext cx="0" cy="3446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5406840" y="1600200"/>
                  <a:ext cx="0" cy="3446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5776920" y="1600200"/>
                  <a:ext cx="0" cy="3446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6146640" y="1600200"/>
                  <a:ext cx="0" cy="344628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4" name=""/>
              <p:cNvSpPr/>
              <p:nvPr/>
            </p:nvSpPr>
            <p:spPr>
              <a:xfrm>
                <a:off x="5029200" y="2743200"/>
                <a:ext cx="1143000" cy="1143000"/>
              </a:xfrm>
              <a:prstGeom prst="roundRect">
                <a:avLst>
                  <a:gd name="adj" fmla="val 27917"/>
                </a:avLst>
              </a:prstGeom>
              <a:solidFill>
                <a:srgbClr val="00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819520" y="3886200"/>
                <a:ext cx="1143000" cy="1143000"/>
              </a:xfrm>
              <a:prstGeom prst="roundRect">
                <a:avLst>
                  <a:gd name="adj" fmla="val 27917"/>
                </a:avLst>
              </a:prstGeom>
              <a:solidFill>
                <a:srgbClr val="00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410080" y="3504960"/>
                <a:ext cx="381240" cy="38124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962520" y="3886200"/>
                <a:ext cx="1143000" cy="1143000"/>
              </a:xfrm>
              <a:prstGeom prst="roundRect">
                <a:avLst>
                  <a:gd name="adj" fmla="val 27917"/>
                </a:avLst>
              </a:prstGeom>
              <a:solidFill>
                <a:srgbClr val="00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029200" y="3886200"/>
                <a:ext cx="1143000" cy="1143000"/>
              </a:xfrm>
              <a:prstGeom prst="roundRect">
                <a:avLst>
                  <a:gd name="adj" fmla="val 27917"/>
                </a:avLst>
              </a:prstGeom>
              <a:solidFill>
                <a:srgbClr val="00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819520" y="2743200"/>
                <a:ext cx="1143000" cy="1143000"/>
              </a:xfrm>
              <a:prstGeom prst="roundRect">
                <a:avLst>
                  <a:gd name="adj" fmla="val 27917"/>
                </a:avLst>
              </a:prstGeom>
              <a:solidFill>
                <a:srgbClr val="00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962520" y="1600200"/>
                <a:ext cx="1143000" cy="1143000"/>
              </a:xfrm>
              <a:prstGeom prst="roundRect">
                <a:avLst>
                  <a:gd name="adj" fmla="val 27917"/>
                </a:avLst>
              </a:prstGeom>
              <a:solidFill>
                <a:srgbClr val="00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029200" y="1600200"/>
                <a:ext cx="1143000" cy="1143000"/>
              </a:xfrm>
              <a:prstGeom prst="roundRect">
                <a:avLst>
                  <a:gd name="adj" fmla="val 27917"/>
                </a:avLst>
              </a:prstGeom>
              <a:solidFill>
                <a:srgbClr val="00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962520" y="2743200"/>
                <a:ext cx="1143000" cy="1143000"/>
              </a:xfrm>
              <a:prstGeom prst="roundRect">
                <a:avLst>
                  <a:gd name="adj" fmla="val 27917"/>
                </a:avLst>
              </a:prstGeom>
              <a:solidFill>
                <a:srgbClr val="00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819520" y="1600200"/>
                <a:ext cx="1143000" cy="1143000"/>
              </a:xfrm>
              <a:prstGeom prst="roundRect">
                <a:avLst>
                  <a:gd name="adj" fmla="val 27917"/>
                </a:avLst>
              </a:prstGeom>
              <a:solidFill>
                <a:srgbClr val="00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200400" y="1981080"/>
                <a:ext cx="380880" cy="38088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2819520" y="1600200"/>
              <a:ext cx="3352680" cy="2286000"/>
              <a:chOff x="2819520" y="1600200"/>
              <a:chExt cx="3352680" cy="2286000"/>
            </a:xfrm>
          </p:grpSpPr>
          <p:grpSp>
            <p:nvGrpSpPr>
              <p:cNvPr id="166" name=""/>
              <p:cNvGrpSpPr/>
              <p:nvPr/>
            </p:nvGrpSpPr>
            <p:grpSpPr>
              <a:xfrm>
                <a:off x="2819520" y="1600200"/>
                <a:ext cx="3352680" cy="2286000"/>
                <a:chOff x="2819520" y="1600200"/>
                <a:chExt cx="3352680" cy="228600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5029200" y="2743200"/>
                  <a:ext cx="1143000" cy="1143000"/>
                </a:xfrm>
                <a:prstGeom prst="roundRect">
                  <a:avLst>
                    <a:gd name="adj" fmla="val 27917"/>
                  </a:avLst>
                </a:prstGeom>
                <a:solidFill>
                  <a:srgbClr val="cc66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2819520" y="1600200"/>
                  <a:ext cx="1143000" cy="1143000"/>
                </a:xfrm>
                <a:prstGeom prst="roundRect">
                  <a:avLst>
                    <a:gd name="adj" fmla="val 27917"/>
                  </a:avLst>
                </a:prstGeom>
                <a:solidFill>
                  <a:srgbClr val="cc66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" name=""/>
              <p:cNvSpPr/>
              <p:nvPr/>
            </p:nvSpPr>
            <p:spPr>
              <a:xfrm>
                <a:off x="3200400" y="1981080"/>
                <a:ext cx="380880" cy="38088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410080" y="3504960"/>
                <a:ext cx="381240" cy="38124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380880" y="380880"/>
            <a:ext cx="838224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radius exceeds Schwarzschild bound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hard disk collapses to form a black hol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kes things harder to retrieve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0880" y="388620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we care about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ntrop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ot m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62120" y="7238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Holographic principle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80880" y="2133720"/>
            <a:ext cx="838224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ually worse—even 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rd disk would collapse once radius exceed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!</a:t>
            </a:r>
            <a:br>
              <a:rPr sz="28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D hard disk would not collapse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0880" y="4800600"/>
            <a:ext cx="8610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all of radiation of radius r has energ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r) but entrop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/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304920" y="60948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olographic Principle: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gion of space can’t store more than 1.4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6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 per mete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surface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4920" y="2057400"/>
            <a:ext cx="845820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Quantum Mechanics and General Rela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oth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ield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lower bound on 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space had d&gt;3 dimensions, then relativity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und would be weaker: 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1/(d-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62120" y="7238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Holographic principle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4920" y="419112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at boun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chiev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  Apparently not, since even stronger limit (Bekenstein’s) applies for weakly-gravitating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What We </a:t>
            </a:r>
            <a:r>
              <a:rPr b="1" i="1" lang="en-US" sz="4400" spc="-1" strike="noStrike">
                <a:solidFill>
                  <a:srgbClr val="3333cc"/>
                </a:solidFill>
                <a:latin typeface="Arial"/>
              </a:rPr>
              <a:t>Will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 Achieve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80880" y="1600200"/>
            <a:ext cx="84582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 ~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 are scattered in a 3D ball of radius r (where c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and bits’ locations are known), search time i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c+1/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up to polylog fac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or “radiation disk” (n ~ r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3/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/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/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or n ~ r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(saturating holographic bound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get O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polylog n), bits would need to b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ncentra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a 2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Objections to the Model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" y="1371600"/>
            <a:ext cx="84582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uld need n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rall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puting elements to maintain a quantum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spons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ght have n “passive elements,” but many fewer “active elements” (i.e. robots), which we wish to place in superposition over lo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) Must consider effects of time di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spons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upper bounds, will have in mind weakly-gravitating systems, for which time dilation is by at most a constant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57200" y="37339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n we do anything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57200" y="518148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Arial"/>
              </a:rPr>
              <a:t>Benioff (2001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uess we can’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Back to the Main Issue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57200" y="175248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ical search take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)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tum search take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r = maximum radius of reg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228600" y="380880"/>
            <a:ext cx="8686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f0000"/>
                </a:solidFill>
                <a:latin typeface="Arial"/>
              </a:rPr>
              <a:t>REVENGE OF COMPUTER SCIENC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04920" y="1295280"/>
            <a:ext cx="220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ca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304920" y="2057400"/>
            <a:ext cx="8381880" cy="4437000"/>
            <a:chOff x="304920" y="2057400"/>
            <a:chExt cx="8381880" cy="4437000"/>
          </a:xfrm>
        </p:grpSpPr>
        <p:sp>
          <p:nvSpPr>
            <p:cNvPr id="318" name=""/>
            <p:cNvSpPr/>
            <p:nvPr/>
          </p:nvSpPr>
          <p:spPr>
            <a:xfrm>
              <a:off x="4800600" y="2666880"/>
              <a:ext cx="3809880" cy="348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Using amplitude amplification techniques of BHMT’2002, we get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(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n log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n) for 2D grid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(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n) for 3 and higher dimension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04920" y="2057400"/>
              <a:ext cx="8381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33cc33"/>
                  </a:solidFill>
                  <a:latin typeface="Arial"/>
                </a:rPr>
                <a:t>Idea: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Recursively divide into sub-square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1066680" y="3048120"/>
              <a:ext cx="3352680" cy="3446280"/>
              <a:chOff x="1066680" y="3048120"/>
              <a:chExt cx="3352680" cy="3446280"/>
            </a:xfrm>
          </p:grpSpPr>
          <p:grpSp>
            <p:nvGrpSpPr>
              <p:cNvPr id="321" name=""/>
              <p:cNvGrpSpPr/>
              <p:nvPr/>
            </p:nvGrpSpPr>
            <p:grpSpPr>
              <a:xfrm>
                <a:off x="1066680" y="3048120"/>
                <a:ext cx="3352680" cy="3446280"/>
                <a:chOff x="1066680" y="3048120"/>
                <a:chExt cx="3352680" cy="3446280"/>
              </a:xfrm>
            </p:grpSpPr>
            <p:grpSp>
              <p:nvGrpSpPr>
                <p:cNvPr id="322" name=""/>
                <p:cNvGrpSpPr/>
                <p:nvPr/>
              </p:nvGrpSpPr>
              <p:grpSpPr>
                <a:xfrm>
                  <a:off x="1066680" y="3048120"/>
                  <a:ext cx="3327120" cy="3446280"/>
                  <a:chOff x="1066680" y="3048120"/>
                  <a:chExt cx="3327120" cy="3446280"/>
                </a:xfrm>
              </p:grpSpPr>
              <p:sp>
                <p:nvSpPr>
                  <p:cNvPr id="323" name=""/>
                  <p:cNvSpPr/>
                  <p:nvPr/>
                </p:nvSpPr>
                <p:spPr>
                  <a:xfrm>
                    <a:off x="4024080" y="611172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3654000" y="611172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>
                    <a:off x="3284280" y="611172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>
                    <a:off x="2914200" y="611172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2545920" y="6111720"/>
                    <a:ext cx="3679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2176200" y="611172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1806120" y="611172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1436400" y="611172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1066680" y="611172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4024080" y="572904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3654000" y="572904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3284280" y="572904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2914200" y="572904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2545920" y="5729040"/>
                    <a:ext cx="3679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2176200" y="572904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1806120" y="572904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1436400" y="572904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1066680" y="572904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4024080" y="5344920"/>
                    <a:ext cx="369360" cy="383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3654000" y="5344920"/>
                    <a:ext cx="369720" cy="383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3284280" y="5344920"/>
                    <a:ext cx="369360" cy="383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2914200" y="5344920"/>
                    <a:ext cx="369720" cy="383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2545920" y="5344920"/>
                    <a:ext cx="367920" cy="383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176200" y="5344920"/>
                    <a:ext cx="369360" cy="383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1806120" y="5344920"/>
                    <a:ext cx="369720" cy="383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1436400" y="5344920"/>
                    <a:ext cx="369360" cy="383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1066680" y="5344920"/>
                    <a:ext cx="369720" cy="383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4024080" y="496224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3654000" y="496224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3284280" y="496224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2914200" y="496224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2545920" y="4962240"/>
                    <a:ext cx="3679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2176200" y="496224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1806120" y="496224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1436400" y="496224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1066680" y="496224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4024080" y="457956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3654000" y="457956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3284280" y="457956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2914200" y="457956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2545920" y="4579560"/>
                    <a:ext cx="3679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2176200" y="457956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1806120" y="457956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1436400" y="457956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1066680" y="457956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4024080" y="4197240"/>
                    <a:ext cx="36936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3654000" y="4197240"/>
                    <a:ext cx="36972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3284280" y="4197240"/>
                    <a:ext cx="36936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2914200" y="4197240"/>
                    <a:ext cx="36972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2545920" y="4197240"/>
                    <a:ext cx="36792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2176200" y="4197240"/>
                    <a:ext cx="36936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1806120" y="4197240"/>
                    <a:ext cx="36972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1436400" y="4197240"/>
                    <a:ext cx="36936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1066680" y="4197240"/>
                    <a:ext cx="36972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4024080" y="3812760"/>
                    <a:ext cx="369360" cy="384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3654000" y="3812760"/>
                    <a:ext cx="369720" cy="384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3284280" y="3812760"/>
                    <a:ext cx="369360" cy="384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2914200" y="3812760"/>
                    <a:ext cx="369720" cy="384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2545920" y="3812760"/>
                    <a:ext cx="367920" cy="384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2176200" y="3812760"/>
                    <a:ext cx="369360" cy="384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1806120" y="3812760"/>
                    <a:ext cx="369720" cy="384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1436400" y="3812760"/>
                    <a:ext cx="369360" cy="384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1066680" y="3812760"/>
                    <a:ext cx="369720" cy="384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4024080" y="3430440"/>
                    <a:ext cx="36936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3654000" y="3430440"/>
                    <a:ext cx="36972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3284280" y="3430440"/>
                    <a:ext cx="36936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2914200" y="3430440"/>
                    <a:ext cx="36972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2545920" y="3430440"/>
                    <a:ext cx="36792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2176200" y="3430440"/>
                    <a:ext cx="36936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1806120" y="3430440"/>
                    <a:ext cx="36972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1436400" y="3430440"/>
                    <a:ext cx="36936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1066680" y="3430440"/>
                    <a:ext cx="36972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4024080" y="304812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3654000" y="304812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3284280" y="304812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2914200" y="304812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2545920" y="3048120"/>
                    <a:ext cx="3679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2176200" y="304812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1806120" y="304812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1436400" y="304812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1066680" y="304812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1066680" y="3048120"/>
                    <a:ext cx="3327120" cy="0"/>
                  </a:xfrm>
                  <a:prstGeom prst="line">
                    <a:avLst/>
                  </a:prstGeom>
                  <a:ln cap="sq"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1066680" y="3430440"/>
                    <a:ext cx="3327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1066680" y="3812760"/>
                    <a:ext cx="3327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1066680" y="4197240"/>
                    <a:ext cx="3327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1066680" y="4579560"/>
                    <a:ext cx="3327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1066680" y="4962240"/>
                    <a:ext cx="3327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1066680" y="5344920"/>
                    <a:ext cx="3327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1066680" y="5729040"/>
                    <a:ext cx="3327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1066680" y="6111720"/>
                    <a:ext cx="3327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1066680" y="6494400"/>
                    <a:ext cx="3327120" cy="0"/>
                  </a:xfrm>
                  <a:prstGeom prst="line">
                    <a:avLst/>
                  </a:prstGeom>
                  <a:ln cap="sq"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1066680" y="3048120"/>
                    <a:ext cx="0" cy="3446280"/>
                  </a:xfrm>
                  <a:prstGeom prst="line">
                    <a:avLst/>
                  </a:prstGeom>
                  <a:ln cap="sq"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1436400" y="3048120"/>
                    <a:ext cx="0" cy="344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1806120" y="3048120"/>
                    <a:ext cx="0" cy="344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2176200" y="3048120"/>
                    <a:ext cx="0" cy="344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2545920" y="3048120"/>
                    <a:ext cx="0" cy="344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2914200" y="3048120"/>
                    <a:ext cx="0" cy="344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3284280" y="3048120"/>
                    <a:ext cx="0" cy="344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3654000" y="3048120"/>
                    <a:ext cx="0" cy="344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4024080" y="3048120"/>
                    <a:ext cx="0" cy="344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4393800" y="3048120"/>
                    <a:ext cx="0" cy="3446280"/>
                  </a:xfrm>
                  <a:prstGeom prst="line">
                    <a:avLst/>
                  </a:prstGeom>
                  <a:ln cap="sq"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24" name=""/>
                <p:cNvSpPr/>
                <p:nvPr/>
              </p:nvSpPr>
              <p:spPr>
                <a:xfrm>
                  <a:off x="3276360" y="4191120"/>
                  <a:ext cx="1143000" cy="1143000"/>
                </a:xfrm>
                <a:prstGeom prst="roundRect">
                  <a:avLst>
                    <a:gd name="adj" fmla="val 27917"/>
                  </a:avLst>
                </a:prstGeom>
                <a:solidFill>
                  <a:srgbClr val="00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1066680" y="5334120"/>
                  <a:ext cx="1143000" cy="1143000"/>
                </a:xfrm>
                <a:prstGeom prst="roundRect">
                  <a:avLst>
                    <a:gd name="adj" fmla="val 27917"/>
                  </a:avLst>
                </a:prstGeom>
                <a:solidFill>
                  <a:srgbClr val="00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3657240" y="4952880"/>
                  <a:ext cx="381240" cy="381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2209680" y="5334120"/>
                  <a:ext cx="1143000" cy="1143000"/>
                </a:xfrm>
                <a:prstGeom prst="roundRect">
                  <a:avLst>
                    <a:gd name="adj" fmla="val 27917"/>
                  </a:avLst>
                </a:prstGeom>
                <a:solidFill>
                  <a:srgbClr val="00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3276360" y="5334120"/>
                  <a:ext cx="1143000" cy="1143000"/>
                </a:xfrm>
                <a:prstGeom prst="roundRect">
                  <a:avLst>
                    <a:gd name="adj" fmla="val 27917"/>
                  </a:avLst>
                </a:prstGeom>
                <a:solidFill>
                  <a:srgbClr val="00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1066680" y="4191120"/>
                  <a:ext cx="1143000" cy="1143000"/>
                </a:xfrm>
                <a:prstGeom prst="roundRect">
                  <a:avLst>
                    <a:gd name="adj" fmla="val 27917"/>
                  </a:avLst>
                </a:prstGeom>
                <a:solidFill>
                  <a:srgbClr val="00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2209680" y="3048120"/>
                  <a:ext cx="1143000" cy="1143000"/>
                </a:xfrm>
                <a:prstGeom prst="roundRect">
                  <a:avLst>
                    <a:gd name="adj" fmla="val 27917"/>
                  </a:avLst>
                </a:prstGeom>
                <a:solidFill>
                  <a:srgbClr val="00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3276360" y="3048120"/>
                  <a:ext cx="1143000" cy="1143000"/>
                </a:xfrm>
                <a:prstGeom prst="roundRect">
                  <a:avLst>
                    <a:gd name="adj" fmla="val 27917"/>
                  </a:avLst>
                </a:prstGeom>
                <a:solidFill>
                  <a:srgbClr val="00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2209680" y="4191120"/>
                  <a:ext cx="1143000" cy="1143000"/>
                </a:xfrm>
                <a:prstGeom prst="roundRect">
                  <a:avLst>
                    <a:gd name="adj" fmla="val 27917"/>
                  </a:avLst>
                </a:prstGeom>
                <a:solidFill>
                  <a:srgbClr val="00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1066680" y="3048120"/>
                  <a:ext cx="1143000" cy="1143000"/>
                </a:xfrm>
                <a:prstGeom prst="roundRect">
                  <a:avLst>
                    <a:gd name="adj" fmla="val 27917"/>
                  </a:avLst>
                </a:prstGeom>
                <a:solidFill>
                  <a:srgbClr val="00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1447560" y="3429000"/>
                  <a:ext cx="380880" cy="38088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1066680" y="3048120"/>
                <a:ext cx="3352680" cy="2286000"/>
                <a:chOff x="1066680" y="3048120"/>
                <a:chExt cx="3352680" cy="2286000"/>
              </a:xfrm>
            </p:grpSpPr>
            <p:grpSp>
              <p:nvGrpSpPr>
                <p:cNvPr id="436" name=""/>
                <p:cNvGrpSpPr/>
                <p:nvPr/>
              </p:nvGrpSpPr>
              <p:grpSpPr>
                <a:xfrm>
                  <a:off x="1066680" y="3048120"/>
                  <a:ext cx="3352680" cy="2286000"/>
                  <a:chOff x="1066680" y="3048120"/>
                  <a:chExt cx="3352680" cy="2286000"/>
                </a:xfrm>
              </p:grpSpPr>
              <p:sp>
                <p:nvSpPr>
                  <p:cNvPr id="437" name=""/>
                  <p:cNvSpPr/>
                  <p:nvPr/>
                </p:nvSpPr>
                <p:spPr>
                  <a:xfrm>
                    <a:off x="3276360" y="4191120"/>
                    <a:ext cx="1143000" cy="1143000"/>
                  </a:xfrm>
                  <a:prstGeom prst="roundRect">
                    <a:avLst>
                      <a:gd name="adj" fmla="val 27917"/>
                    </a:avLst>
                  </a:prstGeom>
                  <a:solidFill>
                    <a:srgbClr val="cc66f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1066680" y="3048120"/>
                    <a:ext cx="1143000" cy="1143000"/>
                  </a:xfrm>
                  <a:prstGeom prst="roundRect">
                    <a:avLst>
                      <a:gd name="adj" fmla="val 27917"/>
                    </a:avLst>
                  </a:prstGeom>
                  <a:solidFill>
                    <a:srgbClr val="cc66f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39" name=""/>
                <p:cNvSpPr/>
                <p:nvPr/>
              </p:nvSpPr>
              <p:spPr>
                <a:xfrm>
                  <a:off x="1447560" y="3429000"/>
                  <a:ext cx="380880" cy="38088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3657240" y="4952880"/>
                  <a:ext cx="381240" cy="381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80880" y="716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Revenge of computer science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80880" y="1389240"/>
            <a:ext cx="838224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directed connected graph G=(V,E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t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t each vertex v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Goal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ompute some Boolean f(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{0,1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e can have arbitrary ancilla z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ternate query transform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‘local’ unitar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What does ‘local’ mean?  Depends on your religion</a:t>
            </a:r>
            <a:br>
              <a:rPr sz="3000"/>
            </a:b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2374920" y="3505320"/>
          <a:ext cx="4989600" cy="112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4920" y="3505320"/>
                    <a:ext cx="4989600" cy="112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5" name=""/>
          <p:cNvGraphicFramePr/>
          <p:nvPr/>
        </p:nvGraphicFramePr>
        <p:xfrm>
          <a:off x="5334120" y="4800600"/>
          <a:ext cx="3600360" cy="78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4800600"/>
                    <a:ext cx="3600360" cy="78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What’s the Model?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380880" y="30492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Defining Locality: 3 Cho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57200" y="1600200"/>
            <a:ext cx="8381880" cy="56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1) Unitary must be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decomposab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to commuting local operations, each acting on a single ed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2) Just don’t “send amplitude” between non-adjacent vertices: if (i,j)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 the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3) Take U=e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i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where H has eigenvalues of absolute value at most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and if (i,j)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 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2),(3).  Upper bounds will work for (1); lower bounds for (2),(3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8080" y="7314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Locality religion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4002120" y="3048120"/>
          <a:ext cx="2624040" cy="81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02120" y="3048120"/>
                    <a:ext cx="262404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3" name=""/>
          <p:cNvGraphicFramePr/>
          <p:nvPr/>
        </p:nvGraphicFramePr>
        <p:xfrm>
          <a:off x="5675400" y="4648320"/>
          <a:ext cx="2705040" cy="81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75400" y="4648320"/>
                    <a:ext cx="270504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55" name=""/>
          <p:cNvGrpSpPr/>
          <p:nvPr/>
        </p:nvGrpSpPr>
        <p:grpSpPr>
          <a:xfrm>
            <a:off x="0" y="0"/>
            <a:ext cx="9144000" cy="7086600"/>
            <a:chOff x="0" y="0"/>
            <a:chExt cx="9144000" cy="7086600"/>
          </a:xfrm>
        </p:grpSpPr>
        <p:sp>
          <p:nvSpPr>
            <p:cNvPr id="456" name=""/>
            <p:cNvSpPr/>
            <p:nvPr/>
          </p:nvSpPr>
          <p:spPr>
            <a:xfrm>
              <a:off x="0" y="0"/>
              <a:ext cx="9144000" cy="708660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6699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 txBox="1"/>
            <p:nvPr/>
          </p:nvSpPr>
          <p:spPr>
            <a:xfrm>
              <a:off x="2438280" y="2286000"/>
              <a:ext cx="4267440" cy="329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b2b2b2"/>
                    </a:solidFill>
                    <a:miter/>
                  </a:ln>
                  <a:gradFill rotWithShape="0">
                    <a:gsLst>
                      <a:gs pos="0">
                        <a:srgbClr val="520402"/>
                      </a:gs>
                      <a:gs pos="100000">
                        <a:srgbClr val="ffcc00"/>
                      </a:gs>
                    </a:gsLst>
                    <a:lin ang="5400000"/>
                  </a:gradFill>
                  <a:effectLst>
                    <a:outerShdw dist="153753" dir="2700000" blurRad="0" rotWithShape="0">
                      <a:srgbClr val="875b0d"/>
                    </a:outerShdw>
                  </a:effectLst>
                  <a:latin typeface="Arial Black"/>
                </a:rPr>
                <a:t>H</a:t>
              </a:r>
              <a:endPara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58" name=""/>
            <p:cNvSpPr txBox="1"/>
            <p:nvPr/>
          </p:nvSpPr>
          <p:spPr>
            <a:xfrm>
              <a:off x="457200" y="1371600"/>
              <a:ext cx="8153280" cy="12193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33480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Arial Black"/>
                </a:rPr>
                <a:t>FARHIOLOGY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59" name=""/>
            <p:cNvSpPr txBox="1"/>
            <p:nvPr/>
          </p:nvSpPr>
          <p:spPr>
            <a:xfrm>
              <a:off x="457200" y="4343400"/>
              <a:ext cx="8305920" cy="20574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22189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Arial Black"/>
                </a:rPr>
                <a:t>THERE IS ONLY THE HAMILTONIA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380880" y="1752480"/>
            <a:ext cx="8534520" cy="24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ralization of Grover search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a quantum algorithm has success probability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then by invoking it 2m+1 times (m=O(1/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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), we can make the success probabil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Amplitude Amplification</a:t>
            </a:r>
            <a:br>
              <a:rPr sz="4400"/>
            </a:b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Brassard, H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øyer, Mosca, Tapp 2002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1638360" y="4343400"/>
          <a:ext cx="5370480" cy="165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8360" y="4343400"/>
                    <a:ext cx="5370480" cy="16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380880" y="1389240"/>
            <a:ext cx="8763120" cy="58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sume there’s a unique marked ite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vide into 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1/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ubcubes, each of size 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4/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gorithm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n=1, check whether you’re at a marked ite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se pick a random subcube and run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n i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peat 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1/1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imes using amplitude amplific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unning tim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3200400" y="4800600"/>
          <a:ext cx="546732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4800600"/>
                    <a:ext cx="546732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In More Detail: d</a:t>
            </a:r>
            <a:r>
              <a:rPr b="1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3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990720" y="2971800"/>
            <a:ext cx="304560" cy="12193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7238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Intro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1371600"/>
            <a:ext cx="79246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Grover’s O(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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n) Quantum Search Algorith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 for combinatorial 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can it help search 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hysic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g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" y="40384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mputer scienti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king such a th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380880" y="1523880"/>
            <a:ext cx="8763120" cy="77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 probability (unamplified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amplific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inc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negligib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fy whole algorithm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2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imes to 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2514600" y="2133720"/>
          <a:ext cx="347976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133720"/>
                    <a:ext cx="347976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d</a:t>
            </a:r>
            <a:r>
              <a:rPr b="1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3 (continued)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2514600" y="3352680"/>
          <a:ext cx="5291280" cy="162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3352680"/>
                    <a:ext cx="5291280" cy="16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5" name=""/>
          <p:cNvGraphicFramePr/>
          <p:nvPr/>
        </p:nvGraphicFramePr>
        <p:xfrm>
          <a:off x="609480" y="5791320"/>
          <a:ext cx="8096400" cy="850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5791320"/>
                    <a:ext cx="809640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380880" y="1389240"/>
            <a:ext cx="8382240" cy="47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diameter of grid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)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xact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tches time for Grover 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we have to recurse more, breaking into squares of size n/log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ning time suffers correspondingl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est we could g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d=2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479" name=""/>
          <p:cNvGraphicFramePr/>
          <p:nvPr/>
        </p:nvGraphicFramePr>
        <p:xfrm>
          <a:off x="2666880" y="4038480"/>
          <a:ext cx="4260960" cy="13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4038480"/>
                    <a:ext cx="4260960" cy="13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380880" y="1066680"/>
            <a:ext cx="8382240" cy="47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exactly r marked item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d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.  Basically optimal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at lea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 marked items, can use “doubling trick” of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BBHT’98 to get same bound for d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.  For d=2 we ge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Multiple Marked Item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483" name=""/>
          <p:cNvGraphicFramePr/>
          <p:nvPr/>
        </p:nvGraphicFramePr>
        <p:xfrm>
          <a:off x="3276720" y="1447920"/>
          <a:ext cx="3504960" cy="13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447920"/>
                    <a:ext cx="350496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5" name=""/>
          <p:cNvGraphicFramePr/>
          <p:nvPr/>
        </p:nvGraphicFramePr>
        <p:xfrm>
          <a:off x="3276720" y="3276720"/>
          <a:ext cx="3886200" cy="134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3276720"/>
                    <a:ext cx="388620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7" name=""/>
          <p:cNvGraphicFramePr/>
          <p:nvPr/>
        </p:nvGraphicFramePr>
        <p:xfrm>
          <a:off x="3276720" y="5510160"/>
          <a:ext cx="3733560" cy="1181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5510160"/>
                    <a:ext cx="373356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380880" y="1371600"/>
            <a:ext cx="8763120" cy="52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ur algorithm can be adapted to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an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graph with good expansion properties (not just hypercube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y G is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d-dimension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f for any v, number of vertices at distance r from v is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min{r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n}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search in tim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Main idea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uild tree of subgraphs bottom-u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Search on Irregular Graph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1981080" y="4267080"/>
          <a:ext cx="5257800" cy="155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4267080"/>
                    <a:ext cx="525780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380880" y="1371600"/>
            <a:ext cx="8382240" cy="37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G is &gt;2-dimensional, and has h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ossi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rked items (whose locations are known),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tuitivel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st case is when bits are scattered uniformly in 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Bits Scattered on a Graph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1447920" y="2286000"/>
          <a:ext cx="6110280" cy="15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86000"/>
                    <a:ext cx="6110280" cy="15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457200" y="518148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Razborov 2002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57200" y="1600200"/>
            <a:ext cx="838188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oble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ice has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ob has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They want to know if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 for some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Application: Disjointnes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57200" y="28195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qubits must they communica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57200" y="35812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uhrman, Cleve, Wigderson 1998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2" name=""/>
          <p:cNvGraphicFramePr/>
          <p:nvPr/>
        </p:nvGraphicFramePr>
        <p:xfrm>
          <a:off x="6661080" y="3505320"/>
          <a:ext cx="1905120" cy="72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61080" y="3505320"/>
                    <a:ext cx="190512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4" name=""/>
          <p:cNvSpPr/>
          <p:nvPr/>
        </p:nvSpPr>
        <p:spPr>
          <a:xfrm>
            <a:off x="457200" y="43434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ø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yer, de Wolf 2002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4572000" y="4267080"/>
          <a:ext cx="1814400" cy="72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4267080"/>
                    <a:ext cx="181440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7" name=""/>
          <p:cNvGraphicFramePr/>
          <p:nvPr/>
        </p:nvGraphicFramePr>
        <p:xfrm>
          <a:off x="3537000" y="5105520"/>
          <a:ext cx="1179360" cy="72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37000" y="5105520"/>
                    <a:ext cx="117936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"/>
          <p:cNvGrpSpPr/>
          <p:nvPr/>
        </p:nvGrpSpPr>
        <p:grpSpPr>
          <a:xfrm>
            <a:off x="1371600" y="1523520"/>
            <a:ext cx="6400440" cy="1829160"/>
            <a:chOff x="1371600" y="1523520"/>
            <a:chExt cx="6400440" cy="1829160"/>
          </a:xfrm>
        </p:grpSpPr>
        <p:grpSp>
          <p:nvGrpSpPr>
            <p:cNvPr id="510" name=""/>
            <p:cNvGrpSpPr/>
            <p:nvPr/>
          </p:nvGrpSpPr>
          <p:grpSpPr>
            <a:xfrm>
              <a:off x="1371600" y="1599840"/>
              <a:ext cx="1752480" cy="1752840"/>
              <a:chOff x="1371600" y="1599840"/>
              <a:chExt cx="1752480" cy="1752840"/>
            </a:xfrm>
          </p:grpSpPr>
          <p:sp>
            <p:nvSpPr>
              <p:cNvPr id="511" name=""/>
              <p:cNvSpPr/>
              <p:nvPr/>
            </p:nvSpPr>
            <p:spPr>
              <a:xfrm>
                <a:off x="1371600" y="1600200"/>
                <a:ext cx="1752480" cy="1752480"/>
              </a:xfrm>
              <a:prstGeom prst="cube">
                <a:avLst>
                  <a:gd name="adj" fmla="val 33967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371600" y="259056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371600" y="297144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V="1">
                <a:off x="1752480" y="2209680"/>
                <a:ext cx="0" cy="114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V="1">
                <a:off x="2133720" y="2209680"/>
                <a:ext cx="0" cy="114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V="1">
                <a:off x="1752480" y="1599840"/>
                <a:ext cx="60984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V="1">
                <a:off x="2133720" y="1599840"/>
                <a:ext cx="60948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1600200" y="198108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781280" y="179208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V="1">
                <a:off x="2514600" y="1981080"/>
                <a:ext cx="609480" cy="60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V="1">
                <a:off x="2514600" y="2361960"/>
                <a:ext cx="609480" cy="60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V="1">
                <a:off x="2743200" y="1981080"/>
                <a:ext cx="0" cy="114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V="1">
                <a:off x="2951280" y="1801440"/>
                <a:ext cx="0" cy="114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4" name=""/>
            <p:cNvGrpSpPr/>
            <p:nvPr/>
          </p:nvGrpSpPr>
          <p:grpSpPr>
            <a:xfrm>
              <a:off x="6019560" y="1523520"/>
              <a:ext cx="1752480" cy="1752840"/>
              <a:chOff x="6019560" y="1523520"/>
              <a:chExt cx="1752480" cy="1752840"/>
            </a:xfrm>
          </p:grpSpPr>
          <p:sp>
            <p:nvSpPr>
              <p:cNvPr id="525" name=""/>
              <p:cNvSpPr/>
              <p:nvPr/>
            </p:nvSpPr>
            <p:spPr>
              <a:xfrm>
                <a:off x="6019560" y="1523880"/>
                <a:ext cx="1752480" cy="1752480"/>
              </a:xfrm>
              <a:prstGeom prst="cube">
                <a:avLst>
                  <a:gd name="adj" fmla="val 33967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019560" y="251424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019560" y="289512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V="1">
                <a:off x="6400440" y="2133360"/>
                <a:ext cx="0" cy="114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V="1">
                <a:off x="6781680" y="2133360"/>
                <a:ext cx="0" cy="114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6400440" y="1523520"/>
                <a:ext cx="60984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6781680" y="1523520"/>
                <a:ext cx="60948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248160" y="190476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429240" y="171576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7162560" y="1904760"/>
                <a:ext cx="609480" cy="60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7162560" y="2285640"/>
                <a:ext cx="609480" cy="60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V="1">
                <a:off x="7391160" y="1904760"/>
                <a:ext cx="0" cy="114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V="1">
                <a:off x="7599240" y="1725120"/>
                <a:ext cx="0" cy="114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8" name=""/>
            <p:cNvSpPr/>
            <p:nvPr/>
          </p:nvSpPr>
          <p:spPr>
            <a:xfrm>
              <a:off x="1371600" y="2209680"/>
              <a:ext cx="114300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400" spc="-1" strike="noStrike">
                  <a:solidFill>
                    <a:srgbClr val="cc00ff"/>
                  </a:solidFill>
                  <a:latin typeface="Arial"/>
                </a:rPr>
                <a:t>A</a:t>
              </a:r>
              <a:endParaRPr b="0" lang="en-US" sz="6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019560" y="2133360"/>
              <a:ext cx="114300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400" spc="-1" strike="noStrike">
                  <a:solidFill>
                    <a:srgbClr val="cc00ff"/>
                  </a:solidFill>
                  <a:latin typeface="Arial"/>
                </a:rPr>
                <a:t>B</a:t>
              </a:r>
              <a:endParaRPr b="0" lang="en-US" sz="6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124080" y="2438280"/>
              <a:ext cx="28954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41" name=""/>
          <p:cNvGraphicFramePr/>
          <p:nvPr/>
        </p:nvGraphicFramePr>
        <p:xfrm>
          <a:off x="1139760" y="4114800"/>
          <a:ext cx="6408720" cy="10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9760" y="4114800"/>
                    <a:ext cx="640872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3" name=""/>
          <p:cNvSpPr/>
          <p:nvPr/>
        </p:nvSpPr>
        <p:spPr>
          <a:xfrm>
            <a:off x="609480" y="358128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ate at any tim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9480" y="541008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ng one of 6 directions takes only 3 qu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cc"/>
                </a:solidFill>
                <a:latin typeface="Arial"/>
              </a:rPr>
              <a:t>Disjointness in O(</a:t>
            </a:r>
            <a:r>
              <a:rPr b="1" lang="en-US" sz="3500" spc="-1" strike="noStrike">
                <a:solidFill>
                  <a:srgbClr val="3333cc"/>
                </a:solidFill>
                <a:latin typeface="Symbol"/>
                <a:ea typeface="Symbol"/>
              </a:rPr>
              <a:t></a:t>
            </a:r>
            <a:r>
              <a:rPr b="1" lang="en-US" sz="3500" spc="-1" strike="noStrike">
                <a:solidFill>
                  <a:srgbClr val="3333cc"/>
                </a:solidFill>
                <a:latin typeface="Arial"/>
              </a:rPr>
              <a:t>n) Communication</a:t>
            </a:r>
            <a:endParaRPr b="1" lang="en-US" sz="35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380880" y="30492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Open Problem #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80880" y="1371600"/>
            <a:ext cx="8382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a quantum walk search a 2D grid efficiently?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Maybe even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 time instead of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 log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?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62120" y="5972040"/>
            <a:ext cx="7924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mising numerical evidence (courtesy N. Shenvi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2743200" y="2590920"/>
            <a:ext cx="3657600" cy="3276360"/>
          </a:xfrm>
          <a:prstGeom prst="rect">
            <a:avLst/>
          </a:prstGeom>
          <a:ln w="0">
            <a:noFill/>
          </a:ln>
        </p:spPr>
      </p:pic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90720" y="716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Random walk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380880" y="30492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Open Problem #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80880" y="1143000"/>
            <a:ext cx="8382240" cy="54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re’s a graph of diameter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 that takes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3/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time to search (by BBBV’96 hybrid argument)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es it also tak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3/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time to decide if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every row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f a 2D grid has a marked item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2819520" y="2019960"/>
            <a:ext cx="3428640" cy="3236760"/>
            <a:chOff x="2819520" y="2019960"/>
            <a:chExt cx="3428640" cy="3236760"/>
          </a:xfrm>
        </p:grpSpPr>
        <p:grpSp>
          <p:nvGrpSpPr>
            <p:cNvPr id="554" name=""/>
            <p:cNvGrpSpPr/>
            <p:nvPr/>
          </p:nvGrpSpPr>
          <p:grpSpPr>
            <a:xfrm>
              <a:off x="2819520" y="2369880"/>
              <a:ext cx="3428640" cy="2886840"/>
              <a:chOff x="2819520" y="2369880"/>
              <a:chExt cx="3428640" cy="2886840"/>
            </a:xfrm>
          </p:grpSpPr>
          <p:sp>
            <p:nvSpPr>
              <p:cNvPr id="555" name=""/>
              <p:cNvSpPr/>
              <p:nvPr/>
            </p:nvSpPr>
            <p:spPr>
              <a:xfrm flipH="1">
                <a:off x="3450600" y="2460240"/>
                <a:ext cx="2165400" cy="270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3450960" y="2460240"/>
                <a:ext cx="2165400" cy="270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2909880" y="3813840"/>
                <a:ext cx="32479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2819520" y="3723120"/>
                <a:ext cx="180720" cy="180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360600" y="3723120"/>
                <a:ext cx="180720" cy="180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3902040" y="3723120"/>
                <a:ext cx="180720" cy="180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984920" y="3723120"/>
                <a:ext cx="180720" cy="180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526000" y="3723120"/>
                <a:ext cx="180720" cy="180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067440" y="3723120"/>
                <a:ext cx="180720" cy="180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804560" y="4174200"/>
                <a:ext cx="180000" cy="1807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165640" y="4625640"/>
                <a:ext cx="180000" cy="180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526000" y="5076720"/>
                <a:ext cx="180720" cy="180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082760" y="4174200"/>
                <a:ext cx="180000" cy="1807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721680" y="4625640"/>
                <a:ext cx="180000" cy="180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360600" y="5076720"/>
                <a:ext cx="180720" cy="180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4804560" y="3272400"/>
                <a:ext cx="180000" cy="180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165640" y="2820600"/>
                <a:ext cx="180000" cy="1807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526000" y="2369880"/>
                <a:ext cx="180720" cy="180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443480" y="3723120"/>
                <a:ext cx="180720" cy="180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082760" y="3272400"/>
                <a:ext cx="180000" cy="180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3721680" y="2820600"/>
                <a:ext cx="180000" cy="1807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3360600" y="2369880"/>
                <a:ext cx="180720" cy="180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7" name=""/>
            <p:cNvSpPr/>
            <p:nvPr/>
          </p:nvSpPr>
          <p:spPr>
            <a:xfrm rot="2224200">
              <a:off x="4621320" y="1980720"/>
              <a:ext cx="457200" cy="174924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45360 h 1749240"/>
                <a:gd name="textAreaBottom" fmla="*/ 1703880 h 1749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648320" y="206496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480" y="6857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Starfish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380880" y="30492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Open Problem #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80880" y="1371600"/>
            <a:ext cx="8382240" cy="48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mological constan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2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gt; 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ype-Ia supernova observa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bits accessible to any one observer is at most 3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Bousso 2000, Lloyd 200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ow many of those ~10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123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bits could a computer “use” before they recede past its horiz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result shows a quantum computer coul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ear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re of the bits than a classical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what about using them as memo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09480" y="6857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2D Turing machine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38088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even a dumb computer scientist kn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71600" y="990720"/>
            <a:ext cx="71629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ff66"/>
                </a:solidFill>
                <a:latin typeface="Arial"/>
              </a:rPr>
              <a:t>THE SPEED OF LIGHT IS FINIT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533520" y="1828800"/>
            <a:ext cx="8458200" cy="4757040"/>
            <a:chOff x="533520" y="1828800"/>
            <a:chExt cx="8458200" cy="4757040"/>
          </a:xfrm>
        </p:grpSpPr>
        <p:sp>
          <p:nvSpPr>
            <p:cNvPr id="178" name=""/>
            <p:cNvSpPr/>
            <p:nvPr/>
          </p:nvSpPr>
          <p:spPr>
            <a:xfrm>
              <a:off x="5516640" y="4952880"/>
              <a:ext cx="5032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013360" y="4952880"/>
              <a:ext cx="5032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511520" y="4952880"/>
              <a:ext cx="50184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008600" y="4952880"/>
              <a:ext cx="5029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5320" y="4952880"/>
              <a:ext cx="5032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516640" y="4403880"/>
              <a:ext cx="5032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13360" y="4403880"/>
              <a:ext cx="5032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511520" y="4403880"/>
              <a:ext cx="5018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008600" y="4403880"/>
              <a:ext cx="5029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05320" y="4403880"/>
              <a:ext cx="5032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516640" y="3886200"/>
              <a:ext cx="5032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013360" y="3886200"/>
              <a:ext cx="5032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511520" y="3886200"/>
              <a:ext cx="50184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008600" y="3886200"/>
              <a:ext cx="5029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505320" y="3886200"/>
              <a:ext cx="5032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516640" y="3336840"/>
              <a:ext cx="5032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013360" y="3336840"/>
              <a:ext cx="5032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511520" y="3336840"/>
              <a:ext cx="50184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008600" y="3336840"/>
              <a:ext cx="5029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505320" y="3336840"/>
              <a:ext cx="5032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516640" y="2819520"/>
              <a:ext cx="5032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13360" y="2819520"/>
              <a:ext cx="5032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511520" y="2819520"/>
              <a:ext cx="50184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08600" y="2819520"/>
              <a:ext cx="5029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505320" y="2819520"/>
              <a:ext cx="5032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05320" y="2819520"/>
              <a:ext cx="25146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505320" y="3336840"/>
              <a:ext cx="2514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05320" y="3886200"/>
              <a:ext cx="2514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505320" y="4403880"/>
              <a:ext cx="2514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4952880"/>
              <a:ext cx="2514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505320" y="5470560"/>
              <a:ext cx="25146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05320" y="2819520"/>
              <a:ext cx="0" cy="26510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008600" y="2819520"/>
              <a:ext cx="0" cy="265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511520" y="2819520"/>
              <a:ext cx="0" cy="265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013360" y="2819520"/>
              <a:ext cx="0" cy="265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516640" y="2819520"/>
              <a:ext cx="0" cy="265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19920" y="2819520"/>
              <a:ext cx="0" cy="26510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562720" y="4419720"/>
              <a:ext cx="380880" cy="380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095880" y="4267080"/>
              <a:ext cx="2667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Marked item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14800" y="3429000"/>
              <a:ext cx="380880" cy="380880"/>
            </a:xfrm>
            <a:prstGeom prst="smileyFace">
              <a:avLst>
                <a:gd name="adj" fmla="val 9282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72000" y="2895480"/>
              <a:ext cx="380880" cy="381240"/>
            </a:xfrm>
            <a:prstGeom prst="smileyFace">
              <a:avLst>
                <a:gd name="adj" fmla="val 9282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81280" y="3962520"/>
              <a:ext cx="381240" cy="380880"/>
            </a:xfrm>
            <a:prstGeom prst="smileyFace">
              <a:avLst>
                <a:gd name="adj" fmla="val 9282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581280" y="3429000"/>
              <a:ext cx="381240" cy="380880"/>
            </a:xfrm>
            <a:prstGeom prst="smileyFace">
              <a:avLst>
                <a:gd name="adj" fmla="val 9282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114800" y="2895480"/>
              <a:ext cx="380880" cy="381240"/>
            </a:xfrm>
            <a:prstGeom prst="smileyFace">
              <a:avLst>
                <a:gd name="adj" fmla="val 9282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5800" y="2819520"/>
              <a:ext cx="2666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c66ff"/>
                  </a:solidFill>
                  <a:latin typeface="Arial"/>
                </a:rPr>
                <a:t>Robot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276720" y="2743200"/>
              <a:ext cx="152280" cy="27432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1280 h 2743200"/>
                <a:gd name="textAreaBottom" fmla="*/ 2671920 h 274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743200" y="4343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</a:t>
              </a:r>
              <a:r>
                <a:rPr b="0" lang="en-US" sz="26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 rot="5400000">
              <a:off x="4724280" y="1294200"/>
              <a:ext cx="152280" cy="27432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1280 h 2743200"/>
                <a:gd name="textAreaBottom" fmla="*/ 2671920 h 274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172200" y="259092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</a:t>
              </a:r>
              <a:r>
                <a:rPr b="0" lang="en-US" sz="26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33520" y="1828800"/>
              <a:ext cx="8381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nsider a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Arial"/>
                </a:rPr>
                <a:t> quantum robot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 searching a 2D grid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581280" y="2895480"/>
              <a:ext cx="381240" cy="381240"/>
            </a:xfrm>
            <a:prstGeom prst="smileyFace">
              <a:avLst>
                <a:gd name="adj" fmla="val 9282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09480" y="5638680"/>
              <a:ext cx="83822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We need </a:t>
              </a:r>
              <a:r>
                <a:rPr b="1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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n Grover iterations, each of which takes </a:t>
              </a:r>
              <a:r>
                <a:rPr b="1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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n time, so we’re screwed!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2120" y="7238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Speed of light is finite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380880" y="30492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Open Problem #3 (con’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80880" y="1523880"/>
            <a:ext cx="838224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“2D Turing machine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O(n) time, a square worktape, and a separate input ta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re anything it can do with an 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worktape that it can’t do with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worktap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a quantum T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480" y="6857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2D Turing machine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80880" y="4495680"/>
            <a:ext cx="822960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lated to Feige’s embedding proble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iven n checkers on an 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checkerboard, can we move them to an O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) board so that no 2 checkers become farther apart in 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t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457200" y="144792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undamen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stacle to quantum speedup for search of physical reg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Conclusion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57200" y="2666880"/>
            <a:ext cx="86868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should look for other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“pure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S theory questions inspired by laws of physic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antum computing is just one examp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1066680" y="5029200"/>
            <a:ext cx="6858000" cy="1050840"/>
            <a:chOff x="1066680" y="5029200"/>
            <a:chExt cx="6858000" cy="1050840"/>
          </a:xfrm>
        </p:grpSpPr>
        <p:pic>
          <p:nvPicPr>
            <p:cNvPr id="591" name="string" descr=""/>
            <p:cNvPicPr/>
            <p:nvPr/>
          </p:nvPicPr>
          <p:blipFill>
            <a:blip r:embed="rId1"/>
            <a:stretch/>
          </p:blipFill>
          <p:spPr>
            <a:xfrm>
              <a:off x="1066680" y="5029200"/>
              <a:ext cx="166860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"/>
            <p:cNvSpPr/>
            <p:nvPr/>
          </p:nvSpPr>
          <p:spPr>
            <a:xfrm>
              <a:off x="3352680" y="5257800"/>
              <a:ext cx="457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Not all strings have n bi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Grover’s Algorithm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523880" y="1371600"/>
          <a:ext cx="6019920" cy="660240"/>
        </p:xfrm>
        <a:graphic>
          <a:graphicData uri="http://schemas.openxmlformats.org/drawingml/2006/table">
            <a:tbl>
              <a:tblPr/>
              <a:tblGrid>
                <a:gridCol w="752760"/>
                <a:gridCol w="752400"/>
                <a:gridCol w="752400"/>
                <a:gridCol w="752400"/>
                <a:gridCol w="752400"/>
                <a:gridCol w="752760"/>
                <a:gridCol w="752400"/>
                <a:gridCol w="752400"/>
              </a:tblGrid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33" name=""/>
          <p:cNvSpPr/>
          <p:nvPr/>
        </p:nvSpPr>
        <p:spPr>
          <a:xfrm>
            <a:off x="457200" y="281952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orted database of n i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2133720" y="2057400"/>
            <a:ext cx="685800" cy="8380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281952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Goal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ind one “marked” i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 flipV="1">
            <a:off x="5715000" y="2057400"/>
            <a:ext cx="533520" cy="8380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480" y="40384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ically, order n queries to database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472428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Grover 1996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antum algorithm using ord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qu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57913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BBBV 1996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over’s algorithm is opti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990720" y="2361960"/>
            <a:ext cx="7391160" cy="1523880"/>
            <a:chOff x="990720" y="2361960"/>
            <a:chExt cx="7391160" cy="1523880"/>
          </a:xfrm>
        </p:grpSpPr>
        <p:sp>
          <p:nvSpPr>
            <p:cNvPr id="241" name=""/>
            <p:cNvSpPr/>
            <p:nvPr/>
          </p:nvSpPr>
          <p:spPr>
            <a:xfrm flipV="1">
              <a:off x="2438280" y="2361960"/>
              <a:ext cx="0" cy="152388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3962520" y="2361960"/>
              <a:ext cx="0" cy="152388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5410080" y="2361960"/>
              <a:ext cx="0" cy="152388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6934320" y="2361960"/>
              <a:ext cx="0" cy="1523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8381880" y="2361960"/>
              <a:ext cx="0" cy="152388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990720" y="2361960"/>
              <a:ext cx="0" cy="152388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59000" y="3886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00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78720" y="1600200"/>
            <a:ext cx="31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Super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520" y="7086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Grover Illustration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982880" y="3886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001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926480" y="3886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101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478920" y="3886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10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954680" y="3886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011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507120" y="3886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01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 flipV="1">
            <a:off x="2438280" y="2361960"/>
            <a:ext cx="0" cy="152388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3962520" y="2361960"/>
            <a:ext cx="0" cy="152388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10080" y="2361960"/>
            <a:ext cx="0" cy="152388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934320" y="388584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8381880" y="2361960"/>
            <a:ext cx="0" cy="152388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990720" y="2361960"/>
            <a:ext cx="0" cy="152388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9000" y="3886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00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0880" y="160020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plitude of Solution State Inve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520" y="7086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Grover Illustration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982880" y="3886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001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926480" y="3886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101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478920" y="34290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10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954680" y="3886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011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507120" y="3886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01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 flipV="1">
            <a:off x="6934320" y="380520"/>
            <a:ext cx="0" cy="3519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990720" y="3352680"/>
            <a:ext cx="7391160" cy="503280"/>
            <a:chOff x="990720" y="3352680"/>
            <a:chExt cx="7391160" cy="503280"/>
          </a:xfrm>
        </p:grpSpPr>
        <p:sp>
          <p:nvSpPr>
            <p:cNvPr id="273" name=""/>
            <p:cNvSpPr/>
            <p:nvPr/>
          </p:nvSpPr>
          <p:spPr>
            <a:xfrm flipV="1">
              <a:off x="2438280" y="3352680"/>
              <a:ext cx="0" cy="50328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3962520" y="3352680"/>
              <a:ext cx="0" cy="50328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5410080" y="3352680"/>
              <a:ext cx="0" cy="50328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8381880" y="3352680"/>
              <a:ext cx="0" cy="50328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990720" y="3352680"/>
              <a:ext cx="0" cy="50328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59000" y="3886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00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79800" y="1600200"/>
            <a:ext cx="541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Amplitudes Inverted About M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520" y="7086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Grover Illustration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982880" y="3886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001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926480" y="3886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101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478920" y="3886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10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954680" y="3886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011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07120" y="3886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01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Talk Outline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46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hysics of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hm for Space 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sjointness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533520" y="685800"/>
            <a:ext cx="830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33cc"/>
                </a:solidFill>
                <a:latin typeface="Arial"/>
              </a:rPr>
              <a:t>So why not pack data in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3300" spc="-1" strike="noStrike">
                <a:solidFill>
                  <a:srgbClr val="3333cc"/>
                </a:solidFill>
                <a:latin typeface="Arial"/>
              </a:rPr>
              <a:t> dimensions?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066680" y="15238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the complexity would b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/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231480" y="2819520"/>
            <a:ext cx="8656920" cy="1523880"/>
            <a:chOff x="231480" y="2819520"/>
            <a:chExt cx="8656920" cy="1523880"/>
          </a:xfrm>
        </p:grpSpPr>
        <p:sp>
          <p:nvSpPr>
            <p:cNvPr id="292" name=""/>
            <p:cNvSpPr/>
            <p:nvPr/>
          </p:nvSpPr>
          <p:spPr>
            <a:xfrm>
              <a:off x="4114800" y="3505320"/>
              <a:ext cx="838080" cy="838080"/>
            </a:xfrm>
            <a:prstGeom prst="cube">
              <a:avLst>
                <a:gd name="adj" fmla="val 33592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31480" y="2819520"/>
              <a:ext cx="865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Trouble: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Suppose our “hard disk” has mass density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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3809880" y="2819520"/>
            <a:ext cx="1828800" cy="1752480"/>
          </a:xfrm>
          <a:prstGeom prst="cube">
            <a:avLst>
              <a:gd name="adj" fmla="val 3359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2280" y="228600"/>
            <a:ext cx="9220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saw Grover search of a 2D grid presented a problem…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600200" y="457200"/>
            <a:ext cx="6172200" cy="5867280"/>
          </a:xfrm>
          <a:prstGeom prst="cube">
            <a:avLst>
              <a:gd name="adj" fmla="val 3359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-2590920"/>
            <a:ext cx="11887200" cy="10058400"/>
          </a:xfrm>
          <a:prstGeom prst="cube">
            <a:avLst>
              <a:gd name="adj" fmla="val 242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6T03:50:00Z</dcterms:created>
  <dc:creator>Avaya User</dc:creator>
  <dc:description/>
  <dc:language>en-US</dc:language>
  <cp:lastModifiedBy>aaronson</cp:lastModifiedBy>
  <dcterms:modified xsi:type="dcterms:W3CDTF">2003-03-11T08:04:22Z</dcterms:modified>
  <cp:revision>3</cp:revision>
  <dc:subject/>
  <dc:title>Quantum Search of Spatial Regions</dc:title>
</cp:coreProperties>
</file>