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F71-CD92-4102-B66F-3D6CB202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63E7-BDC5-497D-AE73-1CC25EA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CA1-D1C4-4A93-BD41-98E820D6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03E-59A6-486F-913D-7AD7FBC0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81F-ACCC-4E69-A687-D79D2436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9F1-F329-478A-AEF5-1A7CC97F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D2F-2EE2-4A9D-A4F2-85B440BC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DA2-01A5-4AF4-89ED-CF75D114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D85-A796-46A7-8085-6FFAEAF5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66B-5303-4360-B93D-4B33341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DD1-F866-41D3-BDD1-139878E3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90A-1BCD-4B58-A879-6B79A0D9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A90E-9B5F-4E1F-BF11-212FA994A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 Future</a:t>
            </a: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 (and Past) of Quantum Lower Bounds by Polynomial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C 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A for which SZ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K: Statistical Zero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trivial” polytime quantum algorith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iso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abelian hidden sub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cryptographic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rassard-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øyer-Tapp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Symbol"/>
                <a:ea typeface="Symbol"/>
              </a:rPr>
              <a:t>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a50021"/>
                </a:solidFill>
                <a:latin typeface="Arial"/>
              </a:rPr>
              <a:t>1/3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) quantum alg for coll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480" y="5715000"/>
          <a:ext cx="2667240" cy="59328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505320" y="5410080"/>
            <a:ext cx="44956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queried classical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 for fast loo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57600" y="2590920"/>
          <a:ext cx="4648320" cy="583920"/>
        </p:xfrm>
        <a:graphic>
          <a:graphicData uri="http://schemas.openxmlformats.org/drawingml/2006/table">
            <a:tbl>
              <a:tblPr/>
              <a:tblGrid>
                <a:gridCol w="664560"/>
                <a:gridCol w="663120"/>
                <a:gridCol w="664920"/>
                <a:gridCol w="663120"/>
                <a:gridCol w="664560"/>
                <a:gridCol w="663480"/>
                <a:gridCol w="66456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304920" y="243828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914400" y="32004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99840" y="32004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286000" y="32004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971440" y="32004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572000" y="35812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733920"/>
            <a:ext cx="3733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I collide with any of the pink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33cc"/>
                </a:solidFill>
                <a:latin typeface="Arial"/>
              </a:rPr>
              <a:t>Previous Lower Bound Techniqu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sensitivity (Beals et al. 1998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(f)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s(f)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0481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um adversary method (Ambainis 20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6483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blem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very 1-1 input differs in at least n/2 places from every 2-1 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 = acceptance probability on input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ition (follows Beals et al. 1998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 is a polynomial of degre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over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0200" y="1905120"/>
            <a:ext cx="5257800" cy="1600200"/>
            <a:chOff x="1600200" y="1905120"/>
            <a:chExt cx="5257800" cy="1600200"/>
          </a:xfrm>
        </p:grpSpPr>
        <p:graphicFrame>
          <p:nvGraphicFramePr>
            <p:cNvPr id="90" name=""/>
            <p:cNvGraphicFramePr/>
            <p:nvPr/>
          </p:nvGraphicFramePr>
          <p:xfrm>
            <a:off x="1600200" y="1981080"/>
            <a:ext cx="5181480" cy="1362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981080"/>
                      <a:ext cx="5181480" cy="13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6248160" y="1905120"/>
              <a:ext cx="60984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2666880"/>
          <a:ext cx="3657600" cy="11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65760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80880" y="609480"/>
            <a:ext cx="8382240" cy="60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itially, amplitu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,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each |i,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degree-0 polynomial over th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ry replaces eac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,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its degree by 1.  The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 can’t increase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, squaring amplitudes doubles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put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(g): Uniform distribution over g-to-1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4382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chnicalit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might not divide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ssume for simplicity that it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" y="3886200"/>
            <a:ext cx="6032520" cy="852480"/>
            <a:chOff x="685800" y="3886200"/>
            <a:chExt cx="6032520" cy="852480"/>
          </a:xfrm>
        </p:grpSpPr>
        <p:graphicFrame>
          <p:nvGraphicFramePr>
            <p:cNvPr id="100" name=""/>
            <p:cNvGraphicFramePr/>
            <p:nvPr/>
          </p:nvGraphicFramePr>
          <p:xfrm>
            <a:off x="2133720" y="3886200"/>
            <a:ext cx="45846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3886200"/>
                      <a:ext cx="45846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685800" y="39625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8580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 that, if T=O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, then P(g)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vari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nomial of degre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T for integers 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nomials of P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(X) = product of r variabl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3048120"/>
            <a:ext cx="6484320" cy="961920"/>
            <a:chOff x="533520" y="3048120"/>
            <a:chExt cx="6484320" cy="961920"/>
          </a:xfrm>
        </p:grpSpPr>
        <p:graphicFrame>
          <p:nvGraphicFramePr>
            <p:cNvPr id="107" name=""/>
            <p:cNvGraphicFramePr/>
            <p:nvPr/>
          </p:nvGraphicFramePr>
          <p:xfrm>
            <a:off x="1828800" y="3124080"/>
            <a:ext cx="5189040" cy="88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124080"/>
                      <a:ext cx="51890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533520" y="3048120"/>
              <a:ext cx="45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3984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952880"/>
            <a:ext cx="8181360" cy="1062000"/>
            <a:chOff x="533520" y="4952880"/>
            <a:chExt cx="8181360" cy="1062000"/>
          </a:xfrm>
        </p:grpSpPr>
        <p:graphicFrame>
          <p:nvGraphicFramePr>
            <p:cNvPr id="111" name=""/>
            <p:cNvGraphicFramePr/>
            <p:nvPr/>
          </p:nvGraphicFramePr>
          <p:xfrm>
            <a:off x="4267080" y="4952880"/>
            <a:ext cx="4447800" cy="106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7080" y="4952880"/>
                      <a:ext cx="44478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533520" y="4952880"/>
              <a:ext cx="4647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395280"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n for some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752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” of I: 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=|Y|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59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188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,g) = 0 unless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(“range” of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09480" y="3352680"/>
            <a:ext cx="5881680" cy="3065760"/>
            <a:chOff x="609480" y="3352680"/>
            <a:chExt cx="5881680" cy="3065760"/>
          </a:xfrm>
        </p:grpSpPr>
        <p:graphicFrame>
          <p:nvGraphicFramePr>
            <p:cNvPr id="118" name=""/>
            <p:cNvGraphicFramePr/>
            <p:nvPr/>
          </p:nvGraphicFramePr>
          <p:xfrm>
            <a:off x="2649600" y="5334120"/>
            <a:ext cx="3612960" cy="108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49600" y="5334120"/>
                      <a:ext cx="3612960" cy="10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3214800" y="3352680"/>
            <a:ext cx="3276360" cy="199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14800" y="3352680"/>
                      <a:ext cx="3276360" cy="19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09480" y="3809880"/>
              <a:ext cx="251460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461880">
                <a:lnSpc>
                  <a:spcPct val="100000"/>
                </a:lnSpc>
                <a:spcBef>
                  <a:spcPts val="33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Calculating </a:t>
            </a:r>
            <a:r>
              <a:rPr b="1" lang="en-US" sz="4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4300" spc="-1" strike="noStrike">
                <a:solidFill>
                  <a:srgbClr val="3333cc"/>
                </a:solidFill>
                <a:latin typeface="Arial"/>
              </a:rPr>
              <a:t>(I,g): #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S containing 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g-to-1 inputs of size n: n!/(g!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/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743200"/>
            <a:ext cx="792468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be distinct values in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# of time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ears in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 +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394000" y="4954680"/>
          <a:ext cx="32875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4000" y="4954680"/>
                    <a:ext cx="32875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33520" y="4419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g-to-1 inputs X with range S s.t. I(X)=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ecomes ~polynomial(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65160" y="2909880"/>
          <a:ext cx="766908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909880"/>
                    <a:ext cx="76690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2514600" y="4038120"/>
            <a:ext cx="6400800" cy="2161800"/>
            <a:chOff x="2514600" y="4038120"/>
            <a:chExt cx="6400800" cy="2161800"/>
          </a:xfrm>
        </p:grpSpPr>
        <p:sp>
          <p:nvSpPr>
            <p:cNvPr id="133" name=""/>
            <p:cNvSpPr/>
            <p:nvPr/>
          </p:nvSpPr>
          <p:spPr>
            <a:xfrm rot="16200000">
              <a:off x="5371920" y="1180440"/>
              <a:ext cx="685800" cy="64008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66680 h 6400800"/>
                <a:gd name="textAreaBottom" fmla="*/ 6234120 h 640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90920" y="4876920"/>
              <a:ext cx="58672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olynomial in g of deg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 + (r-w) = r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2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9051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752480"/>
            <a:ext cx="8001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quantum query 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lower bounds for collision and set comparison probl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proble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arkov’s Ineq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p be a polynomial bounded in [0,b] in the interval [0,a], that has derivative at least c somewhere in that interval. 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733920" y="2895480"/>
          <a:ext cx="3833640" cy="17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895480"/>
                    <a:ext cx="383364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33520" y="4876920"/>
            <a:ext cx="67816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991040"/>
            <a:ext cx="6781680" cy="722520"/>
          </a:xfrm>
          <a:custGeom>
            <a:avLst/>
            <a:gdLst/>
            <a:ahLst/>
            <a:rect l="l" t="t" r="r" b="b"/>
            <a:pathLst>
              <a:path w="4272" h="455">
                <a:moveTo>
                  <a:pt x="0" y="384"/>
                </a:moveTo>
                <a:cubicBezTo>
                  <a:pt x="108" y="386"/>
                  <a:pt x="477" y="455"/>
                  <a:pt x="646" y="397"/>
                </a:cubicBezTo>
                <a:cubicBezTo>
                  <a:pt x="815" y="339"/>
                  <a:pt x="835" y="76"/>
                  <a:pt x="1014" y="38"/>
                </a:cubicBezTo>
                <a:cubicBezTo>
                  <a:pt x="1193" y="0"/>
                  <a:pt x="1480" y="173"/>
                  <a:pt x="1722" y="170"/>
                </a:cubicBezTo>
                <a:cubicBezTo>
                  <a:pt x="1964" y="167"/>
                  <a:pt x="2196" y="27"/>
                  <a:pt x="2468" y="19"/>
                </a:cubicBezTo>
                <a:cubicBezTo>
                  <a:pt x="2740" y="11"/>
                  <a:pt x="3055" y="126"/>
                  <a:pt x="3356" y="123"/>
                </a:cubicBezTo>
                <a:cubicBezTo>
                  <a:pt x="3657" y="120"/>
                  <a:pt x="4081" y="26"/>
                  <a:pt x="427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5720" y="5867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3320" y="5029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352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60958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54380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4267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44760" y="4751280"/>
            <a:ext cx="269640" cy="585720"/>
          </a:xfrm>
          <a:custGeom>
            <a:avLst/>
            <a:gdLst/>
            <a:ahLst/>
            <a:rect l="l" t="t" r="r" b="b"/>
            <a:pathLst>
              <a:path w="170" h="369">
                <a:moveTo>
                  <a:pt x="0" y="0"/>
                </a:moveTo>
                <a:lnTo>
                  <a:pt x="170" y="36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(g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for all 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59092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1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/10 and P(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/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P/d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/5 some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9625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lower bound would follow if g always divided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1055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x to obtain 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 found a better way to 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et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he SZK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Q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sult actually u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pu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,g : {1,…,2n}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{1,…,n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mis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i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Range(f) = Range(g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|Range(f)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nge(g)| &gt; 1.1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ide which w.h.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8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ul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quantum lower b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ge from which X and Y are drawn to have size 2n/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X and 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sub-ranges of size 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=1, yet 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n/g for g &gt;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 acceptance prob. is a polynomial in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s quadratically weakens the bound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666880" y="3429000"/>
          <a:ext cx="411480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429000"/>
                    <a:ext cx="41148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Other ‘Collisionoid’ Func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>
              <a:lnSpc>
                <a:spcPct val="90000"/>
              </a:lnSpc>
              <a:spcBef>
                <a:spcPts val="1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et equalit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ppose eith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Range(f) = Range(g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Range(f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nge(g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st quantum lower bound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ti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lement distinctnes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cide whether there exist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 such that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-37080">
              <a:lnSpc>
                <a:spcPct val="90000"/>
              </a:lnSpc>
              <a:spcBef>
                <a:spcPts val="1624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Quantum upper bound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(Buhrman et al. ‘0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6480" indent="-37080">
              <a:lnSpc>
                <a:spcPct val="90000"/>
              </a:lnSpc>
              <a:spcBef>
                <a:spcPts val="1624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Quantum lower bound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(Shi ‘0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-44280">
              <a:lnSpc>
                <a:spcPct val="90000"/>
              </a:lnSpc>
              <a:spcBef>
                <a:spcPts val="1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onjecture (Watrous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(f) and Q(f) are polynomially related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mmetric fun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rees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1143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1981080"/>
            <a:ext cx="5331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47920" y="1676520"/>
            <a:ext cx="7617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14040" y="2057400"/>
            <a:ext cx="1143360" cy="1143000"/>
            <a:chOff x="914040" y="2057400"/>
            <a:chExt cx="1143360" cy="1143000"/>
          </a:xfrm>
        </p:grpSpPr>
        <p:sp>
          <p:nvSpPr>
            <p:cNvPr id="168" name=""/>
            <p:cNvSpPr/>
            <p:nvPr/>
          </p:nvSpPr>
          <p:spPr>
            <a:xfrm>
              <a:off x="914400" y="2057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520" y="259092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914040" y="259092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42840" y="2057400"/>
            <a:ext cx="1143360" cy="1143000"/>
            <a:chOff x="2742840" y="2057400"/>
            <a:chExt cx="1143360" cy="1143000"/>
          </a:xfrm>
        </p:grpSpPr>
        <p:sp>
          <p:nvSpPr>
            <p:cNvPr id="172" name=""/>
            <p:cNvSpPr/>
            <p:nvPr/>
          </p:nvSpPr>
          <p:spPr>
            <a:xfrm>
              <a:off x="2743200" y="20574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5320" y="259092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742840" y="259092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14600" y="1676520"/>
            <a:ext cx="7621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3048120"/>
            <a:ext cx="5331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048120"/>
            <a:ext cx="5335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971800" y="1523880"/>
          <a:ext cx="5335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3880"/>
                    <a:ext cx="5335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752480" y="2514600"/>
          <a:ext cx="53352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5146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657600" y="2514600"/>
          <a:ext cx="53352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25146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3429000"/>
            <a:ext cx="411480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-level game tre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mbainis’ adversary method yield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t best known polynomial lower bound i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(n log n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(Shi ‘01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800600" y="2514600"/>
            <a:ext cx="4343040" cy="1142640"/>
            <a:chOff x="4800600" y="2514600"/>
            <a:chExt cx="4343040" cy="1142640"/>
          </a:xfrm>
        </p:grpSpPr>
        <p:graphicFrame>
          <p:nvGraphicFramePr>
            <p:cNvPr id="186" name=""/>
            <p:cNvGraphicFramePr/>
            <p:nvPr/>
          </p:nvGraphicFramePr>
          <p:xfrm>
            <a:off x="4800600" y="2595960"/>
            <a:ext cx="4343040" cy="1010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2595960"/>
                      <a:ext cx="4343040" cy="101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8906760" y="2514600"/>
              <a:ext cx="236880" cy="11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324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333760" y="4114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4114800"/>
            <a:ext cx="9903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723920" y="4495680"/>
            <a:ext cx="1067040" cy="1143000"/>
            <a:chOff x="4723920" y="4495680"/>
            <a:chExt cx="1067040" cy="1143000"/>
          </a:xfrm>
        </p:grpSpPr>
        <p:sp>
          <p:nvSpPr>
            <p:cNvPr id="194" name=""/>
            <p:cNvSpPr/>
            <p:nvPr/>
          </p:nvSpPr>
          <p:spPr>
            <a:xfrm>
              <a:off x="5486400" y="502920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723920" y="502920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29200" y="44956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80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019560" y="4495680"/>
            <a:ext cx="1067040" cy="1143000"/>
            <a:chOff x="6019560" y="4495680"/>
            <a:chExt cx="1067040" cy="1143000"/>
          </a:xfrm>
        </p:grpSpPr>
        <p:sp>
          <p:nvSpPr>
            <p:cNvPr id="199" name=""/>
            <p:cNvSpPr/>
            <p:nvPr/>
          </p:nvSpPr>
          <p:spPr>
            <a:xfrm>
              <a:off x="6782040" y="502920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019560" y="502920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24840" y="44956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5344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238520" y="4495680"/>
            <a:ext cx="1067040" cy="1143000"/>
            <a:chOff x="7238520" y="4495680"/>
            <a:chExt cx="1067040" cy="1143000"/>
          </a:xfrm>
        </p:grpSpPr>
        <p:sp>
          <p:nvSpPr>
            <p:cNvPr id="204" name=""/>
            <p:cNvSpPr/>
            <p:nvPr/>
          </p:nvSpPr>
          <p:spPr>
            <a:xfrm>
              <a:off x="8001000" y="5029200"/>
              <a:ext cx="304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238520" y="502920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43800" y="44956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2400" y="5029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800600" y="1066680"/>
            <a:ext cx="380988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Q(f) = O(deg(f)) for every f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029200" y="5791320"/>
          <a:ext cx="3079800" cy="82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791320"/>
                    <a:ext cx="307980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90720" y="1676520"/>
            <a:ext cx="70102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collision problem, suppose f:{0,1}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1-to-1 rather than 2-to-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give me a polynomial-size quantum certificate, by which I can verify that fact in polynomial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s SZK </a:t>
            </a:r>
            <a:r>
              <a:rPr b="1" lang="en-US" sz="3700" spc="-1" strike="noStrike">
                <a:solidFill>
                  <a:srgbClr val="3333cc"/>
                </a:solidFill>
                <a:latin typeface="Symbol"/>
                <a:ea typeface="Symbol"/>
              </a:rPr>
              <a:t>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QMA Relative to an Oracle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1523880"/>
            <a:ext cx="84582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a polynomial P(X), have a positive semidefinite matrix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entry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X) is a polynomial in X of degre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2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all X, all eigenvalues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X) must lie in [0,1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ceptance probability = maximum eigen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where m = size of certific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Can we show collision function is not represented by a low-degree “matrix polynomial”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eneralizing the Polynomial Metho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457200"/>
            <a:ext cx="8915400" cy="64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Randomized Certificate Complexity RC(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(f) = ma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f) = min #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andomiz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eries needed t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tinguish X from any Y s.t. f(Y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(X) with ½ pro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Arial"/>
              </a:rPr>
              <a:t>Quantum Certificate Complexity QC(f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Examp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 f=MAJ(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, letting X=00…0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MAJ) = 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A 2002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f) =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f)) (uses adversary method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this be shown using polynomial method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83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C(f) and QC(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Quantum Query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447920"/>
            <a:ext cx="769608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only number of queries, not number of computational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quantum algorithm, each basis state has form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= index to query     z = work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uery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maps each 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i,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XOR’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worksp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Quantum Query Model (con’t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523880"/>
            <a:ext cx="845820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orithm consists of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nterleaved queries and unitar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rbitrary unitary that doesn’t depend on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don’t care how hard it is to imp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e end we measure to obtain a basis state |i,z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output (say) first bit of 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Quantum Query Complex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845820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f(X) be the function we’re trying to comp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if it outputs f(X) with probability at least 2/3 for ever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(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inimum # of queries made by quantum algorithm that computes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mmedi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(f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f) = randomized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(f) = deterministic que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9051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7524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we can prove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ccff"/>
                </a:solidFill>
                <a:latin typeface="Arial"/>
              </a:rPr>
              <a:t>Why Is This Model Interesting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15120" y="2819520"/>
            <a:ext cx="2981160" cy="4181400"/>
          </a:xfrm>
          <a:custGeom>
            <a:avLst/>
            <a:gdLst/>
            <a:ahLst/>
            <a:rect l="l" t="t" r="r" b="b"/>
            <a:pathLst>
              <a:path w="1878" h="2634">
                <a:moveTo>
                  <a:pt x="0" y="2607"/>
                </a:moveTo>
                <a:lnTo>
                  <a:pt x="1878" y="0"/>
                </a:lnTo>
                <a:lnTo>
                  <a:pt x="432" y="2634"/>
                </a:lnTo>
                <a:lnTo>
                  <a:pt x="0" y="260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733920"/>
            <a:ext cx="2590920" cy="100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arch for car keys 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4800600"/>
            <a:ext cx="60948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Quantum lower bounds for collision and set comparison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Collision Probl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90920" y="1828800"/>
          <a:ext cx="563868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56386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28600" y="2514600"/>
            <a:ext cx="807732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1160" indent="-453960"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Font typeface="Arial"/>
              <a:buChar char="•"/>
              <a:tabLst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mi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X is one-to-one (permutation) 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5716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X is two-to-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572000"/>
            <a:ext cx="7772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87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ide which w.h.p., using few queries to the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8680" y="5816520"/>
            <a:ext cx="44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 alg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ntum algorithm for the collision problem use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que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, STOC’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502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viously no lower bound better than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.  Open since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3505320"/>
            <a:ext cx="76201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i improved t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5280" indent="-39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when |range|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n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4:14:05Z</dcterms:created>
  <dc:creator>aaronson</dc:creator>
  <dc:description/>
  <dc:language>en-US</dc:language>
  <cp:lastModifiedBy>Avaya User</cp:lastModifiedBy>
  <dcterms:modified xsi:type="dcterms:W3CDTF">2002-10-17T11:55:34Z</dcterms:modified>
  <cp:revision>19</cp:revision>
  <dc:subject/>
  <dc:title>The Future (and Past) of Quantum Lower Bounds by Polynomials</dc:title>
</cp:coreProperties>
</file>