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0100-BFE4-40DC-B726-4A4713381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3E8-65C7-4252-AC95-130D741B2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F01-B171-402B-91A2-2D85102B8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D9D-AD97-4FCA-88E0-17F5EF8DA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A31-F489-4BB5-8F1C-9886F6DC5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FC4-1AD4-40F0-80DF-FD00E2EFB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85F0-ACF3-4199-B30C-0ED499E40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17E-A614-4AE0-8764-4234B82C2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E9B8-3915-49A1-985E-2D42A6721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8D6-4932-4F0A-B1F8-9728EB872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7AB5-1C2B-4B13-B006-297CE6F0B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D3A-EEBF-4EB8-ACC7-F7B4070A7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7AA4-7F59-4FAD-A38C-C2ED0601E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9A5-E5EE-46AE-8969-1297BD81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35A1-3BC2-4DAD-8B6A-A29BE0F3E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BE5-620D-4E22-BA6C-DDE2833A2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B0B-A636-41B8-9D4E-1A09E04A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1DA-C5FB-4D00-AB5A-5993CEDD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370-7653-4B62-BD6D-2C56A48E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61-4CA0-45B8-BCA9-305F4C11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D8D-6F35-4119-BFCB-2C1BC84B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6F8-A660-43F2-AFC0-6BE16BA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CB9-19A0-4A7D-984B-449FB4F6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432-87F8-4A2E-9FDC-FED886B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84D-9D77-4244-B286-3F212CAA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854-B135-4FAF-994A-12D5C93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F1F-D265-48C0-8ABB-CC9B04E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4E9-897D-4F1A-905C-7AB8BE1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A418-F319-45ED-B157-62FE9BE74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85D-7140-4840-80C1-D7A1B0A36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  <a:ea typeface="Arial"/>
              </a:rPr>
              <a:t>Forrel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66640" y="1905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lem admitting enormous quantum speedu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I and others have studied under various names over the yea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is interesting complexity-theoretically and conceivably even prac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which probably deserves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716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k-fold Forrelation is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17520" y="324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rting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damard + Controlled-Controlled-SIGN is a universal gat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5"/>
          <p:cNvSpPr/>
          <p:nvPr/>
        </p:nvSpPr>
        <p:spPr>
          <a:xfrm>
            <a:off x="1332000" y="2158920"/>
            <a:ext cx="623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6"/>
          <p:cNvSpPr/>
          <p:nvPr/>
        </p:nvSpPr>
        <p:spPr>
          <a:xfrm>
            <a:off x="1332000" y="2844720"/>
            <a:ext cx="61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332000" y="1473120"/>
            <a:ext cx="630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712880" y="1168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1712880" y="1854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712880" y="2540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627280" y="1168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541680" y="1168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3541680" y="1854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3541680" y="2540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7085520" y="1006560"/>
            <a:ext cx="810720" cy="961560"/>
            <a:chOff x="7085520" y="1006560"/>
            <a:chExt cx="810720" cy="961560"/>
          </a:xfrm>
        </p:grpSpPr>
        <p:sp>
          <p:nvSpPr>
            <p:cNvPr id="167" name="Chord 16"/>
            <p:cNvSpPr/>
            <p:nvPr/>
          </p:nvSpPr>
          <p:spPr>
            <a:xfrm rot="7220400">
              <a:off x="7187400" y="12664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Straight Arrow Connector 17"/>
            <p:cNvCxnSpPr>
              <a:stCxn id="167" idx="2"/>
            </p:cNvCxnSpPr>
            <p:nvPr/>
          </p:nvCxnSpPr>
          <p:spPr>
            <a:xfrm flipV="1">
              <a:off x="7489800" y="10065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169" name="Group 16"/>
          <p:cNvGrpSpPr/>
          <p:nvPr/>
        </p:nvGrpSpPr>
        <p:grpSpPr>
          <a:xfrm>
            <a:off x="7085520" y="1692360"/>
            <a:ext cx="810720" cy="961560"/>
            <a:chOff x="7085520" y="1692360"/>
            <a:chExt cx="810720" cy="961560"/>
          </a:xfrm>
        </p:grpSpPr>
        <p:sp>
          <p:nvSpPr>
            <p:cNvPr id="170" name="Chord 19"/>
            <p:cNvSpPr/>
            <p:nvPr/>
          </p:nvSpPr>
          <p:spPr>
            <a:xfrm rot="7220400">
              <a:off x="7187400" y="19522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Straight Arrow Connector 20"/>
            <p:cNvCxnSpPr>
              <a:stCxn id="170" idx="2"/>
            </p:cNvCxnSpPr>
            <p:nvPr/>
          </p:nvCxnSpPr>
          <p:spPr>
            <a:xfrm flipV="1">
              <a:off x="7489800" y="16923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172" name="Group 19"/>
          <p:cNvGrpSpPr/>
          <p:nvPr/>
        </p:nvGrpSpPr>
        <p:grpSpPr>
          <a:xfrm>
            <a:off x="7085520" y="2378160"/>
            <a:ext cx="810720" cy="961560"/>
            <a:chOff x="7085520" y="2378160"/>
            <a:chExt cx="810720" cy="961560"/>
          </a:xfrm>
        </p:grpSpPr>
        <p:sp>
          <p:nvSpPr>
            <p:cNvPr id="173" name="Chord 22"/>
            <p:cNvSpPr/>
            <p:nvPr/>
          </p:nvSpPr>
          <p:spPr>
            <a:xfrm rot="7220400">
              <a:off x="7187400" y="26380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Straight Arrow Connector 23"/>
            <p:cNvCxnSpPr>
              <a:stCxn id="173" idx="2"/>
            </p:cNvCxnSpPr>
            <p:nvPr/>
          </p:nvCxnSpPr>
          <p:spPr>
            <a:xfrm flipV="1">
              <a:off x="7489800" y="23781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175" name="Text Box 3"/>
          <p:cNvSpPr/>
          <p:nvPr/>
        </p:nvSpPr>
        <p:spPr>
          <a:xfrm>
            <a:off x="2627280" y="185436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98480" y="11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98480" y="1854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98480" y="2540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5370480" y="1158840"/>
            <a:ext cx="533520" cy="19051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370480" y="18446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2"/>
          <p:cNvSpPr/>
          <p:nvPr/>
        </p:nvSpPr>
        <p:spPr>
          <a:xfrm>
            <a:off x="6284880" y="1158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3"/>
          <p:cNvSpPr/>
          <p:nvPr/>
        </p:nvSpPr>
        <p:spPr>
          <a:xfrm>
            <a:off x="6284880" y="18446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4"/>
          <p:cNvSpPr/>
          <p:nvPr/>
        </p:nvSpPr>
        <p:spPr>
          <a:xfrm>
            <a:off x="6284880" y="25304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4410000" y="1149480"/>
            <a:ext cx="793800" cy="19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508640" y="2060640"/>
            <a:ext cx="122040" cy="12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4746600" y="2066760"/>
            <a:ext cx="122400" cy="122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4995720" y="2070000"/>
            <a:ext cx="122400" cy="122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17520" y="4208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ssu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damards are constantly getting applied even when you don’t wa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318960" y="4964040"/>
            <a:ext cx="8458200" cy="1782720"/>
            <a:chOff x="318960" y="4964040"/>
            <a:chExt cx="8458200" cy="1782720"/>
          </a:xfrm>
        </p:grpSpPr>
        <p:sp>
          <p:nvSpPr>
            <p:cNvPr id="190" name="Straight Connector 52"/>
            <p:cNvSpPr/>
            <p:nvPr/>
          </p:nvSpPr>
          <p:spPr>
            <a:xfrm>
              <a:off x="3449520" y="5549760"/>
              <a:ext cx="11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54"/>
            <p:cNvSpPr/>
            <p:nvPr/>
          </p:nvSpPr>
          <p:spPr>
            <a:xfrm>
              <a:off x="3472920" y="6370200"/>
              <a:ext cx="11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"/>
            <p:cNvSpPr/>
            <p:nvPr/>
          </p:nvSpPr>
          <p:spPr>
            <a:xfrm>
              <a:off x="318960" y="526212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"/>
            <p:cNvSpPr/>
            <p:nvPr/>
          </p:nvSpPr>
          <p:spPr>
            <a:xfrm>
              <a:off x="3396960" y="5262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7"/>
            <p:cNvSpPr/>
            <p:nvPr/>
          </p:nvSpPr>
          <p:spPr>
            <a:xfrm>
              <a:off x="3399480" y="6119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2"/>
            <p:cNvSpPr/>
            <p:nvPr/>
          </p:nvSpPr>
          <p:spPr>
            <a:xfrm>
              <a:off x="4250160" y="5236920"/>
              <a:ext cx="416160" cy="1410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"/>
            <p:cNvSpPr/>
            <p:nvPr/>
          </p:nvSpPr>
          <p:spPr>
            <a:xfrm>
              <a:off x="4255200" y="5262120"/>
              <a:ext cx="4111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2"/>
                <p:cNvSpPr txBox="1"/>
                <p:nvPr/>
              </p:nvSpPr>
              <p:spPr>
                <a:xfrm>
                  <a:off x="2732040" y="4964040"/>
                  <a:ext cx="3938400" cy="17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57"/>
            <p:cNvSpPr/>
            <p:nvPr/>
          </p:nvSpPr>
          <p:spPr>
            <a:xfrm>
              <a:off x="6852240" y="5202360"/>
              <a:ext cx="416160" cy="1410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"/>
            <p:cNvSpPr/>
            <p:nvPr/>
          </p:nvSpPr>
          <p:spPr>
            <a:xfrm>
              <a:off x="6857640" y="5227560"/>
              <a:ext cx="411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ant to explain QC to a classical math/CS per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3080" y="1828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a quantum computer can do, is estimate sums of this form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k+1)n/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for k=poly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1"/>
          <p:cNvGraphicFramePr/>
          <p:nvPr/>
        </p:nvGraphicFramePr>
        <p:xfrm>
          <a:off x="343080" y="2895480"/>
          <a:ext cx="8662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895480"/>
                    <a:ext cx="8662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3"/>
          <p:cNvSpPr/>
          <p:nvPr/>
        </p:nvSpPr>
        <p:spPr>
          <a:xfrm>
            <a:off x="343080" y="4114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st self-contained”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 yet?  Look ma, no kno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53880" y="5257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=polylog(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romiseBQN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088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267080" y="101268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Text Box 3"/>
          <p:cNvSpPr/>
          <p:nvPr/>
        </p:nvSpPr>
        <p:spPr>
          <a:xfrm>
            <a:off x="38088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tput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181480" y="1835280"/>
                <a:ext cx="1022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11" name="Group 1"/>
          <p:cNvGrpSpPr/>
          <p:nvPr/>
        </p:nvGrpSpPr>
        <p:grpSpPr>
          <a:xfrm>
            <a:off x="380880" y="3025800"/>
            <a:ext cx="4430880" cy="2937960"/>
            <a:chOff x="380880" y="3025800"/>
            <a:chExt cx="4430880" cy="2937960"/>
          </a:xfrm>
        </p:grpSpPr>
        <p:sp>
          <p:nvSpPr>
            <p:cNvPr id="212" name="Text Box 3"/>
            <p:cNvSpPr/>
            <p:nvPr/>
          </p:nvSpPr>
          <p:spPr>
            <a:xfrm>
              <a:off x="380880" y="3025800"/>
              <a:ext cx="443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rivial Quantum Algorithm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2"/>
            <p:cNvGrpSpPr/>
            <p:nvPr/>
          </p:nvGrpSpPr>
          <p:grpSpPr>
            <a:xfrm>
              <a:off x="456840" y="3629160"/>
              <a:ext cx="4354920" cy="2334600"/>
              <a:chOff x="456840" y="3629160"/>
              <a:chExt cx="4354920" cy="2334600"/>
            </a:xfrm>
          </p:grpSpPr>
          <p:sp>
            <p:nvSpPr>
              <p:cNvPr id="214" name="Straight Connector 12"/>
              <p:cNvSpPr/>
              <p:nvPr/>
            </p:nvSpPr>
            <p:spPr>
              <a:xfrm>
                <a:off x="990000" y="477324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13"/>
              <p:cNvSpPr/>
              <p:nvPr/>
            </p:nvSpPr>
            <p:spPr>
              <a:xfrm>
                <a:off x="990000" y="545940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14"/>
              <p:cNvSpPr/>
              <p:nvPr/>
            </p:nvSpPr>
            <p:spPr>
              <a:xfrm>
                <a:off x="990000" y="408708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"/>
              <p:cNvSpPr/>
              <p:nvPr/>
            </p:nvSpPr>
            <p:spPr>
              <a:xfrm>
                <a:off x="1371240" y="378216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"/>
              <p:cNvSpPr/>
              <p:nvPr/>
            </p:nvSpPr>
            <p:spPr>
              <a:xfrm>
                <a:off x="1371240" y="446832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7"/>
              <p:cNvSpPr/>
              <p:nvPr/>
            </p:nvSpPr>
            <p:spPr>
              <a:xfrm>
                <a:off x="1371240" y="515448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8"/>
              <p:cNvSpPr/>
              <p:nvPr/>
            </p:nvSpPr>
            <p:spPr>
              <a:xfrm>
                <a:off x="2285640" y="3782160"/>
                <a:ext cx="533160" cy="19058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9"/>
              <p:cNvSpPr/>
              <p:nvPr/>
            </p:nvSpPr>
            <p:spPr>
              <a:xfrm>
                <a:off x="3200040" y="378216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0"/>
              <p:cNvSpPr/>
              <p:nvPr/>
            </p:nvSpPr>
            <p:spPr>
              <a:xfrm>
                <a:off x="3200040" y="446832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11"/>
              <p:cNvSpPr/>
              <p:nvPr/>
            </p:nvSpPr>
            <p:spPr>
              <a:xfrm>
                <a:off x="3200040" y="515448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49"/>
              <p:cNvGrpSpPr/>
              <p:nvPr/>
            </p:nvGrpSpPr>
            <p:grpSpPr>
              <a:xfrm>
                <a:off x="4001040" y="3629160"/>
                <a:ext cx="810720" cy="962640"/>
                <a:chOff x="4001040" y="3629160"/>
                <a:chExt cx="810720" cy="962640"/>
              </a:xfrm>
            </p:grpSpPr>
            <p:sp>
              <p:nvSpPr>
                <p:cNvPr id="225" name="Chord 33"/>
                <p:cNvSpPr/>
                <p:nvPr/>
              </p:nvSpPr>
              <p:spPr>
                <a:xfrm rot="7220400">
                  <a:off x="4102920" y="389016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6" name="Straight Arrow Connector 34"/>
                <p:cNvCxnSpPr>
                  <a:stCxn id="225" idx="2"/>
                </p:cNvCxnSpPr>
                <p:nvPr/>
              </p:nvCxnSpPr>
              <p:spPr>
                <a:xfrm flipV="1">
                  <a:off x="4403880" y="362916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grpSp>
            <p:nvGrpSpPr>
              <p:cNvPr id="227" name="Group 50"/>
              <p:cNvGrpSpPr/>
              <p:nvPr/>
            </p:nvGrpSpPr>
            <p:grpSpPr>
              <a:xfrm>
                <a:off x="4001040" y="4314960"/>
                <a:ext cx="810720" cy="962640"/>
                <a:chOff x="4001040" y="4314960"/>
                <a:chExt cx="810720" cy="962640"/>
              </a:xfrm>
            </p:grpSpPr>
            <p:sp>
              <p:nvSpPr>
                <p:cNvPr id="228" name="Chord 31"/>
                <p:cNvSpPr/>
                <p:nvPr/>
              </p:nvSpPr>
              <p:spPr>
                <a:xfrm rot="7220400">
                  <a:off x="4102920" y="457596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9" name="Straight Arrow Connector 32"/>
                <p:cNvCxnSpPr>
                  <a:stCxn id="228" idx="2"/>
                </p:cNvCxnSpPr>
                <p:nvPr/>
              </p:nvCxnSpPr>
              <p:spPr>
                <a:xfrm flipV="1">
                  <a:off x="4403880" y="431496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grpSp>
            <p:nvGrpSpPr>
              <p:cNvPr id="230" name="Group 53"/>
              <p:cNvGrpSpPr/>
              <p:nvPr/>
            </p:nvGrpSpPr>
            <p:grpSpPr>
              <a:xfrm>
                <a:off x="4001040" y="5001120"/>
                <a:ext cx="810720" cy="962640"/>
                <a:chOff x="4001040" y="5001120"/>
                <a:chExt cx="810720" cy="962640"/>
              </a:xfrm>
            </p:grpSpPr>
            <p:sp>
              <p:nvSpPr>
                <p:cNvPr id="231" name="Chord 29"/>
                <p:cNvSpPr/>
                <p:nvPr/>
              </p:nvSpPr>
              <p:spPr>
                <a:xfrm rot="7220400">
                  <a:off x="4102920" y="526212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2" name="Straight Arrow Connector 30"/>
                <p:cNvCxnSpPr>
                  <a:stCxn id="231" idx="2"/>
                </p:cNvCxnSpPr>
                <p:nvPr/>
              </p:nvCxnSpPr>
              <p:spPr>
                <a:xfrm flipV="1">
                  <a:off x="4403880" y="500112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233" name="Text Box 3"/>
              <p:cNvSpPr/>
              <p:nvPr/>
            </p:nvSpPr>
            <p:spPr>
              <a:xfrm>
                <a:off x="2285640" y="44683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3"/>
              <p:cNvSpPr/>
              <p:nvPr/>
            </p:nvSpPr>
            <p:spPr>
              <a:xfrm>
                <a:off x="456840" y="37821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3"/>
              <p:cNvSpPr/>
              <p:nvPr/>
            </p:nvSpPr>
            <p:spPr>
              <a:xfrm>
                <a:off x="456840" y="44683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3"/>
              <p:cNvSpPr/>
              <p:nvPr/>
            </p:nvSpPr>
            <p:spPr>
              <a:xfrm>
                <a:off x="456840" y="5154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"/>
          <p:cNvGrpSpPr/>
          <p:nvPr/>
        </p:nvGrpSpPr>
        <p:grpSpPr>
          <a:xfrm>
            <a:off x="5257800" y="2654280"/>
            <a:ext cx="3733920" cy="3951000"/>
            <a:chOff x="5257800" y="2654280"/>
            <a:chExt cx="3733920" cy="3951000"/>
          </a:xfrm>
        </p:grpSpPr>
        <p:sp>
          <p:nvSpPr>
            <p:cNvPr id="238" name="Text Box 3"/>
            <p:cNvSpPr/>
            <p:nvPr/>
          </p:nvSpPr>
          <p:spPr>
            <a:xfrm>
              <a:off x="5257800" y="2654280"/>
              <a:ext cx="3733920" cy="39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lso a search vers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“Find z’s that mostly have large value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. 2009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f f is a random black-box function, then the search problem isn’t even in 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  <a:ea typeface="Arial"/>
                </a:rPr>
                <a:t>FBPP</a:t>
              </a:r>
              <a:r>
                <a:rPr b="1" lang="en-US" sz="2800" spc="-1" strike="noStrike" baseline="30000">
                  <a:solidFill>
                    <a:srgbClr val="7030a0"/>
                  </a:solidFill>
                  <a:latin typeface="Calibri"/>
                  <a:ea typeface="Arial"/>
                </a:rPr>
                <a:t>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"/>
                <p:cNvSpPr txBox="1"/>
                <p:nvPr/>
              </p:nvSpPr>
              <p:spPr>
                <a:xfrm>
                  <a:off x="6389640" y="3990960"/>
                  <a:ext cx="119844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Text Box 3"/>
            <p:cNvSpPr/>
            <p:nvPr/>
          </p:nvSpPr>
          <p:spPr>
            <a:xfrm>
              <a:off x="7124760" y="5950800"/>
              <a:ext cx="7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Calibri"/>
                  <a:ea typeface="Arial"/>
                </a:rPr>
                <a:t>PH</a:t>
              </a:r>
              <a:r>
                <a:rPr b="1" lang="en-US" sz="2800" spc="-1" strike="noStrike" baseline="30000">
                  <a:solidFill>
                    <a:srgbClr val="7030a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Bremner and Shepherd’s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Arial"/>
              </a:rPr>
              <a:t>I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 Idea</a:t>
            </a:r>
            <a:br>
              <a:rPr sz="40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rxiv:0809:08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98600" y="1714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7" descr=""/>
          <p:cNvPicPr/>
          <p:nvPr/>
        </p:nvPicPr>
        <p:blipFill>
          <a:blip r:embed="rId1"/>
          <a:stretch/>
        </p:blipFill>
        <p:spPr>
          <a:xfrm>
            <a:off x="5908680" y="2282760"/>
            <a:ext cx="2247840" cy="1650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1012680" y="231444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127480" y="16383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urier Sampling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2"/>
          <p:cNvCxnSpPr/>
          <p:nvPr/>
        </p:nvCxnSpPr>
        <p:spPr>
          <a:xfrm>
            <a:off x="2895120" y="2682360"/>
            <a:ext cx="2667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Text Box 3"/>
          <p:cNvSpPr/>
          <p:nvPr/>
        </p:nvSpPr>
        <p:spPr>
          <a:xfrm>
            <a:off x="2835360" y="21906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bfuscated circuit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4"/>
          <p:cNvCxnSpPr/>
          <p:nvPr/>
        </p:nvCxnSpPr>
        <p:spPr>
          <a:xfrm flipH="1">
            <a:off x="2894760" y="3673080"/>
            <a:ext cx="2667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Text Box 3"/>
          <p:cNvSpPr/>
          <p:nvPr/>
        </p:nvSpPr>
        <p:spPr>
          <a:xfrm>
            <a:off x="2743200" y="319572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es from f’s Fourie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0880" y="428940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, those samples are good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86200" y="4572000"/>
            <a:ext cx="493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mner and Shepherd propose a way to do this.  Please look at their scheme and try to evaluate its secur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stantiating Simon’s Black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80880" y="11430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degree-d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cified by it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4876920" y="990720"/>
                <a:ext cx="2446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Text Box 3"/>
          <p:cNvSpPr/>
          <p:nvPr/>
        </p:nvSpPr>
        <p:spPr>
          <a:xfrm>
            <a:off x="3808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nd the smallest k such that p(x) can be rewritten as r(Ax), where r is another degree-d polynomi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581280" y="3398760"/>
                <a:ext cx="155124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7" name="Text Box 3"/>
          <p:cNvSpPr/>
          <p:nvPr/>
        </p:nvSpPr>
        <p:spPr>
          <a:xfrm>
            <a:off x="3697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s problem is easily solved in quantum polynomial time, by Fourier sampling!  (Indeed, ker A is just an abelian hidden sub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2040" y="56516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a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looking at the partial derivatives of p, it’s also solvabl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 time—at least when d&lt;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6676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143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rel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roblem that QCs can solve in 1 query, and that’s “maximally classically hard” among su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0880" y="24382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-Fold Forrel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roblem that QCs can solve in k queries, that w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maximally classically hard among such problems, and that captures the power of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when k=poly(n)) or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N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when k=polylog(n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45180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urier Sampl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sampling problem, closely related to Bremner/Shepherd’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and to Simon’s algorithm), that yield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rong results about the power of QC relative to an oracle.  Maybe even in the “real”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43080" y="8380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313000" y="1371600"/>
                <a:ext cx="4010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3"/>
          <p:cNvSpPr/>
          <p:nvPr/>
        </p:nvSpPr>
        <p:spPr>
          <a:xfrm>
            <a:off x="343080" y="2286000"/>
            <a:ext cx="83055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: pick a random unit vector                          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3652920" y="3754440"/>
                <a:ext cx="1685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523880" y="4530600"/>
                <a:ext cx="582948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60948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19920" y="59832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rivial Quantum Algorith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72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15"/>
            <p:cNvCxnSpPr>
              <a:stCxn id="72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74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75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Straight Arrow Connector 18"/>
            <p:cNvCxnSpPr>
              <a:stCxn id="75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77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78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Straight Arrow Connector 22"/>
            <p:cNvCxnSpPr>
              <a:stCxn id="78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0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271440" y="3629160"/>
            <a:ext cx="8523360" cy="1804680"/>
            <a:chOff x="271440" y="3629160"/>
            <a:chExt cx="8523360" cy="1804680"/>
          </a:xfrm>
        </p:grpSpPr>
        <p:sp>
          <p:nvSpPr>
            <p:cNvPr id="90" name="Text Box 3"/>
            <p:cNvSpPr/>
            <p:nvPr/>
          </p:nvSpPr>
          <p:spPr>
            <a:xfrm>
              <a:off x="392040" y="362916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bability of observing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"/>
                <p:cNvSpPr txBox="1"/>
                <p:nvPr/>
              </p:nvSpPr>
              <p:spPr>
                <a:xfrm>
                  <a:off x="271440" y="4152960"/>
                  <a:ext cx="852336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{"/>
                                          <m:endChr m:val="}"/>
                                        </m:dPr>
                                        <m:e>
                                          <m:r>
                                            <m:t xml:space="preserve">0,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r>
                                    <m:t xml:space="preserve">f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x</m:t>
                                      </m:r>
                                      <m:r>
                                        <m:t xml:space="preserve">⋅</m:t>
                                      </m:r>
                                      <m:r>
                                        <m:t xml:space="preserve">y</m:t>
                                      </m:r>
                                    </m:sup>
                                  </m:sSup>
                                  <m:r>
                                    <m:t xml:space="preserve">g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f 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,g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are random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Ω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f 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,g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are forrelated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Text Box 3"/>
          <p:cNvSpPr/>
          <p:nvPr/>
        </p:nvSpPr>
        <p:spPr>
          <a:xfrm>
            <a:off x="506520" y="5715000"/>
            <a:ext cx="67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even reduce from 2 queries to 1 using standard tri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17440" y="1778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lassical Complexity of F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06520" y="91440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 2009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ly, </a:t>
            </a:r>
            <a:r>
              <a:rPr b="0" lang="el-GR" sz="27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 queries are needed to decide whether f and g are random or for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9120" y="1890720"/>
            <a:ext cx="802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mbainis 201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mproved to </a:t>
            </a:r>
            <a:r>
              <a:rPr b="0" lang="el-GR" sz="27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/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19120" y="4672080"/>
            <a:ext cx="830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utting Togeth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mong all partial Boolean functions computable with 1 quantum query, Forrelation is almost the hardest possible one classically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de Beaudrap et al. 2000: Similar result but for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nonstandard query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06520" y="2500200"/>
            <a:ext cx="8028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mbainis 2010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y problem whatsoever that has a 1-query quantum algorithm—or more generally, is represented by a degree-2 polynomial—can also be solved using O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) classical randomized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N = total # of input bits (2</a:t>
            </a:r>
            <a:r>
              <a:rPr b="0" lang="en-US" sz="26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 in this c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52280"/>
            <a:ext cx="8839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alibri"/>
                <a:ea typeface="Arial"/>
              </a:rPr>
              <a:t>My Original Motivation for Forre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87624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didate for an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constant-depth circuit with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 can tell whether f,g are random or f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69720" y="42670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 conjectured that this, by itself, implied the requisite circuit lower bound.  (“Generalized Linial-Nisan Conjecture”)  Alas, turned out to be false (A.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380880" y="2476440"/>
            <a:ext cx="8610840" cy="1847880"/>
            <a:chOff x="380880" y="2476440"/>
            <a:chExt cx="8610840" cy="1847880"/>
          </a:xfrm>
        </p:grpSpPr>
        <mc:AlternateContent>
          <mc:Choice xmlns:a14="http://schemas.microsoft.com/office/drawing/2010/main" Requires="a14">
            <p:sp>
              <p:nvSpPr>
                <p:cNvPr id="102" name="Object 1"/>
                <p:cNvSpPr txBox="1"/>
                <p:nvPr/>
              </p:nvSpPr>
              <p:spPr>
                <a:xfrm>
                  <a:off x="1715760" y="2971440"/>
                  <a:ext cx="5510520" cy="13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forrelated</m:t>
                              </m:r>
                              <m:r>
                                <m:t xml:space="preserve">|</m:t>
                              </m:r>
                              <m:r>
                                <m:t xml:space="preserve">C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3"/>
            <p:cNvSpPr/>
            <p:nvPr/>
          </p:nvSpPr>
          <p:spPr>
            <a:xfrm>
              <a:off x="380880" y="2476440"/>
              <a:ext cx="861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. 2009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For every conjunction C of f- and g-value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369720" y="56944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ill, the GLN might hold for depth-2 circu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in any case, Forrelation shouldn’t be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other exponential quantum speed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1981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we find any “practical” application for it?  I.e., is there any real situation where Boolean functions f,g arise that are forrelated, but non-obviously 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03200" y="3657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elated 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re any way (even a contrived one) to give someon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nomial-size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f and g, so that deciding whether f and g are forrelated is a classically intractabl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016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k-Fold F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2440" y="10666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k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1,-1},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39840" y="6172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be improved to k/2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223920" y="1676520"/>
          <a:ext cx="86630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76520"/>
                    <a:ext cx="8663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3"/>
          <p:cNvSpPr/>
          <p:nvPr/>
        </p:nvSpPr>
        <p:spPr>
          <a:xfrm>
            <a:off x="465120" y="2590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k+1)n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428760" y="3230640"/>
            <a:ext cx="8458200" cy="3001320"/>
            <a:chOff x="428760" y="3230640"/>
            <a:chExt cx="8458200" cy="3001320"/>
          </a:xfrm>
        </p:grpSpPr>
        <p:sp>
          <p:nvSpPr>
            <p:cNvPr id="116" name="Text Box 3"/>
            <p:cNvSpPr/>
            <p:nvPr/>
          </p:nvSpPr>
          <p:spPr>
            <a:xfrm>
              <a:off x="428760" y="323064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nce again, there’s a trivial k-query quantum algorithm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>
              <a:off x="1204920" y="5051520"/>
              <a:ext cx="62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1204920" y="5737320"/>
              <a:ext cx="61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9"/>
            <p:cNvSpPr/>
            <p:nvPr/>
          </p:nvSpPr>
          <p:spPr>
            <a:xfrm>
              <a:off x="1204920" y="4365720"/>
              <a:ext cx="630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6"/>
            <p:cNvSpPr/>
            <p:nvPr/>
          </p:nvSpPr>
          <p:spPr>
            <a:xfrm>
              <a:off x="1585800" y="4060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7"/>
            <p:cNvSpPr/>
            <p:nvPr/>
          </p:nvSpPr>
          <p:spPr>
            <a:xfrm>
              <a:off x="1585800" y="47466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8"/>
            <p:cNvSpPr/>
            <p:nvPr/>
          </p:nvSpPr>
          <p:spPr>
            <a:xfrm>
              <a:off x="1585800" y="54324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2500200" y="40608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0"/>
            <p:cNvSpPr/>
            <p:nvPr/>
          </p:nvSpPr>
          <p:spPr>
            <a:xfrm>
              <a:off x="3414960" y="4060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1"/>
            <p:cNvSpPr/>
            <p:nvPr/>
          </p:nvSpPr>
          <p:spPr>
            <a:xfrm>
              <a:off x="3414960" y="47466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2"/>
            <p:cNvSpPr/>
            <p:nvPr/>
          </p:nvSpPr>
          <p:spPr>
            <a:xfrm>
              <a:off x="3414960" y="54324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3"/>
            <p:cNvGrpSpPr/>
            <p:nvPr/>
          </p:nvGrpSpPr>
          <p:grpSpPr>
            <a:xfrm>
              <a:off x="6959160" y="3898800"/>
              <a:ext cx="810360" cy="961560"/>
              <a:chOff x="6959160" y="3898800"/>
              <a:chExt cx="810360" cy="961560"/>
            </a:xfrm>
          </p:grpSpPr>
          <p:sp>
            <p:nvSpPr>
              <p:cNvPr id="128" name="Chord 20"/>
              <p:cNvSpPr/>
              <p:nvPr/>
            </p:nvSpPr>
            <p:spPr>
              <a:xfrm rot="7220400">
                <a:off x="7060680" y="41590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" name="Straight Arrow Connector 21"/>
              <p:cNvCxnSpPr>
                <a:stCxn id="128" idx="2"/>
              </p:cNvCxnSpPr>
              <p:nvPr/>
            </p:nvCxnSpPr>
            <p:spPr>
              <a:xfrm flipV="1">
                <a:off x="7362000" y="389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130" name="Group 16"/>
            <p:cNvGrpSpPr/>
            <p:nvPr/>
          </p:nvGrpSpPr>
          <p:grpSpPr>
            <a:xfrm>
              <a:off x="6959160" y="4584600"/>
              <a:ext cx="810360" cy="961560"/>
              <a:chOff x="6959160" y="4584600"/>
              <a:chExt cx="810360" cy="961560"/>
            </a:xfrm>
          </p:grpSpPr>
          <p:sp>
            <p:nvSpPr>
              <p:cNvPr id="131" name="Chord 23"/>
              <p:cNvSpPr/>
              <p:nvPr/>
            </p:nvSpPr>
            <p:spPr>
              <a:xfrm rot="7220400">
                <a:off x="7060680" y="48448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Straight Arrow Connector 24"/>
              <p:cNvCxnSpPr>
                <a:stCxn id="131" idx="2"/>
              </p:cNvCxnSpPr>
              <p:nvPr/>
            </p:nvCxnSpPr>
            <p:spPr>
              <a:xfrm flipV="1">
                <a:off x="7362000" y="458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133" name="Group 19"/>
            <p:cNvGrpSpPr/>
            <p:nvPr/>
          </p:nvGrpSpPr>
          <p:grpSpPr>
            <a:xfrm>
              <a:off x="6959160" y="5270400"/>
              <a:ext cx="810360" cy="961560"/>
              <a:chOff x="6959160" y="5270400"/>
              <a:chExt cx="810360" cy="961560"/>
            </a:xfrm>
          </p:grpSpPr>
          <p:sp>
            <p:nvSpPr>
              <p:cNvPr id="134" name="Chord 26"/>
              <p:cNvSpPr/>
              <p:nvPr/>
            </p:nvSpPr>
            <p:spPr>
              <a:xfrm rot="7220400">
                <a:off x="7060680" y="55306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" name="Straight Arrow Connector 27"/>
              <p:cNvCxnSpPr>
                <a:stCxn id="134" idx="2"/>
              </p:cNvCxnSpPr>
              <p:nvPr/>
            </p:nvCxnSpPr>
            <p:spPr>
              <a:xfrm flipV="1">
                <a:off x="7362000" y="52704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36" name="Text Box 3"/>
            <p:cNvSpPr/>
            <p:nvPr/>
          </p:nvSpPr>
          <p:spPr>
            <a:xfrm>
              <a:off x="2500200" y="474660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671400" y="4060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"/>
            <p:cNvSpPr/>
            <p:nvPr/>
          </p:nvSpPr>
          <p:spPr>
            <a:xfrm>
              <a:off x="671400" y="4746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671400" y="5432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5243760" y="405144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5243760" y="47372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6158160" y="40514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6158160" y="473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4"/>
            <p:cNvSpPr/>
            <p:nvPr/>
          </p:nvSpPr>
          <p:spPr>
            <a:xfrm>
              <a:off x="6158160" y="54230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4283280" y="4041720"/>
              <a:ext cx="793440" cy="19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4381560" y="49528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1"/>
            <p:cNvSpPr/>
            <p:nvPr/>
          </p:nvSpPr>
          <p:spPr>
            <a:xfrm>
              <a:off x="4619880" y="495936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2"/>
            <p:cNvSpPr/>
            <p:nvPr/>
          </p:nvSpPr>
          <p:spPr>
            <a:xfrm>
              <a:off x="4869000" y="49626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lassical Query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23720" y="1143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mbainis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problem whatsoever that has a k-query quantum algorithm—or more generally, is represented by a degree-2k polynomial—can also be solved us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2372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k-fold forrelation require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randomized queries, where N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23720" y="4267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conjecture holds, k-fold forrelation yield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all largest possible sepa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tween quantum and randomized query complexities: 1 vs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 up to log(N) vs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04960" y="576432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Right now, we only have the </a:t>
            </a:r>
            <a:r>
              <a:rPr b="0" lang="el-GR" sz="2400" spc="-1" strike="noStrike">
                <a:solidFill>
                  <a:srgbClr val="006600"/>
                </a:solidFill>
                <a:latin typeface="Calibri"/>
                <a:ea typeface="Arial"/>
              </a:rPr>
              <a:t>Ω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N / log N) lower bound from restricting to k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4-03-14T22:57:22Z</dcterms:modified>
  <cp:revision>101</cp:revision>
  <dc:subject/>
  <dc:title>BQP and the Polynomial Hierarchy</dc:title>
</cp:coreProperties>
</file>