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D8AF-59CC-44ED-BCC2-E078CA358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5205-CFC3-4A3E-8530-2116B45D4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924D-0A69-458F-BB01-91B2FA4E4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C31-D56E-40BF-A5C8-BCCFBD2CA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8CF-907D-404E-8A7C-90A391026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751-1C09-4924-844A-DAA1C4C33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904-5ACC-4162-9E9C-0B1CC44F3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325D-7878-44FB-86C1-F13C17AB6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2F9-2BA8-492E-9152-493A2CC12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BBC-C47C-4E21-A278-11BEF993B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1E1E-F7E0-4C04-A140-8E9BC418A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3D9-A58A-4204-932B-24535732C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E0F-8C81-4635-BAC4-87841E9A1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124-CA58-4A10-9C7B-A3F43E498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5A5-23DC-4F84-B357-05FA83E3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79D-948D-4B9C-9B61-E49A579DD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14F-896D-4895-A3A7-A3456F8D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A88-64D7-4EBA-8030-463B872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7ED-6529-49E7-8C07-73E2D82F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478-6FAF-4226-AD0F-B73EBFE1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0E2-B950-44E2-A5A1-CE0DB21C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4B1-566F-4873-904A-FC6438DA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171-D16F-498B-8559-E51668BE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112-14C2-4628-AE7B-8EFA440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443-F6BF-417D-A507-0768DCD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74C-F08C-43D1-99D8-5A501B7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929-811C-49E8-9FE8-B35085A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9B4-DBC7-48B6-A09D-6DAFAD9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05B-0195-490E-AB7D-C090CA4AC9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F315-6822-40D5-90C4-8BC7757C2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5280" y="5790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tt Aaronson (M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295280" y="3049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  <a:ea typeface="Arial"/>
              </a:rPr>
              <a:t>Forrel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66640" y="1905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 problem admitting enormous quantum speedu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I and others have studied under various names over the yea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ich is interesting complexity-theoretically and conceivably even prac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which probably deserves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7160" y="152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k-fold Forrelation is 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-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17520" y="324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Starting Poin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damard + Controlled-Controlled-SIGN is a universal gate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5"/>
          <p:cNvSpPr/>
          <p:nvPr/>
        </p:nvSpPr>
        <p:spPr>
          <a:xfrm>
            <a:off x="1332000" y="2158920"/>
            <a:ext cx="623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6"/>
          <p:cNvSpPr/>
          <p:nvPr/>
        </p:nvSpPr>
        <p:spPr>
          <a:xfrm>
            <a:off x="1332000" y="2844720"/>
            <a:ext cx="61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7"/>
          <p:cNvSpPr/>
          <p:nvPr/>
        </p:nvSpPr>
        <p:spPr>
          <a:xfrm>
            <a:off x="1332000" y="1473120"/>
            <a:ext cx="630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712880" y="1168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1712880" y="1854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712880" y="2540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627280" y="1168560"/>
            <a:ext cx="53352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3541680" y="11685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3541680" y="18543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3541680" y="254016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7085520" y="1006560"/>
            <a:ext cx="810720" cy="961560"/>
            <a:chOff x="7085520" y="1006560"/>
            <a:chExt cx="810720" cy="961560"/>
          </a:xfrm>
        </p:grpSpPr>
        <p:sp>
          <p:nvSpPr>
            <p:cNvPr id="167" name="Chord 16"/>
            <p:cNvSpPr/>
            <p:nvPr/>
          </p:nvSpPr>
          <p:spPr>
            <a:xfrm rot="7220400">
              <a:off x="7187400" y="12664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Straight Arrow Connector 17"/>
            <p:cNvCxnSpPr>
              <a:stCxn id="167" idx="2"/>
            </p:cNvCxnSpPr>
            <p:nvPr/>
          </p:nvCxnSpPr>
          <p:spPr>
            <a:xfrm flipV="1">
              <a:off x="7489800" y="10065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169" name="Group 16"/>
          <p:cNvGrpSpPr/>
          <p:nvPr/>
        </p:nvGrpSpPr>
        <p:grpSpPr>
          <a:xfrm>
            <a:off x="7085520" y="1692360"/>
            <a:ext cx="810720" cy="961560"/>
            <a:chOff x="7085520" y="1692360"/>
            <a:chExt cx="810720" cy="961560"/>
          </a:xfrm>
        </p:grpSpPr>
        <p:sp>
          <p:nvSpPr>
            <p:cNvPr id="170" name="Chord 19"/>
            <p:cNvSpPr/>
            <p:nvPr/>
          </p:nvSpPr>
          <p:spPr>
            <a:xfrm rot="7220400">
              <a:off x="7187400" y="19522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1" name="Straight Arrow Connector 20"/>
            <p:cNvCxnSpPr>
              <a:stCxn id="170" idx="2"/>
            </p:cNvCxnSpPr>
            <p:nvPr/>
          </p:nvCxnSpPr>
          <p:spPr>
            <a:xfrm flipV="1">
              <a:off x="7489800" y="16923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172" name="Group 19"/>
          <p:cNvGrpSpPr/>
          <p:nvPr/>
        </p:nvGrpSpPr>
        <p:grpSpPr>
          <a:xfrm>
            <a:off x="7085520" y="2378160"/>
            <a:ext cx="810720" cy="961560"/>
            <a:chOff x="7085520" y="2378160"/>
            <a:chExt cx="810720" cy="961560"/>
          </a:xfrm>
        </p:grpSpPr>
        <p:sp>
          <p:nvSpPr>
            <p:cNvPr id="173" name="Chord 22"/>
            <p:cNvSpPr/>
            <p:nvPr/>
          </p:nvSpPr>
          <p:spPr>
            <a:xfrm rot="7220400">
              <a:off x="7187400" y="2638080"/>
              <a:ext cx="606600" cy="58428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Straight Arrow Connector 23"/>
            <p:cNvCxnSpPr>
              <a:stCxn id="173" idx="2"/>
            </p:cNvCxnSpPr>
            <p:nvPr/>
          </p:nvCxnSpPr>
          <p:spPr>
            <a:xfrm flipV="1">
              <a:off x="7489800" y="2378160"/>
              <a:ext cx="14688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175" name="Text Box 3"/>
          <p:cNvSpPr/>
          <p:nvPr/>
        </p:nvSpPr>
        <p:spPr>
          <a:xfrm>
            <a:off x="2627280" y="185436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98480" y="1168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98480" y="1854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98480" y="2540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5370480" y="1158840"/>
            <a:ext cx="533520" cy="19051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370480" y="18446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2"/>
          <p:cNvSpPr/>
          <p:nvPr/>
        </p:nvSpPr>
        <p:spPr>
          <a:xfrm>
            <a:off x="6284880" y="11588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3"/>
          <p:cNvSpPr/>
          <p:nvPr/>
        </p:nvSpPr>
        <p:spPr>
          <a:xfrm>
            <a:off x="6284880" y="18446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4"/>
          <p:cNvSpPr/>
          <p:nvPr/>
        </p:nvSpPr>
        <p:spPr>
          <a:xfrm>
            <a:off x="6284880" y="2530440"/>
            <a:ext cx="53352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4410000" y="1149480"/>
            <a:ext cx="793800" cy="19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4"/>
          <p:cNvSpPr/>
          <p:nvPr/>
        </p:nvSpPr>
        <p:spPr>
          <a:xfrm>
            <a:off x="4508640" y="2060640"/>
            <a:ext cx="122040" cy="122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4746600" y="2066760"/>
            <a:ext cx="122400" cy="122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36"/>
          <p:cNvSpPr/>
          <p:nvPr/>
        </p:nvSpPr>
        <p:spPr>
          <a:xfrm>
            <a:off x="4995720" y="2070000"/>
            <a:ext cx="122400" cy="122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17520" y="4208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Issu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Hadamards are constantly getting applied even when you don’t want th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318960" y="4964040"/>
            <a:ext cx="8458200" cy="1782720"/>
            <a:chOff x="318960" y="4964040"/>
            <a:chExt cx="8458200" cy="1782720"/>
          </a:xfrm>
        </p:grpSpPr>
        <p:sp>
          <p:nvSpPr>
            <p:cNvPr id="190" name="Straight Connector 52"/>
            <p:cNvSpPr/>
            <p:nvPr/>
          </p:nvSpPr>
          <p:spPr>
            <a:xfrm>
              <a:off x="3449520" y="5549760"/>
              <a:ext cx="11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54"/>
            <p:cNvSpPr/>
            <p:nvPr/>
          </p:nvSpPr>
          <p:spPr>
            <a:xfrm>
              <a:off x="3472920" y="6370200"/>
              <a:ext cx="11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"/>
            <p:cNvSpPr/>
            <p:nvPr/>
          </p:nvSpPr>
          <p:spPr>
            <a:xfrm>
              <a:off x="318960" y="526212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Solu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"/>
            <p:cNvSpPr/>
            <p:nvPr/>
          </p:nvSpPr>
          <p:spPr>
            <a:xfrm>
              <a:off x="3396960" y="526212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7"/>
            <p:cNvSpPr/>
            <p:nvPr/>
          </p:nvSpPr>
          <p:spPr>
            <a:xfrm>
              <a:off x="3399480" y="61196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42"/>
            <p:cNvSpPr/>
            <p:nvPr/>
          </p:nvSpPr>
          <p:spPr>
            <a:xfrm>
              <a:off x="4250160" y="5236920"/>
              <a:ext cx="416160" cy="1410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"/>
            <p:cNvSpPr/>
            <p:nvPr/>
          </p:nvSpPr>
          <p:spPr>
            <a:xfrm>
              <a:off x="4255200" y="5262120"/>
              <a:ext cx="4111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2"/>
                <p:cNvSpPr txBox="1"/>
                <p:nvPr/>
              </p:nvSpPr>
              <p:spPr>
                <a:xfrm>
                  <a:off x="2732040" y="4964040"/>
                  <a:ext cx="3938400" cy="17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57"/>
            <p:cNvSpPr/>
            <p:nvPr/>
          </p:nvSpPr>
          <p:spPr>
            <a:xfrm>
              <a:off x="6852240" y="5202360"/>
              <a:ext cx="416160" cy="1410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"/>
            <p:cNvSpPr/>
            <p:nvPr/>
          </p:nvSpPr>
          <p:spPr>
            <a:xfrm>
              <a:off x="6857640" y="5227560"/>
              <a:ext cx="411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W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28600" y="3049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Want to explain QC to a classical math/CS per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43080" y="1828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a quantum computer can do, is estimate sums of this form to with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k+1)n/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for k=poly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1"/>
          <p:cNvGraphicFramePr/>
          <p:nvPr/>
        </p:nvGraphicFramePr>
        <p:xfrm>
          <a:off x="343080" y="2895480"/>
          <a:ext cx="8662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895480"/>
                    <a:ext cx="8662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3"/>
          <p:cNvSpPr/>
          <p:nvPr/>
        </p:nvSpPr>
        <p:spPr>
          <a:xfrm>
            <a:off x="343080" y="41148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st self-contained”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romise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 yet?  Look ma, no kno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53880" y="5257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k=polylog(n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romiseBQN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complet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28600" y="304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Fourier Sampling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088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a Boolea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267080" y="1012680"/>
                <a:ext cx="3529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Text Box 3"/>
          <p:cNvSpPr/>
          <p:nvPr/>
        </p:nvSpPr>
        <p:spPr>
          <a:xfrm>
            <a:off x="38088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utput 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with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181480" y="1835280"/>
                <a:ext cx="1022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11" name="Group 1"/>
          <p:cNvGrpSpPr/>
          <p:nvPr/>
        </p:nvGrpSpPr>
        <p:grpSpPr>
          <a:xfrm>
            <a:off x="380880" y="3025800"/>
            <a:ext cx="4430880" cy="2937960"/>
            <a:chOff x="380880" y="3025800"/>
            <a:chExt cx="4430880" cy="2937960"/>
          </a:xfrm>
        </p:grpSpPr>
        <p:sp>
          <p:nvSpPr>
            <p:cNvPr id="212" name="Text Box 3"/>
            <p:cNvSpPr/>
            <p:nvPr/>
          </p:nvSpPr>
          <p:spPr>
            <a:xfrm>
              <a:off x="380880" y="3025800"/>
              <a:ext cx="443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Trivial Quantum Algorithm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2"/>
            <p:cNvGrpSpPr/>
            <p:nvPr/>
          </p:nvGrpSpPr>
          <p:grpSpPr>
            <a:xfrm>
              <a:off x="456840" y="3629160"/>
              <a:ext cx="4354920" cy="2334600"/>
              <a:chOff x="456840" y="3629160"/>
              <a:chExt cx="4354920" cy="2334600"/>
            </a:xfrm>
          </p:grpSpPr>
          <p:sp>
            <p:nvSpPr>
              <p:cNvPr id="214" name="Straight Connector 12"/>
              <p:cNvSpPr/>
              <p:nvPr/>
            </p:nvSpPr>
            <p:spPr>
              <a:xfrm>
                <a:off x="990000" y="477324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13"/>
              <p:cNvSpPr/>
              <p:nvPr/>
            </p:nvSpPr>
            <p:spPr>
              <a:xfrm>
                <a:off x="990000" y="545940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14"/>
              <p:cNvSpPr/>
              <p:nvPr/>
            </p:nvSpPr>
            <p:spPr>
              <a:xfrm>
                <a:off x="990000" y="408708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"/>
              <p:cNvSpPr/>
              <p:nvPr/>
            </p:nvSpPr>
            <p:spPr>
              <a:xfrm>
                <a:off x="1371240" y="378216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6"/>
              <p:cNvSpPr/>
              <p:nvPr/>
            </p:nvSpPr>
            <p:spPr>
              <a:xfrm>
                <a:off x="1371240" y="446832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7"/>
              <p:cNvSpPr/>
              <p:nvPr/>
            </p:nvSpPr>
            <p:spPr>
              <a:xfrm>
                <a:off x="1371240" y="515448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8"/>
              <p:cNvSpPr/>
              <p:nvPr/>
            </p:nvSpPr>
            <p:spPr>
              <a:xfrm>
                <a:off x="2285640" y="3782160"/>
                <a:ext cx="533160" cy="190584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9"/>
              <p:cNvSpPr/>
              <p:nvPr/>
            </p:nvSpPr>
            <p:spPr>
              <a:xfrm>
                <a:off x="3200040" y="378216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10"/>
              <p:cNvSpPr/>
              <p:nvPr/>
            </p:nvSpPr>
            <p:spPr>
              <a:xfrm>
                <a:off x="3200040" y="446832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11"/>
              <p:cNvSpPr/>
              <p:nvPr/>
            </p:nvSpPr>
            <p:spPr>
              <a:xfrm>
                <a:off x="3200040" y="5154480"/>
                <a:ext cx="533160" cy="520560"/>
              </a:xfrm>
              <a:prstGeom prst="rect">
                <a:avLst/>
              </a:prstGeom>
              <a:solidFill>
                <a:srgbClr val="edf6f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49"/>
              <p:cNvGrpSpPr/>
              <p:nvPr/>
            </p:nvGrpSpPr>
            <p:grpSpPr>
              <a:xfrm>
                <a:off x="4001040" y="3629160"/>
                <a:ext cx="810720" cy="962640"/>
                <a:chOff x="4001040" y="3629160"/>
                <a:chExt cx="810720" cy="962640"/>
              </a:xfrm>
            </p:grpSpPr>
            <p:sp>
              <p:nvSpPr>
                <p:cNvPr id="225" name="Chord 33"/>
                <p:cNvSpPr/>
                <p:nvPr/>
              </p:nvSpPr>
              <p:spPr>
                <a:xfrm rot="7220400">
                  <a:off x="4102920" y="389016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6" name="Straight Arrow Connector 34"/>
                <p:cNvCxnSpPr>
                  <a:stCxn id="225" idx="2"/>
                </p:cNvCxnSpPr>
                <p:nvPr/>
              </p:nvCxnSpPr>
              <p:spPr>
                <a:xfrm flipV="1">
                  <a:off x="4403880" y="362916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grpSp>
            <p:nvGrpSpPr>
              <p:cNvPr id="227" name="Group 50"/>
              <p:cNvGrpSpPr/>
              <p:nvPr/>
            </p:nvGrpSpPr>
            <p:grpSpPr>
              <a:xfrm>
                <a:off x="4001040" y="4314960"/>
                <a:ext cx="810720" cy="962640"/>
                <a:chOff x="4001040" y="4314960"/>
                <a:chExt cx="810720" cy="962640"/>
              </a:xfrm>
            </p:grpSpPr>
            <p:sp>
              <p:nvSpPr>
                <p:cNvPr id="228" name="Chord 31"/>
                <p:cNvSpPr/>
                <p:nvPr/>
              </p:nvSpPr>
              <p:spPr>
                <a:xfrm rot="7220400">
                  <a:off x="4102920" y="457596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29" name="Straight Arrow Connector 32"/>
                <p:cNvCxnSpPr>
                  <a:stCxn id="228" idx="2"/>
                </p:cNvCxnSpPr>
                <p:nvPr/>
              </p:nvCxnSpPr>
              <p:spPr>
                <a:xfrm flipV="1">
                  <a:off x="4403880" y="431496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grpSp>
            <p:nvGrpSpPr>
              <p:cNvPr id="230" name="Group 53"/>
              <p:cNvGrpSpPr/>
              <p:nvPr/>
            </p:nvGrpSpPr>
            <p:grpSpPr>
              <a:xfrm>
                <a:off x="4001040" y="5001120"/>
                <a:ext cx="810720" cy="962640"/>
                <a:chOff x="4001040" y="5001120"/>
                <a:chExt cx="810720" cy="962640"/>
              </a:xfrm>
            </p:grpSpPr>
            <p:sp>
              <p:nvSpPr>
                <p:cNvPr id="231" name="Chord 29"/>
                <p:cNvSpPr/>
                <p:nvPr/>
              </p:nvSpPr>
              <p:spPr>
                <a:xfrm rot="7220400">
                  <a:off x="4102920" y="5262120"/>
                  <a:ext cx="606960" cy="583920"/>
                </a:xfrm>
                <a:custGeom>
                  <a:avLst/>
                  <a:gdLst/>
                  <a:ahLst/>
                  <a:rect l="l" t="t" r="r" b="b"/>
                  <a:pathLst>
                    <a:path w="606971" h="584538">
                      <a:moveTo>
                        <a:pt x="496030" y="518184"/>
                      </a:moveTo>
                      <a:cubicBezTo>
                        <a:pt x="405346" y="589865"/>
                        <a:pt x="279884" y="604790"/>
                        <a:pt x="173813" y="556515"/>
                      </a:cubicBezTo>
                      <a:cubicBezTo>
                        <a:pt x="62787" y="505985"/>
                        <a:pt x="-5677" y="396000"/>
                        <a:pt x="367" y="277882"/>
                      </a:cubicBezTo>
                      <a:cubicBezTo>
                        <a:pt x="6378" y="160410"/>
                        <a:pt x="84922" y="57853"/>
                        <a:pt x="199685" y="17626"/>
                      </a:cubicBezTo>
                      <a:lnTo>
                        <a:pt x="496030" y="518184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32" name="Straight Arrow Connector 30"/>
                <p:cNvCxnSpPr>
                  <a:stCxn id="231" idx="2"/>
                </p:cNvCxnSpPr>
                <p:nvPr/>
              </p:nvCxnSpPr>
              <p:spPr>
                <a:xfrm flipV="1">
                  <a:off x="4403880" y="5001120"/>
                  <a:ext cx="146520" cy="60444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miter/>
                  <a:tailEnd len="lg" type="arrow" w="lg"/>
                </a:ln>
              </p:spPr>
            </p:cxnSp>
          </p:grpSp>
          <p:sp>
            <p:nvSpPr>
              <p:cNvPr id="233" name="Text Box 3"/>
              <p:cNvSpPr/>
              <p:nvPr/>
            </p:nvSpPr>
            <p:spPr>
              <a:xfrm>
                <a:off x="2285640" y="44683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3"/>
              <p:cNvSpPr/>
              <p:nvPr/>
            </p:nvSpPr>
            <p:spPr>
              <a:xfrm>
                <a:off x="456840" y="37821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3"/>
              <p:cNvSpPr/>
              <p:nvPr/>
            </p:nvSpPr>
            <p:spPr>
              <a:xfrm>
                <a:off x="456840" y="44683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3"/>
              <p:cNvSpPr/>
              <p:nvPr/>
            </p:nvSpPr>
            <p:spPr>
              <a:xfrm>
                <a:off x="456840" y="51544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|0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2"/>
          <p:cNvGrpSpPr/>
          <p:nvPr/>
        </p:nvGrpSpPr>
        <p:grpSpPr>
          <a:xfrm>
            <a:off x="5257800" y="2654280"/>
            <a:ext cx="3733920" cy="3951000"/>
            <a:chOff x="5257800" y="2654280"/>
            <a:chExt cx="3733920" cy="3951000"/>
          </a:xfrm>
        </p:grpSpPr>
        <p:sp>
          <p:nvSpPr>
            <p:cNvPr id="238" name="Text Box 3"/>
            <p:cNvSpPr/>
            <p:nvPr/>
          </p:nvSpPr>
          <p:spPr>
            <a:xfrm>
              <a:off x="5257800" y="2654280"/>
              <a:ext cx="3733920" cy="39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lso a search vers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“Find z’s that mostly have large value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. 2009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If f is a random black-box function, then the search problem isn’t even in </a:t>
              </a:r>
              <a:r>
                <a:rPr b="1" lang="en-US" sz="2800" spc="-1" strike="noStrike">
                  <a:solidFill>
                    <a:srgbClr val="7030a0"/>
                  </a:solidFill>
                  <a:latin typeface="Calibri"/>
                  <a:ea typeface="Arial"/>
                </a:rPr>
                <a:t>FBPP</a:t>
              </a:r>
              <a:r>
                <a:rPr b="1" lang="en-US" sz="2800" spc="-1" strike="noStrike" baseline="30000">
                  <a:solidFill>
                    <a:srgbClr val="7030a0"/>
                  </a:solidFill>
                  <a:latin typeface="Calibri"/>
                  <a:ea typeface="Arial"/>
                </a:rPr>
                <a:t>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"/>
                <p:cNvSpPr txBox="1"/>
                <p:nvPr/>
              </p:nvSpPr>
              <p:spPr>
                <a:xfrm>
                  <a:off x="6389640" y="3990960"/>
                  <a:ext cx="119844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} {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Text Box 3"/>
            <p:cNvSpPr/>
            <p:nvPr/>
          </p:nvSpPr>
          <p:spPr>
            <a:xfrm>
              <a:off x="7124760" y="5950800"/>
              <a:ext cx="7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Calibri"/>
                  <a:ea typeface="Arial"/>
                </a:rPr>
                <a:t>PH</a:t>
              </a:r>
              <a:r>
                <a:rPr b="1" lang="en-US" sz="2800" spc="-1" strike="noStrike" baseline="30000">
                  <a:solidFill>
                    <a:srgbClr val="7030a0"/>
                  </a:solidFill>
                  <a:latin typeface="Calibri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28600" y="30492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Bremner and Shepherd’s 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  <a:ea typeface="Arial"/>
              </a:rPr>
              <a:t>IQP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Arial"/>
              </a:rPr>
              <a:t> Idea</a:t>
            </a:r>
            <a:br>
              <a:rPr sz="4000"/>
            </a:b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Arial"/>
              </a:rPr>
              <a:t>arxiv:0809:08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98600" y="1714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 ver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7" descr=""/>
          <p:cNvPicPr/>
          <p:nvPr/>
        </p:nvPicPr>
        <p:blipFill>
          <a:blip r:embed="rId1"/>
          <a:stretch/>
        </p:blipFill>
        <p:spPr>
          <a:xfrm>
            <a:off x="5908680" y="2282760"/>
            <a:ext cx="2247840" cy="1650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1012680" y="2314440"/>
            <a:ext cx="1562400" cy="16606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127480" y="163836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urier Sampling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2"/>
          <p:cNvCxnSpPr/>
          <p:nvPr/>
        </p:nvCxnSpPr>
        <p:spPr>
          <a:xfrm>
            <a:off x="2895120" y="2682360"/>
            <a:ext cx="2667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Text Box 3"/>
          <p:cNvSpPr/>
          <p:nvPr/>
        </p:nvSpPr>
        <p:spPr>
          <a:xfrm>
            <a:off x="2835360" y="21906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bfuscated circuit for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4"/>
          <p:cNvCxnSpPr/>
          <p:nvPr/>
        </p:nvCxnSpPr>
        <p:spPr>
          <a:xfrm flipH="1">
            <a:off x="2894760" y="3673080"/>
            <a:ext cx="2667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Text Box 3"/>
          <p:cNvSpPr/>
          <p:nvPr/>
        </p:nvSpPr>
        <p:spPr>
          <a:xfrm>
            <a:off x="2743200" y="319572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amples from f’s Fourie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380880" y="4289400"/>
            <a:ext cx="30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Yes, those samples are good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886200" y="4572000"/>
            <a:ext cx="493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emner and Shepherd propose a way to do this.  Please look at their scheme and try to evaluate its secur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2860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Instantiating Simon’s Black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80880" y="114300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ive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degree-d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cified by it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oeffic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4876920" y="990720"/>
                <a:ext cx="2446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5" name="Text Box 3"/>
          <p:cNvSpPr/>
          <p:nvPr/>
        </p:nvSpPr>
        <p:spPr>
          <a:xfrm>
            <a:off x="3808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Goa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nd the smallest k such that p(x) can be rewritten as r(Ax), where r is another degree-d polynomi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581280" y="3398760"/>
                <a:ext cx="155124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q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7" name="Text Box 3"/>
          <p:cNvSpPr/>
          <p:nvPr/>
        </p:nvSpPr>
        <p:spPr>
          <a:xfrm>
            <a:off x="369720" y="41911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s problem is easily solved in quantum polynomial time, by Fourier sampling!  (Indeed, ker A is just an abelian hidden sub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2040" y="56516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la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y looking at the partial derivatives of p, it’s also solvabl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polynomial time—at least when d&lt;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6676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1430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rrel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roblem that QCs can solve in 1 query, and that’s “maximally classically hard” among su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80880" y="24382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k-Fold Forrela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problem that QCs can solve in k queries, that w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maximally classically hard among such problems, and that captures the power of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when k=poly(n)) or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N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when k=polylog(n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45180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ourier Sampling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 sampling problem, closely related to Bremner/Shepherd’s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I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and to Simon’s algorithm), that yield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treme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strong results about the power of QC relative to an oracle.  Maybe even in the “real”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43080" y="838080"/>
            <a:ext cx="845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Given oracle access to two Boolean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313000" y="1371600"/>
                <a:ext cx="4010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: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3"/>
          <p:cNvSpPr/>
          <p:nvPr/>
        </p:nvSpPr>
        <p:spPr>
          <a:xfrm>
            <a:off x="343080" y="2286000"/>
            <a:ext cx="83055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uniform distribution U, 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Symbol" charset="2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,g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drawn from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“forrelated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istribution: pick a random unit vector                          then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3652920" y="3754440"/>
                <a:ext cx="1685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523880" y="4530600"/>
                <a:ext cx="582948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g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,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60948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01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19920" y="598320"/>
            <a:ext cx="2171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01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01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01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0)=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01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0)=-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(1111)=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3049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Trivial Quantum Algorith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"/>
          <p:cNvSpPr/>
          <p:nvPr/>
        </p:nvSpPr>
        <p:spPr>
          <a:xfrm>
            <a:off x="1981080" y="24382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"/>
          <p:cNvSpPr/>
          <p:nvPr/>
        </p:nvSpPr>
        <p:spPr>
          <a:xfrm>
            <a:off x="1981080" y="31240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5"/>
          <p:cNvSpPr/>
          <p:nvPr/>
        </p:nvSpPr>
        <p:spPr>
          <a:xfrm>
            <a:off x="1981080" y="1752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3623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3623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3623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2767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1911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1911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6820920" y="1295280"/>
            <a:ext cx="810360" cy="961560"/>
            <a:chOff x="6820920" y="1295280"/>
            <a:chExt cx="810360" cy="961560"/>
          </a:xfrm>
        </p:grpSpPr>
        <p:sp>
          <p:nvSpPr>
            <p:cNvPr id="72" name="Chord 14"/>
            <p:cNvSpPr/>
            <p:nvPr/>
          </p:nvSpPr>
          <p:spPr>
            <a:xfrm rot="7220400">
              <a:off x="6922440" y="15555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15"/>
            <p:cNvCxnSpPr>
              <a:stCxn id="72" idx="2"/>
            </p:cNvCxnSpPr>
            <p:nvPr/>
          </p:nvCxnSpPr>
          <p:spPr>
            <a:xfrm flipV="1">
              <a:off x="7223760" y="12952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74" name="Group 16"/>
          <p:cNvGrpSpPr/>
          <p:nvPr/>
        </p:nvGrpSpPr>
        <p:grpSpPr>
          <a:xfrm>
            <a:off x="6820920" y="1981080"/>
            <a:ext cx="810360" cy="961560"/>
            <a:chOff x="6820920" y="1981080"/>
            <a:chExt cx="810360" cy="961560"/>
          </a:xfrm>
        </p:grpSpPr>
        <p:sp>
          <p:nvSpPr>
            <p:cNvPr id="75" name="Chord 17"/>
            <p:cNvSpPr/>
            <p:nvPr/>
          </p:nvSpPr>
          <p:spPr>
            <a:xfrm rot="7220400">
              <a:off x="6922440" y="22413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Straight Arrow Connector 18"/>
            <p:cNvCxnSpPr>
              <a:stCxn id="75" idx="2"/>
            </p:cNvCxnSpPr>
            <p:nvPr/>
          </p:nvCxnSpPr>
          <p:spPr>
            <a:xfrm flipV="1">
              <a:off x="7223760" y="19810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grpSp>
        <p:nvGrpSpPr>
          <p:cNvPr id="77" name="Group 19"/>
          <p:cNvGrpSpPr/>
          <p:nvPr/>
        </p:nvGrpSpPr>
        <p:grpSpPr>
          <a:xfrm>
            <a:off x="6820920" y="2666880"/>
            <a:ext cx="810360" cy="961560"/>
            <a:chOff x="6820920" y="2666880"/>
            <a:chExt cx="810360" cy="961560"/>
          </a:xfrm>
        </p:grpSpPr>
        <p:sp>
          <p:nvSpPr>
            <p:cNvPr id="78" name="Chord 21"/>
            <p:cNvSpPr/>
            <p:nvPr/>
          </p:nvSpPr>
          <p:spPr>
            <a:xfrm rot="7220400">
              <a:off x="6922440" y="2927160"/>
              <a:ext cx="606600" cy="583920"/>
            </a:xfrm>
            <a:custGeom>
              <a:avLst/>
              <a:gdLst/>
              <a:ahLst/>
              <a:rect l="l" t="t" r="r" b="b"/>
              <a:pathLst>
                <a:path w="606971" h="584538">
                  <a:moveTo>
                    <a:pt x="496030" y="518184"/>
                  </a:moveTo>
                  <a:cubicBezTo>
                    <a:pt x="405346" y="589865"/>
                    <a:pt x="279884" y="604790"/>
                    <a:pt x="173813" y="556515"/>
                  </a:cubicBezTo>
                  <a:cubicBezTo>
                    <a:pt x="62787" y="505985"/>
                    <a:pt x="-5677" y="396000"/>
                    <a:pt x="367" y="277882"/>
                  </a:cubicBezTo>
                  <a:cubicBezTo>
                    <a:pt x="6378" y="160410"/>
                    <a:pt x="84922" y="57853"/>
                    <a:pt x="199685" y="17626"/>
                  </a:cubicBezTo>
                  <a:lnTo>
                    <a:pt x="496030" y="518184"/>
                  </a:ln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Straight Arrow Connector 22"/>
            <p:cNvCxnSpPr>
              <a:stCxn id="78" idx="2"/>
            </p:cNvCxnSpPr>
            <p:nvPr/>
          </p:nvCxnSpPr>
          <p:spPr>
            <a:xfrm flipV="1">
              <a:off x="7223760" y="2666880"/>
              <a:ext cx="146520" cy="603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</p:cxnSp>
      </p:grpSp>
      <p:sp>
        <p:nvSpPr>
          <p:cNvPr id="80" name="Text Box 3"/>
          <p:cNvSpPr/>
          <p:nvPr/>
        </p:nvSpPr>
        <p:spPr>
          <a:xfrm>
            <a:off x="32767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1447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479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79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|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5105520" y="1447920"/>
            <a:ext cx="533160" cy="1904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1055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2"/>
          <p:cNvSpPr/>
          <p:nvPr/>
        </p:nvSpPr>
        <p:spPr>
          <a:xfrm>
            <a:off x="6019920" y="14479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3"/>
          <p:cNvSpPr/>
          <p:nvPr/>
        </p:nvSpPr>
        <p:spPr>
          <a:xfrm>
            <a:off x="6019920" y="21337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6019920" y="2819520"/>
            <a:ext cx="533160" cy="520560"/>
          </a:xfrm>
          <a:prstGeom prst="rect">
            <a:avLst/>
          </a:prstGeom>
          <a:solidFill>
            <a:srgbClr val="edf6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271440" y="3629160"/>
            <a:ext cx="8523360" cy="1804680"/>
            <a:chOff x="271440" y="3629160"/>
            <a:chExt cx="8523360" cy="1804680"/>
          </a:xfrm>
        </p:grpSpPr>
        <p:sp>
          <p:nvSpPr>
            <p:cNvPr id="90" name="Text Box 3"/>
            <p:cNvSpPr/>
            <p:nvPr/>
          </p:nvSpPr>
          <p:spPr>
            <a:xfrm>
              <a:off x="392040" y="362916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bability of observing 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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alibri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2"/>
                <p:cNvSpPr txBox="1"/>
                <p:nvPr/>
              </p:nvSpPr>
              <p:spPr>
                <a:xfrm>
                  <a:off x="271440" y="4152960"/>
                  <a:ext cx="852336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den>
                      </m:f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{"/>
                                          <m:endChr m:val="}"/>
                                        </m:dPr>
                                        <m:e>
                                          <m:r>
                                            <m:t xml:space="preserve">0,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r>
                                    <m:t xml:space="preserve">f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x</m:t>
                                      </m:r>
                                      <m:r>
                                        <m:t xml:space="preserve">⋅</m:t>
                                      </m:r>
                                      <m:r>
                                        <m:t xml:space="preserve">y</m:t>
                                      </m:r>
                                    </m:sup>
                                  </m:sSup>
                                  <m:r>
                                    <m:t xml:space="preserve">g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</m:e>
                              </m:nary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f 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,g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are random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Ω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f </m:t>
                                </m:r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,g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 are forrelated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Text Box 3"/>
          <p:cNvSpPr/>
          <p:nvPr/>
        </p:nvSpPr>
        <p:spPr>
          <a:xfrm>
            <a:off x="506520" y="5715000"/>
            <a:ext cx="67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even reduce from 2 queries to 1 using standard tri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17440" y="17784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lassical Complexity of F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06520" y="91440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. 2009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Classically, </a:t>
            </a:r>
            <a:r>
              <a:rPr b="0" lang="el-GR" sz="27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) queries are needed to decide whether f and g are random or forrelat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9120" y="1890720"/>
            <a:ext cx="802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mbainis 2011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Improved to </a:t>
            </a:r>
            <a:r>
              <a:rPr b="0" lang="el-GR" sz="27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(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/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/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19120" y="4672080"/>
            <a:ext cx="83088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Putting Together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mong all partial Boolean functions computable with 1 quantum query, Forrelation is almost the hardest possible one classically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de Beaudrap et al. 2000: Similar result but for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nonstandard query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06520" y="2500200"/>
            <a:ext cx="8028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  <a:ea typeface="Arial"/>
              </a:rPr>
              <a:t>Ambainis 2010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 Any problem whatsoever that has a 1-query quantum algorithm—or more generally, is represented by a degree-2 polynomial—can also be solved using O(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Arial"/>
              </a:rPr>
              <a:t>N) classical randomized qu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N = total # of input bits (2</a:t>
            </a:r>
            <a:r>
              <a:rPr b="0" lang="en-US" sz="2600" spc="-1" strike="noStrike" baseline="30000">
                <a:solidFill>
                  <a:srgbClr val="006600"/>
                </a:solidFill>
                <a:latin typeface="Calibri"/>
                <a:ea typeface="Arial"/>
              </a:rPr>
              <a:t>n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  <a:ea typeface="Arial"/>
              </a:rPr>
              <a:t> in this c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52280"/>
            <a:ext cx="88394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0c0"/>
                </a:solidFill>
                <a:latin typeface="Calibri"/>
                <a:ea typeface="Arial"/>
              </a:rPr>
              <a:t>My Original Motivation for Forrel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87624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didate for an oracle separation betwee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BQ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d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No constant-depth circuit with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poly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gates can tell whether f,g are random or for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69720" y="42670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 conjectured that this, by itself, implied the requisite circuit lower bound.  (“Generalized Linial-Nisan Conjecture”)  Alas, turned out to be false (A.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2"/>
          <p:cNvGrpSpPr/>
          <p:nvPr/>
        </p:nvGrpSpPr>
        <p:grpSpPr>
          <a:xfrm>
            <a:off x="380880" y="2476440"/>
            <a:ext cx="8610840" cy="1847880"/>
            <a:chOff x="380880" y="2476440"/>
            <a:chExt cx="8610840" cy="1847880"/>
          </a:xfrm>
        </p:grpSpPr>
        <mc:AlternateContent>
          <mc:Choice xmlns:a14="http://schemas.microsoft.com/office/drawing/2010/main" Requires="a14">
            <p:sp>
              <p:nvSpPr>
                <p:cNvPr id="102" name="Object 1"/>
                <p:cNvSpPr txBox="1"/>
                <p:nvPr/>
              </p:nvSpPr>
              <p:spPr>
                <a:xfrm>
                  <a:off x="1715760" y="2971440"/>
                  <a:ext cx="5510520" cy="13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Pr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,</m:t>
                              </m:r>
                              <m:r>
                                <m:t xml:space="preserve">g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forrelated</m:t>
                              </m:r>
                              <m:r>
                                <m:t xml:space="preserve">|</m:t>
                              </m:r>
                              <m:r>
                                <m:t xml:space="preserve">C</m:t>
                              </m:r>
                            </m:e>
                          </m:d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O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|"/>
                                      <m:endChr m:val="|"/>
                                    </m:dPr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n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p>
                              </m:s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3"/>
            <p:cNvSpPr/>
            <p:nvPr/>
          </p:nvSpPr>
          <p:spPr>
            <a:xfrm>
              <a:off x="380880" y="2476440"/>
              <a:ext cx="861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. 2009: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For every conjunction C of f- and g-values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"/>
          <p:cNvSpPr/>
          <p:nvPr/>
        </p:nvSpPr>
        <p:spPr>
          <a:xfrm>
            <a:off x="369720" y="569448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ill, the GLN might hold for depth-2 circui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in any case, Forrelation shouldn’t be in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Different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143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is is another exponential quantum speed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19810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Can we find any “practical” application for it?  I.e., is there any real situation where Boolean functions f,g arise that are forrelated, but non-obviously 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03200" y="3657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Related Challeng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s there any way (even a contrived one) to give someon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lynomial-size circui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f and g, so that deciding whether f and g are forrelated is a classically intractabl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0160" y="228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k-Fold F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2440" y="106668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iven k Boolean function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…,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:{0,1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{1,-1},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39840" y="6172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an be improved to k/2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223920" y="1676520"/>
          <a:ext cx="86630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1676520"/>
                    <a:ext cx="8663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3"/>
          <p:cNvSpPr/>
          <p:nvPr/>
        </p:nvSpPr>
        <p:spPr>
          <a:xfrm>
            <a:off x="465120" y="2590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o additive err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(k+1)n/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428760" y="3230640"/>
            <a:ext cx="8458200" cy="3001320"/>
            <a:chOff x="428760" y="3230640"/>
            <a:chExt cx="8458200" cy="3001320"/>
          </a:xfrm>
        </p:grpSpPr>
        <p:sp>
          <p:nvSpPr>
            <p:cNvPr id="116" name="Text Box 3"/>
            <p:cNvSpPr/>
            <p:nvPr/>
          </p:nvSpPr>
          <p:spPr>
            <a:xfrm>
              <a:off x="428760" y="323064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nce again, there’s a trivial k-query quantum algorithm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>
              <a:off x="1204920" y="5051520"/>
              <a:ext cx="623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1204920" y="5737320"/>
              <a:ext cx="615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9"/>
            <p:cNvSpPr/>
            <p:nvPr/>
          </p:nvSpPr>
          <p:spPr>
            <a:xfrm>
              <a:off x="1204920" y="4365720"/>
              <a:ext cx="630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6"/>
            <p:cNvSpPr/>
            <p:nvPr/>
          </p:nvSpPr>
          <p:spPr>
            <a:xfrm>
              <a:off x="1585800" y="4060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7"/>
            <p:cNvSpPr/>
            <p:nvPr/>
          </p:nvSpPr>
          <p:spPr>
            <a:xfrm>
              <a:off x="1585800" y="47466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8"/>
            <p:cNvSpPr/>
            <p:nvPr/>
          </p:nvSpPr>
          <p:spPr>
            <a:xfrm>
              <a:off x="1585800" y="54324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2500200" y="406080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0"/>
            <p:cNvSpPr/>
            <p:nvPr/>
          </p:nvSpPr>
          <p:spPr>
            <a:xfrm>
              <a:off x="3414960" y="40608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1"/>
            <p:cNvSpPr/>
            <p:nvPr/>
          </p:nvSpPr>
          <p:spPr>
            <a:xfrm>
              <a:off x="3414960" y="47466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2"/>
            <p:cNvSpPr/>
            <p:nvPr/>
          </p:nvSpPr>
          <p:spPr>
            <a:xfrm>
              <a:off x="3414960" y="543240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3"/>
            <p:cNvGrpSpPr/>
            <p:nvPr/>
          </p:nvGrpSpPr>
          <p:grpSpPr>
            <a:xfrm>
              <a:off x="6959160" y="3898800"/>
              <a:ext cx="810360" cy="961560"/>
              <a:chOff x="6959160" y="3898800"/>
              <a:chExt cx="810360" cy="961560"/>
            </a:xfrm>
          </p:grpSpPr>
          <p:sp>
            <p:nvSpPr>
              <p:cNvPr id="128" name="Chord 20"/>
              <p:cNvSpPr/>
              <p:nvPr/>
            </p:nvSpPr>
            <p:spPr>
              <a:xfrm rot="7220400">
                <a:off x="7060680" y="41590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9" name="Straight Arrow Connector 21"/>
              <p:cNvCxnSpPr>
                <a:stCxn id="128" idx="2"/>
              </p:cNvCxnSpPr>
              <p:nvPr/>
            </p:nvCxnSpPr>
            <p:spPr>
              <a:xfrm flipV="1">
                <a:off x="7362000" y="38988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130" name="Group 16"/>
            <p:cNvGrpSpPr/>
            <p:nvPr/>
          </p:nvGrpSpPr>
          <p:grpSpPr>
            <a:xfrm>
              <a:off x="6959160" y="4584600"/>
              <a:ext cx="810360" cy="961560"/>
              <a:chOff x="6959160" y="4584600"/>
              <a:chExt cx="810360" cy="961560"/>
            </a:xfrm>
          </p:grpSpPr>
          <p:sp>
            <p:nvSpPr>
              <p:cNvPr id="131" name="Chord 23"/>
              <p:cNvSpPr/>
              <p:nvPr/>
            </p:nvSpPr>
            <p:spPr>
              <a:xfrm rot="7220400">
                <a:off x="7060680" y="48448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Straight Arrow Connector 24"/>
              <p:cNvCxnSpPr>
                <a:stCxn id="131" idx="2"/>
              </p:cNvCxnSpPr>
              <p:nvPr/>
            </p:nvCxnSpPr>
            <p:spPr>
              <a:xfrm flipV="1">
                <a:off x="7362000" y="45846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grpSp>
          <p:nvGrpSpPr>
            <p:cNvPr id="133" name="Group 19"/>
            <p:cNvGrpSpPr/>
            <p:nvPr/>
          </p:nvGrpSpPr>
          <p:grpSpPr>
            <a:xfrm>
              <a:off x="6959160" y="5270400"/>
              <a:ext cx="810360" cy="961560"/>
              <a:chOff x="6959160" y="5270400"/>
              <a:chExt cx="810360" cy="961560"/>
            </a:xfrm>
          </p:grpSpPr>
          <p:sp>
            <p:nvSpPr>
              <p:cNvPr id="134" name="Chord 26"/>
              <p:cNvSpPr/>
              <p:nvPr/>
            </p:nvSpPr>
            <p:spPr>
              <a:xfrm rot="7220400">
                <a:off x="7060680" y="5530680"/>
                <a:ext cx="606600" cy="583920"/>
              </a:xfrm>
              <a:custGeom>
                <a:avLst/>
                <a:gdLst/>
                <a:ahLst/>
                <a:rect l="l" t="t" r="r" b="b"/>
                <a:pathLst>
                  <a:path w="606971" h="584538">
                    <a:moveTo>
                      <a:pt x="496030" y="518184"/>
                    </a:moveTo>
                    <a:cubicBezTo>
                      <a:pt x="405346" y="589865"/>
                      <a:pt x="279884" y="604790"/>
                      <a:pt x="173813" y="556515"/>
                    </a:cubicBezTo>
                    <a:cubicBezTo>
                      <a:pt x="62787" y="505985"/>
                      <a:pt x="-5677" y="396000"/>
                      <a:pt x="367" y="277882"/>
                    </a:cubicBezTo>
                    <a:cubicBezTo>
                      <a:pt x="6378" y="160410"/>
                      <a:pt x="84922" y="57853"/>
                      <a:pt x="199685" y="17626"/>
                    </a:cubicBezTo>
                    <a:lnTo>
                      <a:pt x="496030" y="518184"/>
                    </a:lnTo>
                    <a:close/>
                  </a:path>
                </a:pathLst>
              </a:custGeom>
              <a:solidFill>
                <a:srgbClr val="ccffcc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5" name="Straight Arrow Connector 27"/>
              <p:cNvCxnSpPr>
                <a:stCxn id="134" idx="2"/>
              </p:cNvCxnSpPr>
              <p:nvPr/>
            </p:nvCxnSpPr>
            <p:spPr>
              <a:xfrm flipV="1">
                <a:off x="7362000" y="5270400"/>
                <a:ext cx="146520" cy="60372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lg" type="arrow" w="lg"/>
              </a:ln>
            </p:spPr>
          </p:cxnSp>
        </p:grpSp>
        <p:sp>
          <p:nvSpPr>
            <p:cNvPr id="136" name="Text Box 3"/>
            <p:cNvSpPr/>
            <p:nvPr/>
          </p:nvSpPr>
          <p:spPr>
            <a:xfrm>
              <a:off x="2500200" y="474660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"/>
            <p:cNvSpPr/>
            <p:nvPr/>
          </p:nvSpPr>
          <p:spPr>
            <a:xfrm>
              <a:off x="671400" y="40608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"/>
            <p:cNvSpPr/>
            <p:nvPr/>
          </p:nvSpPr>
          <p:spPr>
            <a:xfrm>
              <a:off x="671400" y="47466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"/>
            <p:cNvSpPr/>
            <p:nvPr/>
          </p:nvSpPr>
          <p:spPr>
            <a:xfrm>
              <a:off x="671400" y="5432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|0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5243760" y="4051440"/>
              <a:ext cx="533160" cy="1905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"/>
            <p:cNvSpPr/>
            <p:nvPr/>
          </p:nvSpPr>
          <p:spPr>
            <a:xfrm>
              <a:off x="5243760" y="47372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2"/>
            <p:cNvSpPr/>
            <p:nvPr/>
          </p:nvSpPr>
          <p:spPr>
            <a:xfrm>
              <a:off x="6158160" y="40514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3"/>
            <p:cNvSpPr/>
            <p:nvPr/>
          </p:nvSpPr>
          <p:spPr>
            <a:xfrm>
              <a:off x="6158160" y="47372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34"/>
            <p:cNvSpPr/>
            <p:nvPr/>
          </p:nvSpPr>
          <p:spPr>
            <a:xfrm>
              <a:off x="6158160" y="5423040"/>
              <a:ext cx="533160" cy="520560"/>
            </a:xfrm>
            <a:prstGeom prst="rect">
              <a:avLst/>
            </a:prstGeom>
            <a:solidFill>
              <a:srgbClr val="edf6f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4283280" y="4041720"/>
              <a:ext cx="793440" cy="192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4381560" y="495288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1"/>
            <p:cNvSpPr/>
            <p:nvPr/>
          </p:nvSpPr>
          <p:spPr>
            <a:xfrm>
              <a:off x="4619880" y="495936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2"/>
            <p:cNvSpPr/>
            <p:nvPr/>
          </p:nvSpPr>
          <p:spPr>
            <a:xfrm>
              <a:off x="4869000" y="4962600"/>
              <a:ext cx="122040" cy="1220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28600" y="3049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Arial"/>
              </a:rPr>
              <a:t>Classical Query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23720" y="1143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Ambainis 201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Any problem whatsoever that has a k-query quantum algorithm—or more generally, is represented by a degree-2k polynomial—can also be solved using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classical randomiz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23720" y="3124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Conjectu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k-fold forrelation requires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-1/2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 randomized queries, where N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23720" y="426708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f the conjecture holds, k-fold forrelation yield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 all largest possible separ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between quantum and randomized query complexities: 1 vs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) up to log(N) vs.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Arial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04960" y="576432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Right now, we only have the </a:t>
            </a:r>
            <a:r>
              <a:rPr b="0" lang="el-GR" sz="2400" spc="-1" strike="noStrike">
                <a:solidFill>
                  <a:srgbClr val="006600"/>
                </a:solidFill>
                <a:latin typeface="Calibri"/>
                <a:ea typeface="Arial"/>
              </a:rPr>
              <a:t>Ω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(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  <a:ea typeface="Arial"/>
              </a:rPr>
              <a:t>N / log N) lower bound from restricting to k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5:28:27Z</dcterms:created>
  <dc:creator>Scott Aaronson</dc:creator>
  <dc:description/>
  <dc:language>en-US</dc:language>
  <cp:lastModifiedBy>Scott</cp:lastModifiedBy>
  <dcterms:modified xsi:type="dcterms:W3CDTF">2014-03-14T22:57:22Z</dcterms:modified>
  <cp:revision>101</cp:revision>
  <dc:subject/>
  <dc:title>BQP and the Polynomial Hierarchy</dc:title>
</cp:coreProperties>
</file>