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7B73-7BAC-4A35-A9C7-C4E4077E9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DDD6-6DF7-4B55-84A3-BB3C7D39B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D7D3-6066-4335-B407-7F0022F8B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7CEC-6007-4AAE-B6DA-BFB18F735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2014-1BD0-4E51-B7F8-6626803FA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1E9D-519D-4400-A380-D31B74FE3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9D6-6205-44E4-9343-BD2FA179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C59-F41C-46EB-A760-82002C72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FDC-B38A-4082-B8CD-252967B9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631-578F-4F41-A6F5-EB5BF52E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F59-EB03-4800-A4E8-B730BFB6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16E-9AE8-4569-A373-35EB26BC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53B-1302-4705-BC77-726DCD9A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568-704F-4E49-87E0-5E89C083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D55-BF09-461A-B170-565B71C3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F88-E5A6-461A-8374-333F40D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BE6-2446-4E32-B5AF-BF0FB3F9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914-6AFE-47E3-88A7-7F8639B9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443B-4EC5-446C-B0F7-BF3F07C66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i.telegraph.co.uk/multimedia/archive/01521/black-hole_1521284a.jpg"/>
          <p:cNvPicPr/>
          <p:nvPr/>
        </p:nvPicPr>
        <p:blipFill>
          <a:blip r:embed="rId1"/>
          <a:stretch/>
        </p:blipFill>
        <p:spPr>
          <a:xfrm>
            <a:off x="-1014480" y="-112680"/>
            <a:ext cx="11172960" cy="6994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alibri"/>
              </a:rPr>
              <a:t>The Computational Complexity of Decoding Hawking Radiation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04920" y="55627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22860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Arial"/>
              </a:rPr>
              <a:t>Hawking 1970s: What happens to quantum information dropped into a black ho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msnbcmedia.msn.com/i/MSNBC/Components/Photo/_new/a_3k_brown_hawking_130501.jpg"/>
          <p:cNvPicPr/>
          <p:nvPr/>
        </p:nvPicPr>
        <p:blipFill>
          <a:blip r:embed="rId1"/>
          <a:stretch/>
        </p:blipFill>
        <p:spPr>
          <a:xfrm>
            <a:off x="304920" y="17524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www.physics.ntua.gr/~lpapa/images/black_hole.jpg"/>
          <p:cNvPicPr/>
          <p:nvPr/>
        </p:nvPicPr>
        <p:blipFill>
          <a:blip r:embed="rId2"/>
          <a:stretch/>
        </p:blipFill>
        <p:spPr>
          <a:xfrm>
            <a:off x="2746440" y="1752480"/>
            <a:ext cx="6229440" cy="446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228600" y="4648320"/>
            <a:ext cx="8747280" cy="192276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ays in black hole fore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Violates unitarity of Q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es out in Hawking rad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f there’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 copy inside the black hole, violates the No-Cloning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Complementa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(modern view): Inside is just a “re-encoding” of exterior, so no cloning is needed to have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n both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581280" y="19810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Arial"/>
              </a:rPr>
              <a:t>|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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8027E-006 L 0.15834 0.25908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228600"/>
            <a:ext cx="9144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Calibri"/>
                <a:ea typeface="Arial"/>
              </a:rPr>
              <a:t>The Firewall Paradox (Almheiri et al. 2012): </a:t>
            </a:r>
            <a:r>
              <a:rPr b="1" lang="en-US" sz="3000" spc="-1" strike="noStrike">
                <a:solidFill>
                  <a:srgbClr val="333399"/>
                </a:solidFill>
                <a:latin typeface="Calibri"/>
                <a:ea typeface="Arial"/>
              </a:rPr>
              <a:t>Refinement of Hawking’s information paradox that challenges complementa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5029200" y="1862280"/>
            <a:ext cx="3814920" cy="273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ej.iop.org/images/1367-2630/14/10/103017/Full/nj432858f1_online.jpg"/>
          <p:cNvPicPr/>
          <p:nvPr/>
        </p:nvPicPr>
        <p:blipFill>
          <a:blip r:embed="rId2"/>
          <a:stretch/>
        </p:blipFill>
        <p:spPr>
          <a:xfrm>
            <a:off x="941400" y="5227560"/>
            <a:ext cx="4876920" cy="1478160"/>
          </a:xfrm>
          <a:prstGeom prst="rect">
            <a:avLst/>
          </a:prstGeom>
          <a:ln w="0">
            <a:noFill/>
          </a:ln>
        </p:spPr>
      </p:pic>
      <p:sp>
        <p:nvSpPr>
          <p:cNvPr id="59" name="Freeform 16"/>
          <p:cNvSpPr/>
          <p:nvPr/>
        </p:nvSpPr>
        <p:spPr>
          <a:xfrm rot="2670600">
            <a:off x="5395680" y="4178160"/>
            <a:ext cx="214200" cy="1040040"/>
          </a:xfrm>
          <a:custGeom>
            <a:avLst/>
            <a:gdLst>
              <a:gd name="textAreaLeft" fmla="*/ 0 w 214200"/>
              <a:gd name="textAreaRight" fmla="*/ 214560 w 21420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 rot="2670600">
            <a:off x="5990760" y="4265640"/>
            <a:ext cx="216000" cy="1041480"/>
          </a:xfrm>
          <a:custGeom>
            <a:avLst/>
            <a:gdLst>
              <a:gd name="textAreaLeft" fmla="*/ 0 w 216000"/>
              <a:gd name="textAreaRight" fmla="*/ 216360 w 21600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 rot="2670600">
            <a:off x="5060520" y="3639960"/>
            <a:ext cx="216000" cy="1041480"/>
          </a:xfrm>
          <a:custGeom>
            <a:avLst/>
            <a:gdLst>
              <a:gd name="textAreaLeft" fmla="*/ 0 w 216000"/>
              <a:gd name="textAreaRight" fmla="*/ 216360 w 21600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alice"/>
          <p:cNvPicPr/>
          <p:nvPr/>
        </p:nvPicPr>
        <p:blipFill>
          <a:blip r:embed="rId3"/>
          <a:stretch/>
        </p:blipFill>
        <p:spPr>
          <a:xfrm>
            <a:off x="7238880" y="5410080"/>
            <a:ext cx="1076400" cy="124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C:\Users\owner\AppData\Local\Microsoft\Windows\Temporary Internet Files\Content.IE5\V550YIX2\MP900438774[1].jpg"/>
          <p:cNvPicPr/>
          <p:nvPr/>
        </p:nvPicPr>
        <p:blipFill>
          <a:blip r:embed="rId4"/>
          <a:stretch/>
        </p:blipFill>
        <p:spPr>
          <a:xfrm>
            <a:off x="6566040" y="2362320"/>
            <a:ext cx="1277640" cy="1917720"/>
          </a:xfrm>
          <a:prstGeom prst="rect">
            <a:avLst/>
          </a:prstGeom>
          <a:ln w="0">
            <a:noFill/>
          </a:ln>
        </p:spPr>
      </p:pic>
      <p:sp>
        <p:nvSpPr>
          <p:cNvPr id="64" name="Right Arrow 2"/>
          <p:cNvSpPr/>
          <p:nvPr/>
        </p:nvSpPr>
        <p:spPr>
          <a:xfrm>
            <a:off x="5986440" y="5227560"/>
            <a:ext cx="1076400" cy="9907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10960" y="1836720"/>
            <a:ext cx="477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 the black hole interior is “built” out of the same qubits coming out as Hawking radiation, then why can’t w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 somet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o those Hawking qubits, then dive into the black hole, and see that we’ve completely destroyed the spacetime geometry in the inter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838080" y="5618160"/>
            <a:ext cx="3733920" cy="82548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ntanglement among Hawking photons detec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20472E-007 L -0.10052 -0.25746 E">
                                      <p:cBhvr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76040" y="1522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Harlow-Hayden 2013: To create the firewall, you’d need to process the Hawking radiation in a way that probably requir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ponential computation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"/>
              <p:cNvSpPr txBox="1"/>
              <p:nvPr/>
            </p:nvSpPr>
            <p:spPr>
              <a:xfrm>
                <a:off x="285840" y="1957320"/>
                <a:ext cx="8543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Rectangle 41"/>
          <p:cNvSpPr/>
          <p:nvPr/>
        </p:nvSpPr>
        <p:spPr>
          <a:xfrm>
            <a:off x="262080" y="3048120"/>
            <a:ext cx="8589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: “Old” Hawking ph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: Hawking photon just now com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: Degrees of freedom still inside black 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,g: Two functions such that it’s hard to tell whether their ranges are equal or disjoint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[A. 2002: quantum lower bound for this proble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f Range(f)=Range(g), then R and B are entangled, but acting on R to reveal the entanglement (as in AMPS experiment) requir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v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hat Range(f)=Range(g), hence solving the hard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1"/>
          <p:cNvSpPr/>
          <p:nvPr/>
        </p:nvSpPr>
        <p:spPr>
          <a:xfrm>
            <a:off x="3124080" y="15368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MODEL SIT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22860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Arial"/>
              </a:rPr>
              <a:t>My result: Harlow-Hayden decoding is as hard as inverting an arbitrary one-way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"/>
              <p:cNvSpPr txBox="1"/>
              <p:nvPr/>
            </p:nvSpPr>
            <p:spPr>
              <a:xfrm>
                <a:off x="174600" y="1828800"/>
                <a:ext cx="87948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⊕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Rectangle 41"/>
          <p:cNvSpPr/>
          <p:nvPr/>
        </p:nvSpPr>
        <p:spPr>
          <a:xfrm>
            <a:off x="262080" y="3214800"/>
            <a:ext cx="85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 is maximally entangled with the last qubit of R.  But in order to see that B and R are eve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classically correla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one would need to learn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 (a “hardcore bit” of f), and therefore invert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60948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MODEL SITUATION (given a one-way function 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1"/>
          <p:cNvSpPr/>
          <p:nvPr/>
        </p:nvSpPr>
        <p:spPr>
          <a:xfrm>
            <a:off x="244440" y="4572000"/>
            <a:ext cx="85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ith realistic dynamics, the decoding task seems like it should only be “harder” than in this model case (though unclear how to formalize t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2819520" y="5715000"/>
            <a:ext cx="5715000" cy="82548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s the geometry of spacetime protected by an armor of computational complex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aaronson</cp:lastModifiedBy>
  <dcterms:modified xsi:type="dcterms:W3CDTF">2014-09-10T17:37:14Z</dcterms:modified>
  <cp:revision>3127</cp:revision>
  <dc:subject/>
  <dc:title>The Learnability of Quantum States</dc:title>
</cp:coreProperties>
</file>