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CDEA-1659-4A35-A3C2-72A022DCD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3588-8333-4FEA-A977-A3C356686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9ABD-6B6C-40A1-96AE-10DD1A2E9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4DAF-6C6D-40F9-A22B-0A9A1EE7F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5725-3946-439C-B6D7-3D66D5002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1F46-3854-455F-9E52-09ED43465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912-D796-4018-8F52-955DBF92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63A-61A6-4907-834E-724AED69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852-0DE8-4E50-B7D7-FCE78256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4EA-C938-4817-9170-90B4630B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AD9-D4B7-4862-BADD-903CA678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06E-0F43-476E-A5C2-8B524134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C2A-C188-47BD-847C-7B4C33F9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8E1-EF6C-49E0-A2A8-647D2B62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133-9490-4887-9431-76EA30CB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8D7-63AD-4A3E-8989-38132B0B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EC1-E9DA-4441-B8CB-A2614731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FC9-95FE-4C8B-A8D8-9F779773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7435-6339-4FB5-AEB5-52C9B4579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i.telegraph.co.uk/multimedia/archive/01521/black-hole_1521284a.jpg"/>
          <p:cNvPicPr/>
          <p:nvPr/>
        </p:nvPicPr>
        <p:blipFill>
          <a:blip r:embed="rId1"/>
          <a:stretch/>
        </p:blipFill>
        <p:spPr>
          <a:xfrm>
            <a:off x="-1014480" y="-112680"/>
            <a:ext cx="11172960" cy="6994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alibri"/>
              </a:rPr>
              <a:t>The Computational Complexity of Decoding Hawking Radiation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04920" y="55627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22860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  <a:ea typeface="Arial"/>
              </a:rPr>
              <a:t>Hawking 1970s: What happens to quantum information dropped into a black ho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msnbcmedia.msn.com/i/MSNBC/Components/Photo/_new/a_3k_brown_hawking_130501.jpg"/>
          <p:cNvPicPr/>
          <p:nvPr/>
        </p:nvPicPr>
        <p:blipFill>
          <a:blip r:embed="rId1"/>
          <a:stretch/>
        </p:blipFill>
        <p:spPr>
          <a:xfrm>
            <a:off x="304920" y="17524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www.physics.ntua.gr/~lpapa/images/black_hole.jpg"/>
          <p:cNvPicPr/>
          <p:nvPr/>
        </p:nvPicPr>
        <p:blipFill>
          <a:blip r:embed="rId2"/>
          <a:stretch/>
        </p:blipFill>
        <p:spPr>
          <a:xfrm>
            <a:off x="2746440" y="1752480"/>
            <a:ext cx="6229440" cy="4469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228600" y="4648320"/>
            <a:ext cx="8747280" cy="192276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ays in black hole fore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Violates unitarity of Q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mes out in Hawking rad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if there’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a copy inside the black hole, violates the No-Cloning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Complementa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(modern view): Inside is just a “re-encoding” of exterior, so no cloning is needed to have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in both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581280" y="19810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|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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8027E-006 L 0.15834 0.25908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228600"/>
            <a:ext cx="9144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Calibri"/>
                <a:ea typeface="Arial"/>
              </a:rPr>
              <a:t>The Firewall Paradox (Almheiri et al. 2012): </a:t>
            </a: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Arial"/>
              </a:rPr>
              <a:t>Refinement of Hawking’s information paradox that challenges complement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physics.ntua.gr/~lpapa/images/black_hole.jpg"/>
          <p:cNvPicPr/>
          <p:nvPr/>
        </p:nvPicPr>
        <p:blipFill>
          <a:blip r:embed="rId1"/>
          <a:stretch/>
        </p:blipFill>
        <p:spPr>
          <a:xfrm>
            <a:off x="5029200" y="1862280"/>
            <a:ext cx="3814920" cy="273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ej.iop.org/images/1367-2630/14/10/103017/Full/nj432858f1_online.jpg"/>
          <p:cNvPicPr/>
          <p:nvPr/>
        </p:nvPicPr>
        <p:blipFill>
          <a:blip r:embed="rId2"/>
          <a:stretch/>
        </p:blipFill>
        <p:spPr>
          <a:xfrm>
            <a:off x="941400" y="5227560"/>
            <a:ext cx="4876920" cy="1478160"/>
          </a:xfrm>
          <a:prstGeom prst="rect">
            <a:avLst/>
          </a:prstGeom>
          <a:ln w="0">
            <a:noFill/>
          </a:ln>
        </p:spPr>
      </p:pic>
      <p:sp>
        <p:nvSpPr>
          <p:cNvPr id="59" name="Freeform 16"/>
          <p:cNvSpPr/>
          <p:nvPr/>
        </p:nvSpPr>
        <p:spPr>
          <a:xfrm rot="2670600">
            <a:off x="5395680" y="4178160"/>
            <a:ext cx="214200" cy="1040040"/>
          </a:xfrm>
          <a:custGeom>
            <a:avLst/>
            <a:gdLst>
              <a:gd name="textAreaLeft" fmla="*/ 0 w 214200"/>
              <a:gd name="textAreaRight" fmla="*/ 214560 w 21420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6"/>
          <p:cNvSpPr/>
          <p:nvPr/>
        </p:nvSpPr>
        <p:spPr>
          <a:xfrm rot="2670600">
            <a:off x="5990760" y="4265640"/>
            <a:ext cx="216000" cy="1041480"/>
          </a:xfrm>
          <a:custGeom>
            <a:avLst/>
            <a:gdLst>
              <a:gd name="textAreaLeft" fmla="*/ 0 w 216000"/>
              <a:gd name="textAreaRight" fmla="*/ 216360 w 21600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6"/>
          <p:cNvSpPr/>
          <p:nvPr/>
        </p:nvSpPr>
        <p:spPr>
          <a:xfrm rot="2670600">
            <a:off x="5060520" y="3639960"/>
            <a:ext cx="216000" cy="1041480"/>
          </a:xfrm>
          <a:custGeom>
            <a:avLst/>
            <a:gdLst>
              <a:gd name="textAreaLeft" fmla="*/ 0 w 216000"/>
              <a:gd name="textAreaRight" fmla="*/ 216360 w 21600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alice"/>
          <p:cNvPicPr/>
          <p:nvPr/>
        </p:nvPicPr>
        <p:blipFill>
          <a:blip r:embed="rId3"/>
          <a:stretch/>
        </p:blipFill>
        <p:spPr>
          <a:xfrm>
            <a:off x="7238880" y="5410080"/>
            <a:ext cx="1076400" cy="124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C:\Users\owner\AppData\Local\Microsoft\Windows\Temporary Internet Files\Content.IE5\V550YIX2\MP900438774[1].jpg"/>
          <p:cNvPicPr/>
          <p:nvPr/>
        </p:nvPicPr>
        <p:blipFill>
          <a:blip r:embed="rId4"/>
          <a:stretch/>
        </p:blipFill>
        <p:spPr>
          <a:xfrm>
            <a:off x="6566040" y="2362320"/>
            <a:ext cx="1277640" cy="1917720"/>
          </a:xfrm>
          <a:prstGeom prst="rect">
            <a:avLst/>
          </a:prstGeom>
          <a:ln w="0">
            <a:noFill/>
          </a:ln>
        </p:spPr>
      </p:pic>
      <p:sp>
        <p:nvSpPr>
          <p:cNvPr id="64" name="Right Arrow 2"/>
          <p:cNvSpPr/>
          <p:nvPr/>
        </p:nvSpPr>
        <p:spPr>
          <a:xfrm>
            <a:off x="5986440" y="5227560"/>
            <a:ext cx="1076400" cy="99072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10960" y="1836720"/>
            <a:ext cx="477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f the black hole interior is “built” out of the same qubits coming out as Hawking radiation, then why can’t w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o someth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o those Hawking qubits, then dive into the black hole, and see that we’ve completely destroyed the spacetime geometry in the inter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838080" y="5618160"/>
            <a:ext cx="3733920" cy="82548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anglement among Hawking photons detec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20472E-007 L -0.10052 -0.25746 E">
                                      <p:cBhvr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76040" y="1522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Harlow-Hayden 2013: To create the firewall, you’d need to process the Hawking radiation in a way that probably requir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ponential computation 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"/>
              <p:cNvSpPr txBox="1"/>
              <p:nvPr/>
            </p:nvSpPr>
            <p:spPr>
              <a:xfrm>
                <a:off x="285840" y="1957320"/>
                <a:ext cx="85438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Rectangle 41"/>
          <p:cNvSpPr/>
          <p:nvPr/>
        </p:nvSpPr>
        <p:spPr>
          <a:xfrm>
            <a:off x="262080" y="3048120"/>
            <a:ext cx="8589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: “Old” Hawking ph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: Hawking photon just now com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: Degrees of freedom still inside black 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,g: Two functions such that it’s hard to tell whether their ranges are equal or disjoint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[A. 2002: quantum lower bound for this proble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Ide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If Range(f)=Range(g), then R and B are entangled, but acting on R to reveal the entanglement (as in AMPS experiment) requir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v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hat Range(f)=Range(g), hence solving the hard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1"/>
          <p:cNvSpPr/>
          <p:nvPr/>
        </p:nvSpPr>
        <p:spPr>
          <a:xfrm>
            <a:off x="3124080" y="15368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MODEL SIT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22860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Arial"/>
              </a:rPr>
              <a:t>My result: Harlow-Hayden decoding is as hard as inverting an arbitrary one-way 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"/>
              <p:cNvSpPr txBox="1"/>
              <p:nvPr/>
            </p:nvSpPr>
            <p:spPr>
              <a:xfrm>
                <a:off x="174600" y="1828800"/>
                <a:ext cx="87948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⊕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Rectangle 41"/>
          <p:cNvSpPr/>
          <p:nvPr/>
        </p:nvSpPr>
        <p:spPr>
          <a:xfrm>
            <a:off x="262080" y="3214800"/>
            <a:ext cx="85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 is maximally entangled with the last qubit of R.  But in order to see that B and R are eve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classically correla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one would need to learn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 (a “hardcore bit” of f), and therefore invert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60948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MODEL SITUATION (given a one-way function 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1"/>
          <p:cNvSpPr/>
          <p:nvPr/>
        </p:nvSpPr>
        <p:spPr>
          <a:xfrm>
            <a:off x="244440" y="4572000"/>
            <a:ext cx="85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ith realistic dynamics, the decoding task seems like it should only be “harder” than in this model case (though unclear how to formalize th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2819520" y="5715000"/>
            <a:ext cx="5715000" cy="82548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s the geometry of spacetime protected by an armor of computational complex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aaronson</cp:lastModifiedBy>
  <dcterms:modified xsi:type="dcterms:W3CDTF">2014-09-10T17:37:14Z</dcterms:modified>
  <cp:revision>3127</cp:revision>
  <dc:subject/>
  <dc:title>The Learnability of Quantum States</dc:title>
</cp:coreProperties>
</file>