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CC77-94FB-45B3-B91E-A707DD492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129F-FA6D-4726-A258-0D8FB529607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9E60-C64F-46E5-940C-7CF4133B94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B1FC-816E-4AD5-A092-AEA140006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7FA-CC51-40CD-B639-DD9B04AE3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8DC-B73A-4FE0-9368-5E2E4B486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ACF-EB46-4A23-9EF8-BA1B9EB17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318-086D-420B-AA92-FA645AFED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9531-9756-4AA0-ABBA-5DBB9BE5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F51-7ED9-438C-B0C7-EF99CFCE5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D8A-4A49-4CBB-AA8F-3D9014792C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1E9-1447-4BD2-8D90-FD3F170D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720-B2DB-44D0-8C9F-D640EA275A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501-DAA8-40D4-91EA-D1DC32B8C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D274-109E-4955-873B-339585D702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6508-FA52-4021-AC4F-7252AF9665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52D-1508-4AFC-A0A4-A888A3F3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94E-6CF1-4C0E-948F-ED7ACE8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8FC-E550-4F68-B98A-75CB7CC1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AF8-EB7B-4E29-96A4-C3E5C707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B79-418E-4F94-8513-93B77F9F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7267-258A-4F39-8581-C3185CB6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EC1-4E1B-48FC-A4B3-04BDBE43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8B8-2950-4CEA-AF84-73F37FE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259-A450-4468-89C7-9F5CD453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966B-CA73-49E9-B3E8-56557EC7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A7B-AA57-4DAA-ABA7-2E60A3FB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BBA-6459-4D76-90E5-2307CE30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8AC6-2641-4F7A-9582-C06D9C2F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901-AFBE-498F-ACE9-EF84CEB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7D0F-6B6F-4011-B7A0-7C561DD8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7EDF-87E0-46A6-9146-551B1F67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B96-471A-4EE1-BDF8-EE3BAB0F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F92A-0732-4A6F-9019-627CFC20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E03B-A4ED-4621-89F2-D0D8521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B5BA-68BC-4152-800D-CA3BCF1F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8BFC-ADBE-4EE5-B666-5B046882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F9D2-7B32-496B-BF1B-4D2BE6BA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5C4-BF4E-4C6A-9E4F-4758C461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F9BD-0D4E-4D53-B9EB-14C8F233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C463-7D72-4987-8A19-1808553B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B99E-8A58-4135-983B-035E5C1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9FCA-01E5-4049-8EC9-BDC28E6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6F6A-2FD6-4E19-A8DF-27DAC6A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4D8F-20AA-4415-8E86-F4BD054B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E963-F03B-4FDA-9F68-63EDE5C0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0D1-0CAB-4253-876E-5000EC26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EC3-2490-41A0-ABE0-1A5373D5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D88-4633-42BD-B2C4-EAEFB993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8D4-003C-4544-83E1-285823F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66A-BD4E-459C-9089-335EBC5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B15B-3F62-492F-915B-EFDAEA55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10FF-EA86-4AA7-A1E7-08ABA2A1B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7E4-4D8A-4EE2-B1C6-62EEE972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7B49-E029-4D22-B3C9-422A9C93C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Firewalls, AdS/CFT, and Computational Complexity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01120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ornell Physics Dept., December 1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Notes at www.scottaaronson.com/barbados-2016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11140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05740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8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injective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Rectangle 41"/>
          <p:cNvSpPr/>
          <p:nvPr/>
        </p:nvSpPr>
        <p:spPr>
          <a:xfrm>
            <a:off x="295200" y="3124080"/>
            <a:ext cx="858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the last qubit of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183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112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Summary and Open Probl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228600" y="846000"/>
            <a:ext cx="868680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coding Hawking radiation, as in the AMPS firewall thought experiment, indeed seems to require solving an exponentially hard computatio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Wide open: what computational assumption (e.g.,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) is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sufficient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 for decoding Hawking radiation to be easy?  Closely related to my and Greg Kuperberg’s “Unitary Synthesis Problem”: for every n-qubit unitary U, is there a black-box function f relative to which applying U is eas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 seems like a pretty good CFT “proxy” for wormhole volume, in the context of AdS/C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But could circuit complexity actually play such a fundamental role in physics, or is it just a stand-in for something deeper?  E.g., could global optimality really be relevant, or just local optim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5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6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aveats of Complexity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ubtitle 4"/>
          <p:cNvSpPr/>
          <p:nvPr/>
        </p:nvSpPr>
        <p:spPr>
          <a:xfrm>
            <a:off x="480960" y="1295280"/>
            <a:ext cx="7977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Asympt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.g., 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chess takes O(1) time!  Only for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 chess can we give evidence of hardness.  But for black holes,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(Usually) Conjec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ight now, we can’t even prov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≠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!  To get where we want, we almost always need to make assumptions.  Question i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assum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1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can argue that a natural formalization of Alice’s decoding task is “generically” hard.  We can’t rule out that a future quantum gravity theory would make her task easy, for deep reasons not captured by our form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ej.iop.org/images/1367-2630/14/10/103017/Full/nj432858f1_online.jpg"/>
          <p:cNvPicPr/>
          <p:nvPr/>
        </p:nvPicPr>
        <p:blipFill>
          <a:blip r:embed="rId1"/>
          <a:stretch/>
        </p:blipFill>
        <p:spPr>
          <a:xfrm>
            <a:off x="533520" y="1447920"/>
            <a:ext cx="804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“black-box” setting, this problem takes exp(n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 main result from my 2004 PhD thesis, the “collision lower bound”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7-12-01T16:00:29Z</dcterms:modified>
  <cp:revision>442</cp:revision>
  <dc:subject/>
  <dc:title>The Future of Computer Science</dc:title>
</cp:coreProperties>
</file>