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09DC-AB01-46E7-A1AE-D4F5B6DB2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68BD-D2D9-4AD1-BC46-AD058D5860D3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E1C1-487A-4957-A794-EE023627F0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8456-FB1D-473C-9C7A-19CE35ED2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9955-3C64-45A4-84B5-FC51CA281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48FD-600C-4A23-8589-A46F319CF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1A75-C52D-41FD-8C32-D2431C317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CB46-0E33-494B-ABFC-015CE6337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3DFF-1CEB-4998-839A-1B6C950BD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6CB9-343E-4AD6-A26A-50419CA5A3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ECFC-7516-4AC8-9C11-D31D10D528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CDB0-1977-43EB-B9E0-8AE9A0F1D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2063-C32D-433C-A690-15C518021C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038F-DB0D-4F93-AE33-8D0AD2F4DB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80A3-69EB-4EE1-9FF3-572EFD779D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39D6-DAA1-4CEC-A2ED-A419AAF997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E47-24E0-49BA-95F4-90D9C06D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1B04-32B9-41CC-907F-52B5A583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5333-04AA-45C0-A796-97EE8BC5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E2BF-4148-4669-9707-E2F575CE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46E1-65F5-48CE-AC42-332BFA1C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6A5A-C5E9-4E8B-9648-04DD90CD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160C-1712-4B6D-A38A-B04B166A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8E0F-A6D2-4B4C-A723-C79BADEC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C06E-93BA-4F97-A1AE-D5328100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F5BD-4EA9-4700-B5D3-F3715D4C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1521-39AD-4DF7-82C6-D2AFDBDA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C1FD-D473-41FD-844E-DF79C78B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90A4-132C-46EA-94E3-524E37DD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4CF3-EBF9-4A45-B918-7CC2A639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E925-2E8F-46F1-9FDB-D8A0D024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3276-C20D-462A-BA57-92B03182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3706-BBD4-4189-949A-9DBD3307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931C4-DBFE-42D1-A638-8665B49F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18CDF-7C03-4446-A14C-B9EECAE9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BC848-A7FF-4104-91AD-2148168E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CACCD-7EFA-4960-91CE-1397297D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22B5F-0EB4-4D08-866D-D4915D09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593-6223-4974-A56E-5C98D714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CB5CF-1C32-4893-816C-F837516F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F2091-8447-4FE6-B9C2-B33EAA7B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7317A-2156-4B19-A876-94B7561A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53FA6-FB0E-4CFC-B433-FB686955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CC520-6C5B-4D09-A9E2-DCBCD770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760CA-CA96-447C-8E72-11EA6BE7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973E2-55CF-4B60-B762-B2185D29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754-8533-40F1-BF17-C93B6235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146-D6C1-4CF2-B14E-05FC9D62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D0D6-D0C6-4CA2-97EE-FBA1CAE8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36FE-6F7C-4406-9649-BA95C733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A1B-6289-4CCC-9B60-4E29D006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6C46-19FF-4CC2-861F-2DE57100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E665-F5A5-4D76-B0F5-F576CFBAC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A113-70CC-49F6-AB77-F5DEF6F47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7041-468C-4582-BE2D-7333DD4E9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40" y="22824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Calibri"/>
                <a:ea typeface="Calibri"/>
              </a:rPr>
              <a:t>Firewalls, AdS/CFT, and Computational Complexity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2280" y="5011200"/>
            <a:ext cx="8839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U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Cornell Physics Dept., December 1,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  <a:ea typeface="Calibri"/>
              </a:rPr>
              <a:t>Notes at www.scottaaronson.com/barbados-2016.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12720" y="2111400"/>
            <a:ext cx="3657600" cy="2689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http://www.physics.ntua.gr/~lpapa/images/black_hole.jpg"/>
          <p:cNvPicPr/>
          <p:nvPr/>
        </p:nvPicPr>
        <p:blipFill>
          <a:blip r:embed="rId2"/>
          <a:stretch/>
        </p:blipFill>
        <p:spPr>
          <a:xfrm>
            <a:off x="4876920" y="2057400"/>
            <a:ext cx="3822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1"/>
          <p:cNvSpPr/>
          <p:nvPr/>
        </p:nvSpPr>
        <p:spPr>
          <a:xfrm>
            <a:off x="325440" y="2514600"/>
            <a:ext cx="85899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Intui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Range(f) and Range(g) are disjoint, then the H register decoheres all entanglement between R and B, leaving only classical 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, on the other hand, Range(f)=Range(g), then there’s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ermutation of the |x,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ates that puts the last qubit of R into an EPR pair with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us, if we had a reliable way to distill EPR pairs whenever possible, then we could also decide Set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3012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"/>
              <p:cNvSpPr txBox="1"/>
              <p:nvPr/>
            </p:nvSpPr>
            <p:spPr>
              <a:xfrm>
                <a:off x="325440" y="1030320"/>
                <a:ext cx="85438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8" name="Subtitle 4"/>
          <p:cNvSpPr/>
          <p:nvPr/>
        </p:nvSpPr>
        <p:spPr>
          <a:xfrm>
            <a:off x="2720880" y="1905120"/>
            <a:ext cx="617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(easy to prepare in poly(n) time given f,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22860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alibri"/>
                <a:ea typeface="Arial"/>
              </a:rPr>
              <a:t>My strengthening: Harlow-Hayden decoding is as hard as inverting an injective one-way fun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"/>
              <p:cNvSpPr txBox="1"/>
              <p:nvPr/>
            </p:nvSpPr>
            <p:spPr>
              <a:xfrm>
                <a:off x="174600" y="1366920"/>
                <a:ext cx="87948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⊕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Rectangle 41"/>
          <p:cNvSpPr/>
          <p:nvPr/>
        </p:nvSpPr>
        <p:spPr>
          <a:xfrm>
            <a:off x="295200" y="3124080"/>
            <a:ext cx="8589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 is maximally entangled with the last qubit of R.  But in order to see that B and R are eve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lassically correla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one would need to learn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(a “hardcore bit” of f), and therefore invert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2590920" y="5105520"/>
            <a:ext cx="5867280" cy="1373760"/>
          </a:xfrm>
          <a:prstGeom prst="rect">
            <a:avLst/>
          </a:prstGeom>
          <a:solidFill>
            <a:srgbClr val="f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 computational intractability the only “armor” protecting the geometry of spacetime inside the black h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1"/>
          <p:cNvSpPr/>
          <p:nvPr/>
        </p:nvSpPr>
        <p:spPr>
          <a:xfrm>
            <a:off x="316080" y="2631960"/>
            <a:ext cx="8589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R: “old” Hawking photons / B: photons just coming out / H: still in black ho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0" y="7632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Quantum Circuit Complexity and Wormholes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Arial"/>
              </a:rPr>
              <a:t>[A.-Susskind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1"/>
          <p:cNvSpPr/>
          <p:nvPr/>
        </p:nvSpPr>
        <p:spPr>
          <a:xfrm>
            <a:off x="285840" y="1162080"/>
            <a:ext cx="603864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dS/CFT corresponden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relates anti-deSitter quantum gravity in D spacetime dimensions to conformal field theories (without gravity) in D-1 dim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the mapping is extremely nonlocal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http://www.askamathematician.com/wp-content/uploads/2011/12/wormhole.jpg"/>
          <p:cNvPicPr/>
          <p:nvPr/>
        </p:nvPicPr>
        <p:blipFill>
          <a:blip r:embed="rId1"/>
          <a:stretch/>
        </p:blipFill>
        <p:spPr>
          <a:xfrm>
            <a:off x="6553080" y="1293840"/>
            <a:ext cx="2162160" cy="18590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1"/>
          <p:cNvSpPr/>
          <p:nvPr/>
        </p:nvSpPr>
        <p:spPr>
          <a:xfrm>
            <a:off x="255600" y="3581280"/>
            <a:ext cx="8277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t was found that an expanding wormhole, on the AdS side, maps to a collection of qubits on the CFT side that just seems to get more and more “complex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"/>
              <p:cNvSpPr txBox="1"/>
              <p:nvPr/>
            </p:nvSpPr>
            <p:spPr>
              <a:xfrm>
                <a:off x="1687680" y="4873680"/>
                <a:ext cx="5413320" cy="15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⊗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  <m:r>
                                  <m:t xml:space="preserve">⟩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⟩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1"/>
          <p:cNvSpPr/>
          <p:nvPr/>
        </p:nvSpPr>
        <p:spPr>
          <a:xfrm>
            <a:off x="393840" y="5791320"/>
            <a:ext cx="8288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do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actually increase like this, for natural scrambling dynamics U?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423720" y="1531800"/>
            <a:ext cx="857412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usskind’s Proposal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h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ntum circuit complex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—that is, the number of gates in the smallest circuit that prepar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rom |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200" spc="-1" strike="noStrike">
                <a:solidFill>
                  <a:srgbClr val="ff00ff"/>
                </a:solidFill>
                <a:latin typeface="Calibri"/>
                <a:ea typeface="Arial"/>
              </a:rPr>
              <a:t>(Not clear if it’s right, but has survived some nontrivial tes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423720" y="468360"/>
            <a:ext cx="8305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hat function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an we point to on the CFT side, that’s “dual” to wormhole length on the AdS sid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8"/>
          <p:cNvGrpSpPr/>
          <p:nvPr/>
        </p:nvGrpSpPr>
        <p:grpSpPr>
          <a:xfrm>
            <a:off x="1447920" y="3449520"/>
            <a:ext cx="5586120" cy="2309040"/>
            <a:chOff x="1447920" y="3449520"/>
            <a:chExt cx="5586120" cy="2309040"/>
          </a:xfrm>
        </p:grpSpPr>
        <p:sp>
          <p:nvSpPr>
            <p:cNvPr id="183" name="Straight Connector 2"/>
            <p:cNvSpPr/>
            <p:nvPr/>
          </p:nvSpPr>
          <p:spPr>
            <a:xfrm>
              <a:off x="2575800" y="366840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12"/>
            <p:cNvSpPr/>
            <p:nvPr/>
          </p:nvSpPr>
          <p:spPr>
            <a:xfrm flipH="1">
              <a:off x="2575440" y="5268600"/>
              <a:ext cx="441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41"/>
            <p:cNvSpPr/>
            <p:nvPr/>
          </p:nvSpPr>
          <p:spPr>
            <a:xfrm>
              <a:off x="3261600" y="526860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ime 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1447920" y="4125600"/>
              <a:ext cx="1226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(|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traight Connector 17"/>
            <p:cNvSpPr/>
            <p:nvPr/>
          </p:nvSpPr>
          <p:spPr>
            <a:xfrm flipH="1">
              <a:off x="2575800" y="3806640"/>
              <a:ext cx="2437920" cy="146196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41"/>
            <p:cNvSpPr/>
            <p:nvPr/>
          </p:nvSpPr>
          <p:spPr>
            <a:xfrm>
              <a:off x="4723200" y="526860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41"/>
            <p:cNvSpPr/>
            <p:nvPr/>
          </p:nvSpPr>
          <p:spPr>
            <a:xfrm>
              <a:off x="2423520" y="526860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41"/>
            <p:cNvSpPr/>
            <p:nvPr/>
          </p:nvSpPr>
          <p:spPr>
            <a:xfrm>
              <a:off x="2166120" y="492516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1"/>
            <p:cNvSpPr/>
            <p:nvPr/>
          </p:nvSpPr>
          <p:spPr>
            <a:xfrm>
              <a:off x="2061000" y="344952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3"/>
            <p:cNvSpPr/>
            <p:nvPr/>
          </p:nvSpPr>
          <p:spPr>
            <a:xfrm>
              <a:off x="4984200" y="3695760"/>
              <a:ext cx="2049840" cy="271080"/>
            </a:xfrm>
            <a:custGeom>
              <a:avLst/>
              <a:gdLst/>
              <a:ahLst/>
              <a:rect l="l" t="t" r="r" b="b"/>
              <a:pathLst>
                <a:path w="2049864" h="271306">
                  <a:moveTo>
                    <a:pt x="0" y="110532"/>
                  </a:moveTo>
                  <a:cubicBezTo>
                    <a:pt x="36844" y="107183"/>
                    <a:pt x="73861" y="105373"/>
                    <a:pt x="110532" y="100484"/>
                  </a:cubicBezTo>
                  <a:cubicBezTo>
                    <a:pt x="124221" y="98659"/>
                    <a:pt x="136984" y="89062"/>
                    <a:pt x="150725" y="90436"/>
                  </a:cubicBezTo>
                  <a:cubicBezTo>
                    <a:pt x="171804" y="92544"/>
                    <a:pt x="190918" y="103833"/>
                    <a:pt x="211015" y="110532"/>
                  </a:cubicBezTo>
                  <a:cubicBezTo>
                    <a:pt x="212153" y="113945"/>
                    <a:pt x="229703" y="175405"/>
                    <a:pt x="241160" y="170822"/>
                  </a:cubicBezTo>
                  <a:cubicBezTo>
                    <a:pt x="259293" y="163569"/>
                    <a:pt x="262571" y="138049"/>
                    <a:pt x="271305" y="120581"/>
                  </a:cubicBezTo>
                  <a:cubicBezTo>
                    <a:pt x="320469" y="22254"/>
                    <a:pt x="264938" y="110034"/>
                    <a:pt x="311499" y="40194"/>
                  </a:cubicBezTo>
                  <a:cubicBezTo>
                    <a:pt x="338295" y="60291"/>
                    <a:pt x="368202" y="76800"/>
                    <a:pt x="391886" y="100484"/>
                  </a:cubicBezTo>
                  <a:lnTo>
                    <a:pt x="452176" y="160774"/>
                  </a:lnTo>
                  <a:cubicBezTo>
                    <a:pt x="462224" y="170822"/>
                    <a:pt x="470953" y="182393"/>
                    <a:pt x="482321" y="190919"/>
                  </a:cubicBezTo>
                  <a:cubicBezTo>
                    <a:pt x="495719" y="200967"/>
                    <a:pt x="509799" y="210165"/>
                    <a:pt x="522514" y="221064"/>
                  </a:cubicBezTo>
                  <a:cubicBezTo>
                    <a:pt x="590212" y="279091"/>
                    <a:pt x="516178" y="226888"/>
                    <a:pt x="582804" y="271306"/>
                  </a:cubicBezTo>
                  <a:cubicBezTo>
                    <a:pt x="586154" y="251209"/>
                    <a:pt x="579224" y="226160"/>
                    <a:pt x="592853" y="211016"/>
                  </a:cubicBezTo>
                  <a:cubicBezTo>
                    <a:pt x="699634" y="92371"/>
                    <a:pt x="644451" y="241980"/>
                    <a:pt x="733530" y="130629"/>
                  </a:cubicBezTo>
                  <a:cubicBezTo>
                    <a:pt x="822793" y="19048"/>
                    <a:pt x="783585" y="60476"/>
                    <a:pt x="844061" y="0"/>
                  </a:cubicBezTo>
                  <a:cubicBezTo>
                    <a:pt x="857459" y="16747"/>
                    <a:pt x="873839" y="31494"/>
                    <a:pt x="884255" y="50242"/>
                  </a:cubicBezTo>
                  <a:cubicBezTo>
                    <a:pt x="890962" y="62314"/>
                    <a:pt x="888863" y="77742"/>
                    <a:pt x="894303" y="90436"/>
                  </a:cubicBezTo>
                  <a:cubicBezTo>
                    <a:pt x="901717" y="107736"/>
                    <a:pt x="930060" y="141069"/>
                    <a:pt x="944545" y="150726"/>
                  </a:cubicBezTo>
                  <a:cubicBezTo>
                    <a:pt x="953358" y="156601"/>
                    <a:pt x="964642" y="157425"/>
                    <a:pt x="974690" y="160774"/>
                  </a:cubicBezTo>
                  <a:cubicBezTo>
                    <a:pt x="1014463" y="187290"/>
                    <a:pt x="1014749" y="198540"/>
                    <a:pt x="1075174" y="160774"/>
                  </a:cubicBezTo>
                  <a:cubicBezTo>
                    <a:pt x="1084156" y="155160"/>
                    <a:pt x="1079967" y="139825"/>
                    <a:pt x="1085222" y="130629"/>
                  </a:cubicBezTo>
                  <a:cubicBezTo>
                    <a:pt x="1093531" y="116088"/>
                    <a:pt x="1105633" y="104064"/>
                    <a:pt x="1115367" y="90436"/>
                  </a:cubicBezTo>
                  <a:cubicBezTo>
                    <a:pt x="1122387" y="80609"/>
                    <a:pt x="1126924" y="68830"/>
                    <a:pt x="1135464" y="60290"/>
                  </a:cubicBezTo>
                  <a:cubicBezTo>
                    <a:pt x="1144003" y="51751"/>
                    <a:pt x="1155561" y="46893"/>
                    <a:pt x="1165609" y="40194"/>
                  </a:cubicBezTo>
                  <a:cubicBezTo>
                    <a:pt x="1185706" y="43543"/>
                    <a:pt x="1207281" y="41967"/>
                    <a:pt x="1225899" y="50242"/>
                  </a:cubicBezTo>
                  <a:cubicBezTo>
                    <a:pt x="1277693" y="73261"/>
                    <a:pt x="1241049" y="83016"/>
                    <a:pt x="1266092" y="120581"/>
                  </a:cubicBezTo>
                  <a:cubicBezTo>
                    <a:pt x="1272791" y="130629"/>
                    <a:pt x="1286189" y="133978"/>
                    <a:pt x="1296237" y="140677"/>
                  </a:cubicBezTo>
                  <a:cubicBezTo>
                    <a:pt x="1299587" y="150725"/>
                    <a:pt x="1295776" y="169508"/>
                    <a:pt x="1306286" y="170822"/>
                  </a:cubicBezTo>
                  <a:cubicBezTo>
                    <a:pt x="1314657" y="171868"/>
                    <a:pt x="1384832" y="147990"/>
                    <a:pt x="1406769" y="140677"/>
                  </a:cubicBezTo>
                  <a:cubicBezTo>
                    <a:pt x="1420167" y="130629"/>
                    <a:pt x="1431984" y="118022"/>
                    <a:pt x="1446963" y="110532"/>
                  </a:cubicBezTo>
                  <a:cubicBezTo>
                    <a:pt x="1465910" y="101059"/>
                    <a:pt x="1487156" y="97135"/>
                    <a:pt x="1507253" y="90436"/>
                  </a:cubicBezTo>
                  <a:lnTo>
                    <a:pt x="1567543" y="70339"/>
                  </a:lnTo>
                  <a:cubicBezTo>
                    <a:pt x="1577591" y="66989"/>
                    <a:pt x="1587412" y="62859"/>
                    <a:pt x="1597688" y="60290"/>
                  </a:cubicBezTo>
                  <a:lnTo>
                    <a:pt x="1637881" y="50242"/>
                  </a:lnTo>
                  <a:cubicBezTo>
                    <a:pt x="1671844" y="58732"/>
                    <a:pt x="1688908" y="55674"/>
                    <a:pt x="1708220" y="90436"/>
                  </a:cubicBezTo>
                  <a:cubicBezTo>
                    <a:pt x="1718508" y="108954"/>
                    <a:pt x="1721617" y="130629"/>
                    <a:pt x="1728316" y="150726"/>
                  </a:cubicBezTo>
                  <a:cubicBezTo>
                    <a:pt x="1731665" y="160774"/>
                    <a:pt x="1729552" y="174996"/>
                    <a:pt x="1738365" y="180871"/>
                  </a:cubicBezTo>
                  <a:lnTo>
                    <a:pt x="1768510" y="200967"/>
                  </a:lnTo>
                  <a:cubicBezTo>
                    <a:pt x="1788607" y="187569"/>
                    <a:pt x="1805886" y="168412"/>
                    <a:pt x="1828800" y="160774"/>
                  </a:cubicBezTo>
                  <a:cubicBezTo>
                    <a:pt x="1838848" y="157425"/>
                    <a:pt x="1849210" y="154898"/>
                    <a:pt x="1858945" y="150726"/>
                  </a:cubicBezTo>
                  <a:cubicBezTo>
                    <a:pt x="1872713" y="144825"/>
                    <a:pt x="1885113" y="135889"/>
                    <a:pt x="1899138" y="130629"/>
                  </a:cubicBezTo>
                  <a:cubicBezTo>
                    <a:pt x="1912069" y="125780"/>
                    <a:pt x="1925934" y="123930"/>
                    <a:pt x="1939332" y="120581"/>
                  </a:cubicBezTo>
                  <a:cubicBezTo>
                    <a:pt x="1959429" y="127280"/>
                    <a:pt x="1979071" y="135539"/>
                    <a:pt x="1999622" y="140677"/>
                  </a:cubicBezTo>
                  <a:cubicBezTo>
                    <a:pt x="2013020" y="144027"/>
                    <a:pt x="2027973" y="143621"/>
                    <a:pt x="2039815" y="150726"/>
                  </a:cubicBezTo>
                  <a:cubicBezTo>
                    <a:pt x="2046237" y="154579"/>
                    <a:pt x="2046514" y="164123"/>
                    <a:pt x="2049864" y="170822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1"/>
          <p:cNvSpPr/>
          <p:nvPr/>
        </p:nvSpPr>
        <p:spPr>
          <a:xfrm>
            <a:off x="330120" y="304920"/>
            <a:ext cx="828684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Suppose U implements (say) a computationally-universal, reversible cellular automaton.  Then after t=exp(n) iterations, 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is superpolynomial in n, unless something very unlikely happens with complexity classes (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P/po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343080" y="2577960"/>
            <a:ext cx="8288280" cy="19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oof Sketch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 proved in 2004 tha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uppos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=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1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.  Then we could give a description of C as advice to a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machine, and the machine could efficiently prep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"/>
              <p:cNvSpPr txBox="1"/>
              <p:nvPr/>
            </p:nvSpPr>
            <p:spPr>
              <a:xfrm>
                <a:off x="3200400" y="4038480"/>
                <a:ext cx="5097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  <m:r>
                      <m:t xml:space="preserve">⊗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41"/>
          <p:cNvSpPr/>
          <p:nvPr/>
        </p:nvSpPr>
        <p:spPr>
          <a:xfrm>
            <a:off x="343080" y="5410080"/>
            <a:ext cx="8496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machine could then measure the first register, postselect on some 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of interest, then measure the second register to learn U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—thereby solving a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1219320" y="3733920"/>
            <a:ext cx="6172200" cy="20678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lso have results for approximate circuit complexity, C(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xp(n), and mo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ote that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som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complexity assumption must be made to lower-bound C(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0" y="11124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Summary and Open Probl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1"/>
          <p:cNvSpPr/>
          <p:nvPr/>
        </p:nvSpPr>
        <p:spPr>
          <a:xfrm>
            <a:off x="228600" y="846000"/>
            <a:ext cx="8686800" cy="57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ecoding Hawking radiation, as in the AMPS firewall thought experiment, indeed seems to require solving an exponentially hard computational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Wide open: what computational assumption (e.g.,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Arial"/>
              </a:rPr>
              <a:t>P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=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Arial"/>
              </a:rPr>
              <a:t>PSPACE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) is </a:t>
            </a:r>
            <a:r>
              <a:rPr b="0" i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sufficient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 for decoding Hawking radiation to be easy?  Closely related to my and Greg Kuperberg’s “Unitary Synthesis Problem”: for every n-qubit unitary U, is there a black-box function f relative to which applying U is eas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circuit complexity seems like a pretty good CFT “proxy” for wormhole volume, in the context of AdS/C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But could circuit complexity actually play such a fundamental role in physics, or is it just a stand-in for something deeper?  E.g., could global optimality really be relevant, or just local optim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ubtitle 4"/>
          <p:cNvSpPr/>
          <p:nvPr/>
        </p:nvSpPr>
        <p:spPr>
          <a:xfrm>
            <a:off x="328680" y="304920"/>
            <a:ext cx="8510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ekenstein, Hawking 1970s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lack holes have entropy and temperature!  They emit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Information Loss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Calculations suggest that Hawking radiation is thermal—uncorrelated with whatever fell in.  So, is infalling information lost forever?  Would seem to violate the unitarity / reversibility of Q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OK then, assume the information somehow gets 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Xeroxing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How could the same qubi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fall inexorably toward the singularity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emerge in Hawking radiation?  Would violate the No-Cloning Theo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lack Hole Complementarity (Susskind, ‘t Hooft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n external observer can describe everything unitarily without including the interior at all!  Interior should be seen as “just a scrambled re-encoding” of the exterior degrees of free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www.spacetelescope.org/static/archives/images/screen/heic0211h.jpg"/>
          <p:cNvPicPr/>
          <p:nvPr/>
        </p:nvPicPr>
        <p:blipFill>
          <a:blip r:embed="rId1"/>
          <a:stretch/>
        </p:blipFill>
        <p:spPr>
          <a:xfrm>
            <a:off x="0" y="-461880"/>
            <a:ext cx="9144000" cy="73198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1"/>
          <p:cNvSpPr/>
          <p:nvPr/>
        </p:nvSpPr>
        <p:spPr>
          <a:xfrm>
            <a:off x="380880" y="5562720"/>
            <a:ext cx="8305920" cy="100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Violates monogamy of entanglement!  The same qubit can’t be maximally entangled with 2 th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228600" y="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The Firewall Paradox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(AMPS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"/>
          <p:cNvSpPr/>
          <p:nvPr/>
        </p:nvSpPr>
        <p:spPr>
          <a:xfrm>
            <a:off x="3352680" y="1981080"/>
            <a:ext cx="2514600" cy="251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2666880" y="1295280"/>
            <a:ext cx="3886200" cy="3886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1"/>
          <p:cNvSpPr/>
          <p:nvPr/>
        </p:nvSpPr>
        <p:spPr>
          <a:xfrm>
            <a:off x="3733920" y="2590920"/>
            <a:ext cx="1752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H = Interior of “Old” Black H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1"/>
          <p:cNvSpPr/>
          <p:nvPr/>
        </p:nvSpPr>
        <p:spPr>
          <a:xfrm>
            <a:off x="228600" y="838080"/>
            <a:ext cx="48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R = Faraway Hawking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1"/>
          <p:cNvSpPr/>
          <p:nvPr/>
        </p:nvSpPr>
        <p:spPr>
          <a:xfrm>
            <a:off x="2057400" y="1523880"/>
            <a:ext cx="533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B = Just-Emitted Hawking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6"/>
          <p:cNvSpPr/>
          <p:nvPr/>
        </p:nvSpPr>
        <p:spPr>
          <a:xfrm flipH="1" rot="4500000">
            <a:off x="3800880" y="340848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6"/>
          <p:cNvSpPr/>
          <p:nvPr/>
        </p:nvSpPr>
        <p:spPr>
          <a:xfrm flipH="1" rot="5400000">
            <a:off x="2262240" y="261360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alice"/>
          <p:cNvPicPr/>
          <p:nvPr/>
        </p:nvPicPr>
        <p:blipFill>
          <a:blip r:embed="rId2"/>
          <a:stretch/>
        </p:blipFill>
        <p:spPr>
          <a:xfrm>
            <a:off x="609480" y="1523880"/>
            <a:ext cx="1076400" cy="12477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1"/>
          <p:cNvSpPr/>
          <p:nvPr/>
        </p:nvSpPr>
        <p:spPr>
          <a:xfrm>
            <a:off x="380880" y="3505320"/>
            <a:ext cx="236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1"/>
          <p:cNvSpPr/>
          <p:nvPr/>
        </p:nvSpPr>
        <p:spPr>
          <a:xfrm>
            <a:off x="3048120" y="4343400"/>
            <a:ext cx="312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Also 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3" descr="C:\Users\owner\AppData\Local\Microsoft\Windows\Temporary Internet Files\Content.IE5\V550YIX2\MP900438774[1].jpg"/>
          <p:cNvPicPr/>
          <p:nvPr/>
        </p:nvPicPr>
        <p:blipFill>
          <a:blip r:embed="rId3"/>
          <a:stretch/>
        </p:blipFill>
        <p:spPr>
          <a:xfrm>
            <a:off x="2895480" y="2425680"/>
            <a:ext cx="1278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19948 0.0757 E">
                                      <p:cBhvr>
                                        <p:cTn id="46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48 0.0757 L 0.32448 0.12014 E">
                                      <p:cBhvr>
                                        <p:cTn id="54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27448 0.13125 E">
                                      <p:cBhvr>
                                        <p:cTn id="66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1"/>
          <p:cNvSpPr/>
          <p:nvPr/>
        </p:nvSpPr>
        <p:spPr>
          <a:xfrm>
            <a:off x="304920" y="38088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Harlow-Hayden 2013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(arXiv:1301.4504):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riking argument that Alice’s first task, decoding the entanglement between R and B, would take exponential time—by which point, the black hole would’ve long ago evaporated anyway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Complexity theory to the rescue of quantum field the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1"/>
          <p:cNvSpPr/>
          <p:nvPr/>
        </p:nvSpPr>
        <p:spPr>
          <a:xfrm>
            <a:off x="314280" y="3809880"/>
            <a:ext cx="8534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e we saying that an inconsistency in the laws of physics is OK, as long as it takes exponential time to discover it?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consistency” is only in low-energy effective field theories; question is in what regimes they break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aveats of Complexity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ubtitle 4"/>
          <p:cNvSpPr/>
          <p:nvPr/>
        </p:nvSpPr>
        <p:spPr>
          <a:xfrm>
            <a:off x="480960" y="1295280"/>
            <a:ext cx="7977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Asympt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.g., 8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8 chess takes O(1) time!  Only for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 chess can we give evidence of hardness.  But for black holes,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7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(Usually) Conjec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ight now, we can’t even prove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≠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!  To get where we want, we almost always need to make assumptions.  Question is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assum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Worst-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 can argue that a natural formalization of Alice’s decoding task is “generically” hard.  We can’t rule out that a future quantum gravity theory would make her task easy, for deep reasons not captured by our forma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http://ej.iop.org/images/1367-2630/14/10/103017/Full/nj432858f1_online.jpg"/>
          <p:cNvPicPr/>
          <p:nvPr/>
        </p:nvPicPr>
        <p:blipFill>
          <a:blip r:embed="rId1"/>
          <a:stretch/>
        </p:blipFill>
        <p:spPr>
          <a:xfrm>
            <a:off x="533520" y="1447920"/>
            <a:ext cx="8047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1"/>
          <p:cNvSpPr/>
          <p:nvPr/>
        </p:nvSpPr>
        <p:spPr>
          <a:xfrm>
            <a:off x="609480" y="1295280"/>
            <a:ext cx="83059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description of a quantum circuit C,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mised that, by acting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R (the “Hawking radiation part”), it’s possible to distill an EPR p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tween R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istill such an EPR pair, by applying a unitary transformation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the qubits in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Decoding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"/>
              <p:cNvSpPr txBox="1"/>
              <p:nvPr/>
            </p:nvSpPr>
            <p:spPr>
              <a:xfrm>
                <a:off x="3537000" y="3581280"/>
                <a:ext cx="19400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3414600" y="1828800"/>
                <a:ext cx="2424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1"/>
          <p:cNvSpPr/>
          <p:nvPr/>
        </p:nvSpPr>
        <p:spPr>
          <a:xfrm>
            <a:off x="533520" y="2362320"/>
            <a:ext cx="8305560" cy="40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would require waiting until the black hole was fully evaporated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no more firewall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en the BH is “merely” &gt;50% evaporated, we know from a dimension-counting argument that “generically,” there will exist a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distills an EPR pair between R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interestingly, this argument doesn’t suggest any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efficient proced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find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apply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sn’t the Decoding Task Triv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1"/>
          <p:cNvSpPr/>
          <p:nvPr/>
        </p:nvSpPr>
        <p:spPr>
          <a:xfrm>
            <a:off x="533520" y="13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Just invert 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1"/>
          <p:cNvSpPr/>
          <p:nvPr/>
        </p:nvSpPr>
        <p:spPr>
          <a:xfrm>
            <a:off x="380880" y="1295280"/>
            <a:ext cx="85345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Set Equalit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two efficiently-computable injective functions f,g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p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Promised that Range(f) and Range(g) are either equal or disjoint.  Decide wh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the “black-box” setting, this problem takes exp(n) time even with a quantum computer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a main result from my 2004 PhD thesis, the “collision lower bound”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Even in non-black-box setting, would let us solve e.g. Graph Iso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Theorem (Harlow-Hayden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ppose there’s a polynomial-time quantum algorithm for HH decoding.  Then there’s also a polynomial-time quantum algorithm for Set Equal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Hardness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17-12-01T16:00:29Z</dcterms:modified>
  <cp:revision>442</cp:revision>
  <dc:subject/>
  <dc:title>The Future of Computer Science</dc:title>
</cp:coreProperties>
</file>