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18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7A4-43EF-4797-8E3E-D92E3B61F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146-E5C5-46D2-985B-9F8DC0135A7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8EB-6659-49CE-8A20-58F2936CB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F326-FDA6-4A73-A311-D25F417CF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C7D1-F186-4299-8B2D-A6E5D9A7E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EB8C-132E-4DA9-9D3A-0A50A75DA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F87-628A-4BB6-A379-E5A17DA2C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EC31-989C-4AE8-BF5A-F6B704DA5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2A5D-C16A-4CCC-BF36-B06C0D96E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243-F509-456E-B10D-9D0EE0A98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8C1-3A3A-42EB-9C0B-244A753E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DBD-1D54-4159-95CE-EDC0E49F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20CD-4382-49D6-8175-99045BA7F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D7BE-80DB-4D20-83EF-1AC1E8722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F8F-05ED-4431-86D7-76E4F4E3B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7D7E-1497-40A7-B9FC-992D39E71CB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1775-5F8F-4BF8-939F-79E892DE9D8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ny theorist would know that the real question is, what CAN’T you do wit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2665-56EE-4EE2-AACA-3F6DFBE567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351-A179-49F8-8FDC-BDEEFE5EB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1AA-A608-4621-93C7-19D7246B0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54A8-2A4E-4C3D-B3D4-EC765CCE4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1D54-FE97-4F3F-86AB-C97F5AED4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53C6-DBD2-471D-B457-1863DA609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FF6-D46C-492D-BE15-72A39601D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F01-87BE-4EDC-AA0F-FEFD89B94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D4A-E84F-4102-9AC8-FE6C0A47D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45B-88BE-4836-BB5E-014F436A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A52-6139-4A2E-A14D-BDFFB09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AE8-2773-42D1-9A4E-307C06DD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0A7-407E-4D3A-BA93-FCEB1EC5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36C-83E4-4F86-AA3C-14FEE0C3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251-91C4-4EFB-B997-5E740E4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806E-40F6-4D5C-9A68-0F83B12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5B57-8507-4A29-A88B-CDAD34A1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65A9-9445-424B-B9BF-B423DB7A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6E8-A09F-4284-AFEB-3267ED48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7E2-43F2-4820-91E8-1F02067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E8E-4588-4E59-9FC2-AB8AE400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833D-D5FD-405D-88C3-FF9D643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3B5-30F1-4211-B272-1BCD5BF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39D-2087-4170-AFF9-3495C8D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595-5DAF-4C5B-AD49-D11AE9A1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8485-7128-4C5C-ABBA-2CC0E302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F41-24E5-4B7F-BCF0-AA9DD2B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149-714B-4306-8763-DE002E7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C4-9571-4CAE-BCE2-CDFF830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D1F-265E-4CD8-948B-30EADD16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295-1364-4B6C-BF2A-77A7C82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5EF-6D03-48BF-B4AA-6C274E34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EFE-2377-46F7-B780-398CC57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7B01-04D8-4EF5-9815-8FE3A892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CED-F5FD-4938-A9B5-ABF5EF7A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Explorations in Universality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483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da Lovelace Bicentenary Lecture on Computability, Hebrew University, Dec. 31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3009960" cy="327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fabulousmasterpieces-blog.co.uk/wp-content/uploads/alan-turing-painting.jpg"/>
          <p:cNvPicPr/>
          <p:nvPr/>
        </p:nvPicPr>
        <p:blipFill>
          <a:blip r:embed="rId2"/>
          <a:srcRect l="0" t="0" r="13736" b="0"/>
          <a:stretch/>
        </p:blipFill>
        <p:spPr>
          <a:xfrm>
            <a:off x="5181480" y="1295280"/>
            <a:ext cx="28958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Favorite Open Problem About 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343080" y="189396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914400" y="349416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361800" y="50292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How Weird / Improbable / Complex / Artificial Are Universal Compu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517680" y="18730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related to the origin of life deb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361800" y="464652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CAs / programming languages that are equivalent in the Church-Turing sense, could differ dramatically in “how much encoding we need to get over the threshold of interesting behav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i.livescience.com/images/i/000/015/528/i02/dreamstime_3990964.jpg"/>
          <p:cNvPicPr/>
          <p:nvPr/>
        </p:nvPicPr>
        <p:blipFill>
          <a:blip r:embed="rId1"/>
          <a:stretch/>
        </p:blipFill>
        <p:spPr>
          <a:xfrm>
            <a:off x="5464080" y="1833480"/>
            <a:ext cx="316728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1"/>
          <p:cNvSpPr/>
          <p:nvPr/>
        </p:nvSpPr>
        <p:spPr>
          <a:xfrm>
            <a:off x="493560" y="3063960"/>
            <a:ext cx="49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[Life arising on a given planet]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A constant factor that matter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1"/>
          <p:cNvSpPr/>
          <p:nvPr/>
        </p:nvSpPr>
        <p:spPr>
          <a:xfrm>
            <a:off x="369720" y="1371600"/>
            <a:ext cx="443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tephen Wolfram 2007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$25,000 prize for proving that a particular 2-state, 3-symbol TM was univer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392040" y="5257800"/>
            <a:ext cx="8542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One reason to doubt his clai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 this game, one gets “tiny universal machines” only at the cost of fantastically complicated input and output encoding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, 3 Turing machine"/>
          <p:cNvPicPr/>
          <p:nvPr/>
        </p:nvPicPr>
        <p:blipFill>
          <a:blip r:embed="rId1"/>
          <a:stretch/>
        </p:blipFill>
        <p:spPr>
          <a:xfrm>
            <a:off x="4932360" y="1371600"/>
            <a:ext cx="3952800" cy="2219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1"/>
          <p:cNvSpPr/>
          <p:nvPr/>
        </p:nvSpPr>
        <p:spPr>
          <a:xfrm>
            <a:off x="392040" y="304920"/>
            <a:ext cx="854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sky, McCarthy, et al. 1950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’s the “simplest” universal TM?  (Found one with 7 states and 4 symbol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369720" y="3276720"/>
            <a:ext cx="4534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on later that year by Alex Smith (who had “nothing better to do that weekend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4495680" y="3728880"/>
            <a:ext cx="4538880" cy="1328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olfram claims this sort of thing vindicates his “Principle of Computational Universalit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2273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1"/>
          <p:cNvSpPr/>
          <p:nvPr/>
        </p:nvSpPr>
        <p:spPr>
          <a:xfrm>
            <a:off x="295200" y="1446120"/>
            <a:ext cx="8542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3290760" y="4208400"/>
            <a:ext cx="563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amously uncomputably-rapidly growing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t How Many States Do Turing Machines “Cross The Threshold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1676520" y="2870280"/>
            <a:ext cx="5634000" cy="1328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ere does this happen?  Could BB(6) already be independent of ZF?  What about BB(60)?  BB(600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295200" y="2962440"/>
            <a:ext cx="29210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299880" y="380880"/>
            <a:ext cx="8544240" cy="67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dam Yedidia,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uilding on work of Harvey Friedman, constructed a 380,000-state Turing machine whose halting or non-halting is independent of ZF set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an 8,000-state machine that tests Goldbach’s Conjecture, and a 30,000-state machine that tests the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structions use a special-purpose programming language, compiled to multi-tape TM and then one-tape 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Ongoing work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line interpreter run by the TM itsel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mprovement to ~40,000 states for ZF set theory, 12,000 for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onclus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humanity to know BB(40,000) would entail knowing Con(ZF).  What about BB(400)?  BB(6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ost’s Lattice (192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380880" y="1074600"/>
            <a:ext cx="836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possible sets of Boolean functions that are closed under composing them into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4552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1"/>
          <p:cNvSpPr/>
          <p:nvPr/>
        </p:nvSpPr>
        <p:spPr>
          <a:xfrm>
            <a:off x="4267080" y="2157480"/>
            <a:ext cx="472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you assume the constant functions (0 and 1) are available for free, then it looks like this (otherwise i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ore complic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4267080" y="472428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ning: from any non-affine gate you can extract AND or OR; from any non-monotone gate you can extract NO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2"/>
          <p:cNvCxnSpPr/>
          <p:nvPr/>
        </p:nvCxnSpPr>
        <p:spPr>
          <a:xfrm flipH="1" flipV="1">
            <a:off x="3047760" y="3047400"/>
            <a:ext cx="1219680" cy="766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95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’s the analogue of Post’s lattice for classica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reversible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 g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-358920" y="3606840"/>
            <a:ext cx="2978280" cy="3046680"/>
            <a:chOff x="-358920" y="3606840"/>
            <a:chExt cx="2978280" cy="3046680"/>
          </a:xfrm>
        </p:grpSpPr>
        <p:sp>
          <p:nvSpPr>
            <p:cNvPr id="159" name="Rectangle 41"/>
            <p:cNvSpPr/>
            <p:nvPr/>
          </p:nvSpPr>
          <p:spPr>
            <a:xfrm>
              <a:off x="-358920" y="5165280"/>
              <a:ext cx="297828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lip y iff x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t universal (affine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0" descr="http://upload.wikimedia.org/wikipedia/commons/thumb/4/4e/CNOT_gate.svg/150px-CNOT_gate.svg.png"/>
            <p:cNvPicPr/>
            <p:nvPr/>
          </p:nvPicPr>
          <p:blipFill>
            <a:blip r:embed="rId1"/>
            <a:stretch/>
          </p:blipFill>
          <p:spPr>
            <a:xfrm>
              <a:off x="411120" y="3606840"/>
              <a:ext cx="142848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41"/>
            <p:cNvSpPr/>
            <p:nvPr/>
          </p:nvSpPr>
          <p:spPr>
            <a:xfrm>
              <a:off x="411120" y="45277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C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"/>
          <p:cNvGrpSpPr/>
          <p:nvPr/>
        </p:nvGrpSpPr>
        <p:grpSpPr>
          <a:xfrm>
            <a:off x="2398680" y="3370320"/>
            <a:ext cx="3124080" cy="3496680"/>
            <a:chOff x="2398680" y="3370320"/>
            <a:chExt cx="3124080" cy="3496680"/>
          </a:xfrm>
        </p:grpSpPr>
        <p:pic>
          <p:nvPicPr>
            <p:cNvPr id="163" name="Picture 8" descr="http://upload.wikimedia.org/wikipedia/commons/thumb/2/26/Toffoli_gate.svg/150px-Toffoli_gate.svg.png"/>
            <p:cNvPicPr/>
            <p:nvPr/>
          </p:nvPicPr>
          <p:blipFill>
            <a:blip r:embed="rId2"/>
            <a:stretch/>
          </p:blipFill>
          <p:spPr>
            <a:xfrm>
              <a:off x="3246120" y="3370320"/>
              <a:ext cx="1428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1"/>
            <p:cNvSpPr/>
            <p:nvPr/>
          </p:nvSpPr>
          <p:spPr>
            <a:xfrm>
              <a:off x="3201840" y="4522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Toffo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2398680" y="4982760"/>
              <a:ext cx="312408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lip z iff x=y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iversal; generates all permutations of n-bit string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"/>
          <p:cNvGrpSpPr/>
          <p:nvPr/>
        </p:nvGrpSpPr>
        <p:grpSpPr>
          <a:xfrm>
            <a:off x="5486400" y="3236760"/>
            <a:ext cx="3816360" cy="3612240"/>
            <a:chOff x="5486400" y="3236760"/>
            <a:chExt cx="3816360" cy="3612240"/>
          </a:xfrm>
        </p:grpSpPr>
        <p:pic>
          <p:nvPicPr>
            <p:cNvPr id="167" name="Picture 6" descr="http://upload.wikimedia.org/wikipedia/commons/thumb/c/ca/Fredkin_gate.svg/150px-Fredkin_gate.svg.png"/>
            <p:cNvPicPr/>
            <p:nvPr/>
          </p:nvPicPr>
          <p:blipFill>
            <a:blip r:embed="rId3"/>
            <a:stretch/>
          </p:blipFill>
          <p:spPr>
            <a:xfrm>
              <a:off x="6680160" y="3236760"/>
              <a:ext cx="1428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41"/>
            <p:cNvSpPr/>
            <p:nvPr/>
          </p:nvSpPr>
          <p:spPr>
            <a:xfrm>
              <a:off x="6608880" y="45208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Fredk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5486400" y="4964760"/>
              <a:ext cx="381636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wap y,z iff x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ke Toffoli but 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nservative 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eserves Hamming weigh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41"/>
          <p:cNvSpPr/>
          <p:nvPr/>
        </p:nvSpPr>
        <p:spPr>
          <a:xfrm>
            <a:off x="368280" y="155268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 permutations of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84120" y="2108160"/>
            <a:ext cx="83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round rul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waps are free, as are ancilla bits, as long as they’re returned to their initial states by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y Toffoli Generates All Reversibl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2209680" y="1828800"/>
                <a:ext cx="4927680" cy="431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Isosceles Triangle 1"/>
          <p:cNvSpPr/>
          <p:nvPr/>
        </p:nvSpPr>
        <p:spPr>
          <a:xfrm>
            <a:off x="1427040" y="3992400"/>
            <a:ext cx="3810240" cy="2551320"/>
          </a:xfrm>
          <a:prstGeom prst="triangle">
            <a:avLst>
              <a:gd name="adj" fmla="val 4844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7640" y="230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wo Meanings of “Universal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293760" y="106668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uring’s “Existence of the Software Industry Lemma”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exists a machine U such that U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x)=P(x) for all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584280" y="2590920"/>
            <a:ext cx="8434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Church-Turing “Ceiling of Expressive Pow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vision, when I first learned what programming was as an 11-year-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1655640" y="429732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cottLa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s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Bas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W-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5405400" y="43434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pe!  GW-BASIC can already do everything, i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Brace 2"/>
          <p:cNvSpPr/>
          <p:nvPr/>
        </p:nvSpPr>
        <p:spPr>
          <a:xfrm>
            <a:off x="152280" y="2438280"/>
            <a:ext cx="533520" cy="4191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4191120"/>
              <a:gd name="textAreaBottom" fmla="*/ 41774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&quot;No&quot; Symbol 3"/>
          <p:cNvSpPr/>
          <p:nvPr/>
        </p:nvSpPr>
        <p:spPr>
          <a:xfrm>
            <a:off x="1687680" y="3745080"/>
            <a:ext cx="3047760" cy="3047760"/>
          </a:xfrm>
          <a:custGeom>
            <a:avLst/>
            <a:gdLst/>
            <a:ahLst/>
            <a:rect l="l" t="t" r="r" b="b"/>
            <a:pathLst>
              <a:path w="3048000" h="3048000">
                <a:moveTo>
                  <a:pt x="0" y="1524000"/>
                </a:moveTo>
                <a:cubicBezTo>
                  <a:pt x="0" y="682318"/>
                  <a:pt x="682318" y="0"/>
                  <a:pt x="1524000" y="0"/>
                </a:cubicBezTo>
                <a:cubicBezTo>
                  <a:pt x="2365682" y="0"/>
                  <a:pt x="3048000" y="682318"/>
                  <a:pt x="3048000" y="1524000"/>
                </a:cubicBezTo>
                <a:cubicBezTo>
                  <a:pt x="3048000" y="2365682"/>
                  <a:pt x="2365682" y="3048000"/>
                  <a:pt x="1524000" y="3048000"/>
                </a:cubicBezTo>
                <a:cubicBezTo>
                  <a:pt x="682318" y="3048000"/>
                  <a:pt x="0" y="2365682"/>
                  <a:pt x="0" y="1524000"/>
                </a:cubicBezTo>
                <a:close/>
                <a:moveTo>
                  <a:pt x="2508528" y="2332620"/>
                </a:moveTo>
                <a:cubicBezTo>
                  <a:pt x="2924540" y="1826108"/>
                  <a:pt x="2888354" y="1086598"/>
                  <a:pt x="2424877" y="623122"/>
                </a:cubicBezTo>
                <a:cubicBezTo>
                  <a:pt x="1961401" y="159646"/>
                  <a:pt x="1221891" y="123459"/>
                  <a:pt x="715379" y="539471"/>
                </a:cubicBezTo>
                <a:lnTo>
                  <a:pt x="2508528" y="2332620"/>
                </a:lnTo>
                <a:close/>
                <a:moveTo>
                  <a:pt x="539472" y="715380"/>
                </a:moveTo>
                <a:cubicBezTo>
                  <a:pt x="123460" y="1221892"/>
                  <a:pt x="159646" y="1961402"/>
                  <a:pt x="623123" y="2424878"/>
                </a:cubicBezTo>
                <a:cubicBezTo>
                  <a:pt x="1086599" y="2888354"/>
                  <a:pt x="1826109" y="2924541"/>
                  <a:pt x="2332621" y="2508529"/>
                </a:cubicBezTo>
                <a:lnTo>
                  <a:pt x="539472" y="71538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228600"/>
            <a:ext cx="914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3 Combinatorial Results that Shape the Classification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Arial"/>
              </a:rPr>
              <a:t>(Proofs left as exercises for the audi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1"/>
          <p:cNvSpPr/>
          <p:nvPr/>
        </p:nvSpPr>
        <p:spPr>
          <a:xfrm>
            <a:off x="290520" y="2209680"/>
            <a:ext cx="83818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reversible G satisfies |G(x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x|+j (mod k) for all x, then either k=2 or j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nontrivial affine reversible transformation G satisfies |G(x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x| (mod k) for all x,  then either k=2 or k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non-conservative reversible transformation 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tisfies G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 (mod k) for all x,y, then k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Favorite Open Problem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1"/>
          <p:cNvSpPr/>
          <p:nvPr/>
        </p:nvSpPr>
        <p:spPr>
          <a:xfrm>
            <a:off x="343080" y="1143000"/>
            <a:ext cx="85899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fication of all possible sets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 acting on qubits, in terms of which unitaries they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complicated problem in representation theory and Lie algebras, but seems fundamental for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Grier-Schaeffer 2015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all possible sets of “stabilizer” quantum gates (discrete subgroup used in quantum error-cor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Aaronson-Bouland 2015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all 2-mode beamspl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crete ques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re there interesting discrete subgroup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n the stabilizer group and its conjugates?  Does every nontrivial continuous subgroup yield universal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9840" y="76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iscussion Ques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7760" y="835200"/>
            <a:ext cx="82677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 universe look like where the Physical Church-Turing Thesis was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fals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Our quantum world?  Falsifies the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polynomial-tim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 Physical C-T thesis, but not the original computability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Hypercomputing” universes: would allow ways to solve the halting problem that, in our world, appear precluded by quantum gravity (e.g. Bekenstein’s b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David Deutsch says that, with different laws of physics, the halting problem would be easy and the AND function would be hard.  </a:t>
            </a:r>
            <a:r>
              <a:rPr b="1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What are those la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n interesting model of computation look like that could solve its own halting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n interesting universe look like that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couldn’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do universal compu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ft Brace 8"/>
          <p:cNvSpPr/>
          <p:nvPr/>
        </p:nvSpPr>
        <p:spPr>
          <a:xfrm>
            <a:off x="76320" y="594360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2120"/>
              <a:gd name="textAreaBottom" fmla="*/ 7524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gicomp.mp4" descr=""/>
          <p:cNvPicPr/>
          <p:nvPr/>
        </p:nvPicPr>
        <p:blipFill>
          <a:blip r:embed="rId1"/>
          <a:stretch/>
        </p:blipFill>
        <p:spPr>
          <a:xfrm>
            <a:off x="142236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Digi-Comp II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the lobby of the MIT Stata Center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7200" y="1976400"/>
            <a:ext cx="342900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t can multiply!  It can divide!  It can sor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486400" y="3530520"/>
            <a:ext cx="3429000" cy="100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M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Real question is, what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a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it do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127160" y="5105520"/>
            <a:ext cx="701028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s this silly device with metal balls a universal computer?  If so, wow!  If not, what prevents it from being 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6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38088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(Comparator Circuit): Complexity class defined by Subramanian in 1990, betwee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L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br>
              <a:rPr sz="3000"/>
            </a:b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	</a:t>
            </a:r>
            <a:r>
              <a:rPr b="1" lang="en-CA" sz="2400" spc="-1" strike="noStrike">
                <a:solidFill>
                  <a:srgbClr val="009900"/>
                </a:solidFill>
                <a:latin typeface="Calibri"/>
                <a:ea typeface="Arial"/>
              </a:rPr>
              <a:t>A CC-complete problem is Stable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156200" y="2897280"/>
            <a:ext cx="16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P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80880" y="1522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 natural idealization of the Digi-Comp II solves exactly the problems i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28600" y="2886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DigiC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248520" y="28749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om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4290840" y="45846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6"/>
          <p:cNvSpPr/>
          <p:nvPr/>
        </p:nvSpPr>
        <p:spPr>
          <a:xfrm>
            <a:off x="4551480" y="45846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481320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1"/>
          <p:cNvSpPr/>
          <p:nvPr/>
        </p:nvSpPr>
        <p:spPr>
          <a:xfrm>
            <a:off x="5073480" y="4584600"/>
            <a:ext cx="2620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2"/>
          <p:cNvSpPr/>
          <p:nvPr/>
        </p:nvSpPr>
        <p:spPr>
          <a:xfrm>
            <a:off x="533556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3952800" y="5584680"/>
            <a:ext cx="2620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4214880" y="5584680"/>
            <a:ext cx="2602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5"/>
          <p:cNvSpPr/>
          <p:nvPr/>
        </p:nvSpPr>
        <p:spPr>
          <a:xfrm>
            <a:off x="5194440" y="557532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5454720" y="557532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5716440" y="557532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40831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49435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5205240" y="36702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546588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2"/>
          <p:cNvSpPr/>
          <p:nvPr/>
        </p:nvSpPr>
        <p:spPr>
          <a:xfrm>
            <a:off x="5727600" y="36702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586320" y="5956200"/>
            <a:ext cx="11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005440" y="595620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35"/>
          <p:cNvCxnSpPr>
            <a:endCxn id="194" idx="0"/>
          </p:cNvCxnSpPr>
          <p:nvPr/>
        </p:nvCxnSpPr>
        <p:spPr>
          <a:xfrm>
            <a:off x="4271760" y="3930120"/>
            <a:ext cx="410040" cy="65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Straight Arrow Connector 37"/>
          <p:cNvCxnSpPr/>
          <p:nvPr/>
        </p:nvCxnSpPr>
        <p:spPr>
          <a:xfrm>
            <a:off x="5194080" y="4844520"/>
            <a:ext cx="432360" cy="73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2" name="Straight Arrow Connector 39"/>
          <p:cNvCxnSpPr/>
          <p:nvPr/>
        </p:nvCxnSpPr>
        <p:spPr>
          <a:xfrm flipH="1">
            <a:off x="4223880" y="4835160"/>
            <a:ext cx="448560" cy="74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3" name="Straight Arrow Connector 42"/>
          <p:cNvCxnSpPr>
            <a:endCxn id="196" idx="0"/>
          </p:cNvCxnSpPr>
          <p:nvPr/>
        </p:nvCxnSpPr>
        <p:spPr>
          <a:xfrm flipH="1">
            <a:off x="5204880" y="3919320"/>
            <a:ext cx="2325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4" name="Text Box 10"/>
          <p:cNvSpPr/>
          <p:nvPr/>
        </p:nvSpPr>
        <p:spPr>
          <a:xfrm>
            <a:off x="7143840" y="4425840"/>
            <a:ext cx="1295280" cy="55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50"/>
          <p:cNvCxnSpPr/>
          <p:nvPr/>
        </p:nvCxnSpPr>
        <p:spPr>
          <a:xfrm>
            <a:off x="739260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Straight Arrow Connector 54"/>
          <p:cNvCxnSpPr/>
          <p:nvPr/>
        </p:nvCxnSpPr>
        <p:spPr>
          <a:xfrm>
            <a:off x="815472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" name="Straight Arrow Connector 55"/>
          <p:cNvCxnSpPr/>
          <p:nvPr/>
        </p:nvCxnSpPr>
        <p:spPr>
          <a:xfrm>
            <a:off x="739260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8" name="Straight Arrow Connector 56"/>
          <p:cNvCxnSpPr/>
          <p:nvPr/>
        </p:nvCxnSpPr>
        <p:spPr>
          <a:xfrm>
            <a:off x="815472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9" name="Text Box 10"/>
          <p:cNvSpPr/>
          <p:nvPr/>
        </p:nvSpPr>
        <p:spPr>
          <a:xfrm>
            <a:off x="7164360" y="363060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907400" y="362124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164360" y="520848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7907400" y="519732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dcii_6"/>
          <p:cNvPicPr/>
          <p:nvPr/>
        </p:nvPicPr>
        <p:blipFill>
          <a:blip r:embed="rId1"/>
          <a:stretch/>
        </p:blipFill>
        <p:spPr>
          <a:xfrm>
            <a:off x="-1295280" y="3778200"/>
            <a:ext cx="4414680" cy="3309840"/>
          </a:xfrm>
          <a:prstGeom prst="rect">
            <a:avLst/>
          </a:prstGeom>
          <a:ln w="0">
            <a:noFill/>
          </a:ln>
        </p:spPr>
      </p:pic>
      <p:sp>
        <p:nvSpPr>
          <p:cNvPr id="224" name="Left-Right Arrow 53"/>
          <p:cNvSpPr/>
          <p:nvPr/>
        </p:nvSpPr>
        <p:spPr>
          <a:xfrm>
            <a:off x="2874960" y="415908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eft-Right Arrow 63"/>
          <p:cNvSpPr/>
          <p:nvPr/>
        </p:nvSpPr>
        <p:spPr>
          <a:xfrm>
            <a:off x="5843520" y="411624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ubject of universality is almost 100 years old—almost 200 if we go back to Lady Ada—yet there are still basic questions that remain to be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Expressiveness Ceilings Everywh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can simulate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3 or 4, almost any n-bit logic gate will be able to express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447920" y="5334120"/>
            <a:ext cx="68580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could there possibly be to say about such phenomena that’s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5867280" y="182520"/>
            <a:ext cx="3124440" cy="3506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uring-universality is “common as dirt,” then it gives no basis to distinguish “our” laws from, say, Conway’s Game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533520" y="1074600"/>
            <a:ext cx="81532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ent explorations, by me and my students, into more “fine-grained” notions of 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uke Schaeffer, ICALP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hysically universal 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m Yedidia, work in progres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mall Turing machines that do interest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reversible Boolean logic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 favorite ope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-468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282600" y="1036800"/>
            <a:ext cx="854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bility to do universal comput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bility to manipulate physical world in any desired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301680" y="4613400"/>
            <a:ext cx="8542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I gave you an oracle for NP-complete problems.  Could you use it to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Take over the world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Cure cancer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Make someone fall in love with you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s://upload.wikimedia.org/wikipedia/commons/thumb/a/a2/Turing_machine_2b.svg/300px-Turing_machine_2b.svg.png"/>
          <p:cNvPicPr/>
          <p:nvPr/>
        </p:nvPicPr>
        <p:blipFill>
          <a:blip r:embed="rId1"/>
          <a:stretch/>
        </p:blipFill>
        <p:spPr>
          <a:xfrm>
            <a:off x="762120" y="2992320"/>
            <a:ext cx="3682800" cy="873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://kitchen-electronics.weebly.com/uploads/2/7/1/1/27118291/6608936_orig.jpg"/>
          <p:cNvPicPr/>
          <p:nvPr/>
        </p:nvPicPr>
        <p:blipFill>
          <a:blip r:embed="rId2"/>
          <a:stretch/>
        </p:blipFill>
        <p:spPr>
          <a:xfrm>
            <a:off x="4267080" y="2689200"/>
            <a:ext cx="1866960" cy="1811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1"/>
          <p:cNvSpPr/>
          <p:nvPr/>
        </p:nvSpPr>
        <p:spPr>
          <a:xfrm>
            <a:off x="282600" y="2162160"/>
            <a:ext cx="854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The Toaster-Enhanced Turing Machine (TE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438280" y="5099040"/>
            <a:ext cx="3505320" cy="175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380880" y="228600"/>
            <a:ext cx="85424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Janzing 2010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all a cellular automato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hysically univers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it can implement any desired transformation on any finite region R, provided we appropriately initialize the complement of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oes there exist a physically universal C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onway’s Lif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Not physically universal, because not reversible.  No detectors outside R can tell whether the center of R contained an isolated particle that d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any Reversible CA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ill not physically universal, because of the possibility of constructing “impenetrable wall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884760" y="5638680"/>
            <a:ext cx="841320" cy="612720"/>
          </a:xfrm>
          <a:prstGeom prst="rect">
            <a:avLst/>
          </a:prstGeom>
          <a:noFill/>
          <a:ln w="507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570120" y="5297400"/>
            <a:ext cx="1470240" cy="1362240"/>
          </a:xfrm>
          <a:prstGeom prst="rect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003560" y="5638680"/>
            <a:ext cx="187560" cy="18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autoRev="1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254 L 0.05191 0.06408 E">
                                      <p:cBhvr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-6480" y="152280"/>
            <a:ext cx="914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Luke Schaeffer’s Automaton (20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295200" y="1143000"/>
            <a:ext cx="793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first known example of a physically universal 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Interaction Table"/>
          <p:cNvPicPr/>
          <p:nvPr/>
        </p:nvPicPr>
        <p:blipFill>
          <a:blip r:embed="rId1"/>
          <a:stretch/>
        </p:blipFill>
        <p:spPr>
          <a:xfrm>
            <a:off x="838080" y="1905120"/>
            <a:ext cx="758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1066680" y="36360"/>
            <a:ext cx="6816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6-01-01T02:32:47Z</dcterms:modified>
  <cp:revision>494</cp:revision>
  <dc:subject/>
  <dc:title>The Future of Computer Science</dc:title>
</cp:coreProperties>
</file>