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18.png" ContentType="image/png"/>
  <Override PartName="/ppt/media/image9.gif" ContentType="image/gif"/>
  <Override PartName="/ppt/media/image17.png" ContentType="image/png"/>
  <Override PartName="/ppt/media/image8.gif" ContentType="image/gif"/>
  <Override PartName="/ppt/media/image16.png" ContentType="image/png"/>
  <Override PartName="/ppt/media/image7.gif" ContentType="image/gi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E127-4E20-4EE5-A565-7535EAEF9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2A87-533A-4F27-A652-3C50BE16289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2CA1-9B05-4D9D-AF39-B9A0BC05A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8A05-874D-48E9-9E36-6B85990AD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F8D5-D7C7-456B-9B9D-84E8D5319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9FF1-35AE-43F5-9FD1-7CB042E74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525A-E84F-495A-AF24-C3E5C1641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4FE7-6F6C-47AB-BAC4-6ADD568E2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4F25-77BE-448E-B65D-4CC6DC389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8EDF-0326-4A73-BAAE-43906004B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4DAD-3C8D-4C65-963A-FC3E800E6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A6C-9D65-4B77-9B38-EDB1E31D9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E450-B7CC-463D-8A6D-1D0CE2177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25B6-620B-48FA-9050-E54063134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5BFB-BA5F-4741-87C6-DD0C00366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F5C5-3EA9-41DC-9C5D-CE8A2A61470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F613-F47E-46AC-BA76-944E3DCF0F5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Any theorist would know that the real question is, what CAN’T you do wit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8B5F-D36A-40A5-9654-8FB9997C048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11C9-E52A-4E5E-9893-1A42CE533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8EA6-F0AC-4F1C-A1E1-83C275133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D57D-E83F-4A8A-B76C-39E097402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21D0-1B70-493A-A77B-A2E26C93A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DA2C-C4E6-4AAB-811D-850943175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9794-F399-4F5B-811F-427D60818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42F0-E415-490A-B992-282DA986C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0C72-3C08-4EE8-A79C-988D0F175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907-C672-4B81-AC65-D682F128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C20-750D-479B-89D2-4437DD01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65E-69E9-4602-9239-2655E909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B67-07A4-4C22-845B-899AD036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B541-0FA6-4DA2-AB65-8346DFE1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B47D-D69F-45C1-ADF3-F83D69D8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1C5C-3D27-4C2E-A697-62C74EF8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C433-FF96-4C23-838D-FB2A4833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68B1-1203-4BB2-AEE5-7826CBED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E3AA-21FF-43C9-931D-1541B954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20DE-F4D0-494A-A51F-C86CAC8D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9B2-0805-4C65-8880-985B2A90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939B-8EF0-4FC7-84BD-FEC49C2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9C92-1B88-4716-BFBB-5BEC144F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4385-8375-4B16-8CCE-94DBC543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47A5-615A-404A-A1C3-6F692E2F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A550-4DEF-4963-ABDA-E7DE5ABA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026-61AF-4C00-92EA-A195EC94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790-ED21-4135-A9FA-4134DB75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C00-B708-4EC1-9F27-06EC8586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C79-F2D5-46D6-AE89-E705A02E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EBE-C59E-4759-99B8-1D5ACA3B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D7B-51DF-4A76-844E-DD420D0D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9D5-0B62-4ECF-8EC1-7174EE0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BD4D-CC05-42C3-AEBA-14EFC626D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3255-2133-4DFC-B8ED-EC832A85C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40" y="1522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alibri"/>
                <a:ea typeface="Calibri"/>
              </a:rPr>
              <a:t>Explorations in Universality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48319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Ada Lovelace Bicentenary Lecture on Computability, Hebrew University, Dec. 31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990720" y="1335240"/>
            <a:ext cx="3009960" cy="327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http://fabulousmasterpieces-blog.co.uk/wp-content/uploads/alan-turing-painting.jpg"/>
          <p:cNvPicPr/>
          <p:nvPr/>
        </p:nvPicPr>
        <p:blipFill>
          <a:blip r:embed="rId2"/>
          <a:srcRect l="0" t="0" r="13736" b="0"/>
          <a:stretch/>
        </p:blipFill>
        <p:spPr>
          <a:xfrm>
            <a:off x="5181480" y="1295280"/>
            <a:ext cx="28958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web.mit.edu/lrs/www/physCA/redirect.gif"/>
          <p:cNvPicPr/>
          <p:nvPr/>
        </p:nvPicPr>
        <p:blipFill>
          <a:blip r:embed="rId1"/>
          <a:stretch/>
        </p:blipFill>
        <p:spPr>
          <a:xfrm>
            <a:off x="914400" y="0"/>
            <a:ext cx="71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My Favorite Open Problem About Physical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343080" y="189396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transformation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914400" y="3494160"/>
            <a:ext cx="759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1"/>
          <p:cNvSpPr/>
          <p:nvPr/>
        </p:nvSpPr>
        <p:spPr>
          <a:xfrm>
            <a:off x="361800" y="5029200"/>
            <a:ext cx="842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How Weird / Improbable / Complex / Artificial Are Universal Comput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517680" y="1873080"/>
            <a:ext cx="40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related to the origin of life deb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1"/>
          <p:cNvSpPr/>
          <p:nvPr/>
        </p:nvSpPr>
        <p:spPr>
          <a:xfrm>
            <a:off x="361800" y="4646520"/>
            <a:ext cx="842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n CAs / programming languages that are equivalent in the Church-Turing sense, could differ dramatically in “how much encoding we need to get over the threshold of interesting behavi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i.livescience.com/images/i/000/015/528/i02/dreamstime_3990964.jpg"/>
          <p:cNvPicPr/>
          <p:nvPr/>
        </p:nvPicPr>
        <p:blipFill>
          <a:blip r:embed="rId1"/>
          <a:stretch/>
        </p:blipFill>
        <p:spPr>
          <a:xfrm>
            <a:off x="5464080" y="1833480"/>
            <a:ext cx="3167280" cy="235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1"/>
          <p:cNvSpPr/>
          <p:nvPr/>
        </p:nvSpPr>
        <p:spPr>
          <a:xfrm>
            <a:off x="493560" y="3063960"/>
            <a:ext cx="497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[Life arising on a given planet]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A constant factor that matter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1"/>
          <p:cNvSpPr/>
          <p:nvPr/>
        </p:nvSpPr>
        <p:spPr>
          <a:xfrm>
            <a:off x="369720" y="1371600"/>
            <a:ext cx="443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tephen Wolfram 2007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$25,000 prize for proving that a particular 2-state, 3-symbol TM was univers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1"/>
          <p:cNvSpPr/>
          <p:nvPr/>
        </p:nvSpPr>
        <p:spPr>
          <a:xfrm>
            <a:off x="392040" y="5257800"/>
            <a:ext cx="8542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One reason to doubt his clai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 this game, one gets “tiny universal machines” only at the cost of fantastically complicated input and output encoding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2, 3 Turing machine"/>
          <p:cNvPicPr/>
          <p:nvPr/>
        </p:nvPicPr>
        <p:blipFill>
          <a:blip r:embed="rId1"/>
          <a:stretch/>
        </p:blipFill>
        <p:spPr>
          <a:xfrm>
            <a:off x="4932360" y="1371600"/>
            <a:ext cx="3952800" cy="22194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1"/>
          <p:cNvSpPr/>
          <p:nvPr/>
        </p:nvSpPr>
        <p:spPr>
          <a:xfrm>
            <a:off x="392040" y="304920"/>
            <a:ext cx="854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Minsky, McCarthy, et al. 1950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at’s the “simplest” universal TM?  (Found one with 7 states and 4 symbol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1"/>
          <p:cNvSpPr/>
          <p:nvPr/>
        </p:nvSpPr>
        <p:spPr>
          <a:xfrm>
            <a:off x="369720" y="3276720"/>
            <a:ext cx="4534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on later that year by Alex Smith (who had “nothing better to do that weekend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4495680" y="3728880"/>
            <a:ext cx="4538880" cy="1328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olfram claims this sort of thing vindicates his “Principle of Computational Universality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catonmat.net/blog/wp-content/uploads/2009/10/busy-beaver-turing-machine.jpg"/>
          <p:cNvPicPr/>
          <p:nvPr/>
        </p:nvPicPr>
        <p:blipFill>
          <a:blip r:embed="rId1"/>
          <a:stretch/>
        </p:blipFill>
        <p:spPr>
          <a:xfrm>
            <a:off x="2666880" y="2227320"/>
            <a:ext cx="6313680" cy="2209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1"/>
          <p:cNvSpPr/>
          <p:nvPr/>
        </p:nvSpPr>
        <p:spPr>
          <a:xfrm>
            <a:off x="295200" y="1446120"/>
            <a:ext cx="8542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n) = the maximum number of steps that a 1-tape, 2-symbol, n-state Turing machine can take on an initially blank tap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efore hal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1"/>
          <p:cNvSpPr/>
          <p:nvPr/>
        </p:nvSpPr>
        <p:spPr>
          <a:xfrm>
            <a:off x="3290760" y="4208400"/>
            <a:ext cx="5634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amously uncomputably-rapidly growing fun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Gödel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beyond some finite point, the values of BB(n) are not even provable in ZF set theory!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ssuming ZF is consist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t How Many States Do Turing Machines “Cross The Threshold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1"/>
          <p:cNvSpPr/>
          <p:nvPr/>
        </p:nvSpPr>
        <p:spPr>
          <a:xfrm>
            <a:off x="1676520" y="2870280"/>
            <a:ext cx="5634000" cy="1328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Quest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ere does this happen?  Could BB(6) already be independent of ZF?  What about BB(60)?  BB(600)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295200" y="2962440"/>
            <a:ext cx="29210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1)=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2)=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3)=2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4)=1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5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7,176,87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6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7.4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65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1"/>
          <p:cNvSpPr/>
          <p:nvPr/>
        </p:nvSpPr>
        <p:spPr>
          <a:xfrm>
            <a:off x="299880" y="380880"/>
            <a:ext cx="8544240" cy="67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dam Yedidia, 2015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Building on work of Harvey Friedman, constructed a 380,000-state Turing machine whose halting or non-halting is independent of ZF set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an 8,000-state machine that tests Goldbach’s Conjecture, and a 30,000-state machine that tests the Riemann Hypo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nstructions use a special-purpose programming language, compiled to multi-tape TM and then one-tape 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Ongoing work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line interpreter run by the TM itsel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mprovement to ~40,000 states for ZF set theory, 12,000 for Riemann Hypothe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onclus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humanity to know BB(40,000) would entail knowing Con(ZF).  What about BB(400)?  BB(6)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ost’s Lattice (1920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380880" y="1074600"/>
            <a:ext cx="836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l possible sets of Boolean functions that are closed under composing them into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810240" cy="4552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1"/>
          <p:cNvSpPr/>
          <p:nvPr/>
        </p:nvSpPr>
        <p:spPr>
          <a:xfrm>
            <a:off x="4267080" y="2157480"/>
            <a:ext cx="472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you assume the constant functions (0 and 1) are available for free, then it looks like this (otherwise it’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ore complic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1"/>
          <p:cNvSpPr/>
          <p:nvPr/>
        </p:nvSpPr>
        <p:spPr>
          <a:xfrm>
            <a:off x="4267080" y="472428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ning: from any non-affine gate you can extract AND or OR; from any non-monotone gate you can extract NO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2"/>
          <p:cNvCxnSpPr/>
          <p:nvPr/>
        </p:nvCxnSpPr>
        <p:spPr>
          <a:xfrm flipH="1" flipV="1">
            <a:off x="3047760" y="3047400"/>
            <a:ext cx="1219680" cy="766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954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hat’s the analogue of Post’s lattice for classical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reversible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 g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-358920" y="3606840"/>
            <a:ext cx="2978280" cy="3046680"/>
            <a:chOff x="-358920" y="3606840"/>
            <a:chExt cx="2978280" cy="3046680"/>
          </a:xfrm>
        </p:grpSpPr>
        <p:sp>
          <p:nvSpPr>
            <p:cNvPr id="159" name="Rectangle 41"/>
            <p:cNvSpPr/>
            <p:nvPr/>
          </p:nvSpPr>
          <p:spPr>
            <a:xfrm>
              <a:off x="-358920" y="5165280"/>
              <a:ext cx="297828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lip y iff x=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ot universal (affine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0" descr="http://upload.wikimedia.org/wikipedia/commons/thumb/4/4e/CNOT_gate.svg/150px-CNOT_gate.svg.png"/>
            <p:cNvPicPr/>
            <p:nvPr/>
          </p:nvPicPr>
          <p:blipFill>
            <a:blip r:embed="rId1"/>
            <a:stretch/>
          </p:blipFill>
          <p:spPr>
            <a:xfrm>
              <a:off x="411120" y="3606840"/>
              <a:ext cx="142848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41"/>
            <p:cNvSpPr/>
            <p:nvPr/>
          </p:nvSpPr>
          <p:spPr>
            <a:xfrm>
              <a:off x="411120" y="45277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Calibri"/>
                  <a:ea typeface="Arial"/>
                </a:rPr>
                <a:t>C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"/>
          <p:cNvGrpSpPr/>
          <p:nvPr/>
        </p:nvGrpSpPr>
        <p:grpSpPr>
          <a:xfrm>
            <a:off x="2398680" y="3370320"/>
            <a:ext cx="3124080" cy="3496680"/>
            <a:chOff x="2398680" y="3370320"/>
            <a:chExt cx="3124080" cy="3496680"/>
          </a:xfrm>
        </p:grpSpPr>
        <p:pic>
          <p:nvPicPr>
            <p:cNvPr id="163" name="Picture 8" descr="http://upload.wikimedia.org/wikipedia/commons/thumb/2/26/Toffoli_gate.svg/150px-Toffoli_gate.svg.png"/>
            <p:cNvPicPr/>
            <p:nvPr/>
          </p:nvPicPr>
          <p:blipFill>
            <a:blip r:embed="rId2"/>
            <a:stretch/>
          </p:blipFill>
          <p:spPr>
            <a:xfrm>
              <a:off x="3246120" y="3370320"/>
              <a:ext cx="142884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41"/>
            <p:cNvSpPr/>
            <p:nvPr/>
          </p:nvSpPr>
          <p:spPr>
            <a:xfrm>
              <a:off x="3201840" y="45226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Calibri"/>
                  <a:ea typeface="Arial"/>
                </a:rPr>
                <a:t>Toffol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1"/>
            <p:cNvSpPr/>
            <p:nvPr/>
          </p:nvSpPr>
          <p:spPr>
            <a:xfrm>
              <a:off x="2398680" y="4982760"/>
              <a:ext cx="312408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lip z iff x=y=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niversal; generates all permutations of n-bit string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"/>
          <p:cNvGrpSpPr/>
          <p:nvPr/>
        </p:nvGrpSpPr>
        <p:grpSpPr>
          <a:xfrm>
            <a:off x="5486400" y="3236760"/>
            <a:ext cx="3816360" cy="3612240"/>
            <a:chOff x="5486400" y="3236760"/>
            <a:chExt cx="3816360" cy="3612240"/>
          </a:xfrm>
        </p:grpSpPr>
        <p:pic>
          <p:nvPicPr>
            <p:cNvPr id="167" name="Picture 6" descr="http://upload.wikimedia.org/wikipedia/commons/thumb/c/ca/Fredkin_gate.svg/150px-Fredkin_gate.svg.png"/>
            <p:cNvPicPr/>
            <p:nvPr/>
          </p:nvPicPr>
          <p:blipFill>
            <a:blip r:embed="rId3"/>
            <a:stretch/>
          </p:blipFill>
          <p:spPr>
            <a:xfrm>
              <a:off x="6680160" y="3236760"/>
              <a:ext cx="142848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41"/>
            <p:cNvSpPr/>
            <p:nvPr/>
          </p:nvSpPr>
          <p:spPr>
            <a:xfrm>
              <a:off x="6608880" y="45208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Calibri"/>
                  <a:ea typeface="Arial"/>
                </a:rPr>
                <a:t>Fredk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1"/>
            <p:cNvSpPr/>
            <p:nvPr/>
          </p:nvSpPr>
          <p:spPr>
            <a:xfrm>
              <a:off x="5486400" y="4964760"/>
              <a:ext cx="381636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wap y,z iff x=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ike Toffoli but 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conservative 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preserves Hamming weight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41"/>
          <p:cNvSpPr/>
          <p:nvPr/>
        </p:nvSpPr>
        <p:spPr>
          <a:xfrm>
            <a:off x="368280" y="1552680"/>
            <a:ext cx="83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.e. permutations of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384120" y="2108160"/>
            <a:ext cx="83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round rul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waps are free, as are ancilla bits, as long as they’re returned to their initial states by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rcRect l="25141" t="6740" r="22068" b="-592"/>
          <a:stretch/>
        </p:blipFill>
        <p:spPr>
          <a:xfrm>
            <a:off x="2552760" y="22320"/>
            <a:ext cx="7064280" cy="7064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1"/>
          <p:cNvSpPr/>
          <p:nvPr/>
        </p:nvSpPr>
        <p:spPr>
          <a:xfrm>
            <a:off x="152280" y="152280"/>
            <a:ext cx="42674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Grier-Schaefer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ied all sets of reversible gates in terms of which n-bit reversible transformations they generat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ssuming swaps and ancilla bits are f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hy Toffoli Generates All Reversibl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"/>
              <p:cNvSpPr txBox="1"/>
              <p:nvPr/>
            </p:nvSpPr>
            <p:spPr>
              <a:xfrm>
                <a:off x="2209680" y="1828800"/>
                <a:ext cx="4927680" cy="431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g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Isosceles Triangle 1"/>
          <p:cNvSpPr/>
          <p:nvPr/>
        </p:nvSpPr>
        <p:spPr>
          <a:xfrm>
            <a:off x="1427040" y="3992400"/>
            <a:ext cx="3810240" cy="2551320"/>
          </a:xfrm>
          <a:prstGeom prst="triangle">
            <a:avLst>
              <a:gd name="adj" fmla="val 4844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17640" y="230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wo Meanings of “Universali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1"/>
          <p:cNvSpPr/>
          <p:nvPr/>
        </p:nvSpPr>
        <p:spPr>
          <a:xfrm>
            <a:off x="293760" y="1066680"/>
            <a:ext cx="85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uring’s “Existence of the Software Industry Lemma”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 exists a machine U such that U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x)=P(x) for all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1"/>
          <p:cNvSpPr/>
          <p:nvPr/>
        </p:nvSpPr>
        <p:spPr>
          <a:xfrm>
            <a:off x="584280" y="2590920"/>
            <a:ext cx="8434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Church-Turing “Ceiling of Expressive Pow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vision, when I first learned what programming was as an 11-year-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1655640" y="4297320"/>
            <a:ext cx="32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cottLa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as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Bas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W-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5405400" y="434340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pe!  GW-BASIC can already do everything, in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Brace 2"/>
          <p:cNvSpPr/>
          <p:nvPr/>
        </p:nvSpPr>
        <p:spPr>
          <a:xfrm>
            <a:off x="152280" y="2438280"/>
            <a:ext cx="533520" cy="41911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3680 h 4191120"/>
              <a:gd name="textAreaBottom" fmla="*/ 41774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"/>
                  <a:pt x="10800" y="229"/>
                </a:cubicBezTo>
                <a:lnTo>
                  <a:pt x="10800" y="10571"/>
                </a:lnTo>
                <a:cubicBezTo>
                  <a:pt x="10800" y="10686"/>
                  <a:pt x="5400" y="10800"/>
                  <a:pt x="0" y="10800"/>
                </a:cubicBezTo>
                <a:cubicBezTo>
                  <a:pt x="5400" y="10800"/>
                  <a:pt x="10800" y="10915"/>
                  <a:pt x="10800" y="11029"/>
                </a:cubicBezTo>
                <a:lnTo>
                  <a:pt x="10800" y="21371"/>
                </a:lnTo>
                <a:cubicBezTo>
                  <a:pt x="10800" y="21486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&quot;No&quot; Symbol 3"/>
          <p:cNvSpPr/>
          <p:nvPr/>
        </p:nvSpPr>
        <p:spPr>
          <a:xfrm>
            <a:off x="1687680" y="3745080"/>
            <a:ext cx="3047760" cy="3047760"/>
          </a:xfrm>
          <a:custGeom>
            <a:avLst/>
            <a:gdLst/>
            <a:ahLst/>
            <a:rect l="l" t="t" r="r" b="b"/>
            <a:pathLst>
              <a:path w="3048000" h="3048000">
                <a:moveTo>
                  <a:pt x="0" y="1524000"/>
                </a:moveTo>
                <a:cubicBezTo>
                  <a:pt x="0" y="682318"/>
                  <a:pt x="682318" y="0"/>
                  <a:pt x="1524000" y="0"/>
                </a:cubicBezTo>
                <a:cubicBezTo>
                  <a:pt x="2365682" y="0"/>
                  <a:pt x="3048000" y="682318"/>
                  <a:pt x="3048000" y="1524000"/>
                </a:cubicBezTo>
                <a:cubicBezTo>
                  <a:pt x="3048000" y="2365682"/>
                  <a:pt x="2365682" y="3048000"/>
                  <a:pt x="1524000" y="3048000"/>
                </a:cubicBezTo>
                <a:cubicBezTo>
                  <a:pt x="682318" y="3048000"/>
                  <a:pt x="0" y="2365682"/>
                  <a:pt x="0" y="1524000"/>
                </a:cubicBezTo>
                <a:close/>
                <a:moveTo>
                  <a:pt x="2508528" y="2332620"/>
                </a:moveTo>
                <a:cubicBezTo>
                  <a:pt x="2924540" y="1826108"/>
                  <a:pt x="2888354" y="1086598"/>
                  <a:pt x="2424877" y="623122"/>
                </a:cubicBezTo>
                <a:cubicBezTo>
                  <a:pt x="1961401" y="159646"/>
                  <a:pt x="1221891" y="123459"/>
                  <a:pt x="715379" y="539471"/>
                </a:cubicBezTo>
                <a:lnTo>
                  <a:pt x="2508528" y="2332620"/>
                </a:lnTo>
                <a:close/>
                <a:moveTo>
                  <a:pt x="539472" y="715380"/>
                </a:moveTo>
                <a:cubicBezTo>
                  <a:pt x="123460" y="1221892"/>
                  <a:pt x="159646" y="1961402"/>
                  <a:pt x="623123" y="2424878"/>
                </a:cubicBezTo>
                <a:cubicBezTo>
                  <a:pt x="1086599" y="2888354"/>
                  <a:pt x="1826109" y="2924541"/>
                  <a:pt x="2332621" y="2508529"/>
                </a:cubicBezTo>
                <a:lnTo>
                  <a:pt x="539472" y="71538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228600"/>
            <a:ext cx="9144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3 Combinatorial Results that Shape the Classification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Arial"/>
              </a:rPr>
              <a:t>(Proofs left as exercises for the audie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1"/>
          <p:cNvSpPr/>
          <p:nvPr/>
        </p:nvSpPr>
        <p:spPr>
          <a:xfrm>
            <a:off x="290520" y="2209680"/>
            <a:ext cx="83818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a reversible G satisfies |G(x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x|+j (mod k) for all x, then either k=2 or j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a nontrivial affine reversible transformation G satisfies |G(x)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x| (mod k) for all x,  then either k=2 or k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a non-conservative reversible transformation 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tisfies G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 (mod k) for all x,y, then k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My Favorite Open Problem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1"/>
          <p:cNvSpPr/>
          <p:nvPr/>
        </p:nvSpPr>
        <p:spPr>
          <a:xfrm>
            <a:off x="343080" y="1143000"/>
            <a:ext cx="85899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ssification of all possible sets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 acting on qubits, in terms of which unitaries they gen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complicated problem in representation theory and Lie algebras, but seems fundamental for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Grier-Schaeffer 2015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Classification of all possible sets of “stabilizer” quantum gates (discrete subgroup used in quantum error-corre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Aaronson-Bouland 2015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Classification of all 2-mode beamspl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ncrete ques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re there interesting discrete subgroup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n the stabilizer group and its conjugates?  Does every nontrivial continuous subgroup yield universal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9840" y="763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Discussion Ques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47760" y="835200"/>
            <a:ext cx="8267760" cy="60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What would a universe look like where the Physical Church-Turing Thesis was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false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Our quantum world?  Falsifies the </a:t>
            </a:r>
            <a:r>
              <a:rPr b="0" i="1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polynomial-time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 Physical C-T thesis, but not the original computability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Hypercomputing” universes: would allow ways to solve the halting problem that, in our world, appear precluded by quantum gravity (e.g. Bekenstein’s b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David Deutsch says that, with different laws of physics, the halting problem would be easy and the AND function would be hard.  </a:t>
            </a:r>
            <a:r>
              <a:rPr b="1" lang="en-CA" sz="2000" spc="-1" strike="noStrike">
                <a:solidFill>
                  <a:srgbClr val="000000"/>
                </a:solidFill>
                <a:latin typeface="Calibri"/>
                <a:ea typeface="Arial"/>
              </a:rPr>
              <a:t>What are those la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What would an interesting model of computation look like that could solve its own halting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What would an interesting universe look like that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Arial"/>
              </a:rPr>
              <a:t>couldn’t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 do universal compu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eft Brace 8"/>
          <p:cNvSpPr/>
          <p:nvPr/>
        </p:nvSpPr>
        <p:spPr>
          <a:xfrm>
            <a:off x="76320" y="5943600"/>
            <a:ext cx="380880" cy="762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2120"/>
              <a:gd name="textAreaBottom" fmla="*/ 7524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igicomp.mp4" descr=""/>
          <p:cNvPicPr/>
          <p:nvPr/>
        </p:nvPicPr>
        <p:blipFill>
          <a:blip r:embed="rId1"/>
          <a:stretch/>
        </p:blipFill>
        <p:spPr>
          <a:xfrm>
            <a:off x="1422360" y="167652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Digi-Comp II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(In the lobby of the MIT Stata Center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57200" y="1976400"/>
            <a:ext cx="3429000" cy="146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It can multiply!  It can divide!  It can sort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486400" y="3530520"/>
            <a:ext cx="3429000" cy="100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Me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“Real question is, what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can’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it do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1127160" y="5105520"/>
            <a:ext cx="7010280" cy="146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Is this silly device with metal balls a universal computer?  If so, wow!  If not, what prevents it from being o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6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380880" y="12952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CC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(Comparator Circuit): Complexity class defined by Subramanian in 1990, between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NL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br>
              <a:rPr sz="3000"/>
            </a:b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	</a:t>
            </a:r>
            <a:r>
              <a:rPr b="1" lang="en-CA" sz="2400" spc="-1" strike="noStrike">
                <a:solidFill>
                  <a:srgbClr val="009900"/>
                </a:solidFill>
                <a:latin typeface="Calibri"/>
                <a:ea typeface="Arial"/>
              </a:rPr>
              <a:t>A CC-complete problem is Stable Marri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156200" y="2897280"/>
            <a:ext cx="168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P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80880" y="1522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 (A.)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A natural idealization of the Digi-Comp II solves exactly the problems in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CC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28600" y="2886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DigiCo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248520" y="28749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Compar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4290840" y="458460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6"/>
          <p:cNvSpPr/>
          <p:nvPr/>
        </p:nvSpPr>
        <p:spPr>
          <a:xfrm>
            <a:off x="4551480" y="45846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0"/>
          <p:cNvSpPr/>
          <p:nvPr/>
        </p:nvSpPr>
        <p:spPr>
          <a:xfrm>
            <a:off x="4813200" y="45846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1"/>
          <p:cNvSpPr/>
          <p:nvPr/>
        </p:nvSpPr>
        <p:spPr>
          <a:xfrm>
            <a:off x="5073480" y="4584600"/>
            <a:ext cx="2620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2"/>
          <p:cNvSpPr/>
          <p:nvPr/>
        </p:nvSpPr>
        <p:spPr>
          <a:xfrm>
            <a:off x="5335560" y="45846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3"/>
          <p:cNvSpPr/>
          <p:nvPr/>
        </p:nvSpPr>
        <p:spPr>
          <a:xfrm>
            <a:off x="3952800" y="5584680"/>
            <a:ext cx="262080" cy="262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4"/>
          <p:cNvSpPr/>
          <p:nvPr/>
        </p:nvSpPr>
        <p:spPr>
          <a:xfrm>
            <a:off x="4214880" y="5584680"/>
            <a:ext cx="260280" cy="262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5"/>
          <p:cNvSpPr/>
          <p:nvPr/>
        </p:nvSpPr>
        <p:spPr>
          <a:xfrm>
            <a:off x="5194440" y="557532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6"/>
          <p:cNvSpPr/>
          <p:nvPr/>
        </p:nvSpPr>
        <p:spPr>
          <a:xfrm>
            <a:off x="5454720" y="557532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7"/>
          <p:cNvSpPr/>
          <p:nvPr/>
        </p:nvSpPr>
        <p:spPr>
          <a:xfrm>
            <a:off x="5716440" y="557532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8"/>
          <p:cNvSpPr/>
          <p:nvPr/>
        </p:nvSpPr>
        <p:spPr>
          <a:xfrm>
            <a:off x="408312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9"/>
          <p:cNvSpPr/>
          <p:nvPr/>
        </p:nvSpPr>
        <p:spPr>
          <a:xfrm>
            <a:off x="494352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0"/>
          <p:cNvSpPr/>
          <p:nvPr/>
        </p:nvSpPr>
        <p:spPr>
          <a:xfrm>
            <a:off x="5205240" y="367020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1"/>
          <p:cNvSpPr/>
          <p:nvPr/>
        </p:nvSpPr>
        <p:spPr>
          <a:xfrm>
            <a:off x="546588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2"/>
          <p:cNvSpPr/>
          <p:nvPr/>
        </p:nvSpPr>
        <p:spPr>
          <a:xfrm>
            <a:off x="5727600" y="36702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3586320" y="5956200"/>
            <a:ext cx="118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x/2</a:t>
            </a: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5005440" y="5956200"/>
            <a:ext cx="118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x/2</a:t>
            </a: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35"/>
          <p:cNvCxnSpPr>
            <a:endCxn id="194" idx="0"/>
          </p:cNvCxnSpPr>
          <p:nvPr/>
        </p:nvCxnSpPr>
        <p:spPr>
          <a:xfrm>
            <a:off x="4271760" y="3930120"/>
            <a:ext cx="410040" cy="65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Straight Arrow Connector 37"/>
          <p:cNvCxnSpPr/>
          <p:nvPr/>
        </p:nvCxnSpPr>
        <p:spPr>
          <a:xfrm>
            <a:off x="5194080" y="4844520"/>
            <a:ext cx="432360" cy="73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Straight Arrow Connector 39"/>
          <p:cNvCxnSpPr/>
          <p:nvPr/>
        </p:nvCxnSpPr>
        <p:spPr>
          <a:xfrm flipH="1">
            <a:off x="4223880" y="4835160"/>
            <a:ext cx="448560" cy="74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13" name="Straight Arrow Connector 42"/>
          <p:cNvCxnSpPr>
            <a:endCxn id="196" idx="0"/>
          </p:cNvCxnSpPr>
          <p:nvPr/>
        </p:nvCxnSpPr>
        <p:spPr>
          <a:xfrm flipH="1">
            <a:off x="5204880" y="3919320"/>
            <a:ext cx="23256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14" name="Text Box 10"/>
          <p:cNvSpPr/>
          <p:nvPr/>
        </p:nvSpPr>
        <p:spPr>
          <a:xfrm>
            <a:off x="7143840" y="4425840"/>
            <a:ext cx="1295280" cy="550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Straight Arrow Connector 50"/>
          <p:cNvCxnSpPr/>
          <p:nvPr/>
        </p:nvCxnSpPr>
        <p:spPr>
          <a:xfrm>
            <a:off x="7392600" y="4057560"/>
            <a:ext cx="1080" cy="365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" name="Straight Arrow Connector 54"/>
          <p:cNvCxnSpPr/>
          <p:nvPr/>
        </p:nvCxnSpPr>
        <p:spPr>
          <a:xfrm>
            <a:off x="8154720" y="4057560"/>
            <a:ext cx="1080" cy="365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7" name="Straight Arrow Connector 55"/>
          <p:cNvCxnSpPr/>
          <p:nvPr/>
        </p:nvCxnSpPr>
        <p:spPr>
          <a:xfrm>
            <a:off x="7392600" y="4979520"/>
            <a:ext cx="1080" cy="366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8" name="Straight Arrow Connector 56"/>
          <p:cNvCxnSpPr/>
          <p:nvPr/>
        </p:nvCxnSpPr>
        <p:spPr>
          <a:xfrm>
            <a:off x="8154720" y="4979520"/>
            <a:ext cx="1080" cy="366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9" name="Text Box 10"/>
          <p:cNvSpPr/>
          <p:nvPr/>
        </p:nvSpPr>
        <p:spPr>
          <a:xfrm>
            <a:off x="7164360" y="363060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7907400" y="362124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164360" y="520848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7907400" y="519732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dcii_6"/>
          <p:cNvPicPr/>
          <p:nvPr/>
        </p:nvPicPr>
        <p:blipFill>
          <a:blip r:embed="rId1"/>
          <a:stretch/>
        </p:blipFill>
        <p:spPr>
          <a:xfrm>
            <a:off x="-1295280" y="3778200"/>
            <a:ext cx="4414680" cy="3309840"/>
          </a:xfrm>
          <a:prstGeom prst="rect">
            <a:avLst/>
          </a:prstGeom>
          <a:ln w="0">
            <a:noFill/>
          </a:ln>
        </p:spPr>
      </p:pic>
      <p:sp>
        <p:nvSpPr>
          <p:cNvPr id="224" name="Left-Right Arrow 53"/>
          <p:cNvSpPr/>
          <p:nvPr/>
        </p:nvSpPr>
        <p:spPr>
          <a:xfrm>
            <a:off x="2874960" y="4159080"/>
            <a:ext cx="1143000" cy="1235160"/>
          </a:xfrm>
          <a:prstGeom prst="leftRightArrow">
            <a:avLst>
              <a:gd name="adj1" fmla="val 33944"/>
              <a:gd name="adj2" fmla="val 29759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eft-Right Arrow 63"/>
          <p:cNvSpPr/>
          <p:nvPr/>
        </p:nvSpPr>
        <p:spPr>
          <a:xfrm>
            <a:off x="5843520" y="4116240"/>
            <a:ext cx="1143000" cy="1235160"/>
          </a:xfrm>
          <a:prstGeom prst="leftRightArrow">
            <a:avLst>
              <a:gd name="adj1" fmla="val 33944"/>
              <a:gd name="adj2" fmla="val 29759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343080" y="121932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subject of universality is almost 100 years old—almost 200 if we go back to Lady Ada—yet there are still basic questions that remain to be ans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Expressiveness Ceilings Everywhe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293760" y="1066680"/>
            <a:ext cx="8589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programming language or cellular automaton you can think to invent, provided it’s “sufficiently complicated,” can simulate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3 or 4, almost any n-bit logic gate will be able to express all Boolea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2-qubit unitary transformation can be used to approximate any unitary transformation on any number of qubits, to any desired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1447920" y="5334120"/>
            <a:ext cx="685800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could there possibly be to say about such phenomena that’s 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theoryandpractice.org/images/Standard-Model.jpg"/>
          <p:cNvPicPr/>
          <p:nvPr/>
        </p:nvPicPr>
        <p:blipFill>
          <a:blip r:embed="rId1"/>
          <a:stretch/>
        </p:blipFill>
        <p:spPr>
          <a:xfrm>
            <a:off x="3021120" y="3124080"/>
            <a:ext cx="609588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life"/>
          <p:cNvPicPr/>
          <p:nvPr/>
        </p:nvPicPr>
        <p:blipFill>
          <a:blip r:embed="rId2"/>
          <a:stretch/>
        </p:blipFill>
        <p:spPr>
          <a:xfrm>
            <a:off x="304920" y="233280"/>
            <a:ext cx="5333760" cy="26877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1"/>
          <p:cNvSpPr/>
          <p:nvPr/>
        </p:nvSpPr>
        <p:spPr>
          <a:xfrm>
            <a:off x="1116000" y="3352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ver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5867280" y="182520"/>
            <a:ext cx="3124440" cy="3506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Turing-universality is “common as dirt,” then it gives no basis to distinguish “our” laws from, say, Conway’s Game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1"/>
          <p:cNvSpPr/>
          <p:nvPr/>
        </p:nvSpPr>
        <p:spPr>
          <a:xfrm>
            <a:off x="533520" y="1074600"/>
            <a:ext cx="81532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cent explorations, by me and my students, into more “fine-grained” notions of univer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uke Schaeffer, ICALP 201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hysically universal cellular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am Yedidia, work in progres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mall Turing machines that do interest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Grier-Schaeffer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ication of reversible Boolean logic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me favorite ope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-4680" y="15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hysical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282600" y="1036800"/>
            <a:ext cx="854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bility to do universal computatio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bility to manipulate physical world in any desired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1"/>
          <p:cNvSpPr/>
          <p:nvPr/>
        </p:nvSpPr>
        <p:spPr>
          <a:xfrm>
            <a:off x="301680" y="4613400"/>
            <a:ext cx="8542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uppose I gave you an oracle for NP-complete problems.  Could you use it to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 Take over the world?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 Cure cancer?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 Make someone fall in love with you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https://upload.wikimedia.org/wikipedia/commons/thumb/a/a2/Turing_machine_2b.svg/300px-Turing_machine_2b.svg.png"/>
          <p:cNvPicPr/>
          <p:nvPr/>
        </p:nvPicPr>
        <p:blipFill>
          <a:blip r:embed="rId1"/>
          <a:stretch/>
        </p:blipFill>
        <p:spPr>
          <a:xfrm>
            <a:off x="762120" y="2992320"/>
            <a:ext cx="3682800" cy="873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://kitchen-electronics.weebly.com/uploads/2/7/1/1/27118291/6608936_orig.jpg"/>
          <p:cNvPicPr/>
          <p:nvPr/>
        </p:nvPicPr>
        <p:blipFill>
          <a:blip r:embed="rId2"/>
          <a:stretch/>
        </p:blipFill>
        <p:spPr>
          <a:xfrm>
            <a:off x="4267080" y="2689200"/>
            <a:ext cx="1866960" cy="18115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1"/>
          <p:cNvSpPr/>
          <p:nvPr/>
        </p:nvSpPr>
        <p:spPr>
          <a:xfrm>
            <a:off x="282600" y="2162160"/>
            <a:ext cx="854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The Toaster-Enhanced Turing Machine (TETM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438280" y="5099040"/>
            <a:ext cx="3505320" cy="1758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380880" y="228600"/>
            <a:ext cx="854244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Janzing 2010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all a cellular automato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physically univers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f it can implement any desired transformation on any finite region R, provided we appropriately initialize the complement of 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Does there exist a physically universal CA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onway’s Lif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Not physically universal, because not reversible.  No detectors outside R can tell whether the center of R contained an isolated particle that d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Many Reversible CA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till not physically universal, because of the possibility of constructing “impenetrable walls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3884760" y="5638680"/>
            <a:ext cx="841320" cy="612720"/>
          </a:xfrm>
          <a:prstGeom prst="rect">
            <a:avLst/>
          </a:prstGeom>
          <a:noFill/>
          <a:ln w="507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570120" y="5297400"/>
            <a:ext cx="1470240" cy="1362240"/>
          </a:xfrm>
          <a:prstGeom prst="rect">
            <a:avLst/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003560" y="5638680"/>
            <a:ext cx="187560" cy="187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autoRev="1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0254 L 0.05191 0.06408 E">
                                      <p:cBhvr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-6480" y="152280"/>
            <a:ext cx="914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Luke Schaeffer’s Automaton (20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1"/>
          <p:cNvSpPr/>
          <p:nvPr/>
        </p:nvSpPr>
        <p:spPr>
          <a:xfrm>
            <a:off x="295200" y="1143000"/>
            <a:ext cx="793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first known example of a physically universal C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Interaction Table"/>
          <p:cNvPicPr/>
          <p:nvPr/>
        </p:nvPicPr>
        <p:blipFill>
          <a:blip r:embed="rId1"/>
          <a:stretch/>
        </p:blipFill>
        <p:spPr>
          <a:xfrm>
            <a:off x="838080" y="1905120"/>
            <a:ext cx="7586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://web.mit.edu/lrs/www/physCA/partinput.gif"/>
          <p:cNvPicPr/>
          <p:nvPr/>
        </p:nvPicPr>
        <p:blipFill>
          <a:blip r:embed="rId1"/>
          <a:stretch/>
        </p:blipFill>
        <p:spPr>
          <a:xfrm>
            <a:off x="1066680" y="36360"/>
            <a:ext cx="68169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6-01-01T02:32:47Z</dcterms:modified>
  <cp:revision>494</cp:revision>
  <dc:subject/>
  <dc:title>The Future of Computer Science</dc:title>
</cp:coreProperties>
</file>