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AC8-6FBA-4A41-8DDD-EDE31B72B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9C4-C115-4DD3-AFA4-2B87E1D379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216F-F236-417F-BEEB-395FB25E3F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D8C8-749F-48D0-A25D-7201046A17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8DF-1EEF-442E-A4A3-BD1FD76F39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6F4-EF33-428E-9705-1C70FBC0E6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33D-D6BD-495C-AF21-77CB8B960B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BFAA-60B7-4804-AC3C-02D63941EC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9F57-4D34-4828-B4A1-C61284B694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0B22-A0E2-4744-9D64-1E8ACA3A51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88F-B62A-42AC-9D16-992F5ECECC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629-1DAE-4F61-8E92-310EE39FA2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205-92A9-4595-B495-905ADC6523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1D8-C429-4FE4-9FA9-949759F90C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16B4-3FF5-4C55-BC5D-7F81F04706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408-1B1C-460A-8D2D-97CD12D5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122-FE5F-4B18-87DE-510C7811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F96-16A0-44DF-817A-AB2589B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DF4-3712-46D5-BEC7-48893D2B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31D-0D76-4771-8F9F-F16E70F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8D4-DECC-4AB1-855A-74957B22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FAE-319F-4B6C-863B-E4DE38C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0A6-FF3A-4873-BC57-0BD25DB3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C96-3137-49CF-A495-0315436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636-0433-4446-A50B-B17F84D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1A5-6BDB-4E65-A8B0-74C965B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C5A-4479-4B08-AA7D-E24EC8C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474-4BD1-45D2-8C1C-9B8BEA384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FBA-040D-4E97-81BD-677AE57F7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205092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6664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ons Institute Workshop on Quantum Devic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4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On Entropy from Random Circui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619360"/>
            <a:ext cx="1371600" cy="1292400"/>
            <a:chOff x="5472000" y="261936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89080" y="2649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749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3396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3028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638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672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750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686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710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636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730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664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652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761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582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460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3364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777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3269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711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494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535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731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430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437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501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489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533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556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713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600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744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763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606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653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642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670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702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619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633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724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675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821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3349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3349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3354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437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3353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3396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3288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3261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3263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3283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3282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3279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3283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749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928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3195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734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722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730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772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481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78928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215568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46852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76228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esigning the 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82680" y="1219320"/>
            <a:ext cx="842328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difficult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is trying to convince Arthur of statements like “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≥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that won’t work!  What if Pr[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is right near the threshold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suppose Merlin only needs to convince Arthur that Pr[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≥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Won’t we then degrade soundness, in an infinite reg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must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≤½ such that there’s a large completeness/soundness gap between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1/n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So hardwir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ad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arameterology with Noisy Q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43080" y="1228680"/>
            <a:ext cx="55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aranteed min-entropy per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6324480" y="2743200"/>
            <a:ext cx="2324160" cy="106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ositive whe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q &g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"/>
          <p:cNvGraphicFramePr/>
          <p:nvPr/>
        </p:nvGraphicFramePr>
        <p:xfrm>
          <a:off x="5784840" y="1019160"/>
          <a:ext cx="2949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1019160"/>
                    <a:ext cx="29494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2"/>
          <p:cNvSpPr/>
          <p:nvPr/>
        </p:nvSpPr>
        <p:spPr>
          <a:xfrm>
            <a:off x="347760" y="4343400"/>
            <a:ext cx="842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isier hardw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wer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larger b to get bq&gt;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decreases even mor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scape rou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 QC’s fidelity,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k is the number of samples per round.  Then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and bq&gt;1 by the Law of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22200" y="1981080"/>
            <a:ext cx="568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= Linear XEB threshold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 = QC’s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= log(assumed LLQSV hardne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68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maining parts of th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368280" y="1295280"/>
            <a:ext cx="84582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ed to generate challenge circuits pseudorandomly (from a small seed), and need to show that this preserves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hat turns out to work: assume a PRF secure against the class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SZK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(Quantum Statistical Zero Knowledge).  There are many plausible candi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ed to sho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umu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multiple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Most complicated part.  Uses a combinatorial lemma from Ron Peled, among other ingre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iggest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4120" y="1143000"/>
            <a:ext cx="8373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ke the verification efficient (poly(n) rather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til one does, will always be a “cat-and-mouse” game of verifier vs. spoo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What gives hop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erification needs to be done only a few times, spoofing must be done co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spoofer could always buy more hardware, paralle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Brakerski et al. (2018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ve a beautiful certified randomness scheme with efficient verification, using LWE.  But unclear if it can be practical in NISQ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an we get both efficient verification and NISQ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84120" y="990720"/>
            <a:ext cx="83739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make the protocol much more efficient and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soundness under less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should others trust the verifier?  Cryptographic solutions to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oogle’s Supremacy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85840" y="102888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ortly before civilization collapsed, Google showed that, using their 53-qubit programmable chip Sycamore, they could take as input a description of a quantum circuit C, and then produce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d well a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inear Cross-Entropy Benchma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Linear XEB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1600200" y="3200400"/>
          <a:ext cx="6634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63408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2"/>
          <p:cNvSpPr/>
          <p:nvPr/>
        </p:nvSpPr>
        <p:spPr>
          <a:xfrm>
            <a:off x="285840" y="513720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(number of qubits) = 5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(number of sample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5 mill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(fidelity measur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5840" y="979560"/>
            <a:ext cx="8467560" cy="39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uniformly at random, we’d expect b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a perfect QC, we’d expect b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don’t know of any poly(n)-time classical algorithm to achieve b=1.00001, or even b=1+exp(-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And there’s modest complexity-theoretic evidence against such an algorithm (A.-Chen 2017, A.-Gunn 20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, b=1.00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suprem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85840" y="4950000"/>
            <a:ext cx="846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drawbac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far as we know, verifying the samples takes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—just like classical spoofing does!  So if n is small enough for verifying, maybe it’s small enough for spoofing?  (cf. IBM’s response to Goog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 Are Such Experiments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990720" y="1447920"/>
            <a:ext cx="7162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Disproving the people who said quantum computing speedups were im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38040" y="24300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 2018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enerating bits that we can show are random, under plausibl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1603440" y="2122560"/>
            <a:ext cx="1369440" cy="1290240"/>
            <a:chOff x="1603440" y="2122560"/>
            <a:chExt cx="1369440" cy="1290240"/>
          </a:xfrm>
        </p:grpSpPr>
        <p:sp>
          <p:nvSpPr>
            <p:cNvPr id="132" name="Freeform 6"/>
            <p:cNvSpPr/>
            <p:nvPr/>
          </p:nvSpPr>
          <p:spPr>
            <a:xfrm>
              <a:off x="1820160" y="215316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1911960" y="22528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1990440" y="289872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243880" y="25308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83080" y="313992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2683080" y="317412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2687400" y="32518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2690280" y="318816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2899080" y="32119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672640" y="313848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841840" y="32320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2762280" y="31662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728800" y="31539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2618640" y="326304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622520" y="308376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1822320" y="29624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024640" y="28670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2358000" y="22806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1991880" y="277164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1867320" y="221436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2318040" y="29966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2413440" y="30373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1613160" y="323316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1811160" y="293220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2568960" y="293940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2311560" y="30031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2320560" y="299160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2407680" y="303480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1761120" y="30585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1647360" y="321516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2547720" y="310176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7"/>
            <p:cNvSpPr/>
            <p:nvPr/>
          </p:nvSpPr>
          <p:spPr>
            <a:xfrm>
              <a:off x="2590200" y="32461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8"/>
            <p:cNvSpPr/>
            <p:nvPr/>
          </p:nvSpPr>
          <p:spPr>
            <a:xfrm>
              <a:off x="1629360" y="326484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9"/>
            <p:cNvSpPr/>
            <p:nvPr/>
          </p:nvSpPr>
          <p:spPr>
            <a:xfrm>
              <a:off x="1813320" y="310824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0"/>
            <p:cNvSpPr/>
            <p:nvPr/>
          </p:nvSpPr>
          <p:spPr>
            <a:xfrm>
              <a:off x="1787400" y="315540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>
              <a:off x="2408400" y="31442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>
              <a:off x="2434680" y="31726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2443680" y="320436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>
              <a:off x="1794600" y="212256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5"/>
            <p:cNvSpPr/>
            <p:nvPr/>
          </p:nvSpPr>
          <p:spPr>
            <a:xfrm>
              <a:off x="2531520" y="21369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>
              <a:off x="2482560" y="222768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>
              <a:off x="2449800" y="21787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>
              <a:off x="1793880" y="23245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9"/>
            <p:cNvSpPr/>
            <p:nvPr/>
          </p:nvSpPr>
          <p:spPr>
            <a:xfrm>
              <a:off x="1944720" y="285120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0"/>
            <p:cNvSpPr/>
            <p:nvPr/>
          </p:nvSpPr>
          <p:spPr>
            <a:xfrm>
              <a:off x="2401920" y="285192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1990440" y="285696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>
              <a:off x="1951200" y="293940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>
              <a:off x="2324520" y="28555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4"/>
            <p:cNvSpPr/>
            <p:nvPr/>
          </p:nvSpPr>
          <p:spPr>
            <a:xfrm>
              <a:off x="2437920" y="289872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5"/>
            <p:cNvSpPr/>
            <p:nvPr/>
          </p:nvSpPr>
          <p:spPr>
            <a:xfrm>
              <a:off x="1981440" y="27910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6"/>
            <p:cNvSpPr/>
            <p:nvPr/>
          </p:nvSpPr>
          <p:spPr>
            <a:xfrm>
              <a:off x="1983240" y="27640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7"/>
            <p:cNvSpPr/>
            <p:nvPr/>
          </p:nvSpPr>
          <p:spPr>
            <a:xfrm>
              <a:off x="2367720" y="27658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8"/>
            <p:cNvSpPr/>
            <p:nvPr/>
          </p:nvSpPr>
          <p:spPr>
            <a:xfrm>
              <a:off x="2286360" y="27853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9"/>
            <p:cNvSpPr/>
            <p:nvPr/>
          </p:nvSpPr>
          <p:spPr>
            <a:xfrm>
              <a:off x="2212200" y="278424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0"/>
            <p:cNvSpPr/>
            <p:nvPr/>
          </p:nvSpPr>
          <p:spPr>
            <a:xfrm>
              <a:off x="2126520" y="27820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1"/>
            <p:cNvSpPr/>
            <p:nvPr/>
          </p:nvSpPr>
          <p:spPr>
            <a:xfrm>
              <a:off x="2052360" y="278604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>
              <a:off x="2269080" y="22528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3"/>
            <p:cNvSpPr/>
            <p:nvPr/>
          </p:nvSpPr>
          <p:spPr>
            <a:xfrm>
              <a:off x="1873800" y="243144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4"/>
            <p:cNvSpPr/>
            <p:nvPr/>
          </p:nvSpPr>
          <p:spPr>
            <a:xfrm>
              <a:off x="1986120" y="26974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5"/>
            <p:cNvSpPr/>
            <p:nvPr/>
          </p:nvSpPr>
          <p:spPr>
            <a:xfrm>
              <a:off x="2367000" y="223740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6"/>
            <p:cNvSpPr/>
            <p:nvPr/>
          </p:nvSpPr>
          <p:spPr>
            <a:xfrm>
              <a:off x="1603440" y="32238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7"/>
            <p:cNvSpPr/>
            <p:nvPr/>
          </p:nvSpPr>
          <p:spPr>
            <a:xfrm>
              <a:off x="1873080" y="22330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8"/>
            <p:cNvSpPr/>
            <p:nvPr/>
          </p:nvSpPr>
          <p:spPr>
            <a:xfrm>
              <a:off x="1909800" y="22755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9"/>
            <p:cNvSpPr/>
            <p:nvPr/>
          </p:nvSpPr>
          <p:spPr>
            <a:xfrm>
              <a:off x="1805400" y="29833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"/>
          <p:cNvSpPr/>
          <p:nvPr/>
        </p:nvSpPr>
        <p:spPr>
          <a:xfrm>
            <a:off x="838080" y="139716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80000" y="209880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198" name="Straight Arrow Connector 72"/>
          <p:cNvCxnSpPr/>
          <p:nvPr/>
        </p:nvCxnSpPr>
        <p:spPr>
          <a:xfrm>
            <a:off x="2871720" y="23238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199" name="Straight Arrow Connector 73"/>
          <p:cNvCxnSpPr/>
          <p:nvPr/>
        </p:nvCxnSpPr>
        <p:spPr>
          <a:xfrm>
            <a:off x="2878200" y="25826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00" name="Straight Arrow Connector 74"/>
          <p:cNvCxnSpPr/>
          <p:nvPr/>
        </p:nvCxnSpPr>
        <p:spPr>
          <a:xfrm>
            <a:off x="2863440" y="284436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1" name="Straight Arrow Connector 75"/>
          <p:cNvCxnSpPr/>
          <p:nvPr/>
        </p:nvCxnSpPr>
        <p:spPr>
          <a:xfrm>
            <a:off x="2863440" y="31078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02" name="TextBox 80"/>
          <p:cNvSpPr/>
          <p:nvPr/>
        </p:nvSpPr>
        <p:spPr>
          <a:xfrm rot="5400000">
            <a:off x="285480" y="2249640"/>
            <a:ext cx="17636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95200" y="3916440"/>
            <a:ext cx="8467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able in crypto applications, like proof-of-stake cryptocurrencies? Preferable (ever) to simpler alternatives?  As I’ll discuss, we don’t know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f nothing else, the protocol makes i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n-obvi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sampling on NISQ devices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680" y="1219320"/>
            <a:ext cx="870264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a few random iterations t, and for each one, calculates the Linear Cross-Entropy sc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 test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152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must there b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entropy in the server’s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71520" y="1657440"/>
            <a:ext cx="840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o the contrary that S=f(C), for some deterministic functio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ypically gets a high Linear Cross-Entropy score.  We want to show this would imply strange computational pow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85920" y="3657600"/>
            <a:ext cx="84024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ong List Quantum Supremacy Verification (LLQ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’re given a giant list of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You’re asked: were 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sampled uniformly at random, or was 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165560" y="614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 hard … even for a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2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71520" y="380880"/>
            <a:ext cx="84009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a fast QC could pass deterministically, then there would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rthur-Merlin where Arthur can send a classical random challenge to Merlin, get back a classical response, then verify it quantu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71520" y="2719440"/>
            <a:ext cx="84009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whole problem boils down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roximate cou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how many i’s are there in our long list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01760" y="5129280"/>
            <a:ext cx="8400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sends Merlin a random hash function g, then Merlin sends back an i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g(i)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28954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5053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41148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7242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53341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9436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65530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1629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28954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35053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41148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47242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53341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59436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65530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71629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06440" y="6219720"/>
            <a:ext cx="8402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If the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’s were classical, ther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ould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be an </a:t>
            </a:r>
            <a:r>
              <a:rPr b="1" i="1" lang="en-US" sz="25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protocol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04920" y="1144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osting from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1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n) bits of min-entropy per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33360" y="1560600"/>
            <a:ext cx="84009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at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achine M samples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probability distribution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on samples that pass the Linear XEB te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 on sample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33360" y="3586320"/>
            <a:ext cx="8400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suppos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(p+q-1) &gt;&gt;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 with a quantum verifier running in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nd a small advice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358920" y="5310360"/>
            <a:ext cx="8518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can point Arthur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for which M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Arthur can use Grover search, taking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, to check Merlin’s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5-04T15:56:43Z</dcterms:modified>
  <cp:revision>468</cp:revision>
  <dc:subject/>
  <dc:title>BQP and the Polynomial Hierarchy</dc:title>
</cp:coreProperties>
</file>