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93E-DB67-4A7E-A756-78B16A050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4365-87BE-4B3E-A809-87A96F58D8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877-97B6-4DE4-ADDC-7B64AADE98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65D1-2DF7-40FF-8DFC-0AFD5B133C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0F16-8076-422C-A14B-01456A7170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3AC5-B07A-4849-B593-0A4DA5FDBE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E4BE-7D61-40BA-B76D-0A28EC3399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5DAE-CD5A-411D-99C0-33F4376D8B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31EA-A3AF-4853-9ADE-90B1ADC09D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268-C12D-42B2-A5F5-514745AA06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5CE7-B5D8-42B1-878E-A0ABD79011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00E-8D99-4DC1-B152-65C9C01BA0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E141-E8AF-44F5-B28B-75CFCD650B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30AB-D624-4BC4-A0F1-B4A01A2F70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EEAD-5C75-430C-A352-94C56F558B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7BE-A98D-4FBD-B840-2B97CC63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B39-4145-4BE0-B9F7-328131F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A21-A0DC-40A6-A3B8-7B78994B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323-485A-4DF9-A1D9-4742FFC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CB0-A4E0-48B0-B55B-9CF8765A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276-4E6F-41DA-BBA9-2CD18AC3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841-F14D-479D-BAA2-D3F911C3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4FF-0D4A-41D3-B155-7003BC4C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027-A14A-499B-98C8-517A53C2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D92-7D00-4188-84F8-C52798F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19A-6D3D-487F-ADAF-6A5D0B7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8C3-F9C6-4E34-B288-574E8DA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978F-4694-4273-A6F1-096ABFA63E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52E3-13D4-47DE-A925-AC2D45FCF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56520" y="2050920"/>
            <a:ext cx="152388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66640" y="4724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ons Institute Workshop on Quantum Devic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4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On Entropy from Random Circuit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72000" y="2619360"/>
            <a:ext cx="1371600" cy="1292400"/>
            <a:chOff x="5472000" y="2619360"/>
            <a:chExt cx="1371600" cy="1292400"/>
          </a:xfrm>
        </p:grpSpPr>
        <p:sp>
          <p:nvSpPr>
            <p:cNvPr id="52" name="Freeform 5"/>
            <p:cNvSpPr/>
            <p:nvPr/>
          </p:nvSpPr>
          <p:spPr>
            <a:xfrm>
              <a:off x="5689080" y="264996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81240" y="274968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59360" y="33966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13160" y="30283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53080" y="36381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53080" y="367236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57400" y="37501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60280" y="36864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69440" y="37101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42640" y="36367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12200" y="3730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32280" y="3664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598800" y="3652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88640" y="37616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491080" y="35820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691240" y="34603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893560" y="336456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27640" y="277740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61160" y="326916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36240" y="271152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87680" y="34945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83080" y="353520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81720" y="37314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79720" y="34300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38960" y="34372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81200" y="35010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89840" y="34898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77320" y="35330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0040" y="355644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15920" y="37134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17720" y="36000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0200" y="374436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497920" y="376308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82240" y="36064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56320" y="365364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78040" y="3642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04320" y="3670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13320" y="37026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63520" y="261936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01160" y="263376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52560" y="272448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19800" y="267552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62800" y="282168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13640" y="334908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71560" y="33498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59360" y="335484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20480" y="3437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194160" y="33534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07560" y="33966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50360" y="32889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52160" y="326160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37360" y="3263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55640" y="3283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81480" y="3282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5995800" y="327960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21280" y="3283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38360" y="274968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42720" y="292860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55400" y="31950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36640" y="273420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72000" y="37224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42000" y="273024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78720" y="277272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73960" y="3481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0120" y="278928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72440" y="215568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590920" y="246852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19520" y="276228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47760" y="249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esigning the 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82680" y="1219320"/>
            <a:ext cx="842328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difficult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rlin is trying to convince Arthur of statements like “M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≥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that won’t work!  What if Pr[M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is right near the threshold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suppose Merlin only needs to convince Arthur that Pr[M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≥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Won’t we then degrade soundness, in an infinite reg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re must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≤½ such that there’s a large completeness/soundness gap between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1/n)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So hardwir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ad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47760" y="249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arameterology with Noisy Q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43080" y="1228680"/>
            <a:ext cx="55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aranteed min-entropy per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6324480" y="2743200"/>
            <a:ext cx="2324160" cy="106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positive whe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q &g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"/>
          <p:cNvGraphicFramePr/>
          <p:nvPr/>
        </p:nvGraphicFramePr>
        <p:xfrm>
          <a:off x="5784840" y="1019160"/>
          <a:ext cx="2949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1019160"/>
                    <a:ext cx="29494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2"/>
          <p:cNvSpPr/>
          <p:nvPr/>
        </p:nvSpPr>
        <p:spPr>
          <a:xfrm>
            <a:off x="347760" y="4343400"/>
            <a:ext cx="842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isier hardw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ower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larger b to get bq&gt;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decreases even mor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scape rou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 QC’s fidelity,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k is the number of samples per round.  Then 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and bq&gt;1 by the Law of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22200" y="1981080"/>
            <a:ext cx="568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= Linear XEB threshold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 = QC’s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 = log(assumed LLQSV hardne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68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maining parts of th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368280" y="1295280"/>
            <a:ext cx="84582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ed to generate challenge circuits pseudorandomly (from a small seed), and need to show that this preserves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What turns out to work: assume a PRF secure against the class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  <a:ea typeface="Arial"/>
              </a:rPr>
              <a:t>QSZK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(Quantum Statistical Zero Knowledge).  There are many plausible candi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ed to sho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umu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min-entropy across multiple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Most complicated part.  Uses a combinatorial lemma from Ron Peled, among other ingre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84120" y="2206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iggest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84120" y="1143000"/>
            <a:ext cx="83739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ke the verification efficient (poly(n) rather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til one does, will always be a “cat-and-mouse” game of verifier vs. spoo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What gives hop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Verification needs to be done only a few times, spoofing must be done cons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spoofer could always buy more hardware, paralle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Brakerski et al. (2018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ve a beautiful certified randomness scheme with efficient verification, using LWE.  But unclear if it can be practical in NISQ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an we get both efficient verification and NISQ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84120" y="2206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the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84120" y="990720"/>
            <a:ext cx="83739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make the protocol much more efficient and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soundness under less boutique complexity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even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should others trust the verifier?  Cryptographic solutions to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oogle’s Supremacy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85840" y="1028880"/>
            <a:ext cx="8467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hortly before civilization collapsed, Google showed that, using their 53-qubit programmable chip Sycamore, they could take as input a description of a quantum circuit C, and then produce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d well a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inear Cross-Entropy Benchma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Linear XEB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1600200" y="3200400"/>
          <a:ext cx="6634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00400"/>
                    <a:ext cx="663408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2"/>
          <p:cNvSpPr/>
          <p:nvPr/>
        </p:nvSpPr>
        <p:spPr>
          <a:xfrm>
            <a:off x="285840" y="5137200"/>
            <a:ext cx="846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(number of qubits) = 5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 (number of sample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5 mill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(fidelity measure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5840" y="979560"/>
            <a:ext cx="8467560" cy="39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mpling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uniformly at random, we’d expect b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a perfect QC, we’d expect b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poi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don’t know of any poly(n)-time classical algorithm to achieve b=1.00001, or even b=1+exp(-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And there’s modest complexity-theoretic evidence against such an algorithm (A.-Chen 2017, A.-Gunn 20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, b=1.00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suprem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85840" y="4950000"/>
            <a:ext cx="846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drawbac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far as we know, verifying the samples takes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—just like classical spoofing does!  So if n is small enough for verifying, maybe it’s small enough for spoofing?  (cf. IBM’s response to Goog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at Are Such Experiments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990720" y="1447920"/>
            <a:ext cx="71625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Disproving the people who said quantum computing speedups were im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38040" y="24300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 2018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enerating bits that we can show are random, under plausibl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1603440" y="2122560"/>
            <a:ext cx="1369440" cy="1290240"/>
            <a:chOff x="1603440" y="2122560"/>
            <a:chExt cx="1369440" cy="1290240"/>
          </a:xfrm>
        </p:grpSpPr>
        <p:sp>
          <p:nvSpPr>
            <p:cNvPr id="132" name="Freeform 6"/>
            <p:cNvSpPr/>
            <p:nvPr/>
          </p:nvSpPr>
          <p:spPr>
            <a:xfrm>
              <a:off x="1820160" y="215316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1911960" y="22528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1990440" y="289872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243880" y="253080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83080" y="313992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2683080" y="317412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2687400" y="32518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2690280" y="318816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2899080" y="32119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672640" y="313848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841840" y="32320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2762280" y="31662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2728800" y="31539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2618640" y="326304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1622520" y="308376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1822320" y="29624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024640" y="28670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2358000" y="22806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1991880" y="277164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1867320" y="221436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2318040" y="29966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2413440" y="30373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1613160" y="323316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1811160" y="293220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2568960" y="293940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2311560" y="30031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>
              <a:off x="2320560" y="299160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>
              <a:off x="2407680" y="303480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1761120" y="30585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>
              <a:off x="1647360" y="321516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6"/>
            <p:cNvSpPr/>
            <p:nvPr/>
          </p:nvSpPr>
          <p:spPr>
            <a:xfrm>
              <a:off x="2547720" y="310176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7"/>
            <p:cNvSpPr/>
            <p:nvPr/>
          </p:nvSpPr>
          <p:spPr>
            <a:xfrm>
              <a:off x="2590200" y="32461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8"/>
            <p:cNvSpPr/>
            <p:nvPr/>
          </p:nvSpPr>
          <p:spPr>
            <a:xfrm>
              <a:off x="1629360" y="326484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9"/>
            <p:cNvSpPr/>
            <p:nvPr/>
          </p:nvSpPr>
          <p:spPr>
            <a:xfrm>
              <a:off x="1813320" y="310824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0"/>
            <p:cNvSpPr/>
            <p:nvPr/>
          </p:nvSpPr>
          <p:spPr>
            <a:xfrm>
              <a:off x="1787400" y="315540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1"/>
            <p:cNvSpPr/>
            <p:nvPr/>
          </p:nvSpPr>
          <p:spPr>
            <a:xfrm>
              <a:off x="2408400" y="31442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>
              <a:off x="2434680" y="31726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>
              <a:off x="2443680" y="320436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>
              <a:off x="1794600" y="212256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5"/>
            <p:cNvSpPr/>
            <p:nvPr/>
          </p:nvSpPr>
          <p:spPr>
            <a:xfrm>
              <a:off x="2531520" y="21369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6"/>
            <p:cNvSpPr/>
            <p:nvPr/>
          </p:nvSpPr>
          <p:spPr>
            <a:xfrm>
              <a:off x="2482560" y="222768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7"/>
            <p:cNvSpPr/>
            <p:nvPr/>
          </p:nvSpPr>
          <p:spPr>
            <a:xfrm>
              <a:off x="2449800" y="21787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8"/>
            <p:cNvSpPr/>
            <p:nvPr/>
          </p:nvSpPr>
          <p:spPr>
            <a:xfrm>
              <a:off x="1793880" y="23245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9"/>
            <p:cNvSpPr/>
            <p:nvPr/>
          </p:nvSpPr>
          <p:spPr>
            <a:xfrm>
              <a:off x="1944720" y="285120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0"/>
            <p:cNvSpPr/>
            <p:nvPr/>
          </p:nvSpPr>
          <p:spPr>
            <a:xfrm>
              <a:off x="2401920" y="285192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1990440" y="285696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2"/>
            <p:cNvSpPr/>
            <p:nvPr/>
          </p:nvSpPr>
          <p:spPr>
            <a:xfrm>
              <a:off x="1951200" y="293940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3"/>
            <p:cNvSpPr/>
            <p:nvPr/>
          </p:nvSpPr>
          <p:spPr>
            <a:xfrm>
              <a:off x="2324520" y="28555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4"/>
            <p:cNvSpPr/>
            <p:nvPr/>
          </p:nvSpPr>
          <p:spPr>
            <a:xfrm>
              <a:off x="2437920" y="289872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5"/>
            <p:cNvSpPr/>
            <p:nvPr/>
          </p:nvSpPr>
          <p:spPr>
            <a:xfrm>
              <a:off x="1981440" y="27910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6"/>
            <p:cNvSpPr/>
            <p:nvPr/>
          </p:nvSpPr>
          <p:spPr>
            <a:xfrm>
              <a:off x="1983240" y="27640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7"/>
            <p:cNvSpPr/>
            <p:nvPr/>
          </p:nvSpPr>
          <p:spPr>
            <a:xfrm>
              <a:off x="2367720" y="27658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8"/>
            <p:cNvSpPr/>
            <p:nvPr/>
          </p:nvSpPr>
          <p:spPr>
            <a:xfrm>
              <a:off x="2286360" y="278532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9"/>
            <p:cNvSpPr/>
            <p:nvPr/>
          </p:nvSpPr>
          <p:spPr>
            <a:xfrm>
              <a:off x="2212200" y="278424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0"/>
            <p:cNvSpPr/>
            <p:nvPr/>
          </p:nvSpPr>
          <p:spPr>
            <a:xfrm>
              <a:off x="2126520" y="27820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1"/>
            <p:cNvSpPr/>
            <p:nvPr/>
          </p:nvSpPr>
          <p:spPr>
            <a:xfrm>
              <a:off x="2052360" y="278604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>
              <a:off x="2269080" y="22528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3"/>
            <p:cNvSpPr/>
            <p:nvPr/>
          </p:nvSpPr>
          <p:spPr>
            <a:xfrm>
              <a:off x="1873800" y="243144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4"/>
            <p:cNvSpPr/>
            <p:nvPr/>
          </p:nvSpPr>
          <p:spPr>
            <a:xfrm>
              <a:off x="1986120" y="26974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5"/>
            <p:cNvSpPr/>
            <p:nvPr/>
          </p:nvSpPr>
          <p:spPr>
            <a:xfrm>
              <a:off x="2367000" y="223740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6"/>
            <p:cNvSpPr/>
            <p:nvPr/>
          </p:nvSpPr>
          <p:spPr>
            <a:xfrm>
              <a:off x="1603440" y="32238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7"/>
            <p:cNvSpPr/>
            <p:nvPr/>
          </p:nvSpPr>
          <p:spPr>
            <a:xfrm>
              <a:off x="1873080" y="22330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8"/>
            <p:cNvSpPr/>
            <p:nvPr/>
          </p:nvSpPr>
          <p:spPr>
            <a:xfrm>
              <a:off x="1909800" y="22755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9"/>
            <p:cNvSpPr/>
            <p:nvPr/>
          </p:nvSpPr>
          <p:spPr>
            <a:xfrm>
              <a:off x="1805400" y="29833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"/>
          <p:cNvSpPr/>
          <p:nvPr/>
        </p:nvSpPr>
        <p:spPr>
          <a:xfrm>
            <a:off x="838080" y="139716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480000" y="209880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198" name="Straight Arrow Connector 72"/>
          <p:cNvCxnSpPr/>
          <p:nvPr/>
        </p:nvCxnSpPr>
        <p:spPr>
          <a:xfrm>
            <a:off x="2871720" y="23238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199" name="Straight Arrow Connector 73"/>
          <p:cNvCxnSpPr/>
          <p:nvPr/>
        </p:nvCxnSpPr>
        <p:spPr>
          <a:xfrm>
            <a:off x="2878200" y="25826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00" name="Straight Arrow Connector 74"/>
          <p:cNvCxnSpPr/>
          <p:nvPr/>
        </p:nvCxnSpPr>
        <p:spPr>
          <a:xfrm>
            <a:off x="2863440" y="284436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01" name="Straight Arrow Connector 75"/>
          <p:cNvCxnSpPr/>
          <p:nvPr/>
        </p:nvCxnSpPr>
        <p:spPr>
          <a:xfrm>
            <a:off x="2863440" y="31078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02" name="TextBox 80"/>
          <p:cNvSpPr/>
          <p:nvPr/>
        </p:nvSpPr>
        <p:spPr>
          <a:xfrm rot="5400000">
            <a:off x="285480" y="2249640"/>
            <a:ext cx="17636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95200" y="3916440"/>
            <a:ext cx="8467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able in crypto applications, like proof-of-stake cryptocurrencies? Preferable (ever) to simpler alternatives?  As I’ll discuss, we don’t know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f nothing else, the protocol makes i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n-obvi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sampling on NISQ devices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74680" y="1219320"/>
            <a:ext cx="870264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a few random iterations t, and for each one, calculates the Linear Cross-Entropy sc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 test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4920" y="152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must there b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entropy in the server’s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71520" y="1657440"/>
            <a:ext cx="840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o the contrary that S=f(C), for some deterministic function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ere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ypically gets a high Linear Cross-Entropy score.  We want to show this would imply strange computational pow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85920" y="3657600"/>
            <a:ext cx="84024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ong List Quantum Supremacy Verification (LLQ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ou’re given a giant list of quantum circui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s well as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You’re asked: were t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sampled uniformly at random, or was eac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from the output distrib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4165560" y="6143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 hard … even for a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2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71520" y="380880"/>
            <a:ext cx="84009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a fast QC could pass deterministically, then there would b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Arthur-Merlin where Arthur can send a classical random challenge to Merlin, get back a classical response, then verify it quantu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71520" y="2719440"/>
            <a:ext cx="84009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whole problem boils down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roximate cou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how many i’s are there in our long list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01760" y="5129280"/>
            <a:ext cx="8400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sends Merlin a random hash function g, then Merlin sends back an i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g(i)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28954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5053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41148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7242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53341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9436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65530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1629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"/>
          <p:cNvSpPr/>
          <p:nvPr/>
        </p:nvSpPr>
        <p:spPr>
          <a:xfrm>
            <a:off x="28954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35053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41148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7"/>
          <p:cNvSpPr/>
          <p:nvPr/>
        </p:nvSpPr>
        <p:spPr>
          <a:xfrm>
            <a:off x="47242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8"/>
          <p:cNvSpPr/>
          <p:nvPr/>
        </p:nvSpPr>
        <p:spPr>
          <a:xfrm>
            <a:off x="53341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59436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65530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1"/>
          <p:cNvSpPr/>
          <p:nvPr/>
        </p:nvSpPr>
        <p:spPr>
          <a:xfrm>
            <a:off x="71629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06440" y="6219720"/>
            <a:ext cx="8402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If the C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’s were classical, ther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ould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be an </a:t>
            </a:r>
            <a:r>
              <a:rPr b="1" i="1" lang="en-US" sz="25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protocol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304920" y="1144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osting from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1) to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n) bits of min-entropy per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333360" y="1560600"/>
            <a:ext cx="84009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at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achine M samples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probability distribution tha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on samples that pass the Linear XEB te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 on samples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33360" y="3586320"/>
            <a:ext cx="8400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suppos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(p+q-1) &gt;&gt;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 with a quantum verifier running in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nd a small advice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358920" y="5310360"/>
            <a:ext cx="85183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rlin can point Arthur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for which M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Arthur can use Grover search, taking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, to check Merlin’s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5-04T15:56:43Z</dcterms:modified>
  <cp:revision>468</cp:revision>
  <dc:subject/>
  <dc:title>BQP and the Polynomial Hierarchy</dc:title>
</cp:coreProperties>
</file>