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A10-85D2-48AE-AABA-C71A7346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027-B209-499B-9940-B47A5126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159-C629-4608-9BE8-0FA8235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9DD-2570-4BE8-9897-3E0BC2A4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4BC-CF35-4D66-ADDC-B6A5A02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01A-DFA4-4615-8C44-9F956F1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35F-122F-444F-AC50-0A4074CB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25D-E639-4E46-A578-2248994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3E4-EA44-420F-9129-90F228C5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0BC-223A-4AF9-8876-E9415FB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1B5-EEEE-42DE-9860-F38CC17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B5F-7760-4FE0-9BD8-82C48D23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808D-E56F-4E57-A015-3ED13DD9B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 and Dynamical Quantum Model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quant-ph/0205059)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4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Loc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28800"/>
            <a:ext cx="80773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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P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920" y="2894760"/>
            <a:ext cx="1447560" cy="1143000"/>
          </a:xfrm>
          <a:custGeom>
            <a:avLst/>
            <a:gdLst>
              <a:gd name="textAreaLeft" fmla="*/ 318240 w 1447560"/>
              <a:gd name="textAreaRight" fmla="*/ 1129320 w 144756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971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81480" y="2894760"/>
            <a:ext cx="1447920" cy="11430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9718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4197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tion U in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inimal block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nonzero ent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ity doesn’t imply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mutati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5867280"/>
          <a:ext cx="87631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867280"/>
                    <a:ext cx="8763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Robus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057400"/>
            <a:ext cx="563904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poly(N) change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poly(N) change to 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1: Product Dynam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57400" y="1523880"/>
          <a:ext cx="48006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098720" y="3406680"/>
          <a:ext cx="6719760" cy="19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3406680"/>
                    <a:ext cx="671976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33920" y="3446640"/>
          <a:ext cx="1828800" cy="17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446640"/>
                    <a:ext cx="18288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920" y="56386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mmetric, robust, commutative, but not lo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2: Dieks Dynam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1523880"/>
          <a:ext cx="48006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098720" y="3406680"/>
          <a:ext cx="6719760" cy="19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3406680"/>
                    <a:ext cx="671976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0720" y="3610080"/>
          <a:ext cx="1373400" cy="15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0720" y="3610080"/>
                    <a:ext cx="13734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57913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mmetric, commutative, local, but not robu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1600200"/>
            <a:ext cx="1295640" cy="1371600"/>
            <a:chOff x="4038480" y="1600200"/>
            <a:chExt cx="1295640" cy="1371600"/>
          </a:xfrm>
        </p:grpSpPr>
        <p:sp>
          <p:nvSpPr>
            <p:cNvPr id="113" name=""/>
            <p:cNvSpPr/>
            <p:nvPr/>
          </p:nvSpPr>
          <p:spPr>
            <a:xfrm>
              <a:off x="4724280" y="1600200"/>
              <a:ext cx="609840" cy="685800"/>
            </a:xfrm>
            <a:custGeom>
              <a:avLst/>
              <a:gdLst>
                <a:gd name="textAreaLeft" fmla="*/ 29520 w 609840"/>
                <a:gd name="textAreaRight" fmla="*/ 580320 w 609840"/>
                <a:gd name="textAreaTop" fmla="*/ 29520 h 685800"/>
                <a:gd name="textAreaBottom" fmla="*/ 656280 h 685800"/>
              </a:gdLst>
              <a:ahLst/>
              <a:rect l="textAreaLeft" t="textAreaTop" r="textAreaRight" b="textAreaBottom"/>
              <a:pathLst>
                <a:path w="21600" h="24289">
                  <a:moveTo>
                    <a:pt x="3600" y="0"/>
                  </a:moveTo>
                  <a:arcTo wR="3600" hR="3600" stAng="16200000" swAng="-5400000"/>
                  <a:lnTo>
                    <a:pt x="0" y="20689"/>
                  </a:lnTo>
                  <a:arcTo wR="3600" hR="3600" stAng="10800000" swAng="-5400000"/>
                  <a:lnTo>
                    <a:pt x="18000" y="24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286000"/>
              <a:ext cx="609840" cy="685800"/>
            </a:xfrm>
            <a:custGeom>
              <a:avLst/>
              <a:gdLst>
                <a:gd name="textAreaLeft" fmla="*/ 29520 w 609840"/>
                <a:gd name="textAreaRight" fmla="*/ 580320 w 609840"/>
                <a:gd name="textAreaTop" fmla="*/ 29520 h 685800"/>
                <a:gd name="textAreaBottom" fmla="*/ 656280 h 685800"/>
              </a:gdLst>
              <a:ahLst/>
              <a:rect l="textAreaLeft" t="textAreaTop" r="textAreaRight" b="textAreaBottom"/>
              <a:pathLst>
                <a:path w="21600" h="24289">
                  <a:moveTo>
                    <a:pt x="3600" y="0"/>
                  </a:moveTo>
                  <a:arcTo wR="3600" hR="3600" stAng="16200000" swAng="-5400000"/>
                  <a:lnTo>
                    <a:pt x="0" y="20689"/>
                  </a:lnTo>
                  <a:arcTo wR="3600" hR="3600" stAng="10800000" swAng="-5400000"/>
                  <a:lnTo>
                    <a:pt x="18000" y="242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Example 3: Schr</a:t>
            </a:r>
            <a:r>
              <a:rPr b="1" lang="en-US" sz="3800" spc="-1" strike="noStrike">
                <a:solidFill>
                  <a:srgbClr val="3333cc"/>
                </a:solidFill>
                <a:latin typeface="Arial"/>
                <a:ea typeface="Arial"/>
              </a:rPr>
              <a:t>ö</a:t>
            </a: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dinger Dynamics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76400" y="1523880"/>
          <a:ext cx="676440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523880"/>
                    <a:ext cx="676440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2057400" y="3429000"/>
            <a:ext cx="4038480" cy="2514600"/>
            <a:chOff x="2057400" y="3429000"/>
            <a:chExt cx="4038480" cy="2514600"/>
          </a:xfrm>
        </p:grpSpPr>
        <p:sp>
          <p:nvSpPr>
            <p:cNvPr id="121" name=""/>
            <p:cNvSpPr/>
            <p:nvPr/>
          </p:nvSpPr>
          <p:spPr>
            <a:xfrm>
              <a:off x="3276720" y="4114800"/>
              <a:ext cx="2819160" cy="1828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2057400" y="3429000"/>
            <a:ext cx="3809880" cy="23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3429000"/>
                      <a:ext cx="380988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76720" y="4267080"/>
          <a:ext cx="2797200" cy="1571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4267080"/>
                    <a:ext cx="2797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chr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nger Dynamics (con’t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erative process converges.  (Uses max-flow-min-cut theorem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191120"/>
            <a:ext cx="769608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 symmetry and loc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tativity for unentangled stat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20040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obustness hol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utational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6960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state: 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poly-size quantum circuits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581280"/>
            <a:ext cx="76960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al model D induce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isto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952880"/>
            <a:ext cx="7696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basis state of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“you’re”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05120"/>
            <a:ext cx="76960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): Oracle that returns sample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given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input (under model 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25780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42900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ass of languages for which there’s one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gorithm that works for all symmetric local 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6680" y="2819520"/>
            <a:ext cx="901224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952880"/>
            <a:ext cx="3414600" cy="405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6960" y="3505320"/>
            <a:ext cx="6075360" cy="655308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492" y="160"/>
                </a:moveTo>
                <a:lnTo>
                  <a:pt x="441" y="195"/>
                </a:lnTo>
                <a:lnTo>
                  <a:pt x="393" y="233"/>
                </a:lnTo>
                <a:lnTo>
                  <a:pt x="347" y="273"/>
                </a:lnTo>
                <a:lnTo>
                  <a:pt x="305" y="316"/>
                </a:lnTo>
                <a:lnTo>
                  <a:pt x="265" y="361"/>
                </a:lnTo>
                <a:lnTo>
                  <a:pt x="227" y="408"/>
                </a:lnTo>
                <a:lnTo>
                  <a:pt x="193" y="458"/>
                </a:lnTo>
                <a:lnTo>
                  <a:pt x="161" y="509"/>
                </a:lnTo>
                <a:lnTo>
                  <a:pt x="132" y="563"/>
                </a:lnTo>
                <a:lnTo>
                  <a:pt x="106" y="618"/>
                </a:lnTo>
                <a:lnTo>
                  <a:pt x="83" y="675"/>
                </a:lnTo>
                <a:lnTo>
                  <a:pt x="62" y="733"/>
                </a:lnTo>
                <a:lnTo>
                  <a:pt x="45" y="793"/>
                </a:lnTo>
                <a:lnTo>
                  <a:pt x="30" y="854"/>
                </a:lnTo>
                <a:lnTo>
                  <a:pt x="18" y="916"/>
                </a:lnTo>
                <a:lnTo>
                  <a:pt x="9" y="979"/>
                </a:lnTo>
                <a:lnTo>
                  <a:pt x="3" y="1044"/>
                </a:lnTo>
                <a:lnTo>
                  <a:pt x="0" y="1109"/>
                </a:lnTo>
                <a:lnTo>
                  <a:pt x="0" y="1174"/>
                </a:lnTo>
                <a:lnTo>
                  <a:pt x="3" y="1241"/>
                </a:lnTo>
                <a:lnTo>
                  <a:pt x="9" y="1308"/>
                </a:lnTo>
                <a:lnTo>
                  <a:pt x="18" y="1375"/>
                </a:lnTo>
                <a:lnTo>
                  <a:pt x="29" y="1442"/>
                </a:lnTo>
                <a:lnTo>
                  <a:pt x="44" y="1510"/>
                </a:lnTo>
                <a:lnTo>
                  <a:pt x="62" y="1577"/>
                </a:lnTo>
                <a:lnTo>
                  <a:pt x="83" y="1645"/>
                </a:lnTo>
                <a:lnTo>
                  <a:pt x="107" y="1712"/>
                </a:lnTo>
                <a:lnTo>
                  <a:pt x="133" y="1779"/>
                </a:lnTo>
                <a:lnTo>
                  <a:pt x="163" y="1845"/>
                </a:lnTo>
                <a:lnTo>
                  <a:pt x="197" y="1911"/>
                </a:lnTo>
                <a:lnTo>
                  <a:pt x="233" y="1976"/>
                </a:lnTo>
                <a:lnTo>
                  <a:pt x="272" y="2040"/>
                </a:lnTo>
                <a:lnTo>
                  <a:pt x="314" y="2103"/>
                </a:lnTo>
                <a:lnTo>
                  <a:pt x="358" y="2163"/>
                </a:lnTo>
                <a:lnTo>
                  <a:pt x="404" y="2220"/>
                </a:lnTo>
                <a:lnTo>
                  <a:pt x="452" y="2275"/>
                </a:lnTo>
                <a:lnTo>
                  <a:pt x="501" y="2328"/>
                </a:lnTo>
                <a:lnTo>
                  <a:pt x="552" y="2378"/>
                </a:lnTo>
                <a:lnTo>
                  <a:pt x="605" y="2425"/>
                </a:lnTo>
                <a:lnTo>
                  <a:pt x="659" y="2469"/>
                </a:lnTo>
                <a:lnTo>
                  <a:pt x="714" y="2511"/>
                </a:lnTo>
                <a:lnTo>
                  <a:pt x="770" y="2549"/>
                </a:lnTo>
                <a:lnTo>
                  <a:pt x="828" y="2585"/>
                </a:lnTo>
                <a:lnTo>
                  <a:pt x="886" y="2619"/>
                </a:lnTo>
                <a:lnTo>
                  <a:pt x="945" y="2649"/>
                </a:lnTo>
                <a:lnTo>
                  <a:pt x="1005" y="2676"/>
                </a:lnTo>
                <a:lnTo>
                  <a:pt x="1065" y="2701"/>
                </a:lnTo>
                <a:lnTo>
                  <a:pt x="1126" y="2722"/>
                </a:lnTo>
                <a:lnTo>
                  <a:pt x="1188" y="2740"/>
                </a:lnTo>
                <a:lnTo>
                  <a:pt x="1249" y="2755"/>
                </a:lnTo>
                <a:lnTo>
                  <a:pt x="1311" y="2767"/>
                </a:lnTo>
                <a:lnTo>
                  <a:pt x="1372" y="2776"/>
                </a:lnTo>
                <a:lnTo>
                  <a:pt x="1434" y="2782"/>
                </a:lnTo>
                <a:lnTo>
                  <a:pt x="1495" y="2785"/>
                </a:lnTo>
                <a:lnTo>
                  <a:pt x="1556" y="2784"/>
                </a:lnTo>
                <a:lnTo>
                  <a:pt x="1617" y="2780"/>
                </a:lnTo>
                <a:lnTo>
                  <a:pt x="1677" y="2773"/>
                </a:lnTo>
                <a:lnTo>
                  <a:pt x="1736" y="2762"/>
                </a:lnTo>
                <a:lnTo>
                  <a:pt x="1795" y="2748"/>
                </a:lnTo>
                <a:lnTo>
                  <a:pt x="1852" y="2730"/>
                </a:lnTo>
                <a:lnTo>
                  <a:pt x="1909" y="2709"/>
                </a:lnTo>
                <a:lnTo>
                  <a:pt x="1965" y="2685"/>
                </a:lnTo>
                <a:lnTo>
                  <a:pt x="2019" y="2657"/>
                </a:lnTo>
                <a:lnTo>
                  <a:pt x="2072" y="2625"/>
                </a:lnTo>
                <a:lnTo>
                  <a:pt x="2123" y="2590"/>
                </a:lnTo>
                <a:lnTo>
                  <a:pt x="2171" y="2552"/>
                </a:lnTo>
                <a:lnTo>
                  <a:pt x="2217" y="2512"/>
                </a:lnTo>
                <a:lnTo>
                  <a:pt x="2260" y="2469"/>
                </a:lnTo>
                <a:lnTo>
                  <a:pt x="2300" y="2424"/>
                </a:lnTo>
                <a:lnTo>
                  <a:pt x="2337" y="2377"/>
                </a:lnTo>
                <a:lnTo>
                  <a:pt x="2371" y="2327"/>
                </a:lnTo>
                <a:lnTo>
                  <a:pt x="2403" y="2276"/>
                </a:lnTo>
                <a:lnTo>
                  <a:pt x="2432" y="2223"/>
                </a:lnTo>
                <a:lnTo>
                  <a:pt x="2458" y="2167"/>
                </a:lnTo>
                <a:lnTo>
                  <a:pt x="2481" y="2111"/>
                </a:lnTo>
                <a:lnTo>
                  <a:pt x="2502" y="2052"/>
                </a:lnTo>
                <a:lnTo>
                  <a:pt x="2519" y="1992"/>
                </a:lnTo>
                <a:lnTo>
                  <a:pt x="2534" y="1931"/>
                </a:lnTo>
                <a:lnTo>
                  <a:pt x="2546" y="1869"/>
                </a:lnTo>
                <a:lnTo>
                  <a:pt x="2555" y="1806"/>
                </a:lnTo>
                <a:lnTo>
                  <a:pt x="2561" y="1742"/>
                </a:lnTo>
                <a:lnTo>
                  <a:pt x="2564" y="1677"/>
                </a:lnTo>
                <a:lnTo>
                  <a:pt x="2564" y="1611"/>
                </a:lnTo>
                <a:lnTo>
                  <a:pt x="2561" y="1544"/>
                </a:lnTo>
                <a:lnTo>
                  <a:pt x="2555" y="1478"/>
                </a:lnTo>
                <a:lnTo>
                  <a:pt x="2547" y="1410"/>
                </a:lnTo>
                <a:lnTo>
                  <a:pt x="2535" y="1343"/>
                </a:lnTo>
                <a:lnTo>
                  <a:pt x="2520" y="1275"/>
                </a:lnTo>
                <a:lnTo>
                  <a:pt x="2502" y="1208"/>
                </a:lnTo>
                <a:lnTo>
                  <a:pt x="2482" y="1140"/>
                </a:lnTo>
                <a:lnTo>
                  <a:pt x="2458" y="1073"/>
                </a:lnTo>
                <a:lnTo>
                  <a:pt x="2431" y="1006"/>
                </a:lnTo>
                <a:lnTo>
                  <a:pt x="2401" y="940"/>
                </a:lnTo>
                <a:lnTo>
                  <a:pt x="2368" y="874"/>
                </a:lnTo>
                <a:lnTo>
                  <a:pt x="2331" y="809"/>
                </a:lnTo>
                <a:lnTo>
                  <a:pt x="2292" y="745"/>
                </a:lnTo>
                <a:lnTo>
                  <a:pt x="2250" y="682"/>
                </a:lnTo>
                <a:lnTo>
                  <a:pt x="2206" y="622"/>
                </a:lnTo>
                <a:lnTo>
                  <a:pt x="2160" y="565"/>
                </a:lnTo>
                <a:lnTo>
                  <a:pt x="2112" y="510"/>
                </a:lnTo>
                <a:lnTo>
                  <a:pt x="2063" y="457"/>
                </a:lnTo>
                <a:lnTo>
                  <a:pt x="2012" y="408"/>
                </a:lnTo>
                <a:lnTo>
                  <a:pt x="1959" y="361"/>
                </a:lnTo>
                <a:lnTo>
                  <a:pt x="1905" y="316"/>
                </a:lnTo>
                <a:lnTo>
                  <a:pt x="1850" y="275"/>
                </a:lnTo>
                <a:lnTo>
                  <a:pt x="1794" y="236"/>
                </a:lnTo>
                <a:lnTo>
                  <a:pt x="1736" y="200"/>
                </a:lnTo>
                <a:lnTo>
                  <a:pt x="1678" y="167"/>
                </a:lnTo>
                <a:lnTo>
                  <a:pt x="1619" y="136"/>
                </a:lnTo>
                <a:lnTo>
                  <a:pt x="1559" y="109"/>
                </a:lnTo>
                <a:lnTo>
                  <a:pt x="1499" y="85"/>
                </a:lnTo>
                <a:lnTo>
                  <a:pt x="1438" y="63"/>
                </a:lnTo>
                <a:lnTo>
                  <a:pt x="1377" y="45"/>
                </a:lnTo>
                <a:lnTo>
                  <a:pt x="1315" y="30"/>
                </a:lnTo>
                <a:lnTo>
                  <a:pt x="1254" y="18"/>
                </a:lnTo>
                <a:lnTo>
                  <a:pt x="1192" y="9"/>
                </a:lnTo>
                <a:lnTo>
                  <a:pt x="1130" y="3"/>
                </a:lnTo>
                <a:lnTo>
                  <a:pt x="1069" y="0"/>
                </a:lnTo>
                <a:lnTo>
                  <a:pt x="1008" y="1"/>
                </a:lnTo>
                <a:lnTo>
                  <a:pt x="947" y="5"/>
                </a:lnTo>
                <a:lnTo>
                  <a:pt x="887" y="12"/>
                </a:lnTo>
                <a:lnTo>
                  <a:pt x="828" y="23"/>
                </a:lnTo>
                <a:lnTo>
                  <a:pt x="769" y="37"/>
                </a:lnTo>
                <a:lnTo>
                  <a:pt x="712" y="55"/>
                </a:lnTo>
                <a:lnTo>
                  <a:pt x="655" y="76"/>
                </a:lnTo>
                <a:lnTo>
                  <a:pt x="599" y="100"/>
                </a:lnTo>
                <a:lnTo>
                  <a:pt x="545" y="128"/>
                </a:lnTo>
                <a:lnTo>
                  <a:pt x="49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527280"/>
            <a:ext cx="6075360" cy="666144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2072" y="160"/>
                </a:moveTo>
                <a:lnTo>
                  <a:pt x="2123" y="195"/>
                </a:lnTo>
                <a:lnTo>
                  <a:pt x="2171" y="233"/>
                </a:lnTo>
                <a:lnTo>
                  <a:pt x="2217" y="273"/>
                </a:lnTo>
                <a:lnTo>
                  <a:pt x="2260" y="316"/>
                </a:lnTo>
                <a:lnTo>
                  <a:pt x="2300" y="361"/>
                </a:lnTo>
                <a:lnTo>
                  <a:pt x="2337" y="408"/>
                </a:lnTo>
                <a:lnTo>
                  <a:pt x="2371" y="458"/>
                </a:lnTo>
                <a:lnTo>
                  <a:pt x="2403" y="509"/>
                </a:lnTo>
                <a:lnTo>
                  <a:pt x="2432" y="563"/>
                </a:lnTo>
                <a:lnTo>
                  <a:pt x="2458" y="618"/>
                </a:lnTo>
                <a:lnTo>
                  <a:pt x="2481" y="675"/>
                </a:lnTo>
                <a:lnTo>
                  <a:pt x="2502" y="733"/>
                </a:lnTo>
                <a:lnTo>
                  <a:pt x="2519" y="793"/>
                </a:lnTo>
                <a:lnTo>
                  <a:pt x="2534" y="854"/>
                </a:lnTo>
                <a:lnTo>
                  <a:pt x="2546" y="916"/>
                </a:lnTo>
                <a:lnTo>
                  <a:pt x="2555" y="979"/>
                </a:lnTo>
                <a:lnTo>
                  <a:pt x="2561" y="1044"/>
                </a:lnTo>
                <a:lnTo>
                  <a:pt x="2564" y="1109"/>
                </a:lnTo>
                <a:lnTo>
                  <a:pt x="2564" y="1174"/>
                </a:lnTo>
                <a:lnTo>
                  <a:pt x="2561" y="1241"/>
                </a:lnTo>
                <a:lnTo>
                  <a:pt x="2555" y="1308"/>
                </a:lnTo>
                <a:lnTo>
                  <a:pt x="2547" y="1375"/>
                </a:lnTo>
                <a:lnTo>
                  <a:pt x="2535" y="1442"/>
                </a:lnTo>
                <a:lnTo>
                  <a:pt x="2520" y="1510"/>
                </a:lnTo>
                <a:lnTo>
                  <a:pt x="2502" y="1577"/>
                </a:lnTo>
                <a:lnTo>
                  <a:pt x="2482" y="1645"/>
                </a:lnTo>
                <a:lnTo>
                  <a:pt x="2458" y="1712"/>
                </a:lnTo>
                <a:lnTo>
                  <a:pt x="2431" y="1779"/>
                </a:lnTo>
                <a:lnTo>
                  <a:pt x="2401" y="1845"/>
                </a:lnTo>
                <a:lnTo>
                  <a:pt x="2368" y="1911"/>
                </a:lnTo>
                <a:lnTo>
                  <a:pt x="2331" y="1976"/>
                </a:lnTo>
                <a:lnTo>
                  <a:pt x="2292" y="2040"/>
                </a:lnTo>
                <a:lnTo>
                  <a:pt x="2250" y="2103"/>
                </a:lnTo>
                <a:lnTo>
                  <a:pt x="2206" y="2163"/>
                </a:lnTo>
                <a:lnTo>
                  <a:pt x="2160" y="2220"/>
                </a:lnTo>
                <a:lnTo>
                  <a:pt x="2112" y="2275"/>
                </a:lnTo>
                <a:lnTo>
                  <a:pt x="2063" y="2328"/>
                </a:lnTo>
                <a:lnTo>
                  <a:pt x="2012" y="2378"/>
                </a:lnTo>
                <a:lnTo>
                  <a:pt x="1959" y="2425"/>
                </a:lnTo>
                <a:lnTo>
                  <a:pt x="1905" y="2469"/>
                </a:lnTo>
                <a:lnTo>
                  <a:pt x="1850" y="2511"/>
                </a:lnTo>
                <a:lnTo>
                  <a:pt x="1794" y="2549"/>
                </a:lnTo>
                <a:lnTo>
                  <a:pt x="1736" y="2585"/>
                </a:lnTo>
                <a:lnTo>
                  <a:pt x="1678" y="2619"/>
                </a:lnTo>
                <a:lnTo>
                  <a:pt x="1619" y="2649"/>
                </a:lnTo>
                <a:lnTo>
                  <a:pt x="1559" y="2676"/>
                </a:lnTo>
                <a:lnTo>
                  <a:pt x="1499" y="2701"/>
                </a:lnTo>
                <a:lnTo>
                  <a:pt x="1438" y="2722"/>
                </a:lnTo>
                <a:lnTo>
                  <a:pt x="1377" y="2740"/>
                </a:lnTo>
                <a:lnTo>
                  <a:pt x="1315" y="2755"/>
                </a:lnTo>
                <a:lnTo>
                  <a:pt x="1254" y="2767"/>
                </a:lnTo>
                <a:lnTo>
                  <a:pt x="1192" y="2776"/>
                </a:lnTo>
                <a:lnTo>
                  <a:pt x="1130" y="2782"/>
                </a:lnTo>
                <a:lnTo>
                  <a:pt x="1069" y="2785"/>
                </a:lnTo>
                <a:lnTo>
                  <a:pt x="1008" y="2784"/>
                </a:lnTo>
                <a:lnTo>
                  <a:pt x="947" y="2780"/>
                </a:lnTo>
                <a:lnTo>
                  <a:pt x="887" y="2773"/>
                </a:lnTo>
                <a:lnTo>
                  <a:pt x="828" y="2762"/>
                </a:lnTo>
                <a:lnTo>
                  <a:pt x="769" y="2748"/>
                </a:lnTo>
                <a:lnTo>
                  <a:pt x="712" y="2730"/>
                </a:lnTo>
                <a:lnTo>
                  <a:pt x="655" y="2709"/>
                </a:lnTo>
                <a:lnTo>
                  <a:pt x="599" y="2685"/>
                </a:lnTo>
                <a:lnTo>
                  <a:pt x="545" y="2657"/>
                </a:lnTo>
                <a:lnTo>
                  <a:pt x="492" y="2625"/>
                </a:lnTo>
                <a:lnTo>
                  <a:pt x="441" y="2590"/>
                </a:lnTo>
                <a:lnTo>
                  <a:pt x="393" y="2552"/>
                </a:lnTo>
                <a:lnTo>
                  <a:pt x="347" y="2512"/>
                </a:lnTo>
                <a:lnTo>
                  <a:pt x="305" y="2469"/>
                </a:lnTo>
                <a:lnTo>
                  <a:pt x="265" y="2424"/>
                </a:lnTo>
                <a:lnTo>
                  <a:pt x="227" y="2377"/>
                </a:lnTo>
                <a:lnTo>
                  <a:pt x="193" y="2327"/>
                </a:lnTo>
                <a:lnTo>
                  <a:pt x="161" y="2276"/>
                </a:lnTo>
                <a:lnTo>
                  <a:pt x="132" y="2223"/>
                </a:lnTo>
                <a:lnTo>
                  <a:pt x="106" y="2167"/>
                </a:lnTo>
                <a:lnTo>
                  <a:pt x="83" y="2111"/>
                </a:lnTo>
                <a:lnTo>
                  <a:pt x="62" y="2052"/>
                </a:lnTo>
                <a:lnTo>
                  <a:pt x="45" y="1992"/>
                </a:lnTo>
                <a:lnTo>
                  <a:pt x="30" y="1931"/>
                </a:lnTo>
                <a:lnTo>
                  <a:pt x="18" y="1869"/>
                </a:lnTo>
                <a:lnTo>
                  <a:pt x="9" y="1806"/>
                </a:lnTo>
                <a:lnTo>
                  <a:pt x="3" y="1742"/>
                </a:lnTo>
                <a:lnTo>
                  <a:pt x="0" y="1677"/>
                </a:lnTo>
                <a:lnTo>
                  <a:pt x="0" y="1611"/>
                </a:lnTo>
                <a:lnTo>
                  <a:pt x="3" y="1544"/>
                </a:lnTo>
                <a:lnTo>
                  <a:pt x="9" y="1478"/>
                </a:lnTo>
                <a:lnTo>
                  <a:pt x="18" y="1410"/>
                </a:lnTo>
                <a:lnTo>
                  <a:pt x="29" y="1343"/>
                </a:lnTo>
                <a:lnTo>
                  <a:pt x="44" y="1275"/>
                </a:lnTo>
                <a:lnTo>
                  <a:pt x="62" y="1208"/>
                </a:lnTo>
                <a:lnTo>
                  <a:pt x="83" y="1140"/>
                </a:lnTo>
                <a:lnTo>
                  <a:pt x="107" y="1073"/>
                </a:lnTo>
                <a:lnTo>
                  <a:pt x="133" y="1006"/>
                </a:lnTo>
                <a:lnTo>
                  <a:pt x="163" y="940"/>
                </a:lnTo>
                <a:lnTo>
                  <a:pt x="197" y="874"/>
                </a:lnTo>
                <a:lnTo>
                  <a:pt x="233" y="809"/>
                </a:lnTo>
                <a:lnTo>
                  <a:pt x="272" y="745"/>
                </a:lnTo>
                <a:lnTo>
                  <a:pt x="314" y="682"/>
                </a:lnTo>
                <a:lnTo>
                  <a:pt x="358" y="622"/>
                </a:lnTo>
                <a:lnTo>
                  <a:pt x="404" y="565"/>
                </a:lnTo>
                <a:lnTo>
                  <a:pt x="452" y="510"/>
                </a:lnTo>
                <a:lnTo>
                  <a:pt x="501" y="457"/>
                </a:lnTo>
                <a:lnTo>
                  <a:pt x="552" y="408"/>
                </a:lnTo>
                <a:lnTo>
                  <a:pt x="605" y="361"/>
                </a:lnTo>
                <a:lnTo>
                  <a:pt x="659" y="316"/>
                </a:lnTo>
                <a:lnTo>
                  <a:pt x="714" y="275"/>
                </a:lnTo>
                <a:lnTo>
                  <a:pt x="770" y="236"/>
                </a:lnTo>
                <a:lnTo>
                  <a:pt x="828" y="200"/>
                </a:lnTo>
                <a:lnTo>
                  <a:pt x="886" y="167"/>
                </a:lnTo>
                <a:lnTo>
                  <a:pt x="945" y="136"/>
                </a:lnTo>
                <a:lnTo>
                  <a:pt x="1005" y="109"/>
                </a:lnTo>
                <a:lnTo>
                  <a:pt x="1065" y="85"/>
                </a:lnTo>
                <a:lnTo>
                  <a:pt x="1126" y="63"/>
                </a:lnTo>
                <a:lnTo>
                  <a:pt x="1188" y="45"/>
                </a:lnTo>
                <a:lnTo>
                  <a:pt x="1249" y="30"/>
                </a:lnTo>
                <a:lnTo>
                  <a:pt x="1311" y="18"/>
                </a:lnTo>
                <a:lnTo>
                  <a:pt x="1372" y="9"/>
                </a:lnTo>
                <a:lnTo>
                  <a:pt x="1434" y="3"/>
                </a:lnTo>
                <a:lnTo>
                  <a:pt x="1495" y="0"/>
                </a:lnTo>
                <a:lnTo>
                  <a:pt x="1556" y="1"/>
                </a:lnTo>
                <a:lnTo>
                  <a:pt x="1617" y="5"/>
                </a:lnTo>
                <a:lnTo>
                  <a:pt x="1677" y="12"/>
                </a:lnTo>
                <a:lnTo>
                  <a:pt x="1736" y="23"/>
                </a:lnTo>
                <a:lnTo>
                  <a:pt x="1795" y="37"/>
                </a:lnTo>
                <a:lnTo>
                  <a:pt x="1852" y="55"/>
                </a:lnTo>
                <a:lnTo>
                  <a:pt x="1909" y="76"/>
                </a:lnTo>
                <a:lnTo>
                  <a:pt x="1965" y="100"/>
                </a:lnTo>
                <a:lnTo>
                  <a:pt x="2019" y="128"/>
                </a:lnTo>
                <a:lnTo>
                  <a:pt x="207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676520"/>
            <a:ext cx="8001000" cy="849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486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Z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ZK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00200"/>
            <a:ext cx="79250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es to decide whether two distributions are close or far (Sahai and Vadhan 199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graph isomorphism, collision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3581280"/>
          <a:ext cx="74674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4674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15000" y="4343400"/>
            <a:ext cx="914400" cy="1447920"/>
            <a:chOff x="5715000" y="4343400"/>
            <a:chExt cx="914400" cy="1447920"/>
          </a:xfrm>
        </p:grpSpPr>
        <p:sp>
          <p:nvSpPr>
            <p:cNvPr id="156" name=""/>
            <p:cNvSpPr/>
            <p:nvPr/>
          </p:nvSpPr>
          <p:spPr>
            <a:xfrm>
              <a:off x="5791320" y="4343400"/>
              <a:ext cx="761760" cy="1447920"/>
            </a:xfrm>
            <a:prstGeom prst="line">
              <a:avLst/>
            </a:prstGeom>
            <a:ln w="57240">
              <a:solidFill>
                <a:srgbClr val="9933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15000" y="4343400"/>
              <a:ext cx="914400" cy="1447920"/>
            </a:xfrm>
            <a:prstGeom prst="line">
              <a:avLst/>
            </a:prstGeom>
            <a:ln w="57240">
              <a:solidFill>
                <a:srgbClr val="9933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133720" y="4648320"/>
            <a:ext cx="6095880" cy="1949400"/>
            <a:chOff x="2133720" y="4648320"/>
            <a:chExt cx="6095880" cy="1949400"/>
          </a:xfrm>
        </p:grpSpPr>
        <p:graphicFrame>
          <p:nvGraphicFramePr>
            <p:cNvPr id="159" name=""/>
            <p:cNvGraphicFramePr/>
            <p:nvPr/>
          </p:nvGraphicFramePr>
          <p:xfrm>
            <a:off x="4724280" y="5486400"/>
            <a:ext cx="3505320" cy="111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5486400"/>
                      <a:ext cx="3505320" cy="11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410080" y="46483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33720" y="472428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Two bitwise Fourier trans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should worry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ger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K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in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ries (but not fe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This Works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any symmetric local mod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295280"/>
            <a:ext cx="8229600" cy="56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n wil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|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high prob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 : 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(mo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how F is symmetric under some permutation of basis states that swaps 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|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le leaving |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d an invertible matrix M over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Mx=y, My=x,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ermutati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=Mx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=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;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(mod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that F is symmetric under applic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nput basis state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utput basis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M Exis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76520"/>
            <a:ext cx="82296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x and y are nonzero (they almost certainly 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,b be unit vectors, and let L be an invertible matrix over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La=x and Lb=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Q be the permutation matrix that interchanges a and b while leaving all other unit vectors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M := LQ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Mx=y, My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(mod 2) implies 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=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, implying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Input Isn’t Two-to-O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6765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ash regis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h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which Fourier transforms don’t 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895480"/>
            <a:ext cx="79246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e h uniformly from all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1,…,K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3434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K=1 initially, then repeatedly double K and recompute |h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562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ome K, reduces to two-to-one case with high prob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3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earch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76520" y="1828800"/>
            <a:ext cx="0" cy="4572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514600"/>
            <a:ext cx="144792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905120" y="60199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867280" y="6019920"/>
            <a:ext cx="5335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05120" y="53341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5867280" y="5105520"/>
            <a:ext cx="5335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05120" y="449568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5867280" y="3886200"/>
            <a:ext cx="53352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3276720"/>
          <a:ext cx="5638680" cy="334800"/>
        </p:xfrm>
        <a:graphic>
          <a:graphicData uri="http://schemas.openxmlformats.org/drawingml/2006/table">
            <a:tbl>
              <a:tblPr/>
              <a:tblGrid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  <a:gridCol w="563760"/>
                <a:gridCol w="564120"/>
                <a:gridCol w="563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867280" y="2286000"/>
            <a:ext cx="53352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1752480"/>
            <a:ext cx="3276360" cy="914400"/>
            <a:chOff x="2590920" y="1752480"/>
            <a:chExt cx="3276360" cy="914400"/>
          </a:xfrm>
        </p:grpSpPr>
        <p:sp>
          <p:nvSpPr>
            <p:cNvPr id="184" name=""/>
            <p:cNvSpPr/>
            <p:nvPr/>
          </p:nvSpPr>
          <p:spPr>
            <a:xfrm>
              <a:off x="2590920" y="1752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N = 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1/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4280" y="2133720"/>
              <a:ext cx="1143000" cy="533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742840" y="3428640"/>
            <a:ext cx="3353040" cy="2743200"/>
            <a:chOff x="2742840" y="3428640"/>
            <a:chExt cx="3353040" cy="2743200"/>
          </a:xfrm>
        </p:grpSpPr>
        <p:sp>
          <p:nvSpPr>
            <p:cNvPr id="187" name=""/>
            <p:cNvSpPr/>
            <p:nvPr/>
          </p:nvSpPr>
          <p:spPr>
            <a:xfrm flipH="1" flipV="1">
              <a:off x="3885840" y="5486040"/>
              <a:ext cx="1143000" cy="68580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886200" y="4495680"/>
              <a:ext cx="2209680" cy="91440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2742840" y="3428640"/>
              <a:ext cx="3352680" cy="1066680"/>
            </a:xfrm>
            <a:prstGeom prst="line">
              <a:avLst/>
            </a:prstGeom>
            <a:ln w="57240">
              <a:solidFill>
                <a:srgbClr val="8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ding Remark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2590920"/>
            <a:ext cx="7696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rect access to the past, you could decide graph isomorphism in polytime, but probably not S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762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tra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nlinear quantum theories could decide NP and even #P in polytime (Abrams and Lloyd 1998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44792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und is optimal: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oracle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79132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al models: more “reasonable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380880"/>
            <a:ext cx="9143640" cy="6095880"/>
            <a:chOff x="0" y="380880"/>
            <a:chExt cx="9143640" cy="6095880"/>
          </a:xfrm>
        </p:grpSpPr>
        <p:pic>
          <p:nvPicPr>
            <p:cNvPr id="46" name="canyon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914364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666840" y="681480"/>
              <a:ext cx="2301840" cy="11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What w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experie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7960" y="681480"/>
              <a:ext cx="1984320" cy="111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Quantum theor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Puzz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29528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743200"/>
            <a:ext cx="4610160" cy="2743200"/>
            <a:chOff x="2286000" y="2743200"/>
            <a:chExt cx="4610160" cy="2743200"/>
          </a:xfrm>
        </p:grpSpPr>
        <p:sp>
          <p:nvSpPr>
            <p:cNvPr id="52" name=""/>
            <p:cNvSpPr/>
            <p:nvPr/>
          </p:nvSpPr>
          <p:spPr>
            <a:xfrm>
              <a:off x="5638680" y="2743200"/>
              <a:ext cx="99072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4572000"/>
              <a:ext cx="99072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4572000"/>
              <a:ext cx="990720" cy="914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81280" y="2743200"/>
              <a:ext cx="990720" cy="914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2286000" y="2743200"/>
            <a:ext cx="4610160" cy="271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743200"/>
                      <a:ext cx="4610160" cy="27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" name=""/>
          <p:cNvGrpSpPr/>
          <p:nvPr/>
        </p:nvGrpSpPr>
        <p:grpSpPr>
          <a:xfrm>
            <a:off x="914400" y="3581280"/>
            <a:ext cx="7696080" cy="3065040"/>
            <a:chOff x="914400" y="3581280"/>
            <a:chExt cx="7696080" cy="3065040"/>
          </a:xfrm>
        </p:grpSpPr>
        <p:sp>
          <p:nvSpPr>
            <p:cNvPr id="59" name=""/>
            <p:cNvSpPr/>
            <p:nvPr/>
          </p:nvSpPr>
          <p:spPr>
            <a:xfrm>
              <a:off x="914400" y="5638680"/>
              <a:ext cx="7696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cc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66ff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What is the probability that you see the dot change color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4800" y="365760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657600"/>
              <a:ext cx="0" cy="914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3581280"/>
              <a:ext cx="1600200" cy="9907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343400" y="3581280"/>
              <a:ext cx="1447920" cy="9907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Is This An Issu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theory says nothing about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ultiple-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5288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n what is a “prediction,” or the “output of a computation,” or the “utility of a decision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04812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have no direct knowledge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st anyway, just record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Does This Aris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0512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we consider ourselves as quantum syst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34340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hmian mechanics asserts an answer, but assumes a specific state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3526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in “explicit-collapse” mod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Resul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mitted to PRL, quant-ph/02050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you could examine an observer’s entire history?  Defined clas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3526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.  Combined with collision lower bound, implies oracle A for which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7242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earch an N-element list in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eps, though not fe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ynamical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8288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unitary 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ed on, returns stochastic matrix S=D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U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124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marginalize to single-time probabilities: diag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diag(U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56272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ete time and state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3434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history 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-outcome von Neumann observable (i.e. standard ba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xiom: Symmet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28800"/>
            <a:ext cx="80773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 is invariant under relabeling of basis sta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(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QU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QD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U)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2:19:56Z</dcterms:created>
  <dc:creator>aaronson</dc:creator>
  <dc:description/>
  <dc:language>en-US</dc:language>
  <cp:lastModifiedBy>aaronson</cp:lastModifiedBy>
  <dcterms:modified xsi:type="dcterms:W3CDTF">2002-05-15T20:52:36Z</dcterms:modified>
  <cp:revision>22</cp:revision>
  <dc:subject/>
  <dc:title>Computation, Quantum Theory, and You</dc:title>
</cp:coreProperties>
</file>