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06B3-7D4D-4937-9E67-AC375CC0C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91E9-E5A6-47DA-A1E6-4DDCD9285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BE04-099C-4DE7-931B-0C91C2E99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3293-D5AC-4F63-B693-34ADA0639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3903-9515-41C2-B616-21EC6CA63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2DC4-2D62-4446-B09A-43EF1F31C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F597-4ABF-47BB-8008-C2F35AA0C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466D-58F7-4775-A46D-751D5C841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E19F-8138-432A-A9F1-78129AA5A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7C74-2193-4F3B-9545-9C09C85C0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D4D4-C3D3-4B3E-894F-6B772D052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F49F-0078-4B1C-8945-9A4A7B6E8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215D-23D4-4107-ACD1-FFE0F5397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FC33-CABE-4545-8DAA-A0E3D05A1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1DEB-F3DF-4659-8FD9-85ECA0A67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856-6E60-49A6-A8C9-9D0D75A2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08C-4F13-479A-BC97-60302CDD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814-4DD3-4461-9A79-46CB5F9F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631-F908-460E-80BE-176EC3A5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CF7-4AE7-4089-B849-CC734EB5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A9D-21FA-47AD-8D63-1039E2A0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1A5-B1ED-48E2-A156-0D66B58F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92A-B274-4FE2-B1AF-77F9E836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1D3-E51F-41D4-BCCF-68C8100E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C3E-FF89-48A4-8E5A-25C284C0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6B7-4DB5-4EB1-BDB2-F66E250D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EE3-EA67-4BC8-9C65-93ACE6E4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6D45-B294-423E-BF39-6C472C93ED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6F4C-6703-4764-9109-4328F4FF7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M, Albuquerque, October 18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228600" y="6019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Joint work with Guy Rothblum (in prepar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763800" y="1219320"/>
            <a:ext cx="243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Scott\AppData\Local\Microsoft\Windows\INetCache\IE\V1PN6FUD\curtain_texture_by_edneu2004[1].jpg"/>
          <p:cNvPicPr/>
          <p:nvPr/>
        </p:nvPicPr>
        <p:blipFill>
          <a:blip r:embed="rId1"/>
          <a:stretch/>
        </p:blipFill>
        <p:spPr>
          <a:xfrm>
            <a:off x="2946240" y="1946160"/>
            <a:ext cx="3251520" cy="2438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eparat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5244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 the Hamming weight plus Laplace noise of magnitude ~n/10: 10/n-DP, yet not even 1/3-gentle on non-product state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"/>
          <p:cNvGraphicFramePr/>
          <p:nvPr/>
        </p:nvGraphicFramePr>
        <p:xfrm>
          <a:off x="4114800" y="2057400"/>
          <a:ext cx="22255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057400"/>
                    <a:ext cx="22255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2"/>
          <p:cNvSpPr/>
          <p:nvPr/>
        </p:nvSpPr>
        <p:spPr>
          <a:xfrm>
            <a:off x="299880" y="3429000"/>
            <a:ext cx="851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 Hamming weight + Laplace noise of magnitude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: ~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-DP, yet not o(1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25440" y="4481640"/>
            <a:ext cx="84582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re exist measurements that are 1/exp(n)-DP (indeed, nearly trivial) on product states, yet far from DP on entangl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  <a:ea typeface="Arial"/>
              </a:rPr>
              <a:t>0-DP (i.e., completely trivial) on product states does imply 0-DP on all states, but only because amplitudes are complex numb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57120" y="1011240"/>
            <a:ext cx="84582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Task (A. 2016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. 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. 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—the “shadows”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sts o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2743200" y="5572080"/>
          <a:ext cx="4842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72080"/>
                    <a:ext cx="484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2"/>
          <p:cNvSpPr/>
          <p:nvPr/>
        </p:nvSpPr>
        <p:spPr>
          <a:xfrm>
            <a:off x="357120" y="34290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M) suffice (apply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parate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what if we wanted to know, e.g., the behavior of an n-qubit state on all accept/reject circuits with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?  Could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"/>
          <p:cNvGraphicFramePr/>
          <p:nvPr/>
        </p:nvGraphicFramePr>
        <p:xfrm>
          <a:off x="2006640" y="1349280"/>
          <a:ext cx="49496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349280"/>
                    <a:ext cx="49496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"/>
          <p:cNvSpPr/>
          <p:nvPr/>
        </p:nvSpPr>
        <p:spPr>
          <a:xfrm>
            <a:off x="343080" y="2022480"/>
            <a:ext cx="14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68280" y="2743200"/>
            <a:ext cx="84582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protocol combi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multiplicative weights update method (i.e., start with the “maximally stupid hypothesis,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I/D, and then repeatedly look for opportunities to update, via postselecting on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for som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Quantum OR Bound” (A. 2006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row et al. 2017), which repeatedly picks out an informative measurement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a gentl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1284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 can do shadow tomography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7"/>
          <p:cNvGraphicFramePr/>
          <p:nvPr/>
        </p:nvGraphicFramePr>
        <p:xfrm>
          <a:off x="2008080" y="828720"/>
          <a:ext cx="51278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828720"/>
                    <a:ext cx="512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2"/>
          <p:cNvSpPr/>
          <p:nvPr/>
        </p:nvSpPr>
        <p:spPr>
          <a:xfrm>
            <a:off x="301680" y="1743120"/>
            <a:ext cx="849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via a procedure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and simpler than my previous one, and probably more amenable to experimental imple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, which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QPM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nce each iteration of QPMW is DP (and applies separate POVMs to each register), it’s also gentle on product states, so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39840" y="1143000"/>
            <a:ext cx="845820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a fully general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 for product states?  Or even near-trivialit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for product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shadow tomography, does the number of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to hav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pendence on log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est lower bound we can show: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-2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log M).  But f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shadow tomography, can use known lower bounds from DP to show that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log D))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43080" y="3751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one can implement it so that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and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"/>
          <p:cNvGraphicFramePr/>
          <p:nvPr/>
        </p:nvGraphicFramePr>
        <p:xfrm>
          <a:off x="3003480" y="519444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3480" y="519444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2"/>
          <p:cNvSpPr/>
          <p:nvPr/>
        </p:nvSpPr>
        <p:spPr>
          <a:xfrm>
            <a:off x="333360" y="6019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M are famously destructive … but not al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534240" y="271188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533880" y="395640"/>
            <a:ext cx="102456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533520" y="30528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200400" y="223344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formation/disturbance tradeof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tcome predictable given knowled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body needs to ge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3430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easuring the Hamming weight plus noise 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is much safer!  A good choic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aplace noi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67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438120" y="1504800"/>
          <a:ext cx="491328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04800"/>
                    <a:ext cx="491328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2725560" y="5334120"/>
          <a:ext cx="369288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5560" y="5334120"/>
                    <a:ext cx="369288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2080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A recent subfield of classical CS that wants to protect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you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61800" y="152388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"/>
          <p:cNvGraphicFramePr/>
          <p:nvPr/>
        </p:nvGraphicFramePr>
        <p:xfrm>
          <a:off x="1471680" y="294480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94480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2"/>
          <p:cNvSpPr/>
          <p:nvPr/>
        </p:nvSpPr>
        <p:spPr>
          <a:xfrm>
            <a:off x="343080" y="38498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of these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52440" y="4371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"/>
          <p:cNvGraphicFramePr/>
          <p:nvPr/>
        </p:nvGraphicFramePr>
        <p:xfrm>
          <a:off x="3298680" y="5326200"/>
          <a:ext cx="54864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8680" y="5326200"/>
                    <a:ext cx="54864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2"/>
          <p:cNvSpPr/>
          <p:nvPr/>
        </p:nvSpPr>
        <p:spPr>
          <a:xfrm>
            <a:off x="343080" y="5478480"/>
            <a:ext cx="27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it’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4514760" y="3371760"/>
          <a:ext cx="114480" cy="1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71760"/>
                    <a:ext cx="11448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2"/>
          <p:cNvSpPr/>
          <p:nvPr/>
        </p:nvSpPr>
        <p:spPr>
          <a:xfrm>
            <a:off x="1066680" y="4079880"/>
            <a:ext cx="7239240" cy="58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ually used now by Apple and Goog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by a channel acting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2"/>
          <p:cNvSpPr/>
          <p:nvPr/>
        </p:nvSpPr>
        <p:spPr>
          <a:xfrm>
            <a:off x="352440" y="4976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measuring the total Hamming weight of n unentangled qubit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519880" y="5961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352440" y="4343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5244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&lt;&lt;1/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04920" y="3738600"/>
            <a:ext cx="84582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oth directions are asymptotically t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striction to product states is essential for part (2) (without it we only get 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)-gentle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rt (2) preserves efficiency, as long as the DP algorithm’s output distribution can be efficientl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Samp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363600" y="1770120"/>
            <a:ext cx="855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the results of separate POVMs on each regis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6"/>
          <p:cNvSpPr/>
          <p:nvPr/>
        </p:nvSpPr>
        <p:spPr>
          <a:xfrm>
            <a:off x="9360" y="3505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58920" y="1219320"/>
            <a:ext cx="84042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 made a striking connection between differential privacy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safely reuse the same dataset for many scientific stu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y showed that the answer is yes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’re careful to access the dataset using DP algorithms on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.e., they connected DP to “classical Bayesian gentle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course, damage to a distribution D is purely internal and mental, whereas damage to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often noticeable even by others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easy direction!  Has nothing to do with product states or eve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63600" y="22096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on all states, then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1"/>
          <p:cNvGraphicFramePr/>
          <p:nvPr/>
        </p:nvGraphicFramePr>
        <p:xfrm>
          <a:off x="2743200" y="2819520"/>
          <a:ext cx="32637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263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2"/>
          <p:cNvSpPr/>
          <p:nvPr/>
        </p:nvSpPr>
        <p:spPr>
          <a:xfrm>
            <a:off x="363600" y="4267080"/>
            <a:ext cx="84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Consider the converse: if M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very different probabilities, then it’s going to damage an equal mixture of th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3600" y="5791320"/>
            <a:ext cx="84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 just apply the lemma separately to each register of our produ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for Produc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harder direction; known only for measurements that apply separate POVMs to the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63600" y="2133720"/>
            <a:ext cx="8551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irs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A be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classical algorithm.  Then for any product distribution D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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585720" y="2971800"/>
          <a:ext cx="80010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971800"/>
                    <a:ext cx="8001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2"/>
          <p:cNvSpPr/>
          <p:nvPr/>
        </p:nvSpPr>
        <p:spPr>
          <a:xfrm>
            <a:off x="357120" y="4114800"/>
            <a:ext cx="8447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he “QSampled” version of 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any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63600" y="617220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n generalize to POVMs and mix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7"/>
          <p:cNvGraphicFramePr/>
          <p:nvPr/>
        </p:nvGraphicFramePr>
        <p:xfrm>
          <a:off x="719280" y="5089680"/>
          <a:ext cx="770544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5089680"/>
                    <a:ext cx="77054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10-19T02:14:20Z</dcterms:modified>
  <cp:revision>426</cp:revision>
  <dc:subject/>
  <dc:title>BQP and the Polynomial Hierarchy</dc:title>
</cp:coreProperties>
</file>