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754-B1B8-447C-86FC-FD91F90C5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7E0-1562-4FC1-99B9-4FF98C880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9D38-2EDE-4649-B753-4BB4AF596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53F8-3502-4C56-A268-B26DB8CA9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3A9-6FED-490C-B6EF-E3ADF2CE4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3FC-923B-47D0-9F75-114BC07A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77D-5316-4CE9-8F45-04B2251CC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041-4509-4879-A340-391BB4F17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63E2-E56B-4FC7-B2FB-DF10951E3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BA4-941D-4144-A84C-A625C81A4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54BA-FC27-49E3-ADC4-217697279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3E7-761B-4AFC-9D8E-DB1CBF9F9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583-EBEB-4566-8C9E-D84C9E05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1AE-FCA7-447D-B3FF-33DC4F1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9A7-FBA9-429C-8688-9488D68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64A-7ECE-4A80-94DA-F1FD8EC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C5B-A01B-4F09-936B-D550187F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6E0-51E2-464E-A21F-3A9EC8C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CEE-0BCE-47E0-9EBB-8810C10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DD5-9E88-4D1C-A3FF-407F7A73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CCF-C0AD-4B93-80FF-6CE7B23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9A2-98A3-453D-8DFA-4B539DDE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A7B-DBE6-4C9B-AA28-E693033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902-1B73-4F30-9017-009CD41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D4CA-9FAF-4857-918C-22C5F7E05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A22F-FBA5-41A9-AC72-DC7BA4A45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8080" y="3657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y Rothblum (Weizmann Institute of Sci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 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28600" y="2141640"/>
            <a:ext cx="90676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932040" y="235116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le 8"/>
          <p:cNvSpPr/>
          <p:nvPr/>
        </p:nvSpPr>
        <p:spPr>
          <a:xfrm>
            <a:off x="4762440" y="2351160"/>
            <a:ext cx="152640" cy="807840"/>
          </a:xfrm>
          <a:custGeom>
            <a:avLst/>
            <a:gdLst>
              <a:gd name="textAreaLeft" fmla="*/ 7200 w 152640"/>
              <a:gd name="textAreaRight" fmla="*/ 145440 w 15264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099">
                <a:moveTo>
                  <a:pt x="3600" y="0"/>
                </a:moveTo>
                <a:arcTo wR="3600" hR="3600" stAng="16200000" swAng="-5400000"/>
                <a:lnTo>
                  <a:pt x="0" y="110499"/>
                </a:lnTo>
                <a:arcTo wR="3600" hR="3600" stAng="10800000" swAng="-5400000"/>
                <a:lnTo>
                  <a:pt x="18000" y="11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28600" y="50292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TOC, Phoenix, AZ, June 24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* Not a misprint.  Talk will actually relate thes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1284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7"/>
          <p:cNvGraphicFramePr/>
          <p:nvPr/>
        </p:nvGraphicFramePr>
        <p:xfrm>
          <a:off x="2008080" y="2097000"/>
          <a:ext cx="51278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97000"/>
                    <a:ext cx="51278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39840" y="1143000"/>
            <a:ext cx="845820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move the restriction to product measurements in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im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racterize when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preserv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  Must it have any log D factor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shadow tomography, we can show that the answer is yes, by porting known results from classical 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33360" y="35942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"/>
          <p:cNvGraphicFramePr/>
          <p:nvPr/>
        </p:nvGraphicFramePr>
        <p:xfrm>
          <a:off x="3267000" y="51307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51307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2"/>
          <p:cNvSpPr/>
          <p:nvPr/>
        </p:nvSpPr>
        <p:spPr>
          <a:xfrm>
            <a:off x="333360" y="6086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uantum mechanics are famous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00400" y="2157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not always!  If a qubit is known to be either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hecking to see which one doesn’t damage i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Image result for schrodinger's cat"/>
          <p:cNvPicPr/>
          <p:nvPr/>
        </p:nvPicPr>
        <p:blipFill>
          <a:blip r:embed="rId3"/>
          <a:stretch/>
        </p:blipFill>
        <p:spPr>
          <a:xfrm>
            <a:off x="304920" y="1135080"/>
            <a:ext cx="2641320" cy="1986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187200" y="5086440"/>
            <a:ext cx="2857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392880" y="47750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, standard metric on quantum sta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7"/>
          <p:cNvCxnSpPr/>
          <p:nvPr/>
        </p:nvCxnSpPr>
        <p:spPr>
          <a:xfrm flipH="1" flipV="1">
            <a:off x="5476680" y="5803200"/>
            <a:ext cx="98640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66" name="Straight Arrow Connector 18"/>
          <p:cNvCxnSpPr/>
          <p:nvPr/>
        </p:nvCxnSpPr>
        <p:spPr>
          <a:xfrm>
            <a:off x="2733480" y="55177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Hamming weight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81" name="Block Arc 1"/>
            <p:cNvSpPr/>
            <p:nvPr/>
          </p:nvSpPr>
          <p:spPr>
            <a:xfrm>
              <a:off x="7848720" y="5650200"/>
              <a:ext cx="1076040" cy="1142640"/>
            </a:xfrm>
            <a:custGeom>
              <a:avLst/>
              <a:gdLst/>
              <a:ahLst/>
              <a:rect l="l" t="t" r="r" b="b"/>
              <a:pathLst>
                <a:path w="1075532" h="1143000">
                  <a:moveTo>
                    <a:pt x="0" y="571500"/>
                  </a:moveTo>
                  <a:cubicBezTo>
                    <a:pt x="0" y="369764"/>
                    <a:pt x="100081" y="182972"/>
                    <a:pt x="263330" y="80021"/>
                  </a:cubicBezTo>
                  <a:cubicBezTo>
                    <a:pt x="439872" y="-31313"/>
                    <a:pt x="660655" y="-26121"/>
                    <a:pt x="832390" y="93403"/>
                  </a:cubicBezTo>
                  <a:cubicBezTo>
                    <a:pt x="990590" y="203507"/>
                    <a:pt x="1082745" y="393825"/>
                    <a:pt x="1075091" y="594629"/>
                  </a:cubicBezTo>
                  <a:lnTo>
                    <a:pt x="1009899" y="591823"/>
                  </a:lnTo>
                  <a:cubicBezTo>
                    <a:pt x="1016542" y="414675"/>
                    <a:pt x="936206" y="246712"/>
                    <a:pt x="798112" y="149028"/>
                  </a:cubicBezTo>
                  <a:cubicBezTo>
                    <a:pt x="646547" y="41815"/>
                    <a:pt x="451040" y="37163"/>
                    <a:pt x="295182" y="137062"/>
                  </a:cubicBezTo>
                  <a:cubicBezTo>
                    <a:pt x="152563" y="228476"/>
                    <a:pt x="65253" y="393442"/>
                    <a:pt x="65253" y="571500"/>
                  </a:cubicBezTo>
                  <a:lnTo>
                    <a:pt x="0" y="57150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4419720" y="2297160"/>
            <a:ext cx="4338360" cy="1127160"/>
            <a:chOff x="4419720" y="2297160"/>
            <a:chExt cx="4338360" cy="1127160"/>
          </a:xfrm>
        </p:grpSpPr>
        <p:sp>
          <p:nvSpPr>
            <p:cNvPr id="104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2"/>
            <p:cNvCxnSpPr/>
            <p:nvPr/>
          </p:nvCxnSpPr>
          <p:spPr>
            <a:xfrm>
              <a:off x="7315200" y="3127680"/>
              <a:ext cx="1080" cy="297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06" name="Group 18"/>
          <p:cNvGrpSpPr/>
          <p:nvPr/>
        </p:nvGrpSpPr>
        <p:grpSpPr>
          <a:xfrm>
            <a:off x="372960" y="5257440"/>
            <a:ext cx="4351320" cy="1177920"/>
            <a:chOff x="372960" y="5257440"/>
            <a:chExt cx="4351320" cy="1177920"/>
          </a:xfrm>
        </p:grpSpPr>
        <p:sp>
          <p:nvSpPr>
            <p:cNvPr id="107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11"/>
            <p:cNvCxnSpPr/>
            <p:nvPr/>
          </p:nvCxnSpPr>
          <p:spPr>
            <a:xfrm flipV="1">
              <a:off x="2625480" y="5257440"/>
              <a:ext cx="1080" cy="352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09" name="Group 16"/>
          <p:cNvGrpSpPr/>
          <p:nvPr/>
        </p:nvGrpSpPr>
        <p:grpSpPr>
          <a:xfrm>
            <a:off x="5165640" y="4723560"/>
            <a:ext cx="3581640" cy="1669680"/>
            <a:chOff x="5165640" y="4723560"/>
            <a:chExt cx="3581640" cy="1669680"/>
          </a:xfrm>
        </p:grpSpPr>
        <p:sp>
          <p:nvSpPr>
            <p:cNvPr id="110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Straight Arrow Connector 13"/>
            <p:cNvCxnSpPr/>
            <p:nvPr/>
          </p:nvCxnSpPr>
          <p:spPr>
            <a:xfrm flipH="1" flipV="1">
              <a:off x="5713560" y="4723560"/>
              <a:ext cx="533880" cy="844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sp>
        <p:nvSpPr>
          <p:cNvPr id="112" name="TextBox 21"/>
          <p:cNvSpPr/>
          <p:nvPr/>
        </p:nvSpPr>
        <p:spPr>
          <a:xfrm>
            <a:off x="258840" y="2112840"/>
            <a:ext cx="39783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n’t DP and gentlenes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viousl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58920" y="1066680"/>
            <a:ext cx="8404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: Connection between DP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We can safely reuse the same dataset for many scientific studies, </a:t>
            </a:r>
            <a:r>
              <a:rPr b="0" i="1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if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  <a:ea typeface="Arial"/>
              </a:rPr>
              <a:t> we’re careful to query the dataset using DP algorithms on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 our term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D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lassical Bayesian gentlenes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f course, “damage” to a probability distribution is purely internal and mental, whereas damage to a quantum state can be noticed by othe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e Slide on Proof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2440" y="97776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asy, little to do with QM.  Consider a “converse” statement: if a measuremen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by Bayes’ Theorem it will damag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.  Then, given a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pply this reasoning to ea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04920" y="3429000"/>
            <a:ext cx="85057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ness for Product Stat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er direction.  First prove for classical product distributions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following Dwork et al).  Then “lift” to a measurement that QSamples from the output distribution of a classical DP algorithm, on each component of a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Use inequalities that relate KL-divergence, Hellinger distance, and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15228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“Shadow Tomograph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57120" y="1066680"/>
            <a:ext cx="84582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, 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976320" y="3200400"/>
            <a:ext cx="78249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D</a:t>
            </a:r>
            <a:r>
              <a:rPr b="1" lang="en-US" sz="2500" spc="-1" strike="noStrike" baseline="30000">
                <a:solidFill>
                  <a:srgbClr val="00b05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k=O(M) suffice (apply each E</a:t>
            </a:r>
            <a:r>
              <a:rPr b="1" lang="en-US" sz="2500" spc="-1" strike="noStrike" baseline="-25000">
                <a:solidFill>
                  <a:srgbClr val="00b050"/>
                </a:solidFill>
                <a:latin typeface="Calibri"/>
                <a:ea typeface="Arial"/>
              </a:rPr>
              <a:t>i</a:t>
            </a: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 to separate cop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But in many applications, D and M are both enormou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43080" y="4952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111400" y="5845320"/>
          <a:ext cx="49496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5845320"/>
                    <a:ext cx="49496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6-25T00:41:29Z</dcterms:modified>
  <cp:revision>474</cp:revision>
  <dc:subject/>
  <dc:title>BQP and the Polynomial Hierarchy</dc:title>
</cp:coreProperties>
</file>