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C915-C5E6-42B9-8994-A5299DD11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1B27-0D8B-4AB2-AB06-7A0987D85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4481-EE31-4CD9-AD06-7E516ACD7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A8FE-17CA-4947-B79A-C9FF933F0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2E13-2E4E-4A93-9A14-85AB65CBE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CB62-CE55-4AB8-A09C-A97FC7818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E895-31AE-4D7A-A35F-A80E50064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7A9E-4173-4C6F-868B-AF0BD6C50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BEBD-B39B-44CA-A05F-A4D0CB2CA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F88E-1358-4ECE-A064-D9A898EF3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5681-0828-4042-A552-B5C704A8F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C001-27C1-488F-A883-5BC5E62FE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7AA2-17E7-4723-9A0A-A2DD39EC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FB53-52C8-4E75-8527-4F8E7641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BA17-2CEC-406D-BD43-EDA813B8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4A6-70E7-48EB-B071-D9DB962F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F368-B552-48E7-96E4-E35D1CC3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87C-BD02-4C8E-B322-05607F8C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F71A-EDF1-461C-9178-63CBA644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80A3-AA8C-4397-97FB-95945268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F719-9212-45F5-B787-4C0499D7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2BC8-A9F8-468F-921D-5EAC15AE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9D0-9146-4B84-B5ED-3FA30719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D424-CBDA-42C3-AB6B-F102C0E8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8C28-C0FC-498B-9A26-94FA4D9A8E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E1E7-C337-435D-8081-EF7B06D47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08080" y="3657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y Rothblum (Weizmann Institute of Scie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52280" y="2286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Gentle Measurement of Quantum States and Differential Privacy 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28600" y="2141640"/>
            <a:ext cx="9067680" cy="736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932040" y="2351160"/>
            <a:ext cx="7238880" cy="903240"/>
          </a:xfrm>
          <a:prstGeom prst="rect">
            <a:avLst/>
          </a:prstGeom>
          <a:ln w="0">
            <a:noFill/>
          </a:ln>
        </p:spPr>
      </p:pic>
      <p:sp>
        <p:nvSpPr>
          <p:cNvPr id="52" name="Rounded Rectangle 8"/>
          <p:cNvSpPr/>
          <p:nvPr/>
        </p:nvSpPr>
        <p:spPr>
          <a:xfrm>
            <a:off x="4762440" y="2351160"/>
            <a:ext cx="152640" cy="80784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807840"/>
              <a:gd name="textAreaBottom" fmla="*/ 800640 h 807840"/>
            </a:gdLst>
            <a:ahLst/>
            <a:rect l="textAreaLeft" t="textAreaTop" r="textAreaRight" b="textAreaBottom"/>
            <a:pathLst>
              <a:path w="21600" h="114099">
                <a:moveTo>
                  <a:pt x="3600" y="0"/>
                </a:moveTo>
                <a:arcTo wR="3600" hR="3600" stAng="16200000" swAng="-5400000"/>
                <a:lnTo>
                  <a:pt x="0" y="110499"/>
                </a:lnTo>
                <a:arcTo wR="3600" hR="3600" stAng="10800000" swAng="-5400000"/>
                <a:lnTo>
                  <a:pt x="18000" y="11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ubtitle 2"/>
          <p:cNvSpPr/>
          <p:nvPr/>
        </p:nvSpPr>
        <p:spPr>
          <a:xfrm>
            <a:off x="228600" y="50292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TOC, Phoenix, AZ, June 24, 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ubtitle 2"/>
          <p:cNvSpPr/>
          <p:nvPr/>
        </p:nvSpPr>
        <p:spPr>
          <a:xfrm>
            <a:off x="228600" y="6019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* Not a misprint.  Talk will actually relate these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1284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e can do shadow tomography in a way that’s als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n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 sample complexit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7"/>
          <p:cNvGraphicFramePr/>
          <p:nvPr/>
        </p:nvGraphicFramePr>
        <p:xfrm>
          <a:off x="2008080" y="2097000"/>
          <a:ext cx="512784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2097000"/>
                    <a:ext cx="51278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2"/>
          <p:cNvSpPr/>
          <p:nvPr/>
        </p:nvSpPr>
        <p:spPr>
          <a:xfrm>
            <a:off x="312840" y="3124080"/>
            <a:ext cx="860256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ow it works: we take a known procedure from DP,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ivate Multiplicative Weigh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(Hardt-Rothblum 2010).  PMW decides whether to update our current hypothesis on each query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sing a threshold measurement with Laplace noise a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e give a quantum analogue, “QPMW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ach iteration of QPMW is DP.  Using this fact, our D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gentleness theorem, and a lot more work, we show that we can safely apply all M of the iterations in sequ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304920" y="1522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New Shadow Tomography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339840" y="1143000"/>
            <a:ext cx="8458200" cy="53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move the restriction to product measurements in our D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impl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aracterize when D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preserv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omputatio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ffici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’s the true sample complexity of shadow tomography?  Must it have any log D factor at 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For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gentle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or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online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shadow tomography, we can show that the answer is yes, by porting known results from classical 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osition of quantum DP algorith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e quantum to say something new about classical D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333360" y="35942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if for every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, and every possible measurement outcome 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1"/>
          <p:cNvGraphicFramePr/>
          <p:nvPr/>
        </p:nvGraphicFramePr>
        <p:xfrm>
          <a:off x="3267000" y="5130720"/>
          <a:ext cx="29764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7000" y="5130720"/>
                    <a:ext cx="29764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2"/>
          <p:cNvSpPr/>
          <p:nvPr/>
        </p:nvSpPr>
        <p:spPr>
          <a:xfrm>
            <a:off x="333360" y="608652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ypical choice for 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duct stat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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3200400" y="1076400"/>
            <a:ext cx="54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s in quantum mechanics are famously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3200400" y="215748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not always!  If a qubit is known to be either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checking to see which one doesn’t damage it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Image result for schrodinger's cat"/>
          <p:cNvPicPr/>
          <p:nvPr/>
        </p:nvPicPr>
        <p:blipFill>
          <a:blip r:embed="rId3"/>
          <a:stretch/>
        </p:blipFill>
        <p:spPr>
          <a:xfrm>
            <a:off x="304920" y="1135080"/>
            <a:ext cx="2641320" cy="1986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187200" y="5086440"/>
            <a:ext cx="2857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Post-measurement state if outcome is 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6392880" y="4775040"/>
            <a:ext cx="27432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Trace distance, standard metric on quantum sta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17"/>
          <p:cNvCxnSpPr/>
          <p:nvPr/>
        </p:nvCxnSpPr>
        <p:spPr>
          <a:xfrm flipH="1" flipV="1">
            <a:off x="5476680" y="5803200"/>
            <a:ext cx="986400" cy="108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lg" type="arrow" w="lg"/>
          </a:ln>
        </p:spPr>
      </p:cxnSp>
      <p:cxnSp>
        <p:nvCxnSpPr>
          <p:cNvPr id="66" name="Straight Arrow Connector 18"/>
          <p:cNvCxnSpPr/>
          <p:nvPr/>
        </p:nvCxnSpPr>
        <p:spPr>
          <a:xfrm>
            <a:off x="2733480" y="5517720"/>
            <a:ext cx="686520" cy="108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38080" y="2743200"/>
            <a:ext cx="9068040" cy="7365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3430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ing the total Hamming weight of n unentangled qubits could be extremely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343080" y="4046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fer Approach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easure the Hamming weight plus deliberately-added noise (of order &gt;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). 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2"/>
          <a:stretch/>
        </p:blipFill>
        <p:spPr>
          <a:xfrm>
            <a:off x="1541520" y="2952720"/>
            <a:ext cx="7238880" cy="903240"/>
          </a:xfrm>
          <a:prstGeom prst="rect">
            <a:avLst/>
          </a:prstGeom>
          <a:ln w="0">
            <a:noFill/>
          </a:ln>
        </p:spPr>
      </p:pic>
      <p:sp>
        <p:nvSpPr>
          <p:cNvPr id="71" name="Rounded Rectangle 11"/>
          <p:cNvSpPr/>
          <p:nvPr/>
        </p:nvSpPr>
        <p:spPr>
          <a:xfrm>
            <a:off x="5372280" y="2952720"/>
            <a:ext cx="152280" cy="8082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808200"/>
              <a:gd name="textAreaBottom" fmla="*/ 801000 h 808200"/>
            </a:gdLst>
            <a:ahLst/>
            <a:rect l="textAreaLeft" t="textAreaTop" r="textAreaRight" b="textAreaBottom"/>
            <a:pathLst>
              <a:path w="21600" h="114419">
                <a:moveTo>
                  <a:pt x="3600" y="0"/>
                </a:moveTo>
                <a:arcTo wR="3600" hR="3600" stAng="16200000" swAng="-5400000"/>
                <a:lnTo>
                  <a:pt x="0" y="110819"/>
                </a:lnTo>
                <a:arcTo wR="3600" hR="3600" stAng="10800000" swAng="-5400000"/>
                <a:lnTo>
                  <a:pt x="18000" y="114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2"/>
          <p:cNvGraphicFramePr/>
          <p:nvPr/>
        </p:nvGraphicFramePr>
        <p:xfrm>
          <a:off x="990720" y="1522440"/>
          <a:ext cx="545148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522440"/>
                    <a:ext cx="545148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3"/>
          <p:cNvGraphicFramePr/>
          <p:nvPr/>
        </p:nvGraphicFramePr>
        <p:xfrm>
          <a:off x="533520" y="5113440"/>
          <a:ext cx="3011400" cy="111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5113440"/>
                    <a:ext cx="301140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8"/>
          <p:cNvGraphicFramePr/>
          <p:nvPr/>
        </p:nvGraphicFramePr>
        <p:xfrm>
          <a:off x="3809880" y="5342040"/>
          <a:ext cx="5234040" cy="11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5342040"/>
                    <a:ext cx="52340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2"/>
          <p:cNvSpPr/>
          <p:nvPr/>
        </p:nvSpPr>
        <p:spPr>
          <a:xfrm>
            <a:off x="6649920" y="1523880"/>
            <a:ext cx="21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omitting normal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465120" y="6221520"/>
            <a:ext cx="30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Laplace noi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5"/>
          <p:cNvGrpSpPr/>
          <p:nvPr/>
        </p:nvGrpSpPr>
        <p:grpSpPr>
          <a:xfrm>
            <a:off x="7848720" y="5257440"/>
            <a:ext cx="1076400" cy="1535400"/>
            <a:chOff x="7848720" y="5257440"/>
            <a:chExt cx="1076400" cy="1535400"/>
          </a:xfrm>
        </p:grpSpPr>
        <p:sp>
          <p:nvSpPr>
            <p:cNvPr id="81" name="Block Arc 1"/>
            <p:cNvSpPr/>
            <p:nvPr/>
          </p:nvSpPr>
          <p:spPr>
            <a:xfrm>
              <a:off x="7848720" y="5650200"/>
              <a:ext cx="1076040" cy="1142640"/>
            </a:xfrm>
            <a:custGeom>
              <a:avLst/>
              <a:gdLst/>
              <a:ahLst/>
              <a:rect l="l" t="t" r="r" b="b"/>
              <a:pathLst>
                <a:path w="1075532" h="1143000">
                  <a:moveTo>
                    <a:pt x="0" y="571500"/>
                  </a:moveTo>
                  <a:cubicBezTo>
                    <a:pt x="0" y="369764"/>
                    <a:pt x="100081" y="182972"/>
                    <a:pt x="263330" y="80021"/>
                  </a:cubicBezTo>
                  <a:cubicBezTo>
                    <a:pt x="439872" y="-31313"/>
                    <a:pt x="660655" y="-26121"/>
                    <a:pt x="832390" y="93403"/>
                  </a:cubicBezTo>
                  <a:cubicBezTo>
                    <a:pt x="990590" y="203507"/>
                    <a:pt x="1082745" y="393825"/>
                    <a:pt x="1075091" y="594629"/>
                  </a:cubicBezTo>
                  <a:lnTo>
                    <a:pt x="1009899" y="591823"/>
                  </a:lnTo>
                  <a:cubicBezTo>
                    <a:pt x="1016542" y="414675"/>
                    <a:pt x="936206" y="246712"/>
                    <a:pt x="798112" y="149028"/>
                  </a:cubicBezTo>
                  <a:cubicBezTo>
                    <a:pt x="646547" y="41815"/>
                    <a:pt x="451040" y="37163"/>
                    <a:pt x="295182" y="137062"/>
                  </a:cubicBezTo>
                  <a:cubicBezTo>
                    <a:pt x="152563" y="228476"/>
                    <a:pt x="65253" y="393442"/>
                    <a:pt x="65253" y="571500"/>
                  </a:cubicBezTo>
                  <a:lnTo>
                    <a:pt x="0" y="571500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" name="Straight Arrow Connector 13"/>
            <p:cNvCxnSpPr/>
            <p:nvPr/>
          </p:nvCxnSpPr>
          <p:spPr>
            <a:xfrm flipV="1">
              <a:off x="8386920" y="5257440"/>
              <a:ext cx="538560" cy="884880"/>
            </a:xfrm>
            <a:prstGeom prst="straightConnector1">
              <a:avLst/>
            </a:prstGeom>
            <a:ln w="50760">
              <a:solidFill>
                <a:srgbClr val="4f81bd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28600" y="152280"/>
            <a:ext cx="86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fferential Privacy In One Slide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CS theory applied to the social world—i.e., as far as you could possibly get from the subatomic worl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343080" y="1905120"/>
            <a:ext cx="84582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algorithm A that queries a database X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, we call A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for every two databases X and X’ that differ in only a singl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every possible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"/>
          <p:cNvGraphicFramePr/>
          <p:nvPr/>
        </p:nvGraphicFramePr>
        <p:xfrm>
          <a:off x="1452600" y="3325680"/>
          <a:ext cx="623880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3325680"/>
                    <a:ext cx="62388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2"/>
          <p:cNvSpPr/>
          <p:nvPr/>
        </p:nvSpPr>
        <p:spPr>
          <a:xfrm>
            <a:off x="324000" y="4191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a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many patients have prostate canc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333360" y="487692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etter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turn the number of patients with prostate cance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aplace noise of average magnitu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simple calculation shows this is 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"/>
          <p:cNvGraphicFramePr/>
          <p:nvPr/>
        </p:nvGraphicFramePr>
        <p:xfrm>
          <a:off x="4495680" y="3753000"/>
          <a:ext cx="114480" cy="11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753000"/>
                    <a:ext cx="114480" cy="1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04920" y="208080"/>
            <a:ext cx="8373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Differential Privacy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Protecting the Privacy Rights of Quantum St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352440" y="152388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 on n registers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(e.g., product states) if for eve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that differ on only 1 register, and every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1"/>
          <p:cNvGraphicFramePr/>
          <p:nvPr/>
        </p:nvGraphicFramePr>
        <p:xfrm>
          <a:off x="1298520" y="3429000"/>
          <a:ext cx="638352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3429000"/>
                    <a:ext cx="63835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2"/>
          <p:cNvSpPr/>
          <p:nvPr/>
        </p:nvSpPr>
        <p:spPr>
          <a:xfrm>
            <a:off x="343080" y="45086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ce again, measuring the total Hamming weight of n unentangled qubits plus a Laplace noise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5519880" y="5637240"/>
            <a:ext cx="31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50"/>
                </a:solidFill>
                <a:latin typeface="Calibri"/>
                <a:ea typeface="Arial"/>
              </a:rPr>
              <a:t>Hmmmm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"/>
          <p:cNvSpPr/>
          <p:nvPr/>
        </p:nvSpPr>
        <p:spPr>
          <a:xfrm>
            <a:off x="388800" y="3809880"/>
            <a:ext cx="8298000" cy="914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1447920" y="4724280"/>
            <a:ext cx="2346120" cy="533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6248520" y="3276720"/>
            <a:ext cx="2438280" cy="533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Main Result: 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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43080" y="1066680"/>
            <a:ext cx="85816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(1) Any measurement that’s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-gentle on product states (for small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) is also O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)-DP on product st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72960" y="3276720"/>
            <a:ext cx="85518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(2) Any measurement that’s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-DP on product states, and consists of a classical DP algorithm applied to results of separate measurements on each register, is also O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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n)-gentle on product st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5"/>
          <p:cNvGrpSpPr/>
          <p:nvPr/>
        </p:nvGrpSpPr>
        <p:grpSpPr>
          <a:xfrm>
            <a:off x="4419720" y="2297160"/>
            <a:ext cx="4338360" cy="1127160"/>
            <a:chOff x="4419720" y="2297160"/>
            <a:chExt cx="4338360" cy="1127160"/>
          </a:xfrm>
        </p:grpSpPr>
        <p:sp>
          <p:nvSpPr>
            <p:cNvPr id="104" name="Text Box 2"/>
            <p:cNvSpPr/>
            <p:nvPr/>
          </p:nvSpPr>
          <p:spPr>
            <a:xfrm>
              <a:off x="4419720" y="2297160"/>
              <a:ext cx="433836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Have to restrict the set of states for part (2) to be intere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Straight Arrow Connector 2"/>
            <p:cNvCxnSpPr/>
            <p:nvPr/>
          </p:nvCxnSpPr>
          <p:spPr>
            <a:xfrm>
              <a:off x="7315200" y="3127680"/>
              <a:ext cx="1080" cy="297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06" name="Group 18"/>
          <p:cNvGrpSpPr/>
          <p:nvPr/>
        </p:nvGrpSpPr>
        <p:grpSpPr>
          <a:xfrm>
            <a:off x="372960" y="5257440"/>
            <a:ext cx="4351320" cy="1177920"/>
            <a:chOff x="372960" y="5257440"/>
            <a:chExt cx="4351320" cy="1177920"/>
          </a:xfrm>
        </p:grpSpPr>
        <p:sp>
          <p:nvSpPr>
            <p:cNvPr id="107" name="Text Box 2"/>
            <p:cNvSpPr/>
            <p:nvPr/>
          </p:nvSpPr>
          <p:spPr>
            <a:xfrm>
              <a:off x="372960" y="5609880"/>
              <a:ext cx="435132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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n factor is tight (the Laplace noise measurement shows thi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Straight Arrow Connector 11"/>
            <p:cNvCxnSpPr/>
            <p:nvPr/>
          </p:nvCxnSpPr>
          <p:spPr>
            <a:xfrm flipV="1">
              <a:off x="2625480" y="5257440"/>
              <a:ext cx="1080" cy="352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09" name="Group 16"/>
          <p:cNvGrpSpPr/>
          <p:nvPr/>
        </p:nvGrpSpPr>
        <p:grpSpPr>
          <a:xfrm>
            <a:off x="5165640" y="4723560"/>
            <a:ext cx="3581640" cy="1669680"/>
            <a:chOff x="5165640" y="4723560"/>
            <a:chExt cx="3581640" cy="1669680"/>
          </a:xfrm>
        </p:grpSpPr>
        <p:sp>
          <p:nvSpPr>
            <p:cNvPr id="110" name="Text Box 2"/>
            <p:cNvSpPr/>
            <p:nvPr/>
          </p:nvSpPr>
          <p:spPr>
            <a:xfrm>
              <a:off x="5165640" y="5567760"/>
              <a:ext cx="358164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This restriction might just be an artifact of our pro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Straight Arrow Connector 13"/>
            <p:cNvCxnSpPr/>
            <p:nvPr/>
          </p:nvCxnSpPr>
          <p:spPr>
            <a:xfrm flipH="1" flipV="1">
              <a:off x="5713560" y="4723560"/>
              <a:ext cx="533880" cy="844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  <p:sp>
        <p:nvSpPr>
          <p:cNvPr id="112" name="TextBox 21"/>
          <p:cNvSpPr/>
          <p:nvPr/>
        </p:nvSpPr>
        <p:spPr>
          <a:xfrm>
            <a:off x="258840" y="2112840"/>
            <a:ext cx="39783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n’t DP and gentlenes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bviousl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58920" y="1066680"/>
            <a:ext cx="840420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Dwork et al. (2014): Connection between DP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daptive data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alibri"/>
                <a:ea typeface="Arial"/>
              </a:rPr>
              <a:t>We can safely reuse the same dataset for many scientific studies, </a:t>
            </a:r>
            <a:r>
              <a:rPr b="0" i="1" lang="en-US" sz="3000" spc="-1" strike="noStrike">
                <a:solidFill>
                  <a:srgbClr val="00b050"/>
                </a:solidFill>
                <a:latin typeface="Calibri"/>
                <a:ea typeface="Arial"/>
              </a:rPr>
              <a:t>if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  <a:ea typeface="Arial"/>
              </a:rPr>
              <a:t> we’re careful to query the dataset using DP algorithms onl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In our terms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D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“classical Bayesian gentlenes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Of course, “damage” to a probability distribution is purely internal and mental, whereas damage to a quantum state can be noticed by other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ne Slide on Proof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352440" y="977760"/>
            <a:ext cx="8458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ness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asy, little to do with QM.  Consider a “converse” statement: if a measurement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very different probabilities, then by Bayes’ Theorem it will damag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/2.  Then, given a product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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pply this reasoning to eac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04920" y="3429000"/>
            <a:ext cx="85057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ness for Product Stat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rder direction.  First prove for classical product distributions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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following Dwork et al).  Then “lift” to a measurement that QSamples from the output distribution of a classical DP algorithm, on each component of a superpositio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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Use inequalities that relate KL-divergence, Hellinger distance, and trace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04920" y="15228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: “Shadow Tomograph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357120" y="1066680"/>
            <a:ext cx="84582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unknown D-dimensional quantum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known 2-outcome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stimate 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]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M], with high probability, by measuring as few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976320" y="3200400"/>
            <a:ext cx="78249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k=O(D</a:t>
            </a:r>
            <a:r>
              <a:rPr b="1" lang="en-US" sz="2500" spc="-1" strike="noStrike" baseline="30000">
                <a:solidFill>
                  <a:srgbClr val="00b050"/>
                </a:solidFill>
                <a:latin typeface="Calibri"/>
                <a:ea typeface="Arial"/>
              </a:rPr>
              <a:t>2</a:t>
            </a: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) copies suffice (do ordinary tomography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k=O(M) suffice (apply each E</a:t>
            </a:r>
            <a:r>
              <a:rPr b="1" lang="en-US" sz="2500" spc="-1" strike="noStrike" baseline="-25000">
                <a:solidFill>
                  <a:srgbClr val="00b050"/>
                </a:solidFill>
                <a:latin typeface="Calibri"/>
                <a:ea typeface="Arial"/>
              </a:rPr>
              <a:t>i</a:t>
            </a: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 to separate copi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But in many applications, D and M are both enormou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43080" y="4952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(A., STOC’2018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hadow tomography is possible using only this many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1"/>
          <p:cNvGraphicFramePr/>
          <p:nvPr/>
        </p:nvGraphicFramePr>
        <p:xfrm>
          <a:off x="2111400" y="5845320"/>
          <a:ext cx="494964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1400" y="5845320"/>
                    <a:ext cx="49496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9-06-25T00:41:29Z</dcterms:modified>
  <cp:revision>474</cp:revision>
  <dc:subject/>
  <dc:title>BQP and the Polynomial Hierarchy</dc:title>
</cp:coreProperties>
</file>