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F767-EA65-4520-AE05-11D15AFCB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D77D-A4C5-4A39-837E-184766565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C1C2-55E7-4602-98F9-B09D81F0E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DEFA-66B0-41C1-871A-483E6F671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91AE-53E7-454C-8413-868D47160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BB7F-6953-46E6-ADE1-154C56EC9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7718-8475-44D6-A8EA-5223F6234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B02C-49CA-41E2-A18E-7E1614301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62A2-6DA7-4B18-8E14-3DF56EECD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5351-7AAA-4A0E-9C45-EB7E4B07A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A818-AFCB-4398-9783-38F31B946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F58E-3D0D-4CD9-83A5-BFFF3DEF3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E7C8-14EC-46A0-89BC-DC7AF0A5C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6FB6-8652-4547-A594-B080FF930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455-555C-4716-8026-34924543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2E3-5575-4ACD-A468-AD990909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FBE-230D-4AF8-8D0B-318ED3EF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103-35B6-4B8D-BD4B-F89A2594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658-AFE4-4C5C-B683-F13818F6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A64-E0CB-427B-AD09-2897EEB6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16F-6B3B-4B30-ABAB-EA10EEC1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C47-15B2-4BF9-9A21-6C65B4D9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B23-BE2C-4304-9777-49B9DE60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832-1AD2-4879-9C15-1AC80F1F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A4D-8EBA-42D4-B681-3B2FE0CB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645-FCE0-4B65-9628-798CFC64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432F-5903-4B83-B744-E7825E9269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8E14-C903-4254-885E-493DCC673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8080" y="3885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uInT, Albuquerque, NM, February 12,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Gentle Measurement of Quantum States and Differential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228600" y="55627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Joint work with Guy Rothblum (on the arXiv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 appear in STOC’20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28600" y="2141640"/>
            <a:ext cx="9067680" cy="73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932040" y="235116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53" name="Rounded Rectangle 8"/>
          <p:cNvSpPr/>
          <p:nvPr/>
        </p:nvSpPr>
        <p:spPr>
          <a:xfrm>
            <a:off x="4762440" y="2351160"/>
            <a:ext cx="152640" cy="807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807840"/>
              <a:gd name="textAreaBottom" fmla="*/ 800640 h 807840"/>
            </a:gdLst>
            <a:ahLst/>
            <a:rect l="textAreaLeft" t="textAreaTop" r="textAreaRight" b="textAreaBottom"/>
            <a:pathLst>
              <a:path w="21600" h="114099">
                <a:moveTo>
                  <a:pt x="3600" y="0"/>
                </a:moveTo>
                <a:arcTo wR="3600" hR="3600" stAng="16200000" swAng="-5400000"/>
                <a:lnTo>
                  <a:pt x="0" y="110499"/>
                </a:lnTo>
                <a:arcTo wR="3600" hR="3600" stAng="10800000" swAng="-5400000"/>
                <a:lnTo>
                  <a:pt x="18000" y="11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Shadow 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57120" y="1011240"/>
            <a:ext cx="84582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Task (A. 2016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D-dimensional mixed state. 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POVMs. 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—the “shadows”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sts o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1"/>
          <p:cNvGraphicFramePr/>
          <p:nvPr/>
        </p:nvGraphicFramePr>
        <p:xfrm>
          <a:off x="2743200" y="5572080"/>
          <a:ext cx="4842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72080"/>
                    <a:ext cx="484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2"/>
          <p:cNvSpPr/>
          <p:nvPr/>
        </p:nvSpPr>
        <p:spPr>
          <a:xfrm>
            <a:off x="357120" y="34290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M) suffice (apply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eparate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what if we wanted to know, e.g., the behavior of an n-qubit state on all accept/reject circuits with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?  Could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1"/>
          <p:cNvGraphicFramePr/>
          <p:nvPr/>
        </p:nvGraphicFramePr>
        <p:xfrm>
          <a:off x="2006640" y="1349280"/>
          <a:ext cx="49496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1349280"/>
                    <a:ext cx="49496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2"/>
          <p:cNvSpPr/>
          <p:nvPr/>
        </p:nvSpPr>
        <p:spPr>
          <a:xfrm>
            <a:off x="343080" y="2022480"/>
            <a:ext cx="14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68280" y="2743200"/>
            <a:ext cx="845820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protocol combi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multiplicative weights update method (i.e., start with the “maximally stupid hypothesis,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I/D, and then repeatedly look for opportunities to update, via postselecting on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for som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“Quantum OR Bound” (A. 2006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row et al. 2017), which repeatedly picks out an informative measurement from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a gentl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1284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w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 can do shadow tomography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7"/>
          <p:cNvGraphicFramePr/>
          <p:nvPr/>
        </p:nvGraphicFramePr>
        <p:xfrm>
          <a:off x="2008080" y="828720"/>
          <a:ext cx="51278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828720"/>
                    <a:ext cx="512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"/>
          <p:cNvSpPr/>
          <p:nvPr/>
        </p:nvSpPr>
        <p:spPr>
          <a:xfrm>
            <a:off x="301680" y="1743120"/>
            <a:ext cx="849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via a procedure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and simpler than my previous one, and probably more amenable to experimental implem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, which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QPM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nce each iteration of QPMW is DP (and applies separate POVMs to each register), it’s also gentle on product states, so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39840" y="1143000"/>
            <a:ext cx="845820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a fully general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 for product states?  Or even near-trivialit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for product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shadow tomography, does the number of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to hav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pendence on log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est lower bound we can show: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-2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min{D, log M}).  But f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onlin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shadow tomography, can use known lower bounds from DP to show that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log D))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43080" y="3751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one can implement it so that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and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"/>
          <p:cNvGraphicFramePr/>
          <p:nvPr/>
        </p:nvGraphicFramePr>
        <p:xfrm>
          <a:off x="3003480" y="519444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3480" y="519444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2"/>
          <p:cNvSpPr/>
          <p:nvPr/>
        </p:nvSpPr>
        <p:spPr>
          <a:xfrm>
            <a:off x="333360" y="6019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M are famously destructive … but not alw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534240" y="271188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 flipV="1">
            <a:off x="533880" y="395640"/>
            <a:ext cx="102456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 flipV="1">
            <a:off x="533520" y="30528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200400" y="223344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formation/disturbance tradeof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utcome predictable given knowled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body needs to get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430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measuring the Hamming weight plus noise 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is much safer!  A good choic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aplace noi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2"/>
          <p:cNvGraphicFramePr/>
          <p:nvPr/>
        </p:nvGraphicFramePr>
        <p:xfrm>
          <a:off x="438120" y="1504800"/>
          <a:ext cx="491328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04800"/>
                    <a:ext cx="491328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"/>
          <p:cNvGraphicFramePr/>
          <p:nvPr/>
        </p:nvGraphicFramePr>
        <p:xfrm>
          <a:off x="2725560" y="5334120"/>
          <a:ext cx="369288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5560" y="5334120"/>
                    <a:ext cx="369288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28600" y="20808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A recent subfield of classical CS that wants to protect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you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361800" y="152388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1"/>
          <p:cNvGraphicFramePr/>
          <p:nvPr/>
        </p:nvGraphicFramePr>
        <p:xfrm>
          <a:off x="1471680" y="294480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94480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2"/>
          <p:cNvSpPr/>
          <p:nvPr/>
        </p:nvSpPr>
        <p:spPr>
          <a:xfrm>
            <a:off x="343080" y="38498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of these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52440" y="4371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"/>
          <p:cNvGraphicFramePr/>
          <p:nvPr/>
        </p:nvGraphicFramePr>
        <p:xfrm>
          <a:off x="3298680" y="5326200"/>
          <a:ext cx="548640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8680" y="5326200"/>
                    <a:ext cx="54864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2"/>
          <p:cNvSpPr/>
          <p:nvPr/>
        </p:nvSpPr>
        <p:spPr>
          <a:xfrm>
            <a:off x="343080" y="5478480"/>
            <a:ext cx="27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it’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"/>
          <p:cNvGraphicFramePr/>
          <p:nvPr/>
        </p:nvGraphicFramePr>
        <p:xfrm>
          <a:off x="4514760" y="3371760"/>
          <a:ext cx="114480" cy="1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371760"/>
                    <a:ext cx="11448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2"/>
          <p:cNvSpPr/>
          <p:nvPr/>
        </p:nvSpPr>
        <p:spPr>
          <a:xfrm>
            <a:off x="1066680" y="4079880"/>
            <a:ext cx="7239240" cy="58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ually used now by Apple and Goog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by a channel acting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2"/>
          <p:cNvSpPr/>
          <p:nvPr/>
        </p:nvSpPr>
        <p:spPr>
          <a:xfrm>
            <a:off x="352440" y="4976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measuring the total Hamming weight of n unentangled qubit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5519880" y="5961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52440" y="4343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5244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for 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304920" y="3738600"/>
            <a:ext cx="84582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oth directions are asymptotically t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estriction to product states is essential for part (2) (without it we only get O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)-gentlen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rt (2) preserves efficiency, as long as the DP algorithm’s output distribution can be efficientl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Samp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63600" y="1770120"/>
            <a:ext cx="855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the results of separate POVMs on each regis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6"/>
          <p:cNvSpPr/>
          <p:nvPr/>
        </p:nvSpPr>
        <p:spPr>
          <a:xfrm>
            <a:off x="9360" y="35053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58920" y="1219320"/>
            <a:ext cx="84042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 made a striking connection between differential privacy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safely reuse the same dataset for many scientific stud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y showed that the answer is yes—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’re careful to access the dataset using DP algorithms on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.e., they connected DP to “classical Bayesian gentle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course, damage to a distribution D is purely internal and mental, whereas damage to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often noticeable even by others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easy direction!  Has nothing to do with product states or even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63600" y="220968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on all states, then i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1"/>
          <p:cNvGraphicFramePr/>
          <p:nvPr/>
        </p:nvGraphicFramePr>
        <p:xfrm>
          <a:off x="2743200" y="2819520"/>
          <a:ext cx="32637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263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2"/>
          <p:cNvSpPr/>
          <p:nvPr/>
        </p:nvSpPr>
        <p:spPr>
          <a:xfrm>
            <a:off x="363600" y="4267080"/>
            <a:ext cx="84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consider the converse: if Pr[M outputs y] is very different 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n conditioning on M outputting y will badly “damage”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, by Bayes’ Theor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363600" y="5791320"/>
            <a:ext cx="844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w just apply the lemma separately to each register of our produ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for Produc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harder direction; known only for measurements that apply separate POVMs to the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63600" y="2133720"/>
            <a:ext cx="85518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irs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A be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classical algorithm.  Then for any product distribution D=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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1"/>
          <p:cNvGraphicFramePr/>
          <p:nvPr/>
        </p:nvGraphicFramePr>
        <p:xfrm>
          <a:off x="585720" y="2971800"/>
          <a:ext cx="800100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971800"/>
                    <a:ext cx="80010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2"/>
          <p:cNvSpPr/>
          <p:nvPr/>
        </p:nvSpPr>
        <p:spPr>
          <a:xfrm>
            <a:off x="357120" y="4114800"/>
            <a:ext cx="8447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he “QSampled” version of 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any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617220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n generalize to POVMs and mix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7"/>
          <p:cNvGraphicFramePr/>
          <p:nvPr/>
        </p:nvGraphicFramePr>
        <p:xfrm>
          <a:off x="719280" y="5089680"/>
          <a:ext cx="770544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5089680"/>
                    <a:ext cx="77054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2-12T20:46:35Z</dcterms:modified>
  <cp:revision>443</cp:revision>
  <dc:subject/>
  <dc:title>BQP and the Polynomial Hierarchy</dc:title>
</cp:coreProperties>
</file>