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3598-D69A-47EA-A5E9-F2557381E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F681-6B8D-47F8-8E19-4D57C2C13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6042-130F-48E0-8BCD-BB22A4B75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7175-ED16-4144-9A50-9FFB7B119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25FD-FBF2-4AB5-93D4-88FC651BD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397F-620B-4DCA-8117-2026EE3EC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AADE-EE5C-48CD-A877-5651D1A3A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56B5-DE4F-49EC-A81A-BBC020391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3335-FDC8-4FAE-B49D-7D3E239D0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B11E-E994-4853-8903-2F04FCCD3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40BD-D070-4510-B756-9F2631BC1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C413-C6B0-4889-BF2C-38E575CAF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E20A-8615-473C-9843-0AB7E8450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208B-A5CC-459A-B99C-DC4CA9ED5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F8E-BFCE-482E-A73C-BD03C48D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A09-41B9-4BBB-A0CD-7B887B9F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9F4-7556-404A-A71A-547BFE32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41B-27CD-4368-A7BA-597ACEF5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A97-BB04-454C-9664-DC8FAF78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E5A-2713-4721-A92B-227BB220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3E1-E198-4FD6-8D91-B0126F5D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BD5-1332-417A-8068-3D516AAD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71D9-187E-4EA7-A378-D84E6881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396-1D5D-4B75-A887-342157E0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98F-56A1-47F0-A2B5-444DC0B1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E1E-5FF1-4500-94EC-59BA5A93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8054-BCC6-45E3-9026-10162669AB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E246-34CB-4026-BB66-E7D096A20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08080" y="3885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QuInT, Albuquerque, NM, February 12, 20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Gentle Measurement of Quantum States and Differential Priv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228600" y="55627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Joint work with Guy Rothblum (on the arXiv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o appear in STOC’201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28600" y="2141640"/>
            <a:ext cx="9067680" cy="73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932040" y="2351160"/>
            <a:ext cx="7238880" cy="903240"/>
          </a:xfrm>
          <a:prstGeom prst="rect">
            <a:avLst/>
          </a:prstGeom>
          <a:ln w="0">
            <a:noFill/>
          </a:ln>
        </p:spPr>
      </p:pic>
      <p:sp>
        <p:nvSpPr>
          <p:cNvPr id="53" name="Rounded Rectangle 8"/>
          <p:cNvSpPr/>
          <p:nvPr/>
        </p:nvSpPr>
        <p:spPr>
          <a:xfrm>
            <a:off x="4762440" y="2351160"/>
            <a:ext cx="152640" cy="80784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807840"/>
              <a:gd name="textAreaBottom" fmla="*/ 800640 h 807840"/>
            </a:gdLst>
            <a:ahLst/>
            <a:rect l="textAreaLeft" t="textAreaTop" r="textAreaRight" b="textAreaBottom"/>
            <a:pathLst>
              <a:path w="21600" h="114099">
                <a:moveTo>
                  <a:pt x="3600" y="0"/>
                </a:moveTo>
                <a:arcTo wR="3600" hR="3600" stAng="16200000" swAng="-5400000"/>
                <a:lnTo>
                  <a:pt x="0" y="110499"/>
                </a:lnTo>
                <a:arcTo wR="3600" hR="3600" stAng="10800000" swAng="-5400000"/>
                <a:lnTo>
                  <a:pt x="18000" y="11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04920" y="1522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: Shadow Tom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357120" y="1011240"/>
            <a:ext cx="84582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 Task (A. 2016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an unknown D-dimensional mixed state. 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known 2-outcome POVMs.  Estimate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] to with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M]—the “shadows”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sts on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with high probability, by measuring as few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1"/>
          <p:cNvGraphicFramePr/>
          <p:nvPr/>
        </p:nvGraphicFramePr>
        <p:xfrm>
          <a:off x="2743200" y="5572080"/>
          <a:ext cx="4842000" cy="12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572080"/>
                    <a:ext cx="484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2"/>
          <p:cNvSpPr/>
          <p:nvPr/>
        </p:nvSpPr>
        <p:spPr>
          <a:xfrm>
            <a:off x="357120" y="34290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early k=O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opies suffice (do ordinary tomograp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early k=O(M) suffice (apply each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separate cop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what if we wanted to know, e.g., the behavior of an n-qubit state on all accept/reject circuits with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ates?  Could we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430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(A., STOC’2018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hadow tomography is possible using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1"/>
          <p:cNvGraphicFramePr/>
          <p:nvPr/>
        </p:nvGraphicFramePr>
        <p:xfrm>
          <a:off x="2006640" y="1349280"/>
          <a:ext cx="494964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1349280"/>
                    <a:ext cx="49496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2"/>
          <p:cNvSpPr/>
          <p:nvPr/>
        </p:nvSpPr>
        <p:spPr>
          <a:xfrm>
            <a:off x="343080" y="2022480"/>
            <a:ext cx="140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68280" y="2743200"/>
            <a:ext cx="8458200" cy="41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y protocol combi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multiplicative weights update method (i.e., start with the “maximally stupid hypothesis,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I/D, and then repeatedly look for opportunities to update, via postselecting on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for some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“Quantum OR Bound” (A. 2006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rrow et al. 2017), which repeatedly picks out an informative measurement from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 a gentl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12840" y="304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ew Resul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e can do shadow tomography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7"/>
          <p:cNvGraphicFramePr/>
          <p:nvPr/>
        </p:nvGraphicFramePr>
        <p:xfrm>
          <a:off x="2008080" y="828720"/>
          <a:ext cx="512784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828720"/>
                    <a:ext cx="51278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2"/>
          <p:cNvSpPr/>
          <p:nvPr/>
        </p:nvSpPr>
        <p:spPr>
          <a:xfrm>
            <a:off x="301680" y="1743120"/>
            <a:ext cx="8499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via a procedure that’s als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and simpler than my previous one, and probably more amenable to experimental impleme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312840" y="3124080"/>
            <a:ext cx="860256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ow it works: we take a known procedure from DP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ivate Multiplicative Weigh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(Hardt-Rothblum 2010), which decides whether to update our current hypothesis on each query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sing a threshold measurement with Laplace noise a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give a quantum analogue, QPM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ince each iteration of QPMW is DP (and applies separate POVMs to each register), it’s also gentle on product states, so we can safely apply all M of the iterations in seq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39840" y="1143000"/>
            <a:ext cx="845820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ve a fully general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theorem for product states?  Or even near-trivialit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for product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shadow tomography, does the number of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eed to hav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ependence on log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Best lower bound we can show: k=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-2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min{D, log M}).  But for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gentle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or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online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shadow tomography, can use known lower bounds from DP to show that k=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log D))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osition of quantum DP algorith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e quantum to say something new about classical D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43080" y="37512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if one can implement it so that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and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1"/>
          <p:cNvGraphicFramePr/>
          <p:nvPr/>
        </p:nvGraphicFramePr>
        <p:xfrm>
          <a:off x="3003480" y="5194440"/>
          <a:ext cx="29764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3480" y="5194440"/>
                    <a:ext cx="29764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2"/>
          <p:cNvSpPr/>
          <p:nvPr/>
        </p:nvSpPr>
        <p:spPr>
          <a:xfrm>
            <a:off x="333360" y="6019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ypical choice for 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t states on 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3200400" y="1076400"/>
            <a:ext cx="54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s in QM are famously destructive … but not alwa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534240" y="2711880"/>
            <a:ext cx="2405160" cy="73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 flipV="1">
            <a:off x="533880" y="395640"/>
            <a:ext cx="1024560" cy="2316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 flipV="1">
            <a:off x="533520" y="305280"/>
            <a:ext cx="732960" cy="2405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200400" y="223344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nformation/disturbance tradeof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utcome predictable given knowledg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body needs to get h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38080" y="2743200"/>
            <a:ext cx="9068040" cy="736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3430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ing the total Hamming weight of n unentangled qubits could be extreme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343080" y="4267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measuring the Hamming weight plus noise of order &gt;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is much safer!  A good choice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aplace noi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2"/>
          <a:stretch/>
        </p:blipFill>
        <p:spPr>
          <a:xfrm>
            <a:off x="1541520" y="2952720"/>
            <a:ext cx="7238880" cy="90324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le 11"/>
          <p:cNvSpPr/>
          <p:nvPr/>
        </p:nvSpPr>
        <p:spPr>
          <a:xfrm>
            <a:off x="5372280" y="2952720"/>
            <a:ext cx="152280" cy="808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808200"/>
              <a:gd name="textAreaBottom" fmla="*/ 801000 h 808200"/>
            </a:gdLst>
            <a:ahLst/>
            <a:rect l="textAreaLeft" t="textAreaTop" r="textAreaRight" b="textAreaBottom"/>
            <a:pathLst>
              <a:path w="21600" h="114419">
                <a:moveTo>
                  <a:pt x="3600" y="0"/>
                </a:moveTo>
                <a:arcTo wR="3600" hR="3600" stAng="16200000" swAng="-5400000"/>
                <a:lnTo>
                  <a:pt x="0" y="110819"/>
                </a:lnTo>
                <a:arcTo wR="3600" hR="3600" stAng="10800000" swAng="-5400000"/>
                <a:lnTo>
                  <a:pt x="18000" y="114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2"/>
          <p:cNvGraphicFramePr/>
          <p:nvPr/>
        </p:nvGraphicFramePr>
        <p:xfrm>
          <a:off x="438120" y="1504800"/>
          <a:ext cx="4913280" cy="150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20" y="1504800"/>
                    <a:ext cx="491328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3"/>
          <p:cNvGraphicFramePr/>
          <p:nvPr/>
        </p:nvGraphicFramePr>
        <p:xfrm>
          <a:off x="2725560" y="5334120"/>
          <a:ext cx="3692880" cy="111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25560" y="5334120"/>
                    <a:ext cx="369288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28600" y="208080"/>
            <a:ext cx="86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fferential Privacy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A recent subfield of classical CS that wants to protect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you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361800" y="1523880"/>
            <a:ext cx="8458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algorithm A that queries a database X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, we call A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for every two databases X and X’ that differ in only a singl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every possible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1"/>
          <p:cNvGraphicFramePr/>
          <p:nvPr/>
        </p:nvGraphicFramePr>
        <p:xfrm>
          <a:off x="1471680" y="2944800"/>
          <a:ext cx="623880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2944800"/>
                    <a:ext cx="6238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2"/>
          <p:cNvSpPr/>
          <p:nvPr/>
        </p:nvSpPr>
        <p:spPr>
          <a:xfrm>
            <a:off x="343080" y="38498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a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many of these patients have prostate canc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52440" y="43718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etter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turn the number of patients with prostate canc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aplace noise of average magnitu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"/>
          <p:cNvGraphicFramePr/>
          <p:nvPr/>
        </p:nvGraphicFramePr>
        <p:xfrm>
          <a:off x="3298680" y="5326200"/>
          <a:ext cx="548640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98680" y="5326200"/>
                    <a:ext cx="54864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2"/>
          <p:cNvSpPr/>
          <p:nvPr/>
        </p:nvSpPr>
        <p:spPr>
          <a:xfrm>
            <a:off x="343080" y="5478480"/>
            <a:ext cx="27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y it’s 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1"/>
          <p:cNvGraphicFramePr/>
          <p:nvPr/>
        </p:nvGraphicFramePr>
        <p:xfrm>
          <a:off x="4514760" y="3371760"/>
          <a:ext cx="114480" cy="11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14760" y="3371760"/>
                    <a:ext cx="114480" cy="1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2"/>
          <p:cNvSpPr/>
          <p:nvPr/>
        </p:nvSpPr>
        <p:spPr>
          <a:xfrm>
            <a:off x="1066680" y="4079880"/>
            <a:ext cx="7239240" cy="5814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ctually used now by Apple and Goog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04920" y="208080"/>
            <a:ext cx="8373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Differential Privacy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Protecting the Privacy Rights of Quantum St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352440" y="15238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 on n registers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if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that differ by a channel acting on only 1 register, and every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"/>
          <p:cNvGraphicFramePr/>
          <p:nvPr/>
        </p:nvGraphicFramePr>
        <p:xfrm>
          <a:off x="1298520" y="3429000"/>
          <a:ext cx="638352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3429000"/>
                    <a:ext cx="63835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2"/>
          <p:cNvSpPr/>
          <p:nvPr/>
        </p:nvSpPr>
        <p:spPr>
          <a:xfrm>
            <a:off x="352440" y="49766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ce again, measuring the total Hamming weight of n unentangled qubits plus a Laplace noise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5519880" y="5961240"/>
            <a:ext cx="31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00"/>
                </a:solidFill>
                <a:latin typeface="Calibri"/>
                <a:ea typeface="Arial"/>
              </a:rPr>
              <a:t>Hmmmm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52440" y="43434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ypical choice for 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t states on 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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5244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)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gentle for smal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 is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-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304920" y="3738600"/>
            <a:ext cx="845820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Not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oth directions are asymptotically t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Restriction to product states is essential for part (2) (without it we only get O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)-gentlene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art (2) preserves efficiency, as long as the DP algorithm’s output distribution can be efficiently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Samp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63600" y="1770120"/>
            <a:ext cx="855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2)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 on product states, and consists of a classical DP algorithm applied to the results of separate POVMs on each regist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 is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)-gentle on product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6"/>
          <p:cNvSpPr/>
          <p:nvPr/>
        </p:nvSpPr>
        <p:spPr>
          <a:xfrm>
            <a:off x="9360" y="35053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58920" y="1219320"/>
            <a:ext cx="840420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work et al. (2014) made a striking connection between differential privacy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aptive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safely reuse the same dataset for many scientific stud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y showed that the answer is yes—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e’re careful to access the dataset using DP algorithms on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.e., they connected DP to “classical Bayesian gentle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f course, damage to a distribution D is purely internal and mental, whereas damage to a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often noticeable even by others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352440" y="1066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easy direction!  Has nothing to do with product states or even quantum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63600" y="220968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gentle on all states, then it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1"/>
          <p:cNvGraphicFramePr/>
          <p:nvPr/>
        </p:nvGraphicFramePr>
        <p:xfrm>
          <a:off x="2743200" y="2819520"/>
          <a:ext cx="326376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819520"/>
                    <a:ext cx="32637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2"/>
          <p:cNvSpPr/>
          <p:nvPr/>
        </p:nvSpPr>
        <p:spPr>
          <a:xfrm>
            <a:off x="363600" y="4267080"/>
            <a:ext cx="844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consider the converse: if Pr[M outputs y] is very different 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n conditioning on M outputting y will badly “damage”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/2, by Bayes’ Theor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363600" y="5791320"/>
            <a:ext cx="844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w just apply the lemma separately to each register of our produc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 for Product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52440" y="1066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harder direction; known only for measurements that apply separate POVMs to the 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63600" y="2133720"/>
            <a:ext cx="85518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irst ste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t A be 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 classical algorithm.  Then for any product distribution D=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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1"/>
          <p:cNvGraphicFramePr/>
          <p:nvPr/>
        </p:nvGraphicFramePr>
        <p:xfrm>
          <a:off x="585720" y="2971800"/>
          <a:ext cx="800100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2971800"/>
                    <a:ext cx="800100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2"/>
          <p:cNvSpPr/>
          <p:nvPr/>
        </p:nvSpPr>
        <p:spPr>
          <a:xfrm>
            <a:off x="357120" y="4114800"/>
            <a:ext cx="8447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ext ste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iven the “QSampled” version of D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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any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617220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then generalize to POVMs and mix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7"/>
          <p:cNvGraphicFramePr/>
          <p:nvPr/>
        </p:nvGraphicFramePr>
        <p:xfrm>
          <a:off x="719280" y="5089680"/>
          <a:ext cx="7705440" cy="88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280" y="5089680"/>
                    <a:ext cx="770544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9-02-12T20:46:35Z</dcterms:modified>
  <cp:revision>443</cp:revision>
  <dc:subject/>
  <dc:title>BQP and the Polynomial Hierarchy</dc:title>
</cp:coreProperties>
</file>