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E44D-4D2B-4682-A0EF-2D62E5EA8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E5D8-B893-43DC-A842-A9A249164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D15C-71AB-451E-AE66-6E35474BD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18CB-380B-4A6E-87DA-6DA6EC3AE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8BAF-344D-4D46-AF0B-C362AE8F45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E5A5-AA0C-42F4-8485-6DFE3A105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8F05-87D0-4D59-91BC-275C3FD84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8CC7-4053-4AF4-9CAB-FA8A367FD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D001-52D0-489D-960A-F45CE85615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5257-5C93-483B-9A37-56B32ECEA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B6DF-725E-4170-B296-358420CB9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C41F-6A13-4ED8-8B9D-90FCCDB21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2E27-167D-45AC-9547-04B40902D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162C-3E7F-42A7-8306-14A683C7B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7237-1123-469A-BF1A-E480FB460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397E-967C-4D0E-9232-1D7F8B537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27E-9A13-4495-8A55-1A6E93F3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E39B-35FC-4026-BCED-F2B09961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57AB-2FEA-479E-BFB8-1D46332F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FF8B-550D-47B3-AEBB-6A027906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153-C6BC-45DB-90A3-9BC0B1B6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5710-93D1-47F0-A741-BD38D440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569-5A27-483D-826F-7AEDE81D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C71-5480-4E10-87C8-D68707C8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A1E-764A-4B81-83C3-DE15BE90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30C-59C4-473A-BD78-AAEB927A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577-8667-4227-AFF4-48E3BA88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D28C-B5B8-43BD-9A83-2B03A247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77F3-A59F-4BC3-97BC-A377CC4C7F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B1AF-678C-4785-9B2D-0800945BB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28600" y="4724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, November 20,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2280" y="2286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Gentle Measurement of Quantum States and Differential Priv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228600" y="6019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Joint work with Guy Rothblum (on the arXiv s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3763800" y="1219320"/>
            <a:ext cx="243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:\Users\Scott\AppData\Local\Microsoft\Windows\INetCache\IE\V1PN6FUD\curtain_texture_by_edneu2004[1].jpg"/>
          <p:cNvPicPr/>
          <p:nvPr/>
        </p:nvPicPr>
        <p:blipFill>
          <a:blip r:embed="rId1"/>
          <a:stretch/>
        </p:blipFill>
        <p:spPr>
          <a:xfrm>
            <a:off x="2946240" y="1946160"/>
            <a:ext cx="3251520" cy="2438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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 for Product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352440" y="1066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harder direction; known only for measurements that apply separate POVMs to the n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63600" y="2133720"/>
            <a:ext cx="85518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irst ste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et A be 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 classical algorithm.  Then for any product distribution D=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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"/>
          <p:cNvGraphicFramePr/>
          <p:nvPr/>
        </p:nvGraphicFramePr>
        <p:xfrm>
          <a:off x="585720" y="2971800"/>
          <a:ext cx="800100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2971800"/>
                    <a:ext cx="800100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2"/>
          <p:cNvSpPr/>
          <p:nvPr/>
        </p:nvSpPr>
        <p:spPr>
          <a:xfrm>
            <a:off x="357120" y="4114800"/>
            <a:ext cx="8447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ext ste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iven the “QSampled” version of D,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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any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3600" y="617220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then generalize to POVMs and mix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7"/>
          <p:cNvGraphicFramePr/>
          <p:nvPr/>
        </p:nvGraphicFramePr>
        <p:xfrm>
          <a:off x="719280" y="5089680"/>
          <a:ext cx="7705440" cy="88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280" y="5089680"/>
                    <a:ext cx="770544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eparating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52440" y="10666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 the Hamming weight plus Laplace noise of magnitude ~n/10: 10/n-DP, yet not even 1/3-gentle on non-product states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1"/>
          <p:cNvGraphicFramePr/>
          <p:nvPr/>
        </p:nvGraphicFramePr>
        <p:xfrm>
          <a:off x="4114800" y="2057400"/>
          <a:ext cx="2225520" cy="13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057400"/>
                    <a:ext cx="222552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2"/>
          <p:cNvSpPr/>
          <p:nvPr/>
        </p:nvSpPr>
        <p:spPr>
          <a:xfrm>
            <a:off x="299880" y="3429000"/>
            <a:ext cx="851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 Hamming weight + Laplace noise of magnitude ~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: ~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-DP, yet not o(1)-gentle on product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325440" y="4481640"/>
            <a:ext cx="845820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re exist measurements that are 1/exp(n)-DP (indeed, nearly trivial) on product states, yet far from DP on entangl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  <a:ea typeface="Arial"/>
              </a:rPr>
              <a:t>0-DP (i.e., completely trivial) on product states does imply 0-DP on all states, but only because amplitudes are complex number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04920" y="1522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: Shadow Tom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57120" y="1011240"/>
            <a:ext cx="84582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 Task (A. 2016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an unknown D-dimensional mixed state. 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known 2-outcome POVMs.  Estimate 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] to with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M]—the “shadows”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sts on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with high probability, by measuring as few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1"/>
          <p:cNvGraphicFramePr/>
          <p:nvPr/>
        </p:nvGraphicFramePr>
        <p:xfrm>
          <a:off x="2743200" y="5572080"/>
          <a:ext cx="4842000" cy="12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572080"/>
                    <a:ext cx="484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2"/>
          <p:cNvSpPr/>
          <p:nvPr/>
        </p:nvSpPr>
        <p:spPr>
          <a:xfrm>
            <a:off x="357120" y="34290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early k=O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copies suffice (do ordinary tomograp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early k=O(M) suffice (apply each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separate cop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what if we wanted to know, e.g., the behavior of an n-qubit state on all accept/reject circuits with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ates?  Could we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430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(A., STOC’2018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hadow tomography is possible using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1"/>
          <p:cNvGraphicFramePr/>
          <p:nvPr/>
        </p:nvGraphicFramePr>
        <p:xfrm>
          <a:off x="2006640" y="1349280"/>
          <a:ext cx="494964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1349280"/>
                    <a:ext cx="49496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2"/>
          <p:cNvSpPr/>
          <p:nvPr/>
        </p:nvSpPr>
        <p:spPr>
          <a:xfrm>
            <a:off x="343080" y="2022480"/>
            <a:ext cx="140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368280" y="2743200"/>
            <a:ext cx="8458200" cy="41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y protocol combi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multiplicative weights update method (i.e., start with the “maximally stupid hypothesis,”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I/D, and then repeatedly look for opportunities to update, via postselecting on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for some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“Quantum OR Bound” (A. 2006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rrow et al. 2017), which repeatedly picks out an informative measurement from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n a gentl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12840" y="304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ew Resul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e can do shadow tomography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7"/>
          <p:cNvGraphicFramePr/>
          <p:nvPr/>
        </p:nvGraphicFramePr>
        <p:xfrm>
          <a:off x="2008080" y="828720"/>
          <a:ext cx="512784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828720"/>
                    <a:ext cx="51278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2"/>
          <p:cNvSpPr/>
          <p:nvPr/>
        </p:nvSpPr>
        <p:spPr>
          <a:xfrm>
            <a:off x="301680" y="1743120"/>
            <a:ext cx="8499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via a procedure that’s als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n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and simpler than my previous one, and probably more amenable to experimental impleme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312840" y="3124080"/>
            <a:ext cx="860256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ow it works: we take a known procedure from DP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ivate Multiplicative Weigh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(Hardt-Rothblum 2010), which decides whether to update our current hypothesis on each query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sing a threshold measurement with Laplace noise a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e give a quantum analogue, QPM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ince each iteration of QPMW is DP (and applies separate POVMs to each register), it’s also gentle on product states, so we can safely apply all M of the iterations in sequ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339840" y="1143000"/>
            <a:ext cx="845820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ve a fully general D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theorem for product states?  Or even near-trivialit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for product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shadow tomography, does the number of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eed to hav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ependence on log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Best lower bound we can show: k=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-2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min{D, log M}).  But for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gentle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or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online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shadow tomography, can use known lower bounds from DP to show that k=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log D))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osition of quantum DP algorith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e quantum to say something new about classical D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Decoder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00"/>
          <p:cNvSpPr/>
          <p:nvPr/>
        </p:nvSpPr>
        <p:spPr>
          <a:xfrm>
            <a:off x="244440" y="2109960"/>
            <a:ext cx="876312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 Hermitian matrix, positive semidefinite, Tr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presents distribution where each superpositio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ccurs with probability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"/>
              <p:cNvSpPr txBox="1"/>
              <p:nvPr/>
            </p:nvSpPr>
            <p:spPr>
              <a:xfrm>
                <a:off x="2743200" y="1054080"/>
                <a:ext cx="3443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⟨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Slide Number Placeholder 2"/>
          <p:cNvSpPr/>
          <p:nvPr/>
        </p:nvSpPr>
        <p:spPr>
          <a:xfrm>
            <a:off x="7010280" y="-9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302F-7DED-47A8-AC2D-0BDAE0B5C3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00"/>
          <p:cNvSpPr/>
          <p:nvPr/>
        </p:nvSpPr>
        <p:spPr>
          <a:xfrm>
            <a:off x="244440" y="3886200"/>
            <a:ext cx="8763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OVM Measuremen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summing to identity, which returns outcome i with probability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if applied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00"/>
          <p:cNvSpPr/>
          <p:nvPr/>
        </p:nvSpPr>
        <p:spPr>
          <a:xfrm>
            <a:off x="244440" y="106380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Mixed 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00"/>
          <p:cNvSpPr/>
          <p:nvPr/>
        </p:nvSpPr>
        <p:spPr>
          <a:xfrm>
            <a:off x="244440" y="514836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race Dis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1"/>
          <p:cNvGraphicFramePr/>
          <p:nvPr/>
        </p:nvGraphicFramePr>
        <p:xfrm>
          <a:off x="3081240" y="4876920"/>
          <a:ext cx="3681360" cy="13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1240" y="4876920"/>
                    <a:ext cx="368136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700"/>
          <p:cNvSpPr/>
          <p:nvPr/>
        </p:nvSpPr>
        <p:spPr>
          <a:xfrm>
            <a:off x="228600" y="60958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generalization of variation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343080" y="37512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if one can implement it so that for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and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1"/>
          <p:cNvGraphicFramePr/>
          <p:nvPr/>
        </p:nvGraphicFramePr>
        <p:xfrm>
          <a:off x="3003480" y="5194440"/>
          <a:ext cx="29764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3480" y="5194440"/>
                    <a:ext cx="29764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2"/>
          <p:cNvSpPr/>
          <p:nvPr/>
        </p:nvSpPr>
        <p:spPr>
          <a:xfrm>
            <a:off x="333360" y="6019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ypical choice for 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duct states on n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200400" y="1076400"/>
            <a:ext cx="54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s in QM are famously destructive … but not alwa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534240" y="2711880"/>
            <a:ext cx="2405160" cy="73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 flipV="1">
            <a:off x="533880" y="395640"/>
            <a:ext cx="1024560" cy="2316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V="1">
            <a:off x="533520" y="305280"/>
            <a:ext cx="732960" cy="2405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3200400" y="223344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nformation/disturbance tradeoff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utcome predictable given knowledg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body needs to get h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38080" y="2743200"/>
            <a:ext cx="9068040" cy="7365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3430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ing the total Hamming weight of n unentangled qubits could be extremely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43080" y="4267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measuring the Hamming weight plus noise of order &gt;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is much safer!  A good choice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aplace noi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>
            <a:off x="1541520" y="2952720"/>
            <a:ext cx="7238880" cy="903240"/>
          </a:xfrm>
          <a:prstGeom prst="rect">
            <a:avLst/>
          </a:prstGeom>
          <a:ln w="0">
            <a:noFill/>
          </a:ln>
        </p:spPr>
      </p:pic>
      <p:sp>
        <p:nvSpPr>
          <p:cNvPr id="77" name="Rounded Rectangle 11"/>
          <p:cNvSpPr/>
          <p:nvPr/>
        </p:nvSpPr>
        <p:spPr>
          <a:xfrm>
            <a:off x="5372280" y="2952720"/>
            <a:ext cx="152280" cy="8082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808200"/>
              <a:gd name="textAreaBottom" fmla="*/ 801000 h 808200"/>
            </a:gdLst>
            <a:ahLst/>
            <a:rect l="textAreaLeft" t="textAreaTop" r="textAreaRight" b="textAreaBottom"/>
            <a:pathLst>
              <a:path w="21600" h="114419">
                <a:moveTo>
                  <a:pt x="3600" y="0"/>
                </a:moveTo>
                <a:arcTo wR="3600" hR="3600" stAng="16200000" swAng="-5400000"/>
                <a:lnTo>
                  <a:pt x="0" y="110819"/>
                </a:lnTo>
                <a:arcTo wR="3600" hR="3600" stAng="10800000" swAng="-5400000"/>
                <a:lnTo>
                  <a:pt x="18000" y="114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2"/>
          <p:cNvGraphicFramePr/>
          <p:nvPr/>
        </p:nvGraphicFramePr>
        <p:xfrm>
          <a:off x="438120" y="1504800"/>
          <a:ext cx="4913280" cy="150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20" y="1504800"/>
                    <a:ext cx="491328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3"/>
          <p:cNvGraphicFramePr/>
          <p:nvPr/>
        </p:nvGraphicFramePr>
        <p:xfrm>
          <a:off x="2725560" y="5334120"/>
          <a:ext cx="3692880" cy="111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25560" y="5334120"/>
                    <a:ext cx="369288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28600" y="208080"/>
            <a:ext cx="8686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fferential Privacy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A recent subfield of classical CS that wants to protect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you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61800" y="1523880"/>
            <a:ext cx="84582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algorithm A that queries a database X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, we call A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for every two databases X and X’ that differ in only a singl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every possible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1"/>
          <p:cNvGraphicFramePr/>
          <p:nvPr/>
        </p:nvGraphicFramePr>
        <p:xfrm>
          <a:off x="1471680" y="2944800"/>
          <a:ext cx="623880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2944800"/>
                    <a:ext cx="62388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2"/>
          <p:cNvSpPr/>
          <p:nvPr/>
        </p:nvSpPr>
        <p:spPr>
          <a:xfrm>
            <a:off x="343080" y="38498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a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many of these patients have prostate canc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352440" y="43718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etter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turn the number of patients with prostate canc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aplace noise of average magnitu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1"/>
          <p:cNvGraphicFramePr/>
          <p:nvPr/>
        </p:nvGraphicFramePr>
        <p:xfrm>
          <a:off x="3298680" y="5326200"/>
          <a:ext cx="548640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98680" y="5326200"/>
                    <a:ext cx="54864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2"/>
          <p:cNvSpPr/>
          <p:nvPr/>
        </p:nvSpPr>
        <p:spPr>
          <a:xfrm>
            <a:off x="343080" y="5478480"/>
            <a:ext cx="27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y it’s 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1"/>
          <p:cNvGraphicFramePr/>
          <p:nvPr/>
        </p:nvGraphicFramePr>
        <p:xfrm>
          <a:off x="4514760" y="3371760"/>
          <a:ext cx="114480" cy="11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14760" y="3371760"/>
                    <a:ext cx="114480" cy="1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2"/>
          <p:cNvSpPr/>
          <p:nvPr/>
        </p:nvSpPr>
        <p:spPr>
          <a:xfrm>
            <a:off x="1066680" y="4079880"/>
            <a:ext cx="7239240" cy="5814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ctually used now by Apple and Goog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04920" y="208080"/>
            <a:ext cx="8373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Differential Privacy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Protecting the Privacy Rights of Quantum St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52440" y="15238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 on n registers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if for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that differ by a channel acting on only 1 register, and every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1"/>
          <p:cNvGraphicFramePr/>
          <p:nvPr/>
        </p:nvGraphicFramePr>
        <p:xfrm>
          <a:off x="1298520" y="3429000"/>
          <a:ext cx="638352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3429000"/>
                    <a:ext cx="63835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2"/>
          <p:cNvSpPr/>
          <p:nvPr/>
        </p:nvSpPr>
        <p:spPr>
          <a:xfrm>
            <a:off x="352440" y="49766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ce again, measuring the total Hamming weight of n unentangled qubits plus a Laplace noise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5519880" y="5961240"/>
            <a:ext cx="31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00"/>
                </a:solidFill>
                <a:latin typeface="Calibri"/>
                <a:ea typeface="Arial"/>
              </a:rPr>
              <a:t>Hmmmm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352440" y="43434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ypical choice for 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duct states on n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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5244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)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gentle for smal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 is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-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304920" y="3738600"/>
            <a:ext cx="845820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Not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oth directions are asymptotically t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Restriction to product states is essential for part (2) (without it we only get O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)-gentlene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art (2) preserves efficiency, as long as the DP algorithm’s output distribution can be efficiently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Samp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63600" y="1770120"/>
            <a:ext cx="855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2)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 on product states, and consists of a classical DP algorithm applied to the results of separate POVMs on each regist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 is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)-gentle on product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9360" y="35053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58920" y="1219320"/>
            <a:ext cx="840420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work et al. (2014) made a striking connection between differential privacy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daptive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safely reuse the same dataset for many scientific stud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y showed that the answer is yes—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e’re careful to access the dataset using DP algorithms on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.e., they connected DP to “classical Bayesian gentle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f course, damage to a distribution D is purely internal and mental, whereas damage to a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often noticeable even by others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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352440" y="1066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easy direction!  Has nothing to do with product states or even quantum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63600" y="220968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gentle on all states, then it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1"/>
          <p:cNvGraphicFramePr/>
          <p:nvPr/>
        </p:nvGraphicFramePr>
        <p:xfrm>
          <a:off x="2743200" y="2819520"/>
          <a:ext cx="326376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819520"/>
                    <a:ext cx="326376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2"/>
          <p:cNvSpPr/>
          <p:nvPr/>
        </p:nvSpPr>
        <p:spPr>
          <a:xfrm>
            <a:off x="363600" y="4267080"/>
            <a:ext cx="844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consider the converse: if Pr[M outputs y] is very different 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n conditioning on M outputting y will badly “damage”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/2, by Bayes’ Theor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63600" y="5791320"/>
            <a:ext cx="844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w just apply the lemma separately to each register of our produc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8-11-20T09:30:12Z</dcterms:modified>
  <cp:revision>430</cp:revision>
  <dc:subject/>
  <dc:title>BQP and the Polynomial Hierarchy</dc:title>
</cp:coreProperties>
</file>