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365F-E929-48B8-952F-CF84A2E1B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C62-1004-4735-8C55-92A631F6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ACA4-CA26-4C04-9F4B-80084605B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0C7-A23B-4790-A5D5-10B6335C1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C61-1DCE-42FB-942B-6B412E546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406D-3EB5-4E3D-AD9D-E583B3055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35F-0632-4DB1-B0DD-A4FCB3C8D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2949-855A-4D0D-9EE3-2C03FCEFA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05ED-A08E-4B97-A9D2-6590DFDBA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8BC-92CC-476E-8D6F-0CDF13008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313-A121-4BE2-866A-7CE4DBA6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A6A4-0878-4803-A705-09E3456AD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1D0-B5A7-4707-96E7-C76C91992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F38-614B-45E8-848A-77194DF17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772C-23AE-4E05-8B08-67A3EBB71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859-125C-4BD1-AF98-3A2F9B50E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341-5DBC-4176-9A3C-0F17B7EE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973-B4FB-4AC7-B2F1-50CFA911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D54-8307-411B-BA9D-2FAB66F1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740-DC5A-4CD4-B0AC-ECA2B7AA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EA3-9476-413F-B58B-D7DAE148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722-9326-4495-948C-7A3C6F8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2C6-D9C1-4175-9F83-AB5F41B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C76-AF6E-4867-8B85-0F77E69C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0D2-E400-41F1-920A-1332B8C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1E83-69EA-423A-A048-2AC6E35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67D-2607-435A-8BAC-9A36F27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F7B-A847-437E-A4D1-8390A0F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E2B3-7602-412D-9D38-FC831DBA0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843E-2B78-4624-8EE0-644FFFC8E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, November 20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Gentle Measurement of Quantum States and Differential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228600" y="6019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Joint work with Guy Rothblum (on the arXiv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63800" y="1219320"/>
            <a:ext cx="243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Scott\AppData\Local\Microsoft\Windows\INetCache\IE\V1PN6FUD\curtain_texture_by_edneu2004[1].jpg"/>
          <p:cNvPicPr/>
          <p:nvPr/>
        </p:nvPicPr>
        <p:blipFill>
          <a:blip r:embed="rId1"/>
          <a:stretch/>
        </p:blipFill>
        <p:spPr>
          <a:xfrm>
            <a:off x="2946240" y="1946160"/>
            <a:ext cx="3251520" cy="243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for Product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harder direction; known only for measurements that apply separate POVMs to the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3600" y="2133720"/>
            <a:ext cx="8551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irs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A be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classical algorithm.  Then for any product distribution D=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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"/>
          <p:cNvGraphicFramePr/>
          <p:nvPr/>
        </p:nvGraphicFramePr>
        <p:xfrm>
          <a:off x="585720" y="2971800"/>
          <a:ext cx="80010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971800"/>
                    <a:ext cx="8001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2"/>
          <p:cNvSpPr/>
          <p:nvPr/>
        </p:nvSpPr>
        <p:spPr>
          <a:xfrm>
            <a:off x="357120" y="4114800"/>
            <a:ext cx="8447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xt ste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he “QSampled” version of 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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any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3600" y="617220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n generalize to POVMs and mix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719280" y="5089680"/>
          <a:ext cx="7705440" cy="88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280" y="5089680"/>
                    <a:ext cx="77054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eparating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52440" y="10666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the Hamming weight plus Laplace noise of magnitude ~n/10: 10/n-DP, yet not even 1/3-gentle on non-product state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"/>
          <p:cNvGraphicFramePr/>
          <p:nvPr/>
        </p:nvGraphicFramePr>
        <p:xfrm>
          <a:off x="4114800" y="2057400"/>
          <a:ext cx="22255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22255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"/>
          <p:cNvSpPr/>
          <p:nvPr/>
        </p:nvSpPr>
        <p:spPr>
          <a:xfrm>
            <a:off x="299880" y="3429000"/>
            <a:ext cx="85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 Hamming weight + Laplace noise of magnitude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: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-DP, yet not o(1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25440" y="4481640"/>
            <a:ext cx="84582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re exist measurements that are 1/exp(n)-DP (indeed, nearly trivial) on product states, yet far from DP on entangl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  <a:ea typeface="Arial"/>
              </a:rPr>
              <a:t>0-DP (i.e., completely trivial) on product states does imply 0-DP on all states, but only because amplitudes are complex numb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57120" y="1011240"/>
            <a:ext cx="84582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 Task (A. 2016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. 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POVMs. 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—the “shadows”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sts on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—with high probability, by measuring as few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1"/>
          <p:cNvGraphicFramePr/>
          <p:nvPr/>
        </p:nvGraphicFramePr>
        <p:xfrm>
          <a:off x="2743200" y="5572080"/>
          <a:ext cx="4842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72080"/>
                    <a:ext cx="484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2"/>
          <p:cNvSpPr/>
          <p:nvPr/>
        </p:nvSpPr>
        <p:spPr>
          <a:xfrm>
            <a:off x="357120" y="34290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pies suffice (do ordinary tom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early k=O(M) suffice (apply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separate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what if we wanted to know, e.g., the behavior of an n-qubit state on all accept/reject circuits with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?  Could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hadow tomography is possible using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"/>
          <p:cNvGraphicFramePr/>
          <p:nvPr/>
        </p:nvGraphicFramePr>
        <p:xfrm>
          <a:off x="2006640" y="134928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34928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2"/>
          <p:cNvSpPr/>
          <p:nvPr/>
        </p:nvSpPr>
        <p:spPr>
          <a:xfrm>
            <a:off x="343080" y="2022480"/>
            <a:ext cx="14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68280" y="2743200"/>
            <a:ext cx="845820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protocol combi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ultiplicative weights update method (i.e., start with the “maximally stupid hypothesis,”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I/D, and then repeatedly look for opportunities to update, via postselecting on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for som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“Quantum OR Bound” (A. 2006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rrow et al. 2017), which repeatedly picks out an informative measurement from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 a gent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1284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ew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 can do shadow tomography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2008080" y="82872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82872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"/>
          <p:cNvSpPr/>
          <p:nvPr/>
        </p:nvSpPr>
        <p:spPr>
          <a:xfrm>
            <a:off x="301680" y="1743120"/>
            <a:ext cx="849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and simpler than my previous one, and probably more amenable to experimental imple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12840" y="31240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, which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QPM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ince each iteration of QPMW is DP (and applies separate POVMs to each register), it’s also gentle on product states, so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39840" y="1143000"/>
            <a:ext cx="84582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 for product states?  Or even near-trivialit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for product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min{D, log M}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onlin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quantum DP algorith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ecoder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00"/>
          <p:cNvSpPr/>
          <p:nvPr/>
        </p:nvSpPr>
        <p:spPr>
          <a:xfrm>
            <a:off x="244440" y="2109960"/>
            <a:ext cx="876312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 Hermitian matrix, positive semidefinite, T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resents distribution where each superpositio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ccurs with probability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"/>
              <p:cNvSpPr txBox="1"/>
              <p:nvPr/>
            </p:nvSpPr>
            <p:spPr>
              <a:xfrm>
                <a:off x="2743200" y="1054080"/>
                <a:ext cx="344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Slide Number Placeholder 2"/>
          <p:cNvSpPr/>
          <p:nvPr/>
        </p:nvSpPr>
        <p:spPr>
          <a:xfrm>
            <a:off x="7010280" y="-9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4EC3-3707-486B-9EC4-601D384E5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00"/>
          <p:cNvSpPr/>
          <p:nvPr/>
        </p:nvSpPr>
        <p:spPr>
          <a:xfrm>
            <a:off x="244440" y="3886200"/>
            <a:ext cx="8763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OVM Measureme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mming to identity, which returns outcome i with probability Tr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f appli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00"/>
          <p:cNvSpPr/>
          <p:nvPr/>
        </p:nvSpPr>
        <p:spPr>
          <a:xfrm>
            <a:off x="244440" y="106380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ixed 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00"/>
          <p:cNvSpPr/>
          <p:nvPr/>
        </p:nvSpPr>
        <p:spPr>
          <a:xfrm>
            <a:off x="244440" y="5148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race D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3081240" y="4876920"/>
          <a:ext cx="3681360" cy="13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4876920"/>
                    <a:ext cx="3681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00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generalization of variatio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43080" y="3751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one can implement it so that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and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3003480" y="519444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3480" y="519444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2"/>
          <p:cNvSpPr/>
          <p:nvPr/>
        </p:nvSpPr>
        <p:spPr>
          <a:xfrm>
            <a:off x="333360" y="6019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200400" y="1076400"/>
            <a:ext cx="54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famously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34240" y="271188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533880" y="395640"/>
            <a:ext cx="102456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533520" y="30528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3200400" y="223344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nformation/disturbance tradeoff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utcome predictable given knowled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body needs to ge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3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  A good choice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aplace noi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77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438120" y="1504800"/>
          <a:ext cx="4913280" cy="150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504800"/>
                    <a:ext cx="491328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2725560" y="5334120"/>
          <a:ext cx="369288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5560" y="5334120"/>
                    <a:ext cx="369288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2080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 recent subfield of classical CS that wants to protect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you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61800" y="152388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1471680" y="294480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94480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2"/>
          <p:cNvSpPr/>
          <p:nvPr/>
        </p:nvSpPr>
        <p:spPr>
          <a:xfrm>
            <a:off x="343080" y="3849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of these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52440" y="4371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1"/>
          <p:cNvGraphicFramePr/>
          <p:nvPr/>
        </p:nvGraphicFramePr>
        <p:xfrm>
          <a:off x="3298680" y="5326200"/>
          <a:ext cx="548640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8680" y="5326200"/>
                    <a:ext cx="54864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"/>
          <p:cNvSpPr/>
          <p:nvPr/>
        </p:nvSpPr>
        <p:spPr>
          <a:xfrm>
            <a:off x="343080" y="5478480"/>
            <a:ext cx="27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y it’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"/>
          <p:cNvGraphicFramePr/>
          <p:nvPr/>
        </p:nvGraphicFramePr>
        <p:xfrm>
          <a:off x="4514760" y="3371760"/>
          <a:ext cx="114480" cy="1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3371760"/>
                    <a:ext cx="114480" cy="1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2"/>
          <p:cNvSpPr/>
          <p:nvPr/>
        </p:nvSpPr>
        <p:spPr>
          <a:xfrm>
            <a:off x="1066680" y="4079880"/>
            <a:ext cx="7239240" cy="5814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ually used now by Apple and Goog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by a channel acting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2"/>
          <p:cNvSpPr/>
          <p:nvPr/>
        </p:nvSpPr>
        <p:spPr>
          <a:xfrm>
            <a:off x="352440" y="4976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measuring the total Hamming weight of n unentangled qubit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519880" y="5961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352440" y="4343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on 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for 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3600" y="1770120"/>
            <a:ext cx="855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the results of separate POVM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58920" y="1219320"/>
            <a:ext cx="84042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work et al. (2014) made a striking connection between differential privacy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safely reuse the same dataset for many scientific stu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y showed that the answer is yes—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e’re careful to access the dataset using DP algorithms on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.e., they connected DP to “classical Bayesian gentle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course, damage to a distribution D is purely internal and mental, whereas damage to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often noticeable even by others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5244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easy direction!  Has nothing to do with product states or even quantum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63600" y="2209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on all states, then it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2743200" y="2819520"/>
          <a:ext cx="32637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263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"/>
          <p:cNvSpPr/>
          <p:nvPr/>
        </p:nvSpPr>
        <p:spPr>
          <a:xfrm>
            <a:off x="363600" y="4267080"/>
            <a:ext cx="84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consider the converse: if Pr[M outputs y] is very different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conditioning on M outputting y will badly “damage”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2, by Bayes’ Theor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63600" y="579132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 just apply the lemma separately to each register of our produ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11-20T09:30:12Z</dcterms:modified>
  <cp:revision>430</cp:revision>
  <dc:subject/>
  <dc:title>BQP and the Polynomial Hierarchy</dc:title>
</cp:coreProperties>
</file>