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5C0C-89FF-441F-873B-A8099B500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8E24-CAA1-41E7-8FEF-1925380443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6FB4-A70E-485F-B45E-53AAC7AA28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F247-42DA-48DD-A32E-58619518BC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3D4A-C0A4-4F81-8962-D2FC8559F2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AAFD-8739-48DB-B7E4-01E37E9081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57AF-8DA8-445F-86B2-8D564BD578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FEE0-150D-4CA9-BB0D-9F2FC5BEE0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BD0E-EC41-4B29-9F32-35BA914253A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2BF2-0DA1-4089-9F17-6EE99881EE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6D04-EF2E-4BF6-867A-5FE78C26CDB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11BC-9CD8-4A68-BE71-E8D1E56CA0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FCED-746C-45D8-BA7B-0DE9AA471F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C5F7-C3E0-4A8F-A418-B054E5D933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2A6-7256-48DB-88F6-B98BDE05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C9DC-F9F0-400E-8855-CBA59EC1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D7A-5C2F-467C-A73C-6AF433C1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4FD-B59B-4E75-B50D-86B89A28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135-7469-4B1D-99EC-8862EBEC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F65-4FF6-47E4-924C-9A0265EA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71F-7D4D-4312-BD08-B3E02828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827-1B62-4714-9B61-E6E3C41F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558-1129-4311-9A05-2622026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B11-E7FB-4508-8A06-C4BA911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28E-7755-4F80-92C6-6C11361D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115-2A2B-4C4C-AF7C-5F8FF350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0F48-732C-4A4B-8EA5-364D7323E8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88BD-0CE3-465F-9DD5-8030F019F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8080" y="3885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vard CMSA, February 5,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Gentle Measurement of Quantum States and Differential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228600" y="55627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Joint work with Guy Rothblum (Weizmann Institu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rXiv:1904.08747, Proc. ACM STOC’20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28600" y="2141640"/>
            <a:ext cx="9067680" cy="73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932040" y="235116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53" name="Rounded Rectangle 8"/>
          <p:cNvSpPr/>
          <p:nvPr/>
        </p:nvSpPr>
        <p:spPr>
          <a:xfrm>
            <a:off x="4762440" y="2351160"/>
            <a:ext cx="152640" cy="807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807840"/>
              <a:gd name="textAreaBottom" fmla="*/ 800640 h 807840"/>
            </a:gdLst>
            <a:ahLst/>
            <a:rect l="textAreaLeft" t="textAreaTop" r="textAreaRight" b="textAreaBottom"/>
            <a:pathLst>
              <a:path w="21600" h="114099">
                <a:moveTo>
                  <a:pt x="3600" y="0"/>
                </a:moveTo>
                <a:arcTo wR="3600" hR="3600" stAng="16200000" swAng="-5400000"/>
                <a:lnTo>
                  <a:pt x="0" y="110499"/>
                </a:lnTo>
                <a:arcTo wR="3600" hR="3600" stAng="10800000" swAng="-5400000"/>
                <a:lnTo>
                  <a:pt x="18000" y="11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for Produc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harder direction; known only for measurements that apply separate POVMs to the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363600" y="2133720"/>
            <a:ext cx="85518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irs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A be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classical algorithm.  Then for any product distribution D=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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"/>
          <p:cNvGraphicFramePr/>
          <p:nvPr/>
        </p:nvGraphicFramePr>
        <p:xfrm>
          <a:off x="585720" y="2971800"/>
          <a:ext cx="800100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971800"/>
                    <a:ext cx="80010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2"/>
          <p:cNvSpPr/>
          <p:nvPr/>
        </p:nvSpPr>
        <p:spPr>
          <a:xfrm>
            <a:off x="357120" y="4114800"/>
            <a:ext cx="8447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he “QSampled” version of 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any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63600" y="617220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n generalize to POVMs and mix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7"/>
          <p:cNvGraphicFramePr/>
          <p:nvPr/>
        </p:nvGraphicFramePr>
        <p:xfrm>
          <a:off x="719280" y="5089680"/>
          <a:ext cx="770544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5089680"/>
                    <a:ext cx="77054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04920" y="15228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“Shadow Tomograph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57120" y="1066680"/>
            <a:ext cx="84582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unknown D-dimensional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, 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976320" y="3200400"/>
            <a:ext cx="78249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D</a:t>
            </a:r>
            <a:r>
              <a:rPr b="1" lang="en-US" sz="2500" spc="-1" strike="noStrike" baseline="30000">
                <a:solidFill>
                  <a:srgbClr val="00b05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M) suffice (apply each E</a:t>
            </a:r>
            <a:r>
              <a:rPr b="1" lang="en-US" sz="2500" spc="-1" strike="noStrike" baseline="-25000">
                <a:solidFill>
                  <a:srgbClr val="00b050"/>
                </a:solidFill>
                <a:latin typeface="Calibri"/>
                <a:ea typeface="Arial"/>
              </a:rPr>
              <a:t>i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 to separate copi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But in many applications, D and M are both enormou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343080" y="4952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1"/>
          <p:cNvGraphicFramePr/>
          <p:nvPr/>
        </p:nvGraphicFramePr>
        <p:xfrm>
          <a:off x="2111400" y="5845320"/>
          <a:ext cx="49496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5845320"/>
                    <a:ext cx="49496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1284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do shadow tomography in a way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 sample complexit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2008080" y="2097000"/>
          <a:ext cx="51278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2097000"/>
                    <a:ext cx="51278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.  PMW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“QPM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ach iteration of QPMW is DP.  Using this fact, our D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, and a lot more work, we show that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hadow Tomography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39840" y="1143000"/>
            <a:ext cx="8458200" cy="53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move the restriction to product measurements in our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im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racterize when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preserv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f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true sample complexity of shadow tomography?  Must it have any log D factor at 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F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onlin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shadow tomography, we can show that the answer is yes, by porting known results from classical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ecoder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00"/>
          <p:cNvSpPr/>
          <p:nvPr/>
        </p:nvSpPr>
        <p:spPr>
          <a:xfrm>
            <a:off x="244440" y="2109960"/>
            <a:ext cx="876312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 Hermitian matrix, positive semidefinite, T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presents distribution where each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ccurs with probability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2743200" y="1054080"/>
                <a:ext cx="344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Slide Number Placeholder 2"/>
          <p:cNvSpPr/>
          <p:nvPr/>
        </p:nvSpPr>
        <p:spPr>
          <a:xfrm>
            <a:off x="7010280" y="-9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56F4-093C-4EE0-8C87-11EB6BD24A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00"/>
          <p:cNvSpPr/>
          <p:nvPr/>
        </p:nvSpPr>
        <p:spPr>
          <a:xfrm>
            <a:off x="244440" y="3886200"/>
            <a:ext cx="8763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OVM Measureme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umming to identity, which returns outcome i with probability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f applied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00"/>
          <p:cNvSpPr/>
          <p:nvPr/>
        </p:nvSpPr>
        <p:spPr>
          <a:xfrm>
            <a:off x="244440" y="106380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ixed 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00"/>
          <p:cNvSpPr/>
          <p:nvPr/>
        </p:nvSpPr>
        <p:spPr>
          <a:xfrm>
            <a:off x="244440" y="51483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race Di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3081240" y="4876920"/>
          <a:ext cx="3681360" cy="13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4876920"/>
                    <a:ext cx="368136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700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generalization of variation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333360" y="35942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, and every possible measurement outcome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1"/>
          <p:cNvGraphicFramePr/>
          <p:nvPr/>
        </p:nvGraphicFramePr>
        <p:xfrm>
          <a:off x="3267000" y="513072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513072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2"/>
          <p:cNvSpPr/>
          <p:nvPr/>
        </p:nvSpPr>
        <p:spPr>
          <a:xfrm>
            <a:off x="333360" y="608652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uantum mechanics are famous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3200400" y="21574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not always!  If a qubit is known to be either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checking to see which one doesn’t damage it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Image result for schrodinger's cat"/>
          <p:cNvPicPr/>
          <p:nvPr/>
        </p:nvPicPr>
        <p:blipFill>
          <a:blip r:embed="rId3"/>
          <a:stretch/>
        </p:blipFill>
        <p:spPr>
          <a:xfrm>
            <a:off x="304920" y="1135080"/>
            <a:ext cx="2641320" cy="1986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187200" y="5086440"/>
            <a:ext cx="285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Post-measurement state if outcome is 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400800" y="554040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Trace dist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17"/>
          <p:cNvCxnSpPr/>
          <p:nvPr/>
        </p:nvCxnSpPr>
        <p:spPr>
          <a:xfrm flipH="1" flipV="1">
            <a:off x="5476680" y="5803200"/>
            <a:ext cx="98640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  <p:cxnSp>
        <p:nvCxnSpPr>
          <p:cNvPr id="75" name="Straight Arrow Connector 18"/>
          <p:cNvCxnSpPr/>
          <p:nvPr/>
        </p:nvCxnSpPr>
        <p:spPr>
          <a:xfrm>
            <a:off x="2733480" y="5517720"/>
            <a:ext cx="68652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n unentangled qubits, measuring the number of 1’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43080" y="4046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fer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asure the number of 1’s plus deliberately-added noise (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. 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80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990720" y="1522440"/>
          <a:ext cx="545148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22440"/>
                    <a:ext cx="54514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533520" y="5113440"/>
          <a:ext cx="301140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113440"/>
                    <a:ext cx="301140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8"/>
          <p:cNvGraphicFramePr/>
          <p:nvPr/>
        </p:nvGraphicFramePr>
        <p:xfrm>
          <a:off x="3809880" y="5342040"/>
          <a:ext cx="523404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342040"/>
                    <a:ext cx="5234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2"/>
          <p:cNvSpPr/>
          <p:nvPr/>
        </p:nvSpPr>
        <p:spPr>
          <a:xfrm>
            <a:off x="6649920" y="152388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omitting norm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65120" y="622152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Laplace noi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5"/>
          <p:cNvGrpSpPr/>
          <p:nvPr/>
        </p:nvGrpSpPr>
        <p:grpSpPr>
          <a:xfrm>
            <a:off x="7848720" y="5257440"/>
            <a:ext cx="1076400" cy="1535400"/>
            <a:chOff x="7848720" y="5257440"/>
            <a:chExt cx="1076400" cy="1535400"/>
          </a:xfrm>
        </p:grpSpPr>
        <p:sp>
          <p:nvSpPr>
            <p:cNvPr id="90" name="Block Arc 1"/>
            <p:cNvSpPr/>
            <p:nvPr/>
          </p:nvSpPr>
          <p:spPr>
            <a:xfrm>
              <a:off x="7848720" y="5649840"/>
              <a:ext cx="1076040" cy="1143000"/>
            </a:xfrm>
            <a:custGeom>
              <a:avLst/>
              <a:gdLst/>
              <a:ahLst/>
              <a:rect l="l" t="t" r="r" b="b"/>
              <a:pathLst>
                <a:path w="1075532" h="1143309">
                  <a:moveTo>
                    <a:pt x="0" y="571655"/>
                  </a:moveTo>
                  <a:cubicBezTo>
                    <a:pt x="0" y="369888"/>
                    <a:pt x="100058" y="183064"/>
                    <a:pt x="263275" y="80077"/>
                  </a:cubicBezTo>
                  <a:cubicBezTo>
                    <a:pt x="439845" y="-31335"/>
                    <a:pt x="660686" y="-26140"/>
                    <a:pt x="832446" y="93467"/>
                  </a:cubicBezTo>
                  <a:cubicBezTo>
                    <a:pt x="990611" y="203607"/>
                    <a:pt x="1082742" y="393953"/>
                    <a:pt x="1075092" y="594784"/>
                  </a:cubicBezTo>
                  <a:lnTo>
                    <a:pt x="1009899" y="591977"/>
                  </a:lnTo>
                  <a:cubicBezTo>
                    <a:pt x="1016539" y="414802"/>
                    <a:pt x="936227" y="246811"/>
                    <a:pt x="798168" y="149092"/>
                  </a:cubicBezTo>
                  <a:cubicBezTo>
                    <a:pt x="646578" y="41795"/>
                    <a:pt x="451013" y="37140"/>
                    <a:pt x="295128" y="137119"/>
                  </a:cubicBezTo>
                  <a:cubicBezTo>
                    <a:pt x="152540" y="228569"/>
                    <a:pt x="65254" y="393567"/>
                    <a:pt x="65254" y="571655"/>
                  </a:cubicBezTo>
                  <a:lnTo>
                    <a:pt x="0" y="571655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Straight Arrow Connector 13"/>
            <p:cNvCxnSpPr/>
            <p:nvPr/>
          </p:nvCxnSpPr>
          <p:spPr>
            <a:xfrm flipV="1">
              <a:off x="8386920" y="5257440"/>
              <a:ext cx="538560" cy="88488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28600" y="1522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 In One Slide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CS theory applied to the social world—i.e., as far as you could possibly get from the subatomic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43080" y="190512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1"/>
          <p:cNvGraphicFramePr/>
          <p:nvPr/>
        </p:nvGraphicFramePr>
        <p:xfrm>
          <a:off x="1452600" y="332568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332568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"/>
          <p:cNvSpPr/>
          <p:nvPr/>
        </p:nvSpPr>
        <p:spPr>
          <a:xfrm>
            <a:off x="324000" y="4191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33360" y="487692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simple calculation shows this i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"/>
          <p:cNvGraphicFramePr/>
          <p:nvPr/>
        </p:nvGraphicFramePr>
        <p:xfrm>
          <a:off x="4495680" y="3753000"/>
          <a:ext cx="114480" cy="1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753000"/>
                    <a:ext cx="11448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(e.g., product states)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2"/>
          <p:cNvSpPr/>
          <p:nvPr/>
        </p:nvSpPr>
        <p:spPr>
          <a:xfrm>
            <a:off x="343080" y="4508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given n unentangled qubits, measuring the number of 1’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5519880" y="5637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0"/>
          <p:cNvSpPr/>
          <p:nvPr/>
        </p:nvSpPr>
        <p:spPr>
          <a:xfrm>
            <a:off x="388800" y="3809880"/>
            <a:ext cx="8298000" cy="914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447920" y="4724280"/>
            <a:ext cx="2346120" cy="533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248520" y="3276720"/>
            <a:ext cx="2438280" cy="533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Main Result: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43080" y="1066680"/>
            <a:ext cx="8581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1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gentle on product states (for small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-DP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72960" y="3276720"/>
            <a:ext cx="855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2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results of separate measurements on each register,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5"/>
          <p:cNvGrpSpPr/>
          <p:nvPr/>
        </p:nvGrpSpPr>
        <p:grpSpPr>
          <a:xfrm>
            <a:off x="4419720" y="2297160"/>
            <a:ext cx="4338360" cy="1127520"/>
            <a:chOff x="4419720" y="2297160"/>
            <a:chExt cx="4338360" cy="1127520"/>
          </a:xfrm>
        </p:grpSpPr>
        <p:sp>
          <p:nvSpPr>
            <p:cNvPr id="113" name="Text Box 2"/>
            <p:cNvSpPr/>
            <p:nvPr/>
          </p:nvSpPr>
          <p:spPr>
            <a:xfrm>
              <a:off x="4419720" y="2297160"/>
              <a:ext cx="433836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ave to restrict the set of states for part (2) to be inter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Straight Arrow Connector 2"/>
            <p:cNvCxnSpPr/>
            <p:nvPr/>
          </p:nvCxnSpPr>
          <p:spPr>
            <a:xfrm>
              <a:off x="7314840" y="3127680"/>
              <a:ext cx="1080" cy="297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5" name="Group 18"/>
          <p:cNvGrpSpPr/>
          <p:nvPr/>
        </p:nvGrpSpPr>
        <p:grpSpPr>
          <a:xfrm>
            <a:off x="372960" y="5257080"/>
            <a:ext cx="4351320" cy="1178280"/>
            <a:chOff x="372960" y="5257080"/>
            <a:chExt cx="4351320" cy="1178280"/>
          </a:xfrm>
        </p:grpSpPr>
        <p:sp>
          <p:nvSpPr>
            <p:cNvPr id="116" name="Text Box 2"/>
            <p:cNvSpPr/>
            <p:nvPr/>
          </p:nvSpPr>
          <p:spPr>
            <a:xfrm>
              <a:off x="372960" y="5609880"/>
              <a:ext cx="435132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 factor is tight (the Laplace noise measurement shows thi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Straight Arrow Connector 11"/>
            <p:cNvCxnSpPr/>
            <p:nvPr/>
          </p:nvCxnSpPr>
          <p:spPr>
            <a:xfrm flipV="1">
              <a:off x="2625120" y="5257080"/>
              <a:ext cx="1080" cy="353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8" name="Group 16"/>
          <p:cNvGrpSpPr/>
          <p:nvPr/>
        </p:nvGrpSpPr>
        <p:grpSpPr>
          <a:xfrm>
            <a:off x="5165640" y="4723920"/>
            <a:ext cx="3581640" cy="1669320"/>
            <a:chOff x="5165640" y="4723920"/>
            <a:chExt cx="3581640" cy="1669320"/>
          </a:xfrm>
        </p:grpSpPr>
        <p:sp>
          <p:nvSpPr>
            <p:cNvPr id="119" name="Text Box 2"/>
            <p:cNvSpPr/>
            <p:nvPr/>
          </p:nvSpPr>
          <p:spPr>
            <a:xfrm>
              <a:off x="5165640" y="5567760"/>
              <a:ext cx="358164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is restriction might just be an artifact of our pro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Straight Arrow Connector 13"/>
            <p:cNvCxnSpPr/>
            <p:nvPr/>
          </p:nvCxnSpPr>
          <p:spPr>
            <a:xfrm flipH="1" flipV="1">
              <a:off x="5714280" y="4723920"/>
              <a:ext cx="533880" cy="843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TextBox 21"/>
          <p:cNvSpPr/>
          <p:nvPr/>
        </p:nvSpPr>
        <p:spPr>
          <a:xfrm>
            <a:off x="258840" y="2112840"/>
            <a:ext cx="39783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n’t DP and gentlenes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bviousl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58920" y="1066680"/>
            <a:ext cx="84042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: Connection between DP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We can safely reuse the same dataset for many scientific studies, </a:t>
            </a:r>
            <a:r>
              <a:rPr b="0" i="1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if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 we’re careful to query the dataset using DP algorithms onl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In our term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D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“classical Bayesian gentlenes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f course, “damage” to a probability distribution is purely internal and mental, whereas damage to a quantum state can be noticed by othe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easy direction!  Has nothing to do with product states or even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63600" y="220968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on all states, then i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"/>
          <p:cNvGraphicFramePr/>
          <p:nvPr/>
        </p:nvGraphicFramePr>
        <p:xfrm>
          <a:off x="2743200" y="2819520"/>
          <a:ext cx="32637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263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2"/>
          <p:cNvSpPr/>
          <p:nvPr/>
        </p:nvSpPr>
        <p:spPr>
          <a:xfrm>
            <a:off x="363600" y="4267080"/>
            <a:ext cx="84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consider the converse: if Pr[M outputs y] is very different 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n conditioning on M outputting y will badly “damage”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, by Bayes’ Theor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63600" y="5791320"/>
            <a:ext cx="844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w just apply the lemma separately to each register of our produ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20-02-05T11:48:17Z</dcterms:modified>
  <cp:revision>501</cp:revision>
  <dc:subject/>
  <dc:title>BQP and the Polynomial Hierarchy</dc:title>
</cp:coreProperties>
</file>