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3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6563-161D-4B8F-BEB5-80F0298AE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265C-A4BC-4CB1-A793-40020F30329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9384-7219-4F87-B88E-5A7A813F663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E0CA-45C4-44DA-9682-6CDC82DFEE4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8653-E6A1-45FA-B3B2-51D4B469AD0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7AC5-9ABD-4D65-B691-6EAFE89B130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DF1B-4D2E-4D5A-A4D2-76939FC20D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0393-D42D-4798-99D4-FD0877ECDA9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384D-69FB-41DB-8DCA-ACBBB927051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F57E-7F0D-403F-9EF7-E8612C3200A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0007-2F14-44F3-BE41-39E298C12FB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24E7-8714-4D1A-A098-F7155157C41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E349-8510-454C-AFB2-E8AB9EA1358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849D-6065-4A62-A585-C2A41B4B8D0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F5D7-61ED-4FE0-AE09-F47AF15E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D756-7E1A-4DE6-9EF1-7B399B95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0565-DAFC-4C74-9E4B-D8F100C3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F59E-9CFB-4024-AF54-FA11F55C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217-4156-4A22-88DE-D94DB101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15DF-2D72-4022-88AA-1984BB9A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6443-DB88-40E4-9202-BF42378F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D26-409B-4618-A277-279B3975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404A-EF3E-41E7-8621-A93D0499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3582-8920-4E2E-BF16-80FDA691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A520-4D61-4292-AE3C-EE3F8912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74C6-0EC1-4055-9F0B-252F2474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7F12-63CB-485B-A823-9D7F08C573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A062-26D2-4CBD-9AF3-224B69B9E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08080" y="3885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vard CMSA, February 5, 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52280" y="22860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Gentle Measurement of Quantum States and Differential Priv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228600" y="55627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Joint work with Guy Rothblum (Weizmann Institu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rXiv:1904.08747, Proc. ACM STOC’201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28600" y="2141640"/>
            <a:ext cx="9067680" cy="736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932040" y="2351160"/>
            <a:ext cx="7238880" cy="903240"/>
          </a:xfrm>
          <a:prstGeom prst="rect">
            <a:avLst/>
          </a:prstGeom>
          <a:ln w="0">
            <a:noFill/>
          </a:ln>
        </p:spPr>
      </p:pic>
      <p:sp>
        <p:nvSpPr>
          <p:cNvPr id="53" name="Rounded Rectangle 8"/>
          <p:cNvSpPr/>
          <p:nvPr/>
        </p:nvSpPr>
        <p:spPr>
          <a:xfrm>
            <a:off x="4762440" y="2351160"/>
            <a:ext cx="152640" cy="80784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807840"/>
              <a:gd name="textAreaBottom" fmla="*/ 800640 h 807840"/>
            </a:gdLst>
            <a:ahLst/>
            <a:rect l="textAreaLeft" t="textAreaTop" r="textAreaRight" b="textAreaBottom"/>
            <a:pathLst>
              <a:path w="21600" h="114099">
                <a:moveTo>
                  <a:pt x="3600" y="0"/>
                </a:moveTo>
                <a:arcTo wR="3600" hR="3600" stAng="16200000" swAng="-5400000"/>
                <a:lnTo>
                  <a:pt x="0" y="110499"/>
                </a:lnTo>
                <a:arcTo wR="3600" hR="3600" stAng="10800000" swAng="-5400000"/>
                <a:lnTo>
                  <a:pt x="18000" y="11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P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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 for Product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352440" y="1066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harder direction; known only for measurements that apply separate POVMs to the n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363600" y="2133720"/>
            <a:ext cx="85518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irst step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et A be 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 classical algorithm.  Then for any product distribution D=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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1"/>
          <p:cNvGraphicFramePr/>
          <p:nvPr/>
        </p:nvGraphicFramePr>
        <p:xfrm>
          <a:off x="585720" y="2971800"/>
          <a:ext cx="800100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2971800"/>
                    <a:ext cx="800100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2"/>
          <p:cNvSpPr/>
          <p:nvPr/>
        </p:nvSpPr>
        <p:spPr>
          <a:xfrm>
            <a:off x="357120" y="4114800"/>
            <a:ext cx="8447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ext step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iven the “QSampled” version of D,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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any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63600" y="6172200"/>
            <a:ext cx="84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then generalize to POVMs and mix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7"/>
          <p:cNvGraphicFramePr/>
          <p:nvPr/>
        </p:nvGraphicFramePr>
        <p:xfrm>
          <a:off x="719280" y="5089680"/>
          <a:ext cx="7705440" cy="88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9280" y="5089680"/>
                    <a:ext cx="770544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04920" y="15228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pplication: “Shadow Tomograph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57120" y="1066680"/>
            <a:ext cx="84582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n unknown D-dimensional quantum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known 2-outcome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stimate Pr[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]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M], with high probability, by measuring as few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976320" y="3200400"/>
            <a:ext cx="78249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k=O(D</a:t>
            </a:r>
            <a:r>
              <a:rPr b="1" lang="en-US" sz="2500" spc="-1" strike="noStrike" baseline="30000">
                <a:solidFill>
                  <a:srgbClr val="00b050"/>
                </a:solidFill>
                <a:latin typeface="Calibri"/>
                <a:ea typeface="Arial"/>
              </a:rPr>
              <a:t>2</a:t>
            </a: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) copies suffice (do ordinary tomography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k=O(M) suffice (apply each E</a:t>
            </a:r>
            <a:r>
              <a:rPr b="1" lang="en-US" sz="2500" spc="-1" strike="noStrike" baseline="-25000">
                <a:solidFill>
                  <a:srgbClr val="00b050"/>
                </a:solidFill>
                <a:latin typeface="Calibri"/>
                <a:ea typeface="Arial"/>
              </a:rPr>
              <a:t>i</a:t>
            </a: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 to separate copi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But in many applications, D and M are both enormous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343080" y="4952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 (A., STOC’2018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hadow tomography is possible using only this many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1"/>
          <p:cNvGraphicFramePr/>
          <p:nvPr/>
        </p:nvGraphicFramePr>
        <p:xfrm>
          <a:off x="2111400" y="5845320"/>
          <a:ext cx="494964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1400" y="5845320"/>
                    <a:ext cx="49496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1284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e can do shadow tomography in a way that’s als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on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 sample complexity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7"/>
          <p:cNvGraphicFramePr/>
          <p:nvPr/>
        </p:nvGraphicFramePr>
        <p:xfrm>
          <a:off x="2008080" y="2097000"/>
          <a:ext cx="512784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2097000"/>
                    <a:ext cx="51278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2"/>
          <p:cNvSpPr/>
          <p:nvPr/>
        </p:nvSpPr>
        <p:spPr>
          <a:xfrm>
            <a:off x="312840" y="3124080"/>
            <a:ext cx="860256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How it works: we take a known procedure from DP,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ivate Multiplicative Weight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(Hardt-Rothblum 2010).  PMW decides whether to update our current hypothesis on each query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using a threshold measurement with Laplace noise a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e give a quantum analogue, “QPMW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ach iteration of QPMW is DP.  Using this fact, our D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gentleness theorem, and a lot more work, we show that we can safely apply all M of the iterations in sequ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304920" y="1522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New Shadow Tomography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339840" y="1143000"/>
            <a:ext cx="8458200" cy="53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move the restriction to product measurements in our D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impl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haracterize when D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preserv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omputatio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fficien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’s the true sample complexity of shadow tomography?  Must it have any log D factor at 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For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gentle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 or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online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 shadow tomography, we can show that the answer is yes, by porting known results from classical 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osition of quantum DP algorith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e quantum to say something new about classical D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Decoder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00"/>
          <p:cNvSpPr/>
          <p:nvPr/>
        </p:nvSpPr>
        <p:spPr>
          <a:xfrm>
            <a:off x="244440" y="2109960"/>
            <a:ext cx="876312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 Hermitian matrix, positive semidefinite, Tr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presents distribution where each superpositio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ccurs with probability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1"/>
              <p:cNvSpPr txBox="1"/>
              <p:nvPr/>
            </p:nvSpPr>
            <p:spPr>
              <a:xfrm>
                <a:off x="2743200" y="1054080"/>
                <a:ext cx="3443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⟩</m:t>
                        </m:r>
                        <m:r>
                          <m:t xml:space="preserve">⟨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" name="Slide Number Placeholder 2"/>
          <p:cNvSpPr/>
          <p:nvPr/>
        </p:nvSpPr>
        <p:spPr>
          <a:xfrm>
            <a:off x="7010280" y="-9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61C5-17D1-4ED6-9B38-E8A21D4F0B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00"/>
          <p:cNvSpPr/>
          <p:nvPr/>
        </p:nvSpPr>
        <p:spPr>
          <a:xfrm>
            <a:off x="244440" y="3886200"/>
            <a:ext cx="8763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OVM Measuremen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summing to identity, which returns outcome i with probability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if applied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00"/>
          <p:cNvSpPr/>
          <p:nvPr/>
        </p:nvSpPr>
        <p:spPr>
          <a:xfrm>
            <a:off x="244440" y="106380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Mixed S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00"/>
          <p:cNvSpPr/>
          <p:nvPr/>
        </p:nvSpPr>
        <p:spPr>
          <a:xfrm>
            <a:off x="244440" y="514836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race Dist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1"/>
          <p:cNvGraphicFramePr/>
          <p:nvPr/>
        </p:nvGraphicFramePr>
        <p:xfrm>
          <a:off x="3081240" y="4876920"/>
          <a:ext cx="3681360" cy="13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1240" y="4876920"/>
                    <a:ext cx="368136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 Box 700"/>
          <p:cNvSpPr/>
          <p:nvPr/>
        </p:nvSpPr>
        <p:spPr>
          <a:xfrm>
            <a:off x="228600" y="60958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generalization of variation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333360" y="35942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if for every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, and every possible measurement outcome 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1"/>
          <p:cNvGraphicFramePr/>
          <p:nvPr/>
        </p:nvGraphicFramePr>
        <p:xfrm>
          <a:off x="3267000" y="5130720"/>
          <a:ext cx="29764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7000" y="5130720"/>
                    <a:ext cx="29764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2"/>
          <p:cNvSpPr/>
          <p:nvPr/>
        </p:nvSpPr>
        <p:spPr>
          <a:xfrm>
            <a:off x="333360" y="608652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ypical choice for 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duct stat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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3200400" y="1076400"/>
            <a:ext cx="547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s in quantum mechanics are famously de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3200400" y="215748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not always!  If a qubit is known to be either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checking to see which one doesn’t damage it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Image result for schrodinger's cat"/>
          <p:cNvPicPr/>
          <p:nvPr/>
        </p:nvPicPr>
        <p:blipFill>
          <a:blip r:embed="rId3"/>
          <a:stretch/>
        </p:blipFill>
        <p:spPr>
          <a:xfrm>
            <a:off x="304920" y="1135080"/>
            <a:ext cx="2641320" cy="19861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187200" y="5086440"/>
            <a:ext cx="2857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Post-measurement state if outcome is 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6400800" y="5540400"/>
            <a:ext cx="274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Trace dist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17"/>
          <p:cNvCxnSpPr/>
          <p:nvPr/>
        </p:nvCxnSpPr>
        <p:spPr>
          <a:xfrm flipH="1" flipV="1">
            <a:off x="5476680" y="5803200"/>
            <a:ext cx="986400" cy="108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lg" type="arrow" w="lg"/>
          </a:ln>
        </p:spPr>
      </p:cxnSp>
      <p:cxnSp>
        <p:nvCxnSpPr>
          <p:cNvPr id="75" name="Straight Arrow Connector 18"/>
          <p:cNvCxnSpPr/>
          <p:nvPr/>
        </p:nvCxnSpPr>
        <p:spPr>
          <a:xfrm>
            <a:off x="2733480" y="5517720"/>
            <a:ext cx="686520" cy="108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38080" y="2743200"/>
            <a:ext cx="9068040" cy="736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34308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n unentangled qubits, measuring the number of 1’s could be extremely de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343080" y="4046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afer Approach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easure the number of 1’s plus deliberately-added noise (of order &gt;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). 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2"/>
          <a:stretch/>
        </p:blipFill>
        <p:spPr>
          <a:xfrm>
            <a:off x="1541520" y="2952720"/>
            <a:ext cx="7238880" cy="903240"/>
          </a:xfrm>
          <a:prstGeom prst="rect">
            <a:avLst/>
          </a:prstGeom>
          <a:ln w="0">
            <a:noFill/>
          </a:ln>
        </p:spPr>
      </p:pic>
      <p:sp>
        <p:nvSpPr>
          <p:cNvPr id="80" name="Rounded Rectangle 11"/>
          <p:cNvSpPr/>
          <p:nvPr/>
        </p:nvSpPr>
        <p:spPr>
          <a:xfrm>
            <a:off x="5372280" y="2952720"/>
            <a:ext cx="152280" cy="8082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808200"/>
              <a:gd name="textAreaBottom" fmla="*/ 801000 h 808200"/>
            </a:gdLst>
            <a:ahLst/>
            <a:rect l="textAreaLeft" t="textAreaTop" r="textAreaRight" b="textAreaBottom"/>
            <a:pathLst>
              <a:path w="21600" h="114419">
                <a:moveTo>
                  <a:pt x="3600" y="0"/>
                </a:moveTo>
                <a:arcTo wR="3600" hR="3600" stAng="16200000" swAng="-5400000"/>
                <a:lnTo>
                  <a:pt x="0" y="110819"/>
                </a:lnTo>
                <a:arcTo wR="3600" hR="3600" stAng="10800000" swAng="-5400000"/>
                <a:lnTo>
                  <a:pt x="18000" y="1144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2"/>
          <p:cNvGraphicFramePr/>
          <p:nvPr/>
        </p:nvGraphicFramePr>
        <p:xfrm>
          <a:off x="990720" y="1522440"/>
          <a:ext cx="5451480" cy="12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522440"/>
                    <a:ext cx="545148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3"/>
          <p:cNvGraphicFramePr/>
          <p:nvPr/>
        </p:nvGraphicFramePr>
        <p:xfrm>
          <a:off x="533520" y="5113440"/>
          <a:ext cx="3011400" cy="111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5113440"/>
                    <a:ext cx="3011400" cy="11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8"/>
          <p:cNvGraphicFramePr/>
          <p:nvPr/>
        </p:nvGraphicFramePr>
        <p:xfrm>
          <a:off x="3809880" y="5342040"/>
          <a:ext cx="5234040" cy="118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5342040"/>
                    <a:ext cx="523404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2"/>
          <p:cNvSpPr/>
          <p:nvPr/>
        </p:nvSpPr>
        <p:spPr>
          <a:xfrm>
            <a:off x="6649920" y="1523880"/>
            <a:ext cx="21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omitting normal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465120" y="6221520"/>
            <a:ext cx="30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Laplace noi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5"/>
          <p:cNvGrpSpPr/>
          <p:nvPr/>
        </p:nvGrpSpPr>
        <p:grpSpPr>
          <a:xfrm>
            <a:off x="7848720" y="5257440"/>
            <a:ext cx="1076400" cy="1535400"/>
            <a:chOff x="7848720" y="5257440"/>
            <a:chExt cx="1076400" cy="1535400"/>
          </a:xfrm>
        </p:grpSpPr>
        <p:sp>
          <p:nvSpPr>
            <p:cNvPr id="90" name="Block Arc 1"/>
            <p:cNvSpPr/>
            <p:nvPr/>
          </p:nvSpPr>
          <p:spPr>
            <a:xfrm>
              <a:off x="7848720" y="5649840"/>
              <a:ext cx="1076040" cy="1143000"/>
            </a:xfrm>
            <a:custGeom>
              <a:avLst/>
              <a:gdLst/>
              <a:ahLst/>
              <a:rect l="l" t="t" r="r" b="b"/>
              <a:pathLst>
                <a:path w="1075532" h="1143309">
                  <a:moveTo>
                    <a:pt x="0" y="571655"/>
                  </a:moveTo>
                  <a:cubicBezTo>
                    <a:pt x="0" y="369888"/>
                    <a:pt x="100058" y="183064"/>
                    <a:pt x="263275" y="80077"/>
                  </a:cubicBezTo>
                  <a:cubicBezTo>
                    <a:pt x="439845" y="-31335"/>
                    <a:pt x="660686" y="-26140"/>
                    <a:pt x="832446" y="93467"/>
                  </a:cubicBezTo>
                  <a:cubicBezTo>
                    <a:pt x="990611" y="203607"/>
                    <a:pt x="1082742" y="393953"/>
                    <a:pt x="1075092" y="594784"/>
                  </a:cubicBezTo>
                  <a:lnTo>
                    <a:pt x="1009899" y="591977"/>
                  </a:lnTo>
                  <a:cubicBezTo>
                    <a:pt x="1016539" y="414802"/>
                    <a:pt x="936227" y="246811"/>
                    <a:pt x="798168" y="149092"/>
                  </a:cubicBezTo>
                  <a:cubicBezTo>
                    <a:pt x="646578" y="41795"/>
                    <a:pt x="451013" y="37140"/>
                    <a:pt x="295128" y="137119"/>
                  </a:cubicBezTo>
                  <a:cubicBezTo>
                    <a:pt x="152540" y="228569"/>
                    <a:pt x="65254" y="393567"/>
                    <a:pt x="65254" y="571655"/>
                  </a:cubicBezTo>
                  <a:lnTo>
                    <a:pt x="0" y="571655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" name="Straight Arrow Connector 13"/>
            <p:cNvCxnSpPr/>
            <p:nvPr/>
          </p:nvCxnSpPr>
          <p:spPr>
            <a:xfrm flipV="1">
              <a:off x="8386920" y="5257440"/>
              <a:ext cx="538560" cy="884880"/>
            </a:xfrm>
            <a:prstGeom prst="straightConnector1">
              <a:avLst/>
            </a:prstGeom>
            <a:ln w="50760">
              <a:solidFill>
                <a:srgbClr val="4f81bd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28600" y="152280"/>
            <a:ext cx="8686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ifferential Privacy In One Slide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“CS theory applied to the social world—i.e., as far as you could possibly get from the subatomic worl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343080" y="1905120"/>
            <a:ext cx="84582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n algorithm A that queries a database X=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, we call A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for every two databases X and X’ that differ in only a singl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every possible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1"/>
          <p:cNvGraphicFramePr/>
          <p:nvPr/>
        </p:nvGraphicFramePr>
        <p:xfrm>
          <a:off x="1452600" y="3325680"/>
          <a:ext cx="623880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3325680"/>
                    <a:ext cx="62388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2"/>
          <p:cNvSpPr/>
          <p:nvPr/>
        </p:nvSpPr>
        <p:spPr>
          <a:xfrm>
            <a:off x="324000" y="4191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a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 many patients have prostate canc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333360" y="4876920"/>
            <a:ext cx="8458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etter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turn the number of patients with prostate cancer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l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aplace noise of average magnitu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 simple calculation shows this is 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1"/>
          <p:cNvGraphicFramePr/>
          <p:nvPr/>
        </p:nvGraphicFramePr>
        <p:xfrm>
          <a:off x="4495680" y="3753000"/>
          <a:ext cx="114480" cy="11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753000"/>
                    <a:ext cx="114480" cy="1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04920" y="208080"/>
            <a:ext cx="8373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Differential Privacy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“Protecting the Privacy Rights of Quantum St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52440" y="152388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 on n registers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(e.g., product states) if for ever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that differ on only 1 register, and every possible outcome y of 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1"/>
          <p:cNvGraphicFramePr/>
          <p:nvPr/>
        </p:nvGraphicFramePr>
        <p:xfrm>
          <a:off x="1298520" y="3429000"/>
          <a:ext cx="638352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3429000"/>
                    <a:ext cx="63835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2"/>
          <p:cNvSpPr/>
          <p:nvPr/>
        </p:nvSpPr>
        <p:spPr>
          <a:xfrm>
            <a:off x="343080" y="45086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ce again, given n unentangled qubits, measuring the number of 1’s plus a Laplace noise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5519880" y="5637240"/>
            <a:ext cx="31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b050"/>
                </a:solidFill>
                <a:latin typeface="Calibri"/>
                <a:ea typeface="Arial"/>
              </a:rPr>
              <a:t>Hmmmm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0"/>
          <p:cNvSpPr/>
          <p:nvPr/>
        </p:nvSpPr>
        <p:spPr>
          <a:xfrm>
            <a:off x="388800" y="3809880"/>
            <a:ext cx="8298000" cy="914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1447920" y="4724280"/>
            <a:ext cx="2346120" cy="533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6248520" y="3276720"/>
            <a:ext cx="2438280" cy="533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ur Main Result: DP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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43080" y="1066680"/>
            <a:ext cx="85816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(1) Any measurement that’s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-gentle on product states (for small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) is also O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)-DP on product st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72960" y="3276720"/>
            <a:ext cx="85518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(2) Any measurement that’s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-DP on product states, and consists of a classical DP algorithm applied to results of separate measurements on each register, is also O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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n)-gentle on product st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5"/>
          <p:cNvGrpSpPr/>
          <p:nvPr/>
        </p:nvGrpSpPr>
        <p:grpSpPr>
          <a:xfrm>
            <a:off x="4419720" y="2297160"/>
            <a:ext cx="4338360" cy="1127520"/>
            <a:chOff x="4419720" y="2297160"/>
            <a:chExt cx="4338360" cy="1127520"/>
          </a:xfrm>
        </p:grpSpPr>
        <p:sp>
          <p:nvSpPr>
            <p:cNvPr id="113" name="Text Box 2"/>
            <p:cNvSpPr/>
            <p:nvPr/>
          </p:nvSpPr>
          <p:spPr>
            <a:xfrm>
              <a:off x="4419720" y="2297160"/>
              <a:ext cx="4338360" cy="825480"/>
            </a:xfrm>
            <a:prstGeom prst="rect">
              <a:avLst/>
            </a:prstGeom>
            <a:solidFill>
              <a:srgbClr val="f9f8f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Have to restrict the set of states for part (2) to be intere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Straight Arrow Connector 2"/>
            <p:cNvCxnSpPr/>
            <p:nvPr/>
          </p:nvCxnSpPr>
          <p:spPr>
            <a:xfrm>
              <a:off x="7314840" y="3127680"/>
              <a:ext cx="1080" cy="297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15" name="Group 18"/>
          <p:cNvGrpSpPr/>
          <p:nvPr/>
        </p:nvGrpSpPr>
        <p:grpSpPr>
          <a:xfrm>
            <a:off x="372960" y="5257080"/>
            <a:ext cx="4351320" cy="1178280"/>
            <a:chOff x="372960" y="5257080"/>
            <a:chExt cx="4351320" cy="1178280"/>
          </a:xfrm>
        </p:grpSpPr>
        <p:sp>
          <p:nvSpPr>
            <p:cNvPr id="116" name="Text Box 2"/>
            <p:cNvSpPr/>
            <p:nvPr/>
          </p:nvSpPr>
          <p:spPr>
            <a:xfrm>
              <a:off x="372960" y="5609880"/>
              <a:ext cx="4351320" cy="825480"/>
            </a:xfrm>
            <a:prstGeom prst="rect">
              <a:avLst/>
            </a:prstGeom>
            <a:solidFill>
              <a:srgbClr val="f9f8f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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n factor is tight (the Laplace noise measurement shows thi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Straight Arrow Connector 11"/>
            <p:cNvCxnSpPr/>
            <p:nvPr/>
          </p:nvCxnSpPr>
          <p:spPr>
            <a:xfrm flipV="1">
              <a:off x="2625120" y="5257080"/>
              <a:ext cx="1080" cy="353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18" name="Group 16"/>
          <p:cNvGrpSpPr/>
          <p:nvPr/>
        </p:nvGrpSpPr>
        <p:grpSpPr>
          <a:xfrm>
            <a:off x="5165640" y="4723920"/>
            <a:ext cx="3581640" cy="1669320"/>
            <a:chOff x="5165640" y="4723920"/>
            <a:chExt cx="3581640" cy="1669320"/>
          </a:xfrm>
        </p:grpSpPr>
        <p:sp>
          <p:nvSpPr>
            <p:cNvPr id="119" name="Text Box 2"/>
            <p:cNvSpPr/>
            <p:nvPr/>
          </p:nvSpPr>
          <p:spPr>
            <a:xfrm>
              <a:off x="5165640" y="5567760"/>
              <a:ext cx="3581640" cy="825480"/>
            </a:xfrm>
            <a:prstGeom prst="rect">
              <a:avLst/>
            </a:prstGeom>
            <a:solidFill>
              <a:srgbClr val="f9f8f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This restriction might just be an artifact of our pro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0" name="Straight Arrow Connector 13"/>
            <p:cNvCxnSpPr/>
            <p:nvPr/>
          </p:nvCxnSpPr>
          <p:spPr>
            <a:xfrm flipH="1" flipV="1">
              <a:off x="5714280" y="4723920"/>
              <a:ext cx="533880" cy="843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  <p:sp>
        <p:nvSpPr>
          <p:cNvPr id="121" name="TextBox 21"/>
          <p:cNvSpPr/>
          <p:nvPr/>
        </p:nvSpPr>
        <p:spPr>
          <a:xfrm>
            <a:off x="258840" y="2112840"/>
            <a:ext cx="397836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n’t DP and gentlenes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bviousl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58920" y="1066680"/>
            <a:ext cx="840420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Dwork et al. (2014): Connection between DP an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daptive data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alibri"/>
                <a:ea typeface="Arial"/>
              </a:rPr>
              <a:t>We can safely reuse the same dataset for many scientific studies, </a:t>
            </a:r>
            <a:r>
              <a:rPr b="0" i="1" lang="en-US" sz="3000" spc="-1" strike="noStrike">
                <a:solidFill>
                  <a:srgbClr val="00b050"/>
                </a:solidFill>
                <a:latin typeface="Calibri"/>
                <a:ea typeface="Arial"/>
              </a:rPr>
              <a:t>if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  <a:ea typeface="Arial"/>
              </a:rPr>
              <a:t> we’re careful to query the dataset using DP algorithms onl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In our terms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DP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“classical Bayesian gentlenes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Of course, “damage” to a probability distribution is purely internal and mental, whereas damage to a quantum state can be noticed by other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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52440" y="1066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easy direction!  Has nothing to do with product states or even quantum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363600" y="2209680"/>
            <a:ext cx="84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M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gentle on all states, then it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1"/>
          <p:cNvGraphicFramePr/>
          <p:nvPr/>
        </p:nvGraphicFramePr>
        <p:xfrm>
          <a:off x="2743200" y="2819520"/>
          <a:ext cx="326376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819520"/>
                    <a:ext cx="326376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2"/>
          <p:cNvSpPr/>
          <p:nvPr/>
        </p:nvSpPr>
        <p:spPr>
          <a:xfrm>
            <a:off x="363600" y="4267080"/>
            <a:ext cx="844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consider the converse: if Pr[M outputs y] is very different 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n conditioning on M outputting y will badly “damage”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/2, by Bayes’ Theor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363600" y="5791320"/>
            <a:ext cx="844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w just apply the lemma separately to each register of our produc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 Aaronson</cp:lastModifiedBy>
  <dcterms:modified xsi:type="dcterms:W3CDTF">2020-02-05T11:48:17Z</dcterms:modified>
  <cp:revision>501</cp:revision>
  <dc:subject/>
  <dc:title>BQP and the Polynomial Hierarchy</dc:title>
</cp:coreProperties>
</file>