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8864-3028-46CA-B2EE-87FF7A4E3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B76D-3377-454A-A777-53B96359FBAA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4E7F-2A68-444B-9EC0-A2784F0DA82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F6DF-D973-485C-9B92-19F44B563C1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58D2-9068-451A-B8A8-180481BB52C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5D8C-4F64-419B-8604-2E7EA6C61DB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F0BA-48CC-42F7-A63A-382C8E37B68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7FFD-C34C-484D-A6A1-0EEEE4B7238C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2D88-EFF0-4C98-B9C6-33F2CC541E02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E71B-8C9A-46C6-A104-39C82C889F3C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4721-567B-461F-AC09-C1D01D43FBA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A544-D6CA-4DBE-8D36-78E42DA4D624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5A0B-24B9-4B51-87C4-6577396646C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3378-1054-458E-9842-B58B52820E4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EC36-A635-4A21-8709-6826C52E938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0B39-2C7F-47E1-A98C-55F05F76DAA0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3464-79CB-4605-882E-85EBDA9D6B7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69C8-3841-4D9C-8117-8CC072C64499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0867-703C-48A3-9FF7-E66D79CAF87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B858-E183-49A5-82FD-843D7235D25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D580-43F4-4D55-BA07-BA439B43A3E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C56F-DE4C-4D2A-8413-46A972615BF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F4DE-7736-4425-9ACD-ED689D49989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95C1-1B2F-4D48-A7C0-FD7E6CD3314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E91-9461-40C9-97C5-D6E20259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5E7-C693-47B0-822A-813759C5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C37-CE12-4772-9A5B-0465D962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49E-591B-4202-8927-1C8B6A89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184-6657-4FD8-B3E8-BA9935EA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467-26E1-47B9-80B3-CFED640E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F14-907B-473D-9D1D-88202B3C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901-87FC-481F-B008-37657260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336-C7EB-4F16-A8CC-4526BA6F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922-93DB-418B-9EA0-978779D2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2DA-13A0-42A3-AC00-3B4340F6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1A1-52EA-428C-932C-F7203EE8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5DB8-43E9-410C-8A8C-561444368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6"/>
          <p:cNvSpPr/>
          <p:nvPr/>
        </p:nvSpPr>
        <p:spPr>
          <a:xfrm>
            <a:off x="0" y="3348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2800" y="103320"/>
            <a:ext cx="876276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alibri"/>
                <a:ea typeface="Calibri"/>
              </a:rPr>
              <a:t>Discrete Bulk Reconstruction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1000" y="5721480"/>
            <a:ext cx="861048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IAS Workshop on Spacetime and Quantum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Dec. 7, 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563400" y="2527200"/>
            <a:ext cx="3200400" cy="312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Jason Pollack"/>
          <p:cNvPicPr/>
          <p:nvPr/>
        </p:nvPicPr>
        <p:blipFill>
          <a:blip r:embed="rId2"/>
          <a:stretch/>
        </p:blipFill>
        <p:spPr>
          <a:xfrm>
            <a:off x="5391000" y="3139920"/>
            <a:ext cx="2408400" cy="2409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7"/>
          <p:cNvSpPr/>
          <p:nvPr/>
        </p:nvSpPr>
        <p:spPr>
          <a:xfrm>
            <a:off x="3902040" y="2459160"/>
            <a:ext cx="5054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edef"/>
                </a:solidFill>
                <a:latin typeface="Calibri"/>
                <a:ea typeface="Calibri"/>
              </a:rPr>
              <a:t>…</a:t>
            </a:r>
            <a:r>
              <a:rPr b="1" lang="en-US" sz="2800" spc="-1" strike="noStrike">
                <a:solidFill>
                  <a:srgbClr val="daedef"/>
                </a:solidFill>
                <a:latin typeface="Calibri"/>
                <a:ea typeface="Calibri"/>
              </a:rPr>
              <a:t>with Jason Pollack (UT Aust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425520" y="99072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alibri"/>
                <a:ea typeface="Calibri"/>
              </a:rPr>
              <a:t>arXiv:2210.156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111320" y="16495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edef"/>
                </a:solidFill>
                <a:latin typeface="Calibri"/>
                <a:ea typeface="Calibri"/>
              </a:rPr>
              <a:t>Scott Aaronson (UT Austin and Open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7"/>
          <p:cNvSpPr/>
          <p:nvPr/>
        </p:nvSpPr>
        <p:spPr>
          <a:xfrm>
            <a:off x="380880" y="113364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ll quantum states satis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11240" y="18108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ntropy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15800" y="19810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Subadditivity (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(A) + S(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S(A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021200" y="1959120"/>
            <a:ext cx="499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Strong Subadditivity (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(AB) + S(B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S(B) + S(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rcRect l="5151" t="0" r="18869" b="0"/>
          <a:stretch/>
        </p:blipFill>
        <p:spPr>
          <a:xfrm>
            <a:off x="147600" y="2989440"/>
            <a:ext cx="3747960" cy="14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4021200" y="3024360"/>
            <a:ext cx="4914720" cy="1457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1177920" y="5729400"/>
            <a:ext cx="802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+ additional inequalities (Linden-Winter 2004), full list not known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1177920" y="4906800"/>
            <a:ext cx="522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radley Hand ITC"/>
                <a:ea typeface="Calibri"/>
              </a:rPr>
              <a:t>“</a:t>
            </a:r>
            <a:r>
              <a:rPr b="1" lang="en-US" sz="3200" spc="-1" strike="noStrike">
                <a:solidFill>
                  <a:srgbClr val="7030a0"/>
                </a:solidFill>
                <a:latin typeface="Bradley Hand ITC"/>
                <a:ea typeface="Calibri"/>
              </a:rPr>
              <a:t>cutting-and-pasting proof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14"/>
          <p:cNvCxnSpPr/>
          <p:nvPr/>
        </p:nvCxnSpPr>
        <p:spPr>
          <a:xfrm flipH="1" flipV="1">
            <a:off x="2133000" y="4266360"/>
            <a:ext cx="137160" cy="723240"/>
          </a:xfrm>
          <a:prstGeom prst="straightConnector1">
            <a:avLst/>
          </a:prstGeom>
          <a:ln w="31680">
            <a:solidFill>
              <a:srgbClr val="7030a0"/>
            </a:solidFill>
            <a:miter/>
            <a:tailEnd len="lg" type="arrow" w="lg"/>
          </a:ln>
        </p:spPr>
      </p:cxnSp>
      <p:cxnSp>
        <p:nvCxnSpPr>
          <p:cNvPr id="134" name="Straight Arrow Connector 15"/>
          <p:cNvCxnSpPr/>
          <p:nvPr/>
        </p:nvCxnSpPr>
        <p:spPr>
          <a:xfrm flipV="1">
            <a:off x="5369040" y="4366440"/>
            <a:ext cx="1032480" cy="570600"/>
          </a:xfrm>
          <a:prstGeom prst="straightConnector1">
            <a:avLst/>
          </a:prstGeom>
          <a:ln w="31680">
            <a:solidFill>
              <a:srgbClr val="7030a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5"/>
          <p:cNvSpPr/>
          <p:nvPr/>
        </p:nvSpPr>
        <p:spPr>
          <a:xfrm>
            <a:off x="266760" y="6094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Holographi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quantum states additionally satis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266760" y="20080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Monogamy of Mutual Information (M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(AB) + S(BC) + S(A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S(A) + S(B) + S(C) + S(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990720" y="52578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finitely man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more inequalities, forming the “holographic entropy c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-20520" y="3218040"/>
            <a:ext cx="9144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5054760" y="2840040"/>
            <a:ext cx="3276360" cy="3030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422280" y="1384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nly N(N-1)/2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contigu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boundary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31760" y="23652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at’s Special About the 1D C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25440" y="2940120"/>
            <a:ext cx="4764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ao-Chatwin-Davies 2016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Can specify ~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n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-contiguous entropies in terms of the N(N-1)/2 contiguous entr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33520" y="5843520"/>
            <a:ext cx="8229600" cy="673200"/>
          </a:xfrm>
          <a:prstGeom prst="rect">
            <a:avLst/>
          </a:prstGeom>
          <a:solidFill>
            <a:srgbClr val="ffffcc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E.g., S(AC) = min{ S(A) + S(C), S(B) + S(D) }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6"/>
          <p:cNvGrpSpPr/>
          <p:nvPr/>
        </p:nvGrpSpPr>
        <p:grpSpPr>
          <a:xfrm>
            <a:off x="5753160" y="1123920"/>
            <a:ext cx="1600200" cy="1600200"/>
            <a:chOff x="5753160" y="1123920"/>
            <a:chExt cx="1600200" cy="1600200"/>
          </a:xfrm>
        </p:grpSpPr>
        <p:sp>
          <p:nvSpPr>
            <p:cNvPr id="145" name="Straight Connector 8"/>
            <p:cNvSpPr/>
            <p:nvPr/>
          </p:nvSpPr>
          <p:spPr>
            <a:xfrm>
              <a:off x="5753160" y="19242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>
              <a:off x="6553440" y="1123920"/>
              <a:ext cx="0" cy="160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12"/>
            <p:cNvSpPr/>
            <p:nvPr/>
          </p:nvSpPr>
          <p:spPr>
            <a:xfrm>
              <a:off x="5987520" y="1358280"/>
              <a:ext cx="1131480" cy="113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14"/>
            <p:cNvSpPr/>
            <p:nvPr/>
          </p:nvSpPr>
          <p:spPr>
            <a:xfrm flipH="1">
              <a:off x="5987160" y="1358280"/>
              <a:ext cx="1131480" cy="113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2"/>
          <p:cNvSpPr/>
          <p:nvPr/>
        </p:nvSpPr>
        <p:spPr>
          <a:xfrm>
            <a:off x="5867280" y="1219320"/>
            <a:ext cx="1371600" cy="1371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Block Arc 18"/>
          <p:cNvSpPr/>
          <p:nvPr/>
        </p:nvSpPr>
        <p:spPr>
          <a:xfrm>
            <a:off x="5807160" y="1122480"/>
            <a:ext cx="1431720" cy="1535040"/>
          </a:xfrm>
          <a:custGeom>
            <a:avLst/>
            <a:gdLst/>
            <a:ahLst/>
            <a:rect l="l" t="t" r="r" b="b"/>
            <a:pathLst>
              <a:path w="1432551" h="1534980">
                <a:moveTo>
                  <a:pt x="0" y="767490"/>
                </a:moveTo>
                <a:cubicBezTo>
                  <a:pt x="0" y="455344"/>
                  <a:pt x="176434" y="174293"/>
                  <a:pt x="446259" y="56622"/>
                </a:cubicBezTo>
                <a:cubicBezTo>
                  <a:pt x="735826" y="-69658"/>
                  <a:pt x="1068377" y="19881"/>
                  <a:pt x="1267835" y="277832"/>
                </a:cubicBezTo>
                <a:lnTo>
                  <a:pt x="1193037" y="344235"/>
                </a:lnTo>
                <a:cubicBezTo>
                  <a:pt x="1021166" y="117131"/>
                  <a:pt x="732471" y="38309"/>
                  <a:pt x="481739" y="150030"/>
                </a:cubicBezTo>
                <a:cubicBezTo>
                  <a:pt x="250658" y="252995"/>
                  <a:pt x="99821" y="496857"/>
                  <a:pt x="99821" y="767489"/>
                </a:cubicBezTo>
                <a:lnTo>
                  <a:pt x="0" y="7674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Main Result,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5680" y="12952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 the special case of a 1D boundary divided into N parts, given contiguous entropies satisfying Strong Subadditivity, we can always find a graph model of the bulk 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linear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(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).  This graph model 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plan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nd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univer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nd has only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ver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703440" y="4871880"/>
            <a:ext cx="7696080" cy="1068840"/>
          </a:xfrm>
          <a:prstGeom prst="rect">
            <a:avLst/>
          </a:prstGeom>
          <a:solidFill>
            <a:srgbClr val="ffffcc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urprising part: SSA suffi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ao-Chatwin-Davies takes care of th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4462560" y="1074600"/>
            <a:ext cx="4665600" cy="423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380880" y="1600200"/>
            <a:ext cx="426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Lemma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ny contiguous boundary data, provided it satisfies SSA, admits a “bulkless” graph model—one with no intermediate ver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lkless”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380880" y="5276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Proof Idea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Solve a system of linear equations for the edge weights!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SA ensures non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7696080" y="12286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3911760" y="1122480"/>
            <a:ext cx="4962240" cy="44766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7"/>
          <p:cNvSpPr/>
          <p:nvPr/>
        </p:nvSpPr>
        <p:spPr>
          <a:xfrm>
            <a:off x="341280" y="5614920"/>
            <a:ext cx="839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Yields a planar graph with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vertices and same cut structure as bulkless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96840" y="27612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hord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304920" y="1274760"/>
            <a:ext cx="391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raw a chord between every pair of boundary regions, and an internal vertex wherever two chords intersect.  Edge weights = weights from bulkless grap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5"/>
          <p:cNvSpPr/>
          <p:nvPr/>
        </p:nvSpPr>
        <p:spPr>
          <a:xfrm flipV="1">
            <a:off x="4800600" y="1828440"/>
            <a:ext cx="2743200" cy="2057400"/>
          </a:xfrm>
          <a:prstGeom prst="line">
            <a:avLst/>
          </a:prstGeom>
          <a:ln w="63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317520" y="2489040"/>
            <a:ext cx="7213680" cy="43405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"/>
          <p:cNvSpPr/>
          <p:nvPr/>
        </p:nvSpPr>
        <p:spPr>
          <a:xfrm>
            <a:off x="216000" y="9446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n reduce number of vertices and edges to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via a planar graph made of “overlapping triangles,” each contributing a weight from the bulkless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4920" y="174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amondwork”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867280" y="3102120"/>
            <a:ext cx="3048120" cy="15562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in-cuts still “the same” as in bulkless grap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5"/>
          <p:cNvCxnSpPr/>
          <p:nvPr/>
        </p:nvCxnSpPr>
        <p:spPr>
          <a:xfrm flipH="1">
            <a:off x="3885480" y="4267080"/>
            <a:ext cx="19818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7"/>
          <p:cNvSpPr/>
          <p:nvPr/>
        </p:nvSpPr>
        <p:spPr>
          <a:xfrm>
            <a:off x="380880" y="113184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onger geodesics (in green) penetrate deeper into the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amondwork Constructio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828800" y="1803240"/>
            <a:ext cx="5181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7"/>
          <p:cNvSpPr/>
          <p:nvPr/>
        </p:nvSpPr>
        <p:spPr>
          <a:xfrm>
            <a:off x="246240" y="56386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ntropy of length-L boundary region (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N/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2(1 + 1/2 + 1/3 + … + 1/L) </a:t>
            </a:r>
            <a:r>
              <a:rPr b="1" lang="en-US" sz="3200" spc="-1" strike="noStrike">
                <a:solidFill>
                  <a:srgbClr val="00b050"/>
                </a:solidFill>
                <a:latin typeface="Symbol"/>
                <a:ea typeface="Symbol"/>
              </a:rPr>
              <a:t>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 2 ln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111240" y="27792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: Harmonic Edge Weigh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1905120" y="960480"/>
            <a:ext cx="4929120" cy="4819680"/>
          </a:xfrm>
          <a:prstGeom prst="rect">
            <a:avLst/>
          </a:prstGeom>
          <a:ln w="0">
            <a:noFill/>
          </a:ln>
        </p:spPr>
      </p:pic>
      <p:sp>
        <p:nvSpPr>
          <p:cNvPr id="175" name="Freeform: Shape 2"/>
          <p:cNvSpPr/>
          <p:nvPr/>
        </p:nvSpPr>
        <p:spPr>
          <a:xfrm>
            <a:off x="2387520" y="1604880"/>
            <a:ext cx="1117800" cy="2205000"/>
          </a:xfrm>
          <a:custGeom>
            <a:avLst/>
            <a:gdLst/>
            <a:ahLst/>
            <a:rect l="l" t="t" r="r" b="b"/>
            <a:pathLst>
              <a:path w="1117600" h="2204720">
                <a:moveTo>
                  <a:pt x="0" y="2204720"/>
                </a:moveTo>
                <a:cubicBezTo>
                  <a:pt x="323426" y="1890606"/>
                  <a:pt x="646853" y="1576493"/>
                  <a:pt x="833120" y="1209040"/>
                </a:cubicBezTo>
                <a:cubicBezTo>
                  <a:pt x="1019387" y="841587"/>
                  <a:pt x="1068493" y="420793"/>
                  <a:pt x="1117600" y="0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752480" y="852480"/>
            <a:ext cx="5286600" cy="50119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246240" y="57150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ntropy of length-L boundary region (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N/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2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geodesic might as well “hug the boundar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111240" y="20304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: Degenerate Black H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: Shape 4"/>
          <p:cNvSpPr/>
          <p:nvPr/>
        </p:nvSpPr>
        <p:spPr>
          <a:xfrm>
            <a:off x="2316240" y="1413000"/>
            <a:ext cx="2925720" cy="2325600"/>
          </a:xfrm>
          <a:custGeom>
            <a:avLst/>
            <a:gdLst/>
            <a:ahLst/>
            <a:rect l="l" t="t" r="r" b="b"/>
            <a:pathLst>
              <a:path w="2926080" h="2326640">
                <a:moveTo>
                  <a:pt x="0" y="2326640"/>
                </a:moveTo>
                <a:cubicBezTo>
                  <a:pt x="325120" y="1971886"/>
                  <a:pt x="650240" y="1617133"/>
                  <a:pt x="833120" y="1341120"/>
                </a:cubicBezTo>
                <a:cubicBezTo>
                  <a:pt x="1016000" y="1065107"/>
                  <a:pt x="809413" y="841587"/>
                  <a:pt x="1097280" y="670560"/>
                </a:cubicBezTo>
                <a:cubicBezTo>
                  <a:pt x="1385147" y="499533"/>
                  <a:pt x="2255520" y="426720"/>
                  <a:pt x="2560320" y="314960"/>
                </a:cubicBezTo>
                <a:cubicBezTo>
                  <a:pt x="2865120" y="203200"/>
                  <a:pt x="2895600" y="101600"/>
                  <a:pt x="2926080" y="0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7"/>
          <p:cNvSpPr/>
          <p:nvPr/>
        </p:nvSpPr>
        <p:spPr>
          <a:xfrm>
            <a:off x="304920" y="1251000"/>
            <a:ext cx="556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tudy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computational complex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of reconstructing the AdS bulk from CFT boundary.  When is the AdS/CFT dictionar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effici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late AdS/CFT into discrete CS language, to the point where people like me can work on 1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28600" y="4096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5715000" y="1271520"/>
            <a:ext cx="3124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524720" cy="23623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81"/>
          <p:cNvSpPr/>
          <p:nvPr/>
        </p:nvSpPr>
        <p:spPr>
          <a:xfrm flipV="1">
            <a:off x="6696000" y="2423880"/>
            <a:ext cx="22716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79"/>
          <p:cNvSpPr/>
          <p:nvPr/>
        </p:nvSpPr>
        <p:spPr>
          <a:xfrm>
            <a:off x="7612200" y="3008160"/>
            <a:ext cx="358560" cy="98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75"/>
          <p:cNvSpPr/>
          <p:nvPr/>
        </p:nvSpPr>
        <p:spPr>
          <a:xfrm flipV="1">
            <a:off x="5551560" y="2860200"/>
            <a:ext cx="1011240" cy="95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4"/>
          <p:cNvSpPr/>
          <p:nvPr/>
        </p:nvSpPr>
        <p:spPr>
          <a:xfrm>
            <a:off x="2182680" y="3106800"/>
            <a:ext cx="365400" cy="555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4"/>
          <p:cNvSpPr/>
          <p:nvPr/>
        </p:nvSpPr>
        <p:spPr>
          <a:xfrm>
            <a:off x="2068560" y="2992320"/>
            <a:ext cx="91440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5"/>
          <p:cNvSpPr/>
          <p:nvPr/>
        </p:nvSpPr>
        <p:spPr>
          <a:xfrm>
            <a:off x="3097080" y="3166920"/>
            <a:ext cx="684360" cy="52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20"/>
          <p:cNvSpPr/>
          <p:nvPr/>
        </p:nvSpPr>
        <p:spPr>
          <a:xfrm flipV="1">
            <a:off x="3178080" y="2786040"/>
            <a:ext cx="436680" cy="295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25"/>
          <p:cNvSpPr/>
          <p:nvPr/>
        </p:nvSpPr>
        <p:spPr>
          <a:xfrm>
            <a:off x="2567160" y="3637080"/>
            <a:ext cx="438120" cy="247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29"/>
          <p:cNvSpPr/>
          <p:nvPr/>
        </p:nvSpPr>
        <p:spPr>
          <a:xfrm flipV="1">
            <a:off x="2666880" y="3606840"/>
            <a:ext cx="1148040" cy="47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2"/>
          <p:cNvSpPr/>
          <p:nvPr/>
        </p:nvSpPr>
        <p:spPr>
          <a:xfrm>
            <a:off x="1625760" y="2538360"/>
            <a:ext cx="637920" cy="534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36"/>
          <p:cNvSpPr/>
          <p:nvPr/>
        </p:nvSpPr>
        <p:spPr>
          <a:xfrm flipH="1" flipV="1">
            <a:off x="1668240" y="3411360"/>
            <a:ext cx="849240" cy="21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38"/>
          <p:cNvSpPr/>
          <p:nvPr/>
        </p:nvSpPr>
        <p:spPr>
          <a:xfrm flipV="1">
            <a:off x="2263680" y="2674440"/>
            <a:ext cx="476280" cy="236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512640" y="47214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ur most immediate open problem!  The state of an individual boundary need no longer be pure; diamondwork construction break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1240" y="336600"/>
            <a:ext cx="888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eralize from Disks to k-Holed Surfaces (“Wormholes”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2068560" y="28782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3581280" y="25909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3586320" y="34923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982960" y="30481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2438280" y="354024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635120" y="337824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3"/>
          <p:cNvSpPr/>
          <p:nvPr/>
        </p:nvSpPr>
        <p:spPr>
          <a:xfrm>
            <a:off x="1515960" y="2413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40"/>
          <p:cNvSpPr/>
          <p:nvPr/>
        </p:nvSpPr>
        <p:spPr>
          <a:xfrm>
            <a:off x="6676920" y="2975040"/>
            <a:ext cx="473040" cy="89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41"/>
          <p:cNvSpPr/>
          <p:nvPr/>
        </p:nvSpPr>
        <p:spPr>
          <a:xfrm>
            <a:off x="6562800" y="2860560"/>
            <a:ext cx="91440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42"/>
          <p:cNvSpPr/>
          <p:nvPr/>
        </p:nvSpPr>
        <p:spPr>
          <a:xfrm>
            <a:off x="6562800" y="2860560"/>
            <a:ext cx="687240" cy="582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43"/>
          <p:cNvSpPr/>
          <p:nvPr/>
        </p:nvSpPr>
        <p:spPr>
          <a:xfrm flipH="1" flipV="1">
            <a:off x="7414920" y="2343240"/>
            <a:ext cx="176040" cy="573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44"/>
          <p:cNvSpPr/>
          <p:nvPr/>
        </p:nvSpPr>
        <p:spPr>
          <a:xfrm>
            <a:off x="7169040" y="3476520"/>
            <a:ext cx="61920" cy="425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45"/>
          <p:cNvSpPr/>
          <p:nvPr/>
        </p:nvSpPr>
        <p:spPr>
          <a:xfrm flipV="1">
            <a:off x="7088040" y="3071880"/>
            <a:ext cx="471600" cy="37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46"/>
          <p:cNvSpPr/>
          <p:nvPr/>
        </p:nvSpPr>
        <p:spPr>
          <a:xfrm>
            <a:off x="6118200" y="2405160"/>
            <a:ext cx="638280" cy="536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47"/>
          <p:cNvSpPr/>
          <p:nvPr/>
        </p:nvSpPr>
        <p:spPr>
          <a:xfrm flipH="1">
            <a:off x="6496200" y="2746440"/>
            <a:ext cx="180720" cy="1162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48"/>
          <p:cNvSpPr/>
          <p:nvPr/>
        </p:nvSpPr>
        <p:spPr>
          <a:xfrm flipV="1">
            <a:off x="6756480" y="2505240"/>
            <a:ext cx="658800" cy="274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9"/>
          <p:cNvSpPr/>
          <p:nvPr/>
        </p:nvSpPr>
        <p:spPr>
          <a:xfrm>
            <a:off x="6562800" y="274644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0"/>
          <p:cNvSpPr/>
          <p:nvPr/>
        </p:nvSpPr>
        <p:spPr>
          <a:xfrm>
            <a:off x="7381800" y="23097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1"/>
          <p:cNvSpPr/>
          <p:nvPr/>
        </p:nvSpPr>
        <p:spPr>
          <a:xfrm>
            <a:off x="7054920" y="32479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2"/>
          <p:cNvSpPr/>
          <p:nvPr/>
        </p:nvSpPr>
        <p:spPr>
          <a:xfrm>
            <a:off x="7477200" y="29163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3"/>
          <p:cNvSpPr/>
          <p:nvPr/>
        </p:nvSpPr>
        <p:spPr>
          <a:xfrm>
            <a:off x="7116840" y="367344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4"/>
          <p:cNvSpPr/>
          <p:nvPr/>
        </p:nvSpPr>
        <p:spPr>
          <a:xfrm>
            <a:off x="6300720" y="371304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5"/>
          <p:cNvSpPr/>
          <p:nvPr/>
        </p:nvSpPr>
        <p:spPr>
          <a:xfrm>
            <a:off x="6010200" y="22813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4"/>
          <p:cNvSpPr/>
          <p:nvPr/>
        </p:nvSpPr>
        <p:spPr>
          <a:xfrm>
            <a:off x="5551560" y="28414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83"/>
          <p:cNvSpPr/>
          <p:nvPr/>
        </p:nvSpPr>
        <p:spPr>
          <a:xfrm flipV="1">
            <a:off x="3097080" y="2568600"/>
            <a:ext cx="50760" cy="479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7"/>
          <p:cNvSpPr/>
          <p:nvPr/>
        </p:nvSpPr>
        <p:spPr>
          <a:xfrm>
            <a:off x="228600" y="372960"/>
            <a:ext cx="88012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heorem 1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et W be a wormhole (2-holed sphere).  Then there are lists of input entropies of the form S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, where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nd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re contiguous subregions of mouths 1 and 2, for which there exists a bulk graph bu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one embeddable ont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3520" y="2927520"/>
            <a:ext cx="3733560" cy="39193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4629240" y="3809880"/>
            <a:ext cx="403848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ved by creating RT regions that mimic the non-planar graph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7"/>
          <p:cNvSpPr/>
          <p:nvPr/>
        </p:nvSpPr>
        <p:spPr>
          <a:xfrm>
            <a:off x="26676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heorem 2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enever the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n embeddable bulk graph, there’s one with at most ~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vertices—putting the problem into the complexity class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297000" y="3676680"/>
            <a:ext cx="5295600" cy="2328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266760" y="2133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Proof Sketch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every pair of minimal geodesics intersects at most once + “Lazy Caterer’s Probl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https://upload.wikimedia.org/wikipedia/commons/thumb/4/45/PancakeCutThrice.agr.jpg/800px-PancakeCutThrice.agr.jpg"/>
          <p:cNvPicPr/>
          <p:nvPr/>
        </p:nvPicPr>
        <p:blipFill>
          <a:blip r:embed="rId2"/>
          <a:stretch/>
        </p:blipFill>
        <p:spPr>
          <a:xfrm>
            <a:off x="5943600" y="3394080"/>
            <a:ext cx="28828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7"/>
          <p:cNvSpPr/>
          <p:nvPr/>
        </p:nvSpPr>
        <p:spPr>
          <a:xfrm>
            <a:off x="376200" y="1219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eneralize to 3D and higher-dimensional bul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ore 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345960" y="20574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clud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dynamic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(HRT formul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295200" y="423072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Other direc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Complexity of constructing the boundary state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from the vector of entrop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295200" y="296064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mplexity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gener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Discrete Bulk Reconstruction Problem: in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 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246240" y="5627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oes every true holographic entropy inequality have a proof via “cutting and pasting” geodes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7"/>
          <p:cNvSpPr/>
          <p:nvPr/>
        </p:nvSpPr>
        <p:spPr>
          <a:xfrm>
            <a:off x="380880" y="2151000"/>
            <a:ext cx="8610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onstructing the bulk from the boundary can b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exponentially comple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—as hard as distinguishing pseudorandom states from Haar-random—if one wants to know geometry behind event horizons, e.g., volume of wormholes or effect of shock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11240" y="336600"/>
            <a:ext cx="888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uland-Fefferman-Vazirani 2019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+ Susskind 20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085760" y="5073480"/>
            <a:ext cx="69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(Does this challenge the Quantum Extended Church-Turing Thesis?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768920" y="1081080"/>
            <a:ext cx="4248000" cy="4151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380880" y="1219320"/>
            <a:ext cx="4876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 the special case of a single 1D boundary, giv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ntiguous entropy d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satisf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trong Subaddi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 a graph model of the bulk can be constructed 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time.  Our model 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plan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univer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 and ha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vertices (the information-theoretic minim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Result: Partial Converse to BF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7"/>
          <p:cNvSpPr/>
          <p:nvPr/>
        </p:nvSpPr>
        <p:spPr>
          <a:xfrm>
            <a:off x="380880" y="168264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If you want to force the bulk to have a nontrivial topology, you need to provide data abou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n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-contiguous boundary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ormhole Bust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Wormholes may be lurking in the universe – and new studies are proposing  ways of finding them"/>
          <p:cNvPicPr/>
          <p:nvPr/>
        </p:nvPicPr>
        <p:blipFill>
          <a:blip r:embed="rId1"/>
          <a:stretch/>
        </p:blipFill>
        <p:spPr>
          <a:xfrm rot="1757400">
            <a:off x="4757400" y="1905120"/>
            <a:ext cx="3251160" cy="3429000"/>
          </a:xfrm>
          <a:prstGeom prst="rect">
            <a:avLst/>
          </a:prstGeom>
          <a:ln w="0">
            <a:noFill/>
          </a:ln>
        </p:spPr>
      </p:pic>
      <p:sp>
        <p:nvSpPr>
          <p:cNvPr id="68" name="&quot;Not Allowed&quot; Symbol 1"/>
          <p:cNvSpPr/>
          <p:nvPr/>
        </p:nvSpPr>
        <p:spPr>
          <a:xfrm>
            <a:off x="4267080" y="1523880"/>
            <a:ext cx="4191120" cy="4191120"/>
          </a:xfrm>
          <a:custGeom>
            <a:avLst/>
            <a:gdLst/>
            <a:ahLst/>
            <a:rect l="l" t="t" r="r" b="b"/>
            <a:pathLst>
              <a:path w="4191000" h="4191000">
                <a:moveTo>
                  <a:pt x="0" y="2095500"/>
                </a:moveTo>
                <a:cubicBezTo>
                  <a:pt x="0" y="938187"/>
                  <a:pt x="938187" y="0"/>
                  <a:pt x="2095500" y="0"/>
                </a:cubicBezTo>
                <a:cubicBezTo>
                  <a:pt x="3252813" y="0"/>
                  <a:pt x="4191000" y="938187"/>
                  <a:pt x="4191000" y="2095500"/>
                </a:cubicBezTo>
                <a:cubicBezTo>
                  <a:pt x="4191000" y="3252813"/>
                  <a:pt x="3252813" y="4191000"/>
                  <a:pt x="2095500" y="4191000"/>
                </a:cubicBezTo>
                <a:cubicBezTo>
                  <a:pt x="938187" y="4191000"/>
                  <a:pt x="0" y="3252813"/>
                  <a:pt x="0" y="2095500"/>
                </a:cubicBezTo>
                <a:close/>
                <a:moveTo>
                  <a:pt x="3384181" y="3034020"/>
                </a:moveTo>
                <a:cubicBezTo>
                  <a:pt x="3846236" y="2399573"/>
                  <a:pt x="3777765" y="1523206"/>
                  <a:pt x="3222780" y="968221"/>
                </a:cubicBezTo>
                <a:cubicBezTo>
                  <a:pt x="2667795" y="413236"/>
                  <a:pt x="1791428" y="344765"/>
                  <a:pt x="1156981" y="806820"/>
                </a:cubicBezTo>
                <a:lnTo>
                  <a:pt x="3384181" y="3034020"/>
                </a:lnTo>
                <a:close/>
                <a:moveTo>
                  <a:pt x="806819" y="1156980"/>
                </a:moveTo>
                <a:cubicBezTo>
                  <a:pt x="344764" y="1791427"/>
                  <a:pt x="413235" y="2667794"/>
                  <a:pt x="968220" y="3222779"/>
                </a:cubicBezTo>
                <a:cubicBezTo>
                  <a:pt x="1523205" y="3777764"/>
                  <a:pt x="2399572" y="3846235"/>
                  <a:pt x="3034019" y="3384180"/>
                </a:cubicBezTo>
                <a:lnTo>
                  <a:pt x="806819" y="11569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yu-Takayanagi (RT)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"/>
          <p:cNvSpPr/>
          <p:nvPr/>
        </p:nvSpPr>
        <p:spPr>
          <a:xfrm>
            <a:off x="770040" y="2427120"/>
            <a:ext cx="4114800" cy="4114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2"/>
          <p:cNvSpPr/>
          <p:nvPr/>
        </p:nvSpPr>
        <p:spPr>
          <a:xfrm rot="16409400">
            <a:off x="776880" y="2432880"/>
            <a:ext cx="4100400" cy="4105080"/>
          </a:xfrm>
          <a:custGeom>
            <a:avLst/>
            <a:gdLst/>
            <a:ahLst/>
            <a:rect l="l" t="t" r="r" b="b"/>
            <a:pathLst>
              <a:path stroke="0" w="4101337" h="4106173">
                <a:moveTo>
                  <a:pt x="2050668" y="0"/>
                </a:moveTo>
                <a:cubicBezTo>
                  <a:pt x="3183221" y="0"/>
                  <a:pt x="4101337" y="919198"/>
                  <a:pt x="4101337" y="2053087"/>
                </a:cubicBezTo>
                <a:lnTo>
                  <a:pt x="2050669" y="2053087"/>
                </a:lnTo>
                <a:cubicBezTo>
                  <a:pt x="2050669" y="1368725"/>
                  <a:pt x="2050668" y="684362"/>
                  <a:pt x="2050668" y="0"/>
                </a:cubicBezTo>
                <a:close/>
              </a:path>
              <a:path fill="none" w="4101337" h="4106173">
                <a:moveTo>
                  <a:pt x="2050668" y="0"/>
                </a:moveTo>
                <a:cubicBezTo>
                  <a:pt x="3183221" y="0"/>
                  <a:pt x="4101337" y="919198"/>
                  <a:pt x="4101337" y="2053087"/>
                </a:cubicBezTo>
              </a:path>
            </a:pathLst>
          </a:custGeom>
          <a:noFill/>
          <a:ln w="63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: Shape 5"/>
          <p:cNvSpPr/>
          <p:nvPr/>
        </p:nvSpPr>
        <p:spPr>
          <a:xfrm>
            <a:off x="765000" y="2438280"/>
            <a:ext cx="2152800" cy="1889280"/>
          </a:xfrm>
          <a:custGeom>
            <a:avLst/>
            <a:gdLst/>
            <a:ahLst/>
            <a:rect l="l" t="t" r="r" b="b"/>
            <a:pathLst>
              <a:path w="2153920" h="1889760">
                <a:moveTo>
                  <a:pt x="0" y="1889760"/>
                </a:moveTo>
                <a:cubicBezTo>
                  <a:pt x="704426" y="1747520"/>
                  <a:pt x="1408853" y="1605280"/>
                  <a:pt x="1767840" y="1290320"/>
                </a:cubicBezTo>
                <a:cubicBezTo>
                  <a:pt x="2126827" y="975360"/>
                  <a:pt x="2140373" y="487680"/>
                  <a:pt x="21539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711440" y="303696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257800" y="1584360"/>
            <a:ext cx="3317760" cy="18284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  <a:ea typeface="Calibri"/>
              </a:rPr>
              <a:t>S(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  <a:ea typeface="Calibri"/>
              </a:rPr>
              <a:t>) := S(</a:t>
            </a:r>
            <a:r>
              <a:rPr b="1" lang="en-US" sz="50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n-US" sz="5000" spc="-1" strike="noStrike" baseline="-25000">
                <a:solidFill>
                  <a:srgbClr val="00b0f0"/>
                </a:solidFill>
                <a:latin typeface="Calibri"/>
                <a:ea typeface="Calibri"/>
              </a:rPr>
              <a:t>R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  <a:ea typeface="Calibri"/>
              </a:rPr>
              <a:t>) = Length(</a:t>
            </a:r>
            <a:r>
              <a:rPr b="1" lang="en-US" sz="5000" spc="-1" strike="noStrike">
                <a:solidFill>
                  <a:srgbClr val="ff0000"/>
                </a:solidFill>
                <a:latin typeface="Calibri"/>
                <a:ea typeface="Calibri"/>
              </a:rPr>
              <a:t>g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Calibri"/>
                <a:ea typeface="Calibri"/>
              </a:rPr>
              <a:t>R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382840" y="3621240"/>
            <a:ext cx="888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g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Calibri"/>
                <a:ea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952560" y="2058840"/>
            <a:ext cx="888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n-US" sz="4000" spc="-1" strike="noStrike" baseline="-25000">
                <a:solidFill>
                  <a:srgbClr val="00b0f0"/>
                </a:solidFill>
                <a:latin typeface="Calibri"/>
                <a:ea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257800" y="464832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(Up to scaling factors and corrections that won’t concern 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5257800" y="3438360"/>
            <a:ext cx="340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ere S = von Neumann ent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1330200" y="4251240"/>
            <a:ext cx="317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inimal surface / geode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-79200" y="1762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Reduced density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7"/>
          <p:cNvSpPr/>
          <p:nvPr/>
        </p:nvSpPr>
        <p:spPr>
          <a:xfrm>
            <a:off x="380880" y="141768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n model the bulk by 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weighted undirected gra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G.  RT surfaces correspond to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min cu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in 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31760" y="133200"/>
            <a:ext cx="888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Bao, Nezami, Ooguri, Stoica, Sully, Walter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738520" y="2725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"/>
          <p:cNvSpPr/>
          <p:nvPr/>
        </p:nvSpPr>
        <p:spPr>
          <a:xfrm>
            <a:off x="2743200" y="2693880"/>
            <a:ext cx="3581280" cy="358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791320" y="2693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172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284720" y="6273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362320" y="4987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3267000" y="3219480"/>
            <a:ext cx="619200" cy="590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 flipH="1">
            <a:off x="5257800" y="3219480"/>
            <a:ext cx="533520" cy="601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4"/>
          <p:cNvSpPr/>
          <p:nvPr/>
        </p:nvSpPr>
        <p:spPr>
          <a:xfrm>
            <a:off x="4494240" y="5410080"/>
            <a:ext cx="0" cy="862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6"/>
          <p:cNvSpPr/>
          <p:nvPr/>
        </p:nvSpPr>
        <p:spPr>
          <a:xfrm flipH="1">
            <a:off x="2901960" y="4821120"/>
            <a:ext cx="797040" cy="389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8"/>
          <p:cNvSpPr/>
          <p:nvPr/>
        </p:nvSpPr>
        <p:spPr>
          <a:xfrm flipH="1" flipV="1">
            <a:off x="5368680" y="4856040"/>
            <a:ext cx="803160" cy="354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3859200" y="3805200"/>
            <a:ext cx="1398600" cy="1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5"/>
          <p:cNvSpPr/>
          <p:nvPr/>
        </p:nvSpPr>
        <p:spPr>
          <a:xfrm flipV="1">
            <a:off x="3705120" y="3797280"/>
            <a:ext cx="181080" cy="1030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7"/>
          <p:cNvSpPr/>
          <p:nvPr/>
        </p:nvSpPr>
        <p:spPr>
          <a:xfrm flipH="1" flipV="1">
            <a:off x="5257800" y="3805200"/>
            <a:ext cx="100080" cy="1015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9"/>
          <p:cNvSpPr/>
          <p:nvPr/>
        </p:nvSpPr>
        <p:spPr>
          <a:xfrm flipH="1" flipV="1">
            <a:off x="3720960" y="4808160"/>
            <a:ext cx="758880" cy="598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31"/>
          <p:cNvSpPr/>
          <p:nvPr/>
        </p:nvSpPr>
        <p:spPr>
          <a:xfrm flipH="1">
            <a:off x="4482720" y="4826160"/>
            <a:ext cx="885960" cy="566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3"/>
          <p:cNvSpPr/>
          <p:nvPr/>
        </p:nvSpPr>
        <p:spPr>
          <a:xfrm>
            <a:off x="3772080" y="36831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4"/>
          <p:cNvSpPr/>
          <p:nvPr/>
        </p:nvSpPr>
        <p:spPr>
          <a:xfrm>
            <a:off x="5145120" y="37227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5"/>
          <p:cNvSpPr/>
          <p:nvPr/>
        </p:nvSpPr>
        <p:spPr>
          <a:xfrm>
            <a:off x="3614760" y="47163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6"/>
          <p:cNvSpPr/>
          <p:nvPr/>
        </p:nvSpPr>
        <p:spPr>
          <a:xfrm>
            <a:off x="5243400" y="47419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7"/>
          <p:cNvSpPr/>
          <p:nvPr/>
        </p:nvSpPr>
        <p:spPr>
          <a:xfrm>
            <a:off x="4373640" y="52689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8"/>
          <p:cNvSpPr/>
          <p:nvPr/>
        </p:nvSpPr>
        <p:spPr>
          <a:xfrm>
            <a:off x="3354480" y="3017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9"/>
          <p:cNvSpPr/>
          <p:nvPr/>
        </p:nvSpPr>
        <p:spPr>
          <a:xfrm>
            <a:off x="5200560" y="30495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0"/>
          <p:cNvSpPr/>
          <p:nvPr/>
        </p:nvSpPr>
        <p:spPr>
          <a:xfrm>
            <a:off x="5584680" y="456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1"/>
          <p:cNvSpPr/>
          <p:nvPr/>
        </p:nvSpPr>
        <p:spPr>
          <a:xfrm>
            <a:off x="2975040" y="4532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2"/>
          <p:cNvSpPr/>
          <p:nvPr/>
        </p:nvSpPr>
        <p:spPr>
          <a:xfrm>
            <a:off x="4383000" y="557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3"/>
          <p:cNvSpPr/>
          <p:nvPr/>
        </p:nvSpPr>
        <p:spPr>
          <a:xfrm>
            <a:off x="4344840" y="3309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4"/>
          <p:cNvSpPr/>
          <p:nvPr/>
        </p:nvSpPr>
        <p:spPr>
          <a:xfrm>
            <a:off x="523224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5"/>
          <p:cNvSpPr/>
          <p:nvPr/>
        </p:nvSpPr>
        <p:spPr>
          <a:xfrm>
            <a:off x="4707000" y="5008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6"/>
          <p:cNvSpPr/>
          <p:nvPr/>
        </p:nvSpPr>
        <p:spPr>
          <a:xfrm>
            <a:off x="3692520" y="4968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7"/>
          <p:cNvSpPr/>
          <p:nvPr/>
        </p:nvSpPr>
        <p:spPr>
          <a:xfrm>
            <a:off x="336852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48"/>
          <p:cNvSpPr/>
          <p:nvPr/>
        </p:nvSpPr>
        <p:spPr>
          <a:xfrm>
            <a:off x="2854440" y="2733840"/>
            <a:ext cx="1430280" cy="1141200"/>
          </a:xfrm>
          <a:custGeom>
            <a:avLst/>
            <a:gdLst/>
            <a:ahLst/>
            <a:rect l="l" t="t" r="r" b="b"/>
            <a:pathLst>
              <a:path w="1341120" h="1076960">
                <a:moveTo>
                  <a:pt x="0" y="1076960"/>
                </a:moveTo>
                <a:cubicBezTo>
                  <a:pt x="320040" y="1060026"/>
                  <a:pt x="640080" y="1043093"/>
                  <a:pt x="863600" y="863600"/>
                </a:cubicBezTo>
                <a:cubicBezTo>
                  <a:pt x="1087120" y="684107"/>
                  <a:pt x="1214120" y="342053"/>
                  <a:pt x="1341120" y="0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: Shape 49"/>
          <p:cNvSpPr/>
          <p:nvPr/>
        </p:nvSpPr>
        <p:spPr>
          <a:xfrm>
            <a:off x="4943520" y="2803680"/>
            <a:ext cx="695160" cy="3089160"/>
          </a:xfrm>
          <a:custGeom>
            <a:avLst/>
            <a:gdLst/>
            <a:ahLst/>
            <a:rect l="l" t="t" r="r" b="b"/>
            <a:pathLst>
              <a:path w="695519" h="3088640">
                <a:moveTo>
                  <a:pt x="207839" y="0"/>
                </a:moveTo>
                <a:cubicBezTo>
                  <a:pt x="75759" y="545253"/>
                  <a:pt x="-56321" y="1090507"/>
                  <a:pt x="24959" y="1605280"/>
                </a:cubicBezTo>
                <a:cubicBezTo>
                  <a:pt x="106239" y="2120053"/>
                  <a:pt x="400879" y="2604346"/>
                  <a:pt x="695519" y="3088640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0"/>
          <p:cNvSpPr/>
          <p:nvPr/>
        </p:nvSpPr>
        <p:spPr>
          <a:xfrm>
            <a:off x="1044720" y="354816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S(A)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1"/>
          <p:cNvSpPr/>
          <p:nvPr/>
        </p:nvSpPr>
        <p:spPr>
          <a:xfrm>
            <a:off x="5413320" y="5792760"/>
            <a:ext cx="23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S(BC)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7"/>
          <p:cNvSpPr/>
          <p:nvPr/>
        </p:nvSpPr>
        <p:spPr>
          <a:xfrm>
            <a:off x="380880" y="1295280"/>
            <a:ext cx="86108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iven as input N “atomic boundary regions” 1,…,N, subsets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…,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[N], and entropy S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for each i.  Find a graph G, with N distinguished boundary vertices 1,…,N, such that for each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 the weight of the min-cut separating  from [N]\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is S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.  Or output that no such graph ex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11240" y="336600"/>
            <a:ext cx="88804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  <a:ea typeface="Arial"/>
              </a:rPr>
              <a:t>Discrete Bulk Reconstruction Proble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838080" y="4648320"/>
            <a:ext cx="7277400" cy="15562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of the classic min-cut problem!  Instead of “given a graph find a min-cut,” it’s “given the min-cuts, find a grap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-193680" y="123840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4724280" y="1600200"/>
            <a:ext cx="4114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iven 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boundary regions, form al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possible intersections of the RT regions.  At most 1 vertex needed in each.  Then solve linear programs for the edge weights.  Takes “only” exp(exp(exp(N)))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31760" y="127080"/>
            <a:ext cx="888048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  <a:ea typeface="Arial"/>
              </a:rPr>
              <a:t>DBRP Is Computable!</a:t>
            </a:r>
            <a:br>
              <a:rPr sz="43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Implicit in Bao et al. 2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990720" y="5545080"/>
            <a:ext cx="3124080" cy="1068840"/>
          </a:xfrm>
          <a:prstGeom prst="rect">
            <a:avLst/>
          </a:prstGeom>
          <a:solidFill>
            <a:srgbClr val="ffffcc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f course we’d like to do bet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 Aaronson</cp:lastModifiedBy>
  <dcterms:modified xsi:type="dcterms:W3CDTF">2022-12-08T01:10:25Z</dcterms:modified>
  <cp:revision>388</cp:revision>
  <dc:subject/>
  <dc:title>The Future of Computer Science</dc:title>
</cp:coreProperties>
</file>