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A68-BE17-43AD-8DE5-9EA22C7B10E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1EE3-F85B-4393-BD14-2E470D1A56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y theorist would know that the real question is, what CAN’T you do wit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B730-9303-42A7-8DCB-73746B0D7A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082-BD6D-4EE3-A41F-14D4C51831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220-9C4E-4CB8-AD8A-9200F0BE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309-6842-41AE-9BE9-D9828C2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711-EC19-419A-BC58-5E32507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D8B-8066-40E6-A6FE-618A4BD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A68-CD99-47BE-83E8-900257E3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E52-742C-4766-9A72-06DBE9C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1A2-095F-4FA7-8D4B-A2FBBA5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EA1-F5A1-4402-A24E-E505B7CF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32E-51C4-4601-A809-2583CBA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C87-00C1-44F5-8006-C1D7C8C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8E8-6C63-4F96-9857-23680A8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ABF-183C-458F-A194-2BF0AF7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97BE-4858-461A-821B-D34DB3F5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gicomp.mp4" descr=""/>
          <p:cNvPicPr/>
          <p:nvPr/>
        </p:nvPicPr>
        <p:blipFill>
          <a:blip r:embed="rId1"/>
          <a:stretch/>
        </p:blipFill>
        <p:spPr>
          <a:xfrm>
            <a:off x="142236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Computational Power of Charles’s Digi-Comp II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7200" y="1976400"/>
            <a:ext cx="342900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Charles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It can multiply!  It can divide!  It can sor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486400" y="3530520"/>
            <a:ext cx="3429000" cy="100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M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Real question is, what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a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it do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7160" y="5105520"/>
            <a:ext cx="701028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s this silly device with metal balls a universal computer?  If so, wow!  If not, what prevents it from being 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"/>
          <p:cNvSpPr/>
          <p:nvPr/>
        </p:nvSpPr>
        <p:spPr>
          <a:xfrm>
            <a:off x="38088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(Comparator Circuit): Complexity class defined by Subramanian in 1990, betwee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L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br>
              <a:rPr sz="3000"/>
            </a:b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	</a:t>
            </a:r>
            <a:r>
              <a:rPr b="1" lang="en-CA" sz="2400" spc="-1" strike="noStrike">
                <a:solidFill>
                  <a:srgbClr val="009900"/>
                </a:solidFill>
                <a:latin typeface="Calibri"/>
                <a:ea typeface="Arial"/>
              </a:rPr>
              <a:t>Includes Stable Marriage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156200" y="2897280"/>
            <a:ext cx="16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P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80880" y="1522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 natural idealization of Charles’s machine solves exactly the problems i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8600" y="2886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DigiC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248520" y="28749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om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290840" y="45846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4551480" y="45846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481320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5073480" y="4584600"/>
            <a:ext cx="2620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533556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3952800" y="5584680"/>
            <a:ext cx="2620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4214880" y="5584680"/>
            <a:ext cx="2602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5194440" y="557532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5454720" y="557532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5716440" y="557532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40831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49435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5205240" y="36702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1"/>
          <p:cNvSpPr/>
          <p:nvPr/>
        </p:nvSpPr>
        <p:spPr>
          <a:xfrm>
            <a:off x="546588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2"/>
          <p:cNvSpPr/>
          <p:nvPr/>
        </p:nvSpPr>
        <p:spPr>
          <a:xfrm>
            <a:off x="5727600" y="36702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586320" y="5956200"/>
            <a:ext cx="11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005440" y="595620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35"/>
          <p:cNvCxnSpPr>
            <a:endCxn id="59" idx="0"/>
          </p:cNvCxnSpPr>
          <p:nvPr/>
        </p:nvCxnSpPr>
        <p:spPr>
          <a:xfrm>
            <a:off x="4271760" y="3930120"/>
            <a:ext cx="410040" cy="65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6" name="Straight Arrow Connector 37"/>
          <p:cNvCxnSpPr/>
          <p:nvPr/>
        </p:nvCxnSpPr>
        <p:spPr>
          <a:xfrm>
            <a:off x="5194080" y="4844520"/>
            <a:ext cx="432360" cy="73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7" name="Straight Arrow Connector 39"/>
          <p:cNvCxnSpPr/>
          <p:nvPr/>
        </p:nvCxnSpPr>
        <p:spPr>
          <a:xfrm flipH="1">
            <a:off x="4223880" y="4835160"/>
            <a:ext cx="448560" cy="74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8" name="Straight Arrow Connector 42"/>
          <p:cNvCxnSpPr>
            <a:endCxn id="61" idx="0"/>
          </p:cNvCxnSpPr>
          <p:nvPr/>
        </p:nvCxnSpPr>
        <p:spPr>
          <a:xfrm flipH="1">
            <a:off x="5204880" y="3919320"/>
            <a:ext cx="2325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9" name="Text Box 10"/>
          <p:cNvSpPr/>
          <p:nvPr/>
        </p:nvSpPr>
        <p:spPr>
          <a:xfrm>
            <a:off x="7143840" y="4425840"/>
            <a:ext cx="1295280" cy="55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50"/>
          <p:cNvCxnSpPr/>
          <p:nvPr/>
        </p:nvCxnSpPr>
        <p:spPr>
          <a:xfrm>
            <a:off x="739260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Straight Arrow Connector 54"/>
          <p:cNvCxnSpPr/>
          <p:nvPr/>
        </p:nvCxnSpPr>
        <p:spPr>
          <a:xfrm>
            <a:off x="815472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Straight Arrow Connector 55"/>
          <p:cNvCxnSpPr/>
          <p:nvPr/>
        </p:nvCxnSpPr>
        <p:spPr>
          <a:xfrm>
            <a:off x="739260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Straight Arrow Connector 56"/>
          <p:cNvCxnSpPr/>
          <p:nvPr/>
        </p:nvCxnSpPr>
        <p:spPr>
          <a:xfrm>
            <a:off x="815472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4" name="Text Box 10"/>
          <p:cNvSpPr/>
          <p:nvPr/>
        </p:nvSpPr>
        <p:spPr>
          <a:xfrm>
            <a:off x="7164360" y="363060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907400" y="362124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164360" y="520848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907400" y="519732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cii_6"/>
          <p:cNvPicPr/>
          <p:nvPr/>
        </p:nvPicPr>
        <p:blipFill>
          <a:blip r:embed="rId1"/>
          <a:stretch/>
        </p:blipFill>
        <p:spPr>
          <a:xfrm>
            <a:off x="-1295280" y="3778200"/>
            <a:ext cx="4414680" cy="3309840"/>
          </a:xfrm>
          <a:prstGeom prst="rect">
            <a:avLst/>
          </a:prstGeom>
          <a:ln w="0">
            <a:noFill/>
          </a:ln>
        </p:spPr>
      </p:pic>
      <p:sp>
        <p:nvSpPr>
          <p:cNvPr id="89" name="Left-Right Arrow 53"/>
          <p:cNvSpPr/>
          <p:nvPr/>
        </p:nvSpPr>
        <p:spPr>
          <a:xfrm>
            <a:off x="2874960" y="415908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eft-Right Arrow 63"/>
          <p:cNvSpPr/>
          <p:nvPr/>
        </p:nvSpPr>
        <p:spPr>
          <a:xfrm>
            <a:off x="5843520" y="411624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WACI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2171880" cy="1596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3048120" y="3338640"/>
            <a:ext cx="579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: So passé.  So last dec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3352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Build theories of computing of all sorts of physical devices.  Catalog the strange things you can get, other than “standard” computational univers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52320" y="50148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What other systems fall short of universality in interesting ways?  What needs to be added to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mak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them univers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</cp:lastModifiedBy>
  <dcterms:modified xsi:type="dcterms:W3CDTF">2014-06-24T14:13:19Z</dcterms:modified>
  <cp:revision>3855</cp:revision>
  <dc:subject/>
  <dc:title>Slide 1</dc:title>
</cp:coreProperties>
</file>