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DC0B-3FD0-4612-BFEB-7FEAC2A43101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38A0-AE86-4E35-AE1A-15EFBC72111F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ny theorist would know that the real question is, what CAN’T you do with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C576-E7C7-4737-B109-270126FD015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1B64-44CB-4F91-846F-98067BD6798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90C4-41A4-4AB7-9B8D-EC8901ACE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C70B-2D4E-49DC-8203-F7DB8AB5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2240-87EE-4364-91B9-6F4AFD267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7A04-BF1E-4ADF-89B3-07099E201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42AF-4DE1-4451-948C-2AD3E389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12D0-7996-4CDC-8B70-83ED3E87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0E04-83E6-479D-8D26-F56A29AD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B2DF-05FD-401B-9E20-D20DD09B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4F87-1F13-470A-BA23-668E99CA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1B2D-D9B0-44A7-AB3A-140F9646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C220-520D-4483-A52F-EEC4489C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2560-6B98-47A9-982C-03BCDDF8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3208-D8E2-4B1D-9106-FFAA012B6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digicomp.mp4" descr=""/>
          <p:cNvPicPr/>
          <p:nvPr/>
        </p:nvPicPr>
        <p:blipFill>
          <a:blip r:embed="rId1"/>
          <a:stretch/>
        </p:blipFill>
        <p:spPr>
          <a:xfrm>
            <a:off x="1422360" y="1676520"/>
            <a:ext cx="6299280" cy="4724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The Computational Power of Charles’s Digi-Comp II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457200" y="1976400"/>
            <a:ext cx="3429000" cy="1464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Arial"/>
              </a:rPr>
              <a:t>Charles: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 “It can multiply!  It can divide!  It can sort!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5486400" y="3530520"/>
            <a:ext cx="3429000" cy="100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Arial"/>
              </a:rPr>
              <a:t>Me: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 “Real question is, what </a:t>
            </a:r>
            <a:r>
              <a:rPr b="0" i="1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can’t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 it do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1127160" y="5105520"/>
            <a:ext cx="7010280" cy="1464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Is this silly device with metal balls a universal computer?  If so, wow!  If not, what prevents it from being on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0"/>
          <p:cNvSpPr/>
          <p:nvPr/>
        </p:nvSpPr>
        <p:spPr>
          <a:xfrm>
            <a:off x="380880" y="1295280"/>
            <a:ext cx="8001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Arial"/>
              </a:rPr>
              <a:t>CC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 (Comparator Circuit): Complexity class defined by Subramanian in 1990, between 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Arial"/>
              </a:rPr>
              <a:t>NL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 and 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Arial"/>
              </a:rPr>
              <a:t>P</a:t>
            </a:r>
            <a:br>
              <a:rPr sz="3000"/>
            </a:b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Arial"/>
              </a:rPr>
              <a:t>	</a:t>
            </a:r>
            <a:r>
              <a:rPr b="1" lang="en-CA" sz="2400" spc="-1" strike="noStrike">
                <a:solidFill>
                  <a:srgbClr val="009900"/>
                </a:solidFill>
                <a:latin typeface="Calibri"/>
                <a:ea typeface="Arial"/>
              </a:rPr>
              <a:t>Includes Stable Marriage and mo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4156200" y="2897280"/>
            <a:ext cx="168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Pi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380880" y="15228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0000"/>
                </a:solidFill>
                <a:latin typeface="Calibri"/>
                <a:ea typeface="Arial"/>
              </a:rPr>
              <a:t>Theorem (A.):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 A natural idealization of Charles’s machine solves exactly the problems in </a:t>
            </a:r>
            <a:r>
              <a:rPr b="1" lang="en-CA" sz="3000" spc="-1" strike="noStrike">
                <a:solidFill>
                  <a:srgbClr val="7030a0"/>
                </a:solidFill>
                <a:latin typeface="Calibri"/>
                <a:ea typeface="Arial"/>
              </a:rPr>
              <a:t>CC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228600" y="2886120"/>
            <a:ext cx="266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DigiCom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6248520" y="287496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Comparat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7"/>
          <p:cNvSpPr/>
          <p:nvPr/>
        </p:nvSpPr>
        <p:spPr>
          <a:xfrm>
            <a:off x="4290840" y="4584600"/>
            <a:ext cx="260640" cy="260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6"/>
          <p:cNvSpPr/>
          <p:nvPr/>
        </p:nvSpPr>
        <p:spPr>
          <a:xfrm>
            <a:off x="4551480" y="4584600"/>
            <a:ext cx="261720" cy="260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0"/>
          <p:cNvSpPr/>
          <p:nvPr/>
        </p:nvSpPr>
        <p:spPr>
          <a:xfrm>
            <a:off x="4813200" y="4584600"/>
            <a:ext cx="260280" cy="260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1"/>
          <p:cNvSpPr/>
          <p:nvPr/>
        </p:nvSpPr>
        <p:spPr>
          <a:xfrm>
            <a:off x="5073480" y="4584600"/>
            <a:ext cx="262080" cy="260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22"/>
          <p:cNvSpPr/>
          <p:nvPr/>
        </p:nvSpPr>
        <p:spPr>
          <a:xfrm>
            <a:off x="5335560" y="4584600"/>
            <a:ext cx="260280" cy="260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23"/>
          <p:cNvSpPr/>
          <p:nvPr/>
        </p:nvSpPr>
        <p:spPr>
          <a:xfrm>
            <a:off x="3952800" y="5584680"/>
            <a:ext cx="262080" cy="262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4"/>
          <p:cNvSpPr/>
          <p:nvPr/>
        </p:nvSpPr>
        <p:spPr>
          <a:xfrm>
            <a:off x="4214880" y="5584680"/>
            <a:ext cx="260280" cy="262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5"/>
          <p:cNvSpPr/>
          <p:nvPr/>
        </p:nvSpPr>
        <p:spPr>
          <a:xfrm>
            <a:off x="5194440" y="5575320"/>
            <a:ext cx="260280" cy="260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6"/>
          <p:cNvSpPr/>
          <p:nvPr/>
        </p:nvSpPr>
        <p:spPr>
          <a:xfrm>
            <a:off x="5454720" y="5575320"/>
            <a:ext cx="261720" cy="260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7"/>
          <p:cNvSpPr/>
          <p:nvPr/>
        </p:nvSpPr>
        <p:spPr>
          <a:xfrm>
            <a:off x="5716440" y="5575320"/>
            <a:ext cx="260640" cy="260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8"/>
          <p:cNvSpPr/>
          <p:nvPr/>
        </p:nvSpPr>
        <p:spPr>
          <a:xfrm>
            <a:off x="4083120" y="3670200"/>
            <a:ext cx="261720" cy="260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9"/>
          <p:cNvSpPr/>
          <p:nvPr/>
        </p:nvSpPr>
        <p:spPr>
          <a:xfrm>
            <a:off x="4943520" y="3670200"/>
            <a:ext cx="261720" cy="260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30"/>
          <p:cNvSpPr/>
          <p:nvPr/>
        </p:nvSpPr>
        <p:spPr>
          <a:xfrm>
            <a:off x="5205240" y="3670200"/>
            <a:ext cx="260640" cy="260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31"/>
          <p:cNvSpPr/>
          <p:nvPr/>
        </p:nvSpPr>
        <p:spPr>
          <a:xfrm>
            <a:off x="5465880" y="3670200"/>
            <a:ext cx="261720" cy="260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32"/>
          <p:cNvSpPr/>
          <p:nvPr/>
        </p:nvSpPr>
        <p:spPr>
          <a:xfrm>
            <a:off x="5727600" y="3670200"/>
            <a:ext cx="260280" cy="260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3586320" y="5956200"/>
            <a:ext cx="118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1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x/2</a:t>
            </a:r>
            <a:r>
              <a:rPr b="1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5005440" y="5956200"/>
            <a:ext cx="118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1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x/2</a:t>
            </a:r>
            <a:r>
              <a:rPr b="1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Straight Arrow Connector 35"/>
          <p:cNvCxnSpPr>
            <a:endCxn id="59" idx="0"/>
          </p:cNvCxnSpPr>
          <p:nvPr/>
        </p:nvCxnSpPr>
        <p:spPr>
          <a:xfrm>
            <a:off x="4271760" y="3930120"/>
            <a:ext cx="410040" cy="65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76" name="Straight Arrow Connector 37"/>
          <p:cNvCxnSpPr/>
          <p:nvPr/>
        </p:nvCxnSpPr>
        <p:spPr>
          <a:xfrm>
            <a:off x="5194080" y="4844520"/>
            <a:ext cx="432360" cy="73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77" name="Straight Arrow Connector 39"/>
          <p:cNvCxnSpPr/>
          <p:nvPr/>
        </p:nvCxnSpPr>
        <p:spPr>
          <a:xfrm flipH="1">
            <a:off x="4223880" y="4835160"/>
            <a:ext cx="448560" cy="749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78" name="Straight Arrow Connector 42"/>
          <p:cNvCxnSpPr>
            <a:endCxn id="61" idx="0"/>
          </p:cNvCxnSpPr>
          <p:nvPr/>
        </p:nvCxnSpPr>
        <p:spPr>
          <a:xfrm flipH="1">
            <a:off x="5204880" y="3919320"/>
            <a:ext cx="232560" cy="66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79" name="Text Box 10"/>
          <p:cNvSpPr/>
          <p:nvPr/>
        </p:nvSpPr>
        <p:spPr>
          <a:xfrm>
            <a:off x="7143840" y="4425840"/>
            <a:ext cx="1295280" cy="55080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S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Straight Arrow Connector 50"/>
          <p:cNvCxnSpPr/>
          <p:nvPr/>
        </p:nvCxnSpPr>
        <p:spPr>
          <a:xfrm>
            <a:off x="7392600" y="4057560"/>
            <a:ext cx="1080" cy="3657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81" name="Straight Arrow Connector 54"/>
          <p:cNvCxnSpPr/>
          <p:nvPr/>
        </p:nvCxnSpPr>
        <p:spPr>
          <a:xfrm>
            <a:off x="8154720" y="4057560"/>
            <a:ext cx="1080" cy="3657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82" name="Straight Arrow Connector 55"/>
          <p:cNvCxnSpPr/>
          <p:nvPr/>
        </p:nvCxnSpPr>
        <p:spPr>
          <a:xfrm>
            <a:off x="7392600" y="4979520"/>
            <a:ext cx="1080" cy="366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83" name="Straight Arrow Connector 56"/>
          <p:cNvCxnSpPr/>
          <p:nvPr/>
        </p:nvCxnSpPr>
        <p:spPr>
          <a:xfrm>
            <a:off x="8154720" y="4979520"/>
            <a:ext cx="1080" cy="3661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84" name="Text Box 10"/>
          <p:cNvSpPr/>
          <p:nvPr/>
        </p:nvSpPr>
        <p:spPr>
          <a:xfrm>
            <a:off x="7164360" y="3630600"/>
            <a:ext cx="49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7907400" y="3621240"/>
            <a:ext cx="49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7164360" y="5208480"/>
            <a:ext cx="49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7907400" y="5197320"/>
            <a:ext cx="49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dcii_6"/>
          <p:cNvPicPr/>
          <p:nvPr/>
        </p:nvPicPr>
        <p:blipFill>
          <a:blip r:embed="rId1"/>
          <a:stretch/>
        </p:blipFill>
        <p:spPr>
          <a:xfrm>
            <a:off x="-1295280" y="3778200"/>
            <a:ext cx="4414680" cy="3309840"/>
          </a:xfrm>
          <a:prstGeom prst="rect">
            <a:avLst/>
          </a:prstGeom>
          <a:ln w="0">
            <a:noFill/>
          </a:ln>
        </p:spPr>
      </p:pic>
      <p:sp>
        <p:nvSpPr>
          <p:cNvPr id="89" name="Left-Right Arrow 53"/>
          <p:cNvSpPr/>
          <p:nvPr/>
        </p:nvSpPr>
        <p:spPr>
          <a:xfrm>
            <a:off x="2874960" y="4159080"/>
            <a:ext cx="1143000" cy="1235160"/>
          </a:xfrm>
          <a:prstGeom prst="leftRightArrow">
            <a:avLst>
              <a:gd name="adj1" fmla="val 33944"/>
              <a:gd name="adj2" fmla="val 29759"/>
            </a:avLst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eft-Right Arrow 63"/>
          <p:cNvSpPr/>
          <p:nvPr/>
        </p:nvSpPr>
        <p:spPr>
          <a:xfrm>
            <a:off x="5843520" y="4116240"/>
            <a:ext cx="1143000" cy="1235160"/>
          </a:xfrm>
          <a:prstGeom prst="leftRightArrow">
            <a:avLst>
              <a:gd name="adj1" fmla="val 33944"/>
              <a:gd name="adj2" fmla="val 29759"/>
            </a:avLst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My WACI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685800" y="3048120"/>
            <a:ext cx="2171880" cy="15969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0"/>
          <p:cNvSpPr/>
          <p:nvPr/>
        </p:nvSpPr>
        <p:spPr>
          <a:xfrm>
            <a:off x="3048120" y="3338640"/>
            <a:ext cx="5790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Quantum computing: So passé.  So last decad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533520" y="1295280"/>
            <a:ext cx="8001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Build theories of computing of all sorts of physical devices.  Catalog the strange things you can get, other than “standard” computational universa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652320" y="5014800"/>
            <a:ext cx="8001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What other systems fall short of universality in interesting ways?  What needs to be added to </a:t>
            </a:r>
            <a:r>
              <a:rPr b="0" i="1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make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Arial"/>
              </a:rPr>
              <a:t> them univers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3:19:53Z</dcterms:created>
  <dc:creator>saaronson</dc:creator>
  <dc:description/>
  <dc:language>en-US</dc:language>
  <cp:lastModifiedBy>Scott</cp:lastModifiedBy>
  <dcterms:modified xsi:type="dcterms:W3CDTF">2014-06-24T14:13:19Z</dcterms:modified>
  <cp:revision>3855</cp:revision>
  <dc:subject/>
  <dc:title>Slide 1</dc:title>
</cp:coreProperties>
</file>