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6DB-39EB-46B9-9E21-05664D9A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8DB4-7A7C-4B07-BA7B-9FB9602B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66E-25AE-46C3-9E36-68A06C6D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137-DBCF-4C4A-A6A5-5159DD29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4D60-FC0C-4F3E-927A-186B37C6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E8C7-EF45-470C-AB73-D31069FAB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1280-A5F9-49C6-9958-03540656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945-3EA0-469C-BF0E-0A8C4FA5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A530-3138-4C9A-B7E5-6FBF4B12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20BA-4571-4355-87CD-04A5A0D4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EEF-11DC-49DA-9650-296637CB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29D-C32F-401B-9211-BC11BC64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B6D1-4418-4A62-A1DF-A9CD96E0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8266-DF99-419F-9832-F88FC7BD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414-295B-43ED-A437-71ED2B18F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2B5-6594-4AC0-A8D3-AC4F4ECC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93C-8D75-41EE-8D28-C874F16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025-0978-4C93-AE02-B4F464C0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EB0-1376-490A-A0DE-C6B38A1A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73E-C6A8-47F2-BBF3-31817B8F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954-8E68-4973-9FFE-8F4E2B1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B51-2440-4072-A83C-D8BED602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064-3557-4122-B587-5093E04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47F-7747-4B04-8C94-90299673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572-4FF7-4032-ABE2-A5F8F54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8FA-3ECB-454F-BCD1-0A51059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3A7-CBE1-4B82-8932-BA89A2DC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FCF-C776-4024-87F8-450C2F2E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cott Aarons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838080" y="228600"/>
            <a:ext cx="7620120" cy="19224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Closed Timelike Curves Make Quantum and Classical Computing Equ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4724280" y="5410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ohn Watrou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. Waterlo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2057400" y="228600"/>
                <a:ext cx="40291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Text Box 9"/>
          <p:cNvSpPr/>
          <p:nvPr/>
        </p:nvSpPr>
        <p:spPr>
          <a:xfrm>
            <a:off x="380880" y="380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523880" y="1143000"/>
                <a:ext cx="561996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M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z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zM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Text Box 10"/>
          <p:cNvSpPr/>
          <p:nvPr/>
        </p:nvSpPr>
        <p:spPr>
          <a:xfrm>
            <a:off x="380880" y="1066680"/>
            <a:ext cx="546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04920" y="60958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M(Pv)=Pv, so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57200" y="1981080"/>
            <a:ext cx="8458200" cy="3880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m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y using fast parallel algorithms for matrix inversion (e.g. Csanky’s algorit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easy to check that Pv is the vectorization of some density matr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n just take (say) Pvec(I) as the fixed-point of the C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Coping With Err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3520" y="990720"/>
            <a:ext cx="81532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set of fixed points could be sensitive to arbitrarily small changes to the super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nsider the two stochastic matr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3"/>
              <p:cNvSpPr txBox="1"/>
              <p:nvPr/>
            </p:nvSpPr>
            <p:spPr>
              <a:xfrm>
                <a:off x="2209680" y="2514600"/>
                <a:ext cx="4470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ε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2" name="Text Box 10"/>
          <p:cNvSpPr/>
          <p:nvPr/>
        </p:nvSpPr>
        <p:spPr>
          <a:xfrm>
            <a:off x="457200" y="3809880"/>
            <a:ext cx="815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has (1,0) as its unique fixed point; the second has (0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80880" y="4800600"/>
            <a:ext cx="815364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TC algorithm used to solve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s doesn’t share this propert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ed, one can use a CTC to solve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s “fault-tolerantly” (building o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acon 200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pplication: Advice Coi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80880" y="129528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an “advice coin” with probability p of landing heads, which a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chine can flip as many times as it w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spinningcoin.gif"/>
          <p:cNvPicPr/>
          <p:nvPr/>
        </p:nvPicPr>
        <p:blipFill>
          <a:blip r:embed="rId1"/>
          <a:stretch/>
        </p:blipFill>
        <p:spPr>
          <a:xfrm>
            <a:off x="7924680" y="144792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80880" y="2895480"/>
            <a:ext cx="838224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(A. 2008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SPACE/co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/p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of uses exactly the same technique as for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se parallel linear algebra to implicitly compute fixed-points of superoperators in polynomial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28600" y="304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57200" y="1066680"/>
            <a:ext cx="81532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ways of interpreting our resul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exist, so now we know exactly what can be computed in the physical world (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don’t exist, and this sort of result helps pinpoint what’s so ridiculous about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Cs don’t exist, and we already knew they were ridiculous—but at least we can find fixed points of superoperators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726120" y="5105520"/>
            <a:ext cx="7378560" cy="1281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result formally justifies the following intui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making time “reusable,” CTCs m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t to space as a computational resour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cott Aaronson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1905120" y="2514600"/>
            <a:ext cx="1828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 rot="18212400">
            <a:off x="618480" y="387756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99"/>
                </a:solidFill>
                <a:latin typeface="Arial"/>
              </a:rPr>
              <a:t>BQ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 rot="2223000">
            <a:off x="2666160" y="396216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838080" y="228600"/>
            <a:ext cx="7620120" cy="19224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Closed Timelike Curves Make Quantum and Classical Computing Equ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9"/>
          <p:cNvSpPr/>
          <p:nvPr/>
        </p:nvSpPr>
        <p:spPr>
          <a:xfrm>
            <a:off x="4724280" y="54100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John Watrou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. Waterlo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33"/>
          <p:cNvSpPr/>
          <p:nvPr/>
        </p:nvSpPr>
        <p:spPr>
          <a:xfrm>
            <a:off x="304920" y="228600"/>
            <a:ext cx="8381880" cy="2209680"/>
          </a:xfrm>
          <a:prstGeom prst="wedgeRoundRectCallout">
            <a:avLst>
              <a:gd name="adj1" fmla="val -53490"/>
              <a:gd name="adj2" fmla="val 68875"/>
              <a:gd name="adj3" fmla="val 16667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h-oh … here goes Scott with another loony talk about time travel or some such … distracting everyone from the serious stuff like quantum multi-prover interactive proof system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228600" y="2971800"/>
            <a:ext cx="4419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like time travel, then this talk is about a new algorithm for implicitly computing fixed points of superoperators in polynomi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457200" y="57150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ut really … you don’t like time travel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791240" y="1305000"/>
            <a:ext cx="43527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457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05740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3276720"/>
            <a:ext cx="830556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1219320"/>
            <a:ext cx="83818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losed timelike curve (CTC) is simply a resource that, given an opera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cting in some region of spacetime, finds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ourse, not every 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 fixed point—that’s the Grandfather Paradox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since every Markov chain has a stationary distribution, there’s always a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 s.t. f(D)=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1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176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3"/>
          <p:cNvSpPr/>
          <p:nvPr/>
        </p:nvSpPr>
        <p:spPr>
          <a:xfrm>
            <a:off x="462240" y="4876920"/>
            <a:ext cx="8346240" cy="16779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TC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1"/>
          <p:cNvGrpSpPr/>
          <p:nvPr/>
        </p:nvGrpSpPr>
        <p:grpSpPr>
          <a:xfrm>
            <a:off x="1981080" y="1600200"/>
            <a:ext cx="5186520" cy="3567240"/>
            <a:chOff x="1981080" y="1600200"/>
            <a:chExt cx="5186520" cy="3567240"/>
          </a:xfrm>
        </p:grpSpPr>
        <p:sp>
          <p:nvSpPr>
            <p:cNvPr id="69" name="Rectangle 24"/>
            <p:cNvSpPr/>
            <p:nvPr/>
          </p:nvSpPr>
          <p:spPr>
            <a:xfrm>
              <a:off x="2197080" y="2104920"/>
              <a:ext cx="1440000" cy="25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5"/>
            <p:cNvSpPr/>
            <p:nvPr/>
          </p:nvSpPr>
          <p:spPr>
            <a:xfrm>
              <a:off x="1981080" y="1888920"/>
              <a:ext cx="1944720" cy="295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3"/>
            <p:cNvSpPr/>
            <p:nvPr/>
          </p:nvSpPr>
          <p:spPr>
            <a:xfrm>
              <a:off x="2414520" y="2320560"/>
              <a:ext cx="934920" cy="20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"/>
            <p:cNvSpPr/>
            <p:nvPr/>
          </p:nvSpPr>
          <p:spPr>
            <a:xfrm>
              <a:off x="2630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T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5078520" y="3616200"/>
              <a:ext cx="1942920" cy="61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Monotype Corsiva"/>
                </a:rPr>
                <a:t>R </a:t>
              </a:r>
              <a:r>
                <a:rPr b="0" lang="en-CA" sz="3000" spc="-1" strike="noStrike" baseline="-25000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2630520" y="2536560"/>
              <a:ext cx="4392360" cy="55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 flipV="1">
              <a:off x="3638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 flipV="1">
              <a:off x="3925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V="1">
              <a:off x="3349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 flipV="1">
              <a:off x="608652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V="1">
              <a:off x="637380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 flipV="1">
              <a:off x="5797440" y="311256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 flipV="1">
              <a:off x="608652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V="1">
              <a:off x="637380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97440" y="1888920"/>
              <a:ext cx="0" cy="64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 flipV="1">
              <a:off x="608652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V="1">
              <a:off x="637380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5797440" y="4191840"/>
              <a:ext cx="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7"/>
            <p:cNvSpPr/>
            <p:nvPr/>
          </p:nvSpPr>
          <p:spPr>
            <a:xfrm>
              <a:off x="558144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8"/>
            <p:cNvSpPr/>
            <p:nvPr/>
          </p:nvSpPr>
          <p:spPr>
            <a:xfrm>
              <a:off x="5870520" y="476856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159600" y="47685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086520" y="160020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74"/>
          <p:cNvSpPr/>
          <p:nvPr/>
        </p:nvSpPr>
        <p:spPr>
          <a:xfrm>
            <a:off x="716292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usality-Respecting Regis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380880" y="3352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 Timelike Curve Regist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6"/>
          <p:cNvSpPr/>
          <p:nvPr/>
        </p:nvSpPr>
        <p:spPr>
          <a:xfrm>
            <a:off x="3962520" y="1828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ynomial Siz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31"/>
          <p:cNvCxnSpPr/>
          <p:nvPr/>
        </p:nvCxnSpPr>
        <p:spPr>
          <a:xfrm flipV="1">
            <a:off x="1981080" y="3885480"/>
            <a:ext cx="610560" cy="6732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5" name="Text Box 3"/>
          <p:cNvSpPr/>
          <p:nvPr/>
        </p:nvSpPr>
        <p:spPr>
          <a:xfrm>
            <a:off x="1905120" y="5410080"/>
            <a:ext cx="5333760" cy="118332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class of decision problems solvable in this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304920" y="609480"/>
            <a:ext cx="861048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(the “user”) pick a uniform poly-size circuit C on two registers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an input to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’ be the induced operation o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Nature is forced to find a probability distribution D over states of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C’(D)=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re’s more than one such D, Nature chooses one adversariall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given a sample from D in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read the final output off from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28600" y="304920"/>
            <a:ext cx="868680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ust need to find some x such that C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=x for some m.  Pick any x, then apply C’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ve C’ input and output an ordered pa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ate of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chine we’re simulating and b is an answer bit, like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0880" y="3352680"/>
            <a:ext cx="4038840" cy="30801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ly fixed-point distribution is a uniform distribution over all states of the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chine, with the answer bit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9"/>
          <p:cNvGrpSpPr/>
          <p:nvPr/>
        </p:nvGrpSpPr>
        <p:grpSpPr>
          <a:xfrm>
            <a:off x="5486400" y="2971800"/>
            <a:ext cx="3168720" cy="3672000"/>
            <a:chOff x="5486400" y="2971800"/>
            <a:chExt cx="3168720" cy="3672000"/>
          </a:xfrm>
        </p:grpSpPr>
        <p:sp>
          <p:nvSpPr>
            <p:cNvPr id="100" name="Text Box 4"/>
            <p:cNvSpPr/>
            <p:nvPr/>
          </p:nvSpPr>
          <p:spPr>
            <a:xfrm>
              <a:off x="5486400" y="390672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5486400" y="325908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5486400" y="5996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5486400" y="5348160"/>
              <a:ext cx="100836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V="1">
              <a:off x="59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V="1">
              <a:off x="59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V="1">
              <a:off x="59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 flipV="1">
              <a:off x="59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8"/>
            <p:cNvSpPr/>
            <p:nvPr/>
          </p:nvSpPr>
          <p:spPr>
            <a:xfrm>
              <a:off x="5972400" y="462744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9"/>
            <p:cNvSpPr/>
            <p:nvPr/>
          </p:nvSpPr>
          <p:spPr>
            <a:xfrm>
              <a:off x="5972400" y="4772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0"/>
            <p:cNvSpPr/>
            <p:nvPr/>
          </p:nvSpPr>
          <p:spPr>
            <a:xfrm>
              <a:off x="5972400" y="49165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7286760" y="390672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7286760" y="325908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4"/>
            <p:cNvSpPr/>
            <p:nvPr/>
          </p:nvSpPr>
          <p:spPr>
            <a:xfrm>
              <a:off x="7286760" y="5996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5"/>
            <p:cNvSpPr/>
            <p:nvPr/>
          </p:nvSpPr>
          <p:spPr>
            <a:xfrm>
              <a:off x="7286760" y="5348160"/>
              <a:ext cx="1008000" cy="40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CA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6"/>
            <p:cNvSpPr/>
            <p:nvPr/>
          </p:nvSpPr>
          <p:spPr>
            <a:xfrm flipV="1">
              <a:off x="7791480" y="3618000"/>
              <a:ext cx="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7"/>
            <p:cNvSpPr/>
            <p:nvPr/>
          </p:nvSpPr>
          <p:spPr>
            <a:xfrm flipV="1">
              <a:off x="7791480" y="5708160"/>
              <a:ext cx="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 flipV="1">
              <a:off x="7791480" y="635652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6"/>
            <p:cNvSpPr/>
            <p:nvPr/>
          </p:nvSpPr>
          <p:spPr>
            <a:xfrm>
              <a:off x="6855120" y="297180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7"/>
            <p:cNvSpPr/>
            <p:nvPr/>
          </p:nvSpPr>
          <p:spPr>
            <a:xfrm flipV="1">
              <a:off x="59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8"/>
            <p:cNvSpPr/>
            <p:nvPr/>
          </p:nvSpPr>
          <p:spPr>
            <a:xfrm flipH="1">
              <a:off x="59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7791480" y="29718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0"/>
            <p:cNvSpPr/>
            <p:nvPr/>
          </p:nvSpPr>
          <p:spPr>
            <a:xfrm flipH="1">
              <a:off x="7791120" y="2971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1"/>
            <p:cNvSpPr/>
            <p:nvPr/>
          </p:nvSpPr>
          <p:spPr>
            <a:xfrm>
              <a:off x="8655120" y="2971800"/>
              <a:ext cx="0" cy="36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 flipH="1">
              <a:off x="7791120" y="664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3"/>
            <p:cNvSpPr/>
            <p:nvPr/>
          </p:nvSpPr>
          <p:spPr>
            <a:xfrm>
              <a:off x="6855120" y="6211800"/>
              <a:ext cx="43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4"/>
            <p:cNvSpPr/>
            <p:nvPr/>
          </p:nvSpPr>
          <p:spPr>
            <a:xfrm flipV="1">
              <a:off x="7791480" y="4267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V="1">
              <a:off x="7791480" y="513216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6"/>
            <p:cNvSpPr/>
            <p:nvPr/>
          </p:nvSpPr>
          <p:spPr>
            <a:xfrm>
              <a:off x="7772400" y="46274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7"/>
            <p:cNvSpPr/>
            <p:nvPr/>
          </p:nvSpPr>
          <p:spPr>
            <a:xfrm>
              <a:off x="7772400" y="477216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8"/>
            <p:cNvSpPr/>
            <p:nvPr/>
          </p:nvSpPr>
          <p:spPr>
            <a:xfrm>
              <a:off x="7772400" y="49165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About Quant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0880" y="137160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operation 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t necessarily reversibl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80880" y="327672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4343400"/>
            <a:ext cx="8229600" cy="18626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time travel is possible, then quantum computers are no more powerful than classical on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7"/>
          <p:cNvGrpSpPr/>
          <p:nvPr/>
        </p:nvGrpSpPr>
        <p:grpSpPr>
          <a:xfrm>
            <a:off x="382680" y="228600"/>
            <a:ext cx="836640" cy="1065960"/>
            <a:chOff x="382680" y="228600"/>
            <a:chExt cx="836640" cy="1065960"/>
          </a:xfrm>
        </p:grpSpPr>
        <p:sp>
          <p:nvSpPr>
            <p:cNvPr id="136" name="Line 8"/>
            <p:cNvSpPr/>
            <p:nvPr/>
          </p:nvSpPr>
          <p:spPr>
            <a:xfrm flipV="1">
              <a:off x="567720" y="25164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9" descr="MCDD01775_0000[1]"/>
            <p:cNvPicPr/>
            <p:nvPr/>
          </p:nvPicPr>
          <p:blipFill>
            <a:blip r:embed="rId1"/>
            <a:stretch/>
          </p:blipFill>
          <p:spPr>
            <a:xfrm>
              <a:off x="382680" y="25200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10"/>
            <p:cNvSpPr/>
            <p:nvPr/>
          </p:nvSpPr>
          <p:spPr>
            <a:xfrm rot="16200000">
              <a:off x="677160" y="60660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1"/>
            <p:cNvGrpSpPr/>
            <p:nvPr/>
          </p:nvGrpSpPr>
          <p:grpSpPr>
            <a:xfrm>
              <a:off x="452160" y="414360"/>
              <a:ext cx="348840" cy="273600"/>
              <a:chOff x="452160" y="414360"/>
              <a:chExt cx="348840" cy="273600"/>
            </a:xfrm>
          </p:grpSpPr>
          <p:sp>
            <p:nvSpPr>
              <p:cNvPr id="140" name="Freeform 12"/>
              <p:cNvSpPr/>
              <p:nvPr/>
            </p:nvSpPr>
            <p:spPr>
              <a:xfrm>
                <a:off x="46296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48744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>
                <a:off x="55620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"/>
              <p:cNvSpPr/>
              <p:nvPr/>
            </p:nvSpPr>
            <p:spPr>
              <a:xfrm>
                <a:off x="63216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"/>
              <p:cNvSpPr/>
              <p:nvPr/>
            </p:nvSpPr>
            <p:spPr>
              <a:xfrm>
                <a:off x="45216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7"/>
              <p:cNvSpPr/>
              <p:nvPr/>
            </p:nvSpPr>
            <p:spPr>
              <a:xfrm>
                <a:off x="50328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8"/>
              <p:cNvSpPr/>
              <p:nvPr/>
            </p:nvSpPr>
            <p:spPr>
              <a:xfrm>
                <a:off x="56016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9"/>
              <p:cNvSpPr/>
              <p:nvPr/>
            </p:nvSpPr>
            <p:spPr>
              <a:xfrm>
                <a:off x="75456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>
                <a:off x="71496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1"/>
              <p:cNvSpPr/>
              <p:nvPr/>
            </p:nvSpPr>
            <p:spPr>
              <a:xfrm>
                <a:off x="66996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2"/>
              <p:cNvSpPr/>
              <p:nvPr/>
            </p:nvSpPr>
            <p:spPr>
              <a:xfrm>
                <a:off x="61488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3"/>
            <p:cNvGrpSpPr/>
            <p:nvPr/>
          </p:nvGrpSpPr>
          <p:grpSpPr>
            <a:xfrm>
              <a:off x="847080" y="414360"/>
              <a:ext cx="348840" cy="273600"/>
              <a:chOff x="847080" y="414360"/>
              <a:chExt cx="348840" cy="273600"/>
            </a:xfrm>
          </p:grpSpPr>
          <p:sp>
            <p:nvSpPr>
              <p:cNvPr id="152" name="Freeform 24"/>
              <p:cNvSpPr/>
              <p:nvPr/>
            </p:nvSpPr>
            <p:spPr>
              <a:xfrm>
                <a:off x="857880" y="489240"/>
                <a:ext cx="322920" cy="19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>
                <a:off x="882360" y="511200"/>
                <a:ext cx="27396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>
                <a:off x="951120" y="523080"/>
                <a:ext cx="13176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>
                <a:off x="1027080" y="56268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8"/>
              <p:cNvSpPr/>
              <p:nvPr/>
            </p:nvSpPr>
            <p:spPr>
              <a:xfrm>
                <a:off x="847080" y="47664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9"/>
              <p:cNvSpPr/>
              <p:nvPr/>
            </p:nvSpPr>
            <p:spPr>
              <a:xfrm>
                <a:off x="898200" y="443520"/>
                <a:ext cx="352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0"/>
              <p:cNvSpPr/>
              <p:nvPr/>
            </p:nvSpPr>
            <p:spPr>
              <a:xfrm>
                <a:off x="955080" y="42300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1"/>
              <p:cNvSpPr/>
              <p:nvPr/>
            </p:nvSpPr>
            <p:spPr>
              <a:xfrm>
                <a:off x="1149480" y="48132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2"/>
              <p:cNvSpPr/>
              <p:nvPr/>
            </p:nvSpPr>
            <p:spPr>
              <a:xfrm>
                <a:off x="1109880" y="4464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3"/>
              <p:cNvSpPr/>
              <p:nvPr/>
            </p:nvSpPr>
            <p:spPr>
              <a:xfrm>
                <a:off x="1064880" y="42444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4"/>
              <p:cNvSpPr/>
              <p:nvPr/>
            </p:nvSpPr>
            <p:spPr>
              <a:xfrm>
                <a:off x="1009800" y="414360"/>
                <a:ext cx="194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35"/>
            <p:cNvSpPr/>
            <p:nvPr/>
          </p:nvSpPr>
          <p:spPr>
            <a:xfrm flipV="1">
              <a:off x="799920" y="22860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6"/>
          <p:cNvGrpSpPr/>
          <p:nvPr/>
        </p:nvGrpSpPr>
        <p:grpSpPr>
          <a:xfrm>
            <a:off x="7924680" y="228600"/>
            <a:ext cx="820800" cy="1065960"/>
            <a:chOff x="7924680" y="228600"/>
            <a:chExt cx="820800" cy="1065960"/>
          </a:xfrm>
        </p:grpSpPr>
        <p:sp>
          <p:nvSpPr>
            <p:cNvPr id="165" name="Line 37"/>
            <p:cNvSpPr/>
            <p:nvPr/>
          </p:nvSpPr>
          <p:spPr>
            <a:xfrm flipH="1" flipV="1">
              <a:off x="8136360" y="251640"/>
              <a:ext cx="43020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8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924680" y="252000"/>
              <a:ext cx="820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39"/>
            <p:cNvSpPr/>
            <p:nvPr/>
          </p:nvSpPr>
          <p:spPr>
            <a:xfrm flipH="1" rot="5400000">
              <a:off x="8208720" y="71604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0"/>
            <p:cNvGrpSpPr/>
            <p:nvPr/>
          </p:nvGrpSpPr>
          <p:grpSpPr>
            <a:xfrm>
              <a:off x="8355960" y="489240"/>
              <a:ext cx="311400" cy="199080"/>
              <a:chOff x="8355960" y="489240"/>
              <a:chExt cx="311400" cy="199080"/>
            </a:xfrm>
          </p:grpSpPr>
          <p:sp>
            <p:nvSpPr>
              <p:cNvPr id="169" name="Freeform 41"/>
              <p:cNvSpPr/>
              <p:nvPr/>
            </p:nvSpPr>
            <p:spPr>
              <a:xfrm flipH="1">
                <a:off x="83556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2"/>
              <p:cNvSpPr/>
              <p:nvPr/>
            </p:nvSpPr>
            <p:spPr>
              <a:xfrm flipH="1">
                <a:off x="83793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3"/>
              <p:cNvSpPr/>
              <p:nvPr/>
            </p:nvSpPr>
            <p:spPr>
              <a:xfrm flipH="1">
                <a:off x="84502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4"/>
              <p:cNvSpPr/>
              <p:nvPr/>
            </p:nvSpPr>
            <p:spPr>
              <a:xfrm flipH="1">
                <a:off x="84837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45"/>
            <p:cNvGrpSpPr/>
            <p:nvPr/>
          </p:nvGrpSpPr>
          <p:grpSpPr>
            <a:xfrm>
              <a:off x="7974360" y="489240"/>
              <a:ext cx="311400" cy="199080"/>
              <a:chOff x="7974360" y="489240"/>
              <a:chExt cx="311400" cy="199080"/>
            </a:xfrm>
          </p:grpSpPr>
          <p:sp>
            <p:nvSpPr>
              <p:cNvPr id="174" name="Freeform 46"/>
              <p:cNvSpPr/>
              <p:nvPr/>
            </p:nvSpPr>
            <p:spPr>
              <a:xfrm flipH="1">
                <a:off x="7974000" y="48924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7"/>
              <p:cNvSpPr/>
              <p:nvPr/>
            </p:nvSpPr>
            <p:spPr>
              <a:xfrm flipH="1">
                <a:off x="7997760" y="51156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8"/>
              <p:cNvSpPr/>
              <p:nvPr/>
            </p:nvSpPr>
            <p:spPr>
              <a:xfrm flipH="1">
                <a:off x="8068680" y="52380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9"/>
              <p:cNvSpPr/>
              <p:nvPr/>
            </p:nvSpPr>
            <p:spPr>
              <a:xfrm flipH="1">
                <a:off x="8102160" y="562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50"/>
            <p:cNvSpPr/>
            <p:nvPr/>
          </p:nvSpPr>
          <p:spPr>
            <a:xfrm flipH="1" flipV="1">
              <a:off x="8117640" y="22860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380880" y="1143000"/>
            <a:ext cx="8382240" cy="2481120"/>
            <a:chOff x="380880" y="1143000"/>
            <a:chExt cx="8382240" cy="2481120"/>
          </a:xfrm>
        </p:grpSpPr>
        <p:sp>
          <p:nvSpPr>
            <p:cNvPr id="181" name="Text Box 3"/>
            <p:cNvSpPr/>
            <p:nvPr/>
          </p:nvSpPr>
          <p:spPr>
            <a:xfrm>
              <a:off x="380880" y="1143000"/>
              <a:ext cx="8382240" cy="22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vec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be the “vectorization”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i.e., a length-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vector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’s entries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We can reduce the problem to the following: given an (implicit) 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atrix M, prepare a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BQPSPACE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such th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Object 12"/>
                <p:cNvSpPr txBox="1"/>
                <p:nvPr/>
              </p:nvSpPr>
              <p:spPr>
                <a:xfrm>
                  <a:off x="4191120" y="3048120"/>
                  <a:ext cx="314964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1-23T17:47:41Z</dcterms:modified>
  <cp:revision>68</cp:revision>
  <dc:subject/>
  <dc:title>The Learnability of Quantum States</dc:title>
</cp:coreProperties>
</file>