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6FCB-7D84-4DC5-97F4-95763636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36E-CAFC-484D-8BE2-4862506B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699-36F3-4D86-B8C3-DEDCDAFC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50DF-0F19-4659-99FF-59E82219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A9C3-2DDD-4F4D-AB86-887C9CCF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5FA-6E6E-4FFA-8350-D2D45EC7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ED99-9910-47BF-BAFF-47405389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203D-FD65-41F1-A736-8DDAF3CB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040-5AC1-4EED-B556-B5204BFE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B224-9BDE-4C21-A1DC-73AD0B88B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9E0D-EE2A-4016-BE97-912FC301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785-0A6E-4A02-9406-36872E74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5E50-9D28-4474-AD3C-2A84EF97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E0EE-5D09-4F1B-B0E2-18E5CFC3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5BE8-41D1-4B3C-8737-15A8A935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1BA-6CC3-4665-90C2-B71078FF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255-FC30-43C7-BE95-A3B6B4A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54A-268A-4904-8F0F-4D85ABA4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B30-336D-4C2E-9434-F13CD261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C49-1DDC-4D5B-A48F-6E4A5DF7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2D6-02FD-4D71-9F82-D501346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A19-6BD0-4458-BD19-A621C7F2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F21-46C0-4659-AEE4-D913A400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F76-95F0-4DFF-8F8E-CAD00E2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409-F7EF-480A-9B9C-B6DD095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93B-B9A4-47DA-B521-692A9B3C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641-0130-4A53-AA69-01BD261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1B09-E48B-46EB-BEE7-EDF18B59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cott Aarons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838080" y="228600"/>
            <a:ext cx="7620120" cy="19224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Closed Timelike Curves Make Quantum and Classical Computing Equ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4724280" y="5410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ohn Watrou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. Waterlo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2057400" y="228600"/>
                <a:ext cx="40291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Text Box 9"/>
          <p:cNvSpPr/>
          <p:nvPr/>
        </p:nvSpPr>
        <p:spPr>
          <a:xfrm>
            <a:off x="380880" y="380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523880" y="1143000"/>
                <a:ext cx="561996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Text Box 10"/>
          <p:cNvSpPr/>
          <p:nvPr/>
        </p:nvSpPr>
        <p:spPr>
          <a:xfrm>
            <a:off x="380880" y="1066680"/>
            <a:ext cx="546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04920" y="60958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M(Pv)=Pv, so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57200" y="1981080"/>
            <a:ext cx="8458200" cy="388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m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y using fast parallel algorithms for matrix inversion (e.g. Csanky’s algorit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easy to check that Pv is the vectorization of some density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n just take (say) Pvec(I) as the fixed-point of the C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Coping With Er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3520" y="990720"/>
            <a:ext cx="8153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set of fixed points could be sensitive to arbitrarily small changes to the super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nsider the two stochastic matr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3"/>
              <p:cNvSpPr txBox="1"/>
              <p:nvPr/>
            </p:nvSpPr>
            <p:spPr>
              <a:xfrm>
                <a:off x="2209680" y="2514600"/>
                <a:ext cx="4470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Text Box 10"/>
          <p:cNvSpPr/>
          <p:nvPr/>
        </p:nvSpPr>
        <p:spPr>
          <a:xfrm>
            <a:off x="457200" y="380988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has (1,0) as its unique fixed point; the second has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80880" y="4800600"/>
            <a:ext cx="81536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TC algorithm used to solve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s doesn’t share this proper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ed, one can use a CTC to solve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s “fault-tolerantly” (building o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acon 200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pplication: Advice Coi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80880" y="129528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an “advice coin” with probability p of landing heads, which a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chine can flip as many times as it w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spinningcoin.gif"/>
          <p:cNvPicPr/>
          <p:nvPr/>
        </p:nvPicPr>
        <p:blipFill>
          <a:blip r:embed="rId1"/>
          <a:stretch/>
        </p:blipFill>
        <p:spPr>
          <a:xfrm>
            <a:off x="7924680" y="144792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80880" y="2895480"/>
            <a:ext cx="838224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(A. 2008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SPACE/co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of uses exactly the same technique as for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se parallel linear algebra to implicitly compute fixed-points of superoperators in polynomial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57200" y="1066680"/>
            <a:ext cx="81532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ways of interpreting our resu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exist, so now we know exactly what can be computed in the physical world (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don’t exist, and this sort of result helps pinpoint what’s so ridiculous about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don’t exist, and we already knew they were ridiculous—but at least we can find fixed points of superoperators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726120" y="5105520"/>
            <a:ext cx="7378560" cy="1281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result formally justifies the following intu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making time “reusable,” CTCs m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space as a computational resour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cott Aarons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838080" y="228600"/>
            <a:ext cx="7620120" cy="19224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Closed Timelike Curves Make Quantum and Classical Computing Equ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9"/>
          <p:cNvSpPr/>
          <p:nvPr/>
        </p:nvSpPr>
        <p:spPr>
          <a:xfrm>
            <a:off x="4724280" y="5410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ohn Watrou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. Waterlo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33"/>
          <p:cNvSpPr/>
          <p:nvPr/>
        </p:nvSpPr>
        <p:spPr>
          <a:xfrm>
            <a:off x="304920" y="228600"/>
            <a:ext cx="8381880" cy="2209680"/>
          </a:xfrm>
          <a:prstGeom prst="wedgeRoundRectCallout">
            <a:avLst>
              <a:gd name="adj1" fmla="val -53490"/>
              <a:gd name="adj2" fmla="val 68875"/>
              <a:gd name="adj3" fmla="val 16667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h-oh … here goes Scott with another loony talk about time travel or some such … distracting everyone from the serious stuff like quantum multi-prover interactive proof syste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228600" y="2971800"/>
            <a:ext cx="441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like time travel, then this talk is about a new algorithm for implicitly computing fixed points of superoperators in polynomi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457200" y="5715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t really … you don’t like time travel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791240" y="1305000"/>
            <a:ext cx="43527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457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05740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3276720"/>
            <a:ext cx="830556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1219320"/>
            <a:ext cx="83818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losed timelike curve (CTC) is simply a resource that, given an opera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cting in some region of spacetime, finds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ourse, not every 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 fixed point—that’s the Grandfather Paradox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since every Markov chain has a stationary distribution, there’s always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s.t. f(D)=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1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176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3"/>
          <p:cNvSpPr/>
          <p:nvPr/>
        </p:nvSpPr>
        <p:spPr>
          <a:xfrm>
            <a:off x="462240" y="4876920"/>
            <a:ext cx="8346240" cy="1677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TC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1"/>
          <p:cNvGrpSpPr/>
          <p:nvPr/>
        </p:nvGrpSpPr>
        <p:grpSpPr>
          <a:xfrm>
            <a:off x="1981080" y="1600200"/>
            <a:ext cx="5186520" cy="3567240"/>
            <a:chOff x="1981080" y="1600200"/>
            <a:chExt cx="5186520" cy="3567240"/>
          </a:xfrm>
        </p:grpSpPr>
        <p:sp>
          <p:nvSpPr>
            <p:cNvPr id="69" name="Rectangle 24"/>
            <p:cNvSpPr/>
            <p:nvPr/>
          </p:nvSpPr>
          <p:spPr>
            <a:xfrm>
              <a:off x="2197080" y="2104920"/>
              <a:ext cx="1440000" cy="25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1981080" y="1888920"/>
              <a:ext cx="1944720" cy="295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3"/>
            <p:cNvSpPr/>
            <p:nvPr/>
          </p:nvSpPr>
          <p:spPr>
            <a:xfrm>
              <a:off x="2414520" y="2320560"/>
              <a:ext cx="934920" cy="20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"/>
            <p:cNvSpPr/>
            <p:nvPr/>
          </p:nvSpPr>
          <p:spPr>
            <a:xfrm>
              <a:off x="2630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T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5078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2630520" y="2536560"/>
              <a:ext cx="4392360" cy="55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 flipV="1">
              <a:off x="3638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3925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3349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 flipV="1">
              <a:off x="6086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V="1">
              <a:off x="6373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 flipV="1">
              <a:off x="5797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 flipV="1">
              <a:off x="608652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V="1">
              <a:off x="637380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9744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 flipV="1">
              <a:off x="608652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V="1">
              <a:off x="637380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579744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558144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587052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159600" y="4768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086520" y="160020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74"/>
          <p:cNvSpPr/>
          <p:nvPr/>
        </p:nvSpPr>
        <p:spPr>
          <a:xfrm>
            <a:off x="716292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ality-Respecting Regis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380880" y="3352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 Timelike Curve Regis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6"/>
          <p:cNvSpPr/>
          <p:nvPr/>
        </p:nvSpPr>
        <p:spPr>
          <a:xfrm>
            <a:off x="396252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ynomial Siz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31"/>
          <p:cNvCxnSpPr/>
          <p:nvPr/>
        </p:nvCxnSpPr>
        <p:spPr>
          <a:xfrm flipV="1">
            <a:off x="1981080" y="3885480"/>
            <a:ext cx="610560" cy="673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5" name="Text Box 3"/>
          <p:cNvSpPr/>
          <p:nvPr/>
        </p:nvSpPr>
        <p:spPr>
          <a:xfrm>
            <a:off x="1905120" y="5410080"/>
            <a:ext cx="5333760" cy="11833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class of decision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04920" y="609480"/>
            <a:ext cx="861048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(the “user”) pick a uniform poly-size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an input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’ be the induced operation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Nature is forced to find a probability distribution D over states of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C’(D)=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re’s more than one such D, Nature chooses one adversariall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given a sample from D 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read the final output off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8600" y="304920"/>
            <a:ext cx="868680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ust need to find some x such that C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=x for some m.  Pick any x, then apply C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ve C’ input and output an ordered pa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ate of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chine we’re simulating and b is an answer bit, like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0880" y="3352680"/>
            <a:ext cx="4038840" cy="30801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ly fixed-point distribution is a uniform distribution over all states of the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chine, with the answer bit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9"/>
          <p:cNvGrpSpPr/>
          <p:nvPr/>
        </p:nvGrpSpPr>
        <p:grpSpPr>
          <a:xfrm>
            <a:off x="5486400" y="2971800"/>
            <a:ext cx="3168720" cy="3672000"/>
            <a:chOff x="5486400" y="2971800"/>
            <a:chExt cx="3168720" cy="3672000"/>
          </a:xfrm>
        </p:grpSpPr>
        <p:sp>
          <p:nvSpPr>
            <p:cNvPr id="100" name="Text Box 4"/>
            <p:cNvSpPr/>
            <p:nvPr/>
          </p:nvSpPr>
          <p:spPr>
            <a:xfrm>
              <a:off x="5486400" y="390672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5486400" y="325908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5486400" y="5996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5486400" y="5348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V="1">
              <a:off x="59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V="1">
              <a:off x="59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V="1">
              <a:off x="59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 flipV="1">
              <a:off x="59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8"/>
            <p:cNvSpPr/>
            <p:nvPr/>
          </p:nvSpPr>
          <p:spPr>
            <a:xfrm>
              <a:off x="5972400" y="462744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9"/>
            <p:cNvSpPr/>
            <p:nvPr/>
          </p:nvSpPr>
          <p:spPr>
            <a:xfrm>
              <a:off x="5972400" y="4772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0"/>
            <p:cNvSpPr/>
            <p:nvPr/>
          </p:nvSpPr>
          <p:spPr>
            <a:xfrm>
              <a:off x="5972400" y="49165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7286760" y="390672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7286760" y="325908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4"/>
            <p:cNvSpPr/>
            <p:nvPr/>
          </p:nvSpPr>
          <p:spPr>
            <a:xfrm>
              <a:off x="7286760" y="5996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5"/>
            <p:cNvSpPr/>
            <p:nvPr/>
          </p:nvSpPr>
          <p:spPr>
            <a:xfrm>
              <a:off x="7286760" y="5348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6"/>
            <p:cNvSpPr/>
            <p:nvPr/>
          </p:nvSpPr>
          <p:spPr>
            <a:xfrm flipV="1">
              <a:off x="77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7"/>
            <p:cNvSpPr/>
            <p:nvPr/>
          </p:nvSpPr>
          <p:spPr>
            <a:xfrm flipV="1">
              <a:off x="77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 flipV="1">
              <a:off x="7791480" y="63565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6"/>
            <p:cNvSpPr/>
            <p:nvPr/>
          </p:nvSpPr>
          <p:spPr>
            <a:xfrm>
              <a:off x="6855120" y="297180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7"/>
            <p:cNvSpPr/>
            <p:nvPr/>
          </p:nvSpPr>
          <p:spPr>
            <a:xfrm flipV="1">
              <a:off x="59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8"/>
            <p:cNvSpPr/>
            <p:nvPr/>
          </p:nvSpPr>
          <p:spPr>
            <a:xfrm flipH="1">
              <a:off x="59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77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0"/>
            <p:cNvSpPr/>
            <p:nvPr/>
          </p:nvSpPr>
          <p:spPr>
            <a:xfrm flipH="1">
              <a:off x="77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1"/>
            <p:cNvSpPr/>
            <p:nvPr/>
          </p:nvSpPr>
          <p:spPr>
            <a:xfrm>
              <a:off x="8655120" y="2971800"/>
              <a:ext cx="0" cy="36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 flipH="1">
              <a:off x="7791120" y="664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3"/>
            <p:cNvSpPr/>
            <p:nvPr/>
          </p:nvSpPr>
          <p:spPr>
            <a:xfrm>
              <a:off x="6855120" y="6211800"/>
              <a:ext cx="43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4"/>
            <p:cNvSpPr/>
            <p:nvPr/>
          </p:nvSpPr>
          <p:spPr>
            <a:xfrm flipV="1">
              <a:off x="77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V="1">
              <a:off x="77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6"/>
            <p:cNvSpPr/>
            <p:nvPr/>
          </p:nvSpPr>
          <p:spPr>
            <a:xfrm>
              <a:off x="7772400" y="46274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7"/>
            <p:cNvSpPr/>
            <p:nvPr/>
          </p:nvSpPr>
          <p:spPr>
            <a:xfrm>
              <a:off x="7772400" y="477216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8"/>
            <p:cNvSpPr/>
            <p:nvPr/>
          </p:nvSpPr>
          <p:spPr>
            <a:xfrm>
              <a:off x="7772400" y="49165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About Quant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0880" y="137160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operation 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t necessarily reversibl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0880" y="327672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4343400"/>
            <a:ext cx="8229600" cy="18626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time travel is possible, then quantum computers are no more powerful than classical 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7"/>
          <p:cNvGrpSpPr/>
          <p:nvPr/>
        </p:nvGrpSpPr>
        <p:grpSpPr>
          <a:xfrm>
            <a:off x="382680" y="228600"/>
            <a:ext cx="836640" cy="1065960"/>
            <a:chOff x="382680" y="228600"/>
            <a:chExt cx="836640" cy="1065960"/>
          </a:xfrm>
        </p:grpSpPr>
        <p:sp>
          <p:nvSpPr>
            <p:cNvPr id="136" name="Line 8"/>
            <p:cNvSpPr/>
            <p:nvPr/>
          </p:nvSpPr>
          <p:spPr>
            <a:xfrm flipV="1">
              <a:off x="567720" y="2516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9" descr="MCDD01775_0000[1]"/>
            <p:cNvPicPr/>
            <p:nvPr/>
          </p:nvPicPr>
          <p:blipFill>
            <a:blip r:embed="rId1"/>
            <a:stretch/>
          </p:blipFill>
          <p:spPr>
            <a:xfrm>
              <a:off x="382680" y="2520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10"/>
            <p:cNvSpPr/>
            <p:nvPr/>
          </p:nvSpPr>
          <p:spPr>
            <a:xfrm rot="16200000">
              <a:off x="677160" y="6066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1"/>
            <p:cNvGrpSpPr/>
            <p:nvPr/>
          </p:nvGrpSpPr>
          <p:grpSpPr>
            <a:xfrm>
              <a:off x="452160" y="414360"/>
              <a:ext cx="348840" cy="273600"/>
              <a:chOff x="452160" y="414360"/>
              <a:chExt cx="348840" cy="273600"/>
            </a:xfrm>
          </p:grpSpPr>
          <p:sp>
            <p:nvSpPr>
              <p:cNvPr id="140" name="Freeform 12"/>
              <p:cNvSpPr/>
              <p:nvPr/>
            </p:nvSpPr>
            <p:spPr>
              <a:xfrm>
                <a:off x="46296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48744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>
                <a:off x="55620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"/>
              <p:cNvSpPr/>
              <p:nvPr/>
            </p:nvSpPr>
            <p:spPr>
              <a:xfrm>
                <a:off x="63216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"/>
              <p:cNvSpPr/>
              <p:nvPr/>
            </p:nvSpPr>
            <p:spPr>
              <a:xfrm>
                <a:off x="45216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7"/>
              <p:cNvSpPr/>
              <p:nvPr/>
            </p:nvSpPr>
            <p:spPr>
              <a:xfrm>
                <a:off x="50328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8"/>
              <p:cNvSpPr/>
              <p:nvPr/>
            </p:nvSpPr>
            <p:spPr>
              <a:xfrm>
                <a:off x="56016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9"/>
              <p:cNvSpPr/>
              <p:nvPr/>
            </p:nvSpPr>
            <p:spPr>
              <a:xfrm>
                <a:off x="75456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>
                <a:off x="71496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1"/>
              <p:cNvSpPr/>
              <p:nvPr/>
            </p:nvSpPr>
            <p:spPr>
              <a:xfrm>
                <a:off x="66996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2"/>
              <p:cNvSpPr/>
              <p:nvPr/>
            </p:nvSpPr>
            <p:spPr>
              <a:xfrm>
                <a:off x="61488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3"/>
            <p:cNvGrpSpPr/>
            <p:nvPr/>
          </p:nvGrpSpPr>
          <p:grpSpPr>
            <a:xfrm>
              <a:off x="847080" y="414360"/>
              <a:ext cx="348840" cy="273600"/>
              <a:chOff x="847080" y="414360"/>
              <a:chExt cx="348840" cy="273600"/>
            </a:xfrm>
          </p:grpSpPr>
          <p:sp>
            <p:nvSpPr>
              <p:cNvPr id="152" name="Freeform 24"/>
              <p:cNvSpPr/>
              <p:nvPr/>
            </p:nvSpPr>
            <p:spPr>
              <a:xfrm>
                <a:off x="85788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>
                <a:off x="88236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>
                <a:off x="95112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>
                <a:off x="102708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8"/>
              <p:cNvSpPr/>
              <p:nvPr/>
            </p:nvSpPr>
            <p:spPr>
              <a:xfrm>
                <a:off x="84708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9"/>
              <p:cNvSpPr/>
              <p:nvPr/>
            </p:nvSpPr>
            <p:spPr>
              <a:xfrm>
                <a:off x="89820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0"/>
              <p:cNvSpPr/>
              <p:nvPr/>
            </p:nvSpPr>
            <p:spPr>
              <a:xfrm>
                <a:off x="95508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1"/>
              <p:cNvSpPr/>
              <p:nvPr/>
            </p:nvSpPr>
            <p:spPr>
              <a:xfrm>
                <a:off x="114948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2"/>
              <p:cNvSpPr/>
              <p:nvPr/>
            </p:nvSpPr>
            <p:spPr>
              <a:xfrm>
                <a:off x="110988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3"/>
              <p:cNvSpPr/>
              <p:nvPr/>
            </p:nvSpPr>
            <p:spPr>
              <a:xfrm>
                <a:off x="106488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4"/>
              <p:cNvSpPr/>
              <p:nvPr/>
            </p:nvSpPr>
            <p:spPr>
              <a:xfrm>
                <a:off x="100980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35"/>
            <p:cNvSpPr/>
            <p:nvPr/>
          </p:nvSpPr>
          <p:spPr>
            <a:xfrm flipV="1">
              <a:off x="799920" y="2286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6"/>
          <p:cNvGrpSpPr/>
          <p:nvPr/>
        </p:nvGrpSpPr>
        <p:grpSpPr>
          <a:xfrm>
            <a:off x="7924680" y="228600"/>
            <a:ext cx="820800" cy="1065960"/>
            <a:chOff x="7924680" y="228600"/>
            <a:chExt cx="820800" cy="1065960"/>
          </a:xfrm>
        </p:grpSpPr>
        <p:sp>
          <p:nvSpPr>
            <p:cNvPr id="165" name="Line 37"/>
            <p:cNvSpPr/>
            <p:nvPr/>
          </p:nvSpPr>
          <p:spPr>
            <a:xfrm flipH="1" flipV="1">
              <a:off x="8136360" y="25164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8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924680" y="25200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39"/>
            <p:cNvSpPr/>
            <p:nvPr/>
          </p:nvSpPr>
          <p:spPr>
            <a:xfrm flipH="1" rot="5400000">
              <a:off x="8208720" y="71604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0"/>
            <p:cNvGrpSpPr/>
            <p:nvPr/>
          </p:nvGrpSpPr>
          <p:grpSpPr>
            <a:xfrm>
              <a:off x="8355960" y="489240"/>
              <a:ext cx="311400" cy="199080"/>
              <a:chOff x="8355960" y="489240"/>
              <a:chExt cx="311400" cy="199080"/>
            </a:xfrm>
          </p:grpSpPr>
          <p:sp>
            <p:nvSpPr>
              <p:cNvPr id="169" name="Freeform 41"/>
              <p:cNvSpPr/>
              <p:nvPr/>
            </p:nvSpPr>
            <p:spPr>
              <a:xfrm flipH="1">
                <a:off x="83556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2"/>
              <p:cNvSpPr/>
              <p:nvPr/>
            </p:nvSpPr>
            <p:spPr>
              <a:xfrm flipH="1">
                <a:off x="83793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3"/>
              <p:cNvSpPr/>
              <p:nvPr/>
            </p:nvSpPr>
            <p:spPr>
              <a:xfrm flipH="1">
                <a:off x="84502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4"/>
              <p:cNvSpPr/>
              <p:nvPr/>
            </p:nvSpPr>
            <p:spPr>
              <a:xfrm flipH="1">
                <a:off x="84837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45"/>
            <p:cNvGrpSpPr/>
            <p:nvPr/>
          </p:nvGrpSpPr>
          <p:grpSpPr>
            <a:xfrm>
              <a:off x="7974360" y="489240"/>
              <a:ext cx="311400" cy="199080"/>
              <a:chOff x="7974360" y="489240"/>
              <a:chExt cx="311400" cy="199080"/>
            </a:xfrm>
          </p:grpSpPr>
          <p:sp>
            <p:nvSpPr>
              <p:cNvPr id="174" name="Freeform 46"/>
              <p:cNvSpPr/>
              <p:nvPr/>
            </p:nvSpPr>
            <p:spPr>
              <a:xfrm flipH="1">
                <a:off x="79740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7"/>
              <p:cNvSpPr/>
              <p:nvPr/>
            </p:nvSpPr>
            <p:spPr>
              <a:xfrm flipH="1">
                <a:off x="79977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8"/>
              <p:cNvSpPr/>
              <p:nvPr/>
            </p:nvSpPr>
            <p:spPr>
              <a:xfrm flipH="1">
                <a:off x="80686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9"/>
              <p:cNvSpPr/>
              <p:nvPr/>
            </p:nvSpPr>
            <p:spPr>
              <a:xfrm flipH="1">
                <a:off x="81021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50"/>
            <p:cNvSpPr/>
            <p:nvPr/>
          </p:nvSpPr>
          <p:spPr>
            <a:xfrm flipH="1" flipV="1">
              <a:off x="8117640" y="22860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380880" y="1143000"/>
            <a:ext cx="8382240" cy="2481120"/>
            <a:chOff x="380880" y="1143000"/>
            <a:chExt cx="8382240" cy="2481120"/>
          </a:xfrm>
        </p:grpSpPr>
        <p:sp>
          <p:nvSpPr>
            <p:cNvPr id="181" name="Text Box 3"/>
            <p:cNvSpPr/>
            <p:nvPr/>
          </p:nvSpPr>
          <p:spPr>
            <a:xfrm>
              <a:off x="380880" y="1143000"/>
              <a:ext cx="8382240" cy="22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vec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be the “vectorization”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i.e., a length-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vector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’s entries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We can reduce the problem to the following: given an (implicit) 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atrix M, prepare a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BQPSPAC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such th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Object 12"/>
                <p:cNvSpPr txBox="1"/>
                <p:nvPr/>
              </p:nvSpPr>
              <p:spPr>
                <a:xfrm>
                  <a:off x="4191120" y="3048120"/>
                  <a:ext cx="31496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1-23T17:47:41Z</dcterms:modified>
  <cp:revision>68</cp:revision>
  <dc:subject/>
  <dc:title>The Learnability of Quantum States</dc:title>
</cp:coreProperties>
</file>