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E3EC-25E4-49A8-BC5E-8967F2387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EC2D-E56B-4BF8-BA66-BCECCDF5A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459B-0487-4AC3-9ED9-C2B8A9FB2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ED20-52E0-435A-8832-4040341D2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F6D3-F450-4542-A710-F1E8E21D2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21EE-2B91-4141-9B03-585C26AEE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7F89-4CB7-4550-99FC-F22DE14D7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DE4E-F523-4349-ADE4-41F440344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1C7D-5E03-4A5C-A671-19EC64B21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7173-132F-40C3-9E94-F81BE8FB5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FCB5-352B-4131-AF13-592A500AD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23FE-7C4F-4449-8866-C682305FD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E5D9-AACD-4A62-A73E-A38694425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6DAE-3F24-4ADC-82DC-51A828B3C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6E08-61DB-4E7B-8364-31A269239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A533-D4E9-4D8A-8D22-F714E17CA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24DE-BDC7-4EAF-BBFF-17C105D3A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3E97-71EE-4EA5-9CD9-D0D28A87E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1078-EE8A-4474-880B-E84E7C8EA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8E35-AEAC-4352-98BC-A8EC54BA2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66BA-E901-4C6B-B034-83C8FACC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CC30-8D4B-4777-8C28-8E04934B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816D-AC6F-41AA-A65A-B7E8F79B0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0C14-CCA4-43F7-B224-493DA5C16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51C9-E827-45DC-B8DB-A73A5A16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EDBB-599B-40A0-A8DB-F024333E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9FF2-DDE1-48EE-AE4E-745F958F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D670-7CE4-49CD-BE91-4267FC7E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A5AB-C288-401E-A8FA-4531C49F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9ADD-362C-4FE4-9115-415EDDF4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F3E9-AF93-4DF4-AEA8-36EEB9CD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7976-67F0-4AEF-8A74-8FD397EE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B698-5A5E-4972-AD6E-FC8B631F0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905120" y="49525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alibri"/>
                <a:ea typeface="Calibri"/>
              </a:rPr>
              <a:t>Scott Aaronson (MIT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alibri"/>
                <a:ea typeface="Calibri"/>
              </a:rPr>
              <a:t>Based on joint work with John Watrous (U. Waterloo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3"/>
          <p:cNvSpPr/>
          <p:nvPr/>
        </p:nvSpPr>
        <p:spPr>
          <a:xfrm flipV="1">
            <a:off x="1905120" y="2514600"/>
            <a:ext cx="1828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5"/>
          <p:cNvSpPr/>
          <p:nvPr/>
        </p:nvSpPr>
        <p:spPr>
          <a:xfrm rot="18212400">
            <a:off x="618480" y="387756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99"/>
                </a:solidFill>
                <a:latin typeface="Arial"/>
              </a:rPr>
              <a:t>BQP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 rot="2223000">
            <a:off x="2666160" y="3962160"/>
            <a:ext cx="302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99"/>
                </a:solidFill>
                <a:latin typeface="Arial"/>
              </a:rPr>
              <a:t>P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7"/>
          <p:cNvSpPr/>
          <p:nvPr/>
        </p:nvSpPr>
        <p:spPr>
          <a:xfrm>
            <a:off x="838080" y="228600"/>
            <a:ext cx="7620120" cy="1434600"/>
          </a:xfrm>
          <a:prstGeom prst="rect">
            <a:avLst/>
          </a:prstGeom>
          <a:solidFill>
            <a:srgbClr val="ffffff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  <a:ea typeface="Calibri"/>
              </a:rPr>
              <a:t>Quantum Computing With Closed Timelike Cur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28600" y="304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Calibri"/>
              </a:rPr>
              <a:t>What About The Quantum Ca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7"/>
          <p:cNvGrpSpPr/>
          <p:nvPr/>
        </p:nvGrpSpPr>
        <p:grpSpPr>
          <a:xfrm>
            <a:off x="382680" y="228600"/>
            <a:ext cx="836640" cy="1065960"/>
            <a:chOff x="382680" y="228600"/>
            <a:chExt cx="836640" cy="1065960"/>
          </a:xfrm>
        </p:grpSpPr>
        <p:sp>
          <p:nvSpPr>
            <p:cNvPr id="167" name="Line 8"/>
            <p:cNvSpPr/>
            <p:nvPr/>
          </p:nvSpPr>
          <p:spPr>
            <a:xfrm flipV="1">
              <a:off x="567720" y="251640"/>
              <a:ext cx="444960" cy="10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Picture 9" descr="MCDD01775_0000[1]"/>
            <p:cNvPicPr/>
            <p:nvPr/>
          </p:nvPicPr>
          <p:blipFill>
            <a:blip r:embed="rId1"/>
            <a:stretch/>
          </p:blipFill>
          <p:spPr>
            <a:xfrm>
              <a:off x="382680" y="252000"/>
              <a:ext cx="836640" cy="83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AutoShape 10"/>
            <p:cNvSpPr/>
            <p:nvPr/>
          </p:nvSpPr>
          <p:spPr>
            <a:xfrm rot="16200000">
              <a:off x="677160" y="606600"/>
              <a:ext cx="245160" cy="491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137" y="1197"/>
                    <a:pt x="6674" y="5080"/>
                    <a:pt x="6674" y="10800"/>
                  </a:cubicBezTo>
                  <a:cubicBezTo>
                    <a:pt x="6674" y="16520"/>
                    <a:pt x="14137" y="2040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11"/>
            <p:cNvGrpSpPr/>
            <p:nvPr/>
          </p:nvGrpSpPr>
          <p:grpSpPr>
            <a:xfrm>
              <a:off x="452160" y="414360"/>
              <a:ext cx="348840" cy="273600"/>
              <a:chOff x="452160" y="414360"/>
              <a:chExt cx="348840" cy="273600"/>
            </a:xfrm>
          </p:grpSpPr>
          <p:sp>
            <p:nvSpPr>
              <p:cNvPr id="171" name="Freeform 12"/>
              <p:cNvSpPr/>
              <p:nvPr/>
            </p:nvSpPr>
            <p:spPr>
              <a:xfrm>
                <a:off x="462960" y="489240"/>
                <a:ext cx="322920" cy="19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3"/>
              <p:cNvSpPr/>
              <p:nvPr/>
            </p:nvSpPr>
            <p:spPr>
              <a:xfrm>
                <a:off x="487440" y="511200"/>
                <a:ext cx="273960" cy="155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4"/>
              <p:cNvSpPr/>
              <p:nvPr/>
            </p:nvSpPr>
            <p:spPr>
              <a:xfrm>
                <a:off x="556200" y="523080"/>
                <a:ext cx="13176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5"/>
              <p:cNvSpPr/>
              <p:nvPr/>
            </p:nvSpPr>
            <p:spPr>
              <a:xfrm>
                <a:off x="632160" y="562680"/>
                <a:ext cx="2124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6"/>
              <p:cNvSpPr/>
              <p:nvPr/>
            </p:nvSpPr>
            <p:spPr>
              <a:xfrm>
                <a:off x="452160" y="476640"/>
                <a:ext cx="4572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7"/>
              <p:cNvSpPr/>
              <p:nvPr/>
            </p:nvSpPr>
            <p:spPr>
              <a:xfrm>
                <a:off x="503280" y="443520"/>
                <a:ext cx="35280" cy="5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8"/>
              <p:cNvSpPr/>
              <p:nvPr/>
            </p:nvSpPr>
            <p:spPr>
              <a:xfrm>
                <a:off x="560160" y="423000"/>
                <a:ext cx="2268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9"/>
              <p:cNvSpPr/>
              <p:nvPr/>
            </p:nvSpPr>
            <p:spPr>
              <a:xfrm>
                <a:off x="754560" y="481320"/>
                <a:ext cx="4644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20"/>
              <p:cNvSpPr/>
              <p:nvPr/>
            </p:nvSpPr>
            <p:spPr>
              <a:xfrm>
                <a:off x="714960" y="446400"/>
                <a:ext cx="3600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21"/>
              <p:cNvSpPr/>
              <p:nvPr/>
            </p:nvSpPr>
            <p:spPr>
              <a:xfrm>
                <a:off x="669960" y="424440"/>
                <a:ext cx="2448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22"/>
              <p:cNvSpPr/>
              <p:nvPr/>
            </p:nvSpPr>
            <p:spPr>
              <a:xfrm>
                <a:off x="614880" y="414360"/>
                <a:ext cx="1944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23"/>
            <p:cNvGrpSpPr/>
            <p:nvPr/>
          </p:nvGrpSpPr>
          <p:grpSpPr>
            <a:xfrm>
              <a:off x="847080" y="414360"/>
              <a:ext cx="348840" cy="273600"/>
              <a:chOff x="847080" y="414360"/>
              <a:chExt cx="348840" cy="273600"/>
            </a:xfrm>
          </p:grpSpPr>
          <p:sp>
            <p:nvSpPr>
              <p:cNvPr id="183" name="Freeform 24"/>
              <p:cNvSpPr/>
              <p:nvPr/>
            </p:nvSpPr>
            <p:spPr>
              <a:xfrm>
                <a:off x="857880" y="489240"/>
                <a:ext cx="322920" cy="19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25"/>
              <p:cNvSpPr/>
              <p:nvPr/>
            </p:nvSpPr>
            <p:spPr>
              <a:xfrm>
                <a:off x="882360" y="511200"/>
                <a:ext cx="273960" cy="155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26"/>
              <p:cNvSpPr/>
              <p:nvPr/>
            </p:nvSpPr>
            <p:spPr>
              <a:xfrm>
                <a:off x="951120" y="523080"/>
                <a:ext cx="13176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7"/>
              <p:cNvSpPr/>
              <p:nvPr/>
            </p:nvSpPr>
            <p:spPr>
              <a:xfrm>
                <a:off x="1027080" y="562680"/>
                <a:ext cx="2124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8"/>
              <p:cNvSpPr/>
              <p:nvPr/>
            </p:nvSpPr>
            <p:spPr>
              <a:xfrm>
                <a:off x="847080" y="476640"/>
                <a:ext cx="4572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9"/>
              <p:cNvSpPr/>
              <p:nvPr/>
            </p:nvSpPr>
            <p:spPr>
              <a:xfrm>
                <a:off x="898200" y="443520"/>
                <a:ext cx="35280" cy="5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30"/>
              <p:cNvSpPr/>
              <p:nvPr/>
            </p:nvSpPr>
            <p:spPr>
              <a:xfrm>
                <a:off x="955080" y="423000"/>
                <a:ext cx="2268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31"/>
              <p:cNvSpPr/>
              <p:nvPr/>
            </p:nvSpPr>
            <p:spPr>
              <a:xfrm>
                <a:off x="1149480" y="481320"/>
                <a:ext cx="4644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32"/>
              <p:cNvSpPr/>
              <p:nvPr/>
            </p:nvSpPr>
            <p:spPr>
              <a:xfrm>
                <a:off x="1109880" y="446400"/>
                <a:ext cx="3600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33"/>
              <p:cNvSpPr/>
              <p:nvPr/>
            </p:nvSpPr>
            <p:spPr>
              <a:xfrm>
                <a:off x="1064880" y="424440"/>
                <a:ext cx="2448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34"/>
              <p:cNvSpPr/>
              <p:nvPr/>
            </p:nvSpPr>
            <p:spPr>
              <a:xfrm>
                <a:off x="1009800" y="414360"/>
                <a:ext cx="1944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Line 35"/>
            <p:cNvSpPr/>
            <p:nvPr/>
          </p:nvSpPr>
          <p:spPr>
            <a:xfrm flipV="1">
              <a:off x="799920" y="228600"/>
              <a:ext cx="232200" cy="52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36"/>
          <p:cNvGrpSpPr/>
          <p:nvPr/>
        </p:nvGrpSpPr>
        <p:grpSpPr>
          <a:xfrm>
            <a:off x="7924680" y="228600"/>
            <a:ext cx="820800" cy="1065960"/>
            <a:chOff x="7924680" y="228600"/>
            <a:chExt cx="820800" cy="1065960"/>
          </a:xfrm>
        </p:grpSpPr>
        <p:sp>
          <p:nvSpPr>
            <p:cNvPr id="196" name="Line 37"/>
            <p:cNvSpPr/>
            <p:nvPr/>
          </p:nvSpPr>
          <p:spPr>
            <a:xfrm flipH="1" flipV="1">
              <a:off x="8136360" y="251640"/>
              <a:ext cx="430200" cy="10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Picture 38" descr="MCED00214_0000[1]"/>
            <p:cNvPicPr/>
            <p:nvPr/>
          </p:nvPicPr>
          <p:blipFill>
            <a:blip r:embed="rId2"/>
            <a:stretch/>
          </p:blipFill>
          <p:spPr>
            <a:xfrm flipH="1">
              <a:off x="7924680" y="252000"/>
              <a:ext cx="820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AutoShape 39"/>
            <p:cNvSpPr/>
            <p:nvPr/>
          </p:nvSpPr>
          <p:spPr>
            <a:xfrm flipH="1" rot="5400000">
              <a:off x="8208720" y="716040"/>
              <a:ext cx="244800" cy="33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885" y="1824"/>
                    <a:pt x="10170" y="5080"/>
                    <a:pt x="10170" y="10800"/>
                  </a:cubicBezTo>
                  <a:cubicBezTo>
                    <a:pt x="10170" y="16520"/>
                    <a:pt x="15885" y="1977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Group 40"/>
            <p:cNvGrpSpPr/>
            <p:nvPr/>
          </p:nvGrpSpPr>
          <p:grpSpPr>
            <a:xfrm>
              <a:off x="8355960" y="489240"/>
              <a:ext cx="311400" cy="199080"/>
              <a:chOff x="8355960" y="489240"/>
              <a:chExt cx="311400" cy="199080"/>
            </a:xfrm>
          </p:grpSpPr>
          <p:sp>
            <p:nvSpPr>
              <p:cNvPr id="200" name="Freeform 41"/>
              <p:cNvSpPr/>
              <p:nvPr/>
            </p:nvSpPr>
            <p:spPr>
              <a:xfrm flipH="1">
                <a:off x="8355600" y="489240"/>
                <a:ext cx="311400" cy="19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42"/>
              <p:cNvSpPr/>
              <p:nvPr/>
            </p:nvSpPr>
            <p:spPr>
              <a:xfrm flipH="1">
                <a:off x="8379360" y="511560"/>
                <a:ext cx="263880" cy="155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43"/>
              <p:cNvSpPr/>
              <p:nvPr/>
            </p:nvSpPr>
            <p:spPr>
              <a:xfrm flipH="1">
                <a:off x="8450280" y="523800"/>
                <a:ext cx="12744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44"/>
              <p:cNvSpPr/>
              <p:nvPr/>
            </p:nvSpPr>
            <p:spPr>
              <a:xfrm flipH="1">
                <a:off x="8483760" y="562320"/>
                <a:ext cx="20520" cy="2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45"/>
            <p:cNvGrpSpPr/>
            <p:nvPr/>
          </p:nvGrpSpPr>
          <p:grpSpPr>
            <a:xfrm>
              <a:off x="7974360" y="489240"/>
              <a:ext cx="311400" cy="199080"/>
              <a:chOff x="7974360" y="489240"/>
              <a:chExt cx="311400" cy="199080"/>
            </a:xfrm>
          </p:grpSpPr>
          <p:sp>
            <p:nvSpPr>
              <p:cNvPr id="205" name="Freeform 46"/>
              <p:cNvSpPr/>
              <p:nvPr/>
            </p:nvSpPr>
            <p:spPr>
              <a:xfrm flipH="1">
                <a:off x="7974000" y="489240"/>
                <a:ext cx="311400" cy="19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47"/>
              <p:cNvSpPr/>
              <p:nvPr/>
            </p:nvSpPr>
            <p:spPr>
              <a:xfrm flipH="1">
                <a:off x="7997760" y="511560"/>
                <a:ext cx="263880" cy="155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48"/>
              <p:cNvSpPr/>
              <p:nvPr/>
            </p:nvSpPr>
            <p:spPr>
              <a:xfrm flipH="1">
                <a:off x="8068680" y="523800"/>
                <a:ext cx="12744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49"/>
              <p:cNvSpPr/>
              <p:nvPr/>
            </p:nvSpPr>
            <p:spPr>
              <a:xfrm flipH="1">
                <a:off x="8102160" y="562320"/>
                <a:ext cx="20520" cy="2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Line 50"/>
            <p:cNvSpPr/>
            <p:nvPr/>
          </p:nvSpPr>
          <p:spPr>
            <a:xfrm flipH="1" flipV="1">
              <a:off x="8117640" y="228600"/>
              <a:ext cx="224280" cy="52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Text Box 3"/>
          <p:cNvSpPr/>
          <p:nvPr/>
        </p:nvSpPr>
        <p:spPr>
          <a:xfrm>
            <a:off x="304920" y="1447920"/>
            <a:ext cx="86104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You (the “user”) pick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quantu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circuit C on two registers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C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d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as well as a (classical) input |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o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C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t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the induced superoperator acting on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ature i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forc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o find a mixed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uch that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Calibri"/>
                <a:ea typeface="Calibri"/>
              </a:rPr>
              <a:t>(If there’s more than one such </a:t>
            </a:r>
            <a:r>
              <a:rPr b="0" lang="en-US" sz="2600" spc="-1" strike="noStrike">
                <a:solidFill>
                  <a:srgbClr val="0033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3300"/>
                </a:solidFill>
                <a:latin typeface="Calibri"/>
                <a:ea typeface="Calibri"/>
              </a:rPr>
              <a:t>, Nature can choose one “adversarially”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Output of the computa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C(x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3"/>
          <p:cNvSpPr/>
          <p:nvPr/>
        </p:nvSpPr>
        <p:spPr>
          <a:xfrm>
            <a:off x="380880" y="1752480"/>
            <a:ext cx="8382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Let </a:t>
            </a:r>
            <a:r>
              <a:rPr b="1" lang="en-US" sz="3200" spc="-1" strike="noStrike">
                <a:solidFill>
                  <a:srgbClr val="990099"/>
                </a:solidFill>
                <a:latin typeface="Calibri"/>
                <a:ea typeface="Calibri"/>
              </a:rPr>
              <a:t>BQP</a:t>
            </a:r>
            <a:r>
              <a:rPr b="1" lang="en-US" sz="3200" spc="-1" strike="noStrike" baseline="-25000">
                <a:solidFill>
                  <a:srgbClr val="990099"/>
                </a:solidFill>
                <a:latin typeface="Calibri"/>
                <a:ea typeface="Calibri"/>
              </a:rPr>
              <a:t>CTC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be the class of problems solvable in this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80880" y="2819520"/>
            <a:ext cx="83822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ertainly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  <a:ea typeface="Calibri"/>
              </a:rPr>
              <a:t>PSPAC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  <a:ea typeface="Calibri"/>
              </a:rPr>
              <a:t>P</a:t>
            </a:r>
            <a:r>
              <a:rPr b="1" lang="en-US" sz="3000" spc="-1" strike="noStrike" baseline="-25000">
                <a:solidFill>
                  <a:srgbClr val="990099"/>
                </a:solidFill>
                <a:latin typeface="Calibri"/>
                <a:ea typeface="Calibri"/>
              </a:rPr>
              <a:t>CTC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  <a:ea typeface="Calibri"/>
              </a:rPr>
              <a:t>BQP</a:t>
            </a:r>
            <a:r>
              <a:rPr b="1" lang="en-US" sz="3000" spc="-1" strike="noStrike" baseline="-25000">
                <a:solidFill>
                  <a:srgbClr val="990099"/>
                </a:solidFill>
                <a:latin typeface="Calibri"/>
                <a:ea typeface="Calibri"/>
              </a:rPr>
              <a:t>CTC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  <a:ea typeface="Calibri"/>
              </a:rPr>
              <a:t>EX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533520" y="4343400"/>
            <a:ext cx="8229600" cy="186264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Calibri"/>
              </a:rPr>
              <a:t>Main Result: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4000" spc="-1" strike="noStrike">
                <a:solidFill>
                  <a:srgbClr val="990099"/>
                </a:solidFill>
                <a:latin typeface="Calibri"/>
                <a:ea typeface="Calibri"/>
              </a:rPr>
              <a:t>BQP</a:t>
            </a:r>
            <a:r>
              <a:rPr b="1" lang="en-US" sz="4000" spc="-1" strike="noStrike" baseline="-25000">
                <a:solidFill>
                  <a:srgbClr val="990099"/>
                </a:solidFill>
                <a:latin typeface="Calibri"/>
                <a:ea typeface="Calibri"/>
              </a:rPr>
              <a:t>CTC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= </a:t>
            </a:r>
            <a:r>
              <a:rPr b="1" lang="en-US" sz="4000" spc="-1" strike="noStrike">
                <a:solidFill>
                  <a:srgbClr val="990099"/>
                </a:solidFill>
                <a:latin typeface="Calibri"/>
                <a:ea typeface="Calibri"/>
              </a:rPr>
              <a:t>P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f CTCs are possible, then quantum computers are no more powerful than classical on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228600" y="228600"/>
            <a:ext cx="86868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99"/>
                </a:solidFill>
                <a:latin typeface="Calibri"/>
                <a:ea typeface="Calibri"/>
              </a:rPr>
              <a:t>BQP</a:t>
            </a:r>
            <a:r>
              <a:rPr b="1" lang="en-US" sz="4200" spc="-1" strike="noStrike" baseline="-25000">
                <a:solidFill>
                  <a:srgbClr val="990099"/>
                </a:solidFill>
                <a:latin typeface="Calibri"/>
                <a:ea typeface="Calibri"/>
              </a:rPr>
              <a:t>CTC</a:t>
            </a: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Calibri"/>
              </a:rPr>
              <a:t> </a:t>
            </a:r>
            <a:r>
              <a:rPr b="1" lang="en-US" sz="4200" spc="-1" strike="noStrike">
                <a:solidFill>
                  <a:srgbClr val="333399"/>
                </a:solidFill>
                <a:latin typeface="Symbol"/>
                <a:ea typeface="Symbol"/>
              </a:rPr>
              <a:t></a:t>
            </a: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Calibri"/>
              </a:rPr>
              <a:t> </a:t>
            </a:r>
            <a:r>
              <a:rPr b="1" lang="en-US" sz="4200" spc="-1" strike="noStrike">
                <a:solidFill>
                  <a:srgbClr val="990099"/>
                </a:solidFill>
                <a:latin typeface="Calibri"/>
                <a:ea typeface="Calibri"/>
              </a:rPr>
              <a:t>PSPACE</a:t>
            </a: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Calibri"/>
              </a:rPr>
              <a:t>: Proof Sketc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80880" y="1143000"/>
            <a:ext cx="838224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Let vec(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) be the “vectorization” of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: i.e., a length-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vector of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’s entri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We can reduce the problem to the following: given an (implicit) 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n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matrix M, prepare a stat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CTC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Calibri"/>
              </a:rPr>
              <a:t>BQPSPAC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such th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12"/>
              <p:cNvSpPr txBox="1"/>
              <p:nvPr/>
            </p:nvSpPr>
            <p:spPr>
              <a:xfrm>
                <a:off x="3429000" y="3200400"/>
                <a:ext cx="4132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e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TC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e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T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Object 6"/>
              <p:cNvSpPr txBox="1"/>
              <p:nvPr/>
            </p:nvSpPr>
            <p:spPr>
              <a:xfrm>
                <a:off x="2057400" y="228600"/>
                <a:ext cx="40291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: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M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8" name="Text Box 9"/>
          <p:cNvSpPr/>
          <p:nvPr/>
        </p:nvSpPr>
        <p:spPr>
          <a:xfrm>
            <a:off x="380880" y="38088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Idea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7"/>
              <p:cNvSpPr txBox="1"/>
              <p:nvPr/>
            </p:nvSpPr>
            <p:spPr>
              <a:xfrm>
                <a:off x="1523880" y="1143000"/>
                <a:ext cx="5619960" cy="479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M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M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M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zM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zM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0" name="Text Box 10"/>
          <p:cNvSpPr/>
          <p:nvPr/>
        </p:nvSpPr>
        <p:spPr>
          <a:xfrm>
            <a:off x="380880" y="1066680"/>
            <a:ext cx="5462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304920" y="609588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Hence M(Pv)=Pv, so P projects onto the fixed points of 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457200" y="1981080"/>
            <a:ext cx="8458200" cy="3539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Furthermo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We can compute P exactly in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  <a:ea typeface="Calibri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, by using small-space algorithms for matrix inversion discovered in the 1980s (e.g.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sanky’s algorith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It’s easy to check that Pv is the vectorization of some density matri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So then take (say) Pvec(I) as the fixed-poin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CTC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228600" y="22860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Calibri"/>
              </a:rPr>
              <a:t>Coping With Erro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533520" y="990720"/>
            <a:ext cx="815328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The set of fixed points could be sensitive to arbitrarily small changes to the superopera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E.g., consider the two stochastic matri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13"/>
              <p:cNvSpPr txBox="1"/>
              <p:nvPr/>
            </p:nvSpPr>
            <p:spPr>
              <a:xfrm>
                <a:off x="2209680" y="2514600"/>
                <a:ext cx="447048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ε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ε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ε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ε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6" name="Text Box 10"/>
          <p:cNvSpPr/>
          <p:nvPr/>
        </p:nvSpPr>
        <p:spPr>
          <a:xfrm>
            <a:off x="457200" y="3809880"/>
            <a:ext cx="815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The first has (1,0) as its unique fixed point; the second has (0,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380880" y="4800600"/>
            <a:ext cx="815364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However, the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particula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CTC algorithm used to solve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Calibri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problems doesn’t share this property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Indeed, one can use a CTC to solve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Calibri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problems “fault-tolerantly” (building on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Bacon 2003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228600" y="3049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Calibri"/>
              </a:rPr>
              <a:t>Discuss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457200" y="1066680"/>
            <a:ext cx="8153280" cy="38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Three ways of interpreting our resul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TCs exist, so now we know exactly what can be computed in the physical world (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Calibri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)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TCs don’t exist, and this sort of result helps pinpoint what’s so ridiculous about th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TCs don’t exist, and we already knew they were ridiculous—but at least we can find fixed points of superoperators in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Calibri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1087200" y="5105520"/>
            <a:ext cx="6982200" cy="12819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Our result formally justifies the following intui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By making time “reusable,” CTCs would make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equivalent to space as a computational resour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228600" y="3049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Calibri"/>
              </a:rPr>
              <a:t>And Now for the Mudfight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457200" y="11430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Bennett, Leung, Smith, Smolin 2009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Deutsch’s (and our) model of CTCs is cr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457200" y="243828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y?  Because if you feed              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o a CTC computer, the outcome might be different than if you fed x and y separately, then averaged th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13"/>
              <p:cNvSpPr txBox="1"/>
              <p:nvPr/>
            </p:nvSpPr>
            <p:spPr>
              <a:xfrm>
                <a:off x="4724280" y="1981080"/>
                <a:ext cx="294804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  <m:r>
                          <m:t xml:space="preserve">⟨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⟩</m:t>
                        </m:r>
                        <m:r>
                          <m:t xml:space="preserve">⟨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Text Box 10"/>
          <p:cNvSpPr/>
          <p:nvPr/>
        </p:nvSpPr>
        <p:spPr>
          <a:xfrm>
            <a:off x="457200" y="40384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is is a simple consequence of the fact that CTCs induc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nonlineariti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n quantum mecha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457200" y="5181480"/>
            <a:ext cx="8153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ennett et al.’s proposed fix: Forc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o depend only on the whol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distribu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ver input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3"/>
              <p:cNvSpPr txBox="1"/>
              <p:nvPr/>
            </p:nvSpPr>
            <p:spPr>
              <a:xfrm>
                <a:off x="6324480" y="5715000"/>
                <a:ext cx="19987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  <m:r>
                          <m:t xml:space="preserve">⟨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228600" y="15228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Calibri"/>
              </a:rPr>
              <a:t>Our Respon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380880" y="8380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at Bennett et al. do basically just amounts t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defining CTCs out of existen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57200" y="320040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at CTCs would strain the normal axioms of physic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(like linearity of mixed-state evolution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obvio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… what else did you exp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457200" y="4648320"/>
            <a:ext cx="81532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t least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BQP</a:t>
            </a:r>
            <a:r>
              <a:rPr b="1" lang="en-US" sz="2800" spc="-1" strike="noStrike" baseline="-25000">
                <a:solidFill>
                  <a:srgbClr val="7030a0"/>
                </a:solidFill>
                <a:latin typeface="Calibri"/>
                <a:ea typeface="Calibri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s a good complexity class, better than their proposed replacement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BQPP</a:t>
            </a:r>
            <a:r>
              <a:rPr b="1" lang="en-US" sz="2800" spc="-1" strike="noStrike" baseline="-25000">
                <a:solidFill>
                  <a:srgbClr val="7030a0"/>
                </a:solidFill>
                <a:latin typeface="Calibri"/>
                <a:ea typeface="Calibri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914400" y="1828800"/>
            <a:ext cx="777240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Calibri"/>
                <a:ea typeface="Calibri"/>
              </a:rPr>
              <a:t>Since under their prescription, we might as well treat </a:t>
            </a:r>
            <a:r>
              <a:rPr b="0" lang="en-US" sz="2600" spc="-1" strike="noStrike">
                <a:solidFill>
                  <a:srgbClr val="0033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3300"/>
                </a:solidFill>
                <a:latin typeface="Calibri"/>
                <a:ea typeface="Calibri"/>
              </a:rPr>
              <a:t>CTC</a:t>
            </a:r>
            <a:r>
              <a:rPr b="0" lang="en-US" sz="2600" spc="-1" strike="noStrike">
                <a:solidFill>
                  <a:srgbClr val="003300"/>
                </a:solidFill>
                <a:latin typeface="Calibri"/>
                <a:ea typeface="Calibri"/>
              </a:rPr>
              <a:t> as a “quantum advice resource” fixed for all time, independent of anything else in the univer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1295280" y="5715000"/>
            <a:ext cx="6858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In any case, our main result—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upp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ound o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BQP</a:t>
            </a:r>
            <a:r>
              <a:rPr b="1" lang="en-US" sz="2800" spc="-1" strike="noStrike" baseline="-25000">
                <a:solidFill>
                  <a:srgbClr val="7030a0"/>
                </a:solidFill>
                <a:latin typeface="Calibri"/>
                <a:ea typeface="Calibri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d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BQPP</a:t>
            </a:r>
            <a:r>
              <a:rPr b="1" lang="en-US" sz="2800" spc="-1" strike="noStrike" baseline="-25000">
                <a:solidFill>
                  <a:srgbClr val="7030a0"/>
                </a:solidFill>
                <a:latin typeface="Calibri"/>
                <a:ea typeface="Calibri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—is unaffec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228600" y="3049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Calibri"/>
              </a:rPr>
              <a:t>Seth Lloyd’s Respon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457200" y="114300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ennett et al.’s fix precludes the possibility that a CTC could form in some “branches of the multiverse” but not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457200" y="26668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ut quantum gravity theories ought to allow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superpositions over different causal structur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—so if CTCs can form at all, then why not allow evolutions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13"/>
              <p:cNvSpPr txBox="1"/>
              <p:nvPr/>
            </p:nvSpPr>
            <p:spPr>
              <a:xfrm>
                <a:off x="533520" y="4267080"/>
                <a:ext cx="7927920" cy="21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⟩</m:t>
                            </m:r>
                            <m:r>
                              <m:t xml:space="preserve">⟨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</m:e>
                        </m:nary>
                        <m:r>
                          <m:t xml:space="preserve">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⟩</m:t>
                            </m:r>
                            <m:r>
                              <m:t xml:space="preserve">⟨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r>
                              <m:t xml:space="preserve">⊗</m:t>
                            </m:r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TC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⟩</m:t>
                                </m:r>
                                <m:r>
                                  <m:t xml:space="preserve">⟨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|</m:t>
                                </m:r>
                              </m:e>
                            </m:nary>
                          </m:e>
                        </m:d>
                        <m:r>
                          <m:t xml:space="preserve">⊗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⟩</m:t>
                                </m:r>
                                <m:r>
                                  <m:t xml:space="preserve">⟨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|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1905120" y="49525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alibri"/>
                <a:ea typeface="Calibri"/>
              </a:rPr>
              <a:t>Scott Aaronson (MIT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alibri"/>
                <a:ea typeface="Calibri"/>
              </a:rPr>
              <a:t>Based on joint work with John Watrous (U. Waterloo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3"/>
          <p:cNvSpPr/>
          <p:nvPr/>
        </p:nvSpPr>
        <p:spPr>
          <a:xfrm flipV="1">
            <a:off x="1905120" y="2514600"/>
            <a:ext cx="1828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5"/>
          <p:cNvSpPr/>
          <p:nvPr/>
        </p:nvSpPr>
        <p:spPr>
          <a:xfrm rot="18212400">
            <a:off x="618480" y="387756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99"/>
                </a:solidFill>
                <a:latin typeface="Arial"/>
              </a:rPr>
              <a:t>BQP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6"/>
          <p:cNvSpPr/>
          <p:nvPr/>
        </p:nvSpPr>
        <p:spPr>
          <a:xfrm rot="2223000">
            <a:off x="2666160" y="3962160"/>
            <a:ext cx="302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99"/>
                </a:solidFill>
                <a:latin typeface="Arial"/>
              </a:rPr>
              <a:t>P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7"/>
          <p:cNvSpPr/>
          <p:nvPr/>
        </p:nvSpPr>
        <p:spPr>
          <a:xfrm>
            <a:off x="838080" y="228600"/>
            <a:ext cx="7620120" cy="1434600"/>
          </a:xfrm>
          <a:prstGeom prst="rect">
            <a:avLst/>
          </a:prstGeom>
          <a:solidFill>
            <a:srgbClr val="ffffff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  <a:ea typeface="Calibri"/>
              </a:rPr>
              <a:t>Quantum Computing With Closed Timelike Cur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6224760" y="380880"/>
            <a:ext cx="2919240" cy="3724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"/>
          <p:cNvSpPr/>
          <p:nvPr/>
        </p:nvSpPr>
        <p:spPr>
          <a:xfrm>
            <a:off x="228600" y="3049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Calibri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380880" y="990720"/>
            <a:ext cx="556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rdinary quantum computing too pedestr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380880" y="2057400"/>
            <a:ext cx="556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 the past, CTCs have mostly been studied from the perspective of 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380880" y="3124080"/>
            <a:ext cx="5715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tudying them from a computer science perspective leads us to ask new questions—like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ow hard would Nature have to “work” to ensure causal consistenc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457200" y="54738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opefully, leads to some new insights about causality, linearity of quantum mechanics, space vs. time, ontic vs. epistemi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val 10"/>
          <p:cNvSpPr/>
          <p:nvPr/>
        </p:nvSpPr>
        <p:spPr>
          <a:xfrm>
            <a:off x="1752480" y="1143000"/>
            <a:ext cx="5639040" cy="5334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228600" y="22860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Calibri"/>
              </a:rPr>
              <a:t>Bestiary of Complexity Class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2438280" y="2057400"/>
            <a:ext cx="4191120" cy="44197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505320" y="2362320"/>
            <a:ext cx="21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  <a:ea typeface="Calibri"/>
              </a:rPr>
              <a:t>P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3505320" y="1219320"/>
            <a:ext cx="21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  <a:ea typeface="Calibri"/>
              </a:rPr>
              <a:t>EX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2"/>
          <p:cNvSpPr/>
          <p:nvPr/>
        </p:nvSpPr>
        <p:spPr>
          <a:xfrm>
            <a:off x="2971800" y="3657600"/>
            <a:ext cx="3276720" cy="2819520"/>
          </a:xfrm>
          <a:prstGeom prst="ellipse">
            <a:avLst/>
          </a:prstGeom>
          <a:solidFill>
            <a:srgbClr val="ffd5d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3962520" y="38862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  <a:ea typeface="Calibri"/>
              </a:rPr>
              <a:t>BQ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3"/>
          <p:cNvSpPr/>
          <p:nvPr/>
        </p:nvSpPr>
        <p:spPr>
          <a:xfrm>
            <a:off x="3352680" y="4876920"/>
            <a:ext cx="2514600" cy="152388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4114800" y="525780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  <a:ea typeface="Calibri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3"/>
          <p:cNvSpPr/>
          <p:nvPr/>
        </p:nvSpPr>
        <p:spPr>
          <a:xfrm>
            <a:off x="2133720" y="3048120"/>
            <a:ext cx="4952880" cy="20437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he difference between space and time in computer science: you can reuse space, but not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04920" y="45720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Calibri"/>
              </a:rPr>
              <a:t>Everyone’s first idea for a CTC computer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Do an arbitrarily long computation, then send the answer back in time to before you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04920" y="205740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Calibri"/>
                <a:ea typeface="Calibri"/>
              </a:rPr>
              <a:t>This does not work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04920" y="3276720"/>
            <a:ext cx="8305560" cy="22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Why no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Ignores the Grandfather Parado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Doesn’t take into account the computation you’ll have to do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getting the ans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5715000" y="3048120"/>
            <a:ext cx="15238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Deutsch’s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533520" y="1219320"/>
            <a:ext cx="8381880" cy="32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 closed timelike curve (CTC) is simply a resource that, given an operation f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acting in some region of spacetime, finds a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fixed poin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of f—that is, an x s.t. f(x)=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Of course, not every f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ha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a fixed point—that’s the Grandfather Paradox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But since every Markov chain has a stationary distribution, there’s always a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distribut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D such that f(D)=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1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1764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3"/>
          <p:cNvSpPr/>
          <p:nvPr/>
        </p:nvSpPr>
        <p:spPr>
          <a:xfrm>
            <a:off x="476280" y="4876920"/>
            <a:ext cx="7272000" cy="16779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alibri"/>
                <a:ea typeface="Calibri"/>
              </a:rPr>
              <a:t>Probabilistic Resolution of the Grandfather Paradox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- You’re born with ½ probabil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-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you’re born, you back and kill your grandfathe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- Hence you’re born with ½ prob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28600" y="5335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CTC Compu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31"/>
          <p:cNvGrpSpPr/>
          <p:nvPr/>
        </p:nvGrpSpPr>
        <p:grpSpPr>
          <a:xfrm>
            <a:off x="1981080" y="1600200"/>
            <a:ext cx="5186520" cy="3567240"/>
            <a:chOff x="1981080" y="1600200"/>
            <a:chExt cx="5186520" cy="3567240"/>
          </a:xfrm>
        </p:grpSpPr>
        <p:sp>
          <p:nvSpPr>
            <p:cNvPr id="80" name="Rectangle 24"/>
            <p:cNvSpPr/>
            <p:nvPr/>
          </p:nvSpPr>
          <p:spPr>
            <a:xfrm>
              <a:off x="2197080" y="2104920"/>
              <a:ext cx="1440000" cy="252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25"/>
            <p:cNvSpPr/>
            <p:nvPr/>
          </p:nvSpPr>
          <p:spPr>
            <a:xfrm>
              <a:off x="1981080" y="1888920"/>
              <a:ext cx="1944720" cy="2952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23"/>
            <p:cNvSpPr/>
            <p:nvPr/>
          </p:nvSpPr>
          <p:spPr>
            <a:xfrm>
              <a:off x="2414520" y="2320560"/>
              <a:ext cx="934920" cy="2087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4"/>
            <p:cNvSpPr/>
            <p:nvPr/>
          </p:nvSpPr>
          <p:spPr>
            <a:xfrm>
              <a:off x="2630520" y="3616200"/>
              <a:ext cx="1942920" cy="61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0" spc="-1" strike="noStrike">
                  <a:solidFill>
                    <a:srgbClr val="000000"/>
                  </a:solidFill>
                  <a:latin typeface="Monotype Corsiva"/>
                </a:rPr>
                <a:t>R </a:t>
              </a:r>
              <a:r>
                <a:rPr b="0" lang="en-CA" sz="3000" spc="-1" strike="noStrike" baseline="-25000">
                  <a:solidFill>
                    <a:srgbClr val="000000"/>
                  </a:solidFill>
                  <a:latin typeface="Arial"/>
                </a:rPr>
                <a:t>CTC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5"/>
            <p:cNvSpPr/>
            <p:nvPr/>
          </p:nvSpPr>
          <p:spPr>
            <a:xfrm>
              <a:off x="5078520" y="3616200"/>
              <a:ext cx="1942920" cy="61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0" spc="-1" strike="noStrike">
                  <a:solidFill>
                    <a:srgbClr val="000000"/>
                  </a:solidFill>
                  <a:latin typeface="Monotype Corsiva"/>
                </a:rPr>
                <a:t>R </a:t>
              </a:r>
              <a:r>
                <a:rPr b="0" lang="en-CA" sz="3000" spc="-1" strike="noStrike" baseline="-25000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6"/>
            <p:cNvSpPr/>
            <p:nvPr/>
          </p:nvSpPr>
          <p:spPr>
            <a:xfrm>
              <a:off x="2630520" y="2536560"/>
              <a:ext cx="4392360" cy="55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7"/>
            <p:cNvSpPr/>
            <p:nvPr/>
          </p:nvSpPr>
          <p:spPr>
            <a:xfrm flipV="1">
              <a:off x="3638520" y="3112560"/>
              <a:ext cx="0" cy="50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8"/>
            <p:cNvSpPr/>
            <p:nvPr/>
          </p:nvSpPr>
          <p:spPr>
            <a:xfrm flipV="1">
              <a:off x="3925800" y="3112560"/>
              <a:ext cx="0" cy="50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9"/>
            <p:cNvSpPr/>
            <p:nvPr/>
          </p:nvSpPr>
          <p:spPr>
            <a:xfrm flipV="1">
              <a:off x="3349440" y="3112560"/>
              <a:ext cx="0" cy="50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0"/>
            <p:cNvSpPr/>
            <p:nvPr/>
          </p:nvSpPr>
          <p:spPr>
            <a:xfrm flipV="1">
              <a:off x="6086520" y="3112560"/>
              <a:ext cx="0" cy="50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1"/>
            <p:cNvSpPr/>
            <p:nvPr/>
          </p:nvSpPr>
          <p:spPr>
            <a:xfrm flipV="1">
              <a:off x="6373800" y="3112560"/>
              <a:ext cx="0" cy="50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2"/>
            <p:cNvSpPr/>
            <p:nvPr/>
          </p:nvSpPr>
          <p:spPr>
            <a:xfrm flipV="1">
              <a:off x="5797440" y="3112560"/>
              <a:ext cx="0" cy="50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7"/>
            <p:cNvSpPr/>
            <p:nvPr/>
          </p:nvSpPr>
          <p:spPr>
            <a:xfrm flipV="1">
              <a:off x="6086520" y="1888920"/>
              <a:ext cx="0" cy="64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8"/>
            <p:cNvSpPr/>
            <p:nvPr/>
          </p:nvSpPr>
          <p:spPr>
            <a:xfrm flipV="1">
              <a:off x="6373800" y="1888920"/>
              <a:ext cx="0" cy="64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9"/>
            <p:cNvSpPr/>
            <p:nvPr/>
          </p:nvSpPr>
          <p:spPr>
            <a:xfrm flipV="1">
              <a:off x="5797440" y="1888920"/>
              <a:ext cx="0" cy="64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0"/>
            <p:cNvSpPr/>
            <p:nvPr/>
          </p:nvSpPr>
          <p:spPr>
            <a:xfrm flipV="1">
              <a:off x="6086520" y="4191840"/>
              <a:ext cx="0" cy="64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1"/>
            <p:cNvSpPr/>
            <p:nvPr/>
          </p:nvSpPr>
          <p:spPr>
            <a:xfrm flipV="1">
              <a:off x="6373800" y="4191840"/>
              <a:ext cx="0" cy="64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2"/>
            <p:cNvSpPr/>
            <p:nvPr/>
          </p:nvSpPr>
          <p:spPr>
            <a:xfrm flipV="1">
              <a:off x="5797440" y="4191840"/>
              <a:ext cx="0" cy="64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27"/>
            <p:cNvSpPr/>
            <p:nvPr/>
          </p:nvSpPr>
          <p:spPr>
            <a:xfrm>
              <a:off x="5581440" y="4768560"/>
              <a:ext cx="4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28"/>
            <p:cNvSpPr/>
            <p:nvPr/>
          </p:nvSpPr>
          <p:spPr>
            <a:xfrm>
              <a:off x="5870520" y="4768560"/>
              <a:ext cx="4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29"/>
            <p:cNvSpPr/>
            <p:nvPr/>
          </p:nvSpPr>
          <p:spPr>
            <a:xfrm>
              <a:off x="6159600" y="4768560"/>
              <a:ext cx="43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30"/>
            <p:cNvSpPr/>
            <p:nvPr/>
          </p:nvSpPr>
          <p:spPr>
            <a:xfrm>
              <a:off x="6086520" y="160020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74"/>
          <p:cNvSpPr/>
          <p:nvPr/>
        </p:nvSpPr>
        <p:spPr>
          <a:xfrm>
            <a:off x="7162920" y="3505320"/>
            <a:ext cx="160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Causality-Respecting Regist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5"/>
          <p:cNvSpPr/>
          <p:nvPr/>
        </p:nvSpPr>
        <p:spPr>
          <a:xfrm>
            <a:off x="304920" y="3352680"/>
            <a:ext cx="1676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Closed Timelike Curve Regist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6"/>
          <p:cNvSpPr/>
          <p:nvPr/>
        </p:nvSpPr>
        <p:spPr>
          <a:xfrm>
            <a:off x="3962520" y="18288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Polynomial Size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Straight Arrow Connector 31"/>
          <p:cNvCxnSpPr/>
          <p:nvPr/>
        </p:nvCxnSpPr>
        <p:spPr>
          <a:xfrm flipV="1">
            <a:off x="1981080" y="3885480"/>
            <a:ext cx="610560" cy="6732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304920" y="380880"/>
            <a:ext cx="861048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You (the “user”) pick a circuit C on two registers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C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d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as well as an input x to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C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t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the induced operation on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ature i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forc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o find a distribution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ver inputs to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uch that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=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  <a:ea typeface="Calibri"/>
              </a:rPr>
              <a:t>(If there’s more than one such D</a:t>
            </a:r>
            <a:r>
              <a:rPr b="0" lang="en-US" sz="2600" spc="-1" strike="noStrike" baseline="-25000">
                <a:solidFill>
                  <a:srgbClr val="008000"/>
                </a:solidFill>
                <a:latin typeface="Calibri"/>
                <a:ea typeface="Calibri"/>
              </a:rPr>
              <a:t>CTC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  <a:ea typeface="Calibri"/>
              </a:rPr>
              <a:t>, Nature can choose one “adversarially”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n Nature samples a string y from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Output of the computa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C(x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905120" y="5562720"/>
            <a:ext cx="5333760" cy="118332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Calibri"/>
                <a:ea typeface="Calibri"/>
              </a:rPr>
              <a:t>P</a:t>
            </a:r>
            <a:r>
              <a:rPr b="1" lang="en-US" sz="4000" spc="-1" strike="noStrike" baseline="-25000">
                <a:solidFill>
                  <a:srgbClr val="990099"/>
                </a:solidFill>
                <a:latin typeface="Calibri"/>
                <a:ea typeface="Calibri"/>
              </a:rPr>
              <a:t>CT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is the class of decision problems solvable in this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228600" y="228600"/>
            <a:ext cx="8686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Calibri"/>
              </a:rPr>
              <a:t>How to Use CTCs to Solve Hard Problems: Basic Ide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9"/>
          <p:cNvSpPr/>
          <p:nvPr/>
        </p:nvSpPr>
        <p:spPr>
          <a:xfrm>
            <a:off x="380880" y="16765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iven a function f:[N]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{0,1} (where N is huge), suppose we want “instantly” to find an input x such that f(x)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0"/>
          <p:cNvSpPr/>
          <p:nvPr/>
        </p:nvSpPr>
        <p:spPr>
          <a:xfrm>
            <a:off x="380880" y="27432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 claim that we can do so using the following function g:[N]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[N], acting on a CTC regis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2"/>
              <p:cNvSpPr txBox="1"/>
              <p:nvPr/>
            </p:nvSpPr>
            <p:spPr>
              <a:xfrm>
                <a:off x="2133720" y="3657600"/>
                <a:ext cx="56563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</m:t>
                              </m:r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mod</m:t>
                              </m:r>
                              <m:r>
                                <m:t xml:space="preserve">N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</m:t>
                              </m:r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2" name="TextBox 32"/>
          <p:cNvSpPr/>
          <p:nvPr/>
        </p:nvSpPr>
        <p:spPr>
          <a:xfrm>
            <a:off x="380880" y="5029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at are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fixed poi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this evo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58"/>
          <p:cNvGrpSpPr/>
          <p:nvPr/>
        </p:nvGrpSpPr>
        <p:grpSpPr>
          <a:xfrm>
            <a:off x="838080" y="5738760"/>
            <a:ext cx="7432920" cy="833400"/>
            <a:chOff x="838080" y="5738760"/>
            <a:chExt cx="7432920" cy="833400"/>
          </a:xfrm>
        </p:grpSpPr>
        <p:sp>
          <p:nvSpPr>
            <p:cNvPr id="114" name="Oval 34"/>
            <p:cNvSpPr/>
            <p:nvPr/>
          </p:nvSpPr>
          <p:spPr>
            <a:xfrm>
              <a:off x="1778760" y="5984640"/>
              <a:ext cx="304560" cy="304560"/>
            </a:xfrm>
            <a:prstGeom prst="ellipse">
              <a:avLst/>
            </a:prstGeom>
            <a:solidFill>
              <a:srgbClr val="ff99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5"/>
            <p:cNvSpPr/>
            <p:nvPr/>
          </p:nvSpPr>
          <p:spPr>
            <a:xfrm>
              <a:off x="2540880" y="5984640"/>
              <a:ext cx="304560" cy="304560"/>
            </a:xfrm>
            <a:prstGeom prst="ellipse">
              <a:avLst/>
            </a:prstGeom>
            <a:solidFill>
              <a:srgbClr val="ff99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36"/>
            <p:cNvSpPr/>
            <p:nvPr/>
          </p:nvSpPr>
          <p:spPr>
            <a:xfrm>
              <a:off x="3303000" y="5984640"/>
              <a:ext cx="304560" cy="304560"/>
            </a:xfrm>
            <a:prstGeom prst="ellipse">
              <a:avLst/>
            </a:prstGeom>
            <a:solidFill>
              <a:srgbClr val="ff99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7"/>
            <p:cNvSpPr/>
            <p:nvPr/>
          </p:nvSpPr>
          <p:spPr>
            <a:xfrm>
              <a:off x="4065120" y="5984640"/>
              <a:ext cx="304560" cy="304560"/>
            </a:xfrm>
            <a:prstGeom prst="ellipse">
              <a:avLst/>
            </a:prstGeom>
            <a:solidFill>
              <a:srgbClr val="ff99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8"/>
            <p:cNvSpPr/>
            <p:nvPr/>
          </p:nvSpPr>
          <p:spPr>
            <a:xfrm>
              <a:off x="4827240" y="5984640"/>
              <a:ext cx="304560" cy="304560"/>
            </a:xfrm>
            <a:prstGeom prst="ellipse">
              <a:avLst/>
            </a:prstGeom>
            <a:solidFill>
              <a:srgbClr val="ff99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9"/>
            <p:cNvSpPr/>
            <p:nvPr/>
          </p:nvSpPr>
          <p:spPr>
            <a:xfrm>
              <a:off x="5589360" y="5984640"/>
              <a:ext cx="304560" cy="304560"/>
            </a:xfrm>
            <a:prstGeom prst="ellipse">
              <a:avLst/>
            </a:prstGeom>
            <a:solidFill>
              <a:srgbClr val="00b05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40"/>
            <p:cNvSpPr/>
            <p:nvPr/>
          </p:nvSpPr>
          <p:spPr>
            <a:xfrm>
              <a:off x="6351480" y="5984640"/>
              <a:ext cx="304560" cy="304560"/>
            </a:xfrm>
            <a:prstGeom prst="ellipse">
              <a:avLst/>
            </a:prstGeom>
            <a:solidFill>
              <a:srgbClr val="ff99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41"/>
            <p:cNvSpPr/>
            <p:nvPr/>
          </p:nvSpPr>
          <p:spPr>
            <a:xfrm>
              <a:off x="7113600" y="5984640"/>
              <a:ext cx="304560" cy="304560"/>
            </a:xfrm>
            <a:prstGeom prst="ellipse">
              <a:avLst/>
            </a:prstGeom>
            <a:solidFill>
              <a:srgbClr val="ff99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2" name="Straight Arrow Connector 43"/>
            <p:cNvCxnSpPr>
              <a:stCxn id="114" idx="6"/>
              <a:endCxn id="115" idx="2"/>
            </p:cNvCxnSpPr>
            <p:nvPr/>
          </p:nvCxnSpPr>
          <p:spPr>
            <a:xfrm>
              <a:off x="2083320" y="6136920"/>
              <a:ext cx="457920" cy="21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triangle" w="med"/>
            </a:ln>
          </p:spPr>
        </p:cxnSp>
        <p:cxnSp>
          <p:nvCxnSpPr>
            <p:cNvPr id="123" name="Straight Arrow Connector 45"/>
            <p:cNvCxnSpPr/>
            <p:nvPr/>
          </p:nvCxnSpPr>
          <p:spPr>
            <a:xfrm>
              <a:off x="2083320" y="6136920"/>
              <a:ext cx="4579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4" name="Straight Arrow Connector 46"/>
            <p:cNvCxnSpPr/>
            <p:nvPr/>
          </p:nvCxnSpPr>
          <p:spPr>
            <a:xfrm>
              <a:off x="2845440" y="6136920"/>
              <a:ext cx="4579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" name="Straight Arrow Connector 47"/>
            <p:cNvCxnSpPr/>
            <p:nvPr/>
          </p:nvCxnSpPr>
          <p:spPr>
            <a:xfrm>
              <a:off x="3607560" y="6136920"/>
              <a:ext cx="4579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" name="Straight Arrow Connector 48"/>
            <p:cNvCxnSpPr/>
            <p:nvPr/>
          </p:nvCxnSpPr>
          <p:spPr>
            <a:xfrm>
              <a:off x="4369680" y="6136920"/>
              <a:ext cx="4579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" name="Straight Arrow Connector 49"/>
            <p:cNvCxnSpPr/>
            <p:nvPr/>
          </p:nvCxnSpPr>
          <p:spPr>
            <a:xfrm>
              <a:off x="5131800" y="6136920"/>
              <a:ext cx="4579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Straight Arrow Connector 50"/>
            <p:cNvCxnSpPr/>
            <p:nvPr/>
          </p:nvCxnSpPr>
          <p:spPr>
            <a:xfrm>
              <a:off x="6656040" y="6136920"/>
              <a:ext cx="4579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9" name="Freeform 56"/>
            <p:cNvSpPr/>
            <p:nvPr/>
          </p:nvSpPr>
          <p:spPr>
            <a:xfrm>
              <a:off x="838080" y="6095520"/>
              <a:ext cx="7432920" cy="47664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57"/>
            <p:cNvSpPr/>
            <p:nvPr/>
          </p:nvSpPr>
          <p:spPr>
            <a:xfrm>
              <a:off x="5800320" y="5738760"/>
              <a:ext cx="476640" cy="5482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228600" y="304920"/>
            <a:ext cx="8686800" cy="29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Theorem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P</a:t>
            </a:r>
            <a:r>
              <a:rPr b="1" lang="en-US" sz="2800" spc="-1" strike="noStrike" baseline="-25000">
                <a:solidFill>
                  <a:srgbClr val="990099"/>
                </a:solidFill>
                <a:latin typeface="Calibri"/>
                <a:ea typeface="Calibri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=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P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Proof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or 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  <a:ea typeface="Calibri"/>
              </a:rPr>
              <a:t>P</a:t>
            </a:r>
            <a:r>
              <a:rPr b="1" lang="en-US" sz="2400" spc="-1" strike="noStrike" baseline="-25000">
                <a:solidFill>
                  <a:srgbClr val="990099"/>
                </a:solidFill>
                <a:latin typeface="Calibri"/>
                <a:ea typeface="Calibri"/>
              </a:rPr>
              <a:t>CT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  <a:ea typeface="Calibri"/>
              </a:rPr>
              <a:t>PSPA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, just need to find some y such that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(m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(y)=y for some m.  Pick any y, then apply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or 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  <a:ea typeface="Calibri"/>
              </a:rPr>
              <a:t>PSPA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  <a:ea typeface="Calibri"/>
              </a:rPr>
              <a:t>P</a:t>
            </a:r>
            <a:r>
              <a:rPr b="1" lang="en-US" sz="2400" spc="-1" strike="noStrike" baseline="-25000">
                <a:solidFill>
                  <a:srgbClr val="990099"/>
                </a:solidFill>
                <a:latin typeface="Calibri"/>
                <a:ea typeface="Calibri"/>
              </a:rPr>
              <a:t>CT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: Hav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input and output an ordered pa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,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, where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is a state of the Turing machine we’re simulating and b is an answer bit, like 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380880" y="3352680"/>
            <a:ext cx="4038840" cy="2653560"/>
          </a:xfrm>
          <a:prstGeom prst="rect">
            <a:avLst/>
          </a:prstGeom>
          <a:solidFill>
            <a:srgbClr val="eb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only fixed-point distribution is a uniform distribution over all states of the Turing machine, with the answer bit set to its “true”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49"/>
          <p:cNvGrpSpPr/>
          <p:nvPr/>
        </p:nvGrpSpPr>
        <p:grpSpPr>
          <a:xfrm>
            <a:off x="5486400" y="2971800"/>
            <a:ext cx="3168720" cy="3672000"/>
            <a:chOff x="5486400" y="2971800"/>
            <a:chExt cx="3168720" cy="3672000"/>
          </a:xfrm>
        </p:grpSpPr>
        <p:sp>
          <p:nvSpPr>
            <p:cNvPr id="134" name="Text Box 4"/>
            <p:cNvSpPr/>
            <p:nvPr/>
          </p:nvSpPr>
          <p:spPr>
            <a:xfrm>
              <a:off x="5486400" y="3906720"/>
              <a:ext cx="1008360" cy="405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CA" sz="1800" spc="-1" strike="noStrike" baseline="-25000">
                  <a:solidFill>
                    <a:srgbClr val="000000"/>
                  </a:solidFill>
                  <a:latin typeface="Arial"/>
                </a:rPr>
                <a:t>T-1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5"/>
            <p:cNvSpPr/>
            <p:nvPr/>
          </p:nvSpPr>
          <p:spPr>
            <a:xfrm>
              <a:off x="5486400" y="3259080"/>
              <a:ext cx="1008360" cy="405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CA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6"/>
            <p:cNvSpPr/>
            <p:nvPr/>
          </p:nvSpPr>
          <p:spPr>
            <a:xfrm>
              <a:off x="5486400" y="5996160"/>
              <a:ext cx="1008360" cy="405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CA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7"/>
            <p:cNvSpPr/>
            <p:nvPr/>
          </p:nvSpPr>
          <p:spPr>
            <a:xfrm>
              <a:off x="5486400" y="5348160"/>
              <a:ext cx="1008360" cy="405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CA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8"/>
            <p:cNvSpPr/>
            <p:nvPr/>
          </p:nvSpPr>
          <p:spPr>
            <a:xfrm flipV="1">
              <a:off x="5991480" y="3618000"/>
              <a:ext cx="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3"/>
            <p:cNvSpPr/>
            <p:nvPr/>
          </p:nvSpPr>
          <p:spPr>
            <a:xfrm flipV="1">
              <a:off x="5991480" y="5708160"/>
              <a:ext cx="0" cy="28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6"/>
            <p:cNvSpPr/>
            <p:nvPr/>
          </p:nvSpPr>
          <p:spPr>
            <a:xfrm flipV="1">
              <a:off x="5991480" y="426708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7"/>
            <p:cNvSpPr/>
            <p:nvPr/>
          </p:nvSpPr>
          <p:spPr>
            <a:xfrm flipV="1">
              <a:off x="5991480" y="5132160"/>
              <a:ext cx="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8"/>
            <p:cNvSpPr/>
            <p:nvPr/>
          </p:nvSpPr>
          <p:spPr>
            <a:xfrm>
              <a:off x="5972400" y="4627440"/>
              <a:ext cx="3636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9"/>
            <p:cNvSpPr/>
            <p:nvPr/>
          </p:nvSpPr>
          <p:spPr>
            <a:xfrm>
              <a:off x="5972400" y="4772160"/>
              <a:ext cx="363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0"/>
            <p:cNvSpPr/>
            <p:nvPr/>
          </p:nvSpPr>
          <p:spPr>
            <a:xfrm>
              <a:off x="5972400" y="4916520"/>
              <a:ext cx="363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22"/>
            <p:cNvSpPr/>
            <p:nvPr/>
          </p:nvSpPr>
          <p:spPr>
            <a:xfrm>
              <a:off x="7286760" y="3906720"/>
              <a:ext cx="1008000" cy="405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CA" sz="1800" spc="-1" strike="noStrike" baseline="-25000">
                  <a:solidFill>
                    <a:srgbClr val="000000"/>
                  </a:solidFill>
                  <a:latin typeface="Arial"/>
                </a:rPr>
                <a:t>T-1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3"/>
            <p:cNvSpPr/>
            <p:nvPr/>
          </p:nvSpPr>
          <p:spPr>
            <a:xfrm>
              <a:off x="7286760" y="3259080"/>
              <a:ext cx="1008000" cy="405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CA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4"/>
            <p:cNvSpPr/>
            <p:nvPr/>
          </p:nvSpPr>
          <p:spPr>
            <a:xfrm>
              <a:off x="7286760" y="5996160"/>
              <a:ext cx="1008000" cy="405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CA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25"/>
            <p:cNvSpPr/>
            <p:nvPr/>
          </p:nvSpPr>
          <p:spPr>
            <a:xfrm>
              <a:off x="7286760" y="5348160"/>
              <a:ext cx="1008000" cy="405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CA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6"/>
            <p:cNvSpPr/>
            <p:nvPr/>
          </p:nvSpPr>
          <p:spPr>
            <a:xfrm flipV="1">
              <a:off x="7791480" y="3618000"/>
              <a:ext cx="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V="1">
              <a:off x="7791480" y="5708160"/>
              <a:ext cx="0" cy="28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4"/>
            <p:cNvSpPr/>
            <p:nvPr/>
          </p:nvSpPr>
          <p:spPr>
            <a:xfrm flipV="1">
              <a:off x="7791480" y="6356520"/>
              <a:ext cx="0" cy="28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36"/>
            <p:cNvSpPr/>
            <p:nvPr/>
          </p:nvSpPr>
          <p:spPr>
            <a:xfrm>
              <a:off x="6855120" y="2971800"/>
              <a:ext cx="0" cy="324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7"/>
            <p:cNvSpPr/>
            <p:nvPr/>
          </p:nvSpPr>
          <p:spPr>
            <a:xfrm flipV="1">
              <a:off x="5991480" y="2971800"/>
              <a:ext cx="0" cy="28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8"/>
            <p:cNvSpPr/>
            <p:nvPr/>
          </p:nvSpPr>
          <p:spPr>
            <a:xfrm flipH="1">
              <a:off x="5991120" y="2971800"/>
              <a:ext cx="86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39"/>
            <p:cNvSpPr/>
            <p:nvPr/>
          </p:nvSpPr>
          <p:spPr>
            <a:xfrm flipV="1">
              <a:off x="7791480" y="2971800"/>
              <a:ext cx="0" cy="28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40"/>
            <p:cNvSpPr/>
            <p:nvPr/>
          </p:nvSpPr>
          <p:spPr>
            <a:xfrm flipH="1">
              <a:off x="7791120" y="2971800"/>
              <a:ext cx="86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41"/>
            <p:cNvSpPr/>
            <p:nvPr/>
          </p:nvSpPr>
          <p:spPr>
            <a:xfrm>
              <a:off x="8655120" y="2971800"/>
              <a:ext cx="0" cy="367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2"/>
            <p:cNvSpPr/>
            <p:nvPr/>
          </p:nvSpPr>
          <p:spPr>
            <a:xfrm flipH="1">
              <a:off x="7791120" y="6643800"/>
              <a:ext cx="86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43"/>
            <p:cNvSpPr/>
            <p:nvPr/>
          </p:nvSpPr>
          <p:spPr>
            <a:xfrm>
              <a:off x="6855120" y="6211800"/>
              <a:ext cx="43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44"/>
            <p:cNvSpPr/>
            <p:nvPr/>
          </p:nvSpPr>
          <p:spPr>
            <a:xfrm flipV="1">
              <a:off x="7791480" y="426708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45"/>
            <p:cNvSpPr/>
            <p:nvPr/>
          </p:nvSpPr>
          <p:spPr>
            <a:xfrm flipV="1">
              <a:off x="7791480" y="5132160"/>
              <a:ext cx="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46"/>
            <p:cNvSpPr/>
            <p:nvPr/>
          </p:nvSpPr>
          <p:spPr>
            <a:xfrm>
              <a:off x="7772400" y="4627440"/>
              <a:ext cx="3672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47"/>
            <p:cNvSpPr/>
            <p:nvPr/>
          </p:nvSpPr>
          <p:spPr>
            <a:xfrm>
              <a:off x="7772400" y="4772160"/>
              <a:ext cx="3672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48"/>
            <p:cNvSpPr/>
            <p:nvPr/>
          </p:nvSpPr>
          <p:spPr>
            <a:xfrm>
              <a:off x="7772400" y="4916520"/>
              <a:ext cx="3672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owner</cp:lastModifiedBy>
  <dcterms:modified xsi:type="dcterms:W3CDTF">2010-05-01T15:09:34Z</dcterms:modified>
  <cp:revision>126</cp:revision>
  <dc:subject/>
  <dc:title>The Learnability of Quantum States</dc:title>
</cp:coreProperties>
</file>