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2FF6-15A2-48B3-9310-59D6CC518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0AEA-14D6-45D1-8678-11C793D7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4F9-D1F8-413F-BF56-B5017BA0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2FE2-F5A0-42C6-81E1-051CDC1F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3AD-1521-46E4-9174-CFD62DA31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EB90-618D-4B54-9D46-37BEC8DFE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099C-13B4-49BF-8F09-7FAFF81B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E17C-F97D-48F5-B557-6F1264D1B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CF4B-DBB2-4E2F-BFD0-F9DEEDB1E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6011-3D4B-4597-9FE5-E7CA8A3ED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C6A9-2951-49F3-813E-511524BB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C491-81E7-4D4F-97C1-7A31124C6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E8C-1CCA-4540-A1DF-88003F4B85A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0EEA-271F-4B46-911A-D2FDFB643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C4C7-FCEB-4B27-ABAB-F98FD838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2B5-E26E-4AC7-A90E-BD1FA0EA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24E-EFA6-429B-BCB9-3C56F467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313-6BBA-446D-BFA9-49A85786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05A-FA03-40C4-93FE-51AE3C14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7BE-03EC-46A0-8E41-1870FC0B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E1F-E374-418F-AA30-1C707784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DEB-0E87-489F-8C37-574984F7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237-7336-4071-B1AC-E33DE3C6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71F-9A1D-4CA1-AA7F-22A52B54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88B-BAB7-4A33-9080-22D04E08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AB5-E971-4CAE-9780-518A469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ED6-A465-4125-947D-AA3D1B40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812-0EAA-4BD2-BF3B-D61C315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B376-C1B9-4804-A299-31CDDC69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How Much Information Is In A Quantum State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429000" y="175248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C:\Users\od user\AppData\Local\Microsoft\Windows\Temporary Internet Files\Content.IE5\N7YD4WXK\MCj04412790000[1].png"/>
          <p:cNvPicPr/>
          <p:nvPr/>
        </p:nvPicPr>
        <p:blipFill>
          <a:blip r:embed="rId1"/>
          <a:stretch/>
        </p:blipFill>
        <p:spPr>
          <a:xfrm rot="19738200">
            <a:off x="1830240" y="1798200"/>
            <a:ext cx="38228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99"/>
          <p:cNvSpPr/>
          <p:nvPr/>
        </p:nvSpPr>
        <p:spPr>
          <a:xfrm>
            <a:off x="380880" y="1371600"/>
            <a:ext cx="845820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Just two tiny problems with this compression theor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ing the classical “compressed representation” of quantum state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the compressed representation, computing the probability some measurement on the state accepts also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“Quantum Occam’s Razor Theorem”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[A. 2006]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t least addresses the first probl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xplosion 2 7"/>
          <p:cNvSpPr/>
          <p:nvPr/>
        </p:nvSpPr>
        <p:spPr>
          <a:xfrm rot="698400">
            <a:off x="6189480" y="3946320"/>
            <a:ext cx="223200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99"/>
          <p:cNvSpPr/>
          <p:nvPr/>
        </p:nvSpPr>
        <p:spPr>
          <a:xfrm>
            <a:off x="304920" y="2209680"/>
            <a:ext cx="861048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quantum state of n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he acceptance probabilities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distribution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m measurements independently from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 into your lab and estimate acceptance probabilities of all of them on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hypothesis state” approximately consistent with all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2133720" y="335268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04920" y="1676520"/>
            <a:ext cx="853416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implemented this “pretty-good quantum state tomography” method in MATLAB, using a fast convex programming method developed specifically for this applicatio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[Hazan 2008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then tested it (on simulated data) using an MIT clus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y theorem appears to b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6"/>
          <p:cNvSpPr/>
          <p:nvPr/>
        </p:nvSpPr>
        <p:spPr>
          <a:xfrm>
            <a:off x="228600" y="228600"/>
            <a:ext cx="87631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Recap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an unknown n-qubit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 set S of two-outcome measuremen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arning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hypothesis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sistent with a small number of sample poin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on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 particular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produced by postselection)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ream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passes a small number of tes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90720" y="4572000"/>
            <a:ext cx="7315200" cy="550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[A.-Drucker 2009]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dream theorem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80880" y="5105520"/>
            <a:ext cx="8458200" cy="3988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aveat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have more qubits th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in general be a very differen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80880" y="5791320"/>
            <a:ext cx="8458200" cy="885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lica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get a quantum state that satisfies exp(n) conditions by imposing only poly(n) constra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04920" y="990720"/>
            <a:ext cx="853416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ny natural scenarios, the “exponentiality” of quantum states is an il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is, there’s a short (though possibly cryptic) classical string that specifies how the quantum state behaves, on any measurement you could actually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etty-good quantum state tomography, characterization of quantum computers with “magic initial states”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iggest open 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ind special classes of quantum states that can be learned in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00"/>
          <p:cNvSpPr/>
          <p:nvPr/>
        </p:nvSpPr>
        <p:spPr>
          <a:xfrm>
            <a:off x="380880" y="6019920"/>
            <a:ext cx="8229600" cy="5205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demonstration” would be nice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he Probl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160020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quantum mechanics, a state of n entangled particles requires at least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24382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prob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58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62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67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73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77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7"/>
              <p:cNvSpPr/>
              <p:nvPr/>
            </p:nvSpPr>
            <p:spPr>
              <a:xfrm>
                <a:off x="1274760" y="6609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"/>
              <p:cNvSpPr/>
              <p:nvPr/>
            </p:nvSpPr>
            <p:spPr>
              <a:xfrm>
                <a:off x="1068840" y="563400"/>
                <a:ext cx="522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9"/>
              <p:cNvSpPr/>
              <p:nvPr/>
            </p:nvSpPr>
            <p:spPr>
              <a:xfrm>
                <a:off x="1127520" y="525960"/>
                <a:ext cx="4032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0"/>
              <p:cNvSpPr/>
              <p:nvPr/>
            </p:nvSpPr>
            <p:spPr>
              <a:xfrm>
                <a:off x="1192320" y="502560"/>
                <a:ext cx="2592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1"/>
              <p:cNvSpPr/>
              <p:nvPr/>
            </p:nvSpPr>
            <p:spPr>
              <a:xfrm>
                <a:off x="1414800" y="568800"/>
                <a:ext cx="5328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2"/>
              <p:cNvSpPr/>
              <p:nvPr/>
            </p:nvSpPr>
            <p:spPr>
              <a:xfrm>
                <a:off x="1369800" y="529200"/>
                <a:ext cx="41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3"/>
              <p:cNvSpPr/>
              <p:nvPr/>
            </p:nvSpPr>
            <p:spPr>
              <a:xfrm>
                <a:off x="1317960" y="504360"/>
                <a:ext cx="2772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4"/>
              <p:cNvSpPr/>
              <p:nvPr/>
            </p:nvSpPr>
            <p:spPr>
              <a:xfrm>
                <a:off x="1254960" y="492840"/>
                <a:ext cx="22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89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9"/>
              <p:cNvSpPr/>
              <p:nvPr/>
            </p:nvSpPr>
            <p:spPr>
              <a:xfrm>
                <a:off x="1725840" y="660960"/>
                <a:ext cx="241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0"/>
              <p:cNvSpPr/>
              <p:nvPr/>
            </p:nvSpPr>
            <p:spPr>
              <a:xfrm>
                <a:off x="1519920" y="563400"/>
                <a:ext cx="522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1"/>
              <p:cNvSpPr/>
              <p:nvPr/>
            </p:nvSpPr>
            <p:spPr>
              <a:xfrm>
                <a:off x="1578600" y="525960"/>
                <a:ext cx="4032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2"/>
              <p:cNvSpPr/>
              <p:nvPr/>
            </p:nvSpPr>
            <p:spPr>
              <a:xfrm>
                <a:off x="1643400" y="502560"/>
                <a:ext cx="2592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3"/>
              <p:cNvSpPr/>
              <p:nvPr/>
            </p:nvSpPr>
            <p:spPr>
              <a:xfrm>
                <a:off x="1865880" y="568800"/>
                <a:ext cx="53280" cy="5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44"/>
              <p:cNvSpPr/>
              <p:nvPr/>
            </p:nvSpPr>
            <p:spPr>
              <a:xfrm>
                <a:off x="1820880" y="529200"/>
                <a:ext cx="41400" cy="6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5"/>
              <p:cNvSpPr/>
              <p:nvPr/>
            </p:nvSpPr>
            <p:spPr>
              <a:xfrm>
                <a:off x="1769040" y="504360"/>
                <a:ext cx="27720" cy="6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6"/>
              <p:cNvSpPr/>
              <p:nvPr/>
            </p:nvSpPr>
            <p:spPr>
              <a:xfrm>
                <a:off x="1706040" y="492840"/>
                <a:ext cx="22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2590920"/>
            <a:ext cx="83822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lots of copies of an unknown quantum state, produce an approximate classical description of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something I made up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“As seen in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Scienc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 &amp;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Natur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entral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o tomography on an entangled state of n particles, you need ~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Current record: 8 particles / ~656,000 experiments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Today we’ll tame the exponential b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00"/>
          <p:cNvSpPr/>
          <p:nvPr/>
        </p:nvSpPr>
        <p:spPr>
          <a:xfrm>
            <a:off x="228600" y="2286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that fact seems to be “more about the map than the territ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0"/>
          <p:cNvSpPr/>
          <p:nvPr/>
        </p:nvSpPr>
        <p:spPr>
          <a:xfrm>
            <a:off x="228600" y="365760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Holevo’s Theorem (1973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sending an n-qubit quantum state, Alice can transmit no more than n classical bits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00"/>
          <p:cNvSpPr/>
          <p:nvPr/>
        </p:nvSpPr>
        <p:spPr>
          <a:xfrm>
            <a:off x="228600" y="472428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is tal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ew limitations on the information content of quantum states 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[A. 2004], [A. 2006], [A.-Dechter 2008], [A. Drucker 200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00"/>
          <p:cNvSpPr/>
          <p:nvPr/>
        </p:nvSpPr>
        <p:spPr>
          <a:xfrm>
            <a:off x="914400" y="5410080"/>
            <a:ext cx="7315200" cy="1068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Less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The linearity of QM helps tame the exponentiality of Q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4" name="Straight Arrow Connector 12"/>
          <p:cNvCxnSpPr/>
          <p:nvPr/>
        </p:nvCxnSpPr>
        <p:spPr>
          <a:xfrm>
            <a:off x="3048120" y="2133720"/>
            <a:ext cx="274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1001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ay2"/>
          <p:cNvPicPr/>
          <p:nvPr/>
        </p:nvPicPr>
        <p:blipFill>
          <a:blip r:embed="rId2"/>
          <a:srcRect l="51300" t="34202" r="33749" b="43802"/>
          <a:stretch/>
        </p:blipFill>
        <p:spPr>
          <a:xfrm>
            <a:off x="5791320" y="1371600"/>
            <a:ext cx="124272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380880" y="31240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give your graduate student a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n qubits (or 10n, o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)—such that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the student can learn your answer to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-or-no question of size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80880" y="5105520"/>
            <a:ext cx="81536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problem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914400" y="3809880"/>
            <a:ext cx="7162920" cy="27374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4"/>
          <p:cNvSpPr/>
          <p:nvPr/>
        </p:nvSpPr>
        <p:spPr>
          <a:xfrm>
            <a:off x="685800" y="16765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 … well enough that, for any 2-outcome measurement M in some finite set S, Bob can estimate the probability that M accept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1371600" y="5486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33520" y="5334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QUANTUM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maximally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6-29T13:35:54Z</dcterms:modified>
  <cp:revision>110</cp:revision>
  <dc:subject/>
  <dc:title>The Learnability of Quantum States</dc:title>
</cp:coreProperties>
</file>