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725F-2360-4D4E-99C2-0BCB554D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DC0-D480-47A8-B85C-E25DE801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700-99BC-4CC7-8969-CC84F81D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49A-816B-4E02-B70F-4F15001C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273A-631F-4620-8CF9-9C04AB86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5368-B19A-43C8-82E3-97F3E7708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B9CA-2E3C-469F-8180-3D1E3BD4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A8D9-C73C-4D4D-85E3-95638B1B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6289-8372-41B9-92D8-ACBB2BF5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BD22-7DD9-4F26-9025-D70894DC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3B9A-FFF7-45D3-95B5-9B4EF7AA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9481-948E-4D60-915A-C9A4D12C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ADA-9219-402C-AEB1-A7813B7D9E7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C02C-935A-42DA-A46D-A5EE119D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EB8A-6313-4FD5-A85E-D14E0D92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F60B-4119-41C7-97F6-1FEAAE9C5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E93-697B-43C3-86D4-8FD1DCFD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314-262A-467B-B865-80947F3B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3B1-E92F-460E-96C6-7152174D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CEC-9510-4CD1-B207-30FCFEE6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3DF-36FC-4299-BEB8-56D0A006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2DB-9F14-47B9-AADA-BBF2513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ED1-8FC0-4018-B443-78C51B46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623-C4E5-4055-99D8-326095D8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9A6-3F0C-4E96-9D5E-FCA9AE07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291-12B8-4C0F-AEEC-D9619BE4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292-77AE-4A91-A09C-BD4B6F98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C93-9F6C-4A4C-8C49-7087848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D30D-FECB-4225-8AB8-00E818D76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A Quantum Stat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429000" y="175248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830240" y="1798200"/>
            <a:ext cx="38228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99"/>
          <p:cNvSpPr/>
          <p:nvPr/>
        </p:nvSpPr>
        <p:spPr>
          <a:xfrm>
            <a:off x="380880" y="1371600"/>
            <a:ext cx="84582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Just two tiny problems with this compression theor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ing the classical “compressed representation” of quantum state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the compressed representation, computing the probability some measurement on the state accepts also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“Quantum Occam’s Razor Theorem”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[A. 2006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t least addresses the first probl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xplosion 2 7"/>
          <p:cNvSpPr/>
          <p:nvPr/>
        </p:nvSpPr>
        <p:spPr>
          <a:xfrm rot="698400">
            <a:off x="6189480" y="3946320"/>
            <a:ext cx="22320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99"/>
          <p:cNvSpPr/>
          <p:nvPr/>
        </p:nvSpPr>
        <p:spPr>
          <a:xfrm>
            <a:off x="304920" y="2209680"/>
            <a:ext cx="861048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quantum state of n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m measurements independently from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hypothesis state” approximately consistent with all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2133720" y="33526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is “pretty-good quantum state tomography” method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(on simulated data) using an MIT clu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6"/>
          <p:cNvSpPr/>
          <p:nvPr/>
        </p:nvSpPr>
        <p:spPr>
          <a:xfrm>
            <a:off x="228600" y="228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Recap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an unknown n-qubit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 set S of two-outcome measurem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arning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sistent with a small number of sample poin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on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 particular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duced by postselection)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ream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es a small number of tes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90720" y="4572000"/>
            <a:ext cx="7315200" cy="550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[A.-Drucker 2009]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dream theorem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80880" y="5105520"/>
            <a:ext cx="8458200" cy="3988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veat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have more qubit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n general be a very differ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0880" y="5791320"/>
            <a:ext cx="84582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lic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get a quantum state that satisfies exp(n) conditions by imposing only poly(n)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04920" y="990720"/>
            <a:ext cx="8534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the quantum state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open 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pecial classes of quantum states that can be learned i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00"/>
          <p:cNvSpPr/>
          <p:nvPr/>
        </p:nvSpPr>
        <p:spPr>
          <a:xfrm>
            <a:off x="380880" y="6019920"/>
            <a:ext cx="8229600" cy="5205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emonstration” would be nic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he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60020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quantum mechanics, a state of n entangled particles requires at least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24382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prob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58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62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67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73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77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7"/>
              <p:cNvSpPr/>
              <p:nvPr/>
            </p:nvSpPr>
            <p:spPr>
              <a:xfrm>
                <a:off x="127476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"/>
              <p:cNvSpPr/>
              <p:nvPr/>
            </p:nvSpPr>
            <p:spPr>
              <a:xfrm>
                <a:off x="106884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9"/>
              <p:cNvSpPr/>
              <p:nvPr/>
            </p:nvSpPr>
            <p:spPr>
              <a:xfrm>
                <a:off x="112752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0"/>
              <p:cNvSpPr/>
              <p:nvPr/>
            </p:nvSpPr>
            <p:spPr>
              <a:xfrm>
                <a:off x="119232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1"/>
              <p:cNvSpPr/>
              <p:nvPr/>
            </p:nvSpPr>
            <p:spPr>
              <a:xfrm>
                <a:off x="141480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2"/>
              <p:cNvSpPr/>
              <p:nvPr/>
            </p:nvSpPr>
            <p:spPr>
              <a:xfrm>
                <a:off x="136980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3"/>
              <p:cNvSpPr/>
              <p:nvPr/>
            </p:nvSpPr>
            <p:spPr>
              <a:xfrm>
                <a:off x="131796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4"/>
              <p:cNvSpPr/>
              <p:nvPr/>
            </p:nvSpPr>
            <p:spPr>
              <a:xfrm>
                <a:off x="125496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89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9"/>
              <p:cNvSpPr/>
              <p:nvPr/>
            </p:nvSpPr>
            <p:spPr>
              <a:xfrm>
                <a:off x="172584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0"/>
              <p:cNvSpPr/>
              <p:nvPr/>
            </p:nvSpPr>
            <p:spPr>
              <a:xfrm>
                <a:off x="151992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1"/>
              <p:cNvSpPr/>
              <p:nvPr/>
            </p:nvSpPr>
            <p:spPr>
              <a:xfrm>
                <a:off x="157860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2"/>
              <p:cNvSpPr/>
              <p:nvPr/>
            </p:nvSpPr>
            <p:spPr>
              <a:xfrm>
                <a:off x="164340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3"/>
              <p:cNvSpPr/>
              <p:nvPr/>
            </p:nvSpPr>
            <p:spPr>
              <a:xfrm>
                <a:off x="186588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4"/>
              <p:cNvSpPr/>
              <p:nvPr/>
            </p:nvSpPr>
            <p:spPr>
              <a:xfrm>
                <a:off x="182088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5"/>
              <p:cNvSpPr/>
              <p:nvPr/>
            </p:nvSpPr>
            <p:spPr>
              <a:xfrm>
                <a:off x="176904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6"/>
              <p:cNvSpPr/>
              <p:nvPr/>
            </p:nvSpPr>
            <p:spPr>
              <a:xfrm>
                <a:off x="170604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590920"/>
            <a:ext cx="83822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, produce an approximate classical description of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something I made up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“As seen in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Scienc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 &amp;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Natur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ntral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particle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Current record: 8 particles / ~656,0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oday we’ll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00"/>
          <p:cNvSpPr/>
          <p:nvPr/>
        </p:nvSpPr>
        <p:spPr>
          <a:xfrm>
            <a:off x="228600" y="2286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0"/>
          <p:cNvSpPr/>
          <p:nvPr/>
        </p:nvSpPr>
        <p:spPr>
          <a:xfrm>
            <a:off x="228600" y="36576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Holevo’s Theorem (1973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sending an n-qubit quantum state, Alice can transmit no more than n classical bits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0"/>
          <p:cNvSpPr/>
          <p:nvPr/>
        </p:nvSpPr>
        <p:spPr>
          <a:xfrm>
            <a:off x="228600" y="472428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s tal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w limitations on the information content of quantum states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[A. 2004], [A. 2006], [A.-Dechter 2008], [A. Drucker 200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00"/>
          <p:cNvSpPr/>
          <p:nvPr/>
        </p:nvSpPr>
        <p:spPr>
          <a:xfrm>
            <a:off x="914400" y="541008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ess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" name="Straight Arrow Connector 12"/>
          <p:cNvCxnSpPr/>
          <p:nvPr/>
        </p:nvCxnSpPr>
        <p:spPr>
          <a:xfrm>
            <a:off x="3048120" y="2133720"/>
            <a:ext cx="274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ay2"/>
          <p:cNvPicPr/>
          <p:nvPr/>
        </p:nvPicPr>
        <p:blipFill>
          <a:blip r:embed="rId2"/>
          <a:srcRect l="51300" t="34202" r="33749" b="43802"/>
          <a:stretch/>
        </p:blipFill>
        <p:spPr>
          <a:xfrm>
            <a:off x="5791320" y="1371600"/>
            <a:ext cx="124272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380880" y="31240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give your graduate student a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 qubits (or 10n, 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—such that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80880" y="5105520"/>
            <a:ext cx="8153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914400" y="3809880"/>
            <a:ext cx="7162920" cy="27374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685800" y="1676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 … well enough that, for any 2-outcome measurement M in some finite set S, Bob can estimate the probability that M accept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6-29T13:35:54Z</dcterms:modified>
  <cp:revision>110</cp:revision>
  <dc:subject/>
  <dc:title>The Learnability of Quantum States</dc:title>
</cp:coreProperties>
</file>