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gif" ContentType="image/gi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82E-D784-429C-82BF-1A75F36A2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18B-FB54-4FA7-B1E5-8279110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418-E80D-4D27-92F1-595666D9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51C-0DC7-4350-B7DD-08E5393E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EDE-55EB-4381-878F-0186F6E1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7B6-8B02-4F1A-86B8-4BE98EE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F66-52B3-4E9A-A648-7F2F3BC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CDF-D8FD-4400-B122-92E2074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AD7-8BC7-4315-B83A-2758DDF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075-6D34-478A-A195-FBD9322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7CF-8F20-40D3-811F-0C38C9A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3D6-911B-43F4-927B-EF33FCAA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78B-74ED-4ABB-9781-60B9C8A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DFF9-4111-47CB-8E84-99D198EE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osmology and Complexity Class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6386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71500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7621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76212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Z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510552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7242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G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6095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W[P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5720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Z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7621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00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77320" y="13716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Q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1371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5638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EX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W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Can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Achiev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6002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 ~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are scattered in a 3D ball of radius r (where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nd bits’ locations are known), search tim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c+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polylog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“radiation disk” (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saturating holographic boun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olylog n), bits would need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ent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2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bjections to 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3716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eed 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ing elements to maintain a quantum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ght have n “passive elements,” but many fewer “active elements” (i.e. robots), which we wish to place in superposition ove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ust consider effects of time d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upper bounds, will have in mind weakly-gravitating systems, for which time dilation is by at most a constan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we do anything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5181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 to the Main Issu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= maximum radius of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3808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2952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057400"/>
            <a:ext cx="8381880" cy="4437000"/>
            <a:chOff x="304920" y="2057400"/>
            <a:chExt cx="8381880" cy="4437000"/>
          </a:xfrm>
        </p:grpSpPr>
        <p:sp>
          <p:nvSpPr>
            <p:cNvPr id="282" name=""/>
            <p:cNvSpPr/>
            <p:nvPr/>
          </p:nvSpPr>
          <p:spPr>
            <a:xfrm>
              <a:off x="4800600" y="2666880"/>
              <a:ext cx="380988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sing amplitude amplification techniques of BHMT’2002, we get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2D gr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3 and higher dimensio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2057400"/>
              <a:ext cx="8381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33cc33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Recursively divide into sub-squa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066680" y="3048120"/>
              <a:ext cx="3352680" cy="3446280"/>
              <a:chOff x="1066680" y="3048120"/>
              <a:chExt cx="3352680" cy="34462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066680" y="3048120"/>
                <a:ext cx="3352680" cy="3446280"/>
                <a:chOff x="1066680" y="3048120"/>
                <a:chExt cx="3352680" cy="344628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1066680" y="3048120"/>
                  <a:ext cx="3327120" cy="3446280"/>
                  <a:chOff x="1066680" y="3048120"/>
                  <a:chExt cx="3327120" cy="344628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0240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6540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2842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9142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54592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762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8061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4364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06668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0240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6540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2842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142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54592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762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8061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4364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06668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0240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540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2842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9142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54592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762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18061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4364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06668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0240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540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2842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9142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54592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762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18061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4364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06668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0240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6540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842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142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54592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762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8061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4364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06668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240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6540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2842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9142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54592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762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8061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4364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06668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0240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6540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2842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9142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54592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762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061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4364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6668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0240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40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842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9142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4592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762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8061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4364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6668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0240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6540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842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9142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54592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762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8061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4364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06668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06668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06668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06668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06668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6668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6668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06668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06668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6668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06668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06668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4364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06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76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545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914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2842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6540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0240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380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327636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066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09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27636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066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9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27636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09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066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066680" y="3048120"/>
                <a:ext cx="3352680" cy="2286000"/>
                <a:chOff x="1066680" y="3048120"/>
                <a:chExt cx="3352680" cy="228600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1066680" y="3048120"/>
                  <a:ext cx="3352680" cy="2286000"/>
                  <a:chOff x="1066680" y="3048120"/>
                  <a:chExt cx="3352680" cy="22860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27636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06668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0880" y="138924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ancilla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74920" y="35053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35053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4120" y="4800600"/>
          <a:ext cx="3600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800600"/>
                    <a:ext cx="3600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600200"/>
            <a:ext cx="83818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Unitary must b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ompo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commuting local operations, each acting on a single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Just don’t “send amplitude” between non-adjacent vertices: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Take U=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re H has eigenvalues of absolute value at mo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),(3).  Upper bounds will work for (1); lower bounds for (2),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731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ity relig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002120" y="3048120"/>
          <a:ext cx="2624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2120" y="3048120"/>
                    <a:ext cx="2624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675400" y="4648320"/>
          <a:ext cx="2705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5400" y="4648320"/>
                    <a:ext cx="2705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sp>
          <p:nvSpPr>
            <p:cNvPr id="420" name=""/>
            <p:cNvSpPr/>
            <p:nvPr/>
          </p:nvSpPr>
          <p:spPr>
            <a:xfrm>
              <a:off x="0" y="0"/>
              <a:ext cx="9144000" cy="7086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38280" y="2286000"/>
              <a:ext cx="4267440" cy="329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457200" y="1371600"/>
              <a:ext cx="8153280" cy="121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3348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FARHIOLOG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457200" y="4343400"/>
              <a:ext cx="8305920" cy="205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21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THERE IS ONLY THE HAMILTONI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1389240"/>
            <a:ext cx="876312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imes using amplitude ampl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ning ti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200400" y="4800600"/>
          <a:ext cx="5467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5467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 More Detail: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9718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880" y="1523880"/>
            <a:ext cx="8763120" cy="77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probability (unamplifi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mpl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li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whole algorithm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514600" y="2133720"/>
          <a:ext cx="347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33720"/>
                    <a:ext cx="347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14600" y="3352680"/>
          <a:ext cx="529128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52680"/>
                    <a:ext cx="52912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09480" y="5791320"/>
          <a:ext cx="809640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80964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1219320"/>
            <a:ext cx="853452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r marked items, we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, even if r is unkn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=2, get T(n)=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y graph that’s “d-dimensional” by expansion properties (d&gt;2), if h “potential” marked items are scattered around (and their locations are known),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ther Results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which I won’t subject you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191120" y="1523880"/>
          <a:ext cx="350496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049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657600" y="5181480"/>
          <a:ext cx="38098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181480"/>
                    <a:ext cx="38098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6661080" y="3505320"/>
          <a:ext cx="19051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1080" y="3505320"/>
                    <a:ext cx="1905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572000" y="4267080"/>
          <a:ext cx="18144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267080"/>
                    <a:ext cx="1814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3537000" y="5105520"/>
          <a:ext cx="117936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7000" y="5105520"/>
                    <a:ext cx="11793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plexity Classes Not Needed For This Talk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8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-1-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#L - #L/poly - #P - #W[t] - +EXP - +L - +L/poly - +P - +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C - 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m] - AC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H - AL - AM - AmpMP - AP - AP - APP - APX - AVBPP - AvE - AvP - AW[P] - AWPP - AW[SAT] - AW[*] - AW[t] - βP - BH - BPE - BPEE - B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ACE(f(n)) - BPL - BP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BPP-OBDD - BPQP - BQNC - BQP-OBDD - k-BWBP - C=L - C=P - CFL - CLOG - CH - 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CNP - coAM - coC=P - coMA - co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coNE - coNEXP - coNL - coNP - coNP/poly - coRE - coRNC - coRP - coUCC - CP - CSL - CZK - Δ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δ-BPP - δ-RP - DET - DisNP - DistNP - DP - E - EE - EEE - EEXP - EH - ELEMENTARY - E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EPTAS - k-EQBP - EQP - EQTIME(f(n)) - ESPACE - EXP - EXPSPACE - Few - FewP - FNL - FNL/poly - FNP - FO(t(n)) - FOLL - FP - FPR - FPRAS - FPT - F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F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FPTAS - F-TAPE(f(n)) - F-TIME(f(n)) - GapL - GapP - GC(s(n),C) - GPCD(r(n),q(n)) - G[t] - H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HVSZK - IC[log,poly] - IP - L - LIN - 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LOGCFL - LogFew - LogFewNL - LOGNP - LOGSNP - L/poly - LWPP - MA - M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A-E - MA-EXP - mAL - MaxNP - MaxPB - MaxSNP - MaxS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coNL - MinPB - MIP - 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(M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P - mL - m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NL - mNP - 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ModP - ModZ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mP - MP - MPC - mP/poly - mT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E - NEE - NEEE - NEEXP - NEXP - NIQSZK - NISZK - NL - NLIN - NLOG - NL/poly - NPC - 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I - NP intersect coNP - (NP intersect coNP)/poly - NPMV - NPMV-sel - NPM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M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-sel - NPO - NPOPB - NP/poly - (NP,P-samplable) - 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SPACE - NPSV - NPSV-sel - NPS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S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-sel - NQP - NSPACE(f(n)) - NTIME(f(n)) - OCQ - OptP - PBP - k-PBP - 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CD(r(n),q(n)) - P-close - PCP(r(n),q(n)) - PEXP - PF - PFCHK(t(n)) - Φ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PhP - Π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KC - PL - P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LF - PLL - P/log - PLS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[k]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-OBDD - PODN - polyL - PP - PPA - PPAD - PPADS - P/poly - PPP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R - 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ACE(f(n)) - PromiseBPP - PromiseRP - PrSPACE(f(n)) - P-Sel - PSK - PSPACE - 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TAPE - PTAS - PT/WK(f(n),g(n)) - PZK - Q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m] - QAC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AM - QCFL - QH - QIP - QIP(2) - QMA - QMA(2) - QMAM - QMIP - Q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P - QSZK - R - RE - REG - RevSPACE(f(n)) -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RL - RNC - RPP - RSPACE(f(n)) -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SAC - 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SC - SEH - SF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Σ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SKC - SL - SLICEWISE PSPACE - SNP - SO-E - SP - span-P - SPARSE - SPP - SUBEXP - symP - SZK - TALLY - T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TFNP - Θ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TREE-REGULAR - UCC - UL - UL/poly - UP - US - V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Q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W[1] - W[P] - WPP - W[SAT] - W[*] - W[t] - W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t] - XP - X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unifo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YACC - ZPE - ZPP - ZPTIME(f(n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ore at http://www.cs.berkeley.edu/~aaronson/zoo.htm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456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457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471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1139760" y="411480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411480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5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arching by Wal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quantum walk search a 2D grid efficiently?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ybe ev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ime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97204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ising numerical evidence (courtesy N. Shenv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76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251460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we were asking how the nature of space affect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ery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’s ask how it affect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utational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t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round oursel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firm soil of observa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 flipV="1">
            <a:off x="3581280" y="4419000"/>
            <a:ext cx="2286000" cy="68580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cubicBezTo>
                  <a:pt x="144" y="356"/>
                  <a:pt x="288" y="184"/>
                  <a:pt x="528" y="96"/>
                </a:cubicBezTo>
                <a:cubicBezTo>
                  <a:pt x="768" y="8"/>
                  <a:pt x="1104" y="4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3733920"/>
            <a:ext cx="2286000" cy="68580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cubicBezTo>
                  <a:pt x="144" y="356"/>
                  <a:pt x="288" y="184"/>
                  <a:pt x="528" y="96"/>
                </a:cubicBezTo>
                <a:cubicBezTo>
                  <a:pt x="768" y="8"/>
                  <a:pt x="1104" y="4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Theory of Cosmolog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45320" y="3733920"/>
            <a:ext cx="2538360" cy="1375920"/>
            <a:chOff x="445320" y="3733920"/>
            <a:chExt cx="2538360" cy="1375920"/>
          </a:xfrm>
        </p:grpSpPr>
        <p:sp>
          <p:nvSpPr>
            <p:cNvPr id="503" name=""/>
            <p:cNvSpPr/>
            <p:nvPr/>
          </p:nvSpPr>
          <p:spPr>
            <a:xfrm>
              <a:off x="457200" y="373392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 rot="21474000">
              <a:off x="457200" y="436500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8954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3124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3124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3529080"/>
            <a:ext cx="2314440" cy="966600"/>
          </a:xfrm>
          <a:custGeom>
            <a:avLst/>
            <a:gdLst/>
            <a:ahLst/>
            <a:rect l="l" t="t" r="r" b="b"/>
            <a:pathLst>
              <a:path w="1458" h="609">
                <a:moveTo>
                  <a:pt x="0" y="609"/>
                </a:moveTo>
                <a:cubicBezTo>
                  <a:pt x="144" y="468"/>
                  <a:pt x="285" y="357"/>
                  <a:pt x="528" y="256"/>
                </a:cubicBezTo>
                <a:cubicBezTo>
                  <a:pt x="771" y="155"/>
                  <a:pt x="1264" y="53"/>
                  <a:pt x="14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4419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3124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477120" y="4572000"/>
            <a:ext cx="2314440" cy="966960"/>
          </a:xfrm>
          <a:custGeom>
            <a:avLst/>
            <a:gdLst/>
            <a:ahLst/>
            <a:rect l="l" t="t" r="r" b="b"/>
            <a:pathLst>
              <a:path w="1458" h="609">
                <a:moveTo>
                  <a:pt x="0" y="609"/>
                </a:moveTo>
                <a:cubicBezTo>
                  <a:pt x="144" y="468"/>
                  <a:pt x="285" y="357"/>
                  <a:pt x="528" y="256"/>
                </a:cubicBezTo>
                <a:cubicBezTo>
                  <a:pt x="771" y="155"/>
                  <a:pt x="1264" y="53"/>
                  <a:pt x="14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Char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rcRect l="18753" t="8751" r="18753" b="3751"/>
          <a:stretch/>
        </p:blipFill>
        <p:spPr>
          <a:xfrm>
            <a:off x="3505320" y="457200"/>
            <a:ext cx="6095880" cy="6400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219320" y="4724280"/>
            <a:ext cx="25146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pernova Cosmology Project (Perlmutter et a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tro-ph/98121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7621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vacuum energy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0, geometry is no longer des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16878" t="33755" r="18753" b="5001"/>
          <a:stretch/>
        </p:blipFill>
        <p:spPr>
          <a:xfrm>
            <a:off x="1371600" y="1935000"/>
            <a:ext cx="6278400" cy="44816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vidence for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&gt;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cale Factor a(t)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not to scale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09480" y="2057400"/>
            <a:ext cx="8001000" cy="4089240"/>
            <a:chOff x="609480" y="2057400"/>
            <a:chExt cx="8001000" cy="4089240"/>
          </a:xfrm>
        </p:grpSpPr>
        <p:sp>
          <p:nvSpPr>
            <p:cNvPr id="522" name=""/>
            <p:cNvSpPr/>
            <p:nvPr/>
          </p:nvSpPr>
          <p:spPr>
            <a:xfrm>
              <a:off x="609480" y="2068560"/>
              <a:ext cx="8001000" cy="40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9480" y="2057400"/>
              <a:ext cx="7010640" cy="4089240"/>
            </a:xfrm>
            <a:custGeom>
              <a:avLst/>
              <a:gdLst/>
              <a:ahLst/>
              <a:rect l="l" t="t" r="r" b="b"/>
              <a:pathLst>
                <a:path w="4416" h="2576">
                  <a:moveTo>
                    <a:pt x="0" y="2544"/>
                  </a:moveTo>
                  <a:cubicBezTo>
                    <a:pt x="52" y="2560"/>
                    <a:pt x="104" y="2576"/>
                    <a:pt x="144" y="2496"/>
                  </a:cubicBezTo>
                  <a:cubicBezTo>
                    <a:pt x="184" y="2416"/>
                    <a:pt x="137" y="2217"/>
                    <a:pt x="240" y="2064"/>
                  </a:cubicBezTo>
                  <a:cubicBezTo>
                    <a:pt x="343" y="1911"/>
                    <a:pt x="531" y="1718"/>
                    <a:pt x="762" y="1575"/>
                  </a:cubicBezTo>
                  <a:cubicBezTo>
                    <a:pt x="993" y="1432"/>
                    <a:pt x="1265" y="1308"/>
                    <a:pt x="1626" y="1206"/>
                  </a:cubicBezTo>
                  <a:cubicBezTo>
                    <a:pt x="1987" y="1104"/>
                    <a:pt x="2529" y="1078"/>
                    <a:pt x="2928" y="960"/>
                  </a:cubicBezTo>
                  <a:cubicBezTo>
                    <a:pt x="3327" y="842"/>
                    <a:pt x="3792" y="610"/>
                    <a:pt x="4020" y="495"/>
                  </a:cubicBezTo>
                  <a:cubicBezTo>
                    <a:pt x="4248" y="380"/>
                    <a:pt x="4233" y="352"/>
                    <a:pt x="4299" y="270"/>
                  </a:cubicBezTo>
                  <a:cubicBezTo>
                    <a:pt x="4365" y="188"/>
                    <a:pt x="4392" y="56"/>
                    <a:pt x="44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321156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atter-Dominated Era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t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2297160"/>
              <a:ext cx="243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Dominated Era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c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g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1120" y="3701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28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267080" y="3897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4659480"/>
              <a:ext cx="3124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 billion years ABB: Matter and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contribute equal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120" y="519264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nflation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c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5943600" y="3440160"/>
              <a:ext cx="838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8680" y="4278240"/>
              <a:ext cx="281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4 billion years ABB: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=?NP problem pos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ipler’s Theo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" y="44956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dvantage of theo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lsif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25780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Disadvanta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lsifi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826200" y="2286000"/>
            <a:ext cx="2538360" cy="1375920"/>
            <a:chOff x="826200" y="2286000"/>
            <a:chExt cx="2538360" cy="1375920"/>
          </a:xfrm>
        </p:grpSpPr>
        <p:sp>
          <p:nvSpPr>
            <p:cNvPr id="537" name=""/>
            <p:cNvSpPr/>
            <p:nvPr/>
          </p:nvSpPr>
          <p:spPr>
            <a:xfrm>
              <a:off x="838080" y="228600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1474000">
              <a:off x="838080" y="291708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276720" y="2870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2841480"/>
            <a:ext cx="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8120" y="268596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2286000"/>
            <a:ext cx="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05320" y="2895480"/>
            <a:ext cx="1295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18288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s the big crunch draws near, violent oscillations cause O(1) computation steps to be performed in shorter and shorter intervals, so that time appears subjectively 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usso’s boun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ep-th/001025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040" y="1828800"/>
            <a:ext cx="3200760" cy="4010400"/>
            <a:chOff x="914040" y="1828800"/>
            <a:chExt cx="3200760" cy="4010400"/>
          </a:xfrm>
        </p:grpSpPr>
        <p:grpSp>
          <p:nvGrpSpPr>
            <p:cNvPr id="550" name=""/>
            <p:cNvGrpSpPr/>
            <p:nvPr/>
          </p:nvGrpSpPr>
          <p:grpSpPr>
            <a:xfrm>
              <a:off x="914040" y="3657240"/>
              <a:ext cx="3200760" cy="1676880"/>
              <a:chOff x="914040" y="3657240"/>
              <a:chExt cx="3200760" cy="1676880"/>
            </a:xfrm>
          </p:grpSpPr>
          <p:sp>
            <p:nvSpPr>
              <p:cNvPr id="551" name=""/>
              <p:cNvSpPr/>
              <p:nvPr/>
            </p:nvSpPr>
            <p:spPr>
              <a:xfrm flipH="1" flipV="1">
                <a:off x="914040" y="365724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14600" y="365724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38280" y="51818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2286000" y="5257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14040" y="2437920"/>
              <a:ext cx="3200760" cy="1676880"/>
              <a:chOff x="914040" y="2437920"/>
              <a:chExt cx="3200760" cy="167688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914040" y="251460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4600" y="251460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438280" y="24375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2286000" y="1828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7242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1752480"/>
            <a:ext cx="41911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number of bits accessible to any one observer: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 experiment has a beginning (p) and an end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usal diam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: intersection of future light-cone of p with past light-cone of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olographic principle to upper-bound entropy i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loyd’s boun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ant-ph/0110141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1752480"/>
            <a:ext cx="82296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number of bits accessibl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 f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# of Planck times elapsed since the big bang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uses holographic principle, but do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 two bounds coincide?  We live in a transitional era, when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“dust” contribute significantly to net energy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7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o?  Dunn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46748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Search of Spatial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verse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lationary Turing Machin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ork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133720" y="2286000"/>
            <a:ext cx="685800" cy="762120"/>
            <a:chOff x="2133720" y="2286000"/>
            <a:chExt cx="685800" cy="762120"/>
          </a:xfrm>
        </p:grpSpPr>
        <p:sp>
          <p:nvSpPr>
            <p:cNvPr id="568" name=""/>
            <p:cNvSpPr/>
            <p:nvPr/>
          </p:nvSpPr>
          <p:spPr>
            <a:xfrm>
              <a:off x="21337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28195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195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57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5053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191120" y="2286000"/>
            <a:ext cx="685800" cy="762120"/>
            <a:chOff x="4191120" y="2286000"/>
            <a:chExt cx="685800" cy="762120"/>
          </a:xfrm>
        </p:grpSpPr>
        <p:sp>
          <p:nvSpPr>
            <p:cNvPr id="578" name=""/>
            <p:cNvSpPr/>
            <p:nvPr/>
          </p:nvSpPr>
          <p:spPr>
            <a:xfrm>
              <a:off x="4191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91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876920" y="2286000"/>
            <a:ext cx="685800" cy="762120"/>
            <a:chOff x="4876920" y="2286000"/>
            <a:chExt cx="685800" cy="762120"/>
          </a:xfrm>
        </p:grpSpPr>
        <p:sp>
          <p:nvSpPr>
            <p:cNvPr id="581" name=""/>
            <p:cNvSpPr/>
            <p:nvPr/>
          </p:nvSpPr>
          <p:spPr>
            <a:xfrm>
              <a:off x="48769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769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62720" y="2286000"/>
            <a:ext cx="685800" cy="762120"/>
            <a:chOff x="5562720" y="2286000"/>
            <a:chExt cx="685800" cy="762120"/>
          </a:xfrm>
        </p:grpSpPr>
        <p:sp>
          <p:nvSpPr>
            <p:cNvPr id="584" name=""/>
            <p:cNvSpPr/>
            <p:nvPr/>
          </p:nvSpPr>
          <p:spPr>
            <a:xfrm>
              <a:off x="55627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627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248520" y="2286000"/>
            <a:ext cx="685800" cy="762120"/>
            <a:chOff x="6248520" y="2286000"/>
            <a:chExt cx="685800" cy="762120"/>
          </a:xfrm>
        </p:grpSpPr>
        <p:sp>
          <p:nvSpPr>
            <p:cNvPr id="587" name=""/>
            <p:cNvSpPr/>
            <p:nvPr/>
          </p:nvSpPr>
          <p:spPr>
            <a:xfrm>
              <a:off x="6248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48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9343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343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38080" y="2590920"/>
            <a:ext cx="533160" cy="75960"/>
            <a:chOff x="838080" y="2590920"/>
            <a:chExt cx="533160" cy="75960"/>
          </a:xfrm>
        </p:grpSpPr>
        <p:sp>
          <p:nvSpPr>
            <p:cNvPr id="592" name=""/>
            <p:cNvSpPr/>
            <p:nvPr/>
          </p:nvSpPr>
          <p:spPr>
            <a:xfrm>
              <a:off x="1295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66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696080" y="2590920"/>
            <a:ext cx="533160" cy="75960"/>
            <a:chOff x="7696080" y="2590920"/>
            <a:chExt cx="533160" cy="75960"/>
          </a:xfrm>
        </p:grpSpPr>
        <p:sp>
          <p:nvSpPr>
            <p:cNvPr id="596" name=""/>
            <p:cNvSpPr/>
            <p:nvPr/>
          </p:nvSpPr>
          <p:spPr>
            <a:xfrm>
              <a:off x="8153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4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6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057400" y="2286000"/>
            <a:ext cx="685800" cy="762120"/>
            <a:chOff x="2057400" y="2286000"/>
            <a:chExt cx="685800" cy="762120"/>
          </a:xfrm>
        </p:grpSpPr>
        <p:sp>
          <p:nvSpPr>
            <p:cNvPr id="603" name=""/>
            <p:cNvSpPr/>
            <p:nvPr/>
          </p:nvSpPr>
          <p:spPr>
            <a:xfrm>
              <a:off x="20574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574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7432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08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114800" y="2286000"/>
            <a:ext cx="685800" cy="762120"/>
            <a:chOff x="4114800" y="2286000"/>
            <a:chExt cx="685800" cy="762120"/>
          </a:xfrm>
        </p:grpSpPr>
        <p:sp>
          <p:nvSpPr>
            <p:cNvPr id="613" name=""/>
            <p:cNvSpPr/>
            <p:nvPr/>
          </p:nvSpPr>
          <p:spPr>
            <a:xfrm>
              <a:off x="4114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4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952880" y="2286000"/>
            <a:ext cx="685800" cy="762120"/>
            <a:chOff x="4952880" y="2286000"/>
            <a:chExt cx="685800" cy="762120"/>
          </a:xfrm>
        </p:grpSpPr>
        <p:sp>
          <p:nvSpPr>
            <p:cNvPr id="616" name=""/>
            <p:cNvSpPr/>
            <p:nvPr/>
          </p:nvSpPr>
          <p:spPr>
            <a:xfrm>
              <a:off x="49528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528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638680" y="2286000"/>
            <a:ext cx="685800" cy="762120"/>
            <a:chOff x="5638680" y="2286000"/>
            <a:chExt cx="685800" cy="762120"/>
          </a:xfrm>
        </p:grpSpPr>
        <p:sp>
          <p:nvSpPr>
            <p:cNvPr id="619" name=""/>
            <p:cNvSpPr/>
            <p:nvPr/>
          </p:nvSpPr>
          <p:spPr>
            <a:xfrm>
              <a:off x="56386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324480" y="2286000"/>
            <a:ext cx="685800" cy="762120"/>
            <a:chOff x="6324480" y="2286000"/>
            <a:chExt cx="685800" cy="762120"/>
          </a:xfrm>
        </p:grpSpPr>
        <p:sp>
          <p:nvSpPr>
            <p:cNvPr id="622" name=""/>
            <p:cNvSpPr/>
            <p:nvPr/>
          </p:nvSpPr>
          <p:spPr>
            <a:xfrm>
              <a:off x="63244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44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01028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01028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62120" y="2590920"/>
            <a:ext cx="533160" cy="75960"/>
            <a:chOff x="762120" y="2590920"/>
            <a:chExt cx="533160" cy="75960"/>
          </a:xfrm>
        </p:grpSpPr>
        <p:sp>
          <p:nvSpPr>
            <p:cNvPr id="627" name=""/>
            <p:cNvSpPr/>
            <p:nvPr/>
          </p:nvSpPr>
          <p:spPr>
            <a:xfrm>
              <a:off x="1219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90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772400" y="2590920"/>
            <a:ext cx="533160" cy="75960"/>
            <a:chOff x="7772400" y="2590920"/>
            <a:chExt cx="533160" cy="75960"/>
          </a:xfrm>
        </p:grpSpPr>
        <p:sp>
          <p:nvSpPr>
            <p:cNvPr id="631" name=""/>
            <p:cNvSpPr/>
            <p:nvPr/>
          </p:nvSpPr>
          <p:spPr>
            <a:xfrm>
              <a:off x="82296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010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724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2286000"/>
            <a:ext cx="685800" cy="762120"/>
            <a:chOff x="1981080" y="2286000"/>
            <a:chExt cx="685800" cy="762120"/>
          </a:xfrm>
        </p:grpSpPr>
        <p:sp>
          <p:nvSpPr>
            <p:cNvPr id="638" name=""/>
            <p:cNvSpPr/>
            <p:nvPr/>
          </p:nvSpPr>
          <p:spPr>
            <a:xfrm>
              <a:off x="19810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66688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4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35268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5268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038480" y="2286000"/>
            <a:ext cx="685800" cy="762120"/>
            <a:chOff x="4038480" y="2286000"/>
            <a:chExt cx="685800" cy="762120"/>
          </a:xfrm>
        </p:grpSpPr>
        <p:sp>
          <p:nvSpPr>
            <p:cNvPr id="648" name=""/>
            <p:cNvSpPr/>
            <p:nvPr/>
          </p:nvSpPr>
          <p:spPr>
            <a:xfrm>
              <a:off x="40384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384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029200" y="2286000"/>
            <a:ext cx="685800" cy="762120"/>
            <a:chOff x="5029200" y="2286000"/>
            <a:chExt cx="685800" cy="762120"/>
          </a:xfrm>
        </p:grpSpPr>
        <p:sp>
          <p:nvSpPr>
            <p:cNvPr id="651" name=""/>
            <p:cNvSpPr/>
            <p:nvPr/>
          </p:nvSpPr>
          <p:spPr>
            <a:xfrm>
              <a:off x="50292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292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715000" y="2286000"/>
            <a:ext cx="685800" cy="762120"/>
            <a:chOff x="5715000" y="2286000"/>
            <a:chExt cx="685800" cy="762120"/>
          </a:xfrm>
        </p:grpSpPr>
        <p:sp>
          <p:nvSpPr>
            <p:cNvPr id="654" name=""/>
            <p:cNvSpPr/>
            <p:nvPr/>
          </p:nvSpPr>
          <p:spPr>
            <a:xfrm>
              <a:off x="57150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6400800" y="2286000"/>
            <a:ext cx="685800" cy="762120"/>
            <a:chOff x="6400800" y="2286000"/>
            <a:chExt cx="685800" cy="762120"/>
          </a:xfrm>
        </p:grpSpPr>
        <p:sp>
          <p:nvSpPr>
            <p:cNvPr id="657" name=""/>
            <p:cNvSpPr/>
            <p:nvPr/>
          </p:nvSpPr>
          <p:spPr>
            <a:xfrm>
              <a:off x="6400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00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70866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866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85800" y="2590920"/>
            <a:ext cx="533160" cy="75960"/>
            <a:chOff x="685800" y="2590920"/>
            <a:chExt cx="533160" cy="75960"/>
          </a:xfrm>
        </p:grpSpPr>
        <p:sp>
          <p:nvSpPr>
            <p:cNvPr id="662" name=""/>
            <p:cNvSpPr/>
            <p:nvPr/>
          </p:nvSpPr>
          <p:spPr>
            <a:xfrm>
              <a:off x="11430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58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48720" y="2590920"/>
            <a:ext cx="533160" cy="75960"/>
            <a:chOff x="7848720" y="2590920"/>
            <a:chExt cx="533160" cy="75960"/>
          </a:xfrm>
        </p:grpSpPr>
        <p:sp>
          <p:nvSpPr>
            <p:cNvPr id="666" name=""/>
            <p:cNvSpPr/>
            <p:nvPr/>
          </p:nvSpPr>
          <p:spPr>
            <a:xfrm>
              <a:off x="83059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77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48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905120" y="2286000"/>
            <a:ext cx="685800" cy="762120"/>
            <a:chOff x="1905120" y="2286000"/>
            <a:chExt cx="685800" cy="762120"/>
          </a:xfrm>
        </p:grpSpPr>
        <p:sp>
          <p:nvSpPr>
            <p:cNvPr id="673" name=""/>
            <p:cNvSpPr/>
            <p:nvPr/>
          </p:nvSpPr>
          <p:spPr>
            <a:xfrm>
              <a:off x="1905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05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09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78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2767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767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962520" y="2286000"/>
            <a:ext cx="685800" cy="762120"/>
            <a:chOff x="3962520" y="2286000"/>
            <a:chExt cx="685800" cy="762120"/>
          </a:xfrm>
        </p:grpSpPr>
        <p:sp>
          <p:nvSpPr>
            <p:cNvPr id="683" name=""/>
            <p:cNvSpPr/>
            <p:nvPr/>
          </p:nvSpPr>
          <p:spPr>
            <a:xfrm>
              <a:off x="3962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62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105520" y="2286000"/>
            <a:ext cx="685800" cy="762120"/>
            <a:chOff x="5105520" y="2286000"/>
            <a:chExt cx="685800" cy="762120"/>
          </a:xfrm>
        </p:grpSpPr>
        <p:sp>
          <p:nvSpPr>
            <p:cNvPr id="686" name=""/>
            <p:cNvSpPr/>
            <p:nvPr/>
          </p:nvSpPr>
          <p:spPr>
            <a:xfrm>
              <a:off x="5105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05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791320" y="2286000"/>
            <a:ext cx="685800" cy="762120"/>
            <a:chOff x="5791320" y="2286000"/>
            <a:chExt cx="685800" cy="762120"/>
          </a:xfrm>
        </p:grpSpPr>
        <p:sp>
          <p:nvSpPr>
            <p:cNvPr id="689" name=""/>
            <p:cNvSpPr/>
            <p:nvPr/>
          </p:nvSpPr>
          <p:spPr>
            <a:xfrm>
              <a:off x="57913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913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477120" y="2286000"/>
            <a:ext cx="685800" cy="762120"/>
            <a:chOff x="6477120" y="2286000"/>
            <a:chExt cx="685800" cy="762120"/>
          </a:xfrm>
        </p:grpSpPr>
        <p:sp>
          <p:nvSpPr>
            <p:cNvPr id="692" name=""/>
            <p:cNvSpPr/>
            <p:nvPr/>
          </p:nvSpPr>
          <p:spPr>
            <a:xfrm>
              <a:off x="6477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77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1629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1629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09480" y="2590920"/>
            <a:ext cx="533160" cy="75960"/>
            <a:chOff x="609480" y="2590920"/>
            <a:chExt cx="533160" cy="75960"/>
          </a:xfrm>
        </p:grpSpPr>
        <p:sp>
          <p:nvSpPr>
            <p:cNvPr id="697" name=""/>
            <p:cNvSpPr/>
            <p:nvPr/>
          </p:nvSpPr>
          <p:spPr>
            <a:xfrm>
              <a:off x="1066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8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4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924680" y="2590920"/>
            <a:ext cx="533160" cy="75960"/>
            <a:chOff x="7924680" y="2590920"/>
            <a:chExt cx="533160" cy="75960"/>
          </a:xfrm>
        </p:grpSpPr>
        <p:sp>
          <p:nvSpPr>
            <p:cNvPr id="701" name=""/>
            <p:cNvSpPr/>
            <p:nvPr/>
          </p:nvSpPr>
          <p:spPr>
            <a:xfrm>
              <a:off x="83818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53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24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1430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28800" y="2286000"/>
            <a:ext cx="685800" cy="762120"/>
            <a:chOff x="1828800" y="2286000"/>
            <a:chExt cx="685800" cy="762120"/>
          </a:xfrm>
        </p:grpSpPr>
        <p:sp>
          <p:nvSpPr>
            <p:cNvPr id="708" name=""/>
            <p:cNvSpPr/>
            <p:nvPr/>
          </p:nvSpPr>
          <p:spPr>
            <a:xfrm>
              <a:off x="1828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28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146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71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2004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004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886200" y="2286000"/>
            <a:ext cx="685800" cy="762120"/>
            <a:chOff x="3886200" y="2286000"/>
            <a:chExt cx="685800" cy="762120"/>
          </a:xfrm>
        </p:grpSpPr>
        <p:sp>
          <p:nvSpPr>
            <p:cNvPr id="718" name=""/>
            <p:cNvSpPr/>
            <p:nvPr/>
          </p:nvSpPr>
          <p:spPr>
            <a:xfrm>
              <a:off x="38862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862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257800" y="2286000"/>
            <a:ext cx="685800" cy="762120"/>
            <a:chOff x="5257800" y="2286000"/>
            <a:chExt cx="685800" cy="762120"/>
          </a:xfrm>
        </p:grpSpPr>
        <p:sp>
          <p:nvSpPr>
            <p:cNvPr id="721" name=""/>
            <p:cNvSpPr/>
            <p:nvPr/>
          </p:nvSpPr>
          <p:spPr>
            <a:xfrm>
              <a:off x="5257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57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943600" y="2286000"/>
            <a:ext cx="685800" cy="762120"/>
            <a:chOff x="5943600" y="2286000"/>
            <a:chExt cx="685800" cy="762120"/>
          </a:xfrm>
        </p:grpSpPr>
        <p:sp>
          <p:nvSpPr>
            <p:cNvPr id="724" name=""/>
            <p:cNvSpPr/>
            <p:nvPr/>
          </p:nvSpPr>
          <p:spPr>
            <a:xfrm>
              <a:off x="59436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436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629400" y="2286000"/>
            <a:ext cx="685800" cy="762120"/>
            <a:chOff x="6629400" y="2286000"/>
            <a:chExt cx="685800" cy="762120"/>
          </a:xfrm>
        </p:grpSpPr>
        <p:sp>
          <p:nvSpPr>
            <p:cNvPr id="727" name=""/>
            <p:cNvSpPr/>
            <p:nvPr/>
          </p:nvSpPr>
          <p:spPr>
            <a:xfrm>
              <a:off x="66294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294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73152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3152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533520" y="2590920"/>
            <a:ext cx="533160" cy="75960"/>
            <a:chOff x="533520" y="2590920"/>
            <a:chExt cx="533160" cy="75960"/>
          </a:xfrm>
        </p:grpSpPr>
        <p:sp>
          <p:nvSpPr>
            <p:cNvPr id="732" name=""/>
            <p:cNvSpPr/>
            <p:nvPr/>
          </p:nvSpPr>
          <p:spPr>
            <a:xfrm>
              <a:off x="990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1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35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8077320" y="2590920"/>
            <a:ext cx="533160" cy="75960"/>
            <a:chOff x="8077320" y="2590920"/>
            <a:chExt cx="533160" cy="75960"/>
          </a:xfrm>
        </p:grpSpPr>
        <p:sp>
          <p:nvSpPr>
            <p:cNvPr id="736" name=""/>
            <p:cNvSpPr/>
            <p:nvPr/>
          </p:nvSpPr>
          <p:spPr>
            <a:xfrm>
              <a:off x="85345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059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77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685800" y="3657600"/>
            <a:ext cx="80773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t each time step t, a new tape square (initialized to 0) is created after square k/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- t for each integer 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y model fo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&gt; 0 spaceti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533520" y="76212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INF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 the class of languages decided by inflationary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762120" y="3200400"/>
          <a:ext cx="78991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8991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5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or quantum analogues, BQSPACE and BQI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Open Problems In This Model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828800"/>
            <a:ext cx="807732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O(n) time, can we compute anything with an n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 square worktape that we couldn’t with a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 square tape?  I.e. how much of the observable universe could we “take advantage of” before it reced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about quantum-mechanicall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the effect of including “gravity”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0880" y="14479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pacetime, a quantum robot could search a larger region than a classical one (not assuming any time b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0880" y="3124080"/>
            <a:ext cx="8610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is a good source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pu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 ques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um computing is just one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066680" y="5029200"/>
            <a:ext cx="6858000" cy="1050840"/>
            <a:chOff x="1066680" y="5029200"/>
            <a:chExt cx="6858000" cy="1050840"/>
          </a:xfrm>
        </p:grpSpPr>
        <p:pic>
          <p:nvPicPr>
            <p:cNvPr id="750" name="string" descr=""/>
            <p:cNvPicPr/>
            <p:nvPr/>
          </p:nvPicPr>
          <p:blipFill>
            <a:blip r:embed="rId1"/>
            <a:stretch/>
          </p:blipFill>
          <p:spPr>
            <a:xfrm>
              <a:off x="1066680" y="5029200"/>
              <a:ext cx="1668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352680" y="52578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all strings have n b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U. of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-ph/03030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72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380880"/>
            <a:ext cx="815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ver’s O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) Quantum Search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binatorial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t help search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2514600"/>
            <a:ext cx="8839080" cy="4343400"/>
            <a:chOff x="0" y="2514600"/>
            <a:chExt cx="8839080" cy="4343400"/>
          </a:xfrm>
        </p:grpSpPr>
        <p:pic>
          <p:nvPicPr>
            <p:cNvPr id="194" name="bacon" descr=""/>
            <p:cNvPicPr/>
            <p:nvPr/>
          </p:nvPicPr>
          <p:blipFill>
            <a:blip r:embed="rId1"/>
            <a:srcRect l="0" t="17188" r="17187" b="9102"/>
            <a:stretch/>
          </p:blipFill>
          <p:spPr>
            <a:xfrm>
              <a:off x="0" y="2590920"/>
              <a:ext cx="35956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114800" y="2514600"/>
              <a:ext cx="4724280" cy="2209680"/>
            </a:xfrm>
            <a:prstGeom prst="wedgeEllipseCallout">
              <a:avLst>
                <a:gd name="adj1" fmla="val -83870"/>
                <a:gd name="adj2" fmla="val 36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WAHAHA!  Look who needs physics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now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200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peed of light is fini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56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0880" y="38088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ard disk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886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care 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1337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worse—ev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d disk would collapse once radius exc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D hard disk would not collaps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 of radiation of radius r has energ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 but entr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7621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of space can’t store more than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rfac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057400"/>
            <a:ext cx="8458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pace had d&gt;3 dimensions, then relativ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 would be weaker: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(d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bou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hie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Apparently not, since even stronger limit (Bekenstein’s) applies for weakly-gravit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6:19:17Z</dcterms:created>
  <dc:creator>Avaya User</dc:creator>
  <dc:description/>
  <dc:language>en-US</dc:language>
  <cp:lastModifiedBy>Avaya User</cp:lastModifiedBy>
  <dcterms:modified xsi:type="dcterms:W3CDTF">2003-03-17T15:41:15Z</dcterms:modified>
  <cp:revision>27</cp:revision>
  <dc:subject/>
  <dc:title>Cosmology and Complexity Classes</dc:title>
</cp:coreProperties>
</file>