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528D-3347-45F4-848F-76029B57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B44A-301A-4030-9F5B-584430CD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D25-A386-4A48-A81B-9CEC0043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A65-D8BD-4E6C-84E5-6AB0D912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11D-D460-4D40-9144-6D34BAAD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4429-FB08-4ADB-BBF3-14E2CB5CE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F604-74DC-4A7B-A311-95F5E765A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71E-3635-4282-99FA-68EA11B7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D071-E2D6-43C4-9171-C49E999C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3A8-CF81-4399-8DFC-D77D794A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4FE-CA2E-4C60-A0A7-C0D3E18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F07-DBF2-4A03-8854-7033B1F9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74B-9F6B-428E-BC4D-D6D2C94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B55-FB50-42FD-9C1D-755EA413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3A6-4E48-4F5B-B3FD-F474CBA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E5B-33C9-4DE1-85D1-1635E461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3E2-D6C2-4036-BA6B-F7EE7547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C4D-1FB2-4923-8303-BD21A9E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E79-3898-4EEE-B152-2424F310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6E9-3C6C-48EF-B56A-AD4C157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68F-62E7-455A-8D51-EA03667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2A7-D9D3-411F-BE45-74328535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antum Software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py-Protec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6223" r="0" b="0"/>
          <a:stretch/>
        </p:blipFill>
        <p:spPr>
          <a:xfrm>
            <a:off x="3276720" y="2362320"/>
            <a:ext cx="27432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3352680"/>
            <a:ext cx="1295280" cy="100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6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i="1" lang="en-CA" sz="6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6858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981080"/>
            <a:ext cx="83059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rid of the oracl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y the relationship between copy-protection and obfus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“constant error regime”: what is information-theoretically possi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992640" y="52920"/>
            <a:ext cx="1495440" cy="1623600"/>
            <a:chOff x="6992640" y="52920"/>
            <a:chExt cx="1495440" cy="1623600"/>
          </a:xfrm>
        </p:grpSpPr>
        <p:grpSp>
          <p:nvGrpSpPr>
            <p:cNvPr id="79" name=""/>
            <p:cNvGrpSpPr/>
            <p:nvPr/>
          </p:nvGrpSpPr>
          <p:grpSpPr>
            <a:xfrm>
              <a:off x="6992640" y="457200"/>
              <a:ext cx="558360" cy="1219320"/>
              <a:chOff x="6992640" y="457200"/>
              <a:chExt cx="558360" cy="1219320"/>
            </a:xfrm>
          </p:grpSpPr>
          <p:sp>
            <p:nvSpPr>
              <p:cNvPr id="80" name=""/>
              <p:cNvSpPr/>
              <p:nvPr/>
            </p:nvSpPr>
            <p:spPr>
              <a:xfrm>
                <a:off x="69926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rot="2698800">
              <a:off x="74329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698800">
              <a:off x="71211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698800">
              <a:off x="72514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49040" y="52920"/>
            <a:ext cx="1495440" cy="1623600"/>
            <a:chOff x="1049040" y="52920"/>
            <a:chExt cx="1495440" cy="1623600"/>
          </a:xfrm>
        </p:grpSpPr>
        <p:grpSp>
          <p:nvGrpSpPr>
            <p:cNvPr id="85" name=""/>
            <p:cNvGrpSpPr/>
            <p:nvPr/>
          </p:nvGrpSpPr>
          <p:grpSpPr>
            <a:xfrm>
              <a:off x="1049040" y="457200"/>
              <a:ext cx="558360" cy="1219320"/>
              <a:chOff x="1049040" y="457200"/>
              <a:chExt cx="558360" cy="1219320"/>
            </a:xfrm>
          </p:grpSpPr>
          <p:sp>
            <p:nvSpPr>
              <p:cNvPr id="86" name=""/>
              <p:cNvSpPr/>
              <p:nvPr/>
            </p:nvSpPr>
            <p:spPr>
              <a:xfrm>
                <a:off x="1049040" y="457200"/>
                <a:ext cx="55836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rot="2698800">
              <a:off x="1489320" y="228600"/>
              <a:ext cx="866520" cy="8920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698800">
              <a:off x="1177560" y="905040"/>
              <a:ext cx="824040" cy="14436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698800">
              <a:off x="1307880" y="802800"/>
              <a:ext cx="750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 Black"/>
                </a:rPr>
                <a:t>DU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ny people have a legitimate interest in keeping their intellectual property from being copi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4572000"/>
            <a:ext cx="4419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if quantum mechanics isn’t physics in the usual sense—if it’s not about matter, or energy, or waves—then what is it about?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2365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3419640" cy="237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4572000"/>
            <a:ext cx="40147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ll, from my perspective, it’s about information, probabilities, and observables, and how they relate to each other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04920" y="457200"/>
            <a:ext cx="83055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lassical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ing someone a program that they can use but not copy is fundamentally impossib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tell that to Sony/BM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antuml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ll, it’s called the “No-Cloning Theorem” for a reas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n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, can you give your customers a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lets them evaluate f, but doesn’t let them prepare more states from which f can be evaluat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hey use the state more than once?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nswer: Certainly, if they buy poly(n) copies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’re going to have to make computational assum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seem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4920" y="1371600"/>
            <a:ext cx="838188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the class of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int function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1 if x=s, f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x)=0 otherwi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code s by a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e.  Choose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…,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uniformly at random.  Then give your customers the following sta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01720" y="3581280"/>
                <a:ext cx="5742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r>
                      <m:t xml:space="preserve">⋯</m:t>
                    </m:r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τ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6"/>
          <p:cNvSpPr/>
          <p:nvPr/>
        </p:nvSpPr>
        <p:spPr>
          <a:xfrm>
            <a:off x="380880" y="4800600"/>
            <a:ext cx="838224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any permutation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, I claim one can use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o test whether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ith error probability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 the other hand,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oesn’t seem useful for preparing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dditiona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tates with the same prop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14400" y="1828800"/>
            <a:ext cx="731520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cheme is provably secure, under the assumption that it can’t be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14400" y="2971800"/>
            <a:ext cx="7315200" cy="87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ssumption is related to, but stronger than, the hardness of the Hidden Subgroup Problem over S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 where quantum copy-protection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28600" y="1219320"/>
            <a:ext cx="853452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G be a finite group, for which we can efficiently prepare |G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a uniform superposition over the elemen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H be a subgroup with |H|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|G|/polylog|G|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ven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atrous showed one can efficiently decide membership in H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iven an element 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, check whether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|Hx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is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rthermore: given a program to decide membership in H, one can efficiently prepare |H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irst prepare |G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then postselect on membership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y program to decide membership in H can be pirated!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ut apparently, only by a “fully quantum pi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28600" y="533520"/>
            <a:ext cx="853452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of functions can be quantumly copy-protected, except the ones that can’t for trivial reasons</a:t>
            </a:r>
            <a:br>
              <a:rPr sz="2800"/>
            </a:b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(i.e., the ones that are “quantumly learnable from inputs and outputs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in Result [A. 203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 “quantum oracle” relative to which this specul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ven if it isn’t, we won’t be able to prove that by any “quantumly relativizing techniqu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application of my proof techniques [Mosca-Stebila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bly unforgeable “quantum mon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Provided there’s a quantum oracle at the cash reg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04920" y="1371600"/>
            <a:ext cx="85341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ach circuit C, choose a “meaningless quantum label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quantum oracle will map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C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(and als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0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 to |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8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uitively, then, having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“just the same as” having a black box for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w that if C is not learnable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’t be pi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e this, we need to construct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mula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takes any quantum algorithm that pirat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onverts it into an algorithm that learns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304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ndwaving Proof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36929"/>
          <a:stretch/>
        </p:blipFill>
        <p:spPr>
          <a:xfrm>
            <a:off x="6477120" y="0"/>
            <a:ext cx="266688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gredient #1 in the simulator construction: “Complexity-Theoretic No-Cloning Theor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04920" y="1600200"/>
            <a:ext cx="85341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ppose a quantum algorithm is given an n-qubit stat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can also access a quantum oracle U that “recognizes”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.e.,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-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U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).  Then the algorithm still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ries to U to prepare any state having non-negligible overlap with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tains both the No-Cloning Theorem and the optimality of Grover search as special cas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new generalization of Ambainis’s quantum adversary method, to the case where the starting state already has some information about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Ingredient #2: Pseudorandom Sta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" y="3581280"/>
            <a:ext cx="853452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th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can be prepared in polynomial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Lemm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p is chosen uniformly at random, then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looks like” a completely random n-qubit state</a:t>
            </a:r>
            <a:br>
              <a:rPr sz="26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get polynomially many copies of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 Even if we query the quantum oracle, which depends on |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simulator can use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in place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28600" y="2514600"/>
            <a:ext cx="8610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p is a degree-d univariate polynomial over GF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or some d=poly(n), and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 is the “leading bit” of p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9"/>
              <p:cNvSpPr txBox="1"/>
              <p:nvPr/>
            </p:nvSpPr>
            <p:spPr>
              <a:xfrm>
                <a:off x="1676520" y="990720"/>
                <a:ext cx="5638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p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07-12-20T10:10:11Z</dcterms:modified>
  <cp:revision>51</cp:revision>
  <dc:subject/>
  <dc:title>The Learnability of Quantum States</dc:title>
</cp:coreProperties>
</file>