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A06B-3545-403C-821D-D7E956B8C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23EB-9DE3-414B-8858-1E7CAA6A6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4EC6-7EF7-4BA0-81E5-FCA5A41E4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202C-AB76-4498-AD24-97FF81302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05F8-BE12-484E-93E2-2586A3DD1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7E83-EA85-4D41-90E6-B96C50AB7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8ED5-A518-450C-B394-E50888CFE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A6FA-EAF0-4E46-B193-68ED04DB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201B-E9BB-4AB1-B0CE-61E0A517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343-3424-4CBC-BA71-9CA76344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3F1-0F74-4CDF-9670-8EB36889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380-F88A-4060-8839-48261006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A4B-9290-40BC-9BAA-E1937488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DA2-8534-40F2-A9F3-98181BD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D8A-F411-4D2D-A807-A0F122EA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5FD-F548-4762-9D43-D03442B0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8B0-700C-43B7-B602-0E66C7C4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6FF-7B90-40FF-8832-C3170530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15D-14F1-4239-B907-EDC9DEB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56E-CCD3-45C8-A8C0-06860F08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50B-E11D-4E45-930B-7DFF3EF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5343-F908-4ADD-BCA0-05DE9C827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antum Software</a:t>
            </a: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py-Protec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6223" r="0" b="0"/>
          <a:stretch/>
        </p:blipFill>
        <p:spPr>
          <a:xfrm>
            <a:off x="3276720" y="2362320"/>
            <a:ext cx="27432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3352680"/>
            <a:ext cx="1295280" cy="100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6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i="1" lang="en-CA" sz="6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685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981080"/>
            <a:ext cx="83059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 rid of the oracl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fy the relationship between copy-protection and obfus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“constant error regime”: what is information-theoretically possi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992640" y="52920"/>
            <a:ext cx="1495440" cy="1623600"/>
            <a:chOff x="6992640" y="52920"/>
            <a:chExt cx="1495440" cy="1623600"/>
          </a:xfrm>
        </p:grpSpPr>
        <p:grpSp>
          <p:nvGrpSpPr>
            <p:cNvPr id="79" name=""/>
            <p:cNvGrpSpPr/>
            <p:nvPr/>
          </p:nvGrpSpPr>
          <p:grpSpPr>
            <a:xfrm>
              <a:off x="6992640" y="457200"/>
              <a:ext cx="558360" cy="1219320"/>
              <a:chOff x="6992640" y="457200"/>
              <a:chExt cx="558360" cy="1219320"/>
            </a:xfrm>
          </p:grpSpPr>
          <p:sp>
            <p:nvSpPr>
              <p:cNvPr id="80" name=""/>
              <p:cNvSpPr/>
              <p:nvPr/>
            </p:nvSpPr>
            <p:spPr>
              <a:xfrm>
                <a:off x="69926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rot="2698800">
              <a:off x="74329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698800">
              <a:off x="71211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698800">
              <a:off x="72514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49040" y="52920"/>
            <a:ext cx="1495440" cy="1623600"/>
            <a:chOff x="1049040" y="52920"/>
            <a:chExt cx="1495440" cy="1623600"/>
          </a:xfrm>
        </p:grpSpPr>
        <p:grpSp>
          <p:nvGrpSpPr>
            <p:cNvPr id="85" name=""/>
            <p:cNvGrpSpPr/>
            <p:nvPr/>
          </p:nvGrpSpPr>
          <p:grpSpPr>
            <a:xfrm>
              <a:off x="1049040" y="457200"/>
              <a:ext cx="558360" cy="1219320"/>
              <a:chOff x="1049040" y="457200"/>
              <a:chExt cx="558360" cy="1219320"/>
            </a:xfrm>
          </p:grpSpPr>
          <p:sp>
            <p:nvSpPr>
              <p:cNvPr id="86" name=""/>
              <p:cNvSpPr/>
              <p:nvPr/>
            </p:nvSpPr>
            <p:spPr>
              <a:xfrm>
                <a:off x="10490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rot="2698800">
              <a:off x="14893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698800">
              <a:off x="11775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698800">
              <a:off x="13078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ny people have a legitimate interest in keeping their intellectual property from being copi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28600" y="4572000"/>
            <a:ext cx="44197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if quantum mechanics isn’t physics in the usual sense—if it’s not about matter, or energy, or waves—then what is it about?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276360" cy="2365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3419640" cy="237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4572000"/>
            <a:ext cx="40147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ll, from my perspective, it’s about information, probabilities, and observables, and how they relate to each other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04920" y="457200"/>
            <a:ext cx="8305560" cy="61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lassical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ing someone a program that they can use but not copy is fundamentally impossib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tell that to Sony/BM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uantum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ll, it’s called the “No-Cloning Theorem” for a reas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, can you give your customers a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lets them evaluate f, but doesn’t let them prepare more states from which f can be evalua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hey use the state more than once?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nswer: Certainly, if they buy poly(n) copie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’re going to have to make computational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 where quantum copy-protection seem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04920" y="1371600"/>
            <a:ext cx="838188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the class o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oint function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x)=1 if x=s,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x)=0 otherw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code s by a permuta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e.  Choos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uniformly at random.  Then give your customers the following sta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01720" y="3581280"/>
                <a:ext cx="57420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⊗</m:t>
                    </m:r>
                    <m:r>
                      <m:t xml:space="preserve">⋯</m:t>
                    </m:r>
                    <m:r>
                      <m:t xml:space="preserve">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6"/>
          <p:cNvSpPr/>
          <p:nvPr/>
        </p:nvSpPr>
        <p:spPr>
          <a:xfrm>
            <a:off x="380880" y="4800600"/>
            <a:ext cx="838224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any permuta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’, I claim one can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o test whether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ith error probability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other hand,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oesn’t seem useful for preparing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ddition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tates with the same prop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14400" y="1828800"/>
            <a:ext cx="731520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scheme is provably secure, under the assumption that it can’t be 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14400" y="2971800"/>
            <a:ext cx="7315200" cy="8758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Assumption is related to, but stronger than, the hardness of the Hidden Subgroup Problem over S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 where quantum copy-protection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28600" y="1219320"/>
            <a:ext cx="853452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G be a finite group, for which we can efficiently prepare |G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a uniform superposition over the elemen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H be a subgroup with |H|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|G|/polylog|G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|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atrous showed one can efficiently decide membership in 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iven an element x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, check whether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|Hx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is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urthermore: given a program to decide membership in H, one can efficiently prepare |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irst prepare |G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then postselect on membership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y program to decide membership in H can be pirated!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ut apparently, only by a “fully quantum pir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28600" y="533520"/>
            <a:ext cx="853452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ec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of functions can be quantumly copy-protected, except the ones that can’t for trivial reasons</a:t>
            </a:r>
            <a:br>
              <a:rPr sz="2800"/>
            </a:b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(i.e., the ones that are “quantumly learnable from inputs and outputs”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in Result [A. 2034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 “quantum oracle” relative to which this speculation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even if it isn’t, we won’t be able to prove that by any “quantumly relativizing techniq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application of my proof techniques [Mosca-Stebila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ably unforgeable “quantum mone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Provided there’s a quantum oracle at the cash reg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4920" y="1371600"/>
            <a:ext cx="85341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ircuit C, choose a “meaningless quantum label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formly at ran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quantum oracle will map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C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and also |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|0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to |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uitively, then, hav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“just the same as” having a black box for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w that if C is not learnable, th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’t be pi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ve this, we need to construct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takes any quantum algorithm that pirat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converts it into an algorithm that learns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3049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ndwaving Proof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0" t="0" r="0" b="36929"/>
          <a:stretch/>
        </p:blipFill>
        <p:spPr>
          <a:xfrm>
            <a:off x="6477120" y="0"/>
            <a:ext cx="26668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gredient #1 in the simulator construction: “Complexity-Theoretic No-Cloning Theor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04920" y="1600200"/>
            <a:ext cx="85341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ppose a quantum algorithm is given an n-qubit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can also access a quantum oracle U that “recognizes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.e., U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-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U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).  Then the algorithm still need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ries to U to prepare any state having non-negligible overlap with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ains both the No-Cloning Theorem and the optimality of Grover search as special cas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new generalization of Ambainis’s quantum adversary method, to the case where the starting state already has some information about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ngredient #2: Pseudorandom St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" y="3581280"/>
            <a:ext cx="853452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th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can be prepared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p is chosen uniformly at random, th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looks like” a completely random n-qubit state</a:t>
            </a:r>
            <a:br>
              <a:rPr sz="26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Even if we get polynomially many copies of |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Even if we query the quantum oracle, which depends on |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simulator can us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in place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28600" y="2514600"/>
            <a:ext cx="8610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p is a degree-d univariate polynomial over GF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for some d=poly(n), and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is the “leading bit” of p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9"/>
              <p:cNvSpPr txBox="1"/>
              <p:nvPr/>
            </p:nvSpPr>
            <p:spPr>
              <a:xfrm>
                <a:off x="1676520" y="990720"/>
                <a:ext cx="56386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7-12-20T10:10:11Z</dcterms:modified>
  <cp:revision>51</cp:revision>
  <dc:subject/>
  <dc:title>The Learnability of Quantum States</dc:title>
</cp:coreProperties>
</file>