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5D2-A036-42BC-B46F-DD8C000D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03B-4099-4DBF-8707-F3E2344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92F-06B2-4F8D-91EC-89A89323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260-AD7B-4093-8AA6-673A629F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ADB-6477-49D8-98D2-607D4ED4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44E-F26F-43B9-8705-8458C942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F1F-E7FF-4FEC-86D9-171CB148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901-BCFC-45ED-922A-6ED7060E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C5B-B09A-4233-AAD4-C6407683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32D-8680-4898-9212-04B4C44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F7F-4C4F-4399-8796-466448F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E7D-8E3A-4B75-A00B-A11B059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D428-4101-4A33-B5B3-C6B1D112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0402400">
            <a:off x="6804000" y="3141360"/>
            <a:ext cx="16970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89000" y="1937880"/>
            <a:ext cx="3834720" cy="4553280"/>
            <a:chOff x="189000" y="1937880"/>
            <a:chExt cx="3834720" cy="4553280"/>
          </a:xfrm>
        </p:grpSpPr>
        <p:sp>
          <p:nvSpPr>
            <p:cNvPr id="44" name=""/>
            <p:cNvSpPr/>
            <p:nvPr/>
          </p:nvSpPr>
          <p:spPr>
            <a:xfrm rot="849600">
              <a:off x="252000" y="426528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849600">
              <a:off x="1436400" y="2235240"/>
              <a:ext cx="25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SP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849600">
              <a:off x="2458800" y="482292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N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849600">
              <a:off x="1058400" y="561456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849600">
              <a:off x="980640" y="3413160"/>
              <a:ext cx="28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ost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419200" y="2858400"/>
              <a:ext cx="168120" cy="666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52560" y="4155120"/>
              <a:ext cx="357480" cy="7448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8480" y="4984920"/>
              <a:ext cx="460080" cy="7711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44880" y="5451480"/>
              <a:ext cx="771120" cy="46008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210320" y="3922200"/>
              <a:ext cx="617400" cy="4993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2280" y="283680"/>
            <a:ext cx="8371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Arial"/>
              </a:rPr>
              <a:t>Computational Intractability As A Law of Physic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Alleged Ways to Solve 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complete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752480"/>
            <a:ext cx="8077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; let the soap bubbles form a minimum “Steiner tree” connecting the pegs (thereby solving a known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5603" r="0" b="0"/>
          <a:stretch/>
        </p:blipFill>
        <p:spPr>
          <a:xfrm>
            <a:off x="3200400" y="3429000"/>
            <a:ext cx="2674800" cy="3236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4191120"/>
            <a:ext cx="81532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Protein folding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an also get stuck at local optima (e.g., Mad Cow Dise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Just massively parallel classical compu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048120" y="3505320"/>
            <a:ext cx="2487240" cy="3211200"/>
            <a:chOff x="3048120" y="3505320"/>
            <a:chExt cx="2487240" cy="3211200"/>
          </a:xfrm>
        </p:grpSpPr>
        <p:sp>
          <p:nvSpPr>
            <p:cNvPr id="224" name=""/>
            <p:cNvSpPr/>
            <p:nvPr/>
          </p:nvSpPr>
          <p:spPr>
            <a:xfrm flipV="1">
              <a:off x="3092400" y="6228720"/>
              <a:ext cx="1774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182200" y="5275440"/>
              <a:ext cx="304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4856040" y="3561480"/>
              <a:ext cx="6307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096000" y="5963400"/>
              <a:ext cx="180360" cy="2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2560" y="5963400"/>
              <a:ext cx="2930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277080" y="5974560"/>
              <a:ext cx="19162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02040" y="3505320"/>
              <a:ext cx="11376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420160" y="522540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048120" y="660132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048120" y="591336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420160" y="6257880"/>
              <a:ext cx="115200" cy="113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468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ould the world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ctually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e like if we could solve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-complete problems efficiently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0880" y="4114800"/>
            <a:ext cx="8326440" cy="2286000"/>
            <a:chOff x="380880" y="4114800"/>
            <a:chExt cx="8326440" cy="2286000"/>
          </a:xfrm>
        </p:grpSpPr>
        <p:sp>
          <p:nvSpPr>
            <p:cNvPr id="238" name=""/>
            <p:cNvSpPr/>
            <p:nvPr/>
          </p:nvSpPr>
          <p:spPr>
            <a:xfrm>
              <a:off x="380880" y="4114800"/>
              <a:ext cx="6705720" cy="222696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f there actually were a machine with [running time] ~Kn (or even only with ~K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, this would have consequences of the greatest magnitude.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l to von Neumann, 19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7010280" y="4114800"/>
              <a:ext cx="169704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685800" y="609480"/>
            <a:ext cx="2971800" cy="2971800"/>
            <a:chOff x="685800" y="609480"/>
            <a:chExt cx="2971800" cy="2971800"/>
          </a:xfrm>
        </p:grpSpPr>
        <p:sp>
          <p:nvSpPr>
            <p:cNvPr id="241" name=""/>
            <p:cNvSpPr/>
            <p:nvPr/>
          </p:nvSpPr>
          <p:spPr>
            <a:xfrm>
              <a:off x="685800" y="609480"/>
              <a:ext cx="2971800" cy="297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1143000"/>
              <a:ext cx="2514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mic Sans MS"/>
                </a:rPr>
                <a:t>Proof of Riemann hypothesis with </a:t>
              </a:r>
              <a:r>
                <a:rPr b="1" lang="en-CA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en-CA" sz="2400" spc="-1" strike="noStrike">
                  <a:solidFill>
                    <a:srgbClr val="000000"/>
                  </a:solidFill>
                  <a:latin typeface="Comic Sans MS"/>
                </a:rPr>
                <a:t>10,000,000 symbol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914400"/>
            <a:ext cx="2666880" cy="2666880"/>
            <a:chOff x="5791320" y="914400"/>
            <a:chExt cx="2666880" cy="2666880"/>
          </a:xfrm>
        </p:grpSpPr>
        <p:sp>
          <p:nvSpPr>
            <p:cNvPr id="244" name=""/>
            <p:cNvSpPr/>
            <p:nvPr/>
          </p:nvSpPr>
          <p:spPr>
            <a:xfrm>
              <a:off x="5791320" y="914400"/>
              <a:ext cx="2666880" cy="26668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67280" y="1295280"/>
              <a:ext cx="2514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mic Sans MS"/>
                </a:rPr>
                <a:t>Shortest efficient description of stock market dat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39625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ies, but is stronger than, 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falsifiable as it 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stent with currently-known physic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cientifically fruit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right, what can we say about this assum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286000" y="51055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228600"/>
            <a:ext cx="8610480" cy="2895480"/>
            <a:chOff x="304920" y="228600"/>
            <a:chExt cx="8610480" cy="2895480"/>
          </a:xfrm>
        </p:grpSpPr>
        <p:sp>
          <p:nvSpPr>
            <p:cNvPr id="250" name=""/>
            <p:cNvSpPr/>
            <p:nvPr/>
          </p:nvSpPr>
          <p:spPr>
            <a:xfrm>
              <a:off x="304920" y="228600"/>
              <a:ext cx="8610480" cy="2895480"/>
            </a:xfrm>
            <a:prstGeom prst="vertic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990720"/>
              <a:ext cx="815328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800" spc="-1" strike="noStrike">
                  <a:solidFill>
                    <a:srgbClr val="333399"/>
                  </a:solidFill>
                  <a:latin typeface="Arial"/>
                </a:rPr>
                <a:t>The NP Hardness Assumption</a:t>
              </a:r>
              <a:br>
                <a:rPr sz="3800"/>
              </a:br>
              <a:r>
                <a:rPr b="0" lang="en-CA" sz="2900" spc="-1" strike="noStrike">
                  <a:solidFill>
                    <a:srgbClr val="000000"/>
                  </a:solidFill>
                  <a:latin typeface="Arial"/>
                </a:rPr>
                <a:t>There is no physical means to solve NP complete problems in polynomial time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00400" y="2895480"/>
            <a:ext cx="5029200" cy="2835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Rest of talk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Show how complexity yields a new perspective on linearity of QM, anthropic postselection, closed timelike curves, and initial cond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1. Nonlinear variants of the Schr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dinger Equatio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6120" y="1728720"/>
            <a:ext cx="861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antum mechanics were nonlinear, one could exploit that to solve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256" name="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259" name="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67200" y="1296360"/>
            <a:ext cx="6704640" cy="5738040"/>
            <a:chOff x="1267200" y="1296360"/>
            <a:chExt cx="6704640" cy="5738040"/>
          </a:xfrm>
        </p:grpSpPr>
        <p:sp>
          <p:nvSpPr>
            <p:cNvPr id="264" name=""/>
            <p:cNvSpPr/>
            <p:nvPr/>
          </p:nvSpPr>
          <p:spPr>
            <a:xfrm rot="799800">
              <a:off x="1709640" y="1906200"/>
              <a:ext cx="5819760" cy="4518000"/>
            </a:xfrm>
            <a:prstGeom prst="irregularSeal2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8120" y="3336840"/>
              <a:ext cx="3121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Can take as an additional argument for why QM is line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20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457200" y="3429000"/>
            <a:ext cx="8013240" cy="469800"/>
            <a:chOff x="457200" y="3429000"/>
            <a:chExt cx="8013240" cy="469800"/>
          </a:xfrm>
        </p:grpSpPr>
        <p:sp>
          <p:nvSpPr>
            <p:cNvPr id="267" name=""/>
            <p:cNvSpPr/>
            <p:nvPr/>
          </p:nvSpPr>
          <p:spPr>
            <a:xfrm>
              <a:off x="45720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42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28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5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1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7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90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14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0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 Anthropic Principl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21932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lproof way to solv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s in polynomial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least in the Many-Worlds Interpret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guess a random solution.  Then, if it’s wrong, kill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chnica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solutions, you’re out of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53578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iny probability don’t do anything.  Then, if you find yourself in a universe where you didn’t do anything, there probab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solutions, since otherwise you would’ve found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429000"/>
            <a:ext cx="469800" cy="469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2057400"/>
            <a:ext cx="4572000" cy="3261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P Hardness Assumption yields a nontrivial constraint on anthropic theorizing: no use of the Anthropic Principle can be valid, if its validity would give us a way to solve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2160" y="396360"/>
            <a:ext cx="81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f w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mb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quantum computing with the Anthropic Principl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e. perform a polynomial-time quantum computation, but where we can measure a qubit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3505320"/>
            <a:ext cx="5334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a new complexity class: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Postselected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flipH="1">
            <a:off x="609480" y="3352680"/>
            <a:ext cx="1424160" cy="1752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934320" y="3276720"/>
            <a:ext cx="1423800" cy="1752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33520" y="533412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rtainly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but is it even bigger than th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84582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ome more animals from the complexity zoo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SPACE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Class of problems solvable with a polynomial amount of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Class of problems of the form, “out of 2</a:t>
            </a:r>
            <a:r>
              <a:rPr b="0" lang="en-CA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possible solutions, are at least </a:t>
            </a: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half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of them correct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dleman, DeMarrais, Huang 1998: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Proof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Feynman path integ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roof easily extends to show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562720" y="4495680"/>
            <a:ext cx="598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828800"/>
            <a:ext cx="3124440" cy="228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04200" y="607320"/>
            <a:ext cx="3777120" cy="5479200"/>
            <a:chOff x="304200" y="607320"/>
            <a:chExt cx="3777120" cy="5479200"/>
          </a:xfrm>
        </p:grpSpPr>
        <p:sp>
          <p:nvSpPr>
            <p:cNvPr id="294" name=""/>
            <p:cNvSpPr/>
            <p:nvPr/>
          </p:nvSpPr>
          <p:spPr>
            <a:xfrm rot="21594000">
              <a:off x="304560" y="427212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1594000">
              <a:off x="936000" y="1887120"/>
              <a:ext cx="25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1594000">
              <a:off x="2579040" y="426888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N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1594000">
              <a:off x="1418760" y="538164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594000">
              <a:off x="780480" y="3105000"/>
              <a:ext cx="28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ost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58200" y="2529000"/>
              <a:ext cx="1440" cy="6872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35920" y="3745440"/>
              <a:ext cx="529920" cy="6339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08880" y="4964760"/>
              <a:ext cx="636120" cy="63360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480040" y="4960080"/>
              <a:ext cx="633240" cy="6364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08520" y="3747600"/>
              <a:ext cx="474480" cy="6357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1594000">
              <a:off x="948960" y="609120"/>
              <a:ext cx="251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cc"/>
                  </a:solidFill>
                  <a:latin typeface="Arial"/>
                </a:rPr>
                <a:t>PSP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0800" y="1251000"/>
              <a:ext cx="1440" cy="68724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191120" y="53352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2004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91120" y="1295280"/>
            <a:ext cx="4495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 other words, quantum postselection gives </a:t>
            </a: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exactl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he power of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3048120"/>
            <a:ext cx="44956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Surprising par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his characterization yields a half-page proof of a celebrated result of Beigel, Reingold, and Spielman, that </a:t>
            </a:r>
            <a:r>
              <a:rPr b="1" lang="en-CA" sz="3000" spc="-1" strike="noStrike">
                <a:solidFill>
                  <a:srgbClr val="cc00cc"/>
                </a:solidFill>
                <a:latin typeface="Arial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is closed under inter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44520" y="13302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ryone’s first idea for a time travel comput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4520" y="293040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THIS DOES NOT 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4520" y="4149720"/>
            <a:ext cx="830592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754600" y="3921120"/>
            <a:ext cx="1524240" cy="1486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4160" y="27432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. Time Trav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371600"/>
            <a:ext cx="8382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losed timelike curve (CTC) is a computational resource that, given an efficiently computable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mmediately find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ixed po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—that is, an x such that f(x)=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ttedly, not every 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fixed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re’s alway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 such that f(D)=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2240" y="4572000"/>
            <a:ext cx="834624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ings we never see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2600" t="26748" r="18900" b="17832"/>
          <a:stretch/>
        </p:blipFill>
        <p:spPr>
          <a:xfrm>
            <a:off x="271440" y="1563840"/>
            <a:ext cx="2611440" cy="1493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1920" y="33926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rp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90920" y="1455840"/>
            <a:ext cx="1839960" cy="18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84320" y="3419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petuum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83200" y="1211400"/>
            <a:ext cx="3000240" cy="2133000"/>
            <a:chOff x="5983200" y="1211400"/>
            <a:chExt cx="3000240" cy="2133000"/>
          </a:xfrm>
        </p:grpSpPr>
        <p:sp>
          <p:nvSpPr>
            <p:cNvPr id="62" name=""/>
            <p:cNvSpPr/>
            <p:nvPr/>
          </p:nvSpPr>
          <p:spPr>
            <a:xfrm>
              <a:off x="6286320" y="1211400"/>
              <a:ext cx="2389320" cy="17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983200" y="2960640"/>
              <a:ext cx="3000240" cy="383760"/>
            </a:xfrm>
            <a:custGeom>
              <a:avLst/>
              <a:gdLst>
                <a:gd name="textAreaLeft" fmla="*/ 421920 w 3000240"/>
                <a:gd name="textAreaRight" fmla="*/ 2578320 w 3000240"/>
                <a:gd name="textAreaTop" fmla="*/ 54000 h 383760"/>
                <a:gd name="textAreaBottom" fmla="*/ 329760 h 38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79" y="21600"/>
                  </a:lnTo>
                  <a:lnTo>
                    <a:pt x="2321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11600" y="1325520"/>
              <a:ext cx="2160720" cy="1531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46520" y="1371600"/>
              <a:ext cx="23320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GOLDBACH CONJECTURE: 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NEXT 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931000" y="341136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6240" y="4208400"/>
            <a:ext cx="6973920" cy="9471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 absence of these devices something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physicis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hould think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769000">
            <a:off x="921240" y="304056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769000">
            <a:off x="4296240" y="297540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410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oal of talk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onvince you to see the impossi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s as a basic principle of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0880" y="304920"/>
            <a:ext cx="8534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polynomial time, if for any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d by a poly-size circuit, we can immediately get an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=x for some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: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ea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26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et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re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initial, accepting, and rejecting states of a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chine, and 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) be the successor state of s.  The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33520" y="4800600"/>
                <a:ext cx="40561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c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γ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4876920" y="4952880"/>
            <a:ext cx="4038480" cy="1373760"/>
          </a:xfrm>
          <a:prstGeom prst="rect">
            <a:avLst/>
          </a:prstGeom>
          <a:solidFill>
            <a:srgbClr val="e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nly fixed point is an infinite loop, with b set to its “true”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if we perform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quantum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utation around a CT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676520"/>
            <a:ext cx="8382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quantum polynomial time, if for any superoperator E described by a quantum circuit, we can immediately get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E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58128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648320"/>
            <a:ext cx="8534160" cy="1862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, Watrous 2006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closed timelike curves exist, then quantum computers are no more powerful than classic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28600" y="228600"/>
            <a:ext cx="8686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: Proof Sket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57150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more, we can compute P exactly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using Csanky’s parallel algorithm for matrix i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80880" y="3048120"/>
            <a:ext cx="6248520" cy="812520"/>
            <a:chOff x="380880" y="3048120"/>
            <a:chExt cx="6248520" cy="812520"/>
          </a:xfrm>
        </p:grpSpPr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666880" y="3048120"/>
                  <a:ext cx="396252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: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z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</m:lim>
                      </m:limLow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z</m:t>
                          </m:r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zM</m:t>
                              </m:r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>
              <a:off x="380880" y="312408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L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80880" y="3809880"/>
            <a:ext cx="7601040" cy="1312920"/>
            <a:chOff x="380880" y="3809880"/>
            <a:chExt cx="7601040" cy="1312920"/>
          </a:xfrm>
        </p:grpSpPr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871560" y="4343400"/>
                  <a:ext cx="71103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P</m:t>
                      </m:r>
                      <m:r>
                        <m:t xml:space="preserve">=</m:t>
                      </m:r>
                      <m:r>
                        <m:t xml:space="preserve">M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z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</m:lim>
                      </m:limLow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z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zM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>
              <a:off x="380880" y="3809880"/>
              <a:ext cx="7010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n by Taylor expansion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80880" y="5105520"/>
            <a:ext cx="815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 P projects onto the fixed points of 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1143000"/>
            <a:ext cx="8382240" cy="1871640"/>
            <a:chOff x="380880" y="1143000"/>
            <a:chExt cx="8382240" cy="1871640"/>
          </a:xfrm>
        </p:grpSpPr>
        <p:sp>
          <p:nvSpPr>
            <p:cNvPr id="334" name=""/>
            <p:cNvSpPr/>
            <p:nvPr/>
          </p:nvSpPr>
          <p:spPr>
            <a:xfrm>
              <a:off x="380880" y="1143000"/>
              <a:ext cx="83822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Let vec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be a “vectorization” of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.  We can reduce the problem to the following: given a 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atrix M, prepare a state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such th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666880" y="2438280"/>
                  <a:ext cx="31496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e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8684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 Initial Condi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4038480"/>
            <a:ext cx="2590920" cy="914400"/>
          </a:xfrm>
          <a:prstGeom prst="cloudCallout">
            <a:avLst>
              <a:gd name="adj1" fmla="val -63787"/>
              <a:gd name="adj2" fmla="val 793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057400" cy="2014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819520" y="1143000"/>
            <a:ext cx="6172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rmally we assume a quantum computer starts in an “all-0” state, |0…0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  But what if much better initial states were created in the Big Bang, and have been sitting around ever si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3429000"/>
            <a:ext cx="800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ds to the concept of </a:t>
            </a: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quantum advic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09480" y="4648320"/>
            <a:ext cx="5459400" cy="1947600"/>
            <a:chOff x="609480" y="4648320"/>
            <a:chExt cx="5459400" cy="1947600"/>
          </a:xfrm>
        </p:grpSpPr>
        <p:sp>
          <p:nvSpPr>
            <p:cNvPr id="342" name=""/>
            <p:cNvSpPr/>
            <p:nvPr/>
          </p:nvSpPr>
          <p:spPr>
            <a:xfrm>
              <a:off x="1957320" y="564516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2"/>
            <a:srcRect l="14814" t="20208" r="14814" b="6063"/>
            <a:stretch/>
          </p:blipFill>
          <p:spPr>
            <a:xfrm>
              <a:off x="4800600" y="4648320"/>
              <a:ext cx="1268280" cy="19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743200" y="480060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CA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609480" y="4724280"/>
              <a:ext cx="13417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04920" y="1523880"/>
            <a:ext cx="85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#1: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BQP/qpoly </a:t>
            </a:r>
            <a:r>
              <a:rPr b="1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PostBQP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09680"/>
            <a:ext cx="853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roblem you can solve using short quantum advice, you can also solve using shor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vice, provided you’re willing to use exponentially more computation time to extract what the advice is telling you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4343400"/>
            <a:ext cx="853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#2: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exists an “oracle” relative to which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NP </a:t>
            </a:r>
            <a:r>
              <a:rPr b="1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 BQP/q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304920"/>
            <a:ext cx="85341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ations of Quantum Advice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A.,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8840" y="5497560"/>
            <a:ext cx="8537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idence that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 problems are still hard for quantum computers in the presence of quantum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3048120"/>
            <a:ext cx="5410080" cy="2378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ne can postulate bizarre, exponentially-hard-to-prepare initial states in Nature, </a:t>
            </a: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violating the NP Hardness As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-152280" y="-1144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28600" y="236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4038480"/>
            <a:ext cx="8763120" cy="1281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edi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P Hardness Assumption will eventually be seen as analogous to Second Law of Thermodynamics or impossibility of superluminal sign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981080"/>
            <a:ext cx="304812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2666880"/>
            <a:ext cx="167652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1328200">
            <a:off x="1295280" y="2209320"/>
            <a:ext cx="49532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LREADY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5638680"/>
            <a:ext cx="8763120" cy="885960"/>
          </a:xfrm>
          <a:prstGeom prst="rect">
            <a:avLst/>
          </a:prstGeom>
          <a:solidFill>
            <a:srgbClr val="ffe6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Open 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polynomial time in quantum gra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601992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irst question: What is time in quantum gravity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2514600"/>
            <a:ext cx="853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ks to papers, etc.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ww.scottaaronso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8800" y="1363680"/>
            <a:ext cx="8202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Given a graph, is it connect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ular graph is a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er Science 10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 Nondeterministic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5334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prime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: If you can solve it, you can solve everything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complete: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 and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98" name="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78320" y="5181480"/>
            <a:ext cx="1965240" cy="685800"/>
          </a:xfrm>
          <a:custGeom>
            <a:avLst/>
            <a:gdLst/>
            <a:ahLst/>
            <a:rect l="l" t="t" r="r" b="b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6120" y="0"/>
            <a:ext cx="5867640" cy="2819520"/>
          </a:xfrm>
          <a:custGeom>
            <a:avLst/>
            <a:gdLst/>
            <a:ahLst/>
            <a:rect l="l" t="t" r="r" b="b"/>
            <a:pathLst>
              <a:path w="4320" h="1632">
                <a:moveTo>
                  <a:pt x="0" y="0"/>
                </a:moveTo>
                <a:cubicBezTo>
                  <a:pt x="744" y="816"/>
                  <a:pt x="1488" y="1632"/>
                  <a:pt x="2208" y="1632"/>
                </a:cubicBezTo>
                <a:cubicBezTo>
                  <a:pt x="2928" y="1632"/>
                  <a:pt x="3624" y="816"/>
                  <a:pt x="43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cc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8120" y="4573440"/>
            <a:ext cx="3811680" cy="1922760"/>
            <a:chOff x="168120" y="4573440"/>
            <a:chExt cx="3811680" cy="1922760"/>
          </a:xfrm>
        </p:grpSpPr>
        <p:sp>
          <p:nvSpPr>
            <p:cNvPr id="113" name="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8120" y="4573440"/>
              <a:ext cx="298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determina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116" name="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9280" y="1260360"/>
            <a:ext cx="3592800" cy="2288520"/>
            <a:chOff x="179280" y="1260360"/>
            <a:chExt cx="3592800" cy="2288520"/>
          </a:xfrm>
        </p:grpSpPr>
        <p:sp>
          <p:nvSpPr>
            <p:cNvPr id="119" name="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80" y="1260360"/>
              <a:ext cx="2870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iner tre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209920" y="3227400"/>
            <a:ext cx="3934080" cy="1191240"/>
            <a:chOff x="5209920" y="3227400"/>
            <a:chExt cx="3934080" cy="1191240"/>
          </a:xfrm>
        </p:grpSpPr>
        <p:sp>
          <p:nvSpPr>
            <p:cNvPr id="122" name="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57800" y="322740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3204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Does 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9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9520" y="1417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(literally) $1,000,000 ques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9840" y="4253040"/>
            <a:ext cx="880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at if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d the algorithm takes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tep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040" y="4884840"/>
            <a:ext cx="63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Then we’d just change the questio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2440" y="54072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y is it so hard to prove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6073920"/>
            <a:ext cx="825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Mostly because algorithms can be so clever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20004" t="0" r="26159" b="0"/>
          <a:stretch/>
        </p:blipFill>
        <p:spPr>
          <a:xfrm>
            <a:off x="5043600" y="2197080"/>
            <a:ext cx="1792080" cy="187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10501" t="7296" r="26252" b="0"/>
          <a:stretch/>
        </p:blipFill>
        <p:spPr>
          <a:xfrm>
            <a:off x="1809720" y="2192400"/>
            <a:ext cx="1766880" cy="186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077320" y="99072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What about quantum computers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133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or 199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integer 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7391520" y="1981080"/>
            <a:ext cx="715680" cy="901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290844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actoring isn’t believed to b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question remain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 quantum computers solve </a:t>
            </a:r>
            <a:r>
              <a:rPr b="1" i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complete problems efficien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2670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magic” won’t be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7680" y="4916520"/>
            <a:ext cx="8229600" cy="304920"/>
            <a:chOff x="517680" y="4916520"/>
            <a:chExt cx="8229600" cy="304920"/>
          </a:xfrm>
        </p:grpSpPr>
        <p:sp>
          <p:nvSpPr>
            <p:cNvPr id="139" name=""/>
            <p:cNvSpPr/>
            <p:nvPr/>
          </p:nvSpPr>
          <p:spPr>
            <a:xfrm>
              <a:off x="517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2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7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2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6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41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6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51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55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0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5440" y="4916520"/>
              <a:ext cx="304920" cy="3049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0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52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798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47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9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4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99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4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8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3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8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3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27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32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374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42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04920" y="541008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hrow away the problem structure, and just consider a “landscape” of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solutions, even a quantum computer need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eps to find a correc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2680" y="151920"/>
            <a:ext cx="836640" cy="1067040"/>
            <a:chOff x="382680" y="151920"/>
            <a:chExt cx="836640" cy="1067040"/>
          </a:xfrm>
        </p:grpSpPr>
        <p:sp>
          <p:nvSpPr>
            <p:cNvPr id="168" name=""/>
            <p:cNvSpPr/>
            <p:nvPr/>
          </p:nvSpPr>
          <p:spPr>
            <a:xfrm flipV="1">
              <a:off x="567720" y="175680"/>
              <a:ext cx="44496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382680" y="175680"/>
              <a:ext cx="836640" cy="8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6200000">
              <a:off x="677160" y="53028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52160" y="338400"/>
              <a:ext cx="348840" cy="273960"/>
              <a:chOff x="452160" y="338400"/>
              <a:chExt cx="348840" cy="273960"/>
            </a:xfrm>
          </p:grpSpPr>
          <p:sp>
            <p:nvSpPr>
              <p:cNvPr id="172" name=""/>
              <p:cNvSpPr/>
              <p:nvPr/>
            </p:nvSpPr>
            <p:spPr>
              <a:xfrm>
                <a:off x="462960" y="413280"/>
                <a:ext cx="32292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7440" y="435600"/>
                <a:ext cx="273960" cy="1555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6200" y="4471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2160" y="48672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2160" y="400680"/>
                <a:ext cx="45720" cy="504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03280" y="367560"/>
                <a:ext cx="35280" cy="5508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0160" y="34704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4560" y="40536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4960" y="370800"/>
                <a:ext cx="36000" cy="5436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9960" y="348480"/>
                <a:ext cx="24480" cy="565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4880" y="338400"/>
                <a:ext cx="19440" cy="5688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47080" y="338400"/>
              <a:ext cx="348840" cy="273960"/>
              <a:chOff x="847080" y="338400"/>
              <a:chExt cx="348840" cy="273960"/>
            </a:xfrm>
          </p:grpSpPr>
          <p:sp>
            <p:nvSpPr>
              <p:cNvPr id="184" name=""/>
              <p:cNvSpPr/>
              <p:nvPr/>
            </p:nvSpPr>
            <p:spPr>
              <a:xfrm>
                <a:off x="857880" y="413280"/>
                <a:ext cx="32292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82360" y="435600"/>
                <a:ext cx="273960" cy="1555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51120" y="4471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27080" y="486720"/>
                <a:ext cx="21240" cy="219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47080" y="400680"/>
                <a:ext cx="45720" cy="504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8200" y="367560"/>
                <a:ext cx="35280" cy="5508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55080" y="34704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49480" y="40536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09880" y="370800"/>
                <a:ext cx="36000" cy="5436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64880" y="348480"/>
                <a:ext cx="24480" cy="565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09800" y="338400"/>
                <a:ext cx="19440" cy="5688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V="1">
              <a:off x="799920" y="151920"/>
              <a:ext cx="23220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924680" y="151920"/>
            <a:ext cx="820800" cy="1067040"/>
            <a:chOff x="7924680" y="151920"/>
            <a:chExt cx="820800" cy="1067040"/>
          </a:xfrm>
        </p:grpSpPr>
        <p:sp>
          <p:nvSpPr>
            <p:cNvPr id="197" name=""/>
            <p:cNvSpPr/>
            <p:nvPr/>
          </p:nvSpPr>
          <p:spPr>
            <a:xfrm flipH="1" flipV="1">
              <a:off x="8136360" y="175680"/>
              <a:ext cx="43020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 flipH="1">
              <a:off x="7924680" y="175680"/>
              <a:ext cx="820800" cy="8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flipH="1" rot="5400000">
              <a:off x="8208360" y="639720"/>
              <a:ext cx="24516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8355960" y="412920"/>
              <a:ext cx="311400" cy="199080"/>
              <a:chOff x="8355960" y="412920"/>
              <a:chExt cx="311400" cy="19908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8355600" y="412920"/>
                <a:ext cx="31140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8379360" y="435240"/>
                <a:ext cx="263880" cy="1551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8450280" y="447480"/>
                <a:ext cx="127440" cy="13140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8483760" y="4860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974360" y="412920"/>
              <a:ext cx="311400" cy="199080"/>
              <a:chOff x="7974360" y="412920"/>
              <a:chExt cx="311400" cy="1990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7974000" y="412920"/>
                <a:ext cx="311400" cy="1990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7997760" y="435240"/>
                <a:ext cx="263880" cy="1551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068680" y="447480"/>
                <a:ext cx="127440" cy="13140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8102160" y="4860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H="1" flipV="1">
              <a:off x="8117640" y="151920"/>
              <a:ext cx="224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92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0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iabatic Algorithm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5440" y="204480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3360" y="3193920"/>
            <a:ext cx="31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73760" y="211932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83200" y="326880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39920" y="2135160"/>
            <a:ext cx="4572000" cy="890640"/>
          </a:xfrm>
          <a:custGeom>
            <a:avLst/>
            <a:gdLst/>
            <a:ahLst/>
            <a:rect l="l" t="t" r="r" b="b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181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genvalue gap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03-08T01:33:55Z</dcterms:modified>
  <cp:revision>93</cp:revision>
  <dc:subject/>
  <dc:title>Slide 1</dc:title>
</cp:coreProperties>
</file>