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FE2-6430-489A-B614-AD1F95E0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4E2-D713-467F-BE40-CC358065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C2E-8727-4E94-BDCD-E746ED8A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F8B-D7C8-4E19-8309-7BC348DB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229-218A-4940-A9FD-118BD04D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C34-DA1A-4719-A00B-1541274C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5C6-0F12-4219-A542-12391285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AEB-DC0A-4E43-81BA-7D5C359F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586-45D5-4B8D-A352-43036DE5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D56-EDCD-4567-A227-F4666620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3EC-6923-4592-AC98-3A0B3008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D81-0196-42E4-8095-D031A5E9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9BAC-9DAD-4617-B5A3-9321088BD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20402400">
            <a:off x="6804000" y="3141360"/>
            <a:ext cx="1697040" cy="228600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89000" y="1937880"/>
            <a:ext cx="3834720" cy="4553280"/>
            <a:chOff x="189000" y="1937880"/>
            <a:chExt cx="3834720" cy="4553280"/>
          </a:xfrm>
        </p:grpSpPr>
        <p:sp>
          <p:nvSpPr>
            <p:cNvPr id="44" name=""/>
            <p:cNvSpPr/>
            <p:nvPr/>
          </p:nvSpPr>
          <p:spPr>
            <a:xfrm rot="849600">
              <a:off x="252000" y="4265280"/>
              <a:ext cx="150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BQ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849600">
              <a:off x="1436400" y="2235240"/>
              <a:ext cx="25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PSP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849600">
              <a:off x="2458800" y="4822920"/>
              <a:ext cx="15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N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849600">
              <a:off x="1058400" y="5614560"/>
              <a:ext cx="150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849600">
              <a:off x="980640" y="3413160"/>
              <a:ext cx="28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PostBQ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419200" y="2858400"/>
              <a:ext cx="168120" cy="6663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52560" y="4155120"/>
              <a:ext cx="357480" cy="7448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68480" y="4984920"/>
              <a:ext cx="460080" cy="77112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144880" y="5451480"/>
              <a:ext cx="771120" cy="46008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210320" y="3922200"/>
              <a:ext cx="617400" cy="49932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2280" y="283680"/>
            <a:ext cx="8371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Arial"/>
              </a:rPr>
              <a:t>Computational Intractability As A Law of Physics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666880" y="5409720"/>
            <a:ext cx="4657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Waterl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ther Alleged Ways to Solve </a:t>
            </a: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-complete Problem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752480"/>
            <a:ext cx="8077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ip two glass plates with pegs between them into soapy water; let the soap bubbles form a minimum “Steiner tree” connecting the pegs (thereby solving a known </a:t>
            </a:r>
            <a:r>
              <a:rPr b="1" lang="en-CA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-complete probl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5603" r="0" b="0"/>
          <a:stretch/>
        </p:blipFill>
        <p:spPr>
          <a:xfrm>
            <a:off x="3200400" y="3429000"/>
            <a:ext cx="2674800" cy="3236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57200" y="4191120"/>
            <a:ext cx="815328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Protein folding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Can also get stuck at local optima (e.g., Mad Cow Dise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DNA computers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Just massively parallel classical computer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048120" y="3505320"/>
            <a:ext cx="2487240" cy="3211200"/>
            <a:chOff x="3048120" y="3505320"/>
            <a:chExt cx="2487240" cy="3211200"/>
          </a:xfrm>
        </p:grpSpPr>
        <p:sp>
          <p:nvSpPr>
            <p:cNvPr id="224" name=""/>
            <p:cNvSpPr/>
            <p:nvPr/>
          </p:nvSpPr>
          <p:spPr>
            <a:xfrm flipV="1">
              <a:off x="3092400" y="6228720"/>
              <a:ext cx="1774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182200" y="5275440"/>
              <a:ext cx="30420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4856040" y="3561480"/>
              <a:ext cx="630720" cy="17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3096000" y="5963400"/>
              <a:ext cx="180360" cy="27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82560" y="5963400"/>
              <a:ext cx="29304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277080" y="5974560"/>
              <a:ext cx="191628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802040" y="3505320"/>
              <a:ext cx="113760" cy="115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420160" y="5225400"/>
              <a:ext cx="115200" cy="115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048120" y="6601320"/>
              <a:ext cx="115200" cy="115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048120" y="5913360"/>
              <a:ext cx="115200" cy="115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420160" y="6257880"/>
              <a:ext cx="115200" cy="113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7160" y="4680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would the world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ctually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be like if we could solve 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-complete problems efficiently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80880" y="4114800"/>
            <a:ext cx="8326440" cy="2286000"/>
            <a:chOff x="380880" y="4114800"/>
            <a:chExt cx="8326440" cy="2286000"/>
          </a:xfrm>
        </p:grpSpPr>
        <p:sp>
          <p:nvSpPr>
            <p:cNvPr id="238" name=""/>
            <p:cNvSpPr/>
            <p:nvPr/>
          </p:nvSpPr>
          <p:spPr>
            <a:xfrm>
              <a:off x="380880" y="4114800"/>
              <a:ext cx="6705720" cy="222696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f there actually were a machine with [running time] ~Kn (or even only with ~K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), this would have consequences of the greatest magnitude.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—G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ö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el to von Neumann, 19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7010280" y="4114800"/>
              <a:ext cx="169704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685800" y="609480"/>
            <a:ext cx="2971800" cy="2971800"/>
            <a:chOff x="685800" y="609480"/>
            <a:chExt cx="2971800" cy="2971800"/>
          </a:xfrm>
        </p:grpSpPr>
        <p:sp>
          <p:nvSpPr>
            <p:cNvPr id="241" name=""/>
            <p:cNvSpPr/>
            <p:nvPr/>
          </p:nvSpPr>
          <p:spPr>
            <a:xfrm>
              <a:off x="685800" y="609480"/>
              <a:ext cx="2971800" cy="2971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400" y="1143000"/>
              <a:ext cx="25146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mic Sans MS"/>
                </a:rPr>
                <a:t>Proof of Riemann hypothesis with </a:t>
              </a:r>
              <a:r>
                <a:rPr b="1" lang="en-CA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CA" sz="2400" spc="-1" strike="noStrike">
                  <a:solidFill>
                    <a:srgbClr val="000000"/>
                  </a:solidFill>
                  <a:latin typeface="Comic Sans MS"/>
                </a:rPr>
                <a:t>10,000,000 symbol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914400"/>
            <a:ext cx="2666880" cy="2666880"/>
            <a:chOff x="5791320" y="914400"/>
            <a:chExt cx="2666880" cy="2666880"/>
          </a:xfrm>
        </p:grpSpPr>
        <p:sp>
          <p:nvSpPr>
            <p:cNvPr id="244" name=""/>
            <p:cNvSpPr/>
            <p:nvPr/>
          </p:nvSpPr>
          <p:spPr>
            <a:xfrm>
              <a:off x="5791320" y="914400"/>
              <a:ext cx="2666880" cy="26668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67280" y="1295280"/>
              <a:ext cx="25146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mic Sans MS"/>
                </a:rPr>
                <a:t>Shortest efficient description of stock market dat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3962520"/>
            <a:ext cx="8077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lies, but is stronger than, </a:t>
            </a:r>
            <a:r>
              <a:rPr b="1" lang="en-CA" sz="28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CA" sz="2800" spc="-1" strike="noStrike">
                <a:solidFill>
                  <a:srgbClr val="cc00cc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falsifiable as it 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sistent with currently-known physical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Scientifically fruit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right, what can we say about this assum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286000" y="5105520"/>
            <a:ext cx="9144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04920" y="228600"/>
            <a:ext cx="8610480" cy="2895480"/>
            <a:chOff x="304920" y="228600"/>
            <a:chExt cx="8610480" cy="2895480"/>
          </a:xfrm>
        </p:grpSpPr>
        <p:sp>
          <p:nvSpPr>
            <p:cNvPr id="250" name=""/>
            <p:cNvSpPr/>
            <p:nvPr/>
          </p:nvSpPr>
          <p:spPr>
            <a:xfrm>
              <a:off x="304920" y="228600"/>
              <a:ext cx="8610480" cy="2895480"/>
            </a:xfrm>
            <a:prstGeom prst="verticalScrol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5800" y="990720"/>
              <a:ext cx="8153280" cy="15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800" spc="-1" strike="noStrike">
                  <a:solidFill>
                    <a:srgbClr val="333399"/>
                  </a:solidFill>
                  <a:latin typeface="Arial"/>
                </a:rPr>
                <a:t>The NP Hardness Assumption</a:t>
              </a:r>
              <a:br>
                <a:rPr sz="3800"/>
              </a:br>
              <a:r>
                <a:rPr b="0" lang="en-CA" sz="2900" spc="-1" strike="noStrike">
                  <a:solidFill>
                    <a:srgbClr val="000000"/>
                  </a:solidFill>
                  <a:latin typeface="Arial"/>
                </a:rPr>
                <a:t>There is no physical means to solve NP complete problems in polynomial time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00400" y="2895480"/>
            <a:ext cx="5029200" cy="28350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3300"/>
                </a:solidFill>
                <a:latin typeface="Arial"/>
              </a:rPr>
              <a:t>Rest of talk: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Show how complexity yields a new perspective on linearity of QM, anthropic postselection, closed timelike curves, and initial cond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5760" y="380880"/>
            <a:ext cx="85647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1. Nonlinear variants of the Schr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dinger Equation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6120" y="1728720"/>
            <a:ext cx="861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brams &amp; Lloyd 1998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quantum mechanics were nonlinear, one could exploit that to solve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lete problems in polynomi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-495360" y="6041880"/>
            <a:ext cx="4733280" cy="355320"/>
            <a:chOff x="-495360" y="6041880"/>
            <a:chExt cx="4733280" cy="355320"/>
          </a:xfrm>
        </p:grpSpPr>
        <p:sp>
          <p:nvSpPr>
            <p:cNvPr id="256" name=""/>
            <p:cNvSpPr/>
            <p:nvPr/>
          </p:nvSpPr>
          <p:spPr>
            <a:xfrm>
              <a:off x="1871280" y="6160320"/>
              <a:ext cx="2366640" cy="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-495360" y="604188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-490320" y="5929920"/>
            <a:ext cx="4722480" cy="696240"/>
            <a:chOff x="-490320" y="5929920"/>
            <a:chExt cx="4722480" cy="696240"/>
          </a:xfrm>
        </p:grpSpPr>
        <p:sp>
          <p:nvSpPr>
            <p:cNvPr id="259" name=""/>
            <p:cNvSpPr/>
            <p:nvPr/>
          </p:nvSpPr>
          <p:spPr>
            <a:xfrm flipV="1">
              <a:off x="1876680" y="5929920"/>
              <a:ext cx="2355480" cy="22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21263400">
              <a:off x="-478440" y="615600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224240" y="5991120"/>
            <a:ext cx="28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08400" y="5667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solution to NP-complet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67200" y="1296360"/>
            <a:ext cx="6704640" cy="5738040"/>
            <a:chOff x="1267200" y="1296360"/>
            <a:chExt cx="6704640" cy="5738040"/>
          </a:xfrm>
        </p:grpSpPr>
        <p:sp>
          <p:nvSpPr>
            <p:cNvPr id="264" name=""/>
            <p:cNvSpPr/>
            <p:nvPr/>
          </p:nvSpPr>
          <p:spPr>
            <a:xfrm rot="799800">
              <a:off x="1709640" y="1906200"/>
              <a:ext cx="5819760" cy="4518000"/>
            </a:xfrm>
            <a:prstGeom prst="irregularSeal2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78120" y="3336840"/>
              <a:ext cx="3121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Can take as an additional argument for why QM is line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040000">
                                      <p:cBhvr>
                                        <p:cTn id="20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457200" y="3429000"/>
            <a:ext cx="8013240" cy="469800"/>
            <a:chOff x="457200" y="3429000"/>
            <a:chExt cx="8013240" cy="469800"/>
          </a:xfrm>
        </p:grpSpPr>
        <p:sp>
          <p:nvSpPr>
            <p:cNvPr id="267" name=""/>
            <p:cNvSpPr/>
            <p:nvPr/>
          </p:nvSpPr>
          <p:spPr>
            <a:xfrm>
              <a:off x="45720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426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284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142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58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16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74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2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290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148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0006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. Anthropic Principl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219320"/>
            <a:ext cx="8534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lproof way to solve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lete problems in polynomial ti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t least in the Many-Worlds Interpretatio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guess a random solution.  Then, if it’s wrong, kill yoursel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4343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echnical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solutions, you’re out of lu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53578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tiny probability don’t do anything.  Then, if you find yourself in a universe where you didn’t do anything, there probabl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solutions, since otherwise you would’ve found 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3429000"/>
            <a:ext cx="469800" cy="469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33720" y="2057400"/>
            <a:ext cx="4572000" cy="3261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P Hardness Assumption yields a nontrivial constraint on anthropic theorizing: no use of the Anthropic Principle can be valid, if its validity would give us a way to solve </a:t>
            </a:r>
            <a:r>
              <a:rPr b="1" lang="en-CA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-complete problems in polynomial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2160" y="396360"/>
            <a:ext cx="815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if w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mbin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quantum computing with the Anthropic Principle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752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.e. perform a polynomial-time quantum computation, but where we can measure a qubit and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ssu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outcome will be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28800" y="3505320"/>
            <a:ext cx="5334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s to a new complexity class: 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PostBQP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Postselected 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BQ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 flipH="1">
            <a:off x="609480" y="3352680"/>
            <a:ext cx="1424160" cy="17528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934320" y="3276720"/>
            <a:ext cx="1423800" cy="17524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33520" y="533412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rtainly 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PostBQ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but is it even bigger than tha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845820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Some more animals from the complexity zoo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SPACE: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Class of problems solvable with a polynomial amount of 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P: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Class of problems of the form, “out of 2</a:t>
            </a:r>
            <a:r>
              <a:rPr b="0" lang="en-CA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possible solutions, are at least </a:t>
            </a:r>
            <a:r>
              <a:rPr b="0" i="1" lang="en-CA" sz="3000" spc="-1" strike="noStrike">
                <a:solidFill>
                  <a:srgbClr val="000000"/>
                </a:solidFill>
                <a:latin typeface="Arial"/>
              </a:rPr>
              <a:t>half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of them correct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dleman, DeMarrais, Huang 1998: </a:t>
            </a: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BQP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3300"/>
                </a:solidFill>
                <a:latin typeface="Arial"/>
              </a:rPr>
              <a:t>Proof: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Feynman path integ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roof easily extends to show </a:t>
            </a: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ostBQP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562720" y="4495680"/>
            <a:ext cx="598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09480" y="1828800"/>
            <a:ext cx="3124440" cy="228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04200" y="607320"/>
            <a:ext cx="3777120" cy="5479200"/>
            <a:chOff x="304200" y="607320"/>
            <a:chExt cx="3777120" cy="5479200"/>
          </a:xfrm>
        </p:grpSpPr>
        <p:sp>
          <p:nvSpPr>
            <p:cNvPr id="294" name=""/>
            <p:cNvSpPr/>
            <p:nvPr/>
          </p:nvSpPr>
          <p:spPr>
            <a:xfrm rot="21594000">
              <a:off x="304560" y="4272120"/>
              <a:ext cx="15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cc"/>
                  </a:solidFill>
                  <a:latin typeface="Arial"/>
                </a:rPr>
                <a:t>BQ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21594000">
              <a:off x="936000" y="1887120"/>
              <a:ext cx="25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cc"/>
                  </a:solidFill>
                  <a:latin typeface="Arial"/>
                </a:rPr>
                <a:t>P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1594000">
              <a:off x="2579040" y="4268880"/>
              <a:ext cx="15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cc"/>
                  </a:solidFill>
                  <a:latin typeface="Arial"/>
                </a:rPr>
                <a:t>N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21594000">
              <a:off x="1418760" y="5381640"/>
              <a:ext cx="15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cc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1594000">
              <a:off x="780480" y="3105000"/>
              <a:ext cx="280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cc"/>
                  </a:solidFill>
                  <a:latin typeface="Arial"/>
                </a:rPr>
                <a:t>PostBQ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58200" y="2529000"/>
              <a:ext cx="1440" cy="68724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35920" y="3745440"/>
              <a:ext cx="529920" cy="6339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08880" y="4964760"/>
              <a:ext cx="636120" cy="6336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480040" y="4960080"/>
              <a:ext cx="633240" cy="6364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208520" y="3747600"/>
              <a:ext cx="474480" cy="6357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1594000">
              <a:off x="948960" y="609120"/>
              <a:ext cx="251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cc"/>
                  </a:solidFill>
                  <a:latin typeface="Arial"/>
                </a:rPr>
                <a:t>PSP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70800" y="1251000"/>
              <a:ext cx="1440" cy="68724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4191120" y="53352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2004: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ostBQP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91120" y="1295280"/>
            <a:ext cx="4495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 other words, quantum postselection gives </a:t>
            </a:r>
            <a:r>
              <a:rPr b="1" lang="en-CA" sz="3000" spc="-1" strike="noStrike">
                <a:solidFill>
                  <a:srgbClr val="ff3300"/>
                </a:solidFill>
                <a:latin typeface="Arial"/>
              </a:rPr>
              <a:t>exactly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the power of </a:t>
            </a: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3048120"/>
            <a:ext cx="449568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3300"/>
                </a:solidFill>
                <a:latin typeface="Arial"/>
              </a:rPr>
              <a:t>Surprising par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his characterization yields a half-page proof of a celebrated result of Beigel, Reingold, and Spielman, that </a:t>
            </a: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P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is closed under inter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44520" y="13302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veryone’s first idea for a time travel comput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an arbitrarily long computation, then send the answer back in time to before you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4520" y="293040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THIS DOES NOT WOR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4520" y="4149720"/>
            <a:ext cx="830592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no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nores the Grandfather Parad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n’t take into account the computation you’ll have to do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etting the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754600" y="3921120"/>
            <a:ext cx="1524240" cy="14860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4160" y="274320"/>
            <a:ext cx="853452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3. Time Travel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utsch’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371600"/>
            <a:ext cx="838224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losed timelike curve (CTC) is a computational resource that, given an efficiently computable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mmediately finds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ixed poi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f—that is, an x such that f(x)=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mittedly, not every f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fixed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there’s always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istrib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 such that f(D)=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2240" y="4572000"/>
            <a:ext cx="8346240" cy="1677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Probabilistic Resolution of the Grandfather Paradox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You’re born with ½ prob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ou’re born, you back and kill your grandfath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Hence you’re born with ½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ings we never see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12600" t="26748" r="18900" b="17832"/>
          <a:stretch/>
        </p:blipFill>
        <p:spPr>
          <a:xfrm>
            <a:off x="271440" y="1563840"/>
            <a:ext cx="2611440" cy="1493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1920" y="3392640"/>
            <a:ext cx="24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arp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490920" y="1455840"/>
            <a:ext cx="1839960" cy="183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84320" y="3419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petuum 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83200" y="1211400"/>
            <a:ext cx="3000240" cy="2133000"/>
            <a:chOff x="5983200" y="1211400"/>
            <a:chExt cx="3000240" cy="2133000"/>
          </a:xfrm>
        </p:grpSpPr>
        <p:sp>
          <p:nvSpPr>
            <p:cNvPr id="62" name=""/>
            <p:cNvSpPr/>
            <p:nvPr/>
          </p:nvSpPr>
          <p:spPr>
            <a:xfrm>
              <a:off x="6286320" y="1211400"/>
              <a:ext cx="2389320" cy="1738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983200" y="2960640"/>
              <a:ext cx="3000240" cy="383760"/>
            </a:xfrm>
            <a:custGeom>
              <a:avLst/>
              <a:gdLst>
                <a:gd name="textAreaLeft" fmla="*/ 421920 w 3000240"/>
                <a:gd name="textAreaRight" fmla="*/ 2578320 w 3000240"/>
                <a:gd name="textAreaTop" fmla="*/ 54000 h 383760"/>
                <a:gd name="textAreaBottom" fmla="*/ 329760 h 38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79" y="21600"/>
                  </a:lnTo>
                  <a:lnTo>
                    <a:pt x="2321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11600" y="1325520"/>
              <a:ext cx="2160720" cy="15314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46520" y="1371600"/>
              <a:ext cx="233208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cc"/>
                  </a:solidFill>
                  <a:latin typeface="Courier New"/>
                </a:rPr>
                <a:t>GOLDBACH CONJECTURE: 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cc"/>
                  </a:solidFill>
                  <a:latin typeface="Courier New"/>
                </a:rPr>
                <a:t>NEXT QUES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931000" y="3411360"/>
            <a:ext cx="30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r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6240" y="4208400"/>
            <a:ext cx="6973920" cy="9471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the absence of these devices something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physicist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hould think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769000">
            <a:off x="921240" y="3040560"/>
            <a:ext cx="1303200" cy="70344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3300"/>
                </a:solidFill>
                <a:latin typeface="Arial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0769000">
            <a:off x="4296240" y="2975400"/>
            <a:ext cx="1303200" cy="70344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3300"/>
                </a:solidFill>
                <a:latin typeface="Arial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410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Goal of talk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onvince you to see the impossibility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rcomputers as a basic principle of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80880" y="304920"/>
            <a:ext cx="85345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the class of problems solvable in polynomial time, if for any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d by a poly-size circuit, we can immediately get an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 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=x for some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of: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26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eas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26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Let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n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c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re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the initial, accepting, and rejecting states of a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chine, and l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s) be the successor state of s.  Then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33520" y="4800600"/>
                <a:ext cx="4056120" cy="17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cc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γ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4876920" y="4952880"/>
            <a:ext cx="4038480" cy="1373760"/>
          </a:xfrm>
          <a:prstGeom prst="rect">
            <a:avLst/>
          </a:prstGeom>
          <a:solidFill>
            <a:srgbClr val="e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nly fixed point is an infinite loop, with b set to its “true”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28600" y="304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hat if we perform a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quantum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computation around a CT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1676520"/>
            <a:ext cx="83822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32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the class of problems solvable in quantum polynomial time, if for any superoperator E described by a quantum circuit, we can immediately get a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 E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3581280"/>
            <a:ext cx="83822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ly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648320"/>
            <a:ext cx="8534160" cy="18626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., Watrous 2006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4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closed timelike curves exist, then quantum computers are no more powerful than classical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28600" y="228600"/>
            <a:ext cx="8686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42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: Proof Sket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571500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rthermore, we can compute P exactly in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using Csanky’s parallel algorithm for matrix inver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80880" y="3048120"/>
            <a:ext cx="6248520" cy="812520"/>
            <a:chOff x="380880" y="3048120"/>
            <a:chExt cx="6248520" cy="812520"/>
          </a:xfrm>
        </p:grpSpPr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2666880" y="3048120"/>
                  <a:ext cx="396252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:</m:t>
                      </m:r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z</m:t>
                          </m:r>
                          <m:r>
                            <m:t xml:space="preserve">→</m:t>
                          </m:r>
                          <m:r>
                            <m:t xml:space="preserve">1</m:t>
                          </m:r>
                        </m:lim>
                      </m:limLow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z</m:t>
                          </m:r>
                        </m:e>
                      </m:d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zM</m:t>
                              </m:r>
                            </m:e>
                          </m:d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8" name=""/>
            <p:cNvSpPr/>
            <p:nvPr/>
          </p:nvSpPr>
          <p:spPr>
            <a:xfrm>
              <a:off x="380880" y="312408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Solution: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Le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80880" y="3809880"/>
            <a:ext cx="7601040" cy="1312920"/>
            <a:chOff x="380880" y="3809880"/>
            <a:chExt cx="7601040" cy="1312920"/>
          </a:xfrm>
        </p:grpSpPr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871560" y="4343400"/>
                  <a:ext cx="711036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P</m:t>
                      </m:r>
                      <m:r>
                        <m:t xml:space="preserve">=</m:t>
                      </m:r>
                      <m:r>
                        <m:t xml:space="preserve">M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z</m:t>
                          </m:r>
                          <m:r>
                            <m:t xml:space="preserve">→</m:t>
                          </m:r>
                          <m:r>
                            <m:t xml:space="preserve">1</m:t>
                          </m:r>
                        </m:lim>
                      </m:limLow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z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zM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1" name=""/>
            <p:cNvSpPr/>
            <p:nvPr/>
          </p:nvSpPr>
          <p:spPr>
            <a:xfrm>
              <a:off x="380880" y="3809880"/>
              <a:ext cx="7010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hen by Taylor expansion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80880" y="5105520"/>
            <a:ext cx="815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nce P projects onto the fixed points of 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80880" y="1143000"/>
            <a:ext cx="8382240" cy="1871640"/>
            <a:chOff x="380880" y="1143000"/>
            <a:chExt cx="8382240" cy="1871640"/>
          </a:xfrm>
        </p:grpSpPr>
        <p:sp>
          <p:nvSpPr>
            <p:cNvPr id="334" name=""/>
            <p:cNvSpPr/>
            <p:nvPr/>
          </p:nvSpPr>
          <p:spPr>
            <a:xfrm>
              <a:off x="380880" y="1143000"/>
              <a:ext cx="838224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Let vec(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) be a “vectorization” of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.  We can reduce the problem to the following: given a 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2n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2n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matrix M, prepare a state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such tha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2666880" y="2438280"/>
                  <a:ext cx="314964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ve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ρ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e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ρ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186840"/>
            <a:ext cx="853416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 Initial Condi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00800" y="4038480"/>
            <a:ext cx="2590920" cy="914400"/>
          </a:xfrm>
          <a:prstGeom prst="cloudCallout">
            <a:avLst>
              <a:gd name="adj1" fmla="val -63787"/>
              <a:gd name="adj2" fmla="val 793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2057400" cy="20145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819520" y="1143000"/>
            <a:ext cx="61722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ormally we assume a quantum computer starts in an “all-0” state, |0…0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  But what if much better initial states were created in the Big Bang, and have been sitting around ever sin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342900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Leads to the concept of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quantum advice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09480" y="4648320"/>
            <a:ext cx="5459400" cy="1947600"/>
            <a:chOff x="609480" y="4648320"/>
            <a:chExt cx="5459400" cy="1947600"/>
          </a:xfrm>
        </p:grpSpPr>
        <p:sp>
          <p:nvSpPr>
            <p:cNvPr id="342" name=""/>
            <p:cNvSpPr/>
            <p:nvPr/>
          </p:nvSpPr>
          <p:spPr>
            <a:xfrm>
              <a:off x="1957320" y="564516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2"/>
            <a:srcRect l="14814" t="20208" r="14814" b="6063"/>
            <a:stretch/>
          </p:blipFill>
          <p:spPr>
            <a:xfrm>
              <a:off x="4800600" y="4648320"/>
              <a:ext cx="1268280" cy="19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2743200" y="480060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CA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609480" y="4724280"/>
              <a:ext cx="134172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04920" y="1523880"/>
            <a:ext cx="85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 #1: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 BQP/qpoly </a:t>
            </a:r>
            <a:r>
              <a:rPr b="1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 PostBQP/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09680"/>
            <a:ext cx="8537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problem you can solve using short quantum advice, you can also solve using shor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lassi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vice, provided you’re willing to use exponentially more computation time to extract what the advice is telling you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4343400"/>
            <a:ext cx="853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 #2: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exists an “oracle” relative to which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 NP </a:t>
            </a:r>
            <a:r>
              <a:rPr b="1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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 BQP/q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304920"/>
            <a:ext cx="85341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imitations of Quantum Advice</a:t>
            </a:r>
            <a:br>
              <a:rPr sz="4400"/>
            </a:b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A., 2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8840" y="5497560"/>
            <a:ext cx="853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idence that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complete problems are still hard for quantum computers in the presence of quantum 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05120" y="3048120"/>
            <a:ext cx="5410080" cy="2378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One can postulate bizarre, exponentially-hard-to-prepare initial states in Nature, </a:t>
            </a:r>
            <a:r>
              <a:rPr b="0" i="1" lang="en-CA" sz="30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violating the NP Hardness As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-152280" y="-11448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28600" y="2365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" y="4038480"/>
            <a:ext cx="8763120" cy="1281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Predic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P Hardness Assumption will eventually be seen as analogous to Second Law of Thermodynamics or impossibility of superluminal signa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1981080"/>
            <a:ext cx="304812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OMPUTATIONAL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2666880"/>
            <a:ext cx="167652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21328200">
            <a:off x="1295280" y="2209320"/>
            <a:ext cx="49532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IS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LREADY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5638680"/>
            <a:ext cx="8763120" cy="885960"/>
          </a:xfrm>
          <a:prstGeom prst="rect">
            <a:avLst/>
          </a:prstGeom>
          <a:solidFill>
            <a:srgbClr val="ffe6c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Open Ques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at is polynomial time in quantum grav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601992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irst question: What is time in quantum gravity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04920" y="2514600"/>
            <a:ext cx="8534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ks to papers, etc.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ww.scottaaronson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8800" y="1363680"/>
            <a:ext cx="82026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Given a graph, is it connect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icular graph is an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instance, n, is the number of bits needed to specify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gorithm i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olynomial-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uses at most k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ps, for some constants k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lass of all problems that have polynomial-tim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uter Science 101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: Nondeterministic Polynomial Tim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51460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79765951771766953797024914793741172726275933019504626889963674936650784536994217766359204092298415904323398509069628960404170720961978805136508024164948216028859271269686294643130473534263952048819204754561291633050938469681196839122324054336880515678623037853371491842811969677438058008308154426799037209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752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5334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a prime factor ending in 7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-hard: If you can solve it, you can solve everything in 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-complete: 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-hard and in 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4495680"/>
            <a:ext cx="2057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14240" y="3276720"/>
            <a:ext cx="2286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34340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819520" y="5638320"/>
            <a:ext cx="1904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434340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819520" y="4495680"/>
            <a:ext cx="17524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90720" y="33526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32767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4572000"/>
            <a:ext cx="2057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066680" y="4572000"/>
            <a:ext cx="15242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579132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441972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34340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5410080"/>
            <a:ext cx="38124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56272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3151080"/>
            <a:ext cx="32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there a Hamilton cycle (tour that visits each vertex exactly once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90360" y="3336480"/>
            <a:ext cx="3780000" cy="2691360"/>
            <a:chOff x="990360" y="3336480"/>
            <a:chExt cx="3780000" cy="2691360"/>
          </a:xfrm>
        </p:grpSpPr>
        <p:sp>
          <p:nvSpPr>
            <p:cNvPr id="98" name=""/>
            <p:cNvSpPr/>
            <p:nvPr/>
          </p:nvSpPr>
          <p:spPr>
            <a:xfrm flipH="1" flipV="1">
              <a:off x="990360" y="4336920"/>
              <a:ext cx="68040" cy="13939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050840" y="4571640"/>
              <a:ext cx="1540080" cy="11574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90920" y="4578480"/>
              <a:ext cx="2179440" cy="10443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803320" y="5632560"/>
              <a:ext cx="1958760" cy="3952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803680" y="4503600"/>
              <a:ext cx="1768320" cy="15242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2827440" y="3336480"/>
              <a:ext cx="1744560" cy="11746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998640" y="3344760"/>
              <a:ext cx="1828800" cy="9986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922480" y="1295280"/>
            <a:ext cx="3005280" cy="5181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78320" y="5181480"/>
            <a:ext cx="1965240" cy="685800"/>
          </a:xfrm>
          <a:custGeom>
            <a:avLst/>
            <a:gdLst/>
            <a:ahLst/>
            <a:rect l="l" t="t" r="r" b="b"/>
            <a:pathLst>
              <a:path w="1392" h="536">
                <a:moveTo>
                  <a:pt x="0" y="536"/>
                </a:moveTo>
                <a:cubicBezTo>
                  <a:pt x="220" y="276"/>
                  <a:pt x="440" y="16"/>
                  <a:pt x="672" y="8"/>
                </a:cubicBezTo>
                <a:cubicBezTo>
                  <a:pt x="904" y="0"/>
                  <a:pt x="1148" y="244"/>
                  <a:pt x="139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6120" y="0"/>
            <a:ext cx="5867640" cy="2819520"/>
          </a:xfrm>
          <a:custGeom>
            <a:avLst/>
            <a:gdLst/>
            <a:ahLst/>
            <a:rect l="l" t="t" r="r" b="b"/>
            <a:pathLst>
              <a:path w="4320" h="1632">
                <a:moveTo>
                  <a:pt x="0" y="0"/>
                </a:moveTo>
                <a:cubicBezTo>
                  <a:pt x="744" y="816"/>
                  <a:pt x="1488" y="1632"/>
                  <a:pt x="2208" y="1632"/>
                </a:cubicBezTo>
                <a:cubicBezTo>
                  <a:pt x="2928" y="1632"/>
                  <a:pt x="3624" y="816"/>
                  <a:pt x="43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7040" y="5410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440" y="3276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Arial"/>
              </a:rPr>
              <a:t>N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1240" y="1295280"/>
            <a:ext cx="22096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cc"/>
                </a:solidFill>
                <a:latin typeface="Arial"/>
              </a:rPr>
              <a:t>NP-comple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2640" y="228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-h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8120" y="4573440"/>
            <a:ext cx="3811680" cy="1922760"/>
            <a:chOff x="168120" y="4573440"/>
            <a:chExt cx="3811680" cy="1922760"/>
          </a:xfrm>
        </p:grpSpPr>
        <p:sp>
          <p:nvSpPr>
            <p:cNvPr id="113" name=""/>
            <p:cNvSpPr/>
            <p:nvPr/>
          </p:nvSpPr>
          <p:spPr>
            <a:xfrm>
              <a:off x="2909880" y="5357880"/>
              <a:ext cx="106992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8120" y="4573440"/>
              <a:ext cx="2986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connectivit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mality tes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rix determinan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ar programm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022800" y="860040"/>
            <a:ext cx="3121200" cy="1874160"/>
            <a:chOff x="6022800" y="860040"/>
            <a:chExt cx="3121200" cy="1874160"/>
          </a:xfrm>
        </p:grpSpPr>
        <p:sp>
          <p:nvSpPr>
            <p:cNvPr id="116" name=""/>
            <p:cNvSpPr/>
            <p:nvPr/>
          </p:nvSpPr>
          <p:spPr>
            <a:xfrm flipH="1" flipV="1">
              <a:off x="6022800" y="860040"/>
              <a:ext cx="1005120" cy="74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57800" y="1542960"/>
              <a:ext cx="29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rix permanen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ting problem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79280" y="1260360"/>
            <a:ext cx="3592800" cy="2288520"/>
            <a:chOff x="179280" y="1260360"/>
            <a:chExt cx="3592800" cy="2288520"/>
          </a:xfrm>
        </p:grpSpPr>
        <p:sp>
          <p:nvSpPr>
            <p:cNvPr id="119" name=""/>
            <p:cNvSpPr/>
            <p:nvPr/>
          </p:nvSpPr>
          <p:spPr>
            <a:xfrm flipV="1">
              <a:off x="2459160" y="1827360"/>
              <a:ext cx="131292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280" y="1260360"/>
              <a:ext cx="2870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milton cyc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einer tre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3-color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tisfiabilit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ximum cliqu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209920" y="3227400"/>
            <a:ext cx="3934080" cy="1191240"/>
            <a:chOff x="5209920" y="3227400"/>
            <a:chExt cx="3934080" cy="1191240"/>
          </a:xfrm>
        </p:grpSpPr>
        <p:sp>
          <p:nvSpPr>
            <p:cNvPr id="122" name=""/>
            <p:cNvSpPr/>
            <p:nvPr/>
          </p:nvSpPr>
          <p:spPr>
            <a:xfrm flipH="1">
              <a:off x="5209920" y="3693960"/>
              <a:ext cx="965160" cy="2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57800" y="3227400"/>
              <a:ext cx="29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ctor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isomorphism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3204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333399"/>
                </a:solidFill>
                <a:latin typeface="Arial"/>
              </a:rPr>
              <a:t>Does </a:t>
            </a:r>
            <a:r>
              <a:rPr b="1" lang="en-US" sz="90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1" lang="en-US" sz="90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en-US" sz="9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9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1" lang="en-US" sz="9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9520" y="14176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 (literally) $1,000,000 ques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9840" y="4253040"/>
            <a:ext cx="880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: What if </a:t>
            </a:r>
            <a:r>
              <a:rPr b="1" lang="en-US" sz="27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7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and the algorithm takes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tep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040" y="4884840"/>
            <a:ext cx="631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: Then we’d just change the question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2440" y="540720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: Why is it so hard to prove </a:t>
            </a:r>
            <a:r>
              <a:rPr b="1" lang="en-US" sz="27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7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040" y="6073920"/>
            <a:ext cx="825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: Mostly because algorithms can be so clever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20004" t="0" r="26159" b="0"/>
          <a:stretch/>
        </p:blipFill>
        <p:spPr>
          <a:xfrm>
            <a:off x="5043600" y="2197080"/>
            <a:ext cx="1792080" cy="1876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10501" t="7296" r="26252" b="0"/>
          <a:stretch/>
        </p:blipFill>
        <p:spPr>
          <a:xfrm>
            <a:off x="1809720" y="2192400"/>
            <a:ext cx="1766880" cy="1863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077320" y="99072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What about quantum computers?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1337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hor 199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integer 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5999"/>
          <a:stretch/>
        </p:blipFill>
        <p:spPr>
          <a:xfrm>
            <a:off x="7391520" y="1981080"/>
            <a:ext cx="715680" cy="901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4920" y="2908440"/>
            <a:ext cx="8458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actoring isn’t believed to be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complet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 question remains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an quantum computers solve </a:t>
            </a:r>
            <a:r>
              <a:rPr b="1" i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-complete problems efficientl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42670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Bennett et al. 1997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Quantum magic” won’t be enoug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17680" y="4916520"/>
            <a:ext cx="8229600" cy="304920"/>
            <a:chOff x="517680" y="4916520"/>
            <a:chExt cx="8229600" cy="304920"/>
          </a:xfrm>
        </p:grpSpPr>
        <p:sp>
          <p:nvSpPr>
            <p:cNvPr id="139" name=""/>
            <p:cNvSpPr/>
            <p:nvPr/>
          </p:nvSpPr>
          <p:spPr>
            <a:xfrm>
              <a:off x="5176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22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271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320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366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415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464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510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559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608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5440" y="4916520"/>
              <a:ext cx="304920" cy="3049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703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52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798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847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96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42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991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040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86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135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84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230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279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328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374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423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04920" y="5410080"/>
            <a:ext cx="8686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throw away the problem structure, and just consider a “landscape” of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sible solutions, even a quantum computer need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eps to find a correct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2680" y="151920"/>
            <a:ext cx="836640" cy="1067040"/>
            <a:chOff x="382680" y="151920"/>
            <a:chExt cx="836640" cy="1067040"/>
          </a:xfrm>
        </p:grpSpPr>
        <p:sp>
          <p:nvSpPr>
            <p:cNvPr id="168" name=""/>
            <p:cNvSpPr/>
            <p:nvPr/>
          </p:nvSpPr>
          <p:spPr>
            <a:xfrm flipV="1">
              <a:off x="567720" y="175680"/>
              <a:ext cx="444960" cy="10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382680" y="175680"/>
              <a:ext cx="836640" cy="83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 rot="16200000">
              <a:off x="677160" y="530280"/>
              <a:ext cx="245160" cy="49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52160" y="338400"/>
              <a:ext cx="348840" cy="273960"/>
              <a:chOff x="452160" y="338400"/>
              <a:chExt cx="348840" cy="273960"/>
            </a:xfrm>
          </p:grpSpPr>
          <p:sp>
            <p:nvSpPr>
              <p:cNvPr id="172" name=""/>
              <p:cNvSpPr/>
              <p:nvPr/>
            </p:nvSpPr>
            <p:spPr>
              <a:xfrm>
                <a:off x="462960" y="413280"/>
                <a:ext cx="322920" cy="1990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7440" y="435600"/>
                <a:ext cx="273960" cy="1555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56200" y="44712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2160" y="486720"/>
                <a:ext cx="21240" cy="219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2160" y="400680"/>
                <a:ext cx="45720" cy="5040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03280" y="367560"/>
                <a:ext cx="35280" cy="5508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0160" y="347040"/>
                <a:ext cx="22680" cy="5580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54560" y="405360"/>
                <a:ext cx="46440" cy="4968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14960" y="370800"/>
                <a:ext cx="36000" cy="5436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9960" y="348480"/>
                <a:ext cx="24480" cy="5652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4880" y="338400"/>
                <a:ext cx="19440" cy="5688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847080" y="338400"/>
              <a:ext cx="348840" cy="273960"/>
              <a:chOff x="847080" y="338400"/>
              <a:chExt cx="348840" cy="273960"/>
            </a:xfrm>
          </p:grpSpPr>
          <p:sp>
            <p:nvSpPr>
              <p:cNvPr id="184" name=""/>
              <p:cNvSpPr/>
              <p:nvPr/>
            </p:nvSpPr>
            <p:spPr>
              <a:xfrm>
                <a:off x="857880" y="413280"/>
                <a:ext cx="322920" cy="1990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82360" y="435600"/>
                <a:ext cx="273960" cy="1555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51120" y="44712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027080" y="486720"/>
                <a:ext cx="21240" cy="219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47080" y="400680"/>
                <a:ext cx="45720" cy="5040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8200" y="367560"/>
                <a:ext cx="35280" cy="5508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55080" y="347040"/>
                <a:ext cx="22680" cy="5580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49480" y="405360"/>
                <a:ext cx="46440" cy="4968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109880" y="370800"/>
                <a:ext cx="36000" cy="5436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64880" y="348480"/>
                <a:ext cx="24480" cy="5652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09800" y="338400"/>
                <a:ext cx="19440" cy="5688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 flipV="1">
              <a:off x="799920" y="151920"/>
              <a:ext cx="232200" cy="52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924680" y="151920"/>
            <a:ext cx="820800" cy="1067040"/>
            <a:chOff x="7924680" y="151920"/>
            <a:chExt cx="820800" cy="1067040"/>
          </a:xfrm>
        </p:grpSpPr>
        <p:sp>
          <p:nvSpPr>
            <p:cNvPr id="197" name=""/>
            <p:cNvSpPr/>
            <p:nvPr/>
          </p:nvSpPr>
          <p:spPr>
            <a:xfrm flipH="1" flipV="1">
              <a:off x="8136360" y="175680"/>
              <a:ext cx="430200" cy="10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 flipH="1">
              <a:off x="7924680" y="175680"/>
              <a:ext cx="820800" cy="8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flipH="1" rot="5400000">
              <a:off x="8208360" y="639720"/>
              <a:ext cx="245160" cy="33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8355960" y="412920"/>
              <a:ext cx="311400" cy="199080"/>
              <a:chOff x="8355960" y="412920"/>
              <a:chExt cx="311400" cy="19908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8355600" y="412920"/>
                <a:ext cx="311400" cy="1990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8379360" y="435240"/>
                <a:ext cx="263880" cy="1551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8450280" y="447480"/>
                <a:ext cx="127440" cy="13140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8483760" y="48600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7974360" y="412920"/>
              <a:ext cx="311400" cy="199080"/>
              <a:chOff x="7974360" y="412920"/>
              <a:chExt cx="311400" cy="19908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7974000" y="412920"/>
                <a:ext cx="311400" cy="1990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7997760" y="435240"/>
                <a:ext cx="263880" cy="1551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8068680" y="447480"/>
                <a:ext cx="127440" cy="13140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8102160" y="48600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H="1" flipV="1">
              <a:off x="8117640" y="151920"/>
              <a:ext cx="224280" cy="52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04920" y="1447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ounded-Error Quantum Polynomi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0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Adiabatic Algorithm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Farhi et al. 2000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25440" y="204480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3360" y="3193920"/>
            <a:ext cx="314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iltonian with easily-prepared groun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73760" y="211932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83200" y="3268800"/>
            <a:ext cx="37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state encodes solution to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39920" y="2135160"/>
            <a:ext cx="4572000" cy="890640"/>
          </a:xfrm>
          <a:custGeom>
            <a:avLst/>
            <a:gdLst/>
            <a:ahLst/>
            <a:rect l="l" t="t" r="r" b="b"/>
            <a:pathLst>
              <a:path w="2880" h="561">
                <a:moveTo>
                  <a:pt x="0" y="302"/>
                </a:moveTo>
                <a:cubicBezTo>
                  <a:pt x="214" y="139"/>
                  <a:pt x="425" y="0"/>
                  <a:pt x="633" y="42"/>
                </a:cubicBezTo>
                <a:cubicBezTo>
                  <a:pt x="841" y="84"/>
                  <a:pt x="1008" y="545"/>
                  <a:pt x="1249" y="553"/>
                </a:cubicBezTo>
                <a:cubicBezTo>
                  <a:pt x="1490" y="561"/>
                  <a:pt x="1805" y="122"/>
                  <a:pt x="2077" y="91"/>
                </a:cubicBezTo>
                <a:cubicBezTo>
                  <a:pt x="2349" y="60"/>
                  <a:pt x="2616" y="201"/>
                  <a:pt x="2880" y="367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51814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igenvalue gap can be exponentially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7-03-08T01:33:55Z</dcterms:modified>
  <cp:revision>93</cp:revision>
  <dc:subject/>
  <dc:title>Slide 1</dc:title>
</cp:coreProperties>
</file>