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D14-999D-4374-82D6-1F5556D7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738-F3FB-4EE0-B5AF-C734A01A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42F-2C2D-47A3-8B9A-A6D3D0FA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1E5-0401-4329-84FF-7E5D00EB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9DF-77F5-4C3E-A651-BF1E626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DEC-036C-4078-8DE6-80E9DA0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2AA-B1B2-4B24-9537-E785F0D3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330-9FBF-49AF-B530-6F62B403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F8C-D719-4CE0-BE8D-603F4A6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3CB-9D1A-43DE-99F1-9651093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1D5-F240-4186-8480-67E004B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4C2-021C-4615-8C89-00D775B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006F-CFCE-4825-B1BC-27732C98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58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9528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Quantum Lower Bound for the Collision 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57800" y="1599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 1/10/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-ph/0111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01992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33412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4920" y="52578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228600" y="594360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006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48640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615400">
            <a:off x="-4508640" y="3839760"/>
            <a:ext cx="11814480" cy="395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871800">
            <a:off x="-4223880" y="3677400"/>
            <a:ext cx="10233000" cy="524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469800">
            <a:off x="-4236120" y="3855240"/>
            <a:ext cx="10653840" cy="43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20800">
            <a:off x="-4554000" y="3642840"/>
            <a:ext cx="11569680" cy="579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8120" y="3124080"/>
            <a:ext cx="533160" cy="533520"/>
            <a:chOff x="3048120" y="3124080"/>
            <a:chExt cx="533160" cy="533520"/>
          </a:xfrm>
        </p:grpSpPr>
        <p:sp>
          <p:nvSpPr>
            <p:cNvPr id="56" name=""/>
            <p:cNvSpPr/>
            <p:nvPr/>
          </p:nvSpPr>
          <p:spPr>
            <a:xfrm>
              <a:off x="3048120" y="31240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93720" y="3308400"/>
              <a:ext cx="4896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63840" y="3220920"/>
              <a:ext cx="6156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4840" y="3314520"/>
              <a:ext cx="3600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5120" y="324144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61960" y="3421080"/>
              <a:ext cx="6948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4920" y="3481200"/>
              <a:ext cx="10260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520" y="3733920"/>
            <a:ext cx="533160" cy="533160"/>
            <a:chOff x="533520" y="3733920"/>
            <a:chExt cx="533160" cy="533160"/>
          </a:xfrm>
        </p:grpSpPr>
        <p:sp>
          <p:nvSpPr>
            <p:cNvPr id="64" name=""/>
            <p:cNvSpPr/>
            <p:nvPr/>
          </p:nvSpPr>
          <p:spPr>
            <a:xfrm>
              <a:off x="533520" y="37339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9120" y="3917880"/>
              <a:ext cx="48960" cy="439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9240" y="3830400"/>
              <a:ext cx="61560" cy="48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924000"/>
              <a:ext cx="36000" cy="378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0520" y="3850920"/>
              <a:ext cx="3780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7360" y="4030560"/>
              <a:ext cx="69480" cy="266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0320" y="4090680"/>
              <a:ext cx="102600" cy="7128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143000" y="1219320"/>
            <a:ext cx="533520" cy="533160"/>
            <a:chOff x="1143000" y="1219320"/>
            <a:chExt cx="533520" cy="533160"/>
          </a:xfrm>
        </p:grpSpPr>
        <p:sp>
          <p:nvSpPr>
            <p:cNvPr id="72" name=""/>
            <p:cNvSpPr/>
            <p:nvPr/>
          </p:nvSpPr>
          <p:spPr>
            <a:xfrm>
              <a:off x="1143000" y="12193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8960" y="1403280"/>
              <a:ext cx="49320" cy="439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9080" y="1315800"/>
              <a:ext cx="61920" cy="48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0080" y="1409400"/>
              <a:ext cx="36360" cy="378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60360" y="1336320"/>
              <a:ext cx="3816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57200" y="1515960"/>
              <a:ext cx="69840" cy="266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160" y="1576080"/>
              <a:ext cx="102960" cy="7128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5181480"/>
            <a:ext cx="533520" cy="533520"/>
            <a:chOff x="3124080" y="5181480"/>
            <a:chExt cx="533520" cy="533520"/>
          </a:xfrm>
        </p:grpSpPr>
        <p:sp>
          <p:nvSpPr>
            <p:cNvPr id="80" name=""/>
            <p:cNvSpPr/>
            <p:nvPr/>
          </p:nvSpPr>
          <p:spPr>
            <a:xfrm>
              <a:off x="3124080" y="5181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70040" y="536580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0160" y="527832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1160" y="537192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1440" y="529884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8280" y="547848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1240" y="553860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410080" y="4952880"/>
            <a:ext cx="533520" cy="533520"/>
            <a:chOff x="5410080" y="4952880"/>
            <a:chExt cx="533520" cy="533520"/>
          </a:xfrm>
        </p:grpSpPr>
        <p:sp>
          <p:nvSpPr>
            <p:cNvPr id="88" name=""/>
            <p:cNvSpPr/>
            <p:nvPr/>
          </p:nvSpPr>
          <p:spPr>
            <a:xfrm flipH="1">
              <a:off x="5410080" y="49528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547960" y="513720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565600" y="504972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779800" y="514332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788080" y="507024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659560" y="524988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613480" y="531000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324480" y="5029200"/>
            <a:ext cx="533520" cy="533520"/>
            <a:chOff x="6324480" y="5029200"/>
            <a:chExt cx="533520" cy="533520"/>
          </a:xfrm>
        </p:grpSpPr>
        <p:sp>
          <p:nvSpPr>
            <p:cNvPr id="96" name=""/>
            <p:cNvSpPr/>
            <p:nvPr/>
          </p:nvSpPr>
          <p:spPr>
            <a:xfrm>
              <a:off x="63244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70440" y="521352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40560" y="512604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1560" y="521964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1840" y="514656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38680" y="532620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1640" y="538632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419720" y="2057400"/>
            <a:ext cx="533160" cy="533520"/>
            <a:chOff x="4419720" y="2057400"/>
            <a:chExt cx="533160" cy="533520"/>
          </a:xfrm>
        </p:grpSpPr>
        <p:sp>
          <p:nvSpPr>
            <p:cNvPr id="104" name=""/>
            <p:cNvSpPr/>
            <p:nvPr/>
          </p:nvSpPr>
          <p:spPr>
            <a:xfrm>
              <a:off x="4419720" y="2057400"/>
              <a:ext cx="53316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5320" y="2241720"/>
              <a:ext cx="4896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5440" y="2154240"/>
              <a:ext cx="6156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46440" y="2247840"/>
              <a:ext cx="3600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720" y="217476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33560" y="2354400"/>
              <a:ext cx="6948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6520" y="2414520"/>
              <a:ext cx="10260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3885480" y="3352680"/>
            <a:ext cx="2438280" cy="1219320"/>
          </a:xfrm>
          <a:prstGeom prst="wedgeEllipseCallout">
            <a:avLst>
              <a:gd name="adj1" fmla="val -21615"/>
              <a:gd name="adj2" fmla="val 7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7320" y="35053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born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B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76400" y="3200400"/>
            <a:ext cx="2438280" cy="1600200"/>
          </a:xfrm>
          <a:prstGeom prst="wedgeEllipseCallout">
            <a:avLst>
              <a:gd name="adj1" fmla="val 39254"/>
              <a:gd name="adj2" fmla="val 63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50532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8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: Main Ide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0,1], even for g-1 inputs X with g&gt;2.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rprisingly strong constrai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04812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uniform dist. over g-1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14800"/>
            <a:ext cx="8305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becomes poly in g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lgebraic mag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8381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roximation theory to show T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emma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=1 i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, 0 otherwise.  Then P(X) is poly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209680"/>
            <a:ext cx="8381880" cy="4143600"/>
            <a:chOff x="533520" y="2209680"/>
            <a:chExt cx="8381880" cy="4143600"/>
          </a:xfrm>
        </p:grpSpPr>
        <p:graphicFrame>
          <p:nvGraphicFramePr>
            <p:cNvPr id="177" name=""/>
            <p:cNvGraphicFramePr/>
            <p:nvPr/>
          </p:nvGraphicFramePr>
          <p:xfrm>
            <a:off x="4495680" y="5410080"/>
            <a:ext cx="3803760" cy="9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5410080"/>
                      <a:ext cx="380376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33520" y="2209680"/>
              <a:ext cx="838188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Proof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amplitude of 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after t queries.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is poly of deg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, by induc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ase case (t=0) trivial.  Unitaries can’t increase degree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ery repla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(g): Uniform distribution over g-1 inpu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971800"/>
            <a:ext cx="784872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181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Technicality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5800" y="4952880"/>
            <a:ext cx="6032520" cy="852480"/>
            <a:chOff x="685800" y="4952880"/>
            <a:chExt cx="6032520" cy="852480"/>
          </a:xfrm>
        </p:grpSpPr>
        <p:graphicFrame>
          <p:nvGraphicFramePr>
            <p:cNvPr id="184" name=""/>
            <p:cNvGraphicFramePr/>
            <p:nvPr/>
          </p:nvGraphicFramePr>
          <p:xfrm>
            <a:off x="2133720" y="495288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495288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685800" y="5029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4038480"/>
            <a:ext cx="6485040" cy="961920"/>
            <a:chOff x="457200" y="4038480"/>
            <a:chExt cx="6485040" cy="961920"/>
          </a:xfrm>
        </p:grpSpPr>
        <p:graphicFrame>
          <p:nvGraphicFramePr>
            <p:cNvPr id="190" name=""/>
            <p:cNvGraphicFramePr/>
            <p:nvPr/>
          </p:nvGraphicFramePr>
          <p:xfrm>
            <a:off x="1752840" y="4114440"/>
            <a:ext cx="51894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840" y="4114440"/>
                      <a:ext cx="51894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457200" y="403848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7200" y="5257800"/>
            <a:ext cx="8182080" cy="1062000"/>
            <a:chOff x="457200" y="5257800"/>
            <a:chExt cx="8182080" cy="1062000"/>
          </a:xfrm>
        </p:grpSpPr>
        <p:graphicFrame>
          <p:nvGraphicFramePr>
            <p:cNvPr id="194" name=""/>
            <p:cNvGraphicFramePr/>
            <p:nvPr/>
          </p:nvGraphicFramePr>
          <p:xfrm>
            <a:off x="4191120" y="5257800"/>
            <a:ext cx="444816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5257800"/>
                      <a:ext cx="444816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457200" y="5257800"/>
              <a:ext cx="464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33520" y="1447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 then P(g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in g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202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4419720"/>
            <a:ext cx="7924680" cy="2163600"/>
            <a:chOff x="533520" y="4419720"/>
            <a:chExt cx="7924680" cy="2163600"/>
          </a:xfrm>
        </p:grpSpPr>
        <p:graphicFrame>
          <p:nvGraphicFramePr>
            <p:cNvPr id="211" name=""/>
            <p:cNvGraphicFramePr/>
            <p:nvPr/>
          </p:nvGraphicFramePr>
          <p:xfrm>
            <a:off x="2394000" y="4954680"/>
            <a:ext cx="3287520" cy="16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4000" y="4954680"/>
                      <a:ext cx="328752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533520" y="4419720"/>
              <a:ext cx="792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# of g-1 inputs X with range S s.t. I(X)=1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218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(x) be a poly with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|dP(x*)/d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for som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92320" y="2954160"/>
          <a:ext cx="4227480" cy="15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2954160"/>
                    <a:ext cx="4227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952880"/>
            <a:ext cx="6781680" cy="736560"/>
          </a:xfrm>
          <a:custGeom>
            <a:avLst/>
            <a:gdLst/>
            <a:ahLst/>
            <a:rect l="l" t="t" r="r" b="b"/>
            <a:pathLst>
              <a:path w="4272" h="464">
                <a:moveTo>
                  <a:pt x="0" y="408"/>
                </a:moveTo>
                <a:cubicBezTo>
                  <a:pt x="184" y="364"/>
                  <a:pt x="368" y="320"/>
                  <a:pt x="528" y="264"/>
                </a:cubicBezTo>
                <a:cubicBezTo>
                  <a:pt x="688" y="208"/>
                  <a:pt x="760" y="40"/>
                  <a:pt x="960" y="72"/>
                </a:cubicBezTo>
                <a:cubicBezTo>
                  <a:pt x="1160" y="104"/>
                  <a:pt x="1544" y="464"/>
                  <a:pt x="1728" y="456"/>
                </a:cubicBezTo>
                <a:cubicBezTo>
                  <a:pt x="1912" y="448"/>
                  <a:pt x="1832" y="48"/>
                  <a:pt x="2064" y="24"/>
                </a:cubicBezTo>
                <a:cubicBezTo>
                  <a:pt x="2296" y="0"/>
                  <a:pt x="2752" y="312"/>
                  <a:pt x="3120" y="312"/>
                </a:cubicBezTo>
                <a:cubicBezTo>
                  <a:pt x="3488" y="312"/>
                  <a:pt x="3880" y="168"/>
                  <a:pt x="4272" y="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5200" y="5867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7000" y="50292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160" y="6095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848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2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8006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666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1148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9400" y="5791320"/>
            <a:ext cx="47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How to Handle n mod g </a:t>
            </a:r>
            <a:r>
              <a:rPr b="1" lang="en-US" sz="39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 0: Sketch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N slightly larger than n such that g divide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2971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g-1 function on {1,…,N} u.a.r, then subfunction of siz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480" y="4267080"/>
            <a:ext cx="7772400" cy="2249640"/>
            <a:chOff x="609480" y="4267080"/>
            <a:chExt cx="7772400" cy="2249640"/>
          </a:xfrm>
        </p:grpSpPr>
        <p:sp>
          <p:nvSpPr>
            <p:cNvPr id="242" name=""/>
            <p:cNvSpPr/>
            <p:nvPr/>
          </p:nvSpPr>
          <p:spPr>
            <a:xfrm>
              <a:off x="609480" y="426708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cceptance prob.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lose t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ivariate polynomial in g,N for all g|N s.t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2743200" y="5302080"/>
            <a:ext cx="3505320" cy="121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5302080"/>
                      <a:ext cx="3505320" cy="12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g’s range to [1,G]; then (g,N) points with g|N are plentiful, so P is b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97180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has large derivative somewhere in either the g or N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4343400"/>
            <a:ext cx="8534520" cy="2160720"/>
            <a:chOff x="380880" y="4343400"/>
            <a:chExt cx="8534520" cy="2160720"/>
          </a:xfrm>
        </p:grpSpPr>
        <p:sp>
          <p:nvSpPr>
            <p:cNvPr id="249" name=""/>
            <p:cNvSpPr/>
            <p:nvPr/>
          </p:nvSpPr>
          <p:spPr>
            <a:xfrm>
              <a:off x="380880" y="43434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ower bound obtained when G=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2/5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1905120" y="4876920"/>
            <a:ext cx="6041880" cy="16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4876920"/>
                      <a:ext cx="60418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447920" y="990720"/>
          <a:ext cx="71625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71625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31840" y="2895480"/>
            <a:ext cx="2663640" cy="1922760"/>
            <a:chOff x="231840" y="2895480"/>
            <a:chExt cx="2663640" cy="1922760"/>
          </a:xfrm>
        </p:grpSpPr>
        <p:sp>
          <p:nvSpPr>
            <p:cNvPr id="255" name=""/>
            <p:cNvSpPr/>
            <p:nvPr/>
          </p:nvSpPr>
          <p:spPr>
            <a:xfrm>
              <a:off x="1752480" y="4038480"/>
              <a:ext cx="114300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1840" y="2895480"/>
              <a:ext cx="1483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ri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-1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61960" y="3352680"/>
            <a:ext cx="3993120" cy="2806920"/>
            <a:chOff x="4161960" y="3352680"/>
            <a:chExt cx="3993120" cy="2806920"/>
          </a:xfrm>
        </p:grpSpPr>
        <p:sp>
          <p:nvSpPr>
            <p:cNvPr id="258" name=""/>
            <p:cNvSpPr/>
            <p:nvPr/>
          </p:nvSpPr>
          <p:spPr>
            <a:xfrm>
              <a:off x="4876920" y="5334120"/>
              <a:ext cx="327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ts of points at which g|N so P is 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161960" y="3352680"/>
              <a:ext cx="153684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i’s Improvement to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4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828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.t. g divides N, instead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2590920"/>
            <a:ext cx="7467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sis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an undefine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drops out of the univer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3809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state vector has norm in [0,1]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O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029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g,N) i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xa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nomial in (g,N); so g’s range need not be restricted to [1,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i’s Improvement to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3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8288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nctions with range {1,…,3n/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743200"/>
            <a:ext cx="7467480" cy="2064600"/>
            <a:chOff x="685800" y="2743200"/>
            <a:chExt cx="7467480" cy="2064600"/>
          </a:xfrm>
        </p:grpSpPr>
        <p:sp>
          <p:nvSpPr>
            <p:cNvPr id="268" name=""/>
            <p:cNvSpPr/>
            <p:nvPr/>
          </p:nvSpPr>
          <p:spPr>
            <a:xfrm>
              <a:off x="685800" y="2743200"/>
              <a:ext cx="74674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ses </a:t>
              </a:r>
              <a:r>
                <a:rPr b="0" lang="en-US" sz="3200" spc="-1" strike="noStrike">
                  <a:solidFill>
                    <a:srgbClr val="a50021"/>
                  </a:solidFill>
                  <a:latin typeface="Arial"/>
                </a:rPr>
                <a:t>Paturi’s inequality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f 0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 for 0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 and p’(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9" name=""/>
            <p:cNvGraphicFramePr/>
            <p:nvPr/>
          </p:nvGraphicFramePr>
          <p:xfrm>
            <a:off x="1600200" y="3352680"/>
            <a:ext cx="59436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352680"/>
                      <a:ext cx="59436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066680"/>
          <a:ext cx="3505320" cy="335268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  <a:gridCol w="583920"/>
                <a:gridCol w="584280"/>
                <a:gridCol w="584280"/>
                <a:gridCol w="5842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1066680"/>
          <a:ext cx="3505320" cy="335268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  <a:gridCol w="584280"/>
                <a:gridCol w="583920"/>
                <a:gridCol w="584280"/>
                <a:gridCol w="5842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99072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to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505320"/>
            <a:ext cx="71629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&gt;&g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o polytime blackbox algorithms f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600200"/>
            <a:ext cx="80010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“Dynamical quantum theories” can’t be simulated in BQP, relative to orac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200400"/>
            <a:ext cx="76964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joint distribution over values of observable at time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I.e. classical hist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polytime quantum algorithm and set of “sampling points,” how hard to sample from this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How to Find a Collision in O(1) Queries If Your Memory Is Perfec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520" y="1633680"/>
            <a:ext cx="8153280" cy="1347120"/>
            <a:chOff x="533520" y="1633680"/>
            <a:chExt cx="8153280" cy="1347120"/>
          </a:xfrm>
        </p:grpSpPr>
        <p:sp>
          <p:nvSpPr>
            <p:cNvPr id="137" name=""/>
            <p:cNvSpPr/>
            <p:nvPr/>
          </p:nvSpPr>
          <p:spPr>
            <a:xfrm>
              <a:off x="533520" y="1752480"/>
              <a:ext cx="815328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epare                    and observe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X is 2-1, obtain (|i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|j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/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with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2590920" y="1633680"/>
            <a:ext cx="1600200" cy="83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1633680"/>
                      <a:ext cx="160020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0" name=""/>
          <p:cNvSpPr/>
          <p:nvPr/>
        </p:nvSpPr>
        <p:spPr>
          <a:xfrm>
            <a:off x="533520" y="2971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Hadamard every bit, and sampl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191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adamard every bit again (returning to (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, and sampl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hich basis state (|i</a:t>
            </a:r>
            <a:r>
              <a:rPr b="0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or |j</a:t>
            </a:r>
            <a:r>
              <a:rPr b="0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 were you “in” after Step 2?  After Step 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7848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oracles (Kashefi et al. 2001) more powerful than 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733920"/>
            <a:ext cx="792468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wer bound for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et comparison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sequenc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cide whether 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=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or |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|&gt;1.1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mpro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using ideas of 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ork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: index to 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z: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0" name=""/>
          <p:cNvGraphicFramePr/>
          <p:nvPr/>
        </p:nvGraphicFramePr>
        <p:xfrm>
          <a:off x="3657600" y="1523880"/>
          <a:ext cx="35053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35053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33520" y="34290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114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unitaries that don’t depend on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4800600"/>
            <a:ext cx="7775280" cy="1552680"/>
            <a:chOff x="533520" y="4800600"/>
            <a:chExt cx="7775280" cy="1552680"/>
          </a:xfrm>
        </p:grpSpPr>
        <p:graphicFrame>
          <p:nvGraphicFramePr>
            <p:cNvPr id="155" name=""/>
            <p:cNvGraphicFramePr/>
            <p:nvPr/>
          </p:nvGraphicFramePr>
          <p:xfrm>
            <a:off x="1211400" y="5181480"/>
            <a:ext cx="7097400" cy="117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1400" y="5181480"/>
                      <a:ext cx="7097400" cy="11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533520" y="48006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y en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8:15:02Z</dcterms:created>
  <dc:creator>Avaya User</dc:creator>
  <dc:description/>
  <dc:language>en-US</dc:language>
  <cp:lastModifiedBy>aaronson</cp:lastModifiedBy>
  <dcterms:modified xsi:type="dcterms:W3CDTF">2002-05-12T03:35:45Z</dcterms:modified>
  <cp:revision>54</cp:revision>
  <dc:subject/>
  <dc:title>Quantum Lower Bound for the Collision Problem</dc:title>
</cp:coreProperties>
</file>