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D68-8C80-4F23-A9E8-09738795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76A0-0DDA-410D-B1A3-96CA06F4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069F-B67D-43D3-A9B1-C297056B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CD2-EDD0-421D-9505-7F1E79CE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F598-3BF7-4FBF-803C-2D177004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328E-950C-4F85-ABD8-6AA02DBEE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335-A39E-414F-AC21-E19143C2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E6D0-3D3B-4218-9E19-BF833DD7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A1B-8E0A-4396-B70E-9539FD84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5EC-9B12-451C-8D1B-36840899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F2A6-C14B-42C3-971C-2BE75C30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72C-C97C-40D0-BCE7-D377DCDB1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223D-8DD3-4892-959D-38BBDBED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C3F5-BDF6-4973-ACF1-76D9019C6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2D6-E262-441E-BA20-60D1B3D6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1D2-65D0-4930-B5D1-F1408DE3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C14-0927-4DAD-8BE8-E47CFB44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BD6-E660-44BD-A84C-9F754BA98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747-FE00-412A-B183-E1B5000C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0E0A-8D71-4BF6-841C-9108B3E4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3E04-68F4-4E2D-903F-919935667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3E7-F07F-429D-9F05-CE7D4E98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EF54-8DA8-490F-8FE2-2FB5141A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9AE0-E368-4E9D-9CFC-1E0295C7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613-D1B4-4384-BC84-C5F462E9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F069-BF61-4FDE-ADA0-3B516F913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89CB-8FCF-4B0D-9D0E-CD14DF62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280-4386-4721-9543-2C6804FEF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920-2839-4446-9B39-05D67005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B27-4A8C-4FA4-B10F-4C524EAB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300-6EF7-44E5-B27F-27EF3235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20A-3C59-4756-B5C0-921B1C2A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F3E-4DDF-41AF-9417-318BA98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D23-2626-492D-B38D-13F9CD4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4DD-28A7-44C6-A49A-FCC12804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08E-73ED-4F30-A886-EB567DA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9CA-B4D4-49F5-9D3E-220809B5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F77-F851-4256-A3F3-6F830D4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57A-BC89-4B5B-AD83-75A7D828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0B2-9DB9-4017-B71A-00592E8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63CA-EBAD-4476-9608-5F954508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The Coffee Automaton: Quantifying the Rise and Fall of Complexity in Closed System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4864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Lauren Ouellette and Sean Car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523880" y="2590920"/>
            <a:ext cx="605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1"/>
          <p:cNvSpPr/>
          <p:nvPr/>
        </p:nvSpPr>
        <p:spPr>
          <a:xfrm>
            <a:off x="533520" y="16002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f(x) be a function that outputs only the “important, macroscopic” information in a state x, washing or averaging out the “random fluctu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1 to Quantifying Complexity: Coarse-Grained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533520" y="4191120"/>
            <a:ext cx="807696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 of coarse-graining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thing physicists do all the time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: </a:t>
            </a:r>
            <a:br>
              <a:rPr sz="30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ome like a “human” notion—who decides which variables are important or un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533520" y="2971800"/>
            <a:ext cx="8153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look a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H(f(x)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(x).  Intuitively, H(f(x)) should be maximized when there’s “interesting stru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1"/>
          <p:cNvSpPr/>
          <p:nvPr/>
        </p:nvSpPr>
        <p:spPr>
          <a:xfrm>
            <a:off x="457200" y="4648320"/>
            <a:ext cx="815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n consider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expected mutual inform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ween the configurations in P and 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2: “Causal Complexity”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Shalizi et al. 200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914400" y="5791320"/>
                <a:ext cx="770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41"/>
          <p:cNvSpPr/>
          <p:nvPr/>
        </p:nvSpPr>
        <p:spPr>
          <a:xfrm>
            <a:off x="457200" y="14479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point (x,t) in a cellular automaton’s spacetime history, let P and F be its past and futu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ightcon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respective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1"/>
          <p:cNvGrpSpPr/>
          <p:nvPr/>
        </p:nvGrpSpPr>
        <p:grpSpPr>
          <a:xfrm>
            <a:off x="4876920" y="2666520"/>
            <a:ext cx="2286000" cy="1829160"/>
            <a:chOff x="4876920" y="2666520"/>
            <a:chExt cx="2286000" cy="1829160"/>
          </a:xfrm>
        </p:grpSpPr>
        <p:sp>
          <p:nvSpPr>
            <p:cNvPr id="143" name="Rectangle 9"/>
            <p:cNvSpPr/>
            <p:nvPr/>
          </p:nvSpPr>
          <p:spPr>
            <a:xfrm>
              <a:off x="48769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5105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5334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5562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57913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60199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6477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"/>
            <p:cNvSpPr/>
            <p:nvPr/>
          </p:nvSpPr>
          <p:spPr>
            <a:xfrm>
              <a:off x="6705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69343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>
              <a:off x="48769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>
              <a:off x="51055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>
              <a:off x="53341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>
              <a:off x="55627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57913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>
              <a:off x="60199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62485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>
              <a:off x="64771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67057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6934320" y="2895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48769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1055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53341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55627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57913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0199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5"/>
            <p:cNvSpPr/>
            <p:nvPr/>
          </p:nvSpPr>
          <p:spPr>
            <a:xfrm>
              <a:off x="62485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6"/>
            <p:cNvSpPr/>
            <p:nvPr/>
          </p:nvSpPr>
          <p:spPr>
            <a:xfrm>
              <a:off x="64771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7"/>
            <p:cNvSpPr/>
            <p:nvPr/>
          </p:nvSpPr>
          <p:spPr>
            <a:xfrm>
              <a:off x="67057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6934320" y="3124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"/>
            <p:cNvSpPr/>
            <p:nvPr/>
          </p:nvSpPr>
          <p:spPr>
            <a:xfrm>
              <a:off x="48769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0"/>
            <p:cNvSpPr/>
            <p:nvPr/>
          </p:nvSpPr>
          <p:spPr>
            <a:xfrm>
              <a:off x="51055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1"/>
            <p:cNvSpPr/>
            <p:nvPr/>
          </p:nvSpPr>
          <p:spPr>
            <a:xfrm>
              <a:off x="53341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2"/>
            <p:cNvSpPr/>
            <p:nvPr/>
          </p:nvSpPr>
          <p:spPr>
            <a:xfrm>
              <a:off x="55627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3"/>
            <p:cNvSpPr/>
            <p:nvPr/>
          </p:nvSpPr>
          <p:spPr>
            <a:xfrm>
              <a:off x="57913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4"/>
            <p:cNvSpPr/>
            <p:nvPr/>
          </p:nvSpPr>
          <p:spPr>
            <a:xfrm>
              <a:off x="60199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5"/>
            <p:cNvSpPr/>
            <p:nvPr/>
          </p:nvSpPr>
          <p:spPr>
            <a:xfrm>
              <a:off x="62485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6"/>
            <p:cNvSpPr/>
            <p:nvPr/>
          </p:nvSpPr>
          <p:spPr>
            <a:xfrm>
              <a:off x="64771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7"/>
            <p:cNvSpPr/>
            <p:nvPr/>
          </p:nvSpPr>
          <p:spPr>
            <a:xfrm>
              <a:off x="67057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8"/>
            <p:cNvSpPr/>
            <p:nvPr/>
          </p:nvSpPr>
          <p:spPr>
            <a:xfrm>
              <a:off x="6934320" y="3352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48769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50"/>
            <p:cNvSpPr/>
            <p:nvPr/>
          </p:nvSpPr>
          <p:spPr>
            <a:xfrm>
              <a:off x="51055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1"/>
            <p:cNvSpPr/>
            <p:nvPr/>
          </p:nvSpPr>
          <p:spPr>
            <a:xfrm>
              <a:off x="5334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2"/>
            <p:cNvSpPr/>
            <p:nvPr/>
          </p:nvSpPr>
          <p:spPr>
            <a:xfrm>
              <a:off x="55627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3"/>
            <p:cNvSpPr/>
            <p:nvPr/>
          </p:nvSpPr>
          <p:spPr>
            <a:xfrm>
              <a:off x="57913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60199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5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6"/>
            <p:cNvSpPr/>
            <p:nvPr/>
          </p:nvSpPr>
          <p:spPr>
            <a:xfrm>
              <a:off x="6477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7"/>
            <p:cNvSpPr/>
            <p:nvPr/>
          </p:nvSpPr>
          <p:spPr>
            <a:xfrm>
              <a:off x="67057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58"/>
            <p:cNvSpPr/>
            <p:nvPr/>
          </p:nvSpPr>
          <p:spPr>
            <a:xfrm>
              <a:off x="69343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9"/>
            <p:cNvSpPr/>
            <p:nvPr/>
          </p:nvSpPr>
          <p:spPr>
            <a:xfrm>
              <a:off x="48769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0"/>
            <p:cNvSpPr/>
            <p:nvPr/>
          </p:nvSpPr>
          <p:spPr>
            <a:xfrm>
              <a:off x="51055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1"/>
            <p:cNvSpPr/>
            <p:nvPr/>
          </p:nvSpPr>
          <p:spPr>
            <a:xfrm>
              <a:off x="53341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2"/>
            <p:cNvSpPr/>
            <p:nvPr/>
          </p:nvSpPr>
          <p:spPr>
            <a:xfrm>
              <a:off x="55627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63"/>
            <p:cNvSpPr/>
            <p:nvPr/>
          </p:nvSpPr>
          <p:spPr>
            <a:xfrm>
              <a:off x="57913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4"/>
            <p:cNvSpPr/>
            <p:nvPr/>
          </p:nvSpPr>
          <p:spPr>
            <a:xfrm>
              <a:off x="60199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5"/>
            <p:cNvSpPr/>
            <p:nvPr/>
          </p:nvSpPr>
          <p:spPr>
            <a:xfrm>
              <a:off x="62485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6"/>
            <p:cNvSpPr/>
            <p:nvPr/>
          </p:nvSpPr>
          <p:spPr>
            <a:xfrm>
              <a:off x="64771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67"/>
            <p:cNvSpPr/>
            <p:nvPr/>
          </p:nvSpPr>
          <p:spPr>
            <a:xfrm>
              <a:off x="67057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8"/>
            <p:cNvSpPr/>
            <p:nvPr/>
          </p:nvSpPr>
          <p:spPr>
            <a:xfrm>
              <a:off x="6934320" y="3809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9"/>
            <p:cNvSpPr/>
            <p:nvPr/>
          </p:nvSpPr>
          <p:spPr>
            <a:xfrm>
              <a:off x="48769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70"/>
            <p:cNvSpPr/>
            <p:nvPr/>
          </p:nvSpPr>
          <p:spPr>
            <a:xfrm>
              <a:off x="51055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1"/>
            <p:cNvSpPr/>
            <p:nvPr/>
          </p:nvSpPr>
          <p:spPr>
            <a:xfrm>
              <a:off x="53341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2"/>
            <p:cNvSpPr/>
            <p:nvPr/>
          </p:nvSpPr>
          <p:spPr>
            <a:xfrm>
              <a:off x="55627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3"/>
            <p:cNvSpPr/>
            <p:nvPr/>
          </p:nvSpPr>
          <p:spPr>
            <a:xfrm>
              <a:off x="57913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4"/>
            <p:cNvSpPr/>
            <p:nvPr/>
          </p:nvSpPr>
          <p:spPr>
            <a:xfrm>
              <a:off x="60199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5"/>
            <p:cNvSpPr/>
            <p:nvPr/>
          </p:nvSpPr>
          <p:spPr>
            <a:xfrm>
              <a:off x="62485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6"/>
            <p:cNvSpPr/>
            <p:nvPr/>
          </p:nvSpPr>
          <p:spPr>
            <a:xfrm>
              <a:off x="64771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7"/>
            <p:cNvSpPr/>
            <p:nvPr/>
          </p:nvSpPr>
          <p:spPr>
            <a:xfrm>
              <a:off x="67057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78"/>
            <p:cNvSpPr/>
            <p:nvPr/>
          </p:nvSpPr>
          <p:spPr>
            <a:xfrm>
              <a:off x="6934320" y="4038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9"/>
            <p:cNvSpPr/>
            <p:nvPr/>
          </p:nvSpPr>
          <p:spPr>
            <a:xfrm>
              <a:off x="48769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0"/>
            <p:cNvSpPr/>
            <p:nvPr/>
          </p:nvSpPr>
          <p:spPr>
            <a:xfrm>
              <a:off x="51055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1"/>
            <p:cNvSpPr/>
            <p:nvPr/>
          </p:nvSpPr>
          <p:spPr>
            <a:xfrm>
              <a:off x="53341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82"/>
            <p:cNvSpPr/>
            <p:nvPr/>
          </p:nvSpPr>
          <p:spPr>
            <a:xfrm>
              <a:off x="55627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3"/>
            <p:cNvSpPr/>
            <p:nvPr/>
          </p:nvSpPr>
          <p:spPr>
            <a:xfrm>
              <a:off x="57913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4"/>
            <p:cNvSpPr/>
            <p:nvPr/>
          </p:nvSpPr>
          <p:spPr>
            <a:xfrm>
              <a:off x="60199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5"/>
            <p:cNvSpPr/>
            <p:nvPr/>
          </p:nvSpPr>
          <p:spPr>
            <a:xfrm>
              <a:off x="62485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6"/>
            <p:cNvSpPr/>
            <p:nvPr/>
          </p:nvSpPr>
          <p:spPr>
            <a:xfrm>
              <a:off x="64771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7"/>
            <p:cNvSpPr/>
            <p:nvPr/>
          </p:nvSpPr>
          <p:spPr>
            <a:xfrm>
              <a:off x="67057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8"/>
            <p:cNvSpPr/>
            <p:nvPr/>
          </p:nvSpPr>
          <p:spPr>
            <a:xfrm>
              <a:off x="6934320" y="42670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Isosceles Triangle 7"/>
            <p:cNvSpPr/>
            <p:nvPr/>
          </p:nvSpPr>
          <p:spPr>
            <a:xfrm>
              <a:off x="4876920" y="3581280"/>
              <a:ext cx="2286000" cy="90900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Isosceles Triangle 90"/>
            <p:cNvSpPr/>
            <p:nvPr/>
          </p:nvSpPr>
          <p:spPr>
            <a:xfrm rot="10800000">
              <a:off x="4876920" y="2666520"/>
              <a:ext cx="2286000" cy="90900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943600" y="3504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41"/>
          <p:cNvSpPr/>
          <p:nvPr/>
        </p:nvSpPr>
        <p:spPr>
          <a:xfrm>
            <a:off x="5715000" y="2590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5715000" y="38098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6019920" y="32004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(x,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96"/>
          <p:cNvCxnSpPr/>
          <p:nvPr/>
        </p:nvCxnSpPr>
        <p:spPr>
          <a:xfrm flipV="1">
            <a:off x="7467120" y="2666520"/>
            <a:ext cx="1080" cy="18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Rectangle 41"/>
          <p:cNvSpPr/>
          <p:nvPr/>
        </p:nvSpPr>
        <p:spPr>
          <a:xfrm>
            <a:off x="7543800" y="32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ime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1"/>
          <p:cNvSpPr/>
          <p:nvPr/>
        </p:nvSpPr>
        <p:spPr>
          <a:xfrm>
            <a:off x="304920" y="2590920"/>
            <a:ext cx="83818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s of causal complexi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s an operational mea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ends only on causal structure, not on arbitrary choices of how to coarse-g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a function of the current state on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quires going arbitrarily far into past and fu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(P,F) can be large simply because not much i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304920" y="228600"/>
            <a:ext cx="8534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dynamics are “simple” then I(P,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 since H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(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dynamics are “random” then I(P,F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 since H(F|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(F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“intermediate” cases, I(P,F) can be large since the past has nontrivial correlations with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3: Logical Depth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Bennett 198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457200" y="1447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th(x) = Running time of the shortest program that outpu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457200" y="25146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th(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= Depth(random string) = 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there must exist very deep strings, since otherwise Kolmogorov complexity would become comput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457200" y="4038480"/>
            <a:ext cx="815328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dvantag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nects “Santa Fe” and computa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are intuitively complex patterns that aren’t d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bility properties are terr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1"/>
          <p:cNvSpPr/>
          <p:nvPr/>
        </p:nvSpPr>
        <p:spPr>
          <a:xfrm>
            <a:off x="304920" y="1600200"/>
            <a:ext cx="8534160" cy="31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se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K(S) be the length of the shortest program that lists the elements of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le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Soph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the minimum of K(S), over all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K(S)+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S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(x)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6600ff"/>
                </a:solidFill>
                <a:latin typeface="Calibri"/>
                <a:ea typeface="Arial"/>
              </a:rPr>
              <a:t>In a near-minimal program for x, the smallest number of bits that need to be “code” rather than “random data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8600" y="228600"/>
            <a:ext cx="86868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pproach 4: Sophistication</a:t>
            </a:r>
            <a:br>
              <a:rPr sz="4400"/>
            </a:b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(Kolmogorov 1983, Koppel 198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304920" y="304920"/>
            <a:ext cx="8534160" cy="2214000"/>
            <a:chOff x="304920" y="304920"/>
            <a:chExt cx="8534160" cy="2214000"/>
          </a:xfrm>
        </p:grpSpPr>
        <p:sp>
          <p:nvSpPr>
            <p:cNvPr id="240" name="Rectangle 10"/>
            <p:cNvSpPr/>
            <p:nvPr/>
          </p:nvSpPr>
          <p:spPr>
            <a:xfrm>
              <a:off x="304920" y="304920"/>
              <a:ext cx="8534160" cy="2209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80880" y="380880"/>
              <a:ext cx="8458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histication is often thought of in terms of a </a:t>
              </a:r>
              <a:r>
                <a:rPr b="1" lang="en-US" sz="25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“two-part code”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"/>
            <p:cNvSpPr/>
            <p:nvPr/>
          </p:nvSpPr>
          <p:spPr>
            <a:xfrm>
              <a:off x="838080" y="1066680"/>
              <a:ext cx="2590560" cy="55080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gram for 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3"/>
            <p:cNvSpPr/>
            <p:nvPr/>
          </p:nvSpPr>
          <p:spPr>
            <a:xfrm>
              <a:off x="3429000" y="1066680"/>
              <a:ext cx="5181480" cy="550800"/>
            </a:xfrm>
            <a:prstGeom prst="rect">
              <a:avLst/>
            </a:prstGeom>
            <a:solidFill>
              <a:srgbClr val="cecee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compressible index of x in 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eft Brace 14"/>
            <p:cNvSpPr/>
            <p:nvPr/>
          </p:nvSpPr>
          <p:spPr>
            <a:xfrm rot="16200000">
              <a:off x="1866600" y="647280"/>
              <a:ext cx="533160" cy="259056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13680 h 2590560"/>
                <a:gd name="textAreaBottom" fmla="*/ 257688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6"/>
                    <a:pt x="10800" y="371"/>
                  </a:cubicBezTo>
                  <a:lnTo>
                    <a:pt x="10800" y="10429"/>
                  </a:lnTo>
                  <a:cubicBezTo>
                    <a:pt x="10800" y="10615"/>
                    <a:pt x="5400" y="10800"/>
                    <a:pt x="0" y="10800"/>
                  </a:cubicBezTo>
                  <a:cubicBezTo>
                    <a:pt x="5400" y="10800"/>
                    <a:pt x="10800" y="10986"/>
                    <a:pt x="10800" y="11171"/>
                  </a:cubicBezTo>
                  <a:lnTo>
                    <a:pt x="10800" y="21229"/>
                  </a:lnTo>
                  <a:cubicBezTo>
                    <a:pt x="10800" y="2141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1"/>
            <p:cNvSpPr/>
            <p:nvPr/>
          </p:nvSpPr>
          <p:spPr>
            <a:xfrm>
              <a:off x="2209680" y="1905120"/>
              <a:ext cx="42670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x) = size of this par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Rectangle 16"/>
          <p:cNvSpPr/>
          <p:nvPr/>
        </p:nvSpPr>
        <p:spPr>
          <a:xfrm>
            <a:off x="304920" y="4724280"/>
            <a:ext cx="83818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O(1), for take S=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random string)=O(1), for take S=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 the other hand, one can show that the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x wi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1"/>
          <p:cNvSpPr/>
          <p:nvPr/>
        </p:nvSpPr>
        <p:spPr>
          <a:xfrm>
            <a:off x="228600" y="949320"/>
            <a:ext cx="8534520" cy="65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Theorem (far from tight; follows Antunes-Fortnow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Let c=o(n); then there exists a string z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Sop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Let A = {x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: x belongs to some set 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 and K(S)+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|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n/3 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Let z be the lexicographically-first n-bit string not in A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(such a z must exist by count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K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+o(n), since among all programs that define a set S with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, we simply need to specify which one runs for the longes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Sop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z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.  Then there’s a set S containing z such that K(S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/3 and K(S)+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|S|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K(z)+c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n/3+o(n).  But that means z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, contradi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pecial Proof Sli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1"/>
          <p:cNvSpPr/>
          <p:nvPr/>
        </p:nvSpPr>
        <p:spPr>
          <a:xfrm>
            <a:off x="380880" y="22860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 is tiny for typical states x of the coffee automaton!  Why?  Because we can let S be the ensemble of sampled states at time t; then x is almost certainly an incompressible element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380880" y="4114800"/>
            <a:ext cx="84582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 of resource-bounded sophist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two-part code “picks out a coarse-graining for free” without our needing to put it in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d to compute; approximations to So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x) didn’t work well in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380880" y="22096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ource-bounded sophist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.g., minimal length of p in a minimal 2-part code consisting of (polytime program p outputting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, input to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1"/>
          <p:cNvSpPr/>
          <p:nvPr/>
        </p:nvSpPr>
        <p:spPr>
          <a:xfrm>
            <a:off x="380880" y="1066680"/>
            <a:ext cx="84582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I = coffee-cup bitmap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i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C(I) = coarse-graining of I.  Each pixel gets colored by the mean of the surrounding L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 block (with, say, L~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), rounded to one of (say) 10 creaminess 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ur “Complextropy”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380880" y="4724280"/>
            <a:ext cx="815364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Complextropy := K(C(I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(C(I)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K(C(I)): gzip file size of C(I); approximation to complextropy that we’re able to comp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C:\t\images\fig3_01.eps"/>
          <p:cNvPicPr/>
          <p:nvPr/>
        </p:nvPicPr>
        <p:blipFill>
          <a:blip r:embed="rId1"/>
          <a:stretch/>
        </p:blipFill>
        <p:spPr>
          <a:xfrm>
            <a:off x="2286000" y="3276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C:\t\images\fig3_11.eps"/>
          <p:cNvPicPr/>
          <p:nvPr/>
        </p:nvPicPr>
        <p:blipFill>
          <a:blip r:embed="rId2"/>
          <a:stretch/>
        </p:blipFill>
        <p:spPr>
          <a:xfrm>
            <a:off x="5562720" y="3276720"/>
            <a:ext cx="1269720" cy="1269720"/>
          </a:xfrm>
          <a:prstGeom prst="rect">
            <a:avLst/>
          </a:prstGeom>
          <a:ln w="0">
            <a:noFill/>
          </a:ln>
        </p:spPr>
      </p:pic>
      <p:cxnSp>
        <p:nvCxnSpPr>
          <p:cNvPr id="258" name="Straight Arrow Connector 11"/>
          <p:cNvCxnSpPr/>
          <p:nvPr/>
        </p:nvCxnSpPr>
        <p:spPr>
          <a:xfrm>
            <a:off x="3581280" y="3885840"/>
            <a:ext cx="19058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1"/>
          <p:cNvSpPr/>
          <p:nvPr/>
        </p:nvSpPr>
        <p:spPr>
          <a:xfrm>
            <a:off x="380880" y="3049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omplextropy’s connection to sophistication and two-part c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228600" y="1371600"/>
            <a:ext cx="5105520" cy="4899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ressed coarse-grained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5257800" y="1371600"/>
            <a:ext cx="3581280" cy="489960"/>
          </a:xfrm>
          <a:prstGeom prst="rect">
            <a:avLst/>
          </a:prstGeom>
          <a:solidFill>
            <a:srgbClr val="cecee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maining info in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eft Brace 6"/>
          <p:cNvSpPr/>
          <p:nvPr/>
        </p:nvSpPr>
        <p:spPr>
          <a:xfrm rot="16200000">
            <a:off x="2476440" y="-343080"/>
            <a:ext cx="533160" cy="5029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5029200"/>
              <a:gd name="textAreaBottom" fmla="*/ 501552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2895480" y="2209680"/>
            <a:ext cx="426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C(I)) = size of this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1"/>
          <p:cNvSpPr/>
          <p:nvPr/>
        </p:nvSpPr>
        <p:spPr>
          <a:xfrm>
            <a:off x="380880" y="434340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omplextropy’s connection to causal complex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380880" y="49528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regions over which we coarse-grain aren’t totally arbitrary!  They can b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eriv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rom the coffee automaton’s causal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80880" y="297180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mplextropy can be seen as a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resource-bounded type of sophistic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1"/>
          <p:cNvSpPr/>
          <p:nvPr/>
        </p:nvSpPr>
        <p:spPr>
          <a:xfrm>
            <a:off x="152280" y="8380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n the non-interacting case, rounding effects cause a “random” pattern in the coarse-grained image, at the border between the cream and the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kes K(C(I)) artificially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Border Pixel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1055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63868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1722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7057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723888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7772400" y="23623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8305920" y="23623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45720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1055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563868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4"/>
          <p:cNvSpPr/>
          <p:nvPr/>
        </p:nvSpPr>
        <p:spPr>
          <a:xfrm>
            <a:off x="61722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67057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723888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7772400" y="28954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8305920" y="28954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45720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563868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61722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67057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723888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5"/>
          <p:cNvSpPr/>
          <p:nvPr/>
        </p:nvSpPr>
        <p:spPr>
          <a:xfrm>
            <a:off x="7772400" y="34290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8305920" y="34290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457200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5105520" y="39625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5638680" y="39625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617220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6705720" y="39625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238880" y="39625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3"/>
          <p:cNvSpPr/>
          <p:nvPr/>
        </p:nvSpPr>
        <p:spPr>
          <a:xfrm>
            <a:off x="7772400" y="39625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4"/>
          <p:cNvSpPr/>
          <p:nvPr/>
        </p:nvSpPr>
        <p:spPr>
          <a:xfrm>
            <a:off x="8305920" y="39625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5"/>
          <p:cNvSpPr/>
          <p:nvPr/>
        </p:nvSpPr>
        <p:spPr>
          <a:xfrm>
            <a:off x="457200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6"/>
          <p:cNvSpPr/>
          <p:nvPr/>
        </p:nvSpPr>
        <p:spPr>
          <a:xfrm>
            <a:off x="51055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7"/>
          <p:cNvSpPr/>
          <p:nvPr/>
        </p:nvSpPr>
        <p:spPr>
          <a:xfrm>
            <a:off x="563868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8"/>
          <p:cNvSpPr/>
          <p:nvPr/>
        </p:nvSpPr>
        <p:spPr>
          <a:xfrm>
            <a:off x="6172200" y="44956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9"/>
          <p:cNvSpPr/>
          <p:nvPr/>
        </p:nvSpPr>
        <p:spPr>
          <a:xfrm>
            <a:off x="67057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0"/>
          <p:cNvSpPr/>
          <p:nvPr/>
        </p:nvSpPr>
        <p:spPr>
          <a:xfrm>
            <a:off x="7238880" y="4495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1"/>
          <p:cNvSpPr/>
          <p:nvPr/>
        </p:nvSpPr>
        <p:spPr>
          <a:xfrm>
            <a:off x="7772400" y="44956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2"/>
          <p:cNvSpPr/>
          <p:nvPr/>
        </p:nvSpPr>
        <p:spPr>
          <a:xfrm>
            <a:off x="8305920" y="44956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3"/>
          <p:cNvSpPr/>
          <p:nvPr/>
        </p:nvSpPr>
        <p:spPr>
          <a:xfrm>
            <a:off x="45720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4"/>
          <p:cNvSpPr/>
          <p:nvPr/>
        </p:nvSpPr>
        <p:spPr>
          <a:xfrm>
            <a:off x="51055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5"/>
          <p:cNvSpPr/>
          <p:nvPr/>
        </p:nvSpPr>
        <p:spPr>
          <a:xfrm>
            <a:off x="563868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61722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67057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723888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7772400" y="50292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8305920" y="50292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1"/>
          <p:cNvSpPr/>
          <p:nvPr/>
        </p:nvSpPr>
        <p:spPr>
          <a:xfrm>
            <a:off x="45720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1055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563868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61722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67057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723888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7772400" y="55627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8305920" y="55627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9"/>
          <p:cNvSpPr/>
          <p:nvPr/>
        </p:nvSpPr>
        <p:spPr>
          <a:xfrm>
            <a:off x="45720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0"/>
          <p:cNvSpPr/>
          <p:nvPr/>
        </p:nvSpPr>
        <p:spPr>
          <a:xfrm>
            <a:off x="51055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1"/>
          <p:cNvSpPr/>
          <p:nvPr/>
        </p:nvSpPr>
        <p:spPr>
          <a:xfrm>
            <a:off x="563868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2"/>
          <p:cNvSpPr/>
          <p:nvPr/>
        </p:nvSpPr>
        <p:spPr>
          <a:xfrm>
            <a:off x="61722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3"/>
          <p:cNvSpPr/>
          <p:nvPr/>
        </p:nvSpPr>
        <p:spPr>
          <a:xfrm>
            <a:off x="67057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4"/>
          <p:cNvSpPr/>
          <p:nvPr/>
        </p:nvSpPr>
        <p:spPr>
          <a:xfrm>
            <a:off x="723888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7772400" y="60958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6"/>
          <p:cNvSpPr/>
          <p:nvPr/>
        </p:nvSpPr>
        <p:spPr>
          <a:xfrm>
            <a:off x="8305920" y="60958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eft Brace 67"/>
          <p:cNvSpPr/>
          <p:nvPr/>
        </p:nvSpPr>
        <p:spPr>
          <a:xfrm>
            <a:off x="4038480" y="3962520"/>
            <a:ext cx="457200" cy="990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90360"/>
              <a:gd name="textAreaBottom" fmla="*/ 97848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6"/>
                  <a:pt x="10800" y="831"/>
                </a:cubicBezTo>
                <a:lnTo>
                  <a:pt x="10800" y="9969"/>
                </a:lnTo>
                <a:cubicBezTo>
                  <a:pt x="10800" y="10385"/>
                  <a:pt x="5400" y="10800"/>
                  <a:pt x="0" y="10800"/>
                </a:cubicBezTo>
                <a:cubicBezTo>
                  <a:pt x="5400" y="10800"/>
                  <a:pt x="10800" y="11216"/>
                  <a:pt x="10800" y="11631"/>
                </a:cubicBezTo>
                <a:lnTo>
                  <a:pt x="10800" y="20769"/>
                </a:lnTo>
                <a:cubicBezTo>
                  <a:pt x="10800" y="2118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152280" y="320040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cky 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low round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to the most common color in each row.  That gets rid of the border pixel artifacts, while hopefully still preserving structure in the interacting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81080" y="1752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t all started with a talk Sean Carroll gave last summer on a cruise from Norway to Denmar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28600" y="2286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Calibri"/>
                <a:ea typeface="Arial"/>
              </a:rPr>
              <a:t>Behavior of G(I) and G(C(I)) in Interacting C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0" descr="C:\t\images\fig10_int.eps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52280" y="2286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  <a:ea typeface="Arial"/>
              </a:rPr>
              <a:t>Behavior of G(I) and G(C(I)) in Non-Interacting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t\images\fig10_nonint.eps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152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Arial"/>
              </a:rPr>
              <a:t>Qualitative Pattern Doesn’t Depend on Compress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C:\t\images\fig5.eps"/>
          <p:cNvPicPr/>
          <p:nvPr/>
        </p:nvPicPr>
        <p:blipFill>
          <a:blip r:embed="rId1"/>
          <a:stretch/>
        </p:blipFill>
        <p:spPr>
          <a:xfrm>
            <a:off x="60948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Dependence on the Grid Siz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C:\t\images\fig7_int.eps"/>
          <p:cNvPicPr/>
          <p:nvPr/>
        </p:nvPicPr>
        <p:blipFill>
          <a:blip r:embed="rId1"/>
          <a:stretch/>
        </p:blipFill>
        <p:spPr>
          <a:xfrm>
            <a:off x="4495680" y="1371600"/>
            <a:ext cx="4775400" cy="3581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t\images\fig6_int.eps"/>
          <p:cNvPicPr/>
          <p:nvPr/>
        </p:nvPicPr>
        <p:blipFill>
          <a:blip r:embed="rId2"/>
          <a:stretch/>
        </p:blipFill>
        <p:spPr>
          <a:xfrm>
            <a:off x="0" y="137160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1"/>
          <p:cNvSpPr/>
          <p:nvPr/>
        </p:nvSpPr>
        <p:spPr>
          <a:xfrm>
            <a:off x="457200" y="5029200"/>
            <a:ext cx="3886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Maximum entropy G(I) increases like ~n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 for an n</a:t>
            </a:r>
            <a:r>
              <a:rPr b="1" lang="en-US" sz="3000" spc="-1" strike="noStrike">
                <a:solidFill>
                  <a:srgbClr val="7030a0"/>
                </a:solidFill>
                <a:latin typeface="Symbol"/>
                <a:ea typeface="Symbol"/>
              </a:rPr>
              <a:t>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n coffee c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1"/>
          <p:cNvSpPr/>
          <p:nvPr/>
        </p:nvSpPr>
        <p:spPr>
          <a:xfrm>
            <a:off x="4952880" y="5029200"/>
            <a:ext cx="3886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Maximum </a:t>
            </a:r>
            <a:br>
              <a:rPr sz="3000"/>
            </a:br>
            <a:r>
              <a:rPr b="1" lang="en-US" sz="3000" spc="-1" strike="noStrike">
                <a:solidFill>
                  <a:srgbClr val="7030a0"/>
                </a:solidFill>
                <a:latin typeface="Calibri"/>
                <a:ea typeface="Arial"/>
              </a:rPr>
              <a:t>coarse-grained entropy G(C(I)) increases like ~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1"/>
          <p:cNvSpPr/>
          <p:nvPr/>
        </p:nvSpPr>
        <p:spPr>
          <a:xfrm>
            <a:off x="609480" y="9907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 can give a surprisingly clean proof that K(C(I)) never becomes large in the non-interacting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nalytic Understan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609480" y="2209680"/>
            <a:ext cx="792504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et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x,y) be the number of cream particles at point (x,y) at step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[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x,y)]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1 for all x,y,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rue when t=0; apply induction on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1"/>
          <p:cNvSpPr/>
          <p:nvPr/>
        </p:nvSpPr>
        <p:spPr>
          <a:xfrm>
            <a:off x="609480" y="4876920"/>
            <a:ext cx="79250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ow le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a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t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(B) = </a:t>
            </a:r>
            <a:r>
              <a:rPr b="1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(x,y)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B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 a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t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(x,y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 the number of cream particles in an L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 square B after 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learly E[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B)]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r all t,B by line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1"/>
          <p:cNvSpPr/>
          <p:nvPr/>
        </p:nvSpPr>
        <p:spPr>
          <a:xfrm>
            <a:off x="457200" y="2286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y a Chernoff bound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762120" y="838080"/>
                <a:ext cx="7615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3" name="Rectangle 41"/>
          <p:cNvSpPr/>
          <p:nvPr/>
        </p:nvSpPr>
        <p:spPr>
          <a:xfrm>
            <a:off x="457200" y="25146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o by a union bound, provi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410080" y="2438280"/>
                <a:ext cx="25988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990720" y="3352680"/>
                <a:ext cx="7110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6" name="Rectangle 41"/>
          <p:cNvSpPr/>
          <p:nvPr/>
        </p:nvSpPr>
        <p:spPr>
          <a:xfrm>
            <a:off x="457200" y="4343400"/>
            <a:ext cx="838188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 above happens, then by symmetry, each row of C(I) will be a uniform color, depending only on the height of the row and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ence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K(C(I)) </a:t>
            </a:r>
            <a:r>
              <a:rPr b="1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 log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n + log</a:t>
            </a:r>
            <a:r>
              <a:rPr b="1" lang="en-US" sz="36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Arial"/>
              </a:rPr>
              <a:t>t + O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1"/>
          <p:cNvSpPr/>
          <p:nvPr/>
        </p:nvSpPr>
        <p:spPr>
          <a:xfrm>
            <a:off x="380880" y="1066680"/>
            <a:ext cx="82296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ve that, in the interacting case, K(C(I)) does indeed bec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n) (or eve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(log n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quires understanding detailed behavior of a Markov cha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mixing—not so obvious what tools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ybe the 1D case is a good starting po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1"/>
          <p:cNvSpPr/>
          <p:nvPr/>
        </p:nvSpPr>
        <p:spPr>
          <a:xfrm>
            <a:off x="380880" y="38098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larify relations among coarse-grained entropy, causal complexity, logical depth, and sophis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380880" y="51055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ind better methods to approximate entropy and to deal with border pixel arti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1"/>
          <p:cNvSpPr/>
          <p:nvPr/>
        </p:nvSpPr>
        <p:spPr>
          <a:xfrm>
            <a:off x="380880" y="30492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Long-range ambi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Laws” that, given any mixing process, let u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edic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whether or not coarse-grained entropy or other types of complex organization will form on the way to equilib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380880" y="2895480"/>
            <a:ext cx="83059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a “gas” of non-interacting particles, no nontrivial complextropy ever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umerically-supported conjectur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a “liquid” of mutually-repelling particles, some nontrivial complextropy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ffects of gravity / viscosity / other more realistic physic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1"/>
          <p:cNvSpPr/>
          <p:nvPr/>
        </p:nvSpPr>
        <p:spPr>
          <a:xfrm>
            <a:off x="457200" y="22860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o fa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scottaaronson.com/coffee-lrg.jpg"/>
          <p:cNvPicPr/>
          <p:nvPr/>
        </p:nvPicPr>
        <p:blipFill>
          <a:blip r:embed="rId1"/>
          <a:stretch/>
        </p:blipFill>
        <p:spPr>
          <a:xfrm>
            <a:off x="552600" y="244440"/>
            <a:ext cx="798192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cottaaronson.com/complexity-lrg.jpg"/>
          <p:cNvPicPr/>
          <p:nvPr/>
        </p:nvPicPr>
        <p:blipFill>
          <a:blip r:embed="rId1"/>
          <a:stretch/>
        </p:blipFill>
        <p:spPr>
          <a:xfrm>
            <a:off x="304920" y="6660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1"/>
          <p:cNvSpPr/>
          <p:nvPr/>
        </p:nvSpPr>
        <p:spPr>
          <a:xfrm>
            <a:off x="228600" y="2057400"/>
            <a:ext cx="40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alibri"/>
                <a:ea typeface="Arial"/>
              </a:rPr>
              <a:t>Proposed system: the “coffee automat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Our modest goal: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Understand the rise and fall of complexity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quantitative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in some simple model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4956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50292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562720" y="22096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0958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66294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162920" y="22096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69608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229600" y="22096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4956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562720" y="27432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0958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66294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7162920" y="274320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769608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8229600" y="274320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44956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0292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562720" y="32767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60958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66294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162920" y="3276720"/>
            <a:ext cx="53316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69608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8229600" y="3276720"/>
            <a:ext cx="533520" cy="533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44956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0292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5562720" y="38098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0"/>
          <p:cNvSpPr/>
          <p:nvPr/>
        </p:nvSpPr>
        <p:spPr>
          <a:xfrm>
            <a:off x="60958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66294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/>
          <p:cNvSpPr/>
          <p:nvPr/>
        </p:nvSpPr>
        <p:spPr>
          <a:xfrm>
            <a:off x="7162920" y="3809880"/>
            <a:ext cx="53316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/>
          <p:cNvSpPr/>
          <p:nvPr/>
        </p:nvSpPr>
        <p:spPr>
          <a:xfrm>
            <a:off x="769608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8229600" y="3809880"/>
            <a:ext cx="533520" cy="5335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4956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6"/>
          <p:cNvSpPr/>
          <p:nvPr/>
        </p:nvSpPr>
        <p:spPr>
          <a:xfrm>
            <a:off x="50292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5562720" y="43434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8"/>
          <p:cNvSpPr/>
          <p:nvPr/>
        </p:nvSpPr>
        <p:spPr>
          <a:xfrm>
            <a:off x="60958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9"/>
          <p:cNvSpPr/>
          <p:nvPr/>
        </p:nvSpPr>
        <p:spPr>
          <a:xfrm>
            <a:off x="66294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7162920" y="43434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769608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8229600" y="43434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44956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4"/>
          <p:cNvSpPr/>
          <p:nvPr/>
        </p:nvSpPr>
        <p:spPr>
          <a:xfrm>
            <a:off x="50292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5562720" y="48769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60958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66294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7162920" y="4876920"/>
            <a:ext cx="53316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769608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8229600" y="4876920"/>
            <a:ext cx="533520" cy="533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44956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0292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5562720" y="54100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60958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66294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7162920" y="541008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769608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8"/>
          <p:cNvSpPr/>
          <p:nvPr/>
        </p:nvSpPr>
        <p:spPr>
          <a:xfrm>
            <a:off x="8229600" y="541008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9"/>
          <p:cNvSpPr/>
          <p:nvPr/>
        </p:nvSpPr>
        <p:spPr>
          <a:xfrm>
            <a:off x="44956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0"/>
          <p:cNvSpPr/>
          <p:nvPr/>
        </p:nvSpPr>
        <p:spPr>
          <a:xfrm>
            <a:off x="50292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5562720" y="59436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60958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66294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7162920" y="5943600"/>
            <a:ext cx="53316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769608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8229600" y="5943600"/>
            <a:ext cx="53352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228600" y="3124080"/>
            <a:ext cx="41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grid (n even), initially in the configuration to the right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Half coffee and half cre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228600" y="4572000"/>
            <a:ext cx="4114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 each time step, choose 2 horizontally or vertically adjacent squares uniformly at random and swap them if they’re colored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69"/>
          <p:cNvSpPr/>
          <p:nvPr/>
        </p:nvSpPr>
        <p:spPr>
          <a:xfrm>
            <a:off x="3397320" y="3741840"/>
            <a:ext cx="5873760" cy="477720"/>
          </a:xfrm>
          <a:custGeom>
            <a:avLst/>
            <a:gdLst>
              <a:gd name="textAreaLeft" fmla="*/ 0 w 5873760"/>
              <a:gd name="textAreaRight" fmla="*/ 5874120 w 5873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5872842" h="476794">
                <a:moveTo>
                  <a:pt x="1070065" y="463731"/>
                </a:moveTo>
                <a:cubicBezTo>
                  <a:pt x="493122" y="309153"/>
                  <a:pt x="0" y="137885"/>
                  <a:pt x="665117" y="71845"/>
                </a:cubicBezTo>
                <a:cubicBezTo>
                  <a:pt x="1330234" y="5805"/>
                  <a:pt x="4272642" y="0"/>
                  <a:pt x="5060768" y="67491"/>
                </a:cubicBezTo>
                <a:cubicBezTo>
                  <a:pt x="5848894" y="134982"/>
                  <a:pt x="5872842" y="255813"/>
                  <a:pt x="5393871" y="476794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bb"/>
                                      </p:to>
                                    </p:animClr>
                                    <p:set>
                                      <p:cBhvr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ontrol Experiment”: The Non-Interacting Coffee Autom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80880" y="1828800"/>
            <a:ext cx="83822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starting configuration is the same, but now we let an arbitrary number of cream particles occupy the same square (and treat the coffee as just an inert backgrou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ynamic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ch cream particle follows an independent random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tuitively, because of the lack of interaction, complexity shoul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ne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come large in this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1"/>
          <p:cNvSpPr/>
          <p:nvPr/>
        </p:nvSpPr>
        <p:spPr>
          <a:xfrm>
            <a:off x="457200" y="1828800"/>
            <a:ext cx="822960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undamental requireme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Need to assign a value near 0 to both “completely ordered” state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“completely random” states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ssign large values to other states (the “complex” stat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, should be possible to compute or approximate the measure efficiently in cases of inte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28600" y="22860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How to Quantify “Complexity”?  </a:t>
            </a:r>
            <a:br>
              <a:rPr sz="4400"/>
            </a:b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Lots of Approaches in the Santa Fe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armup: How to Quantify 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57200" y="2286000"/>
            <a:ext cx="80773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 = Kolmogorov complexity of x = length of the shortest program that outputs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ld, well-understood connection between K and 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1981080" y="4114800"/>
                <a:ext cx="5002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Rectangle 41"/>
          <p:cNvSpPr/>
          <p:nvPr/>
        </p:nvSpPr>
        <p:spPr>
          <a:xfrm>
            <a:off x="457200" y="518148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 is uncomputable—worse than SZK-complete!!  But in some (not all) situations, one can approximate K(x) by G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K(x), where G(x) is the gzip file size of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228600" y="914400"/>
                <a:ext cx="4800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TextBox 7"/>
          <p:cNvSpPr/>
          <p:nvPr/>
        </p:nvSpPr>
        <p:spPr>
          <a:xfrm>
            <a:off x="5257800" y="1143000"/>
            <a:ext cx="3657600" cy="885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blem: Approximating H is SZK-complet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5-27T15:25:10Z</dcterms:modified>
  <cp:revision>2434</cp:revision>
  <dc:subject/>
  <dc:title>The Learnability of Quantum States</dc:title>
</cp:coreProperties>
</file>