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D313-CD3D-4920-AB90-090CE8540B7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5A4-946D-4043-AF9D-E1D98A249AD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8D58-A8B4-4BE1-A282-127D9266BFC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DF78-2152-4EA1-91B2-57A67DBD2A0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9933-1550-49DC-86CA-C4862687B00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D75D-084D-4EB7-B020-C5D052CB54C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E41-F1E3-49AD-92E7-E83F0A27CCC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EC60-0008-43D5-B581-1128434BB89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8F22-F621-466F-A8DF-97EAC454926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A9B3-9D50-401E-B89D-165A5C3BDFB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0500-C7F8-4E6C-860B-4E074EE307A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44C6-59CC-471B-A019-67D94FC678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22B3-AF5F-4C31-BAA9-17114E26B0E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615-98E0-4A32-9965-4DCB8AA83D9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8E08-F705-4D6F-80CF-08B911EE43B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0F01-7FB0-4F25-92C2-47CDF1DBD10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4151-B931-43A8-8F14-C26FEB48175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0892-3288-4083-A3F7-C023F69CF30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4D08-E68F-4C2E-A633-C26ADA01C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164-7469-42C6-8F44-DDD9C5A0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87C-BBBC-4F7E-A24A-5FBCEB97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620-CA94-4CC0-A35A-D3009C71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464-A7B6-4CBA-85DD-7FF8369C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1EB-AEDD-4DE2-A24D-69F993A8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207-15C9-426E-A6E6-BA1089A3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3EB-9B89-4459-9A8E-B13C67D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D86-D1D1-48CC-9029-1D63CA91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C97-65FD-49EC-9C59-9A542C09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C37-C35A-456D-B373-8F76F2EC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B6C-B9AA-410F-9B2E-A74F851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101-93D4-43E3-89A1-02D4DF66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6C0-506A-490D-893E-D8BBD7DA39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333399"/>
                </a:solidFill>
                <a:latin typeface="Calibri"/>
                <a:ea typeface="Calibri"/>
              </a:rPr>
              <a:t>Hawking Quantum Wares at the Classical Complexity Bazaa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Relating Sampling to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24000" y="1484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Calibri"/>
                <a:ea typeface="Calibri"/>
              </a:rPr>
              <a:t>Theorem (A. 2011)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uppose classical computers can efficiently solve every search problem that quantum computers can solve.  Then they can also efficiently sample every probability distribution that quantum computers can sa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24000" y="414972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roof based on Kolmogorov complexity; almost nothing specific to quantum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an we similarly relate open questions about decision problems, promise problems, etc. to one anoth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50920" y="260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Boolean functions 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...,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: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{-1,1}, consider the following quantity R, which I call the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forrelatio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2421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Observation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oracle access to the 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, there’s a polynomial-time quantum algorithm that approximates R to within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(k+1)n/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for all k=poly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250920" y="1341360"/>
          <a:ext cx="8663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63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324000" y="393372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Theorem (A. 2009)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R can’t be so approximated i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r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MA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even when k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5013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Conjecture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R can’t even be approximated i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H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  If so, this would give an oracle separation betwee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H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solving one of the main open problems of quantum complexity theory since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A Recent Spe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24000" y="1341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n certain precise senses, the k-fold forrelation problem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capture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rything quantum computers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2637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Conjecture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k-fold forrelation yields the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largest possible separatio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between quantum and randomized query complexities—O(k) versu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(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-1/2k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Calibri"/>
              </a:rPr>
              <a:t>Partial proof (unpublished) by Amba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24000" y="479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Conjecture (a few days ago)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k=poly(n), and 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...,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are described by Boolean circuits, then k-fold forrelation is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Instantiating” Or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371592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Old question (but still a good one).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Consider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Simon’s problem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where you’re given black-box access to a Boolean function f: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promised there exists an s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f(x)=f(y)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y=x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s.  Is there any interesting way to instantiate the black box by an efficiently computable func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24000" y="1197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Does the quantum algorithm for Forrelation have any actual applications?  E.g., when k=2, are there pairs of efficiently-computable Boolean functions f,g, for which it’s interesting to know how well f is correlated with g’s Fourier transfor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50920" y="18900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ke mentioned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quantum mone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  This year, Paul Christiano and I proposed a new scheme for quantum money that anyone can verify, but that can’t be efficiently counterfeited under a plausible cryptographic assumption.  Given a random subspace 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with dim(A)=n/2, our quantum dollar bills look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395280" y="2997360"/>
          <a:ext cx="37371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997360"/>
                    <a:ext cx="3737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2"/>
          <p:cNvGraphicFramePr/>
          <p:nvPr/>
        </p:nvGraphicFramePr>
        <p:xfrm>
          <a:off x="4284720" y="2997360"/>
          <a:ext cx="4619520" cy="55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997360"/>
                    <a:ext cx="46195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324000" y="4508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 the p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and q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are uniformly-random degree-4 polynomials that vanish on A and its dual subspace A* respectively.  Using these polynomials, one can efficiently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verif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|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but we conjecture that they don’t let one efficiently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lear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A or even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cop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|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5181480" y="3789360"/>
          <a:ext cx="267840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789360"/>
                    <a:ext cx="26784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"/>
          <p:cNvSpPr/>
          <p:nvPr/>
        </p:nvSpPr>
        <p:spPr>
          <a:xfrm>
            <a:off x="900000" y="907920"/>
            <a:ext cx="7201080" cy="15130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Calibri"/>
                <a:ea typeface="Calibri"/>
              </a:rPr>
              <a:t>Challenges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this actually secure?  How else can one provide “obfuscated programs” for testing subspace membershi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-Complete 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24000" y="1341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oday, we know many nontrivial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omplete (promise) proble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Approximating the Jones polynomial</a:t>
            </a:r>
            <a:br>
              <a:rPr sz="3000"/>
            </a:br>
            <a:r>
              <a:rPr b="0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Adiabatic evolution</a:t>
            </a:r>
            <a:br>
              <a:rPr sz="3000"/>
            </a:br>
            <a:r>
              <a:rPr b="0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Approximate linear algebra on exp(n)-size mat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4076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ronically, progress on classical randomized computation lags behind here!  Are there problems that are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omplete for interesting reas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My candidate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imulating simulated anne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Calibri"/>
                <a:ea typeface="Calibri"/>
              </a:rPr>
              <a:t>The A.-Ambainis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836640"/>
            <a:ext cx="878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300" spc="-1" strike="noStrike">
                <a:solidFill>
                  <a:srgbClr val="008000"/>
                </a:solidFill>
                <a:latin typeface="Calibri"/>
                <a:ea typeface="Calibri"/>
              </a:rPr>
              <a:t>“</a:t>
            </a:r>
            <a:r>
              <a:rPr b="0" i="1" lang="en-CA" sz="2300" spc="-1" strike="noStrike">
                <a:solidFill>
                  <a:srgbClr val="008000"/>
                </a:solidFill>
                <a:latin typeface="Calibri"/>
                <a:ea typeface="Calibri"/>
              </a:rPr>
              <a:t>Every bounded low-degree polynomial has a highly influential variabl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24000" y="1341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Formally: Let p:R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R be a real polynomial of degree d.  Suppose 0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p(x)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1 for all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24000" y="4005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Theorem (AA 2011)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this conjecture holds.  Then given any T-query quantum algorithm A, one can approximate A’s acceptance probability on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mos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Boolean inputs by a poly(T)-query randomized algorithm.  Also, one can’t prove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relative to a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random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racle A, without also proving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he unrelativized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"/>
          <p:cNvGraphicFramePr/>
          <p:nvPr/>
        </p:nvGraphicFramePr>
        <p:xfrm>
          <a:off x="2371680" y="2349360"/>
          <a:ext cx="422604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2349360"/>
                    <a:ext cx="4226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3"/>
          <p:cNvSpPr/>
          <p:nvPr/>
        </p:nvSpPr>
        <p:spPr>
          <a:xfrm>
            <a:off x="324000" y="2781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there’s an i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[n] such that, if 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x with i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 flipp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1785960" y="3325680"/>
          <a:ext cx="539892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3325680"/>
                    <a:ext cx="539892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250920" y="189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Problem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n 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Hermitian matrix A, with all eigenvalues in [0,1].  Approximate, to additive error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0920" y="1916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Theorem (Blier-Tapp 2009)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1/poly(n), this problem is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1979640" y="1197000"/>
          <a:ext cx="5176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97000"/>
                    <a:ext cx="5176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3"/>
          <p:cNvSpPr/>
          <p:nvPr/>
        </p:nvSpPr>
        <p:spPr>
          <a:xfrm>
            <a:off x="250920" y="2924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Theorem (ABDFS 2009 + Harrow-Montanaro 2010)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constant, this problem can’t be i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unless 3SAT is solvable in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</a:t>
            </a:r>
            <a:r>
              <a:rPr b="0" lang="en-CA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.  </a:t>
            </a:r>
            <a:r>
              <a:rPr b="0" lang="en-CA" sz="2400" spc="-1" strike="noStrike">
                <a:solidFill>
                  <a:srgbClr val="008000"/>
                </a:solidFill>
                <a:latin typeface="Calibri"/>
                <a:ea typeface="Calibri"/>
              </a:rPr>
              <a:t>[Proof uses quantum + PCP Theorem!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436572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Quantum Motivation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f the problem is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then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(almost certainly)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QMA(2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NEX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  If it’s solvable in 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polylog(n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the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QMA(2)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EX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50920" y="580536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Barak et al. 2012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s to better-known problems, like Unique Games, Planted Cliqu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24000" y="1700280"/>
            <a:ext cx="83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 agree with Umesh.  Quantum computing is fertilizing classical complexity theory with so many new questions (and sometimes even answers), that it will probably get harder and harder to be a classical complexity theorist, if you avert your eyes whenever you see a bra or 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ertical Scroll 10"/>
          <p:cNvSpPr/>
          <p:nvPr/>
        </p:nvSpPr>
        <p:spPr>
          <a:xfrm>
            <a:off x="395280" y="1844640"/>
            <a:ext cx="8439120" cy="371808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My Personal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130400" y="2394000"/>
            <a:ext cx="712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Even if quantum mechanics hadn’t existed, theoretical computer scientists would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eventually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have had to invent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urthermore, understanding that point is not the worst way to learn about quantum mechanics itself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69192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As Umesh discussed yesterday, today there are deep links—in both directions—between quantum computing and </a:t>
            </a:r>
            <a:r>
              <a:rPr b="1" lang="en-CA" sz="3200" spc="-1" strike="noStrike">
                <a:solidFill>
                  <a:srgbClr val="ff0000"/>
                </a:solidFill>
                <a:latin typeface="Calibri"/>
                <a:ea typeface="Calibri"/>
              </a:rPr>
              <a:t>classical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theoretical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306864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To illustrate, I’ll start by telling you about one of my favorite pastimes: using quantum computing ideas to give simpler proofs of classical complexity theor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Then I’ll tell you about lots of classical complexity </a:t>
            </a:r>
            <a:r>
              <a:rPr b="1" lang="en-CA" sz="3200" spc="-1" strike="noStrike">
                <a:solidFill>
                  <a:srgbClr val="ff0000"/>
                </a:solidFill>
                <a:latin typeface="Calibri"/>
                <a:ea typeface="Calibri"/>
              </a:rPr>
              <a:t>question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that arose from quantum compu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n QC, each amplitude can be written as the sum of contributions from exponentially many path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292428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urthermore, computing (or even approximating) a single amplitude is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omplet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: class of combinatorial counting problem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3203640" y="1484280"/>
          <a:ext cx="26938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484280"/>
                    <a:ext cx="26938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3"/>
          <p:cNvSpPr/>
          <p:nvPr/>
        </p:nvSpPr>
        <p:spPr>
          <a:xfrm>
            <a:off x="324000" y="465300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simple observation turns out to provide surprising leverage in using quantum computing to prove statements about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and vice versa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Early example: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(“decision version of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”) is the class of languages decidable by a polynomial-time randomized algorithm that only needs to accept with probability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½ if the answer is “yes,” or &lt; ½ if the answer is “n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Beigel-Reingold-Spielman 1991):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closed under inters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04)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ost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(i.e., quantum polynomial time with postselected measurement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immediately gave a simpler proof of Beigel-Reingold-Spielma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3"/>
          <p:cNvGraphicFramePr/>
          <p:nvPr/>
        </p:nvGraphicFramePr>
        <p:xfrm>
          <a:off x="4140360" y="260280"/>
          <a:ext cx="455436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60280"/>
                    <a:ext cx="45543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3"/>
          <p:cNvSpPr/>
          <p:nvPr/>
        </p:nvSpPr>
        <p:spPr>
          <a:xfrm>
            <a:off x="395280" y="177336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won last year’s Turing Award partly for his seminal proof in 1979 that this function is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—a proof that required strange, custom-made “gadge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 I gave a new, simpler (I think!) proof of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4000" y="549360"/>
            <a:ext cx="36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Calibri"/>
                <a:ea typeface="Calibri"/>
              </a:rPr>
              <a:t>Matrix Perma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One can also go the opposite direction, and use the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ness of the permanent to say things about linear-optical quantum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A.-Arkhipov 2011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every probability distribution that’s efficiently samplable by a linear-optical QC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(even without adaptive measurements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also efficiently samplable by a classical computer.  The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hence the polynomial hierarchy collap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076720" y="3645000"/>
            <a:ext cx="3240360" cy="2922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39640" y="400536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Calibri"/>
              </a:rPr>
              <a:t>(Compared to Shor’s algorithm, “stronger” evidence that a “weaker” system can do something classical computers can’t, albeit no clear practical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50920" y="2276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The Gaussian Permanent Estimation (GPE) Problem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 matrix A with i.i.d. N(0,1) complex Gaussian entries, approximate Per(A) to within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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n! with probability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A, in poly(n,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50920" y="4292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Conjecture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GPE is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omplete. 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(As the variants that involve only approximation </a:t>
            </a:r>
            <a:r>
              <a:rPr b="0" i="1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or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 average-case, but not both, are already known to b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0920" y="333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the “right” question is, would an efficient classical algorithm that sampled a distribution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clos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(in variation distance)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o the linear-optical quantum computer’s, already imply a collapse of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H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5300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A)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Assuming this conjecture, even fast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ssical simulation of a linear-optical quantum computer would imply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6"/>
          <p:cNvSpPr/>
          <p:nvPr/>
        </p:nvSpPr>
        <p:spPr>
          <a:xfrm>
            <a:off x="228600" y="188604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constants C,D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 such that for all n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990720" y="2413080"/>
                <a:ext cx="723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4572000" y="35812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572000" y="42670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250920" y="141300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ermanent Anti-Concentration Conjectur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179280" y="33336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crucial stepping-stone toward proving our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ness conjecture would be to prove the following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4:21:33Z</dcterms:created>
  <dc:creator>Scott Aaronson</dc:creator>
  <dc:description/>
  <dc:language>en-US</dc:language>
  <cp:lastModifiedBy>owner</cp:lastModifiedBy>
  <dcterms:modified xsi:type="dcterms:W3CDTF">2012-09-29T15:09:16Z</dcterms:modified>
  <cp:revision>31</cp:revision>
  <dc:subject/>
  <dc:title>How to Solve Longstanding Open Problems In Quantum Computing Using Only Fourier Analysis</dc:title>
</cp:coreProperties>
</file>