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B9E-E5E9-4B87-97D0-0949EBA802E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246-4DBC-4456-A8C4-7656B9EFDFA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F80-1298-405B-BAD0-D18A3AF2BC7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F72-0D14-4BCD-9729-209C6E4A5D6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8DC4-1822-4F85-B788-F15A75E793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0E9-0ECC-408E-BC36-D94A1C23D8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C16-3D52-411A-9750-82C09476923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47B0-DCA5-4775-8080-CED85C20EE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AF6-88EE-42F8-8580-7E68008C19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A62-7771-46E1-83AB-A5F70D1E45E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413-ABEE-4171-A4E6-FADF813426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FCF-11E7-4C55-9ED6-D012EBDE3DD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930-18FC-4F27-957F-83613CB794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7E7-597C-46D0-84E3-09854FF2749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4AA-C96D-4B46-BFF6-B54B2C1DDCD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139-DC17-420D-9911-554035F407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E1E2-C34B-40D3-978E-301A219AC5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25A-87D8-4373-A051-7740C648B5A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1BE-0DB6-48CB-B7C0-D98E6588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E12-A4E9-469D-8962-54314AF9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DBE-6E63-4F49-984B-FFF5709C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C26-E1EB-462A-B11F-98260800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5CE-9D95-4A9C-8809-C19805EB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613-138B-45F2-84EE-B7AC2969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06-ACBC-4EC3-8BD6-C58AD76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831-CD0A-4B49-A70A-DBCB13AD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E6D-E7F5-4E67-9BAA-D65A9444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74F-773B-4C6C-AFC4-6333BD4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B23-097E-4928-A0C9-F6AECC37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047-942D-4EE2-B0D8-B57EA29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3BA-EEAA-47B2-A111-12F38C3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BBAE-8449-4483-B25D-FE98C0B2C6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333399"/>
                </a:solidFill>
                <a:latin typeface="Calibri"/>
                <a:ea typeface="Calibri"/>
              </a:rPr>
              <a:t>Hawking Quantum Wares at the Classical Complexity Baza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Relating Sampling to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24000" y="1484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Theorem (A. 2011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ppose classical computers can efficiently solve every search problem that quantum computers can solve.  Then they can also efficiently sample every probability distribution that quantum computers can s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24000" y="4149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roof based on Kolmogorov complexity; almost nothing specific to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an we similarly relate open questions about decision problems, promise problems, etc. to one anoth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50920" y="260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Boolean functions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...,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: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-1,1}, consider the following quantity R, which I call the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forrelatio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2421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Observation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oracle access to the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, there’s a polynomial-time quantum algorithm that approximates R to with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k+1)n/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for all k=poly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250920" y="1341360"/>
          <a:ext cx="8663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63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324000" y="3933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. 2009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can’t be so approximated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MA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even when k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5013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onjecture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can’t even be approximated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f so, this would give an oracle separation betwe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solving one of the main open problems of quantum complexity theory since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A Recent Spe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n certain precise senses, the k-fold forrelation problem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apture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rything quantum computers ca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2637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k-fold forrelation yields the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st possible separatio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etween quantum and randomized query complexities—O(k) versu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(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1-1/2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Partial proof (unpublished) by Amba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479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Conjecture (a few days ago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k=poly(n), and 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...,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re described by Boolean circuits, then k-fold forrelation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Instantiating” Or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37159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Old question (but still a good one).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Consider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imon’s problem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where you’re given black-box access to a Boolean function f: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, promised there exists an s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r>
              <a:rPr b="0" lang="en-CA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f(x)=f(y)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y=x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s.  Is there any interesting way to instantiate the black box by an efficiently computable func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1197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the quantum algorithm for Forrelation have any actual applications?  E.g., when k=2, are there pairs of efficiently-computable Boolean functions f,g, for which it’s interesting to know how well f is correlated with g’s Fourier transfor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50920" y="18900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ke mentioned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quantum mone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is year, Paul Christiano and I proposed a new scheme for quantum money that anyone can verify, but that can’t be efficiently counterfeited under a plausible cryptographic assumption.  Given a random subspace 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with dim(A)=n/2, our quantum dollar bills look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395280" y="2997360"/>
          <a:ext cx="37371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997360"/>
                    <a:ext cx="37371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2"/>
          <p:cNvGraphicFramePr/>
          <p:nvPr/>
        </p:nvGraphicFramePr>
        <p:xfrm>
          <a:off x="4284720" y="2997360"/>
          <a:ext cx="4619520" cy="55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97360"/>
                    <a:ext cx="461952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324000" y="4508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 the p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and q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are uniformly-random degree-4 polynomials that vanish on A and its dual subspace A* respectively.  Using these polynomials, one can efficiently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verif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|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we conjecture that they don’t let one efficiently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lear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 or eve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opy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|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5181480" y="3789360"/>
          <a:ext cx="267840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789360"/>
                    <a:ext cx="2678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900000" y="907920"/>
            <a:ext cx="7201080" cy="15130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Calibri"/>
                <a:ea typeface="Calibri"/>
              </a:rPr>
              <a:t>Challenges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this actually secure?  How else can one provide “obfuscated programs” for testing subspace membershi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-Complete 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oday, we know many nontrivial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 (promise) proble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pproximating the Jones polynomial</a:t>
            </a:r>
            <a:br>
              <a:rPr sz="3000"/>
            </a:b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diabatic evolution</a:t>
            </a:r>
            <a:br>
              <a:rPr sz="3000"/>
            </a:br>
            <a:r>
              <a:rPr b="0" lang="en-CA" sz="3000" spc="-1" strike="noStrike">
                <a:solidFill>
                  <a:srgbClr val="008000"/>
                </a:solidFill>
                <a:latin typeface="Calibri"/>
                <a:ea typeface="Calibri"/>
              </a:rPr>
              <a:t>Approximate linear algebra on exp(n)-size mat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4076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ronically, progress on classical randomized computation lags behind here!  Are there problems that are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 for interesting reaso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My candidat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Simulating simulated anne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alibri"/>
                <a:ea typeface="Calibri"/>
              </a:rPr>
              <a:t>The A.-Ambainis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836640"/>
            <a:ext cx="878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300" spc="-1" strike="noStrike">
                <a:solidFill>
                  <a:srgbClr val="008000"/>
                </a:solidFill>
                <a:latin typeface="Calibri"/>
                <a:ea typeface="Calibri"/>
              </a:rPr>
              <a:t>“</a:t>
            </a:r>
            <a:r>
              <a:rPr b="0" i="1" lang="en-CA" sz="2300" spc="-1" strike="noStrike">
                <a:solidFill>
                  <a:srgbClr val="008000"/>
                </a:solidFill>
                <a:latin typeface="Calibri"/>
                <a:ea typeface="Calibri"/>
              </a:rPr>
              <a:t>Every bounded low-degree polynomial has a highly influential variabl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4000" y="134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Formally: Let p: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R be a real polynomial of degree d.  Suppose 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p(x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 for all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4000" y="4005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A 2011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this conjecture holds.  Then given any T-query quantum algorithm A, one can approximate A’s acceptance probability o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mos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oolean inputs by a poly(T)-query randomized algorithm.  Also, one can’t prov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relative to a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random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racle A, without also proving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unrelativized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"/>
          <p:cNvGraphicFramePr/>
          <p:nvPr/>
        </p:nvGraphicFramePr>
        <p:xfrm>
          <a:off x="2371680" y="2349360"/>
          <a:ext cx="42260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2349360"/>
                    <a:ext cx="4226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3"/>
          <p:cNvSpPr/>
          <p:nvPr/>
        </p:nvSpPr>
        <p:spPr>
          <a:xfrm>
            <a:off x="324000" y="2781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re’s an i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[n] such that, if 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x with i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 flipp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1785960" y="3325680"/>
          <a:ext cx="539892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3325680"/>
                    <a:ext cx="539892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250920" y="18900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mitian matrix A, with all eigenvalues in [0,1].  Approximate, to additive err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0920" y="1916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Blier-Tapp 2009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1/poly(n), this problem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1979640" y="1197000"/>
          <a:ext cx="5176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97000"/>
                    <a:ext cx="5176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250920" y="292428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Theorem (ABDFS 2009 + Harrow-Montanaro 2010)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constant, this problem can’t be i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unless 3SAT is solvable in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.  </a:t>
            </a:r>
            <a:r>
              <a:rPr b="0" lang="en-CA" sz="2400" spc="-1" strike="noStrike">
                <a:solidFill>
                  <a:srgbClr val="008000"/>
                </a:solidFill>
                <a:latin typeface="Calibri"/>
                <a:ea typeface="Calibri"/>
              </a:rPr>
              <a:t>[Proof uses quantum + PCP Theorem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436572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Quantum Motivation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If the problem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then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almost certainly)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QMA(2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NEX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f it’s solvable in 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olylog(n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th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QMA(2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EX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50920" y="580536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Barak et al. 2012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s to better-known problems, like Unique Games, Planted Cliqu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170028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 agree with Umesh.  Quantum computing is fertilizing classical complexity theory with so many new questions (and sometimes even answers), that it will probably get harder and harder to be a classical complexity theorist, if you avert your eyes whenever you see a bra or 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ertical Scroll 10"/>
          <p:cNvSpPr/>
          <p:nvPr/>
        </p:nvSpPr>
        <p:spPr>
          <a:xfrm>
            <a:off x="395280" y="1844640"/>
            <a:ext cx="8439120" cy="371808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alibri"/>
                <a:ea typeface="Calibri"/>
              </a:rPr>
              <a:t>My Persona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130400" y="2394000"/>
            <a:ext cx="712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Even if quantum mechanics hadn’t existed, theoretical computer scientists would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eventual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have had to invent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understanding that point is not the worst way to learn about quantum mechanics itself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69192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As Umesh discussed yesterday, today there are deep links—in both directions—between quantum computing and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classical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theoretical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306864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o illustrate, I’ll start by telling you about one of my favorite pastimes: using quantum computing ideas to give simpler proofs of classical complexity theor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Then I’ll tell you about lots of classical complexity </a:t>
            </a: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questions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  <a:ea typeface="Calibri"/>
              </a:rPr>
              <a:t> that arose from quantum compu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In QC, each amplitude can be written as the sum of contributions from exponentially many path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292428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computing (or even approximating) a single amplitude i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: class of combinatorial counting proble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3203640" y="1484280"/>
          <a:ext cx="26938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84280"/>
                    <a:ext cx="26938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324000" y="4653000"/>
            <a:ext cx="84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simple observation turns out to provide surprising leverage in using quantum computing to prove statements about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and vice versa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Early example: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“decision version of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”) is the class of languages decidable by a polynomial-time randomized algorithm that only needs to accept with probability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½ if the answer is “yes,” or &lt; ½ if the answer is “n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Beigel-Reingold-Spielman 1991):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closed under inters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04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PostBQ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(i.e., quantum polynomial time with postselected measurement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immediately gave a simpler proof of Beigel-Reingold-Spielma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4140360" y="260280"/>
          <a:ext cx="455436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0280"/>
                    <a:ext cx="45543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3"/>
          <p:cNvSpPr/>
          <p:nvPr/>
        </p:nvSpPr>
        <p:spPr>
          <a:xfrm>
            <a:off x="395280" y="177336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won last year’s Turing Award partly for his seminal proof in 1979 that this function is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a proof that required strange, custom-made “gadge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 I gave a new, simpler (I think!) proof of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4000" y="549360"/>
            <a:ext cx="36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alibri"/>
                <a:ea typeface="Calibri"/>
              </a:rPr>
              <a:t>Matrix 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can also go the opposite direction, and use the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 of the permanent to say things about linear-optical 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A.-Arkhipov 2011: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every probability distribution that’s efficiently samplable by a linear-optical QC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even without adaptive measurements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lso efficiently samplable by a classical computer.  Then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hence the polynomial hierarchy collap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240360" cy="2922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9640" y="4005360"/>
            <a:ext cx="45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Calibri"/>
              </a:rPr>
              <a:t>(Compared to Shor’s algorithm, “stronger” evidence that a “weaker” system can do something classical computers can’t, albeit no clear practical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50920" y="2276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The Gaussian Permanent Estimation (GPE) Problem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matrix A with i.i.d. N(0,1) complex Gaussian entries, approximate Per(A) to within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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n! with probabilit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A, in poly(n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,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920" y="4292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Calibri"/>
              </a:rPr>
              <a:t>Conjectur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GPE is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-complete. 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As the variants that involve only approximation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or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 average-case, but not both, are already known to b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333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the “right” question is, would an efficient classical algorithm that sampled a distribution </a:t>
            </a:r>
            <a:r>
              <a:rPr b="1" lang="en-CA" sz="2800" spc="-1" strike="noStrike">
                <a:solidFill>
                  <a:srgbClr val="ff3300"/>
                </a:solidFill>
                <a:latin typeface="Calibri"/>
                <a:ea typeface="Calibri"/>
              </a:rPr>
              <a:t>clos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Calibri"/>
              </a:rPr>
              <a:t>(in variation distance)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 the linear-optical quantum computer’s, already imply a collapse of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530064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A):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Assuming this conjecture, even fast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ical simulation of a linear-optical quantum computer would imply 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CA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r>
              <a:rPr b="1" lang="en-CA" sz="2800" spc="-1" strike="noStrike" baseline="30000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6"/>
          <p:cNvSpPr/>
          <p:nvPr/>
        </p:nvSpPr>
        <p:spPr>
          <a:xfrm>
            <a:off x="228600" y="188604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990720" y="24130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250920" y="141300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ermanent Anti-Concentration Conjectur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79280" y="33336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rucial stepping-stone toward proving our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ness conjecture would be to prove the following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4:21:33Z</dcterms:created>
  <dc:creator>Scott Aaronson</dc:creator>
  <dc:description/>
  <dc:language>en-US</dc:language>
  <cp:lastModifiedBy>owner</cp:lastModifiedBy>
  <dcterms:modified xsi:type="dcterms:W3CDTF">2012-09-29T15:09:16Z</dcterms:modified>
  <cp:revision>31</cp:revision>
  <dc:subject/>
  <dc:title>How to Solve Longstanding Open Problems In Quantum Computing Using Only Fourier Analysis</dc:title>
</cp:coreProperties>
</file>