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B1D-257D-4887-BB93-95A7F5A0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A8F-D0B7-4B62-8D84-0AD968DE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86C-B5EA-406E-AEA8-02A61292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D9A-2E4C-46DF-BA20-12576969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36F-681A-40BE-8ACF-63DBEC67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C94-95BC-4362-9774-212A3989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2CA-2D9A-401F-BF91-6B56A29A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232-DE02-4C00-9F76-C65F88E5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6AE-8C20-41D4-B655-3CE5F3F8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D60-B2A1-4956-AE95-74F3E0D5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876-E198-4476-B789-E10AD553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1BE-6039-408E-8E5B-48C94CBF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1EF2-D863-4A17-9876-5BD462E20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mproved Simulation of Stabilizer Circuit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52574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Aaronson (UC Berkel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work with Daniel Gottesman (Peri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3473280"/>
            <a:ext cx="53352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2286000"/>
            <a:ext cx="53352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289548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3473280"/>
            <a:ext cx="289548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46520" y="2295360"/>
            <a:ext cx="0" cy="23623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2286000"/>
            <a:ext cx="9907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3475080"/>
            <a:ext cx="99072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2590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3124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809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4343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267080" y="2590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267080" y="3124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267080" y="3809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267080" y="4343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8954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522756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85800"/>
            <a:ext cx="83822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adamard on qubit 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ll 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1,…,2n}, swap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se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962520"/>
            <a:ext cx="304920" cy="251460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2514600"/>
              <a:gd name="textAreaBottom" fmla="*/ 2469960 h 2514600"/>
            </a:gdLst>
            <a:ahLst/>
            <a:rect l="textAreaLeft" t="textAreaTop" r="textAreaRight" b="textAreaBottom"/>
            <a:pathLst>
              <a:path w="21600" h="177945">
                <a:moveTo>
                  <a:pt x="10800" y="0"/>
                </a:moveTo>
                <a:arcTo wR="10800" hR="10800" stAng="16200000" swAng="-5400000"/>
                <a:lnTo>
                  <a:pt x="0" y="167145"/>
                </a:lnTo>
                <a:arcTo wR="10800" hR="10800" stAng="10800000" swAng="-5400000"/>
                <a:lnTo>
                  <a:pt x="10800" y="17794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3962520"/>
            <a:ext cx="304920" cy="251460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2514600"/>
              <a:gd name="textAreaBottom" fmla="*/ 2469960 h 2514600"/>
            </a:gdLst>
            <a:ahLst/>
            <a:rect l="textAreaLeft" t="textAreaTop" r="textAreaRight" b="textAreaBottom"/>
            <a:pathLst>
              <a:path w="21600" h="177945">
                <a:moveTo>
                  <a:pt x="10800" y="0"/>
                </a:moveTo>
                <a:arcTo wR="10800" hR="10800" stAng="16200000" swAng="-5400000"/>
                <a:lnTo>
                  <a:pt x="0" y="167145"/>
                </a:lnTo>
                <a:arcTo wR="10800" hR="10800" stAng="10800000" swAng="-5400000"/>
                <a:lnTo>
                  <a:pt x="10800" y="17794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289548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|1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522756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|1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522756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85800"/>
            <a:ext cx="83822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NOT from qubit a to qubit b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ll 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1,…,2n}, se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4343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876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55627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095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800600" y="4343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800600" y="4876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800600" y="55627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800600" y="60958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5227560"/>
            <a:ext cx="99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X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5227560"/>
            <a:ext cx="99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X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685800"/>
            <a:ext cx="83822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hase on qubit 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all 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1,…,2n}, set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n se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= z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38480" y="4343400"/>
            <a:ext cx="1218600" cy="1752480"/>
            <a:chOff x="4038480" y="4343400"/>
            <a:chExt cx="1218600" cy="1752480"/>
          </a:xfrm>
        </p:grpSpPr>
        <p:sp>
          <p:nvSpPr>
            <p:cNvPr id="198" name=""/>
            <p:cNvSpPr/>
            <p:nvPr/>
          </p:nvSpPr>
          <p:spPr>
            <a:xfrm>
              <a:off x="4038480" y="434340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38480" y="487692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38480" y="556272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38480" y="609588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i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5227560"/>
            <a:ext cx="99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Y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i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77120" y="5227560"/>
            <a:ext cx="99036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Y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685800"/>
            <a:ext cx="838224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easurement of qubit 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0 for all i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n+1,…,2n}, then outcome will be deterministic.  Otherwise 0 with ½ probability and 1 with ½ proba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5105520"/>
            <a:ext cx="304920" cy="1371600"/>
          </a:xfrm>
          <a:custGeom>
            <a:avLst/>
            <a:gdLst>
              <a:gd name="textAreaLeft" fmla="*/ 44640 w 304920"/>
              <a:gd name="textAreaRight" fmla="*/ 260280 w 304920"/>
              <a:gd name="textAreaTop" fmla="*/ 44640 h 1371600"/>
              <a:gd name="textAreaBottom" fmla="*/ 1326960 h 1371600"/>
            </a:gdLst>
            <a:ahLst/>
            <a:rect l="textAreaLeft" t="textAreaTop" r="textAreaRight" b="textAreaBottom"/>
            <a:pathLst>
              <a:path w="21600" h="97073">
                <a:moveTo>
                  <a:pt x="10800" y="0"/>
                </a:moveTo>
                <a:arcTo wR="10800" hR="10800" stAng="16200000" swAng="-5400000"/>
                <a:lnTo>
                  <a:pt x="0" y="86273"/>
                </a:lnTo>
                <a:arcTo wR="10800" hR="10800" stAng="10800000" swAng="-5400000"/>
                <a:lnTo>
                  <a:pt x="10800" y="9707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1  0  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28954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11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4038480"/>
            <a:ext cx="99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Y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5227560"/>
            <a:ext cx="99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-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28600"/>
            <a:ext cx="853452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andom outcome: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 stabilizer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and set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=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n set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=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utput 0 with ½ probability, and set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=-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utput with ½ probability, where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Z on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bit and I elsewhere.  Finally, left-multiply whatever rows don’t commute with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5334120"/>
            <a:ext cx="2819520" cy="3808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4114800"/>
            <a:ext cx="2819520" cy="3808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152280"/>
            <a:ext cx="8381880" cy="70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vel par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to obtain deterministic measurement outcomes in only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teps, without using Gaussian elimi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commute with stabilizer,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unique choice of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.  If we can determin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, then by summing corresponding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we learn sign of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just have to check if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utes with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equivalently 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95480" y="2057400"/>
          <a:ext cx="2514600" cy="12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057400"/>
                    <a:ext cx="25146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7200" y="4572000"/>
          <a:ext cx="8263080" cy="12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572000"/>
                    <a:ext cx="826308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2280" y="1522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interpreter for “quantum assembly language” programs that implements our scoreboard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1828800"/>
            <a:ext cx="7543800" cy="5029200"/>
            <a:chOff x="0" y="1828800"/>
            <a:chExt cx="7543800" cy="5029200"/>
          </a:xfrm>
        </p:grpSpPr>
        <p:sp>
          <p:nvSpPr>
            <p:cNvPr id="244" name=""/>
            <p:cNvSpPr/>
            <p:nvPr/>
          </p:nvSpPr>
          <p:spPr>
            <a:xfrm>
              <a:off x="1219320" y="1828800"/>
              <a:ext cx="5410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Example: Quantum Teleporta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274320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66680" y="335268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66680" y="472428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66680" y="533412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71600" y="3124080"/>
              <a:ext cx="457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1080" y="464832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57400" y="34290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81080" y="3276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3200" y="2514600"/>
              <a:ext cx="457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438280" y="2666880"/>
              <a:ext cx="152640" cy="762120"/>
              <a:chOff x="2438280" y="2666880"/>
              <a:chExt cx="152640" cy="762120"/>
            </a:xfrm>
          </p:grpSpPr>
          <p:sp>
            <p:nvSpPr>
              <p:cNvPr id="255" name=""/>
              <p:cNvSpPr/>
              <p:nvPr/>
            </p:nvSpPr>
            <p:spPr>
              <a:xfrm>
                <a:off x="2438280" y="3276720"/>
                <a:ext cx="1526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514600" y="27432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38280" y="26668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 flipV="1">
              <a:off x="3352680" y="2514600"/>
              <a:ext cx="3049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352680" y="3123720"/>
              <a:ext cx="30492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86200" y="52578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62520" y="274320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862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66680" y="5943600"/>
              <a:ext cx="58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67080" y="5867280"/>
              <a:ext cx="15264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3400" y="335268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67080" y="3276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24280" y="58672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24280" y="464832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006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05520" y="4419720"/>
              <a:ext cx="457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1320" y="5257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1320" y="464832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67280" y="46483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72200" y="4419720"/>
              <a:ext cx="4572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520" y="2438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520" y="3048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3520" y="4419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3520" y="50292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3520" y="5638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4419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4114800"/>
              <a:ext cx="7315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-690840" y="274968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Alice’s Qu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-578160" y="5074200"/>
              <a:ext cx="186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Bob’s Qu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2590920"/>
              <a:ext cx="0" cy="42670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72000" y="2590920"/>
              <a:ext cx="0" cy="426708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14400" y="59436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Prepare EPR 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14600" y="60199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Alice’s pa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00600" y="60199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Bob’s pa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543800" y="1295280"/>
            <a:ext cx="1371600" cy="5077440"/>
            <a:chOff x="7543800" y="1295280"/>
            <a:chExt cx="1371600" cy="5077440"/>
          </a:xfrm>
        </p:grpSpPr>
        <p:sp>
          <p:nvSpPr>
            <p:cNvPr id="290" name=""/>
            <p:cNvSpPr/>
            <p:nvPr/>
          </p:nvSpPr>
          <p:spPr>
            <a:xfrm>
              <a:off x="7696080" y="2438280"/>
              <a:ext cx="1143000" cy="39344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h 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1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0 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h 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m 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m 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0 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1 4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4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h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c 3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000000"/>
                  </a:solidFill>
                  <a:latin typeface="umtt10"/>
                </a:rPr>
                <a:t>h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96080" y="3124080"/>
              <a:ext cx="1143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96080" y="4419720"/>
              <a:ext cx="1143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96080" y="5105520"/>
              <a:ext cx="1143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43800" y="1295280"/>
              <a:ext cx="137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CHP Co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antum Computing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ew Challenges for Computer Architectur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speculate on a measurement and then roll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he coherence protocols violate no-cloning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7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w do you design and debug circuits that you can’t even simulate efficiently with existing to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05320" y="609120"/>
            <a:ext cx="3504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erformance of CHP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52578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time needed to simulate a measurement after applying βnlogn random unitary gates to n qubits, on a 650MHz Pentium III with 256MB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0"/>
          <a:ext cx="10210680" cy="56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21068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imulating Stabilizer Circuits is </a:t>
            </a:r>
            <a:r>
              <a:rPr b="1" lang="en-US" sz="4000" spc="-1" strike="noStrike">
                <a:solidFill>
                  <a:srgbClr val="333399"/>
                </a:solidFill>
                <a:latin typeface="Symbol"/>
                <a:ea typeface="Symbol"/>
              </a:rPr>
              <a:t>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-Complet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1523880"/>
            <a:ext cx="8763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 = class of problems reducible in logarithmic space to evaluating a circuit of CNOT g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ural, well-studied subclass of 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jectured tha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.  So our result means stabilizer circuits probably aren’t even universal for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lassic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ut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Simulating </a:t>
            </a:r>
            <a:r>
              <a:rPr b="1" lang="en-US" sz="3000" spc="-1" strike="noStrike">
                <a:solidFill>
                  <a:srgbClr val="008000"/>
                </a:solidFill>
                <a:latin typeface="Symbol"/>
                <a:ea typeface="Symbol"/>
              </a:rPr>
              <a:t>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L with stabilizer circuits: Obvi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Simulating stabilizer circuits with </a:t>
            </a:r>
            <a:r>
              <a:rPr b="1" lang="en-US" sz="3000" spc="-1" strike="noStrike">
                <a:solidFill>
                  <a:srgbClr val="008000"/>
                </a:solidFill>
                <a:latin typeface="Symbol"/>
                <a:ea typeface="Symbol"/>
              </a:rPr>
              <a:t>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</a:rPr>
              <a:t>L : Har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57200" y="1295280"/>
            <a:ext cx="75438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n-qubit stabilizer states are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un With Stabilizer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905120" y="1676520"/>
          <a:ext cx="4876560" cy="12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487656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457200" y="3200400"/>
            <a:ext cx="78487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represent mixed states in the stabilizer formal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3962520"/>
            <a:ext cx="12189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4724280"/>
            <a:ext cx="78487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compute the inner product between two stabilizer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33920" y="5715000"/>
            <a:ext cx="12189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uture Direc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990720"/>
            <a:ext cx="822960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ments (at least some) in O(n) step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CHP to quantum error-correction, studying conjectures about entanglement in many-qubit system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icient minimization of stabilizer circui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erlinear lower bounds on stabilizer circuit siz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quantum computations with efficient classical simulations: bounded entanglement (Vidal 2003), “matchgates” (Valiant 2001)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ur Approach: Start With A Subset of Quantum Computatio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676520"/>
            <a:ext cx="86868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bilizers (Gottesman 1996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autiful formalism that captures much (but not all) of quantum weir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error-correcting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 quantum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Z (Greenberger-Horne-Zeilinger) parad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ates Allowed In Stabilizer Circuit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9144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Controlled-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002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362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228600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523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14479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0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1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1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743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Hadam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8862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28954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657600"/>
            <a:ext cx="457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4197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562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44197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5334120"/>
            <a:ext cx="457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42670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6019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Measur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single qubi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603720" y="-1355040"/>
            <a:ext cx="10427760" cy="10251360"/>
            <a:chOff x="-603720" y="-1355040"/>
            <a:chExt cx="10427760" cy="10251360"/>
          </a:xfrm>
        </p:grpSpPr>
        <p:sp>
          <p:nvSpPr>
            <p:cNvPr id="83" name=""/>
            <p:cNvSpPr/>
            <p:nvPr/>
          </p:nvSpPr>
          <p:spPr>
            <a:xfrm rot="1263600">
              <a:off x="533520" y="-151920"/>
              <a:ext cx="8153280" cy="784548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92600" y="2035440"/>
              <a:ext cx="4647960" cy="34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99"/>
                  </a:solidFill>
                  <a:latin typeface="Arial"/>
                </a:rPr>
                <a:t>AMAZING FACT</a:t>
              </a:r>
              <a:br>
                <a:rPr sz="30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se gates are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NO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universal—Gottesman &amp; Knill showed how to simulate them quickly on a classical computer</a:t>
              </a:r>
              <a:br>
                <a:rPr sz="28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see why we need some group theory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2286000"/>
            <a:ext cx="853416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=i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Z=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X=i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Z=-i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Y=-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X=-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ry matrix U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biliz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quantum state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U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Stabilizers o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X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i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Y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stabilizes 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Z stabilizes 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12193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295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12193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72400" y="1295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447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447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1219320"/>
            <a:ext cx="83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1295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1447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1219320"/>
            <a:ext cx="838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1295280"/>
            <a:ext cx="91440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447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auli Matrices: Collect ‘Em All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371600"/>
            <a:ext cx="85341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produced from the all-0 state by just CNOT, Hadamard, and phase gates, then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tabilized b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nsor products of Pauli matrices or their opposites (where n = number of qu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 stabilizer group is generated by log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n such tensor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ed,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iqu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d by these generators, so we call 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biliz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ottesman-Knill Theore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04920"/>
            <a:ext cx="8458200" cy="63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a classical computer, simulate an n-qubit CNOT/Hadamard/Phase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ttesman &amp; Knill’s solu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eep track of n generators of the stabilizer grou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enerator uses 2n+1 bits: 2 for each Pauli matrix and 1 for the sign.  So n(2n+1) bit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measurement takes O(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teps by Gaussian eli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4114800"/>
            <a:ext cx="1143000" cy="1312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umtt10"/>
              </a:rPr>
              <a:t>+XX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umtt10"/>
              </a:rPr>
              <a:t>-Z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352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0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|1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73392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3352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|0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|1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3276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OT(1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4114800"/>
            <a:ext cx="1143000" cy="1312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umtt10"/>
              </a:rPr>
              <a:t>-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4419720"/>
            <a:ext cx="3276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4572000"/>
            <a:ext cx="3124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Updating stabilizers takes only O(n) ste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90760" y="4262760"/>
            <a:ext cx="4076280" cy="2904840"/>
            <a:chOff x="590760" y="4262760"/>
            <a:chExt cx="4076280" cy="2904840"/>
          </a:xfrm>
        </p:grpSpPr>
        <p:sp>
          <p:nvSpPr>
            <p:cNvPr id="111" name=""/>
            <p:cNvSpPr/>
            <p:nvPr/>
          </p:nvSpPr>
          <p:spPr>
            <a:xfrm rot="605400">
              <a:off x="761760" y="4572000"/>
              <a:ext cx="3733560" cy="228600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47920" y="54100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OUCH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ur Faster, Easier-To-Implement Tableau Algorithm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981080"/>
            <a:ext cx="792468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n(2n+1) bits, store 2n(2n+1)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stabilizer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n+1 bit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“destabilizers”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25909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2514600"/>
            <a:ext cx="1676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Together generate full Pauli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343400"/>
            <a:ext cx="792468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the following invari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commut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ticommutes with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utes with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791320" y="522612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38480"/>
            <a:ext cx="533160" cy="11365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403848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1  0  0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1  0  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5226120"/>
            <a:ext cx="2895840" cy="11365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1  0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0  0  0 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0040" y="4048200"/>
            <a:ext cx="0" cy="2361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34340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548640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tabiliz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28954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|00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03848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X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5227560"/>
            <a:ext cx="9903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Z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umtt10"/>
              </a:rPr>
              <a:t>+I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365760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365760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365760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80880"/>
            <a:ext cx="5029200" cy="2036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phase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hase: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5257800"/>
            <a:ext cx="8380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038480"/>
            <a:ext cx="8380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09:15:38Z</dcterms:created>
  <dc:creator>Scott Aaronson</dc:creator>
  <dc:description/>
  <dc:language>en-US</dc:language>
  <cp:lastModifiedBy>Scott Aaronson</cp:lastModifiedBy>
  <dcterms:modified xsi:type="dcterms:W3CDTF">2004-03-10T17:10:32Z</dcterms:modified>
  <cp:revision>42</cp:revision>
  <dc:subject/>
  <dc:title>Simulation and Design of Clifford-Group Quantum Circuits</dc:title>
</cp:coreProperties>
</file>