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.png" ContentType="image/png"/>
  <Override PartName="/ppt/media/image16.wmf" ContentType="image/x-wmf"/>
  <Override PartName="/ppt/media/image14.gif" ContentType="image/gif"/>
  <Override PartName="/ppt/media/image1.png" ContentType="image/png"/>
  <Override PartName="/ppt/media/image3.jpeg" ContentType="image/jpeg"/>
  <Override PartName="/ppt/media/image6.jpeg" ContentType="image/jpeg"/>
  <Override PartName="/ppt/media/image12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7.wmf" ContentType="image/x-wmf"/>
  <Override PartName="/ppt/media/image9.png" ContentType="image/png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0C7F-6CE1-43AB-A81E-7A1359497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9814-D69E-44A8-8BF1-7105A0396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6FEE-DD0A-4827-9791-2DCFC4E9F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BF3D-2D49-40DA-A0F2-1580F4B38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C308-8D0C-4986-A7BB-566D2E9BF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2ECF-93AD-49B7-B2D2-CA9DEC41E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DC00-8AF6-4413-A25C-39D2F8606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4082-BFEA-47F2-BA43-4B0AE3349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49A9-8F1D-4074-8C5B-C709C58FE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A302-66EF-4131-BA5D-333C90709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1003-F91D-442C-9598-873D7A058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03B1-3C45-4857-8900-EE374F61C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D341-04F9-48D0-84B9-2C57F0B96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997D-3C7D-45C6-A7CE-E4279890C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BCFA-8ED6-4A7C-A0C2-D2FCBB7E3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EBE8-0505-4EAB-BBA3-0A2DE9067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B81C-6DF5-4E2C-8778-B46115EB7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861D-E8A2-4AAB-8AAA-C9EC970B5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4143-C241-41BA-BD39-20152F81C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5D12-9DE0-4BDB-8D41-AC55AC4F8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099E-74A6-42AB-8B28-88FC0DECC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66B3-5B22-48AA-A31D-BE18D0EE5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03EF-2C0F-4063-90D8-57051382D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8F9-667B-46A2-BEC3-0C5C5AF9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CF7-23EA-481E-8725-BAD20A24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2E7-FC81-4645-9016-CE2669E6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4B7-7F41-4C5B-A3D4-47852671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3ED-B5B6-4F42-8507-442C6BA9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4D4-3183-47C7-869B-185B5C6C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10C-A5A5-4322-8C64-406F7E45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9B0-6DAB-4465-9531-DCDAFF9D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E99-45E5-42F6-8A9B-8721DE79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A7C-D436-4C3A-8B43-DE1C7DB2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68B7-EBA5-4C8D-B052-2534BFFD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80F-EB26-4B5A-9687-C70A1210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3427-5FCD-48A6-A792-B236161422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AD4E-9B8E-4548-8E65-09AD77F24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Callout 72"/>
          <p:cNvSpPr/>
          <p:nvPr/>
        </p:nvSpPr>
        <p:spPr>
          <a:xfrm>
            <a:off x="7256520" y="2050920"/>
            <a:ext cx="1523880" cy="1301760"/>
          </a:xfrm>
          <a:prstGeom prst="wedgeEllipseCallout">
            <a:avLst>
              <a:gd name="adj1" fmla="val -83212"/>
              <a:gd name="adj2" fmla="val 41578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66640" y="4724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arm somewhere outside Santa Barbara, C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16, 20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52280" y="30492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Aspects of Certified Randomness from Quantum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5472000" y="2619360"/>
            <a:ext cx="1371600" cy="1292400"/>
            <a:chOff x="5472000" y="2619360"/>
            <a:chExt cx="1371600" cy="1292400"/>
          </a:xfrm>
        </p:grpSpPr>
        <p:sp>
          <p:nvSpPr>
            <p:cNvPr id="52" name="Freeform 5"/>
            <p:cNvSpPr/>
            <p:nvPr/>
          </p:nvSpPr>
          <p:spPr>
            <a:xfrm>
              <a:off x="5689080" y="264996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5781240" y="274968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>
              <a:off x="5859360" y="339660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6113160" y="302832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553080" y="363816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6553080" y="367236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557400" y="375012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6560280" y="368640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6769440" y="371016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6542640" y="363672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6712200" y="373032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>
              <a:off x="6632280" y="366444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>
              <a:off x="6598800" y="365220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8"/>
            <p:cNvSpPr/>
            <p:nvPr/>
          </p:nvSpPr>
          <p:spPr>
            <a:xfrm>
              <a:off x="6488640" y="376164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9"/>
            <p:cNvSpPr/>
            <p:nvPr/>
          </p:nvSpPr>
          <p:spPr>
            <a:xfrm>
              <a:off x="5491080" y="358200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>
              <a:off x="5691240" y="346032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>
              <a:off x="5893560" y="336456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6227640" y="277740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>
              <a:off x="5861160" y="326916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>
              <a:off x="5736240" y="271152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>
              <a:off x="6187680" y="349452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>
              <a:off x="6283080" y="353520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>
              <a:off x="5481720" y="373140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8"/>
            <p:cNvSpPr/>
            <p:nvPr/>
          </p:nvSpPr>
          <p:spPr>
            <a:xfrm>
              <a:off x="5679720" y="343008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9"/>
            <p:cNvSpPr/>
            <p:nvPr/>
          </p:nvSpPr>
          <p:spPr>
            <a:xfrm>
              <a:off x="6438960" y="343728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0"/>
            <p:cNvSpPr/>
            <p:nvPr/>
          </p:nvSpPr>
          <p:spPr>
            <a:xfrm>
              <a:off x="6181200" y="350100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1"/>
            <p:cNvSpPr/>
            <p:nvPr/>
          </p:nvSpPr>
          <p:spPr>
            <a:xfrm>
              <a:off x="6189840" y="348984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2"/>
            <p:cNvSpPr/>
            <p:nvPr/>
          </p:nvSpPr>
          <p:spPr>
            <a:xfrm>
              <a:off x="6277320" y="353304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3"/>
            <p:cNvSpPr/>
            <p:nvPr/>
          </p:nvSpPr>
          <p:spPr>
            <a:xfrm>
              <a:off x="5630040" y="355644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4"/>
            <p:cNvSpPr/>
            <p:nvPr/>
          </p:nvSpPr>
          <p:spPr>
            <a:xfrm>
              <a:off x="5515920" y="371340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5"/>
            <p:cNvSpPr/>
            <p:nvPr/>
          </p:nvSpPr>
          <p:spPr>
            <a:xfrm>
              <a:off x="6417720" y="360000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6"/>
            <p:cNvSpPr/>
            <p:nvPr/>
          </p:nvSpPr>
          <p:spPr>
            <a:xfrm>
              <a:off x="6460200" y="374436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7"/>
            <p:cNvSpPr/>
            <p:nvPr/>
          </p:nvSpPr>
          <p:spPr>
            <a:xfrm>
              <a:off x="5497920" y="376308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8"/>
            <p:cNvSpPr/>
            <p:nvPr/>
          </p:nvSpPr>
          <p:spPr>
            <a:xfrm>
              <a:off x="5682240" y="360648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9"/>
            <p:cNvSpPr/>
            <p:nvPr/>
          </p:nvSpPr>
          <p:spPr>
            <a:xfrm>
              <a:off x="5656320" y="365364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0"/>
            <p:cNvSpPr/>
            <p:nvPr/>
          </p:nvSpPr>
          <p:spPr>
            <a:xfrm>
              <a:off x="6278040" y="364248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1"/>
            <p:cNvSpPr/>
            <p:nvPr/>
          </p:nvSpPr>
          <p:spPr>
            <a:xfrm>
              <a:off x="6304320" y="367092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2"/>
            <p:cNvSpPr/>
            <p:nvPr/>
          </p:nvSpPr>
          <p:spPr>
            <a:xfrm>
              <a:off x="6313320" y="370260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3"/>
            <p:cNvSpPr/>
            <p:nvPr/>
          </p:nvSpPr>
          <p:spPr>
            <a:xfrm>
              <a:off x="5663520" y="261936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4"/>
            <p:cNvSpPr/>
            <p:nvPr/>
          </p:nvSpPr>
          <p:spPr>
            <a:xfrm>
              <a:off x="6401160" y="263376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5"/>
            <p:cNvSpPr/>
            <p:nvPr/>
          </p:nvSpPr>
          <p:spPr>
            <a:xfrm>
              <a:off x="6352560" y="272448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6"/>
            <p:cNvSpPr/>
            <p:nvPr/>
          </p:nvSpPr>
          <p:spPr>
            <a:xfrm>
              <a:off x="6319800" y="267552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7"/>
            <p:cNvSpPr/>
            <p:nvPr/>
          </p:nvSpPr>
          <p:spPr>
            <a:xfrm>
              <a:off x="5662800" y="282168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8"/>
            <p:cNvSpPr/>
            <p:nvPr/>
          </p:nvSpPr>
          <p:spPr>
            <a:xfrm>
              <a:off x="5813640" y="334908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9"/>
            <p:cNvSpPr/>
            <p:nvPr/>
          </p:nvSpPr>
          <p:spPr>
            <a:xfrm>
              <a:off x="6271560" y="334980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0"/>
            <p:cNvSpPr/>
            <p:nvPr/>
          </p:nvSpPr>
          <p:spPr>
            <a:xfrm>
              <a:off x="5859360" y="335484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1"/>
            <p:cNvSpPr/>
            <p:nvPr/>
          </p:nvSpPr>
          <p:spPr>
            <a:xfrm>
              <a:off x="5820480" y="343728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2"/>
            <p:cNvSpPr/>
            <p:nvPr/>
          </p:nvSpPr>
          <p:spPr>
            <a:xfrm>
              <a:off x="6194160" y="335340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3"/>
            <p:cNvSpPr/>
            <p:nvPr/>
          </p:nvSpPr>
          <p:spPr>
            <a:xfrm>
              <a:off x="6307560" y="339660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4"/>
            <p:cNvSpPr/>
            <p:nvPr/>
          </p:nvSpPr>
          <p:spPr>
            <a:xfrm>
              <a:off x="5850360" y="328896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5"/>
            <p:cNvSpPr/>
            <p:nvPr/>
          </p:nvSpPr>
          <p:spPr>
            <a:xfrm>
              <a:off x="5852160" y="326160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6"/>
            <p:cNvSpPr/>
            <p:nvPr/>
          </p:nvSpPr>
          <p:spPr>
            <a:xfrm>
              <a:off x="6237360" y="326340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7"/>
            <p:cNvSpPr/>
            <p:nvPr/>
          </p:nvSpPr>
          <p:spPr>
            <a:xfrm>
              <a:off x="6155640" y="328320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8"/>
            <p:cNvSpPr/>
            <p:nvPr/>
          </p:nvSpPr>
          <p:spPr>
            <a:xfrm>
              <a:off x="6081480" y="328212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9"/>
            <p:cNvSpPr/>
            <p:nvPr/>
          </p:nvSpPr>
          <p:spPr>
            <a:xfrm>
              <a:off x="5995800" y="327960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0"/>
            <p:cNvSpPr/>
            <p:nvPr/>
          </p:nvSpPr>
          <p:spPr>
            <a:xfrm>
              <a:off x="5921280" y="328392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1"/>
            <p:cNvSpPr/>
            <p:nvPr/>
          </p:nvSpPr>
          <p:spPr>
            <a:xfrm>
              <a:off x="6138360" y="274968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2"/>
            <p:cNvSpPr/>
            <p:nvPr/>
          </p:nvSpPr>
          <p:spPr>
            <a:xfrm>
              <a:off x="5742720" y="292860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3"/>
            <p:cNvSpPr/>
            <p:nvPr/>
          </p:nvSpPr>
          <p:spPr>
            <a:xfrm>
              <a:off x="5855400" y="319500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4"/>
            <p:cNvSpPr/>
            <p:nvPr/>
          </p:nvSpPr>
          <p:spPr>
            <a:xfrm>
              <a:off x="6236640" y="273420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5"/>
            <p:cNvSpPr/>
            <p:nvPr/>
          </p:nvSpPr>
          <p:spPr>
            <a:xfrm>
              <a:off x="5472000" y="372240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6"/>
            <p:cNvSpPr/>
            <p:nvPr/>
          </p:nvSpPr>
          <p:spPr>
            <a:xfrm>
              <a:off x="5742000" y="273024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7"/>
            <p:cNvSpPr/>
            <p:nvPr/>
          </p:nvSpPr>
          <p:spPr>
            <a:xfrm>
              <a:off x="5778720" y="277272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8"/>
            <p:cNvSpPr/>
            <p:nvPr/>
          </p:nvSpPr>
          <p:spPr>
            <a:xfrm>
              <a:off x="5673960" y="348156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30120" y="2789280"/>
            <a:ext cx="1751040" cy="128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Scott\AppData\Local\Microsoft\Windows\INetCache\IE\6XLDC2S0\117px-Bueno-verde[1].png"/>
          <p:cNvPicPr/>
          <p:nvPr/>
        </p:nvPicPr>
        <p:blipFill>
          <a:blip r:embed="rId2"/>
          <a:stretch/>
        </p:blipFill>
        <p:spPr>
          <a:xfrm>
            <a:off x="7372440" y="2155680"/>
            <a:ext cx="1189080" cy="1219320"/>
          </a:xfrm>
          <a:prstGeom prst="rect">
            <a:avLst/>
          </a:prstGeom>
          <a:ln w="0">
            <a:noFill/>
          </a:ln>
        </p:spPr>
      </p:pic>
      <p:sp>
        <p:nvSpPr>
          <p:cNvPr id="118" name="Oval Callout 73"/>
          <p:cNvSpPr/>
          <p:nvPr/>
        </p:nvSpPr>
        <p:spPr>
          <a:xfrm>
            <a:off x="2590920" y="2468520"/>
            <a:ext cx="2209680" cy="1495440"/>
          </a:xfrm>
          <a:prstGeom prst="wedgeEllipseCallout">
            <a:avLst>
              <a:gd name="adj1" fmla="val -94615"/>
              <a:gd name="adj2" fmla="val 1925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819520" y="2762280"/>
            <a:ext cx="1752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8"/>
          <p:cNvGrpSpPr/>
          <p:nvPr/>
        </p:nvGrpSpPr>
        <p:grpSpPr>
          <a:xfrm>
            <a:off x="533520" y="2743200"/>
            <a:ext cx="6065640" cy="3753000"/>
            <a:chOff x="533520" y="2743200"/>
            <a:chExt cx="6065640" cy="3753000"/>
          </a:xfrm>
        </p:grpSpPr>
        <p:pic>
          <p:nvPicPr>
            <p:cNvPr id="234" name="Picture 2" descr=""/>
            <p:cNvPicPr/>
            <p:nvPr/>
          </p:nvPicPr>
          <p:blipFill>
            <a:blip r:embed="rId1"/>
            <a:stretch/>
          </p:blipFill>
          <p:spPr>
            <a:xfrm>
              <a:off x="533520" y="2743200"/>
              <a:ext cx="6065640" cy="3753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35" name="Object 11"/>
                <p:cNvSpPr txBox="1"/>
                <p:nvPr/>
              </p:nvSpPr>
              <p:spPr>
                <a:xfrm>
                  <a:off x="986760" y="2901960"/>
                  <a:ext cx="60732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Object 10"/>
                <p:cNvSpPr txBox="1"/>
                <p:nvPr/>
              </p:nvSpPr>
              <p:spPr>
                <a:xfrm>
                  <a:off x="4952880" y="4953240"/>
                  <a:ext cx="81000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x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7" name="Text Box 2"/>
          <p:cNvSpPr/>
          <p:nvPr/>
        </p:nvSpPr>
        <p:spPr>
          <a:xfrm>
            <a:off x="304920" y="1951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orter-Thomas Speckle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314280" y="1081080"/>
            <a:ext cx="840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large k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ampled by an ideal QC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1"/>
          <p:cNvGraphicFramePr/>
          <p:nvPr/>
        </p:nvGraphicFramePr>
        <p:xfrm>
          <a:off x="4267080" y="1579680"/>
          <a:ext cx="4211640" cy="116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1579680"/>
                    <a:ext cx="421164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28"/>
          <p:cNvGraphicFramePr/>
          <p:nvPr/>
        </p:nvGraphicFramePr>
        <p:xfrm>
          <a:off x="219240" y="3276720"/>
          <a:ext cx="2190600" cy="88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" y="3276720"/>
                    <a:ext cx="21906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29"/>
          <p:cNvGraphicFramePr/>
          <p:nvPr/>
        </p:nvGraphicFramePr>
        <p:xfrm>
          <a:off x="4237200" y="5334120"/>
          <a:ext cx="2430360" cy="888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4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37200" y="5334120"/>
                    <a:ext cx="2430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2"/>
          <p:cNvSpPr/>
          <p:nvPr/>
        </p:nvSpPr>
        <p:spPr>
          <a:xfrm>
            <a:off x="2362320" y="2909880"/>
            <a:ext cx="6379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ampled uniformly at rand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33"/>
          <p:cNvGraphicFramePr/>
          <p:nvPr/>
        </p:nvGraphicFramePr>
        <p:xfrm>
          <a:off x="4267080" y="3352680"/>
          <a:ext cx="4178520" cy="1163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7" name="Object 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67080" y="3352680"/>
                    <a:ext cx="417852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2"/>
          <p:cNvSpPr/>
          <p:nvPr/>
        </p:nvSpPr>
        <p:spPr>
          <a:xfrm>
            <a:off x="538200" y="1665360"/>
            <a:ext cx="3352680" cy="10688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Just like the Bell inequa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8" descr="C:\Users\Scott\AppData\Local\Microsoft\Windows\INetCache\IE\QAJWYYJ4\0016[1].gif"/>
          <p:cNvPicPr/>
          <p:nvPr/>
        </p:nvPicPr>
        <p:blipFill>
          <a:blip r:embed="rId10"/>
          <a:stretch/>
        </p:blipFill>
        <p:spPr>
          <a:xfrm>
            <a:off x="3922560" y="1603440"/>
            <a:ext cx="18450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304920" y="1951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roving Porter-Thomasnes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14280" y="984240"/>
            <a:ext cx="840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fortunately, not yet for “natural” ensembles of random quantum circuits, but for the “Idaho ensemb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363600" y="6068880"/>
            <a:ext cx="275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482760" y="4046400"/>
            <a:ext cx="2514600" cy="2022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645000" y="4092480"/>
            <a:ext cx="509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andom quantum circuit of size ~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proven to be an approximate t-design (t&gt;&gt;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by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Brandão, Harrow, Horodecki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482760" y="2181240"/>
            <a:ext cx="533160" cy="18651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645000" y="2286000"/>
            <a:ext cx="509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-randomization”: a Haar-random unitary on the leftmost O(log(n))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660840" y="606888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Straight Arrow Connector 5"/>
          <p:cNvCxnSpPr>
            <a:stCxn id="256" idx="1"/>
          </p:cNvCxnSpPr>
          <p:nvPr/>
        </p:nvCxnSpPr>
        <p:spPr>
          <a:xfrm flipH="1" flipV="1">
            <a:off x="1142640" y="2977560"/>
            <a:ext cx="25027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Straight Arrow Connector 32"/>
          <p:cNvCxnSpPr/>
          <p:nvPr/>
        </p:nvCxnSpPr>
        <p:spPr>
          <a:xfrm flipH="1">
            <a:off x="3115800" y="4876560"/>
            <a:ext cx="5292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Straight Arrow Connector 38"/>
          <p:cNvCxnSpPr/>
          <p:nvPr/>
        </p:nvCxnSpPr>
        <p:spPr>
          <a:xfrm flipH="1">
            <a:off x="3115800" y="6345000"/>
            <a:ext cx="5292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304920" y="1522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y must there b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entropy in the server’s respon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71520" y="1657440"/>
            <a:ext cx="8400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to the contrary that S=f(C), for some determinstic function 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ith S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ypically passing HOG.  We claim this would imply strange computational pow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5920" y="3657600"/>
            <a:ext cx="84024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ong List Quantum Supremacy Verification (LLQS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ou’re given a giant list of quantum circuit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s well as string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You’re asked: were the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sampled uniformly at random, or was eac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ampled from the output distribution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4165560" y="61437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eems hard … even for a Q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371520" y="380880"/>
            <a:ext cx="84009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ey Clai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a fast QC could pass HOG deterministically, then there would be a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QC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 for LLQS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alibri"/>
                <a:ea typeface="Arial"/>
              </a:rPr>
              <a:t>QC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Arthur-Merlin where Arthur can send a classical random challenge to Merlin, get back a classical response, then verify it quantum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371520" y="2719440"/>
            <a:ext cx="84009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whole problem boils down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roximate coun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how many i’s are there in our long list such that f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=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401760" y="5129280"/>
            <a:ext cx="8400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thur sends Merlin a random hash function g, then Merlin sends back an i such that f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=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g(i)=0…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2895480" y="381312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350532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411480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4724280" y="381312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0"/>
          <p:cNvSpPr/>
          <p:nvPr/>
        </p:nvSpPr>
        <p:spPr>
          <a:xfrm>
            <a:off x="533412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594360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2"/>
          <p:cNvSpPr/>
          <p:nvPr/>
        </p:nvSpPr>
        <p:spPr>
          <a:xfrm>
            <a:off x="6553080" y="381312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3"/>
          <p:cNvSpPr/>
          <p:nvPr/>
        </p:nvSpPr>
        <p:spPr>
          <a:xfrm>
            <a:off x="7162920" y="381312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2895480" y="438480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5"/>
          <p:cNvSpPr/>
          <p:nvPr/>
        </p:nvSpPr>
        <p:spPr>
          <a:xfrm>
            <a:off x="350532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411480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724280" y="438480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533412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594360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0"/>
          <p:cNvSpPr/>
          <p:nvPr/>
        </p:nvSpPr>
        <p:spPr>
          <a:xfrm>
            <a:off x="6553080" y="4384800"/>
            <a:ext cx="60984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1"/>
          <p:cNvSpPr/>
          <p:nvPr/>
        </p:nvSpPr>
        <p:spPr>
          <a:xfrm>
            <a:off x="7162920" y="4384800"/>
            <a:ext cx="609480" cy="648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406440" y="6219720"/>
            <a:ext cx="84027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Note: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If the C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’s were classical, there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would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be an </a:t>
            </a:r>
            <a:r>
              <a:rPr b="1" i="1" lang="en-US" sz="2500" spc="-1" strike="noStrike">
                <a:solidFill>
                  <a:srgbClr val="cc00cc"/>
                </a:solidFill>
                <a:latin typeface="Calibri"/>
                <a:ea typeface="Arial"/>
              </a:rPr>
              <a:t>AM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 protocol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343080" y="4572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in-Ent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471600" y="2895480"/>
            <a:ext cx="84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re relevant than Shannon entropy for randomness extraction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1"/>
          <p:cNvGraphicFramePr/>
          <p:nvPr/>
        </p:nvGraphicFramePr>
        <p:xfrm>
          <a:off x="309600" y="1371600"/>
          <a:ext cx="8524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371600"/>
                    <a:ext cx="8524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0" name="Group 4"/>
          <p:cNvGrpSpPr/>
          <p:nvPr/>
        </p:nvGrpSpPr>
        <p:grpSpPr>
          <a:xfrm>
            <a:off x="919080" y="4419720"/>
            <a:ext cx="7245360" cy="304560"/>
            <a:chOff x="919080" y="4419720"/>
            <a:chExt cx="7245360" cy="304560"/>
          </a:xfrm>
        </p:grpSpPr>
        <p:sp>
          <p:nvSpPr>
            <p:cNvPr id="291" name="Rectangle 2"/>
            <p:cNvSpPr/>
            <p:nvPr/>
          </p:nvSpPr>
          <p:spPr>
            <a:xfrm>
              <a:off x="1299960" y="4419720"/>
              <a:ext cx="533160" cy="304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6"/>
            <p:cNvSpPr/>
            <p:nvPr/>
          </p:nvSpPr>
          <p:spPr>
            <a:xfrm>
              <a:off x="1833480" y="4419720"/>
              <a:ext cx="533160" cy="3045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7"/>
            <p:cNvSpPr/>
            <p:nvPr/>
          </p:nvSpPr>
          <p:spPr>
            <a:xfrm>
              <a:off x="2366640" y="4419720"/>
              <a:ext cx="380880" cy="3045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2747880" y="4419720"/>
              <a:ext cx="533160" cy="304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3276360" y="4419720"/>
              <a:ext cx="266400" cy="3045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3543120" y="4419720"/>
              <a:ext cx="328320" cy="304560"/>
            </a:xfrm>
            <a:prstGeom prst="rect">
              <a:avLst/>
            </a:prstGeom>
            <a:solidFill>
              <a:srgbClr val="b3a2c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3871800" y="4419720"/>
              <a:ext cx="266400" cy="3045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2"/>
            <p:cNvSpPr/>
            <p:nvPr/>
          </p:nvSpPr>
          <p:spPr>
            <a:xfrm>
              <a:off x="4138560" y="4419720"/>
              <a:ext cx="533160" cy="3045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3"/>
            <p:cNvSpPr/>
            <p:nvPr/>
          </p:nvSpPr>
          <p:spPr>
            <a:xfrm>
              <a:off x="4664160" y="4419720"/>
              <a:ext cx="266400" cy="304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4"/>
            <p:cNvSpPr/>
            <p:nvPr/>
          </p:nvSpPr>
          <p:spPr>
            <a:xfrm>
              <a:off x="919080" y="4419720"/>
              <a:ext cx="380880" cy="304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4930560" y="4419720"/>
              <a:ext cx="533160" cy="3045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6"/>
            <p:cNvSpPr/>
            <p:nvPr/>
          </p:nvSpPr>
          <p:spPr>
            <a:xfrm>
              <a:off x="5464080" y="4419720"/>
              <a:ext cx="555480" cy="304560"/>
            </a:xfrm>
            <a:prstGeom prst="rect">
              <a:avLst/>
            </a:prstGeom>
            <a:solidFill>
              <a:srgbClr val="b3a2c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7"/>
            <p:cNvSpPr/>
            <p:nvPr/>
          </p:nvSpPr>
          <p:spPr>
            <a:xfrm>
              <a:off x="6019920" y="4419720"/>
              <a:ext cx="1073160" cy="30456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8"/>
            <p:cNvSpPr/>
            <p:nvPr/>
          </p:nvSpPr>
          <p:spPr>
            <a:xfrm>
              <a:off x="7093080" y="4419720"/>
              <a:ext cx="1071360" cy="30456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2"/>
          <p:cNvSpPr/>
          <p:nvPr/>
        </p:nvSpPr>
        <p:spPr>
          <a:xfrm>
            <a:off x="604800" y="5334120"/>
            <a:ext cx="84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ypically enough to be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clo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 variation distance to a distribution with high min-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eft Brace 3"/>
          <p:cNvSpPr/>
          <p:nvPr/>
        </p:nvSpPr>
        <p:spPr>
          <a:xfrm rot="16200000">
            <a:off x="3240720" y="2554920"/>
            <a:ext cx="457200" cy="51008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5100840"/>
              <a:gd name="textAreaBottom" fmla="*/ 5088960 h 510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1"/>
                </a:cubicBezTo>
                <a:lnTo>
                  <a:pt x="10800" y="10639"/>
                </a:lnTo>
                <a:cubicBezTo>
                  <a:pt x="10800" y="10720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1"/>
                </a:cubicBezTo>
                <a:lnTo>
                  <a:pt x="10800" y="21439"/>
                </a:lnTo>
                <a:cubicBezTo>
                  <a:pt x="10800" y="2152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304920" y="1144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osting from 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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(1) to 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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(n) bits of min-entropy per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33360" y="1560600"/>
            <a:ext cx="840096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lai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that a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achine M samples S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a probability distribution that h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 Mas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 on samples that pass H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b,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C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 Mas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 on samples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333360" y="3586320"/>
            <a:ext cx="840096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d suppos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(p+q-1) &gt;&gt; 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 there’s an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 for LLQSV with a quantum verifier running in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H/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im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and a small advice 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358920" y="5310360"/>
            <a:ext cx="85183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erlin can point Arthur to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for which M output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Arthur can use Grover search, taking 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H/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ime, to check Merlin’s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47760" y="2491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arameterology with Noisy Q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343080" y="1228680"/>
            <a:ext cx="55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uaranteed min-entropy per r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6324480" y="2743200"/>
            <a:ext cx="2324160" cy="1069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ly positive when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q &g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Object 1"/>
          <p:cNvGraphicFramePr/>
          <p:nvPr/>
        </p:nvGraphicFramePr>
        <p:xfrm>
          <a:off x="5784840" y="1019160"/>
          <a:ext cx="294948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84840" y="1019160"/>
                    <a:ext cx="29494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 Box 2"/>
          <p:cNvSpPr/>
          <p:nvPr/>
        </p:nvSpPr>
        <p:spPr>
          <a:xfrm>
            <a:off x="347760" y="4343400"/>
            <a:ext cx="84232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ang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isier hardwa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ower 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eed larger b to get bq&gt;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 decreases even mor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scape rou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et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the QC’s fidelity, and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here k is the number of samples per round.  Then q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 and bq&gt;1 by the Law of Larg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322200" y="1981080"/>
            <a:ext cx="568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 = HOG threshold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 = QC’s success probability on H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b,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 = log(assumed LLQSV hardnes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43080" y="23796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Fernando Brandão’s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343080" y="1143000"/>
            <a:ext cx="819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suming best current simulation algorithms, min-entropy per round is approxim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1"/>
          <p:cNvGraphicFramePr/>
          <p:nvPr/>
        </p:nvGraphicFramePr>
        <p:xfrm>
          <a:off x="1571760" y="2286000"/>
          <a:ext cx="600048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2286000"/>
                    <a:ext cx="600048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2"/>
          <p:cNvSpPr/>
          <p:nvPr/>
        </p:nvSpPr>
        <p:spPr>
          <a:xfrm>
            <a:off x="476280" y="4267080"/>
            <a:ext cx="8191440" cy="20224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ugging in target Sycamore fidelity of 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e could g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10 certified random bits from a round with 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5 million samples.  This would take a few seco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it rate improves enormously with better fidelit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36828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erating the challeng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368280" y="1295280"/>
            <a:ext cx="845820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the client generates the challenge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 using a pseudorandom function (PRF).  Then obviously, we’ll want a PRF secure against quantum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more than that: we need to show tha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ur protocol fails (and if LLQSV is hard)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PRF can be br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ur protocol “failing” could be extremely hard to notice—it just looks like the distribution over output bits being far from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sume a PRF secure against the class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Q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Quantum Statistical Zero Knowledge).  There are many plausible candida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343080" y="1522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andomness Accu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299880" y="990720"/>
            <a:ext cx="85442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st involved part of our analysis: show that, if the protocol continues for T rounds, then the client ge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Tn) total bits of min-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What if each round produced 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n) random bits individually, but they were maliciously correlated, reusing the same entrop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289080" y="3429000"/>
            <a:ext cx="84024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halleng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how that, if there are many rounds where little randomness gets produced, conditioned on the outcomes of the previous rounds, then we can exploit that to get an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 for LLQS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olution ide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imulate the protocol up to a random round.  Then plug the state of the QC at that roun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(described using quantum advice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to the LLQSV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28600" y="4572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ree Views of Quantum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228600" y="153180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) The “useful application” is to refute the QC skeptic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2967120" y="1528920"/>
            <a:ext cx="350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2) We need to pick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pplications—ML, finance, optimization– then find big quantum speedups fo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6553080" y="1563840"/>
            <a:ext cx="2590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3) Let’s start with wha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wou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refute the QC skeptics,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ee whether it’s useful for an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086280" y="5943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Risk of Ewi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Image result for ewin tang"/>
          <p:cNvPicPr/>
          <p:nvPr/>
        </p:nvPicPr>
        <p:blipFill>
          <a:blip r:embed="rId1"/>
          <a:stretch/>
        </p:blipFill>
        <p:spPr>
          <a:xfrm>
            <a:off x="3619440" y="4038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26" name="Straight Connector 2"/>
          <p:cNvSpPr/>
          <p:nvPr/>
        </p:nvSpPr>
        <p:spPr>
          <a:xfrm>
            <a:off x="2819520" y="1447920"/>
            <a:ext cx="0" cy="540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9"/>
          <p:cNvSpPr/>
          <p:nvPr/>
        </p:nvSpPr>
        <p:spPr>
          <a:xfrm>
            <a:off x="6467400" y="1447920"/>
            <a:ext cx="0" cy="540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https://gilkalai.files.wordpress.com/2012/11/robert.jpeg?w=150&amp;h=150"/>
          <p:cNvPicPr/>
          <p:nvPr/>
        </p:nvPicPr>
        <p:blipFill>
          <a:blip r:embed="rId2"/>
          <a:stretch/>
        </p:blipFill>
        <p:spPr>
          <a:xfrm>
            <a:off x="1143000" y="35542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http://www.ics-cnrs.unistra.fr/etsp/seminar/Fig/dyakonov.png"/>
          <p:cNvPicPr/>
          <p:nvPr/>
        </p:nvPicPr>
        <p:blipFill>
          <a:blip r:embed="rId3"/>
          <a:stretch/>
        </p:blipFill>
        <p:spPr>
          <a:xfrm>
            <a:off x="203040" y="4151160"/>
            <a:ext cx="1122480" cy="1446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Image result for gil kalai"/>
          <p:cNvPicPr/>
          <p:nvPr/>
        </p:nvPicPr>
        <p:blipFill>
          <a:blip r:embed="rId4"/>
          <a:stretch/>
        </p:blipFill>
        <p:spPr>
          <a:xfrm>
            <a:off x="1071720" y="5267160"/>
            <a:ext cx="149040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7174"/>
          <p:cNvSpPr/>
          <p:nvPr/>
        </p:nvSpPr>
        <p:spPr>
          <a:xfrm>
            <a:off x="995400" y="1523880"/>
            <a:ext cx="6535800" cy="1554120"/>
          </a:xfrm>
          <a:custGeom>
            <a:avLst/>
            <a:gdLst/>
            <a:ahLst/>
            <a:rect l="l" t="t" r="r" b="b"/>
            <a:pathLst>
              <a:path w="6535465" h="1554480">
                <a:moveTo>
                  <a:pt x="680894" y="538480"/>
                </a:moveTo>
                <a:cubicBezTo>
                  <a:pt x="660574" y="541867"/>
                  <a:pt x="639061" y="540989"/>
                  <a:pt x="619934" y="548640"/>
                </a:cubicBezTo>
                <a:cubicBezTo>
                  <a:pt x="604212" y="554929"/>
                  <a:pt x="593073" y="569278"/>
                  <a:pt x="579294" y="579120"/>
                </a:cubicBezTo>
                <a:cubicBezTo>
                  <a:pt x="569358" y="586217"/>
                  <a:pt x="558195" y="591623"/>
                  <a:pt x="548814" y="599440"/>
                </a:cubicBezTo>
                <a:cubicBezTo>
                  <a:pt x="537776" y="608638"/>
                  <a:pt x="530289" y="621950"/>
                  <a:pt x="518334" y="629920"/>
                </a:cubicBezTo>
                <a:cubicBezTo>
                  <a:pt x="509423" y="635861"/>
                  <a:pt x="498014" y="636693"/>
                  <a:pt x="487854" y="640080"/>
                </a:cubicBezTo>
                <a:cubicBezTo>
                  <a:pt x="417983" y="686661"/>
                  <a:pt x="450062" y="672997"/>
                  <a:pt x="396414" y="690880"/>
                </a:cubicBezTo>
                <a:cubicBezTo>
                  <a:pt x="317165" y="770129"/>
                  <a:pt x="418904" y="674816"/>
                  <a:pt x="325294" y="741680"/>
                </a:cubicBezTo>
                <a:cubicBezTo>
                  <a:pt x="313602" y="750031"/>
                  <a:pt x="306506" y="763809"/>
                  <a:pt x="294814" y="772160"/>
                </a:cubicBezTo>
                <a:cubicBezTo>
                  <a:pt x="282489" y="780963"/>
                  <a:pt x="267161" y="784688"/>
                  <a:pt x="254174" y="792480"/>
                </a:cubicBezTo>
                <a:cubicBezTo>
                  <a:pt x="233233" y="805045"/>
                  <a:pt x="213534" y="819573"/>
                  <a:pt x="193214" y="833120"/>
                </a:cubicBezTo>
                <a:cubicBezTo>
                  <a:pt x="169304" y="849060"/>
                  <a:pt x="152574" y="873760"/>
                  <a:pt x="132254" y="894080"/>
                </a:cubicBezTo>
                <a:cubicBezTo>
                  <a:pt x="93140" y="933194"/>
                  <a:pt x="113729" y="916590"/>
                  <a:pt x="71294" y="944880"/>
                </a:cubicBezTo>
                <a:cubicBezTo>
                  <a:pt x="51515" y="1004218"/>
                  <a:pt x="76610" y="949724"/>
                  <a:pt x="30654" y="995680"/>
                </a:cubicBezTo>
                <a:cubicBezTo>
                  <a:pt x="18680" y="1007654"/>
                  <a:pt x="10334" y="1022773"/>
                  <a:pt x="174" y="1036320"/>
                </a:cubicBezTo>
                <a:cubicBezTo>
                  <a:pt x="3561" y="1080347"/>
                  <a:pt x="-7060" y="1127814"/>
                  <a:pt x="10334" y="1168400"/>
                </a:cubicBezTo>
                <a:cubicBezTo>
                  <a:pt x="17136" y="1184272"/>
                  <a:pt x="44474" y="1174016"/>
                  <a:pt x="61134" y="1178560"/>
                </a:cubicBezTo>
                <a:cubicBezTo>
                  <a:pt x="81798" y="1184196"/>
                  <a:pt x="122094" y="1198880"/>
                  <a:pt x="122094" y="1198880"/>
                </a:cubicBezTo>
                <a:cubicBezTo>
                  <a:pt x="205824" y="1194228"/>
                  <a:pt x="285145" y="1196513"/>
                  <a:pt x="365934" y="1178560"/>
                </a:cubicBezTo>
                <a:cubicBezTo>
                  <a:pt x="376389" y="1176237"/>
                  <a:pt x="386254" y="1171787"/>
                  <a:pt x="396414" y="1168400"/>
                </a:cubicBezTo>
                <a:cubicBezTo>
                  <a:pt x="418530" y="1172823"/>
                  <a:pt x="461595" y="1174731"/>
                  <a:pt x="477694" y="1198880"/>
                </a:cubicBezTo>
                <a:cubicBezTo>
                  <a:pt x="485440" y="1210498"/>
                  <a:pt x="482353" y="1226685"/>
                  <a:pt x="487854" y="1239520"/>
                </a:cubicBezTo>
                <a:cubicBezTo>
                  <a:pt x="492664" y="1250743"/>
                  <a:pt x="502713" y="1259078"/>
                  <a:pt x="508174" y="1270000"/>
                </a:cubicBezTo>
                <a:cubicBezTo>
                  <a:pt x="516710" y="1287072"/>
                  <a:pt x="523611" y="1324844"/>
                  <a:pt x="528494" y="1341120"/>
                </a:cubicBezTo>
                <a:cubicBezTo>
                  <a:pt x="538657" y="1374995"/>
                  <a:pt x="553120" y="1407593"/>
                  <a:pt x="558974" y="1442720"/>
                </a:cubicBezTo>
                <a:cubicBezTo>
                  <a:pt x="571289" y="1516611"/>
                  <a:pt x="546129" y="1517578"/>
                  <a:pt x="599614" y="1544320"/>
                </a:cubicBezTo>
                <a:cubicBezTo>
                  <a:pt x="609193" y="1549109"/>
                  <a:pt x="619934" y="1551093"/>
                  <a:pt x="630094" y="1554480"/>
                </a:cubicBezTo>
                <a:lnTo>
                  <a:pt x="934894" y="1534160"/>
                </a:lnTo>
                <a:cubicBezTo>
                  <a:pt x="945054" y="1530773"/>
                  <a:pt x="955042" y="1526818"/>
                  <a:pt x="965374" y="1524000"/>
                </a:cubicBezTo>
                <a:cubicBezTo>
                  <a:pt x="992317" y="1516652"/>
                  <a:pt x="1021675" y="1516169"/>
                  <a:pt x="1046654" y="1503680"/>
                </a:cubicBezTo>
                <a:cubicBezTo>
                  <a:pt x="1060201" y="1496907"/>
                  <a:pt x="1074451" y="1491387"/>
                  <a:pt x="1087294" y="1483360"/>
                </a:cubicBezTo>
                <a:cubicBezTo>
                  <a:pt x="1157591" y="1439425"/>
                  <a:pt x="1098532" y="1462681"/>
                  <a:pt x="1158414" y="1442720"/>
                </a:cubicBezTo>
                <a:cubicBezTo>
                  <a:pt x="1161633" y="1413747"/>
                  <a:pt x="1161713" y="1354842"/>
                  <a:pt x="1178734" y="1320800"/>
                </a:cubicBezTo>
                <a:cubicBezTo>
                  <a:pt x="1184195" y="1309878"/>
                  <a:pt x="1194095" y="1301478"/>
                  <a:pt x="1199054" y="1290320"/>
                </a:cubicBezTo>
                <a:cubicBezTo>
                  <a:pt x="1207753" y="1270747"/>
                  <a:pt x="1204228" y="1244506"/>
                  <a:pt x="1219374" y="1229360"/>
                </a:cubicBezTo>
                <a:cubicBezTo>
                  <a:pt x="1241844" y="1206890"/>
                  <a:pt x="1256029" y="1196690"/>
                  <a:pt x="1270174" y="1168400"/>
                </a:cubicBezTo>
                <a:cubicBezTo>
                  <a:pt x="1274963" y="1158821"/>
                  <a:pt x="1274393" y="1146831"/>
                  <a:pt x="1280334" y="1137920"/>
                </a:cubicBezTo>
                <a:cubicBezTo>
                  <a:pt x="1288304" y="1125965"/>
                  <a:pt x="1301616" y="1118478"/>
                  <a:pt x="1310814" y="1107440"/>
                </a:cubicBezTo>
                <a:cubicBezTo>
                  <a:pt x="1318631" y="1098059"/>
                  <a:pt x="1320779" y="1083432"/>
                  <a:pt x="1331134" y="1076960"/>
                </a:cubicBezTo>
                <a:cubicBezTo>
                  <a:pt x="1349297" y="1065608"/>
                  <a:pt x="1392094" y="1056640"/>
                  <a:pt x="1392094" y="1056640"/>
                </a:cubicBezTo>
                <a:cubicBezTo>
                  <a:pt x="1395481" y="1066800"/>
                  <a:pt x="1395564" y="1078757"/>
                  <a:pt x="1402254" y="1087120"/>
                </a:cubicBezTo>
                <a:cubicBezTo>
                  <a:pt x="1434460" y="1127377"/>
                  <a:pt x="1528125" y="1115389"/>
                  <a:pt x="1554654" y="1117600"/>
                </a:cubicBezTo>
                <a:cubicBezTo>
                  <a:pt x="1608841" y="1114213"/>
                  <a:pt x="1664272" y="1119472"/>
                  <a:pt x="1717214" y="1107440"/>
                </a:cubicBezTo>
                <a:cubicBezTo>
                  <a:pt x="1741028" y="1102028"/>
                  <a:pt x="1778174" y="1066800"/>
                  <a:pt x="1778174" y="1066800"/>
                </a:cubicBezTo>
                <a:cubicBezTo>
                  <a:pt x="1812806" y="1014852"/>
                  <a:pt x="1781582" y="1045628"/>
                  <a:pt x="1859454" y="1026160"/>
                </a:cubicBezTo>
                <a:cubicBezTo>
                  <a:pt x="2008216" y="988970"/>
                  <a:pt x="1826445" y="1019264"/>
                  <a:pt x="1991534" y="995680"/>
                </a:cubicBezTo>
                <a:cubicBezTo>
                  <a:pt x="2001694" y="992293"/>
                  <a:pt x="2012435" y="990309"/>
                  <a:pt x="2022014" y="985520"/>
                </a:cubicBezTo>
                <a:cubicBezTo>
                  <a:pt x="2032936" y="980059"/>
                  <a:pt x="2041336" y="970159"/>
                  <a:pt x="2052494" y="965200"/>
                </a:cubicBezTo>
                <a:cubicBezTo>
                  <a:pt x="2072067" y="956501"/>
                  <a:pt x="2093134" y="951653"/>
                  <a:pt x="2113454" y="944880"/>
                </a:cubicBezTo>
                <a:lnTo>
                  <a:pt x="2143934" y="934720"/>
                </a:lnTo>
                <a:lnTo>
                  <a:pt x="2174414" y="924560"/>
                </a:lnTo>
                <a:cubicBezTo>
                  <a:pt x="2213701" y="898369"/>
                  <a:pt x="2225618" y="882701"/>
                  <a:pt x="2265854" y="873760"/>
                </a:cubicBezTo>
                <a:cubicBezTo>
                  <a:pt x="2285964" y="869291"/>
                  <a:pt x="2306494" y="866987"/>
                  <a:pt x="2326814" y="863600"/>
                </a:cubicBezTo>
                <a:lnTo>
                  <a:pt x="2387774" y="822960"/>
                </a:lnTo>
                <a:cubicBezTo>
                  <a:pt x="2397934" y="816187"/>
                  <a:pt x="2407332" y="808101"/>
                  <a:pt x="2418254" y="802640"/>
                </a:cubicBezTo>
                <a:cubicBezTo>
                  <a:pt x="2431801" y="795867"/>
                  <a:pt x="2445744" y="789834"/>
                  <a:pt x="2458894" y="782320"/>
                </a:cubicBezTo>
                <a:cubicBezTo>
                  <a:pt x="2469496" y="776262"/>
                  <a:pt x="2478452" y="767461"/>
                  <a:pt x="2489374" y="762000"/>
                </a:cubicBezTo>
                <a:cubicBezTo>
                  <a:pt x="2498953" y="757211"/>
                  <a:pt x="2509826" y="755600"/>
                  <a:pt x="2519854" y="751840"/>
                </a:cubicBezTo>
                <a:cubicBezTo>
                  <a:pt x="2596372" y="723146"/>
                  <a:pt x="2543197" y="738384"/>
                  <a:pt x="2611294" y="721360"/>
                </a:cubicBezTo>
                <a:cubicBezTo>
                  <a:pt x="2624841" y="711200"/>
                  <a:pt x="2637232" y="699281"/>
                  <a:pt x="2651934" y="690880"/>
                </a:cubicBezTo>
                <a:cubicBezTo>
                  <a:pt x="2661233" y="685567"/>
                  <a:pt x="2672082" y="683538"/>
                  <a:pt x="2682414" y="680720"/>
                </a:cubicBezTo>
                <a:cubicBezTo>
                  <a:pt x="2823776" y="642167"/>
                  <a:pt x="2779224" y="659725"/>
                  <a:pt x="2997374" y="650240"/>
                </a:cubicBezTo>
                <a:cubicBezTo>
                  <a:pt x="3007534" y="646853"/>
                  <a:pt x="3017290" y="638319"/>
                  <a:pt x="3027854" y="640080"/>
                </a:cubicBezTo>
                <a:cubicBezTo>
                  <a:pt x="3039899" y="642087"/>
                  <a:pt x="3047412" y="654939"/>
                  <a:pt x="3058334" y="660400"/>
                </a:cubicBezTo>
                <a:cubicBezTo>
                  <a:pt x="3067913" y="665189"/>
                  <a:pt x="3078516" y="667618"/>
                  <a:pt x="3088814" y="670560"/>
                </a:cubicBezTo>
                <a:cubicBezTo>
                  <a:pt x="3196298" y="701270"/>
                  <a:pt x="3045547" y="652751"/>
                  <a:pt x="3190414" y="701040"/>
                </a:cubicBezTo>
                <a:cubicBezTo>
                  <a:pt x="3213217" y="708641"/>
                  <a:pt x="3332738" y="720240"/>
                  <a:pt x="3342814" y="721360"/>
                </a:cubicBezTo>
                <a:cubicBezTo>
                  <a:pt x="3441438" y="754235"/>
                  <a:pt x="3254371" y="694617"/>
                  <a:pt x="3505374" y="741680"/>
                </a:cubicBezTo>
                <a:cubicBezTo>
                  <a:pt x="3517376" y="743930"/>
                  <a:pt x="3525694" y="755227"/>
                  <a:pt x="3535854" y="762000"/>
                </a:cubicBezTo>
                <a:cubicBezTo>
                  <a:pt x="3593427" y="758613"/>
                  <a:pt x="3651161" y="757308"/>
                  <a:pt x="3708574" y="751840"/>
                </a:cubicBezTo>
                <a:cubicBezTo>
                  <a:pt x="3722475" y="750516"/>
                  <a:pt x="3735583" y="744709"/>
                  <a:pt x="3749214" y="741680"/>
                </a:cubicBezTo>
                <a:cubicBezTo>
                  <a:pt x="3766071" y="737934"/>
                  <a:pt x="3783354" y="736064"/>
                  <a:pt x="3800014" y="731520"/>
                </a:cubicBezTo>
                <a:cubicBezTo>
                  <a:pt x="3820678" y="725884"/>
                  <a:pt x="3839971" y="715401"/>
                  <a:pt x="3860974" y="711200"/>
                </a:cubicBezTo>
                <a:cubicBezTo>
                  <a:pt x="3965012" y="690392"/>
                  <a:pt x="3894539" y="702117"/>
                  <a:pt x="4074334" y="690880"/>
                </a:cubicBezTo>
                <a:cubicBezTo>
                  <a:pt x="4091267" y="687493"/>
                  <a:pt x="4108100" y="683559"/>
                  <a:pt x="4125134" y="680720"/>
                </a:cubicBezTo>
                <a:cubicBezTo>
                  <a:pt x="4148756" y="676783"/>
                  <a:pt x="4172772" y="675256"/>
                  <a:pt x="4196254" y="670560"/>
                </a:cubicBezTo>
                <a:cubicBezTo>
                  <a:pt x="4206756" y="668460"/>
                  <a:pt x="4216574" y="663787"/>
                  <a:pt x="4226734" y="660400"/>
                </a:cubicBezTo>
                <a:cubicBezTo>
                  <a:pt x="4242145" y="650126"/>
                  <a:pt x="4266662" y="629920"/>
                  <a:pt x="4287694" y="629920"/>
                </a:cubicBezTo>
                <a:cubicBezTo>
                  <a:pt x="4304963" y="629920"/>
                  <a:pt x="4321320" y="638272"/>
                  <a:pt x="4338494" y="640080"/>
                </a:cubicBezTo>
                <a:cubicBezTo>
                  <a:pt x="4385767" y="645056"/>
                  <a:pt x="4433321" y="646853"/>
                  <a:pt x="4480734" y="650240"/>
                </a:cubicBezTo>
                <a:cubicBezTo>
                  <a:pt x="4627583" y="679610"/>
                  <a:pt x="4465079" y="649897"/>
                  <a:pt x="4795694" y="670560"/>
                </a:cubicBezTo>
                <a:cubicBezTo>
                  <a:pt x="4816254" y="671845"/>
                  <a:pt x="4836334" y="677333"/>
                  <a:pt x="4856654" y="680720"/>
                </a:cubicBezTo>
                <a:cubicBezTo>
                  <a:pt x="4866814" y="677333"/>
                  <a:pt x="4876424" y="670560"/>
                  <a:pt x="4887134" y="670560"/>
                </a:cubicBezTo>
                <a:cubicBezTo>
                  <a:pt x="4925459" y="670560"/>
                  <a:pt x="4933733" y="689480"/>
                  <a:pt x="4968414" y="701040"/>
                </a:cubicBezTo>
                <a:cubicBezTo>
                  <a:pt x="4984797" y="706501"/>
                  <a:pt x="5002388" y="707317"/>
                  <a:pt x="5019214" y="711200"/>
                </a:cubicBezTo>
                <a:cubicBezTo>
                  <a:pt x="5165200" y="744889"/>
                  <a:pt x="5044712" y="727801"/>
                  <a:pt x="5252894" y="741680"/>
                </a:cubicBezTo>
                <a:cubicBezTo>
                  <a:pt x="5300307" y="738293"/>
                  <a:pt x="5347632" y="733279"/>
                  <a:pt x="5395134" y="731520"/>
                </a:cubicBezTo>
                <a:cubicBezTo>
                  <a:pt x="5816770" y="715904"/>
                  <a:pt x="5768537" y="853349"/>
                  <a:pt x="5811694" y="680720"/>
                </a:cubicBezTo>
                <a:lnTo>
                  <a:pt x="5872654" y="701040"/>
                </a:lnTo>
                <a:cubicBezTo>
                  <a:pt x="5882814" y="704427"/>
                  <a:pt x="5892744" y="708603"/>
                  <a:pt x="5903134" y="711200"/>
                </a:cubicBezTo>
                <a:lnTo>
                  <a:pt x="5943774" y="721360"/>
                </a:lnTo>
                <a:cubicBezTo>
                  <a:pt x="6116494" y="717973"/>
                  <a:pt x="6289671" y="724201"/>
                  <a:pt x="6461934" y="711200"/>
                </a:cubicBezTo>
                <a:cubicBezTo>
                  <a:pt x="6474110" y="710281"/>
                  <a:pt x="6473620" y="689354"/>
                  <a:pt x="6482254" y="680720"/>
                </a:cubicBezTo>
                <a:cubicBezTo>
                  <a:pt x="6490888" y="672086"/>
                  <a:pt x="6502574" y="667173"/>
                  <a:pt x="6512734" y="660400"/>
                </a:cubicBezTo>
                <a:cubicBezTo>
                  <a:pt x="6539451" y="580248"/>
                  <a:pt x="6546434" y="571682"/>
                  <a:pt x="6512734" y="436880"/>
                </a:cubicBezTo>
                <a:cubicBezTo>
                  <a:pt x="6508337" y="419292"/>
                  <a:pt x="6443265" y="334095"/>
                  <a:pt x="6421294" y="304800"/>
                </a:cubicBezTo>
                <a:cubicBezTo>
                  <a:pt x="6417907" y="294640"/>
                  <a:pt x="6415923" y="283899"/>
                  <a:pt x="6411134" y="274320"/>
                </a:cubicBezTo>
                <a:cubicBezTo>
                  <a:pt x="6405673" y="263398"/>
                  <a:pt x="6398761" y="253111"/>
                  <a:pt x="6390814" y="243840"/>
                </a:cubicBezTo>
                <a:cubicBezTo>
                  <a:pt x="6362583" y="210904"/>
                  <a:pt x="6343949" y="197302"/>
                  <a:pt x="6309534" y="172720"/>
                </a:cubicBezTo>
                <a:cubicBezTo>
                  <a:pt x="6276867" y="149386"/>
                  <a:pt x="6270994" y="146327"/>
                  <a:pt x="6228254" y="132080"/>
                </a:cubicBezTo>
                <a:cubicBezTo>
                  <a:pt x="6215007" y="127664"/>
                  <a:pt x="6201492" y="123462"/>
                  <a:pt x="6187614" y="121920"/>
                </a:cubicBezTo>
                <a:cubicBezTo>
                  <a:pt x="6140371" y="116671"/>
                  <a:pt x="6092694" y="116267"/>
                  <a:pt x="6045374" y="111760"/>
                </a:cubicBezTo>
                <a:cubicBezTo>
                  <a:pt x="6021535" y="109490"/>
                  <a:pt x="5998093" y="103870"/>
                  <a:pt x="5974254" y="101600"/>
                </a:cubicBezTo>
                <a:cubicBezTo>
                  <a:pt x="5926934" y="97093"/>
                  <a:pt x="5879427" y="94827"/>
                  <a:pt x="5832014" y="91440"/>
                </a:cubicBezTo>
                <a:cubicBezTo>
                  <a:pt x="5568047" y="47446"/>
                  <a:pt x="5890643" y="104469"/>
                  <a:pt x="5740574" y="71120"/>
                </a:cubicBezTo>
                <a:cubicBezTo>
                  <a:pt x="5720464" y="66651"/>
                  <a:pt x="5699814" y="65000"/>
                  <a:pt x="5679614" y="60960"/>
                </a:cubicBezTo>
                <a:cubicBezTo>
                  <a:pt x="5620551" y="49147"/>
                  <a:pt x="5637057" y="42814"/>
                  <a:pt x="5557694" y="40640"/>
                </a:cubicBezTo>
                <a:cubicBezTo>
                  <a:pt x="5337617" y="34610"/>
                  <a:pt x="5117427" y="33867"/>
                  <a:pt x="4897294" y="30480"/>
                </a:cubicBezTo>
                <a:lnTo>
                  <a:pt x="4795694" y="20320"/>
                </a:lnTo>
                <a:cubicBezTo>
                  <a:pt x="4509991" y="-5653"/>
                  <a:pt x="4822737" y="25056"/>
                  <a:pt x="4572174" y="0"/>
                </a:cubicBezTo>
                <a:cubicBezTo>
                  <a:pt x="4291081" y="3387"/>
                  <a:pt x="4009841" y="472"/>
                  <a:pt x="3728894" y="10160"/>
                </a:cubicBezTo>
                <a:cubicBezTo>
                  <a:pt x="3713757" y="10682"/>
                  <a:pt x="3702622" y="25691"/>
                  <a:pt x="3688254" y="30480"/>
                </a:cubicBezTo>
                <a:cubicBezTo>
                  <a:pt x="3671871" y="35941"/>
                  <a:pt x="3654717" y="40203"/>
                  <a:pt x="3637454" y="40640"/>
                </a:cubicBezTo>
                <a:cubicBezTo>
                  <a:pt x="3386898" y="46983"/>
                  <a:pt x="3136227" y="47413"/>
                  <a:pt x="2885614" y="50800"/>
                </a:cubicBezTo>
                <a:cubicBezTo>
                  <a:pt x="2826478" y="62627"/>
                  <a:pt x="2830906" y="62719"/>
                  <a:pt x="2763694" y="71120"/>
                </a:cubicBezTo>
                <a:cubicBezTo>
                  <a:pt x="2733263" y="74924"/>
                  <a:pt x="2702613" y="76943"/>
                  <a:pt x="2672254" y="81280"/>
                </a:cubicBezTo>
                <a:cubicBezTo>
                  <a:pt x="2644045" y="85310"/>
                  <a:pt x="2557385" y="106023"/>
                  <a:pt x="2540174" y="111760"/>
                </a:cubicBezTo>
                <a:cubicBezTo>
                  <a:pt x="2530014" y="115147"/>
                  <a:pt x="2520084" y="119323"/>
                  <a:pt x="2509694" y="121920"/>
                </a:cubicBezTo>
                <a:cubicBezTo>
                  <a:pt x="2468352" y="132256"/>
                  <a:pt x="2418742" y="138127"/>
                  <a:pt x="2377614" y="142240"/>
                </a:cubicBezTo>
                <a:cubicBezTo>
                  <a:pt x="2337036" y="146298"/>
                  <a:pt x="2296334" y="149013"/>
                  <a:pt x="2255694" y="152400"/>
                </a:cubicBezTo>
                <a:cubicBezTo>
                  <a:pt x="2235374" y="155787"/>
                  <a:pt x="2215208" y="160285"/>
                  <a:pt x="2194734" y="162560"/>
                </a:cubicBezTo>
                <a:cubicBezTo>
                  <a:pt x="2154203" y="167063"/>
                  <a:pt x="2113411" y="168854"/>
                  <a:pt x="2072814" y="172720"/>
                </a:cubicBezTo>
                <a:cubicBezTo>
                  <a:pt x="2042285" y="175628"/>
                  <a:pt x="2011854" y="179493"/>
                  <a:pt x="1981374" y="182880"/>
                </a:cubicBezTo>
                <a:cubicBezTo>
                  <a:pt x="1889605" y="219588"/>
                  <a:pt x="1973235" y="190333"/>
                  <a:pt x="1869614" y="213360"/>
                </a:cubicBezTo>
                <a:cubicBezTo>
                  <a:pt x="1859159" y="215683"/>
                  <a:pt x="1849569" y="221112"/>
                  <a:pt x="1839134" y="223520"/>
                </a:cubicBezTo>
                <a:cubicBezTo>
                  <a:pt x="1671790" y="262138"/>
                  <a:pt x="1801027" y="229525"/>
                  <a:pt x="1666414" y="254000"/>
                </a:cubicBezTo>
                <a:cubicBezTo>
                  <a:pt x="1614965" y="263354"/>
                  <a:pt x="1632115" y="267598"/>
                  <a:pt x="1574974" y="274320"/>
                </a:cubicBezTo>
                <a:cubicBezTo>
                  <a:pt x="1534472" y="279085"/>
                  <a:pt x="1493694" y="281093"/>
                  <a:pt x="1453054" y="284480"/>
                </a:cubicBezTo>
                <a:cubicBezTo>
                  <a:pt x="1425954" y="293513"/>
                  <a:pt x="1382164" y="309842"/>
                  <a:pt x="1351454" y="314960"/>
                </a:cubicBezTo>
                <a:cubicBezTo>
                  <a:pt x="1298175" y="323840"/>
                  <a:pt x="1208153" y="330758"/>
                  <a:pt x="1158414" y="335280"/>
                </a:cubicBezTo>
                <a:lnTo>
                  <a:pt x="1097454" y="355600"/>
                </a:lnTo>
                <a:cubicBezTo>
                  <a:pt x="1087294" y="358987"/>
                  <a:pt x="1077538" y="363999"/>
                  <a:pt x="1066974" y="365760"/>
                </a:cubicBezTo>
                <a:cubicBezTo>
                  <a:pt x="1047059" y="369079"/>
                  <a:pt x="977528" y="379994"/>
                  <a:pt x="955214" y="386080"/>
                </a:cubicBezTo>
                <a:cubicBezTo>
                  <a:pt x="934550" y="391716"/>
                  <a:pt x="914574" y="399627"/>
                  <a:pt x="894254" y="406400"/>
                </a:cubicBezTo>
                <a:lnTo>
                  <a:pt x="863774" y="416560"/>
                </a:lnTo>
                <a:cubicBezTo>
                  <a:pt x="850227" y="426720"/>
                  <a:pt x="837836" y="438639"/>
                  <a:pt x="823134" y="447040"/>
                </a:cubicBezTo>
                <a:cubicBezTo>
                  <a:pt x="813835" y="452353"/>
                  <a:pt x="802498" y="452981"/>
                  <a:pt x="792654" y="457200"/>
                </a:cubicBezTo>
                <a:cubicBezTo>
                  <a:pt x="704771" y="494864"/>
                  <a:pt x="793015" y="463853"/>
                  <a:pt x="721534" y="487680"/>
                </a:cubicBezTo>
                <a:cubicBezTo>
                  <a:pt x="711374" y="494453"/>
                  <a:pt x="699095" y="498810"/>
                  <a:pt x="691054" y="508000"/>
                </a:cubicBezTo>
                <a:cubicBezTo>
                  <a:pt x="674972" y="526379"/>
                  <a:pt x="673582" y="561237"/>
                  <a:pt x="650414" y="568960"/>
                </a:cubicBezTo>
                <a:lnTo>
                  <a:pt x="619934" y="579120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371520" y="228600"/>
            <a:ext cx="8458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Bushy Path Lemma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with thanks to Ron Pe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228600" y="3581280"/>
            <a:ext cx="84027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nsider a tree where each edge is either red or blue.  Suppose that on almost every path from the root to a leaf, at least 90% of the edges are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a “bushy path” be a path together with all edges incident to it.  Then on almost every bushy path, at least 89% of the edges are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2"/>
          <p:cNvSpPr/>
          <p:nvPr/>
        </p:nvSpPr>
        <p:spPr>
          <a:xfrm flipH="1">
            <a:off x="1835280" y="1701720"/>
            <a:ext cx="2743200" cy="476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6"/>
          <p:cNvSpPr/>
          <p:nvPr/>
        </p:nvSpPr>
        <p:spPr>
          <a:xfrm>
            <a:off x="4578480" y="1701720"/>
            <a:ext cx="0" cy="476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11"/>
          <p:cNvSpPr/>
          <p:nvPr/>
        </p:nvSpPr>
        <p:spPr>
          <a:xfrm>
            <a:off x="4606920" y="1701720"/>
            <a:ext cx="2638440" cy="47628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21"/>
          <p:cNvSpPr/>
          <p:nvPr/>
        </p:nvSpPr>
        <p:spPr>
          <a:xfrm flipH="1">
            <a:off x="3983040" y="2178000"/>
            <a:ext cx="59544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24"/>
          <p:cNvSpPr/>
          <p:nvPr/>
        </p:nvSpPr>
        <p:spPr>
          <a:xfrm>
            <a:off x="4578480" y="2178000"/>
            <a:ext cx="69984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27"/>
          <p:cNvSpPr/>
          <p:nvPr/>
        </p:nvSpPr>
        <p:spPr>
          <a:xfrm>
            <a:off x="4578480" y="2178000"/>
            <a:ext cx="0" cy="38088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29"/>
          <p:cNvSpPr/>
          <p:nvPr/>
        </p:nvSpPr>
        <p:spPr>
          <a:xfrm flipH="1">
            <a:off x="1239840" y="2178000"/>
            <a:ext cx="59544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30"/>
          <p:cNvSpPr/>
          <p:nvPr/>
        </p:nvSpPr>
        <p:spPr>
          <a:xfrm>
            <a:off x="1835280" y="2178000"/>
            <a:ext cx="69984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32"/>
          <p:cNvSpPr/>
          <p:nvPr/>
        </p:nvSpPr>
        <p:spPr>
          <a:xfrm>
            <a:off x="1835280" y="21780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traight Connector 34"/>
          <p:cNvSpPr/>
          <p:nvPr/>
        </p:nvSpPr>
        <p:spPr>
          <a:xfrm flipH="1">
            <a:off x="6649920" y="2178000"/>
            <a:ext cx="59544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35"/>
          <p:cNvSpPr/>
          <p:nvPr/>
        </p:nvSpPr>
        <p:spPr>
          <a:xfrm>
            <a:off x="7245360" y="2178000"/>
            <a:ext cx="70020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36"/>
          <p:cNvSpPr/>
          <p:nvPr/>
        </p:nvSpPr>
        <p:spPr>
          <a:xfrm>
            <a:off x="7245360" y="21780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37"/>
          <p:cNvSpPr/>
          <p:nvPr/>
        </p:nvSpPr>
        <p:spPr>
          <a:xfrm flipH="1">
            <a:off x="996480" y="2558880"/>
            <a:ext cx="243000" cy="38124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>
            <a:off x="1251000" y="2558880"/>
            <a:ext cx="12708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41"/>
          <p:cNvSpPr/>
          <p:nvPr/>
        </p:nvSpPr>
        <p:spPr>
          <a:xfrm>
            <a:off x="1843200" y="2558880"/>
            <a:ext cx="12852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42"/>
          <p:cNvSpPr/>
          <p:nvPr/>
        </p:nvSpPr>
        <p:spPr>
          <a:xfrm flipH="1">
            <a:off x="1606320" y="2558880"/>
            <a:ext cx="22860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45"/>
          <p:cNvSpPr/>
          <p:nvPr/>
        </p:nvSpPr>
        <p:spPr>
          <a:xfrm>
            <a:off x="2535120" y="2558880"/>
            <a:ext cx="12888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46"/>
          <p:cNvSpPr/>
          <p:nvPr/>
        </p:nvSpPr>
        <p:spPr>
          <a:xfrm flipH="1">
            <a:off x="2300040" y="2558880"/>
            <a:ext cx="22860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48"/>
          <p:cNvSpPr/>
          <p:nvPr/>
        </p:nvSpPr>
        <p:spPr>
          <a:xfrm flipH="1">
            <a:off x="7702200" y="2558880"/>
            <a:ext cx="243000" cy="38124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49"/>
          <p:cNvSpPr/>
          <p:nvPr/>
        </p:nvSpPr>
        <p:spPr>
          <a:xfrm>
            <a:off x="6661080" y="2558880"/>
            <a:ext cx="12708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50"/>
          <p:cNvSpPr/>
          <p:nvPr/>
        </p:nvSpPr>
        <p:spPr>
          <a:xfrm>
            <a:off x="7253280" y="2558880"/>
            <a:ext cx="12852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51"/>
          <p:cNvSpPr/>
          <p:nvPr/>
        </p:nvSpPr>
        <p:spPr>
          <a:xfrm flipH="1">
            <a:off x="7016400" y="2558880"/>
            <a:ext cx="22860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52"/>
          <p:cNvSpPr/>
          <p:nvPr/>
        </p:nvSpPr>
        <p:spPr>
          <a:xfrm>
            <a:off x="7945560" y="2558880"/>
            <a:ext cx="12852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53"/>
          <p:cNvSpPr/>
          <p:nvPr/>
        </p:nvSpPr>
        <p:spPr>
          <a:xfrm flipH="1">
            <a:off x="6446520" y="2558880"/>
            <a:ext cx="22860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55"/>
          <p:cNvSpPr/>
          <p:nvPr/>
        </p:nvSpPr>
        <p:spPr>
          <a:xfrm>
            <a:off x="3994200" y="2565360"/>
            <a:ext cx="1270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56"/>
          <p:cNvSpPr/>
          <p:nvPr/>
        </p:nvSpPr>
        <p:spPr>
          <a:xfrm>
            <a:off x="4586400" y="2565360"/>
            <a:ext cx="12852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57"/>
          <p:cNvSpPr/>
          <p:nvPr/>
        </p:nvSpPr>
        <p:spPr>
          <a:xfrm flipH="1">
            <a:off x="4349520" y="2565360"/>
            <a:ext cx="22860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58"/>
          <p:cNvSpPr/>
          <p:nvPr/>
        </p:nvSpPr>
        <p:spPr>
          <a:xfrm>
            <a:off x="5278320" y="2565360"/>
            <a:ext cx="1288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59"/>
          <p:cNvSpPr/>
          <p:nvPr/>
        </p:nvSpPr>
        <p:spPr>
          <a:xfrm flipH="1">
            <a:off x="5043240" y="2565360"/>
            <a:ext cx="22860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61"/>
          <p:cNvSpPr/>
          <p:nvPr/>
        </p:nvSpPr>
        <p:spPr>
          <a:xfrm flipH="1">
            <a:off x="3752640" y="2565360"/>
            <a:ext cx="22860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152280" y="284040"/>
            <a:ext cx="88441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  <a:ea typeface="Arial"/>
              </a:rPr>
              <a:t>Randomness with a random oracl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343080" y="1295280"/>
            <a:ext cx="84582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random oracle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ur randomness protocol can be mad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vably, unconditionally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dmittedly, it doesn’t sound impressive to produce random bits in a world with a random orac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remember that these have to b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res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random bits—unpredictable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random orac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random oracle model, both of ou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ssump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the one about LLQSV and the one about the PRF—becom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hich follow from the BBBV Theorem (the optimality of Grover’s algorith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384120" y="2206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384120" y="990720"/>
            <a:ext cx="837396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polynomial-time classical verification and NISQ implementability at the sam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more and more certified randomness by sampling with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ircuit C over and over?  Would make the protocol much more efficient and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our scheme sound under less boutique complexity assump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our scheme sound even against adversaries that are entangled with the Q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e there better cryptographic solutions to the problem of “who trusts the challenge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69720" y="228600"/>
            <a:ext cx="8374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Randomness Protocol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Born from complexity theory.  Somehow became first planned application for Bristlecone / Sycamore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38040" y="4267080"/>
            <a:ext cx="846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y interacting with a NISQ QC remotely, force it to generate fresh random bits, which no one (not even the QC) knew beforehand.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ace no trust in the Q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1752480" y="2795760"/>
            <a:ext cx="1369800" cy="1290240"/>
            <a:chOff x="1752480" y="2795760"/>
            <a:chExt cx="1369800" cy="1290240"/>
          </a:xfrm>
        </p:grpSpPr>
        <p:sp>
          <p:nvSpPr>
            <p:cNvPr id="134" name="Freeform 6"/>
            <p:cNvSpPr/>
            <p:nvPr/>
          </p:nvSpPr>
          <p:spPr>
            <a:xfrm>
              <a:off x="1969200" y="2826360"/>
              <a:ext cx="752400" cy="714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2061360" y="292608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2139480" y="357192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2392920" y="320400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2832480" y="381312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2832480" y="384732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2836800" y="392508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2839680" y="386136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3048480" y="388512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2821680" y="381168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991240" y="39052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2911680" y="38394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878200" y="38271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2768040" y="393624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1771560" y="3756960"/>
              <a:ext cx="1013400" cy="20916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1971720" y="363564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173680" y="354024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3"/>
            <p:cNvSpPr/>
            <p:nvPr/>
          </p:nvSpPr>
          <p:spPr>
            <a:xfrm>
              <a:off x="2507040" y="295380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4"/>
            <p:cNvSpPr/>
            <p:nvPr/>
          </p:nvSpPr>
          <p:spPr>
            <a:xfrm>
              <a:off x="2141280" y="3444840"/>
              <a:ext cx="376560" cy="59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5"/>
            <p:cNvSpPr/>
            <p:nvPr/>
          </p:nvSpPr>
          <p:spPr>
            <a:xfrm>
              <a:off x="2016360" y="288756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6"/>
            <p:cNvSpPr/>
            <p:nvPr/>
          </p:nvSpPr>
          <p:spPr>
            <a:xfrm>
              <a:off x="2467080" y="366984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7"/>
            <p:cNvSpPr/>
            <p:nvPr/>
          </p:nvSpPr>
          <p:spPr>
            <a:xfrm>
              <a:off x="2562480" y="371052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8"/>
            <p:cNvSpPr/>
            <p:nvPr/>
          </p:nvSpPr>
          <p:spPr>
            <a:xfrm>
              <a:off x="1762200" y="3906360"/>
              <a:ext cx="1010880" cy="619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9"/>
            <p:cNvSpPr/>
            <p:nvPr/>
          </p:nvSpPr>
          <p:spPr>
            <a:xfrm>
              <a:off x="1960200" y="360540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0"/>
            <p:cNvSpPr/>
            <p:nvPr/>
          </p:nvSpPr>
          <p:spPr>
            <a:xfrm>
              <a:off x="2718360" y="361260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1"/>
            <p:cNvSpPr/>
            <p:nvPr/>
          </p:nvSpPr>
          <p:spPr>
            <a:xfrm>
              <a:off x="2460600" y="367632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2"/>
            <p:cNvSpPr/>
            <p:nvPr/>
          </p:nvSpPr>
          <p:spPr>
            <a:xfrm>
              <a:off x="2469600" y="366480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3"/>
            <p:cNvSpPr/>
            <p:nvPr/>
          </p:nvSpPr>
          <p:spPr>
            <a:xfrm>
              <a:off x="2557080" y="370800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4"/>
            <p:cNvSpPr/>
            <p:nvPr/>
          </p:nvSpPr>
          <p:spPr>
            <a:xfrm>
              <a:off x="1910520" y="373176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5"/>
            <p:cNvSpPr/>
            <p:nvPr/>
          </p:nvSpPr>
          <p:spPr>
            <a:xfrm>
              <a:off x="1796400" y="3888360"/>
              <a:ext cx="697680" cy="3888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6"/>
            <p:cNvSpPr/>
            <p:nvPr/>
          </p:nvSpPr>
          <p:spPr>
            <a:xfrm>
              <a:off x="2697120" y="377496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7"/>
            <p:cNvSpPr/>
            <p:nvPr/>
          </p:nvSpPr>
          <p:spPr>
            <a:xfrm>
              <a:off x="2739600" y="391932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8"/>
            <p:cNvSpPr/>
            <p:nvPr/>
          </p:nvSpPr>
          <p:spPr>
            <a:xfrm>
              <a:off x="1778400" y="3938040"/>
              <a:ext cx="978120" cy="381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9"/>
            <p:cNvSpPr/>
            <p:nvPr/>
          </p:nvSpPr>
          <p:spPr>
            <a:xfrm>
              <a:off x="1962360" y="3781440"/>
              <a:ext cx="520920" cy="52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0"/>
            <p:cNvSpPr/>
            <p:nvPr/>
          </p:nvSpPr>
          <p:spPr>
            <a:xfrm>
              <a:off x="1936440" y="382860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1"/>
            <p:cNvSpPr/>
            <p:nvPr/>
          </p:nvSpPr>
          <p:spPr>
            <a:xfrm>
              <a:off x="2557800" y="38174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2"/>
            <p:cNvSpPr/>
            <p:nvPr/>
          </p:nvSpPr>
          <p:spPr>
            <a:xfrm>
              <a:off x="2583720" y="38458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3"/>
            <p:cNvSpPr/>
            <p:nvPr/>
          </p:nvSpPr>
          <p:spPr>
            <a:xfrm>
              <a:off x="2592720" y="387756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4"/>
            <p:cNvSpPr/>
            <p:nvPr/>
          </p:nvSpPr>
          <p:spPr>
            <a:xfrm>
              <a:off x="1944000" y="2795760"/>
              <a:ext cx="711720" cy="186480"/>
            </a:xfrm>
            <a:custGeom>
              <a:avLst/>
              <a:gdLst>
                <a:gd name="textAreaLeft" fmla="*/ 0 w 711720"/>
                <a:gd name="textAreaRight" fmla="*/ 712080 w 7117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5"/>
            <p:cNvSpPr/>
            <p:nvPr/>
          </p:nvSpPr>
          <p:spPr>
            <a:xfrm>
              <a:off x="2680920" y="281016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6"/>
            <p:cNvSpPr/>
            <p:nvPr/>
          </p:nvSpPr>
          <p:spPr>
            <a:xfrm>
              <a:off x="2631960" y="2900880"/>
              <a:ext cx="123840" cy="620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7"/>
            <p:cNvSpPr/>
            <p:nvPr/>
          </p:nvSpPr>
          <p:spPr>
            <a:xfrm>
              <a:off x="2599200" y="285192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8"/>
            <p:cNvSpPr/>
            <p:nvPr/>
          </p:nvSpPr>
          <p:spPr>
            <a:xfrm>
              <a:off x="1942920" y="299772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9"/>
            <p:cNvSpPr/>
            <p:nvPr/>
          </p:nvSpPr>
          <p:spPr>
            <a:xfrm>
              <a:off x="2093760" y="352440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0"/>
            <p:cNvSpPr/>
            <p:nvPr/>
          </p:nvSpPr>
          <p:spPr>
            <a:xfrm>
              <a:off x="2551320" y="352512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1"/>
            <p:cNvSpPr/>
            <p:nvPr/>
          </p:nvSpPr>
          <p:spPr>
            <a:xfrm>
              <a:off x="2139480" y="353016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2"/>
            <p:cNvSpPr/>
            <p:nvPr/>
          </p:nvSpPr>
          <p:spPr>
            <a:xfrm>
              <a:off x="2100600" y="361260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3"/>
            <p:cNvSpPr/>
            <p:nvPr/>
          </p:nvSpPr>
          <p:spPr>
            <a:xfrm>
              <a:off x="2473560" y="352872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4"/>
            <p:cNvSpPr/>
            <p:nvPr/>
          </p:nvSpPr>
          <p:spPr>
            <a:xfrm>
              <a:off x="2586960" y="357192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5"/>
            <p:cNvSpPr/>
            <p:nvPr/>
          </p:nvSpPr>
          <p:spPr>
            <a:xfrm>
              <a:off x="2130480" y="346428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6"/>
            <p:cNvSpPr/>
            <p:nvPr/>
          </p:nvSpPr>
          <p:spPr>
            <a:xfrm>
              <a:off x="2132280" y="343728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7"/>
            <p:cNvSpPr/>
            <p:nvPr/>
          </p:nvSpPr>
          <p:spPr>
            <a:xfrm>
              <a:off x="2517120" y="343908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8"/>
            <p:cNvSpPr/>
            <p:nvPr/>
          </p:nvSpPr>
          <p:spPr>
            <a:xfrm>
              <a:off x="2435400" y="345852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9"/>
            <p:cNvSpPr/>
            <p:nvPr/>
          </p:nvSpPr>
          <p:spPr>
            <a:xfrm>
              <a:off x="2361240" y="345744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0"/>
            <p:cNvSpPr/>
            <p:nvPr/>
          </p:nvSpPr>
          <p:spPr>
            <a:xfrm>
              <a:off x="2275560" y="345528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>
              <a:off x="2201400" y="345924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2"/>
            <p:cNvSpPr/>
            <p:nvPr/>
          </p:nvSpPr>
          <p:spPr>
            <a:xfrm>
              <a:off x="2418120" y="292608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3"/>
            <p:cNvSpPr/>
            <p:nvPr/>
          </p:nvSpPr>
          <p:spPr>
            <a:xfrm>
              <a:off x="2022840" y="310464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4"/>
            <p:cNvSpPr/>
            <p:nvPr/>
          </p:nvSpPr>
          <p:spPr>
            <a:xfrm>
              <a:off x="2135520" y="337068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5"/>
            <p:cNvSpPr/>
            <p:nvPr/>
          </p:nvSpPr>
          <p:spPr>
            <a:xfrm>
              <a:off x="2516400" y="291060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6"/>
            <p:cNvSpPr/>
            <p:nvPr/>
          </p:nvSpPr>
          <p:spPr>
            <a:xfrm>
              <a:off x="1752480" y="389700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7"/>
            <p:cNvSpPr/>
            <p:nvPr/>
          </p:nvSpPr>
          <p:spPr>
            <a:xfrm>
              <a:off x="2022120" y="290628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8"/>
            <p:cNvSpPr/>
            <p:nvPr/>
          </p:nvSpPr>
          <p:spPr>
            <a:xfrm>
              <a:off x="2058840" y="294876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9"/>
            <p:cNvSpPr/>
            <p:nvPr/>
          </p:nvSpPr>
          <p:spPr>
            <a:xfrm>
              <a:off x="1954440" y="36565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Box 1"/>
          <p:cNvSpPr/>
          <p:nvPr/>
        </p:nvSpPr>
        <p:spPr>
          <a:xfrm>
            <a:off x="987480" y="2070000"/>
            <a:ext cx="83808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6629400" y="2771640"/>
            <a:ext cx="1751040" cy="1287720"/>
          </a:xfrm>
          <a:prstGeom prst="rect">
            <a:avLst/>
          </a:prstGeom>
          <a:ln w="0">
            <a:noFill/>
          </a:ln>
        </p:spPr>
      </p:pic>
      <p:cxnSp>
        <p:nvCxnSpPr>
          <p:cNvPr id="200" name="Straight Arrow Connector 70"/>
          <p:cNvCxnSpPr/>
          <p:nvPr/>
        </p:nvCxnSpPr>
        <p:spPr>
          <a:xfrm>
            <a:off x="3021120" y="299700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01" name="Straight Arrow Connector 71"/>
          <p:cNvCxnSpPr/>
          <p:nvPr/>
        </p:nvCxnSpPr>
        <p:spPr>
          <a:xfrm>
            <a:off x="3027240" y="32554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202" name="Straight Arrow Connector 72"/>
          <p:cNvCxnSpPr/>
          <p:nvPr/>
        </p:nvCxnSpPr>
        <p:spPr>
          <a:xfrm>
            <a:off x="3013200" y="351756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03" name="Straight Arrow Connector 73"/>
          <p:cNvCxnSpPr/>
          <p:nvPr/>
        </p:nvCxnSpPr>
        <p:spPr>
          <a:xfrm>
            <a:off x="3013200" y="378108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sp>
        <p:nvSpPr>
          <p:cNvPr id="204" name="TextBox 80"/>
          <p:cNvSpPr/>
          <p:nvPr/>
        </p:nvSpPr>
        <p:spPr>
          <a:xfrm rot="5400000">
            <a:off x="434520" y="2922840"/>
            <a:ext cx="176400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98440" y="5784840"/>
            <a:ext cx="846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 of Sampling.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Modest quantum speedups, not for their own sake, but as proof of some other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ossible Sycamore Us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38040" y="1084320"/>
            <a:ext cx="770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ublic, trusted random bi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e.g. for proof-of-stake cryptocurrencies, such as future-Ether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276120" y="3262320"/>
            <a:ext cx="846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dea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hallenges could come from a distributed cryptographic protocol involving a pseudorandom function, a blockchain, the NYSE, the weath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8047080" y="1062000"/>
            <a:ext cx="1004760" cy="9795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328680" y="2195640"/>
            <a:ext cx="847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o picks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lleng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send Sycamore—and why should everyone else trust the challeng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97000" y="4800600"/>
            <a:ext cx="861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the challenges are unpredictable, then why not just use them to generate the random bits, and skip the QC p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38040" y="5902200"/>
            <a:ext cx="84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e answer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forward secrec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ther Possible Us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276120" y="4038480"/>
            <a:ext cx="846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r, you could give Google a tamper-resistant “Hardware Security Module” that acts as the challenger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11040" y="1219320"/>
            <a:ext cx="82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ecret random bits …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you own the QC yoursel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4149720" y="5257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 thanks to Jimmy C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97000" y="2057400"/>
            <a:ext cx="822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r, as long as you trust Google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generate your keys randomly, Google could use my protocol to convince you that its RNG hardware isn’t malfunctioning or backdoored by someone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384120" y="457200"/>
            <a:ext cx="837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 spoke on exactly the same topic at this conference exactly a year ago.  What’s changed since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838080" y="3048120"/>
            <a:ext cx="754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Mostly, I now have time to explain the parts that I skipped last year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84120" y="45720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 what was I doing all y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5920" y="1447920"/>
            <a:ext cx="685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 measurement and differential privacy (A.-Rothblum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Xiv:1904.0874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399960" y="2651040"/>
            <a:ext cx="84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ew QFT-free quantum approximate counting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415800" y="47242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racle relative to which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ut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in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95280" y="5616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aching, faculty recruiting, travel, kid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430200" y="3429000"/>
            <a:ext cx="84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lower bounds for approximate counting using Laurent polynomials (AKKT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Xiv:1904.089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31428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274680" y="1219320"/>
            <a:ext cx="870264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. The classical client generates n-qubit quantum circuit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seudorandomly (mimicking a random ensem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. For each t, the client send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o the server, then demands a respons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in a very short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In the “honest” case, the response is a list of k samples from the output distribution of C</a:t>
            </a:r>
            <a:r>
              <a:rPr b="0" lang="en-US" sz="23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t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|0</a:t>
            </a:r>
            <a:r>
              <a:rPr b="0" lang="en-US" sz="23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0" lang="en-US" sz="23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0" lang="en-US" sz="23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3. The client picks a few random iterations t, and for each one, applies a “HOG” (Heavy Output Generation) te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. If the tests pass, then the client feeds S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nto a classical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randomness extract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such as GUV (Guruswami-Umans-Vadhan), to get nearly pure random b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04920" y="19512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OG Test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Similar in spirit to Google’s cross-entropy t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304920" y="1600200"/>
            <a:ext cx="8610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n-qubit quantum circuit C, parameters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,2) and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1,2,…}, and purported distinct sampl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C’s output distribution,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HOG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b,k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hecks wh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228600" y="54100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perform the HOG test, we need a brute-force (~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time) classical computation!  If n=53 this is do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1"/>
          <p:cNvGraphicFramePr/>
          <p:nvPr/>
        </p:nvGraphicFramePr>
        <p:xfrm>
          <a:off x="1073160" y="3276720"/>
          <a:ext cx="683748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3276720"/>
                    <a:ext cx="683748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9-05-16T22:44:36Z</dcterms:modified>
  <cp:revision>445</cp:revision>
  <dc:subject/>
  <dc:title>BQP and the Polynomial Hierarchy</dc:title>
</cp:coreProperties>
</file>