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C2B-5252-4BF8-9F2A-ECD0440E9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8CB9-48B7-4A19-B09E-18CD869BE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7FF0-C89F-4845-B2E9-A6B0E31DE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EF9-2E73-4716-BCAD-1B2115B15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322-F856-4A03-945B-96317DF3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202-B441-4E53-B4EE-27282C578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CA3-15F8-4391-9401-F95662A55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F707-E585-40CC-94DA-C904BED22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B8D7-7B1F-4A94-9175-E9D7F4C68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8971-3E4D-443D-A8F4-FF9287947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D8F-1281-42ED-A51E-723AF86A7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636-D88D-4A2C-85B9-4772164C3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4CE-3348-48F1-A92E-0D182A420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7885-236A-42CB-A71E-F1ED87C87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B1E-4CC3-4E55-BD3E-7D44C8CE5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D1D-E883-4EF3-B281-84827455D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F9C4-12B5-4E67-B51D-6D35F02F9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801B-335E-4E49-A428-3949C60AB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F55-220F-4FEF-9BD1-19B4B31CF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683-2F4C-4680-AD8D-3A86B02DB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F225-C93D-4904-B8D0-97159862B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614-5A4C-4FCE-BB32-BFE05C79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262-3EB0-4381-91C5-2849D648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474-4970-46BB-864D-5E0F5FE3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1B4-E99F-4CAF-8B9C-005D8DFF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7E9-B519-41C6-9891-F7754FC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D16-79D2-4CFF-8A13-F5ED9B90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0DE-8404-4658-A56A-0A49D8BD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FCD-DE0D-4CD2-BDD0-24E2B1A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8CE-78C1-4E6C-86DB-4082393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CEA-901F-402F-834E-118903F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16-7B19-48CB-BFD8-7E2F32BA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FAA-50C5-4B84-AA7A-817D157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A23-9078-42EF-A5D2-174AA978C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855-EE45-4B84-A325-615F4B261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163188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" y="39207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Crypto, Santa Barbara, CA, August 19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200320"/>
            <a:ext cx="1371600" cy="1292040"/>
            <a:chOff x="5472000" y="2200320"/>
            <a:chExt cx="1371600" cy="1292040"/>
          </a:xfrm>
        </p:grpSpPr>
        <p:sp>
          <p:nvSpPr>
            <p:cNvPr id="52" name="Freeform 5"/>
            <p:cNvSpPr/>
            <p:nvPr/>
          </p:nvSpPr>
          <p:spPr>
            <a:xfrm>
              <a:off x="5689080" y="2230920"/>
              <a:ext cx="753120" cy="714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4960"/>
                <a:gd name="textAreaBottom" fmla="*/ 715320 h 71496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330640"/>
              <a:ext cx="523800" cy="504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29772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26089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2187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2533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3307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2670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2907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2173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3112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2450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2328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3422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1626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0409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29455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3583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28501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2924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0751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1161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3120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0106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0178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0816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0704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1136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137400"/>
              <a:ext cx="766080" cy="5112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2940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1806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3249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3440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1870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2346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2230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2515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2832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2003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2147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3054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2564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402640"/>
              <a:ext cx="137880" cy="523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29300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29307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29358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0178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29340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29772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28695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28425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28443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28638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28630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28605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28645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3306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509560"/>
              <a:ext cx="114840" cy="310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27756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3151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3030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3112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3536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0621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37024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173664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04948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34324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228600" y="529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a special bonus on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 connection between gentle measurement and differential privac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joint work with Guy Rothbl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2280" y="284040"/>
            <a:ext cx="8844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Long List Hardness Assumption (LLHA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43080" y="1295280"/>
            <a:ext cx="845820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is given random access to a list of random n-qubit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 (say) M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He’s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were drawn uniformly at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as drawn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09600" y="4267080"/>
            <a:ext cx="84916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no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otocol wherein Arthur sends Merlin an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bit classical challenge, then Merlin sends back an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bit reply that convinces Arthur it’s case (2).  Even if Arthur can do the verification using a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.49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time quantum computation, with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.49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bits of quantum advi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317520" y="38088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sic 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LLHA holds.  Let Q be a polynomial-time quantum algorithm that solves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 with success probability at least q, averaged over all C.  Then Q’s output distribution has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3543480" y="2257560"/>
          <a:ext cx="20574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257560"/>
                    <a:ext cx="20574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2"/>
          <p:cNvSpPr/>
          <p:nvPr/>
        </p:nvSpPr>
        <p:spPr>
          <a:xfrm>
            <a:off x="358920" y="3352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its mass (again, averaged over all circuits C) on outputs with probability at mos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0.49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58920" y="4449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ing a “low-entropy” quantum algorithm Q to solve HOG, we design 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, based on Stockmeyer approximate counting, that violates LLHA—one where Merlin points Arthur to various high-probability outputs of Q to convince him he’s in cas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04920" y="15408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seudorandom Function Assumption (PRF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284040" y="16002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 family of efficiently-computable Boolean functions,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, parameterized by an O(n)-bit seed k, such that for every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 quantum algorithm Q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18960" y="40705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oreover, this is true even if Q i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  <a:ea typeface="Arial"/>
              </a:rPr>
              <a:t>PD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lgorithm (</a:t>
            </a:r>
            <a:r>
              <a:rPr b="0" lang="en-US" sz="2700" spc="-1" strike="noStrike">
                <a:solidFill>
                  <a:srgbClr val="006600"/>
                </a:solidFill>
                <a:latin typeface="Calibri"/>
                <a:ea typeface="Arial"/>
              </a:rPr>
              <a:t>A. et al. 201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: a quantum algorithm that can contain both ordinary measurements and “non-collapsing” measur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"/>
          <p:cNvGraphicFramePr/>
          <p:nvPr/>
        </p:nvGraphicFramePr>
        <p:xfrm>
          <a:off x="1274760" y="3048120"/>
          <a:ext cx="6400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3048120"/>
                    <a:ext cx="6400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 Box 2"/>
          <p:cNvSpPr/>
          <p:nvPr/>
        </p:nvSpPr>
        <p:spPr>
          <a:xfrm>
            <a:off x="685800" y="5567400"/>
            <a:ext cx="8056440" cy="9169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LLHA and PRFA are strong assumptions, though both can be shown to hold in the random oracle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91960" y="1028880"/>
            <a:ext cx="8518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LLHA and PRFA both hold, and that the server does at most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antum computation per iteration.  Suppose also that we run the protocol, for 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eps, and the client accepts with probability &gt;½.  Then conditioned on the client accepting, the output bits S are 1/exp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-close in variation distance to a distribution with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-entrop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1"/>
          <p:cNvGraphicFramePr/>
          <p:nvPr/>
        </p:nvGraphicFramePr>
        <p:xfrm>
          <a:off x="2314440" y="3613320"/>
          <a:ext cx="4473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3613320"/>
                    <a:ext cx="4473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2"/>
          <p:cNvSpPr/>
          <p:nvPr/>
        </p:nvSpPr>
        <p:spPr>
          <a:xfrm>
            <a:off x="291960" y="47880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ich means: the extractor will outp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 bits that are exponentially close to uni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320760" y="5769000"/>
            <a:ext cx="8421480" cy="9169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Hard part: show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ccumul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the T iterations.  E.g., rule out that the samples are cor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depend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20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85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6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87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8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89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384120" y="1219320"/>
            <a:ext cx="83739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ear-term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, remove the need for a 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less boutique complexity assumptions (without the quantum advice, non-collapsing measurements, long list of circuits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about soundness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219320" y="3044880"/>
            <a:ext cx="7238880" cy="202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for near-term Q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the weaknesses of sampling-based quantum supremacy experiments have become streng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 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352440" y="167652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we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1"/>
          <p:cNvGraphicFramePr/>
          <p:nvPr/>
        </p:nvGraphicFramePr>
        <p:xfrm>
          <a:off x="5181480" y="2743200"/>
          <a:ext cx="29768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29768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ext Box 2"/>
          <p:cNvSpPr/>
          <p:nvPr/>
        </p:nvSpPr>
        <p:spPr>
          <a:xfrm>
            <a:off x="352440" y="3733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high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352440" y="5791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343080" y="993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838080" y="4830840"/>
            <a:ext cx="7239240" cy="903240"/>
          </a:xfrm>
          <a:prstGeom prst="rect">
            <a:avLst/>
          </a:prstGeom>
          <a:ln w="0">
            <a:noFill/>
          </a:ln>
        </p:spPr>
      </p:pic>
      <p:sp>
        <p:nvSpPr>
          <p:cNvPr id="507" name="Rounded Rectangle 11"/>
          <p:cNvSpPr/>
          <p:nvPr/>
        </p:nvSpPr>
        <p:spPr>
          <a:xfrm>
            <a:off x="4648320" y="4830840"/>
            <a:ext cx="152280" cy="8078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368">
                <a:moveTo>
                  <a:pt x="3600" y="0"/>
                </a:moveTo>
                <a:arcTo wR="3600" hR="3600" stAng="16200000" swAng="-5400000"/>
                <a:lnTo>
                  <a:pt x="0" y="110768"/>
                </a:lnTo>
                <a:arcTo wR="3600" hR="3600" stAng="10800000" swAng="-5400000"/>
                <a:lnTo>
                  <a:pt x="18000" y="114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352440" y="152388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we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 that differ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1"/>
          <p:cNvGraphicFramePr/>
          <p:nvPr/>
        </p:nvGraphicFramePr>
        <p:xfrm>
          <a:off x="958680" y="3429000"/>
          <a:ext cx="70646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70646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2"/>
          <p:cNvSpPr/>
          <p:nvPr/>
        </p:nvSpPr>
        <p:spPr>
          <a:xfrm>
            <a:off x="35244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plus a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5519880" y="563868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363600" y="1770120"/>
            <a:ext cx="84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, and consists of a classical algorithm applied to the results of separate measurement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can be implemented in a way that’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219320" y="3044880"/>
            <a:ext cx="723888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uld be seen as a quantum analogue of the known connection between DP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Dwork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352440" y="1003320"/>
            <a:ext cx="84582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measurements.  Suppose we want to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 w.h.p.  We can do this 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1"/>
          <p:cNvGraphicFramePr/>
          <p:nvPr/>
        </p:nvGraphicFramePr>
        <p:xfrm>
          <a:off x="3962520" y="278280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78280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 Box 2"/>
          <p:cNvSpPr/>
          <p:nvPr/>
        </p:nvSpPr>
        <p:spPr>
          <a:xfrm>
            <a:off x="388800" y="3886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a quantum version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gorithm (Hardt-Rothblum 2010), together with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we can now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7"/>
          <p:cNvGraphicFramePr/>
          <p:nvPr/>
        </p:nvGraphicFramePr>
        <p:xfrm>
          <a:off x="2143080" y="5181480"/>
          <a:ext cx="49500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3080" y="5181480"/>
                    <a:ext cx="49500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2"/>
          <p:cNvSpPr/>
          <p:nvPr/>
        </p:nvSpPr>
        <p:spPr>
          <a:xfrm>
            <a:off x="388800" y="6149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3"/>
          <p:cNvSpPr/>
          <p:nvPr/>
        </p:nvSpPr>
        <p:spPr>
          <a:xfrm>
            <a:off x="9360" y="3733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52280" y="15228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ampling-Based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04640" y="2870280"/>
            <a:ext cx="8504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tical found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erhal-DiVincenzo 2004, Bremner et al. 2011, A.-Arkhipov 2011, A.-Chen 2017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Showed that sampling the output distributions of various quantum systems is classically intractable under plausible assump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78000" y="4808520"/>
            <a:ext cx="853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y previous l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citing because Google et al. might be able to do this in O(1) years, and because it will refute Oded Goldreich &amp; Gil Kalai.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bviously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 in it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3760" y="619272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620640" y="1020600"/>
            <a:ext cx="1938240" cy="1643400"/>
            <a:chOff x="620640" y="1020600"/>
            <a:chExt cx="1938240" cy="1643400"/>
          </a:xfrm>
        </p:grpSpPr>
        <p:sp>
          <p:nvSpPr>
            <p:cNvPr id="126" name="Straight Connector 11"/>
            <p:cNvSpPr/>
            <p:nvPr/>
          </p:nvSpPr>
          <p:spPr>
            <a:xfrm>
              <a:off x="642600" y="1098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12"/>
            <p:cNvSpPr/>
            <p:nvPr/>
          </p:nvSpPr>
          <p:spPr>
            <a:xfrm>
              <a:off x="677520" y="1334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13"/>
            <p:cNvSpPr/>
            <p:nvPr/>
          </p:nvSpPr>
          <p:spPr>
            <a:xfrm>
              <a:off x="620640" y="1592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14"/>
            <p:cNvSpPr/>
            <p:nvPr/>
          </p:nvSpPr>
          <p:spPr>
            <a:xfrm>
              <a:off x="663480" y="1841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5"/>
            <p:cNvSpPr/>
            <p:nvPr/>
          </p:nvSpPr>
          <p:spPr>
            <a:xfrm>
              <a:off x="663480" y="20923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16"/>
            <p:cNvSpPr/>
            <p:nvPr/>
          </p:nvSpPr>
          <p:spPr>
            <a:xfrm>
              <a:off x="663480" y="23371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17"/>
            <p:cNvSpPr/>
            <p:nvPr/>
          </p:nvSpPr>
          <p:spPr>
            <a:xfrm>
              <a:off x="677520" y="2591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18"/>
            <p:cNvSpPr/>
            <p:nvPr/>
          </p:nvSpPr>
          <p:spPr>
            <a:xfrm>
              <a:off x="693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19"/>
            <p:cNvSpPr/>
            <p:nvPr/>
          </p:nvSpPr>
          <p:spPr>
            <a:xfrm>
              <a:off x="990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0"/>
            <p:cNvSpPr/>
            <p:nvPr/>
          </p:nvSpPr>
          <p:spPr>
            <a:xfrm>
              <a:off x="1287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1"/>
            <p:cNvSpPr/>
            <p:nvPr/>
          </p:nvSpPr>
          <p:spPr>
            <a:xfrm>
              <a:off x="1582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22"/>
            <p:cNvSpPr/>
            <p:nvPr/>
          </p:nvSpPr>
          <p:spPr>
            <a:xfrm>
              <a:off x="1879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23"/>
            <p:cNvSpPr/>
            <p:nvPr/>
          </p:nvSpPr>
          <p:spPr>
            <a:xfrm>
              <a:off x="2174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4"/>
            <p:cNvSpPr/>
            <p:nvPr/>
          </p:nvSpPr>
          <p:spPr>
            <a:xfrm>
              <a:off x="2471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62064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9172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21284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1509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806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210168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3"/>
            <p:cNvSpPr/>
            <p:nvPr/>
          </p:nvSpPr>
          <p:spPr>
            <a:xfrm>
              <a:off x="23986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4"/>
            <p:cNvSpPr/>
            <p:nvPr/>
          </p:nvSpPr>
          <p:spPr>
            <a:xfrm>
              <a:off x="62064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9172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6"/>
            <p:cNvSpPr/>
            <p:nvPr/>
          </p:nvSpPr>
          <p:spPr>
            <a:xfrm>
              <a:off x="121284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7"/>
            <p:cNvSpPr/>
            <p:nvPr/>
          </p:nvSpPr>
          <p:spPr>
            <a:xfrm>
              <a:off x="1509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8"/>
            <p:cNvSpPr/>
            <p:nvPr/>
          </p:nvSpPr>
          <p:spPr>
            <a:xfrm>
              <a:off x="1806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9"/>
            <p:cNvSpPr/>
            <p:nvPr/>
          </p:nvSpPr>
          <p:spPr>
            <a:xfrm>
              <a:off x="210168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23986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62064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2"/>
            <p:cNvSpPr/>
            <p:nvPr/>
          </p:nvSpPr>
          <p:spPr>
            <a:xfrm>
              <a:off x="9172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3"/>
            <p:cNvSpPr/>
            <p:nvPr/>
          </p:nvSpPr>
          <p:spPr>
            <a:xfrm>
              <a:off x="121284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4"/>
            <p:cNvSpPr/>
            <p:nvPr/>
          </p:nvSpPr>
          <p:spPr>
            <a:xfrm>
              <a:off x="1509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5"/>
            <p:cNvSpPr/>
            <p:nvPr/>
          </p:nvSpPr>
          <p:spPr>
            <a:xfrm>
              <a:off x="1806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6"/>
            <p:cNvSpPr/>
            <p:nvPr/>
          </p:nvSpPr>
          <p:spPr>
            <a:xfrm>
              <a:off x="210168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7"/>
            <p:cNvSpPr/>
            <p:nvPr/>
          </p:nvSpPr>
          <p:spPr>
            <a:xfrm>
              <a:off x="23986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8"/>
            <p:cNvSpPr/>
            <p:nvPr/>
          </p:nvSpPr>
          <p:spPr>
            <a:xfrm>
              <a:off x="62064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9"/>
            <p:cNvSpPr/>
            <p:nvPr/>
          </p:nvSpPr>
          <p:spPr>
            <a:xfrm>
              <a:off x="9172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0"/>
            <p:cNvSpPr/>
            <p:nvPr/>
          </p:nvSpPr>
          <p:spPr>
            <a:xfrm>
              <a:off x="121284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1"/>
            <p:cNvSpPr/>
            <p:nvPr/>
          </p:nvSpPr>
          <p:spPr>
            <a:xfrm>
              <a:off x="1509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2"/>
            <p:cNvSpPr/>
            <p:nvPr/>
          </p:nvSpPr>
          <p:spPr>
            <a:xfrm>
              <a:off x="1806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3"/>
            <p:cNvSpPr/>
            <p:nvPr/>
          </p:nvSpPr>
          <p:spPr>
            <a:xfrm>
              <a:off x="210168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4"/>
            <p:cNvSpPr/>
            <p:nvPr/>
          </p:nvSpPr>
          <p:spPr>
            <a:xfrm>
              <a:off x="23986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5"/>
            <p:cNvSpPr/>
            <p:nvPr/>
          </p:nvSpPr>
          <p:spPr>
            <a:xfrm>
              <a:off x="62064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6"/>
            <p:cNvSpPr/>
            <p:nvPr/>
          </p:nvSpPr>
          <p:spPr>
            <a:xfrm>
              <a:off x="9172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57"/>
            <p:cNvSpPr/>
            <p:nvPr/>
          </p:nvSpPr>
          <p:spPr>
            <a:xfrm>
              <a:off x="121284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8"/>
            <p:cNvSpPr/>
            <p:nvPr/>
          </p:nvSpPr>
          <p:spPr>
            <a:xfrm>
              <a:off x="1509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9"/>
            <p:cNvSpPr/>
            <p:nvPr/>
          </p:nvSpPr>
          <p:spPr>
            <a:xfrm>
              <a:off x="1806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0"/>
            <p:cNvSpPr/>
            <p:nvPr/>
          </p:nvSpPr>
          <p:spPr>
            <a:xfrm>
              <a:off x="210168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1"/>
            <p:cNvSpPr/>
            <p:nvPr/>
          </p:nvSpPr>
          <p:spPr>
            <a:xfrm>
              <a:off x="23986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2"/>
            <p:cNvSpPr/>
            <p:nvPr/>
          </p:nvSpPr>
          <p:spPr>
            <a:xfrm>
              <a:off x="62064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3"/>
            <p:cNvSpPr/>
            <p:nvPr/>
          </p:nvSpPr>
          <p:spPr>
            <a:xfrm>
              <a:off x="9172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4"/>
            <p:cNvSpPr/>
            <p:nvPr/>
          </p:nvSpPr>
          <p:spPr>
            <a:xfrm>
              <a:off x="121284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5"/>
            <p:cNvSpPr/>
            <p:nvPr/>
          </p:nvSpPr>
          <p:spPr>
            <a:xfrm>
              <a:off x="1509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6"/>
            <p:cNvSpPr/>
            <p:nvPr/>
          </p:nvSpPr>
          <p:spPr>
            <a:xfrm>
              <a:off x="1806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7"/>
            <p:cNvSpPr/>
            <p:nvPr/>
          </p:nvSpPr>
          <p:spPr>
            <a:xfrm>
              <a:off x="210168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68"/>
            <p:cNvSpPr/>
            <p:nvPr/>
          </p:nvSpPr>
          <p:spPr>
            <a:xfrm>
              <a:off x="23986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9"/>
            <p:cNvSpPr/>
            <p:nvPr/>
          </p:nvSpPr>
          <p:spPr>
            <a:xfrm>
              <a:off x="62064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0"/>
            <p:cNvSpPr/>
            <p:nvPr/>
          </p:nvSpPr>
          <p:spPr>
            <a:xfrm>
              <a:off x="9172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1"/>
            <p:cNvSpPr/>
            <p:nvPr/>
          </p:nvSpPr>
          <p:spPr>
            <a:xfrm>
              <a:off x="121284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2"/>
            <p:cNvSpPr/>
            <p:nvPr/>
          </p:nvSpPr>
          <p:spPr>
            <a:xfrm>
              <a:off x="1509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3"/>
            <p:cNvSpPr/>
            <p:nvPr/>
          </p:nvSpPr>
          <p:spPr>
            <a:xfrm>
              <a:off x="1806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4"/>
            <p:cNvSpPr/>
            <p:nvPr/>
          </p:nvSpPr>
          <p:spPr>
            <a:xfrm>
              <a:off x="210168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75"/>
            <p:cNvSpPr/>
            <p:nvPr/>
          </p:nvSpPr>
          <p:spPr>
            <a:xfrm>
              <a:off x="23986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3227400" y="100476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400800" y="96516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339840" y="1143000"/>
            <a:ext cx="84582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log M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201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204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Straight Arrow Connector 39"/>
              <p:cNvCxnSpPr>
                <a:stCxn id="204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06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214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80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1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2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3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04920" y="22860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Approach: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perfect for remote use.  Ideally suited to near-term Q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88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55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56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57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58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60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72"/>
            <p:cNvSpPr/>
            <p:nvPr/>
          </p:nvSpPr>
          <p:spPr>
            <a:xfrm>
              <a:off x="2667240" y="1489320"/>
              <a:ext cx="36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66760" y="137160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274680" y="1219320"/>
            <a:ext cx="8702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“HOG” (Heavy Output Gene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8"/>
          <p:cNvGrpSpPr/>
          <p:nvPr/>
        </p:nvGrpSpPr>
        <p:grpSpPr>
          <a:xfrm>
            <a:off x="5227560" y="4138560"/>
            <a:ext cx="3733920" cy="2309760"/>
            <a:chOff x="5227560" y="4138560"/>
            <a:chExt cx="3733920" cy="2309760"/>
          </a:xfrm>
        </p:grpSpPr>
        <p:pic>
          <p:nvPicPr>
            <p:cNvPr id="368" name="Picture 2" descr=""/>
            <p:cNvPicPr/>
            <p:nvPr/>
          </p:nvPicPr>
          <p:blipFill>
            <a:blip r:embed="rId1"/>
            <a:stretch/>
          </p:blipFill>
          <p:spPr>
            <a:xfrm>
              <a:off x="5227560" y="4138560"/>
              <a:ext cx="3733920" cy="2309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69" name="Object 10"/>
                <p:cNvSpPr txBox="1"/>
                <p:nvPr/>
              </p:nvSpPr>
              <p:spPr>
                <a:xfrm>
                  <a:off x="7978680" y="5679360"/>
                  <a:ext cx="49860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11"/>
                <p:cNvSpPr txBox="1"/>
                <p:nvPr/>
              </p:nvSpPr>
              <p:spPr>
                <a:xfrm>
                  <a:off x="5506560" y="4236480"/>
                  <a:ext cx="37368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Straight Connector 10"/>
            <p:cNvSpPr/>
            <p:nvPr/>
          </p:nvSpPr>
          <p:spPr>
            <a:xfrm flipV="1">
              <a:off x="571644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11"/>
            <p:cNvSpPr/>
            <p:nvPr/>
          </p:nvSpPr>
          <p:spPr>
            <a:xfrm flipV="1">
              <a:off x="5952960" y="5589360"/>
              <a:ext cx="0" cy="858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12"/>
            <p:cNvSpPr/>
            <p:nvPr/>
          </p:nvSpPr>
          <p:spPr>
            <a:xfrm flipV="1">
              <a:off x="61880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13"/>
            <p:cNvSpPr/>
            <p:nvPr/>
          </p:nvSpPr>
          <p:spPr>
            <a:xfrm flipV="1">
              <a:off x="6424560" y="5681520"/>
              <a:ext cx="0" cy="7668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14"/>
            <p:cNvSpPr/>
            <p:nvPr/>
          </p:nvSpPr>
          <p:spPr>
            <a:xfrm flipV="1">
              <a:off x="66326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15"/>
            <p:cNvSpPr/>
            <p:nvPr/>
          </p:nvSpPr>
          <p:spPr>
            <a:xfrm flipV="1">
              <a:off x="687060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16"/>
            <p:cNvSpPr/>
            <p:nvPr/>
          </p:nvSpPr>
          <p:spPr>
            <a:xfrm flipV="1">
              <a:off x="709452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17"/>
            <p:cNvSpPr/>
            <p:nvPr/>
          </p:nvSpPr>
          <p:spPr>
            <a:xfrm flipV="1">
              <a:off x="7311960" y="5862240"/>
              <a:ext cx="0" cy="5857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traight Connector 18"/>
            <p:cNvSpPr/>
            <p:nvPr/>
          </p:nvSpPr>
          <p:spPr>
            <a:xfrm flipV="1">
              <a:off x="7539120" y="6019920"/>
              <a:ext cx="0" cy="428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19"/>
            <p:cNvSpPr/>
            <p:nvPr/>
          </p:nvSpPr>
          <p:spPr>
            <a:xfrm flipV="1">
              <a:off x="7766280" y="595296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20"/>
            <p:cNvSpPr/>
            <p:nvPr/>
          </p:nvSpPr>
          <p:spPr>
            <a:xfrm flipV="1">
              <a:off x="7993080" y="6066000"/>
              <a:ext cx="0" cy="382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21"/>
            <p:cNvSpPr/>
            <p:nvPr/>
          </p:nvSpPr>
          <p:spPr>
            <a:xfrm flipV="1">
              <a:off x="82202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traight Connector 22"/>
            <p:cNvSpPr/>
            <p:nvPr/>
          </p:nvSpPr>
          <p:spPr>
            <a:xfrm flipV="1">
              <a:off x="8491680" y="6233760"/>
              <a:ext cx="0" cy="214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traight Connector 23"/>
            <p:cNvSpPr/>
            <p:nvPr/>
          </p:nvSpPr>
          <p:spPr>
            <a:xfrm flipV="1">
              <a:off x="87170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traight Connector 24"/>
            <p:cNvSpPr/>
            <p:nvPr/>
          </p:nvSpPr>
          <p:spPr>
            <a:xfrm flipV="1">
              <a:off x="545436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04920" y="1054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s input an n-qubit quantum circuit C, and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, output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4920" y="2971800"/>
            <a:ext cx="8686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can verif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HOG in ~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293760" y="3575160"/>
            <a:ext cx="4917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or b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1,2) and large enough k, an ideal QC solves H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close to 1, because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orter-Thomas speckle behavi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d the law of larg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1"/>
          <p:cNvGraphicFramePr/>
          <p:nvPr/>
        </p:nvGraphicFramePr>
        <p:xfrm>
          <a:off x="2722680" y="1968480"/>
          <a:ext cx="353844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2680" y="1968480"/>
                    <a:ext cx="3538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26"/>
          <p:cNvGraphicFramePr/>
          <p:nvPr/>
        </p:nvGraphicFramePr>
        <p:xfrm>
          <a:off x="504720" y="5726160"/>
          <a:ext cx="391788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3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720" y="5726160"/>
                    <a:ext cx="39178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Text Box 2"/>
          <p:cNvSpPr/>
          <p:nvPr/>
        </p:nvSpPr>
        <p:spPr>
          <a:xfrm>
            <a:off x="5951520" y="3591000"/>
            <a:ext cx="3040200" cy="1557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 can now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Porter-Thomas behavior!  Albeit for a weird circuit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8-18T23:58:25Z</dcterms:modified>
  <cp:revision>402</cp:revision>
  <dc:subject/>
  <dc:title>BQP and the Polynomial Hierarchy</dc:title>
</cp:coreProperties>
</file>